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17.wmf" ContentType="image/x-wmf"/>
  <Override PartName="/ppt/media/image15.wmf" ContentType="image/x-wmf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26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94C-D235-4EA6-B967-73BE36B090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Ans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y/No Answ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llow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n example of unconditional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 example of busy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STA(B) is busy, STA(A) is calling to STA(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the call is routed to STA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 example of no answer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ization code should be registered to use Follow-me Call For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Authorization code in the PGM 2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each call forwarding as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refer to it when making a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unconditional and no answer off-net call forwar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1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each off-net call forwarding as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refer to it when making a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ton 5 and 6 will use pre-programmed Speed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ton 8 and 9 will use station speed bin 099 and it is required to program the station speed bin every when registering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speed bin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2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programs related to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ve to the 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DK  have many feature. I will explain basic feature one by one as cont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incoming off-net CFWD at the attendant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2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forward a call to VMIB in case of the following cas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ditional, busy,  no answer, busy/no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※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r Greeting should be recorded in advance to use VMIB CFW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e can record the user greeting as foll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ow to record User Greeting : [TRANS/PGM]+6+1+#+Recording+[HOLD/SAV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lso these programs are required before using VMIB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extension A does not answer from the CO call, the call will be forwarded to B, C, D, E i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see direct call pick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ve to the 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group call pick up in the PGM 1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DK provides internal MOH and external MOH 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is picture, the caller hears internal M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is picture, the caller hears external MOH from the external device connected to LD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9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see how to access CO line in the IP LDK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, we can access CO line by pressing a flexible button that CO line is program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an individual CO line, CO Group CO line and Loop in the flexible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, we can access CO line by dialing CO access code. There are three kinds of CO access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Individual CO access code (default 88X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CO Group access code (default 8X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Loop code (9 or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access code can be changed in the system numbering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ve to the 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  <a:ea typeface="바탕체"/>
              </a:rPr>
              <a:t>본문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  <a:ea typeface="바탕체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We can apply the authorization to the follow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CO Group Account / DISA Account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COS Down / COS Re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Walking 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바탕체"/>
              </a:rPr>
              <a:t>Loop LCR AC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using flexible length authorization code system, press # after dial auth code to notify last dig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6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DK system has 9 classes for station and 5 classes for CO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re are 4 allow and deny tables and 2 Canned toll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allow/deny table has 30 entries and 20 entries for the Canned toll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, in case of a station has COS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station seizes CO COS1, it is restricted by allow/deny table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station seizes CO COS3, it is restricted by allow/deny tabl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station seizes CO COS4, it is restricted by the Canned Toll allow/deny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anned Toll allow/deny table will be explained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COS7 station can only use intercom call. CO call is no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COS6 station seizes CO COS4, it is restricted by the Canned Toll allow/deny table and maximum 7 dialed digits are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COS5 station seizes CO COS4, it is restricted by the Canned Toll allow/deny table and more than 7 dialed digits are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ollowing programs are related to 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6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6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activate this feature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 &amp; Progr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ization code should be registered to use walking COS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Authorization code in the PGM 2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CO line can be grouping of similar type or accessibility by PGM141/BTN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ibility of each station can be controlled by admin programming. PGM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 station(A) can seize the CO4 to CO6 in CO group2 and CO7 to CO15 in CO Group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Station(A) cannot seize the CO1 to CO3 because Station(A) has no access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DK-300 has 72 CO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ve to the 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7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7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7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also page a VMIB announcement instead of a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we can record the paging VMIB announcement as follow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versation will be heard to other stations in the group with p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8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9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line of accessible CO group can be selected by round-robin or la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nd robin mean the co line is seized altern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choice means the last co line is seiz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can be programmed in the PGM 160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 group is all busy, and then the next co group will be seized. We call it overrid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can be programmed in the PGM 161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ove to the next p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DR information includes station number, outgoing CO Li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me, date, duration of call, call type, dialed number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 codes may also be entered and recor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you want to use a billing server, the billing software sh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ed according to our SMDR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9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analog line, the call duration can be defined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case there is no metering signal, the call charging starts after the last dialed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case there is a metering signal such as Polarity reverse or metering t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all charging is defined according to the sig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ISDN line, AOC information is provided from ISDN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AOC-S, AOC-D and AOC-E in the AOC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80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80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ndant print and delete the SMDR based on station or account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assign intrusion button in the flexible button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ways to intrude the conver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hearing the busy tone,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ess BTN for CO 1 which is bus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hearing the busy tone,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ess the intrusion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UTO PRIVACY (PGM 161/BTN5) should be disabled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e caller station 100 should have the OVERRIDE PRIVILEGE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PGM 113/BTN 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LDK receives Ring from the outside caller, LDK can terminate the call to pre assigned a station or hunt group or VMIB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program the destination in the PGM 144 ring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age shows the detail how to program the destination. Station, Hunt group, VMI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A261-B929-4038-AA27-E97600760027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01720" y="1571760"/>
            <a:ext cx="57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BASIC FE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729480" y="4307040"/>
            <a:ext cx="2090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IB announcement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205740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31000" y="3263760"/>
            <a:ext cx="1068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22920" y="2523600"/>
            <a:ext cx="971640" cy="61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30840" y="3629160"/>
            <a:ext cx="952560" cy="59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683400" y="18446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02560" y="29941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282920" y="2705040"/>
            <a:ext cx="1346400" cy="13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7120" y="95400"/>
            <a:ext cx="31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O Line Access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8571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3960" y="620640"/>
            <a:ext cx="635760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CO Line Assigned &amp; How to CO Seize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tation 101 only access  analog CO Line (assume CO 1, 2, 3 is ana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Incoming CO 1 is connected Station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Incoming CO 2 is connected Statio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Incoming CO 3 is connected VMIB Promp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3354480"/>
            <a:ext cx="95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38920" y="2494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6000" y="30830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2000" y="36590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27400" y="3137040"/>
            <a:ext cx="1882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8560" y="3568680"/>
            <a:ext cx="1882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040" y="2921040"/>
            <a:ext cx="1550880" cy="933480"/>
          </a:xfrm>
          <a:prstGeom prst="cloudCallout">
            <a:avLst>
              <a:gd name="adj1" fmla="val -12902"/>
              <a:gd name="adj2" fmla="val 4488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T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" y="4906800"/>
            <a:ext cx="9230400" cy="11145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1 + 01 03  (select analog CO) + Flx1 : CO Grou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17 + 101 101 (select station range) + turn off all co group except co grou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4 + 01 01  (select CO range) + Flx1 + 1 (select station) + 100 100 (select station range) + 0 (set delay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4 + 02 02  (select CO range) + Flx1 + 1 (select station) + 101 101 (select station range) + 0 (set delay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4 + 02 02  (select CO range) + Flx1 + 3 (select VMIB) + 01 (select system greeting numb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165744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an direct the system to re-route call to a station when the user’s station is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unconditional / busy / no answ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other s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" y="936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1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362320"/>
            <a:ext cx="739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nd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y/No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3532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Usage : PGM111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876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05320" y="337176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052640"/>
            <a:ext cx="39528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Forward - Uncon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57680" y="4968720"/>
            <a:ext cx="31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is forwarded immediatel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51000" y="30481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11160" y="2530440"/>
            <a:ext cx="1828800" cy="144792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68160" y="1996920"/>
            <a:ext cx="2379600" cy="2715480"/>
            <a:chOff x="668160" y="1996920"/>
            <a:chExt cx="2379600" cy="271548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668160" y="1996920"/>
              <a:ext cx="237960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401120" y="437508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30880" y="1996920"/>
            <a:ext cx="2379600" cy="2715480"/>
            <a:chOff x="6230880" y="1996920"/>
            <a:chExt cx="2379600" cy="271548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6230880" y="1996920"/>
              <a:ext cx="237960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957000" y="437508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164200" y="4130640"/>
            <a:ext cx="1523880" cy="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6120" y="9216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2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1052640"/>
            <a:ext cx="39528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Forward - Bu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5800" y="1982880"/>
            <a:ext cx="7942320" cy="3170880"/>
            <a:chOff x="685800" y="1982880"/>
            <a:chExt cx="7942320" cy="31708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248160" y="1982880"/>
              <a:ext cx="237996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05160" y="3979800"/>
              <a:ext cx="1143000" cy="0"/>
            </a:xfrm>
            <a:prstGeom prst="line">
              <a:avLst/>
            </a:prstGeom>
            <a:ln cap="rnd" w="38160">
              <a:solidFill>
                <a:srgbClr val="ff99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04760" y="2684520"/>
              <a:ext cx="1600200" cy="838080"/>
            </a:xfrm>
            <a:prstGeom prst="line">
              <a:avLst/>
            </a:prstGeom>
            <a:ln cap="rnd" w="38160">
              <a:solidFill>
                <a:srgbClr val="ff99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685800" y="1982880"/>
              <a:ext cx="2379600" cy="229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"/>
            <p:cNvGrpSpPr/>
            <p:nvPr/>
          </p:nvGrpSpPr>
          <p:grpSpPr>
            <a:xfrm>
              <a:off x="3352680" y="3218040"/>
              <a:ext cx="1807920" cy="1520640"/>
              <a:chOff x="3352680" y="3218040"/>
              <a:chExt cx="1807920" cy="1520640"/>
            </a:xfrm>
          </p:grpSpPr>
          <p:sp>
            <p:nvSpPr>
              <p:cNvPr id="248" name=""/>
              <p:cNvSpPr/>
              <p:nvPr/>
            </p:nvSpPr>
            <p:spPr>
              <a:xfrm>
                <a:off x="3514320" y="3794040"/>
                <a:ext cx="211320" cy="276480"/>
              </a:xfrm>
              <a:custGeom>
                <a:avLst/>
                <a:gdLst/>
                <a:ahLst/>
                <a:rect l="l" t="t" r="r" b="b"/>
                <a:pathLst>
                  <a:path w="267" h="348">
                    <a:moveTo>
                      <a:pt x="15" y="267"/>
                    </a:moveTo>
                    <a:lnTo>
                      <a:pt x="11" y="248"/>
                    </a:lnTo>
                    <a:lnTo>
                      <a:pt x="6" y="229"/>
                    </a:lnTo>
                    <a:lnTo>
                      <a:pt x="0" y="211"/>
                    </a:lnTo>
                    <a:lnTo>
                      <a:pt x="0" y="192"/>
                    </a:lnTo>
                    <a:lnTo>
                      <a:pt x="8" y="170"/>
                    </a:lnTo>
                    <a:lnTo>
                      <a:pt x="16" y="162"/>
                    </a:lnTo>
                    <a:lnTo>
                      <a:pt x="23" y="153"/>
                    </a:lnTo>
                    <a:lnTo>
                      <a:pt x="30" y="144"/>
                    </a:lnTo>
                    <a:lnTo>
                      <a:pt x="38" y="133"/>
                    </a:lnTo>
                    <a:lnTo>
                      <a:pt x="40" y="112"/>
                    </a:lnTo>
                    <a:lnTo>
                      <a:pt x="41" y="89"/>
                    </a:lnTo>
                    <a:lnTo>
                      <a:pt x="42" y="64"/>
                    </a:lnTo>
                    <a:lnTo>
                      <a:pt x="42" y="40"/>
                    </a:lnTo>
                    <a:lnTo>
                      <a:pt x="44" y="36"/>
                    </a:lnTo>
                    <a:lnTo>
                      <a:pt x="46" y="31"/>
                    </a:lnTo>
                    <a:lnTo>
                      <a:pt x="48" y="25"/>
                    </a:lnTo>
                    <a:lnTo>
                      <a:pt x="50" y="18"/>
                    </a:lnTo>
                    <a:lnTo>
                      <a:pt x="62" y="4"/>
                    </a:lnTo>
                    <a:lnTo>
                      <a:pt x="68" y="2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1" y="1"/>
                    </a:lnTo>
                    <a:lnTo>
                      <a:pt x="97" y="11"/>
                    </a:lnTo>
                    <a:lnTo>
                      <a:pt x="103" y="23"/>
                    </a:lnTo>
                    <a:lnTo>
                      <a:pt x="109" y="37"/>
                    </a:lnTo>
                    <a:lnTo>
                      <a:pt x="113" y="53"/>
                    </a:lnTo>
                    <a:lnTo>
                      <a:pt x="112" y="71"/>
                    </a:lnTo>
                    <a:lnTo>
                      <a:pt x="110" y="87"/>
                    </a:lnTo>
                    <a:lnTo>
                      <a:pt x="107" y="101"/>
                    </a:lnTo>
                    <a:lnTo>
                      <a:pt x="105" y="115"/>
                    </a:lnTo>
                    <a:lnTo>
                      <a:pt x="110" y="120"/>
                    </a:lnTo>
                    <a:lnTo>
                      <a:pt x="116" y="110"/>
                    </a:lnTo>
                    <a:lnTo>
                      <a:pt x="122" y="102"/>
                    </a:lnTo>
                    <a:lnTo>
                      <a:pt x="128" y="94"/>
                    </a:lnTo>
                    <a:lnTo>
                      <a:pt x="133" y="86"/>
                    </a:lnTo>
                    <a:lnTo>
                      <a:pt x="138" y="77"/>
                    </a:lnTo>
                    <a:lnTo>
                      <a:pt x="144" y="69"/>
                    </a:lnTo>
                    <a:lnTo>
                      <a:pt x="151" y="60"/>
                    </a:lnTo>
                    <a:lnTo>
                      <a:pt x="156" y="49"/>
                    </a:lnTo>
                    <a:lnTo>
                      <a:pt x="162" y="47"/>
                    </a:lnTo>
                    <a:lnTo>
                      <a:pt x="169" y="44"/>
                    </a:lnTo>
                    <a:lnTo>
                      <a:pt x="176" y="40"/>
                    </a:lnTo>
                    <a:lnTo>
                      <a:pt x="185" y="38"/>
                    </a:lnTo>
                    <a:lnTo>
                      <a:pt x="199" y="48"/>
                    </a:lnTo>
                    <a:lnTo>
                      <a:pt x="204" y="62"/>
                    </a:lnTo>
                    <a:lnTo>
                      <a:pt x="205" y="75"/>
                    </a:lnTo>
                    <a:lnTo>
                      <a:pt x="204" y="89"/>
                    </a:lnTo>
                    <a:lnTo>
                      <a:pt x="200" y="102"/>
                    </a:lnTo>
                    <a:lnTo>
                      <a:pt x="196" y="116"/>
                    </a:lnTo>
                    <a:lnTo>
                      <a:pt x="190" y="130"/>
                    </a:lnTo>
                    <a:lnTo>
                      <a:pt x="183" y="143"/>
                    </a:lnTo>
                    <a:lnTo>
                      <a:pt x="177" y="157"/>
                    </a:lnTo>
                    <a:lnTo>
                      <a:pt x="181" y="162"/>
                    </a:lnTo>
                    <a:lnTo>
                      <a:pt x="186" y="161"/>
                    </a:lnTo>
                    <a:lnTo>
                      <a:pt x="191" y="158"/>
                    </a:lnTo>
                    <a:lnTo>
                      <a:pt x="196" y="154"/>
                    </a:lnTo>
                    <a:lnTo>
                      <a:pt x="201" y="150"/>
                    </a:lnTo>
                    <a:lnTo>
                      <a:pt x="205" y="147"/>
                    </a:lnTo>
                    <a:lnTo>
                      <a:pt x="209" y="145"/>
                    </a:lnTo>
                    <a:lnTo>
                      <a:pt x="215" y="143"/>
                    </a:lnTo>
                    <a:lnTo>
                      <a:pt x="221" y="140"/>
                    </a:lnTo>
                    <a:lnTo>
                      <a:pt x="227" y="138"/>
                    </a:lnTo>
                    <a:lnTo>
                      <a:pt x="234" y="136"/>
                    </a:lnTo>
                    <a:lnTo>
                      <a:pt x="239" y="133"/>
                    </a:lnTo>
                    <a:lnTo>
                      <a:pt x="245" y="130"/>
                    </a:lnTo>
                    <a:lnTo>
                      <a:pt x="250" y="130"/>
                    </a:lnTo>
                    <a:lnTo>
                      <a:pt x="254" y="131"/>
                    </a:lnTo>
                    <a:lnTo>
                      <a:pt x="260" y="132"/>
                    </a:lnTo>
                    <a:lnTo>
                      <a:pt x="267" y="133"/>
                    </a:lnTo>
                    <a:lnTo>
                      <a:pt x="266" y="154"/>
                    </a:lnTo>
                    <a:lnTo>
                      <a:pt x="260" y="173"/>
                    </a:lnTo>
                    <a:lnTo>
                      <a:pt x="251" y="189"/>
                    </a:lnTo>
                    <a:lnTo>
                      <a:pt x="239" y="203"/>
                    </a:lnTo>
                    <a:lnTo>
                      <a:pt x="226" y="218"/>
                    </a:lnTo>
                    <a:lnTo>
                      <a:pt x="212" y="230"/>
                    </a:lnTo>
                    <a:lnTo>
                      <a:pt x="200" y="244"/>
                    </a:lnTo>
                    <a:lnTo>
                      <a:pt x="190" y="259"/>
                    </a:lnTo>
                    <a:lnTo>
                      <a:pt x="193" y="262"/>
                    </a:lnTo>
                    <a:lnTo>
                      <a:pt x="198" y="265"/>
                    </a:lnTo>
                    <a:lnTo>
                      <a:pt x="204" y="267"/>
                    </a:lnTo>
                    <a:lnTo>
                      <a:pt x="211" y="269"/>
                    </a:lnTo>
                    <a:lnTo>
                      <a:pt x="216" y="269"/>
                    </a:lnTo>
                    <a:lnTo>
                      <a:pt x="222" y="269"/>
                    </a:lnTo>
                    <a:lnTo>
                      <a:pt x="229" y="271"/>
                    </a:lnTo>
                    <a:lnTo>
                      <a:pt x="236" y="272"/>
                    </a:lnTo>
                    <a:lnTo>
                      <a:pt x="242" y="274"/>
                    </a:lnTo>
                    <a:lnTo>
                      <a:pt x="249" y="276"/>
                    </a:lnTo>
                    <a:lnTo>
                      <a:pt x="255" y="279"/>
                    </a:lnTo>
                    <a:lnTo>
                      <a:pt x="261" y="281"/>
                    </a:lnTo>
                    <a:lnTo>
                      <a:pt x="265" y="287"/>
                    </a:lnTo>
                    <a:lnTo>
                      <a:pt x="266" y="295"/>
                    </a:lnTo>
                    <a:lnTo>
                      <a:pt x="265" y="303"/>
                    </a:lnTo>
                    <a:lnTo>
                      <a:pt x="261" y="311"/>
                    </a:lnTo>
                    <a:lnTo>
                      <a:pt x="242" y="319"/>
                    </a:lnTo>
                    <a:lnTo>
                      <a:pt x="220" y="326"/>
                    </a:lnTo>
                    <a:lnTo>
                      <a:pt x="198" y="330"/>
                    </a:lnTo>
                    <a:lnTo>
                      <a:pt x="176" y="334"/>
                    </a:lnTo>
                    <a:lnTo>
                      <a:pt x="153" y="336"/>
                    </a:lnTo>
                    <a:lnTo>
                      <a:pt x="131" y="340"/>
                    </a:lnTo>
                    <a:lnTo>
                      <a:pt x="109" y="343"/>
                    </a:lnTo>
                    <a:lnTo>
                      <a:pt x="88" y="348"/>
                    </a:lnTo>
                    <a:lnTo>
                      <a:pt x="77" y="345"/>
                    </a:lnTo>
                    <a:lnTo>
                      <a:pt x="67" y="339"/>
                    </a:lnTo>
                    <a:lnTo>
                      <a:pt x="56" y="328"/>
                    </a:lnTo>
                    <a:lnTo>
                      <a:pt x="47" y="315"/>
                    </a:lnTo>
                    <a:lnTo>
                      <a:pt x="38" y="302"/>
                    </a:lnTo>
                    <a:lnTo>
                      <a:pt x="30" y="289"/>
                    </a:lnTo>
                    <a:lnTo>
                      <a:pt x="22" y="276"/>
                    </a:lnTo>
                    <a:lnTo>
                      <a:pt x="15" y="26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52680" y="3975120"/>
                <a:ext cx="1647720" cy="763560"/>
              </a:xfrm>
              <a:custGeom>
                <a:avLst/>
                <a:gdLst/>
                <a:ahLst/>
                <a:rect l="l" t="t" r="r" b="b"/>
                <a:pathLst>
                  <a:path w="2075" h="962">
                    <a:moveTo>
                      <a:pt x="205" y="45"/>
                    </a:moveTo>
                    <a:lnTo>
                      <a:pt x="229" y="91"/>
                    </a:lnTo>
                    <a:lnTo>
                      <a:pt x="235" y="99"/>
                    </a:lnTo>
                    <a:lnTo>
                      <a:pt x="241" y="108"/>
                    </a:lnTo>
                    <a:lnTo>
                      <a:pt x="248" y="117"/>
                    </a:lnTo>
                    <a:lnTo>
                      <a:pt x="254" y="127"/>
                    </a:lnTo>
                    <a:lnTo>
                      <a:pt x="237" y="145"/>
                    </a:lnTo>
                    <a:lnTo>
                      <a:pt x="220" y="164"/>
                    </a:lnTo>
                    <a:lnTo>
                      <a:pt x="202" y="181"/>
                    </a:lnTo>
                    <a:lnTo>
                      <a:pt x="185" y="199"/>
                    </a:lnTo>
                    <a:lnTo>
                      <a:pt x="170" y="220"/>
                    </a:lnTo>
                    <a:lnTo>
                      <a:pt x="159" y="241"/>
                    </a:lnTo>
                    <a:lnTo>
                      <a:pt x="152" y="265"/>
                    </a:lnTo>
                    <a:lnTo>
                      <a:pt x="150" y="293"/>
                    </a:lnTo>
                    <a:lnTo>
                      <a:pt x="153" y="314"/>
                    </a:lnTo>
                    <a:lnTo>
                      <a:pt x="158" y="336"/>
                    </a:lnTo>
                    <a:lnTo>
                      <a:pt x="166" y="358"/>
                    </a:lnTo>
                    <a:lnTo>
                      <a:pt x="175" y="378"/>
                    </a:lnTo>
                    <a:lnTo>
                      <a:pt x="180" y="381"/>
                    </a:lnTo>
                    <a:lnTo>
                      <a:pt x="184" y="385"/>
                    </a:lnTo>
                    <a:lnTo>
                      <a:pt x="188" y="388"/>
                    </a:lnTo>
                    <a:lnTo>
                      <a:pt x="192" y="392"/>
                    </a:lnTo>
                    <a:lnTo>
                      <a:pt x="197" y="396"/>
                    </a:lnTo>
                    <a:lnTo>
                      <a:pt x="202" y="401"/>
                    </a:lnTo>
                    <a:lnTo>
                      <a:pt x="207" y="404"/>
                    </a:lnTo>
                    <a:lnTo>
                      <a:pt x="212" y="409"/>
                    </a:lnTo>
                    <a:lnTo>
                      <a:pt x="248" y="412"/>
                    </a:lnTo>
                    <a:lnTo>
                      <a:pt x="284" y="415"/>
                    </a:lnTo>
                    <a:lnTo>
                      <a:pt x="320" y="415"/>
                    </a:lnTo>
                    <a:lnTo>
                      <a:pt x="357" y="414"/>
                    </a:lnTo>
                    <a:lnTo>
                      <a:pt x="394" y="410"/>
                    </a:lnTo>
                    <a:lnTo>
                      <a:pt x="431" y="407"/>
                    </a:lnTo>
                    <a:lnTo>
                      <a:pt x="468" y="401"/>
                    </a:lnTo>
                    <a:lnTo>
                      <a:pt x="504" y="395"/>
                    </a:lnTo>
                    <a:lnTo>
                      <a:pt x="541" y="388"/>
                    </a:lnTo>
                    <a:lnTo>
                      <a:pt x="578" y="381"/>
                    </a:lnTo>
                    <a:lnTo>
                      <a:pt x="616" y="373"/>
                    </a:lnTo>
                    <a:lnTo>
                      <a:pt x="653" y="365"/>
                    </a:lnTo>
                    <a:lnTo>
                      <a:pt x="691" y="357"/>
                    </a:lnTo>
                    <a:lnTo>
                      <a:pt x="728" y="349"/>
                    </a:lnTo>
                    <a:lnTo>
                      <a:pt x="766" y="341"/>
                    </a:lnTo>
                    <a:lnTo>
                      <a:pt x="803" y="334"/>
                    </a:lnTo>
                    <a:lnTo>
                      <a:pt x="841" y="327"/>
                    </a:lnTo>
                    <a:lnTo>
                      <a:pt x="877" y="320"/>
                    </a:lnTo>
                    <a:lnTo>
                      <a:pt x="915" y="316"/>
                    </a:lnTo>
                    <a:lnTo>
                      <a:pt x="952" y="311"/>
                    </a:lnTo>
                    <a:lnTo>
                      <a:pt x="990" y="308"/>
                    </a:lnTo>
                    <a:lnTo>
                      <a:pt x="1027" y="306"/>
                    </a:lnTo>
                    <a:lnTo>
                      <a:pt x="1065" y="306"/>
                    </a:lnTo>
                    <a:lnTo>
                      <a:pt x="1102" y="308"/>
                    </a:lnTo>
                    <a:lnTo>
                      <a:pt x="1140" y="311"/>
                    </a:lnTo>
                    <a:lnTo>
                      <a:pt x="1177" y="317"/>
                    </a:lnTo>
                    <a:lnTo>
                      <a:pt x="1214" y="324"/>
                    </a:lnTo>
                    <a:lnTo>
                      <a:pt x="1251" y="334"/>
                    </a:lnTo>
                    <a:lnTo>
                      <a:pt x="1287" y="347"/>
                    </a:lnTo>
                    <a:lnTo>
                      <a:pt x="1324" y="362"/>
                    </a:lnTo>
                    <a:lnTo>
                      <a:pt x="1361" y="380"/>
                    </a:lnTo>
                    <a:lnTo>
                      <a:pt x="1398" y="401"/>
                    </a:lnTo>
                    <a:lnTo>
                      <a:pt x="1427" y="411"/>
                    </a:lnTo>
                    <a:lnTo>
                      <a:pt x="1457" y="422"/>
                    </a:lnTo>
                    <a:lnTo>
                      <a:pt x="1485" y="431"/>
                    </a:lnTo>
                    <a:lnTo>
                      <a:pt x="1515" y="440"/>
                    </a:lnTo>
                    <a:lnTo>
                      <a:pt x="1544" y="449"/>
                    </a:lnTo>
                    <a:lnTo>
                      <a:pt x="1573" y="457"/>
                    </a:lnTo>
                    <a:lnTo>
                      <a:pt x="1603" y="464"/>
                    </a:lnTo>
                    <a:lnTo>
                      <a:pt x="1632" y="471"/>
                    </a:lnTo>
                    <a:lnTo>
                      <a:pt x="1660" y="476"/>
                    </a:lnTo>
                    <a:lnTo>
                      <a:pt x="1689" y="479"/>
                    </a:lnTo>
                    <a:lnTo>
                      <a:pt x="1718" y="482"/>
                    </a:lnTo>
                    <a:lnTo>
                      <a:pt x="1746" y="482"/>
                    </a:lnTo>
                    <a:lnTo>
                      <a:pt x="1774" y="479"/>
                    </a:lnTo>
                    <a:lnTo>
                      <a:pt x="1802" y="476"/>
                    </a:lnTo>
                    <a:lnTo>
                      <a:pt x="1830" y="470"/>
                    </a:lnTo>
                    <a:lnTo>
                      <a:pt x="1857" y="462"/>
                    </a:lnTo>
                    <a:lnTo>
                      <a:pt x="1870" y="453"/>
                    </a:lnTo>
                    <a:lnTo>
                      <a:pt x="1882" y="441"/>
                    </a:lnTo>
                    <a:lnTo>
                      <a:pt x="1892" y="430"/>
                    </a:lnTo>
                    <a:lnTo>
                      <a:pt x="1902" y="417"/>
                    </a:lnTo>
                    <a:lnTo>
                      <a:pt x="1910" y="402"/>
                    </a:lnTo>
                    <a:lnTo>
                      <a:pt x="1918" y="387"/>
                    </a:lnTo>
                    <a:lnTo>
                      <a:pt x="1923" y="372"/>
                    </a:lnTo>
                    <a:lnTo>
                      <a:pt x="1926" y="355"/>
                    </a:lnTo>
                    <a:lnTo>
                      <a:pt x="1926" y="347"/>
                    </a:lnTo>
                    <a:lnTo>
                      <a:pt x="1926" y="339"/>
                    </a:lnTo>
                    <a:lnTo>
                      <a:pt x="1928" y="331"/>
                    </a:lnTo>
                    <a:lnTo>
                      <a:pt x="1929" y="321"/>
                    </a:lnTo>
                    <a:lnTo>
                      <a:pt x="1945" y="314"/>
                    </a:lnTo>
                    <a:lnTo>
                      <a:pt x="1960" y="308"/>
                    </a:lnTo>
                    <a:lnTo>
                      <a:pt x="1974" y="301"/>
                    </a:lnTo>
                    <a:lnTo>
                      <a:pt x="1988" y="294"/>
                    </a:lnTo>
                    <a:lnTo>
                      <a:pt x="2001" y="286"/>
                    </a:lnTo>
                    <a:lnTo>
                      <a:pt x="2015" y="278"/>
                    </a:lnTo>
                    <a:lnTo>
                      <a:pt x="2030" y="268"/>
                    </a:lnTo>
                    <a:lnTo>
                      <a:pt x="2045" y="258"/>
                    </a:lnTo>
                    <a:lnTo>
                      <a:pt x="2059" y="256"/>
                    </a:lnTo>
                    <a:lnTo>
                      <a:pt x="2068" y="286"/>
                    </a:lnTo>
                    <a:lnTo>
                      <a:pt x="2073" y="317"/>
                    </a:lnTo>
                    <a:lnTo>
                      <a:pt x="2075" y="350"/>
                    </a:lnTo>
                    <a:lnTo>
                      <a:pt x="2074" y="382"/>
                    </a:lnTo>
                    <a:lnTo>
                      <a:pt x="2069" y="415"/>
                    </a:lnTo>
                    <a:lnTo>
                      <a:pt x="2061" y="447"/>
                    </a:lnTo>
                    <a:lnTo>
                      <a:pt x="2051" y="478"/>
                    </a:lnTo>
                    <a:lnTo>
                      <a:pt x="2037" y="508"/>
                    </a:lnTo>
                    <a:lnTo>
                      <a:pt x="2026" y="529"/>
                    </a:lnTo>
                    <a:lnTo>
                      <a:pt x="2013" y="548"/>
                    </a:lnTo>
                    <a:lnTo>
                      <a:pt x="1998" y="568"/>
                    </a:lnTo>
                    <a:lnTo>
                      <a:pt x="1981" y="586"/>
                    </a:lnTo>
                    <a:lnTo>
                      <a:pt x="1962" y="602"/>
                    </a:lnTo>
                    <a:lnTo>
                      <a:pt x="1941" y="617"/>
                    </a:lnTo>
                    <a:lnTo>
                      <a:pt x="1920" y="630"/>
                    </a:lnTo>
                    <a:lnTo>
                      <a:pt x="1895" y="641"/>
                    </a:lnTo>
                    <a:lnTo>
                      <a:pt x="1864" y="649"/>
                    </a:lnTo>
                    <a:lnTo>
                      <a:pt x="1834" y="654"/>
                    </a:lnTo>
                    <a:lnTo>
                      <a:pt x="1803" y="658"/>
                    </a:lnTo>
                    <a:lnTo>
                      <a:pt x="1772" y="660"/>
                    </a:lnTo>
                    <a:lnTo>
                      <a:pt x="1741" y="661"/>
                    </a:lnTo>
                    <a:lnTo>
                      <a:pt x="1709" y="661"/>
                    </a:lnTo>
                    <a:lnTo>
                      <a:pt x="1678" y="659"/>
                    </a:lnTo>
                    <a:lnTo>
                      <a:pt x="1647" y="657"/>
                    </a:lnTo>
                    <a:lnTo>
                      <a:pt x="1614" y="653"/>
                    </a:lnTo>
                    <a:lnTo>
                      <a:pt x="1582" y="649"/>
                    </a:lnTo>
                    <a:lnTo>
                      <a:pt x="1551" y="644"/>
                    </a:lnTo>
                    <a:lnTo>
                      <a:pt x="1519" y="639"/>
                    </a:lnTo>
                    <a:lnTo>
                      <a:pt x="1487" y="635"/>
                    </a:lnTo>
                    <a:lnTo>
                      <a:pt x="1456" y="630"/>
                    </a:lnTo>
                    <a:lnTo>
                      <a:pt x="1423" y="626"/>
                    </a:lnTo>
                    <a:lnTo>
                      <a:pt x="1391" y="622"/>
                    </a:lnTo>
                    <a:lnTo>
                      <a:pt x="1396" y="659"/>
                    </a:lnTo>
                    <a:lnTo>
                      <a:pt x="1401" y="695"/>
                    </a:lnTo>
                    <a:lnTo>
                      <a:pt x="1408" y="732"/>
                    </a:lnTo>
                    <a:lnTo>
                      <a:pt x="1415" y="768"/>
                    </a:lnTo>
                    <a:lnTo>
                      <a:pt x="1422" y="805"/>
                    </a:lnTo>
                    <a:lnTo>
                      <a:pt x="1430" y="842"/>
                    </a:lnTo>
                    <a:lnTo>
                      <a:pt x="1438" y="879"/>
                    </a:lnTo>
                    <a:lnTo>
                      <a:pt x="1446" y="917"/>
                    </a:lnTo>
                    <a:lnTo>
                      <a:pt x="1452" y="922"/>
                    </a:lnTo>
                    <a:lnTo>
                      <a:pt x="1450" y="929"/>
                    </a:lnTo>
                    <a:lnTo>
                      <a:pt x="1447" y="937"/>
                    </a:lnTo>
                    <a:lnTo>
                      <a:pt x="1444" y="944"/>
                    </a:lnTo>
                    <a:lnTo>
                      <a:pt x="1439" y="950"/>
                    </a:lnTo>
                    <a:lnTo>
                      <a:pt x="1428" y="954"/>
                    </a:lnTo>
                    <a:lnTo>
                      <a:pt x="1416" y="956"/>
                    </a:lnTo>
                    <a:lnTo>
                      <a:pt x="1405" y="958"/>
                    </a:lnTo>
                    <a:lnTo>
                      <a:pt x="1393" y="960"/>
                    </a:lnTo>
                    <a:lnTo>
                      <a:pt x="1381" y="960"/>
                    </a:lnTo>
                    <a:lnTo>
                      <a:pt x="1368" y="961"/>
                    </a:lnTo>
                    <a:lnTo>
                      <a:pt x="1356" y="961"/>
                    </a:lnTo>
                    <a:lnTo>
                      <a:pt x="1344" y="960"/>
                    </a:lnTo>
                    <a:lnTo>
                      <a:pt x="1331" y="960"/>
                    </a:lnTo>
                    <a:lnTo>
                      <a:pt x="1318" y="960"/>
                    </a:lnTo>
                    <a:lnTo>
                      <a:pt x="1306" y="960"/>
                    </a:lnTo>
                    <a:lnTo>
                      <a:pt x="1293" y="958"/>
                    </a:lnTo>
                    <a:lnTo>
                      <a:pt x="1280" y="960"/>
                    </a:lnTo>
                    <a:lnTo>
                      <a:pt x="1269" y="960"/>
                    </a:lnTo>
                    <a:lnTo>
                      <a:pt x="1256" y="961"/>
                    </a:lnTo>
                    <a:lnTo>
                      <a:pt x="1244" y="962"/>
                    </a:lnTo>
                    <a:lnTo>
                      <a:pt x="1236" y="962"/>
                    </a:lnTo>
                    <a:lnTo>
                      <a:pt x="1206" y="958"/>
                    </a:lnTo>
                    <a:lnTo>
                      <a:pt x="1175" y="956"/>
                    </a:lnTo>
                    <a:lnTo>
                      <a:pt x="1145" y="955"/>
                    </a:lnTo>
                    <a:lnTo>
                      <a:pt x="1114" y="954"/>
                    </a:lnTo>
                    <a:lnTo>
                      <a:pt x="1084" y="954"/>
                    </a:lnTo>
                    <a:lnTo>
                      <a:pt x="1052" y="954"/>
                    </a:lnTo>
                    <a:lnTo>
                      <a:pt x="1023" y="954"/>
                    </a:lnTo>
                    <a:lnTo>
                      <a:pt x="991" y="954"/>
                    </a:lnTo>
                    <a:lnTo>
                      <a:pt x="960" y="954"/>
                    </a:lnTo>
                    <a:lnTo>
                      <a:pt x="930" y="954"/>
                    </a:lnTo>
                    <a:lnTo>
                      <a:pt x="899" y="953"/>
                    </a:lnTo>
                    <a:lnTo>
                      <a:pt x="868" y="952"/>
                    </a:lnTo>
                    <a:lnTo>
                      <a:pt x="838" y="949"/>
                    </a:lnTo>
                    <a:lnTo>
                      <a:pt x="807" y="946"/>
                    </a:lnTo>
                    <a:lnTo>
                      <a:pt x="776" y="941"/>
                    </a:lnTo>
                    <a:lnTo>
                      <a:pt x="746" y="935"/>
                    </a:lnTo>
                    <a:lnTo>
                      <a:pt x="735" y="923"/>
                    </a:lnTo>
                    <a:lnTo>
                      <a:pt x="736" y="882"/>
                    </a:lnTo>
                    <a:lnTo>
                      <a:pt x="736" y="841"/>
                    </a:lnTo>
                    <a:lnTo>
                      <a:pt x="735" y="801"/>
                    </a:lnTo>
                    <a:lnTo>
                      <a:pt x="730" y="759"/>
                    </a:lnTo>
                    <a:lnTo>
                      <a:pt x="725" y="717"/>
                    </a:lnTo>
                    <a:lnTo>
                      <a:pt x="719" y="675"/>
                    </a:lnTo>
                    <a:lnTo>
                      <a:pt x="710" y="634"/>
                    </a:lnTo>
                    <a:lnTo>
                      <a:pt x="701" y="592"/>
                    </a:lnTo>
                    <a:lnTo>
                      <a:pt x="700" y="584"/>
                    </a:lnTo>
                    <a:lnTo>
                      <a:pt x="697" y="578"/>
                    </a:lnTo>
                    <a:lnTo>
                      <a:pt x="693" y="571"/>
                    </a:lnTo>
                    <a:lnTo>
                      <a:pt x="691" y="563"/>
                    </a:lnTo>
                    <a:lnTo>
                      <a:pt x="677" y="553"/>
                    </a:lnTo>
                    <a:lnTo>
                      <a:pt x="647" y="559"/>
                    </a:lnTo>
                    <a:lnTo>
                      <a:pt x="617" y="563"/>
                    </a:lnTo>
                    <a:lnTo>
                      <a:pt x="588" y="569"/>
                    </a:lnTo>
                    <a:lnTo>
                      <a:pt x="558" y="574"/>
                    </a:lnTo>
                    <a:lnTo>
                      <a:pt x="529" y="578"/>
                    </a:lnTo>
                    <a:lnTo>
                      <a:pt x="500" y="583"/>
                    </a:lnTo>
                    <a:lnTo>
                      <a:pt x="470" y="588"/>
                    </a:lnTo>
                    <a:lnTo>
                      <a:pt x="440" y="591"/>
                    </a:lnTo>
                    <a:lnTo>
                      <a:pt x="410" y="593"/>
                    </a:lnTo>
                    <a:lnTo>
                      <a:pt x="381" y="594"/>
                    </a:lnTo>
                    <a:lnTo>
                      <a:pt x="351" y="596"/>
                    </a:lnTo>
                    <a:lnTo>
                      <a:pt x="321" y="596"/>
                    </a:lnTo>
                    <a:lnTo>
                      <a:pt x="291" y="593"/>
                    </a:lnTo>
                    <a:lnTo>
                      <a:pt x="261" y="591"/>
                    </a:lnTo>
                    <a:lnTo>
                      <a:pt x="230" y="586"/>
                    </a:lnTo>
                    <a:lnTo>
                      <a:pt x="200" y="581"/>
                    </a:lnTo>
                    <a:lnTo>
                      <a:pt x="197" y="577"/>
                    </a:lnTo>
                    <a:lnTo>
                      <a:pt x="191" y="575"/>
                    </a:lnTo>
                    <a:lnTo>
                      <a:pt x="183" y="571"/>
                    </a:lnTo>
                    <a:lnTo>
                      <a:pt x="173" y="568"/>
                    </a:lnTo>
                    <a:lnTo>
                      <a:pt x="167" y="563"/>
                    </a:lnTo>
                    <a:lnTo>
                      <a:pt x="152" y="561"/>
                    </a:lnTo>
                    <a:lnTo>
                      <a:pt x="147" y="560"/>
                    </a:lnTo>
                    <a:lnTo>
                      <a:pt x="144" y="559"/>
                    </a:lnTo>
                    <a:lnTo>
                      <a:pt x="140" y="556"/>
                    </a:lnTo>
                    <a:lnTo>
                      <a:pt x="136" y="554"/>
                    </a:lnTo>
                    <a:lnTo>
                      <a:pt x="132" y="552"/>
                    </a:lnTo>
                    <a:lnTo>
                      <a:pt x="128" y="549"/>
                    </a:lnTo>
                    <a:lnTo>
                      <a:pt x="122" y="547"/>
                    </a:lnTo>
                    <a:lnTo>
                      <a:pt x="116" y="545"/>
                    </a:lnTo>
                    <a:lnTo>
                      <a:pt x="96" y="529"/>
                    </a:lnTo>
                    <a:lnTo>
                      <a:pt x="78" y="510"/>
                    </a:lnTo>
                    <a:lnTo>
                      <a:pt x="64" y="490"/>
                    </a:lnTo>
                    <a:lnTo>
                      <a:pt x="52" y="468"/>
                    </a:lnTo>
                    <a:lnTo>
                      <a:pt x="39" y="445"/>
                    </a:lnTo>
                    <a:lnTo>
                      <a:pt x="29" y="419"/>
                    </a:lnTo>
                    <a:lnTo>
                      <a:pt x="18" y="395"/>
                    </a:lnTo>
                    <a:lnTo>
                      <a:pt x="7" y="370"/>
                    </a:lnTo>
                    <a:lnTo>
                      <a:pt x="5" y="343"/>
                    </a:lnTo>
                    <a:lnTo>
                      <a:pt x="2" y="318"/>
                    </a:lnTo>
                    <a:lnTo>
                      <a:pt x="1" y="293"/>
                    </a:lnTo>
                    <a:lnTo>
                      <a:pt x="0" y="267"/>
                    </a:lnTo>
                    <a:lnTo>
                      <a:pt x="9" y="246"/>
                    </a:lnTo>
                    <a:lnTo>
                      <a:pt x="15" y="218"/>
                    </a:lnTo>
                    <a:lnTo>
                      <a:pt x="24" y="191"/>
                    </a:lnTo>
                    <a:lnTo>
                      <a:pt x="36" y="167"/>
                    </a:lnTo>
                    <a:lnTo>
                      <a:pt x="50" y="143"/>
                    </a:lnTo>
                    <a:lnTo>
                      <a:pt x="66" y="121"/>
                    </a:lnTo>
                    <a:lnTo>
                      <a:pt x="83" y="99"/>
                    </a:lnTo>
                    <a:lnTo>
                      <a:pt x="101" y="77"/>
                    </a:lnTo>
                    <a:lnTo>
                      <a:pt x="121" y="54"/>
                    </a:lnTo>
                    <a:lnTo>
                      <a:pt x="124" y="49"/>
                    </a:lnTo>
                    <a:lnTo>
                      <a:pt x="128" y="46"/>
                    </a:lnTo>
                    <a:lnTo>
                      <a:pt x="131" y="41"/>
                    </a:lnTo>
                    <a:lnTo>
                      <a:pt x="134" y="33"/>
                    </a:lnTo>
                    <a:lnTo>
                      <a:pt x="139" y="29"/>
                    </a:lnTo>
                    <a:lnTo>
                      <a:pt x="146" y="24"/>
                    </a:lnTo>
                    <a:lnTo>
                      <a:pt x="152" y="20"/>
                    </a:lnTo>
                    <a:lnTo>
                      <a:pt x="159" y="16"/>
                    </a:lnTo>
                    <a:lnTo>
                      <a:pt x="166" y="13"/>
                    </a:lnTo>
                    <a:lnTo>
                      <a:pt x="173" y="9"/>
                    </a:lnTo>
                    <a:lnTo>
                      <a:pt x="180" y="5"/>
                    </a:lnTo>
                    <a:lnTo>
                      <a:pt x="187" y="0"/>
                    </a:lnTo>
                    <a:lnTo>
                      <a:pt x="192" y="14"/>
                    </a:lnTo>
                    <a:lnTo>
                      <a:pt x="195" y="24"/>
                    </a:lnTo>
                    <a:lnTo>
                      <a:pt x="198" y="33"/>
                    </a:lnTo>
                    <a:lnTo>
                      <a:pt x="205" y="4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68520" y="4000680"/>
                <a:ext cx="1614240" cy="722160"/>
              </a:xfrm>
              <a:custGeom>
                <a:avLst/>
                <a:gdLst/>
                <a:ahLst/>
                <a:rect l="l" t="t" r="r" b="b"/>
                <a:pathLst>
                  <a:path w="2034" h="911">
                    <a:moveTo>
                      <a:pt x="1194" y="911"/>
                    </a:moveTo>
                    <a:lnTo>
                      <a:pt x="1166" y="908"/>
                    </a:lnTo>
                    <a:lnTo>
                      <a:pt x="1138" y="906"/>
                    </a:lnTo>
                    <a:lnTo>
                      <a:pt x="1111" y="904"/>
                    </a:lnTo>
                    <a:lnTo>
                      <a:pt x="1083" y="903"/>
                    </a:lnTo>
                    <a:lnTo>
                      <a:pt x="1054" y="903"/>
                    </a:lnTo>
                    <a:lnTo>
                      <a:pt x="1027" y="903"/>
                    </a:lnTo>
                    <a:lnTo>
                      <a:pt x="999" y="903"/>
                    </a:lnTo>
                    <a:lnTo>
                      <a:pt x="971" y="904"/>
                    </a:lnTo>
                    <a:lnTo>
                      <a:pt x="944" y="904"/>
                    </a:lnTo>
                    <a:lnTo>
                      <a:pt x="916" y="904"/>
                    </a:lnTo>
                    <a:lnTo>
                      <a:pt x="889" y="904"/>
                    </a:lnTo>
                    <a:lnTo>
                      <a:pt x="861" y="903"/>
                    </a:lnTo>
                    <a:lnTo>
                      <a:pt x="832" y="901"/>
                    </a:lnTo>
                    <a:lnTo>
                      <a:pt x="804" y="899"/>
                    </a:lnTo>
                    <a:lnTo>
                      <a:pt x="777" y="895"/>
                    </a:lnTo>
                    <a:lnTo>
                      <a:pt x="748" y="891"/>
                    </a:lnTo>
                    <a:lnTo>
                      <a:pt x="741" y="883"/>
                    </a:lnTo>
                    <a:lnTo>
                      <a:pt x="739" y="838"/>
                    </a:lnTo>
                    <a:lnTo>
                      <a:pt x="737" y="792"/>
                    </a:lnTo>
                    <a:lnTo>
                      <a:pt x="733" y="747"/>
                    </a:lnTo>
                    <a:lnTo>
                      <a:pt x="728" y="701"/>
                    </a:lnTo>
                    <a:lnTo>
                      <a:pt x="722" y="654"/>
                    </a:lnTo>
                    <a:lnTo>
                      <a:pt x="714" y="607"/>
                    </a:lnTo>
                    <a:lnTo>
                      <a:pt x="702" y="561"/>
                    </a:lnTo>
                    <a:lnTo>
                      <a:pt x="688" y="515"/>
                    </a:lnTo>
                    <a:lnTo>
                      <a:pt x="701" y="504"/>
                    </a:lnTo>
                    <a:lnTo>
                      <a:pt x="688" y="491"/>
                    </a:lnTo>
                    <a:lnTo>
                      <a:pt x="654" y="499"/>
                    </a:lnTo>
                    <a:lnTo>
                      <a:pt x="618" y="507"/>
                    </a:lnTo>
                    <a:lnTo>
                      <a:pt x="583" y="514"/>
                    </a:lnTo>
                    <a:lnTo>
                      <a:pt x="548" y="521"/>
                    </a:lnTo>
                    <a:lnTo>
                      <a:pt x="513" y="528"/>
                    </a:lnTo>
                    <a:lnTo>
                      <a:pt x="477" y="533"/>
                    </a:lnTo>
                    <a:lnTo>
                      <a:pt x="442" y="538"/>
                    </a:lnTo>
                    <a:lnTo>
                      <a:pt x="407" y="542"/>
                    </a:lnTo>
                    <a:lnTo>
                      <a:pt x="372" y="544"/>
                    </a:lnTo>
                    <a:lnTo>
                      <a:pt x="336" y="545"/>
                    </a:lnTo>
                    <a:lnTo>
                      <a:pt x="301" y="544"/>
                    </a:lnTo>
                    <a:lnTo>
                      <a:pt x="266" y="540"/>
                    </a:lnTo>
                    <a:lnTo>
                      <a:pt x="231" y="536"/>
                    </a:lnTo>
                    <a:lnTo>
                      <a:pt x="195" y="529"/>
                    </a:lnTo>
                    <a:lnTo>
                      <a:pt x="161" y="518"/>
                    </a:lnTo>
                    <a:lnTo>
                      <a:pt x="126" y="506"/>
                    </a:lnTo>
                    <a:lnTo>
                      <a:pt x="103" y="492"/>
                    </a:lnTo>
                    <a:lnTo>
                      <a:pt x="85" y="475"/>
                    </a:lnTo>
                    <a:lnTo>
                      <a:pt x="68" y="455"/>
                    </a:lnTo>
                    <a:lnTo>
                      <a:pt x="54" y="433"/>
                    </a:lnTo>
                    <a:lnTo>
                      <a:pt x="41" y="409"/>
                    </a:lnTo>
                    <a:lnTo>
                      <a:pt x="30" y="385"/>
                    </a:lnTo>
                    <a:lnTo>
                      <a:pt x="18" y="359"/>
                    </a:lnTo>
                    <a:lnTo>
                      <a:pt x="6" y="334"/>
                    </a:lnTo>
                    <a:lnTo>
                      <a:pt x="4" y="317"/>
                    </a:lnTo>
                    <a:lnTo>
                      <a:pt x="4" y="300"/>
                    </a:lnTo>
                    <a:lnTo>
                      <a:pt x="4" y="282"/>
                    </a:lnTo>
                    <a:lnTo>
                      <a:pt x="0" y="263"/>
                    </a:lnTo>
                    <a:lnTo>
                      <a:pt x="3" y="240"/>
                    </a:lnTo>
                    <a:lnTo>
                      <a:pt x="8" y="218"/>
                    </a:lnTo>
                    <a:lnTo>
                      <a:pt x="15" y="196"/>
                    </a:lnTo>
                    <a:lnTo>
                      <a:pt x="23" y="175"/>
                    </a:lnTo>
                    <a:lnTo>
                      <a:pt x="32" y="156"/>
                    </a:lnTo>
                    <a:lnTo>
                      <a:pt x="42" y="136"/>
                    </a:lnTo>
                    <a:lnTo>
                      <a:pt x="53" y="118"/>
                    </a:lnTo>
                    <a:lnTo>
                      <a:pt x="64" y="99"/>
                    </a:lnTo>
                    <a:lnTo>
                      <a:pt x="73" y="90"/>
                    </a:lnTo>
                    <a:lnTo>
                      <a:pt x="82" y="80"/>
                    </a:lnTo>
                    <a:lnTo>
                      <a:pt x="92" y="69"/>
                    </a:lnTo>
                    <a:lnTo>
                      <a:pt x="101" y="58"/>
                    </a:lnTo>
                    <a:lnTo>
                      <a:pt x="110" y="46"/>
                    </a:lnTo>
                    <a:lnTo>
                      <a:pt x="119" y="33"/>
                    </a:lnTo>
                    <a:lnTo>
                      <a:pt x="129" y="22"/>
                    </a:lnTo>
                    <a:lnTo>
                      <a:pt x="138" y="10"/>
                    </a:lnTo>
                    <a:lnTo>
                      <a:pt x="144" y="9"/>
                    </a:lnTo>
                    <a:lnTo>
                      <a:pt x="147" y="6"/>
                    </a:lnTo>
                    <a:lnTo>
                      <a:pt x="153" y="2"/>
                    </a:lnTo>
                    <a:lnTo>
                      <a:pt x="160" y="0"/>
                    </a:lnTo>
                    <a:lnTo>
                      <a:pt x="165" y="17"/>
                    </a:lnTo>
                    <a:lnTo>
                      <a:pt x="172" y="35"/>
                    </a:lnTo>
                    <a:lnTo>
                      <a:pt x="180" y="53"/>
                    </a:lnTo>
                    <a:lnTo>
                      <a:pt x="188" y="71"/>
                    </a:lnTo>
                    <a:lnTo>
                      <a:pt x="192" y="76"/>
                    </a:lnTo>
                    <a:lnTo>
                      <a:pt x="194" y="81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198" y="99"/>
                    </a:lnTo>
                    <a:lnTo>
                      <a:pt x="191" y="107"/>
                    </a:lnTo>
                    <a:lnTo>
                      <a:pt x="184" y="115"/>
                    </a:lnTo>
                    <a:lnTo>
                      <a:pt x="177" y="122"/>
                    </a:lnTo>
                    <a:lnTo>
                      <a:pt x="169" y="131"/>
                    </a:lnTo>
                    <a:lnTo>
                      <a:pt x="161" y="139"/>
                    </a:lnTo>
                    <a:lnTo>
                      <a:pt x="153" y="149"/>
                    </a:lnTo>
                    <a:lnTo>
                      <a:pt x="145" y="158"/>
                    </a:lnTo>
                    <a:lnTo>
                      <a:pt x="144" y="165"/>
                    </a:lnTo>
                    <a:lnTo>
                      <a:pt x="137" y="172"/>
                    </a:lnTo>
                    <a:lnTo>
                      <a:pt x="126" y="186"/>
                    </a:lnTo>
                    <a:lnTo>
                      <a:pt x="117" y="204"/>
                    </a:lnTo>
                    <a:lnTo>
                      <a:pt x="111" y="224"/>
                    </a:lnTo>
                    <a:lnTo>
                      <a:pt x="109" y="243"/>
                    </a:lnTo>
                    <a:lnTo>
                      <a:pt x="109" y="265"/>
                    </a:lnTo>
                    <a:lnTo>
                      <a:pt x="112" y="286"/>
                    </a:lnTo>
                    <a:lnTo>
                      <a:pt x="117" y="306"/>
                    </a:lnTo>
                    <a:lnTo>
                      <a:pt x="124" y="326"/>
                    </a:lnTo>
                    <a:lnTo>
                      <a:pt x="132" y="345"/>
                    </a:lnTo>
                    <a:lnTo>
                      <a:pt x="138" y="356"/>
                    </a:lnTo>
                    <a:lnTo>
                      <a:pt x="145" y="366"/>
                    </a:lnTo>
                    <a:lnTo>
                      <a:pt x="154" y="376"/>
                    </a:lnTo>
                    <a:lnTo>
                      <a:pt x="164" y="384"/>
                    </a:lnTo>
                    <a:lnTo>
                      <a:pt x="176" y="392"/>
                    </a:lnTo>
                    <a:lnTo>
                      <a:pt x="188" y="399"/>
                    </a:lnTo>
                    <a:lnTo>
                      <a:pt x="201" y="404"/>
                    </a:lnTo>
                    <a:lnTo>
                      <a:pt x="215" y="410"/>
                    </a:lnTo>
                    <a:lnTo>
                      <a:pt x="252" y="416"/>
                    </a:lnTo>
                    <a:lnTo>
                      <a:pt x="287" y="418"/>
                    </a:lnTo>
                    <a:lnTo>
                      <a:pt x="324" y="418"/>
                    </a:lnTo>
                    <a:lnTo>
                      <a:pt x="360" y="416"/>
                    </a:lnTo>
                    <a:lnTo>
                      <a:pt x="396" y="411"/>
                    </a:lnTo>
                    <a:lnTo>
                      <a:pt x="431" y="406"/>
                    </a:lnTo>
                    <a:lnTo>
                      <a:pt x="467" y="398"/>
                    </a:lnTo>
                    <a:lnTo>
                      <a:pt x="502" y="389"/>
                    </a:lnTo>
                    <a:lnTo>
                      <a:pt x="537" y="380"/>
                    </a:lnTo>
                    <a:lnTo>
                      <a:pt x="572" y="370"/>
                    </a:lnTo>
                    <a:lnTo>
                      <a:pt x="606" y="359"/>
                    </a:lnTo>
                    <a:lnTo>
                      <a:pt x="641" y="349"/>
                    </a:lnTo>
                    <a:lnTo>
                      <a:pt x="674" y="340"/>
                    </a:lnTo>
                    <a:lnTo>
                      <a:pt x="708" y="330"/>
                    </a:lnTo>
                    <a:lnTo>
                      <a:pt x="741" y="321"/>
                    </a:lnTo>
                    <a:lnTo>
                      <a:pt x="775" y="313"/>
                    </a:lnTo>
                    <a:lnTo>
                      <a:pt x="810" y="301"/>
                    </a:lnTo>
                    <a:lnTo>
                      <a:pt x="846" y="292"/>
                    </a:lnTo>
                    <a:lnTo>
                      <a:pt x="883" y="285"/>
                    </a:lnTo>
                    <a:lnTo>
                      <a:pt x="920" y="282"/>
                    </a:lnTo>
                    <a:lnTo>
                      <a:pt x="956" y="282"/>
                    </a:lnTo>
                    <a:lnTo>
                      <a:pt x="994" y="285"/>
                    </a:lnTo>
                    <a:lnTo>
                      <a:pt x="1032" y="290"/>
                    </a:lnTo>
                    <a:lnTo>
                      <a:pt x="1070" y="297"/>
                    </a:lnTo>
                    <a:lnTo>
                      <a:pt x="1108" y="306"/>
                    </a:lnTo>
                    <a:lnTo>
                      <a:pt x="1146" y="317"/>
                    </a:lnTo>
                    <a:lnTo>
                      <a:pt x="1184" y="328"/>
                    </a:lnTo>
                    <a:lnTo>
                      <a:pt x="1224" y="341"/>
                    </a:lnTo>
                    <a:lnTo>
                      <a:pt x="1262" y="354"/>
                    </a:lnTo>
                    <a:lnTo>
                      <a:pt x="1300" y="368"/>
                    </a:lnTo>
                    <a:lnTo>
                      <a:pt x="1338" y="381"/>
                    </a:lnTo>
                    <a:lnTo>
                      <a:pt x="1376" y="395"/>
                    </a:lnTo>
                    <a:lnTo>
                      <a:pt x="1414" y="408"/>
                    </a:lnTo>
                    <a:lnTo>
                      <a:pt x="1452" y="421"/>
                    </a:lnTo>
                    <a:lnTo>
                      <a:pt x="1488" y="432"/>
                    </a:lnTo>
                    <a:lnTo>
                      <a:pt x="1525" y="442"/>
                    </a:lnTo>
                    <a:lnTo>
                      <a:pt x="1562" y="451"/>
                    </a:lnTo>
                    <a:lnTo>
                      <a:pt x="1598" y="457"/>
                    </a:lnTo>
                    <a:lnTo>
                      <a:pt x="1634" y="462"/>
                    </a:lnTo>
                    <a:lnTo>
                      <a:pt x="1668" y="464"/>
                    </a:lnTo>
                    <a:lnTo>
                      <a:pt x="1703" y="464"/>
                    </a:lnTo>
                    <a:lnTo>
                      <a:pt x="1737" y="461"/>
                    </a:lnTo>
                    <a:lnTo>
                      <a:pt x="1769" y="454"/>
                    </a:lnTo>
                    <a:lnTo>
                      <a:pt x="1802" y="445"/>
                    </a:lnTo>
                    <a:lnTo>
                      <a:pt x="1834" y="431"/>
                    </a:lnTo>
                    <a:lnTo>
                      <a:pt x="1865" y="412"/>
                    </a:lnTo>
                    <a:lnTo>
                      <a:pt x="1895" y="391"/>
                    </a:lnTo>
                    <a:lnTo>
                      <a:pt x="1924" y="364"/>
                    </a:lnTo>
                    <a:lnTo>
                      <a:pt x="1927" y="350"/>
                    </a:lnTo>
                    <a:lnTo>
                      <a:pt x="1928" y="334"/>
                    </a:lnTo>
                    <a:lnTo>
                      <a:pt x="1928" y="317"/>
                    </a:lnTo>
                    <a:lnTo>
                      <a:pt x="1932" y="298"/>
                    </a:lnTo>
                    <a:lnTo>
                      <a:pt x="1944" y="294"/>
                    </a:lnTo>
                    <a:lnTo>
                      <a:pt x="1956" y="288"/>
                    </a:lnTo>
                    <a:lnTo>
                      <a:pt x="1968" y="282"/>
                    </a:lnTo>
                    <a:lnTo>
                      <a:pt x="1978" y="275"/>
                    </a:lnTo>
                    <a:lnTo>
                      <a:pt x="1989" y="270"/>
                    </a:lnTo>
                    <a:lnTo>
                      <a:pt x="2001" y="263"/>
                    </a:lnTo>
                    <a:lnTo>
                      <a:pt x="2014" y="257"/>
                    </a:lnTo>
                    <a:lnTo>
                      <a:pt x="2026" y="251"/>
                    </a:lnTo>
                    <a:lnTo>
                      <a:pt x="2029" y="256"/>
                    </a:lnTo>
                    <a:lnTo>
                      <a:pt x="2034" y="304"/>
                    </a:lnTo>
                    <a:lnTo>
                      <a:pt x="2033" y="353"/>
                    </a:lnTo>
                    <a:lnTo>
                      <a:pt x="2026" y="401"/>
                    </a:lnTo>
                    <a:lnTo>
                      <a:pt x="2015" y="451"/>
                    </a:lnTo>
                    <a:lnTo>
                      <a:pt x="2003" y="472"/>
                    </a:lnTo>
                    <a:lnTo>
                      <a:pt x="1989" y="494"/>
                    </a:lnTo>
                    <a:lnTo>
                      <a:pt x="1974" y="515"/>
                    </a:lnTo>
                    <a:lnTo>
                      <a:pt x="1958" y="535"/>
                    </a:lnTo>
                    <a:lnTo>
                      <a:pt x="1940" y="553"/>
                    </a:lnTo>
                    <a:lnTo>
                      <a:pt x="1918" y="568"/>
                    </a:lnTo>
                    <a:lnTo>
                      <a:pt x="1895" y="582"/>
                    </a:lnTo>
                    <a:lnTo>
                      <a:pt x="1870" y="592"/>
                    </a:lnTo>
                    <a:lnTo>
                      <a:pt x="1852" y="597"/>
                    </a:lnTo>
                    <a:lnTo>
                      <a:pt x="1835" y="601"/>
                    </a:lnTo>
                    <a:lnTo>
                      <a:pt x="1818" y="605"/>
                    </a:lnTo>
                    <a:lnTo>
                      <a:pt x="1801" y="608"/>
                    </a:lnTo>
                    <a:lnTo>
                      <a:pt x="1783" y="612"/>
                    </a:lnTo>
                    <a:lnTo>
                      <a:pt x="1766" y="613"/>
                    </a:lnTo>
                    <a:lnTo>
                      <a:pt x="1749" y="615"/>
                    </a:lnTo>
                    <a:lnTo>
                      <a:pt x="1731" y="615"/>
                    </a:lnTo>
                    <a:lnTo>
                      <a:pt x="1707" y="614"/>
                    </a:lnTo>
                    <a:lnTo>
                      <a:pt x="1683" y="613"/>
                    </a:lnTo>
                    <a:lnTo>
                      <a:pt x="1659" y="611"/>
                    </a:lnTo>
                    <a:lnTo>
                      <a:pt x="1636" y="610"/>
                    </a:lnTo>
                    <a:lnTo>
                      <a:pt x="1612" y="606"/>
                    </a:lnTo>
                    <a:lnTo>
                      <a:pt x="1588" y="604"/>
                    </a:lnTo>
                    <a:lnTo>
                      <a:pt x="1564" y="600"/>
                    </a:lnTo>
                    <a:lnTo>
                      <a:pt x="1541" y="597"/>
                    </a:lnTo>
                    <a:lnTo>
                      <a:pt x="1518" y="593"/>
                    </a:lnTo>
                    <a:lnTo>
                      <a:pt x="1494" y="590"/>
                    </a:lnTo>
                    <a:lnTo>
                      <a:pt x="1472" y="586"/>
                    </a:lnTo>
                    <a:lnTo>
                      <a:pt x="1449" y="583"/>
                    </a:lnTo>
                    <a:lnTo>
                      <a:pt x="1426" y="578"/>
                    </a:lnTo>
                    <a:lnTo>
                      <a:pt x="1404" y="575"/>
                    </a:lnTo>
                    <a:lnTo>
                      <a:pt x="1381" y="571"/>
                    </a:lnTo>
                    <a:lnTo>
                      <a:pt x="1360" y="568"/>
                    </a:lnTo>
                    <a:lnTo>
                      <a:pt x="1353" y="574"/>
                    </a:lnTo>
                    <a:lnTo>
                      <a:pt x="1353" y="586"/>
                    </a:lnTo>
                    <a:lnTo>
                      <a:pt x="1353" y="598"/>
                    </a:lnTo>
                    <a:lnTo>
                      <a:pt x="1354" y="610"/>
                    </a:lnTo>
                    <a:lnTo>
                      <a:pt x="1355" y="622"/>
                    </a:lnTo>
                    <a:lnTo>
                      <a:pt x="1363" y="656"/>
                    </a:lnTo>
                    <a:lnTo>
                      <a:pt x="1371" y="690"/>
                    </a:lnTo>
                    <a:lnTo>
                      <a:pt x="1377" y="725"/>
                    </a:lnTo>
                    <a:lnTo>
                      <a:pt x="1384" y="759"/>
                    </a:lnTo>
                    <a:lnTo>
                      <a:pt x="1389" y="795"/>
                    </a:lnTo>
                    <a:lnTo>
                      <a:pt x="1395" y="830"/>
                    </a:lnTo>
                    <a:lnTo>
                      <a:pt x="1402" y="864"/>
                    </a:lnTo>
                    <a:lnTo>
                      <a:pt x="1408" y="898"/>
                    </a:lnTo>
                    <a:lnTo>
                      <a:pt x="1395" y="910"/>
                    </a:lnTo>
                    <a:lnTo>
                      <a:pt x="1384" y="910"/>
                    </a:lnTo>
                    <a:lnTo>
                      <a:pt x="1371" y="910"/>
                    </a:lnTo>
                    <a:lnTo>
                      <a:pt x="1360" y="910"/>
                    </a:lnTo>
                    <a:lnTo>
                      <a:pt x="1347" y="910"/>
                    </a:lnTo>
                    <a:lnTo>
                      <a:pt x="1335" y="910"/>
                    </a:lnTo>
                    <a:lnTo>
                      <a:pt x="1323" y="910"/>
                    </a:lnTo>
                    <a:lnTo>
                      <a:pt x="1311" y="910"/>
                    </a:lnTo>
                    <a:lnTo>
                      <a:pt x="1300" y="910"/>
                    </a:lnTo>
                    <a:lnTo>
                      <a:pt x="1287" y="911"/>
                    </a:lnTo>
                    <a:lnTo>
                      <a:pt x="1275" y="911"/>
                    </a:lnTo>
                    <a:lnTo>
                      <a:pt x="1263" y="911"/>
                    </a:lnTo>
                    <a:lnTo>
                      <a:pt x="1250" y="911"/>
                    </a:lnTo>
                    <a:lnTo>
                      <a:pt x="1239" y="911"/>
                    </a:lnTo>
                    <a:lnTo>
                      <a:pt x="1226" y="911"/>
                    </a:lnTo>
                    <a:lnTo>
                      <a:pt x="1213" y="911"/>
                    </a:lnTo>
                    <a:lnTo>
                      <a:pt x="1201" y="911"/>
                    </a:lnTo>
                    <a:lnTo>
                      <a:pt x="1194" y="91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1120" y="4641840"/>
                <a:ext cx="28800" cy="6516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0" y="82"/>
                    </a:moveTo>
                    <a:lnTo>
                      <a:pt x="0" y="74"/>
                    </a:lnTo>
                    <a:lnTo>
                      <a:pt x="5" y="55"/>
                    </a:lnTo>
                    <a:lnTo>
                      <a:pt x="11" y="37"/>
                    </a:lnTo>
                    <a:lnTo>
                      <a:pt x="20" y="18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33" y="21"/>
                    </a:lnTo>
                    <a:lnTo>
                      <a:pt x="26" y="39"/>
                    </a:lnTo>
                    <a:lnTo>
                      <a:pt x="17" y="60"/>
                    </a:lnTo>
                    <a:lnTo>
                      <a:pt x="10" y="8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20920" y="4638600"/>
                <a:ext cx="49320" cy="47880"/>
              </a:xfrm>
              <a:custGeom>
                <a:avLst/>
                <a:gdLst/>
                <a:ahLst/>
                <a:rect l="l" t="t" r="r" b="b"/>
                <a:pathLst>
                  <a:path w="62" h="59">
                    <a:moveTo>
                      <a:pt x="0" y="59"/>
                    </a:moveTo>
                    <a:lnTo>
                      <a:pt x="0" y="52"/>
                    </a:lnTo>
                    <a:lnTo>
                      <a:pt x="7" y="44"/>
                    </a:lnTo>
                    <a:lnTo>
                      <a:pt x="13" y="35"/>
                    </a:lnTo>
                    <a:lnTo>
                      <a:pt x="19" y="27"/>
                    </a:lnTo>
                    <a:lnTo>
                      <a:pt x="27" y="18"/>
                    </a:lnTo>
                    <a:lnTo>
                      <a:pt x="33" y="16"/>
                    </a:lnTo>
                    <a:lnTo>
                      <a:pt x="35" y="12"/>
                    </a:lnTo>
                    <a:lnTo>
                      <a:pt x="38" y="8"/>
                    </a:lnTo>
                    <a:lnTo>
                      <a:pt x="43" y="4"/>
                    </a:lnTo>
                    <a:lnTo>
                      <a:pt x="47" y="3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2" y="4"/>
                    </a:lnTo>
                    <a:lnTo>
                      <a:pt x="58" y="10"/>
                    </a:lnTo>
                    <a:lnTo>
                      <a:pt x="51" y="15"/>
                    </a:lnTo>
                    <a:lnTo>
                      <a:pt x="45" y="21"/>
                    </a:lnTo>
                    <a:lnTo>
                      <a:pt x="38" y="27"/>
                    </a:lnTo>
                    <a:lnTo>
                      <a:pt x="30" y="34"/>
                    </a:lnTo>
                    <a:lnTo>
                      <a:pt x="24" y="41"/>
                    </a:lnTo>
                    <a:lnTo>
                      <a:pt x="18" y="49"/>
                    </a:lnTo>
                    <a:lnTo>
                      <a:pt x="13" y="57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63920" y="4608720"/>
                <a:ext cx="48960" cy="61920"/>
              </a:xfrm>
              <a:custGeom>
                <a:avLst/>
                <a:gdLst/>
                <a:ahLst/>
                <a:rect l="l" t="t" r="r" b="b"/>
                <a:pathLst>
                  <a:path w="62" h="78">
                    <a:moveTo>
                      <a:pt x="55" y="78"/>
                    </a:moveTo>
                    <a:lnTo>
                      <a:pt x="44" y="71"/>
                    </a:lnTo>
                    <a:lnTo>
                      <a:pt x="36" y="63"/>
                    </a:lnTo>
                    <a:lnTo>
                      <a:pt x="30" y="53"/>
                    </a:lnTo>
                    <a:lnTo>
                      <a:pt x="23" y="44"/>
                    </a:lnTo>
                    <a:lnTo>
                      <a:pt x="17" y="34"/>
                    </a:lnTo>
                    <a:lnTo>
                      <a:pt x="11" y="23"/>
                    </a:lnTo>
                    <a:lnTo>
                      <a:pt x="5" y="1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5"/>
                    </a:lnTo>
                    <a:lnTo>
                      <a:pt x="18" y="11"/>
                    </a:lnTo>
                    <a:lnTo>
                      <a:pt x="24" y="18"/>
                    </a:lnTo>
                    <a:lnTo>
                      <a:pt x="28" y="25"/>
                    </a:lnTo>
                    <a:lnTo>
                      <a:pt x="33" y="33"/>
                    </a:lnTo>
                    <a:lnTo>
                      <a:pt x="38" y="40"/>
                    </a:lnTo>
                    <a:lnTo>
                      <a:pt x="42" y="48"/>
                    </a:lnTo>
                    <a:lnTo>
                      <a:pt x="47" y="56"/>
                    </a:lnTo>
                    <a:lnTo>
                      <a:pt x="51" y="59"/>
                    </a:lnTo>
                    <a:lnTo>
                      <a:pt x="56" y="63"/>
                    </a:lnTo>
                    <a:lnTo>
                      <a:pt x="58" y="68"/>
                    </a:lnTo>
                    <a:lnTo>
                      <a:pt x="62" y="75"/>
                    </a:lnTo>
                    <a:lnTo>
                      <a:pt x="55" y="78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08240" y="4622760"/>
                <a:ext cx="73080" cy="3816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4" y="47"/>
                    </a:moveTo>
                    <a:lnTo>
                      <a:pt x="0" y="41"/>
                    </a:lnTo>
                    <a:lnTo>
                      <a:pt x="3" y="34"/>
                    </a:lnTo>
                    <a:lnTo>
                      <a:pt x="16" y="23"/>
                    </a:lnTo>
                    <a:lnTo>
                      <a:pt x="20" y="21"/>
                    </a:lnTo>
                    <a:lnTo>
                      <a:pt x="26" y="18"/>
                    </a:lnTo>
                    <a:lnTo>
                      <a:pt x="31" y="16"/>
                    </a:lnTo>
                    <a:lnTo>
                      <a:pt x="36" y="12"/>
                    </a:lnTo>
                    <a:lnTo>
                      <a:pt x="42" y="10"/>
                    </a:lnTo>
                    <a:lnTo>
                      <a:pt x="48" y="8"/>
                    </a:lnTo>
                    <a:lnTo>
                      <a:pt x="54" y="6"/>
                    </a:lnTo>
                    <a:lnTo>
                      <a:pt x="60" y="3"/>
                    </a:lnTo>
                    <a:lnTo>
                      <a:pt x="65" y="3"/>
                    </a:lnTo>
                    <a:lnTo>
                      <a:pt x="73" y="1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3" y="6"/>
                    </a:lnTo>
                    <a:lnTo>
                      <a:pt x="81" y="8"/>
                    </a:lnTo>
                    <a:lnTo>
                      <a:pt x="70" y="11"/>
                    </a:lnTo>
                    <a:lnTo>
                      <a:pt x="58" y="16"/>
                    </a:lnTo>
                    <a:lnTo>
                      <a:pt x="48" y="21"/>
                    </a:lnTo>
                    <a:lnTo>
                      <a:pt x="36" y="26"/>
                    </a:lnTo>
                    <a:lnTo>
                      <a:pt x="26" y="33"/>
                    </a:lnTo>
                    <a:lnTo>
                      <a:pt x="15" y="40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78160" y="4579920"/>
                <a:ext cx="58680" cy="49320"/>
              </a:xfrm>
              <a:custGeom>
                <a:avLst/>
                <a:gdLst/>
                <a:ahLst/>
                <a:rect l="l" t="t" r="r" b="b"/>
                <a:pathLst>
                  <a:path w="74" h="64">
                    <a:moveTo>
                      <a:pt x="64" y="64"/>
                    </a:moveTo>
                    <a:lnTo>
                      <a:pt x="57" y="57"/>
                    </a:lnTo>
                    <a:lnTo>
                      <a:pt x="50" y="50"/>
                    </a:lnTo>
                    <a:lnTo>
                      <a:pt x="42" y="43"/>
                    </a:lnTo>
                    <a:lnTo>
                      <a:pt x="34" y="36"/>
                    </a:lnTo>
                    <a:lnTo>
                      <a:pt x="26" y="30"/>
                    </a:lnTo>
                    <a:lnTo>
                      <a:pt x="18" y="22"/>
                    </a:lnTo>
                    <a:lnTo>
                      <a:pt x="9" y="1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2" y="7"/>
                    </a:lnTo>
                    <a:lnTo>
                      <a:pt x="30" y="13"/>
                    </a:lnTo>
                    <a:lnTo>
                      <a:pt x="39" y="20"/>
                    </a:lnTo>
                    <a:lnTo>
                      <a:pt x="47" y="26"/>
                    </a:lnTo>
                    <a:lnTo>
                      <a:pt x="55" y="34"/>
                    </a:lnTo>
                    <a:lnTo>
                      <a:pt x="62" y="42"/>
                    </a:lnTo>
                    <a:lnTo>
                      <a:pt x="69" y="51"/>
                    </a:lnTo>
                    <a:lnTo>
                      <a:pt x="74" y="62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95600" y="454032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1" y="55"/>
                    </a:moveTo>
                    <a:lnTo>
                      <a:pt x="45" y="52"/>
                    </a:lnTo>
                    <a:lnTo>
                      <a:pt x="38" y="47"/>
                    </a:lnTo>
                    <a:lnTo>
                      <a:pt x="31" y="41"/>
                    </a:lnTo>
                    <a:lnTo>
                      <a:pt x="24" y="36"/>
                    </a:lnTo>
                    <a:lnTo>
                      <a:pt x="17" y="30"/>
                    </a:lnTo>
                    <a:lnTo>
                      <a:pt x="11" y="23"/>
                    </a:lnTo>
                    <a:lnTo>
                      <a:pt x="4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3"/>
                    </a:lnTo>
                    <a:lnTo>
                      <a:pt x="18" y="9"/>
                    </a:lnTo>
                    <a:lnTo>
                      <a:pt x="23" y="14"/>
                    </a:lnTo>
                    <a:lnTo>
                      <a:pt x="29" y="18"/>
                    </a:lnTo>
                    <a:lnTo>
                      <a:pt x="34" y="23"/>
                    </a:lnTo>
                    <a:lnTo>
                      <a:pt x="40" y="28"/>
                    </a:lnTo>
                    <a:lnTo>
                      <a:pt x="46" y="33"/>
                    </a:lnTo>
                    <a:lnTo>
                      <a:pt x="51" y="41"/>
                    </a:lnTo>
                    <a:lnTo>
                      <a:pt x="55" y="49"/>
                    </a:lnTo>
                    <a:lnTo>
                      <a:pt x="51" y="5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24240" y="4503960"/>
                <a:ext cx="56880" cy="5544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61" y="69"/>
                    </a:moveTo>
                    <a:lnTo>
                      <a:pt x="54" y="65"/>
                    </a:lnTo>
                    <a:lnTo>
                      <a:pt x="47" y="58"/>
                    </a:lnTo>
                    <a:lnTo>
                      <a:pt x="39" y="50"/>
                    </a:lnTo>
                    <a:lnTo>
                      <a:pt x="31" y="41"/>
                    </a:lnTo>
                    <a:lnTo>
                      <a:pt x="23" y="32"/>
                    </a:lnTo>
                    <a:lnTo>
                      <a:pt x="16" y="23"/>
                    </a:lnTo>
                    <a:lnTo>
                      <a:pt x="8" y="14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5" y="6"/>
                    </a:lnTo>
                    <a:lnTo>
                      <a:pt x="24" y="13"/>
                    </a:lnTo>
                    <a:lnTo>
                      <a:pt x="32" y="21"/>
                    </a:lnTo>
                    <a:lnTo>
                      <a:pt x="40" y="29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1" y="65"/>
                    </a:lnTo>
                    <a:lnTo>
                      <a:pt x="61" y="69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30560" y="449100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80" h="76">
                    <a:moveTo>
                      <a:pt x="4" y="76"/>
                    </a:moveTo>
                    <a:lnTo>
                      <a:pt x="0" y="70"/>
                    </a:lnTo>
                    <a:lnTo>
                      <a:pt x="7" y="61"/>
                    </a:lnTo>
                    <a:lnTo>
                      <a:pt x="15" y="52"/>
                    </a:lnTo>
                    <a:lnTo>
                      <a:pt x="25" y="43"/>
                    </a:lnTo>
                    <a:lnTo>
                      <a:pt x="35" y="35"/>
                    </a:lnTo>
                    <a:lnTo>
                      <a:pt x="44" y="27"/>
                    </a:lnTo>
                    <a:lnTo>
                      <a:pt x="53" y="18"/>
                    </a:lnTo>
                    <a:lnTo>
                      <a:pt x="61" y="9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80" y="3"/>
                    </a:lnTo>
                    <a:lnTo>
                      <a:pt x="72" y="12"/>
                    </a:lnTo>
                    <a:lnTo>
                      <a:pt x="64" y="22"/>
                    </a:lnTo>
                    <a:lnTo>
                      <a:pt x="55" y="31"/>
                    </a:lnTo>
                    <a:lnTo>
                      <a:pt x="45" y="40"/>
                    </a:lnTo>
                    <a:lnTo>
                      <a:pt x="36" y="49"/>
                    </a:lnTo>
                    <a:lnTo>
                      <a:pt x="27" y="58"/>
                    </a:lnTo>
                    <a:lnTo>
                      <a:pt x="19" y="67"/>
                    </a:lnTo>
                    <a:lnTo>
                      <a:pt x="11" y="76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09920" y="4473720"/>
                <a:ext cx="56880" cy="63360"/>
              </a:xfrm>
              <a:custGeom>
                <a:avLst/>
                <a:gdLst/>
                <a:ahLst/>
                <a:rect l="l" t="t" r="r" b="b"/>
                <a:pathLst>
                  <a:path w="71" h="79">
                    <a:moveTo>
                      <a:pt x="0" y="79"/>
                    </a:moveTo>
                    <a:lnTo>
                      <a:pt x="2" y="65"/>
                    </a:lnTo>
                    <a:lnTo>
                      <a:pt x="10" y="57"/>
                    </a:lnTo>
                    <a:lnTo>
                      <a:pt x="17" y="49"/>
                    </a:lnTo>
                    <a:lnTo>
                      <a:pt x="24" y="41"/>
                    </a:lnTo>
                    <a:lnTo>
                      <a:pt x="31" y="32"/>
                    </a:lnTo>
                    <a:lnTo>
                      <a:pt x="39" y="24"/>
                    </a:lnTo>
                    <a:lnTo>
                      <a:pt x="47" y="16"/>
                    </a:lnTo>
                    <a:lnTo>
                      <a:pt x="56" y="8"/>
                    </a:lnTo>
                    <a:lnTo>
                      <a:pt x="66" y="0"/>
                    </a:lnTo>
                    <a:lnTo>
                      <a:pt x="71" y="6"/>
                    </a:lnTo>
                    <a:lnTo>
                      <a:pt x="66" y="15"/>
                    </a:lnTo>
                    <a:lnTo>
                      <a:pt x="60" y="23"/>
                    </a:lnTo>
                    <a:lnTo>
                      <a:pt x="51" y="31"/>
                    </a:lnTo>
                    <a:lnTo>
                      <a:pt x="43" y="39"/>
                    </a:lnTo>
                    <a:lnTo>
                      <a:pt x="35" y="47"/>
                    </a:lnTo>
                    <a:lnTo>
                      <a:pt x="28" y="55"/>
                    </a:lnTo>
                    <a:lnTo>
                      <a:pt x="23" y="64"/>
                    </a:lnTo>
                    <a:lnTo>
                      <a:pt x="18" y="75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28840" y="4487760"/>
                <a:ext cx="63360" cy="43200"/>
              </a:xfrm>
              <a:custGeom>
                <a:avLst/>
                <a:gdLst/>
                <a:ahLst/>
                <a:rect l="l" t="t" r="r" b="b"/>
                <a:pathLst>
                  <a:path w="79" h="54">
                    <a:moveTo>
                      <a:pt x="0" y="54"/>
                    </a:moveTo>
                    <a:lnTo>
                      <a:pt x="0" y="47"/>
                    </a:lnTo>
                    <a:lnTo>
                      <a:pt x="7" y="41"/>
                    </a:lnTo>
                    <a:lnTo>
                      <a:pt x="15" y="34"/>
                    </a:lnTo>
                    <a:lnTo>
                      <a:pt x="23" y="27"/>
                    </a:lnTo>
                    <a:lnTo>
                      <a:pt x="31" y="21"/>
                    </a:lnTo>
                    <a:lnTo>
                      <a:pt x="39" y="15"/>
                    </a:lnTo>
                    <a:lnTo>
                      <a:pt x="48" y="11"/>
                    </a:lnTo>
                    <a:lnTo>
                      <a:pt x="57" y="5"/>
                    </a:lnTo>
                    <a:lnTo>
                      <a:pt x="68" y="0"/>
                    </a:lnTo>
                    <a:lnTo>
                      <a:pt x="79" y="4"/>
                    </a:lnTo>
                    <a:lnTo>
                      <a:pt x="68" y="12"/>
                    </a:lnTo>
                    <a:lnTo>
                      <a:pt x="61" y="16"/>
                    </a:lnTo>
                    <a:lnTo>
                      <a:pt x="53" y="22"/>
                    </a:lnTo>
                    <a:lnTo>
                      <a:pt x="45" y="28"/>
                    </a:lnTo>
                    <a:lnTo>
                      <a:pt x="37" y="34"/>
                    </a:lnTo>
                    <a:lnTo>
                      <a:pt x="29" y="39"/>
                    </a:lnTo>
                    <a:lnTo>
                      <a:pt x="19" y="45"/>
                    </a:lnTo>
                    <a:lnTo>
                      <a:pt x="11" y="50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6560" y="4443480"/>
                <a:ext cx="29880" cy="50760"/>
              </a:xfrm>
              <a:custGeom>
                <a:avLst/>
                <a:gdLst/>
                <a:ahLst/>
                <a:rect l="l" t="t" r="r" b="b"/>
                <a:pathLst>
                  <a:path w="37" h="63">
                    <a:moveTo>
                      <a:pt x="0" y="63"/>
                    </a:moveTo>
                    <a:lnTo>
                      <a:pt x="3" y="48"/>
                    </a:lnTo>
                    <a:lnTo>
                      <a:pt x="9" y="32"/>
                    </a:lnTo>
                    <a:lnTo>
                      <a:pt x="17" y="17"/>
                    </a:lnTo>
                    <a:lnTo>
                      <a:pt x="25" y="2"/>
                    </a:lnTo>
                    <a:lnTo>
                      <a:pt x="33" y="0"/>
                    </a:lnTo>
                    <a:lnTo>
                      <a:pt x="37" y="4"/>
                    </a:lnTo>
                    <a:lnTo>
                      <a:pt x="37" y="11"/>
                    </a:lnTo>
                    <a:lnTo>
                      <a:pt x="30" y="23"/>
                    </a:lnTo>
                    <a:lnTo>
                      <a:pt x="25" y="36"/>
                    </a:lnTo>
                    <a:lnTo>
                      <a:pt x="18" y="49"/>
                    </a:lnTo>
                    <a:lnTo>
                      <a:pt x="12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00520" y="440712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59" h="77">
                    <a:moveTo>
                      <a:pt x="6" y="77"/>
                    </a:moveTo>
                    <a:lnTo>
                      <a:pt x="0" y="67"/>
                    </a:lnTo>
                    <a:lnTo>
                      <a:pt x="6" y="54"/>
                    </a:lnTo>
                    <a:lnTo>
                      <a:pt x="13" y="46"/>
                    </a:lnTo>
                    <a:lnTo>
                      <a:pt x="21" y="38"/>
                    </a:lnTo>
                    <a:lnTo>
                      <a:pt x="29" y="30"/>
                    </a:lnTo>
                    <a:lnTo>
                      <a:pt x="36" y="21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59" y="7"/>
                    </a:lnTo>
                    <a:lnTo>
                      <a:pt x="53" y="21"/>
                    </a:lnTo>
                    <a:lnTo>
                      <a:pt x="49" y="26"/>
                    </a:lnTo>
                    <a:lnTo>
                      <a:pt x="43" y="33"/>
                    </a:lnTo>
                    <a:lnTo>
                      <a:pt x="38" y="39"/>
                    </a:lnTo>
                    <a:lnTo>
                      <a:pt x="33" y="46"/>
                    </a:lnTo>
                    <a:lnTo>
                      <a:pt x="26" y="53"/>
                    </a:lnTo>
                    <a:lnTo>
                      <a:pt x="21" y="61"/>
                    </a:lnTo>
                    <a:lnTo>
                      <a:pt x="15" y="69"/>
                    </a:lnTo>
                    <a:lnTo>
                      <a:pt x="11" y="77"/>
                    </a:lnTo>
                    <a:lnTo>
                      <a:pt x="6" y="7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96960" y="4397400"/>
                <a:ext cx="86040" cy="60480"/>
              </a:xfrm>
              <a:custGeom>
                <a:avLst/>
                <a:gdLst/>
                <a:ahLst/>
                <a:rect l="l" t="t" r="r" b="b"/>
                <a:pathLst>
                  <a:path w="108" h="75">
                    <a:moveTo>
                      <a:pt x="3" y="75"/>
                    </a:moveTo>
                    <a:lnTo>
                      <a:pt x="0" y="67"/>
                    </a:lnTo>
                    <a:lnTo>
                      <a:pt x="11" y="59"/>
                    </a:lnTo>
                    <a:lnTo>
                      <a:pt x="23" y="51"/>
                    </a:lnTo>
                    <a:lnTo>
                      <a:pt x="34" y="44"/>
                    </a:lnTo>
                    <a:lnTo>
                      <a:pt x="46" y="36"/>
                    </a:lnTo>
                    <a:lnTo>
                      <a:pt x="57" y="29"/>
                    </a:lnTo>
                    <a:lnTo>
                      <a:pt x="69" y="21"/>
                    </a:lnTo>
                    <a:lnTo>
                      <a:pt x="80" y="12"/>
                    </a:lnTo>
                    <a:lnTo>
                      <a:pt x="93" y="3"/>
                    </a:lnTo>
                    <a:lnTo>
                      <a:pt x="108" y="0"/>
                    </a:lnTo>
                    <a:lnTo>
                      <a:pt x="108" y="14"/>
                    </a:lnTo>
                    <a:lnTo>
                      <a:pt x="99" y="19"/>
                    </a:lnTo>
                    <a:lnTo>
                      <a:pt x="89" y="24"/>
                    </a:lnTo>
                    <a:lnTo>
                      <a:pt x="81" y="29"/>
                    </a:lnTo>
                    <a:lnTo>
                      <a:pt x="73" y="35"/>
                    </a:lnTo>
                    <a:lnTo>
                      <a:pt x="64" y="42"/>
                    </a:lnTo>
                    <a:lnTo>
                      <a:pt x="56" y="47"/>
                    </a:lnTo>
                    <a:lnTo>
                      <a:pt x="47" y="54"/>
                    </a:lnTo>
                    <a:lnTo>
                      <a:pt x="36" y="62"/>
                    </a:lnTo>
                    <a:lnTo>
                      <a:pt x="31" y="66"/>
                    </a:lnTo>
                    <a:lnTo>
                      <a:pt x="27" y="69"/>
                    </a:lnTo>
                    <a:lnTo>
                      <a:pt x="21" y="73"/>
                    </a:lnTo>
                    <a:lnTo>
                      <a:pt x="14" y="75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62280" y="439272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32" h="73">
                    <a:moveTo>
                      <a:pt x="27" y="73"/>
                    </a:moveTo>
                    <a:lnTo>
                      <a:pt x="20" y="67"/>
                    </a:lnTo>
                    <a:lnTo>
                      <a:pt x="18" y="53"/>
                    </a:lnTo>
                    <a:lnTo>
                      <a:pt x="13" y="39"/>
                    </a:lnTo>
                    <a:lnTo>
                      <a:pt x="6" y="2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7" y="14"/>
                    </a:lnTo>
                    <a:lnTo>
                      <a:pt x="23" y="31"/>
                    </a:lnTo>
                    <a:lnTo>
                      <a:pt x="29" y="50"/>
                    </a:lnTo>
                    <a:lnTo>
                      <a:pt x="32" y="69"/>
                    </a:lnTo>
                    <a:lnTo>
                      <a:pt x="27" y="7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8160" y="4399200"/>
                <a:ext cx="15840" cy="50760"/>
              </a:xfrm>
              <a:custGeom>
                <a:avLst/>
                <a:gdLst/>
                <a:ahLst/>
                <a:rect l="l" t="t" r="r" b="b"/>
                <a:pathLst>
                  <a:path w="20" h="63">
                    <a:moveTo>
                      <a:pt x="8" y="63"/>
                    </a:moveTo>
                    <a:lnTo>
                      <a:pt x="2" y="59"/>
                    </a:lnTo>
                    <a:lnTo>
                      <a:pt x="0" y="48"/>
                    </a:lnTo>
                    <a:lnTo>
                      <a:pt x="3" y="35"/>
                    </a:lnTo>
                    <a:lnTo>
                      <a:pt x="5" y="23"/>
                    </a:lnTo>
                    <a:lnTo>
                      <a:pt x="4" y="10"/>
                    </a:lnTo>
                    <a:lnTo>
                      <a:pt x="11" y="0"/>
                    </a:lnTo>
                    <a:lnTo>
                      <a:pt x="19" y="2"/>
                    </a:lnTo>
                    <a:lnTo>
                      <a:pt x="20" y="16"/>
                    </a:lnTo>
                    <a:lnTo>
                      <a:pt x="19" y="31"/>
                    </a:lnTo>
                    <a:lnTo>
                      <a:pt x="18" y="44"/>
                    </a:lnTo>
                    <a:lnTo>
                      <a:pt x="14" y="59"/>
                    </a:lnTo>
                    <a:lnTo>
                      <a:pt x="8" y="6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62320" y="437832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45" y="84"/>
                    </a:moveTo>
                    <a:lnTo>
                      <a:pt x="38" y="80"/>
                    </a:lnTo>
                    <a:lnTo>
                      <a:pt x="36" y="74"/>
                    </a:lnTo>
                    <a:lnTo>
                      <a:pt x="35" y="66"/>
                    </a:lnTo>
                    <a:lnTo>
                      <a:pt x="32" y="58"/>
                    </a:lnTo>
                    <a:lnTo>
                      <a:pt x="29" y="51"/>
                    </a:lnTo>
                    <a:lnTo>
                      <a:pt x="26" y="46"/>
                    </a:lnTo>
                    <a:lnTo>
                      <a:pt x="22" y="40"/>
                    </a:lnTo>
                    <a:lnTo>
                      <a:pt x="19" y="35"/>
                    </a:lnTo>
                    <a:lnTo>
                      <a:pt x="13" y="29"/>
                    </a:lnTo>
                    <a:lnTo>
                      <a:pt x="9" y="24"/>
                    </a:lnTo>
                    <a:lnTo>
                      <a:pt x="6" y="20"/>
                    </a:lnTo>
                    <a:lnTo>
                      <a:pt x="3" y="15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8" y="7"/>
                    </a:lnTo>
                    <a:lnTo>
                      <a:pt x="22" y="14"/>
                    </a:lnTo>
                    <a:lnTo>
                      <a:pt x="27" y="21"/>
                    </a:lnTo>
                    <a:lnTo>
                      <a:pt x="31" y="28"/>
                    </a:lnTo>
                    <a:lnTo>
                      <a:pt x="36" y="35"/>
                    </a:lnTo>
                    <a:lnTo>
                      <a:pt x="41" y="43"/>
                    </a:lnTo>
                    <a:lnTo>
                      <a:pt x="44" y="51"/>
                    </a:lnTo>
                    <a:lnTo>
                      <a:pt x="49" y="60"/>
                    </a:lnTo>
                    <a:lnTo>
                      <a:pt x="49" y="66"/>
                    </a:lnTo>
                    <a:lnTo>
                      <a:pt x="49" y="71"/>
                    </a:lnTo>
                    <a:lnTo>
                      <a:pt x="47" y="77"/>
                    </a:lnTo>
                    <a:lnTo>
                      <a:pt x="45" y="8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54320" y="437364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53" h="87">
                    <a:moveTo>
                      <a:pt x="3" y="87"/>
                    </a:moveTo>
                    <a:lnTo>
                      <a:pt x="0" y="80"/>
                    </a:lnTo>
                    <a:lnTo>
                      <a:pt x="6" y="69"/>
                    </a:lnTo>
                    <a:lnTo>
                      <a:pt x="13" y="60"/>
                    </a:lnTo>
                    <a:lnTo>
                      <a:pt x="19" y="51"/>
                    </a:lnTo>
                    <a:lnTo>
                      <a:pt x="24" y="42"/>
                    </a:lnTo>
                    <a:lnTo>
                      <a:pt x="30" y="31"/>
                    </a:lnTo>
                    <a:lnTo>
                      <a:pt x="36" y="22"/>
                    </a:lnTo>
                    <a:lnTo>
                      <a:pt x="42" y="12"/>
                    </a:lnTo>
                    <a:lnTo>
                      <a:pt x="47" y="0"/>
                    </a:lnTo>
                    <a:lnTo>
                      <a:pt x="53" y="2"/>
                    </a:lnTo>
                    <a:lnTo>
                      <a:pt x="52" y="15"/>
                    </a:lnTo>
                    <a:lnTo>
                      <a:pt x="49" y="27"/>
                    </a:lnTo>
                    <a:lnTo>
                      <a:pt x="44" y="38"/>
                    </a:lnTo>
                    <a:lnTo>
                      <a:pt x="38" y="47"/>
                    </a:lnTo>
                    <a:lnTo>
                      <a:pt x="31" y="58"/>
                    </a:lnTo>
                    <a:lnTo>
                      <a:pt x="24" y="67"/>
                    </a:lnTo>
                    <a:lnTo>
                      <a:pt x="16" y="77"/>
                    </a:lnTo>
                    <a:lnTo>
                      <a:pt x="7" y="87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08280" y="4363920"/>
                <a:ext cx="12600" cy="71640"/>
              </a:xfrm>
              <a:custGeom>
                <a:avLst/>
                <a:gdLst/>
                <a:ahLst/>
                <a:rect l="l" t="t" r="r" b="b"/>
                <a:pathLst>
                  <a:path w="16" h="90">
                    <a:moveTo>
                      <a:pt x="9" y="90"/>
                    </a:moveTo>
                    <a:lnTo>
                      <a:pt x="2" y="85"/>
                    </a:lnTo>
                    <a:lnTo>
                      <a:pt x="0" y="65"/>
                    </a:lnTo>
                    <a:lnTo>
                      <a:pt x="1" y="46"/>
                    </a:lnTo>
                    <a:lnTo>
                      <a:pt x="2" y="26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6" y="23"/>
                    </a:lnTo>
                    <a:lnTo>
                      <a:pt x="16" y="42"/>
                    </a:lnTo>
                    <a:lnTo>
                      <a:pt x="13" y="62"/>
                    </a:lnTo>
                    <a:lnTo>
                      <a:pt x="13" y="83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19520" y="4397400"/>
                <a:ext cx="61920" cy="334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60" y="42"/>
                    </a:moveTo>
                    <a:lnTo>
                      <a:pt x="55" y="39"/>
                    </a:lnTo>
                    <a:lnTo>
                      <a:pt x="52" y="36"/>
                    </a:lnTo>
                    <a:lnTo>
                      <a:pt x="47" y="31"/>
                    </a:lnTo>
                    <a:lnTo>
                      <a:pt x="44" y="27"/>
                    </a:lnTo>
                    <a:lnTo>
                      <a:pt x="40" y="23"/>
                    </a:lnTo>
                    <a:lnTo>
                      <a:pt x="36" y="19"/>
                    </a:lnTo>
                    <a:lnTo>
                      <a:pt x="30" y="16"/>
                    </a:lnTo>
                    <a:lnTo>
                      <a:pt x="24" y="14"/>
                    </a:lnTo>
                    <a:lnTo>
                      <a:pt x="17" y="14"/>
                    </a:lnTo>
                    <a:lnTo>
                      <a:pt x="12" y="13"/>
                    </a:lnTo>
                    <a:lnTo>
                      <a:pt x="6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0" y="3"/>
                    </a:lnTo>
                    <a:lnTo>
                      <a:pt x="37" y="5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56" y="16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7" y="31"/>
                    </a:lnTo>
                    <a:lnTo>
                      <a:pt x="76" y="37"/>
                    </a:lnTo>
                    <a:lnTo>
                      <a:pt x="71" y="41"/>
                    </a:lnTo>
                    <a:lnTo>
                      <a:pt x="6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01720" y="434520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32" y="80"/>
                    </a:moveTo>
                    <a:lnTo>
                      <a:pt x="24" y="76"/>
                    </a:lnTo>
                    <a:lnTo>
                      <a:pt x="22" y="58"/>
                    </a:lnTo>
                    <a:lnTo>
                      <a:pt x="16" y="41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8" y="14"/>
                    </a:lnTo>
                    <a:lnTo>
                      <a:pt x="27" y="31"/>
                    </a:lnTo>
                    <a:lnTo>
                      <a:pt x="34" y="51"/>
                    </a:lnTo>
                    <a:lnTo>
                      <a:pt x="41" y="72"/>
                    </a:lnTo>
                    <a:lnTo>
                      <a:pt x="32" y="8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81000" y="4349880"/>
                <a:ext cx="59040" cy="4752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2" y="60"/>
                    </a:moveTo>
                    <a:lnTo>
                      <a:pt x="0" y="45"/>
                    </a:lnTo>
                    <a:lnTo>
                      <a:pt x="10" y="42"/>
                    </a:lnTo>
                    <a:lnTo>
                      <a:pt x="18" y="37"/>
                    </a:lnTo>
                    <a:lnTo>
                      <a:pt x="26" y="31"/>
                    </a:lnTo>
                    <a:lnTo>
                      <a:pt x="33" y="26"/>
                    </a:lnTo>
                    <a:lnTo>
                      <a:pt x="41" y="20"/>
                    </a:lnTo>
                    <a:lnTo>
                      <a:pt x="49" y="13"/>
                    </a:lnTo>
                    <a:lnTo>
                      <a:pt x="58" y="7"/>
                    </a:lnTo>
                    <a:lnTo>
                      <a:pt x="67" y="0"/>
                    </a:lnTo>
                    <a:lnTo>
                      <a:pt x="74" y="5"/>
                    </a:lnTo>
                    <a:lnTo>
                      <a:pt x="74" y="12"/>
                    </a:lnTo>
                    <a:lnTo>
                      <a:pt x="67" y="19"/>
                    </a:lnTo>
                    <a:lnTo>
                      <a:pt x="59" y="26"/>
                    </a:lnTo>
                    <a:lnTo>
                      <a:pt x="51" y="31"/>
                    </a:lnTo>
                    <a:lnTo>
                      <a:pt x="43" y="37"/>
                    </a:lnTo>
                    <a:lnTo>
                      <a:pt x="35" y="43"/>
                    </a:lnTo>
                    <a:lnTo>
                      <a:pt x="27" y="48"/>
                    </a:lnTo>
                    <a:lnTo>
                      <a:pt x="18" y="54"/>
                    </a:lnTo>
                    <a:lnTo>
                      <a:pt x="10" y="6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8240" y="433728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66" h="77">
                    <a:moveTo>
                      <a:pt x="6" y="77"/>
                    </a:moveTo>
                    <a:lnTo>
                      <a:pt x="0" y="70"/>
                    </a:lnTo>
                    <a:lnTo>
                      <a:pt x="5" y="55"/>
                    </a:lnTo>
                    <a:lnTo>
                      <a:pt x="10" y="47"/>
                    </a:lnTo>
                    <a:lnTo>
                      <a:pt x="14" y="40"/>
                    </a:lnTo>
                    <a:lnTo>
                      <a:pt x="21" y="32"/>
                    </a:lnTo>
                    <a:lnTo>
                      <a:pt x="27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51" y="6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59" y="12"/>
                    </a:lnTo>
                    <a:lnTo>
                      <a:pt x="51" y="21"/>
                    </a:lnTo>
                    <a:lnTo>
                      <a:pt x="43" y="30"/>
                    </a:lnTo>
                    <a:lnTo>
                      <a:pt x="35" y="39"/>
                    </a:lnTo>
                    <a:lnTo>
                      <a:pt x="28" y="48"/>
                    </a:lnTo>
                    <a:lnTo>
                      <a:pt x="20" y="58"/>
                    </a:lnTo>
                    <a:lnTo>
                      <a:pt x="13" y="67"/>
                    </a:lnTo>
                    <a:lnTo>
                      <a:pt x="6" y="7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73360" y="4363920"/>
                <a:ext cx="55440" cy="3024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lnTo>
                      <a:pt x="0" y="34"/>
                    </a:lnTo>
                    <a:lnTo>
                      <a:pt x="0" y="19"/>
                    </a:lnTo>
                    <a:lnTo>
                      <a:pt x="6" y="17"/>
                    </a:lnTo>
                    <a:lnTo>
                      <a:pt x="13" y="15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9" y="7"/>
                    </a:lnTo>
                    <a:lnTo>
                      <a:pt x="47" y="4"/>
                    </a:lnTo>
                    <a:lnTo>
                      <a:pt x="56" y="2"/>
                    </a:lnTo>
                    <a:lnTo>
                      <a:pt x="65" y="0"/>
                    </a:lnTo>
                    <a:lnTo>
                      <a:pt x="70" y="7"/>
                    </a:lnTo>
                    <a:lnTo>
                      <a:pt x="65" y="15"/>
                    </a:lnTo>
                    <a:lnTo>
                      <a:pt x="58" y="17"/>
                    </a:lnTo>
                    <a:lnTo>
                      <a:pt x="51" y="19"/>
                    </a:lnTo>
                    <a:lnTo>
                      <a:pt x="43" y="22"/>
                    </a:lnTo>
                    <a:lnTo>
                      <a:pt x="36" y="24"/>
                    </a:lnTo>
                    <a:lnTo>
                      <a:pt x="28" y="26"/>
                    </a:lnTo>
                    <a:lnTo>
                      <a:pt x="20" y="29"/>
                    </a:lnTo>
                    <a:lnTo>
                      <a:pt x="13" y="32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0800" y="4332240"/>
                <a:ext cx="15840" cy="57240"/>
              </a:xfrm>
              <a:custGeom>
                <a:avLst/>
                <a:gdLst/>
                <a:ahLst/>
                <a:rect l="l" t="t" r="r" b="b"/>
                <a:pathLst>
                  <a:path w="18" h="72">
                    <a:moveTo>
                      <a:pt x="8" y="72"/>
                    </a:moveTo>
                    <a:lnTo>
                      <a:pt x="3" y="58"/>
                    </a:lnTo>
                    <a:lnTo>
                      <a:pt x="1" y="41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0" y="14"/>
                    </a:lnTo>
                    <a:lnTo>
                      <a:pt x="15" y="30"/>
                    </a:lnTo>
                    <a:lnTo>
                      <a:pt x="17" y="48"/>
                    </a:lnTo>
                    <a:lnTo>
                      <a:pt x="18" y="65"/>
                    </a:lnTo>
                    <a:lnTo>
                      <a:pt x="8" y="7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8920" y="437040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10" y="24"/>
                    </a:moveTo>
                    <a:lnTo>
                      <a:pt x="0" y="12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4" y="8"/>
                    </a:lnTo>
                    <a:lnTo>
                      <a:pt x="31" y="7"/>
                    </a:lnTo>
                    <a:lnTo>
                      <a:pt x="37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3" y="0"/>
                    </a:lnTo>
                    <a:lnTo>
                      <a:pt x="69" y="5"/>
                    </a:lnTo>
                    <a:lnTo>
                      <a:pt x="66" y="12"/>
                    </a:lnTo>
                    <a:lnTo>
                      <a:pt x="61" y="13"/>
                    </a:lnTo>
                    <a:lnTo>
                      <a:pt x="55" y="16"/>
                    </a:lnTo>
                    <a:lnTo>
                      <a:pt x="48" y="17"/>
                    </a:lnTo>
                    <a:lnTo>
                      <a:pt x="40" y="18"/>
                    </a:lnTo>
                    <a:lnTo>
                      <a:pt x="33" y="19"/>
                    </a:lnTo>
                    <a:lnTo>
                      <a:pt x="25" y="20"/>
                    </a:lnTo>
                    <a:lnTo>
                      <a:pt x="17" y="23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70000" y="4338720"/>
                <a:ext cx="5868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64" y="51"/>
                    </a:moveTo>
                    <a:lnTo>
                      <a:pt x="57" y="46"/>
                    </a:lnTo>
                    <a:lnTo>
                      <a:pt x="51" y="42"/>
                    </a:lnTo>
                    <a:lnTo>
                      <a:pt x="43" y="37"/>
                    </a:lnTo>
                    <a:lnTo>
                      <a:pt x="36" y="33"/>
                    </a:lnTo>
                    <a:lnTo>
                      <a:pt x="28" y="28"/>
                    </a:lnTo>
                    <a:lnTo>
                      <a:pt x="19" y="23"/>
                    </a:lnTo>
                    <a:lnTo>
                      <a:pt x="10" y="19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7" y="5"/>
                    </a:lnTo>
                    <a:lnTo>
                      <a:pt x="25" y="10"/>
                    </a:lnTo>
                    <a:lnTo>
                      <a:pt x="33" y="13"/>
                    </a:lnTo>
                    <a:lnTo>
                      <a:pt x="41" y="18"/>
                    </a:lnTo>
                    <a:lnTo>
                      <a:pt x="48" y="22"/>
                    </a:lnTo>
                    <a:lnTo>
                      <a:pt x="56" y="27"/>
                    </a:lnTo>
                    <a:lnTo>
                      <a:pt x="64" y="34"/>
                    </a:lnTo>
                    <a:lnTo>
                      <a:pt x="72" y="41"/>
                    </a:lnTo>
                    <a:lnTo>
                      <a:pt x="64" y="5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03520" y="4357800"/>
                <a:ext cx="60120" cy="15840"/>
              </a:xfrm>
              <a:custGeom>
                <a:avLst/>
                <a:gdLst/>
                <a:ahLst/>
                <a:rect l="l" t="t" r="r" b="b"/>
                <a:pathLst>
                  <a:path w="76" h="19">
                    <a:moveTo>
                      <a:pt x="41" y="19"/>
                    </a:moveTo>
                    <a:lnTo>
                      <a:pt x="36" y="18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3" y="14"/>
                    </a:lnTo>
                    <a:lnTo>
                      <a:pt x="20" y="14"/>
                    </a:lnTo>
                    <a:lnTo>
                      <a:pt x="15" y="14"/>
                    </a:lnTo>
                    <a:lnTo>
                      <a:pt x="11" y="14"/>
                    </a:lnTo>
                    <a:lnTo>
                      <a:pt x="5" y="14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5" y="3"/>
                    </a:lnTo>
                    <a:lnTo>
                      <a:pt x="54" y="5"/>
                    </a:lnTo>
                    <a:lnTo>
                      <a:pt x="64" y="6"/>
                    </a:lnTo>
                    <a:lnTo>
                      <a:pt x="73" y="9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8" y="16"/>
                    </a:lnTo>
                    <a:lnTo>
                      <a:pt x="64" y="16"/>
                    </a:lnTo>
                    <a:lnTo>
                      <a:pt x="60" y="16"/>
                    </a:lnTo>
                    <a:lnTo>
                      <a:pt x="56" y="17"/>
                    </a:lnTo>
                    <a:lnTo>
                      <a:pt x="51" y="17"/>
                    </a:lnTo>
                    <a:lnTo>
                      <a:pt x="46" y="18"/>
                    </a:lnTo>
                    <a:lnTo>
                      <a:pt x="41" y="19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63600" y="4314960"/>
                <a:ext cx="86040" cy="41040"/>
              </a:xfrm>
              <a:custGeom>
                <a:avLst/>
                <a:gdLst/>
                <a:ahLst/>
                <a:rect l="l" t="t" r="r" b="b"/>
                <a:pathLst>
                  <a:path w="107" h="50">
                    <a:moveTo>
                      <a:pt x="102" y="50"/>
                    </a:moveTo>
                    <a:lnTo>
                      <a:pt x="90" y="47"/>
                    </a:lnTo>
                    <a:lnTo>
                      <a:pt x="79" y="43"/>
                    </a:lnTo>
                    <a:lnTo>
                      <a:pt x="67" y="39"/>
                    </a:lnTo>
                    <a:lnTo>
                      <a:pt x="56" y="34"/>
                    </a:lnTo>
                    <a:lnTo>
                      <a:pt x="44" y="29"/>
                    </a:lnTo>
                    <a:lnTo>
                      <a:pt x="31" y="24"/>
                    </a:lnTo>
                    <a:lnTo>
                      <a:pt x="20" y="19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0" y="3"/>
                    </a:lnTo>
                    <a:lnTo>
                      <a:pt x="30" y="6"/>
                    </a:lnTo>
                    <a:lnTo>
                      <a:pt x="40" y="11"/>
                    </a:lnTo>
                    <a:lnTo>
                      <a:pt x="50" y="16"/>
                    </a:lnTo>
                    <a:lnTo>
                      <a:pt x="59" y="20"/>
                    </a:lnTo>
                    <a:lnTo>
                      <a:pt x="69" y="24"/>
                    </a:lnTo>
                    <a:lnTo>
                      <a:pt x="80" y="26"/>
                    </a:lnTo>
                    <a:lnTo>
                      <a:pt x="86" y="29"/>
                    </a:lnTo>
                    <a:lnTo>
                      <a:pt x="92" y="33"/>
                    </a:lnTo>
                    <a:lnTo>
                      <a:pt x="99" y="38"/>
                    </a:lnTo>
                    <a:lnTo>
                      <a:pt x="107" y="41"/>
                    </a:lnTo>
                    <a:lnTo>
                      <a:pt x="102" y="5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9800" y="431028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5" y="53"/>
                    </a:moveTo>
                    <a:lnTo>
                      <a:pt x="0" y="46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9" y="16"/>
                    </a:lnTo>
                    <a:lnTo>
                      <a:pt x="15" y="9"/>
                    </a:lnTo>
                    <a:lnTo>
                      <a:pt x="20" y="2"/>
                    </a:lnTo>
                    <a:lnTo>
                      <a:pt x="29" y="0"/>
                    </a:lnTo>
                    <a:lnTo>
                      <a:pt x="33" y="4"/>
                    </a:lnTo>
                    <a:lnTo>
                      <a:pt x="33" y="11"/>
                    </a:lnTo>
                    <a:lnTo>
                      <a:pt x="26" y="20"/>
                    </a:lnTo>
                    <a:lnTo>
                      <a:pt x="21" y="32"/>
                    </a:lnTo>
                    <a:lnTo>
                      <a:pt x="15" y="4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17760" y="4297320"/>
                <a:ext cx="81000" cy="5400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10" y="70"/>
                    </a:moveTo>
                    <a:lnTo>
                      <a:pt x="0" y="65"/>
                    </a:lnTo>
                    <a:lnTo>
                      <a:pt x="10" y="53"/>
                    </a:lnTo>
                    <a:lnTo>
                      <a:pt x="19" y="43"/>
                    </a:lnTo>
                    <a:lnTo>
                      <a:pt x="30" y="35"/>
                    </a:lnTo>
                    <a:lnTo>
                      <a:pt x="43" y="27"/>
                    </a:lnTo>
                    <a:lnTo>
                      <a:pt x="56" y="20"/>
                    </a:lnTo>
                    <a:lnTo>
                      <a:pt x="68" y="13"/>
                    </a:lnTo>
                    <a:lnTo>
                      <a:pt x="82" y="7"/>
                    </a:lnTo>
                    <a:lnTo>
                      <a:pt x="96" y="0"/>
                    </a:lnTo>
                    <a:lnTo>
                      <a:pt x="104" y="2"/>
                    </a:lnTo>
                    <a:lnTo>
                      <a:pt x="99" y="9"/>
                    </a:lnTo>
                    <a:lnTo>
                      <a:pt x="88" y="14"/>
                    </a:lnTo>
                    <a:lnTo>
                      <a:pt x="77" y="21"/>
                    </a:lnTo>
                    <a:lnTo>
                      <a:pt x="66" y="28"/>
                    </a:lnTo>
                    <a:lnTo>
                      <a:pt x="54" y="36"/>
                    </a:lnTo>
                    <a:lnTo>
                      <a:pt x="43" y="44"/>
                    </a:lnTo>
                    <a:lnTo>
                      <a:pt x="33" y="53"/>
                    </a:lnTo>
                    <a:lnTo>
                      <a:pt x="21" y="62"/>
                    </a:lnTo>
                    <a:lnTo>
                      <a:pt x="10" y="7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76480" y="4291200"/>
                <a:ext cx="44280" cy="2988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" y="40"/>
                    </a:moveTo>
                    <a:lnTo>
                      <a:pt x="0" y="32"/>
                    </a:lnTo>
                    <a:lnTo>
                      <a:pt x="2" y="25"/>
                    </a:lnTo>
                    <a:lnTo>
                      <a:pt x="7" y="20"/>
                    </a:lnTo>
                    <a:lnTo>
                      <a:pt x="12" y="17"/>
                    </a:lnTo>
                    <a:lnTo>
                      <a:pt x="18" y="14"/>
                    </a:lnTo>
                    <a:lnTo>
                      <a:pt x="24" y="11"/>
                    </a:lnTo>
                    <a:lnTo>
                      <a:pt x="30" y="8"/>
                    </a:lnTo>
                    <a:lnTo>
                      <a:pt x="37" y="6"/>
                    </a:lnTo>
                    <a:lnTo>
                      <a:pt x="44" y="4"/>
                    </a:lnTo>
                    <a:lnTo>
                      <a:pt x="50" y="0"/>
                    </a:lnTo>
                    <a:lnTo>
                      <a:pt x="55" y="5"/>
                    </a:lnTo>
                    <a:lnTo>
                      <a:pt x="55" y="12"/>
                    </a:lnTo>
                    <a:lnTo>
                      <a:pt x="49" y="15"/>
                    </a:lnTo>
                    <a:lnTo>
                      <a:pt x="44" y="20"/>
                    </a:lnTo>
                    <a:lnTo>
                      <a:pt x="38" y="23"/>
                    </a:lnTo>
                    <a:lnTo>
                      <a:pt x="32" y="27"/>
                    </a:lnTo>
                    <a:lnTo>
                      <a:pt x="25" y="32"/>
                    </a:lnTo>
                    <a:lnTo>
                      <a:pt x="18" y="34"/>
                    </a:lnTo>
                    <a:lnTo>
                      <a:pt x="10" y="37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30560" y="4265640"/>
                <a:ext cx="36360" cy="5076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40" y="66"/>
                    </a:moveTo>
                    <a:lnTo>
                      <a:pt x="25" y="57"/>
                    </a:lnTo>
                    <a:lnTo>
                      <a:pt x="25" y="49"/>
                    </a:lnTo>
                    <a:lnTo>
                      <a:pt x="20" y="37"/>
                    </a:lnTo>
                    <a:lnTo>
                      <a:pt x="14" y="28"/>
                    </a:lnTo>
                    <a:lnTo>
                      <a:pt x="8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18" y="8"/>
                    </a:lnTo>
                    <a:lnTo>
                      <a:pt x="24" y="14"/>
                    </a:lnTo>
                    <a:lnTo>
                      <a:pt x="31" y="21"/>
                    </a:lnTo>
                    <a:lnTo>
                      <a:pt x="33" y="29"/>
                    </a:lnTo>
                    <a:lnTo>
                      <a:pt x="36" y="37"/>
                    </a:lnTo>
                    <a:lnTo>
                      <a:pt x="41" y="46"/>
                    </a:lnTo>
                    <a:lnTo>
                      <a:pt x="46" y="57"/>
                    </a:lnTo>
                    <a:lnTo>
                      <a:pt x="40" y="6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63640" y="3595680"/>
                <a:ext cx="498600" cy="717480"/>
              </a:xfrm>
              <a:custGeom>
                <a:avLst/>
                <a:gdLst/>
                <a:ahLst/>
                <a:rect l="l" t="t" r="r" b="b"/>
                <a:pathLst>
                  <a:path w="628" h="904">
                    <a:moveTo>
                      <a:pt x="429" y="904"/>
                    </a:moveTo>
                    <a:lnTo>
                      <a:pt x="424" y="900"/>
                    </a:lnTo>
                    <a:lnTo>
                      <a:pt x="421" y="895"/>
                    </a:lnTo>
                    <a:lnTo>
                      <a:pt x="417" y="890"/>
                    </a:lnTo>
                    <a:lnTo>
                      <a:pt x="414" y="883"/>
                    </a:lnTo>
                    <a:lnTo>
                      <a:pt x="414" y="874"/>
                    </a:lnTo>
                    <a:lnTo>
                      <a:pt x="415" y="865"/>
                    </a:lnTo>
                    <a:lnTo>
                      <a:pt x="416" y="857"/>
                    </a:lnTo>
                    <a:lnTo>
                      <a:pt x="419" y="848"/>
                    </a:lnTo>
                    <a:lnTo>
                      <a:pt x="411" y="835"/>
                    </a:lnTo>
                    <a:lnTo>
                      <a:pt x="404" y="837"/>
                    </a:lnTo>
                    <a:lnTo>
                      <a:pt x="400" y="840"/>
                    </a:lnTo>
                    <a:lnTo>
                      <a:pt x="395" y="843"/>
                    </a:lnTo>
                    <a:lnTo>
                      <a:pt x="391" y="848"/>
                    </a:lnTo>
                    <a:lnTo>
                      <a:pt x="385" y="851"/>
                    </a:lnTo>
                    <a:lnTo>
                      <a:pt x="380" y="857"/>
                    </a:lnTo>
                    <a:lnTo>
                      <a:pt x="374" y="862"/>
                    </a:lnTo>
                    <a:lnTo>
                      <a:pt x="370" y="867"/>
                    </a:lnTo>
                    <a:lnTo>
                      <a:pt x="364" y="873"/>
                    </a:lnTo>
                    <a:lnTo>
                      <a:pt x="360" y="875"/>
                    </a:lnTo>
                    <a:lnTo>
                      <a:pt x="355" y="877"/>
                    </a:lnTo>
                    <a:lnTo>
                      <a:pt x="350" y="877"/>
                    </a:lnTo>
                    <a:lnTo>
                      <a:pt x="346" y="878"/>
                    </a:lnTo>
                    <a:lnTo>
                      <a:pt x="340" y="879"/>
                    </a:lnTo>
                    <a:lnTo>
                      <a:pt x="335" y="880"/>
                    </a:lnTo>
                    <a:lnTo>
                      <a:pt x="331" y="881"/>
                    </a:lnTo>
                    <a:lnTo>
                      <a:pt x="327" y="885"/>
                    </a:lnTo>
                    <a:lnTo>
                      <a:pt x="320" y="883"/>
                    </a:lnTo>
                    <a:lnTo>
                      <a:pt x="312" y="875"/>
                    </a:lnTo>
                    <a:lnTo>
                      <a:pt x="307" y="854"/>
                    </a:lnTo>
                    <a:lnTo>
                      <a:pt x="305" y="830"/>
                    </a:lnTo>
                    <a:lnTo>
                      <a:pt x="308" y="806"/>
                    </a:lnTo>
                    <a:lnTo>
                      <a:pt x="309" y="782"/>
                    </a:lnTo>
                    <a:lnTo>
                      <a:pt x="301" y="779"/>
                    </a:lnTo>
                    <a:lnTo>
                      <a:pt x="293" y="782"/>
                    </a:lnTo>
                    <a:lnTo>
                      <a:pt x="285" y="787"/>
                    </a:lnTo>
                    <a:lnTo>
                      <a:pt x="277" y="791"/>
                    </a:lnTo>
                    <a:lnTo>
                      <a:pt x="270" y="796"/>
                    </a:lnTo>
                    <a:lnTo>
                      <a:pt x="263" y="802"/>
                    </a:lnTo>
                    <a:lnTo>
                      <a:pt x="255" y="806"/>
                    </a:lnTo>
                    <a:lnTo>
                      <a:pt x="247" y="811"/>
                    </a:lnTo>
                    <a:lnTo>
                      <a:pt x="237" y="814"/>
                    </a:lnTo>
                    <a:lnTo>
                      <a:pt x="229" y="814"/>
                    </a:lnTo>
                    <a:lnTo>
                      <a:pt x="221" y="815"/>
                    </a:lnTo>
                    <a:lnTo>
                      <a:pt x="213" y="814"/>
                    </a:lnTo>
                    <a:lnTo>
                      <a:pt x="208" y="812"/>
                    </a:lnTo>
                    <a:lnTo>
                      <a:pt x="205" y="794"/>
                    </a:lnTo>
                    <a:lnTo>
                      <a:pt x="205" y="775"/>
                    </a:lnTo>
                    <a:lnTo>
                      <a:pt x="205" y="758"/>
                    </a:lnTo>
                    <a:lnTo>
                      <a:pt x="204" y="739"/>
                    </a:lnTo>
                    <a:lnTo>
                      <a:pt x="202" y="736"/>
                    </a:lnTo>
                    <a:lnTo>
                      <a:pt x="196" y="737"/>
                    </a:lnTo>
                    <a:lnTo>
                      <a:pt x="190" y="738"/>
                    </a:lnTo>
                    <a:lnTo>
                      <a:pt x="186" y="741"/>
                    </a:lnTo>
                    <a:lnTo>
                      <a:pt x="179" y="743"/>
                    </a:lnTo>
                    <a:lnTo>
                      <a:pt x="174" y="743"/>
                    </a:lnTo>
                    <a:lnTo>
                      <a:pt x="170" y="742"/>
                    </a:lnTo>
                    <a:lnTo>
                      <a:pt x="166" y="739"/>
                    </a:lnTo>
                    <a:lnTo>
                      <a:pt x="163" y="738"/>
                    </a:lnTo>
                    <a:lnTo>
                      <a:pt x="158" y="737"/>
                    </a:lnTo>
                    <a:lnTo>
                      <a:pt x="153" y="735"/>
                    </a:lnTo>
                    <a:lnTo>
                      <a:pt x="149" y="734"/>
                    </a:lnTo>
                    <a:lnTo>
                      <a:pt x="143" y="734"/>
                    </a:lnTo>
                    <a:lnTo>
                      <a:pt x="119" y="726"/>
                    </a:lnTo>
                    <a:lnTo>
                      <a:pt x="97" y="714"/>
                    </a:lnTo>
                    <a:lnTo>
                      <a:pt x="77" y="701"/>
                    </a:lnTo>
                    <a:lnTo>
                      <a:pt x="58" y="686"/>
                    </a:lnTo>
                    <a:lnTo>
                      <a:pt x="42" y="669"/>
                    </a:lnTo>
                    <a:lnTo>
                      <a:pt x="26" y="650"/>
                    </a:lnTo>
                    <a:lnTo>
                      <a:pt x="12" y="630"/>
                    </a:lnTo>
                    <a:lnTo>
                      <a:pt x="0" y="608"/>
                    </a:lnTo>
                    <a:lnTo>
                      <a:pt x="0" y="602"/>
                    </a:lnTo>
                    <a:lnTo>
                      <a:pt x="3" y="598"/>
                    </a:lnTo>
                    <a:lnTo>
                      <a:pt x="4" y="593"/>
                    </a:lnTo>
                    <a:lnTo>
                      <a:pt x="0" y="586"/>
                    </a:lnTo>
                    <a:lnTo>
                      <a:pt x="5" y="578"/>
                    </a:lnTo>
                    <a:lnTo>
                      <a:pt x="11" y="571"/>
                    </a:lnTo>
                    <a:lnTo>
                      <a:pt x="16" y="563"/>
                    </a:lnTo>
                    <a:lnTo>
                      <a:pt x="22" y="555"/>
                    </a:lnTo>
                    <a:lnTo>
                      <a:pt x="28" y="547"/>
                    </a:lnTo>
                    <a:lnTo>
                      <a:pt x="34" y="539"/>
                    </a:lnTo>
                    <a:lnTo>
                      <a:pt x="41" y="531"/>
                    </a:lnTo>
                    <a:lnTo>
                      <a:pt x="46" y="524"/>
                    </a:lnTo>
                    <a:lnTo>
                      <a:pt x="52" y="514"/>
                    </a:lnTo>
                    <a:lnTo>
                      <a:pt x="58" y="503"/>
                    </a:lnTo>
                    <a:lnTo>
                      <a:pt x="65" y="493"/>
                    </a:lnTo>
                    <a:lnTo>
                      <a:pt x="70" y="484"/>
                    </a:lnTo>
                    <a:lnTo>
                      <a:pt x="79" y="474"/>
                    </a:lnTo>
                    <a:lnTo>
                      <a:pt x="87" y="465"/>
                    </a:lnTo>
                    <a:lnTo>
                      <a:pt x="95" y="457"/>
                    </a:lnTo>
                    <a:lnTo>
                      <a:pt x="105" y="448"/>
                    </a:lnTo>
                    <a:lnTo>
                      <a:pt x="112" y="447"/>
                    </a:lnTo>
                    <a:lnTo>
                      <a:pt x="122" y="439"/>
                    </a:lnTo>
                    <a:lnTo>
                      <a:pt x="134" y="431"/>
                    </a:lnTo>
                    <a:lnTo>
                      <a:pt x="145" y="423"/>
                    </a:lnTo>
                    <a:lnTo>
                      <a:pt x="157" y="416"/>
                    </a:lnTo>
                    <a:lnTo>
                      <a:pt x="170" y="411"/>
                    </a:lnTo>
                    <a:lnTo>
                      <a:pt x="183" y="408"/>
                    </a:lnTo>
                    <a:lnTo>
                      <a:pt x="197" y="405"/>
                    </a:lnTo>
                    <a:lnTo>
                      <a:pt x="212" y="407"/>
                    </a:lnTo>
                    <a:lnTo>
                      <a:pt x="219" y="408"/>
                    </a:lnTo>
                    <a:lnTo>
                      <a:pt x="226" y="409"/>
                    </a:lnTo>
                    <a:lnTo>
                      <a:pt x="234" y="412"/>
                    </a:lnTo>
                    <a:lnTo>
                      <a:pt x="240" y="416"/>
                    </a:lnTo>
                    <a:lnTo>
                      <a:pt x="244" y="419"/>
                    </a:lnTo>
                    <a:lnTo>
                      <a:pt x="249" y="423"/>
                    </a:lnTo>
                    <a:lnTo>
                      <a:pt x="254" y="426"/>
                    </a:lnTo>
                    <a:lnTo>
                      <a:pt x="259" y="428"/>
                    </a:lnTo>
                    <a:lnTo>
                      <a:pt x="264" y="432"/>
                    </a:lnTo>
                    <a:lnTo>
                      <a:pt x="267" y="436"/>
                    </a:lnTo>
                    <a:lnTo>
                      <a:pt x="272" y="440"/>
                    </a:lnTo>
                    <a:lnTo>
                      <a:pt x="274" y="445"/>
                    </a:lnTo>
                    <a:lnTo>
                      <a:pt x="280" y="443"/>
                    </a:lnTo>
                    <a:lnTo>
                      <a:pt x="286" y="441"/>
                    </a:lnTo>
                    <a:lnTo>
                      <a:pt x="292" y="439"/>
                    </a:lnTo>
                    <a:lnTo>
                      <a:pt x="296" y="435"/>
                    </a:lnTo>
                    <a:lnTo>
                      <a:pt x="300" y="430"/>
                    </a:lnTo>
                    <a:lnTo>
                      <a:pt x="304" y="424"/>
                    </a:lnTo>
                    <a:lnTo>
                      <a:pt x="309" y="418"/>
                    </a:lnTo>
                    <a:lnTo>
                      <a:pt x="313" y="412"/>
                    </a:lnTo>
                    <a:lnTo>
                      <a:pt x="319" y="405"/>
                    </a:lnTo>
                    <a:lnTo>
                      <a:pt x="324" y="400"/>
                    </a:lnTo>
                    <a:lnTo>
                      <a:pt x="328" y="394"/>
                    </a:lnTo>
                    <a:lnTo>
                      <a:pt x="333" y="387"/>
                    </a:lnTo>
                    <a:lnTo>
                      <a:pt x="340" y="371"/>
                    </a:lnTo>
                    <a:lnTo>
                      <a:pt x="340" y="365"/>
                    </a:lnTo>
                    <a:lnTo>
                      <a:pt x="341" y="359"/>
                    </a:lnTo>
                    <a:lnTo>
                      <a:pt x="342" y="351"/>
                    </a:lnTo>
                    <a:lnTo>
                      <a:pt x="342" y="344"/>
                    </a:lnTo>
                    <a:lnTo>
                      <a:pt x="336" y="336"/>
                    </a:lnTo>
                    <a:lnTo>
                      <a:pt x="331" y="336"/>
                    </a:lnTo>
                    <a:lnTo>
                      <a:pt x="324" y="335"/>
                    </a:lnTo>
                    <a:lnTo>
                      <a:pt x="317" y="333"/>
                    </a:lnTo>
                    <a:lnTo>
                      <a:pt x="310" y="330"/>
                    </a:lnTo>
                    <a:lnTo>
                      <a:pt x="303" y="327"/>
                    </a:lnTo>
                    <a:lnTo>
                      <a:pt x="297" y="324"/>
                    </a:lnTo>
                    <a:lnTo>
                      <a:pt x="292" y="320"/>
                    </a:lnTo>
                    <a:lnTo>
                      <a:pt x="287" y="317"/>
                    </a:lnTo>
                    <a:lnTo>
                      <a:pt x="281" y="309"/>
                    </a:lnTo>
                    <a:lnTo>
                      <a:pt x="277" y="301"/>
                    </a:lnTo>
                    <a:lnTo>
                      <a:pt x="271" y="292"/>
                    </a:lnTo>
                    <a:lnTo>
                      <a:pt x="265" y="283"/>
                    </a:lnTo>
                    <a:lnTo>
                      <a:pt x="259" y="275"/>
                    </a:lnTo>
                    <a:lnTo>
                      <a:pt x="254" y="265"/>
                    </a:lnTo>
                    <a:lnTo>
                      <a:pt x="248" y="254"/>
                    </a:lnTo>
                    <a:lnTo>
                      <a:pt x="243" y="244"/>
                    </a:lnTo>
                    <a:lnTo>
                      <a:pt x="249" y="213"/>
                    </a:lnTo>
                    <a:lnTo>
                      <a:pt x="258" y="183"/>
                    </a:lnTo>
                    <a:lnTo>
                      <a:pt x="272" y="155"/>
                    </a:lnTo>
                    <a:lnTo>
                      <a:pt x="288" y="129"/>
                    </a:lnTo>
                    <a:lnTo>
                      <a:pt x="305" y="104"/>
                    </a:lnTo>
                    <a:lnTo>
                      <a:pt x="325" y="78"/>
                    </a:lnTo>
                    <a:lnTo>
                      <a:pt x="346" y="54"/>
                    </a:lnTo>
                    <a:lnTo>
                      <a:pt x="365" y="29"/>
                    </a:lnTo>
                    <a:lnTo>
                      <a:pt x="370" y="25"/>
                    </a:lnTo>
                    <a:lnTo>
                      <a:pt x="376" y="23"/>
                    </a:lnTo>
                    <a:lnTo>
                      <a:pt x="380" y="19"/>
                    </a:lnTo>
                    <a:lnTo>
                      <a:pt x="386" y="16"/>
                    </a:lnTo>
                    <a:lnTo>
                      <a:pt x="392" y="12"/>
                    </a:lnTo>
                    <a:lnTo>
                      <a:pt x="398" y="10"/>
                    </a:lnTo>
                    <a:lnTo>
                      <a:pt x="403" y="7"/>
                    </a:lnTo>
                    <a:lnTo>
                      <a:pt x="409" y="4"/>
                    </a:lnTo>
                    <a:lnTo>
                      <a:pt x="434" y="0"/>
                    </a:lnTo>
                    <a:lnTo>
                      <a:pt x="460" y="0"/>
                    </a:lnTo>
                    <a:lnTo>
                      <a:pt x="483" y="4"/>
                    </a:lnTo>
                    <a:lnTo>
                      <a:pt x="506" y="14"/>
                    </a:lnTo>
                    <a:lnTo>
                      <a:pt x="528" y="25"/>
                    </a:lnTo>
                    <a:lnTo>
                      <a:pt x="548" y="40"/>
                    </a:lnTo>
                    <a:lnTo>
                      <a:pt x="568" y="56"/>
                    </a:lnTo>
                    <a:lnTo>
                      <a:pt x="588" y="75"/>
                    </a:lnTo>
                    <a:lnTo>
                      <a:pt x="596" y="87"/>
                    </a:lnTo>
                    <a:lnTo>
                      <a:pt x="604" y="100"/>
                    </a:lnTo>
                    <a:lnTo>
                      <a:pt x="612" y="114"/>
                    </a:lnTo>
                    <a:lnTo>
                      <a:pt x="620" y="129"/>
                    </a:lnTo>
                    <a:lnTo>
                      <a:pt x="624" y="145"/>
                    </a:lnTo>
                    <a:lnTo>
                      <a:pt x="628" y="162"/>
                    </a:lnTo>
                    <a:lnTo>
                      <a:pt x="627" y="178"/>
                    </a:lnTo>
                    <a:lnTo>
                      <a:pt x="623" y="197"/>
                    </a:lnTo>
                    <a:lnTo>
                      <a:pt x="619" y="209"/>
                    </a:lnTo>
                    <a:lnTo>
                      <a:pt x="612" y="222"/>
                    </a:lnTo>
                    <a:lnTo>
                      <a:pt x="606" y="235"/>
                    </a:lnTo>
                    <a:lnTo>
                      <a:pt x="599" y="248"/>
                    </a:lnTo>
                    <a:lnTo>
                      <a:pt x="593" y="261"/>
                    </a:lnTo>
                    <a:lnTo>
                      <a:pt x="586" y="275"/>
                    </a:lnTo>
                    <a:lnTo>
                      <a:pt x="581" y="290"/>
                    </a:lnTo>
                    <a:lnTo>
                      <a:pt x="575" y="305"/>
                    </a:lnTo>
                    <a:lnTo>
                      <a:pt x="567" y="312"/>
                    </a:lnTo>
                    <a:lnTo>
                      <a:pt x="563" y="324"/>
                    </a:lnTo>
                    <a:lnTo>
                      <a:pt x="560" y="334"/>
                    </a:lnTo>
                    <a:lnTo>
                      <a:pt x="554" y="343"/>
                    </a:lnTo>
                    <a:lnTo>
                      <a:pt x="548" y="351"/>
                    </a:lnTo>
                    <a:lnTo>
                      <a:pt x="543" y="360"/>
                    </a:lnTo>
                    <a:lnTo>
                      <a:pt x="537" y="370"/>
                    </a:lnTo>
                    <a:lnTo>
                      <a:pt x="531" y="380"/>
                    </a:lnTo>
                    <a:lnTo>
                      <a:pt x="526" y="392"/>
                    </a:lnTo>
                    <a:lnTo>
                      <a:pt x="515" y="407"/>
                    </a:lnTo>
                    <a:lnTo>
                      <a:pt x="501" y="428"/>
                    </a:lnTo>
                    <a:lnTo>
                      <a:pt x="487" y="450"/>
                    </a:lnTo>
                    <a:lnTo>
                      <a:pt x="474" y="472"/>
                    </a:lnTo>
                    <a:lnTo>
                      <a:pt x="459" y="494"/>
                    </a:lnTo>
                    <a:lnTo>
                      <a:pt x="444" y="516"/>
                    </a:lnTo>
                    <a:lnTo>
                      <a:pt x="427" y="537"/>
                    </a:lnTo>
                    <a:lnTo>
                      <a:pt x="411" y="557"/>
                    </a:lnTo>
                    <a:lnTo>
                      <a:pt x="395" y="578"/>
                    </a:lnTo>
                    <a:lnTo>
                      <a:pt x="377" y="598"/>
                    </a:lnTo>
                    <a:lnTo>
                      <a:pt x="358" y="617"/>
                    </a:lnTo>
                    <a:lnTo>
                      <a:pt x="340" y="636"/>
                    </a:lnTo>
                    <a:lnTo>
                      <a:pt x="320" y="654"/>
                    </a:lnTo>
                    <a:lnTo>
                      <a:pt x="300" y="671"/>
                    </a:lnTo>
                    <a:lnTo>
                      <a:pt x="278" y="689"/>
                    </a:lnTo>
                    <a:lnTo>
                      <a:pt x="256" y="704"/>
                    </a:lnTo>
                    <a:lnTo>
                      <a:pt x="233" y="719"/>
                    </a:lnTo>
                    <a:lnTo>
                      <a:pt x="225" y="734"/>
                    </a:lnTo>
                    <a:lnTo>
                      <a:pt x="222" y="752"/>
                    </a:lnTo>
                    <a:lnTo>
                      <a:pt x="221" y="768"/>
                    </a:lnTo>
                    <a:lnTo>
                      <a:pt x="221" y="783"/>
                    </a:lnTo>
                    <a:lnTo>
                      <a:pt x="222" y="797"/>
                    </a:lnTo>
                    <a:lnTo>
                      <a:pt x="232" y="797"/>
                    </a:lnTo>
                    <a:lnTo>
                      <a:pt x="241" y="796"/>
                    </a:lnTo>
                    <a:lnTo>
                      <a:pt x="249" y="792"/>
                    </a:lnTo>
                    <a:lnTo>
                      <a:pt x="257" y="788"/>
                    </a:lnTo>
                    <a:lnTo>
                      <a:pt x="265" y="783"/>
                    </a:lnTo>
                    <a:lnTo>
                      <a:pt x="273" y="777"/>
                    </a:lnTo>
                    <a:lnTo>
                      <a:pt x="280" y="772"/>
                    </a:lnTo>
                    <a:lnTo>
                      <a:pt x="287" y="765"/>
                    </a:lnTo>
                    <a:lnTo>
                      <a:pt x="301" y="760"/>
                    </a:lnTo>
                    <a:lnTo>
                      <a:pt x="307" y="760"/>
                    </a:lnTo>
                    <a:lnTo>
                      <a:pt x="313" y="763"/>
                    </a:lnTo>
                    <a:lnTo>
                      <a:pt x="318" y="764"/>
                    </a:lnTo>
                    <a:lnTo>
                      <a:pt x="323" y="766"/>
                    </a:lnTo>
                    <a:lnTo>
                      <a:pt x="328" y="784"/>
                    </a:lnTo>
                    <a:lnTo>
                      <a:pt x="326" y="805"/>
                    </a:lnTo>
                    <a:lnTo>
                      <a:pt x="323" y="827"/>
                    </a:lnTo>
                    <a:lnTo>
                      <a:pt x="323" y="848"/>
                    </a:lnTo>
                    <a:lnTo>
                      <a:pt x="330" y="860"/>
                    </a:lnTo>
                    <a:lnTo>
                      <a:pt x="336" y="860"/>
                    </a:lnTo>
                    <a:lnTo>
                      <a:pt x="346" y="858"/>
                    </a:lnTo>
                    <a:lnTo>
                      <a:pt x="354" y="855"/>
                    </a:lnTo>
                    <a:lnTo>
                      <a:pt x="362" y="851"/>
                    </a:lnTo>
                    <a:lnTo>
                      <a:pt x="368" y="847"/>
                    </a:lnTo>
                    <a:lnTo>
                      <a:pt x="373" y="841"/>
                    </a:lnTo>
                    <a:lnTo>
                      <a:pt x="380" y="835"/>
                    </a:lnTo>
                    <a:lnTo>
                      <a:pt x="386" y="829"/>
                    </a:lnTo>
                    <a:lnTo>
                      <a:pt x="393" y="822"/>
                    </a:lnTo>
                    <a:lnTo>
                      <a:pt x="399" y="821"/>
                    </a:lnTo>
                    <a:lnTo>
                      <a:pt x="406" y="818"/>
                    </a:lnTo>
                    <a:lnTo>
                      <a:pt x="414" y="815"/>
                    </a:lnTo>
                    <a:lnTo>
                      <a:pt x="421" y="814"/>
                    </a:lnTo>
                    <a:lnTo>
                      <a:pt x="433" y="827"/>
                    </a:lnTo>
                    <a:lnTo>
                      <a:pt x="436" y="842"/>
                    </a:lnTo>
                    <a:lnTo>
                      <a:pt x="436" y="856"/>
                    </a:lnTo>
                    <a:lnTo>
                      <a:pt x="438" y="870"/>
                    </a:lnTo>
                    <a:lnTo>
                      <a:pt x="441" y="885"/>
                    </a:lnTo>
                    <a:lnTo>
                      <a:pt x="447" y="885"/>
                    </a:lnTo>
                    <a:lnTo>
                      <a:pt x="454" y="883"/>
                    </a:lnTo>
                    <a:lnTo>
                      <a:pt x="462" y="882"/>
                    </a:lnTo>
                    <a:lnTo>
                      <a:pt x="469" y="880"/>
                    </a:lnTo>
                    <a:lnTo>
                      <a:pt x="475" y="875"/>
                    </a:lnTo>
                    <a:lnTo>
                      <a:pt x="480" y="879"/>
                    </a:lnTo>
                    <a:lnTo>
                      <a:pt x="480" y="892"/>
                    </a:lnTo>
                    <a:lnTo>
                      <a:pt x="478" y="895"/>
                    </a:lnTo>
                    <a:lnTo>
                      <a:pt x="474" y="897"/>
                    </a:lnTo>
                    <a:lnTo>
                      <a:pt x="467" y="900"/>
                    </a:lnTo>
                    <a:lnTo>
                      <a:pt x="460" y="902"/>
                    </a:lnTo>
                    <a:lnTo>
                      <a:pt x="455" y="902"/>
                    </a:lnTo>
                    <a:lnTo>
                      <a:pt x="450" y="903"/>
                    </a:lnTo>
                    <a:lnTo>
                      <a:pt x="445" y="904"/>
                    </a:lnTo>
                    <a:lnTo>
                      <a:pt x="438" y="904"/>
                    </a:lnTo>
                    <a:lnTo>
                      <a:pt x="429" y="90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92480" y="426564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90" h="47">
                    <a:moveTo>
                      <a:pt x="80" y="47"/>
                    </a:moveTo>
                    <a:lnTo>
                      <a:pt x="71" y="45"/>
                    </a:lnTo>
                    <a:lnTo>
                      <a:pt x="63" y="40"/>
                    </a:lnTo>
                    <a:lnTo>
                      <a:pt x="54" y="37"/>
                    </a:lnTo>
                    <a:lnTo>
                      <a:pt x="43" y="32"/>
                    </a:lnTo>
                    <a:lnTo>
                      <a:pt x="34" y="28"/>
                    </a:lnTo>
                    <a:lnTo>
                      <a:pt x="24" y="25"/>
                    </a:lnTo>
                    <a:lnTo>
                      <a:pt x="14" y="23"/>
                    </a:lnTo>
                    <a:lnTo>
                      <a:pt x="3" y="23"/>
                    </a:lnTo>
                    <a:lnTo>
                      <a:pt x="2" y="17"/>
                    </a:lnTo>
                    <a:lnTo>
                      <a:pt x="1" y="13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1" y="5"/>
                    </a:lnTo>
                    <a:lnTo>
                      <a:pt x="22" y="8"/>
                    </a:lnTo>
                    <a:lnTo>
                      <a:pt x="32" y="13"/>
                    </a:lnTo>
                    <a:lnTo>
                      <a:pt x="42" y="17"/>
                    </a:lnTo>
                    <a:lnTo>
                      <a:pt x="53" y="23"/>
                    </a:lnTo>
                    <a:lnTo>
                      <a:pt x="64" y="28"/>
                    </a:lnTo>
                    <a:lnTo>
                      <a:pt x="75" y="31"/>
                    </a:lnTo>
                    <a:lnTo>
                      <a:pt x="87" y="36"/>
                    </a:lnTo>
                    <a:lnTo>
                      <a:pt x="90" y="39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0" y="4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98760" y="423720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0" y="43"/>
                    </a:moveTo>
                    <a:lnTo>
                      <a:pt x="0" y="30"/>
                    </a:lnTo>
                    <a:lnTo>
                      <a:pt x="4" y="27"/>
                    </a:lnTo>
                    <a:lnTo>
                      <a:pt x="9" y="23"/>
                    </a:lnTo>
                    <a:lnTo>
                      <a:pt x="15" y="20"/>
                    </a:lnTo>
                    <a:lnTo>
                      <a:pt x="20" y="17"/>
                    </a:lnTo>
                    <a:lnTo>
                      <a:pt x="25" y="13"/>
                    </a:lnTo>
                    <a:lnTo>
                      <a:pt x="32" y="8"/>
                    </a:lnTo>
                    <a:lnTo>
                      <a:pt x="38" y="5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3" y="7"/>
                    </a:lnTo>
                    <a:lnTo>
                      <a:pt x="47" y="12"/>
                    </a:lnTo>
                    <a:lnTo>
                      <a:pt x="42" y="18"/>
                    </a:lnTo>
                    <a:lnTo>
                      <a:pt x="36" y="22"/>
                    </a:lnTo>
                    <a:lnTo>
                      <a:pt x="31" y="27"/>
                    </a:lnTo>
                    <a:lnTo>
                      <a:pt x="25" y="32"/>
                    </a:lnTo>
                    <a:lnTo>
                      <a:pt x="19" y="36"/>
                    </a:lnTo>
                    <a:lnTo>
                      <a:pt x="12" y="40"/>
                    </a:lnTo>
                    <a:lnTo>
                      <a:pt x="4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92480" y="3714840"/>
                <a:ext cx="298440" cy="504720"/>
              </a:xfrm>
              <a:custGeom>
                <a:avLst/>
                <a:gdLst/>
                <a:ahLst/>
                <a:rect l="l" t="t" r="r" b="b"/>
                <a:pathLst>
                  <a:path w="376" h="637">
                    <a:moveTo>
                      <a:pt x="221" y="637"/>
                    </a:moveTo>
                    <a:lnTo>
                      <a:pt x="208" y="634"/>
                    </a:lnTo>
                    <a:lnTo>
                      <a:pt x="195" y="632"/>
                    </a:lnTo>
                    <a:lnTo>
                      <a:pt x="184" y="630"/>
                    </a:lnTo>
                    <a:lnTo>
                      <a:pt x="171" y="627"/>
                    </a:lnTo>
                    <a:lnTo>
                      <a:pt x="158" y="625"/>
                    </a:lnTo>
                    <a:lnTo>
                      <a:pt x="146" y="623"/>
                    </a:lnTo>
                    <a:lnTo>
                      <a:pt x="133" y="621"/>
                    </a:lnTo>
                    <a:lnTo>
                      <a:pt x="120" y="618"/>
                    </a:lnTo>
                    <a:lnTo>
                      <a:pt x="108" y="617"/>
                    </a:lnTo>
                    <a:lnTo>
                      <a:pt x="95" y="615"/>
                    </a:lnTo>
                    <a:lnTo>
                      <a:pt x="81" y="614"/>
                    </a:lnTo>
                    <a:lnTo>
                      <a:pt x="69" y="611"/>
                    </a:lnTo>
                    <a:lnTo>
                      <a:pt x="56" y="611"/>
                    </a:lnTo>
                    <a:lnTo>
                      <a:pt x="43" y="610"/>
                    </a:lnTo>
                    <a:lnTo>
                      <a:pt x="31" y="610"/>
                    </a:lnTo>
                    <a:lnTo>
                      <a:pt x="18" y="610"/>
                    </a:lnTo>
                    <a:lnTo>
                      <a:pt x="2" y="595"/>
                    </a:lnTo>
                    <a:lnTo>
                      <a:pt x="0" y="495"/>
                    </a:lnTo>
                    <a:lnTo>
                      <a:pt x="3" y="392"/>
                    </a:lnTo>
                    <a:lnTo>
                      <a:pt x="10" y="290"/>
                    </a:lnTo>
                    <a:lnTo>
                      <a:pt x="18" y="186"/>
                    </a:lnTo>
                    <a:lnTo>
                      <a:pt x="26" y="145"/>
                    </a:lnTo>
                    <a:lnTo>
                      <a:pt x="34" y="104"/>
                    </a:lnTo>
                    <a:lnTo>
                      <a:pt x="40" y="63"/>
                    </a:lnTo>
                    <a:lnTo>
                      <a:pt x="47" y="20"/>
                    </a:lnTo>
                    <a:lnTo>
                      <a:pt x="55" y="7"/>
                    </a:lnTo>
                    <a:lnTo>
                      <a:pt x="70" y="3"/>
                    </a:lnTo>
                    <a:lnTo>
                      <a:pt x="86" y="1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3" y="0"/>
                    </a:lnTo>
                    <a:lnTo>
                      <a:pt x="149" y="2"/>
                    </a:lnTo>
                    <a:lnTo>
                      <a:pt x="165" y="4"/>
                    </a:lnTo>
                    <a:lnTo>
                      <a:pt x="180" y="8"/>
                    </a:lnTo>
                    <a:lnTo>
                      <a:pt x="195" y="12"/>
                    </a:lnTo>
                    <a:lnTo>
                      <a:pt x="210" y="18"/>
                    </a:lnTo>
                    <a:lnTo>
                      <a:pt x="225" y="24"/>
                    </a:lnTo>
                    <a:lnTo>
                      <a:pt x="240" y="31"/>
                    </a:lnTo>
                    <a:lnTo>
                      <a:pt x="254" y="38"/>
                    </a:lnTo>
                    <a:lnTo>
                      <a:pt x="267" y="45"/>
                    </a:lnTo>
                    <a:lnTo>
                      <a:pt x="279" y="53"/>
                    </a:lnTo>
                    <a:lnTo>
                      <a:pt x="292" y="62"/>
                    </a:lnTo>
                    <a:lnTo>
                      <a:pt x="302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40" y="100"/>
                    </a:lnTo>
                    <a:lnTo>
                      <a:pt x="350" y="108"/>
                    </a:lnTo>
                    <a:lnTo>
                      <a:pt x="360" y="115"/>
                    </a:lnTo>
                    <a:lnTo>
                      <a:pt x="370" y="122"/>
                    </a:lnTo>
                    <a:lnTo>
                      <a:pt x="374" y="130"/>
                    </a:lnTo>
                    <a:lnTo>
                      <a:pt x="376" y="138"/>
                    </a:lnTo>
                    <a:lnTo>
                      <a:pt x="376" y="147"/>
                    </a:lnTo>
                    <a:lnTo>
                      <a:pt x="376" y="157"/>
                    </a:lnTo>
                    <a:lnTo>
                      <a:pt x="355" y="214"/>
                    </a:lnTo>
                    <a:lnTo>
                      <a:pt x="336" y="271"/>
                    </a:lnTo>
                    <a:lnTo>
                      <a:pt x="316" y="329"/>
                    </a:lnTo>
                    <a:lnTo>
                      <a:pt x="299" y="388"/>
                    </a:lnTo>
                    <a:lnTo>
                      <a:pt x="284" y="447"/>
                    </a:lnTo>
                    <a:lnTo>
                      <a:pt x="270" y="507"/>
                    </a:lnTo>
                    <a:lnTo>
                      <a:pt x="259" y="566"/>
                    </a:lnTo>
                    <a:lnTo>
                      <a:pt x="251" y="625"/>
                    </a:lnTo>
                    <a:lnTo>
                      <a:pt x="239" y="637"/>
                    </a:lnTo>
                    <a:lnTo>
                      <a:pt x="236" y="637"/>
                    </a:lnTo>
                    <a:lnTo>
                      <a:pt x="231" y="636"/>
                    </a:lnTo>
                    <a:lnTo>
                      <a:pt x="225" y="636"/>
                    </a:lnTo>
                    <a:lnTo>
                      <a:pt x="221" y="63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71800" y="3936960"/>
                <a:ext cx="216000" cy="282600"/>
              </a:xfrm>
              <a:custGeom>
                <a:avLst/>
                <a:gdLst/>
                <a:ahLst/>
                <a:rect l="l" t="t" r="r" b="b"/>
                <a:pathLst>
                  <a:path w="272" h="357">
                    <a:moveTo>
                      <a:pt x="126" y="357"/>
                    </a:moveTo>
                    <a:lnTo>
                      <a:pt x="121" y="351"/>
                    </a:lnTo>
                    <a:lnTo>
                      <a:pt x="117" y="344"/>
                    </a:lnTo>
                    <a:lnTo>
                      <a:pt x="112" y="338"/>
                    </a:lnTo>
                    <a:lnTo>
                      <a:pt x="107" y="331"/>
                    </a:lnTo>
                    <a:lnTo>
                      <a:pt x="103" y="326"/>
                    </a:lnTo>
                    <a:lnTo>
                      <a:pt x="97" y="319"/>
                    </a:lnTo>
                    <a:lnTo>
                      <a:pt x="91" y="313"/>
                    </a:lnTo>
                    <a:lnTo>
                      <a:pt x="84" y="306"/>
                    </a:lnTo>
                    <a:lnTo>
                      <a:pt x="79" y="304"/>
                    </a:lnTo>
                    <a:lnTo>
                      <a:pt x="73" y="303"/>
                    </a:lnTo>
                    <a:lnTo>
                      <a:pt x="66" y="300"/>
                    </a:lnTo>
                    <a:lnTo>
                      <a:pt x="59" y="299"/>
                    </a:lnTo>
                    <a:lnTo>
                      <a:pt x="52" y="298"/>
                    </a:lnTo>
                    <a:lnTo>
                      <a:pt x="46" y="297"/>
                    </a:lnTo>
                    <a:lnTo>
                      <a:pt x="39" y="296"/>
                    </a:lnTo>
                    <a:lnTo>
                      <a:pt x="33" y="294"/>
                    </a:lnTo>
                    <a:lnTo>
                      <a:pt x="27" y="293"/>
                    </a:lnTo>
                    <a:lnTo>
                      <a:pt x="21" y="291"/>
                    </a:lnTo>
                    <a:lnTo>
                      <a:pt x="16" y="289"/>
                    </a:lnTo>
                    <a:lnTo>
                      <a:pt x="12" y="285"/>
                    </a:lnTo>
                    <a:lnTo>
                      <a:pt x="8" y="280"/>
                    </a:lnTo>
                    <a:lnTo>
                      <a:pt x="6" y="273"/>
                    </a:lnTo>
                    <a:lnTo>
                      <a:pt x="4" y="266"/>
                    </a:lnTo>
                    <a:lnTo>
                      <a:pt x="0" y="258"/>
                    </a:lnTo>
                    <a:lnTo>
                      <a:pt x="1" y="251"/>
                    </a:lnTo>
                    <a:lnTo>
                      <a:pt x="11" y="246"/>
                    </a:lnTo>
                    <a:lnTo>
                      <a:pt x="21" y="243"/>
                    </a:lnTo>
                    <a:lnTo>
                      <a:pt x="33" y="239"/>
                    </a:lnTo>
                    <a:lnTo>
                      <a:pt x="44" y="236"/>
                    </a:lnTo>
                    <a:lnTo>
                      <a:pt x="56" y="233"/>
                    </a:lnTo>
                    <a:lnTo>
                      <a:pt x="67" y="231"/>
                    </a:lnTo>
                    <a:lnTo>
                      <a:pt x="77" y="229"/>
                    </a:lnTo>
                    <a:lnTo>
                      <a:pt x="89" y="225"/>
                    </a:lnTo>
                    <a:lnTo>
                      <a:pt x="92" y="220"/>
                    </a:lnTo>
                    <a:lnTo>
                      <a:pt x="87" y="199"/>
                    </a:lnTo>
                    <a:lnTo>
                      <a:pt x="80" y="177"/>
                    </a:lnTo>
                    <a:lnTo>
                      <a:pt x="71" y="155"/>
                    </a:lnTo>
                    <a:lnTo>
                      <a:pt x="60" y="133"/>
                    </a:lnTo>
                    <a:lnTo>
                      <a:pt x="60" y="129"/>
                    </a:lnTo>
                    <a:lnTo>
                      <a:pt x="61" y="124"/>
                    </a:lnTo>
                    <a:lnTo>
                      <a:pt x="62" y="118"/>
                    </a:lnTo>
                    <a:lnTo>
                      <a:pt x="65" y="112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82" y="103"/>
                    </a:lnTo>
                    <a:lnTo>
                      <a:pt x="87" y="103"/>
                    </a:lnTo>
                    <a:lnTo>
                      <a:pt x="92" y="102"/>
                    </a:lnTo>
                    <a:lnTo>
                      <a:pt x="98" y="104"/>
                    </a:lnTo>
                    <a:lnTo>
                      <a:pt x="104" y="108"/>
                    </a:lnTo>
                    <a:lnTo>
                      <a:pt x="110" y="111"/>
                    </a:lnTo>
                    <a:lnTo>
                      <a:pt x="115" y="115"/>
                    </a:lnTo>
                    <a:lnTo>
                      <a:pt x="120" y="118"/>
                    </a:lnTo>
                    <a:lnTo>
                      <a:pt x="126" y="123"/>
                    </a:lnTo>
                    <a:lnTo>
                      <a:pt x="132" y="127"/>
                    </a:lnTo>
                    <a:lnTo>
                      <a:pt x="137" y="131"/>
                    </a:lnTo>
                    <a:lnTo>
                      <a:pt x="137" y="111"/>
                    </a:lnTo>
                    <a:lnTo>
                      <a:pt x="134" y="92"/>
                    </a:lnTo>
                    <a:lnTo>
                      <a:pt x="129" y="73"/>
                    </a:lnTo>
                    <a:lnTo>
                      <a:pt x="127" y="54"/>
                    </a:lnTo>
                    <a:lnTo>
                      <a:pt x="128" y="47"/>
                    </a:lnTo>
                    <a:lnTo>
                      <a:pt x="129" y="41"/>
                    </a:lnTo>
                    <a:lnTo>
                      <a:pt x="132" y="35"/>
                    </a:lnTo>
                    <a:lnTo>
                      <a:pt x="137" y="31"/>
                    </a:lnTo>
                    <a:lnTo>
                      <a:pt x="143" y="28"/>
                    </a:lnTo>
                    <a:lnTo>
                      <a:pt x="149" y="31"/>
                    </a:lnTo>
                    <a:lnTo>
                      <a:pt x="153" y="33"/>
                    </a:lnTo>
                    <a:lnTo>
                      <a:pt x="158" y="36"/>
                    </a:lnTo>
                    <a:lnTo>
                      <a:pt x="163" y="41"/>
                    </a:lnTo>
                    <a:lnTo>
                      <a:pt x="167" y="46"/>
                    </a:lnTo>
                    <a:lnTo>
                      <a:pt x="172" y="50"/>
                    </a:lnTo>
                    <a:lnTo>
                      <a:pt x="175" y="56"/>
                    </a:lnTo>
                    <a:lnTo>
                      <a:pt x="179" y="62"/>
                    </a:lnTo>
                    <a:lnTo>
                      <a:pt x="185" y="70"/>
                    </a:lnTo>
                    <a:lnTo>
                      <a:pt x="191" y="78"/>
                    </a:lnTo>
                    <a:lnTo>
                      <a:pt x="198" y="87"/>
                    </a:lnTo>
                    <a:lnTo>
                      <a:pt x="205" y="95"/>
                    </a:lnTo>
                    <a:lnTo>
                      <a:pt x="211" y="77"/>
                    </a:lnTo>
                    <a:lnTo>
                      <a:pt x="214" y="54"/>
                    </a:lnTo>
                    <a:lnTo>
                      <a:pt x="220" y="30"/>
                    </a:lnTo>
                    <a:lnTo>
                      <a:pt x="231" y="10"/>
                    </a:lnTo>
                    <a:lnTo>
                      <a:pt x="235" y="6"/>
                    </a:lnTo>
                    <a:lnTo>
                      <a:pt x="239" y="3"/>
                    </a:lnTo>
                    <a:lnTo>
                      <a:pt x="244" y="0"/>
                    </a:lnTo>
                    <a:lnTo>
                      <a:pt x="251" y="0"/>
                    </a:lnTo>
                    <a:lnTo>
                      <a:pt x="258" y="8"/>
                    </a:lnTo>
                    <a:lnTo>
                      <a:pt x="267" y="68"/>
                    </a:lnTo>
                    <a:lnTo>
                      <a:pt x="272" y="129"/>
                    </a:lnTo>
                    <a:lnTo>
                      <a:pt x="272" y="190"/>
                    </a:lnTo>
                    <a:lnTo>
                      <a:pt x="269" y="251"/>
                    </a:lnTo>
                    <a:lnTo>
                      <a:pt x="264" y="265"/>
                    </a:lnTo>
                    <a:lnTo>
                      <a:pt x="256" y="275"/>
                    </a:lnTo>
                    <a:lnTo>
                      <a:pt x="246" y="283"/>
                    </a:lnTo>
                    <a:lnTo>
                      <a:pt x="236" y="290"/>
                    </a:lnTo>
                    <a:lnTo>
                      <a:pt x="226" y="297"/>
                    </a:lnTo>
                    <a:lnTo>
                      <a:pt x="214" y="303"/>
                    </a:lnTo>
                    <a:lnTo>
                      <a:pt x="204" y="311"/>
                    </a:lnTo>
                    <a:lnTo>
                      <a:pt x="193" y="319"/>
                    </a:lnTo>
                    <a:lnTo>
                      <a:pt x="181" y="328"/>
                    </a:lnTo>
                    <a:lnTo>
                      <a:pt x="174" y="330"/>
                    </a:lnTo>
                    <a:lnTo>
                      <a:pt x="167" y="334"/>
                    </a:lnTo>
                    <a:lnTo>
                      <a:pt x="162" y="337"/>
                    </a:lnTo>
                    <a:lnTo>
                      <a:pt x="155" y="342"/>
                    </a:lnTo>
                    <a:lnTo>
                      <a:pt x="148" y="345"/>
                    </a:lnTo>
                    <a:lnTo>
                      <a:pt x="142" y="350"/>
                    </a:lnTo>
                    <a:lnTo>
                      <a:pt x="134" y="353"/>
                    </a:lnTo>
                    <a:lnTo>
                      <a:pt x="126" y="35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16120" y="3546360"/>
                <a:ext cx="538200" cy="665280"/>
              </a:xfrm>
              <a:custGeom>
                <a:avLst/>
                <a:gdLst/>
                <a:ahLst/>
                <a:rect l="l" t="t" r="r" b="b"/>
                <a:pathLst>
                  <a:path w="678" h="836">
                    <a:moveTo>
                      <a:pt x="232" y="836"/>
                    </a:moveTo>
                    <a:lnTo>
                      <a:pt x="219" y="832"/>
                    </a:lnTo>
                    <a:lnTo>
                      <a:pt x="209" y="826"/>
                    </a:lnTo>
                    <a:lnTo>
                      <a:pt x="198" y="820"/>
                    </a:lnTo>
                    <a:lnTo>
                      <a:pt x="189" y="813"/>
                    </a:lnTo>
                    <a:lnTo>
                      <a:pt x="181" y="805"/>
                    </a:lnTo>
                    <a:lnTo>
                      <a:pt x="173" y="797"/>
                    </a:lnTo>
                    <a:lnTo>
                      <a:pt x="165" y="789"/>
                    </a:lnTo>
                    <a:lnTo>
                      <a:pt x="157" y="780"/>
                    </a:lnTo>
                    <a:lnTo>
                      <a:pt x="152" y="777"/>
                    </a:lnTo>
                    <a:lnTo>
                      <a:pt x="148" y="774"/>
                    </a:lnTo>
                    <a:lnTo>
                      <a:pt x="143" y="771"/>
                    </a:lnTo>
                    <a:lnTo>
                      <a:pt x="135" y="768"/>
                    </a:lnTo>
                    <a:lnTo>
                      <a:pt x="120" y="773"/>
                    </a:lnTo>
                    <a:lnTo>
                      <a:pt x="118" y="777"/>
                    </a:lnTo>
                    <a:lnTo>
                      <a:pt x="118" y="783"/>
                    </a:lnTo>
                    <a:lnTo>
                      <a:pt x="118" y="788"/>
                    </a:lnTo>
                    <a:lnTo>
                      <a:pt x="115" y="795"/>
                    </a:lnTo>
                    <a:lnTo>
                      <a:pt x="103" y="806"/>
                    </a:lnTo>
                    <a:lnTo>
                      <a:pt x="97" y="807"/>
                    </a:lnTo>
                    <a:lnTo>
                      <a:pt x="90" y="807"/>
                    </a:lnTo>
                    <a:lnTo>
                      <a:pt x="83" y="809"/>
                    </a:lnTo>
                    <a:lnTo>
                      <a:pt x="76" y="810"/>
                    </a:lnTo>
                    <a:lnTo>
                      <a:pt x="70" y="809"/>
                    </a:lnTo>
                    <a:lnTo>
                      <a:pt x="66" y="806"/>
                    </a:lnTo>
                    <a:lnTo>
                      <a:pt x="60" y="805"/>
                    </a:lnTo>
                    <a:lnTo>
                      <a:pt x="57" y="803"/>
                    </a:lnTo>
                    <a:lnTo>
                      <a:pt x="52" y="800"/>
                    </a:lnTo>
                    <a:lnTo>
                      <a:pt x="47" y="797"/>
                    </a:lnTo>
                    <a:lnTo>
                      <a:pt x="44" y="795"/>
                    </a:lnTo>
                    <a:lnTo>
                      <a:pt x="39" y="791"/>
                    </a:lnTo>
                    <a:lnTo>
                      <a:pt x="31" y="791"/>
                    </a:lnTo>
                    <a:lnTo>
                      <a:pt x="27" y="794"/>
                    </a:lnTo>
                    <a:lnTo>
                      <a:pt x="21" y="799"/>
                    </a:lnTo>
                    <a:lnTo>
                      <a:pt x="16" y="805"/>
                    </a:lnTo>
                    <a:lnTo>
                      <a:pt x="9" y="810"/>
                    </a:lnTo>
                    <a:lnTo>
                      <a:pt x="6" y="809"/>
                    </a:lnTo>
                    <a:lnTo>
                      <a:pt x="2" y="804"/>
                    </a:lnTo>
                    <a:lnTo>
                      <a:pt x="0" y="798"/>
                    </a:lnTo>
                    <a:lnTo>
                      <a:pt x="0" y="791"/>
                    </a:lnTo>
                    <a:lnTo>
                      <a:pt x="6" y="788"/>
                    </a:lnTo>
                    <a:lnTo>
                      <a:pt x="10" y="784"/>
                    </a:lnTo>
                    <a:lnTo>
                      <a:pt x="16" y="781"/>
                    </a:lnTo>
                    <a:lnTo>
                      <a:pt x="24" y="777"/>
                    </a:lnTo>
                    <a:lnTo>
                      <a:pt x="34" y="773"/>
                    </a:lnTo>
                    <a:lnTo>
                      <a:pt x="40" y="773"/>
                    </a:lnTo>
                    <a:lnTo>
                      <a:pt x="45" y="774"/>
                    </a:lnTo>
                    <a:lnTo>
                      <a:pt x="50" y="776"/>
                    </a:lnTo>
                    <a:lnTo>
                      <a:pt x="53" y="779"/>
                    </a:lnTo>
                    <a:lnTo>
                      <a:pt x="58" y="781"/>
                    </a:lnTo>
                    <a:lnTo>
                      <a:pt x="62" y="783"/>
                    </a:lnTo>
                    <a:lnTo>
                      <a:pt x="67" y="785"/>
                    </a:lnTo>
                    <a:lnTo>
                      <a:pt x="72" y="788"/>
                    </a:lnTo>
                    <a:lnTo>
                      <a:pt x="78" y="790"/>
                    </a:lnTo>
                    <a:lnTo>
                      <a:pt x="83" y="790"/>
                    </a:lnTo>
                    <a:lnTo>
                      <a:pt x="89" y="790"/>
                    </a:lnTo>
                    <a:lnTo>
                      <a:pt x="95" y="789"/>
                    </a:lnTo>
                    <a:lnTo>
                      <a:pt x="99" y="785"/>
                    </a:lnTo>
                    <a:lnTo>
                      <a:pt x="99" y="779"/>
                    </a:lnTo>
                    <a:lnTo>
                      <a:pt x="100" y="773"/>
                    </a:lnTo>
                    <a:lnTo>
                      <a:pt x="103" y="766"/>
                    </a:lnTo>
                    <a:lnTo>
                      <a:pt x="105" y="760"/>
                    </a:lnTo>
                    <a:lnTo>
                      <a:pt x="108" y="756"/>
                    </a:lnTo>
                    <a:lnTo>
                      <a:pt x="112" y="753"/>
                    </a:lnTo>
                    <a:lnTo>
                      <a:pt x="115" y="752"/>
                    </a:lnTo>
                    <a:lnTo>
                      <a:pt x="120" y="751"/>
                    </a:lnTo>
                    <a:lnTo>
                      <a:pt x="124" y="751"/>
                    </a:lnTo>
                    <a:lnTo>
                      <a:pt x="129" y="751"/>
                    </a:lnTo>
                    <a:lnTo>
                      <a:pt x="135" y="750"/>
                    </a:lnTo>
                    <a:lnTo>
                      <a:pt x="139" y="750"/>
                    </a:lnTo>
                    <a:lnTo>
                      <a:pt x="144" y="749"/>
                    </a:lnTo>
                    <a:lnTo>
                      <a:pt x="152" y="753"/>
                    </a:lnTo>
                    <a:lnTo>
                      <a:pt x="160" y="760"/>
                    </a:lnTo>
                    <a:lnTo>
                      <a:pt x="168" y="766"/>
                    </a:lnTo>
                    <a:lnTo>
                      <a:pt x="176" y="773"/>
                    </a:lnTo>
                    <a:lnTo>
                      <a:pt x="183" y="781"/>
                    </a:lnTo>
                    <a:lnTo>
                      <a:pt x="191" y="788"/>
                    </a:lnTo>
                    <a:lnTo>
                      <a:pt x="199" y="796"/>
                    </a:lnTo>
                    <a:lnTo>
                      <a:pt x="207" y="804"/>
                    </a:lnTo>
                    <a:lnTo>
                      <a:pt x="212" y="806"/>
                    </a:lnTo>
                    <a:lnTo>
                      <a:pt x="217" y="810"/>
                    </a:lnTo>
                    <a:lnTo>
                      <a:pt x="221" y="814"/>
                    </a:lnTo>
                    <a:lnTo>
                      <a:pt x="228" y="817"/>
                    </a:lnTo>
                    <a:lnTo>
                      <a:pt x="235" y="812"/>
                    </a:lnTo>
                    <a:lnTo>
                      <a:pt x="236" y="805"/>
                    </a:lnTo>
                    <a:lnTo>
                      <a:pt x="237" y="797"/>
                    </a:lnTo>
                    <a:lnTo>
                      <a:pt x="237" y="790"/>
                    </a:lnTo>
                    <a:lnTo>
                      <a:pt x="238" y="783"/>
                    </a:lnTo>
                    <a:lnTo>
                      <a:pt x="230" y="768"/>
                    </a:lnTo>
                    <a:lnTo>
                      <a:pt x="222" y="750"/>
                    </a:lnTo>
                    <a:lnTo>
                      <a:pt x="218" y="730"/>
                    </a:lnTo>
                    <a:lnTo>
                      <a:pt x="220" y="711"/>
                    </a:lnTo>
                    <a:lnTo>
                      <a:pt x="234" y="704"/>
                    </a:lnTo>
                    <a:lnTo>
                      <a:pt x="240" y="704"/>
                    </a:lnTo>
                    <a:lnTo>
                      <a:pt x="247" y="706"/>
                    </a:lnTo>
                    <a:lnTo>
                      <a:pt x="255" y="708"/>
                    </a:lnTo>
                    <a:lnTo>
                      <a:pt x="263" y="708"/>
                    </a:lnTo>
                    <a:lnTo>
                      <a:pt x="275" y="720"/>
                    </a:lnTo>
                    <a:lnTo>
                      <a:pt x="280" y="726"/>
                    </a:lnTo>
                    <a:lnTo>
                      <a:pt x="285" y="729"/>
                    </a:lnTo>
                    <a:lnTo>
                      <a:pt x="287" y="735"/>
                    </a:lnTo>
                    <a:lnTo>
                      <a:pt x="290" y="742"/>
                    </a:lnTo>
                    <a:lnTo>
                      <a:pt x="304" y="756"/>
                    </a:lnTo>
                    <a:lnTo>
                      <a:pt x="306" y="759"/>
                    </a:lnTo>
                    <a:lnTo>
                      <a:pt x="312" y="761"/>
                    </a:lnTo>
                    <a:lnTo>
                      <a:pt x="318" y="764"/>
                    </a:lnTo>
                    <a:lnTo>
                      <a:pt x="324" y="766"/>
                    </a:lnTo>
                    <a:lnTo>
                      <a:pt x="332" y="764"/>
                    </a:lnTo>
                    <a:lnTo>
                      <a:pt x="329" y="743"/>
                    </a:lnTo>
                    <a:lnTo>
                      <a:pt x="326" y="721"/>
                    </a:lnTo>
                    <a:lnTo>
                      <a:pt x="326" y="699"/>
                    </a:lnTo>
                    <a:lnTo>
                      <a:pt x="334" y="678"/>
                    </a:lnTo>
                    <a:lnTo>
                      <a:pt x="348" y="671"/>
                    </a:lnTo>
                    <a:lnTo>
                      <a:pt x="319" y="602"/>
                    </a:lnTo>
                    <a:lnTo>
                      <a:pt x="297" y="530"/>
                    </a:lnTo>
                    <a:lnTo>
                      <a:pt x="281" y="456"/>
                    </a:lnTo>
                    <a:lnTo>
                      <a:pt x="274" y="381"/>
                    </a:lnTo>
                    <a:lnTo>
                      <a:pt x="274" y="306"/>
                    </a:lnTo>
                    <a:lnTo>
                      <a:pt x="286" y="232"/>
                    </a:lnTo>
                    <a:lnTo>
                      <a:pt x="308" y="161"/>
                    </a:lnTo>
                    <a:lnTo>
                      <a:pt x="341" y="94"/>
                    </a:lnTo>
                    <a:lnTo>
                      <a:pt x="343" y="87"/>
                    </a:lnTo>
                    <a:lnTo>
                      <a:pt x="347" y="82"/>
                    </a:lnTo>
                    <a:lnTo>
                      <a:pt x="351" y="76"/>
                    </a:lnTo>
                    <a:lnTo>
                      <a:pt x="357" y="71"/>
                    </a:lnTo>
                    <a:lnTo>
                      <a:pt x="362" y="65"/>
                    </a:lnTo>
                    <a:lnTo>
                      <a:pt x="367" y="60"/>
                    </a:lnTo>
                    <a:lnTo>
                      <a:pt x="373" y="54"/>
                    </a:lnTo>
                    <a:lnTo>
                      <a:pt x="379" y="48"/>
                    </a:lnTo>
                    <a:lnTo>
                      <a:pt x="386" y="46"/>
                    </a:lnTo>
                    <a:lnTo>
                      <a:pt x="393" y="44"/>
                    </a:lnTo>
                    <a:lnTo>
                      <a:pt x="400" y="40"/>
                    </a:lnTo>
                    <a:lnTo>
                      <a:pt x="407" y="35"/>
                    </a:lnTo>
                    <a:lnTo>
                      <a:pt x="414" y="32"/>
                    </a:lnTo>
                    <a:lnTo>
                      <a:pt x="420" y="29"/>
                    </a:lnTo>
                    <a:lnTo>
                      <a:pt x="428" y="26"/>
                    </a:lnTo>
                    <a:lnTo>
                      <a:pt x="437" y="24"/>
                    </a:lnTo>
                    <a:lnTo>
                      <a:pt x="456" y="16"/>
                    </a:lnTo>
                    <a:lnTo>
                      <a:pt x="478" y="11"/>
                    </a:lnTo>
                    <a:lnTo>
                      <a:pt x="500" y="8"/>
                    </a:lnTo>
                    <a:lnTo>
                      <a:pt x="524" y="6"/>
                    </a:lnTo>
                    <a:lnTo>
                      <a:pt x="547" y="4"/>
                    </a:lnTo>
                    <a:lnTo>
                      <a:pt x="571" y="3"/>
                    </a:lnTo>
                    <a:lnTo>
                      <a:pt x="594" y="2"/>
                    </a:lnTo>
                    <a:lnTo>
                      <a:pt x="617" y="0"/>
                    </a:lnTo>
                    <a:lnTo>
                      <a:pt x="625" y="2"/>
                    </a:lnTo>
                    <a:lnTo>
                      <a:pt x="632" y="4"/>
                    </a:lnTo>
                    <a:lnTo>
                      <a:pt x="638" y="9"/>
                    </a:lnTo>
                    <a:lnTo>
                      <a:pt x="643" y="12"/>
                    </a:lnTo>
                    <a:lnTo>
                      <a:pt x="648" y="18"/>
                    </a:lnTo>
                    <a:lnTo>
                      <a:pt x="653" y="23"/>
                    </a:lnTo>
                    <a:lnTo>
                      <a:pt x="659" y="27"/>
                    </a:lnTo>
                    <a:lnTo>
                      <a:pt x="666" y="32"/>
                    </a:lnTo>
                    <a:lnTo>
                      <a:pt x="669" y="35"/>
                    </a:lnTo>
                    <a:lnTo>
                      <a:pt x="671" y="40"/>
                    </a:lnTo>
                    <a:lnTo>
                      <a:pt x="674" y="47"/>
                    </a:lnTo>
                    <a:lnTo>
                      <a:pt x="676" y="54"/>
                    </a:lnTo>
                    <a:lnTo>
                      <a:pt x="678" y="84"/>
                    </a:lnTo>
                    <a:lnTo>
                      <a:pt x="678" y="114"/>
                    </a:lnTo>
                    <a:lnTo>
                      <a:pt x="675" y="145"/>
                    </a:lnTo>
                    <a:lnTo>
                      <a:pt x="667" y="177"/>
                    </a:lnTo>
                    <a:lnTo>
                      <a:pt x="662" y="197"/>
                    </a:lnTo>
                    <a:lnTo>
                      <a:pt x="655" y="216"/>
                    </a:lnTo>
                    <a:lnTo>
                      <a:pt x="647" y="237"/>
                    </a:lnTo>
                    <a:lnTo>
                      <a:pt x="639" y="257"/>
                    </a:lnTo>
                    <a:lnTo>
                      <a:pt x="628" y="275"/>
                    </a:lnTo>
                    <a:lnTo>
                      <a:pt x="616" y="292"/>
                    </a:lnTo>
                    <a:lnTo>
                      <a:pt x="602" y="309"/>
                    </a:lnTo>
                    <a:lnTo>
                      <a:pt x="586" y="322"/>
                    </a:lnTo>
                    <a:lnTo>
                      <a:pt x="583" y="326"/>
                    </a:lnTo>
                    <a:lnTo>
                      <a:pt x="576" y="328"/>
                    </a:lnTo>
                    <a:lnTo>
                      <a:pt x="569" y="330"/>
                    </a:lnTo>
                    <a:lnTo>
                      <a:pt x="564" y="335"/>
                    </a:lnTo>
                    <a:lnTo>
                      <a:pt x="559" y="335"/>
                    </a:lnTo>
                    <a:lnTo>
                      <a:pt x="553" y="336"/>
                    </a:lnTo>
                    <a:lnTo>
                      <a:pt x="547" y="336"/>
                    </a:lnTo>
                    <a:lnTo>
                      <a:pt x="540" y="336"/>
                    </a:lnTo>
                    <a:lnTo>
                      <a:pt x="534" y="336"/>
                    </a:lnTo>
                    <a:lnTo>
                      <a:pt x="528" y="336"/>
                    </a:lnTo>
                    <a:lnTo>
                      <a:pt x="521" y="336"/>
                    </a:lnTo>
                    <a:lnTo>
                      <a:pt x="515" y="336"/>
                    </a:lnTo>
                    <a:lnTo>
                      <a:pt x="507" y="332"/>
                    </a:lnTo>
                    <a:lnTo>
                      <a:pt x="498" y="328"/>
                    </a:lnTo>
                    <a:lnTo>
                      <a:pt x="488" y="323"/>
                    </a:lnTo>
                    <a:lnTo>
                      <a:pt x="478" y="321"/>
                    </a:lnTo>
                    <a:lnTo>
                      <a:pt x="468" y="319"/>
                    </a:lnTo>
                    <a:lnTo>
                      <a:pt x="457" y="318"/>
                    </a:lnTo>
                    <a:lnTo>
                      <a:pt x="447" y="318"/>
                    </a:lnTo>
                    <a:lnTo>
                      <a:pt x="437" y="320"/>
                    </a:lnTo>
                    <a:lnTo>
                      <a:pt x="435" y="356"/>
                    </a:lnTo>
                    <a:lnTo>
                      <a:pt x="438" y="393"/>
                    </a:lnTo>
                    <a:lnTo>
                      <a:pt x="446" y="429"/>
                    </a:lnTo>
                    <a:lnTo>
                      <a:pt x="461" y="465"/>
                    </a:lnTo>
                    <a:lnTo>
                      <a:pt x="465" y="465"/>
                    </a:lnTo>
                    <a:lnTo>
                      <a:pt x="470" y="464"/>
                    </a:lnTo>
                    <a:lnTo>
                      <a:pt x="475" y="462"/>
                    </a:lnTo>
                    <a:lnTo>
                      <a:pt x="478" y="459"/>
                    </a:lnTo>
                    <a:lnTo>
                      <a:pt x="483" y="457"/>
                    </a:lnTo>
                    <a:lnTo>
                      <a:pt x="487" y="456"/>
                    </a:lnTo>
                    <a:lnTo>
                      <a:pt x="492" y="454"/>
                    </a:lnTo>
                    <a:lnTo>
                      <a:pt x="498" y="453"/>
                    </a:lnTo>
                    <a:lnTo>
                      <a:pt x="514" y="448"/>
                    </a:lnTo>
                    <a:lnTo>
                      <a:pt x="529" y="444"/>
                    </a:lnTo>
                    <a:lnTo>
                      <a:pt x="545" y="441"/>
                    </a:lnTo>
                    <a:lnTo>
                      <a:pt x="560" y="440"/>
                    </a:lnTo>
                    <a:lnTo>
                      <a:pt x="575" y="439"/>
                    </a:lnTo>
                    <a:lnTo>
                      <a:pt x="589" y="440"/>
                    </a:lnTo>
                    <a:lnTo>
                      <a:pt x="604" y="442"/>
                    </a:lnTo>
                    <a:lnTo>
                      <a:pt x="617" y="448"/>
                    </a:lnTo>
                    <a:lnTo>
                      <a:pt x="624" y="455"/>
                    </a:lnTo>
                    <a:lnTo>
                      <a:pt x="637" y="480"/>
                    </a:lnTo>
                    <a:lnTo>
                      <a:pt x="647" y="508"/>
                    </a:lnTo>
                    <a:lnTo>
                      <a:pt x="656" y="537"/>
                    </a:lnTo>
                    <a:lnTo>
                      <a:pt x="662" y="567"/>
                    </a:lnTo>
                    <a:lnTo>
                      <a:pt x="667" y="598"/>
                    </a:lnTo>
                    <a:lnTo>
                      <a:pt x="668" y="628"/>
                    </a:lnTo>
                    <a:lnTo>
                      <a:pt x="666" y="658"/>
                    </a:lnTo>
                    <a:lnTo>
                      <a:pt x="661" y="685"/>
                    </a:lnTo>
                    <a:lnTo>
                      <a:pt x="658" y="697"/>
                    </a:lnTo>
                    <a:lnTo>
                      <a:pt x="653" y="706"/>
                    </a:lnTo>
                    <a:lnTo>
                      <a:pt x="646" y="716"/>
                    </a:lnTo>
                    <a:lnTo>
                      <a:pt x="640" y="728"/>
                    </a:lnTo>
                    <a:lnTo>
                      <a:pt x="631" y="742"/>
                    </a:lnTo>
                    <a:lnTo>
                      <a:pt x="624" y="749"/>
                    </a:lnTo>
                    <a:lnTo>
                      <a:pt x="614" y="754"/>
                    </a:lnTo>
                    <a:lnTo>
                      <a:pt x="602" y="759"/>
                    </a:lnTo>
                    <a:lnTo>
                      <a:pt x="591" y="764"/>
                    </a:lnTo>
                    <a:lnTo>
                      <a:pt x="579" y="767"/>
                    </a:lnTo>
                    <a:lnTo>
                      <a:pt x="567" y="771"/>
                    </a:lnTo>
                    <a:lnTo>
                      <a:pt x="554" y="773"/>
                    </a:lnTo>
                    <a:lnTo>
                      <a:pt x="541" y="774"/>
                    </a:lnTo>
                    <a:lnTo>
                      <a:pt x="529" y="775"/>
                    </a:lnTo>
                    <a:lnTo>
                      <a:pt x="516" y="775"/>
                    </a:lnTo>
                    <a:lnTo>
                      <a:pt x="503" y="774"/>
                    </a:lnTo>
                    <a:lnTo>
                      <a:pt x="491" y="773"/>
                    </a:lnTo>
                    <a:lnTo>
                      <a:pt x="478" y="771"/>
                    </a:lnTo>
                    <a:lnTo>
                      <a:pt x="465" y="768"/>
                    </a:lnTo>
                    <a:lnTo>
                      <a:pt x="454" y="765"/>
                    </a:lnTo>
                    <a:lnTo>
                      <a:pt x="441" y="760"/>
                    </a:lnTo>
                    <a:lnTo>
                      <a:pt x="430" y="754"/>
                    </a:lnTo>
                    <a:lnTo>
                      <a:pt x="418" y="750"/>
                    </a:lnTo>
                    <a:lnTo>
                      <a:pt x="409" y="744"/>
                    </a:lnTo>
                    <a:lnTo>
                      <a:pt x="400" y="737"/>
                    </a:lnTo>
                    <a:lnTo>
                      <a:pt x="390" y="729"/>
                    </a:lnTo>
                    <a:lnTo>
                      <a:pt x="382" y="720"/>
                    </a:lnTo>
                    <a:lnTo>
                      <a:pt x="373" y="711"/>
                    </a:lnTo>
                    <a:lnTo>
                      <a:pt x="365" y="703"/>
                    </a:lnTo>
                    <a:lnTo>
                      <a:pt x="355" y="693"/>
                    </a:lnTo>
                    <a:lnTo>
                      <a:pt x="348" y="693"/>
                    </a:lnTo>
                    <a:lnTo>
                      <a:pt x="343" y="709"/>
                    </a:lnTo>
                    <a:lnTo>
                      <a:pt x="344" y="729"/>
                    </a:lnTo>
                    <a:lnTo>
                      <a:pt x="348" y="750"/>
                    </a:lnTo>
                    <a:lnTo>
                      <a:pt x="348" y="771"/>
                    </a:lnTo>
                    <a:lnTo>
                      <a:pt x="332" y="785"/>
                    </a:lnTo>
                    <a:lnTo>
                      <a:pt x="326" y="784"/>
                    </a:lnTo>
                    <a:lnTo>
                      <a:pt x="321" y="782"/>
                    </a:lnTo>
                    <a:lnTo>
                      <a:pt x="317" y="781"/>
                    </a:lnTo>
                    <a:lnTo>
                      <a:pt x="311" y="780"/>
                    </a:lnTo>
                    <a:lnTo>
                      <a:pt x="306" y="777"/>
                    </a:lnTo>
                    <a:lnTo>
                      <a:pt x="300" y="775"/>
                    </a:lnTo>
                    <a:lnTo>
                      <a:pt x="294" y="773"/>
                    </a:lnTo>
                    <a:lnTo>
                      <a:pt x="288" y="768"/>
                    </a:lnTo>
                    <a:lnTo>
                      <a:pt x="285" y="761"/>
                    </a:lnTo>
                    <a:lnTo>
                      <a:pt x="279" y="754"/>
                    </a:lnTo>
                    <a:lnTo>
                      <a:pt x="274" y="747"/>
                    </a:lnTo>
                    <a:lnTo>
                      <a:pt x="270" y="741"/>
                    </a:lnTo>
                    <a:lnTo>
                      <a:pt x="263" y="732"/>
                    </a:lnTo>
                    <a:lnTo>
                      <a:pt x="259" y="730"/>
                    </a:lnTo>
                    <a:lnTo>
                      <a:pt x="253" y="728"/>
                    </a:lnTo>
                    <a:lnTo>
                      <a:pt x="248" y="726"/>
                    </a:lnTo>
                    <a:lnTo>
                      <a:pt x="240" y="723"/>
                    </a:lnTo>
                    <a:lnTo>
                      <a:pt x="235" y="737"/>
                    </a:lnTo>
                    <a:lnTo>
                      <a:pt x="244" y="757"/>
                    </a:lnTo>
                    <a:lnTo>
                      <a:pt x="253" y="777"/>
                    </a:lnTo>
                    <a:lnTo>
                      <a:pt x="257" y="800"/>
                    </a:lnTo>
                    <a:lnTo>
                      <a:pt x="252" y="825"/>
                    </a:lnTo>
                    <a:lnTo>
                      <a:pt x="232" y="83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82560" y="417528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10" y="42"/>
                    </a:moveTo>
                    <a:lnTo>
                      <a:pt x="0" y="31"/>
                    </a:lnTo>
                    <a:lnTo>
                      <a:pt x="3" y="29"/>
                    </a:lnTo>
                    <a:lnTo>
                      <a:pt x="8" y="25"/>
                    </a:lnTo>
                    <a:lnTo>
                      <a:pt x="13" y="22"/>
                    </a:lnTo>
                    <a:lnTo>
                      <a:pt x="16" y="17"/>
                    </a:lnTo>
                    <a:lnTo>
                      <a:pt x="21" y="14"/>
                    </a:lnTo>
                    <a:lnTo>
                      <a:pt x="25" y="10"/>
                    </a:lnTo>
                    <a:lnTo>
                      <a:pt x="30" y="7"/>
                    </a:lnTo>
                    <a:lnTo>
                      <a:pt x="35" y="5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7" y="5"/>
                    </a:lnTo>
                    <a:lnTo>
                      <a:pt x="47" y="14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30" y="31"/>
                    </a:lnTo>
                    <a:lnTo>
                      <a:pt x="26" y="34"/>
                    </a:lnTo>
                    <a:lnTo>
                      <a:pt x="22" y="36"/>
                    </a:lnTo>
                    <a:lnTo>
                      <a:pt x="16" y="38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6520" y="3729240"/>
                <a:ext cx="273240" cy="474480"/>
              </a:xfrm>
              <a:custGeom>
                <a:avLst/>
                <a:gdLst/>
                <a:ahLst/>
                <a:rect l="l" t="t" r="r" b="b"/>
                <a:pathLst>
                  <a:path w="343" h="598">
                    <a:moveTo>
                      <a:pt x="185" y="598"/>
                    </a:moveTo>
                    <a:lnTo>
                      <a:pt x="164" y="595"/>
                    </a:lnTo>
                    <a:lnTo>
                      <a:pt x="140" y="591"/>
                    </a:lnTo>
                    <a:lnTo>
                      <a:pt x="119" y="586"/>
                    </a:lnTo>
                    <a:lnTo>
                      <a:pt x="97" y="583"/>
                    </a:lnTo>
                    <a:lnTo>
                      <a:pt x="74" y="580"/>
                    </a:lnTo>
                    <a:lnTo>
                      <a:pt x="51" y="576"/>
                    </a:lnTo>
                    <a:lnTo>
                      <a:pt x="28" y="575"/>
                    </a:lnTo>
                    <a:lnTo>
                      <a:pt x="5" y="575"/>
                    </a:lnTo>
                    <a:lnTo>
                      <a:pt x="0" y="505"/>
                    </a:lnTo>
                    <a:lnTo>
                      <a:pt x="0" y="434"/>
                    </a:lnTo>
                    <a:lnTo>
                      <a:pt x="1" y="364"/>
                    </a:lnTo>
                    <a:lnTo>
                      <a:pt x="7" y="294"/>
                    </a:lnTo>
                    <a:lnTo>
                      <a:pt x="14" y="224"/>
                    </a:lnTo>
                    <a:lnTo>
                      <a:pt x="22" y="152"/>
                    </a:lnTo>
                    <a:lnTo>
                      <a:pt x="32" y="81"/>
                    </a:lnTo>
                    <a:lnTo>
                      <a:pt x="44" y="9"/>
                    </a:lnTo>
                    <a:lnTo>
                      <a:pt x="48" y="5"/>
                    </a:lnTo>
                    <a:lnTo>
                      <a:pt x="63" y="2"/>
                    </a:lnTo>
                    <a:lnTo>
                      <a:pt x="78" y="0"/>
                    </a:lnTo>
                    <a:lnTo>
                      <a:pt x="93" y="0"/>
                    </a:lnTo>
                    <a:lnTo>
                      <a:pt x="108" y="0"/>
                    </a:lnTo>
                    <a:lnTo>
                      <a:pt x="123" y="1"/>
                    </a:lnTo>
                    <a:lnTo>
                      <a:pt x="138" y="5"/>
                    </a:lnTo>
                    <a:lnTo>
                      <a:pt x="153" y="7"/>
                    </a:lnTo>
                    <a:lnTo>
                      <a:pt x="168" y="12"/>
                    </a:lnTo>
                    <a:lnTo>
                      <a:pt x="183" y="16"/>
                    </a:lnTo>
                    <a:lnTo>
                      <a:pt x="197" y="22"/>
                    </a:lnTo>
                    <a:lnTo>
                      <a:pt x="211" y="28"/>
                    </a:lnTo>
                    <a:lnTo>
                      <a:pt x="223" y="33"/>
                    </a:lnTo>
                    <a:lnTo>
                      <a:pt x="236" y="40"/>
                    </a:lnTo>
                    <a:lnTo>
                      <a:pt x="249" y="47"/>
                    </a:lnTo>
                    <a:lnTo>
                      <a:pt x="260" y="54"/>
                    </a:lnTo>
                    <a:lnTo>
                      <a:pt x="271" y="62"/>
                    </a:lnTo>
                    <a:lnTo>
                      <a:pt x="278" y="66"/>
                    </a:lnTo>
                    <a:lnTo>
                      <a:pt x="283" y="71"/>
                    </a:lnTo>
                    <a:lnTo>
                      <a:pt x="290" y="78"/>
                    </a:lnTo>
                    <a:lnTo>
                      <a:pt x="299" y="82"/>
                    </a:lnTo>
                    <a:lnTo>
                      <a:pt x="304" y="85"/>
                    </a:lnTo>
                    <a:lnTo>
                      <a:pt x="310" y="90"/>
                    </a:lnTo>
                    <a:lnTo>
                      <a:pt x="316" y="94"/>
                    </a:lnTo>
                    <a:lnTo>
                      <a:pt x="321" y="100"/>
                    </a:lnTo>
                    <a:lnTo>
                      <a:pt x="327" y="105"/>
                    </a:lnTo>
                    <a:lnTo>
                      <a:pt x="333" y="111"/>
                    </a:lnTo>
                    <a:lnTo>
                      <a:pt x="339" y="116"/>
                    </a:lnTo>
                    <a:lnTo>
                      <a:pt x="343" y="122"/>
                    </a:lnTo>
                    <a:lnTo>
                      <a:pt x="343" y="128"/>
                    </a:lnTo>
                    <a:lnTo>
                      <a:pt x="341" y="131"/>
                    </a:lnTo>
                    <a:lnTo>
                      <a:pt x="339" y="137"/>
                    </a:lnTo>
                    <a:lnTo>
                      <a:pt x="340" y="144"/>
                    </a:lnTo>
                    <a:lnTo>
                      <a:pt x="337" y="147"/>
                    </a:lnTo>
                    <a:lnTo>
                      <a:pt x="335" y="154"/>
                    </a:lnTo>
                    <a:lnTo>
                      <a:pt x="333" y="161"/>
                    </a:lnTo>
                    <a:lnTo>
                      <a:pt x="328" y="166"/>
                    </a:lnTo>
                    <a:lnTo>
                      <a:pt x="312" y="217"/>
                    </a:lnTo>
                    <a:lnTo>
                      <a:pt x="295" y="268"/>
                    </a:lnTo>
                    <a:lnTo>
                      <a:pt x="279" y="321"/>
                    </a:lnTo>
                    <a:lnTo>
                      <a:pt x="264" y="376"/>
                    </a:lnTo>
                    <a:lnTo>
                      <a:pt x="249" y="431"/>
                    </a:lnTo>
                    <a:lnTo>
                      <a:pt x="236" y="486"/>
                    </a:lnTo>
                    <a:lnTo>
                      <a:pt x="225" y="542"/>
                    </a:lnTo>
                    <a:lnTo>
                      <a:pt x="216" y="596"/>
                    </a:lnTo>
                    <a:lnTo>
                      <a:pt x="211" y="598"/>
                    </a:lnTo>
                    <a:lnTo>
                      <a:pt x="206" y="598"/>
                    </a:lnTo>
                    <a:lnTo>
                      <a:pt x="200" y="598"/>
                    </a:lnTo>
                    <a:lnTo>
                      <a:pt x="193" y="598"/>
                    </a:lnTo>
                    <a:lnTo>
                      <a:pt x="185" y="598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89080" y="3954600"/>
                <a:ext cx="182880" cy="247680"/>
              </a:xfrm>
              <a:custGeom>
                <a:avLst/>
                <a:gdLst/>
                <a:ahLst/>
                <a:rect l="l" t="t" r="r" b="b"/>
                <a:pathLst>
                  <a:path w="231" h="312">
                    <a:moveTo>
                      <a:pt x="112" y="312"/>
                    </a:moveTo>
                    <a:lnTo>
                      <a:pt x="108" y="307"/>
                    </a:lnTo>
                    <a:lnTo>
                      <a:pt x="105" y="301"/>
                    </a:lnTo>
                    <a:lnTo>
                      <a:pt x="100" y="297"/>
                    </a:lnTo>
                    <a:lnTo>
                      <a:pt x="97" y="292"/>
                    </a:lnTo>
                    <a:lnTo>
                      <a:pt x="92" y="288"/>
                    </a:lnTo>
                    <a:lnTo>
                      <a:pt x="88" y="282"/>
                    </a:lnTo>
                    <a:lnTo>
                      <a:pt x="82" y="277"/>
                    </a:lnTo>
                    <a:lnTo>
                      <a:pt x="75" y="271"/>
                    </a:lnTo>
                    <a:lnTo>
                      <a:pt x="68" y="267"/>
                    </a:lnTo>
                    <a:lnTo>
                      <a:pt x="59" y="263"/>
                    </a:lnTo>
                    <a:lnTo>
                      <a:pt x="50" y="261"/>
                    </a:lnTo>
                    <a:lnTo>
                      <a:pt x="39" y="259"/>
                    </a:lnTo>
                    <a:lnTo>
                      <a:pt x="29" y="258"/>
                    </a:lnTo>
                    <a:lnTo>
                      <a:pt x="20" y="255"/>
                    </a:lnTo>
                    <a:lnTo>
                      <a:pt x="10" y="252"/>
                    </a:lnTo>
                    <a:lnTo>
                      <a:pt x="2" y="247"/>
                    </a:lnTo>
                    <a:lnTo>
                      <a:pt x="0" y="240"/>
                    </a:lnTo>
                    <a:lnTo>
                      <a:pt x="9" y="236"/>
                    </a:lnTo>
                    <a:lnTo>
                      <a:pt x="20" y="232"/>
                    </a:lnTo>
                    <a:lnTo>
                      <a:pt x="30" y="229"/>
                    </a:lnTo>
                    <a:lnTo>
                      <a:pt x="41" y="225"/>
                    </a:lnTo>
                    <a:lnTo>
                      <a:pt x="53" y="223"/>
                    </a:lnTo>
                    <a:lnTo>
                      <a:pt x="65" y="221"/>
                    </a:lnTo>
                    <a:lnTo>
                      <a:pt x="75" y="220"/>
                    </a:lnTo>
                    <a:lnTo>
                      <a:pt x="86" y="218"/>
                    </a:lnTo>
                    <a:lnTo>
                      <a:pt x="97" y="204"/>
                    </a:lnTo>
                    <a:lnTo>
                      <a:pt x="92" y="192"/>
                    </a:lnTo>
                    <a:lnTo>
                      <a:pt x="88" y="179"/>
                    </a:lnTo>
                    <a:lnTo>
                      <a:pt x="82" y="168"/>
                    </a:lnTo>
                    <a:lnTo>
                      <a:pt x="77" y="155"/>
                    </a:lnTo>
                    <a:lnTo>
                      <a:pt x="71" y="142"/>
                    </a:lnTo>
                    <a:lnTo>
                      <a:pt x="67" y="130"/>
                    </a:lnTo>
                    <a:lnTo>
                      <a:pt x="61" y="117"/>
                    </a:lnTo>
                    <a:lnTo>
                      <a:pt x="56" y="103"/>
                    </a:lnTo>
                    <a:lnTo>
                      <a:pt x="60" y="98"/>
                    </a:lnTo>
                    <a:lnTo>
                      <a:pt x="71" y="100"/>
                    </a:lnTo>
                    <a:lnTo>
                      <a:pt x="81" y="104"/>
                    </a:lnTo>
                    <a:lnTo>
                      <a:pt x="90" y="110"/>
                    </a:lnTo>
                    <a:lnTo>
                      <a:pt x="98" y="116"/>
                    </a:lnTo>
                    <a:lnTo>
                      <a:pt x="105" y="123"/>
                    </a:lnTo>
                    <a:lnTo>
                      <a:pt x="113" y="130"/>
                    </a:lnTo>
                    <a:lnTo>
                      <a:pt x="120" y="138"/>
                    </a:lnTo>
                    <a:lnTo>
                      <a:pt x="128" y="145"/>
                    </a:lnTo>
                    <a:lnTo>
                      <a:pt x="141" y="133"/>
                    </a:lnTo>
                    <a:lnTo>
                      <a:pt x="138" y="108"/>
                    </a:lnTo>
                    <a:lnTo>
                      <a:pt x="135" y="83"/>
                    </a:lnTo>
                    <a:lnTo>
                      <a:pt x="128" y="58"/>
                    </a:lnTo>
                    <a:lnTo>
                      <a:pt x="122" y="32"/>
                    </a:lnTo>
                    <a:lnTo>
                      <a:pt x="124" y="27"/>
                    </a:lnTo>
                    <a:lnTo>
                      <a:pt x="141" y="36"/>
                    </a:lnTo>
                    <a:lnTo>
                      <a:pt x="144" y="46"/>
                    </a:lnTo>
                    <a:lnTo>
                      <a:pt x="149" y="54"/>
                    </a:lnTo>
                    <a:lnTo>
                      <a:pt x="153" y="63"/>
                    </a:lnTo>
                    <a:lnTo>
                      <a:pt x="159" y="71"/>
                    </a:lnTo>
                    <a:lnTo>
                      <a:pt x="165" y="79"/>
                    </a:lnTo>
                    <a:lnTo>
                      <a:pt x="169" y="88"/>
                    </a:lnTo>
                    <a:lnTo>
                      <a:pt x="175" y="98"/>
                    </a:lnTo>
                    <a:lnTo>
                      <a:pt x="180" y="108"/>
                    </a:lnTo>
                    <a:lnTo>
                      <a:pt x="189" y="109"/>
                    </a:lnTo>
                    <a:lnTo>
                      <a:pt x="195" y="103"/>
                    </a:lnTo>
                    <a:lnTo>
                      <a:pt x="197" y="101"/>
                    </a:lnTo>
                    <a:lnTo>
                      <a:pt x="199" y="96"/>
                    </a:lnTo>
                    <a:lnTo>
                      <a:pt x="202" y="89"/>
                    </a:lnTo>
                    <a:lnTo>
                      <a:pt x="204" y="83"/>
                    </a:lnTo>
                    <a:lnTo>
                      <a:pt x="205" y="64"/>
                    </a:lnTo>
                    <a:lnTo>
                      <a:pt x="207" y="45"/>
                    </a:lnTo>
                    <a:lnTo>
                      <a:pt x="211" y="24"/>
                    </a:lnTo>
                    <a:lnTo>
                      <a:pt x="215" y="3"/>
                    </a:lnTo>
                    <a:lnTo>
                      <a:pt x="221" y="0"/>
                    </a:lnTo>
                    <a:lnTo>
                      <a:pt x="229" y="54"/>
                    </a:lnTo>
                    <a:lnTo>
                      <a:pt x="231" y="110"/>
                    </a:lnTo>
                    <a:lnTo>
                      <a:pt x="231" y="170"/>
                    </a:lnTo>
                    <a:lnTo>
                      <a:pt x="230" y="228"/>
                    </a:lnTo>
                    <a:lnTo>
                      <a:pt x="227" y="233"/>
                    </a:lnTo>
                    <a:lnTo>
                      <a:pt x="223" y="239"/>
                    </a:lnTo>
                    <a:lnTo>
                      <a:pt x="218" y="244"/>
                    </a:lnTo>
                    <a:lnTo>
                      <a:pt x="212" y="248"/>
                    </a:lnTo>
                    <a:lnTo>
                      <a:pt x="206" y="253"/>
                    </a:lnTo>
                    <a:lnTo>
                      <a:pt x="200" y="258"/>
                    </a:lnTo>
                    <a:lnTo>
                      <a:pt x="195" y="263"/>
                    </a:lnTo>
                    <a:lnTo>
                      <a:pt x="189" y="269"/>
                    </a:lnTo>
                    <a:lnTo>
                      <a:pt x="180" y="269"/>
                    </a:lnTo>
                    <a:lnTo>
                      <a:pt x="170" y="275"/>
                    </a:lnTo>
                    <a:lnTo>
                      <a:pt x="162" y="281"/>
                    </a:lnTo>
                    <a:lnTo>
                      <a:pt x="155" y="286"/>
                    </a:lnTo>
                    <a:lnTo>
                      <a:pt x="147" y="291"/>
                    </a:lnTo>
                    <a:lnTo>
                      <a:pt x="139" y="296"/>
                    </a:lnTo>
                    <a:lnTo>
                      <a:pt x="131" y="300"/>
                    </a:lnTo>
                    <a:lnTo>
                      <a:pt x="122" y="306"/>
                    </a:lnTo>
                    <a:lnTo>
                      <a:pt x="112" y="31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9840" y="3608280"/>
                <a:ext cx="466560" cy="560520"/>
              </a:xfrm>
              <a:custGeom>
                <a:avLst/>
                <a:gdLst/>
                <a:ahLst/>
                <a:rect l="l" t="t" r="r" b="b"/>
                <a:pathLst>
                  <a:path w="586" h="706">
                    <a:moveTo>
                      <a:pt x="145" y="706"/>
                    </a:moveTo>
                    <a:lnTo>
                      <a:pt x="127" y="700"/>
                    </a:lnTo>
                    <a:lnTo>
                      <a:pt x="109" y="695"/>
                    </a:lnTo>
                    <a:lnTo>
                      <a:pt x="93" y="688"/>
                    </a:lnTo>
                    <a:lnTo>
                      <a:pt x="78" y="679"/>
                    </a:lnTo>
                    <a:lnTo>
                      <a:pt x="64" y="669"/>
                    </a:lnTo>
                    <a:lnTo>
                      <a:pt x="52" y="658"/>
                    </a:lnTo>
                    <a:lnTo>
                      <a:pt x="38" y="645"/>
                    </a:lnTo>
                    <a:lnTo>
                      <a:pt x="25" y="631"/>
                    </a:lnTo>
                    <a:lnTo>
                      <a:pt x="18" y="621"/>
                    </a:lnTo>
                    <a:lnTo>
                      <a:pt x="11" y="611"/>
                    </a:lnTo>
                    <a:lnTo>
                      <a:pt x="6" y="598"/>
                    </a:lnTo>
                    <a:lnTo>
                      <a:pt x="0" y="584"/>
                    </a:lnTo>
                    <a:lnTo>
                      <a:pt x="0" y="577"/>
                    </a:lnTo>
                    <a:lnTo>
                      <a:pt x="6" y="563"/>
                    </a:lnTo>
                    <a:lnTo>
                      <a:pt x="13" y="552"/>
                    </a:lnTo>
                    <a:lnTo>
                      <a:pt x="22" y="540"/>
                    </a:lnTo>
                    <a:lnTo>
                      <a:pt x="32" y="526"/>
                    </a:lnTo>
                    <a:lnTo>
                      <a:pt x="41" y="509"/>
                    </a:lnTo>
                    <a:lnTo>
                      <a:pt x="53" y="493"/>
                    </a:lnTo>
                    <a:lnTo>
                      <a:pt x="66" y="477"/>
                    </a:lnTo>
                    <a:lnTo>
                      <a:pt x="79" y="461"/>
                    </a:lnTo>
                    <a:lnTo>
                      <a:pt x="96" y="447"/>
                    </a:lnTo>
                    <a:lnTo>
                      <a:pt x="112" y="434"/>
                    </a:lnTo>
                    <a:lnTo>
                      <a:pt x="130" y="423"/>
                    </a:lnTo>
                    <a:lnTo>
                      <a:pt x="150" y="414"/>
                    </a:lnTo>
                    <a:lnTo>
                      <a:pt x="158" y="411"/>
                    </a:lnTo>
                    <a:lnTo>
                      <a:pt x="165" y="410"/>
                    </a:lnTo>
                    <a:lnTo>
                      <a:pt x="172" y="409"/>
                    </a:lnTo>
                    <a:lnTo>
                      <a:pt x="178" y="408"/>
                    </a:lnTo>
                    <a:lnTo>
                      <a:pt x="185" y="409"/>
                    </a:lnTo>
                    <a:lnTo>
                      <a:pt x="192" y="410"/>
                    </a:lnTo>
                    <a:lnTo>
                      <a:pt x="199" y="411"/>
                    </a:lnTo>
                    <a:lnTo>
                      <a:pt x="207" y="414"/>
                    </a:lnTo>
                    <a:lnTo>
                      <a:pt x="214" y="417"/>
                    </a:lnTo>
                    <a:lnTo>
                      <a:pt x="220" y="422"/>
                    </a:lnTo>
                    <a:lnTo>
                      <a:pt x="226" y="427"/>
                    </a:lnTo>
                    <a:lnTo>
                      <a:pt x="230" y="433"/>
                    </a:lnTo>
                    <a:lnTo>
                      <a:pt x="236" y="440"/>
                    </a:lnTo>
                    <a:lnTo>
                      <a:pt x="241" y="446"/>
                    </a:lnTo>
                    <a:lnTo>
                      <a:pt x="246" y="452"/>
                    </a:lnTo>
                    <a:lnTo>
                      <a:pt x="252" y="457"/>
                    </a:lnTo>
                    <a:lnTo>
                      <a:pt x="268" y="446"/>
                    </a:lnTo>
                    <a:lnTo>
                      <a:pt x="284" y="432"/>
                    </a:lnTo>
                    <a:lnTo>
                      <a:pt x="299" y="417"/>
                    </a:lnTo>
                    <a:lnTo>
                      <a:pt x="312" y="400"/>
                    </a:lnTo>
                    <a:lnTo>
                      <a:pt x="324" y="380"/>
                    </a:lnTo>
                    <a:lnTo>
                      <a:pt x="333" y="361"/>
                    </a:lnTo>
                    <a:lnTo>
                      <a:pt x="340" y="340"/>
                    </a:lnTo>
                    <a:lnTo>
                      <a:pt x="344" y="318"/>
                    </a:lnTo>
                    <a:lnTo>
                      <a:pt x="340" y="313"/>
                    </a:lnTo>
                    <a:lnTo>
                      <a:pt x="334" y="310"/>
                    </a:lnTo>
                    <a:lnTo>
                      <a:pt x="328" y="308"/>
                    </a:lnTo>
                    <a:lnTo>
                      <a:pt x="321" y="305"/>
                    </a:lnTo>
                    <a:lnTo>
                      <a:pt x="313" y="303"/>
                    </a:lnTo>
                    <a:lnTo>
                      <a:pt x="306" y="302"/>
                    </a:lnTo>
                    <a:lnTo>
                      <a:pt x="297" y="299"/>
                    </a:lnTo>
                    <a:lnTo>
                      <a:pt x="289" y="296"/>
                    </a:lnTo>
                    <a:lnTo>
                      <a:pt x="281" y="289"/>
                    </a:lnTo>
                    <a:lnTo>
                      <a:pt x="274" y="282"/>
                    </a:lnTo>
                    <a:lnTo>
                      <a:pt x="267" y="274"/>
                    </a:lnTo>
                    <a:lnTo>
                      <a:pt x="261" y="266"/>
                    </a:lnTo>
                    <a:lnTo>
                      <a:pt x="256" y="257"/>
                    </a:lnTo>
                    <a:lnTo>
                      <a:pt x="251" y="248"/>
                    </a:lnTo>
                    <a:lnTo>
                      <a:pt x="246" y="237"/>
                    </a:lnTo>
                    <a:lnTo>
                      <a:pt x="242" y="227"/>
                    </a:lnTo>
                    <a:lnTo>
                      <a:pt x="244" y="206"/>
                    </a:lnTo>
                    <a:lnTo>
                      <a:pt x="250" y="187"/>
                    </a:lnTo>
                    <a:lnTo>
                      <a:pt x="258" y="168"/>
                    </a:lnTo>
                    <a:lnTo>
                      <a:pt x="266" y="149"/>
                    </a:lnTo>
                    <a:lnTo>
                      <a:pt x="282" y="127"/>
                    </a:lnTo>
                    <a:lnTo>
                      <a:pt x="297" y="102"/>
                    </a:lnTo>
                    <a:lnTo>
                      <a:pt x="313" y="78"/>
                    </a:lnTo>
                    <a:lnTo>
                      <a:pt x="329" y="55"/>
                    </a:lnTo>
                    <a:lnTo>
                      <a:pt x="349" y="35"/>
                    </a:lnTo>
                    <a:lnTo>
                      <a:pt x="371" y="17"/>
                    </a:lnTo>
                    <a:lnTo>
                      <a:pt x="397" y="6"/>
                    </a:lnTo>
                    <a:lnTo>
                      <a:pt x="427" y="0"/>
                    </a:lnTo>
                    <a:lnTo>
                      <a:pt x="439" y="1"/>
                    </a:lnTo>
                    <a:lnTo>
                      <a:pt x="450" y="2"/>
                    </a:lnTo>
                    <a:lnTo>
                      <a:pt x="462" y="5"/>
                    </a:lnTo>
                    <a:lnTo>
                      <a:pt x="472" y="9"/>
                    </a:lnTo>
                    <a:lnTo>
                      <a:pt x="482" y="14"/>
                    </a:lnTo>
                    <a:lnTo>
                      <a:pt x="493" y="20"/>
                    </a:lnTo>
                    <a:lnTo>
                      <a:pt x="502" y="26"/>
                    </a:lnTo>
                    <a:lnTo>
                      <a:pt x="510" y="35"/>
                    </a:lnTo>
                    <a:lnTo>
                      <a:pt x="518" y="36"/>
                    </a:lnTo>
                    <a:lnTo>
                      <a:pt x="529" y="45"/>
                    </a:lnTo>
                    <a:lnTo>
                      <a:pt x="538" y="55"/>
                    </a:lnTo>
                    <a:lnTo>
                      <a:pt x="547" y="67"/>
                    </a:lnTo>
                    <a:lnTo>
                      <a:pt x="555" y="78"/>
                    </a:lnTo>
                    <a:lnTo>
                      <a:pt x="563" y="90"/>
                    </a:lnTo>
                    <a:lnTo>
                      <a:pt x="571" y="102"/>
                    </a:lnTo>
                    <a:lnTo>
                      <a:pt x="578" y="116"/>
                    </a:lnTo>
                    <a:lnTo>
                      <a:pt x="585" y="130"/>
                    </a:lnTo>
                    <a:lnTo>
                      <a:pt x="586" y="152"/>
                    </a:lnTo>
                    <a:lnTo>
                      <a:pt x="584" y="173"/>
                    </a:lnTo>
                    <a:lnTo>
                      <a:pt x="578" y="192"/>
                    </a:lnTo>
                    <a:lnTo>
                      <a:pt x="570" y="211"/>
                    </a:lnTo>
                    <a:lnTo>
                      <a:pt x="561" y="230"/>
                    </a:lnTo>
                    <a:lnTo>
                      <a:pt x="552" y="249"/>
                    </a:lnTo>
                    <a:lnTo>
                      <a:pt x="542" y="268"/>
                    </a:lnTo>
                    <a:lnTo>
                      <a:pt x="535" y="289"/>
                    </a:lnTo>
                    <a:lnTo>
                      <a:pt x="529" y="296"/>
                    </a:lnTo>
                    <a:lnTo>
                      <a:pt x="517" y="321"/>
                    </a:lnTo>
                    <a:lnTo>
                      <a:pt x="503" y="346"/>
                    </a:lnTo>
                    <a:lnTo>
                      <a:pt x="489" y="371"/>
                    </a:lnTo>
                    <a:lnTo>
                      <a:pt x="474" y="395"/>
                    </a:lnTo>
                    <a:lnTo>
                      <a:pt x="458" y="418"/>
                    </a:lnTo>
                    <a:lnTo>
                      <a:pt x="443" y="442"/>
                    </a:lnTo>
                    <a:lnTo>
                      <a:pt x="427" y="467"/>
                    </a:lnTo>
                    <a:lnTo>
                      <a:pt x="412" y="491"/>
                    </a:lnTo>
                    <a:lnTo>
                      <a:pt x="394" y="513"/>
                    </a:lnTo>
                    <a:lnTo>
                      <a:pt x="374" y="536"/>
                    </a:lnTo>
                    <a:lnTo>
                      <a:pt x="352" y="559"/>
                    </a:lnTo>
                    <a:lnTo>
                      <a:pt x="330" y="583"/>
                    </a:lnTo>
                    <a:lnTo>
                      <a:pt x="307" y="606"/>
                    </a:lnTo>
                    <a:lnTo>
                      <a:pt x="283" y="628"/>
                    </a:lnTo>
                    <a:lnTo>
                      <a:pt x="258" y="649"/>
                    </a:lnTo>
                    <a:lnTo>
                      <a:pt x="231" y="667"/>
                    </a:lnTo>
                    <a:lnTo>
                      <a:pt x="222" y="672"/>
                    </a:lnTo>
                    <a:lnTo>
                      <a:pt x="213" y="679"/>
                    </a:lnTo>
                    <a:lnTo>
                      <a:pt x="203" y="684"/>
                    </a:lnTo>
                    <a:lnTo>
                      <a:pt x="192" y="691"/>
                    </a:lnTo>
                    <a:lnTo>
                      <a:pt x="182" y="697"/>
                    </a:lnTo>
                    <a:lnTo>
                      <a:pt x="170" y="702"/>
                    </a:lnTo>
                    <a:lnTo>
                      <a:pt x="158" y="705"/>
                    </a:lnTo>
                    <a:lnTo>
                      <a:pt x="145" y="70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27200" y="409752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47" h="83">
                    <a:moveTo>
                      <a:pt x="8" y="83"/>
                    </a:moveTo>
                    <a:lnTo>
                      <a:pt x="0" y="68"/>
                    </a:lnTo>
                    <a:lnTo>
                      <a:pt x="3" y="59"/>
                    </a:lnTo>
                    <a:lnTo>
                      <a:pt x="7" y="51"/>
                    </a:lnTo>
                    <a:lnTo>
                      <a:pt x="12" y="43"/>
                    </a:lnTo>
                    <a:lnTo>
                      <a:pt x="15" y="33"/>
                    </a:lnTo>
                    <a:lnTo>
                      <a:pt x="15" y="25"/>
                    </a:lnTo>
                    <a:lnTo>
                      <a:pt x="19" y="19"/>
                    </a:lnTo>
                    <a:lnTo>
                      <a:pt x="22" y="13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5" y="13"/>
                    </a:lnTo>
                    <a:lnTo>
                      <a:pt x="39" y="19"/>
                    </a:lnTo>
                    <a:lnTo>
                      <a:pt x="33" y="26"/>
                    </a:lnTo>
                    <a:lnTo>
                      <a:pt x="28" y="35"/>
                    </a:lnTo>
                    <a:lnTo>
                      <a:pt x="27" y="44"/>
                    </a:lnTo>
                    <a:lnTo>
                      <a:pt x="23" y="54"/>
                    </a:lnTo>
                    <a:lnTo>
                      <a:pt x="19" y="66"/>
                    </a:lnTo>
                    <a:lnTo>
                      <a:pt x="15" y="78"/>
                    </a:lnTo>
                    <a:lnTo>
                      <a:pt x="8" y="8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47960" y="3562560"/>
                <a:ext cx="293400" cy="587160"/>
              </a:xfrm>
              <a:custGeom>
                <a:avLst/>
                <a:gdLst/>
                <a:ahLst/>
                <a:rect l="l" t="t" r="r" b="b"/>
                <a:pathLst>
                  <a:path w="368" h="740">
                    <a:moveTo>
                      <a:pt x="209" y="740"/>
                    </a:moveTo>
                    <a:lnTo>
                      <a:pt x="192" y="737"/>
                    </a:lnTo>
                    <a:lnTo>
                      <a:pt x="175" y="733"/>
                    </a:lnTo>
                    <a:lnTo>
                      <a:pt x="159" y="727"/>
                    </a:lnTo>
                    <a:lnTo>
                      <a:pt x="144" y="720"/>
                    </a:lnTo>
                    <a:lnTo>
                      <a:pt x="129" y="711"/>
                    </a:lnTo>
                    <a:lnTo>
                      <a:pt x="115" y="701"/>
                    </a:lnTo>
                    <a:lnTo>
                      <a:pt x="102" y="689"/>
                    </a:lnTo>
                    <a:lnTo>
                      <a:pt x="91" y="674"/>
                    </a:lnTo>
                    <a:lnTo>
                      <a:pt x="61" y="616"/>
                    </a:lnTo>
                    <a:lnTo>
                      <a:pt x="36" y="552"/>
                    </a:lnTo>
                    <a:lnTo>
                      <a:pt x="17" y="487"/>
                    </a:lnTo>
                    <a:lnTo>
                      <a:pt x="4" y="417"/>
                    </a:lnTo>
                    <a:lnTo>
                      <a:pt x="0" y="348"/>
                    </a:lnTo>
                    <a:lnTo>
                      <a:pt x="2" y="278"/>
                    </a:lnTo>
                    <a:lnTo>
                      <a:pt x="13" y="209"/>
                    </a:lnTo>
                    <a:lnTo>
                      <a:pt x="34" y="140"/>
                    </a:lnTo>
                    <a:lnTo>
                      <a:pt x="39" y="128"/>
                    </a:lnTo>
                    <a:lnTo>
                      <a:pt x="45" y="116"/>
                    </a:lnTo>
                    <a:lnTo>
                      <a:pt x="51" y="103"/>
                    </a:lnTo>
                    <a:lnTo>
                      <a:pt x="58" y="89"/>
                    </a:lnTo>
                    <a:lnTo>
                      <a:pt x="72" y="71"/>
                    </a:lnTo>
                    <a:lnTo>
                      <a:pt x="88" y="56"/>
                    </a:lnTo>
                    <a:lnTo>
                      <a:pt x="108" y="42"/>
                    </a:lnTo>
                    <a:lnTo>
                      <a:pt x="129" y="31"/>
                    </a:lnTo>
                    <a:lnTo>
                      <a:pt x="152" y="22"/>
                    </a:lnTo>
                    <a:lnTo>
                      <a:pt x="176" y="15"/>
                    </a:lnTo>
                    <a:lnTo>
                      <a:pt x="201" y="10"/>
                    </a:lnTo>
                    <a:lnTo>
                      <a:pt x="226" y="5"/>
                    </a:lnTo>
                    <a:lnTo>
                      <a:pt x="240" y="6"/>
                    </a:lnTo>
                    <a:lnTo>
                      <a:pt x="254" y="5"/>
                    </a:lnTo>
                    <a:lnTo>
                      <a:pt x="269" y="4"/>
                    </a:lnTo>
                    <a:lnTo>
                      <a:pt x="284" y="1"/>
                    </a:lnTo>
                    <a:lnTo>
                      <a:pt x="299" y="0"/>
                    </a:lnTo>
                    <a:lnTo>
                      <a:pt x="314" y="1"/>
                    </a:lnTo>
                    <a:lnTo>
                      <a:pt x="328" y="5"/>
                    </a:lnTo>
                    <a:lnTo>
                      <a:pt x="342" y="11"/>
                    </a:lnTo>
                    <a:lnTo>
                      <a:pt x="353" y="22"/>
                    </a:lnTo>
                    <a:lnTo>
                      <a:pt x="357" y="27"/>
                    </a:lnTo>
                    <a:lnTo>
                      <a:pt x="359" y="33"/>
                    </a:lnTo>
                    <a:lnTo>
                      <a:pt x="361" y="40"/>
                    </a:lnTo>
                    <a:lnTo>
                      <a:pt x="366" y="44"/>
                    </a:lnTo>
                    <a:lnTo>
                      <a:pt x="368" y="66"/>
                    </a:lnTo>
                    <a:lnTo>
                      <a:pt x="367" y="89"/>
                    </a:lnTo>
                    <a:lnTo>
                      <a:pt x="365" y="111"/>
                    </a:lnTo>
                    <a:lnTo>
                      <a:pt x="360" y="133"/>
                    </a:lnTo>
                    <a:lnTo>
                      <a:pt x="354" y="155"/>
                    </a:lnTo>
                    <a:lnTo>
                      <a:pt x="347" y="178"/>
                    </a:lnTo>
                    <a:lnTo>
                      <a:pt x="339" y="201"/>
                    </a:lnTo>
                    <a:lnTo>
                      <a:pt x="331" y="224"/>
                    </a:lnTo>
                    <a:lnTo>
                      <a:pt x="325" y="232"/>
                    </a:lnTo>
                    <a:lnTo>
                      <a:pt x="320" y="240"/>
                    </a:lnTo>
                    <a:lnTo>
                      <a:pt x="315" y="248"/>
                    </a:lnTo>
                    <a:lnTo>
                      <a:pt x="309" y="256"/>
                    </a:lnTo>
                    <a:lnTo>
                      <a:pt x="304" y="265"/>
                    </a:lnTo>
                    <a:lnTo>
                      <a:pt x="298" y="273"/>
                    </a:lnTo>
                    <a:lnTo>
                      <a:pt x="290" y="281"/>
                    </a:lnTo>
                    <a:lnTo>
                      <a:pt x="282" y="290"/>
                    </a:lnTo>
                    <a:lnTo>
                      <a:pt x="276" y="291"/>
                    </a:lnTo>
                    <a:lnTo>
                      <a:pt x="269" y="293"/>
                    </a:lnTo>
                    <a:lnTo>
                      <a:pt x="263" y="294"/>
                    </a:lnTo>
                    <a:lnTo>
                      <a:pt x="256" y="296"/>
                    </a:lnTo>
                    <a:lnTo>
                      <a:pt x="249" y="298"/>
                    </a:lnTo>
                    <a:lnTo>
                      <a:pt x="243" y="299"/>
                    </a:lnTo>
                    <a:lnTo>
                      <a:pt x="237" y="299"/>
                    </a:lnTo>
                    <a:lnTo>
                      <a:pt x="230" y="299"/>
                    </a:lnTo>
                    <a:lnTo>
                      <a:pt x="223" y="296"/>
                    </a:lnTo>
                    <a:lnTo>
                      <a:pt x="217" y="294"/>
                    </a:lnTo>
                    <a:lnTo>
                      <a:pt x="211" y="292"/>
                    </a:lnTo>
                    <a:lnTo>
                      <a:pt x="207" y="288"/>
                    </a:lnTo>
                    <a:lnTo>
                      <a:pt x="201" y="286"/>
                    </a:lnTo>
                    <a:lnTo>
                      <a:pt x="194" y="284"/>
                    </a:lnTo>
                    <a:lnTo>
                      <a:pt x="188" y="280"/>
                    </a:lnTo>
                    <a:lnTo>
                      <a:pt x="180" y="278"/>
                    </a:lnTo>
                    <a:lnTo>
                      <a:pt x="176" y="278"/>
                    </a:lnTo>
                    <a:lnTo>
                      <a:pt x="171" y="278"/>
                    </a:lnTo>
                    <a:lnTo>
                      <a:pt x="167" y="278"/>
                    </a:lnTo>
                    <a:lnTo>
                      <a:pt x="163" y="278"/>
                    </a:lnTo>
                    <a:lnTo>
                      <a:pt x="159" y="279"/>
                    </a:lnTo>
                    <a:lnTo>
                      <a:pt x="154" y="279"/>
                    </a:lnTo>
                    <a:lnTo>
                      <a:pt x="149" y="279"/>
                    </a:lnTo>
                    <a:lnTo>
                      <a:pt x="144" y="279"/>
                    </a:lnTo>
                    <a:lnTo>
                      <a:pt x="141" y="277"/>
                    </a:lnTo>
                    <a:lnTo>
                      <a:pt x="134" y="276"/>
                    </a:lnTo>
                    <a:lnTo>
                      <a:pt x="127" y="277"/>
                    </a:lnTo>
                    <a:lnTo>
                      <a:pt x="122" y="279"/>
                    </a:lnTo>
                    <a:lnTo>
                      <a:pt x="122" y="326"/>
                    </a:lnTo>
                    <a:lnTo>
                      <a:pt x="127" y="374"/>
                    </a:lnTo>
                    <a:lnTo>
                      <a:pt x="138" y="421"/>
                    </a:lnTo>
                    <a:lnTo>
                      <a:pt x="152" y="467"/>
                    </a:lnTo>
                    <a:lnTo>
                      <a:pt x="168" y="477"/>
                    </a:lnTo>
                    <a:lnTo>
                      <a:pt x="173" y="475"/>
                    </a:lnTo>
                    <a:lnTo>
                      <a:pt x="179" y="472"/>
                    </a:lnTo>
                    <a:lnTo>
                      <a:pt x="185" y="468"/>
                    </a:lnTo>
                    <a:lnTo>
                      <a:pt x="191" y="465"/>
                    </a:lnTo>
                    <a:lnTo>
                      <a:pt x="195" y="462"/>
                    </a:lnTo>
                    <a:lnTo>
                      <a:pt x="202" y="459"/>
                    </a:lnTo>
                    <a:lnTo>
                      <a:pt x="208" y="455"/>
                    </a:lnTo>
                    <a:lnTo>
                      <a:pt x="216" y="453"/>
                    </a:lnTo>
                    <a:lnTo>
                      <a:pt x="228" y="451"/>
                    </a:lnTo>
                    <a:lnTo>
                      <a:pt x="239" y="449"/>
                    </a:lnTo>
                    <a:lnTo>
                      <a:pt x="251" y="446"/>
                    </a:lnTo>
                    <a:lnTo>
                      <a:pt x="262" y="445"/>
                    </a:lnTo>
                    <a:lnTo>
                      <a:pt x="274" y="445"/>
                    </a:lnTo>
                    <a:lnTo>
                      <a:pt x="286" y="444"/>
                    </a:lnTo>
                    <a:lnTo>
                      <a:pt x="299" y="445"/>
                    </a:lnTo>
                    <a:lnTo>
                      <a:pt x="312" y="446"/>
                    </a:lnTo>
                    <a:lnTo>
                      <a:pt x="315" y="451"/>
                    </a:lnTo>
                    <a:lnTo>
                      <a:pt x="319" y="455"/>
                    </a:lnTo>
                    <a:lnTo>
                      <a:pt x="322" y="461"/>
                    </a:lnTo>
                    <a:lnTo>
                      <a:pt x="327" y="467"/>
                    </a:lnTo>
                    <a:lnTo>
                      <a:pt x="328" y="474"/>
                    </a:lnTo>
                    <a:lnTo>
                      <a:pt x="331" y="480"/>
                    </a:lnTo>
                    <a:lnTo>
                      <a:pt x="335" y="487"/>
                    </a:lnTo>
                    <a:lnTo>
                      <a:pt x="337" y="496"/>
                    </a:lnTo>
                    <a:lnTo>
                      <a:pt x="345" y="531"/>
                    </a:lnTo>
                    <a:lnTo>
                      <a:pt x="352" y="567"/>
                    </a:lnTo>
                    <a:lnTo>
                      <a:pt x="355" y="604"/>
                    </a:lnTo>
                    <a:lnTo>
                      <a:pt x="355" y="640"/>
                    </a:lnTo>
                    <a:lnTo>
                      <a:pt x="351" y="655"/>
                    </a:lnTo>
                    <a:lnTo>
                      <a:pt x="345" y="669"/>
                    </a:lnTo>
                    <a:lnTo>
                      <a:pt x="339" y="682"/>
                    </a:lnTo>
                    <a:lnTo>
                      <a:pt x="331" y="697"/>
                    </a:lnTo>
                    <a:lnTo>
                      <a:pt x="328" y="702"/>
                    </a:lnTo>
                    <a:lnTo>
                      <a:pt x="325" y="707"/>
                    </a:lnTo>
                    <a:lnTo>
                      <a:pt x="321" y="712"/>
                    </a:lnTo>
                    <a:lnTo>
                      <a:pt x="315" y="718"/>
                    </a:lnTo>
                    <a:lnTo>
                      <a:pt x="304" y="724"/>
                    </a:lnTo>
                    <a:lnTo>
                      <a:pt x="291" y="727"/>
                    </a:lnTo>
                    <a:lnTo>
                      <a:pt x="277" y="732"/>
                    </a:lnTo>
                    <a:lnTo>
                      <a:pt x="264" y="734"/>
                    </a:lnTo>
                    <a:lnTo>
                      <a:pt x="251" y="737"/>
                    </a:lnTo>
                    <a:lnTo>
                      <a:pt x="237" y="739"/>
                    </a:lnTo>
                    <a:lnTo>
                      <a:pt x="223" y="740"/>
                    </a:lnTo>
                    <a:lnTo>
                      <a:pt x="209" y="74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65200" y="4008600"/>
                <a:ext cx="98640" cy="13788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25" y="174"/>
                    </a:moveTo>
                    <a:lnTo>
                      <a:pt x="19" y="171"/>
                    </a:lnTo>
                    <a:lnTo>
                      <a:pt x="15" y="168"/>
                    </a:lnTo>
                    <a:lnTo>
                      <a:pt x="10" y="164"/>
                    </a:lnTo>
                    <a:lnTo>
                      <a:pt x="3" y="159"/>
                    </a:lnTo>
                    <a:lnTo>
                      <a:pt x="0" y="136"/>
                    </a:lnTo>
                    <a:lnTo>
                      <a:pt x="3" y="112"/>
                    </a:lnTo>
                    <a:lnTo>
                      <a:pt x="9" y="88"/>
                    </a:lnTo>
                    <a:lnTo>
                      <a:pt x="14" y="65"/>
                    </a:lnTo>
                    <a:lnTo>
                      <a:pt x="17" y="59"/>
                    </a:lnTo>
                    <a:lnTo>
                      <a:pt x="20" y="53"/>
                    </a:lnTo>
                    <a:lnTo>
                      <a:pt x="24" y="44"/>
                    </a:lnTo>
                    <a:lnTo>
                      <a:pt x="27" y="35"/>
                    </a:lnTo>
                    <a:lnTo>
                      <a:pt x="34" y="28"/>
                    </a:lnTo>
                    <a:lnTo>
                      <a:pt x="40" y="21"/>
                    </a:lnTo>
                    <a:lnTo>
                      <a:pt x="46" y="15"/>
                    </a:lnTo>
                    <a:lnTo>
                      <a:pt x="54" y="6"/>
                    </a:lnTo>
                    <a:lnTo>
                      <a:pt x="58" y="4"/>
                    </a:lnTo>
                    <a:lnTo>
                      <a:pt x="63" y="3"/>
                    </a:lnTo>
                    <a:lnTo>
                      <a:pt x="68" y="1"/>
                    </a:lnTo>
                    <a:lnTo>
                      <a:pt x="73" y="1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11" y="11"/>
                    </a:lnTo>
                    <a:lnTo>
                      <a:pt x="119" y="27"/>
                    </a:lnTo>
                    <a:lnTo>
                      <a:pt x="123" y="46"/>
                    </a:lnTo>
                    <a:lnTo>
                      <a:pt x="124" y="65"/>
                    </a:lnTo>
                    <a:lnTo>
                      <a:pt x="122" y="84"/>
                    </a:lnTo>
                    <a:lnTo>
                      <a:pt x="116" y="94"/>
                    </a:lnTo>
                    <a:lnTo>
                      <a:pt x="110" y="104"/>
                    </a:lnTo>
                    <a:lnTo>
                      <a:pt x="106" y="115"/>
                    </a:lnTo>
                    <a:lnTo>
                      <a:pt x="100" y="126"/>
                    </a:lnTo>
                    <a:lnTo>
                      <a:pt x="87" y="141"/>
                    </a:lnTo>
                    <a:lnTo>
                      <a:pt x="83" y="147"/>
                    </a:lnTo>
                    <a:lnTo>
                      <a:pt x="77" y="150"/>
                    </a:lnTo>
                    <a:lnTo>
                      <a:pt x="69" y="154"/>
                    </a:lnTo>
                    <a:lnTo>
                      <a:pt x="62" y="160"/>
                    </a:lnTo>
                    <a:lnTo>
                      <a:pt x="56" y="162"/>
                    </a:lnTo>
                    <a:lnTo>
                      <a:pt x="53" y="165"/>
                    </a:lnTo>
                    <a:lnTo>
                      <a:pt x="47" y="170"/>
                    </a:lnTo>
                    <a:lnTo>
                      <a:pt x="40" y="172"/>
                    </a:lnTo>
                    <a:lnTo>
                      <a:pt x="25" y="17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78160" y="402264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9" y="142"/>
                    </a:moveTo>
                    <a:lnTo>
                      <a:pt x="1" y="133"/>
                    </a:lnTo>
                    <a:lnTo>
                      <a:pt x="0" y="117"/>
                    </a:lnTo>
                    <a:lnTo>
                      <a:pt x="2" y="102"/>
                    </a:lnTo>
                    <a:lnTo>
                      <a:pt x="4" y="87"/>
                    </a:lnTo>
                    <a:lnTo>
                      <a:pt x="7" y="70"/>
                    </a:lnTo>
                    <a:lnTo>
                      <a:pt x="11" y="61"/>
                    </a:lnTo>
                    <a:lnTo>
                      <a:pt x="15" y="53"/>
                    </a:lnTo>
                    <a:lnTo>
                      <a:pt x="19" y="44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34" y="21"/>
                    </a:lnTo>
                    <a:lnTo>
                      <a:pt x="40" y="13"/>
                    </a:lnTo>
                    <a:lnTo>
                      <a:pt x="47" y="4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8" y="13"/>
                    </a:lnTo>
                    <a:lnTo>
                      <a:pt x="92" y="34"/>
                    </a:lnTo>
                    <a:lnTo>
                      <a:pt x="88" y="56"/>
                    </a:lnTo>
                    <a:lnTo>
                      <a:pt x="82" y="77"/>
                    </a:lnTo>
                    <a:lnTo>
                      <a:pt x="71" y="97"/>
                    </a:lnTo>
                    <a:lnTo>
                      <a:pt x="67" y="106"/>
                    </a:lnTo>
                    <a:lnTo>
                      <a:pt x="62" y="113"/>
                    </a:lnTo>
                    <a:lnTo>
                      <a:pt x="55" y="120"/>
                    </a:lnTo>
                    <a:lnTo>
                      <a:pt x="46" y="127"/>
                    </a:lnTo>
                    <a:lnTo>
                      <a:pt x="39" y="129"/>
                    </a:lnTo>
                    <a:lnTo>
                      <a:pt x="32" y="132"/>
                    </a:lnTo>
                    <a:lnTo>
                      <a:pt x="25" y="137"/>
                    </a:lnTo>
                    <a:lnTo>
                      <a:pt x="16" y="142"/>
                    </a:lnTo>
                    <a:lnTo>
                      <a:pt x="9" y="14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97000" y="3959280"/>
                <a:ext cx="36720" cy="162000"/>
              </a:xfrm>
              <a:custGeom>
                <a:avLst/>
                <a:gdLst/>
                <a:ahLst/>
                <a:rect l="l" t="t" r="r" b="b"/>
                <a:pathLst>
                  <a:path w="47" h="205">
                    <a:moveTo>
                      <a:pt x="37" y="205"/>
                    </a:moveTo>
                    <a:lnTo>
                      <a:pt x="30" y="198"/>
                    </a:lnTo>
                    <a:lnTo>
                      <a:pt x="20" y="176"/>
                    </a:lnTo>
                    <a:lnTo>
                      <a:pt x="12" y="153"/>
                    </a:lnTo>
                    <a:lnTo>
                      <a:pt x="5" y="129"/>
                    </a:lnTo>
                    <a:lnTo>
                      <a:pt x="1" y="104"/>
                    </a:lnTo>
                    <a:lnTo>
                      <a:pt x="0" y="80"/>
                    </a:lnTo>
                    <a:lnTo>
                      <a:pt x="0" y="54"/>
                    </a:lnTo>
                    <a:lnTo>
                      <a:pt x="4" y="29"/>
                    </a:lnTo>
                    <a:lnTo>
                      <a:pt x="8" y="4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0" y="27"/>
                    </a:lnTo>
                    <a:lnTo>
                      <a:pt x="17" y="52"/>
                    </a:lnTo>
                    <a:lnTo>
                      <a:pt x="17" y="79"/>
                    </a:lnTo>
                    <a:lnTo>
                      <a:pt x="20" y="104"/>
                    </a:lnTo>
                    <a:lnTo>
                      <a:pt x="23" y="130"/>
                    </a:lnTo>
                    <a:lnTo>
                      <a:pt x="29" y="155"/>
                    </a:lnTo>
                    <a:lnTo>
                      <a:pt x="37" y="179"/>
                    </a:lnTo>
                    <a:lnTo>
                      <a:pt x="47" y="202"/>
                    </a:lnTo>
                    <a:lnTo>
                      <a:pt x="37" y="20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52560" y="3979800"/>
                <a:ext cx="117720" cy="138240"/>
              </a:xfrm>
              <a:custGeom>
                <a:avLst/>
                <a:gdLst/>
                <a:ahLst/>
                <a:rect l="l" t="t" r="r" b="b"/>
                <a:pathLst>
                  <a:path w="147" h="175">
                    <a:moveTo>
                      <a:pt x="7" y="175"/>
                    </a:moveTo>
                    <a:lnTo>
                      <a:pt x="0" y="171"/>
                    </a:lnTo>
                    <a:lnTo>
                      <a:pt x="0" y="163"/>
                    </a:lnTo>
                    <a:lnTo>
                      <a:pt x="20" y="154"/>
                    </a:lnTo>
                    <a:lnTo>
                      <a:pt x="39" y="144"/>
                    </a:lnTo>
                    <a:lnTo>
                      <a:pt x="56" y="131"/>
                    </a:lnTo>
                    <a:lnTo>
                      <a:pt x="72" y="117"/>
                    </a:lnTo>
                    <a:lnTo>
                      <a:pt x="89" y="102"/>
                    </a:lnTo>
                    <a:lnTo>
                      <a:pt x="102" y="86"/>
                    </a:lnTo>
                    <a:lnTo>
                      <a:pt x="115" y="68"/>
                    </a:lnTo>
                    <a:lnTo>
                      <a:pt x="127" y="48"/>
                    </a:lnTo>
                    <a:lnTo>
                      <a:pt x="128" y="42"/>
                    </a:lnTo>
                    <a:lnTo>
                      <a:pt x="129" y="37"/>
                    </a:lnTo>
                    <a:lnTo>
                      <a:pt x="131" y="30"/>
                    </a:lnTo>
                    <a:lnTo>
                      <a:pt x="134" y="20"/>
                    </a:lnTo>
                    <a:lnTo>
                      <a:pt x="132" y="15"/>
                    </a:lnTo>
                    <a:lnTo>
                      <a:pt x="132" y="10"/>
                    </a:lnTo>
                    <a:lnTo>
                      <a:pt x="132" y="5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7" y="18"/>
                    </a:lnTo>
                    <a:lnTo>
                      <a:pt x="144" y="39"/>
                    </a:lnTo>
                    <a:lnTo>
                      <a:pt x="136" y="61"/>
                    </a:lnTo>
                    <a:lnTo>
                      <a:pt x="127" y="78"/>
                    </a:lnTo>
                    <a:lnTo>
                      <a:pt x="116" y="95"/>
                    </a:lnTo>
                    <a:lnTo>
                      <a:pt x="104" y="111"/>
                    </a:lnTo>
                    <a:lnTo>
                      <a:pt x="91" y="125"/>
                    </a:lnTo>
                    <a:lnTo>
                      <a:pt x="76" y="138"/>
                    </a:lnTo>
                    <a:lnTo>
                      <a:pt x="61" y="148"/>
                    </a:lnTo>
                    <a:lnTo>
                      <a:pt x="44" y="159"/>
                    </a:lnTo>
                    <a:lnTo>
                      <a:pt x="25" y="168"/>
                    </a:lnTo>
                    <a:lnTo>
                      <a:pt x="7" y="17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57480" y="3948120"/>
                <a:ext cx="48960" cy="158760"/>
              </a:xfrm>
              <a:custGeom>
                <a:avLst/>
                <a:gdLst/>
                <a:ahLst/>
                <a:rect l="l" t="t" r="r" b="b"/>
                <a:pathLst>
                  <a:path w="62" h="200">
                    <a:moveTo>
                      <a:pt x="38" y="200"/>
                    </a:moveTo>
                    <a:lnTo>
                      <a:pt x="32" y="199"/>
                    </a:lnTo>
                    <a:lnTo>
                      <a:pt x="27" y="197"/>
                    </a:lnTo>
                    <a:lnTo>
                      <a:pt x="21" y="194"/>
                    </a:lnTo>
                    <a:lnTo>
                      <a:pt x="16" y="190"/>
                    </a:lnTo>
                    <a:lnTo>
                      <a:pt x="7" y="149"/>
                    </a:lnTo>
                    <a:lnTo>
                      <a:pt x="1" y="109"/>
                    </a:lnTo>
                    <a:lnTo>
                      <a:pt x="0" y="67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5" y="13"/>
                    </a:lnTo>
                    <a:lnTo>
                      <a:pt x="7" y="8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34" y="8"/>
                    </a:lnTo>
                    <a:lnTo>
                      <a:pt x="43" y="28"/>
                    </a:lnTo>
                    <a:lnTo>
                      <a:pt x="51" y="50"/>
                    </a:lnTo>
                    <a:lnTo>
                      <a:pt x="57" y="73"/>
                    </a:lnTo>
                    <a:lnTo>
                      <a:pt x="61" y="97"/>
                    </a:lnTo>
                    <a:lnTo>
                      <a:pt x="62" y="123"/>
                    </a:lnTo>
                    <a:lnTo>
                      <a:pt x="61" y="147"/>
                    </a:lnTo>
                    <a:lnTo>
                      <a:pt x="58" y="170"/>
                    </a:lnTo>
                    <a:lnTo>
                      <a:pt x="50" y="193"/>
                    </a:lnTo>
                    <a:lnTo>
                      <a:pt x="38" y="20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74760" y="3973680"/>
                <a:ext cx="14400" cy="114120"/>
              </a:xfrm>
              <a:custGeom>
                <a:avLst/>
                <a:gdLst/>
                <a:ahLst/>
                <a:rect l="l" t="t" r="r" b="b"/>
                <a:pathLst>
                  <a:path w="20" h="144">
                    <a:moveTo>
                      <a:pt x="12" y="144"/>
                    </a:moveTo>
                    <a:lnTo>
                      <a:pt x="3" y="108"/>
                    </a:lnTo>
                    <a:lnTo>
                      <a:pt x="1" y="7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" y="13"/>
                    </a:lnTo>
                    <a:lnTo>
                      <a:pt x="14" y="45"/>
                    </a:lnTo>
                    <a:lnTo>
                      <a:pt x="18" y="75"/>
                    </a:lnTo>
                    <a:lnTo>
                      <a:pt x="20" y="104"/>
                    </a:lnTo>
                    <a:lnTo>
                      <a:pt x="16" y="136"/>
                    </a:lnTo>
                    <a:lnTo>
                      <a:pt x="12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20880" y="395928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137" h="140">
                    <a:moveTo>
                      <a:pt x="4" y="140"/>
                    </a:moveTo>
                    <a:lnTo>
                      <a:pt x="0" y="133"/>
                    </a:lnTo>
                    <a:lnTo>
                      <a:pt x="0" y="127"/>
                    </a:lnTo>
                    <a:lnTo>
                      <a:pt x="2" y="119"/>
                    </a:lnTo>
                    <a:lnTo>
                      <a:pt x="3" y="111"/>
                    </a:lnTo>
                    <a:lnTo>
                      <a:pt x="3" y="104"/>
                    </a:lnTo>
                    <a:lnTo>
                      <a:pt x="9" y="90"/>
                    </a:lnTo>
                    <a:lnTo>
                      <a:pt x="15" y="78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41" y="43"/>
                    </a:lnTo>
                    <a:lnTo>
                      <a:pt x="52" y="33"/>
                    </a:lnTo>
                    <a:lnTo>
                      <a:pt x="62" y="22"/>
                    </a:lnTo>
                    <a:lnTo>
                      <a:pt x="75" y="13"/>
                    </a:lnTo>
                    <a:lnTo>
                      <a:pt x="78" y="11"/>
                    </a:lnTo>
                    <a:lnTo>
                      <a:pt x="83" y="7"/>
                    </a:lnTo>
                    <a:lnTo>
                      <a:pt x="88" y="5"/>
                    </a:lnTo>
                    <a:lnTo>
                      <a:pt x="94" y="4"/>
                    </a:lnTo>
                    <a:lnTo>
                      <a:pt x="100" y="3"/>
                    </a:lnTo>
                    <a:lnTo>
                      <a:pt x="107" y="2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2" y="3"/>
                    </a:lnTo>
                    <a:lnTo>
                      <a:pt x="128" y="5"/>
                    </a:lnTo>
                    <a:lnTo>
                      <a:pt x="135" y="8"/>
                    </a:lnTo>
                    <a:lnTo>
                      <a:pt x="137" y="15"/>
                    </a:lnTo>
                    <a:lnTo>
                      <a:pt x="135" y="30"/>
                    </a:lnTo>
                    <a:lnTo>
                      <a:pt x="130" y="35"/>
                    </a:lnTo>
                    <a:lnTo>
                      <a:pt x="126" y="42"/>
                    </a:lnTo>
                    <a:lnTo>
                      <a:pt x="123" y="50"/>
                    </a:lnTo>
                    <a:lnTo>
                      <a:pt x="120" y="59"/>
                    </a:lnTo>
                    <a:lnTo>
                      <a:pt x="113" y="68"/>
                    </a:lnTo>
                    <a:lnTo>
                      <a:pt x="105" y="76"/>
                    </a:lnTo>
                    <a:lnTo>
                      <a:pt x="97" y="83"/>
                    </a:lnTo>
                    <a:lnTo>
                      <a:pt x="88" y="91"/>
                    </a:lnTo>
                    <a:lnTo>
                      <a:pt x="79" y="98"/>
                    </a:lnTo>
                    <a:lnTo>
                      <a:pt x="70" y="105"/>
                    </a:lnTo>
                    <a:lnTo>
                      <a:pt x="61" y="113"/>
                    </a:lnTo>
                    <a:lnTo>
                      <a:pt x="52" y="121"/>
                    </a:lnTo>
                    <a:lnTo>
                      <a:pt x="48" y="124"/>
                    </a:lnTo>
                    <a:lnTo>
                      <a:pt x="45" y="126"/>
                    </a:lnTo>
                    <a:lnTo>
                      <a:pt x="41" y="128"/>
                    </a:lnTo>
                    <a:lnTo>
                      <a:pt x="37" y="131"/>
                    </a:lnTo>
                    <a:lnTo>
                      <a:pt x="32" y="133"/>
                    </a:lnTo>
                    <a:lnTo>
                      <a:pt x="27" y="135"/>
                    </a:lnTo>
                    <a:lnTo>
                      <a:pt x="22" y="137"/>
                    </a:lnTo>
                    <a:lnTo>
                      <a:pt x="16" y="140"/>
                    </a:lnTo>
                    <a:lnTo>
                      <a:pt x="4" y="14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54200" y="40467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17"/>
                    </a:moveTo>
                    <a:lnTo>
                      <a:pt x="5" y="2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7" y="3"/>
                    </a:lnTo>
                    <a:lnTo>
                      <a:pt x="41" y="5"/>
                    </a:lnTo>
                    <a:lnTo>
                      <a:pt x="46" y="17"/>
                    </a:lnTo>
                    <a:lnTo>
                      <a:pt x="40" y="17"/>
                    </a:lnTo>
                    <a:lnTo>
                      <a:pt x="36" y="17"/>
                    </a:lnTo>
                    <a:lnTo>
                      <a:pt x="30" y="16"/>
                    </a:lnTo>
                    <a:lnTo>
                      <a:pt x="24" y="16"/>
                    </a:lnTo>
                    <a:lnTo>
                      <a:pt x="18" y="16"/>
                    </a:lnTo>
                    <a:lnTo>
                      <a:pt x="13" y="16"/>
                    </a:lnTo>
                    <a:lnTo>
                      <a:pt x="7" y="1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36720" y="397368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97" h="103">
                    <a:moveTo>
                      <a:pt x="0" y="103"/>
                    </a:moveTo>
                    <a:lnTo>
                      <a:pt x="0" y="95"/>
                    </a:lnTo>
                    <a:lnTo>
                      <a:pt x="7" y="79"/>
                    </a:lnTo>
                    <a:lnTo>
                      <a:pt x="14" y="65"/>
                    </a:lnTo>
                    <a:lnTo>
                      <a:pt x="23" y="51"/>
                    </a:lnTo>
                    <a:lnTo>
                      <a:pt x="34" y="39"/>
                    </a:lnTo>
                    <a:lnTo>
                      <a:pt x="44" y="27"/>
                    </a:lnTo>
                    <a:lnTo>
                      <a:pt x="57" y="17"/>
                    </a:lnTo>
                    <a:lnTo>
                      <a:pt x="69" y="8"/>
                    </a:lnTo>
                    <a:lnTo>
                      <a:pt x="82" y="0"/>
                    </a:lnTo>
                    <a:lnTo>
                      <a:pt x="97" y="2"/>
                    </a:lnTo>
                    <a:lnTo>
                      <a:pt x="97" y="9"/>
                    </a:lnTo>
                    <a:lnTo>
                      <a:pt x="91" y="23"/>
                    </a:lnTo>
                    <a:lnTo>
                      <a:pt x="83" y="36"/>
                    </a:lnTo>
                    <a:lnTo>
                      <a:pt x="73" y="48"/>
                    </a:lnTo>
                    <a:lnTo>
                      <a:pt x="61" y="60"/>
                    </a:lnTo>
                    <a:lnTo>
                      <a:pt x="49" y="70"/>
                    </a:lnTo>
                    <a:lnTo>
                      <a:pt x="36" y="80"/>
                    </a:lnTo>
                    <a:lnTo>
                      <a:pt x="22" y="91"/>
                    </a:lnTo>
                    <a:lnTo>
                      <a:pt x="10" y="10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30520" y="3805200"/>
                <a:ext cx="183960" cy="247680"/>
              </a:xfrm>
              <a:custGeom>
                <a:avLst/>
                <a:gdLst/>
                <a:ahLst/>
                <a:rect l="l" t="t" r="r" b="b"/>
                <a:pathLst>
                  <a:path w="231" h="312">
                    <a:moveTo>
                      <a:pt x="59" y="312"/>
                    </a:moveTo>
                    <a:lnTo>
                      <a:pt x="55" y="310"/>
                    </a:lnTo>
                    <a:lnTo>
                      <a:pt x="50" y="307"/>
                    </a:lnTo>
                    <a:lnTo>
                      <a:pt x="46" y="305"/>
                    </a:lnTo>
                    <a:lnTo>
                      <a:pt x="42" y="301"/>
                    </a:lnTo>
                    <a:lnTo>
                      <a:pt x="38" y="298"/>
                    </a:lnTo>
                    <a:lnTo>
                      <a:pt x="33" y="295"/>
                    </a:lnTo>
                    <a:lnTo>
                      <a:pt x="28" y="291"/>
                    </a:lnTo>
                    <a:lnTo>
                      <a:pt x="24" y="287"/>
                    </a:lnTo>
                    <a:lnTo>
                      <a:pt x="15" y="261"/>
                    </a:lnTo>
                    <a:lnTo>
                      <a:pt x="6" y="234"/>
                    </a:lnTo>
                    <a:lnTo>
                      <a:pt x="2" y="206"/>
                    </a:lnTo>
                    <a:lnTo>
                      <a:pt x="0" y="178"/>
                    </a:lnTo>
                    <a:lnTo>
                      <a:pt x="3" y="170"/>
                    </a:lnTo>
                    <a:lnTo>
                      <a:pt x="6" y="163"/>
                    </a:lnTo>
                    <a:lnTo>
                      <a:pt x="12" y="156"/>
                    </a:lnTo>
                    <a:lnTo>
                      <a:pt x="18" y="149"/>
                    </a:lnTo>
                    <a:lnTo>
                      <a:pt x="24" y="143"/>
                    </a:lnTo>
                    <a:lnTo>
                      <a:pt x="29" y="136"/>
                    </a:lnTo>
                    <a:lnTo>
                      <a:pt x="35" y="128"/>
                    </a:lnTo>
                    <a:lnTo>
                      <a:pt x="40" y="119"/>
                    </a:lnTo>
                    <a:lnTo>
                      <a:pt x="41" y="95"/>
                    </a:lnTo>
                    <a:lnTo>
                      <a:pt x="41" y="70"/>
                    </a:lnTo>
                    <a:lnTo>
                      <a:pt x="42" y="45"/>
                    </a:lnTo>
                    <a:lnTo>
                      <a:pt x="44" y="19"/>
                    </a:lnTo>
                    <a:lnTo>
                      <a:pt x="59" y="0"/>
                    </a:lnTo>
                    <a:lnTo>
                      <a:pt x="71" y="30"/>
                    </a:lnTo>
                    <a:lnTo>
                      <a:pt x="71" y="64"/>
                    </a:lnTo>
                    <a:lnTo>
                      <a:pt x="65" y="101"/>
                    </a:lnTo>
                    <a:lnTo>
                      <a:pt x="65" y="137"/>
                    </a:lnTo>
                    <a:lnTo>
                      <a:pt x="76" y="148"/>
                    </a:lnTo>
                    <a:lnTo>
                      <a:pt x="89" y="143"/>
                    </a:lnTo>
                    <a:lnTo>
                      <a:pt x="97" y="131"/>
                    </a:lnTo>
                    <a:lnTo>
                      <a:pt x="104" y="118"/>
                    </a:lnTo>
                    <a:lnTo>
                      <a:pt x="111" y="106"/>
                    </a:lnTo>
                    <a:lnTo>
                      <a:pt x="119" y="93"/>
                    </a:lnTo>
                    <a:lnTo>
                      <a:pt x="126" y="80"/>
                    </a:lnTo>
                    <a:lnTo>
                      <a:pt x="134" y="66"/>
                    </a:lnTo>
                    <a:lnTo>
                      <a:pt x="143" y="54"/>
                    </a:lnTo>
                    <a:lnTo>
                      <a:pt x="154" y="41"/>
                    </a:lnTo>
                    <a:lnTo>
                      <a:pt x="164" y="53"/>
                    </a:lnTo>
                    <a:lnTo>
                      <a:pt x="164" y="70"/>
                    </a:lnTo>
                    <a:lnTo>
                      <a:pt x="161" y="86"/>
                    </a:lnTo>
                    <a:lnTo>
                      <a:pt x="156" y="101"/>
                    </a:lnTo>
                    <a:lnTo>
                      <a:pt x="149" y="117"/>
                    </a:lnTo>
                    <a:lnTo>
                      <a:pt x="141" y="132"/>
                    </a:lnTo>
                    <a:lnTo>
                      <a:pt x="133" y="147"/>
                    </a:lnTo>
                    <a:lnTo>
                      <a:pt x="124" y="161"/>
                    </a:lnTo>
                    <a:lnTo>
                      <a:pt x="116" y="176"/>
                    </a:lnTo>
                    <a:lnTo>
                      <a:pt x="120" y="190"/>
                    </a:lnTo>
                    <a:lnTo>
                      <a:pt x="129" y="190"/>
                    </a:lnTo>
                    <a:lnTo>
                      <a:pt x="137" y="189"/>
                    </a:lnTo>
                    <a:lnTo>
                      <a:pt x="143" y="185"/>
                    </a:lnTo>
                    <a:lnTo>
                      <a:pt x="149" y="181"/>
                    </a:lnTo>
                    <a:lnTo>
                      <a:pt x="156" y="176"/>
                    </a:lnTo>
                    <a:lnTo>
                      <a:pt x="162" y="168"/>
                    </a:lnTo>
                    <a:lnTo>
                      <a:pt x="171" y="163"/>
                    </a:lnTo>
                    <a:lnTo>
                      <a:pt x="180" y="157"/>
                    </a:lnTo>
                    <a:lnTo>
                      <a:pt x="188" y="148"/>
                    </a:lnTo>
                    <a:lnTo>
                      <a:pt x="192" y="146"/>
                    </a:lnTo>
                    <a:lnTo>
                      <a:pt x="195" y="144"/>
                    </a:lnTo>
                    <a:lnTo>
                      <a:pt x="200" y="141"/>
                    </a:lnTo>
                    <a:lnTo>
                      <a:pt x="205" y="140"/>
                    </a:lnTo>
                    <a:lnTo>
                      <a:pt x="209" y="138"/>
                    </a:lnTo>
                    <a:lnTo>
                      <a:pt x="214" y="136"/>
                    </a:lnTo>
                    <a:lnTo>
                      <a:pt x="218" y="134"/>
                    </a:lnTo>
                    <a:lnTo>
                      <a:pt x="224" y="132"/>
                    </a:lnTo>
                    <a:lnTo>
                      <a:pt x="231" y="143"/>
                    </a:lnTo>
                    <a:lnTo>
                      <a:pt x="221" y="156"/>
                    </a:lnTo>
                    <a:lnTo>
                      <a:pt x="209" y="170"/>
                    </a:lnTo>
                    <a:lnTo>
                      <a:pt x="198" y="184"/>
                    </a:lnTo>
                    <a:lnTo>
                      <a:pt x="185" y="198"/>
                    </a:lnTo>
                    <a:lnTo>
                      <a:pt x="172" y="212"/>
                    </a:lnTo>
                    <a:lnTo>
                      <a:pt x="160" y="225"/>
                    </a:lnTo>
                    <a:lnTo>
                      <a:pt x="147" y="239"/>
                    </a:lnTo>
                    <a:lnTo>
                      <a:pt x="135" y="253"/>
                    </a:lnTo>
                    <a:lnTo>
                      <a:pt x="140" y="260"/>
                    </a:lnTo>
                    <a:lnTo>
                      <a:pt x="149" y="261"/>
                    </a:lnTo>
                    <a:lnTo>
                      <a:pt x="158" y="262"/>
                    </a:lnTo>
                    <a:lnTo>
                      <a:pt x="169" y="265"/>
                    </a:lnTo>
                    <a:lnTo>
                      <a:pt x="178" y="266"/>
                    </a:lnTo>
                    <a:lnTo>
                      <a:pt x="188" y="268"/>
                    </a:lnTo>
                    <a:lnTo>
                      <a:pt x="199" y="270"/>
                    </a:lnTo>
                    <a:lnTo>
                      <a:pt x="209" y="274"/>
                    </a:lnTo>
                    <a:lnTo>
                      <a:pt x="219" y="276"/>
                    </a:lnTo>
                    <a:lnTo>
                      <a:pt x="224" y="281"/>
                    </a:lnTo>
                    <a:lnTo>
                      <a:pt x="219" y="287"/>
                    </a:lnTo>
                    <a:lnTo>
                      <a:pt x="200" y="291"/>
                    </a:lnTo>
                    <a:lnTo>
                      <a:pt x="179" y="296"/>
                    </a:lnTo>
                    <a:lnTo>
                      <a:pt x="160" y="299"/>
                    </a:lnTo>
                    <a:lnTo>
                      <a:pt x="140" y="303"/>
                    </a:lnTo>
                    <a:lnTo>
                      <a:pt x="120" y="306"/>
                    </a:lnTo>
                    <a:lnTo>
                      <a:pt x="100" y="308"/>
                    </a:lnTo>
                    <a:lnTo>
                      <a:pt x="80" y="311"/>
                    </a:lnTo>
                    <a:lnTo>
                      <a:pt x="59" y="31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47920" y="3780000"/>
                <a:ext cx="66600" cy="228600"/>
              </a:xfrm>
              <a:custGeom>
                <a:avLst/>
                <a:gdLst/>
                <a:ahLst/>
                <a:rect l="l" t="t" r="r" b="b"/>
                <a:pathLst>
                  <a:path w="83" h="286">
                    <a:moveTo>
                      <a:pt x="20" y="286"/>
                    </a:moveTo>
                    <a:lnTo>
                      <a:pt x="13" y="282"/>
                    </a:lnTo>
                    <a:lnTo>
                      <a:pt x="10" y="276"/>
                    </a:lnTo>
                    <a:lnTo>
                      <a:pt x="7" y="271"/>
                    </a:lnTo>
                    <a:lnTo>
                      <a:pt x="2" y="267"/>
                    </a:lnTo>
                    <a:lnTo>
                      <a:pt x="0" y="259"/>
                    </a:lnTo>
                    <a:lnTo>
                      <a:pt x="3" y="228"/>
                    </a:lnTo>
                    <a:lnTo>
                      <a:pt x="9" y="197"/>
                    </a:lnTo>
                    <a:lnTo>
                      <a:pt x="16" y="165"/>
                    </a:lnTo>
                    <a:lnTo>
                      <a:pt x="24" y="133"/>
                    </a:lnTo>
                    <a:lnTo>
                      <a:pt x="35" y="101"/>
                    </a:lnTo>
                    <a:lnTo>
                      <a:pt x="44" y="69"/>
                    </a:lnTo>
                    <a:lnTo>
                      <a:pt x="55" y="38"/>
                    </a:lnTo>
                    <a:lnTo>
                      <a:pt x="66" y="6"/>
                    </a:lnTo>
                    <a:lnTo>
                      <a:pt x="79" y="0"/>
                    </a:lnTo>
                    <a:lnTo>
                      <a:pt x="83" y="6"/>
                    </a:lnTo>
                    <a:lnTo>
                      <a:pt x="74" y="26"/>
                    </a:lnTo>
                    <a:lnTo>
                      <a:pt x="67" y="48"/>
                    </a:lnTo>
                    <a:lnTo>
                      <a:pt x="60" y="72"/>
                    </a:lnTo>
                    <a:lnTo>
                      <a:pt x="51" y="94"/>
                    </a:lnTo>
                    <a:lnTo>
                      <a:pt x="39" y="134"/>
                    </a:lnTo>
                    <a:lnTo>
                      <a:pt x="29" y="175"/>
                    </a:lnTo>
                    <a:lnTo>
                      <a:pt x="21" y="216"/>
                    </a:lnTo>
                    <a:lnTo>
                      <a:pt x="17" y="259"/>
                    </a:lnTo>
                    <a:lnTo>
                      <a:pt x="20" y="263"/>
                    </a:lnTo>
                    <a:lnTo>
                      <a:pt x="23" y="271"/>
                    </a:lnTo>
                    <a:lnTo>
                      <a:pt x="24" y="281"/>
                    </a:lnTo>
                    <a:lnTo>
                      <a:pt x="20" y="28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20920" y="3435480"/>
                <a:ext cx="565200" cy="571320"/>
              </a:xfrm>
              <a:custGeom>
                <a:avLst/>
                <a:gdLst/>
                <a:ahLst/>
                <a:rect l="l" t="t" r="r" b="b"/>
                <a:pathLst>
                  <a:path w="713" h="720">
                    <a:moveTo>
                      <a:pt x="316" y="720"/>
                    </a:moveTo>
                    <a:lnTo>
                      <a:pt x="311" y="719"/>
                    </a:lnTo>
                    <a:lnTo>
                      <a:pt x="305" y="717"/>
                    </a:lnTo>
                    <a:lnTo>
                      <a:pt x="300" y="714"/>
                    </a:lnTo>
                    <a:lnTo>
                      <a:pt x="295" y="710"/>
                    </a:lnTo>
                    <a:lnTo>
                      <a:pt x="299" y="689"/>
                    </a:lnTo>
                    <a:lnTo>
                      <a:pt x="301" y="668"/>
                    </a:lnTo>
                    <a:lnTo>
                      <a:pt x="305" y="646"/>
                    </a:lnTo>
                    <a:lnTo>
                      <a:pt x="311" y="623"/>
                    </a:lnTo>
                    <a:lnTo>
                      <a:pt x="316" y="619"/>
                    </a:lnTo>
                    <a:lnTo>
                      <a:pt x="316" y="610"/>
                    </a:lnTo>
                    <a:lnTo>
                      <a:pt x="322" y="597"/>
                    </a:lnTo>
                    <a:lnTo>
                      <a:pt x="328" y="584"/>
                    </a:lnTo>
                    <a:lnTo>
                      <a:pt x="334" y="571"/>
                    </a:lnTo>
                    <a:lnTo>
                      <a:pt x="339" y="559"/>
                    </a:lnTo>
                    <a:lnTo>
                      <a:pt x="345" y="544"/>
                    </a:lnTo>
                    <a:lnTo>
                      <a:pt x="349" y="530"/>
                    </a:lnTo>
                    <a:lnTo>
                      <a:pt x="354" y="516"/>
                    </a:lnTo>
                    <a:lnTo>
                      <a:pt x="360" y="502"/>
                    </a:lnTo>
                    <a:lnTo>
                      <a:pt x="366" y="489"/>
                    </a:lnTo>
                    <a:lnTo>
                      <a:pt x="353" y="471"/>
                    </a:lnTo>
                    <a:lnTo>
                      <a:pt x="339" y="455"/>
                    </a:lnTo>
                    <a:lnTo>
                      <a:pt x="323" y="439"/>
                    </a:lnTo>
                    <a:lnTo>
                      <a:pt x="305" y="424"/>
                    </a:lnTo>
                    <a:lnTo>
                      <a:pt x="287" y="410"/>
                    </a:lnTo>
                    <a:lnTo>
                      <a:pt x="266" y="398"/>
                    </a:lnTo>
                    <a:lnTo>
                      <a:pt x="246" y="386"/>
                    </a:lnTo>
                    <a:lnTo>
                      <a:pt x="225" y="374"/>
                    </a:lnTo>
                    <a:lnTo>
                      <a:pt x="202" y="365"/>
                    </a:lnTo>
                    <a:lnTo>
                      <a:pt x="179" y="356"/>
                    </a:lnTo>
                    <a:lnTo>
                      <a:pt x="155" y="348"/>
                    </a:lnTo>
                    <a:lnTo>
                      <a:pt x="130" y="342"/>
                    </a:lnTo>
                    <a:lnTo>
                      <a:pt x="106" y="338"/>
                    </a:lnTo>
                    <a:lnTo>
                      <a:pt x="81" y="334"/>
                    </a:lnTo>
                    <a:lnTo>
                      <a:pt x="54" y="332"/>
                    </a:lnTo>
                    <a:lnTo>
                      <a:pt x="29" y="331"/>
                    </a:lnTo>
                    <a:lnTo>
                      <a:pt x="7" y="316"/>
                    </a:lnTo>
                    <a:lnTo>
                      <a:pt x="0" y="297"/>
                    </a:lnTo>
                    <a:lnTo>
                      <a:pt x="3" y="274"/>
                    </a:lnTo>
                    <a:lnTo>
                      <a:pt x="11" y="250"/>
                    </a:lnTo>
                    <a:lnTo>
                      <a:pt x="20" y="229"/>
                    </a:lnTo>
                    <a:lnTo>
                      <a:pt x="23" y="225"/>
                    </a:lnTo>
                    <a:lnTo>
                      <a:pt x="26" y="220"/>
                    </a:lnTo>
                    <a:lnTo>
                      <a:pt x="29" y="214"/>
                    </a:lnTo>
                    <a:lnTo>
                      <a:pt x="31" y="207"/>
                    </a:lnTo>
                    <a:lnTo>
                      <a:pt x="41" y="197"/>
                    </a:lnTo>
                    <a:lnTo>
                      <a:pt x="51" y="188"/>
                    </a:lnTo>
                    <a:lnTo>
                      <a:pt x="61" y="179"/>
                    </a:lnTo>
                    <a:lnTo>
                      <a:pt x="73" y="171"/>
                    </a:lnTo>
                    <a:lnTo>
                      <a:pt x="85" y="164"/>
                    </a:lnTo>
                    <a:lnTo>
                      <a:pt x="98" y="157"/>
                    </a:lnTo>
                    <a:lnTo>
                      <a:pt x="111" y="151"/>
                    </a:lnTo>
                    <a:lnTo>
                      <a:pt x="125" y="145"/>
                    </a:lnTo>
                    <a:lnTo>
                      <a:pt x="140" y="141"/>
                    </a:lnTo>
                    <a:lnTo>
                      <a:pt x="153" y="136"/>
                    </a:lnTo>
                    <a:lnTo>
                      <a:pt x="168" y="133"/>
                    </a:lnTo>
                    <a:lnTo>
                      <a:pt x="183" y="130"/>
                    </a:lnTo>
                    <a:lnTo>
                      <a:pt x="198" y="128"/>
                    </a:lnTo>
                    <a:lnTo>
                      <a:pt x="214" y="127"/>
                    </a:lnTo>
                    <a:lnTo>
                      <a:pt x="229" y="127"/>
                    </a:lnTo>
                    <a:lnTo>
                      <a:pt x="244" y="127"/>
                    </a:lnTo>
                    <a:lnTo>
                      <a:pt x="251" y="119"/>
                    </a:lnTo>
                    <a:lnTo>
                      <a:pt x="258" y="111"/>
                    </a:lnTo>
                    <a:lnTo>
                      <a:pt x="264" y="103"/>
                    </a:lnTo>
                    <a:lnTo>
                      <a:pt x="271" y="93"/>
                    </a:lnTo>
                    <a:lnTo>
                      <a:pt x="277" y="85"/>
                    </a:lnTo>
                    <a:lnTo>
                      <a:pt x="284" y="77"/>
                    </a:lnTo>
                    <a:lnTo>
                      <a:pt x="292" y="69"/>
                    </a:lnTo>
                    <a:lnTo>
                      <a:pt x="300" y="61"/>
                    </a:lnTo>
                    <a:lnTo>
                      <a:pt x="316" y="53"/>
                    </a:lnTo>
                    <a:lnTo>
                      <a:pt x="332" y="44"/>
                    </a:lnTo>
                    <a:lnTo>
                      <a:pt x="349" y="37"/>
                    </a:lnTo>
                    <a:lnTo>
                      <a:pt x="366" y="29"/>
                    </a:lnTo>
                    <a:lnTo>
                      <a:pt x="384" y="22"/>
                    </a:lnTo>
                    <a:lnTo>
                      <a:pt x="402" y="16"/>
                    </a:lnTo>
                    <a:lnTo>
                      <a:pt x="422" y="10"/>
                    </a:lnTo>
                    <a:lnTo>
                      <a:pt x="440" y="7"/>
                    </a:lnTo>
                    <a:lnTo>
                      <a:pt x="460" y="4"/>
                    </a:lnTo>
                    <a:lnTo>
                      <a:pt x="478" y="1"/>
                    </a:lnTo>
                    <a:lnTo>
                      <a:pt x="498" y="0"/>
                    </a:lnTo>
                    <a:lnTo>
                      <a:pt x="517" y="0"/>
                    </a:lnTo>
                    <a:lnTo>
                      <a:pt x="537" y="1"/>
                    </a:lnTo>
                    <a:lnTo>
                      <a:pt x="556" y="5"/>
                    </a:lnTo>
                    <a:lnTo>
                      <a:pt x="576" y="9"/>
                    </a:lnTo>
                    <a:lnTo>
                      <a:pt x="594" y="15"/>
                    </a:lnTo>
                    <a:lnTo>
                      <a:pt x="607" y="21"/>
                    </a:lnTo>
                    <a:lnTo>
                      <a:pt x="620" y="27"/>
                    </a:lnTo>
                    <a:lnTo>
                      <a:pt x="632" y="33"/>
                    </a:lnTo>
                    <a:lnTo>
                      <a:pt x="644" y="40"/>
                    </a:lnTo>
                    <a:lnTo>
                      <a:pt x="655" y="48"/>
                    </a:lnTo>
                    <a:lnTo>
                      <a:pt x="666" y="58"/>
                    </a:lnTo>
                    <a:lnTo>
                      <a:pt x="676" y="68"/>
                    </a:lnTo>
                    <a:lnTo>
                      <a:pt x="685" y="80"/>
                    </a:lnTo>
                    <a:lnTo>
                      <a:pt x="698" y="104"/>
                    </a:lnTo>
                    <a:lnTo>
                      <a:pt x="707" y="130"/>
                    </a:lnTo>
                    <a:lnTo>
                      <a:pt x="712" y="158"/>
                    </a:lnTo>
                    <a:lnTo>
                      <a:pt x="713" y="187"/>
                    </a:lnTo>
                    <a:lnTo>
                      <a:pt x="711" y="215"/>
                    </a:lnTo>
                    <a:lnTo>
                      <a:pt x="705" y="244"/>
                    </a:lnTo>
                    <a:lnTo>
                      <a:pt x="697" y="271"/>
                    </a:lnTo>
                    <a:lnTo>
                      <a:pt x="685" y="296"/>
                    </a:lnTo>
                    <a:lnTo>
                      <a:pt x="677" y="316"/>
                    </a:lnTo>
                    <a:lnTo>
                      <a:pt x="667" y="333"/>
                    </a:lnTo>
                    <a:lnTo>
                      <a:pt x="654" y="349"/>
                    </a:lnTo>
                    <a:lnTo>
                      <a:pt x="641" y="364"/>
                    </a:lnTo>
                    <a:lnTo>
                      <a:pt x="627" y="378"/>
                    </a:lnTo>
                    <a:lnTo>
                      <a:pt x="611" y="392"/>
                    </a:lnTo>
                    <a:lnTo>
                      <a:pt x="594" y="404"/>
                    </a:lnTo>
                    <a:lnTo>
                      <a:pt x="578" y="416"/>
                    </a:lnTo>
                    <a:lnTo>
                      <a:pt x="586" y="442"/>
                    </a:lnTo>
                    <a:lnTo>
                      <a:pt x="589" y="469"/>
                    </a:lnTo>
                    <a:lnTo>
                      <a:pt x="588" y="494"/>
                    </a:lnTo>
                    <a:lnTo>
                      <a:pt x="582" y="520"/>
                    </a:lnTo>
                    <a:lnTo>
                      <a:pt x="574" y="544"/>
                    </a:lnTo>
                    <a:lnTo>
                      <a:pt x="563" y="567"/>
                    </a:lnTo>
                    <a:lnTo>
                      <a:pt x="552" y="589"/>
                    </a:lnTo>
                    <a:lnTo>
                      <a:pt x="540" y="610"/>
                    </a:lnTo>
                    <a:lnTo>
                      <a:pt x="527" y="623"/>
                    </a:lnTo>
                    <a:lnTo>
                      <a:pt x="512" y="636"/>
                    </a:lnTo>
                    <a:lnTo>
                      <a:pt x="497" y="649"/>
                    </a:lnTo>
                    <a:lnTo>
                      <a:pt x="482" y="659"/>
                    </a:lnTo>
                    <a:lnTo>
                      <a:pt x="464" y="667"/>
                    </a:lnTo>
                    <a:lnTo>
                      <a:pt x="447" y="674"/>
                    </a:lnTo>
                    <a:lnTo>
                      <a:pt x="427" y="679"/>
                    </a:lnTo>
                    <a:lnTo>
                      <a:pt x="408" y="681"/>
                    </a:lnTo>
                    <a:lnTo>
                      <a:pt x="401" y="681"/>
                    </a:lnTo>
                    <a:lnTo>
                      <a:pt x="394" y="679"/>
                    </a:lnTo>
                    <a:lnTo>
                      <a:pt x="386" y="677"/>
                    </a:lnTo>
                    <a:lnTo>
                      <a:pt x="378" y="674"/>
                    </a:lnTo>
                    <a:lnTo>
                      <a:pt x="376" y="682"/>
                    </a:lnTo>
                    <a:lnTo>
                      <a:pt x="372" y="687"/>
                    </a:lnTo>
                    <a:lnTo>
                      <a:pt x="368" y="691"/>
                    </a:lnTo>
                    <a:lnTo>
                      <a:pt x="364" y="699"/>
                    </a:lnTo>
                    <a:lnTo>
                      <a:pt x="360" y="704"/>
                    </a:lnTo>
                    <a:lnTo>
                      <a:pt x="355" y="709"/>
                    </a:lnTo>
                    <a:lnTo>
                      <a:pt x="349" y="713"/>
                    </a:lnTo>
                    <a:lnTo>
                      <a:pt x="342" y="718"/>
                    </a:lnTo>
                    <a:lnTo>
                      <a:pt x="337" y="718"/>
                    </a:lnTo>
                    <a:lnTo>
                      <a:pt x="331" y="718"/>
                    </a:lnTo>
                    <a:lnTo>
                      <a:pt x="324" y="719"/>
                    </a:lnTo>
                    <a:lnTo>
                      <a:pt x="316" y="72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35320" y="3451320"/>
                <a:ext cx="536400" cy="541440"/>
              </a:xfrm>
              <a:custGeom>
                <a:avLst/>
                <a:gdLst/>
                <a:ahLst/>
                <a:rect l="l" t="t" r="r" b="b"/>
                <a:pathLst>
                  <a:path w="676" h="681">
                    <a:moveTo>
                      <a:pt x="302" y="681"/>
                    </a:moveTo>
                    <a:lnTo>
                      <a:pt x="293" y="677"/>
                    </a:lnTo>
                    <a:lnTo>
                      <a:pt x="293" y="664"/>
                    </a:lnTo>
                    <a:lnTo>
                      <a:pt x="296" y="650"/>
                    </a:lnTo>
                    <a:lnTo>
                      <a:pt x="298" y="636"/>
                    </a:lnTo>
                    <a:lnTo>
                      <a:pt x="302" y="621"/>
                    </a:lnTo>
                    <a:lnTo>
                      <a:pt x="307" y="604"/>
                    </a:lnTo>
                    <a:lnTo>
                      <a:pt x="314" y="586"/>
                    </a:lnTo>
                    <a:lnTo>
                      <a:pt x="320" y="569"/>
                    </a:lnTo>
                    <a:lnTo>
                      <a:pt x="327" y="552"/>
                    </a:lnTo>
                    <a:lnTo>
                      <a:pt x="335" y="533"/>
                    </a:lnTo>
                    <a:lnTo>
                      <a:pt x="343" y="516"/>
                    </a:lnTo>
                    <a:lnTo>
                      <a:pt x="351" y="500"/>
                    </a:lnTo>
                    <a:lnTo>
                      <a:pt x="361" y="484"/>
                    </a:lnTo>
                    <a:lnTo>
                      <a:pt x="361" y="479"/>
                    </a:lnTo>
                    <a:lnTo>
                      <a:pt x="363" y="473"/>
                    </a:lnTo>
                    <a:lnTo>
                      <a:pt x="364" y="468"/>
                    </a:lnTo>
                    <a:lnTo>
                      <a:pt x="365" y="462"/>
                    </a:lnTo>
                    <a:lnTo>
                      <a:pt x="355" y="447"/>
                    </a:lnTo>
                    <a:lnTo>
                      <a:pt x="342" y="432"/>
                    </a:lnTo>
                    <a:lnTo>
                      <a:pt x="327" y="419"/>
                    </a:lnTo>
                    <a:lnTo>
                      <a:pt x="312" y="405"/>
                    </a:lnTo>
                    <a:lnTo>
                      <a:pt x="296" y="392"/>
                    </a:lnTo>
                    <a:lnTo>
                      <a:pt x="280" y="379"/>
                    </a:lnTo>
                    <a:lnTo>
                      <a:pt x="264" y="365"/>
                    </a:lnTo>
                    <a:lnTo>
                      <a:pt x="249" y="351"/>
                    </a:lnTo>
                    <a:lnTo>
                      <a:pt x="235" y="344"/>
                    </a:lnTo>
                    <a:lnTo>
                      <a:pt x="221" y="338"/>
                    </a:lnTo>
                    <a:lnTo>
                      <a:pt x="207" y="331"/>
                    </a:lnTo>
                    <a:lnTo>
                      <a:pt x="191" y="325"/>
                    </a:lnTo>
                    <a:lnTo>
                      <a:pt x="176" y="320"/>
                    </a:lnTo>
                    <a:lnTo>
                      <a:pt x="160" y="314"/>
                    </a:lnTo>
                    <a:lnTo>
                      <a:pt x="144" y="310"/>
                    </a:lnTo>
                    <a:lnTo>
                      <a:pt x="128" y="306"/>
                    </a:lnTo>
                    <a:lnTo>
                      <a:pt x="110" y="302"/>
                    </a:lnTo>
                    <a:lnTo>
                      <a:pt x="94" y="298"/>
                    </a:lnTo>
                    <a:lnTo>
                      <a:pt x="78" y="295"/>
                    </a:lnTo>
                    <a:lnTo>
                      <a:pt x="62" y="291"/>
                    </a:lnTo>
                    <a:lnTo>
                      <a:pt x="46" y="288"/>
                    </a:lnTo>
                    <a:lnTo>
                      <a:pt x="30" y="283"/>
                    </a:lnTo>
                    <a:lnTo>
                      <a:pt x="15" y="280"/>
                    </a:lnTo>
                    <a:lnTo>
                      <a:pt x="0" y="276"/>
                    </a:lnTo>
                    <a:lnTo>
                      <a:pt x="1" y="261"/>
                    </a:lnTo>
                    <a:lnTo>
                      <a:pt x="6" y="245"/>
                    </a:lnTo>
                    <a:lnTo>
                      <a:pt x="10" y="229"/>
                    </a:lnTo>
                    <a:lnTo>
                      <a:pt x="16" y="212"/>
                    </a:lnTo>
                    <a:lnTo>
                      <a:pt x="30" y="193"/>
                    </a:lnTo>
                    <a:lnTo>
                      <a:pt x="47" y="179"/>
                    </a:lnTo>
                    <a:lnTo>
                      <a:pt x="65" y="165"/>
                    </a:lnTo>
                    <a:lnTo>
                      <a:pt x="85" y="154"/>
                    </a:lnTo>
                    <a:lnTo>
                      <a:pt x="107" y="145"/>
                    </a:lnTo>
                    <a:lnTo>
                      <a:pt x="130" y="138"/>
                    </a:lnTo>
                    <a:lnTo>
                      <a:pt x="154" y="131"/>
                    </a:lnTo>
                    <a:lnTo>
                      <a:pt x="178" y="126"/>
                    </a:lnTo>
                    <a:lnTo>
                      <a:pt x="183" y="127"/>
                    </a:lnTo>
                    <a:lnTo>
                      <a:pt x="189" y="127"/>
                    </a:lnTo>
                    <a:lnTo>
                      <a:pt x="194" y="128"/>
                    </a:lnTo>
                    <a:lnTo>
                      <a:pt x="200" y="128"/>
                    </a:lnTo>
                    <a:lnTo>
                      <a:pt x="207" y="128"/>
                    </a:lnTo>
                    <a:lnTo>
                      <a:pt x="213" y="128"/>
                    </a:lnTo>
                    <a:lnTo>
                      <a:pt x="220" y="128"/>
                    </a:lnTo>
                    <a:lnTo>
                      <a:pt x="227" y="128"/>
                    </a:lnTo>
                    <a:lnTo>
                      <a:pt x="238" y="111"/>
                    </a:lnTo>
                    <a:lnTo>
                      <a:pt x="252" y="96"/>
                    </a:lnTo>
                    <a:lnTo>
                      <a:pt x="267" y="81"/>
                    </a:lnTo>
                    <a:lnTo>
                      <a:pt x="282" y="67"/>
                    </a:lnTo>
                    <a:lnTo>
                      <a:pt x="299" y="55"/>
                    </a:lnTo>
                    <a:lnTo>
                      <a:pt x="317" y="44"/>
                    </a:lnTo>
                    <a:lnTo>
                      <a:pt x="336" y="33"/>
                    </a:lnTo>
                    <a:lnTo>
                      <a:pt x="356" y="25"/>
                    </a:lnTo>
                    <a:lnTo>
                      <a:pt x="375" y="17"/>
                    </a:lnTo>
                    <a:lnTo>
                      <a:pt x="396" y="11"/>
                    </a:lnTo>
                    <a:lnTo>
                      <a:pt x="417" y="7"/>
                    </a:lnTo>
                    <a:lnTo>
                      <a:pt x="439" y="3"/>
                    </a:lnTo>
                    <a:lnTo>
                      <a:pt x="459" y="1"/>
                    </a:lnTo>
                    <a:lnTo>
                      <a:pt x="481" y="0"/>
                    </a:lnTo>
                    <a:lnTo>
                      <a:pt x="503" y="1"/>
                    </a:lnTo>
                    <a:lnTo>
                      <a:pt x="525" y="3"/>
                    </a:lnTo>
                    <a:lnTo>
                      <a:pt x="531" y="3"/>
                    </a:lnTo>
                    <a:lnTo>
                      <a:pt x="538" y="6"/>
                    </a:lnTo>
                    <a:lnTo>
                      <a:pt x="546" y="8"/>
                    </a:lnTo>
                    <a:lnTo>
                      <a:pt x="554" y="8"/>
                    </a:lnTo>
                    <a:lnTo>
                      <a:pt x="559" y="11"/>
                    </a:lnTo>
                    <a:lnTo>
                      <a:pt x="566" y="15"/>
                    </a:lnTo>
                    <a:lnTo>
                      <a:pt x="572" y="18"/>
                    </a:lnTo>
                    <a:lnTo>
                      <a:pt x="580" y="22"/>
                    </a:lnTo>
                    <a:lnTo>
                      <a:pt x="587" y="25"/>
                    </a:lnTo>
                    <a:lnTo>
                      <a:pt x="595" y="29"/>
                    </a:lnTo>
                    <a:lnTo>
                      <a:pt x="602" y="32"/>
                    </a:lnTo>
                    <a:lnTo>
                      <a:pt x="610" y="36"/>
                    </a:lnTo>
                    <a:lnTo>
                      <a:pt x="624" y="45"/>
                    </a:lnTo>
                    <a:lnTo>
                      <a:pt x="637" y="56"/>
                    </a:lnTo>
                    <a:lnTo>
                      <a:pt x="647" y="69"/>
                    </a:lnTo>
                    <a:lnTo>
                      <a:pt x="656" y="84"/>
                    </a:lnTo>
                    <a:lnTo>
                      <a:pt x="663" y="101"/>
                    </a:lnTo>
                    <a:lnTo>
                      <a:pt x="669" y="119"/>
                    </a:lnTo>
                    <a:lnTo>
                      <a:pt x="673" y="136"/>
                    </a:lnTo>
                    <a:lnTo>
                      <a:pt x="676" y="154"/>
                    </a:lnTo>
                    <a:lnTo>
                      <a:pt x="675" y="183"/>
                    </a:lnTo>
                    <a:lnTo>
                      <a:pt x="669" y="213"/>
                    </a:lnTo>
                    <a:lnTo>
                      <a:pt x="662" y="242"/>
                    </a:lnTo>
                    <a:lnTo>
                      <a:pt x="650" y="268"/>
                    </a:lnTo>
                    <a:lnTo>
                      <a:pt x="637" y="295"/>
                    </a:lnTo>
                    <a:lnTo>
                      <a:pt x="621" y="318"/>
                    </a:lnTo>
                    <a:lnTo>
                      <a:pt x="602" y="339"/>
                    </a:lnTo>
                    <a:lnTo>
                      <a:pt x="581" y="356"/>
                    </a:lnTo>
                    <a:lnTo>
                      <a:pt x="577" y="359"/>
                    </a:lnTo>
                    <a:lnTo>
                      <a:pt x="571" y="363"/>
                    </a:lnTo>
                    <a:lnTo>
                      <a:pt x="566" y="366"/>
                    </a:lnTo>
                    <a:lnTo>
                      <a:pt x="561" y="371"/>
                    </a:lnTo>
                    <a:lnTo>
                      <a:pt x="555" y="376"/>
                    </a:lnTo>
                    <a:lnTo>
                      <a:pt x="549" y="379"/>
                    </a:lnTo>
                    <a:lnTo>
                      <a:pt x="543" y="384"/>
                    </a:lnTo>
                    <a:lnTo>
                      <a:pt x="538" y="387"/>
                    </a:lnTo>
                    <a:lnTo>
                      <a:pt x="536" y="394"/>
                    </a:lnTo>
                    <a:lnTo>
                      <a:pt x="543" y="418"/>
                    </a:lnTo>
                    <a:lnTo>
                      <a:pt x="549" y="442"/>
                    </a:lnTo>
                    <a:lnTo>
                      <a:pt x="553" y="469"/>
                    </a:lnTo>
                    <a:lnTo>
                      <a:pt x="548" y="495"/>
                    </a:lnTo>
                    <a:lnTo>
                      <a:pt x="540" y="520"/>
                    </a:lnTo>
                    <a:lnTo>
                      <a:pt x="530" y="543"/>
                    </a:lnTo>
                    <a:lnTo>
                      <a:pt x="517" y="563"/>
                    </a:lnTo>
                    <a:lnTo>
                      <a:pt x="502" y="583"/>
                    </a:lnTo>
                    <a:lnTo>
                      <a:pt x="485" y="601"/>
                    </a:lnTo>
                    <a:lnTo>
                      <a:pt x="465" y="616"/>
                    </a:lnTo>
                    <a:lnTo>
                      <a:pt x="443" y="629"/>
                    </a:lnTo>
                    <a:lnTo>
                      <a:pt x="419" y="639"/>
                    </a:lnTo>
                    <a:lnTo>
                      <a:pt x="412" y="642"/>
                    </a:lnTo>
                    <a:lnTo>
                      <a:pt x="405" y="642"/>
                    </a:lnTo>
                    <a:lnTo>
                      <a:pt x="397" y="642"/>
                    </a:lnTo>
                    <a:lnTo>
                      <a:pt x="390" y="641"/>
                    </a:lnTo>
                    <a:lnTo>
                      <a:pt x="382" y="638"/>
                    </a:lnTo>
                    <a:lnTo>
                      <a:pt x="375" y="636"/>
                    </a:lnTo>
                    <a:lnTo>
                      <a:pt x="368" y="632"/>
                    </a:lnTo>
                    <a:lnTo>
                      <a:pt x="361" y="629"/>
                    </a:lnTo>
                    <a:lnTo>
                      <a:pt x="346" y="635"/>
                    </a:lnTo>
                    <a:lnTo>
                      <a:pt x="346" y="642"/>
                    </a:lnTo>
                    <a:lnTo>
                      <a:pt x="345" y="647"/>
                    </a:lnTo>
                    <a:lnTo>
                      <a:pt x="344" y="654"/>
                    </a:lnTo>
                    <a:lnTo>
                      <a:pt x="342" y="660"/>
                    </a:lnTo>
                    <a:lnTo>
                      <a:pt x="337" y="665"/>
                    </a:lnTo>
                    <a:lnTo>
                      <a:pt x="322" y="675"/>
                    </a:lnTo>
                    <a:lnTo>
                      <a:pt x="318" y="677"/>
                    </a:lnTo>
                    <a:lnTo>
                      <a:pt x="313" y="677"/>
                    </a:lnTo>
                    <a:lnTo>
                      <a:pt x="307" y="679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30360" y="3799080"/>
                <a:ext cx="42840" cy="95040"/>
              </a:xfrm>
              <a:custGeom>
                <a:avLst/>
                <a:gdLst/>
                <a:ahLst/>
                <a:rect l="l" t="t" r="r" b="b"/>
                <a:pathLst>
                  <a:path w="53" h="118">
                    <a:moveTo>
                      <a:pt x="0" y="118"/>
                    </a:moveTo>
                    <a:lnTo>
                      <a:pt x="0" y="90"/>
                    </a:lnTo>
                    <a:lnTo>
                      <a:pt x="4" y="60"/>
                    </a:lnTo>
                    <a:lnTo>
                      <a:pt x="12" y="31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3" y="1"/>
                    </a:lnTo>
                    <a:lnTo>
                      <a:pt x="48" y="3"/>
                    </a:lnTo>
                    <a:lnTo>
                      <a:pt x="53" y="7"/>
                    </a:lnTo>
                    <a:lnTo>
                      <a:pt x="53" y="30"/>
                    </a:lnTo>
                    <a:lnTo>
                      <a:pt x="48" y="53"/>
                    </a:lnTo>
                    <a:lnTo>
                      <a:pt x="39" y="77"/>
                    </a:lnTo>
                    <a:lnTo>
                      <a:pt x="31" y="101"/>
                    </a:lnTo>
                    <a:lnTo>
                      <a:pt x="27" y="106"/>
                    </a:lnTo>
                    <a:lnTo>
                      <a:pt x="21" y="108"/>
                    </a:lnTo>
                    <a:lnTo>
                      <a:pt x="17" y="111"/>
                    </a:lnTo>
                    <a:lnTo>
                      <a:pt x="12" y="115"/>
                    </a:lnTo>
                    <a:lnTo>
                      <a:pt x="4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38200" y="3778200"/>
                <a:ext cx="41400" cy="92160"/>
              </a:xfrm>
              <a:custGeom>
                <a:avLst/>
                <a:gdLst/>
                <a:ahLst/>
                <a:rect l="l" t="t" r="r" b="b"/>
                <a:pathLst>
                  <a:path w="53" h="115">
                    <a:moveTo>
                      <a:pt x="2" y="115"/>
                    </a:moveTo>
                    <a:lnTo>
                      <a:pt x="0" y="98"/>
                    </a:lnTo>
                    <a:lnTo>
                      <a:pt x="2" y="80"/>
                    </a:lnTo>
                    <a:lnTo>
                      <a:pt x="8" y="62"/>
                    </a:lnTo>
                    <a:lnTo>
                      <a:pt x="13" y="44"/>
                    </a:lnTo>
                    <a:lnTo>
                      <a:pt x="16" y="31"/>
                    </a:lnTo>
                    <a:lnTo>
                      <a:pt x="21" y="21"/>
                    </a:lnTo>
                    <a:lnTo>
                      <a:pt x="27" y="11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52" y="13"/>
                    </a:lnTo>
                    <a:lnTo>
                      <a:pt x="53" y="36"/>
                    </a:lnTo>
                    <a:lnTo>
                      <a:pt x="47" y="59"/>
                    </a:lnTo>
                    <a:lnTo>
                      <a:pt x="38" y="83"/>
                    </a:lnTo>
                    <a:lnTo>
                      <a:pt x="29" y="106"/>
                    </a:lnTo>
                    <a:lnTo>
                      <a:pt x="14" y="115"/>
                    </a:lnTo>
                    <a:lnTo>
                      <a:pt x="2" y="11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67120" y="3675240"/>
                <a:ext cx="114120" cy="150840"/>
              </a:xfrm>
              <a:custGeom>
                <a:avLst/>
                <a:gdLst/>
                <a:ahLst/>
                <a:rect l="l" t="t" r="r" b="b"/>
                <a:pathLst>
                  <a:path w="142" h="190">
                    <a:moveTo>
                      <a:pt x="5" y="190"/>
                    </a:moveTo>
                    <a:lnTo>
                      <a:pt x="0" y="186"/>
                    </a:lnTo>
                    <a:lnTo>
                      <a:pt x="19" y="165"/>
                    </a:lnTo>
                    <a:lnTo>
                      <a:pt x="38" y="145"/>
                    </a:lnTo>
                    <a:lnTo>
                      <a:pt x="57" y="124"/>
                    </a:lnTo>
                    <a:lnTo>
                      <a:pt x="74" y="104"/>
                    </a:lnTo>
                    <a:lnTo>
                      <a:pt x="92" y="81"/>
                    </a:lnTo>
                    <a:lnTo>
                      <a:pt x="105" y="57"/>
                    </a:lnTo>
                    <a:lnTo>
                      <a:pt x="118" y="30"/>
                    </a:lnTo>
                    <a:lnTo>
                      <a:pt x="127" y="0"/>
                    </a:lnTo>
                    <a:lnTo>
                      <a:pt x="142" y="0"/>
                    </a:lnTo>
                    <a:lnTo>
                      <a:pt x="141" y="8"/>
                    </a:lnTo>
                    <a:lnTo>
                      <a:pt x="138" y="15"/>
                    </a:lnTo>
                    <a:lnTo>
                      <a:pt x="134" y="22"/>
                    </a:lnTo>
                    <a:lnTo>
                      <a:pt x="133" y="29"/>
                    </a:lnTo>
                    <a:lnTo>
                      <a:pt x="131" y="40"/>
                    </a:lnTo>
                    <a:lnTo>
                      <a:pt x="126" y="51"/>
                    </a:lnTo>
                    <a:lnTo>
                      <a:pt x="120" y="61"/>
                    </a:lnTo>
                    <a:lnTo>
                      <a:pt x="115" y="73"/>
                    </a:lnTo>
                    <a:lnTo>
                      <a:pt x="104" y="88"/>
                    </a:lnTo>
                    <a:lnTo>
                      <a:pt x="93" y="104"/>
                    </a:lnTo>
                    <a:lnTo>
                      <a:pt x="80" y="120"/>
                    </a:lnTo>
                    <a:lnTo>
                      <a:pt x="67" y="136"/>
                    </a:lnTo>
                    <a:lnTo>
                      <a:pt x="54" y="152"/>
                    </a:lnTo>
                    <a:lnTo>
                      <a:pt x="39" y="166"/>
                    </a:lnTo>
                    <a:lnTo>
                      <a:pt x="23" y="179"/>
                    </a:lnTo>
                    <a:lnTo>
                      <a:pt x="5" y="19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00400" y="3794040"/>
                <a:ext cx="160200" cy="32040"/>
              </a:xfrm>
              <a:custGeom>
                <a:avLst/>
                <a:gdLst/>
                <a:ahLst/>
                <a:rect l="l" t="t" r="r" b="b"/>
                <a:pathLst>
                  <a:path w="203" h="40">
                    <a:moveTo>
                      <a:pt x="192" y="40"/>
                    </a:moveTo>
                    <a:lnTo>
                      <a:pt x="181" y="39"/>
                    </a:lnTo>
                    <a:lnTo>
                      <a:pt x="169" y="38"/>
                    </a:lnTo>
                    <a:lnTo>
                      <a:pt x="158" y="37"/>
                    </a:lnTo>
                    <a:lnTo>
                      <a:pt x="146" y="34"/>
                    </a:lnTo>
                    <a:lnTo>
                      <a:pt x="135" y="33"/>
                    </a:lnTo>
                    <a:lnTo>
                      <a:pt x="123" y="32"/>
                    </a:lnTo>
                    <a:lnTo>
                      <a:pt x="112" y="30"/>
                    </a:lnTo>
                    <a:lnTo>
                      <a:pt x="100" y="29"/>
                    </a:lnTo>
                    <a:lnTo>
                      <a:pt x="89" y="27"/>
                    </a:lnTo>
                    <a:lnTo>
                      <a:pt x="76" y="25"/>
                    </a:lnTo>
                    <a:lnTo>
                      <a:pt x="65" y="24"/>
                    </a:lnTo>
                    <a:lnTo>
                      <a:pt x="53" y="22"/>
                    </a:lnTo>
                    <a:lnTo>
                      <a:pt x="42" y="19"/>
                    </a:lnTo>
                    <a:lnTo>
                      <a:pt x="29" y="18"/>
                    </a:lnTo>
                    <a:lnTo>
                      <a:pt x="17" y="16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7" y="2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42" y="6"/>
                    </a:lnTo>
                    <a:lnTo>
                      <a:pt x="64" y="10"/>
                    </a:lnTo>
                    <a:lnTo>
                      <a:pt x="87" y="15"/>
                    </a:lnTo>
                    <a:lnTo>
                      <a:pt x="111" y="17"/>
                    </a:lnTo>
                    <a:lnTo>
                      <a:pt x="135" y="21"/>
                    </a:lnTo>
                    <a:lnTo>
                      <a:pt x="158" y="22"/>
                    </a:lnTo>
                    <a:lnTo>
                      <a:pt x="181" y="24"/>
                    </a:lnTo>
                    <a:lnTo>
                      <a:pt x="203" y="25"/>
                    </a:lnTo>
                    <a:lnTo>
                      <a:pt x="203" y="30"/>
                    </a:lnTo>
                    <a:lnTo>
                      <a:pt x="201" y="34"/>
                    </a:lnTo>
                    <a:lnTo>
                      <a:pt x="197" y="37"/>
                    </a:lnTo>
                    <a:lnTo>
                      <a:pt x="192" y="40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2920" y="377352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32" y="65"/>
                    </a:moveTo>
                    <a:lnTo>
                      <a:pt x="31" y="56"/>
                    </a:lnTo>
                    <a:lnTo>
                      <a:pt x="32" y="48"/>
                    </a:lnTo>
                    <a:lnTo>
                      <a:pt x="34" y="38"/>
                    </a:lnTo>
                    <a:lnTo>
                      <a:pt x="32" y="28"/>
                    </a:lnTo>
                    <a:lnTo>
                      <a:pt x="26" y="23"/>
                    </a:lnTo>
                    <a:lnTo>
                      <a:pt x="16" y="20"/>
                    </a:lnTo>
                    <a:lnTo>
                      <a:pt x="8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44" y="21"/>
                    </a:lnTo>
                    <a:lnTo>
                      <a:pt x="45" y="30"/>
                    </a:lnTo>
                    <a:lnTo>
                      <a:pt x="46" y="39"/>
                    </a:lnTo>
                    <a:lnTo>
                      <a:pt x="47" y="48"/>
                    </a:lnTo>
                    <a:lnTo>
                      <a:pt x="46" y="58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08440" y="3643200"/>
                <a:ext cx="110880" cy="146160"/>
              </a:xfrm>
              <a:custGeom>
                <a:avLst/>
                <a:gdLst/>
                <a:ahLst/>
                <a:rect l="l" t="t" r="r" b="b"/>
                <a:pathLst>
                  <a:path w="139" h="184">
                    <a:moveTo>
                      <a:pt x="7" y="184"/>
                    </a:moveTo>
                    <a:lnTo>
                      <a:pt x="0" y="179"/>
                    </a:lnTo>
                    <a:lnTo>
                      <a:pt x="0" y="174"/>
                    </a:lnTo>
                    <a:lnTo>
                      <a:pt x="2" y="167"/>
                    </a:lnTo>
                    <a:lnTo>
                      <a:pt x="3" y="159"/>
                    </a:lnTo>
                    <a:lnTo>
                      <a:pt x="3" y="152"/>
                    </a:lnTo>
                    <a:lnTo>
                      <a:pt x="4" y="144"/>
                    </a:lnTo>
                    <a:lnTo>
                      <a:pt x="9" y="137"/>
                    </a:lnTo>
                    <a:lnTo>
                      <a:pt x="13" y="130"/>
                    </a:lnTo>
                    <a:lnTo>
                      <a:pt x="14" y="122"/>
                    </a:lnTo>
                    <a:lnTo>
                      <a:pt x="24" y="106"/>
                    </a:lnTo>
                    <a:lnTo>
                      <a:pt x="34" y="90"/>
                    </a:lnTo>
                    <a:lnTo>
                      <a:pt x="45" y="72"/>
                    </a:lnTo>
                    <a:lnTo>
                      <a:pt x="56" y="56"/>
                    </a:lnTo>
                    <a:lnTo>
                      <a:pt x="69" y="40"/>
                    </a:lnTo>
                    <a:lnTo>
                      <a:pt x="84" y="25"/>
                    </a:lnTo>
                    <a:lnTo>
                      <a:pt x="99" y="11"/>
                    </a:lnTo>
                    <a:lnTo>
                      <a:pt x="117" y="0"/>
                    </a:lnTo>
                    <a:lnTo>
                      <a:pt x="132" y="7"/>
                    </a:lnTo>
                    <a:lnTo>
                      <a:pt x="136" y="12"/>
                    </a:lnTo>
                    <a:lnTo>
                      <a:pt x="138" y="19"/>
                    </a:lnTo>
                    <a:lnTo>
                      <a:pt x="139" y="27"/>
                    </a:lnTo>
                    <a:lnTo>
                      <a:pt x="139" y="35"/>
                    </a:lnTo>
                    <a:lnTo>
                      <a:pt x="130" y="58"/>
                    </a:lnTo>
                    <a:lnTo>
                      <a:pt x="120" y="80"/>
                    </a:lnTo>
                    <a:lnTo>
                      <a:pt x="108" y="101"/>
                    </a:lnTo>
                    <a:lnTo>
                      <a:pt x="94" y="121"/>
                    </a:lnTo>
                    <a:lnTo>
                      <a:pt x="79" y="138"/>
                    </a:lnTo>
                    <a:lnTo>
                      <a:pt x="62" y="155"/>
                    </a:lnTo>
                    <a:lnTo>
                      <a:pt x="44" y="170"/>
                    </a:lnTo>
                    <a:lnTo>
                      <a:pt x="24" y="184"/>
                    </a:lnTo>
                    <a:lnTo>
                      <a:pt x="7" y="18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25720" y="3659400"/>
                <a:ext cx="7956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0" y="144"/>
                    </a:moveTo>
                    <a:lnTo>
                      <a:pt x="1" y="133"/>
                    </a:lnTo>
                    <a:lnTo>
                      <a:pt x="4" y="122"/>
                    </a:lnTo>
                    <a:lnTo>
                      <a:pt x="9" y="112"/>
                    </a:lnTo>
                    <a:lnTo>
                      <a:pt x="12" y="101"/>
                    </a:lnTo>
                    <a:lnTo>
                      <a:pt x="21" y="88"/>
                    </a:lnTo>
                    <a:lnTo>
                      <a:pt x="31" y="74"/>
                    </a:lnTo>
                    <a:lnTo>
                      <a:pt x="40" y="61"/>
                    </a:lnTo>
                    <a:lnTo>
                      <a:pt x="49" y="48"/>
                    </a:lnTo>
                    <a:lnTo>
                      <a:pt x="58" y="35"/>
                    </a:lnTo>
                    <a:lnTo>
                      <a:pt x="70" y="22"/>
                    </a:lnTo>
                    <a:lnTo>
                      <a:pt x="81" y="11"/>
                    </a:lnTo>
                    <a:lnTo>
                      <a:pt x="96" y="0"/>
                    </a:lnTo>
                    <a:lnTo>
                      <a:pt x="101" y="5"/>
                    </a:lnTo>
                    <a:lnTo>
                      <a:pt x="101" y="12"/>
                    </a:lnTo>
                    <a:lnTo>
                      <a:pt x="99" y="19"/>
                    </a:lnTo>
                    <a:lnTo>
                      <a:pt x="96" y="26"/>
                    </a:lnTo>
                    <a:lnTo>
                      <a:pt x="96" y="34"/>
                    </a:lnTo>
                    <a:lnTo>
                      <a:pt x="91" y="49"/>
                    </a:lnTo>
                    <a:lnTo>
                      <a:pt x="84" y="59"/>
                    </a:lnTo>
                    <a:lnTo>
                      <a:pt x="77" y="71"/>
                    </a:lnTo>
                    <a:lnTo>
                      <a:pt x="69" y="81"/>
                    </a:lnTo>
                    <a:lnTo>
                      <a:pt x="61" y="91"/>
                    </a:lnTo>
                    <a:lnTo>
                      <a:pt x="53" y="102"/>
                    </a:lnTo>
                    <a:lnTo>
                      <a:pt x="43" y="112"/>
                    </a:lnTo>
                    <a:lnTo>
                      <a:pt x="33" y="122"/>
                    </a:lnTo>
                    <a:lnTo>
                      <a:pt x="21" y="133"/>
                    </a:lnTo>
                    <a:lnTo>
                      <a:pt x="16" y="135"/>
                    </a:lnTo>
                    <a:lnTo>
                      <a:pt x="12" y="139"/>
                    </a:lnTo>
                    <a:lnTo>
                      <a:pt x="6" y="14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35160" y="3602160"/>
                <a:ext cx="84240" cy="162000"/>
              </a:xfrm>
              <a:custGeom>
                <a:avLst/>
                <a:gdLst/>
                <a:ahLst/>
                <a:rect l="l" t="t" r="r" b="b"/>
                <a:pathLst>
                  <a:path w="104" h="205">
                    <a:moveTo>
                      <a:pt x="10" y="205"/>
                    </a:moveTo>
                    <a:lnTo>
                      <a:pt x="10" y="200"/>
                    </a:lnTo>
                    <a:lnTo>
                      <a:pt x="9" y="195"/>
                    </a:lnTo>
                    <a:lnTo>
                      <a:pt x="5" y="191"/>
                    </a:lnTo>
                    <a:lnTo>
                      <a:pt x="0" y="189"/>
                    </a:lnTo>
                    <a:lnTo>
                      <a:pt x="1" y="169"/>
                    </a:lnTo>
                    <a:lnTo>
                      <a:pt x="4" y="151"/>
                    </a:lnTo>
                    <a:lnTo>
                      <a:pt x="11" y="131"/>
                    </a:lnTo>
                    <a:lnTo>
                      <a:pt x="19" y="114"/>
                    </a:lnTo>
                    <a:lnTo>
                      <a:pt x="27" y="96"/>
                    </a:lnTo>
                    <a:lnTo>
                      <a:pt x="37" y="78"/>
                    </a:lnTo>
                    <a:lnTo>
                      <a:pt x="45" y="61"/>
                    </a:lnTo>
                    <a:lnTo>
                      <a:pt x="51" y="44"/>
                    </a:lnTo>
                    <a:lnTo>
                      <a:pt x="56" y="33"/>
                    </a:lnTo>
                    <a:lnTo>
                      <a:pt x="62" y="23"/>
                    </a:lnTo>
                    <a:lnTo>
                      <a:pt x="69" y="13"/>
                    </a:lnTo>
                    <a:lnTo>
                      <a:pt x="79" y="1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1" y="1"/>
                    </a:lnTo>
                    <a:lnTo>
                      <a:pt x="104" y="26"/>
                    </a:lnTo>
                    <a:lnTo>
                      <a:pt x="103" y="52"/>
                    </a:lnTo>
                    <a:lnTo>
                      <a:pt x="98" y="77"/>
                    </a:lnTo>
                    <a:lnTo>
                      <a:pt x="91" y="102"/>
                    </a:lnTo>
                    <a:lnTo>
                      <a:pt x="80" y="125"/>
                    </a:lnTo>
                    <a:lnTo>
                      <a:pt x="68" y="147"/>
                    </a:lnTo>
                    <a:lnTo>
                      <a:pt x="55" y="168"/>
                    </a:lnTo>
                    <a:lnTo>
                      <a:pt x="40" y="187"/>
                    </a:lnTo>
                    <a:lnTo>
                      <a:pt x="35" y="191"/>
                    </a:lnTo>
                    <a:lnTo>
                      <a:pt x="31" y="196"/>
                    </a:lnTo>
                    <a:lnTo>
                      <a:pt x="25" y="201"/>
                    </a:lnTo>
                    <a:lnTo>
                      <a:pt x="18" y="205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52800" y="3629160"/>
                <a:ext cx="48960" cy="11268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143"/>
                    </a:moveTo>
                    <a:lnTo>
                      <a:pt x="3" y="124"/>
                    </a:lnTo>
                    <a:lnTo>
                      <a:pt x="8" y="104"/>
                    </a:lnTo>
                    <a:lnTo>
                      <a:pt x="15" y="86"/>
                    </a:lnTo>
                    <a:lnTo>
                      <a:pt x="23" y="68"/>
                    </a:lnTo>
                    <a:lnTo>
                      <a:pt x="32" y="51"/>
                    </a:lnTo>
                    <a:lnTo>
                      <a:pt x="41" y="34"/>
                    </a:lnTo>
                    <a:lnTo>
                      <a:pt x="49" y="18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2" y="11"/>
                    </a:lnTo>
                    <a:lnTo>
                      <a:pt x="61" y="21"/>
                    </a:lnTo>
                    <a:lnTo>
                      <a:pt x="58" y="31"/>
                    </a:lnTo>
                    <a:lnTo>
                      <a:pt x="57" y="43"/>
                    </a:lnTo>
                    <a:lnTo>
                      <a:pt x="55" y="50"/>
                    </a:lnTo>
                    <a:lnTo>
                      <a:pt x="50" y="56"/>
                    </a:lnTo>
                    <a:lnTo>
                      <a:pt x="44" y="63"/>
                    </a:lnTo>
                    <a:lnTo>
                      <a:pt x="43" y="72"/>
                    </a:lnTo>
                    <a:lnTo>
                      <a:pt x="41" y="83"/>
                    </a:lnTo>
                    <a:lnTo>
                      <a:pt x="36" y="94"/>
                    </a:lnTo>
                    <a:lnTo>
                      <a:pt x="32" y="104"/>
                    </a:lnTo>
                    <a:lnTo>
                      <a:pt x="26" y="116"/>
                    </a:lnTo>
                    <a:lnTo>
                      <a:pt x="19" y="122"/>
                    </a:lnTo>
                    <a:lnTo>
                      <a:pt x="16" y="129"/>
                    </a:lnTo>
                    <a:lnTo>
                      <a:pt x="11" y="136"/>
                    </a:lnTo>
                    <a:lnTo>
                      <a:pt x="4" y="143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77920" y="3579840"/>
                <a:ext cx="71640" cy="152280"/>
              </a:xfrm>
              <a:custGeom>
                <a:avLst/>
                <a:gdLst/>
                <a:ahLst/>
                <a:rect l="l" t="t" r="r" b="b"/>
                <a:pathLst>
                  <a:path w="90" h="193">
                    <a:moveTo>
                      <a:pt x="7" y="193"/>
                    </a:moveTo>
                    <a:lnTo>
                      <a:pt x="0" y="187"/>
                    </a:lnTo>
                    <a:lnTo>
                      <a:pt x="0" y="171"/>
                    </a:lnTo>
                    <a:lnTo>
                      <a:pt x="1" y="153"/>
                    </a:lnTo>
                    <a:lnTo>
                      <a:pt x="6" y="137"/>
                    </a:lnTo>
                    <a:lnTo>
                      <a:pt x="12" y="120"/>
                    </a:lnTo>
                    <a:lnTo>
                      <a:pt x="17" y="104"/>
                    </a:lnTo>
                    <a:lnTo>
                      <a:pt x="24" y="88"/>
                    </a:lnTo>
                    <a:lnTo>
                      <a:pt x="30" y="73"/>
                    </a:lnTo>
                    <a:lnTo>
                      <a:pt x="36" y="59"/>
                    </a:lnTo>
                    <a:lnTo>
                      <a:pt x="40" y="51"/>
                    </a:lnTo>
                    <a:lnTo>
                      <a:pt x="45" y="43"/>
                    </a:lnTo>
                    <a:lnTo>
                      <a:pt x="50" y="35"/>
                    </a:lnTo>
                    <a:lnTo>
                      <a:pt x="55" y="27"/>
                    </a:lnTo>
                    <a:lnTo>
                      <a:pt x="61" y="19"/>
                    </a:lnTo>
                    <a:lnTo>
                      <a:pt x="67" y="12"/>
                    </a:lnTo>
                    <a:lnTo>
                      <a:pt x="75" y="6"/>
                    </a:lnTo>
                    <a:lnTo>
                      <a:pt x="83" y="0"/>
                    </a:lnTo>
                    <a:lnTo>
                      <a:pt x="90" y="5"/>
                    </a:lnTo>
                    <a:lnTo>
                      <a:pt x="90" y="13"/>
                    </a:lnTo>
                    <a:lnTo>
                      <a:pt x="77" y="30"/>
                    </a:lnTo>
                    <a:lnTo>
                      <a:pt x="65" y="49"/>
                    </a:lnTo>
                    <a:lnTo>
                      <a:pt x="54" y="69"/>
                    </a:lnTo>
                    <a:lnTo>
                      <a:pt x="44" y="90"/>
                    </a:lnTo>
                    <a:lnTo>
                      <a:pt x="35" y="113"/>
                    </a:lnTo>
                    <a:lnTo>
                      <a:pt x="28" y="137"/>
                    </a:lnTo>
                    <a:lnTo>
                      <a:pt x="23" y="162"/>
                    </a:lnTo>
                    <a:lnTo>
                      <a:pt x="20" y="186"/>
                    </a:lnTo>
                    <a:lnTo>
                      <a:pt x="7" y="19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47800" y="3668760"/>
                <a:ext cx="104760" cy="4932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125" y="62"/>
                    </a:moveTo>
                    <a:lnTo>
                      <a:pt x="118" y="60"/>
                    </a:lnTo>
                    <a:lnTo>
                      <a:pt x="111" y="56"/>
                    </a:lnTo>
                    <a:lnTo>
                      <a:pt x="103" y="52"/>
                    </a:lnTo>
                    <a:lnTo>
                      <a:pt x="96" y="47"/>
                    </a:lnTo>
                    <a:lnTo>
                      <a:pt x="85" y="45"/>
                    </a:lnTo>
                    <a:lnTo>
                      <a:pt x="74" y="41"/>
                    </a:lnTo>
                    <a:lnTo>
                      <a:pt x="62" y="38"/>
                    </a:lnTo>
                    <a:lnTo>
                      <a:pt x="51" y="33"/>
                    </a:lnTo>
                    <a:lnTo>
                      <a:pt x="39" y="29"/>
                    </a:lnTo>
                    <a:lnTo>
                      <a:pt x="27" y="24"/>
                    </a:lnTo>
                    <a:lnTo>
                      <a:pt x="14" y="21"/>
                    </a:lnTo>
                    <a:lnTo>
                      <a:pt x="1" y="16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22" y="7"/>
                    </a:lnTo>
                    <a:lnTo>
                      <a:pt x="38" y="13"/>
                    </a:lnTo>
                    <a:lnTo>
                      <a:pt x="54" y="18"/>
                    </a:lnTo>
                    <a:lnTo>
                      <a:pt x="72" y="23"/>
                    </a:lnTo>
                    <a:lnTo>
                      <a:pt x="88" y="30"/>
                    </a:lnTo>
                    <a:lnTo>
                      <a:pt x="104" y="37"/>
                    </a:lnTo>
                    <a:lnTo>
                      <a:pt x="120" y="45"/>
                    </a:lnTo>
                    <a:lnTo>
                      <a:pt x="134" y="54"/>
                    </a:lnTo>
                    <a:lnTo>
                      <a:pt x="125" y="6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82760" y="3614760"/>
                <a:ext cx="123840" cy="27000"/>
              </a:xfrm>
              <a:custGeom>
                <a:avLst/>
                <a:gdLst/>
                <a:ahLst/>
                <a:rect l="l" t="t" r="r" b="b"/>
                <a:pathLst>
                  <a:path w="156" h="33">
                    <a:moveTo>
                      <a:pt x="22" y="33"/>
                    </a:moveTo>
                    <a:lnTo>
                      <a:pt x="18" y="31"/>
                    </a:lnTo>
                    <a:lnTo>
                      <a:pt x="13" y="30"/>
                    </a:lnTo>
                    <a:lnTo>
                      <a:pt x="7" y="3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23" y="18"/>
                    </a:lnTo>
                    <a:lnTo>
                      <a:pt x="42" y="17"/>
                    </a:lnTo>
                    <a:lnTo>
                      <a:pt x="61" y="14"/>
                    </a:lnTo>
                    <a:lnTo>
                      <a:pt x="80" y="10"/>
                    </a:lnTo>
                    <a:lnTo>
                      <a:pt x="99" y="7"/>
                    </a:lnTo>
                    <a:lnTo>
                      <a:pt x="118" y="3"/>
                    </a:lnTo>
                    <a:lnTo>
                      <a:pt x="137" y="1"/>
                    </a:lnTo>
                    <a:lnTo>
                      <a:pt x="156" y="0"/>
                    </a:lnTo>
                    <a:lnTo>
                      <a:pt x="155" y="7"/>
                    </a:lnTo>
                    <a:lnTo>
                      <a:pt x="149" y="12"/>
                    </a:lnTo>
                    <a:lnTo>
                      <a:pt x="134" y="15"/>
                    </a:lnTo>
                    <a:lnTo>
                      <a:pt x="118" y="20"/>
                    </a:lnTo>
                    <a:lnTo>
                      <a:pt x="103" y="23"/>
                    </a:lnTo>
                    <a:lnTo>
                      <a:pt x="87" y="25"/>
                    </a:lnTo>
                    <a:lnTo>
                      <a:pt x="71" y="29"/>
                    </a:lnTo>
                    <a:lnTo>
                      <a:pt x="54" y="31"/>
                    </a:lnTo>
                    <a:lnTo>
                      <a:pt x="38" y="32"/>
                    </a:lnTo>
                    <a:lnTo>
                      <a:pt x="22" y="3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82720" y="3468600"/>
                <a:ext cx="128520" cy="139680"/>
              </a:xfrm>
              <a:custGeom>
                <a:avLst/>
                <a:gdLst/>
                <a:ahLst/>
                <a:rect l="l" t="t" r="r" b="b"/>
                <a:pathLst>
                  <a:path w="161" h="175">
                    <a:moveTo>
                      <a:pt x="150" y="175"/>
                    </a:moveTo>
                    <a:lnTo>
                      <a:pt x="145" y="167"/>
                    </a:lnTo>
                    <a:lnTo>
                      <a:pt x="140" y="158"/>
                    </a:lnTo>
                    <a:lnTo>
                      <a:pt x="134" y="150"/>
                    </a:lnTo>
                    <a:lnTo>
                      <a:pt x="127" y="142"/>
                    </a:lnTo>
                    <a:lnTo>
                      <a:pt x="120" y="132"/>
                    </a:lnTo>
                    <a:lnTo>
                      <a:pt x="113" y="123"/>
                    </a:lnTo>
                    <a:lnTo>
                      <a:pt x="107" y="114"/>
                    </a:lnTo>
                    <a:lnTo>
                      <a:pt x="102" y="104"/>
                    </a:lnTo>
                    <a:lnTo>
                      <a:pt x="91" y="91"/>
                    </a:lnTo>
                    <a:lnTo>
                      <a:pt x="80" y="78"/>
                    </a:lnTo>
                    <a:lnTo>
                      <a:pt x="67" y="67"/>
                    </a:lnTo>
                    <a:lnTo>
                      <a:pt x="53" y="54"/>
                    </a:lnTo>
                    <a:lnTo>
                      <a:pt x="39" y="42"/>
                    </a:lnTo>
                    <a:lnTo>
                      <a:pt x="26" y="31"/>
                    </a:lnTo>
                    <a:lnTo>
                      <a:pt x="13" y="1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29" y="16"/>
                    </a:lnTo>
                    <a:lnTo>
                      <a:pt x="52" y="34"/>
                    </a:lnTo>
                    <a:lnTo>
                      <a:pt x="73" y="55"/>
                    </a:lnTo>
                    <a:lnTo>
                      <a:pt x="93" y="77"/>
                    </a:lnTo>
                    <a:lnTo>
                      <a:pt x="112" y="100"/>
                    </a:lnTo>
                    <a:lnTo>
                      <a:pt x="130" y="123"/>
                    </a:lnTo>
                    <a:lnTo>
                      <a:pt x="146" y="146"/>
                    </a:lnTo>
                    <a:lnTo>
                      <a:pt x="161" y="168"/>
                    </a:lnTo>
                    <a:lnTo>
                      <a:pt x="150" y="175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22640" y="347364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6" y="102"/>
                    </a:moveTo>
                    <a:lnTo>
                      <a:pt x="0" y="94"/>
                    </a:lnTo>
                    <a:lnTo>
                      <a:pt x="2" y="87"/>
                    </a:lnTo>
                    <a:lnTo>
                      <a:pt x="14" y="79"/>
                    </a:lnTo>
                    <a:lnTo>
                      <a:pt x="25" y="68"/>
                    </a:lnTo>
                    <a:lnTo>
                      <a:pt x="35" y="57"/>
                    </a:lnTo>
                    <a:lnTo>
                      <a:pt x="45" y="44"/>
                    </a:lnTo>
                    <a:lnTo>
                      <a:pt x="54" y="32"/>
                    </a:lnTo>
                    <a:lnTo>
                      <a:pt x="65" y="20"/>
                    </a:lnTo>
                    <a:lnTo>
                      <a:pt x="76" y="8"/>
                    </a:lnTo>
                    <a:lnTo>
                      <a:pt x="89" y="0"/>
                    </a:lnTo>
                    <a:lnTo>
                      <a:pt x="100" y="6"/>
                    </a:lnTo>
                    <a:lnTo>
                      <a:pt x="93" y="20"/>
                    </a:lnTo>
                    <a:lnTo>
                      <a:pt x="82" y="27"/>
                    </a:lnTo>
                    <a:lnTo>
                      <a:pt x="72" y="36"/>
                    </a:lnTo>
                    <a:lnTo>
                      <a:pt x="62" y="48"/>
                    </a:lnTo>
                    <a:lnTo>
                      <a:pt x="54" y="60"/>
                    </a:lnTo>
                    <a:lnTo>
                      <a:pt x="45" y="73"/>
                    </a:lnTo>
                    <a:lnTo>
                      <a:pt x="35" y="85"/>
                    </a:lnTo>
                    <a:lnTo>
                      <a:pt x="22" y="95"/>
                    </a:lnTo>
                    <a:lnTo>
                      <a:pt x="6" y="102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25720" y="3346560"/>
                <a:ext cx="33120" cy="169920"/>
              </a:xfrm>
              <a:custGeom>
                <a:avLst/>
                <a:gdLst/>
                <a:ahLst/>
                <a:rect l="l" t="t" r="r" b="b"/>
                <a:pathLst>
                  <a:path w="43" h="214">
                    <a:moveTo>
                      <a:pt x="36" y="214"/>
                    </a:moveTo>
                    <a:lnTo>
                      <a:pt x="31" y="208"/>
                    </a:lnTo>
                    <a:lnTo>
                      <a:pt x="19" y="158"/>
                    </a:lnTo>
                    <a:lnTo>
                      <a:pt x="11" y="108"/>
                    </a:lnTo>
                    <a:lnTo>
                      <a:pt x="6" y="57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19" y="50"/>
                    </a:lnTo>
                    <a:lnTo>
                      <a:pt x="26" y="103"/>
                    </a:lnTo>
                    <a:lnTo>
                      <a:pt x="34" y="157"/>
                    </a:lnTo>
                    <a:lnTo>
                      <a:pt x="43" y="210"/>
                    </a:lnTo>
                    <a:lnTo>
                      <a:pt x="36" y="21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11560" y="338292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119" h="139">
                    <a:moveTo>
                      <a:pt x="107" y="139"/>
                    </a:moveTo>
                    <a:lnTo>
                      <a:pt x="91" y="130"/>
                    </a:lnTo>
                    <a:lnTo>
                      <a:pt x="75" y="119"/>
                    </a:lnTo>
                    <a:lnTo>
                      <a:pt x="60" y="107"/>
                    </a:lnTo>
                    <a:lnTo>
                      <a:pt x="46" y="93"/>
                    </a:lnTo>
                    <a:lnTo>
                      <a:pt x="32" y="77"/>
                    </a:lnTo>
                    <a:lnTo>
                      <a:pt x="21" y="61"/>
                    </a:lnTo>
                    <a:lnTo>
                      <a:pt x="9" y="43"/>
                    </a:lnTo>
                    <a:lnTo>
                      <a:pt x="0" y="26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9" y="11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1" y="1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3" y="4"/>
                    </a:lnTo>
                    <a:lnTo>
                      <a:pt x="49" y="11"/>
                    </a:lnTo>
                    <a:lnTo>
                      <a:pt x="57" y="20"/>
                    </a:lnTo>
                    <a:lnTo>
                      <a:pt x="66" y="29"/>
                    </a:lnTo>
                    <a:lnTo>
                      <a:pt x="71" y="41"/>
                    </a:lnTo>
                    <a:lnTo>
                      <a:pt x="77" y="54"/>
                    </a:lnTo>
                    <a:lnTo>
                      <a:pt x="83" y="65"/>
                    </a:lnTo>
                    <a:lnTo>
                      <a:pt x="89" y="77"/>
                    </a:lnTo>
                    <a:lnTo>
                      <a:pt x="95" y="88"/>
                    </a:lnTo>
                    <a:lnTo>
                      <a:pt x="102" y="100"/>
                    </a:lnTo>
                    <a:lnTo>
                      <a:pt x="110" y="111"/>
                    </a:lnTo>
                    <a:lnTo>
                      <a:pt x="119" y="122"/>
                    </a:lnTo>
                    <a:lnTo>
                      <a:pt x="119" y="127"/>
                    </a:lnTo>
                    <a:lnTo>
                      <a:pt x="117" y="133"/>
                    </a:lnTo>
                    <a:lnTo>
                      <a:pt x="114" y="137"/>
                    </a:lnTo>
                    <a:lnTo>
                      <a:pt x="107" y="139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28840" y="339876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9" y="83"/>
                    </a:moveTo>
                    <a:lnTo>
                      <a:pt x="49" y="75"/>
                    </a:lnTo>
                    <a:lnTo>
                      <a:pt x="41" y="67"/>
                    </a:lnTo>
                    <a:lnTo>
                      <a:pt x="33" y="59"/>
                    </a:lnTo>
                    <a:lnTo>
                      <a:pt x="25" y="50"/>
                    </a:lnTo>
                    <a:lnTo>
                      <a:pt x="17" y="40"/>
                    </a:lnTo>
                    <a:lnTo>
                      <a:pt x="11" y="31"/>
                    </a:lnTo>
                    <a:lnTo>
                      <a:pt x="4" y="21"/>
                    </a:lnTo>
                    <a:lnTo>
                      <a:pt x="0" y="10"/>
                    </a:lnTo>
                    <a:lnTo>
                      <a:pt x="1" y="4"/>
                    </a:lnTo>
                    <a:lnTo>
                      <a:pt x="15" y="0"/>
                    </a:lnTo>
                    <a:lnTo>
                      <a:pt x="22" y="7"/>
                    </a:lnTo>
                    <a:lnTo>
                      <a:pt x="27" y="13"/>
                    </a:lnTo>
                    <a:lnTo>
                      <a:pt x="33" y="20"/>
                    </a:lnTo>
                    <a:lnTo>
                      <a:pt x="39" y="27"/>
                    </a:lnTo>
                    <a:lnTo>
                      <a:pt x="41" y="39"/>
                    </a:lnTo>
                    <a:lnTo>
                      <a:pt x="47" y="51"/>
                    </a:lnTo>
                    <a:lnTo>
                      <a:pt x="54" y="63"/>
                    </a:lnTo>
                    <a:lnTo>
                      <a:pt x="59" y="77"/>
                    </a:lnTo>
                    <a:lnTo>
                      <a:pt x="59" y="83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22440" y="3254400"/>
                <a:ext cx="60480" cy="163440"/>
              </a:xfrm>
              <a:custGeom>
                <a:avLst/>
                <a:gdLst/>
                <a:ahLst/>
                <a:rect l="l" t="t" r="r" b="b"/>
                <a:pathLst>
                  <a:path w="77" h="206">
                    <a:moveTo>
                      <a:pt x="66" y="206"/>
                    </a:moveTo>
                    <a:lnTo>
                      <a:pt x="53" y="194"/>
                    </a:lnTo>
                    <a:lnTo>
                      <a:pt x="45" y="183"/>
                    </a:lnTo>
                    <a:lnTo>
                      <a:pt x="40" y="171"/>
                    </a:lnTo>
                    <a:lnTo>
                      <a:pt x="33" y="158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6" y="127"/>
                    </a:lnTo>
                    <a:lnTo>
                      <a:pt x="13" y="118"/>
                    </a:lnTo>
                    <a:lnTo>
                      <a:pt x="7" y="108"/>
                    </a:lnTo>
                    <a:lnTo>
                      <a:pt x="2" y="90"/>
                    </a:lnTo>
                    <a:lnTo>
                      <a:pt x="0" y="70"/>
                    </a:lnTo>
                    <a:lnTo>
                      <a:pt x="1" y="51"/>
                    </a:lnTo>
                    <a:lnTo>
                      <a:pt x="4" y="29"/>
                    </a:lnTo>
                    <a:lnTo>
                      <a:pt x="7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2" y="2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5" y="7"/>
                    </a:lnTo>
                    <a:lnTo>
                      <a:pt x="51" y="13"/>
                    </a:lnTo>
                    <a:lnTo>
                      <a:pt x="58" y="19"/>
                    </a:lnTo>
                    <a:lnTo>
                      <a:pt x="65" y="53"/>
                    </a:lnTo>
                    <a:lnTo>
                      <a:pt x="66" y="89"/>
                    </a:lnTo>
                    <a:lnTo>
                      <a:pt x="66" y="127"/>
                    </a:lnTo>
                    <a:lnTo>
                      <a:pt x="70" y="163"/>
                    </a:lnTo>
                    <a:lnTo>
                      <a:pt x="74" y="172"/>
                    </a:lnTo>
                    <a:lnTo>
                      <a:pt x="76" y="180"/>
                    </a:lnTo>
                    <a:lnTo>
                      <a:pt x="77" y="189"/>
                    </a:lnTo>
                    <a:lnTo>
                      <a:pt x="77" y="198"/>
                    </a:lnTo>
                    <a:lnTo>
                      <a:pt x="66" y="20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62120" y="3218040"/>
                <a:ext cx="81000" cy="166680"/>
              </a:xfrm>
              <a:custGeom>
                <a:avLst/>
                <a:gdLst/>
                <a:ahLst/>
                <a:rect l="l" t="t" r="r" b="b"/>
                <a:pathLst>
                  <a:path w="104" h="211">
                    <a:moveTo>
                      <a:pt x="3" y="211"/>
                    </a:moveTo>
                    <a:lnTo>
                      <a:pt x="0" y="167"/>
                    </a:lnTo>
                    <a:lnTo>
                      <a:pt x="3" y="121"/>
                    </a:lnTo>
                    <a:lnTo>
                      <a:pt x="9" y="76"/>
                    </a:lnTo>
                    <a:lnTo>
                      <a:pt x="22" y="31"/>
                    </a:lnTo>
                    <a:lnTo>
                      <a:pt x="27" y="28"/>
                    </a:lnTo>
                    <a:lnTo>
                      <a:pt x="31" y="23"/>
                    </a:lnTo>
                    <a:lnTo>
                      <a:pt x="36" y="20"/>
                    </a:lnTo>
                    <a:lnTo>
                      <a:pt x="41" y="15"/>
                    </a:lnTo>
                    <a:lnTo>
                      <a:pt x="45" y="10"/>
                    </a:lnTo>
                    <a:lnTo>
                      <a:pt x="51" y="7"/>
                    </a:lnTo>
                    <a:lnTo>
                      <a:pt x="57" y="3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72" y="1"/>
                    </a:lnTo>
                    <a:lnTo>
                      <a:pt x="77" y="3"/>
                    </a:lnTo>
                    <a:lnTo>
                      <a:pt x="84" y="5"/>
                    </a:lnTo>
                    <a:lnTo>
                      <a:pt x="89" y="9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2" y="26"/>
                    </a:lnTo>
                    <a:lnTo>
                      <a:pt x="104" y="40"/>
                    </a:lnTo>
                    <a:lnTo>
                      <a:pt x="91" y="60"/>
                    </a:lnTo>
                    <a:lnTo>
                      <a:pt x="79" y="79"/>
                    </a:lnTo>
                    <a:lnTo>
                      <a:pt x="66" y="98"/>
                    </a:lnTo>
                    <a:lnTo>
                      <a:pt x="53" y="116"/>
                    </a:lnTo>
                    <a:lnTo>
                      <a:pt x="41" y="137"/>
                    </a:lnTo>
                    <a:lnTo>
                      <a:pt x="31" y="158"/>
                    </a:lnTo>
                    <a:lnTo>
                      <a:pt x="23" y="182"/>
                    </a:lnTo>
                    <a:lnTo>
                      <a:pt x="19" y="207"/>
                    </a:lnTo>
                    <a:lnTo>
                      <a:pt x="3" y="211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35040" y="3268800"/>
                <a:ext cx="28800" cy="114120"/>
              </a:xfrm>
              <a:custGeom>
                <a:avLst/>
                <a:gdLst/>
                <a:ahLst/>
                <a:rect l="l" t="t" r="r" b="b"/>
                <a:pathLst>
                  <a:path w="37" h="146">
                    <a:moveTo>
                      <a:pt x="37" y="146"/>
                    </a:moveTo>
                    <a:lnTo>
                      <a:pt x="28" y="132"/>
                    </a:lnTo>
                    <a:lnTo>
                      <a:pt x="20" y="117"/>
                    </a:lnTo>
                    <a:lnTo>
                      <a:pt x="13" y="101"/>
                    </a:lnTo>
                    <a:lnTo>
                      <a:pt x="6" y="84"/>
                    </a:lnTo>
                    <a:lnTo>
                      <a:pt x="3" y="67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35" y="19"/>
                    </a:lnTo>
                    <a:lnTo>
                      <a:pt x="35" y="50"/>
                    </a:lnTo>
                    <a:lnTo>
                      <a:pt x="36" y="82"/>
                    </a:lnTo>
                    <a:lnTo>
                      <a:pt x="37" y="113"/>
                    </a:lnTo>
                    <a:lnTo>
                      <a:pt x="37" y="146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73280" y="323208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73" h="134">
                    <a:moveTo>
                      <a:pt x="0" y="134"/>
                    </a:moveTo>
                    <a:lnTo>
                      <a:pt x="1" y="109"/>
                    </a:lnTo>
                    <a:lnTo>
                      <a:pt x="4" y="81"/>
                    </a:lnTo>
                    <a:lnTo>
                      <a:pt x="9" y="52"/>
                    </a:lnTo>
                    <a:lnTo>
                      <a:pt x="20" y="26"/>
                    </a:lnTo>
                    <a:lnTo>
                      <a:pt x="23" y="22"/>
                    </a:lnTo>
                    <a:lnTo>
                      <a:pt x="28" y="18"/>
                    </a:lnTo>
                    <a:lnTo>
                      <a:pt x="33" y="13"/>
                    </a:lnTo>
                    <a:lnTo>
                      <a:pt x="39" y="7"/>
                    </a:lnTo>
                    <a:lnTo>
                      <a:pt x="54" y="0"/>
                    </a:lnTo>
                    <a:lnTo>
                      <a:pt x="67" y="5"/>
                    </a:lnTo>
                    <a:lnTo>
                      <a:pt x="68" y="9"/>
                    </a:lnTo>
                    <a:lnTo>
                      <a:pt x="70" y="14"/>
                    </a:lnTo>
                    <a:lnTo>
                      <a:pt x="71" y="20"/>
                    </a:lnTo>
                    <a:lnTo>
                      <a:pt x="73" y="26"/>
                    </a:lnTo>
                    <a:lnTo>
                      <a:pt x="63" y="38"/>
                    </a:lnTo>
                    <a:lnTo>
                      <a:pt x="53" y="51"/>
                    </a:lnTo>
                    <a:lnTo>
                      <a:pt x="44" y="65"/>
                    </a:lnTo>
                    <a:lnTo>
                      <a:pt x="36" y="77"/>
                    </a:lnTo>
                    <a:lnTo>
                      <a:pt x="27" y="91"/>
                    </a:lnTo>
                    <a:lnTo>
                      <a:pt x="17" y="105"/>
                    </a:lnTo>
                    <a:lnTo>
                      <a:pt x="9" y="119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690360" y="4816440"/>
              <a:ext cx="141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busy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99680" y="43610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65040" y="27608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89120" y="43610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91440" y="936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3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29000" y="31240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3520" y="981000"/>
            <a:ext cx="39528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Forward - No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01240" y="4395960"/>
            <a:ext cx="49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nswered within predefined ‘No Answer’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5415120"/>
            <a:ext cx="7696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No Answer Timer : PGM181-BTN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9080" y="27874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109960"/>
            <a:ext cx="1828800" cy="144756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44480" y="1576440"/>
            <a:ext cx="2379600" cy="2715120"/>
            <a:chOff x="744480" y="1576440"/>
            <a:chExt cx="2379600" cy="271512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744480" y="1576440"/>
              <a:ext cx="2379600" cy="22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477440" y="39542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07200" y="1576440"/>
            <a:ext cx="2379600" cy="2715120"/>
            <a:chOff x="6307200" y="1576440"/>
            <a:chExt cx="2379600" cy="271512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6307200" y="1576440"/>
              <a:ext cx="2379600" cy="22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7033320" y="395424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240160" y="3710160"/>
            <a:ext cx="1524240" cy="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50198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" y="936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4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3520" y="838080"/>
            <a:ext cx="39528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Forward - Follow 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562720"/>
            <a:ext cx="76960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 Code : PGM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uthorization code should be registered to use Follow-me Call Forwar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1295280"/>
            <a:ext cx="83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a user move to another station, a call can be forwarded to the moved station from the original s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001880" y="1976400"/>
            <a:ext cx="7138080" cy="3174120"/>
            <a:chOff x="1001880" y="1976400"/>
            <a:chExt cx="7138080" cy="3174120"/>
          </a:xfrm>
        </p:grpSpPr>
        <p:sp>
          <p:nvSpPr>
            <p:cNvPr id="353" name=""/>
            <p:cNvSpPr/>
            <p:nvPr/>
          </p:nvSpPr>
          <p:spPr>
            <a:xfrm>
              <a:off x="2495520" y="3176640"/>
              <a:ext cx="761400" cy="1219320"/>
            </a:xfrm>
            <a:prstGeom prst="line">
              <a:avLst/>
            </a:prstGeom>
            <a:ln cap="rnd" w="38160">
              <a:solidFill>
                <a:srgbClr val="ff9966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857480" y="3405240"/>
              <a:ext cx="1218960" cy="91440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53640" y="3816360"/>
              <a:ext cx="26863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B) is connected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A) in the seat of STA 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71600" y="2576520"/>
              <a:ext cx="2047680" cy="0"/>
            </a:xfrm>
            <a:prstGeom prst="line">
              <a:avLst/>
            </a:prstGeom>
            <a:ln cap="rnd" w="38160">
              <a:solidFill>
                <a:srgbClr val="ff99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001880" y="1976400"/>
              <a:ext cx="2064960" cy="1442160"/>
              <a:chOff x="1001880" y="1976400"/>
              <a:chExt cx="2064960" cy="14421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001880" y="1976400"/>
                <a:ext cx="2064960" cy="1112760"/>
                <a:chOff x="1001880" y="1976400"/>
                <a:chExt cx="2064960" cy="1112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001880" y="1976400"/>
                  <a:ext cx="2064960" cy="110340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595240" y="2971440"/>
                  <a:ext cx="109440" cy="11772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52280" y="2619720"/>
                  <a:ext cx="1210680" cy="44640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906920" y="2733120"/>
                  <a:ext cx="338760" cy="32004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13920" y="2669400"/>
                  <a:ext cx="628560" cy="23832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5720" y="2695320"/>
                  <a:ext cx="493920" cy="21528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75720" y="2674080"/>
                  <a:ext cx="493920" cy="21168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053440" y="2678400"/>
                  <a:ext cx="221400" cy="8388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080" y="2519280"/>
                  <a:ext cx="1044000" cy="55584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030760" y="2406240"/>
                  <a:ext cx="945000" cy="60660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30760" y="2438280"/>
                  <a:ext cx="645840" cy="57708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56560" y="2385000"/>
                  <a:ext cx="187920" cy="12420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190960" y="2126160"/>
                  <a:ext cx="532440" cy="41220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200320" y="2227680"/>
                  <a:ext cx="318960" cy="24480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86840" y="2543040"/>
                  <a:ext cx="597960" cy="34524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344320" y="2502000"/>
                  <a:ext cx="33120" cy="2268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387160" y="252036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31440" y="2518200"/>
                  <a:ext cx="34200" cy="2268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3280" y="251388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526120" y="2492640"/>
                  <a:ext cx="29160" cy="2088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51320" y="2459520"/>
                  <a:ext cx="29160" cy="2016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54720" y="2662920"/>
                  <a:ext cx="226440" cy="7344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34560" y="2751480"/>
                  <a:ext cx="210960" cy="6588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96800" y="2401560"/>
                  <a:ext cx="374760" cy="44172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454400" y="2442960"/>
                  <a:ext cx="257400" cy="33300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12400" y="2468520"/>
                  <a:ext cx="409680" cy="39924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73360" y="2908800"/>
                  <a:ext cx="205200" cy="8460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31120" y="2799000"/>
                  <a:ext cx="700560" cy="19512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815840" y="2917080"/>
                  <a:ext cx="65160" cy="7056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17280" y="2679480"/>
                  <a:ext cx="22680" cy="255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837080" y="2694240"/>
                  <a:ext cx="17280" cy="1908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765080" y="270432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791720" y="2709000"/>
                  <a:ext cx="28080" cy="3024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823760" y="2720160"/>
                  <a:ext cx="24120" cy="2736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904040" y="272556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61200" y="2730960"/>
                  <a:ext cx="18360" cy="1440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35920" y="2735640"/>
                  <a:ext cx="29160" cy="2736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58760" y="2735640"/>
                  <a:ext cx="16920" cy="1908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760040" y="274752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805040" y="2749320"/>
                  <a:ext cx="22680" cy="3096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822680" y="27723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692000" y="2776320"/>
                  <a:ext cx="20880" cy="3096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715760" y="277992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46360" y="2789280"/>
                  <a:ext cx="24120" cy="2916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774440" y="279540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13320" y="2801160"/>
                  <a:ext cx="16920" cy="2844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656000" y="2813040"/>
                  <a:ext cx="26280" cy="3564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839960" y="2814840"/>
                  <a:ext cx="19800" cy="2268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875960" y="2814840"/>
                  <a:ext cx="21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683720" y="2820600"/>
                  <a:ext cx="22680" cy="2916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03520" y="282492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742400" y="2832480"/>
                  <a:ext cx="21240" cy="2844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781280" y="2837880"/>
                  <a:ext cx="19800" cy="2916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17280" y="2845440"/>
                  <a:ext cx="18720" cy="3204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760840" y="2699640"/>
                  <a:ext cx="79560" cy="4320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746080" y="2758680"/>
                  <a:ext cx="72000" cy="3852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705040" y="2808360"/>
                  <a:ext cx="67680" cy="4392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70040" y="2533320"/>
                  <a:ext cx="12960" cy="4104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328480" y="2572560"/>
                  <a:ext cx="51840" cy="3096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99200" y="2585520"/>
                  <a:ext cx="47880" cy="2484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479320" y="2594880"/>
                  <a:ext cx="19800" cy="5040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60520" y="2621520"/>
                  <a:ext cx="30240" cy="3204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297880" y="2653560"/>
                  <a:ext cx="30240" cy="4500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576520" y="2670480"/>
                  <a:ext cx="57240" cy="2808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428560" y="2701800"/>
                  <a:ext cx="69120" cy="2376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264400" y="2733120"/>
                  <a:ext cx="30600" cy="3384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416680" y="2781720"/>
                  <a:ext cx="49320" cy="3312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17840" y="2775240"/>
                  <a:ext cx="46800" cy="1476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12200" y="2824920"/>
                  <a:ext cx="32040" cy="3744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336760" y="2829600"/>
                  <a:ext cx="16920" cy="421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7560" y="2939040"/>
                  <a:ext cx="29160" cy="4320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440440" y="2885760"/>
                  <a:ext cx="24120" cy="4500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139120" y="2890440"/>
                  <a:ext cx="36000" cy="3276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328480" y="293436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00320" y="2963880"/>
                  <a:ext cx="37080" cy="3312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17680" y="226800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341800" y="2264400"/>
                  <a:ext cx="11880" cy="3204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93560" y="2270880"/>
                  <a:ext cx="14760" cy="3096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67000" y="2266200"/>
                  <a:ext cx="15840" cy="3204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64400" y="2279160"/>
                  <a:ext cx="20160" cy="2808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243160" y="2292840"/>
                  <a:ext cx="22680" cy="255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230920" y="2283840"/>
                  <a:ext cx="171000" cy="4752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256480" y="2293920"/>
                  <a:ext cx="108000" cy="2916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291040" y="2302920"/>
                  <a:ext cx="26280" cy="1836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530360" y="2468520"/>
                  <a:ext cx="64080" cy="14616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575720" y="2512800"/>
                  <a:ext cx="45360" cy="13500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626480" y="2577240"/>
                  <a:ext cx="30240" cy="8064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320840" y="252396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332720" y="2550600"/>
                  <a:ext cx="51840" cy="4032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39200" y="2583720"/>
                  <a:ext cx="45360" cy="3564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55400" y="2619720"/>
                  <a:ext cx="42480" cy="338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370160" y="265752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378080" y="2692440"/>
                  <a:ext cx="46800" cy="3924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89960" y="2736360"/>
                  <a:ext cx="51840" cy="4212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407240" y="2782800"/>
                  <a:ext cx="43920" cy="3456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422000" y="2817360"/>
                  <a:ext cx="45360" cy="3564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29560" y="2154600"/>
                  <a:ext cx="69480" cy="6228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418120" y="2161080"/>
                  <a:ext cx="69120" cy="5580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241720" y="2172960"/>
                  <a:ext cx="75960" cy="4788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28560" y="2223000"/>
                  <a:ext cx="69120" cy="5580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500560" y="2185200"/>
                  <a:ext cx="77400" cy="5868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527200" y="2250360"/>
                  <a:ext cx="85320" cy="4968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562120" y="2306520"/>
                  <a:ext cx="72000" cy="5328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515320" y="2365560"/>
                  <a:ext cx="78840" cy="6336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24760" y="2386800"/>
                  <a:ext cx="7056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85880" y="2467800"/>
                  <a:ext cx="65160" cy="5580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794320" y="2647080"/>
                  <a:ext cx="81360" cy="4320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826360" y="2594880"/>
                  <a:ext cx="81360" cy="4320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63640" y="2871720"/>
                  <a:ext cx="79560" cy="4212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236320" y="2401560"/>
                  <a:ext cx="59760" cy="3312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1573920" y="3081240"/>
                <a:ext cx="92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 (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3322440" y="3510000"/>
              <a:ext cx="200160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855240" y="481320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 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287680" y="1976400"/>
              <a:ext cx="2064960" cy="1442160"/>
              <a:chOff x="5287680" y="1976400"/>
              <a:chExt cx="2064960" cy="144216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5287680" y="1976400"/>
                <a:ext cx="2064960" cy="1112760"/>
                <a:chOff x="5287680" y="1976400"/>
                <a:chExt cx="2064960" cy="1112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287680" y="1976400"/>
                  <a:ext cx="2064960" cy="110340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81040" y="2971440"/>
                  <a:ext cx="109440" cy="11772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338440" y="2619720"/>
                  <a:ext cx="1210320" cy="44640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192720" y="2732760"/>
                  <a:ext cx="338760" cy="32040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888160" y="2275200"/>
                  <a:ext cx="786240" cy="427680"/>
                </a:xfrm>
                <a:custGeom>
                  <a:avLst/>
                  <a:gdLst/>
                  <a:ahLst/>
                  <a:rect l="l" t="t" r="r" b="b"/>
                  <a:pathLst>
                    <a:path w="1176" h="930">
                      <a:moveTo>
                        <a:pt x="621" y="0"/>
                      </a:moveTo>
                      <a:lnTo>
                        <a:pt x="616" y="0"/>
                      </a:lnTo>
                      <a:lnTo>
                        <a:pt x="602" y="2"/>
                      </a:lnTo>
                      <a:lnTo>
                        <a:pt x="581" y="6"/>
                      </a:lnTo>
                      <a:lnTo>
                        <a:pt x="555" y="12"/>
                      </a:lnTo>
                      <a:lnTo>
                        <a:pt x="522" y="17"/>
                      </a:lnTo>
                      <a:lnTo>
                        <a:pt x="488" y="25"/>
                      </a:lnTo>
                      <a:lnTo>
                        <a:pt x="448" y="32"/>
                      </a:lnTo>
                      <a:lnTo>
                        <a:pt x="410" y="44"/>
                      </a:lnTo>
                      <a:lnTo>
                        <a:pt x="369" y="51"/>
                      </a:lnTo>
                      <a:lnTo>
                        <a:pt x="329" y="59"/>
                      </a:lnTo>
                      <a:lnTo>
                        <a:pt x="291" y="67"/>
                      </a:lnTo>
                      <a:lnTo>
                        <a:pt x="256" y="74"/>
                      </a:lnTo>
                      <a:lnTo>
                        <a:pt x="226" y="80"/>
                      </a:lnTo>
                      <a:lnTo>
                        <a:pt x="201" y="88"/>
                      </a:lnTo>
                      <a:lnTo>
                        <a:pt x="182" y="91"/>
                      </a:lnTo>
                      <a:lnTo>
                        <a:pt x="173" y="95"/>
                      </a:lnTo>
                      <a:lnTo>
                        <a:pt x="163" y="97"/>
                      </a:lnTo>
                      <a:lnTo>
                        <a:pt x="156" y="110"/>
                      </a:lnTo>
                      <a:lnTo>
                        <a:pt x="142" y="126"/>
                      </a:lnTo>
                      <a:lnTo>
                        <a:pt x="131" y="148"/>
                      </a:lnTo>
                      <a:lnTo>
                        <a:pt x="116" y="175"/>
                      </a:lnTo>
                      <a:lnTo>
                        <a:pt x="102" y="204"/>
                      </a:lnTo>
                      <a:lnTo>
                        <a:pt x="87" y="234"/>
                      </a:lnTo>
                      <a:lnTo>
                        <a:pt x="74" y="266"/>
                      </a:lnTo>
                      <a:lnTo>
                        <a:pt x="59" y="297"/>
                      </a:lnTo>
                      <a:lnTo>
                        <a:pt x="45" y="327"/>
                      </a:lnTo>
                      <a:lnTo>
                        <a:pt x="32" y="356"/>
                      </a:lnTo>
                      <a:lnTo>
                        <a:pt x="23" y="382"/>
                      </a:lnTo>
                      <a:lnTo>
                        <a:pt x="11" y="403"/>
                      </a:lnTo>
                      <a:lnTo>
                        <a:pt x="6" y="420"/>
                      </a:lnTo>
                      <a:lnTo>
                        <a:pt x="2" y="432"/>
                      </a:lnTo>
                      <a:lnTo>
                        <a:pt x="0" y="435"/>
                      </a:lnTo>
                      <a:lnTo>
                        <a:pt x="120" y="930"/>
                      </a:lnTo>
                      <a:lnTo>
                        <a:pt x="920" y="920"/>
                      </a:lnTo>
                      <a:lnTo>
                        <a:pt x="920" y="916"/>
                      </a:lnTo>
                      <a:lnTo>
                        <a:pt x="920" y="907"/>
                      </a:lnTo>
                      <a:lnTo>
                        <a:pt x="922" y="894"/>
                      </a:lnTo>
                      <a:lnTo>
                        <a:pt x="925" y="876"/>
                      </a:lnTo>
                      <a:lnTo>
                        <a:pt x="927" y="852"/>
                      </a:lnTo>
                      <a:lnTo>
                        <a:pt x="931" y="829"/>
                      </a:lnTo>
                      <a:lnTo>
                        <a:pt x="937" y="802"/>
                      </a:lnTo>
                      <a:lnTo>
                        <a:pt x="942" y="776"/>
                      </a:lnTo>
                      <a:lnTo>
                        <a:pt x="946" y="747"/>
                      </a:lnTo>
                      <a:lnTo>
                        <a:pt x="952" y="721"/>
                      </a:lnTo>
                      <a:lnTo>
                        <a:pt x="958" y="692"/>
                      </a:lnTo>
                      <a:lnTo>
                        <a:pt x="963" y="669"/>
                      </a:lnTo>
                      <a:lnTo>
                        <a:pt x="967" y="646"/>
                      </a:lnTo>
                      <a:lnTo>
                        <a:pt x="973" y="626"/>
                      </a:lnTo>
                      <a:lnTo>
                        <a:pt x="977" y="610"/>
                      </a:lnTo>
                      <a:lnTo>
                        <a:pt x="982" y="601"/>
                      </a:lnTo>
                      <a:lnTo>
                        <a:pt x="986" y="593"/>
                      </a:lnTo>
                      <a:lnTo>
                        <a:pt x="992" y="593"/>
                      </a:lnTo>
                      <a:lnTo>
                        <a:pt x="996" y="597"/>
                      </a:lnTo>
                      <a:lnTo>
                        <a:pt x="1001" y="607"/>
                      </a:lnTo>
                      <a:lnTo>
                        <a:pt x="1007" y="618"/>
                      </a:lnTo>
                      <a:lnTo>
                        <a:pt x="1013" y="631"/>
                      </a:lnTo>
                      <a:lnTo>
                        <a:pt x="1018" y="648"/>
                      </a:lnTo>
                      <a:lnTo>
                        <a:pt x="1024" y="667"/>
                      </a:lnTo>
                      <a:lnTo>
                        <a:pt x="1028" y="684"/>
                      </a:lnTo>
                      <a:lnTo>
                        <a:pt x="1032" y="703"/>
                      </a:lnTo>
                      <a:lnTo>
                        <a:pt x="1037" y="721"/>
                      </a:lnTo>
                      <a:lnTo>
                        <a:pt x="1041" y="738"/>
                      </a:lnTo>
                      <a:lnTo>
                        <a:pt x="1043" y="751"/>
                      </a:lnTo>
                      <a:lnTo>
                        <a:pt x="1047" y="762"/>
                      </a:lnTo>
                      <a:lnTo>
                        <a:pt x="1049" y="770"/>
                      </a:lnTo>
                      <a:lnTo>
                        <a:pt x="1051" y="772"/>
                      </a:lnTo>
                      <a:lnTo>
                        <a:pt x="1176" y="473"/>
                      </a:lnTo>
                      <a:lnTo>
                        <a:pt x="960" y="76"/>
                      </a:lnTo>
                      <a:lnTo>
                        <a:pt x="621" y="0"/>
                      </a:lnTo>
                      <a:lnTo>
                        <a:pt x="62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499720" y="2669400"/>
                  <a:ext cx="628560" cy="23832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861520" y="2695320"/>
                  <a:ext cx="493920" cy="21528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861520" y="2674080"/>
                  <a:ext cx="493920" cy="21168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5160" y="2286360"/>
                  <a:ext cx="385560" cy="363600"/>
                </a:xfrm>
                <a:custGeom>
                  <a:avLst/>
                  <a:gdLst/>
                  <a:ahLst/>
                  <a:rect l="l" t="t" r="r" b="b"/>
                  <a:pathLst>
                    <a:path w="577" h="789">
                      <a:moveTo>
                        <a:pt x="114" y="0"/>
                      </a:moveTo>
                      <a:lnTo>
                        <a:pt x="15" y="199"/>
                      </a:lnTo>
                      <a:lnTo>
                        <a:pt x="125" y="300"/>
                      </a:lnTo>
                      <a:lnTo>
                        <a:pt x="0" y="395"/>
                      </a:lnTo>
                      <a:lnTo>
                        <a:pt x="224" y="789"/>
                      </a:lnTo>
                      <a:lnTo>
                        <a:pt x="228" y="785"/>
                      </a:lnTo>
                      <a:lnTo>
                        <a:pt x="235" y="774"/>
                      </a:lnTo>
                      <a:lnTo>
                        <a:pt x="245" y="756"/>
                      </a:lnTo>
                      <a:lnTo>
                        <a:pt x="262" y="735"/>
                      </a:lnTo>
                      <a:lnTo>
                        <a:pt x="279" y="707"/>
                      </a:lnTo>
                      <a:lnTo>
                        <a:pt x="302" y="677"/>
                      </a:lnTo>
                      <a:lnTo>
                        <a:pt x="323" y="642"/>
                      </a:lnTo>
                      <a:lnTo>
                        <a:pt x="349" y="608"/>
                      </a:lnTo>
                      <a:lnTo>
                        <a:pt x="374" y="572"/>
                      </a:lnTo>
                      <a:lnTo>
                        <a:pt x="401" y="536"/>
                      </a:lnTo>
                      <a:lnTo>
                        <a:pt x="425" y="500"/>
                      </a:lnTo>
                      <a:lnTo>
                        <a:pt x="450" y="466"/>
                      </a:lnTo>
                      <a:lnTo>
                        <a:pt x="473" y="435"/>
                      </a:lnTo>
                      <a:lnTo>
                        <a:pt x="494" y="407"/>
                      </a:lnTo>
                      <a:lnTo>
                        <a:pt x="511" y="384"/>
                      </a:lnTo>
                      <a:lnTo>
                        <a:pt x="528" y="365"/>
                      </a:lnTo>
                      <a:lnTo>
                        <a:pt x="530" y="359"/>
                      </a:lnTo>
                      <a:lnTo>
                        <a:pt x="530" y="353"/>
                      </a:lnTo>
                      <a:lnTo>
                        <a:pt x="524" y="348"/>
                      </a:lnTo>
                      <a:lnTo>
                        <a:pt x="518" y="342"/>
                      </a:lnTo>
                      <a:lnTo>
                        <a:pt x="509" y="334"/>
                      </a:lnTo>
                      <a:lnTo>
                        <a:pt x="501" y="331"/>
                      </a:lnTo>
                      <a:lnTo>
                        <a:pt x="490" y="325"/>
                      </a:lnTo>
                      <a:lnTo>
                        <a:pt x="479" y="321"/>
                      </a:lnTo>
                      <a:lnTo>
                        <a:pt x="465" y="315"/>
                      </a:lnTo>
                      <a:lnTo>
                        <a:pt x="454" y="310"/>
                      </a:lnTo>
                      <a:lnTo>
                        <a:pt x="442" y="308"/>
                      </a:lnTo>
                      <a:lnTo>
                        <a:pt x="433" y="306"/>
                      </a:lnTo>
                      <a:lnTo>
                        <a:pt x="423" y="302"/>
                      </a:lnTo>
                      <a:lnTo>
                        <a:pt x="418" y="300"/>
                      </a:lnTo>
                      <a:lnTo>
                        <a:pt x="414" y="300"/>
                      </a:lnTo>
                      <a:lnTo>
                        <a:pt x="412" y="300"/>
                      </a:lnTo>
                      <a:lnTo>
                        <a:pt x="577" y="211"/>
                      </a:lnTo>
                      <a:lnTo>
                        <a:pt x="577" y="207"/>
                      </a:lnTo>
                      <a:lnTo>
                        <a:pt x="577" y="201"/>
                      </a:lnTo>
                      <a:lnTo>
                        <a:pt x="577" y="192"/>
                      </a:lnTo>
                      <a:lnTo>
                        <a:pt x="577" y="180"/>
                      </a:lnTo>
                      <a:lnTo>
                        <a:pt x="575" y="165"/>
                      </a:lnTo>
                      <a:lnTo>
                        <a:pt x="575" y="150"/>
                      </a:lnTo>
                      <a:lnTo>
                        <a:pt x="574" y="133"/>
                      </a:lnTo>
                      <a:lnTo>
                        <a:pt x="574" y="116"/>
                      </a:lnTo>
                      <a:lnTo>
                        <a:pt x="572" y="99"/>
                      </a:lnTo>
                      <a:lnTo>
                        <a:pt x="570" y="80"/>
                      </a:lnTo>
                      <a:lnTo>
                        <a:pt x="566" y="64"/>
                      </a:lnTo>
                      <a:lnTo>
                        <a:pt x="564" y="49"/>
                      </a:lnTo>
                      <a:lnTo>
                        <a:pt x="558" y="36"/>
                      </a:lnTo>
                      <a:lnTo>
                        <a:pt x="555" y="25"/>
                      </a:lnTo>
                      <a:lnTo>
                        <a:pt x="547" y="15"/>
                      </a:lnTo>
                      <a:lnTo>
                        <a:pt x="541" y="13"/>
                      </a:lnTo>
                      <a:lnTo>
                        <a:pt x="528" y="9"/>
                      </a:lnTo>
                      <a:lnTo>
                        <a:pt x="509" y="7"/>
                      </a:lnTo>
                      <a:lnTo>
                        <a:pt x="484" y="6"/>
                      </a:lnTo>
                      <a:lnTo>
                        <a:pt x="456" y="4"/>
                      </a:lnTo>
                      <a:lnTo>
                        <a:pt x="422" y="2"/>
                      </a:lnTo>
                      <a:lnTo>
                        <a:pt x="387" y="0"/>
                      </a:lnTo>
                      <a:lnTo>
                        <a:pt x="349" y="0"/>
                      </a:lnTo>
                      <a:lnTo>
                        <a:pt x="311" y="0"/>
                      </a:lnTo>
                      <a:lnTo>
                        <a:pt x="271" y="0"/>
                      </a:lnTo>
                      <a:lnTo>
                        <a:pt x="237" y="0"/>
                      </a:lnTo>
                      <a:lnTo>
                        <a:pt x="203" y="0"/>
                      </a:lnTo>
                      <a:lnTo>
                        <a:pt x="173" y="0"/>
                      </a:lnTo>
                      <a:lnTo>
                        <a:pt x="148" y="0"/>
                      </a:lnTo>
                      <a:lnTo>
                        <a:pt x="129" y="0"/>
                      </a:lnTo>
                      <a:lnTo>
                        <a:pt x="117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192720" y="2341440"/>
                  <a:ext cx="216000" cy="137880"/>
                </a:xfrm>
                <a:custGeom>
                  <a:avLst/>
                  <a:gdLst/>
                  <a:ahLst/>
                  <a:rect l="l" t="t" r="r" b="b"/>
                  <a:pathLst>
                    <a:path w="325" h="300">
                      <a:moveTo>
                        <a:pt x="0" y="66"/>
                      </a:moveTo>
                      <a:lnTo>
                        <a:pt x="0" y="70"/>
                      </a:lnTo>
                      <a:lnTo>
                        <a:pt x="0" y="76"/>
                      </a:lnTo>
                      <a:lnTo>
                        <a:pt x="2" y="85"/>
                      </a:lnTo>
                      <a:lnTo>
                        <a:pt x="4" y="100"/>
                      </a:lnTo>
                      <a:lnTo>
                        <a:pt x="6" y="116"/>
                      </a:lnTo>
                      <a:lnTo>
                        <a:pt x="10" y="133"/>
                      </a:lnTo>
                      <a:lnTo>
                        <a:pt x="13" y="154"/>
                      </a:lnTo>
                      <a:lnTo>
                        <a:pt x="17" y="174"/>
                      </a:lnTo>
                      <a:lnTo>
                        <a:pt x="21" y="193"/>
                      </a:lnTo>
                      <a:lnTo>
                        <a:pt x="27" y="214"/>
                      </a:lnTo>
                      <a:lnTo>
                        <a:pt x="32" y="233"/>
                      </a:lnTo>
                      <a:lnTo>
                        <a:pt x="38" y="252"/>
                      </a:lnTo>
                      <a:lnTo>
                        <a:pt x="44" y="268"/>
                      </a:lnTo>
                      <a:lnTo>
                        <a:pt x="49" y="283"/>
                      </a:lnTo>
                      <a:lnTo>
                        <a:pt x="57" y="292"/>
                      </a:lnTo>
                      <a:lnTo>
                        <a:pt x="65" y="300"/>
                      </a:lnTo>
                      <a:lnTo>
                        <a:pt x="74" y="300"/>
                      </a:lnTo>
                      <a:lnTo>
                        <a:pt x="87" y="296"/>
                      </a:lnTo>
                      <a:lnTo>
                        <a:pt x="105" y="290"/>
                      </a:lnTo>
                      <a:lnTo>
                        <a:pt x="124" y="283"/>
                      </a:lnTo>
                      <a:lnTo>
                        <a:pt x="144" y="270"/>
                      </a:lnTo>
                      <a:lnTo>
                        <a:pt x="167" y="254"/>
                      </a:lnTo>
                      <a:lnTo>
                        <a:pt x="190" y="237"/>
                      </a:lnTo>
                      <a:lnTo>
                        <a:pt x="215" y="218"/>
                      </a:lnTo>
                      <a:lnTo>
                        <a:pt x="236" y="195"/>
                      </a:lnTo>
                      <a:lnTo>
                        <a:pt x="259" y="173"/>
                      </a:lnTo>
                      <a:lnTo>
                        <a:pt x="278" y="146"/>
                      </a:lnTo>
                      <a:lnTo>
                        <a:pt x="295" y="119"/>
                      </a:lnTo>
                      <a:lnTo>
                        <a:pt x="308" y="89"/>
                      </a:lnTo>
                      <a:lnTo>
                        <a:pt x="317" y="60"/>
                      </a:lnTo>
                      <a:lnTo>
                        <a:pt x="323" y="30"/>
                      </a:lnTo>
                      <a:lnTo>
                        <a:pt x="325" y="0"/>
                      </a:lnTo>
                      <a:lnTo>
                        <a:pt x="0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b34d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82000" y="2360880"/>
                  <a:ext cx="145440" cy="133200"/>
                </a:xfrm>
                <a:custGeom>
                  <a:avLst/>
                  <a:gdLst/>
                  <a:ahLst/>
                  <a:rect l="l" t="t" r="r" b="b"/>
                  <a:pathLst>
                    <a:path w="219" h="289">
                      <a:moveTo>
                        <a:pt x="179" y="4"/>
                      </a:moveTo>
                      <a:lnTo>
                        <a:pt x="175" y="4"/>
                      </a:lnTo>
                      <a:lnTo>
                        <a:pt x="169" y="10"/>
                      </a:lnTo>
                      <a:lnTo>
                        <a:pt x="160" y="18"/>
                      </a:lnTo>
                      <a:lnTo>
                        <a:pt x="148" y="29"/>
                      </a:lnTo>
                      <a:lnTo>
                        <a:pt x="133" y="40"/>
                      </a:lnTo>
                      <a:lnTo>
                        <a:pt x="118" y="54"/>
                      </a:lnTo>
                      <a:lnTo>
                        <a:pt x="101" y="69"/>
                      </a:lnTo>
                      <a:lnTo>
                        <a:pt x="86" y="88"/>
                      </a:lnTo>
                      <a:lnTo>
                        <a:pt x="67" y="103"/>
                      </a:lnTo>
                      <a:lnTo>
                        <a:pt x="51" y="122"/>
                      </a:lnTo>
                      <a:lnTo>
                        <a:pt x="36" y="139"/>
                      </a:lnTo>
                      <a:lnTo>
                        <a:pt x="23" y="156"/>
                      </a:lnTo>
                      <a:lnTo>
                        <a:pt x="11" y="173"/>
                      </a:lnTo>
                      <a:lnTo>
                        <a:pt x="6" y="189"/>
                      </a:lnTo>
                      <a:lnTo>
                        <a:pt x="0" y="204"/>
                      </a:lnTo>
                      <a:lnTo>
                        <a:pt x="2" y="217"/>
                      </a:lnTo>
                      <a:lnTo>
                        <a:pt x="2" y="227"/>
                      </a:lnTo>
                      <a:lnTo>
                        <a:pt x="4" y="236"/>
                      </a:lnTo>
                      <a:lnTo>
                        <a:pt x="6" y="244"/>
                      </a:lnTo>
                      <a:lnTo>
                        <a:pt x="8" y="253"/>
                      </a:lnTo>
                      <a:lnTo>
                        <a:pt x="8" y="259"/>
                      </a:lnTo>
                      <a:lnTo>
                        <a:pt x="9" y="265"/>
                      </a:lnTo>
                      <a:lnTo>
                        <a:pt x="11" y="268"/>
                      </a:lnTo>
                      <a:lnTo>
                        <a:pt x="13" y="274"/>
                      </a:lnTo>
                      <a:lnTo>
                        <a:pt x="15" y="282"/>
                      </a:lnTo>
                      <a:lnTo>
                        <a:pt x="17" y="286"/>
                      </a:lnTo>
                      <a:lnTo>
                        <a:pt x="19" y="287"/>
                      </a:lnTo>
                      <a:lnTo>
                        <a:pt x="19" y="289"/>
                      </a:lnTo>
                      <a:lnTo>
                        <a:pt x="21" y="286"/>
                      </a:lnTo>
                      <a:lnTo>
                        <a:pt x="28" y="276"/>
                      </a:lnTo>
                      <a:lnTo>
                        <a:pt x="38" y="263"/>
                      </a:lnTo>
                      <a:lnTo>
                        <a:pt x="51" y="248"/>
                      </a:lnTo>
                      <a:lnTo>
                        <a:pt x="67" y="229"/>
                      </a:lnTo>
                      <a:lnTo>
                        <a:pt x="84" y="206"/>
                      </a:lnTo>
                      <a:lnTo>
                        <a:pt x="103" y="181"/>
                      </a:lnTo>
                      <a:lnTo>
                        <a:pt x="122" y="156"/>
                      </a:lnTo>
                      <a:lnTo>
                        <a:pt x="139" y="132"/>
                      </a:lnTo>
                      <a:lnTo>
                        <a:pt x="158" y="105"/>
                      </a:lnTo>
                      <a:lnTo>
                        <a:pt x="175" y="82"/>
                      </a:lnTo>
                      <a:lnTo>
                        <a:pt x="192" y="59"/>
                      </a:lnTo>
                      <a:lnTo>
                        <a:pt x="203" y="38"/>
                      </a:lnTo>
                      <a:lnTo>
                        <a:pt x="213" y="23"/>
                      </a:lnTo>
                      <a:lnTo>
                        <a:pt x="217" y="10"/>
                      </a:lnTo>
                      <a:lnTo>
                        <a:pt x="219" y="0"/>
                      </a:lnTo>
                      <a:lnTo>
                        <a:pt x="179" y="4"/>
                      </a:lnTo>
                      <a:lnTo>
                        <a:pt x="179" y="4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167160" y="2362680"/>
                  <a:ext cx="61200" cy="129600"/>
                </a:xfrm>
                <a:custGeom>
                  <a:avLst/>
                  <a:gdLst/>
                  <a:ahLst/>
                  <a:rect l="l" t="t" r="r" b="b"/>
                  <a:pathLst>
                    <a:path w="93" h="28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4" y="34"/>
                      </a:lnTo>
                      <a:lnTo>
                        <a:pt x="4" y="52"/>
                      </a:lnTo>
                      <a:lnTo>
                        <a:pt x="6" y="71"/>
                      </a:lnTo>
                      <a:lnTo>
                        <a:pt x="10" y="91"/>
                      </a:lnTo>
                      <a:lnTo>
                        <a:pt x="13" y="114"/>
                      </a:lnTo>
                      <a:lnTo>
                        <a:pt x="15" y="137"/>
                      </a:lnTo>
                      <a:lnTo>
                        <a:pt x="19" y="160"/>
                      </a:lnTo>
                      <a:lnTo>
                        <a:pt x="23" y="185"/>
                      </a:lnTo>
                      <a:lnTo>
                        <a:pt x="30" y="207"/>
                      </a:lnTo>
                      <a:lnTo>
                        <a:pt x="36" y="228"/>
                      </a:lnTo>
                      <a:lnTo>
                        <a:pt x="44" y="249"/>
                      </a:lnTo>
                      <a:lnTo>
                        <a:pt x="51" y="266"/>
                      </a:lnTo>
                      <a:lnTo>
                        <a:pt x="61" y="282"/>
                      </a:lnTo>
                      <a:lnTo>
                        <a:pt x="63" y="280"/>
                      </a:lnTo>
                      <a:lnTo>
                        <a:pt x="67" y="274"/>
                      </a:lnTo>
                      <a:lnTo>
                        <a:pt x="72" y="268"/>
                      </a:lnTo>
                      <a:lnTo>
                        <a:pt x="78" y="259"/>
                      </a:lnTo>
                      <a:lnTo>
                        <a:pt x="84" y="249"/>
                      </a:lnTo>
                      <a:lnTo>
                        <a:pt x="89" y="238"/>
                      </a:lnTo>
                      <a:lnTo>
                        <a:pt x="91" y="232"/>
                      </a:lnTo>
                      <a:lnTo>
                        <a:pt x="93" y="226"/>
                      </a:lnTo>
                      <a:lnTo>
                        <a:pt x="93" y="221"/>
                      </a:lnTo>
                      <a:lnTo>
                        <a:pt x="93" y="215"/>
                      </a:lnTo>
                      <a:lnTo>
                        <a:pt x="91" y="206"/>
                      </a:lnTo>
                      <a:lnTo>
                        <a:pt x="89" y="198"/>
                      </a:lnTo>
                      <a:lnTo>
                        <a:pt x="86" y="185"/>
                      </a:lnTo>
                      <a:lnTo>
                        <a:pt x="84" y="173"/>
                      </a:lnTo>
                      <a:lnTo>
                        <a:pt x="78" y="158"/>
                      </a:lnTo>
                      <a:lnTo>
                        <a:pt x="72" y="145"/>
                      </a:lnTo>
                      <a:lnTo>
                        <a:pt x="68" y="129"/>
                      </a:lnTo>
                      <a:lnTo>
                        <a:pt x="65" y="114"/>
                      </a:lnTo>
                      <a:lnTo>
                        <a:pt x="57" y="99"/>
                      </a:lnTo>
                      <a:lnTo>
                        <a:pt x="51" y="86"/>
                      </a:lnTo>
                      <a:lnTo>
                        <a:pt x="48" y="72"/>
                      </a:lnTo>
                      <a:lnTo>
                        <a:pt x="42" y="61"/>
                      </a:lnTo>
                      <a:lnTo>
                        <a:pt x="36" y="48"/>
                      </a:lnTo>
                      <a:lnTo>
                        <a:pt x="30" y="40"/>
                      </a:lnTo>
                      <a:lnTo>
                        <a:pt x="29" y="33"/>
                      </a:lnTo>
                      <a:lnTo>
                        <a:pt x="27" y="29"/>
                      </a:lnTo>
                      <a:lnTo>
                        <a:pt x="19" y="23"/>
                      </a:lnTo>
                      <a:lnTo>
                        <a:pt x="15" y="17"/>
                      </a:lnTo>
                      <a:lnTo>
                        <a:pt x="11" y="12"/>
                      </a:lnTo>
                      <a:lnTo>
                        <a:pt x="8" y="8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856120" y="2334240"/>
                  <a:ext cx="180000" cy="282600"/>
                </a:xfrm>
                <a:custGeom>
                  <a:avLst/>
                  <a:gdLst/>
                  <a:ahLst/>
                  <a:rect l="l" t="t" r="r" b="b"/>
                  <a:pathLst>
                    <a:path w="270" h="614">
                      <a:moveTo>
                        <a:pt x="183" y="0"/>
                      </a:moveTo>
                      <a:lnTo>
                        <a:pt x="183" y="2"/>
                      </a:lnTo>
                      <a:lnTo>
                        <a:pt x="189" y="8"/>
                      </a:lnTo>
                      <a:lnTo>
                        <a:pt x="192" y="18"/>
                      </a:lnTo>
                      <a:lnTo>
                        <a:pt x="198" y="33"/>
                      </a:lnTo>
                      <a:lnTo>
                        <a:pt x="206" y="48"/>
                      </a:lnTo>
                      <a:lnTo>
                        <a:pt x="215" y="67"/>
                      </a:lnTo>
                      <a:lnTo>
                        <a:pt x="225" y="88"/>
                      </a:lnTo>
                      <a:lnTo>
                        <a:pt x="234" y="111"/>
                      </a:lnTo>
                      <a:lnTo>
                        <a:pt x="242" y="132"/>
                      </a:lnTo>
                      <a:lnTo>
                        <a:pt x="249" y="154"/>
                      </a:lnTo>
                      <a:lnTo>
                        <a:pt x="257" y="177"/>
                      </a:lnTo>
                      <a:lnTo>
                        <a:pt x="263" y="200"/>
                      </a:lnTo>
                      <a:lnTo>
                        <a:pt x="266" y="221"/>
                      </a:lnTo>
                      <a:lnTo>
                        <a:pt x="270" y="242"/>
                      </a:lnTo>
                      <a:lnTo>
                        <a:pt x="270" y="261"/>
                      </a:lnTo>
                      <a:lnTo>
                        <a:pt x="268" y="278"/>
                      </a:lnTo>
                      <a:lnTo>
                        <a:pt x="261" y="293"/>
                      </a:lnTo>
                      <a:lnTo>
                        <a:pt x="255" y="312"/>
                      </a:lnTo>
                      <a:lnTo>
                        <a:pt x="247" y="335"/>
                      </a:lnTo>
                      <a:lnTo>
                        <a:pt x="240" y="362"/>
                      </a:lnTo>
                      <a:lnTo>
                        <a:pt x="228" y="386"/>
                      </a:lnTo>
                      <a:lnTo>
                        <a:pt x="219" y="415"/>
                      </a:lnTo>
                      <a:lnTo>
                        <a:pt x="208" y="443"/>
                      </a:lnTo>
                      <a:lnTo>
                        <a:pt x="198" y="474"/>
                      </a:lnTo>
                      <a:lnTo>
                        <a:pt x="187" y="500"/>
                      </a:lnTo>
                      <a:lnTo>
                        <a:pt x="177" y="527"/>
                      </a:lnTo>
                      <a:lnTo>
                        <a:pt x="168" y="550"/>
                      </a:lnTo>
                      <a:lnTo>
                        <a:pt x="160" y="571"/>
                      </a:lnTo>
                      <a:lnTo>
                        <a:pt x="152" y="588"/>
                      </a:lnTo>
                      <a:lnTo>
                        <a:pt x="149" y="601"/>
                      </a:lnTo>
                      <a:lnTo>
                        <a:pt x="145" y="611"/>
                      </a:lnTo>
                      <a:lnTo>
                        <a:pt x="145" y="614"/>
                      </a:lnTo>
                      <a:lnTo>
                        <a:pt x="0" y="329"/>
                      </a:lnTo>
                      <a:lnTo>
                        <a:pt x="0" y="326"/>
                      </a:lnTo>
                      <a:lnTo>
                        <a:pt x="6" y="314"/>
                      </a:lnTo>
                      <a:lnTo>
                        <a:pt x="16" y="297"/>
                      </a:lnTo>
                      <a:lnTo>
                        <a:pt x="27" y="276"/>
                      </a:lnTo>
                      <a:lnTo>
                        <a:pt x="40" y="250"/>
                      </a:lnTo>
                      <a:lnTo>
                        <a:pt x="56" y="221"/>
                      </a:lnTo>
                      <a:lnTo>
                        <a:pt x="73" y="192"/>
                      </a:lnTo>
                      <a:lnTo>
                        <a:pt x="90" y="162"/>
                      </a:lnTo>
                      <a:lnTo>
                        <a:pt x="105" y="130"/>
                      </a:lnTo>
                      <a:lnTo>
                        <a:pt x="122" y="99"/>
                      </a:lnTo>
                      <a:lnTo>
                        <a:pt x="137" y="71"/>
                      </a:lnTo>
                      <a:lnTo>
                        <a:pt x="152" y="48"/>
                      </a:lnTo>
                      <a:lnTo>
                        <a:pt x="164" y="25"/>
                      </a:lnTo>
                      <a:lnTo>
                        <a:pt x="173" y="12"/>
                      </a:lnTo>
                      <a:lnTo>
                        <a:pt x="181" y="2"/>
                      </a:lnTo>
                      <a:lnTo>
                        <a:pt x="183" y="0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339240" y="2678400"/>
                  <a:ext cx="221400" cy="8388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500880" y="2373840"/>
                  <a:ext cx="219960" cy="301680"/>
                </a:xfrm>
                <a:custGeom>
                  <a:avLst/>
                  <a:gdLst/>
                  <a:ahLst/>
                  <a:rect l="l" t="t" r="r" b="b"/>
                  <a:pathLst>
                    <a:path w="329" h="656">
                      <a:moveTo>
                        <a:pt x="42" y="0"/>
                      </a:moveTo>
                      <a:lnTo>
                        <a:pt x="42" y="2"/>
                      </a:lnTo>
                      <a:lnTo>
                        <a:pt x="40" y="9"/>
                      </a:lnTo>
                      <a:lnTo>
                        <a:pt x="36" y="23"/>
                      </a:lnTo>
                      <a:lnTo>
                        <a:pt x="32" y="40"/>
                      </a:lnTo>
                      <a:lnTo>
                        <a:pt x="26" y="61"/>
                      </a:lnTo>
                      <a:lnTo>
                        <a:pt x="24" y="85"/>
                      </a:lnTo>
                      <a:lnTo>
                        <a:pt x="19" y="110"/>
                      </a:lnTo>
                      <a:lnTo>
                        <a:pt x="15" y="139"/>
                      </a:lnTo>
                      <a:lnTo>
                        <a:pt x="9" y="165"/>
                      </a:lnTo>
                      <a:lnTo>
                        <a:pt x="5" y="194"/>
                      </a:lnTo>
                      <a:lnTo>
                        <a:pt x="2" y="220"/>
                      </a:lnTo>
                      <a:lnTo>
                        <a:pt x="2" y="249"/>
                      </a:lnTo>
                      <a:lnTo>
                        <a:pt x="0" y="274"/>
                      </a:lnTo>
                      <a:lnTo>
                        <a:pt x="2" y="295"/>
                      </a:lnTo>
                      <a:lnTo>
                        <a:pt x="4" y="314"/>
                      </a:lnTo>
                      <a:lnTo>
                        <a:pt x="7" y="329"/>
                      </a:lnTo>
                      <a:lnTo>
                        <a:pt x="13" y="342"/>
                      </a:lnTo>
                      <a:lnTo>
                        <a:pt x="23" y="361"/>
                      </a:lnTo>
                      <a:lnTo>
                        <a:pt x="32" y="382"/>
                      </a:lnTo>
                      <a:lnTo>
                        <a:pt x="45" y="407"/>
                      </a:lnTo>
                      <a:lnTo>
                        <a:pt x="59" y="431"/>
                      </a:lnTo>
                      <a:lnTo>
                        <a:pt x="74" y="460"/>
                      </a:lnTo>
                      <a:lnTo>
                        <a:pt x="89" y="488"/>
                      </a:lnTo>
                      <a:lnTo>
                        <a:pt x="104" y="517"/>
                      </a:lnTo>
                      <a:lnTo>
                        <a:pt x="118" y="542"/>
                      </a:lnTo>
                      <a:lnTo>
                        <a:pt x="131" y="568"/>
                      </a:lnTo>
                      <a:lnTo>
                        <a:pt x="144" y="591"/>
                      </a:lnTo>
                      <a:lnTo>
                        <a:pt x="156" y="614"/>
                      </a:lnTo>
                      <a:lnTo>
                        <a:pt x="165" y="629"/>
                      </a:lnTo>
                      <a:lnTo>
                        <a:pt x="173" y="644"/>
                      </a:lnTo>
                      <a:lnTo>
                        <a:pt x="178" y="654"/>
                      </a:lnTo>
                      <a:lnTo>
                        <a:pt x="180" y="656"/>
                      </a:lnTo>
                      <a:lnTo>
                        <a:pt x="329" y="289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231240" y="2519280"/>
                  <a:ext cx="1043640" cy="55584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316560" y="2406240"/>
                  <a:ext cx="945000" cy="60660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316560" y="2438280"/>
                  <a:ext cx="645840" cy="57708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642360" y="2385000"/>
                  <a:ext cx="187920" cy="12420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154920" y="2110320"/>
                  <a:ext cx="347040" cy="303840"/>
                </a:xfrm>
                <a:custGeom>
                  <a:avLst/>
                  <a:gdLst/>
                  <a:ahLst/>
                  <a:rect l="l" t="t" r="r" b="b"/>
                  <a:pathLst>
                    <a:path w="521" h="659">
                      <a:moveTo>
                        <a:pt x="11" y="129"/>
                      </a:moveTo>
                      <a:lnTo>
                        <a:pt x="11" y="135"/>
                      </a:lnTo>
                      <a:lnTo>
                        <a:pt x="9" y="150"/>
                      </a:lnTo>
                      <a:lnTo>
                        <a:pt x="6" y="175"/>
                      </a:lnTo>
                      <a:lnTo>
                        <a:pt x="4" y="211"/>
                      </a:lnTo>
                      <a:lnTo>
                        <a:pt x="0" y="249"/>
                      </a:lnTo>
                      <a:lnTo>
                        <a:pt x="0" y="294"/>
                      </a:lnTo>
                      <a:lnTo>
                        <a:pt x="0" y="342"/>
                      </a:lnTo>
                      <a:lnTo>
                        <a:pt x="2" y="393"/>
                      </a:lnTo>
                      <a:lnTo>
                        <a:pt x="4" y="441"/>
                      </a:lnTo>
                      <a:lnTo>
                        <a:pt x="9" y="488"/>
                      </a:lnTo>
                      <a:lnTo>
                        <a:pt x="19" y="534"/>
                      </a:lnTo>
                      <a:lnTo>
                        <a:pt x="32" y="574"/>
                      </a:lnTo>
                      <a:lnTo>
                        <a:pt x="47" y="608"/>
                      </a:lnTo>
                      <a:lnTo>
                        <a:pt x="70" y="635"/>
                      </a:lnTo>
                      <a:lnTo>
                        <a:pt x="97" y="652"/>
                      </a:lnTo>
                      <a:lnTo>
                        <a:pt x="129" y="659"/>
                      </a:lnTo>
                      <a:lnTo>
                        <a:pt x="161" y="656"/>
                      </a:lnTo>
                      <a:lnTo>
                        <a:pt x="190" y="654"/>
                      </a:lnTo>
                      <a:lnTo>
                        <a:pt x="217" y="648"/>
                      </a:lnTo>
                      <a:lnTo>
                        <a:pt x="239" y="640"/>
                      </a:lnTo>
                      <a:lnTo>
                        <a:pt x="258" y="631"/>
                      </a:lnTo>
                      <a:lnTo>
                        <a:pt x="276" y="621"/>
                      </a:lnTo>
                      <a:lnTo>
                        <a:pt x="291" y="610"/>
                      </a:lnTo>
                      <a:lnTo>
                        <a:pt x="304" y="600"/>
                      </a:lnTo>
                      <a:lnTo>
                        <a:pt x="314" y="589"/>
                      </a:lnTo>
                      <a:lnTo>
                        <a:pt x="321" y="578"/>
                      </a:lnTo>
                      <a:lnTo>
                        <a:pt x="327" y="568"/>
                      </a:lnTo>
                      <a:lnTo>
                        <a:pt x="334" y="559"/>
                      </a:lnTo>
                      <a:lnTo>
                        <a:pt x="336" y="551"/>
                      </a:lnTo>
                      <a:lnTo>
                        <a:pt x="340" y="545"/>
                      </a:lnTo>
                      <a:lnTo>
                        <a:pt x="340" y="542"/>
                      </a:lnTo>
                      <a:lnTo>
                        <a:pt x="342" y="542"/>
                      </a:lnTo>
                      <a:lnTo>
                        <a:pt x="344" y="542"/>
                      </a:lnTo>
                      <a:lnTo>
                        <a:pt x="350" y="542"/>
                      </a:lnTo>
                      <a:lnTo>
                        <a:pt x="353" y="542"/>
                      </a:lnTo>
                      <a:lnTo>
                        <a:pt x="359" y="542"/>
                      </a:lnTo>
                      <a:lnTo>
                        <a:pt x="365" y="542"/>
                      </a:lnTo>
                      <a:lnTo>
                        <a:pt x="372" y="542"/>
                      </a:lnTo>
                      <a:lnTo>
                        <a:pt x="378" y="540"/>
                      </a:lnTo>
                      <a:lnTo>
                        <a:pt x="386" y="538"/>
                      </a:lnTo>
                      <a:lnTo>
                        <a:pt x="393" y="534"/>
                      </a:lnTo>
                      <a:lnTo>
                        <a:pt x="401" y="532"/>
                      </a:lnTo>
                      <a:lnTo>
                        <a:pt x="407" y="526"/>
                      </a:lnTo>
                      <a:lnTo>
                        <a:pt x="414" y="519"/>
                      </a:lnTo>
                      <a:lnTo>
                        <a:pt x="422" y="511"/>
                      </a:lnTo>
                      <a:lnTo>
                        <a:pt x="429" y="504"/>
                      </a:lnTo>
                      <a:lnTo>
                        <a:pt x="435" y="492"/>
                      </a:lnTo>
                      <a:lnTo>
                        <a:pt x="439" y="483"/>
                      </a:lnTo>
                      <a:lnTo>
                        <a:pt x="441" y="473"/>
                      </a:lnTo>
                      <a:lnTo>
                        <a:pt x="443" y="465"/>
                      </a:lnTo>
                      <a:lnTo>
                        <a:pt x="443" y="458"/>
                      </a:lnTo>
                      <a:lnTo>
                        <a:pt x="445" y="450"/>
                      </a:lnTo>
                      <a:lnTo>
                        <a:pt x="445" y="443"/>
                      </a:lnTo>
                      <a:lnTo>
                        <a:pt x="445" y="437"/>
                      </a:lnTo>
                      <a:lnTo>
                        <a:pt x="443" y="431"/>
                      </a:lnTo>
                      <a:lnTo>
                        <a:pt x="443" y="424"/>
                      </a:lnTo>
                      <a:lnTo>
                        <a:pt x="443" y="418"/>
                      </a:lnTo>
                      <a:lnTo>
                        <a:pt x="443" y="414"/>
                      </a:lnTo>
                      <a:lnTo>
                        <a:pt x="445" y="403"/>
                      </a:lnTo>
                      <a:lnTo>
                        <a:pt x="452" y="395"/>
                      </a:lnTo>
                      <a:lnTo>
                        <a:pt x="460" y="384"/>
                      </a:lnTo>
                      <a:lnTo>
                        <a:pt x="471" y="378"/>
                      </a:lnTo>
                      <a:lnTo>
                        <a:pt x="483" y="372"/>
                      </a:lnTo>
                      <a:lnTo>
                        <a:pt x="494" y="367"/>
                      </a:lnTo>
                      <a:lnTo>
                        <a:pt x="504" y="363"/>
                      </a:lnTo>
                      <a:lnTo>
                        <a:pt x="513" y="359"/>
                      </a:lnTo>
                      <a:lnTo>
                        <a:pt x="517" y="359"/>
                      </a:lnTo>
                      <a:lnTo>
                        <a:pt x="521" y="359"/>
                      </a:lnTo>
                      <a:lnTo>
                        <a:pt x="454" y="30"/>
                      </a:lnTo>
                      <a:lnTo>
                        <a:pt x="146" y="0"/>
                      </a:lnTo>
                      <a:lnTo>
                        <a:pt x="11" y="129"/>
                      </a:lnTo>
                      <a:lnTo>
                        <a:pt x="11" y="129"/>
                      </a:lnTo>
                      <a:close/>
                    </a:path>
                  </a:pathLst>
                </a:custGeom>
                <a:solidFill>
                  <a:srgbClr val="b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228720" y="2191680"/>
                  <a:ext cx="169200" cy="127440"/>
                </a:xfrm>
                <a:custGeom>
                  <a:avLst/>
                  <a:gdLst/>
                  <a:ahLst/>
                  <a:rect l="l" t="t" r="r" b="b"/>
                  <a:pathLst>
                    <a:path w="255" h="277">
                      <a:moveTo>
                        <a:pt x="230" y="26"/>
                      </a:moveTo>
                      <a:lnTo>
                        <a:pt x="228" y="24"/>
                      </a:lnTo>
                      <a:lnTo>
                        <a:pt x="224" y="24"/>
                      </a:lnTo>
                      <a:lnTo>
                        <a:pt x="217" y="22"/>
                      </a:lnTo>
                      <a:lnTo>
                        <a:pt x="207" y="22"/>
                      </a:lnTo>
                      <a:lnTo>
                        <a:pt x="196" y="21"/>
                      </a:lnTo>
                      <a:lnTo>
                        <a:pt x="183" y="21"/>
                      </a:lnTo>
                      <a:lnTo>
                        <a:pt x="169" y="21"/>
                      </a:lnTo>
                      <a:lnTo>
                        <a:pt x="156" y="21"/>
                      </a:lnTo>
                      <a:lnTo>
                        <a:pt x="141" y="21"/>
                      </a:lnTo>
                      <a:lnTo>
                        <a:pt x="126" y="22"/>
                      </a:lnTo>
                      <a:lnTo>
                        <a:pt x="110" y="24"/>
                      </a:lnTo>
                      <a:lnTo>
                        <a:pt x="97" y="28"/>
                      </a:lnTo>
                      <a:lnTo>
                        <a:pt x="84" y="32"/>
                      </a:lnTo>
                      <a:lnTo>
                        <a:pt x="72" y="40"/>
                      </a:lnTo>
                      <a:lnTo>
                        <a:pt x="61" y="47"/>
                      </a:lnTo>
                      <a:lnTo>
                        <a:pt x="55" y="57"/>
                      </a:lnTo>
                      <a:lnTo>
                        <a:pt x="50" y="68"/>
                      </a:lnTo>
                      <a:lnTo>
                        <a:pt x="42" y="81"/>
                      </a:lnTo>
                      <a:lnTo>
                        <a:pt x="36" y="93"/>
                      </a:lnTo>
                      <a:lnTo>
                        <a:pt x="32" y="108"/>
                      </a:lnTo>
                      <a:lnTo>
                        <a:pt x="29" y="125"/>
                      </a:lnTo>
                      <a:lnTo>
                        <a:pt x="25" y="140"/>
                      </a:lnTo>
                      <a:lnTo>
                        <a:pt x="21" y="157"/>
                      </a:lnTo>
                      <a:lnTo>
                        <a:pt x="19" y="175"/>
                      </a:lnTo>
                      <a:lnTo>
                        <a:pt x="15" y="190"/>
                      </a:lnTo>
                      <a:lnTo>
                        <a:pt x="15" y="203"/>
                      </a:lnTo>
                      <a:lnTo>
                        <a:pt x="13" y="216"/>
                      </a:lnTo>
                      <a:lnTo>
                        <a:pt x="13" y="230"/>
                      </a:lnTo>
                      <a:lnTo>
                        <a:pt x="13" y="239"/>
                      </a:lnTo>
                      <a:lnTo>
                        <a:pt x="13" y="247"/>
                      </a:lnTo>
                      <a:lnTo>
                        <a:pt x="15" y="252"/>
                      </a:lnTo>
                      <a:lnTo>
                        <a:pt x="19" y="256"/>
                      </a:lnTo>
                      <a:lnTo>
                        <a:pt x="25" y="258"/>
                      </a:lnTo>
                      <a:lnTo>
                        <a:pt x="36" y="260"/>
                      </a:lnTo>
                      <a:lnTo>
                        <a:pt x="44" y="262"/>
                      </a:lnTo>
                      <a:lnTo>
                        <a:pt x="50" y="262"/>
                      </a:lnTo>
                      <a:lnTo>
                        <a:pt x="50" y="262"/>
                      </a:lnTo>
                      <a:lnTo>
                        <a:pt x="51" y="266"/>
                      </a:lnTo>
                      <a:lnTo>
                        <a:pt x="50" y="270"/>
                      </a:lnTo>
                      <a:lnTo>
                        <a:pt x="42" y="275"/>
                      </a:lnTo>
                      <a:lnTo>
                        <a:pt x="36" y="277"/>
                      </a:lnTo>
                      <a:lnTo>
                        <a:pt x="29" y="277"/>
                      </a:lnTo>
                      <a:lnTo>
                        <a:pt x="23" y="277"/>
                      </a:lnTo>
                      <a:lnTo>
                        <a:pt x="17" y="275"/>
                      </a:lnTo>
                      <a:lnTo>
                        <a:pt x="12" y="270"/>
                      </a:lnTo>
                      <a:lnTo>
                        <a:pt x="8" y="262"/>
                      </a:lnTo>
                      <a:lnTo>
                        <a:pt x="6" y="256"/>
                      </a:lnTo>
                      <a:lnTo>
                        <a:pt x="4" y="251"/>
                      </a:lnTo>
                      <a:lnTo>
                        <a:pt x="2" y="245"/>
                      </a:lnTo>
                      <a:lnTo>
                        <a:pt x="2" y="239"/>
                      </a:lnTo>
                      <a:lnTo>
                        <a:pt x="0" y="228"/>
                      </a:lnTo>
                      <a:lnTo>
                        <a:pt x="0" y="216"/>
                      </a:lnTo>
                      <a:lnTo>
                        <a:pt x="0" y="203"/>
                      </a:lnTo>
                      <a:lnTo>
                        <a:pt x="2" y="190"/>
                      </a:lnTo>
                      <a:lnTo>
                        <a:pt x="2" y="171"/>
                      </a:lnTo>
                      <a:lnTo>
                        <a:pt x="6" y="156"/>
                      </a:lnTo>
                      <a:lnTo>
                        <a:pt x="10" y="137"/>
                      </a:lnTo>
                      <a:lnTo>
                        <a:pt x="15" y="119"/>
                      </a:lnTo>
                      <a:lnTo>
                        <a:pt x="19" y="100"/>
                      </a:lnTo>
                      <a:lnTo>
                        <a:pt x="25" y="85"/>
                      </a:lnTo>
                      <a:lnTo>
                        <a:pt x="31" y="68"/>
                      </a:lnTo>
                      <a:lnTo>
                        <a:pt x="38" y="55"/>
                      </a:lnTo>
                      <a:lnTo>
                        <a:pt x="44" y="40"/>
                      </a:lnTo>
                      <a:lnTo>
                        <a:pt x="53" y="30"/>
                      </a:lnTo>
                      <a:lnTo>
                        <a:pt x="61" y="21"/>
                      </a:lnTo>
                      <a:lnTo>
                        <a:pt x="72" y="15"/>
                      </a:lnTo>
                      <a:lnTo>
                        <a:pt x="80" y="11"/>
                      </a:lnTo>
                      <a:lnTo>
                        <a:pt x="91" y="7"/>
                      </a:lnTo>
                      <a:lnTo>
                        <a:pt x="105" y="5"/>
                      </a:lnTo>
                      <a:lnTo>
                        <a:pt x="118" y="3"/>
                      </a:lnTo>
                      <a:lnTo>
                        <a:pt x="131" y="2"/>
                      </a:lnTo>
                      <a:lnTo>
                        <a:pt x="148" y="0"/>
                      </a:lnTo>
                      <a:lnTo>
                        <a:pt x="164" y="0"/>
                      </a:lnTo>
                      <a:lnTo>
                        <a:pt x="179" y="2"/>
                      </a:lnTo>
                      <a:lnTo>
                        <a:pt x="192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30" y="5"/>
                      </a:lnTo>
                      <a:lnTo>
                        <a:pt x="240" y="7"/>
                      </a:lnTo>
                      <a:lnTo>
                        <a:pt x="247" y="9"/>
                      </a:lnTo>
                      <a:lnTo>
                        <a:pt x="251" y="11"/>
                      </a:lnTo>
                      <a:lnTo>
                        <a:pt x="255" y="13"/>
                      </a:lnTo>
                      <a:lnTo>
                        <a:pt x="251" y="21"/>
                      </a:lnTo>
                      <a:lnTo>
                        <a:pt x="243" y="24"/>
                      </a:lnTo>
                      <a:lnTo>
                        <a:pt x="234" y="24"/>
                      </a:lnTo>
                      <a:lnTo>
                        <a:pt x="230" y="26"/>
                      </a:lnTo>
                      <a:lnTo>
                        <a:pt x="230" y="26"/>
                      </a:lnTo>
                      <a:close/>
                    </a:path>
                  </a:pathLst>
                </a:custGeom>
                <a:solidFill>
                  <a:srgbClr val="de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167160" y="2179440"/>
                  <a:ext cx="14760" cy="201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13" y="0"/>
                      </a:moveTo>
                      <a:lnTo>
                        <a:pt x="19" y="2"/>
                      </a:lnTo>
                      <a:lnTo>
                        <a:pt x="21" y="8"/>
                      </a:lnTo>
                      <a:lnTo>
                        <a:pt x="21" y="13"/>
                      </a:lnTo>
                      <a:lnTo>
                        <a:pt x="19" y="21"/>
                      </a:lnTo>
                      <a:lnTo>
                        <a:pt x="17" y="25"/>
                      </a:lnTo>
                      <a:lnTo>
                        <a:pt x="15" y="32"/>
                      </a:lnTo>
                      <a:lnTo>
                        <a:pt x="13" y="38"/>
                      </a:lnTo>
                      <a:lnTo>
                        <a:pt x="11" y="44"/>
                      </a:lnTo>
                      <a:lnTo>
                        <a:pt x="6" y="38"/>
                      </a:lnTo>
                      <a:lnTo>
                        <a:pt x="2" y="32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5"/>
                      </a:lnTo>
                      <a:lnTo>
                        <a:pt x="6" y="9"/>
                      </a:lnTo>
                      <a:lnTo>
                        <a:pt x="9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84440" y="2189880"/>
                  <a:ext cx="14760" cy="1908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0"/>
                      </a:moveTo>
                      <a:lnTo>
                        <a:pt x="22" y="4"/>
                      </a:lnTo>
                      <a:lnTo>
                        <a:pt x="22" y="11"/>
                      </a:lnTo>
                      <a:lnTo>
                        <a:pt x="22" y="19"/>
                      </a:lnTo>
                      <a:lnTo>
                        <a:pt x="22" y="26"/>
                      </a:lnTo>
                      <a:lnTo>
                        <a:pt x="17" y="32"/>
                      </a:lnTo>
                      <a:lnTo>
                        <a:pt x="13" y="38"/>
                      </a:lnTo>
                      <a:lnTo>
                        <a:pt x="7" y="42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9" y="9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206040" y="2201760"/>
                  <a:ext cx="16920" cy="15480"/>
                </a:xfrm>
                <a:custGeom>
                  <a:avLst/>
                  <a:gdLst/>
                  <a:ahLst/>
                  <a:rect l="l" t="t" r="r" b="b"/>
                  <a:pathLst>
                    <a:path w="27" h="35">
                      <a:moveTo>
                        <a:pt x="19" y="0"/>
                      </a:moveTo>
                      <a:lnTo>
                        <a:pt x="25" y="4"/>
                      </a:lnTo>
                      <a:lnTo>
                        <a:pt x="27" y="12"/>
                      </a:lnTo>
                      <a:lnTo>
                        <a:pt x="25" y="19"/>
                      </a:lnTo>
                      <a:lnTo>
                        <a:pt x="21" y="27"/>
                      </a:lnTo>
                      <a:lnTo>
                        <a:pt x="13" y="33"/>
                      </a:lnTo>
                      <a:lnTo>
                        <a:pt x="6" y="35"/>
                      </a:lnTo>
                      <a:lnTo>
                        <a:pt x="2" y="33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4" y="16"/>
                      </a:lnTo>
                      <a:lnTo>
                        <a:pt x="6" y="12"/>
                      </a:lnTo>
                      <a:lnTo>
                        <a:pt x="11" y="6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39240" y="2217240"/>
                  <a:ext cx="11880" cy="2268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1" y="0"/>
                      </a:moveTo>
                      <a:lnTo>
                        <a:pt x="15" y="3"/>
                      </a:lnTo>
                      <a:lnTo>
                        <a:pt x="17" y="9"/>
                      </a:lnTo>
                      <a:lnTo>
                        <a:pt x="17" y="15"/>
                      </a:lnTo>
                      <a:lnTo>
                        <a:pt x="19" y="24"/>
                      </a:lnTo>
                      <a:lnTo>
                        <a:pt x="17" y="30"/>
                      </a:lnTo>
                      <a:lnTo>
                        <a:pt x="15" y="38"/>
                      </a:lnTo>
                      <a:lnTo>
                        <a:pt x="15" y="43"/>
                      </a:lnTo>
                      <a:lnTo>
                        <a:pt x="15" y="49"/>
                      </a:lnTo>
                      <a:lnTo>
                        <a:pt x="7" y="49"/>
                      </a:lnTo>
                      <a:lnTo>
                        <a:pt x="1" y="49"/>
                      </a:lnTo>
                      <a:lnTo>
                        <a:pt x="0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307200" y="2219040"/>
                  <a:ext cx="14760" cy="23760"/>
                </a:xfrm>
                <a:custGeom>
                  <a:avLst/>
                  <a:gdLst/>
                  <a:ahLst/>
                  <a:rect l="l" t="t" r="r" b="b"/>
                  <a:pathLst>
                    <a:path w="23" h="52">
                      <a:moveTo>
                        <a:pt x="8" y="0"/>
                      </a:moveTo>
                      <a:lnTo>
                        <a:pt x="11" y="2"/>
                      </a:lnTo>
                      <a:lnTo>
                        <a:pt x="13" y="10"/>
                      </a:lnTo>
                      <a:lnTo>
                        <a:pt x="17" y="16"/>
                      </a:lnTo>
                      <a:lnTo>
                        <a:pt x="21" y="23"/>
                      </a:lnTo>
                      <a:lnTo>
                        <a:pt x="23" y="31"/>
                      </a:lnTo>
                      <a:lnTo>
                        <a:pt x="23" y="40"/>
                      </a:lnTo>
                      <a:lnTo>
                        <a:pt x="19" y="46"/>
                      </a:lnTo>
                      <a:lnTo>
                        <a:pt x="11" y="52"/>
                      </a:lnTo>
                      <a:lnTo>
                        <a:pt x="8" y="44"/>
                      </a:lnTo>
                      <a:lnTo>
                        <a:pt x="6" y="38"/>
                      </a:lnTo>
                      <a:lnTo>
                        <a:pt x="2" y="31"/>
                      </a:lnTo>
                      <a:lnTo>
                        <a:pt x="0" y="25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67680" y="2221200"/>
                  <a:ext cx="12960" cy="201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12" y="0"/>
                      </a:moveTo>
                      <a:lnTo>
                        <a:pt x="16" y="4"/>
                      </a:lnTo>
                      <a:lnTo>
                        <a:pt x="19" y="10"/>
                      </a:lnTo>
                      <a:lnTo>
                        <a:pt x="19" y="15"/>
                      </a:lnTo>
                      <a:lnTo>
                        <a:pt x="21" y="21"/>
                      </a:lnTo>
                      <a:lnTo>
                        <a:pt x="19" y="27"/>
                      </a:lnTo>
                      <a:lnTo>
                        <a:pt x="17" y="34"/>
                      </a:lnTo>
                      <a:lnTo>
                        <a:pt x="14" y="40"/>
                      </a:lnTo>
                      <a:lnTo>
                        <a:pt x="12" y="44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29"/>
                      </a:ln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278040" y="2224800"/>
                  <a:ext cx="15840" cy="2016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8" y="0"/>
                      </a:moveTo>
                      <a:lnTo>
                        <a:pt x="15" y="9"/>
                      </a:lnTo>
                      <a:lnTo>
                        <a:pt x="21" y="19"/>
                      </a:lnTo>
                      <a:lnTo>
                        <a:pt x="21" y="25"/>
                      </a:lnTo>
                      <a:lnTo>
                        <a:pt x="23" y="30"/>
                      </a:lnTo>
                      <a:lnTo>
                        <a:pt x="23" y="36"/>
                      </a:lnTo>
                      <a:lnTo>
                        <a:pt x="23" y="44"/>
                      </a:lnTo>
                      <a:lnTo>
                        <a:pt x="19" y="44"/>
                      </a:lnTo>
                      <a:lnTo>
                        <a:pt x="14" y="44"/>
                      </a:lnTo>
                      <a:lnTo>
                        <a:pt x="8" y="40"/>
                      </a:lnTo>
                      <a:lnTo>
                        <a:pt x="6" y="34"/>
                      </a:lnTo>
                      <a:lnTo>
                        <a:pt x="2" y="26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2" y="9"/>
                      </a:lnTo>
                      <a:lnTo>
                        <a:pt x="4" y="4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396840" y="222840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17" y="0"/>
                      </a:moveTo>
                      <a:lnTo>
                        <a:pt x="19" y="4"/>
                      </a:lnTo>
                      <a:lnTo>
                        <a:pt x="21" y="10"/>
                      </a:lnTo>
                      <a:lnTo>
                        <a:pt x="21" y="18"/>
                      </a:lnTo>
                      <a:lnTo>
                        <a:pt x="23" y="25"/>
                      </a:lnTo>
                      <a:lnTo>
                        <a:pt x="19" y="33"/>
                      </a:lnTo>
                      <a:lnTo>
                        <a:pt x="15" y="40"/>
                      </a:lnTo>
                      <a:lnTo>
                        <a:pt x="8" y="42"/>
                      </a:lnTo>
                      <a:lnTo>
                        <a:pt x="2" y="42"/>
                      </a:lnTo>
                      <a:lnTo>
                        <a:pt x="0" y="29"/>
                      </a:lnTo>
                      <a:lnTo>
                        <a:pt x="2" y="19"/>
                      </a:lnTo>
                      <a:lnTo>
                        <a:pt x="8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423480" y="2241360"/>
                  <a:ext cx="22680" cy="16200"/>
                </a:xfrm>
                <a:custGeom>
                  <a:avLst/>
                  <a:gdLst/>
                  <a:ahLst/>
                  <a:rect l="l" t="t" r="r" b="b"/>
                  <a:pathLst>
                    <a:path w="32" h="36">
                      <a:moveTo>
                        <a:pt x="26" y="0"/>
                      </a:moveTo>
                      <a:lnTo>
                        <a:pt x="32" y="6"/>
                      </a:lnTo>
                      <a:lnTo>
                        <a:pt x="32" y="13"/>
                      </a:lnTo>
                      <a:lnTo>
                        <a:pt x="30" y="21"/>
                      </a:lnTo>
                      <a:lnTo>
                        <a:pt x="26" y="29"/>
                      </a:lnTo>
                      <a:lnTo>
                        <a:pt x="19" y="34"/>
                      </a:lnTo>
                      <a:lnTo>
                        <a:pt x="13" y="36"/>
                      </a:lnTo>
                      <a:lnTo>
                        <a:pt x="6" y="34"/>
                      </a:lnTo>
                      <a:lnTo>
                        <a:pt x="0" y="27"/>
                      </a:lnTo>
                      <a:lnTo>
                        <a:pt x="4" y="21"/>
                      </a:lnTo>
                      <a:lnTo>
                        <a:pt x="11" y="13"/>
                      </a:lnTo>
                      <a:lnTo>
                        <a:pt x="21" y="6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443640" y="225324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27" h="36">
                      <a:moveTo>
                        <a:pt x="19" y="0"/>
                      </a:moveTo>
                      <a:lnTo>
                        <a:pt x="27" y="3"/>
                      </a:lnTo>
                      <a:lnTo>
                        <a:pt x="27" y="11"/>
                      </a:lnTo>
                      <a:lnTo>
                        <a:pt x="25" y="19"/>
                      </a:lnTo>
                      <a:lnTo>
                        <a:pt x="21" y="28"/>
                      </a:lnTo>
                      <a:lnTo>
                        <a:pt x="12" y="34"/>
                      </a:lnTo>
                      <a:lnTo>
                        <a:pt x="4" y="36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6" y="13"/>
                      </a:lnTo>
                      <a:lnTo>
                        <a:pt x="12" y="7"/>
                      </a:lnTo>
                      <a:lnTo>
                        <a:pt x="16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7d2b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79480" y="2233080"/>
                  <a:ext cx="170640" cy="43920"/>
                </a:xfrm>
                <a:custGeom>
                  <a:avLst/>
                  <a:gdLst/>
                  <a:ahLst/>
                  <a:rect l="l" t="t" r="r" b="b"/>
                  <a:pathLst>
                    <a:path w="257" h="95">
                      <a:moveTo>
                        <a:pt x="0" y="25"/>
                      </a:moveTo>
                      <a:lnTo>
                        <a:pt x="2" y="23"/>
                      </a:lnTo>
                      <a:lnTo>
                        <a:pt x="6" y="21"/>
                      </a:lnTo>
                      <a:lnTo>
                        <a:pt x="13" y="17"/>
                      </a:lnTo>
                      <a:lnTo>
                        <a:pt x="25" y="13"/>
                      </a:lnTo>
                      <a:lnTo>
                        <a:pt x="38" y="7"/>
                      </a:lnTo>
                      <a:lnTo>
                        <a:pt x="53" y="6"/>
                      </a:lnTo>
                      <a:lnTo>
                        <a:pt x="71" y="2"/>
                      </a:lnTo>
                      <a:lnTo>
                        <a:pt x="90" y="0"/>
                      </a:lnTo>
                      <a:lnTo>
                        <a:pt x="109" y="0"/>
                      </a:lnTo>
                      <a:lnTo>
                        <a:pt x="129" y="2"/>
                      </a:lnTo>
                      <a:lnTo>
                        <a:pt x="150" y="6"/>
                      </a:lnTo>
                      <a:lnTo>
                        <a:pt x="173" y="13"/>
                      </a:lnTo>
                      <a:lnTo>
                        <a:pt x="194" y="23"/>
                      </a:lnTo>
                      <a:lnTo>
                        <a:pt x="215" y="38"/>
                      </a:lnTo>
                      <a:lnTo>
                        <a:pt x="236" y="57"/>
                      </a:lnTo>
                      <a:lnTo>
                        <a:pt x="257" y="82"/>
                      </a:lnTo>
                      <a:lnTo>
                        <a:pt x="255" y="82"/>
                      </a:lnTo>
                      <a:lnTo>
                        <a:pt x="251" y="82"/>
                      </a:lnTo>
                      <a:lnTo>
                        <a:pt x="243" y="84"/>
                      </a:lnTo>
                      <a:lnTo>
                        <a:pt x="236" y="87"/>
                      </a:lnTo>
                      <a:lnTo>
                        <a:pt x="224" y="89"/>
                      </a:lnTo>
                      <a:lnTo>
                        <a:pt x="213" y="91"/>
                      </a:lnTo>
                      <a:lnTo>
                        <a:pt x="198" y="93"/>
                      </a:lnTo>
                      <a:lnTo>
                        <a:pt x="183" y="95"/>
                      </a:lnTo>
                      <a:lnTo>
                        <a:pt x="164" y="93"/>
                      </a:lnTo>
                      <a:lnTo>
                        <a:pt x="147" y="93"/>
                      </a:lnTo>
                      <a:lnTo>
                        <a:pt x="126" y="89"/>
                      </a:lnTo>
                      <a:lnTo>
                        <a:pt x="105" y="85"/>
                      </a:lnTo>
                      <a:lnTo>
                        <a:pt x="82" y="80"/>
                      </a:lnTo>
                      <a:lnTo>
                        <a:pt x="61" y="70"/>
                      </a:lnTo>
                      <a:lnTo>
                        <a:pt x="38" y="59"/>
                      </a:lnTo>
                      <a:lnTo>
                        <a:pt x="15" y="46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1fe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154920" y="2195280"/>
                  <a:ext cx="62640" cy="43920"/>
                </a:xfrm>
                <a:custGeom>
                  <a:avLst/>
                  <a:gdLst/>
                  <a:ahLst/>
                  <a:rect l="l" t="t" r="r" b="b"/>
                  <a:pathLst>
                    <a:path w="95" h="97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7" y="4"/>
                      </a:lnTo>
                      <a:lnTo>
                        <a:pt x="21" y="6"/>
                      </a:lnTo>
                      <a:lnTo>
                        <a:pt x="28" y="8"/>
                      </a:lnTo>
                      <a:lnTo>
                        <a:pt x="36" y="12"/>
                      </a:lnTo>
                      <a:lnTo>
                        <a:pt x="44" y="17"/>
                      </a:lnTo>
                      <a:lnTo>
                        <a:pt x="51" y="21"/>
                      </a:lnTo>
                      <a:lnTo>
                        <a:pt x="59" y="27"/>
                      </a:lnTo>
                      <a:lnTo>
                        <a:pt x="66" y="33"/>
                      </a:lnTo>
                      <a:lnTo>
                        <a:pt x="74" y="40"/>
                      </a:lnTo>
                      <a:lnTo>
                        <a:pt x="80" y="48"/>
                      </a:lnTo>
                      <a:lnTo>
                        <a:pt x="85" y="55"/>
                      </a:lnTo>
                      <a:lnTo>
                        <a:pt x="91" y="65"/>
                      </a:lnTo>
                      <a:lnTo>
                        <a:pt x="95" y="76"/>
                      </a:lnTo>
                      <a:lnTo>
                        <a:pt x="93" y="76"/>
                      </a:lnTo>
                      <a:lnTo>
                        <a:pt x="87" y="78"/>
                      </a:lnTo>
                      <a:lnTo>
                        <a:pt x="82" y="78"/>
                      </a:lnTo>
                      <a:lnTo>
                        <a:pt x="76" y="80"/>
                      </a:lnTo>
                      <a:lnTo>
                        <a:pt x="70" y="82"/>
                      </a:lnTo>
                      <a:lnTo>
                        <a:pt x="65" y="86"/>
                      </a:lnTo>
                      <a:lnTo>
                        <a:pt x="57" y="86"/>
                      </a:lnTo>
                      <a:lnTo>
                        <a:pt x="49" y="90"/>
                      </a:lnTo>
                      <a:lnTo>
                        <a:pt x="42" y="90"/>
                      </a:lnTo>
                      <a:lnTo>
                        <a:pt x="34" y="91"/>
                      </a:lnTo>
                      <a:lnTo>
                        <a:pt x="25" y="93"/>
                      </a:lnTo>
                      <a:lnTo>
                        <a:pt x="17" y="93"/>
                      </a:lnTo>
                      <a:lnTo>
                        <a:pt x="9" y="95"/>
                      </a:lnTo>
                      <a:lnTo>
                        <a:pt x="2" y="97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0" y="80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0" y="57"/>
                      </a:lnTo>
                      <a:lnTo>
                        <a:pt x="2" y="48"/>
                      </a:lnTo>
                      <a:lnTo>
                        <a:pt x="2" y="38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4" y="14"/>
                      </a:lnTo>
                      <a:lnTo>
                        <a:pt x="4" y="8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1fe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147000" y="2048040"/>
                  <a:ext cx="412560" cy="264960"/>
                </a:xfrm>
                <a:custGeom>
                  <a:avLst/>
                  <a:gdLst/>
                  <a:ahLst/>
                  <a:rect l="l" t="t" r="r" b="b"/>
                  <a:pathLst>
                    <a:path w="617" h="576">
                      <a:moveTo>
                        <a:pt x="9" y="310"/>
                      </a:moveTo>
                      <a:lnTo>
                        <a:pt x="11" y="308"/>
                      </a:lnTo>
                      <a:lnTo>
                        <a:pt x="15" y="306"/>
                      </a:lnTo>
                      <a:lnTo>
                        <a:pt x="22" y="302"/>
                      </a:lnTo>
                      <a:lnTo>
                        <a:pt x="32" y="296"/>
                      </a:lnTo>
                      <a:lnTo>
                        <a:pt x="39" y="287"/>
                      </a:lnTo>
                      <a:lnTo>
                        <a:pt x="49" y="277"/>
                      </a:lnTo>
                      <a:lnTo>
                        <a:pt x="51" y="272"/>
                      </a:lnTo>
                      <a:lnTo>
                        <a:pt x="55" y="266"/>
                      </a:lnTo>
                      <a:lnTo>
                        <a:pt x="57" y="258"/>
                      </a:lnTo>
                      <a:lnTo>
                        <a:pt x="58" y="253"/>
                      </a:lnTo>
                      <a:lnTo>
                        <a:pt x="58" y="245"/>
                      </a:lnTo>
                      <a:lnTo>
                        <a:pt x="62" y="239"/>
                      </a:lnTo>
                      <a:lnTo>
                        <a:pt x="64" y="234"/>
                      </a:lnTo>
                      <a:lnTo>
                        <a:pt x="68" y="230"/>
                      </a:lnTo>
                      <a:lnTo>
                        <a:pt x="74" y="222"/>
                      </a:lnTo>
                      <a:lnTo>
                        <a:pt x="83" y="218"/>
                      </a:lnTo>
                      <a:lnTo>
                        <a:pt x="91" y="215"/>
                      </a:lnTo>
                      <a:lnTo>
                        <a:pt x="100" y="213"/>
                      </a:lnTo>
                      <a:lnTo>
                        <a:pt x="108" y="213"/>
                      </a:lnTo>
                      <a:lnTo>
                        <a:pt x="115" y="215"/>
                      </a:lnTo>
                      <a:lnTo>
                        <a:pt x="123" y="213"/>
                      </a:lnTo>
                      <a:lnTo>
                        <a:pt x="129" y="209"/>
                      </a:lnTo>
                      <a:lnTo>
                        <a:pt x="136" y="201"/>
                      </a:lnTo>
                      <a:lnTo>
                        <a:pt x="144" y="194"/>
                      </a:lnTo>
                      <a:lnTo>
                        <a:pt x="152" y="184"/>
                      </a:lnTo>
                      <a:lnTo>
                        <a:pt x="159" y="180"/>
                      </a:lnTo>
                      <a:lnTo>
                        <a:pt x="167" y="179"/>
                      </a:lnTo>
                      <a:lnTo>
                        <a:pt x="174" y="182"/>
                      </a:lnTo>
                      <a:lnTo>
                        <a:pt x="182" y="186"/>
                      </a:lnTo>
                      <a:lnTo>
                        <a:pt x="191" y="188"/>
                      </a:lnTo>
                      <a:lnTo>
                        <a:pt x="197" y="186"/>
                      </a:lnTo>
                      <a:lnTo>
                        <a:pt x="207" y="186"/>
                      </a:lnTo>
                      <a:lnTo>
                        <a:pt x="214" y="182"/>
                      </a:lnTo>
                      <a:lnTo>
                        <a:pt x="222" y="179"/>
                      </a:lnTo>
                      <a:lnTo>
                        <a:pt x="229" y="175"/>
                      </a:lnTo>
                      <a:lnTo>
                        <a:pt x="239" y="175"/>
                      </a:lnTo>
                      <a:lnTo>
                        <a:pt x="245" y="175"/>
                      </a:lnTo>
                      <a:lnTo>
                        <a:pt x="250" y="177"/>
                      </a:lnTo>
                      <a:lnTo>
                        <a:pt x="252" y="180"/>
                      </a:lnTo>
                      <a:lnTo>
                        <a:pt x="256" y="186"/>
                      </a:lnTo>
                      <a:lnTo>
                        <a:pt x="258" y="190"/>
                      </a:lnTo>
                      <a:lnTo>
                        <a:pt x="260" y="196"/>
                      </a:lnTo>
                      <a:lnTo>
                        <a:pt x="264" y="203"/>
                      </a:lnTo>
                      <a:lnTo>
                        <a:pt x="271" y="209"/>
                      </a:lnTo>
                      <a:lnTo>
                        <a:pt x="279" y="213"/>
                      </a:lnTo>
                      <a:lnTo>
                        <a:pt x="288" y="215"/>
                      </a:lnTo>
                      <a:lnTo>
                        <a:pt x="294" y="213"/>
                      </a:lnTo>
                      <a:lnTo>
                        <a:pt x="300" y="211"/>
                      </a:lnTo>
                      <a:lnTo>
                        <a:pt x="306" y="211"/>
                      </a:lnTo>
                      <a:lnTo>
                        <a:pt x="311" y="211"/>
                      </a:lnTo>
                      <a:lnTo>
                        <a:pt x="323" y="207"/>
                      </a:lnTo>
                      <a:lnTo>
                        <a:pt x="332" y="205"/>
                      </a:lnTo>
                      <a:lnTo>
                        <a:pt x="338" y="205"/>
                      </a:lnTo>
                      <a:lnTo>
                        <a:pt x="344" y="209"/>
                      </a:lnTo>
                      <a:lnTo>
                        <a:pt x="345" y="218"/>
                      </a:lnTo>
                      <a:lnTo>
                        <a:pt x="349" y="230"/>
                      </a:lnTo>
                      <a:lnTo>
                        <a:pt x="351" y="236"/>
                      </a:lnTo>
                      <a:lnTo>
                        <a:pt x="359" y="239"/>
                      </a:lnTo>
                      <a:lnTo>
                        <a:pt x="361" y="239"/>
                      </a:lnTo>
                      <a:lnTo>
                        <a:pt x="366" y="241"/>
                      </a:lnTo>
                      <a:lnTo>
                        <a:pt x="370" y="243"/>
                      </a:lnTo>
                      <a:lnTo>
                        <a:pt x="380" y="245"/>
                      </a:lnTo>
                      <a:lnTo>
                        <a:pt x="383" y="245"/>
                      </a:lnTo>
                      <a:lnTo>
                        <a:pt x="391" y="245"/>
                      </a:lnTo>
                      <a:lnTo>
                        <a:pt x="395" y="245"/>
                      </a:lnTo>
                      <a:lnTo>
                        <a:pt x="401" y="245"/>
                      </a:lnTo>
                      <a:lnTo>
                        <a:pt x="410" y="247"/>
                      </a:lnTo>
                      <a:lnTo>
                        <a:pt x="418" y="251"/>
                      </a:lnTo>
                      <a:lnTo>
                        <a:pt x="421" y="253"/>
                      </a:lnTo>
                      <a:lnTo>
                        <a:pt x="425" y="260"/>
                      </a:lnTo>
                      <a:lnTo>
                        <a:pt x="427" y="262"/>
                      </a:lnTo>
                      <a:lnTo>
                        <a:pt x="429" y="268"/>
                      </a:lnTo>
                      <a:lnTo>
                        <a:pt x="429" y="274"/>
                      </a:lnTo>
                      <a:lnTo>
                        <a:pt x="431" y="279"/>
                      </a:lnTo>
                      <a:lnTo>
                        <a:pt x="431" y="289"/>
                      </a:lnTo>
                      <a:lnTo>
                        <a:pt x="433" y="296"/>
                      </a:lnTo>
                      <a:lnTo>
                        <a:pt x="435" y="302"/>
                      </a:lnTo>
                      <a:lnTo>
                        <a:pt x="440" y="308"/>
                      </a:lnTo>
                      <a:lnTo>
                        <a:pt x="448" y="312"/>
                      </a:lnTo>
                      <a:lnTo>
                        <a:pt x="459" y="317"/>
                      </a:lnTo>
                      <a:lnTo>
                        <a:pt x="463" y="319"/>
                      </a:lnTo>
                      <a:lnTo>
                        <a:pt x="467" y="323"/>
                      </a:lnTo>
                      <a:lnTo>
                        <a:pt x="469" y="329"/>
                      </a:lnTo>
                      <a:lnTo>
                        <a:pt x="469" y="336"/>
                      </a:lnTo>
                      <a:lnTo>
                        <a:pt x="469" y="340"/>
                      </a:lnTo>
                      <a:lnTo>
                        <a:pt x="467" y="348"/>
                      </a:lnTo>
                      <a:lnTo>
                        <a:pt x="467" y="353"/>
                      </a:lnTo>
                      <a:lnTo>
                        <a:pt x="467" y="361"/>
                      </a:lnTo>
                      <a:lnTo>
                        <a:pt x="465" y="367"/>
                      </a:lnTo>
                      <a:lnTo>
                        <a:pt x="469" y="374"/>
                      </a:lnTo>
                      <a:lnTo>
                        <a:pt x="471" y="384"/>
                      </a:lnTo>
                      <a:lnTo>
                        <a:pt x="477" y="393"/>
                      </a:lnTo>
                      <a:lnTo>
                        <a:pt x="480" y="403"/>
                      </a:lnTo>
                      <a:lnTo>
                        <a:pt x="482" y="412"/>
                      </a:lnTo>
                      <a:lnTo>
                        <a:pt x="484" y="420"/>
                      </a:lnTo>
                      <a:lnTo>
                        <a:pt x="488" y="428"/>
                      </a:lnTo>
                      <a:lnTo>
                        <a:pt x="486" y="433"/>
                      </a:lnTo>
                      <a:lnTo>
                        <a:pt x="484" y="441"/>
                      </a:lnTo>
                      <a:lnTo>
                        <a:pt x="482" y="449"/>
                      </a:lnTo>
                      <a:lnTo>
                        <a:pt x="480" y="458"/>
                      </a:lnTo>
                      <a:lnTo>
                        <a:pt x="477" y="468"/>
                      </a:lnTo>
                      <a:lnTo>
                        <a:pt x="477" y="475"/>
                      </a:lnTo>
                      <a:lnTo>
                        <a:pt x="475" y="483"/>
                      </a:lnTo>
                      <a:lnTo>
                        <a:pt x="475" y="490"/>
                      </a:lnTo>
                      <a:lnTo>
                        <a:pt x="471" y="496"/>
                      </a:lnTo>
                      <a:lnTo>
                        <a:pt x="467" y="507"/>
                      </a:lnTo>
                      <a:lnTo>
                        <a:pt x="463" y="513"/>
                      </a:lnTo>
                      <a:lnTo>
                        <a:pt x="459" y="519"/>
                      </a:lnTo>
                      <a:lnTo>
                        <a:pt x="456" y="526"/>
                      </a:lnTo>
                      <a:lnTo>
                        <a:pt x="454" y="532"/>
                      </a:lnTo>
                      <a:lnTo>
                        <a:pt x="448" y="538"/>
                      </a:lnTo>
                      <a:lnTo>
                        <a:pt x="446" y="545"/>
                      </a:lnTo>
                      <a:lnTo>
                        <a:pt x="442" y="551"/>
                      </a:lnTo>
                      <a:lnTo>
                        <a:pt x="440" y="557"/>
                      </a:lnTo>
                      <a:lnTo>
                        <a:pt x="439" y="566"/>
                      </a:lnTo>
                      <a:lnTo>
                        <a:pt x="442" y="574"/>
                      </a:lnTo>
                      <a:lnTo>
                        <a:pt x="444" y="574"/>
                      </a:lnTo>
                      <a:lnTo>
                        <a:pt x="448" y="576"/>
                      </a:lnTo>
                      <a:lnTo>
                        <a:pt x="454" y="576"/>
                      </a:lnTo>
                      <a:lnTo>
                        <a:pt x="461" y="576"/>
                      </a:lnTo>
                      <a:lnTo>
                        <a:pt x="467" y="576"/>
                      </a:lnTo>
                      <a:lnTo>
                        <a:pt x="475" y="574"/>
                      </a:lnTo>
                      <a:lnTo>
                        <a:pt x="480" y="574"/>
                      </a:lnTo>
                      <a:lnTo>
                        <a:pt x="490" y="572"/>
                      </a:lnTo>
                      <a:lnTo>
                        <a:pt x="496" y="568"/>
                      </a:lnTo>
                      <a:lnTo>
                        <a:pt x="503" y="566"/>
                      </a:lnTo>
                      <a:lnTo>
                        <a:pt x="509" y="563"/>
                      </a:lnTo>
                      <a:lnTo>
                        <a:pt x="516" y="561"/>
                      </a:lnTo>
                      <a:lnTo>
                        <a:pt x="524" y="555"/>
                      </a:lnTo>
                      <a:lnTo>
                        <a:pt x="528" y="551"/>
                      </a:lnTo>
                      <a:lnTo>
                        <a:pt x="530" y="544"/>
                      </a:lnTo>
                      <a:lnTo>
                        <a:pt x="534" y="532"/>
                      </a:lnTo>
                      <a:lnTo>
                        <a:pt x="537" y="513"/>
                      </a:lnTo>
                      <a:lnTo>
                        <a:pt x="543" y="494"/>
                      </a:lnTo>
                      <a:lnTo>
                        <a:pt x="549" y="469"/>
                      </a:lnTo>
                      <a:lnTo>
                        <a:pt x="556" y="443"/>
                      </a:lnTo>
                      <a:lnTo>
                        <a:pt x="564" y="414"/>
                      </a:lnTo>
                      <a:lnTo>
                        <a:pt x="573" y="388"/>
                      </a:lnTo>
                      <a:lnTo>
                        <a:pt x="579" y="357"/>
                      </a:lnTo>
                      <a:lnTo>
                        <a:pt x="589" y="331"/>
                      </a:lnTo>
                      <a:lnTo>
                        <a:pt x="594" y="304"/>
                      </a:lnTo>
                      <a:lnTo>
                        <a:pt x="602" y="281"/>
                      </a:lnTo>
                      <a:lnTo>
                        <a:pt x="606" y="262"/>
                      </a:lnTo>
                      <a:lnTo>
                        <a:pt x="611" y="247"/>
                      </a:lnTo>
                      <a:lnTo>
                        <a:pt x="613" y="238"/>
                      </a:lnTo>
                      <a:lnTo>
                        <a:pt x="615" y="236"/>
                      </a:lnTo>
                      <a:lnTo>
                        <a:pt x="615" y="232"/>
                      </a:lnTo>
                      <a:lnTo>
                        <a:pt x="617" y="226"/>
                      </a:lnTo>
                      <a:lnTo>
                        <a:pt x="617" y="218"/>
                      </a:lnTo>
                      <a:lnTo>
                        <a:pt x="617" y="209"/>
                      </a:lnTo>
                      <a:lnTo>
                        <a:pt x="613" y="199"/>
                      </a:lnTo>
                      <a:lnTo>
                        <a:pt x="608" y="192"/>
                      </a:lnTo>
                      <a:lnTo>
                        <a:pt x="602" y="188"/>
                      </a:lnTo>
                      <a:lnTo>
                        <a:pt x="596" y="186"/>
                      </a:lnTo>
                      <a:lnTo>
                        <a:pt x="591" y="184"/>
                      </a:lnTo>
                      <a:lnTo>
                        <a:pt x="583" y="184"/>
                      </a:lnTo>
                      <a:lnTo>
                        <a:pt x="573" y="182"/>
                      </a:lnTo>
                      <a:lnTo>
                        <a:pt x="568" y="182"/>
                      </a:lnTo>
                      <a:lnTo>
                        <a:pt x="562" y="180"/>
                      </a:lnTo>
                      <a:lnTo>
                        <a:pt x="558" y="180"/>
                      </a:lnTo>
                      <a:lnTo>
                        <a:pt x="553" y="175"/>
                      </a:lnTo>
                      <a:lnTo>
                        <a:pt x="551" y="169"/>
                      </a:lnTo>
                      <a:lnTo>
                        <a:pt x="549" y="161"/>
                      </a:lnTo>
                      <a:lnTo>
                        <a:pt x="551" y="154"/>
                      </a:lnTo>
                      <a:lnTo>
                        <a:pt x="553" y="146"/>
                      </a:lnTo>
                      <a:lnTo>
                        <a:pt x="554" y="139"/>
                      </a:lnTo>
                      <a:lnTo>
                        <a:pt x="553" y="131"/>
                      </a:lnTo>
                      <a:lnTo>
                        <a:pt x="547" y="127"/>
                      </a:lnTo>
                      <a:lnTo>
                        <a:pt x="539" y="123"/>
                      </a:lnTo>
                      <a:lnTo>
                        <a:pt x="532" y="123"/>
                      </a:lnTo>
                      <a:lnTo>
                        <a:pt x="522" y="122"/>
                      </a:lnTo>
                      <a:lnTo>
                        <a:pt x="515" y="122"/>
                      </a:lnTo>
                      <a:lnTo>
                        <a:pt x="507" y="118"/>
                      </a:lnTo>
                      <a:lnTo>
                        <a:pt x="505" y="112"/>
                      </a:lnTo>
                      <a:lnTo>
                        <a:pt x="503" y="103"/>
                      </a:lnTo>
                      <a:lnTo>
                        <a:pt x="503" y="95"/>
                      </a:lnTo>
                      <a:lnTo>
                        <a:pt x="501" y="87"/>
                      </a:lnTo>
                      <a:lnTo>
                        <a:pt x="501" y="82"/>
                      </a:lnTo>
                      <a:lnTo>
                        <a:pt x="497" y="74"/>
                      </a:lnTo>
                      <a:lnTo>
                        <a:pt x="490" y="70"/>
                      </a:lnTo>
                      <a:lnTo>
                        <a:pt x="484" y="68"/>
                      </a:lnTo>
                      <a:lnTo>
                        <a:pt x="478" y="68"/>
                      </a:lnTo>
                      <a:lnTo>
                        <a:pt x="471" y="68"/>
                      </a:lnTo>
                      <a:lnTo>
                        <a:pt x="461" y="70"/>
                      </a:lnTo>
                      <a:lnTo>
                        <a:pt x="452" y="68"/>
                      </a:lnTo>
                      <a:lnTo>
                        <a:pt x="444" y="68"/>
                      </a:lnTo>
                      <a:lnTo>
                        <a:pt x="439" y="66"/>
                      </a:lnTo>
                      <a:lnTo>
                        <a:pt x="435" y="65"/>
                      </a:lnTo>
                      <a:lnTo>
                        <a:pt x="429" y="55"/>
                      </a:lnTo>
                      <a:lnTo>
                        <a:pt x="425" y="47"/>
                      </a:lnTo>
                      <a:lnTo>
                        <a:pt x="421" y="38"/>
                      </a:lnTo>
                      <a:lnTo>
                        <a:pt x="418" y="30"/>
                      </a:lnTo>
                      <a:lnTo>
                        <a:pt x="416" y="27"/>
                      </a:lnTo>
                      <a:lnTo>
                        <a:pt x="412" y="25"/>
                      </a:lnTo>
                      <a:lnTo>
                        <a:pt x="408" y="23"/>
                      </a:lnTo>
                      <a:lnTo>
                        <a:pt x="402" y="23"/>
                      </a:lnTo>
                      <a:lnTo>
                        <a:pt x="397" y="23"/>
                      </a:lnTo>
                      <a:lnTo>
                        <a:pt x="389" y="23"/>
                      </a:lnTo>
                      <a:lnTo>
                        <a:pt x="383" y="25"/>
                      </a:lnTo>
                      <a:lnTo>
                        <a:pt x="378" y="25"/>
                      </a:lnTo>
                      <a:lnTo>
                        <a:pt x="366" y="28"/>
                      </a:lnTo>
                      <a:lnTo>
                        <a:pt x="357" y="32"/>
                      </a:lnTo>
                      <a:lnTo>
                        <a:pt x="347" y="32"/>
                      </a:lnTo>
                      <a:lnTo>
                        <a:pt x="338" y="32"/>
                      </a:lnTo>
                      <a:lnTo>
                        <a:pt x="330" y="30"/>
                      </a:lnTo>
                      <a:lnTo>
                        <a:pt x="323" y="25"/>
                      </a:lnTo>
                      <a:lnTo>
                        <a:pt x="315" y="17"/>
                      </a:lnTo>
                      <a:lnTo>
                        <a:pt x="309" y="11"/>
                      </a:lnTo>
                      <a:lnTo>
                        <a:pt x="304" y="6"/>
                      </a:lnTo>
                      <a:lnTo>
                        <a:pt x="298" y="4"/>
                      </a:lnTo>
                      <a:lnTo>
                        <a:pt x="292" y="0"/>
                      </a:lnTo>
                      <a:lnTo>
                        <a:pt x="287" y="0"/>
                      </a:lnTo>
                      <a:lnTo>
                        <a:pt x="281" y="2"/>
                      </a:lnTo>
                      <a:lnTo>
                        <a:pt x="273" y="7"/>
                      </a:lnTo>
                      <a:lnTo>
                        <a:pt x="264" y="11"/>
                      </a:lnTo>
                      <a:lnTo>
                        <a:pt x="256" y="13"/>
                      </a:lnTo>
                      <a:lnTo>
                        <a:pt x="245" y="15"/>
                      </a:lnTo>
                      <a:lnTo>
                        <a:pt x="235" y="15"/>
                      </a:lnTo>
                      <a:lnTo>
                        <a:pt x="222" y="13"/>
                      </a:lnTo>
                      <a:lnTo>
                        <a:pt x="212" y="13"/>
                      </a:lnTo>
                      <a:lnTo>
                        <a:pt x="201" y="11"/>
                      </a:lnTo>
                      <a:lnTo>
                        <a:pt x="193" y="11"/>
                      </a:lnTo>
                      <a:lnTo>
                        <a:pt x="182" y="9"/>
                      </a:lnTo>
                      <a:lnTo>
                        <a:pt x="176" y="13"/>
                      </a:lnTo>
                      <a:lnTo>
                        <a:pt x="171" y="17"/>
                      </a:lnTo>
                      <a:lnTo>
                        <a:pt x="165" y="23"/>
                      </a:lnTo>
                      <a:lnTo>
                        <a:pt x="159" y="28"/>
                      </a:lnTo>
                      <a:lnTo>
                        <a:pt x="153" y="36"/>
                      </a:lnTo>
                      <a:lnTo>
                        <a:pt x="148" y="40"/>
                      </a:lnTo>
                      <a:lnTo>
                        <a:pt x="144" y="46"/>
                      </a:lnTo>
                      <a:lnTo>
                        <a:pt x="136" y="47"/>
                      </a:lnTo>
                      <a:lnTo>
                        <a:pt x="131" y="49"/>
                      </a:lnTo>
                      <a:lnTo>
                        <a:pt x="121" y="49"/>
                      </a:lnTo>
                      <a:lnTo>
                        <a:pt x="114" y="51"/>
                      </a:lnTo>
                      <a:lnTo>
                        <a:pt x="104" y="49"/>
                      </a:lnTo>
                      <a:lnTo>
                        <a:pt x="96" y="51"/>
                      </a:lnTo>
                      <a:lnTo>
                        <a:pt x="91" y="53"/>
                      </a:lnTo>
                      <a:lnTo>
                        <a:pt x="85" y="59"/>
                      </a:lnTo>
                      <a:lnTo>
                        <a:pt x="79" y="66"/>
                      </a:lnTo>
                      <a:lnTo>
                        <a:pt x="77" y="74"/>
                      </a:lnTo>
                      <a:lnTo>
                        <a:pt x="74" y="84"/>
                      </a:lnTo>
                      <a:lnTo>
                        <a:pt x="70" y="95"/>
                      </a:lnTo>
                      <a:lnTo>
                        <a:pt x="66" y="103"/>
                      </a:lnTo>
                      <a:lnTo>
                        <a:pt x="62" y="110"/>
                      </a:lnTo>
                      <a:lnTo>
                        <a:pt x="57" y="116"/>
                      </a:lnTo>
                      <a:lnTo>
                        <a:pt x="49" y="120"/>
                      </a:lnTo>
                      <a:lnTo>
                        <a:pt x="41" y="122"/>
                      </a:lnTo>
                      <a:lnTo>
                        <a:pt x="36" y="129"/>
                      </a:lnTo>
                      <a:lnTo>
                        <a:pt x="34" y="137"/>
                      </a:lnTo>
                      <a:lnTo>
                        <a:pt x="34" y="146"/>
                      </a:lnTo>
                      <a:lnTo>
                        <a:pt x="32" y="154"/>
                      </a:lnTo>
                      <a:lnTo>
                        <a:pt x="32" y="165"/>
                      </a:lnTo>
                      <a:lnTo>
                        <a:pt x="32" y="173"/>
                      </a:lnTo>
                      <a:lnTo>
                        <a:pt x="32" y="179"/>
                      </a:lnTo>
                      <a:lnTo>
                        <a:pt x="28" y="182"/>
                      </a:lnTo>
                      <a:lnTo>
                        <a:pt x="22" y="190"/>
                      </a:lnTo>
                      <a:lnTo>
                        <a:pt x="19" y="196"/>
                      </a:lnTo>
                      <a:lnTo>
                        <a:pt x="13" y="203"/>
                      </a:lnTo>
                      <a:lnTo>
                        <a:pt x="5" y="211"/>
                      </a:lnTo>
                      <a:lnTo>
                        <a:pt x="3" y="218"/>
                      </a:lnTo>
                      <a:lnTo>
                        <a:pt x="0" y="226"/>
                      </a:lnTo>
                      <a:lnTo>
                        <a:pt x="3" y="236"/>
                      </a:lnTo>
                      <a:lnTo>
                        <a:pt x="7" y="243"/>
                      </a:lnTo>
                      <a:lnTo>
                        <a:pt x="9" y="255"/>
                      </a:lnTo>
                      <a:lnTo>
                        <a:pt x="9" y="260"/>
                      </a:lnTo>
                      <a:lnTo>
                        <a:pt x="11" y="266"/>
                      </a:lnTo>
                      <a:lnTo>
                        <a:pt x="11" y="274"/>
                      </a:lnTo>
                      <a:lnTo>
                        <a:pt x="11" y="279"/>
                      </a:lnTo>
                      <a:lnTo>
                        <a:pt x="11" y="291"/>
                      </a:lnTo>
                      <a:lnTo>
                        <a:pt x="9" y="300"/>
                      </a:lnTo>
                      <a:lnTo>
                        <a:pt x="9" y="308"/>
                      </a:lnTo>
                      <a:lnTo>
                        <a:pt x="9" y="310"/>
                      </a:lnTo>
                      <a:lnTo>
                        <a:pt x="9" y="310"/>
                      </a:lnTo>
                      <a:close/>
                    </a:path>
                  </a:pathLst>
                </a:custGeom>
                <a:solidFill>
                  <a:srgbClr val="693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303240" y="2244240"/>
                  <a:ext cx="117360" cy="24840"/>
                </a:xfrm>
                <a:custGeom>
                  <a:avLst/>
                  <a:gdLst/>
                  <a:ahLst/>
                  <a:rect l="l" t="t" r="r" b="b"/>
                  <a:pathLst>
                    <a:path w="175" h="55">
                      <a:moveTo>
                        <a:pt x="0" y="7"/>
                      </a:move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10" y="4"/>
                      </a:lnTo>
                      <a:lnTo>
                        <a:pt x="19" y="4"/>
                      </a:lnTo>
                      <a:lnTo>
                        <a:pt x="27" y="0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67" y="0"/>
                      </a:lnTo>
                      <a:lnTo>
                        <a:pt x="78" y="0"/>
                      </a:lnTo>
                      <a:lnTo>
                        <a:pt x="95" y="4"/>
                      </a:lnTo>
                      <a:lnTo>
                        <a:pt x="109" y="5"/>
                      </a:lnTo>
                      <a:lnTo>
                        <a:pt x="124" y="11"/>
                      </a:lnTo>
                      <a:lnTo>
                        <a:pt x="137" y="15"/>
                      </a:lnTo>
                      <a:lnTo>
                        <a:pt x="150" y="23"/>
                      </a:lnTo>
                      <a:lnTo>
                        <a:pt x="164" y="34"/>
                      </a:lnTo>
                      <a:lnTo>
                        <a:pt x="175" y="47"/>
                      </a:lnTo>
                      <a:lnTo>
                        <a:pt x="171" y="47"/>
                      </a:lnTo>
                      <a:lnTo>
                        <a:pt x="164" y="49"/>
                      </a:lnTo>
                      <a:lnTo>
                        <a:pt x="156" y="51"/>
                      </a:lnTo>
                      <a:lnTo>
                        <a:pt x="149" y="51"/>
                      </a:lnTo>
                      <a:lnTo>
                        <a:pt x="139" y="53"/>
                      </a:lnTo>
                      <a:lnTo>
                        <a:pt x="131" y="55"/>
                      </a:lnTo>
                      <a:lnTo>
                        <a:pt x="118" y="55"/>
                      </a:lnTo>
                      <a:lnTo>
                        <a:pt x="107" y="53"/>
                      </a:lnTo>
                      <a:lnTo>
                        <a:pt x="92" y="51"/>
                      </a:lnTo>
                      <a:lnTo>
                        <a:pt x="78" y="49"/>
                      </a:lnTo>
                      <a:lnTo>
                        <a:pt x="63" y="43"/>
                      </a:lnTo>
                      <a:lnTo>
                        <a:pt x="48" y="38"/>
                      </a:lnTo>
                      <a:lnTo>
                        <a:pt x="31" y="30"/>
                      </a:lnTo>
                      <a:lnTo>
                        <a:pt x="14" y="21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476760" y="2126160"/>
                  <a:ext cx="532440" cy="41220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53840" y="2204280"/>
                  <a:ext cx="37440" cy="2556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1" y="2"/>
                      </a:lnTo>
                      <a:lnTo>
                        <a:pt x="17" y="6"/>
                      </a:lnTo>
                      <a:lnTo>
                        <a:pt x="27" y="12"/>
                      </a:lnTo>
                      <a:lnTo>
                        <a:pt x="34" y="17"/>
                      </a:lnTo>
                      <a:lnTo>
                        <a:pt x="44" y="23"/>
                      </a:lnTo>
                      <a:lnTo>
                        <a:pt x="49" y="31"/>
                      </a:lnTo>
                      <a:lnTo>
                        <a:pt x="55" y="38"/>
                      </a:lnTo>
                      <a:lnTo>
                        <a:pt x="53" y="38"/>
                      </a:lnTo>
                      <a:lnTo>
                        <a:pt x="49" y="42"/>
                      </a:lnTo>
                      <a:lnTo>
                        <a:pt x="44" y="44"/>
                      </a:lnTo>
                      <a:lnTo>
                        <a:pt x="38" y="50"/>
                      </a:lnTo>
                      <a:lnTo>
                        <a:pt x="29" y="53"/>
                      </a:lnTo>
                      <a:lnTo>
                        <a:pt x="19" y="55"/>
                      </a:lnTo>
                      <a:lnTo>
                        <a:pt x="11" y="55"/>
                      </a:lnTo>
                      <a:lnTo>
                        <a:pt x="2" y="55"/>
                      </a:lnTo>
                      <a:lnTo>
                        <a:pt x="0" y="51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5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199200" y="2350080"/>
                  <a:ext cx="73080" cy="22680"/>
                </a:xfrm>
                <a:custGeom>
                  <a:avLst/>
                  <a:gdLst/>
                  <a:ahLst/>
                  <a:rect l="l" t="t" r="r" b="b"/>
                  <a:pathLst>
                    <a:path w="111" h="49">
                      <a:moveTo>
                        <a:pt x="0" y="11"/>
                      </a:moveTo>
                      <a:lnTo>
                        <a:pt x="0" y="7"/>
                      </a:lnTo>
                      <a:lnTo>
                        <a:pt x="4" y="4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7" y="4"/>
                      </a:lnTo>
                      <a:lnTo>
                        <a:pt x="37" y="7"/>
                      </a:lnTo>
                      <a:lnTo>
                        <a:pt x="46" y="11"/>
                      </a:lnTo>
                      <a:lnTo>
                        <a:pt x="56" y="11"/>
                      </a:lnTo>
                      <a:lnTo>
                        <a:pt x="65" y="13"/>
                      </a:lnTo>
                      <a:lnTo>
                        <a:pt x="75" y="13"/>
                      </a:lnTo>
                      <a:lnTo>
                        <a:pt x="82" y="13"/>
                      </a:lnTo>
                      <a:lnTo>
                        <a:pt x="90" y="13"/>
                      </a:lnTo>
                      <a:lnTo>
                        <a:pt x="95" y="13"/>
                      </a:lnTo>
                      <a:lnTo>
                        <a:pt x="97" y="13"/>
                      </a:lnTo>
                      <a:lnTo>
                        <a:pt x="103" y="17"/>
                      </a:lnTo>
                      <a:lnTo>
                        <a:pt x="107" y="23"/>
                      </a:lnTo>
                      <a:lnTo>
                        <a:pt x="111" y="28"/>
                      </a:lnTo>
                      <a:lnTo>
                        <a:pt x="111" y="34"/>
                      </a:lnTo>
                      <a:lnTo>
                        <a:pt x="109" y="42"/>
                      </a:lnTo>
                      <a:lnTo>
                        <a:pt x="105" y="43"/>
                      </a:lnTo>
                      <a:lnTo>
                        <a:pt x="101" y="45"/>
                      </a:lnTo>
                      <a:lnTo>
                        <a:pt x="95" y="47"/>
                      </a:lnTo>
                      <a:lnTo>
                        <a:pt x="90" y="49"/>
                      </a:lnTo>
                      <a:lnTo>
                        <a:pt x="82" y="49"/>
                      </a:lnTo>
                      <a:lnTo>
                        <a:pt x="75" y="49"/>
                      </a:lnTo>
                      <a:lnTo>
                        <a:pt x="69" y="49"/>
                      </a:lnTo>
                      <a:lnTo>
                        <a:pt x="63" y="49"/>
                      </a:lnTo>
                      <a:lnTo>
                        <a:pt x="52" y="47"/>
                      </a:lnTo>
                      <a:lnTo>
                        <a:pt x="42" y="47"/>
                      </a:lnTo>
                      <a:lnTo>
                        <a:pt x="33" y="43"/>
                      </a:lnTo>
                      <a:lnTo>
                        <a:pt x="25" y="40"/>
                      </a:lnTo>
                      <a:lnTo>
                        <a:pt x="16" y="34"/>
                      </a:lnTo>
                      <a:lnTo>
                        <a:pt x="8" y="28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36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86120" y="2227680"/>
                  <a:ext cx="318960" cy="24444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72640" y="2543040"/>
                  <a:ext cx="597960" cy="34524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630120" y="2502000"/>
                  <a:ext cx="33480" cy="2268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72960" y="252036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717240" y="2518200"/>
                  <a:ext cx="34560" cy="2268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769080" y="251388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811920" y="2492640"/>
                  <a:ext cx="29160" cy="2088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837480" y="2459520"/>
                  <a:ext cx="29160" cy="2016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232680" y="2447280"/>
                  <a:ext cx="64080" cy="47880"/>
                </a:xfrm>
                <a:custGeom>
                  <a:avLst/>
                  <a:gdLst/>
                  <a:ahLst/>
                  <a:rect l="l" t="t" r="r" b="b"/>
                  <a:pathLst>
                    <a:path w="97" h="102">
                      <a:moveTo>
                        <a:pt x="15" y="17"/>
                      </a:moveTo>
                      <a:lnTo>
                        <a:pt x="13" y="21"/>
                      </a:lnTo>
                      <a:lnTo>
                        <a:pt x="9" y="28"/>
                      </a:lnTo>
                      <a:lnTo>
                        <a:pt x="7" y="34"/>
                      </a:lnTo>
                      <a:lnTo>
                        <a:pt x="4" y="40"/>
                      </a:lnTo>
                      <a:lnTo>
                        <a:pt x="2" y="47"/>
                      </a:lnTo>
                      <a:lnTo>
                        <a:pt x="2" y="55"/>
                      </a:lnTo>
                      <a:lnTo>
                        <a:pt x="0" y="60"/>
                      </a:lnTo>
                      <a:lnTo>
                        <a:pt x="0" y="70"/>
                      </a:lnTo>
                      <a:lnTo>
                        <a:pt x="0" y="76"/>
                      </a:lnTo>
                      <a:lnTo>
                        <a:pt x="2" y="81"/>
                      </a:lnTo>
                      <a:lnTo>
                        <a:pt x="4" y="87"/>
                      </a:lnTo>
                      <a:lnTo>
                        <a:pt x="9" y="93"/>
                      </a:lnTo>
                      <a:lnTo>
                        <a:pt x="15" y="97"/>
                      </a:lnTo>
                      <a:lnTo>
                        <a:pt x="23" y="100"/>
                      </a:lnTo>
                      <a:lnTo>
                        <a:pt x="28" y="100"/>
                      </a:lnTo>
                      <a:lnTo>
                        <a:pt x="36" y="100"/>
                      </a:lnTo>
                      <a:lnTo>
                        <a:pt x="44" y="100"/>
                      </a:lnTo>
                      <a:lnTo>
                        <a:pt x="51" y="102"/>
                      </a:lnTo>
                      <a:lnTo>
                        <a:pt x="57" y="100"/>
                      </a:lnTo>
                      <a:lnTo>
                        <a:pt x="64" y="100"/>
                      </a:lnTo>
                      <a:lnTo>
                        <a:pt x="68" y="98"/>
                      </a:lnTo>
                      <a:lnTo>
                        <a:pt x="76" y="97"/>
                      </a:lnTo>
                      <a:lnTo>
                        <a:pt x="83" y="93"/>
                      </a:lnTo>
                      <a:lnTo>
                        <a:pt x="91" y="85"/>
                      </a:lnTo>
                      <a:lnTo>
                        <a:pt x="95" y="76"/>
                      </a:lnTo>
                      <a:lnTo>
                        <a:pt x="97" y="66"/>
                      </a:lnTo>
                      <a:lnTo>
                        <a:pt x="95" y="59"/>
                      </a:lnTo>
                      <a:lnTo>
                        <a:pt x="93" y="53"/>
                      </a:lnTo>
                      <a:lnTo>
                        <a:pt x="91" y="45"/>
                      </a:lnTo>
                      <a:lnTo>
                        <a:pt x="89" y="40"/>
                      </a:lnTo>
                      <a:lnTo>
                        <a:pt x="83" y="28"/>
                      </a:lnTo>
                      <a:lnTo>
                        <a:pt x="78" y="19"/>
                      </a:lnTo>
                      <a:lnTo>
                        <a:pt x="70" y="9"/>
                      </a:lnTo>
                      <a:lnTo>
                        <a:pt x="63" y="3"/>
                      </a:lnTo>
                      <a:lnTo>
                        <a:pt x="53" y="0"/>
                      </a:lnTo>
                      <a:lnTo>
                        <a:pt x="45" y="0"/>
                      </a:lnTo>
                      <a:lnTo>
                        <a:pt x="38" y="0"/>
                      </a:lnTo>
                      <a:lnTo>
                        <a:pt x="32" y="2"/>
                      </a:lnTo>
                      <a:lnTo>
                        <a:pt x="25" y="5"/>
                      </a:lnTo>
                      <a:lnTo>
                        <a:pt x="23" y="9"/>
                      </a:lnTo>
                      <a:lnTo>
                        <a:pt x="17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close/>
                    </a:path>
                  </a:pathLst>
                </a:custGeom>
                <a:solidFill>
                  <a:srgbClr val="a33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199200" y="2487240"/>
                  <a:ext cx="119880" cy="208080"/>
                </a:xfrm>
                <a:custGeom>
                  <a:avLst/>
                  <a:gdLst/>
                  <a:ahLst/>
                  <a:rect l="l" t="t" r="r" b="b"/>
                  <a:pathLst>
                    <a:path w="179" h="453">
                      <a:moveTo>
                        <a:pt x="73" y="15"/>
                      </a:moveTo>
                      <a:lnTo>
                        <a:pt x="71" y="17"/>
                      </a:lnTo>
                      <a:lnTo>
                        <a:pt x="69" y="25"/>
                      </a:lnTo>
                      <a:lnTo>
                        <a:pt x="65" y="38"/>
                      </a:lnTo>
                      <a:lnTo>
                        <a:pt x="61" y="57"/>
                      </a:lnTo>
                      <a:lnTo>
                        <a:pt x="54" y="78"/>
                      </a:lnTo>
                      <a:lnTo>
                        <a:pt x="50" y="103"/>
                      </a:lnTo>
                      <a:lnTo>
                        <a:pt x="44" y="129"/>
                      </a:lnTo>
                      <a:lnTo>
                        <a:pt x="38" y="156"/>
                      </a:lnTo>
                      <a:lnTo>
                        <a:pt x="31" y="183"/>
                      </a:lnTo>
                      <a:lnTo>
                        <a:pt x="25" y="209"/>
                      </a:lnTo>
                      <a:lnTo>
                        <a:pt x="18" y="234"/>
                      </a:lnTo>
                      <a:lnTo>
                        <a:pt x="14" y="259"/>
                      </a:lnTo>
                      <a:lnTo>
                        <a:pt x="8" y="278"/>
                      </a:lnTo>
                      <a:lnTo>
                        <a:pt x="4" y="295"/>
                      </a:lnTo>
                      <a:lnTo>
                        <a:pt x="0" y="308"/>
                      </a:lnTo>
                      <a:lnTo>
                        <a:pt x="0" y="316"/>
                      </a:lnTo>
                      <a:lnTo>
                        <a:pt x="0" y="320"/>
                      </a:lnTo>
                      <a:lnTo>
                        <a:pt x="0" y="327"/>
                      </a:lnTo>
                      <a:lnTo>
                        <a:pt x="0" y="333"/>
                      </a:lnTo>
                      <a:lnTo>
                        <a:pt x="0" y="344"/>
                      </a:lnTo>
                      <a:lnTo>
                        <a:pt x="0" y="352"/>
                      </a:lnTo>
                      <a:lnTo>
                        <a:pt x="2" y="361"/>
                      </a:lnTo>
                      <a:lnTo>
                        <a:pt x="4" y="373"/>
                      </a:lnTo>
                      <a:lnTo>
                        <a:pt x="6" y="384"/>
                      </a:lnTo>
                      <a:lnTo>
                        <a:pt x="6" y="392"/>
                      </a:lnTo>
                      <a:lnTo>
                        <a:pt x="8" y="403"/>
                      </a:lnTo>
                      <a:lnTo>
                        <a:pt x="10" y="411"/>
                      </a:lnTo>
                      <a:lnTo>
                        <a:pt x="12" y="418"/>
                      </a:lnTo>
                      <a:lnTo>
                        <a:pt x="12" y="424"/>
                      </a:lnTo>
                      <a:lnTo>
                        <a:pt x="14" y="430"/>
                      </a:lnTo>
                      <a:lnTo>
                        <a:pt x="14" y="434"/>
                      </a:lnTo>
                      <a:lnTo>
                        <a:pt x="16" y="435"/>
                      </a:lnTo>
                      <a:lnTo>
                        <a:pt x="179" y="453"/>
                      </a:lnTo>
                      <a:lnTo>
                        <a:pt x="179" y="447"/>
                      </a:lnTo>
                      <a:lnTo>
                        <a:pt x="175" y="434"/>
                      </a:lnTo>
                      <a:lnTo>
                        <a:pt x="171" y="413"/>
                      </a:lnTo>
                      <a:lnTo>
                        <a:pt x="168" y="388"/>
                      </a:lnTo>
                      <a:lnTo>
                        <a:pt x="162" y="356"/>
                      </a:lnTo>
                      <a:lnTo>
                        <a:pt x="158" y="320"/>
                      </a:lnTo>
                      <a:lnTo>
                        <a:pt x="152" y="281"/>
                      </a:lnTo>
                      <a:lnTo>
                        <a:pt x="147" y="242"/>
                      </a:lnTo>
                      <a:lnTo>
                        <a:pt x="141" y="202"/>
                      </a:lnTo>
                      <a:lnTo>
                        <a:pt x="135" y="162"/>
                      </a:lnTo>
                      <a:lnTo>
                        <a:pt x="130" y="124"/>
                      </a:lnTo>
                      <a:lnTo>
                        <a:pt x="126" y="88"/>
                      </a:lnTo>
                      <a:lnTo>
                        <a:pt x="122" y="55"/>
                      </a:lnTo>
                      <a:lnTo>
                        <a:pt x="120" y="31"/>
                      </a:lnTo>
                      <a:lnTo>
                        <a:pt x="118" y="12"/>
                      </a:lnTo>
                      <a:lnTo>
                        <a:pt x="118" y="0"/>
                      </a:lnTo>
                      <a:lnTo>
                        <a:pt x="73" y="15"/>
                      </a:lnTo>
                      <a:lnTo>
                        <a:pt x="73" y="15"/>
                      </a:lnTo>
                      <a:close/>
                    </a:path>
                  </a:pathLst>
                </a:custGeom>
                <a:solidFill>
                  <a:srgbClr val="a33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40520" y="2662920"/>
                  <a:ext cx="226800" cy="7344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120360" y="2751480"/>
                  <a:ext cx="210960" cy="6588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682600" y="2401560"/>
                  <a:ext cx="375120" cy="44172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740200" y="2442960"/>
                  <a:ext cx="257400" cy="33336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398200" y="2468520"/>
                  <a:ext cx="409680" cy="39924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059160" y="2908800"/>
                  <a:ext cx="205200" cy="8424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416920" y="2799000"/>
                  <a:ext cx="700560" cy="19512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01640" y="2917080"/>
                  <a:ext cx="65160" cy="7092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103080" y="2679480"/>
                  <a:ext cx="22680" cy="255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23240" y="2694240"/>
                  <a:ext cx="16920" cy="1908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50880" y="270432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077880" y="2709000"/>
                  <a:ext cx="27720" cy="3024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09920" y="2720160"/>
                  <a:ext cx="23760" cy="2736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189840" y="2725560"/>
                  <a:ext cx="21240" cy="190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47000" y="273096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21720" y="2735640"/>
                  <a:ext cx="29160" cy="2736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244560" y="2735640"/>
                  <a:ext cx="16920" cy="1908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045840" y="274752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091200" y="2749320"/>
                  <a:ext cx="22680" cy="3096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108480" y="27723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977800" y="2776320"/>
                  <a:ext cx="21240" cy="3096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01560" y="2779920"/>
                  <a:ext cx="30600" cy="3492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032520" y="2788920"/>
                  <a:ext cx="23760" cy="295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060240" y="2795400"/>
                  <a:ext cx="28080" cy="2844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99120" y="2801160"/>
                  <a:ext cx="17280" cy="2808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941800" y="2813040"/>
                  <a:ext cx="26280" cy="3564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125760" y="28148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61760" y="2814840"/>
                  <a:ext cx="21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969520" y="2820240"/>
                  <a:ext cx="22680" cy="2916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989680" y="282492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028560" y="2832480"/>
                  <a:ext cx="20880" cy="2808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067080" y="2837880"/>
                  <a:ext cx="20160" cy="2916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03080" y="2845080"/>
                  <a:ext cx="18720" cy="3204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367680" y="2545200"/>
                  <a:ext cx="142560" cy="53280"/>
                </a:xfrm>
                <a:custGeom>
                  <a:avLst/>
                  <a:gdLst/>
                  <a:ahLst/>
                  <a:rect l="l" t="t" r="r" b="b"/>
                  <a:pathLst>
                    <a:path w="215" h="116">
                      <a:moveTo>
                        <a:pt x="23" y="0"/>
                      </a:moveTo>
                      <a:lnTo>
                        <a:pt x="0" y="76"/>
                      </a:lnTo>
                      <a:lnTo>
                        <a:pt x="2" y="76"/>
                      </a:lnTo>
                      <a:lnTo>
                        <a:pt x="8" y="78"/>
                      </a:lnTo>
                      <a:lnTo>
                        <a:pt x="17" y="79"/>
                      </a:lnTo>
                      <a:lnTo>
                        <a:pt x="29" y="83"/>
                      </a:lnTo>
                      <a:lnTo>
                        <a:pt x="42" y="87"/>
                      </a:lnTo>
                      <a:lnTo>
                        <a:pt x="59" y="93"/>
                      </a:lnTo>
                      <a:lnTo>
                        <a:pt x="76" y="97"/>
                      </a:lnTo>
                      <a:lnTo>
                        <a:pt x="95" y="102"/>
                      </a:lnTo>
                      <a:lnTo>
                        <a:pt x="112" y="106"/>
                      </a:lnTo>
                      <a:lnTo>
                        <a:pt x="131" y="110"/>
                      </a:lnTo>
                      <a:lnTo>
                        <a:pt x="149" y="112"/>
                      </a:lnTo>
                      <a:lnTo>
                        <a:pt x="168" y="116"/>
                      </a:lnTo>
                      <a:lnTo>
                        <a:pt x="183" y="116"/>
                      </a:lnTo>
                      <a:lnTo>
                        <a:pt x="196" y="116"/>
                      </a:lnTo>
                      <a:lnTo>
                        <a:pt x="206" y="114"/>
                      </a:lnTo>
                      <a:lnTo>
                        <a:pt x="215" y="110"/>
                      </a:lnTo>
                      <a:lnTo>
                        <a:pt x="211" y="43"/>
                      </a:lnTo>
                      <a:lnTo>
                        <a:pt x="207" y="43"/>
                      </a:lnTo>
                      <a:lnTo>
                        <a:pt x="204" y="41"/>
                      </a:lnTo>
                      <a:lnTo>
                        <a:pt x="192" y="41"/>
                      </a:lnTo>
                      <a:lnTo>
                        <a:pt x="181" y="40"/>
                      </a:lnTo>
                      <a:lnTo>
                        <a:pt x="164" y="38"/>
                      </a:lnTo>
                      <a:lnTo>
                        <a:pt x="149" y="36"/>
                      </a:lnTo>
                      <a:lnTo>
                        <a:pt x="131" y="32"/>
                      </a:lnTo>
                      <a:lnTo>
                        <a:pt x="114" y="30"/>
                      </a:lnTo>
                      <a:lnTo>
                        <a:pt x="95" y="26"/>
                      </a:lnTo>
                      <a:lnTo>
                        <a:pt x="78" y="22"/>
                      </a:lnTo>
                      <a:lnTo>
                        <a:pt x="61" y="19"/>
                      </a:lnTo>
                      <a:lnTo>
                        <a:pt x="48" y="15"/>
                      </a:lnTo>
                      <a:lnTo>
                        <a:pt x="36" y="11"/>
                      </a:lnTo>
                      <a:lnTo>
                        <a:pt x="27" y="7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46640" y="2699640"/>
                  <a:ext cx="79920" cy="4320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032240" y="2758680"/>
                  <a:ext cx="72000" cy="3852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990840" y="2808360"/>
                  <a:ext cx="68040" cy="4392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856200" y="2533320"/>
                  <a:ext cx="12960" cy="4104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614280" y="2572560"/>
                  <a:ext cx="51840" cy="3096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885360" y="2585520"/>
                  <a:ext cx="47520" cy="2484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765120" y="2594880"/>
                  <a:ext cx="19800" cy="5040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646320" y="2621520"/>
                  <a:ext cx="30600" cy="3204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83680" y="2653560"/>
                  <a:ext cx="30240" cy="4500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862680" y="2670480"/>
                  <a:ext cx="56880" cy="2808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714360" y="2701800"/>
                  <a:ext cx="69120" cy="2376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550200" y="2732760"/>
                  <a:ext cx="30240" cy="3420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702480" y="2781720"/>
                  <a:ext cx="49320" cy="3312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804000" y="2775240"/>
                  <a:ext cx="46440" cy="1476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498360" y="2824920"/>
                  <a:ext cx="32040" cy="3744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622560" y="2829600"/>
                  <a:ext cx="16920" cy="421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363360" y="2939040"/>
                  <a:ext cx="29160" cy="4320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726600" y="2885760"/>
                  <a:ext cx="23760" cy="4500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424920" y="2890440"/>
                  <a:ext cx="36000" cy="3276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614280" y="2934360"/>
                  <a:ext cx="49320" cy="4500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486120" y="2963880"/>
                  <a:ext cx="37440" cy="3312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603480" y="2268000"/>
                  <a:ext cx="12960" cy="2376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627600" y="2264400"/>
                  <a:ext cx="11880" cy="3204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79720" y="2270880"/>
                  <a:ext cx="14400" cy="3096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52800" y="2266200"/>
                  <a:ext cx="15840" cy="3204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550200" y="2278800"/>
                  <a:ext cx="19800" cy="284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528960" y="2292840"/>
                  <a:ext cx="22680" cy="255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516720" y="2283480"/>
                  <a:ext cx="171000" cy="4788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542280" y="2293920"/>
                  <a:ext cx="108000" cy="2916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576840" y="2302920"/>
                  <a:ext cx="26280" cy="1836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345000" y="2246760"/>
                  <a:ext cx="29160" cy="20160"/>
                </a:xfrm>
                <a:custGeom>
                  <a:avLst/>
                  <a:gdLst/>
                  <a:ahLst/>
                  <a:rect l="l" t="t" r="r" b="b"/>
                  <a:pathLst>
                    <a:path w="46" h="44">
                      <a:moveTo>
                        <a:pt x="23" y="44"/>
                      </a:moveTo>
                      <a:lnTo>
                        <a:pt x="31" y="42"/>
                      </a:lnTo>
                      <a:lnTo>
                        <a:pt x="38" y="38"/>
                      </a:lnTo>
                      <a:lnTo>
                        <a:pt x="44" y="31"/>
                      </a:lnTo>
                      <a:lnTo>
                        <a:pt x="46" y="23"/>
                      </a:lnTo>
                      <a:lnTo>
                        <a:pt x="44" y="14"/>
                      </a:lnTo>
                      <a:lnTo>
                        <a:pt x="38" y="6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3" y="0"/>
                      </a:lnTo>
                      <a:lnTo>
                        <a:pt x="6" y="6"/>
                      </a:lnTo>
                      <a:lnTo>
                        <a:pt x="2" y="14"/>
                      </a:lnTo>
                      <a:lnTo>
                        <a:pt x="0" y="23"/>
                      </a:lnTo>
                      <a:lnTo>
                        <a:pt x="2" y="31"/>
                      </a:lnTo>
                      <a:lnTo>
                        <a:pt x="6" y="38"/>
                      </a:lnTo>
                      <a:lnTo>
                        <a:pt x="13" y="42"/>
                      </a:lnTo>
                      <a:lnTo>
                        <a:pt x="23" y="44"/>
                      </a:lnTo>
                      <a:lnTo>
                        <a:pt x="23" y="4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153840" y="2210040"/>
                  <a:ext cx="23760" cy="1620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9" y="36"/>
                      </a:moveTo>
                      <a:lnTo>
                        <a:pt x="25" y="34"/>
                      </a:lnTo>
                      <a:lnTo>
                        <a:pt x="30" y="30"/>
                      </a:lnTo>
                      <a:lnTo>
                        <a:pt x="34" y="22"/>
                      </a:lnTo>
                      <a:lnTo>
                        <a:pt x="36" y="17"/>
                      </a:lnTo>
                      <a:lnTo>
                        <a:pt x="34" y="9"/>
                      </a:lnTo>
                      <a:lnTo>
                        <a:pt x="30" y="3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6" y="3"/>
                      </a:lnTo>
                      <a:lnTo>
                        <a:pt x="2" y="9"/>
                      </a:lnTo>
                      <a:lnTo>
                        <a:pt x="0" y="17"/>
                      </a:lnTo>
                      <a:lnTo>
                        <a:pt x="2" y="22"/>
                      </a:lnTo>
                      <a:lnTo>
                        <a:pt x="6" y="30"/>
                      </a:lnTo>
                      <a:lnTo>
                        <a:pt x="11" y="34"/>
                      </a:lnTo>
                      <a:lnTo>
                        <a:pt x="19" y="36"/>
                      </a:lnTo>
                      <a:lnTo>
                        <a:pt x="19" y="3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816160" y="2468520"/>
                  <a:ext cx="64080" cy="14616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861520" y="2512800"/>
                  <a:ext cx="45360" cy="13500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912280" y="2577240"/>
                  <a:ext cx="30240" cy="8064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606640" y="2523960"/>
                  <a:ext cx="47880" cy="3852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618520" y="2550600"/>
                  <a:ext cx="51840" cy="4032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5360" y="2583720"/>
                  <a:ext cx="45360" cy="3564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641200" y="2619720"/>
                  <a:ext cx="42480" cy="338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655960" y="265752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663880" y="2692440"/>
                  <a:ext cx="46440" cy="3960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675760" y="2736360"/>
                  <a:ext cx="51840" cy="4212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693400" y="2782800"/>
                  <a:ext cx="43560" cy="3456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707800" y="2817360"/>
                  <a:ext cx="45360" cy="3564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615720" y="2154600"/>
                  <a:ext cx="69120" cy="6228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703920" y="2161080"/>
                  <a:ext cx="69120" cy="5580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527520" y="2172960"/>
                  <a:ext cx="75960" cy="4788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714360" y="2222640"/>
                  <a:ext cx="69120" cy="5580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786360" y="2185200"/>
                  <a:ext cx="77400" cy="5868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813000" y="2250360"/>
                  <a:ext cx="85320" cy="4968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847920" y="2306520"/>
                  <a:ext cx="72000" cy="5328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801480" y="2365560"/>
                  <a:ext cx="78480" cy="6336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10560" y="2386800"/>
                  <a:ext cx="70560" cy="6048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871680" y="2467800"/>
                  <a:ext cx="65520" cy="5580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080120" y="2647080"/>
                  <a:ext cx="81360" cy="4320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112160" y="2594880"/>
                  <a:ext cx="81360" cy="4320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949440" y="2871720"/>
                  <a:ext cx="79920" cy="4212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522120" y="2401560"/>
                  <a:ext cx="60120" cy="3312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5844600" y="3081240"/>
                <a:ext cx="92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 (C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2962080" y="2197080"/>
              <a:ext cx="24379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A) moved to STA 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33520" y="51339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6120" y="9216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5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533520" y="10666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1554120"/>
            <a:ext cx="778356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- Unconditiona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is forwarded immediatel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(“[MON] + [FWD]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+ Sta No/ Group No/ # for VMIB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- Busy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the user’s station is bus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( “[MON] + [FWD]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+ Sta No, Group No, or # for VMIB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- No Answer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 answered within predefined ‘No Answer’ tim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( “[MON] + [FWD]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+ Sta No, Group No, or # for VMIB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- Busy/No Answer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 answered  or bus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( “[MON] + [FWD]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+ Sta No, Group No, or # for VMIB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- Follow me 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a user moved to another station, a call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 forwarded to the moved station from the original st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( “[MON] + [FWD]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+ Sta No + Auth Code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" y="982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(6/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447920" y="39052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33520" y="14000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can forward intercom or incoming CO line calls to external par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0640" y="1000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Off-net Call Forward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1819440"/>
            <a:ext cx="73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nd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45680" y="3095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57160" y="2505240"/>
            <a:ext cx="2640240" cy="12380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17000" y="5068800"/>
            <a:ext cx="353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ation Off-net Call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your station during out of o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55680" y="5092560"/>
            <a:ext cx="342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get a call with your cellul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 or pager outs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552920" y="2505240"/>
            <a:ext cx="3544920" cy="2273040"/>
            <a:chOff x="4552920" y="2505240"/>
            <a:chExt cx="3544920" cy="2273040"/>
          </a:xfrm>
        </p:grpSpPr>
        <p:sp>
          <p:nvSpPr>
            <p:cNvPr id="631" name=""/>
            <p:cNvSpPr/>
            <p:nvPr/>
          </p:nvSpPr>
          <p:spPr>
            <a:xfrm>
              <a:off x="4552920" y="2505240"/>
              <a:ext cx="3544920" cy="2273040"/>
            </a:xfrm>
            <a:custGeom>
              <a:avLst/>
              <a:gdLst/>
              <a:ahLst/>
              <a:rect l="l" t="t" r="r" b="b"/>
              <a:pathLst>
                <a:path w="2178" h="1957">
                  <a:moveTo>
                    <a:pt x="1221" y="24"/>
                  </a:moveTo>
                  <a:lnTo>
                    <a:pt x="1149" y="9"/>
                  </a:lnTo>
                  <a:lnTo>
                    <a:pt x="1086" y="1"/>
                  </a:lnTo>
                  <a:lnTo>
                    <a:pt x="1033" y="0"/>
                  </a:lnTo>
                  <a:lnTo>
                    <a:pt x="989" y="3"/>
                  </a:lnTo>
                  <a:lnTo>
                    <a:pt x="951" y="13"/>
                  </a:lnTo>
                  <a:lnTo>
                    <a:pt x="920" y="25"/>
                  </a:lnTo>
                  <a:lnTo>
                    <a:pt x="892" y="40"/>
                  </a:lnTo>
                  <a:lnTo>
                    <a:pt x="870" y="59"/>
                  </a:lnTo>
                  <a:lnTo>
                    <a:pt x="849" y="77"/>
                  </a:lnTo>
                  <a:lnTo>
                    <a:pt x="832" y="97"/>
                  </a:lnTo>
                  <a:lnTo>
                    <a:pt x="814" y="116"/>
                  </a:lnTo>
                  <a:lnTo>
                    <a:pt x="795" y="135"/>
                  </a:lnTo>
                  <a:lnTo>
                    <a:pt x="776" y="150"/>
                  </a:lnTo>
                  <a:lnTo>
                    <a:pt x="754" y="163"/>
                  </a:lnTo>
                  <a:lnTo>
                    <a:pt x="727" y="173"/>
                  </a:lnTo>
                  <a:lnTo>
                    <a:pt x="696" y="177"/>
                  </a:lnTo>
                  <a:lnTo>
                    <a:pt x="586" y="188"/>
                  </a:lnTo>
                  <a:lnTo>
                    <a:pt x="490" y="203"/>
                  </a:lnTo>
                  <a:lnTo>
                    <a:pt x="411" y="222"/>
                  </a:lnTo>
                  <a:lnTo>
                    <a:pt x="344" y="245"/>
                  </a:lnTo>
                  <a:lnTo>
                    <a:pt x="291" y="272"/>
                  </a:lnTo>
                  <a:lnTo>
                    <a:pt x="248" y="299"/>
                  </a:lnTo>
                  <a:lnTo>
                    <a:pt x="216" y="329"/>
                  </a:lnTo>
                  <a:lnTo>
                    <a:pt x="192" y="359"/>
                  </a:lnTo>
                  <a:lnTo>
                    <a:pt x="176" y="390"/>
                  </a:lnTo>
                  <a:lnTo>
                    <a:pt x="167" y="420"/>
                  </a:lnTo>
                  <a:lnTo>
                    <a:pt x="162" y="448"/>
                  </a:lnTo>
                  <a:lnTo>
                    <a:pt x="161" y="475"/>
                  </a:lnTo>
                  <a:lnTo>
                    <a:pt x="162" y="499"/>
                  </a:lnTo>
                  <a:lnTo>
                    <a:pt x="165" y="518"/>
                  </a:lnTo>
                  <a:lnTo>
                    <a:pt x="168" y="534"/>
                  </a:lnTo>
                  <a:lnTo>
                    <a:pt x="170" y="545"/>
                  </a:lnTo>
                  <a:lnTo>
                    <a:pt x="175" y="613"/>
                  </a:lnTo>
                  <a:lnTo>
                    <a:pt x="171" y="673"/>
                  </a:lnTo>
                  <a:lnTo>
                    <a:pt x="160" y="727"/>
                  </a:lnTo>
                  <a:lnTo>
                    <a:pt x="145" y="776"/>
                  </a:lnTo>
                  <a:lnTo>
                    <a:pt x="124" y="822"/>
                  </a:lnTo>
                  <a:lnTo>
                    <a:pt x="100" y="867"/>
                  </a:lnTo>
                  <a:lnTo>
                    <a:pt x="73" y="911"/>
                  </a:lnTo>
                  <a:lnTo>
                    <a:pt x="46" y="957"/>
                  </a:lnTo>
                  <a:lnTo>
                    <a:pt x="34" y="980"/>
                  </a:lnTo>
                  <a:lnTo>
                    <a:pt x="23" y="1008"/>
                  </a:lnTo>
                  <a:lnTo>
                    <a:pt x="13" y="1039"/>
                  </a:lnTo>
                  <a:lnTo>
                    <a:pt x="5" y="1074"/>
                  </a:lnTo>
                  <a:lnTo>
                    <a:pt x="1" y="1112"/>
                  </a:lnTo>
                  <a:lnTo>
                    <a:pt x="0" y="1151"/>
                  </a:lnTo>
                  <a:lnTo>
                    <a:pt x="1" y="1192"/>
                  </a:lnTo>
                  <a:lnTo>
                    <a:pt x="8" y="1236"/>
                  </a:lnTo>
                  <a:lnTo>
                    <a:pt x="18" y="1280"/>
                  </a:lnTo>
                  <a:lnTo>
                    <a:pt x="34" y="1324"/>
                  </a:lnTo>
                  <a:lnTo>
                    <a:pt x="56" y="1369"/>
                  </a:lnTo>
                  <a:lnTo>
                    <a:pt x="85" y="1412"/>
                  </a:lnTo>
                  <a:lnTo>
                    <a:pt x="119" y="1455"/>
                  </a:lnTo>
                  <a:lnTo>
                    <a:pt x="163" y="1496"/>
                  </a:lnTo>
                  <a:lnTo>
                    <a:pt x="214" y="1537"/>
                  </a:lnTo>
                  <a:lnTo>
                    <a:pt x="273" y="1574"/>
                  </a:lnTo>
                  <a:lnTo>
                    <a:pt x="290" y="1583"/>
                  </a:lnTo>
                  <a:lnTo>
                    <a:pt x="308" y="1591"/>
                  </a:lnTo>
                  <a:lnTo>
                    <a:pt x="327" y="1598"/>
                  </a:lnTo>
                  <a:lnTo>
                    <a:pt x="346" y="1604"/>
                  </a:lnTo>
                  <a:lnTo>
                    <a:pt x="365" y="1609"/>
                  </a:lnTo>
                  <a:lnTo>
                    <a:pt x="384" y="1615"/>
                  </a:lnTo>
                  <a:lnTo>
                    <a:pt x="403" y="1621"/>
                  </a:lnTo>
                  <a:lnTo>
                    <a:pt x="422" y="1627"/>
                  </a:lnTo>
                  <a:lnTo>
                    <a:pt x="441" y="1634"/>
                  </a:lnTo>
                  <a:lnTo>
                    <a:pt x="458" y="1640"/>
                  </a:lnTo>
                  <a:lnTo>
                    <a:pt x="476" y="1649"/>
                  </a:lnTo>
                  <a:lnTo>
                    <a:pt x="492" y="1658"/>
                  </a:lnTo>
                  <a:lnTo>
                    <a:pt x="509" y="1668"/>
                  </a:lnTo>
                  <a:lnTo>
                    <a:pt x="522" y="1680"/>
                  </a:lnTo>
                  <a:lnTo>
                    <a:pt x="536" y="1693"/>
                  </a:lnTo>
                  <a:lnTo>
                    <a:pt x="549" y="1710"/>
                  </a:lnTo>
                  <a:lnTo>
                    <a:pt x="559" y="1725"/>
                  </a:lnTo>
                  <a:lnTo>
                    <a:pt x="570" y="1740"/>
                  </a:lnTo>
                  <a:lnTo>
                    <a:pt x="580" y="1756"/>
                  </a:lnTo>
                  <a:lnTo>
                    <a:pt x="590" y="1771"/>
                  </a:lnTo>
                  <a:lnTo>
                    <a:pt x="601" y="1787"/>
                  </a:lnTo>
                  <a:lnTo>
                    <a:pt x="611" y="1802"/>
                  </a:lnTo>
                  <a:lnTo>
                    <a:pt x="621" y="1817"/>
                  </a:lnTo>
                  <a:lnTo>
                    <a:pt x="633" y="1832"/>
                  </a:lnTo>
                  <a:lnTo>
                    <a:pt x="644" y="1847"/>
                  </a:lnTo>
                  <a:lnTo>
                    <a:pt x="656" y="1860"/>
                  </a:lnTo>
                  <a:lnTo>
                    <a:pt x="669" y="1874"/>
                  </a:lnTo>
                  <a:lnTo>
                    <a:pt x="681" y="1887"/>
                  </a:lnTo>
                  <a:lnTo>
                    <a:pt x="695" y="1900"/>
                  </a:lnTo>
                  <a:lnTo>
                    <a:pt x="709" y="1910"/>
                  </a:lnTo>
                  <a:lnTo>
                    <a:pt x="725" y="1920"/>
                  </a:lnTo>
                  <a:lnTo>
                    <a:pt x="741" y="1930"/>
                  </a:lnTo>
                  <a:lnTo>
                    <a:pt x="755" y="1935"/>
                  </a:lnTo>
                  <a:lnTo>
                    <a:pt x="769" y="1940"/>
                  </a:lnTo>
                  <a:lnTo>
                    <a:pt x="784" y="1943"/>
                  </a:lnTo>
                  <a:lnTo>
                    <a:pt x="799" y="1948"/>
                  </a:lnTo>
                  <a:lnTo>
                    <a:pt x="812" y="1950"/>
                  </a:lnTo>
                  <a:lnTo>
                    <a:pt x="827" y="1954"/>
                  </a:lnTo>
                  <a:lnTo>
                    <a:pt x="842" y="1956"/>
                  </a:lnTo>
                  <a:lnTo>
                    <a:pt x="857" y="1957"/>
                  </a:lnTo>
                  <a:lnTo>
                    <a:pt x="872" y="1957"/>
                  </a:lnTo>
                  <a:lnTo>
                    <a:pt x="887" y="1957"/>
                  </a:lnTo>
                  <a:lnTo>
                    <a:pt x="901" y="1957"/>
                  </a:lnTo>
                  <a:lnTo>
                    <a:pt x="916" y="1955"/>
                  </a:lnTo>
                  <a:lnTo>
                    <a:pt x="931" y="1954"/>
                  </a:lnTo>
                  <a:lnTo>
                    <a:pt x="945" y="1950"/>
                  </a:lnTo>
                  <a:lnTo>
                    <a:pt x="959" y="1946"/>
                  </a:lnTo>
                  <a:lnTo>
                    <a:pt x="972" y="1941"/>
                  </a:lnTo>
                  <a:lnTo>
                    <a:pt x="986" y="1935"/>
                  </a:lnTo>
                  <a:lnTo>
                    <a:pt x="999" y="1928"/>
                  </a:lnTo>
                  <a:lnTo>
                    <a:pt x="1013" y="1922"/>
                  </a:lnTo>
                  <a:lnTo>
                    <a:pt x="1025" y="1915"/>
                  </a:lnTo>
                  <a:lnTo>
                    <a:pt x="1037" y="1907"/>
                  </a:lnTo>
                  <a:lnTo>
                    <a:pt x="1050" y="1899"/>
                  </a:lnTo>
                  <a:lnTo>
                    <a:pt x="1062" y="1890"/>
                  </a:lnTo>
                  <a:lnTo>
                    <a:pt x="1074" y="1882"/>
                  </a:lnTo>
                  <a:lnTo>
                    <a:pt x="1086" y="1874"/>
                  </a:lnTo>
                  <a:lnTo>
                    <a:pt x="1098" y="1866"/>
                  </a:lnTo>
                  <a:lnTo>
                    <a:pt x="1111" y="1859"/>
                  </a:lnTo>
                  <a:lnTo>
                    <a:pt x="1123" y="1851"/>
                  </a:lnTo>
                  <a:lnTo>
                    <a:pt x="1136" y="1844"/>
                  </a:lnTo>
                  <a:lnTo>
                    <a:pt x="1149" y="1839"/>
                  </a:lnTo>
                  <a:lnTo>
                    <a:pt x="1162" y="1833"/>
                  </a:lnTo>
                  <a:lnTo>
                    <a:pt x="1176" y="1828"/>
                  </a:lnTo>
                  <a:lnTo>
                    <a:pt x="1211" y="1820"/>
                  </a:lnTo>
                  <a:lnTo>
                    <a:pt x="1245" y="1818"/>
                  </a:lnTo>
                  <a:lnTo>
                    <a:pt x="1280" y="1820"/>
                  </a:lnTo>
                  <a:lnTo>
                    <a:pt x="1314" y="1825"/>
                  </a:lnTo>
                  <a:lnTo>
                    <a:pt x="1350" y="1832"/>
                  </a:lnTo>
                  <a:lnTo>
                    <a:pt x="1385" y="1840"/>
                  </a:lnTo>
                  <a:lnTo>
                    <a:pt x="1420" y="1848"/>
                  </a:lnTo>
                  <a:lnTo>
                    <a:pt x="1456" y="1855"/>
                  </a:lnTo>
                  <a:lnTo>
                    <a:pt x="1492" y="1859"/>
                  </a:lnTo>
                  <a:lnTo>
                    <a:pt x="1526" y="1860"/>
                  </a:lnTo>
                  <a:lnTo>
                    <a:pt x="1562" y="1857"/>
                  </a:lnTo>
                  <a:lnTo>
                    <a:pt x="1596" y="1849"/>
                  </a:lnTo>
                  <a:lnTo>
                    <a:pt x="1632" y="1833"/>
                  </a:lnTo>
                  <a:lnTo>
                    <a:pt x="1667" y="1810"/>
                  </a:lnTo>
                  <a:lnTo>
                    <a:pt x="1701" y="1779"/>
                  </a:lnTo>
                  <a:lnTo>
                    <a:pt x="1735" y="1737"/>
                  </a:lnTo>
                  <a:lnTo>
                    <a:pt x="1753" y="1708"/>
                  </a:lnTo>
                  <a:lnTo>
                    <a:pt x="1769" y="1677"/>
                  </a:lnTo>
                  <a:lnTo>
                    <a:pt x="1784" y="1645"/>
                  </a:lnTo>
                  <a:lnTo>
                    <a:pt x="1798" y="1613"/>
                  </a:lnTo>
                  <a:lnTo>
                    <a:pt x="1812" y="1582"/>
                  </a:lnTo>
                  <a:lnTo>
                    <a:pt x="1828" y="1551"/>
                  </a:lnTo>
                  <a:lnTo>
                    <a:pt x="1847" y="1521"/>
                  </a:lnTo>
                  <a:lnTo>
                    <a:pt x="1870" y="1494"/>
                  </a:lnTo>
                  <a:lnTo>
                    <a:pt x="1887" y="1480"/>
                  </a:lnTo>
                  <a:lnTo>
                    <a:pt x="1903" y="1468"/>
                  </a:lnTo>
                  <a:lnTo>
                    <a:pt x="1919" y="1456"/>
                  </a:lnTo>
                  <a:lnTo>
                    <a:pt x="1936" y="1443"/>
                  </a:lnTo>
                  <a:lnTo>
                    <a:pt x="1953" y="1433"/>
                  </a:lnTo>
                  <a:lnTo>
                    <a:pt x="1971" y="1422"/>
                  </a:lnTo>
                  <a:lnTo>
                    <a:pt x="1988" y="1410"/>
                  </a:lnTo>
                  <a:lnTo>
                    <a:pt x="2004" y="1398"/>
                  </a:lnTo>
                  <a:lnTo>
                    <a:pt x="2021" y="1387"/>
                  </a:lnTo>
                  <a:lnTo>
                    <a:pt x="2039" y="1375"/>
                  </a:lnTo>
                  <a:lnTo>
                    <a:pt x="2055" y="1363"/>
                  </a:lnTo>
                  <a:lnTo>
                    <a:pt x="2071" y="1350"/>
                  </a:lnTo>
                  <a:lnTo>
                    <a:pt x="2087" y="1337"/>
                  </a:lnTo>
                  <a:lnTo>
                    <a:pt x="2102" y="1322"/>
                  </a:lnTo>
                  <a:lnTo>
                    <a:pt x="2117" y="1307"/>
                  </a:lnTo>
                  <a:lnTo>
                    <a:pt x="2131" y="1291"/>
                  </a:lnTo>
                  <a:lnTo>
                    <a:pt x="2146" y="1265"/>
                  </a:lnTo>
                  <a:lnTo>
                    <a:pt x="2158" y="1238"/>
                  </a:lnTo>
                  <a:lnTo>
                    <a:pt x="2168" y="1211"/>
                  </a:lnTo>
                  <a:lnTo>
                    <a:pt x="2173" y="1182"/>
                  </a:lnTo>
                  <a:lnTo>
                    <a:pt x="2177" y="1153"/>
                  </a:lnTo>
                  <a:lnTo>
                    <a:pt x="2178" y="1124"/>
                  </a:lnTo>
                  <a:lnTo>
                    <a:pt x="2174" y="1094"/>
                  </a:lnTo>
                  <a:lnTo>
                    <a:pt x="2170" y="1064"/>
                  </a:lnTo>
                  <a:lnTo>
                    <a:pt x="2164" y="1038"/>
                  </a:lnTo>
                  <a:lnTo>
                    <a:pt x="2156" y="1013"/>
                  </a:lnTo>
                  <a:lnTo>
                    <a:pt x="2147" y="988"/>
                  </a:lnTo>
                  <a:lnTo>
                    <a:pt x="2134" y="964"/>
                  </a:lnTo>
                  <a:lnTo>
                    <a:pt x="2121" y="942"/>
                  </a:lnTo>
                  <a:lnTo>
                    <a:pt x="2106" y="920"/>
                  </a:lnTo>
                  <a:lnTo>
                    <a:pt x="2090" y="898"/>
                  </a:lnTo>
                  <a:lnTo>
                    <a:pt x="2074" y="878"/>
                  </a:lnTo>
                  <a:lnTo>
                    <a:pt x="2055" y="855"/>
                  </a:lnTo>
                  <a:lnTo>
                    <a:pt x="2035" y="833"/>
                  </a:lnTo>
                  <a:lnTo>
                    <a:pt x="2017" y="811"/>
                  </a:lnTo>
                  <a:lnTo>
                    <a:pt x="1999" y="788"/>
                  </a:lnTo>
                  <a:lnTo>
                    <a:pt x="1983" y="765"/>
                  </a:lnTo>
                  <a:lnTo>
                    <a:pt x="1971" y="741"/>
                  </a:lnTo>
                  <a:lnTo>
                    <a:pt x="1960" y="714"/>
                  </a:lnTo>
                  <a:lnTo>
                    <a:pt x="1955" y="685"/>
                  </a:lnTo>
                  <a:lnTo>
                    <a:pt x="1952" y="648"/>
                  </a:lnTo>
                  <a:lnTo>
                    <a:pt x="1955" y="612"/>
                  </a:lnTo>
                  <a:lnTo>
                    <a:pt x="1958" y="576"/>
                  </a:lnTo>
                  <a:lnTo>
                    <a:pt x="1964" y="540"/>
                  </a:lnTo>
                  <a:lnTo>
                    <a:pt x="1969" y="503"/>
                  </a:lnTo>
                  <a:lnTo>
                    <a:pt x="1976" y="468"/>
                  </a:lnTo>
                  <a:lnTo>
                    <a:pt x="1981" y="430"/>
                  </a:lnTo>
                  <a:lnTo>
                    <a:pt x="1983" y="392"/>
                  </a:lnTo>
                  <a:lnTo>
                    <a:pt x="1981" y="333"/>
                  </a:lnTo>
                  <a:lnTo>
                    <a:pt x="1972" y="280"/>
                  </a:lnTo>
                  <a:lnTo>
                    <a:pt x="1957" y="233"/>
                  </a:lnTo>
                  <a:lnTo>
                    <a:pt x="1935" y="191"/>
                  </a:lnTo>
                  <a:lnTo>
                    <a:pt x="1910" y="154"/>
                  </a:lnTo>
                  <a:lnTo>
                    <a:pt x="1880" y="124"/>
                  </a:lnTo>
                  <a:lnTo>
                    <a:pt x="1846" y="98"/>
                  </a:lnTo>
                  <a:lnTo>
                    <a:pt x="1812" y="76"/>
                  </a:lnTo>
                  <a:lnTo>
                    <a:pt x="1776" y="59"/>
                  </a:lnTo>
                  <a:lnTo>
                    <a:pt x="1740" y="45"/>
                  </a:lnTo>
                  <a:lnTo>
                    <a:pt x="1705" y="34"/>
                  </a:lnTo>
                  <a:lnTo>
                    <a:pt x="1671" y="29"/>
                  </a:lnTo>
                  <a:lnTo>
                    <a:pt x="1640" y="25"/>
                  </a:lnTo>
                  <a:lnTo>
                    <a:pt x="1614" y="24"/>
                  </a:lnTo>
                  <a:lnTo>
                    <a:pt x="1590" y="26"/>
                  </a:lnTo>
                  <a:lnTo>
                    <a:pt x="1572" y="30"/>
                  </a:lnTo>
                  <a:lnTo>
                    <a:pt x="1534" y="41"/>
                  </a:lnTo>
                  <a:lnTo>
                    <a:pt x="1499" y="49"/>
                  </a:lnTo>
                  <a:lnTo>
                    <a:pt x="1465" y="55"/>
                  </a:lnTo>
                  <a:lnTo>
                    <a:pt x="1434" y="59"/>
                  </a:lnTo>
                  <a:lnTo>
                    <a:pt x="1404" y="60"/>
                  </a:lnTo>
                  <a:lnTo>
                    <a:pt x="1378" y="60"/>
                  </a:lnTo>
                  <a:lnTo>
                    <a:pt x="1354" y="59"/>
                  </a:lnTo>
                  <a:lnTo>
                    <a:pt x="1331" y="55"/>
                  </a:lnTo>
                  <a:lnTo>
                    <a:pt x="1310" y="52"/>
                  </a:lnTo>
                  <a:lnTo>
                    <a:pt x="1291" y="47"/>
                  </a:lnTo>
                  <a:lnTo>
                    <a:pt x="1275" y="42"/>
                  </a:lnTo>
                  <a:lnTo>
                    <a:pt x="1260" y="38"/>
                  </a:lnTo>
                  <a:lnTo>
                    <a:pt x="1248" y="33"/>
                  </a:lnTo>
                  <a:lnTo>
                    <a:pt x="1237" y="30"/>
                  </a:lnTo>
                  <a:lnTo>
                    <a:pt x="1228" y="26"/>
                  </a:lnTo>
                  <a:lnTo>
                    <a:pt x="1221" y="24"/>
                  </a:lnTo>
                  <a:close/>
                </a:path>
              </a:pathLst>
            </a:custGeom>
            <a:solidFill>
              <a:srgbClr val="ff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86800" y="3444840"/>
              <a:ext cx="79920" cy="7380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30" y="0"/>
                  </a:moveTo>
                  <a:lnTo>
                    <a:pt x="0" y="32"/>
                  </a:lnTo>
                  <a:lnTo>
                    <a:pt x="1" y="38"/>
                  </a:lnTo>
                  <a:lnTo>
                    <a:pt x="4" y="50"/>
                  </a:lnTo>
                  <a:lnTo>
                    <a:pt x="7" y="61"/>
                  </a:lnTo>
                  <a:lnTo>
                    <a:pt x="9" y="66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33" y="51"/>
                  </a:lnTo>
                  <a:lnTo>
                    <a:pt x="43" y="62"/>
                  </a:lnTo>
                  <a:lnTo>
                    <a:pt x="45" y="59"/>
                  </a:lnTo>
                  <a:lnTo>
                    <a:pt x="48" y="50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73960" y="3453480"/>
              <a:ext cx="455760" cy="30708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223" y="93"/>
                  </a:moveTo>
                  <a:lnTo>
                    <a:pt x="244" y="67"/>
                  </a:lnTo>
                  <a:lnTo>
                    <a:pt x="224" y="53"/>
                  </a:lnTo>
                  <a:lnTo>
                    <a:pt x="218" y="65"/>
                  </a:lnTo>
                  <a:lnTo>
                    <a:pt x="224" y="69"/>
                  </a:lnTo>
                  <a:lnTo>
                    <a:pt x="212" y="84"/>
                  </a:lnTo>
                  <a:lnTo>
                    <a:pt x="152" y="42"/>
                  </a:lnTo>
                  <a:lnTo>
                    <a:pt x="167" y="27"/>
                  </a:lnTo>
                  <a:lnTo>
                    <a:pt x="176" y="34"/>
                  </a:lnTo>
                  <a:lnTo>
                    <a:pt x="184" y="23"/>
                  </a:lnTo>
                  <a:lnTo>
                    <a:pt x="166" y="10"/>
                  </a:lnTo>
                  <a:lnTo>
                    <a:pt x="142" y="34"/>
                  </a:lnTo>
                  <a:lnTo>
                    <a:pt x="94" y="0"/>
                  </a:lnTo>
                  <a:lnTo>
                    <a:pt x="0" y="118"/>
                  </a:lnTo>
                  <a:lnTo>
                    <a:pt x="189" y="264"/>
                  </a:lnTo>
                  <a:lnTo>
                    <a:pt x="281" y="134"/>
                  </a:lnTo>
                  <a:lnTo>
                    <a:pt x="22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4" name="" descr=""/>
            <p:cNvPicPr/>
            <p:nvPr/>
          </p:nvPicPr>
          <p:blipFill>
            <a:blip r:embed="rId3"/>
            <a:stretch/>
          </p:blipFill>
          <p:spPr>
            <a:xfrm>
              <a:off x="6945840" y="2647080"/>
              <a:ext cx="749160" cy="5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7234920" y="2939760"/>
              <a:ext cx="106560" cy="10044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51" y="44"/>
                  </a:moveTo>
                  <a:lnTo>
                    <a:pt x="66" y="31"/>
                  </a:lnTo>
                  <a:lnTo>
                    <a:pt x="49" y="33"/>
                  </a:lnTo>
                  <a:lnTo>
                    <a:pt x="62" y="10"/>
                  </a:lnTo>
                  <a:lnTo>
                    <a:pt x="41" y="25"/>
                  </a:lnTo>
                  <a:lnTo>
                    <a:pt x="40" y="0"/>
                  </a:lnTo>
                  <a:lnTo>
                    <a:pt x="23" y="35"/>
                  </a:lnTo>
                  <a:lnTo>
                    <a:pt x="11" y="15"/>
                  </a:lnTo>
                  <a:lnTo>
                    <a:pt x="12" y="47"/>
                  </a:lnTo>
                  <a:lnTo>
                    <a:pt x="0" y="74"/>
                  </a:lnTo>
                  <a:lnTo>
                    <a:pt x="26" y="85"/>
                  </a:lnTo>
                  <a:lnTo>
                    <a:pt x="33" y="66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0" y="52"/>
                  </a:lnTo>
                  <a:lnTo>
                    <a:pt x="65" y="47"/>
                  </a:lnTo>
                  <a:lnTo>
                    <a:pt x="5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35760" y="3034440"/>
              <a:ext cx="2210760" cy="1234440"/>
            </a:xfrm>
            <a:custGeom>
              <a:avLst/>
              <a:gdLst/>
              <a:ahLst/>
              <a:rect l="l" t="t" r="r" b="b"/>
              <a:pathLst>
                <a:path w="1358" h="1062">
                  <a:moveTo>
                    <a:pt x="1031" y="418"/>
                  </a:moveTo>
                  <a:lnTo>
                    <a:pt x="1040" y="374"/>
                  </a:lnTo>
                  <a:lnTo>
                    <a:pt x="1042" y="329"/>
                  </a:lnTo>
                  <a:lnTo>
                    <a:pt x="1039" y="287"/>
                  </a:lnTo>
                  <a:lnTo>
                    <a:pt x="1031" y="246"/>
                  </a:lnTo>
                  <a:lnTo>
                    <a:pt x="1048" y="247"/>
                  </a:lnTo>
                  <a:lnTo>
                    <a:pt x="1064" y="249"/>
                  </a:lnTo>
                  <a:lnTo>
                    <a:pt x="1081" y="250"/>
                  </a:lnTo>
                  <a:lnTo>
                    <a:pt x="1097" y="250"/>
                  </a:lnTo>
                  <a:lnTo>
                    <a:pt x="1113" y="249"/>
                  </a:lnTo>
                  <a:lnTo>
                    <a:pt x="1130" y="245"/>
                  </a:lnTo>
                  <a:lnTo>
                    <a:pt x="1146" y="239"/>
                  </a:lnTo>
                  <a:lnTo>
                    <a:pt x="1162" y="231"/>
                  </a:lnTo>
                  <a:lnTo>
                    <a:pt x="1179" y="220"/>
                  </a:lnTo>
                  <a:lnTo>
                    <a:pt x="1196" y="206"/>
                  </a:lnTo>
                  <a:lnTo>
                    <a:pt x="1214" y="188"/>
                  </a:lnTo>
                  <a:lnTo>
                    <a:pt x="1233" y="166"/>
                  </a:lnTo>
                  <a:lnTo>
                    <a:pt x="1252" y="138"/>
                  </a:lnTo>
                  <a:lnTo>
                    <a:pt x="1272" y="107"/>
                  </a:lnTo>
                  <a:lnTo>
                    <a:pt x="1294" y="70"/>
                  </a:lnTo>
                  <a:lnTo>
                    <a:pt x="1317" y="27"/>
                  </a:lnTo>
                  <a:lnTo>
                    <a:pt x="1277" y="0"/>
                  </a:lnTo>
                  <a:lnTo>
                    <a:pt x="1276" y="2"/>
                  </a:lnTo>
                  <a:lnTo>
                    <a:pt x="1272" y="9"/>
                  </a:lnTo>
                  <a:lnTo>
                    <a:pt x="1267" y="19"/>
                  </a:lnTo>
                  <a:lnTo>
                    <a:pt x="1259" y="31"/>
                  </a:lnTo>
                  <a:lnTo>
                    <a:pt x="1247" y="46"/>
                  </a:lnTo>
                  <a:lnTo>
                    <a:pt x="1233" y="60"/>
                  </a:lnTo>
                  <a:lnTo>
                    <a:pt x="1216" y="73"/>
                  </a:lnTo>
                  <a:lnTo>
                    <a:pt x="1196" y="86"/>
                  </a:lnTo>
                  <a:lnTo>
                    <a:pt x="1172" y="98"/>
                  </a:lnTo>
                  <a:lnTo>
                    <a:pt x="1146" y="105"/>
                  </a:lnTo>
                  <a:lnTo>
                    <a:pt x="1115" y="108"/>
                  </a:lnTo>
                  <a:lnTo>
                    <a:pt x="1079" y="107"/>
                  </a:lnTo>
                  <a:lnTo>
                    <a:pt x="1040" y="99"/>
                  </a:lnTo>
                  <a:lnTo>
                    <a:pt x="997" y="85"/>
                  </a:lnTo>
                  <a:lnTo>
                    <a:pt x="949" y="63"/>
                  </a:lnTo>
                  <a:lnTo>
                    <a:pt x="897" y="32"/>
                  </a:lnTo>
                  <a:lnTo>
                    <a:pt x="888" y="27"/>
                  </a:lnTo>
                  <a:lnTo>
                    <a:pt x="875" y="23"/>
                  </a:lnTo>
                  <a:lnTo>
                    <a:pt x="860" y="19"/>
                  </a:lnTo>
                  <a:lnTo>
                    <a:pt x="844" y="17"/>
                  </a:lnTo>
                  <a:lnTo>
                    <a:pt x="826" y="16"/>
                  </a:lnTo>
                  <a:lnTo>
                    <a:pt x="805" y="15"/>
                  </a:lnTo>
                  <a:lnTo>
                    <a:pt x="784" y="14"/>
                  </a:lnTo>
                  <a:lnTo>
                    <a:pt x="762" y="14"/>
                  </a:lnTo>
                  <a:lnTo>
                    <a:pt x="739" y="14"/>
                  </a:lnTo>
                  <a:lnTo>
                    <a:pt x="716" y="15"/>
                  </a:lnTo>
                  <a:lnTo>
                    <a:pt x="693" y="15"/>
                  </a:lnTo>
                  <a:lnTo>
                    <a:pt x="671" y="16"/>
                  </a:lnTo>
                  <a:lnTo>
                    <a:pt x="649" y="17"/>
                  </a:lnTo>
                  <a:lnTo>
                    <a:pt x="629" y="19"/>
                  </a:lnTo>
                  <a:lnTo>
                    <a:pt x="609" y="20"/>
                  </a:lnTo>
                  <a:lnTo>
                    <a:pt x="591" y="22"/>
                  </a:lnTo>
                  <a:lnTo>
                    <a:pt x="557" y="20"/>
                  </a:lnTo>
                  <a:lnTo>
                    <a:pt x="521" y="19"/>
                  </a:lnTo>
                  <a:lnTo>
                    <a:pt x="479" y="19"/>
                  </a:lnTo>
                  <a:lnTo>
                    <a:pt x="434" y="22"/>
                  </a:lnTo>
                  <a:lnTo>
                    <a:pt x="388" y="25"/>
                  </a:lnTo>
                  <a:lnTo>
                    <a:pt x="341" y="31"/>
                  </a:lnTo>
                  <a:lnTo>
                    <a:pt x="294" y="40"/>
                  </a:lnTo>
                  <a:lnTo>
                    <a:pt x="247" y="52"/>
                  </a:lnTo>
                  <a:lnTo>
                    <a:pt x="200" y="68"/>
                  </a:lnTo>
                  <a:lnTo>
                    <a:pt x="158" y="88"/>
                  </a:lnTo>
                  <a:lnTo>
                    <a:pt x="119" y="114"/>
                  </a:lnTo>
                  <a:lnTo>
                    <a:pt x="83" y="145"/>
                  </a:lnTo>
                  <a:lnTo>
                    <a:pt x="52" y="181"/>
                  </a:lnTo>
                  <a:lnTo>
                    <a:pt x="28" y="224"/>
                  </a:lnTo>
                  <a:lnTo>
                    <a:pt x="11" y="274"/>
                  </a:lnTo>
                  <a:lnTo>
                    <a:pt x="0" y="330"/>
                  </a:lnTo>
                  <a:lnTo>
                    <a:pt x="28" y="356"/>
                  </a:lnTo>
                  <a:lnTo>
                    <a:pt x="29" y="352"/>
                  </a:lnTo>
                  <a:lnTo>
                    <a:pt x="32" y="344"/>
                  </a:lnTo>
                  <a:lnTo>
                    <a:pt x="37" y="330"/>
                  </a:lnTo>
                  <a:lnTo>
                    <a:pt x="46" y="314"/>
                  </a:lnTo>
                  <a:lnTo>
                    <a:pt x="57" y="297"/>
                  </a:lnTo>
                  <a:lnTo>
                    <a:pt x="72" y="277"/>
                  </a:lnTo>
                  <a:lnTo>
                    <a:pt x="90" y="259"/>
                  </a:lnTo>
                  <a:lnTo>
                    <a:pt x="112" y="243"/>
                  </a:lnTo>
                  <a:lnTo>
                    <a:pt x="138" y="229"/>
                  </a:lnTo>
                  <a:lnTo>
                    <a:pt x="168" y="220"/>
                  </a:lnTo>
                  <a:lnTo>
                    <a:pt x="204" y="215"/>
                  </a:lnTo>
                  <a:lnTo>
                    <a:pt x="244" y="218"/>
                  </a:lnTo>
                  <a:lnTo>
                    <a:pt x="289" y="227"/>
                  </a:lnTo>
                  <a:lnTo>
                    <a:pt x="341" y="246"/>
                  </a:lnTo>
                  <a:lnTo>
                    <a:pt x="397" y="275"/>
                  </a:lnTo>
                  <a:lnTo>
                    <a:pt x="461" y="315"/>
                  </a:lnTo>
                  <a:lnTo>
                    <a:pt x="472" y="329"/>
                  </a:lnTo>
                  <a:lnTo>
                    <a:pt x="486" y="349"/>
                  </a:lnTo>
                  <a:lnTo>
                    <a:pt x="501" y="373"/>
                  </a:lnTo>
                  <a:lnTo>
                    <a:pt x="515" y="401"/>
                  </a:lnTo>
                  <a:lnTo>
                    <a:pt x="524" y="431"/>
                  </a:lnTo>
                  <a:lnTo>
                    <a:pt x="529" y="461"/>
                  </a:lnTo>
                  <a:lnTo>
                    <a:pt x="526" y="492"/>
                  </a:lnTo>
                  <a:lnTo>
                    <a:pt x="514" y="521"/>
                  </a:lnTo>
                  <a:lnTo>
                    <a:pt x="493" y="553"/>
                  </a:lnTo>
                  <a:lnTo>
                    <a:pt x="474" y="580"/>
                  </a:lnTo>
                  <a:lnTo>
                    <a:pt x="457" y="606"/>
                  </a:lnTo>
                  <a:lnTo>
                    <a:pt x="442" y="626"/>
                  </a:lnTo>
                  <a:lnTo>
                    <a:pt x="431" y="643"/>
                  </a:lnTo>
                  <a:lnTo>
                    <a:pt x="422" y="655"/>
                  </a:lnTo>
                  <a:lnTo>
                    <a:pt x="416" y="663"/>
                  </a:lnTo>
                  <a:lnTo>
                    <a:pt x="413" y="666"/>
                  </a:lnTo>
                  <a:lnTo>
                    <a:pt x="510" y="638"/>
                  </a:lnTo>
                  <a:lnTo>
                    <a:pt x="508" y="658"/>
                  </a:lnTo>
                  <a:lnTo>
                    <a:pt x="508" y="676"/>
                  </a:lnTo>
                  <a:lnTo>
                    <a:pt x="510" y="692"/>
                  </a:lnTo>
                  <a:lnTo>
                    <a:pt x="514" y="706"/>
                  </a:lnTo>
                  <a:lnTo>
                    <a:pt x="526" y="741"/>
                  </a:lnTo>
                  <a:lnTo>
                    <a:pt x="530" y="767"/>
                  </a:lnTo>
                  <a:lnTo>
                    <a:pt x="524" y="788"/>
                  </a:lnTo>
                  <a:lnTo>
                    <a:pt x="512" y="803"/>
                  </a:lnTo>
                  <a:lnTo>
                    <a:pt x="495" y="813"/>
                  </a:lnTo>
                  <a:lnTo>
                    <a:pt x="473" y="818"/>
                  </a:lnTo>
                  <a:lnTo>
                    <a:pt x="448" y="820"/>
                  </a:lnTo>
                  <a:lnTo>
                    <a:pt x="420" y="818"/>
                  </a:lnTo>
                  <a:lnTo>
                    <a:pt x="392" y="814"/>
                  </a:lnTo>
                  <a:lnTo>
                    <a:pt x="363" y="809"/>
                  </a:lnTo>
                  <a:lnTo>
                    <a:pt x="335" y="803"/>
                  </a:lnTo>
                  <a:lnTo>
                    <a:pt x="310" y="796"/>
                  </a:lnTo>
                  <a:lnTo>
                    <a:pt x="289" y="789"/>
                  </a:lnTo>
                  <a:lnTo>
                    <a:pt x="272" y="784"/>
                  </a:lnTo>
                  <a:lnTo>
                    <a:pt x="260" y="780"/>
                  </a:lnTo>
                  <a:lnTo>
                    <a:pt x="257" y="779"/>
                  </a:lnTo>
                  <a:lnTo>
                    <a:pt x="230" y="822"/>
                  </a:lnTo>
                  <a:lnTo>
                    <a:pt x="234" y="826"/>
                  </a:lnTo>
                  <a:lnTo>
                    <a:pt x="245" y="836"/>
                  </a:lnTo>
                  <a:lnTo>
                    <a:pt x="264" y="851"/>
                  </a:lnTo>
                  <a:lnTo>
                    <a:pt x="288" y="870"/>
                  </a:lnTo>
                  <a:lnTo>
                    <a:pt x="318" y="891"/>
                  </a:lnTo>
                  <a:lnTo>
                    <a:pt x="351" y="913"/>
                  </a:lnTo>
                  <a:lnTo>
                    <a:pt x="389" y="935"/>
                  </a:lnTo>
                  <a:lnTo>
                    <a:pt x="430" y="956"/>
                  </a:lnTo>
                  <a:lnTo>
                    <a:pt x="473" y="973"/>
                  </a:lnTo>
                  <a:lnTo>
                    <a:pt x="517" y="986"/>
                  </a:lnTo>
                  <a:lnTo>
                    <a:pt x="563" y="993"/>
                  </a:lnTo>
                  <a:lnTo>
                    <a:pt x="609" y="993"/>
                  </a:lnTo>
                  <a:lnTo>
                    <a:pt x="654" y="985"/>
                  </a:lnTo>
                  <a:lnTo>
                    <a:pt x="698" y="968"/>
                  </a:lnTo>
                  <a:lnTo>
                    <a:pt x="739" y="939"/>
                  </a:lnTo>
                  <a:lnTo>
                    <a:pt x="778" y="897"/>
                  </a:lnTo>
                  <a:lnTo>
                    <a:pt x="803" y="863"/>
                  </a:lnTo>
                  <a:lnTo>
                    <a:pt x="821" y="827"/>
                  </a:lnTo>
                  <a:lnTo>
                    <a:pt x="835" y="792"/>
                  </a:lnTo>
                  <a:lnTo>
                    <a:pt x="845" y="760"/>
                  </a:lnTo>
                  <a:lnTo>
                    <a:pt x="853" y="731"/>
                  </a:lnTo>
                  <a:lnTo>
                    <a:pt x="857" y="709"/>
                  </a:lnTo>
                  <a:lnTo>
                    <a:pt x="859" y="696"/>
                  </a:lnTo>
                  <a:lnTo>
                    <a:pt x="860" y="690"/>
                  </a:lnTo>
                  <a:lnTo>
                    <a:pt x="865" y="689"/>
                  </a:lnTo>
                  <a:lnTo>
                    <a:pt x="877" y="685"/>
                  </a:lnTo>
                  <a:lnTo>
                    <a:pt x="897" y="681"/>
                  </a:lnTo>
                  <a:lnTo>
                    <a:pt x="923" y="677"/>
                  </a:lnTo>
                  <a:lnTo>
                    <a:pt x="952" y="674"/>
                  </a:lnTo>
                  <a:lnTo>
                    <a:pt x="986" y="673"/>
                  </a:lnTo>
                  <a:lnTo>
                    <a:pt x="1020" y="676"/>
                  </a:lnTo>
                  <a:lnTo>
                    <a:pt x="1056" y="683"/>
                  </a:lnTo>
                  <a:lnTo>
                    <a:pt x="1090" y="696"/>
                  </a:lnTo>
                  <a:lnTo>
                    <a:pt x="1123" y="714"/>
                  </a:lnTo>
                  <a:lnTo>
                    <a:pt x="1151" y="741"/>
                  </a:lnTo>
                  <a:lnTo>
                    <a:pt x="1176" y="776"/>
                  </a:lnTo>
                  <a:lnTo>
                    <a:pt x="1194" y="821"/>
                  </a:lnTo>
                  <a:lnTo>
                    <a:pt x="1204" y="878"/>
                  </a:lnTo>
                  <a:lnTo>
                    <a:pt x="1207" y="946"/>
                  </a:lnTo>
                  <a:lnTo>
                    <a:pt x="1199" y="1026"/>
                  </a:lnTo>
                  <a:lnTo>
                    <a:pt x="1232" y="1062"/>
                  </a:lnTo>
                  <a:lnTo>
                    <a:pt x="1237" y="1056"/>
                  </a:lnTo>
                  <a:lnTo>
                    <a:pt x="1247" y="1038"/>
                  </a:lnTo>
                  <a:lnTo>
                    <a:pt x="1264" y="1010"/>
                  </a:lnTo>
                  <a:lnTo>
                    <a:pt x="1284" y="974"/>
                  </a:lnTo>
                  <a:lnTo>
                    <a:pt x="1305" y="931"/>
                  </a:lnTo>
                  <a:lnTo>
                    <a:pt x="1324" y="882"/>
                  </a:lnTo>
                  <a:lnTo>
                    <a:pt x="1340" y="829"/>
                  </a:lnTo>
                  <a:lnTo>
                    <a:pt x="1353" y="774"/>
                  </a:lnTo>
                  <a:lnTo>
                    <a:pt x="1358" y="718"/>
                  </a:lnTo>
                  <a:lnTo>
                    <a:pt x="1353" y="662"/>
                  </a:lnTo>
                  <a:lnTo>
                    <a:pt x="1338" y="608"/>
                  </a:lnTo>
                  <a:lnTo>
                    <a:pt x="1310" y="557"/>
                  </a:lnTo>
                  <a:lnTo>
                    <a:pt x="1268" y="511"/>
                  </a:lnTo>
                  <a:lnTo>
                    <a:pt x="1209" y="472"/>
                  </a:lnTo>
                  <a:lnTo>
                    <a:pt x="1130" y="440"/>
                  </a:lnTo>
                  <a:lnTo>
                    <a:pt x="1031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40480" y="3328560"/>
              <a:ext cx="43560" cy="27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0" y="20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97000" y="3449880"/>
              <a:ext cx="40320" cy="27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1" y="19"/>
                  </a:lnTo>
                  <a:lnTo>
                    <a:pt x="24" y="16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12840" y="2789280"/>
              <a:ext cx="122400" cy="619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12" y="52"/>
                  </a:moveTo>
                  <a:lnTo>
                    <a:pt x="71" y="14"/>
                  </a:lnTo>
                  <a:lnTo>
                    <a:pt x="71" y="14"/>
                  </a:lnTo>
                  <a:lnTo>
                    <a:pt x="73" y="11"/>
                  </a:lnTo>
                  <a:lnTo>
                    <a:pt x="74" y="9"/>
                  </a:lnTo>
                  <a:lnTo>
                    <a:pt x="74" y="6"/>
                  </a:lnTo>
                  <a:lnTo>
                    <a:pt x="73" y="3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52080" y="2899800"/>
              <a:ext cx="177120" cy="1944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8" y="18"/>
                  </a:moveTo>
                  <a:lnTo>
                    <a:pt x="101" y="14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7" y="12"/>
                  </a:lnTo>
                  <a:lnTo>
                    <a:pt x="108" y="10"/>
                  </a:lnTo>
                  <a:lnTo>
                    <a:pt x="109" y="7"/>
                  </a:lnTo>
                  <a:lnTo>
                    <a:pt x="108" y="4"/>
                  </a:lnTo>
                  <a:lnTo>
                    <a:pt x="105" y="2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39480" y="2972520"/>
              <a:ext cx="120600" cy="396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4" y="13"/>
                  </a:moveTo>
                  <a:lnTo>
                    <a:pt x="63" y="34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69" y="33"/>
                  </a:lnTo>
                  <a:lnTo>
                    <a:pt x="71" y="32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0" y="21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34760" y="3033360"/>
              <a:ext cx="403920" cy="228240"/>
            </a:xfrm>
            <a:custGeom>
              <a:avLst/>
              <a:gdLst/>
              <a:ahLst/>
              <a:rect l="l" t="t" r="r" b="b"/>
              <a:pathLst>
                <a:path w="246" h="196">
                  <a:moveTo>
                    <a:pt x="20" y="3"/>
                  </a:moveTo>
                  <a:lnTo>
                    <a:pt x="0" y="22"/>
                  </a:lnTo>
                  <a:lnTo>
                    <a:pt x="2" y="22"/>
                  </a:lnTo>
                  <a:lnTo>
                    <a:pt x="7" y="25"/>
                  </a:lnTo>
                  <a:lnTo>
                    <a:pt x="16" y="27"/>
                  </a:lnTo>
                  <a:lnTo>
                    <a:pt x="28" y="32"/>
                  </a:lnTo>
                  <a:lnTo>
                    <a:pt x="41" y="36"/>
                  </a:lnTo>
                  <a:lnTo>
                    <a:pt x="58" y="43"/>
                  </a:lnTo>
                  <a:lnTo>
                    <a:pt x="75" y="51"/>
                  </a:lnTo>
                  <a:lnTo>
                    <a:pt x="94" y="60"/>
                  </a:lnTo>
                  <a:lnTo>
                    <a:pt x="114" y="72"/>
                  </a:lnTo>
                  <a:lnTo>
                    <a:pt x="135" y="85"/>
                  </a:lnTo>
                  <a:lnTo>
                    <a:pt x="155" y="98"/>
                  </a:lnTo>
                  <a:lnTo>
                    <a:pt x="175" y="115"/>
                  </a:lnTo>
                  <a:lnTo>
                    <a:pt x="195" y="132"/>
                  </a:lnTo>
                  <a:lnTo>
                    <a:pt x="214" y="151"/>
                  </a:lnTo>
                  <a:lnTo>
                    <a:pt x="231" y="173"/>
                  </a:lnTo>
                  <a:lnTo>
                    <a:pt x="246" y="196"/>
                  </a:lnTo>
                  <a:lnTo>
                    <a:pt x="246" y="191"/>
                  </a:lnTo>
                  <a:lnTo>
                    <a:pt x="246" y="177"/>
                  </a:lnTo>
                  <a:lnTo>
                    <a:pt x="244" y="155"/>
                  </a:lnTo>
                  <a:lnTo>
                    <a:pt x="239" y="128"/>
                  </a:lnTo>
                  <a:lnTo>
                    <a:pt x="231" y="98"/>
                  </a:lnTo>
                  <a:lnTo>
                    <a:pt x="219" y="70"/>
                  </a:lnTo>
                  <a:lnTo>
                    <a:pt x="200" y="42"/>
                  </a:lnTo>
                  <a:lnTo>
                    <a:pt x="175" y="19"/>
                  </a:lnTo>
                  <a:lnTo>
                    <a:pt x="14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83280" y="2802600"/>
              <a:ext cx="285480" cy="218520"/>
            </a:xfrm>
            <a:custGeom>
              <a:avLst/>
              <a:gdLst/>
              <a:ahLst/>
              <a:rect l="l" t="t" r="r" b="b"/>
              <a:pathLst>
                <a:path w="175" h="188">
                  <a:moveTo>
                    <a:pt x="175" y="121"/>
                  </a:moveTo>
                  <a:lnTo>
                    <a:pt x="155" y="96"/>
                  </a:lnTo>
                  <a:lnTo>
                    <a:pt x="146" y="103"/>
                  </a:lnTo>
                  <a:lnTo>
                    <a:pt x="138" y="106"/>
                  </a:lnTo>
                  <a:lnTo>
                    <a:pt x="131" y="106"/>
                  </a:lnTo>
                  <a:lnTo>
                    <a:pt x="124" y="104"/>
                  </a:lnTo>
                  <a:lnTo>
                    <a:pt x="119" y="101"/>
                  </a:lnTo>
                  <a:lnTo>
                    <a:pt x="116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26" y="94"/>
                  </a:lnTo>
                  <a:lnTo>
                    <a:pt x="136" y="90"/>
                  </a:lnTo>
                  <a:lnTo>
                    <a:pt x="140" y="86"/>
                  </a:lnTo>
                  <a:lnTo>
                    <a:pt x="142" y="81"/>
                  </a:lnTo>
                  <a:lnTo>
                    <a:pt x="136" y="72"/>
                  </a:lnTo>
                  <a:lnTo>
                    <a:pt x="147" y="58"/>
                  </a:lnTo>
                  <a:lnTo>
                    <a:pt x="99" y="26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2" y="6"/>
                  </a:lnTo>
                  <a:lnTo>
                    <a:pt x="53" y="13"/>
                  </a:lnTo>
                  <a:lnTo>
                    <a:pt x="33" y="24"/>
                  </a:lnTo>
                  <a:lnTo>
                    <a:pt x="16" y="39"/>
                  </a:lnTo>
                  <a:lnTo>
                    <a:pt x="3" y="60"/>
                  </a:lnTo>
                  <a:lnTo>
                    <a:pt x="0" y="88"/>
                  </a:lnTo>
                  <a:lnTo>
                    <a:pt x="7" y="94"/>
                  </a:lnTo>
                  <a:lnTo>
                    <a:pt x="5" y="96"/>
                  </a:lnTo>
                  <a:lnTo>
                    <a:pt x="4" y="102"/>
                  </a:lnTo>
                  <a:lnTo>
                    <a:pt x="3" y="110"/>
                  </a:lnTo>
                  <a:lnTo>
                    <a:pt x="4" y="120"/>
                  </a:lnTo>
                  <a:lnTo>
                    <a:pt x="8" y="130"/>
                  </a:lnTo>
                  <a:lnTo>
                    <a:pt x="17" y="142"/>
                  </a:lnTo>
                  <a:lnTo>
                    <a:pt x="33" y="152"/>
                  </a:lnTo>
                  <a:lnTo>
                    <a:pt x="56" y="160"/>
                  </a:lnTo>
                  <a:lnTo>
                    <a:pt x="72" y="188"/>
                  </a:lnTo>
                  <a:lnTo>
                    <a:pt x="137" y="185"/>
                  </a:lnTo>
                  <a:lnTo>
                    <a:pt x="131" y="145"/>
                  </a:lnTo>
                  <a:lnTo>
                    <a:pt x="17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11480" y="2972520"/>
              <a:ext cx="519840" cy="113760"/>
            </a:xfrm>
            <a:custGeom>
              <a:avLst/>
              <a:gdLst/>
              <a:ahLst/>
              <a:rect l="l" t="t" r="r" b="b"/>
              <a:pathLst>
                <a:path w="318" h="97">
                  <a:moveTo>
                    <a:pt x="298" y="62"/>
                  </a:moveTo>
                  <a:lnTo>
                    <a:pt x="296" y="76"/>
                  </a:lnTo>
                  <a:lnTo>
                    <a:pt x="293" y="75"/>
                  </a:lnTo>
                  <a:lnTo>
                    <a:pt x="288" y="72"/>
                  </a:lnTo>
                  <a:lnTo>
                    <a:pt x="278" y="69"/>
                  </a:lnTo>
                  <a:lnTo>
                    <a:pt x="266" y="64"/>
                  </a:lnTo>
                  <a:lnTo>
                    <a:pt x="252" y="59"/>
                  </a:lnTo>
                  <a:lnTo>
                    <a:pt x="235" y="53"/>
                  </a:lnTo>
                  <a:lnTo>
                    <a:pt x="216" y="46"/>
                  </a:lnTo>
                  <a:lnTo>
                    <a:pt x="195" y="39"/>
                  </a:lnTo>
                  <a:lnTo>
                    <a:pt x="175" y="32"/>
                  </a:lnTo>
                  <a:lnTo>
                    <a:pt x="153" y="25"/>
                  </a:lnTo>
                  <a:lnTo>
                    <a:pt x="132" y="18"/>
                  </a:lnTo>
                  <a:lnTo>
                    <a:pt x="110" y="12"/>
                  </a:lnTo>
                  <a:lnTo>
                    <a:pt x="91" y="8"/>
                  </a:lnTo>
                  <a:lnTo>
                    <a:pt x="71" y="3"/>
                  </a:lnTo>
                  <a:lnTo>
                    <a:pt x="54" y="1"/>
                  </a:lnTo>
                  <a:lnTo>
                    <a:pt x="38" y="0"/>
                  </a:lnTo>
                  <a:lnTo>
                    <a:pt x="0" y="24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63" y="46"/>
                  </a:lnTo>
                  <a:lnTo>
                    <a:pt x="75" y="47"/>
                  </a:lnTo>
                  <a:lnTo>
                    <a:pt x="88" y="48"/>
                  </a:lnTo>
                  <a:lnTo>
                    <a:pt x="106" y="49"/>
                  </a:lnTo>
                  <a:lnTo>
                    <a:pt x="125" y="52"/>
                  </a:lnTo>
                  <a:lnTo>
                    <a:pt x="146" y="54"/>
                  </a:lnTo>
                  <a:lnTo>
                    <a:pt x="169" y="56"/>
                  </a:lnTo>
                  <a:lnTo>
                    <a:pt x="191" y="60"/>
                  </a:lnTo>
                  <a:lnTo>
                    <a:pt x="214" y="63"/>
                  </a:lnTo>
                  <a:lnTo>
                    <a:pt x="236" y="67"/>
                  </a:lnTo>
                  <a:lnTo>
                    <a:pt x="257" y="71"/>
                  </a:lnTo>
                  <a:lnTo>
                    <a:pt x="276" y="77"/>
                  </a:lnTo>
                  <a:lnTo>
                    <a:pt x="293" y="83"/>
                  </a:lnTo>
                  <a:lnTo>
                    <a:pt x="307" y="90"/>
                  </a:lnTo>
                  <a:lnTo>
                    <a:pt x="318" y="97"/>
                  </a:lnTo>
                  <a:lnTo>
                    <a:pt x="314" y="72"/>
                  </a:lnTo>
                  <a:lnTo>
                    <a:pt x="29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2000" y="3079440"/>
              <a:ext cx="403560" cy="2160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44" y="175"/>
                  </a:moveTo>
                  <a:lnTo>
                    <a:pt x="62" y="91"/>
                  </a:lnTo>
                  <a:lnTo>
                    <a:pt x="68" y="44"/>
                  </a:lnTo>
                  <a:lnTo>
                    <a:pt x="14" y="6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6"/>
                  </a:lnTo>
                  <a:lnTo>
                    <a:pt x="0" y="76"/>
                  </a:lnTo>
                  <a:lnTo>
                    <a:pt x="54" y="60"/>
                  </a:lnTo>
                  <a:lnTo>
                    <a:pt x="50" y="99"/>
                  </a:lnTo>
                  <a:lnTo>
                    <a:pt x="239" y="186"/>
                  </a:lnTo>
                  <a:lnTo>
                    <a:pt x="239" y="186"/>
                  </a:lnTo>
                  <a:lnTo>
                    <a:pt x="241" y="186"/>
                  </a:lnTo>
                  <a:lnTo>
                    <a:pt x="243" y="186"/>
                  </a:lnTo>
                  <a:lnTo>
                    <a:pt x="245" y="185"/>
                  </a:lnTo>
                  <a:lnTo>
                    <a:pt x="247" y="183"/>
                  </a:lnTo>
                  <a:lnTo>
                    <a:pt x="248" y="181"/>
                  </a:lnTo>
                  <a:lnTo>
                    <a:pt x="248" y="178"/>
                  </a:lnTo>
                  <a:lnTo>
                    <a:pt x="245" y="177"/>
                  </a:lnTo>
                  <a:lnTo>
                    <a:pt x="244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27880" y="3073320"/>
              <a:ext cx="101880" cy="208440"/>
            </a:xfrm>
            <a:custGeom>
              <a:avLst/>
              <a:gdLst/>
              <a:ahLst/>
              <a:rect l="l" t="t" r="r" b="b"/>
              <a:pathLst>
                <a:path w="61" h="180">
                  <a:moveTo>
                    <a:pt x="61" y="71"/>
                  </a:moveTo>
                  <a:lnTo>
                    <a:pt x="34" y="54"/>
                  </a:lnTo>
                  <a:lnTo>
                    <a:pt x="53" y="36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4" y="37"/>
                  </a:lnTo>
                  <a:lnTo>
                    <a:pt x="15" y="56"/>
                  </a:lnTo>
                  <a:lnTo>
                    <a:pt x="47" y="76"/>
                  </a:lnTo>
                  <a:lnTo>
                    <a:pt x="26" y="172"/>
                  </a:lnTo>
                  <a:lnTo>
                    <a:pt x="26" y="174"/>
                  </a:lnTo>
                  <a:lnTo>
                    <a:pt x="27" y="176"/>
                  </a:lnTo>
                  <a:lnTo>
                    <a:pt x="28" y="179"/>
                  </a:lnTo>
                  <a:lnTo>
                    <a:pt x="31" y="180"/>
                  </a:lnTo>
                  <a:lnTo>
                    <a:pt x="33" y="180"/>
                  </a:lnTo>
                  <a:lnTo>
                    <a:pt x="35" y="179"/>
                  </a:lnTo>
                  <a:lnTo>
                    <a:pt x="37" y="176"/>
                  </a:lnTo>
                  <a:lnTo>
                    <a:pt x="38" y="175"/>
                  </a:lnTo>
                  <a:lnTo>
                    <a:pt x="38" y="175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11800" y="2854800"/>
              <a:ext cx="43920" cy="27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0" y="20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 rot="6888000">
            <a:off x="5303520" y="3983040"/>
            <a:ext cx="233280" cy="748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980600">
            <a:off x="7042320" y="4311360"/>
            <a:ext cx="301320" cy="586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971800" y="2962080"/>
            <a:ext cx="3962520" cy="123156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33720" y="3267000"/>
            <a:ext cx="0" cy="6858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164200" y="21240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4120" y="907920"/>
            <a:ext cx="840420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Arial"/>
              </a:rPr>
              <a:t>1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ign Call Forw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t handset or press [MON]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nditional :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WD]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+ “5”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 Bin(Pre-programm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[FWD]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+ “8”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Button + Destination Num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(: Automatically stored to Last station Speed b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swer     :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WD]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+ “6”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 Bin(Pre-programm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[FWD]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+ “9”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Button + Destinatio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(: Automatically stored to Last station Speed b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rmation tone will be heard and on-h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D/FOR] button is flashing and the following message is displayed on LC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ign Speed Dial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ssign(in each station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400" spc="-1" strike="noStrike">
                <a:solidFill>
                  <a:srgbClr val="80808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TRANS/PGM] + [SPEED] + Speed bin No. + Phone No. + [HOLD/SAVE] + Name + [HOLD/SAV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ssign System Speed Dial(by Attend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400" spc="-1" strike="noStrike">
                <a:solidFill>
                  <a:srgbClr val="80808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TRANS/PGM] + [SPEED] + Speed bin No. + Phone No.+ [HOLD/SAVE]+ Name + [HOLD/SAV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724360" y="4314960"/>
            <a:ext cx="2751480" cy="914400"/>
            <a:chOff x="5724360" y="4314960"/>
            <a:chExt cx="2751480" cy="914400"/>
          </a:xfrm>
        </p:grpSpPr>
        <p:sp>
          <p:nvSpPr>
            <p:cNvPr id="655" name=""/>
            <p:cNvSpPr/>
            <p:nvPr/>
          </p:nvSpPr>
          <p:spPr>
            <a:xfrm>
              <a:off x="5724360" y="4314960"/>
              <a:ext cx="275148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40720" y="4314960"/>
              <a:ext cx="326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86440" y="4581360"/>
              <a:ext cx="2227320" cy="57636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27040" y="4560840"/>
              <a:ext cx="2337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RWARDED TO SPEED XXX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JAN 01 07                     11:40 A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ICKUP        CONF         REDI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85320" y="982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Off-net Call Forward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23080" y="1509840"/>
            <a:ext cx="51534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Usage   : PGM111-BTN2  (ON/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-net Call Forward  : PGM111-BTN18(ON/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-net call mode       : PGM112-BTN12 (EXT/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(All:External and Internal, EXT:External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5320" y="9360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Off-net Call Forward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680" y="982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685800"/>
            <a:ext cx="7417080" cy="56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O Line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How to access CO Li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How to get incoming 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Rerout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all Forw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all Forward to Off-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all Forward to VM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Preset Call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Direct Call Pi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Group Call Pi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all Hand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Call Waiting(Camp 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Voice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usic On Hold(MO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nalog CO-to-CO Call Timer 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orced Hands-F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Dial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all Bar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uthorization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tation COS &amp; Walking 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Other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P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xecutive &amp; Secretary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M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ttendant Override &amp; Intr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468360" y="1433520"/>
            <a:ext cx="8305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ttendant can direct the system to re-route incoming CO line calls to a directory number outside th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2600" y="9216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ing CO Line Off-net Call Forward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36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80200" y="4998960"/>
            <a:ext cx="28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Line Off-net Call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set for all incoming 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calls in your o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27080" y="2214720"/>
            <a:ext cx="1523880" cy="909360"/>
          </a:xfrm>
          <a:prstGeom prst="cloudCallout">
            <a:avLst>
              <a:gd name="adj1" fmla="val -22916"/>
              <a:gd name="adj2" fmla="val 1275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94172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get a call with you cellular ph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532400" y="2498760"/>
            <a:ext cx="3581280" cy="2216160"/>
            <a:chOff x="4532400" y="2498760"/>
            <a:chExt cx="3581280" cy="2216160"/>
          </a:xfrm>
        </p:grpSpPr>
        <p:sp>
          <p:nvSpPr>
            <p:cNvPr id="671" name=""/>
            <p:cNvSpPr/>
            <p:nvPr/>
          </p:nvSpPr>
          <p:spPr>
            <a:xfrm>
              <a:off x="4532400" y="2498760"/>
              <a:ext cx="3581280" cy="2216160"/>
            </a:xfrm>
            <a:custGeom>
              <a:avLst/>
              <a:gdLst/>
              <a:ahLst/>
              <a:rect l="l" t="t" r="r" b="b"/>
              <a:pathLst>
                <a:path w="2178" h="1957">
                  <a:moveTo>
                    <a:pt x="1221" y="24"/>
                  </a:moveTo>
                  <a:lnTo>
                    <a:pt x="1149" y="9"/>
                  </a:lnTo>
                  <a:lnTo>
                    <a:pt x="1086" y="1"/>
                  </a:lnTo>
                  <a:lnTo>
                    <a:pt x="1033" y="0"/>
                  </a:lnTo>
                  <a:lnTo>
                    <a:pt x="989" y="3"/>
                  </a:lnTo>
                  <a:lnTo>
                    <a:pt x="951" y="13"/>
                  </a:lnTo>
                  <a:lnTo>
                    <a:pt x="920" y="25"/>
                  </a:lnTo>
                  <a:lnTo>
                    <a:pt x="892" y="40"/>
                  </a:lnTo>
                  <a:lnTo>
                    <a:pt x="870" y="59"/>
                  </a:lnTo>
                  <a:lnTo>
                    <a:pt x="849" y="77"/>
                  </a:lnTo>
                  <a:lnTo>
                    <a:pt x="832" y="97"/>
                  </a:lnTo>
                  <a:lnTo>
                    <a:pt x="814" y="116"/>
                  </a:lnTo>
                  <a:lnTo>
                    <a:pt x="795" y="135"/>
                  </a:lnTo>
                  <a:lnTo>
                    <a:pt x="776" y="150"/>
                  </a:lnTo>
                  <a:lnTo>
                    <a:pt x="754" y="163"/>
                  </a:lnTo>
                  <a:lnTo>
                    <a:pt x="727" y="173"/>
                  </a:lnTo>
                  <a:lnTo>
                    <a:pt x="696" y="177"/>
                  </a:lnTo>
                  <a:lnTo>
                    <a:pt x="586" y="188"/>
                  </a:lnTo>
                  <a:lnTo>
                    <a:pt x="490" y="203"/>
                  </a:lnTo>
                  <a:lnTo>
                    <a:pt x="411" y="222"/>
                  </a:lnTo>
                  <a:lnTo>
                    <a:pt x="344" y="245"/>
                  </a:lnTo>
                  <a:lnTo>
                    <a:pt x="291" y="272"/>
                  </a:lnTo>
                  <a:lnTo>
                    <a:pt x="248" y="299"/>
                  </a:lnTo>
                  <a:lnTo>
                    <a:pt x="216" y="329"/>
                  </a:lnTo>
                  <a:lnTo>
                    <a:pt x="192" y="359"/>
                  </a:lnTo>
                  <a:lnTo>
                    <a:pt x="176" y="390"/>
                  </a:lnTo>
                  <a:lnTo>
                    <a:pt x="167" y="420"/>
                  </a:lnTo>
                  <a:lnTo>
                    <a:pt x="162" y="448"/>
                  </a:lnTo>
                  <a:lnTo>
                    <a:pt x="161" y="475"/>
                  </a:lnTo>
                  <a:lnTo>
                    <a:pt x="162" y="499"/>
                  </a:lnTo>
                  <a:lnTo>
                    <a:pt x="165" y="518"/>
                  </a:lnTo>
                  <a:lnTo>
                    <a:pt x="168" y="534"/>
                  </a:lnTo>
                  <a:lnTo>
                    <a:pt x="170" y="545"/>
                  </a:lnTo>
                  <a:lnTo>
                    <a:pt x="175" y="613"/>
                  </a:lnTo>
                  <a:lnTo>
                    <a:pt x="171" y="673"/>
                  </a:lnTo>
                  <a:lnTo>
                    <a:pt x="160" y="727"/>
                  </a:lnTo>
                  <a:lnTo>
                    <a:pt x="145" y="776"/>
                  </a:lnTo>
                  <a:lnTo>
                    <a:pt x="124" y="822"/>
                  </a:lnTo>
                  <a:lnTo>
                    <a:pt x="100" y="867"/>
                  </a:lnTo>
                  <a:lnTo>
                    <a:pt x="73" y="911"/>
                  </a:lnTo>
                  <a:lnTo>
                    <a:pt x="46" y="957"/>
                  </a:lnTo>
                  <a:lnTo>
                    <a:pt x="34" y="980"/>
                  </a:lnTo>
                  <a:lnTo>
                    <a:pt x="23" y="1008"/>
                  </a:lnTo>
                  <a:lnTo>
                    <a:pt x="13" y="1039"/>
                  </a:lnTo>
                  <a:lnTo>
                    <a:pt x="5" y="1074"/>
                  </a:lnTo>
                  <a:lnTo>
                    <a:pt x="1" y="1112"/>
                  </a:lnTo>
                  <a:lnTo>
                    <a:pt x="0" y="1151"/>
                  </a:lnTo>
                  <a:lnTo>
                    <a:pt x="1" y="1192"/>
                  </a:lnTo>
                  <a:lnTo>
                    <a:pt x="8" y="1236"/>
                  </a:lnTo>
                  <a:lnTo>
                    <a:pt x="18" y="1280"/>
                  </a:lnTo>
                  <a:lnTo>
                    <a:pt x="34" y="1324"/>
                  </a:lnTo>
                  <a:lnTo>
                    <a:pt x="56" y="1369"/>
                  </a:lnTo>
                  <a:lnTo>
                    <a:pt x="85" y="1412"/>
                  </a:lnTo>
                  <a:lnTo>
                    <a:pt x="119" y="1455"/>
                  </a:lnTo>
                  <a:lnTo>
                    <a:pt x="163" y="1496"/>
                  </a:lnTo>
                  <a:lnTo>
                    <a:pt x="214" y="1537"/>
                  </a:lnTo>
                  <a:lnTo>
                    <a:pt x="273" y="1574"/>
                  </a:lnTo>
                  <a:lnTo>
                    <a:pt x="290" y="1583"/>
                  </a:lnTo>
                  <a:lnTo>
                    <a:pt x="308" y="1591"/>
                  </a:lnTo>
                  <a:lnTo>
                    <a:pt x="327" y="1598"/>
                  </a:lnTo>
                  <a:lnTo>
                    <a:pt x="346" y="1604"/>
                  </a:lnTo>
                  <a:lnTo>
                    <a:pt x="365" y="1609"/>
                  </a:lnTo>
                  <a:lnTo>
                    <a:pt x="384" y="1615"/>
                  </a:lnTo>
                  <a:lnTo>
                    <a:pt x="403" y="1621"/>
                  </a:lnTo>
                  <a:lnTo>
                    <a:pt x="422" y="1627"/>
                  </a:lnTo>
                  <a:lnTo>
                    <a:pt x="441" y="1634"/>
                  </a:lnTo>
                  <a:lnTo>
                    <a:pt x="458" y="1640"/>
                  </a:lnTo>
                  <a:lnTo>
                    <a:pt x="476" y="1649"/>
                  </a:lnTo>
                  <a:lnTo>
                    <a:pt x="492" y="1658"/>
                  </a:lnTo>
                  <a:lnTo>
                    <a:pt x="509" y="1668"/>
                  </a:lnTo>
                  <a:lnTo>
                    <a:pt x="522" y="1680"/>
                  </a:lnTo>
                  <a:lnTo>
                    <a:pt x="536" y="1693"/>
                  </a:lnTo>
                  <a:lnTo>
                    <a:pt x="549" y="1710"/>
                  </a:lnTo>
                  <a:lnTo>
                    <a:pt x="559" y="1725"/>
                  </a:lnTo>
                  <a:lnTo>
                    <a:pt x="570" y="1740"/>
                  </a:lnTo>
                  <a:lnTo>
                    <a:pt x="580" y="1756"/>
                  </a:lnTo>
                  <a:lnTo>
                    <a:pt x="590" y="1771"/>
                  </a:lnTo>
                  <a:lnTo>
                    <a:pt x="601" y="1787"/>
                  </a:lnTo>
                  <a:lnTo>
                    <a:pt x="611" y="1802"/>
                  </a:lnTo>
                  <a:lnTo>
                    <a:pt x="621" y="1817"/>
                  </a:lnTo>
                  <a:lnTo>
                    <a:pt x="633" y="1832"/>
                  </a:lnTo>
                  <a:lnTo>
                    <a:pt x="644" y="1847"/>
                  </a:lnTo>
                  <a:lnTo>
                    <a:pt x="656" y="1860"/>
                  </a:lnTo>
                  <a:lnTo>
                    <a:pt x="669" y="1874"/>
                  </a:lnTo>
                  <a:lnTo>
                    <a:pt x="681" y="1887"/>
                  </a:lnTo>
                  <a:lnTo>
                    <a:pt x="695" y="1900"/>
                  </a:lnTo>
                  <a:lnTo>
                    <a:pt x="709" y="1910"/>
                  </a:lnTo>
                  <a:lnTo>
                    <a:pt x="725" y="1920"/>
                  </a:lnTo>
                  <a:lnTo>
                    <a:pt x="741" y="1930"/>
                  </a:lnTo>
                  <a:lnTo>
                    <a:pt x="755" y="1935"/>
                  </a:lnTo>
                  <a:lnTo>
                    <a:pt x="769" y="1940"/>
                  </a:lnTo>
                  <a:lnTo>
                    <a:pt x="784" y="1943"/>
                  </a:lnTo>
                  <a:lnTo>
                    <a:pt x="799" y="1948"/>
                  </a:lnTo>
                  <a:lnTo>
                    <a:pt x="812" y="1950"/>
                  </a:lnTo>
                  <a:lnTo>
                    <a:pt x="827" y="1954"/>
                  </a:lnTo>
                  <a:lnTo>
                    <a:pt x="842" y="1956"/>
                  </a:lnTo>
                  <a:lnTo>
                    <a:pt x="857" y="1957"/>
                  </a:lnTo>
                  <a:lnTo>
                    <a:pt x="872" y="1957"/>
                  </a:lnTo>
                  <a:lnTo>
                    <a:pt x="887" y="1957"/>
                  </a:lnTo>
                  <a:lnTo>
                    <a:pt x="901" y="1957"/>
                  </a:lnTo>
                  <a:lnTo>
                    <a:pt x="916" y="1955"/>
                  </a:lnTo>
                  <a:lnTo>
                    <a:pt x="931" y="1954"/>
                  </a:lnTo>
                  <a:lnTo>
                    <a:pt x="945" y="1950"/>
                  </a:lnTo>
                  <a:lnTo>
                    <a:pt x="959" y="1946"/>
                  </a:lnTo>
                  <a:lnTo>
                    <a:pt x="972" y="1941"/>
                  </a:lnTo>
                  <a:lnTo>
                    <a:pt x="986" y="1935"/>
                  </a:lnTo>
                  <a:lnTo>
                    <a:pt x="999" y="1928"/>
                  </a:lnTo>
                  <a:lnTo>
                    <a:pt x="1013" y="1922"/>
                  </a:lnTo>
                  <a:lnTo>
                    <a:pt x="1025" y="1915"/>
                  </a:lnTo>
                  <a:lnTo>
                    <a:pt x="1037" y="1907"/>
                  </a:lnTo>
                  <a:lnTo>
                    <a:pt x="1050" y="1899"/>
                  </a:lnTo>
                  <a:lnTo>
                    <a:pt x="1062" y="1890"/>
                  </a:lnTo>
                  <a:lnTo>
                    <a:pt x="1074" y="1882"/>
                  </a:lnTo>
                  <a:lnTo>
                    <a:pt x="1086" y="1874"/>
                  </a:lnTo>
                  <a:lnTo>
                    <a:pt x="1098" y="1866"/>
                  </a:lnTo>
                  <a:lnTo>
                    <a:pt x="1111" y="1859"/>
                  </a:lnTo>
                  <a:lnTo>
                    <a:pt x="1123" y="1851"/>
                  </a:lnTo>
                  <a:lnTo>
                    <a:pt x="1136" y="1844"/>
                  </a:lnTo>
                  <a:lnTo>
                    <a:pt x="1149" y="1839"/>
                  </a:lnTo>
                  <a:lnTo>
                    <a:pt x="1162" y="1833"/>
                  </a:lnTo>
                  <a:lnTo>
                    <a:pt x="1176" y="1828"/>
                  </a:lnTo>
                  <a:lnTo>
                    <a:pt x="1211" y="1820"/>
                  </a:lnTo>
                  <a:lnTo>
                    <a:pt x="1245" y="1818"/>
                  </a:lnTo>
                  <a:lnTo>
                    <a:pt x="1280" y="1820"/>
                  </a:lnTo>
                  <a:lnTo>
                    <a:pt x="1314" y="1825"/>
                  </a:lnTo>
                  <a:lnTo>
                    <a:pt x="1350" y="1832"/>
                  </a:lnTo>
                  <a:lnTo>
                    <a:pt x="1385" y="1840"/>
                  </a:lnTo>
                  <a:lnTo>
                    <a:pt x="1420" y="1848"/>
                  </a:lnTo>
                  <a:lnTo>
                    <a:pt x="1456" y="1855"/>
                  </a:lnTo>
                  <a:lnTo>
                    <a:pt x="1492" y="1859"/>
                  </a:lnTo>
                  <a:lnTo>
                    <a:pt x="1526" y="1860"/>
                  </a:lnTo>
                  <a:lnTo>
                    <a:pt x="1562" y="1857"/>
                  </a:lnTo>
                  <a:lnTo>
                    <a:pt x="1596" y="1849"/>
                  </a:lnTo>
                  <a:lnTo>
                    <a:pt x="1632" y="1833"/>
                  </a:lnTo>
                  <a:lnTo>
                    <a:pt x="1667" y="1810"/>
                  </a:lnTo>
                  <a:lnTo>
                    <a:pt x="1701" y="1779"/>
                  </a:lnTo>
                  <a:lnTo>
                    <a:pt x="1735" y="1737"/>
                  </a:lnTo>
                  <a:lnTo>
                    <a:pt x="1753" y="1708"/>
                  </a:lnTo>
                  <a:lnTo>
                    <a:pt x="1769" y="1677"/>
                  </a:lnTo>
                  <a:lnTo>
                    <a:pt x="1784" y="1645"/>
                  </a:lnTo>
                  <a:lnTo>
                    <a:pt x="1798" y="1613"/>
                  </a:lnTo>
                  <a:lnTo>
                    <a:pt x="1812" y="1582"/>
                  </a:lnTo>
                  <a:lnTo>
                    <a:pt x="1828" y="1551"/>
                  </a:lnTo>
                  <a:lnTo>
                    <a:pt x="1847" y="1521"/>
                  </a:lnTo>
                  <a:lnTo>
                    <a:pt x="1870" y="1494"/>
                  </a:lnTo>
                  <a:lnTo>
                    <a:pt x="1887" y="1480"/>
                  </a:lnTo>
                  <a:lnTo>
                    <a:pt x="1903" y="1468"/>
                  </a:lnTo>
                  <a:lnTo>
                    <a:pt x="1919" y="1456"/>
                  </a:lnTo>
                  <a:lnTo>
                    <a:pt x="1936" y="1443"/>
                  </a:lnTo>
                  <a:lnTo>
                    <a:pt x="1953" y="1433"/>
                  </a:lnTo>
                  <a:lnTo>
                    <a:pt x="1971" y="1422"/>
                  </a:lnTo>
                  <a:lnTo>
                    <a:pt x="1988" y="1410"/>
                  </a:lnTo>
                  <a:lnTo>
                    <a:pt x="2004" y="1398"/>
                  </a:lnTo>
                  <a:lnTo>
                    <a:pt x="2021" y="1387"/>
                  </a:lnTo>
                  <a:lnTo>
                    <a:pt x="2039" y="1375"/>
                  </a:lnTo>
                  <a:lnTo>
                    <a:pt x="2055" y="1363"/>
                  </a:lnTo>
                  <a:lnTo>
                    <a:pt x="2071" y="1350"/>
                  </a:lnTo>
                  <a:lnTo>
                    <a:pt x="2087" y="1337"/>
                  </a:lnTo>
                  <a:lnTo>
                    <a:pt x="2102" y="1322"/>
                  </a:lnTo>
                  <a:lnTo>
                    <a:pt x="2117" y="1307"/>
                  </a:lnTo>
                  <a:lnTo>
                    <a:pt x="2131" y="1291"/>
                  </a:lnTo>
                  <a:lnTo>
                    <a:pt x="2146" y="1265"/>
                  </a:lnTo>
                  <a:lnTo>
                    <a:pt x="2158" y="1238"/>
                  </a:lnTo>
                  <a:lnTo>
                    <a:pt x="2168" y="1211"/>
                  </a:lnTo>
                  <a:lnTo>
                    <a:pt x="2173" y="1182"/>
                  </a:lnTo>
                  <a:lnTo>
                    <a:pt x="2177" y="1153"/>
                  </a:lnTo>
                  <a:lnTo>
                    <a:pt x="2178" y="1124"/>
                  </a:lnTo>
                  <a:lnTo>
                    <a:pt x="2174" y="1094"/>
                  </a:lnTo>
                  <a:lnTo>
                    <a:pt x="2170" y="1064"/>
                  </a:lnTo>
                  <a:lnTo>
                    <a:pt x="2164" y="1038"/>
                  </a:lnTo>
                  <a:lnTo>
                    <a:pt x="2156" y="1013"/>
                  </a:lnTo>
                  <a:lnTo>
                    <a:pt x="2147" y="988"/>
                  </a:lnTo>
                  <a:lnTo>
                    <a:pt x="2134" y="964"/>
                  </a:lnTo>
                  <a:lnTo>
                    <a:pt x="2121" y="942"/>
                  </a:lnTo>
                  <a:lnTo>
                    <a:pt x="2106" y="920"/>
                  </a:lnTo>
                  <a:lnTo>
                    <a:pt x="2090" y="898"/>
                  </a:lnTo>
                  <a:lnTo>
                    <a:pt x="2074" y="878"/>
                  </a:lnTo>
                  <a:lnTo>
                    <a:pt x="2055" y="855"/>
                  </a:lnTo>
                  <a:lnTo>
                    <a:pt x="2035" y="833"/>
                  </a:lnTo>
                  <a:lnTo>
                    <a:pt x="2017" y="811"/>
                  </a:lnTo>
                  <a:lnTo>
                    <a:pt x="1999" y="788"/>
                  </a:lnTo>
                  <a:lnTo>
                    <a:pt x="1983" y="765"/>
                  </a:lnTo>
                  <a:lnTo>
                    <a:pt x="1971" y="741"/>
                  </a:lnTo>
                  <a:lnTo>
                    <a:pt x="1960" y="714"/>
                  </a:lnTo>
                  <a:lnTo>
                    <a:pt x="1955" y="685"/>
                  </a:lnTo>
                  <a:lnTo>
                    <a:pt x="1952" y="648"/>
                  </a:lnTo>
                  <a:lnTo>
                    <a:pt x="1955" y="612"/>
                  </a:lnTo>
                  <a:lnTo>
                    <a:pt x="1958" y="576"/>
                  </a:lnTo>
                  <a:lnTo>
                    <a:pt x="1964" y="540"/>
                  </a:lnTo>
                  <a:lnTo>
                    <a:pt x="1969" y="503"/>
                  </a:lnTo>
                  <a:lnTo>
                    <a:pt x="1976" y="468"/>
                  </a:lnTo>
                  <a:lnTo>
                    <a:pt x="1981" y="430"/>
                  </a:lnTo>
                  <a:lnTo>
                    <a:pt x="1983" y="392"/>
                  </a:lnTo>
                  <a:lnTo>
                    <a:pt x="1981" y="333"/>
                  </a:lnTo>
                  <a:lnTo>
                    <a:pt x="1972" y="280"/>
                  </a:lnTo>
                  <a:lnTo>
                    <a:pt x="1957" y="233"/>
                  </a:lnTo>
                  <a:lnTo>
                    <a:pt x="1935" y="191"/>
                  </a:lnTo>
                  <a:lnTo>
                    <a:pt x="1910" y="154"/>
                  </a:lnTo>
                  <a:lnTo>
                    <a:pt x="1880" y="124"/>
                  </a:lnTo>
                  <a:lnTo>
                    <a:pt x="1846" y="98"/>
                  </a:lnTo>
                  <a:lnTo>
                    <a:pt x="1812" y="76"/>
                  </a:lnTo>
                  <a:lnTo>
                    <a:pt x="1776" y="59"/>
                  </a:lnTo>
                  <a:lnTo>
                    <a:pt x="1740" y="45"/>
                  </a:lnTo>
                  <a:lnTo>
                    <a:pt x="1705" y="34"/>
                  </a:lnTo>
                  <a:lnTo>
                    <a:pt x="1671" y="29"/>
                  </a:lnTo>
                  <a:lnTo>
                    <a:pt x="1640" y="25"/>
                  </a:lnTo>
                  <a:lnTo>
                    <a:pt x="1614" y="24"/>
                  </a:lnTo>
                  <a:lnTo>
                    <a:pt x="1590" y="26"/>
                  </a:lnTo>
                  <a:lnTo>
                    <a:pt x="1572" y="30"/>
                  </a:lnTo>
                  <a:lnTo>
                    <a:pt x="1534" y="41"/>
                  </a:lnTo>
                  <a:lnTo>
                    <a:pt x="1499" y="49"/>
                  </a:lnTo>
                  <a:lnTo>
                    <a:pt x="1465" y="55"/>
                  </a:lnTo>
                  <a:lnTo>
                    <a:pt x="1434" y="59"/>
                  </a:lnTo>
                  <a:lnTo>
                    <a:pt x="1404" y="60"/>
                  </a:lnTo>
                  <a:lnTo>
                    <a:pt x="1378" y="60"/>
                  </a:lnTo>
                  <a:lnTo>
                    <a:pt x="1354" y="59"/>
                  </a:lnTo>
                  <a:lnTo>
                    <a:pt x="1331" y="55"/>
                  </a:lnTo>
                  <a:lnTo>
                    <a:pt x="1310" y="52"/>
                  </a:lnTo>
                  <a:lnTo>
                    <a:pt x="1291" y="47"/>
                  </a:lnTo>
                  <a:lnTo>
                    <a:pt x="1275" y="42"/>
                  </a:lnTo>
                  <a:lnTo>
                    <a:pt x="1260" y="38"/>
                  </a:lnTo>
                  <a:lnTo>
                    <a:pt x="1248" y="33"/>
                  </a:lnTo>
                  <a:lnTo>
                    <a:pt x="1237" y="30"/>
                  </a:lnTo>
                  <a:lnTo>
                    <a:pt x="1228" y="26"/>
                  </a:lnTo>
                  <a:lnTo>
                    <a:pt x="1221" y="24"/>
                  </a:lnTo>
                  <a:close/>
                </a:path>
              </a:pathLst>
            </a:custGeom>
            <a:solidFill>
              <a:srgbClr val="ff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72040" y="3414960"/>
              <a:ext cx="81000" cy="7200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30" y="0"/>
                  </a:moveTo>
                  <a:lnTo>
                    <a:pt x="0" y="32"/>
                  </a:lnTo>
                  <a:lnTo>
                    <a:pt x="1" y="38"/>
                  </a:lnTo>
                  <a:lnTo>
                    <a:pt x="4" y="50"/>
                  </a:lnTo>
                  <a:lnTo>
                    <a:pt x="7" y="61"/>
                  </a:lnTo>
                  <a:lnTo>
                    <a:pt x="9" y="66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33" y="51"/>
                  </a:lnTo>
                  <a:lnTo>
                    <a:pt x="43" y="62"/>
                  </a:lnTo>
                  <a:lnTo>
                    <a:pt x="45" y="59"/>
                  </a:lnTo>
                  <a:lnTo>
                    <a:pt x="48" y="50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55960" y="3423240"/>
              <a:ext cx="460440" cy="29952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223" y="93"/>
                  </a:moveTo>
                  <a:lnTo>
                    <a:pt x="244" y="67"/>
                  </a:lnTo>
                  <a:lnTo>
                    <a:pt x="224" y="53"/>
                  </a:lnTo>
                  <a:lnTo>
                    <a:pt x="218" y="65"/>
                  </a:lnTo>
                  <a:lnTo>
                    <a:pt x="224" y="69"/>
                  </a:lnTo>
                  <a:lnTo>
                    <a:pt x="212" y="84"/>
                  </a:lnTo>
                  <a:lnTo>
                    <a:pt x="152" y="42"/>
                  </a:lnTo>
                  <a:lnTo>
                    <a:pt x="167" y="27"/>
                  </a:lnTo>
                  <a:lnTo>
                    <a:pt x="176" y="34"/>
                  </a:lnTo>
                  <a:lnTo>
                    <a:pt x="184" y="23"/>
                  </a:lnTo>
                  <a:lnTo>
                    <a:pt x="166" y="10"/>
                  </a:lnTo>
                  <a:lnTo>
                    <a:pt x="142" y="34"/>
                  </a:lnTo>
                  <a:lnTo>
                    <a:pt x="94" y="0"/>
                  </a:lnTo>
                  <a:lnTo>
                    <a:pt x="0" y="118"/>
                  </a:lnTo>
                  <a:lnTo>
                    <a:pt x="189" y="264"/>
                  </a:lnTo>
                  <a:lnTo>
                    <a:pt x="281" y="134"/>
                  </a:lnTo>
                  <a:lnTo>
                    <a:pt x="22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" name="" descr=""/>
            <p:cNvPicPr/>
            <p:nvPr/>
          </p:nvPicPr>
          <p:blipFill>
            <a:blip r:embed="rId2"/>
            <a:stretch/>
          </p:blipFill>
          <p:spPr>
            <a:xfrm>
              <a:off x="6950160" y="2637000"/>
              <a:ext cx="757080" cy="54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7242120" y="2922480"/>
              <a:ext cx="108000" cy="9792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51" y="44"/>
                  </a:moveTo>
                  <a:lnTo>
                    <a:pt x="66" y="31"/>
                  </a:lnTo>
                  <a:lnTo>
                    <a:pt x="49" y="33"/>
                  </a:lnTo>
                  <a:lnTo>
                    <a:pt x="62" y="10"/>
                  </a:lnTo>
                  <a:lnTo>
                    <a:pt x="41" y="25"/>
                  </a:lnTo>
                  <a:lnTo>
                    <a:pt x="40" y="0"/>
                  </a:lnTo>
                  <a:lnTo>
                    <a:pt x="23" y="35"/>
                  </a:lnTo>
                  <a:lnTo>
                    <a:pt x="11" y="15"/>
                  </a:lnTo>
                  <a:lnTo>
                    <a:pt x="12" y="47"/>
                  </a:lnTo>
                  <a:lnTo>
                    <a:pt x="0" y="74"/>
                  </a:lnTo>
                  <a:lnTo>
                    <a:pt x="26" y="85"/>
                  </a:lnTo>
                  <a:lnTo>
                    <a:pt x="33" y="66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8" y="56"/>
                  </a:lnTo>
                  <a:lnTo>
                    <a:pt x="50" y="52"/>
                  </a:lnTo>
                  <a:lnTo>
                    <a:pt x="65" y="47"/>
                  </a:lnTo>
                  <a:lnTo>
                    <a:pt x="5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21360" y="3015000"/>
              <a:ext cx="2233440" cy="1203480"/>
            </a:xfrm>
            <a:custGeom>
              <a:avLst/>
              <a:gdLst/>
              <a:ahLst/>
              <a:rect l="l" t="t" r="r" b="b"/>
              <a:pathLst>
                <a:path w="1358" h="1062">
                  <a:moveTo>
                    <a:pt x="1031" y="418"/>
                  </a:moveTo>
                  <a:lnTo>
                    <a:pt x="1040" y="374"/>
                  </a:lnTo>
                  <a:lnTo>
                    <a:pt x="1042" y="329"/>
                  </a:lnTo>
                  <a:lnTo>
                    <a:pt x="1039" y="287"/>
                  </a:lnTo>
                  <a:lnTo>
                    <a:pt x="1031" y="246"/>
                  </a:lnTo>
                  <a:lnTo>
                    <a:pt x="1048" y="247"/>
                  </a:lnTo>
                  <a:lnTo>
                    <a:pt x="1064" y="249"/>
                  </a:lnTo>
                  <a:lnTo>
                    <a:pt x="1081" y="250"/>
                  </a:lnTo>
                  <a:lnTo>
                    <a:pt x="1097" y="250"/>
                  </a:lnTo>
                  <a:lnTo>
                    <a:pt x="1113" y="249"/>
                  </a:lnTo>
                  <a:lnTo>
                    <a:pt x="1130" y="245"/>
                  </a:lnTo>
                  <a:lnTo>
                    <a:pt x="1146" y="239"/>
                  </a:lnTo>
                  <a:lnTo>
                    <a:pt x="1162" y="231"/>
                  </a:lnTo>
                  <a:lnTo>
                    <a:pt x="1179" y="220"/>
                  </a:lnTo>
                  <a:lnTo>
                    <a:pt x="1196" y="206"/>
                  </a:lnTo>
                  <a:lnTo>
                    <a:pt x="1214" y="188"/>
                  </a:lnTo>
                  <a:lnTo>
                    <a:pt x="1233" y="166"/>
                  </a:lnTo>
                  <a:lnTo>
                    <a:pt x="1252" y="138"/>
                  </a:lnTo>
                  <a:lnTo>
                    <a:pt x="1272" y="107"/>
                  </a:lnTo>
                  <a:lnTo>
                    <a:pt x="1294" y="70"/>
                  </a:lnTo>
                  <a:lnTo>
                    <a:pt x="1317" y="27"/>
                  </a:lnTo>
                  <a:lnTo>
                    <a:pt x="1277" y="0"/>
                  </a:lnTo>
                  <a:lnTo>
                    <a:pt x="1276" y="2"/>
                  </a:lnTo>
                  <a:lnTo>
                    <a:pt x="1272" y="9"/>
                  </a:lnTo>
                  <a:lnTo>
                    <a:pt x="1267" y="19"/>
                  </a:lnTo>
                  <a:lnTo>
                    <a:pt x="1259" y="31"/>
                  </a:lnTo>
                  <a:lnTo>
                    <a:pt x="1247" y="46"/>
                  </a:lnTo>
                  <a:lnTo>
                    <a:pt x="1233" y="60"/>
                  </a:lnTo>
                  <a:lnTo>
                    <a:pt x="1216" y="73"/>
                  </a:lnTo>
                  <a:lnTo>
                    <a:pt x="1196" y="86"/>
                  </a:lnTo>
                  <a:lnTo>
                    <a:pt x="1172" y="98"/>
                  </a:lnTo>
                  <a:lnTo>
                    <a:pt x="1146" y="105"/>
                  </a:lnTo>
                  <a:lnTo>
                    <a:pt x="1115" y="108"/>
                  </a:lnTo>
                  <a:lnTo>
                    <a:pt x="1079" y="107"/>
                  </a:lnTo>
                  <a:lnTo>
                    <a:pt x="1040" y="99"/>
                  </a:lnTo>
                  <a:lnTo>
                    <a:pt x="997" y="85"/>
                  </a:lnTo>
                  <a:lnTo>
                    <a:pt x="949" y="63"/>
                  </a:lnTo>
                  <a:lnTo>
                    <a:pt x="897" y="32"/>
                  </a:lnTo>
                  <a:lnTo>
                    <a:pt x="888" y="27"/>
                  </a:lnTo>
                  <a:lnTo>
                    <a:pt x="875" y="23"/>
                  </a:lnTo>
                  <a:lnTo>
                    <a:pt x="860" y="19"/>
                  </a:lnTo>
                  <a:lnTo>
                    <a:pt x="844" y="17"/>
                  </a:lnTo>
                  <a:lnTo>
                    <a:pt x="826" y="16"/>
                  </a:lnTo>
                  <a:lnTo>
                    <a:pt x="805" y="15"/>
                  </a:lnTo>
                  <a:lnTo>
                    <a:pt x="784" y="14"/>
                  </a:lnTo>
                  <a:lnTo>
                    <a:pt x="762" y="14"/>
                  </a:lnTo>
                  <a:lnTo>
                    <a:pt x="739" y="14"/>
                  </a:lnTo>
                  <a:lnTo>
                    <a:pt x="716" y="15"/>
                  </a:lnTo>
                  <a:lnTo>
                    <a:pt x="693" y="15"/>
                  </a:lnTo>
                  <a:lnTo>
                    <a:pt x="671" y="16"/>
                  </a:lnTo>
                  <a:lnTo>
                    <a:pt x="649" y="17"/>
                  </a:lnTo>
                  <a:lnTo>
                    <a:pt x="629" y="19"/>
                  </a:lnTo>
                  <a:lnTo>
                    <a:pt x="609" y="20"/>
                  </a:lnTo>
                  <a:lnTo>
                    <a:pt x="591" y="22"/>
                  </a:lnTo>
                  <a:lnTo>
                    <a:pt x="557" y="20"/>
                  </a:lnTo>
                  <a:lnTo>
                    <a:pt x="521" y="19"/>
                  </a:lnTo>
                  <a:lnTo>
                    <a:pt x="479" y="19"/>
                  </a:lnTo>
                  <a:lnTo>
                    <a:pt x="434" y="22"/>
                  </a:lnTo>
                  <a:lnTo>
                    <a:pt x="388" y="25"/>
                  </a:lnTo>
                  <a:lnTo>
                    <a:pt x="341" y="31"/>
                  </a:lnTo>
                  <a:lnTo>
                    <a:pt x="294" y="40"/>
                  </a:lnTo>
                  <a:lnTo>
                    <a:pt x="247" y="52"/>
                  </a:lnTo>
                  <a:lnTo>
                    <a:pt x="200" y="68"/>
                  </a:lnTo>
                  <a:lnTo>
                    <a:pt x="158" y="88"/>
                  </a:lnTo>
                  <a:lnTo>
                    <a:pt x="119" y="114"/>
                  </a:lnTo>
                  <a:lnTo>
                    <a:pt x="83" y="145"/>
                  </a:lnTo>
                  <a:lnTo>
                    <a:pt x="52" y="181"/>
                  </a:lnTo>
                  <a:lnTo>
                    <a:pt x="28" y="224"/>
                  </a:lnTo>
                  <a:lnTo>
                    <a:pt x="11" y="274"/>
                  </a:lnTo>
                  <a:lnTo>
                    <a:pt x="0" y="330"/>
                  </a:lnTo>
                  <a:lnTo>
                    <a:pt x="28" y="356"/>
                  </a:lnTo>
                  <a:lnTo>
                    <a:pt x="29" y="352"/>
                  </a:lnTo>
                  <a:lnTo>
                    <a:pt x="32" y="344"/>
                  </a:lnTo>
                  <a:lnTo>
                    <a:pt x="37" y="330"/>
                  </a:lnTo>
                  <a:lnTo>
                    <a:pt x="46" y="314"/>
                  </a:lnTo>
                  <a:lnTo>
                    <a:pt x="57" y="297"/>
                  </a:lnTo>
                  <a:lnTo>
                    <a:pt x="72" y="277"/>
                  </a:lnTo>
                  <a:lnTo>
                    <a:pt x="90" y="259"/>
                  </a:lnTo>
                  <a:lnTo>
                    <a:pt x="112" y="243"/>
                  </a:lnTo>
                  <a:lnTo>
                    <a:pt x="138" y="229"/>
                  </a:lnTo>
                  <a:lnTo>
                    <a:pt x="168" y="220"/>
                  </a:lnTo>
                  <a:lnTo>
                    <a:pt x="204" y="215"/>
                  </a:lnTo>
                  <a:lnTo>
                    <a:pt x="244" y="218"/>
                  </a:lnTo>
                  <a:lnTo>
                    <a:pt x="289" y="227"/>
                  </a:lnTo>
                  <a:lnTo>
                    <a:pt x="341" y="246"/>
                  </a:lnTo>
                  <a:lnTo>
                    <a:pt x="397" y="275"/>
                  </a:lnTo>
                  <a:lnTo>
                    <a:pt x="461" y="315"/>
                  </a:lnTo>
                  <a:lnTo>
                    <a:pt x="472" y="329"/>
                  </a:lnTo>
                  <a:lnTo>
                    <a:pt x="486" y="349"/>
                  </a:lnTo>
                  <a:lnTo>
                    <a:pt x="501" y="373"/>
                  </a:lnTo>
                  <a:lnTo>
                    <a:pt x="515" y="401"/>
                  </a:lnTo>
                  <a:lnTo>
                    <a:pt x="524" y="431"/>
                  </a:lnTo>
                  <a:lnTo>
                    <a:pt x="529" y="461"/>
                  </a:lnTo>
                  <a:lnTo>
                    <a:pt x="526" y="492"/>
                  </a:lnTo>
                  <a:lnTo>
                    <a:pt x="514" y="521"/>
                  </a:lnTo>
                  <a:lnTo>
                    <a:pt x="493" y="553"/>
                  </a:lnTo>
                  <a:lnTo>
                    <a:pt x="474" y="580"/>
                  </a:lnTo>
                  <a:lnTo>
                    <a:pt x="457" y="606"/>
                  </a:lnTo>
                  <a:lnTo>
                    <a:pt x="442" y="626"/>
                  </a:lnTo>
                  <a:lnTo>
                    <a:pt x="431" y="643"/>
                  </a:lnTo>
                  <a:lnTo>
                    <a:pt x="422" y="655"/>
                  </a:lnTo>
                  <a:lnTo>
                    <a:pt x="416" y="663"/>
                  </a:lnTo>
                  <a:lnTo>
                    <a:pt x="413" y="666"/>
                  </a:lnTo>
                  <a:lnTo>
                    <a:pt x="510" y="638"/>
                  </a:lnTo>
                  <a:lnTo>
                    <a:pt x="508" y="658"/>
                  </a:lnTo>
                  <a:lnTo>
                    <a:pt x="508" y="676"/>
                  </a:lnTo>
                  <a:lnTo>
                    <a:pt x="510" y="692"/>
                  </a:lnTo>
                  <a:lnTo>
                    <a:pt x="514" y="706"/>
                  </a:lnTo>
                  <a:lnTo>
                    <a:pt x="526" y="741"/>
                  </a:lnTo>
                  <a:lnTo>
                    <a:pt x="530" y="767"/>
                  </a:lnTo>
                  <a:lnTo>
                    <a:pt x="524" y="788"/>
                  </a:lnTo>
                  <a:lnTo>
                    <a:pt x="512" y="803"/>
                  </a:lnTo>
                  <a:lnTo>
                    <a:pt x="495" y="813"/>
                  </a:lnTo>
                  <a:lnTo>
                    <a:pt x="473" y="818"/>
                  </a:lnTo>
                  <a:lnTo>
                    <a:pt x="448" y="820"/>
                  </a:lnTo>
                  <a:lnTo>
                    <a:pt x="420" y="818"/>
                  </a:lnTo>
                  <a:lnTo>
                    <a:pt x="392" y="814"/>
                  </a:lnTo>
                  <a:lnTo>
                    <a:pt x="363" y="809"/>
                  </a:lnTo>
                  <a:lnTo>
                    <a:pt x="335" y="803"/>
                  </a:lnTo>
                  <a:lnTo>
                    <a:pt x="310" y="796"/>
                  </a:lnTo>
                  <a:lnTo>
                    <a:pt x="289" y="789"/>
                  </a:lnTo>
                  <a:lnTo>
                    <a:pt x="272" y="784"/>
                  </a:lnTo>
                  <a:lnTo>
                    <a:pt x="260" y="780"/>
                  </a:lnTo>
                  <a:lnTo>
                    <a:pt x="257" y="779"/>
                  </a:lnTo>
                  <a:lnTo>
                    <a:pt x="230" y="822"/>
                  </a:lnTo>
                  <a:lnTo>
                    <a:pt x="234" y="826"/>
                  </a:lnTo>
                  <a:lnTo>
                    <a:pt x="245" y="836"/>
                  </a:lnTo>
                  <a:lnTo>
                    <a:pt x="264" y="851"/>
                  </a:lnTo>
                  <a:lnTo>
                    <a:pt x="288" y="870"/>
                  </a:lnTo>
                  <a:lnTo>
                    <a:pt x="318" y="891"/>
                  </a:lnTo>
                  <a:lnTo>
                    <a:pt x="351" y="913"/>
                  </a:lnTo>
                  <a:lnTo>
                    <a:pt x="389" y="935"/>
                  </a:lnTo>
                  <a:lnTo>
                    <a:pt x="430" y="956"/>
                  </a:lnTo>
                  <a:lnTo>
                    <a:pt x="473" y="973"/>
                  </a:lnTo>
                  <a:lnTo>
                    <a:pt x="517" y="986"/>
                  </a:lnTo>
                  <a:lnTo>
                    <a:pt x="563" y="993"/>
                  </a:lnTo>
                  <a:lnTo>
                    <a:pt x="609" y="993"/>
                  </a:lnTo>
                  <a:lnTo>
                    <a:pt x="654" y="985"/>
                  </a:lnTo>
                  <a:lnTo>
                    <a:pt x="698" y="968"/>
                  </a:lnTo>
                  <a:lnTo>
                    <a:pt x="739" y="939"/>
                  </a:lnTo>
                  <a:lnTo>
                    <a:pt x="778" y="897"/>
                  </a:lnTo>
                  <a:lnTo>
                    <a:pt x="803" y="863"/>
                  </a:lnTo>
                  <a:lnTo>
                    <a:pt x="821" y="827"/>
                  </a:lnTo>
                  <a:lnTo>
                    <a:pt x="835" y="792"/>
                  </a:lnTo>
                  <a:lnTo>
                    <a:pt x="845" y="760"/>
                  </a:lnTo>
                  <a:lnTo>
                    <a:pt x="853" y="731"/>
                  </a:lnTo>
                  <a:lnTo>
                    <a:pt x="857" y="709"/>
                  </a:lnTo>
                  <a:lnTo>
                    <a:pt x="859" y="696"/>
                  </a:lnTo>
                  <a:lnTo>
                    <a:pt x="860" y="690"/>
                  </a:lnTo>
                  <a:lnTo>
                    <a:pt x="865" y="689"/>
                  </a:lnTo>
                  <a:lnTo>
                    <a:pt x="877" y="685"/>
                  </a:lnTo>
                  <a:lnTo>
                    <a:pt x="897" y="681"/>
                  </a:lnTo>
                  <a:lnTo>
                    <a:pt x="923" y="677"/>
                  </a:lnTo>
                  <a:lnTo>
                    <a:pt x="952" y="674"/>
                  </a:lnTo>
                  <a:lnTo>
                    <a:pt x="986" y="673"/>
                  </a:lnTo>
                  <a:lnTo>
                    <a:pt x="1020" y="676"/>
                  </a:lnTo>
                  <a:lnTo>
                    <a:pt x="1056" y="683"/>
                  </a:lnTo>
                  <a:lnTo>
                    <a:pt x="1090" y="696"/>
                  </a:lnTo>
                  <a:lnTo>
                    <a:pt x="1123" y="714"/>
                  </a:lnTo>
                  <a:lnTo>
                    <a:pt x="1151" y="741"/>
                  </a:lnTo>
                  <a:lnTo>
                    <a:pt x="1176" y="776"/>
                  </a:lnTo>
                  <a:lnTo>
                    <a:pt x="1194" y="821"/>
                  </a:lnTo>
                  <a:lnTo>
                    <a:pt x="1204" y="878"/>
                  </a:lnTo>
                  <a:lnTo>
                    <a:pt x="1207" y="946"/>
                  </a:lnTo>
                  <a:lnTo>
                    <a:pt x="1199" y="1026"/>
                  </a:lnTo>
                  <a:lnTo>
                    <a:pt x="1232" y="1062"/>
                  </a:lnTo>
                  <a:lnTo>
                    <a:pt x="1237" y="1056"/>
                  </a:lnTo>
                  <a:lnTo>
                    <a:pt x="1247" y="1038"/>
                  </a:lnTo>
                  <a:lnTo>
                    <a:pt x="1264" y="1010"/>
                  </a:lnTo>
                  <a:lnTo>
                    <a:pt x="1284" y="974"/>
                  </a:lnTo>
                  <a:lnTo>
                    <a:pt x="1305" y="931"/>
                  </a:lnTo>
                  <a:lnTo>
                    <a:pt x="1324" y="882"/>
                  </a:lnTo>
                  <a:lnTo>
                    <a:pt x="1340" y="829"/>
                  </a:lnTo>
                  <a:lnTo>
                    <a:pt x="1353" y="774"/>
                  </a:lnTo>
                  <a:lnTo>
                    <a:pt x="1358" y="718"/>
                  </a:lnTo>
                  <a:lnTo>
                    <a:pt x="1353" y="662"/>
                  </a:lnTo>
                  <a:lnTo>
                    <a:pt x="1338" y="608"/>
                  </a:lnTo>
                  <a:lnTo>
                    <a:pt x="1310" y="557"/>
                  </a:lnTo>
                  <a:lnTo>
                    <a:pt x="1268" y="511"/>
                  </a:lnTo>
                  <a:lnTo>
                    <a:pt x="1209" y="472"/>
                  </a:lnTo>
                  <a:lnTo>
                    <a:pt x="1130" y="440"/>
                  </a:lnTo>
                  <a:lnTo>
                    <a:pt x="1031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40480" y="3301200"/>
              <a:ext cx="44280" cy="27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0" y="20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97720" y="3419640"/>
              <a:ext cx="41040" cy="27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1" y="19"/>
                  </a:lnTo>
                  <a:lnTo>
                    <a:pt x="24" y="16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7" y="22"/>
                  </a:lnTo>
                  <a:lnTo>
                    <a:pt x="12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13560" y="2775600"/>
              <a:ext cx="123840" cy="601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12" y="52"/>
                  </a:moveTo>
                  <a:lnTo>
                    <a:pt x="71" y="14"/>
                  </a:lnTo>
                  <a:lnTo>
                    <a:pt x="71" y="14"/>
                  </a:lnTo>
                  <a:lnTo>
                    <a:pt x="73" y="11"/>
                  </a:lnTo>
                  <a:lnTo>
                    <a:pt x="74" y="9"/>
                  </a:lnTo>
                  <a:lnTo>
                    <a:pt x="74" y="6"/>
                  </a:lnTo>
                  <a:lnTo>
                    <a:pt x="73" y="3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2" y="52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3160" y="2883240"/>
              <a:ext cx="179280" cy="1872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8" y="18"/>
                  </a:moveTo>
                  <a:lnTo>
                    <a:pt x="101" y="14"/>
                  </a:lnTo>
                  <a:lnTo>
                    <a:pt x="101" y="14"/>
                  </a:lnTo>
                  <a:lnTo>
                    <a:pt x="104" y="13"/>
                  </a:lnTo>
                  <a:lnTo>
                    <a:pt x="107" y="12"/>
                  </a:lnTo>
                  <a:lnTo>
                    <a:pt x="108" y="10"/>
                  </a:lnTo>
                  <a:lnTo>
                    <a:pt x="109" y="7"/>
                  </a:lnTo>
                  <a:lnTo>
                    <a:pt x="108" y="4"/>
                  </a:lnTo>
                  <a:lnTo>
                    <a:pt x="105" y="2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40560" y="2954520"/>
              <a:ext cx="122040" cy="3888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4" y="13"/>
                  </a:moveTo>
                  <a:lnTo>
                    <a:pt x="63" y="34"/>
                  </a:lnTo>
                  <a:lnTo>
                    <a:pt x="63" y="34"/>
                  </a:lnTo>
                  <a:lnTo>
                    <a:pt x="65" y="34"/>
                  </a:lnTo>
                  <a:lnTo>
                    <a:pt x="69" y="33"/>
                  </a:lnTo>
                  <a:lnTo>
                    <a:pt x="71" y="32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0" y="21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30800" y="3013560"/>
              <a:ext cx="408240" cy="222480"/>
            </a:xfrm>
            <a:custGeom>
              <a:avLst/>
              <a:gdLst/>
              <a:ahLst/>
              <a:rect l="l" t="t" r="r" b="b"/>
              <a:pathLst>
                <a:path w="246" h="196">
                  <a:moveTo>
                    <a:pt x="20" y="3"/>
                  </a:moveTo>
                  <a:lnTo>
                    <a:pt x="0" y="22"/>
                  </a:lnTo>
                  <a:lnTo>
                    <a:pt x="2" y="22"/>
                  </a:lnTo>
                  <a:lnTo>
                    <a:pt x="7" y="25"/>
                  </a:lnTo>
                  <a:lnTo>
                    <a:pt x="16" y="27"/>
                  </a:lnTo>
                  <a:lnTo>
                    <a:pt x="28" y="32"/>
                  </a:lnTo>
                  <a:lnTo>
                    <a:pt x="41" y="36"/>
                  </a:lnTo>
                  <a:lnTo>
                    <a:pt x="58" y="43"/>
                  </a:lnTo>
                  <a:lnTo>
                    <a:pt x="75" y="51"/>
                  </a:lnTo>
                  <a:lnTo>
                    <a:pt x="94" y="60"/>
                  </a:lnTo>
                  <a:lnTo>
                    <a:pt x="114" y="72"/>
                  </a:lnTo>
                  <a:lnTo>
                    <a:pt x="135" y="85"/>
                  </a:lnTo>
                  <a:lnTo>
                    <a:pt x="155" y="98"/>
                  </a:lnTo>
                  <a:lnTo>
                    <a:pt x="175" y="115"/>
                  </a:lnTo>
                  <a:lnTo>
                    <a:pt x="195" y="132"/>
                  </a:lnTo>
                  <a:lnTo>
                    <a:pt x="214" y="151"/>
                  </a:lnTo>
                  <a:lnTo>
                    <a:pt x="231" y="173"/>
                  </a:lnTo>
                  <a:lnTo>
                    <a:pt x="246" y="196"/>
                  </a:lnTo>
                  <a:lnTo>
                    <a:pt x="246" y="191"/>
                  </a:lnTo>
                  <a:lnTo>
                    <a:pt x="246" y="177"/>
                  </a:lnTo>
                  <a:lnTo>
                    <a:pt x="244" y="155"/>
                  </a:lnTo>
                  <a:lnTo>
                    <a:pt x="239" y="128"/>
                  </a:lnTo>
                  <a:lnTo>
                    <a:pt x="231" y="98"/>
                  </a:lnTo>
                  <a:lnTo>
                    <a:pt x="219" y="70"/>
                  </a:lnTo>
                  <a:lnTo>
                    <a:pt x="200" y="42"/>
                  </a:lnTo>
                  <a:lnTo>
                    <a:pt x="175" y="19"/>
                  </a:lnTo>
                  <a:lnTo>
                    <a:pt x="14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78600" y="2788560"/>
              <a:ext cx="288720" cy="213120"/>
            </a:xfrm>
            <a:custGeom>
              <a:avLst/>
              <a:gdLst/>
              <a:ahLst/>
              <a:rect l="l" t="t" r="r" b="b"/>
              <a:pathLst>
                <a:path w="175" h="188">
                  <a:moveTo>
                    <a:pt x="175" y="121"/>
                  </a:moveTo>
                  <a:lnTo>
                    <a:pt x="155" y="96"/>
                  </a:lnTo>
                  <a:lnTo>
                    <a:pt x="146" y="103"/>
                  </a:lnTo>
                  <a:lnTo>
                    <a:pt x="138" y="106"/>
                  </a:lnTo>
                  <a:lnTo>
                    <a:pt x="131" y="106"/>
                  </a:lnTo>
                  <a:lnTo>
                    <a:pt x="124" y="104"/>
                  </a:lnTo>
                  <a:lnTo>
                    <a:pt x="119" y="101"/>
                  </a:lnTo>
                  <a:lnTo>
                    <a:pt x="116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26" y="94"/>
                  </a:lnTo>
                  <a:lnTo>
                    <a:pt x="136" y="90"/>
                  </a:lnTo>
                  <a:lnTo>
                    <a:pt x="140" y="86"/>
                  </a:lnTo>
                  <a:lnTo>
                    <a:pt x="142" y="81"/>
                  </a:lnTo>
                  <a:lnTo>
                    <a:pt x="136" y="72"/>
                  </a:lnTo>
                  <a:lnTo>
                    <a:pt x="147" y="58"/>
                  </a:lnTo>
                  <a:lnTo>
                    <a:pt x="99" y="26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2" y="6"/>
                  </a:lnTo>
                  <a:lnTo>
                    <a:pt x="53" y="13"/>
                  </a:lnTo>
                  <a:lnTo>
                    <a:pt x="33" y="24"/>
                  </a:lnTo>
                  <a:lnTo>
                    <a:pt x="16" y="39"/>
                  </a:lnTo>
                  <a:lnTo>
                    <a:pt x="3" y="60"/>
                  </a:lnTo>
                  <a:lnTo>
                    <a:pt x="0" y="88"/>
                  </a:lnTo>
                  <a:lnTo>
                    <a:pt x="7" y="94"/>
                  </a:lnTo>
                  <a:lnTo>
                    <a:pt x="5" y="96"/>
                  </a:lnTo>
                  <a:lnTo>
                    <a:pt x="4" y="102"/>
                  </a:lnTo>
                  <a:lnTo>
                    <a:pt x="3" y="110"/>
                  </a:lnTo>
                  <a:lnTo>
                    <a:pt x="4" y="120"/>
                  </a:lnTo>
                  <a:lnTo>
                    <a:pt x="8" y="130"/>
                  </a:lnTo>
                  <a:lnTo>
                    <a:pt x="17" y="142"/>
                  </a:lnTo>
                  <a:lnTo>
                    <a:pt x="33" y="152"/>
                  </a:lnTo>
                  <a:lnTo>
                    <a:pt x="56" y="160"/>
                  </a:lnTo>
                  <a:lnTo>
                    <a:pt x="72" y="188"/>
                  </a:lnTo>
                  <a:lnTo>
                    <a:pt x="137" y="185"/>
                  </a:lnTo>
                  <a:lnTo>
                    <a:pt x="131" y="145"/>
                  </a:lnTo>
                  <a:lnTo>
                    <a:pt x="17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03920" y="2954520"/>
              <a:ext cx="525240" cy="110880"/>
            </a:xfrm>
            <a:custGeom>
              <a:avLst/>
              <a:gdLst/>
              <a:ahLst/>
              <a:rect l="l" t="t" r="r" b="b"/>
              <a:pathLst>
                <a:path w="318" h="97">
                  <a:moveTo>
                    <a:pt x="298" y="62"/>
                  </a:moveTo>
                  <a:lnTo>
                    <a:pt x="296" y="76"/>
                  </a:lnTo>
                  <a:lnTo>
                    <a:pt x="293" y="75"/>
                  </a:lnTo>
                  <a:lnTo>
                    <a:pt x="288" y="72"/>
                  </a:lnTo>
                  <a:lnTo>
                    <a:pt x="278" y="69"/>
                  </a:lnTo>
                  <a:lnTo>
                    <a:pt x="266" y="64"/>
                  </a:lnTo>
                  <a:lnTo>
                    <a:pt x="252" y="59"/>
                  </a:lnTo>
                  <a:lnTo>
                    <a:pt x="235" y="53"/>
                  </a:lnTo>
                  <a:lnTo>
                    <a:pt x="216" y="46"/>
                  </a:lnTo>
                  <a:lnTo>
                    <a:pt x="195" y="39"/>
                  </a:lnTo>
                  <a:lnTo>
                    <a:pt x="175" y="32"/>
                  </a:lnTo>
                  <a:lnTo>
                    <a:pt x="153" y="25"/>
                  </a:lnTo>
                  <a:lnTo>
                    <a:pt x="132" y="18"/>
                  </a:lnTo>
                  <a:lnTo>
                    <a:pt x="110" y="12"/>
                  </a:lnTo>
                  <a:lnTo>
                    <a:pt x="91" y="8"/>
                  </a:lnTo>
                  <a:lnTo>
                    <a:pt x="71" y="3"/>
                  </a:lnTo>
                  <a:lnTo>
                    <a:pt x="54" y="1"/>
                  </a:lnTo>
                  <a:lnTo>
                    <a:pt x="38" y="0"/>
                  </a:lnTo>
                  <a:lnTo>
                    <a:pt x="0" y="24"/>
                  </a:lnTo>
                  <a:lnTo>
                    <a:pt x="54" y="46"/>
                  </a:lnTo>
                  <a:lnTo>
                    <a:pt x="56" y="46"/>
                  </a:lnTo>
                  <a:lnTo>
                    <a:pt x="63" y="46"/>
                  </a:lnTo>
                  <a:lnTo>
                    <a:pt x="75" y="47"/>
                  </a:lnTo>
                  <a:lnTo>
                    <a:pt x="88" y="48"/>
                  </a:lnTo>
                  <a:lnTo>
                    <a:pt x="106" y="49"/>
                  </a:lnTo>
                  <a:lnTo>
                    <a:pt x="125" y="52"/>
                  </a:lnTo>
                  <a:lnTo>
                    <a:pt x="146" y="54"/>
                  </a:lnTo>
                  <a:lnTo>
                    <a:pt x="169" y="56"/>
                  </a:lnTo>
                  <a:lnTo>
                    <a:pt x="191" y="60"/>
                  </a:lnTo>
                  <a:lnTo>
                    <a:pt x="214" y="63"/>
                  </a:lnTo>
                  <a:lnTo>
                    <a:pt x="236" y="67"/>
                  </a:lnTo>
                  <a:lnTo>
                    <a:pt x="257" y="71"/>
                  </a:lnTo>
                  <a:lnTo>
                    <a:pt x="276" y="77"/>
                  </a:lnTo>
                  <a:lnTo>
                    <a:pt x="293" y="83"/>
                  </a:lnTo>
                  <a:lnTo>
                    <a:pt x="307" y="90"/>
                  </a:lnTo>
                  <a:lnTo>
                    <a:pt x="318" y="97"/>
                  </a:lnTo>
                  <a:lnTo>
                    <a:pt x="314" y="72"/>
                  </a:lnTo>
                  <a:lnTo>
                    <a:pt x="29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7680" y="3058560"/>
              <a:ext cx="407880" cy="210600"/>
            </a:xfrm>
            <a:custGeom>
              <a:avLst/>
              <a:gdLst/>
              <a:ahLst/>
              <a:rect l="l" t="t" r="r" b="b"/>
              <a:pathLst>
                <a:path w="248" h="186">
                  <a:moveTo>
                    <a:pt x="244" y="175"/>
                  </a:moveTo>
                  <a:lnTo>
                    <a:pt x="62" y="91"/>
                  </a:lnTo>
                  <a:lnTo>
                    <a:pt x="68" y="44"/>
                  </a:lnTo>
                  <a:lnTo>
                    <a:pt x="14" y="6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6"/>
                  </a:lnTo>
                  <a:lnTo>
                    <a:pt x="0" y="76"/>
                  </a:lnTo>
                  <a:lnTo>
                    <a:pt x="54" y="60"/>
                  </a:lnTo>
                  <a:lnTo>
                    <a:pt x="50" y="99"/>
                  </a:lnTo>
                  <a:lnTo>
                    <a:pt x="239" y="186"/>
                  </a:lnTo>
                  <a:lnTo>
                    <a:pt x="239" y="186"/>
                  </a:lnTo>
                  <a:lnTo>
                    <a:pt x="241" y="186"/>
                  </a:lnTo>
                  <a:lnTo>
                    <a:pt x="243" y="186"/>
                  </a:lnTo>
                  <a:lnTo>
                    <a:pt x="245" y="185"/>
                  </a:lnTo>
                  <a:lnTo>
                    <a:pt x="247" y="183"/>
                  </a:lnTo>
                  <a:lnTo>
                    <a:pt x="248" y="181"/>
                  </a:lnTo>
                  <a:lnTo>
                    <a:pt x="248" y="178"/>
                  </a:lnTo>
                  <a:lnTo>
                    <a:pt x="245" y="177"/>
                  </a:lnTo>
                  <a:lnTo>
                    <a:pt x="244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27880" y="3052800"/>
              <a:ext cx="102960" cy="203400"/>
            </a:xfrm>
            <a:custGeom>
              <a:avLst/>
              <a:gdLst/>
              <a:ahLst/>
              <a:rect l="l" t="t" r="r" b="b"/>
              <a:pathLst>
                <a:path w="61" h="180">
                  <a:moveTo>
                    <a:pt x="61" y="71"/>
                  </a:moveTo>
                  <a:lnTo>
                    <a:pt x="34" y="54"/>
                  </a:lnTo>
                  <a:lnTo>
                    <a:pt x="53" y="36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4" y="37"/>
                  </a:lnTo>
                  <a:lnTo>
                    <a:pt x="15" y="56"/>
                  </a:lnTo>
                  <a:lnTo>
                    <a:pt x="47" y="76"/>
                  </a:lnTo>
                  <a:lnTo>
                    <a:pt x="26" y="172"/>
                  </a:lnTo>
                  <a:lnTo>
                    <a:pt x="26" y="174"/>
                  </a:lnTo>
                  <a:lnTo>
                    <a:pt x="27" y="176"/>
                  </a:lnTo>
                  <a:lnTo>
                    <a:pt x="28" y="179"/>
                  </a:lnTo>
                  <a:lnTo>
                    <a:pt x="31" y="180"/>
                  </a:lnTo>
                  <a:lnTo>
                    <a:pt x="33" y="180"/>
                  </a:lnTo>
                  <a:lnTo>
                    <a:pt x="35" y="179"/>
                  </a:lnTo>
                  <a:lnTo>
                    <a:pt x="37" y="176"/>
                  </a:lnTo>
                  <a:lnTo>
                    <a:pt x="38" y="175"/>
                  </a:lnTo>
                  <a:lnTo>
                    <a:pt x="38" y="175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08560" y="2839680"/>
              <a:ext cx="44640" cy="27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22"/>
                  </a:moveTo>
                  <a:lnTo>
                    <a:pt x="20" y="20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813200">
            <a:off x="5420880" y="3843360"/>
            <a:ext cx="76320" cy="1699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18343200">
            <a:off x="7120440" y="4145040"/>
            <a:ext cx="55800" cy="2286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200400" y="2881080"/>
            <a:ext cx="3973680" cy="121284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68560" y="2957400"/>
            <a:ext cx="185760" cy="9288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533520" y="1365120"/>
            <a:ext cx="609588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tte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t handset or press [MON]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D/FOR]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+ “7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CO line(s) to be call forw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ress CO or CO group button in the flexible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Dial CO or CO group 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 bin 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rmation tone will be heard and then on-h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signated CO button is flas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0800" y="5197320"/>
            <a:ext cx="5397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PGM Usage : PGM112-BTN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o program a CO related button to a flexible but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48466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2600" y="9828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ing CO Line Off-net Call Forward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9920" y="1600200"/>
            <a:ext cx="79668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useful when a station in the system cannot answer a CO line cal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possible to assign some CO lines to be forwarded in the system, so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s (not assigned) can be answered by available s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only available to receive a call, not make a ca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20920" y="4714920"/>
            <a:ext cx="5697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Usage                                : PGM111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upervised Conference Timer          :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182-BTN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3520" y="429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2600" y="9360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ing CO Line Off-net Call Forward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6095880" y="2171880"/>
            <a:ext cx="1981440" cy="14857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00080" y="9216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to VMIB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14968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can forward intercom or incoming CO line calls to VMI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1511280" y="2282760"/>
            <a:ext cx="1093680" cy="14684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 flipH="1" flipV="1">
            <a:off x="1094400" y="4137840"/>
            <a:ext cx="5105160" cy="1562040"/>
          </a:xfrm>
          <a:prstGeom prst="wedgeRoundRectCallout">
            <a:avLst>
              <a:gd name="adj1" fmla="val 24902"/>
              <a:gd name="adj2" fmla="val 71847"/>
              <a:gd name="adj3" fmla="val 16667"/>
            </a:avLst>
          </a:prstGeom>
          <a:solidFill>
            <a:srgbClr val="e6f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IB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 of the STA 100 is he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l ‘#’ during announcement or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ait un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greeting is fin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ve voice(VMIB) message to STA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57160" y="2852640"/>
            <a:ext cx="98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 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86040" y="276696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243840" y="349092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 to V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33520" y="1438200"/>
            <a:ext cx="8381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nditional      : [MON] + [FWD] + 1 +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y                     : [MON] + [FWD] + 2 +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Answer           : [MON] + [FWD] + 3 +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y/No Answer : [MON] + [FWD] + 4 +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</a:rPr>
              <a:t>※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User Greeting should be recorded in advance to use VMIB Call Forward.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ow to record User Greeting in a DKTU;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[TRANS/PGM] + 6 + 1 + # + Recording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0080" y="103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orward to VMIB 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3520" y="45100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4600" y="4998960"/>
            <a:ext cx="5063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Usage      : PGM111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IB Access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: PGM113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880320" y="3068640"/>
            <a:ext cx="2012760" cy="1655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4360" y="3068640"/>
            <a:ext cx="3958920" cy="1944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59280" y="278136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50920" y="436716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24040" y="4309920"/>
            <a:ext cx="201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ward to Station 10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24000" y="37195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2227320" y="3662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1930320" y="2205000"/>
            <a:ext cx="1346400" cy="13287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177480" y="95400"/>
            <a:ext cx="27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Forward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8360" y="838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72240" y="765000"/>
            <a:ext cx="667008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Call forward with Station 102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Make Unconditional Forward to Station 1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Make Busy / No-Answer Forward to Station 1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Make Unconditional Off-net Call Forward (Forward Type 8, with CO line 1)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Make Busy Forward to VMI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00400" y="4294080"/>
            <a:ext cx="1068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4100400" y="36464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 flipV="1">
            <a:off x="1363680" y="4078440"/>
            <a:ext cx="555480" cy="792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618000" y="4076640"/>
            <a:ext cx="409320" cy="648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2160360" y="3321360"/>
            <a:ext cx="1079280" cy="15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28440">
            <a:solidFill>
              <a:srgbClr val="ff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7164360" y="2133720"/>
            <a:ext cx="1346400" cy="13287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4211640" y="2276640"/>
            <a:ext cx="1550880" cy="933120"/>
          </a:xfrm>
          <a:prstGeom prst="cloudCallout">
            <a:avLst>
              <a:gd name="adj1" fmla="val -12902"/>
              <a:gd name="adj2" fmla="val 4488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T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80360" y="4292640"/>
            <a:ext cx="1068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2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7380360" y="36450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7885080" y="3429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-60840" y="5157720"/>
            <a:ext cx="6157800" cy="9687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MON] + [DND/FWD] + 1 +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MON] + [DND/FWD] + 3 +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MON] + [DND/FWD] + 1 (select CO number) + external st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MON] + [DND/FWD] + 2 + # (Select own VMI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551520" y="1452600"/>
            <a:ext cx="7265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ing CO lines can be forwarded to an assigned station or hu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call is not answered within predefined time, Preset Forward Tim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15560" y="9828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t Call Forward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685800" y="2338560"/>
            <a:ext cx="7772040" cy="2949480"/>
            <a:chOff x="685800" y="2338560"/>
            <a:chExt cx="7772040" cy="2949480"/>
          </a:xfrm>
        </p:grpSpPr>
        <p:sp>
          <p:nvSpPr>
            <p:cNvPr id="741" name=""/>
            <p:cNvSpPr/>
            <p:nvPr/>
          </p:nvSpPr>
          <p:spPr>
            <a:xfrm>
              <a:off x="685800" y="2338560"/>
              <a:ext cx="1554120" cy="836640"/>
            </a:xfrm>
            <a:prstGeom prst="cloudCallout">
              <a:avLst>
                <a:gd name="adj1" fmla="val -22916"/>
                <a:gd name="adj2" fmla="val 12759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 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3406680" y="2465640"/>
              <a:ext cx="5051160" cy="2822400"/>
              <a:chOff x="3406680" y="2465640"/>
              <a:chExt cx="5051160" cy="2822400"/>
            </a:xfrm>
          </p:grpSpPr>
          <p:sp>
            <p:nvSpPr>
              <p:cNvPr id="743" name=""/>
              <p:cNvSpPr/>
              <p:nvPr/>
            </p:nvSpPr>
            <p:spPr>
              <a:xfrm>
                <a:off x="3406680" y="2465640"/>
                <a:ext cx="5051160" cy="2768040"/>
              </a:xfrm>
              <a:prstGeom prst="ellipse">
                <a:avLst/>
              </a:prstGeom>
              <a:solidFill>
                <a:srgbClr val="e6f3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8040" y="4167000"/>
                <a:ext cx="102960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 flipH="1">
                <a:off x="4391640" y="2913480"/>
                <a:ext cx="3208680" cy="193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77" y="19289"/>
                    </a:moveTo>
                    <a:arcTo wR="10800" hR="10800" stAng="3108734" swAng="16428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77" y="19289"/>
                    </a:moveTo>
                    <a:arcTo wR="10800" hR="10800" stAng="3108734" swAng="16428341"/>
                  </a:path>
                </a:pathLst>
              </a:custGeom>
              <a:noFill/>
              <a:ln w="2844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3909600" y="3245760"/>
                <a:ext cx="984600" cy="581400"/>
                <a:chOff x="3909600" y="3245760"/>
                <a:chExt cx="984600" cy="5814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031640" y="3425040"/>
                  <a:ext cx="757440" cy="346680"/>
                </a:xfrm>
                <a:custGeom>
                  <a:avLst/>
                  <a:gdLst/>
                  <a:ahLst/>
                  <a:rect l="l" t="t" r="r" b="b"/>
                  <a:pathLst>
                    <a:path w="2342" h="1592">
                      <a:moveTo>
                        <a:pt x="640" y="33"/>
                      </a:moveTo>
                      <a:lnTo>
                        <a:pt x="538" y="578"/>
                      </a:lnTo>
                      <a:lnTo>
                        <a:pt x="120" y="1047"/>
                      </a:lnTo>
                      <a:lnTo>
                        <a:pt x="0" y="1180"/>
                      </a:lnTo>
                      <a:lnTo>
                        <a:pt x="45" y="1440"/>
                      </a:lnTo>
                      <a:lnTo>
                        <a:pt x="1803" y="1592"/>
                      </a:lnTo>
                      <a:lnTo>
                        <a:pt x="2342" y="1314"/>
                      </a:lnTo>
                      <a:lnTo>
                        <a:pt x="2031" y="58"/>
                      </a:lnTo>
                      <a:lnTo>
                        <a:pt x="1905" y="0"/>
                      </a:lnTo>
                      <a:lnTo>
                        <a:pt x="1677" y="255"/>
                      </a:lnTo>
                      <a:lnTo>
                        <a:pt x="980" y="197"/>
                      </a:lnTo>
                      <a:lnTo>
                        <a:pt x="760" y="0"/>
                      </a:lnTo>
                      <a:lnTo>
                        <a:pt x="640" y="33"/>
                      </a:lnTo>
                      <a:lnTo>
                        <a:pt x="64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36320" y="3444480"/>
                  <a:ext cx="857880" cy="370800"/>
                </a:xfrm>
                <a:custGeom>
                  <a:avLst/>
                  <a:gdLst/>
                  <a:ahLst/>
                  <a:rect l="l" t="t" r="r" b="b"/>
                  <a:pathLst>
                    <a:path w="2651" h="1707">
                      <a:moveTo>
                        <a:pt x="120" y="1155"/>
                      </a:moveTo>
                      <a:lnTo>
                        <a:pt x="551" y="1155"/>
                      </a:lnTo>
                      <a:lnTo>
                        <a:pt x="1291" y="1288"/>
                      </a:lnTo>
                      <a:lnTo>
                        <a:pt x="1146" y="1149"/>
                      </a:lnTo>
                      <a:lnTo>
                        <a:pt x="1708" y="850"/>
                      </a:lnTo>
                      <a:lnTo>
                        <a:pt x="1905" y="1021"/>
                      </a:lnTo>
                      <a:lnTo>
                        <a:pt x="1961" y="793"/>
                      </a:lnTo>
                      <a:lnTo>
                        <a:pt x="1905" y="241"/>
                      </a:lnTo>
                      <a:lnTo>
                        <a:pt x="1955" y="0"/>
                      </a:lnTo>
                      <a:lnTo>
                        <a:pt x="2069" y="165"/>
                      </a:lnTo>
                      <a:lnTo>
                        <a:pt x="2152" y="146"/>
                      </a:lnTo>
                      <a:lnTo>
                        <a:pt x="2222" y="0"/>
                      </a:lnTo>
                      <a:lnTo>
                        <a:pt x="2430" y="63"/>
                      </a:lnTo>
                      <a:lnTo>
                        <a:pt x="2461" y="818"/>
                      </a:lnTo>
                      <a:lnTo>
                        <a:pt x="2645" y="952"/>
                      </a:lnTo>
                      <a:lnTo>
                        <a:pt x="2651" y="1186"/>
                      </a:lnTo>
                      <a:lnTo>
                        <a:pt x="1741" y="1707"/>
                      </a:lnTo>
                      <a:lnTo>
                        <a:pt x="0" y="1402"/>
                      </a:lnTo>
                      <a:lnTo>
                        <a:pt x="120" y="1155"/>
                      </a:lnTo>
                      <a:lnTo>
                        <a:pt x="120" y="1155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807200">
                  <a:off x="3950280" y="3389040"/>
                  <a:ext cx="262440" cy="232920"/>
                </a:xfrm>
                <a:custGeom>
                  <a:avLst/>
                  <a:gdLst/>
                  <a:ahLst/>
                  <a:rect l="l" t="t" r="r" b="b"/>
                  <a:pathLst>
                    <a:path w="810" h="1069">
                      <a:moveTo>
                        <a:pt x="235" y="736"/>
                      </a:moveTo>
                      <a:lnTo>
                        <a:pt x="295" y="710"/>
                      </a:lnTo>
                      <a:lnTo>
                        <a:pt x="357" y="682"/>
                      </a:lnTo>
                      <a:lnTo>
                        <a:pt x="417" y="660"/>
                      </a:lnTo>
                      <a:lnTo>
                        <a:pt x="471" y="650"/>
                      </a:lnTo>
                      <a:lnTo>
                        <a:pt x="516" y="657"/>
                      </a:lnTo>
                      <a:lnTo>
                        <a:pt x="545" y="687"/>
                      </a:lnTo>
                      <a:lnTo>
                        <a:pt x="555" y="747"/>
                      </a:lnTo>
                      <a:lnTo>
                        <a:pt x="543" y="840"/>
                      </a:lnTo>
                      <a:lnTo>
                        <a:pt x="609" y="825"/>
                      </a:lnTo>
                      <a:lnTo>
                        <a:pt x="665" y="825"/>
                      </a:lnTo>
                      <a:lnTo>
                        <a:pt x="746" y="855"/>
                      </a:lnTo>
                      <a:lnTo>
                        <a:pt x="793" y="915"/>
                      </a:lnTo>
                      <a:lnTo>
                        <a:pt x="810" y="982"/>
                      </a:lnTo>
                      <a:lnTo>
                        <a:pt x="799" y="1040"/>
                      </a:lnTo>
                      <a:lnTo>
                        <a:pt x="786" y="1059"/>
                      </a:lnTo>
                      <a:lnTo>
                        <a:pt x="767" y="1069"/>
                      </a:lnTo>
                      <a:lnTo>
                        <a:pt x="717" y="1047"/>
                      </a:lnTo>
                      <a:lnTo>
                        <a:pt x="687" y="1012"/>
                      </a:lnTo>
                      <a:lnTo>
                        <a:pt x="654" y="957"/>
                      </a:lnTo>
                      <a:lnTo>
                        <a:pt x="588" y="979"/>
                      </a:lnTo>
                      <a:lnTo>
                        <a:pt x="552" y="998"/>
                      </a:lnTo>
                      <a:lnTo>
                        <a:pt x="515" y="1015"/>
                      </a:lnTo>
                      <a:lnTo>
                        <a:pt x="480" y="1025"/>
                      </a:lnTo>
                      <a:lnTo>
                        <a:pt x="450" y="1027"/>
                      </a:lnTo>
                      <a:lnTo>
                        <a:pt x="407" y="975"/>
                      </a:lnTo>
                      <a:lnTo>
                        <a:pt x="407" y="925"/>
                      </a:lnTo>
                      <a:lnTo>
                        <a:pt x="425" y="878"/>
                      </a:lnTo>
                      <a:lnTo>
                        <a:pt x="458" y="782"/>
                      </a:lnTo>
                      <a:lnTo>
                        <a:pt x="429" y="796"/>
                      </a:lnTo>
                      <a:lnTo>
                        <a:pt x="389" y="816"/>
                      </a:lnTo>
                      <a:lnTo>
                        <a:pt x="341" y="842"/>
                      </a:lnTo>
                      <a:lnTo>
                        <a:pt x="289" y="868"/>
                      </a:lnTo>
                      <a:lnTo>
                        <a:pt x="238" y="893"/>
                      </a:lnTo>
                      <a:lnTo>
                        <a:pt x="191" y="914"/>
                      </a:lnTo>
                      <a:lnTo>
                        <a:pt x="130" y="927"/>
                      </a:lnTo>
                      <a:lnTo>
                        <a:pt x="73" y="893"/>
                      </a:lnTo>
                      <a:lnTo>
                        <a:pt x="56" y="845"/>
                      </a:lnTo>
                      <a:lnTo>
                        <a:pt x="70" y="790"/>
                      </a:lnTo>
                      <a:lnTo>
                        <a:pt x="101" y="730"/>
                      </a:lnTo>
                      <a:lnTo>
                        <a:pt x="120" y="700"/>
                      </a:lnTo>
                      <a:lnTo>
                        <a:pt x="139" y="671"/>
                      </a:lnTo>
                      <a:lnTo>
                        <a:pt x="174" y="618"/>
                      </a:lnTo>
                      <a:lnTo>
                        <a:pt x="191" y="552"/>
                      </a:lnTo>
                      <a:lnTo>
                        <a:pt x="156" y="533"/>
                      </a:lnTo>
                      <a:lnTo>
                        <a:pt x="114" y="520"/>
                      </a:lnTo>
                      <a:lnTo>
                        <a:pt x="35" y="496"/>
                      </a:lnTo>
                      <a:lnTo>
                        <a:pt x="8" y="477"/>
                      </a:lnTo>
                      <a:lnTo>
                        <a:pt x="0" y="448"/>
                      </a:lnTo>
                      <a:lnTo>
                        <a:pt x="11" y="405"/>
                      </a:lnTo>
                      <a:lnTo>
                        <a:pt x="26" y="377"/>
                      </a:lnTo>
                      <a:lnTo>
                        <a:pt x="50" y="345"/>
                      </a:lnTo>
                      <a:lnTo>
                        <a:pt x="73" y="321"/>
                      </a:lnTo>
                      <a:lnTo>
                        <a:pt x="100" y="299"/>
                      </a:lnTo>
                      <a:lnTo>
                        <a:pt x="128" y="280"/>
                      </a:lnTo>
                      <a:lnTo>
                        <a:pt x="157" y="263"/>
                      </a:lnTo>
                      <a:lnTo>
                        <a:pt x="136" y="113"/>
                      </a:lnTo>
                      <a:lnTo>
                        <a:pt x="151" y="67"/>
                      </a:lnTo>
                      <a:lnTo>
                        <a:pt x="184" y="35"/>
                      </a:lnTo>
                      <a:lnTo>
                        <a:pt x="229" y="16"/>
                      </a:lnTo>
                      <a:lnTo>
                        <a:pt x="285" y="5"/>
                      </a:lnTo>
                      <a:lnTo>
                        <a:pt x="426" y="0"/>
                      </a:lnTo>
                      <a:lnTo>
                        <a:pt x="441" y="18"/>
                      </a:lnTo>
                      <a:lnTo>
                        <a:pt x="429" y="58"/>
                      </a:lnTo>
                      <a:lnTo>
                        <a:pt x="415" y="79"/>
                      </a:lnTo>
                      <a:lnTo>
                        <a:pt x="399" y="97"/>
                      </a:lnTo>
                      <a:lnTo>
                        <a:pt x="383" y="111"/>
                      </a:lnTo>
                      <a:lnTo>
                        <a:pt x="366" y="115"/>
                      </a:lnTo>
                      <a:lnTo>
                        <a:pt x="291" y="108"/>
                      </a:lnTo>
                      <a:lnTo>
                        <a:pt x="227" y="124"/>
                      </a:lnTo>
                      <a:lnTo>
                        <a:pt x="222" y="161"/>
                      </a:lnTo>
                      <a:lnTo>
                        <a:pt x="240" y="201"/>
                      </a:lnTo>
                      <a:lnTo>
                        <a:pt x="283" y="274"/>
                      </a:lnTo>
                      <a:lnTo>
                        <a:pt x="284" y="306"/>
                      </a:lnTo>
                      <a:lnTo>
                        <a:pt x="273" y="328"/>
                      </a:lnTo>
                      <a:lnTo>
                        <a:pt x="253" y="341"/>
                      </a:lnTo>
                      <a:lnTo>
                        <a:pt x="228" y="351"/>
                      </a:lnTo>
                      <a:lnTo>
                        <a:pt x="179" y="366"/>
                      </a:lnTo>
                      <a:lnTo>
                        <a:pt x="152" y="397"/>
                      </a:lnTo>
                      <a:lnTo>
                        <a:pt x="164" y="413"/>
                      </a:lnTo>
                      <a:lnTo>
                        <a:pt x="193" y="414"/>
                      </a:lnTo>
                      <a:lnTo>
                        <a:pt x="256" y="415"/>
                      </a:lnTo>
                      <a:lnTo>
                        <a:pt x="289" y="441"/>
                      </a:lnTo>
                      <a:lnTo>
                        <a:pt x="308" y="478"/>
                      </a:lnTo>
                      <a:lnTo>
                        <a:pt x="312" y="570"/>
                      </a:lnTo>
                      <a:lnTo>
                        <a:pt x="300" y="620"/>
                      </a:lnTo>
                      <a:lnTo>
                        <a:pt x="282" y="666"/>
                      </a:lnTo>
                      <a:lnTo>
                        <a:pt x="260" y="706"/>
                      </a:lnTo>
                      <a:lnTo>
                        <a:pt x="235" y="736"/>
                      </a:lnTo>
                      <a:lnTo>
                        <a:pt x="235" y="7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0" name=""/>
                <p:cNvGrpSpPr/>
                <p:nvPr/>
              </p:nvGrpSpPr>
              <p:grpSpPr>
                <a:xfrm>
                  <a:off x="4144320" y="3245760"/>
                  <a:ext cx="747720" cy="446400"/>
                  <a:chOff x="4144320" y="3245760"/>
                  <a:chExt cx="747720" cy="44640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 rot="976200">
                    <a:off x="4172040" y="3338640"/>
                    <a:ext cx="69912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9" h="1142">
                        <a:moveTo>
                          <a:pt x="0" y="1066"/>
                        </a:moveTo>
                        <a:lnTo>
                          <a:pt x="38" y="678"/>
                        </a:lnTo>
                        <a:lnTo>
                          <a:pt x="190" y="431"/>
                        </a:lnTo>
                        <a:lnTo>
                          <a:pt x="475" y="241"/>
                        </a:lnTo>
                        <a:lnTo>
                          <a:pt x="1006" y="50"/>
                        </a:lnTo>
                        <a:lnTo>
                          <a:pt x="1537" y="0"/>
                        </a:lnTo>
                        <a:lnTo>
                          <a:pt x="1918" y="197"/>
                        </a:lnTo>
                        <a:lnTo>
                          <a:pt x="2159" y="463"/>
                        </a:lnTo>
                        <a:lnTo>
                          <a:pt x="2007" y="666"/>
                        </a:lnTo>
                        <a:lnTo>
                          <a:pt x="1487" y="774"/>
                        </a:lnTo>
                        <a:lnTo>
                          <a:pt x="1184" y="336"/>
                        </a:lnTo>
                        <a:lnTo>
                          <a:pt x="519" y="628"/>
                        </a:lnTo>
                        <a:lnTo>
                          <a:pt x="411" y="1041"/>
                        </a:lnTo>
                        <a:lnTo>
                          <a:pt x="69" y="1142"/>
                        </a:lnTo>
                        <a:lnTo>
                          <a:pt x="0" y="1066"/>
                        </a:lnTo>
                        <a:lnTo>
                          <a:pt x="0" y="106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976200">
                    <a:off x="4221360" y="3388320"/>
                    <a:ext cx="62316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4" h="893">
                        <a:moveTo>
                          <a:pt x="12" y="856"/>
                        </a:moveTo>
                        <a:lnTo>
                          <a:pt x="45" y="551"/>
                        </a:lnTo>
                        <a:lnTo>
                          <a:pt x="153" y="406"/>
                        </a:lnTo>
                        <a:lnTo>
                          <a:pt x="253" y="412"/>
                        </a:lnTo>
                        <a:lnTo>
                          <a:pt x="247" y="298"/>
                        </a:lnTo>
                        <a:lnTo>
                          <a:pt x="431" y="171"/>
                        </a:lnTo>
                        <a:lnTo>
                          <a:pt x="754" y="51"/>
                        </a:lnTo>
                        <a:lnTo>
                          <a:pt x="1019" y="0"/>
                        </a:lnTo>
                        <a:lnTo>
                          <a:pt x="1183" y="70"/>
                        </a:lnTo>
                        <a:lnTo>
                          <a:pt x="1254" y="184"/>
                        </a:lnTo>
                        <a:lnTo>
                          <a:pt x="1348" y="279"/>
                        </a:lnTo>
                        <a:lnTo>
                          <a:pt x="1569" y="165"/>
                        </a:lnTo>
                        <a:lnTo>
                          <a:pt x="1741" y="190"/>
                        </a:lnTo>
                        <a:lnTo>
                          <a:pt x="1924" y="323"/>
                        </a:lnTo>
                        <a:lnTo>
                          <a:pt x="1500" y="532"/>
                        </a:lnTo>
                        <a:lnTo>
                          <a:pt x="1310" y="520"/>
                        </a:lnTo>
                        <a:lnTo>
                          <a:pt x="1069" y="215"/>
                        </a:lnTo>
                        <a:lnTo>
                          <a:pt x="879" y="221"/>
                        </a:lnTo>
                        <a:lnTo>
                          <a:pt x="398" y="476"/>
                        </a:lnTo>
                        <a:lnTo>
                          <a:pt x="361" y="665"/>
                        </a:lnTo>
                        <a:lnTo>
                          <a:pt x="323" y="843"/>
                        </a:lnTo>
                        <a:lnTo>
                          <a:pt x="0" y="893"/>
                        </a:lnTo>
                        <a:lnTo>
                          <a:pt x="12" y="856"/>
                        </a:lnTo>
                        <a:lnTo>
                          <a:pt x="12" y="856"/>
                        </a:lnTo>
                        <a:close/>
                      </a:path>
                    </a:pathLst>
                  </a:custGeom>
                  <a:solidFill>
                    <a:srgbClr val="a3a3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rot="976200">
                    <a:off x="4228200" y="3322440"/>
                    <a:ext cx="5515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4" h="657">
                        <a:moveTo>
                          <a:pt x="0" y="598"/>
                        </a:moveTo>
                        <a:lnTo>
                          <a:pt x="15" y="559"/>
                        </a:lnTo>
                        <a:lnTo>
                          <a:pt x="35" y="522"/>
                        </a:lnTo>
                        <a:lnTo>
                          <a:pt x="60" y="485"/>
                        </a:lnTo>
                        <a:lnTo>
                          <a:pt x="90" y="449"/>
                        </a:lnTo>
                        <a:lnTo>
                          <a:pt x="126" y="413"/>
                        </a:lnTo>
                        <a:lnTo>
                          <a:pt x="166" y="378"/>
                        </a:lnTo>
                        <a:lnTo>
                          <a:pt x="210" y="345"/>
                        </a:lnTo>
                        <a:lnTo>
                          <a:pt x="233" y="328"/>
                        </a:lnTo>
                        <a:lnTo>
                          <a:pt x="257" y="312"/>
                        </a:lnTo>
                        <a:lnTo>
                          <a:pt x="282" y="295"/>
                        </a:lnTo>
                        <a:lnTo>
                          <a:pt x="309" y="280"/>
                        </a:lnTo>
                        <a:lnTo>
                          <a:pt x="363" y="250"/>
                        </a:lnTo>
                        <a:lnTo>
                          <a:pt x="420" y="220"/>
                        </a:lnTo>
                        <a:lnTo>
                          <a:pt x="479" y="192"/>
                        </a:lnTo>
                        <a:lnTo>
                          <a:pt x="540" y="166"/>
                        </a:lnTo>
                        <a:lnTo>
                          <a:pt x="604" y="140"/>
                        </a:lnTo>
                        <a:lnTo>
                          <a:pt x="667" y="118"/>
                        </a:lnTo>
                        <a:lnTo>
                          <a:pt x="733" y="96"/>
                        </a:lnTo>
                        <a:lnTo>
                          <a:pt x="798" y="77"/>
                        </a:lnTo>
                        <a:lnTo>
                          <a:pt x="865" y="59"/>
                        </a:lnTo>
                        <a:lnTo>
                          <a:pt x="931" y="44"/>
                        </a:lnTo>
                        <a:lnTo>
                          <a:pt x="997" y="30"/>
                        </a:lnTo>
                        <a:lnTo>
                          <a:pt x="1127" y="11"/>
                        </a:lnTo>
                        <a:lnTo>
                          <a:pt x="1250" y="0"/>
                        </a:lnTo>
                        <a:lnTo>
                          <a:pt x="1470" y="12"/>
                        </a:lnTo>
                        <a:lnTo>
                          <a:pt x="1560" y="36"/>
                        </a:lnTo>
                        <a:lnTo>
                          <a:pt x="1634" y="72"/>
                        </a:lnTo>
                        <a:lnTo>
                          <a:pt x="1687" y="124"/>
                        </a:lnTo>
                        <a:lnTo>
                          <a:pt x="1704" y="173"/>
                        </a:lnTo>
                        <a:lnTo>
                          <a:pt x="1698" y="191"/>
                        </a:lnTo>
                        <a:lnTo>
                          <a:pt x="1682" y="203"/>
                        </a:lnTo>
                        <a:lnTo>
                          <a:pt x="1621" y="200"/>
                        </a:lnTo>
                        <a:lnTo>
                          <a:pt x="1517" y="173"/>
                        </a:lnTo>
                        <a:lnTo>
                          <a:pt x="1409" y="144"/>
                        </a:lnTo>
                        <a:lnTo>
                          <a:pt x="1319" y="124"/>
                        </a:lnTo>
                        <a:lnTo>
                          <a:pt x="1224" y="115"/>
                        </a:lnTo>
                        <a:lnTo>
                          <a:pt x="1028" y="128"/>
                        </a:lnTo>
                        <a:lnTo>
                          <a:pt x="835" y="173"/>
                        </a:lnTo>
                        <a:lnTo>
                          <a:pt x="744" y="202"/>
                        </a:lnTo>
                        <a:lnTo>
                          <a:pt x="659" y="234"/>
                        </a:lnTo>
                        <a:lnTo>
                          <a:pt x="586" y="264"/>
                        </a:lnTo>
                        <a:lnTo>
                          <a:pt x="521" y="291"/>
                        </a:lnTo>
                        <a:lnTo>
                          <a:pt x="467" y="313"/>
                        </a:lnTo>
                        <a:lnTo>
                          <a:pt x="419" y="333"/>
                        </a:lnTo>
                        <a:lnTo>
                          <a:pt x="342" y="369"/>
                        </a:lnTo>
                        <a:lnTo>
                          <a:pt x="284" y="402"/>
                        </a:lnTo>
                        <a:lnTo>
                          <a:pt x="234" y="441"/>
                        </a:lnTo>
                        <a:lnTo>
                          <a:pt x="186" y="489"/>
                        </a:lnTo>
                        <a:lnTo>
                          <a:pt x="160" y="519"/>
                        </a:lnTo>
                        <a:lnTo>
                          <a:pt x="130" y="553"/>
                        </a:lnTo>
                        <a:lnTo>
                          <a:pt x="96" y="593"/>
                        </a:lnTo>
                        <a:lnTo>
                          <a:pt x="59" y="639"/>
                        </a:lnTo>
                        <a:lnTo>
                          <a:pt x="34" y="657"/>
                        </a:lnTo>
                        <a:lnTo>
                          <a:pt x="11" y="653"/>
                        </a:lnTo>
                        <a:lnTo>
                          <a:pt x="0" y="598"/>
                        </a:lnTo>
                        <a:lnTo>
                          <a:pt x="0" y="5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rot="976200">
                    <a:off x="4157640" y="3398400"/>
                    <a:ext cx="71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0" h="912">
                        <a:moveTo>
                          <a:pt x="109" y="769"/>
                        </a:moveTo>
                        <a:lnTo>
                          <a:pt x="161" y="758"/>
                        </a:lnTo>
                        <a:lnTo>
                          <a:pt x="208" y="727"/>
                        </a:lnTo>
                        <a:lnTo>
                          <a:pt x="232" y="709"/>
                        </a:lnTo>
                        <a:lnTo>
                          <a:pt x="255" y="692"/>
                        </a:lnTo>
                        <a:lnTo>
                          <a:pt x="279" y="677"/>
                        </a:lnTo>
                        <a:lnTo>
                          <a:pt x="304" y="667"/>
                        </a:lnTo>
                        <a:lnTo>
                          <a:pt x="399" y="653"/>
                        </a:lnTo>
                        <a:lnTo>
                          <a:pt x="493" y="643"/>
                        </a:lnTo>
                        <a:lnTo>
                          <a:pt x="508" y="556"/>
                        </a:lnTo>
                        <a:lnTo>
                          <a:pt x="506" y="512"/>
                        </a:lnTo>
                        <a:lnTo>
                          <a:pt x="508" y="466"/>
                        </a:lnTo>
                        <a:lnTo>
                          <a:pt x="518" y="430"/>
                        </a:lnTo>
                        <a:lnTo>
                          <a:pt x="538" y="393"/>
                        </a:lnTo>
                        <a:lnTo>
                          <a:pt x="565" y="354"/>
                        </a:lnTo>
                        <a:lnTo>
                          <a:pt x="600" y="317"/>
                        </a:lnTo>
                        <a:lnTo>
                          <a:pt x="642" y="281"/>
                        </a:lnTo>
                        <a:lnTo>
                          <a:pt x="688" y="245"/>
                        </a:lnTo>
                        <a:lnTo>
                          <a:pt x="713" y="227"/>
                        </a:lnTo>
                        <a:lnTo>
                          <a:pt x="738" y="210"/>
                        </a:lnTo>
                        <a:lnTo>
                          <a:pt x="764" y="194"/>
                        </a:lnTo>
                        <a:lnTo>
                          <a:pt x="792" y="178"/>
                        </a:lnTo>
                        <a:lnTo>
                          <a:pt x="847" y="148"/>
                        </a:lnTo>
                        <a:lnTo>
                          <a:pt x="902" y="120"/>
                        </a:lnTo>
                        <a:lnTo>
                          <a:pt x="958" y="95"/>
                        </a:lnTo>
                        <a:lnTo>
                          <a:pt x="1011" y="75"/>
                        </a:lnTo>
                        <a:lnTo>
                          <a:pt x="1062" y="58"/>
                        </a:lnTo>
                        <a:lnTo>
                          <a:pt x="1110" y="45"/>
                        </a:lnTo>
                        <a:lnTo>
                          <a:pt x="1189" y="35"/>
                        </a:lnTo>
                        <a:lnTo>
                          <a:pt x="1254" y="42"/>
                        </a:lnTo>
                        <a:lnTo>
                          <a:pt x="1303" y="64"/>
                        </a:lnTo>
                        <a:lnTo>
                          <a:pt x="1369" y="135"/>
                        </a:lnTo>
                        <a:lnTo>
                          <a:pt x="1412" y="230"/>
                        </a:lnTo>
                        <a:lnTo>
                          <a:pt x="1434" y="281"/>
                        </a:lnTo>
                        <a:lnTo>
                          <a:pt x="1459" y="330"/>
                        </a:lnTo>
                        <a:lnTo>
                          <a:pt x="1476" y="352"/>
                        </a:lnTo>
                        <a:lnTo>
                          <a:pt x="1495" y="367"/>
                        </a:lnTo>
                        <a:lnTo>
                          <a:pt x="1543" y="377"/>
                        </a:lnTo>
                        <a:lnTo>
                          <a:pt x="1660" y="350"/>
                        </a:lnTo>
                        <a:lnTo>
                          <a:pt x="1723" y="321"/>
                        </a:lnTo>
                        <a:lnTo>
                          <a:pt x="1782" y="291"/>
                        </a:lnTo>
                        <a:lnTo>
                          <a:pt x="1833" y="262"/>
                        </a:lnTo>
                        <a:lnTo>
                          <a:pt x="1875" y="243"/>
                        </a:lnTo>
                        <a:lnTo>
                          <a:pt x="2036" y="176"/>
                        </a:lnTo>
                        <a:lnTo>
                          <a:pt x="2016" y="120"/>
                        </a:lnTo>
                        <a:lnTo>
                          <a:pt x="1999" y="98"/>
                        </a:lnTo>
                        <a:lnTo>
                          <a:pt x="1977" y="76"/>
                        </a:lnTo>
                        <a:lnTo>
                          <a:pt x="1940" y="34"/>
                        </a:lnTo>
                        <a:lnTo>
                          <a:pt x="1944" y="9"/>
                        </a:lnTo>
                        <a:lnTo>
                          <a:pt x="1978" y="0"/>
                        </a:lnTo>
                        <a:lnTo>
                          <a:pt x="2031" y="9"/>
                        </a:lnTo>
                        <a:lnTo>
                          <a:pt x="2092" y="35"/>
                        </a:lnTo>
                        <a:lnTo>
                          <a:pt x="2150" y="77"/>
                        </a:lnTo>
                        <a:lnTo>
                          <a:pt x="2193" y="138"/>
                        </a:lnTo>
                        <a:lnTo>
                          <a:pt x="2210" y="216"/>
                        </a:lnTo>
                        <a:lnTo>
                          <a:pt x="2194" y="293"/>
                        </a:lnTo>
                        <a:lnTo>
                          <a:pt x="2174" y="327"/>
                        </a:lnTo>
                        <a:lnTo>
                          <a:pt x="2149" y="358"/>
                        </a:lnTo>
                        <a:lnTo>
                          <a:pt x="2116" y="387"/>
                        </a:lnTo>
                        <a:lnTo>
                          <a:pt x="2079" y="413"/>
                        </a:lnTo>
                        <a:lnTo>
                          <a:pt x="2040" y="436"/>
                        </a:lnTo>
                        <a:lnTo>
                          <a:pt x="1996" y="458"/>
                        </a:lnTo>
                        <a:lnTo>
                          <a:pt x="1951" y="476"/>
                        </a:lnTo>
                        <a:lnTo>
                          <a:pt x="1904" y="491"/>
                        </a:lnTo>
                        <a:lnTo>
                          <a:pt x="1812" y="517"/>
                        </a:lnTo>
                        <a:lnTo>
                          <a:pt x="1725" y="532"/>
                        </a:lnTo>
                        <a:lnTo>
                          <a:pt x="1653" y="539"/>
                        </a:lnTo>
                        <a:lnTo>
                          <a:pt x="1543" y="526"/>
                        </a:lnTo>
                        <a:lnTo>
                          <a:pt x="1466" y="484"/>
                        </a:lnTo>
                        <a:lnTo>
                          <a:pt x="1413" y="423"/>
                        </a:lnTo>
                        <a:lnTo>
                          <a:pt x="1375" y="352"/>
                        </a:lnTo>
                        <a:lnTo>
                          <a:pt x="1343" y="280"/>
                        </a:lnTo>
                        <a:lnTo>
                          <a:pt x="1307" y="218"/>
                        </a:lnTo>
                        <a:lnTo>
                          <a:pt x="1285" y="192"/>
                        </a:lnTo>
                        <a:lnTo>
                          <a:pt x="1260" y="173"/>
                        </a:lnTo>
                        <a:lnTo>
                          <a:pt x="1229" y="161"/>
                        </a:lnTo>
                        <a:lnTo>
                          <a:pt x="1190" y="156"/>
                        </a:lnTo>
                        <a:lnTo>
                          <a:pt x="1057" y="192"/>
                        </a:lnTo>
                        <a:lnTo>
                          <a:pt x="1010" y="212"/>
                        </a:lnTo>
                        <a:lnTo>
                          <a:pt x="961" y="232"/>
                        </a:lnTo>
                        <a:lnTo>
                          <a:pt x="911" y="256"/>
                        </a:lnTo>
                        <a:lnTo>
                          <a:pt x="860" y="280"/>
                        </a:lnTo>
                        <a:lnTo>
                          <a:pt x="811" y="306"/>
                        </a:lnTo>
                        <a:lnTo>
                          <a:pt x="763" y="333"/>
                        </a:lnTo>
                        <a:lnTo>
                          <a:pt x="720" y="359"/>
                        </a:lnTo>
                        <a:lnTo>
                          <a:pt x="680" y="386"/>
                        </a:lnTo>
                        <a:lnTo>
                          <a:pt x="595" y="478"/>
                        </a:lnTo>
                        <a:lnTo>
                          <a:pt x="592" y="551"/>
                        </a:lnTo>
                        <a:lnTo>
                          <a:pt x="601" y="614"/>
                        </a:lnTo>
                        <a:lnTo>
                          <a:pt x="620" y="713"/>
                        </a:lnTo>
                        <a:lnTo>
                          <a:pt x="612" y="754"/>
                        </a:lnTo>
                        <a:lnTo>
                          <a:pt x="599" y="775"/>
                        </a:lnTo>
                        <a:lnTo>
                          <a:pt x="578" y="794"/>
                        </a:lnTo>
                        <a:lnTo>
                          <a:pt x="550" y="814"/>
                        </a:lnTo>
                        <a:lnTo>
                          <a:pt x="510" y="834"/>
                        </a:lnTo>
                        <a:lnTo>
                          <a:pt x="460" y="854"/>
                        </a:lnTo>
                        <a:lnTo>
                          <a:pt x="399" y="876"/>
                        </a:lnTo>
                        <a:lnTo>
                          <a:pt x="310" y="898"/>
                        </a:lnTo>
                        <a:lnTo>
                          <a:pt x="209" y="912"/>
                        </a:lnTo>
                        <a:lnTo>
                          <a:pt x="112" y="902"/>
                        </a:lnTo>
                        <a:lnTo>
                          <a:pt x="31" y="859"/>
                        </a:lnTo>
                        <a:lnTo>
                          <a:pt x="5" y="807"/>
                        </a:lnTo>
                        <a:lnTo>
                          <a:pt x="0" y="735"/>
                        </a:lnTo>
                        <a:lnTo>
                          <a:pt x="12" y="656"/>
                        </a:lnTo>
                        <a:lnTo>
                          <a:pt x="35" y="579"/>
                        </a:lnTo>
                        <a:lnTo>
                          <a:pt x="64" y="514"/>
                        </a:lnTo>
                        <a:lnTo>
                          <a:pt x="90" y="473"/>
                        </a:lnTo>
                        <a:lnTo>
                          <a:pt x="109" y="466"/>
                        </a:lnTo>
                        <a:lnTo>
                          <a:pt x="115" y="505"/>
                        </a:lnTo>
                        <a:lnTo>
                          <a:pt x="109" y="769"/>
                        </a:lnTo>
                        <a:lnTo>
                          <a:pt x="109" y="7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>
                  <a:off x="4054320" y="3422880"/>
                  <a:ext cx="514440" cy="249840"/>
                </a:xfrm>
                <a:custGeom>
                  <a:avLst/>
                  <a:gdLst/>
                  <a:ahLst/>
                  <a:rect l="l" t="t" r="r" b="b"/>
                  <a:pathLst>
                    <a:path w="1591" h="1150">
                      <a:moveTo>
                        <a:pt x="634" y="144"/>
                      </a:moveTo>
                      <a:lnTo>
                        <a:pt x="609" y="304"/>
                      </a:lnTo>
                      <a:lnTo>
                        <a:pt x="592" y="381"/>
                      </a:lnTo>
                      <a:lnTo>
                        <a:pt x="573" y="456"/>
                      </a:lnTo>
                      <a:lnTo>
                        <a:pt x="549" y="530"/>
                      </a:lnTo>
                      <a:lnTo>
                        <a:pt x="520" y="603"/>
                      </a:lnTo>
                      <a:lnTo>
                        <a:pt x="503" y="639"/>
                      </a:lnTo>
                      <a:lnTo>
                        <a:pt x="484" y="675"/>
                      </a:lnTo>
                      <a:lnTo>
                        <a:pt x="463" y="710"/>
                      </a:lnTo>
                      <a:lnTo>
                        <a:pt x="441" y="746"/>
                      </a:lnTo>
                      <a:lnTo>
                        <a:pt x="409" y="790"/>
                      </a:lnTo>
                      <a:lnTo>
                        <a:pt x="389" y="817"/>
                      </a:lnTo>
                      <a:lnTo>
                        <a:pt x="367" y="845"/>
                      </a:lnTo>
                      <a:lnTo>
                        <a:pt x="343" y="875"/>
                      </a:lnTo>
                      <a:lnTo>
                        <a:pt x="317" y="907"/>
                      </a:lnTo>
                      <a:lnTo>
                        <a:pt x="291" y="938"/>
                      </a:lnTo>
                      <a:lnTo>
                        <a:pt x="263" y="969"/>
                      </a:lnTo>
                      <a:lnTo>
                        <a:pt x="235" y="1000"/>
                      </a:lnTo>
                      <a:lnTo>
                        <a:pt x="207" y="1029"/>
                      </a:lnTo>
                      <a:lnTo>
                        <a:pt x="179" y="1057"/>
                      </a:lnTo>
                      <a:lnTo>
                        <a:pt x="152" y="1082"/>
                      </a:lnTo>
                      <a:lnTo>
                        <a:pt x="100" y="1123"/>
                      </a:lnTo>
                      <a:lnTo>
                        <a:pt x="56" y="1147"/>
                      </a:lnTo>
                      <a:lnTo>
                        <a:pt x="24" y="1150"/>
                      </a:lnTo>
                      <a:lnTo>
                        <a:pt x="5" y="1139"/>
                      </a:lnTo>
                      <a:lnTo>
                        <a:pt x="0" y="1118"/>
                      </a:lnTo>
                      <a:lnTo>
                        <a:pt x="12" y="1089"/>
                      </a:lnTo>
                      <a:lnTo>
                        <a:pt x="41" y="1049"/>
                      </a:lnTo>
                      <a:lnTo>
                        <a:pt x="71" y="1012"/>
                      </a:lnTo>
                      <a:lnTo>
                        <a:pt x="101" y="976"/>
                      </a:lnTo>
                      <a:lnTo>
                        <a:pt x="132" y="941"/>
                      </a:lnTo>
                      <a:lnTo>
                        <a:pt x="164" y="908"/>
                      </a:lnTo>
                      <a:lnTo>
                        <a:pt x="195" y="875"/>
                      </a:lnTo>
                      <a:lnTo>
                        <a:pt x="225" y="842"/>
                      </a:lnTo>
                      <a:lnTo>
                        <a:pt x="255" y="808"/>
                      </a:lnTo>
                      <a:lnTo>
                        <a:pt x="285" y="773"/>
                      </a:lnTo>
                      <a:lnTo>
                        <a:pt x="312" y="739"/>
                      </a:lnTo>
                      <a:lnTo>
                        <a:pt x="339" y="701"/>
                      </a:lnTo>
                      <a:lnTo>
                        <a:pt x="364" y="663"/>
                      </a:lnTo>
                      <a:lnTo>
                        <a:pt x="407" y="579"/>
                      </a:lnTo>
                      <a:lnTo>
                        <a:pt x="441" y="482"/>
                      </a:lnTo>
                      <a:lnTo>
                        <a:pt x="459" y="392"/>
                      </a:lnTo>
                      <a:lnTo>
                        <a:pt x="481" y="263"/>
                      </a:lnTo>
                      <a:lnTo>
                        <a:pt x="505" y="142"/>
                      </a:lnTo>
                      <a:lnTo>
                        <a:pt x="527" y="72"/>
                      </a:lnTo>
                      <a:lnTo>
                        <a:pt x="555" y="43"/>
                      </a:lnTo>
                      <a:lnTo>
                        <a:pt x="589" y="22"/>
                      </a:lnTo>
                      <a:lnTo>
                        <a:pt x="631" y="7"/>
                      </a:lnTo>
                      <a:lnTo>
                        <a:pt x="676" y="0"/>
                      </a:lnTo>
                      <a:lnTo>
                        <a:pt x="763" y="9"/>
                      </a:lnTo>
                      <a:lnTo>
                        <a:pt x="833" y="49"/>
                      </a:lnTo>
                      <a:lnTo>
                        <a:pt x="868" y="87"/>
                      </a:lnTo>
                      <a:lnTo>
                        <a:pt x="899" y="113"/>
                      </a:lnTo>
                      <a:lnTo>
                        <a:pt x="928" y="131"/>
                      </a:lnTo>
                      <a:lnTo>
                        <a:pt x="956" y="143"/>
                      </a:lnTo>
                      <a:lnTo>
                        <a:pt x="1112" y="161"/>
                      </a:lnTo>
                      <a:lnTo>
                        <a:pt x="1341" y="183"/>
                      </a:lnTo>
                      <a:lnTo>
                        <a:pt x="1559" y="222"/>
                      </a:lnTo>
                      <a:lnTo>
                        <a:pt x="1591" y="262"/>
                      </a:lnTo>
                      <a:lnTo>
                        <a:pt x="1580" y="281"/>
                      </a:lnTo>
                      <a:lnTo>
                        <a:pt x="1551" y="294"/>
                      </a:lnTo>
                      <a:lnTo>
                        <a:pt x="1452" y="309"/>
                      </a:lnTo>
                      <a:lnTo>
                        <a:pt x="1328" y="316"/>
                      </a:lnTo>
                      <a:lnTo>
                        <a:pt x="1100" y="314"/>
                      </a:lnTo>
                      <a:lnTo>
                        <a:pt x="1027" y="297"/>
                      </a:lnTo>
                      <a:lnTo>
                        <a:pt x="958" y="265"/>
                      </a:lnTo>
                      <a:lnTo>
                        <a:pt x="924" y="246"/>
                      </a:lnTo>
                      <a:lnTo>
                        <a:pt x="890" y="226"/>
                      </a:lnTo>
                      <a:lnTo>
                        <a:pt x="859" y="205"/>
                      </a:lnTo>
                      <a:lnTo>
                        <a:pt x="828" y="185"/>
                      </a:lnTo>
                      <a:lnTo>
                        <a:pt x="798" y="166"/>
                      </a:lnTo>
                      <a:lnTo>
                        <a:pt x="770" y="149"/>
                      </a:lnTo>
                      <a:lnTo>
                        <a:pt x="718" y="126"/>
                      </a:lnTo>
                      <a:lnTo>
                        <a:pt x="672" y="121"/>
                      </a:lnTo>
                      <a:lnTo>
                        <a:pt x="634" y="144"/>
                      </a:lnTo>
                      <a:lnTo>
                        <a:pt x="63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588560" y="3432600"/>
                  <a:ext cx="176040" cy="68400"/>
                </a:xfrm>
                <a:custGeom>
                  <a:avLst/>
                  <a:gdLst/>
                  <a:ahLst/>
                  <a:rect l="l" t="t" r="r" b="b"/>
                  <a:pathLst>
                    <a:path w="543" h="315">
                      <a:moveTo>
                        <a:pt x="9" y="171"/>
                      </a:moveTo>
                      <a:lnTo>
                        <a:pt x="39" y="130"/>
                      </a:lnTo>
                      <a:lnTo>
                        <a:pt x="59" y="104"/>
                      </a:lnTo>
                      <a:lnTo>
                        <a:pt x="79" y="78"/>
                      </a:lnTo>
                      <a:lnTo>
                        <a:pt x="102" y="51"/>
                      </a:lnTo>
                      <a:lnTo>
                        <a:pt x="123" y="28"/>
                      </a:lnTo>
                      <a:lnTo>
                        <a:pt x="144" y="10"/>
                      </a:lnTo>
                      <a:lnTo>
                        <a:pt x="162" y="0"/>
                      </a:lnTo>
                      <a:lnTo>
                        <a:pt x="231" y="2"/>
                      </a:lnTo>
                      <a:lnTo>
                        <a:pt x="300" y="18"/>
                      </a:lnTo>
                      <a:lnTo>
                        <a:pt x="334" y="44"/>
                      </a:lnTo>
                      <a:lnTo>
                        <a:pt x="357" y="88"/>
                      </a:lnTo>
                      <a:lnTo>
                        <a:pt x="375" y="138"/>
                      </a:lnTo>
                      <a:lnTo>
                        <a:pt x="394" y="177"/>
                      </a:lnTo>
                      <a:lnTo>
                        <a:pt x="433" y="186"/>
                      </a:lnTo>
                      <a:lnTo>
                        <a:pt x="475" y="175"/>
                      </a:lnTo>
                      <a:lnTo>
                        <a:pt x="526" y="196"/>
                      </a:lnTo>
                      <a:lnTo>
                        <a:pt x="543" y="246"/>
                      </a:lnTo>
                      <a:lnTo>
                        <a:pt x="540" y="271"/>
                      </a:lnTo>
                      <a:lnTo>
                        <a:pt x="526" y="294"/>
                      </a:lnTo>
                      <a:lnTo>
                        <a:pt x="505" y="309"/>
                      </a:lnTo>
                      <a:lnTo>
                        <a:pt x="475" y="315"/>
                      </a:lnTo>
                      <a:lnTo>
                        <a:pt x="364" y="306"/>
                      </a:lnTo>
                      <a:lnTo>
                        <a:pt x="315" y="284"/>
                      </a:lnTo>
                      <a:lnTo>
                        <a:pt x="278" y="242"/>
                      </a:lnTo>
                      <a:lnTo>
                        <a:pt x="264" y="166"/>
                      </a:lnTo>
                      <a:lnTo>
                        <a:pt x="253" y="129"/>
                      </a:lnTo>
                      <a:lnTo>
                        <a:pt x="230" y="109"/>
                      </a:lnTo>
                      <a:lnTo>
                        <a:pt x="174" y="112"/>
                      </a:lnTo>
                      <a:lnTo>
                        <a:pt x="132" y="142"/>
                      </a:lnTo>
                      <a:lnTo>
                        <a:pt x="96" y="184"/>
                      </a:lnTo>
                      <a:lnTo>
                        <a:pt x="61" y="222"/>
                      </a:lnTo>
                      <a:lnTo>
                        <a:pt x="32" y="233"/>
                      </a:lnTo>
                      <a:lnTo>
                        <a:pt x="11" y="224"/>
                      </a:lnTo>
                      <a:lnTo>
                        <a:pt x="0" y="20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031640" y="3692520"/>
                  <a:ext cx="815760" cy="126000"/>
                </a:xfrm>
                <a:custGeom>
                  <a:avLst/>
                  <a:gdLst/>
                  <a:ahLst/>
                  <a:rect l="l" t="t" r="r" b="b"/>
                  <a:pathLst>
                    <a:path w="2521" h="578">
                      <a:moveTo>
                        <a:pt x="120" y="218"/>
                      </a:moveTo>
                      <a:lnTo>
                        <a:pt x="627" y="246"/>
                      </a:lnTo>
                      <a:lnTo>
                        <a:pt x="1133" y="278"/>
                      </a:lnTo>
                      <a:lnTo>
                        <a:pt x="1282" y="304"/>
                      </a:lnTo>
                      <a:lnTo>
                        <a:pt x="1393" y="327"/>
                      </a:lnTo>
                      <a:lnTo>
                        <a:pt x="1511" y="352"/>
                      </a:lnTo>
                      <a:lnTo>
                        <a:pt x="1625" y="378"/>
                      </a:lnTo>
                      <a:lnTo>
                        <a:pt x="1721" y="399"/>
                      </a:lnTo>
                      <a:lnTo>
                        <a:pt x="1812" y="421"/>
                      </a:lnTo>
                      <a:lnTo>
                        <a:pt x="1875" y="402"/>
                      </a:lnTo>
                      <a:lnTo>
                        <a:pt x="1915" y="385"/>
                      </a:lnTo>
                      <a:lnTo>
                        <a:pt x="1958" y="364"/>
                      </a:lnTo>
                      <a:lnTo>
                        <a:pt x="2005" y="342"/>
                      </a:lnTo>
                      <a:lnTo>
                        <a:pt x="2053" y="315"/>
                      </a:lnTo>
                      <a:lnTo>
                        <a:pt x="2103" y="288"/>
                      </a:lnTo>
                      <a:lnTo>
                        <a:pt x="2152" y="259"/>
                      </a:lnTo>
                      <a:lnTo>
                        <a:pt x="2203" y="229"/>
                      </a:lnTo>
                      <a:lnTo>
                        <a:pt x="2251" y="200"/>
                      </a:lnTo>
                      <a:lnTo>
                        <a:pt x="2298" y="171"/>
                      </a:lnTo>
                      <a:lnTo>
                        <a:pt x="2341" y="145"/>
                      </a:lnTo>
                      <a:lnTo>
                        <a:pt x="2380" y="121"/>
                      </a:lnTo>
                      <a:lnTo>
                        <a:pt x="2415" y="99"/>
                      </a:lnTo>
                      <a:lnTo>
                        <a:pt x="2445" y="81"/>
                      </a:lnTo>
                      <a:lnTo>
                        <a:pt x="2468" y="68"/>
                      </a:lnTo>
                      <a:lnTo>
                        <a:pt x="2504" y="51"/>
                      </a:lnTo>
                      <a:lnTo>
                        <a:pt x="2521" y="50"/>
                      </a:lnTo>
                      <a:lnTo>
                        <a:pt x="2516" y="81"/>
                      </a:lnTo>
                      <a:lnTo>
                        <a:pt x="2501" y="105"/>
                      </a:lnTo>
                      <a:lnTo>
                        <a:pt x="2483" y="129"/>
                      </a:lnTo>
                      <a:lnTo>
                        <a:pt x="2455" y="162"/>
                      </a:lnTo>
                      <a:lnTo>
                        <a:pt x="2406" y="200"/>
                      </a:lnTo>
                      <a:lnTo>
                        <a:pt x="2371" y="226"/>
                      </a:lnTo>
                      <a:lnTo>
                        <a:pt x="2331" y="256"/>
                      </a:lnTo>
                      <a:lnTo>
                        <a:pt x="2310" y="272"/>
                      </a:lnTo>
                      <a:lnTo>
                        <a:pt x="2287" y="289"/>
                      </a:lnTo>
                      <a:lnTo>
                        <a:pt x="2263" y="306"/>
                      </a:lnTo>
                      <a:lnTo>
                        <a:pt x="2239" y="322"/>
                      </a:lnTo>
                      <a:lnTo>
                        <a:pt x="2215" y="340"/>
                      </a:lnTo>
                      <a:lnTo>
                        <a:pt x="2190" y="358"/>
                      </a:lnTo>
                      <a:lnTo>
                        <a:pt x="2164" y="376"/>
                      </a:lnTo>
                      <a:lnTo>
                        <a:pt x="2139" y="393"/>
                      </a:lnTo>
                      <a:lnTo>
                        <a:pt x="2114" y="411"/>
                      </a:lnTo>
                      <a:lnTo>
                        <a:pt x="2089" y="428"/>
                      </a:lnTo>
                      <a:lnTo>
                        <a:pt x="2064" y="445"/>
                      </a:lnTo>
                      <a:lnTo>
                        <a:pt x="2040" y="461"/>
                      </a:lnTo>
                      <a:lnTo>
                        <a:pt x="1992" y="492"/>
                      </a:lnTo>
                      <a:lnTo>
                        <a:pt x="1948" y="519"/>
                      </a:lnTo>
                      <a:lnTo>
                        <a:pt x="1909" y="542"/>
                      </a:lnTo>
                      <a:lnTo>
                        <a:pt x="1875" y="560"/>
                      </a:lnTo>
                      <a:lnTo>
                        <a:pt x="1829" y="578"/>
                      </a:lnTo>
                      <a:lnTo>
                        <a:pt x="1721" y="557"/>
                      </a:lnTo>
                      <a:lnTo>
                        <a:pt x="1623" y="533"/>
                      </a:lnTo>
                      <a:lnTo>
                        <a:pt x="1512" y="505"/>
                      </a:lnTo>
                      <a:lnTo>
                        <a:pt x="1395" y="475"/>
                      </a:lnTo>
                      <a:lnTo>
                        <a:pt x="1285" y="449"/>
                      </a:lnTo>
                      <a:lnTo>
                        <a:pt x="1190" y="428"/>
                      </a:lnTo>
                      <a:lnTo>
                        <a:pt x="1123" y="419"/>
                      </a:lnTo>
                      <a:lnTo>
                        <a:pt x="377" y="386"/>
                      </a:lnTo>
                      <a:lnTo>
                        <a:pt x="220" y="356"/>
                      </a:lnTo>
                      <a:lnTo>
                        <a:pt x="142" y="343"/>
                      </a:lnTo>
                      <a:lnTo>
                        <a:pt x="63" y="337"/>
                      </a:lnTo>
                      <a:lnTo>
                        <a:pt x="17" y="301"/>
                      </a:lnTo>
                      <a:lnTo>
                        <a:pt x="3" y="217"/>
                      </a:lnTo>
                      <a:lnTo>
                        <a:pt x="0" y="52"/>
                      </a:lnTo>
                      <a:lnTo>
                        <a:pt x="0" y="16"/>
                      </a:lnTo>
                      <a:lnTo>
                        <a:pt x="9" y="0"/>
                      </a:lnTo>
                      <a:lnTo>
                        <a:pt x="47" y="19"/>
                      </a:lnTo>
                      <a:lnTo>
                        <a:pt x="92" y="97"/>
                      </a:lnTo>
                      <a:lnTo>
                        <a:pt x="120" y="218"/>
                      </a:lnTo>
                      <a:lnTo>
                        <a:pt x="12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2840" y="3511800"/>
                  <a:ext cx="343080" cy="189360"/>
                </a:xfrm>
                <a:custGeom>
                  <a:avLst/>
                  <a:gdLst/>
                  <a:ahLst/>
                  <a:rect l="l" t="t" r="r" b="b"/>
                  <a:pathLst>
                    <a:path w="1057" h="868">
                      <a:moveTo>
                        <a:pt x="685" y="195"/>
                      </a:moveTo>
                      <a:lnTo>
                        <a:pt x="653" y="151"/>
                      </a:lnTo>
                      <a:lnTo>
                        <a:pt x="613" y="115"/>
                      </a:lnTo>
                      <a:lnTo>
                        <a:pt x="570" y="98"/>
                      </a:lnTo>
                      <a:lnTo>
                        <a:pt x="524" y="86"/>
                      </a:lnTo>
                      <a:lnTo>
                        <a:pt x="433" y="80"/>
                      </a:lnTo>
                      <a:lnTo>
                        <a:pt x="343" y="96"/>
                      </a:lnTo>
                      <a:lnTo>
                        <a:pt x="260" y="131"/>
                      </a:lnTo>
                      <a:lnTo>
                        <a:pt x="223" y="156"/>
                      </a:lnTo>
                      <a:lnTo>
                        <a:pt x="189" y="185"/>
                      </a:lnTo>
                      <a:lnTo>
                        <a:pt x="134" y="254"/>
                      </a:lnTo>
                      <a:lnTo>
                        <a:pt x="102" y="338"/>
                      </a:lnTo>
                      <a:lnTo>
                        <a:pt x="96" y="434"/>
                      </a:lnTo>
                      <a:lnTo>
                        <a:pt x="108" y="496"/>
                      </a:lnTo>
                      <a:lnTo>
                        <a:pt x="133" y="548"/>
                      </a:lnTo>
                      <a:lnTo>
                        <a:pt x="150" y="572"/>
                      </a:lnTo>
                      <a:lnTo>
                        <a:pt x="169" y="593"/>
                      </a:lnTo>
                      <a:lnTo>
                        <a:pt x="213" y="629"/>
                      </a:lnTo>
                      <a:lnTo>
                        <a:pt x="238" y="644"/>
                      </a:lnTo>
                      <a:lnTo>
                        <a:pt x="266" y="656"/>
                      </a:lnTo>
                      <a:lnTo>
                        <a:pt x="325" y="678"/>
                      </a:lnTo>
                      <a:lnTo>
                        <a:pt x="387" y="691"/>
                      </a:lnTo>
                      <a:lnTo>
                        <a:pt x="452" y="698"/>
                      </a:lnTo>
                      <a:lnTo>
                        <a:pt x="582" y="694"/>
                      </a:lnTo>
                      <a:lnTo>
                        <a:pt x="701" y="668"/>
                      </a:lnTo>
                      <a:lnTo>
                        <a:pt x="797" y="625"/>
                      </a:lnTo>
                      <a:lnTo>
                        <a:pt x="855" y="568"/>
                      </a:lnTo>
                      <a:lnTo>
                        <a:pt x="878" y="510"/>
                      </a:lnTo>
                      <a:lnTo>
                        <a:pt x="874" y="470"/>
                      </a:lnTo>
                      <a:lnTo>
                        <a:pt x="850" y="434"/>
                      </a:lnTo>
                      <a:lnTo>
                        <a:pt x="815" y="390"/>
                      </a:lnTo>
                      <a:lnTo>
                        <a:pt x="820" y="360"/>
                      </a:lnTo>
                      <a:lnTo>
                        <a:pt x="841" y="348"/>
                      </a:lnTo>
                      <a:lnTo>
                        <a:pt x="866" y="337"/>
                      </a:lnTo>
                      <a:lnTo>
                        <a:pt x="923" y="325"/>
                      </a:lnTo>
                      <a:lnTo>
                        <a:pt x="967" y="332"/>
                      </a:lnTo>
                      <a:lnTo>
                        <a:pt x="1029" y="396"/>
                      </a:lnTo>
                      <a:lnTo>
                        <a:pt x="1057" y="467"/>
                      </a:lnTo>
                      <a:lnTo>
                        <a:pt x="1054" y="540"/>
                      </a:lnTo>
                      <a:lnTo>
                        <a:pt x="1043" y="577"/>
                      </a:lnTo>
                      <a:lnTo>
                        <a:pt x="1027" y="613"/>
                      </a:lnTo>
                      <a:lnTo>
                        <a:pt x="1006" y="648"/>
                      </a:lnTo>
                      <a:lnTo>
                        <a:pt x="981" y="682"/>
                      </a:lnTo>
                      <a:lnTo>
                        <a:pt x="952" y="713"/>
                      </a:lnTo>
                      <a:lnTo>
                        <a:pt x="922" y="742"/>
                      </a:lnTo>
                      <a:lnTo>
                        <a:pt x="889" y="768"/>
                      </a:lnTo>
                      <a:lnTo>
                        <a:pt x="855" y="791"/>
                      </a:lnTo>
                      <a:lnTo>
                        <a:pt x="820" y="810"/>
                      </a:lnTo>
                      <a:lnTo>
                        <a:pt x="785" y="823"/>
                      </a:lnTo>
                      <a:lnTo>
                        <a:pt x="728" y="841"/>
                      </a:lnTo>
                      <a:lnTo>
                        <a:pt x="667" y="855"/>
                      </a:lnTo>
                      <a:lnTo>
                        <a:pt x="540" y="868"/>
                      </a:lnTo>
                      <a:lnTo>
                        <a:pt x="412" y="861"/>
                      </a:lnTo>
                      <a:lnTo>
                        <a:pt x="290" y="833"/>
                      </a:lnTo>
                      <a:lnTo>
                        <a:pt x="234" y="810"/>
                      </a:lnTo>
                      <a:lnTo>
                        <a:pt x="181" y="781"/>
                      </a:lnTo>
                      <a:lnTo>
                        <a:pt x="92" y="704"/>
                      </a:lnTo>
                      <a:lnTo>
                        <a:pt x="30" y="601"/>
                      </a:lnTo>
                      <a:lnTo>
                        <a:pt x="0" y="470"/>
                      </a:lnTo>
                      <a:lnTo>
                        <a:pt x="7" y="324"/>
                      </a:lnTo>
                      <a:lnTo>
                        <a:pt x="24" y="260"/>
                      </a:lnTo>
                      <a:lnTo>
                        <a:pt x="47" y="204"/>
                      </a:lnTo>
                      <a:lnTo>
                        <a:pt x="78" y="155"/>
                      </a:lnTo>
                      <a:lnTo>
                        <a:pt x="114" y="113"/>
                      </a:lnTo>
                      <a:lnTo>
                        <a:pt x="157" y="77"/>
                      </a:lnTo>
                      <a:lnTo>
                        <a:pt x="180" y="61"/>
                      </a:lnTo>
                      <a:lnTo>
                        <a:pt x="204" y="47"/>
                      </a:lnTo>
                      <a:lnTo>
                        <a:pt x="255" y="25"/>
                      </a:lnTo>
                      <a:lnTo>
                        <a:pt x="310" y="9"/>
                      </a:lnTo>
                      <a:lnTo>
                        <a:pt x="430" y="0"/>
                      </a:lnTo>
                      <a:lnTo>
                        <a:pt x="556" y="18"/>
                      </a:lnTo>
                      <a:lnTo>
                        <a:pt x="686" y="65"/>
                      </a:lnTo>
                      <a:lnTo>
                        <a:pt x="794" y="101"/>
                      </a:lnTo>
                      <a:lnTo>
                        <a:pt x="811" y="143"/>
                      </a:lnTo>
                      <a:lnTo>
                        <a:pt x="803" y="168"/>
                      </a:lnTo>
                      <a:lnTo>
                        <a:pt x="789" y="191"/>
                      </a:lnTo>
                      <a:lnTo>
                        <a:pt x="767" y="209"/>
                      </a:lnTo>
                      <a:lnTo>
                        <a:pt x="741" y="218"/>
                      </a:lnTo>
                      <a:lnTo>
                        <a:pt x="685" y="195"/>
                      </a:lnTo>
                      <a:lnTo>
                        <a:pt x="685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466880" y="3551040"/>
                  <a:ext cx="186120" cy="60840"/>
                </a:xfrm>
                <a:custGeom>
                  <a:avLst/>
                  <a:gdLst/>
                  <a:ahLst/>
                  <a:rect l="l" t="t" r="r" b="b"/>
                  <a:pathLst>
                    <a:path w="574" h="279">
                      <a:moveTo>
                        <a:pt x="393" y="193"/>
                      </a:moveTo>
                      <a:lnTo>
                        <a:pt x="355" y="212"/>
                      </a:lnTo>
                      <a:lnTo>
                        <a:pt x="312" y="231"/>
                      </a:lnTo>
                      <a:lnTo>
                        <a:pt x="265" y="248"/>
                      </a:lnTo>
                      <a:lnTo>
                        <a:pt x="216" y="264"/>
                      </a:lnTo>
                      <a:lnTo>
                        <a:pt x="119" y="279"/>
                      </a:lnTo>
                      <a:lnTo>
                        <a:pt x="31" y="270"/>
                      </a:lnTo>
                      <a:lnTo>
                        <a:pt x="6" y="251"/>
                      </a:lnTo>
                      <a:lnTo>
                        <a:pt x="0" y="228"/>
                      </a:lnTo>
                      <a:lnTo>
                        <a:pt x="14" y="207"/>
                      </a:lnTo>
                      <a:lnTo>
                        <a:pt x="41" y="198"/>
                      </a:lnTo>
                      <a:lnTo>
                        <a:pt x="166" y="181"/>
                      </a:lnTo>
                      <a:lnTo>
                        <a:pt x="250" y="139"/>
                      </a:lnTo>
                      <a:lnTo>
                        <a:pt x="323" y="80"/>
                      </a:lnTo>
                      <a:lnTo>
                        <a:pt x="343" y="64"/>
                      </a:lnTo>
                      <a:lnTo>
                        <a:pt x="366" y="48"/>
                      </a:lnTo>
                      <a:lnTo>
                        <a:pt x="390" y="32"/>
                      </a:lnTo>
                      <a:lnTo>
                        <a:pt x="418" y="15"/>
                      </a:lnTo>
                      <a:lnTo>
                        <a:pt x="457" y="0"/>
                      </a:lnTo>
                      <a:lnTo>
                        <a:pt x="484" y="3"/>
                      </a:lnTo>
                      <a:lnTo>
                        <a:pt x="522" y="57"/>
                      </a:lnTo>
                      <a:lnTo>
                        <a:pt x="545" y="87"/>
                      </a:lnTo>
                      <a:lnTo>
                        <a:pt x="566" y="117"/>
                      </a:lnTo>
                      <a:lnTo>
                        <a:pt x="574" y="156"/>
                      </a:lnTo>
                      <a:lnTo>
                        <a:pt x="564" y="188"/>
                      </a:lnTo>
                      <a:lnTo>
                        <a:pt x="544" y="215"/>
                      </a:lnTo>
                      <a:lnTo>
                        <a:pt x="515" y="234"/>
                      </a:lnTo>
                      <a:lnTo>
                        <a:pt x="448" y="240"/>
                      </a:lnTo>
                      <a:lnTo>
                        <a:pt x="393" y="193"/>
                      </a:lnTo>
                      <a:lnTo>
                        <a:pt x="393" y="1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53480" y="3426120"/>
                  <a:ext cx="139320" cy="60840"/>
                </a:xfrm>
                <a:custGeom>
                  <a:avLst/>
                  <a:gdLst/>
                  <a:ahLst/>
                  <a:rect l="l" t="t" r="r" b="b"/>
                  <a:pathLst>
                    <a:path w="429" h="277">
                      <a:moveTo>
                        <a:pt x="242" y="266"/>
                      </a:moveTo>
                      <a:lnTo>
                        <a:pt x="212" y="277"/>
                      </a:lnTo>
                      <a:lnTo>
                        <a:pt x="168" y="262"/>
                      </a:lnTo>
                      <a:lnTo>
                        <a:pt x="120" y="239"/>
                      </a:lnTo>
                      <a:lnTo>
                        <a:pt x="77" y="229"/>
                      </a:lnTo>
                      <a:lnTo>
                        <a:pt x="20" y="224"/>
                      </a:lnTo>
                      <a:lnTo>
                        <a:pt x="0" y="212"/>
                      </a:lnTo>
                      <a:lnTo>
                        <a:pt x="18" y="195"/>
                      </a:lnTo>
                      <a:lnTo>
                        <a:pt x="82" y="145"/>
                      </a:lnTo>
                      <a:lnTo>
                        <a:pt x="113" y="73"/>
                      </a:lnTo>
                      <a:lnTo>
                        <a:pt x="118" y="37"/>
                      </a:lnTo>
                      <a:lnTo>
                        <a:pt x="131" y="14"/>
                      </a:lnTo>
                      <a:lnTo>
                        <a:pt x="150" y="3"/>
                      </a:lnTo>
                      <a:lnTo>
                        <a:pt x="176" y="0"/>
                      </a:lnTo>
                      <a:lnTo>
                        <a:pt x="291" y="13"/>
                      </a:lnTo>
                      <a:lnTo>
                        <a:pt x="341" y="29"/>
                      </a:lnTo>
                      <a:lnTo>
                        <a:pt x="354" y="63"/>
                      </a:lnTo>
                      <a:lnTo>
                        <a:pt x="368" y="141"/>
                      </a:lnTo>
                      <a:lnTo>
                        <a:pt x="429" y="227"/>
                      </a:lnTo>
                      <a:lnTo>
                        <a:pt x="426" y="251"/>
                      </a:lnTo>
                      <a:lnTo>
                        <a:pt x="406" y="266"/>
                      </a:lnTo>
                      <a:lnTo>
                        <a:pt x="333" y="276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596480" y="3674160"/>
                  <a:ext cx="192600" cy="82440"/>
                </a:xfrm>
                <a:custGeom>
                  <a:avLst/>
                  <a:gdLst/>
                  <a:ahLst/>
                  <a:rect l="l" t="t" r="r" b="b"/>
                  <a:pathLst>
                    <a:path w="595" h="377">
                      <a:moveTo>
                        <a:pt x="27" y="333"/>
                      </a:moveTo>
                      <a:lnTo>
                        <a:pt x="24" y="282"/>
                      </a:lnTo>
                      <a:lnTo>
                        <a:pt x="9" y="232"/>
                      </a:lnTo>
                      <a:lnTo>
                        <a:pt x="0" y="183"/>
                      </a:lnTo>
                      <a:lnTo>
                        <a:pt x="9" y="138"/>
                      </a:lnTo>
                      <a:lnTo>
                        <a:pt x="26" y="117"/>
                      </a:lnTo>
                      <a:lnTo>
                        <a:pt x="46" y="98"/>
                      </a:lnTo>
                      <a:lnTo>
                        <a:pt x="72" y="83"/>
                      </a:lnTo>
                      <a:lnTo>
                        <a:pt x="99" y="71"/>
                      </a:lnTo>
                      <a:lnTo>
                        <a:pt x="163" y="54"/>
                      </a:lnTo>
                      <a:lnTo>
                        <a:pt x="233" y="45"/>
                      </a:lnTo>
                      <a:lnTo>
                        <a:pt x="495" y="5"/>
                      </a:lnTo>
                      <a:lnTo>
                        <a:pt x="541" y="0"/>
                      </a:lnTo>
                      <a:lnTo>
                        <a:pt x="578" y="16"/>
                      </a:lnTo>
                      <a:lnTo>
                        <a:pt x="595" y="45"/>
                      </a:lnTo>
                      <a:lnTo>
                        <a:pt x="590" y="59"/>
                      </a:lnTo>
                      <a:lnTo>
                        <a:pt x="575" y="72"/>
                      </a:lnTo>
                      <a:lnTo>
                        <a:pt x="550" y="86"/>
                      </a:lnTo>
                      <a:lnTo>
                        <a:pt x="506" y="104"/>
                      </a:lnTo>
                      <a:lnTo>
                        <a:pt x="451" y="124"/>
                      </a:lnTo>
                      <a:lnTo>
                        <a:pt x="388" y="146"/>
                      </a:lnTo>
                      <a:lnTo>
                        <a:pt x="325" y="168"/>
                      </a:lnTo>
                      <a:lnTo>
                        <a:pt x="267" y="188"/>
                      </a:lnTo>
                      <a:lnTo>
                        <a:pt x="188" y="213"/>
                      </a:lnTo>
                      <a:lnTo>
                        <a:pt x="163" y="210"/>
                      </a:lnTo>
                      <a:lnTo>
                        <a:pt x="141" y="215"/>
                      </a:lnTo>
                      <a:lnTo>
                        <a:pt x="114" y="281"/>
                      </a:lnTo>
                      <a:lnTo>
                        <a:pt x="96" y="351"/>
                      </a:lnTo>
                      <a:lnTo>
                        <a:pt x="78" y="375"/>
                      </a:lnTo>
                      <a:lnTo>
                        <a:pt x="54" y="377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086720" y="3758040"/>
                  <a:ext cx="101880" cy="37800"/>
                </a:xfrm>
                <a:custGeom>
                  <a:avLst/>
                  <a:gdLst/>
                  <a:ahLst/>
                  <a:rect l="l" t="t" r="r" b="b"/>
                  <a:pathLst>
                    <a:path w="314" h="175">
                      <a:moveTo>
                        <a:pt x="46" y="0"/>
                      </a:moveTo>
                      <a:lnTo>
                        <a:pt x="99" y="26"/>
                      </a:lnTo>
                      <a:lnTo>
                        <a:pt x="154" y="44"/>
                      </a:lnTo>
                      <a:lnTo>
                        <a:pt x="266" y="72"/>
                      </a:lnTo>
                      <a:lnTo>
                        <a:pt x="302" y="90"/>
                      </a:lnTo>
                      <a:lnTo>
                        <a:pt x="314" y="120"/>
                      </a:lnTo>
                      <a:lnTo>
                        <a:pt x="302" y="149"/>
                      </a:lnTo>
                      <a:lnTo>
                        <a:pt x="287" y="160"/>
                      </a:lnTo>
                      <a:lnTo>
                        <a:pt x="266" y="167"/>
                      </a:lnTo>
                      <a:lnTo>
                        <a:pt x="216" y="175"/>
                      </a:lnTo>
                      <a:lnTo>
                        <a:pt x="120" y="162"/>
                      </a:lnTo>
                      <a:lnTo>
                        <a:pt x="33" y="127"/>
                      </a:lnTo>
                      <a:lnTo>
                        <a:pt x="6" y="88"/>
                      </a:lnTo>
                      <a:lnTo>
                        <a:pt x="0" y="38"/>
                      </a:lnTo>
                      <a:lnTo>
                        <a:pt x="13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63640" y="3792600"/>
                  <a:ext cx="127800" cy="34560"/>
                </a:xfrm>
                <a:custGeom>
                  <a:avLst/>
                  <a:gdLst/>
                  <a:ahLst/>
                  <a:rect l="l" t="t" r="r" b="b"/>
                  <a:pathLst>
                    <a:path w="397" h="162">
                      <a:moveTo>
                        <a:pt x="64" y="0"/>
                      </a:moveTo>
                      <a:lnTo>
                        <a:pt x="363" y="1"/>
                      </a:lnTo>
                      <a:lnTo>
                        <a:pt x="385" y="5"/>
                      </a:lnTo>
                      <a:lnTo>
                        <a:pt x="397" y="20"/>
                      </a:lnTo>
                      <a:lnTo>
                        <a:pt x="391" y="68"/>
                      </a:lnTo>
                      <a:lnTo>
                        <a:pt x="376" y="95"/>
                      </a:lnTo>
                      <a:lnTo>
                        <a:pt x="355" y="120"/>
                      </a:lnTo>
                      <a:lnTo>
                        <a:pt x="330" y="138"/>
                      </a:lnTo>
                      <a:lnTo>
                        <a:pt x="301" y="149"/>
                      </a:lnTo>
                      <a:lnTo>
                        <a:pt x="241" y="161"/>
                      </a:lnTo>
                      <a:lnTo>
                        <a:pt x="181" y="162"/>
                      </a:lnTo>
                      <a:lnTo>
                        <a:pt x="127" y="146"/>
                      </a:lnTo>
                      <a:lnTo>
                        <a:pt x="73" y="136"/>
                      </a:lnTo>
                      <a:lnTo>
                        <a:pt x="20" y="115"/>
                      </a:lnTo>
                      <a:lnTo>
                        <a:pt x="0" y="71"/>
                      </a:lnTo>
                      <a:lnTo>
                        <a:pt x="15" y="25"/>
                      </a:lnTo>
                      <a:lnTo>
                        <a:pt x="35" y="1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753800" y="3719880"/>
                  <a:ext cx="98640" cy="46440"/>
                </a:xfrm>
                <a:custGeom>
                  <a:avLst/>
                  <a:gdLst/>
                  <a:ahLst/>
                  <a:rect l="l" t="t" r="r" b="b"/>
                  <a:pathLst>
                    <a:path w="306" h="213">
                      <a:moveTo>
                        <a:pt x="42" y="78"/>
                      </a:moveTo>
                      <a:lnTo>
                        <a:pt x="130" y="57"/>
                      </a:lnTo>
                      <a:lnTo>
                        <a:pt x="207" y="8"/>
                      </a:lnTo>
                      <a:lnTo>
                        <a:pt x="246" y="0"/>
                      </a:lnTo>
                      <a:lnTo>
                        <a:pt x="283" y="34"/>
                      </a:lnTo>
                      <a:lnTo>
                        <a:pt x="306" y="84"/>
                      </a:lnTo>
                      <a:lnTo>
                        <a:pt x="299" y="132"/>
                      </a:lnTo>
                      <a:lnTo>
                        <a:pt x="262" y="170"/>
                      </a:lnTo>
                      <a:lnTo>
                        <a:pt x="225" y="190"/>
                      </a:lnTo>
                      <a:lnTo>
                        <a:pt x="131" y="213"/>
                      </a:lnTo>
                      <a:lnTo>
                        <a:pt x="60" y="207"/>
                      </a:lnTo>
                      <a:lnTo>
                        <a:pt x="12" y="166"/>
                      </a:lnTo>
                      <a:lnTo>
                        <a:pt x="0" y="116"/>
                      </a:lnTo>
                      <a:lnTo>
                        <a:pt x="14" y="94"/>
                      </a:lnTo>
                      <a:lnTo>
                        <a:pt x="42" y="78"/>
                      </a:lnTo>
                      <a:lnTo>
                        <a:pt x="4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711680" y="3434760"/>
                  <a:ext cx="173160" cy="279720"/>
                </a:xfrm>
                <a:custGeom>
                  <a:avLst/>
                  <a:gdLst/>
                  <a:ahLst/>
                  <a:rect l="l" t="t" r="r" b="b"/>
                  <a:pathLst>
                    <a:path w="533" h="1289">
                      <a:moveTo>
                        <a:pt x="274" y="983"/>
                      </a:moveTo>
                      <a:lnTo>
                        <a:pt x="227" y="894"/>
                      </a:lnTo>
                      <a:lnTo>
                        <a:pt x="202" y="795"/>
                      </a:lnTo>
                      <a:lnTo>
                        <a:pt x="190" y="573"/>
                      </a:lnTo>
                      <a:lnTo>
                        <a:pt x="196" y="131"/>
                      </a:lnTo>
                      <a:lnTo>
                        <a:pt x="170" y="130"/>
                      </a:lnTo>
                      <a:lnTo>
                        <a:pt x="149" y="150"/>
                      </a:lnTo>
                      <a:lnTo>
                        <a:pt x="119" y="202"/>
                      </a:lnTo>
                      <a:lnTo>
                        <a:pt x="97" y="222"/>
                      </a:lnTo>
                      <a:lnTo>
                        <a:pt x="73" y="232"/>
                      </a:lnTo>
                      <a:lnTo>
                        <a:pt x="28" y="223"/>
                      </a:lnTo>
                      <a:lnTo>
                        <a:pt x="0" y="187"/>
                      </a:lnTo>
                      <a:lnTo>
                        <a:pt x="6" y="133"/>
                      </a:lnTo>
                      <a:lnTo>
                        <a:pt x="42" y="74"/>
                      </a:lnTo>
                      <a:lnTo>
                        <a:pt x="85" y="32"/>
                      </a:lnTo>
                      <a:lnTo>
                        <a:pt x="109" y="17"/>
                      </a:lnTo>
                      <a:lnTo>
                        <a:pt x="133" y="7"/>
                      </a:lnTo>
                      <a:lnTo>
                        <a:pt x="181" y="0"/>
                      </a:lnTo>
                      <a:lnTo>
                        <a:pt x="227" y="12"/>
                      </a:lnTo>
                      <a:lnTo>
                        <a:pt x="266" y="43"/>
                      </a:lnTo>
                      <a:lnTo>
                        <a:pt x="295" y="95"/>
                      </a:lnTo>
                      <a:lnTo>
                        <a:pt x="313" y="167"/>
                      </a:lnTo>
                      <a:lnTo>
                        <a:pt x="316" y="319"/>
                      </a:lnTo>
                      <a:lnTo>
                        <a:pt x="305" y="472"/>
                      </a:lnTo>
                      <a:lnTo>
                        <a:pt x="296" y="624"/>
                      </a:lnTo>
                      <a:lnTo>
                        <a:pt x="312" y="777"/>
                      </a:lnTo>
                      <a:lnTo>
                        <a:pt x="338" y="874"/>
                      </a:lnTo>
                      <a:lnTo>
                        <a:pt x="365" y="939"/>
                      </a:lnTo>
                      <a:lnTo>
                        <a:pt x="391" y="976"/>
                      </a:lnTo>
                      <a:lnTo>
                        <a:pt x="417" y="995"/>
                      </a:lnTo>
                      <a:lnTo>
                        <a:pt x="468" y="1012"/>
                      </a:lnTo>
                      <a:lnTo>
                        <a:pt x="512" y="1053"/>
                      </a:lnTo>
                      <a:lnTo>
                        <a:pt x="533" y="1154"/>
                      </a:lnTo>
                      <a:lnTo>
                        <a:pt x="523" y="1204"/>
                      </a:lnTo>
                      <a:lnTo>
                        <a:pt x="506" y="1246"/>
                      </a:lnTo>
                      <a:lnTo>
                        <a:pt x="486" y="1276"/>
                      </a:lnTo>
                      <a:lnTo>
                        <a:pt x="467" y="1289"/>
                      </a:lnTo>
                      <a:lnTo>
                        <a:pt x="452" y="1281"/>
                      </a:lnTo>
                      <a:lnTo>
                        <a:pt x="446" y="1246"/>
                      </a:lnTo>
                      <a:lnTo>
                        <a:pt x="452" y="1136"/>
                      </a:lnTo>
                      <a:lnTo>
                        <a:pt x="446" y="1110"/>
                      </a:lnTo>
                      <a:lnTo>
                        <a:pt x="434" y="1095"/>
                      </a:lnTo>
                      <a:lnTo>
                        <a:pt x="378" y="1106"/>
                      </a:lnTo>
                      <a:lnTo>
                        <a:pt x="311" y="1055"/>
                      </a:lnTo>
                      <a:lnTo>
                        <a:pt x="274" y="983"/>
                      </a:lnTo>
                      <a:lnTo>
                        <a:pt x="274" y="9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106160" y="3389040"/>
                  <a:ext cx="120960" cy="29160"/>
                </a:xfrm>
                <a:custGeom>
                  <a:avLst/>
                  <a:gdLst/>
                  <a:ahLst/>
                  <a:rect l="l" t="t" r="r" b="b"/>
                  <a:pathLst>
                    <a:path w="375" h="137">
                      <a:moveTo>
                        <a:pt x="22" y="73"/>
                      </a:moveTo>
                      <a:lnTo>
                        <a:pt x="58" y="56"/>
                      </a:lnTo>
                      <a:lnTo>
                        <a:pt x="114" y="31"/>
                      </a:lnTo>
                      <a:lnTo>
                        <a:pt x="169" y="9"/>
                      </a:lnTo>
                      <a:lnTo>
                        <a:pt x="200" y="0"/>
                      </a:lnTo>
                      <a:lnTo>
                        <a:pt x="329" y="21"/>
                      </a:lnTo>
                      <a:lnTo>
                        <a:pt x="365" y="42"/>
                      </a:lnTo>
                      <a:lnTo>
                        <a:pt x="375" y="74"/>
                      </a:lnTo>
                      <a:lnTo>
                        <a:pt x="361" y="105"/>
                      </a:lnTo>
                      <a:lnTo>
                        <a:pt x="345" y="116"/>
                      </a:lnTo>
                      <a:lnTo>
                        <a:pt x="323" y="122"/>
                      </a:lnTo>
                      <a:lnTo>
                        <a:pt x="210" y="129"/>
                      </a:lnTo>
                      <a:lnTo>
                        <a:pt x="42" y="137"/>
                      </a:lnTo>
                      <a:lnTo>
                        <a:pt x="14" y="134"/>
                      </a:lnTo>
                      <a:lnTo>
                        <a:pt x="0" y="116"/>
                      </a:lnTo>
                      <a:lnTo>
                        <a:pt x="0" y="92"/>
                      </a:lnTo>
                      <a:lnTo>
                        <a:pt x="22" y="73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5619240" y="2514600"/>
                <a:ext cx="984600" cy="581400"/>
                <a:chOff x="5619240" y="2514600"/>
                <a:chExt cx="984600" cy="5814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5741280" y="2693880"/>
                  <a:ext cx="757440" cy="346680"/>
                </a:xfrm>
                <a:custGeom>
                  <a:avLst/>
                  <a:gdLst/>
                  <a:ahLst/>
                  <a:rect l="l" t="t" r="r" b="b"/>
                  <a:pathLst>
                    <a:path w="2342" h="1592">
                      <a:moveTo>
                        <a:pt x="640" y="33"/>
                      </a:moveTo>
                      <a:lnTo>
                        <a:pt x="538" y="578"/>
                      </a:lnTo>
                      <a:lnTo>
                        <a:pt x="120" y="1047"/>
                      </a:lnTo>
                      <a:lnTo>
                        <a:pt x="0" y="1180"/>
                      </a:lnTo>
                      <a:lnTo>
                        <a:pt x="45" y="1440"/>
                      </a:lnTo>
                      <a:lnTo>
                        <a:pt x="1803" y="1592"/>
                      </a:lnTo>
                      <a:lnTo>
                        <a:pt x="2342" y="1314"/>
                      </a:lnTo>
                      <a:lnTo>
                        <a:pt x="2031" y="58"/>
                      </a:lnTo>
                      <a:lnTo>
                        <a:pt x="1905" y="0"/>
                      </a:lnTo>
                      <a:lnTo>
                        <a:pt x="1677" y="255"/>
                      </a:lnTo>
                      <a:lnTo>
                        <a:pt x="980" y="197"/>
                      </a:lnTo>
                      <a:lnTo>
                        <a:pt x="760" y="0"/>
                      </a:lnTo>
                      <a:lnTo>
                        <a:pt x="640" y="33"/>
                      </a:lnTo>
                      <a:lnTo>
                        <a:pt x="64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745960" y="2713320"/>
                  <a:ext cx="857880" cy="370800"/>
                </a:xfrm>
                <a:custGeom>
                  <a:avLst/>
                  <a:gdLst/>
                  <a:ahLst/>
                  <a:rect l="l" t="t" r="r" b="b"/>
                  <a:pathLst>
                    <a:path w="2651" h="1707">
                      <a:moveTo>
                        <a:pt x="120" y="1155"/>
                      </a:moveTo>
                      <a:lnTo>
                        <a:pt x="551" y="1155"/>
                      </a:lnTo>
                      <a:lnTo>
                        <a:pt x="1291" y="1288"/>
                      </a:lnTo>
                      <a:lnTo>
                        <a:pt x="1146" y="1149"/>
                      </a:lnTo>
                      <a:lnTo>
                        <a:pt x="1708" y="850"/>
                      </a:lnTo>
                      <a:lnTo>
                        <a:pt x="1905" y="1021"/>
                      </a:lnTo>
                      <a:lnTo>
                        <a:pt x="1961" y="793"/>
                      </a:lnTo>
                      <a:lnTo>
                        <a:pt x="1905" y="241"/>
                      </a:lnTo>
                      <a:lnTo>
                        <a:pt x="1955" y="0"/>
                      </a:lnTo>
                      <a:lnTo>
                        <a:pt x="2069" y="165"/>
                      </a:lnTo>
                      <a:lnTo>
                        <a:pt x="2152" y="146"/>
                      </a:lnTo>
                      <a:lnTo>
                        <a:pt x="2222" y="0"/>
                      </a:lnTo>
                      <a:lnTo>
                        <a:pt x="2430" y="63"/>
                      </a:lnTo>
                      <a:lnTo>
                        <a:pt x="2461" y="818"/>
                      </a:lnTo>
                      <a:lnTo>
                        <a:pt x="2645" y="952"/>
                      </a:lnTo>
                      <a:lnTo>
                        <a:pt x="2651" y="1186"/>
                      </a:lnTo>
                      <a:lnTo>
                        <a:pt x="1741" y="1707"/>
                      </a:lnTo>
                      <a:lnTo>
                        <a:pt x="0" y="1402"/>
                      </a:lnTo>
                      <a:lnTo>
                        <a:pt x="120" y="1155"/>
                      </a:lnTo>
                      <a:lnTo>
                        <a:pt x="120" y="1155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1807200">
                  <a:off x="5659920" y="2657880"/>
                  <a:ext cx="262440" cy="232920"/>
                </a:xfrm>
                <a:custGeom>
                  <a:avLst/>
                  <a:gdLst/>
                  <a:ahLst/>
                  <a:rect l="l" t="t" r="r" b="b"/>
                  <a:pathLst>
                    <a:path w="810" h="1069">
                      <a:moveTo>
                        <a:pt x="235" y="736"/>
                      </a:moveTo>
                      <a:lnTo>
                        <a:pt x="295" y="710"/>
                      </a:lnTo>
                      <a:lnTo>
                        <a:pt x="357" y="682"/>
                      </a:lnTo>
                      <a:lnTo>
                        <a:pt x="417" y="660"/>
                      </a:lnTo>
                      <a:lnTo>
                        <a:pt x="471" y="650"/>
                      </a:lnTo>
                      <a:lnTo>
                        <a:pt x="516" y="657"/>
                      </a:lnTo>
                      <a:lnTo>
                        <a:pt x="545" y="687"/>
                      </a:lnTo>
                      <a:lnTo>
                        <a:pt x="555" y="747"/>
                      </a:lnTo>
                      <a:lnTo>
                        <a:pt x="543" y="840"/>
                      </a:lnTo>
                      <a:lnTo>
                        <a:pt x="609" y="825"/>
                      </a:lnTo>
                      <a:lnTo>
                        <a:pt x="665" y="825"/>
                      </a:lnTo>
                      <a:lnTo>
                        <a:pt x="746" y="855"/>
                      </a:lnTo>
                      <a:lnTo>
                        <a:pt x="793" y="915"/>
                      </a:lnTo>
                      <a:lnTo>
                        <a:pt x="810" y="982"/>
                      </a:lnTo>
                      <a:lnTo>
                        <a:pt x="799" y="1040"/>
                      </a:lnTo>
                      <a:lnTo>
                        <a:pt x="786" y="1059"/>
                      </a:lnTo>
                      <a:lnTo>
                        <a:pt x="767" y="1069"/>
                      </a:lnTo>
                      <a:lnTo>
                        <a:pt x="717" y="1047"/>
                      </a:lnTo>
                      <a:lnTo>
                        <a:pt x="687" y="1012"/>
                      </a:lnTo>
                      <a:lnTo>
                        <a:pt x="654" y="957"/>
                      </a:lnTo>
                      <a:lnTo>
                        <a:pt x="588" y="979"/>
                      </a:lnTo>
                      <a:lnTo>
                        <a:pt x="552" y="998"/>
                      </a:lnTo>
                      <a:lnTo>
                        <a:pt x="515" y="1015"/>
                      </a:lnTo>
                      <a:lnTo>
                        <a:pt x="480" y="1025"/>
                      </a:lnTo>
                      <a:lnTo>
                        <a:pt x="450" y="1027"/>
                      </a:lnTo>
                      <a:lnTo>
                        <a:pt x="407" y="975"/>
                      </a:lnTo>
                      <a:lnTo>
                        <a:pt x="407" y="925"/>
                      </a:lnTo>
                      <a:lnTo>
                        <a:pt x="425" y="878"/>
                      </a:lnTo>
                      <a:lnTo>
                        <a:pt x="458" y="782"/>
                      </a:lnTo>
                      <a:lnTo>
                        <a:pt x="429" y="796"/>
                      </a:lnTo>
                      <a:lnTo>
                        <a:pt x="389" y="816"/>
                      </a:lnTo>
                      <a:lnTo>
                        <a:pt x="341" y="842"/>
                      </a:lnTo>
                      <a:lnTo>
                        <a:pt x="289" y="868"/>
                      </a:lnTo>
                      <a:lnTo>
                        <a:pt x="238" y="893"/>
                      </a:lnTo>
                      <a:lnTo>
                        <a:pt x="191" y="914"/>
                      </a:lnTo>
                      <a:lnTo>
                        <a:pt x="130" y="927"/>
                      </a:lnTo>
                      <a:lnTo>
                        <a:pt x="73" y="893"/>
                      </a:lnTo>
                      <a:lnTo>
                        <a:pt x="56" y="845"/>
                      </a:lnTo>
                      <a:lnTo>
                        <a:pt x="70" y="790"/>
                      </a:lnTo>
                      <a:lnTo>
                        <a:pt x="101" y="730"/>
                      </a:lnTo>
                      <a:lnTo>
                        <a:pt x="120" y="700"/>
                      </a:lnTo>
                      <a:lnTo>
                        <a:pt x="139" y="671"/>
                      </a:lnTo>
                      <a:lnTo>
                        <a:pt x="174" y="618"/>
                      </a:lnTo>
                      <a:lnTo>
                        <a:pt x="191" y="552"/>
                      </a:lnTo>
                      <a:lnTo>
                        <a:pt x="156" y="533"/>
                      </a:lnTo>
                      <a:lnTo>
                        <a:pt x="114" y="520"/>
                      </a:lnTo>
                      <a:lnTo>
                        <a:pt x="35" y="496"/>
                      </a:lnTo>
                      <a:lnTo>
                        <a:pt x="8" y="477"/>
                      </a:lnTo>
                      <a:lnTo>
                        <a:pt x="0" y="448"/>
                      </a:lnTo>
                      <a:lnTo>
                        <a:pt x="11" y="405"/>
                      </a:lnTo>
                      <a:lnTo>
                        <a:pt x="26" y="377"/>
                      </a:lnTo>
                      <a:lnTo>
                        <a:pt x="50" y="345"/>
                      </a:lnTo>
                      <a:lnTo>
                        <a:pt x="73" y="321"/>
                      </a:lnTo>
                      <a:lnTo>
                        <a:pt x="100" y="299"/>
                      </a:lnTo>
                      <a:lnTo>
                        <a:pt x="128" y="280"/>
                      </a:lnTo>
                      <a:lnTo>
                        <a:pt x="157" y="263"/>
                      </a:lnTo>
                      <a:lnTo>
                        <a:pt x="136" y="113"/>
                      </a:lnTo>
                      <a:lnTo>
                        <a:pt x="151" y="67"/>
                      </a:lnTo>
                      <a:lnTo>
                        <a:pt x="184" y="35"/>
                      </a:lnTo>
                      <a:lnTo>
                        <a:pt x="229" y="16"/>
                      </a:lnTo>
                      <a:lnTo>
                        <a:pt x="285" y="5"/>
                      </a:lnTo>
                      <a:lnTo>
                        <a:pt x="426" y="0"/>
                      </a:lnTo>
                      <a:lnTo>
                        <a:pt x="441" y="18"/>
                      </a:lnTo>
                      <a:lnTo>
                        <a:pt x="429" y="58"/>
                      </a:lnTo>
                      <a:lnTo>
                        <a:pt x="415" y="79"/>
                      </a:lnTo>
                      <a:lnTo>
                        <a:pt x="399" y="97"/>
                      </a:lnTo>
                      <a:lnTo>
                        <a:pt x="383" y="111"/>
                      </a:lnTo>
                      <a:lnTo>
                        <a:pt x="366" y="115"/>
                      </a:lnTo>
                      <a:lnTo>
                        <a:pt x="291" y="108"/>
                      </a:lnTo>
                      <a:lnTo>
                        <a:pt x="227" y="124"/>
                      </a:lnTo>
                      <a:lnTo>
                        <a:pt x="222" y="161"/>
                      </a:lnTo>
                      <a:lnTo>
                        <a:pt x="240" y="201"/>
                      </a:lnTo>
                      <a:lnTo>
                        <a:pt x="283" y="274"/>
                      </a:lnTo>
                      <a:lnTo>
                        <a:pt x="284" y="306"/>
                      </a:lnTo>
                      <a:lnTo>
                        <a:pt x="273" y="328"/>
                      </a:lnTo>
                      <a:lnTo>
                        <a:pt x="253" y="341"/>
                      </a:lnTo>
                      <a:lnTo>
                        <a:pt x="228" y="351"/>
                      </a:lnTo>
                      <a:lnTo>
                        <a:pt x="179" y="366"/>
                      </a:lnTo>
                      <a:lnTo>
                        <a:pt x="152" y="397"/>
                      </a:lnTo>
                      <a:lnTo>
                        <a:pt x="164" y="413"/>
                      </a:lnTo>
                      <a:lnTo>
                        <a:pt x="193" y="414"/>
                      </a:lnTo>
                      <a:lnTo>
                        <a:pt x="256" y="415"/>
                      </a:lnTo>
                      <a:lnTo>
                        <a:pt x="289" y="441"/>
                      </a:lnTo>
                      <a:lnTo>
                        <a:pt x="308" y="478"/>
                      </a:lnTo>
                      <a:lnTo>
                        <a:pt x="312" y="570"/>
                      </a:lnTo>
                      <a:lnTo>
                        <a:pt x="300" y="620"/>
                      </a:lnTo>
                      <a:lnTo>
                        <a:pt x="282" y="666"/>
                      </a:lnTo>
                      <a:lnTo>
                        <a:pt x="260" y="706"/>
                      </a:lnTo>
                      <a:lnTo>
                        <a:pt x="235" y="736"/>
                      </a:lnTo>
                      <a:lnTo>
                        <a:pt x="235" y="7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1" name=""/>
                <p:cNvGrpSpPr/>
                <p:nvPr/>
              </p:nvGrpSpPr>
              <p:grpSpPr>
                <a:xfrm>
                  <a:off x="5853960" y="2514600"/>
                  <a:ext cx="747720" cy="446400"/>
                  <a:chOff x="5853960" y="2514600"/>
                  <a:chExt cx="747720" cy="4464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976200">
                    <a:off x="5881680" y="2607480"/>
                    <a:ext cx="69912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9" h="1142">
                        <a:moveTo>
                          <a:pt x="0" y="1066"/>
                        </a:moveTo>
                        <a:lnTo>
                          <a:pt x="38" y="678"/>
                        </a:lnTo>
                        <a:lnTo>
                          <a:pt x="190" y="431"/>
                        </a:lnTo>
                        <a:lnTo>
                          <a:pt x="475" y="241"/>
                        </a:lnTo>
                        <a:lnTo>
                          <a:pt x="1006" y="50"/>
                        </a:lnTo>
                        <a:lnTo>
                          <a:pt x="1537" y="0"/>
                        </a:lnTo>
                        <a:lnTo>
                          <a:pt x="1918" y="197"/>
                        </a:lnTo>
                        <a:lnTo>
                          <a:pt x="2159" y="463"/>
                        </a:lnTo>
                        <a:lnTo>
                          <a:pt x="2007" y="666"/>
                        </a:lnTo>
                        <a:lnTo>
                          <a:pt x="1487" y="774"/>
                        </a:lnTo>
                        <a:lnTo>
                          <a:pt x="1184" y="336"/>
                        </a:lnTo>
                        <a:lnTo>
                          <a:pt x="519" y="628"/>
                        </a:lnTo>
                        <a:lnTo>
                          <a:pt x="411" y="1041"/>
                        </a:lnTo>
                        <a:lnTo>
                          <a:pt x="69" y="1142"/>
                        </a:lnTo>
                        <a:lnTo>
                          <a:pt x="0" y="1066"/>
                        </a:lnTo>
                        <a:lnTo>
                          <a:pt x="0" y="106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976200">
                    <a:off x="5931000" y="2657160"/>
                    <a:ext cx="62316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4" h="893">
                        <a:moveTo>
                          <a:pt x="12" y="856"/>
                        </a:moveTo>
                        <a:lnTo>
                          <a:pt x="45" y="551"/>
                        </a:lnTo>
                        <a:lnTo>
                          <a:pt x="153" y="406"/>
                        </a:lnTo>
                        <a:lnTo>
                          <a:pt x="253" y="412"/>
                        </a:lnTo>
                        <a:lnTo>
                          <a:pt x="247" y="298"/>
                        </a:lnTo>
                        <a:lnTo>
                          <a:pt x="431" y="171"/>
                        </a:lnTo>
                        <a:lnTo>
                          <a:pt x="754" y="51"/>
                        </a:lnTo>
                        <a:lnTo>
                          <a:pt x="1019" y="0"/>
                        </a:lnTo>
                        <a:lnTo>
                          <a:pt x="1183" y="70"/>
                        </a:lnTo>
                        <a:lnTo>
                          <a:pt x="1254" y="184"/>
                        </a:lnTo>
                        <a:lnTo>
                          <a:pt x="1348" y="279"/>
                        </a:lnTo>
                        <a:lnTo>
                          <a:pt x="1569" y="165"/>
                        </a:lnTo>
                        <a:lnTo>
                          <a:pt x="1741" y="190"/>
                        </a:lnTo>
                        <a:lnTo>
                          <a:pt x="1924" y="323"/>
                        </a:lnTo>
                        <a:lnTo>
                          <a:pt x="1500" y="532"/>
                        </a:lnTo>
                        <a:lnTo>
                          <a:pt x="1310" y="520"/>
                        </a:lnTo>
                        <a:lnTo>
                          <a:pt x="1069" y="215"/>
                        </a:lnTo>
                        <a:lnTo>
                          <a:pt x="879" y="221"/>
                        </a:lnTo>
                        <a:lnTo>
                          <a:pt x="398" y="476"/>
                        </a:lnTo>
                        <a:lnTo>
                          <a:pt x="361" y="665"/>
                        </a:lnTo>
                        <a:lnTo>
                          <a:pt x="323" y="843"/>
                        </a:lnTo>
                        <a:lnTo>
                          <a:pt x="0" y="893"/>
                        </a:lnTo>
                        <a:lnTo>
                          <a:pt x="12" y="856"/>
                        </a:lnTo>
                        <a:lnTo>
                          <a:pt x="12" y="856"/>
                        </a:lnTo>
                        <a:close/>
                      </a:path>
                    </a:pathLst>
                  </a:custGeom>
                  <a:solidFill>
                    <a:srgbClr val="a3a3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976200">
                    <a:off x="5937840" y="2591280"/>
                    <a:ext cx="5515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4" h="657">
                        <a:moveTo>
                          <a:pt x="0" y="598"/>
                        </a:moveTo>
                        <a:lnTo>
                          <a:pt x="15" y="559"/>
                        </a:lnTo>
                        <a:lnTo>
                          <a:pt x="35" y="522"/>
                        </a:lnTo>
                        <a:lnTo>
                          <a:pt x="60" y="485"/>
                        </a:lnTo>
                        <a:lnTo>
                          <a:pt x="90" y="449"/>
                        </a:lnTo>
                        <a:lnTo>
                          <a:pt x="126" y="413"/>
                        </a:lnTo>
                        <a:lnTo>
                          <a:pt x="166" y="378"/>
                        </a:lnTo>
                        <a:lnTo>
                          <a:pt x="210" y="345"/>
                        </a:lnTo>
                        <a:lnTo>
                          <a:pt x="233" y="328"/>
                        </a:lnTo>
                        <a:lnTo>
                          <a:pt x="257" y="312"/>
                        </a:lnTo>
                        <a:lnTo>
                          <a:pt x="282" y="295"/>
                        </a:lnTo>
                        <a:lnTo>
                          <a:pt x="309" y="280"/>
                        </a:lnTo>
                        <a:lnTo>
                          <a:pt x="363" y="250"/>
                        </a:lnTo>
                        <a:lnTo>
                          <a:pt x="420" y="220"/>
                        </a:lnTo>
                        <a:lnTo>
                          <a:pt x="479" y="192"/>
                        </a:lnTo>
                        <a:lnTo>
                          <a:pt x="540" y="166"/>
                        </a:lnTo>
                        <a:lnTo>
                          <a:pt x="604" y="140"/>
                        </a:lnTo>
                        <a:lnTo>
                          <a:pt x="667" y="118"/>
                        </a:lnTo>
                        <a:lnTo>
                          <a:pt x="733" y="96"/>
                        </a:lnTo>
                        <a:lnTo>
                          <a:pt x="798" y="77"/>
                        </a:lnTo>
                        <a:lnTo>
                          <a:pt x="865" y="59"/>
                        </a:lnTo>
                        <a:lnTo>
                          <a:pt x="931" y="44"/>
                        </a:lnTo>
                        <a:lnTo>
                          <a:pt x="997" y="30"/>
                        </a:lnTo>
                        <a:lnTo>
                          <a:pt x="1127" y="11"/>
                        </a:lnTo>
                        <a:lnTo>
                          <a:pt x="1250" y="0"/>
                        </a:lnTo>
                        <a:lnTo>
                          <a:pt x="1470" y="12"/>
                        </a:lnTo>
                        <a:lnTo>
                          <a:pt x="1560" y="36"/>
                        </a:lnTo>
                        <a:lnTo>
                          <a:pt x="1634" y="72"/>
                        </a:lnTo>
                        <a:lnTo>
                          <a:pt x="1687" y="124"/>
                        </a:lnTo>
                        <a:lnTo>
                          <a:pt x="1704" y="173"/>
                        </a:lnTo>
                        <a:lnTo>
                          <a:pt x="1698" y="191"/>
                        </a:lnTo>
                        <a:lnTo>
                          <a:pt x="1682" y="203"/>
                        </a:lnTo>
                        <a:lnTo>
                          <a:pt x="1621" y="200"/>
                        </a:lnTo>
                        <a:lnTo>
                          <a:pt x="1517" y="173"/>
                        </a:lnTo>
                        <a:lnTo>
                          <a:pt x="1409" y="144"/>
                        </a:lnTo>
                        <a:lnTo>
                          <a:pt x="1319" y="124"/>
                        </a:lnTo>
                        <a:lnTo>
                          <a:pt x="1224" y="115"/>
                        </a:lnTo>
                        <a:lnTo>
                          <a:pt x="1028" y="128"/>
                        </a:lnTo>
                        <a:lnTo>
                          <a:pt x="835" y="173"/>
                        </a:lnTo>
                        <a:lnTo>
                          <a:pt x="744" y="202"/>
                        </a:lnTo>
                        <a:lnTo>
                          <a:pt x="659" y="234"/>
                        </a:lnTo>
                        <a:lnTo>
                          <a:pt x="586" y="264"/>
                        </a:lnTo>
                        <a:lnTo>
                          <a:pt x="521" y="291"/>
                        </a:lnTo>
                        <a:lnTo>
                          <a:pt x="467" y="313"/>
                        </a:lnTo>
                        <a:lnTo>
                          <a:pt x="419" y="333"/>
                        </a:lnTo>
                        <a:lnTo>
                          <a:pt x="342" y="369"/>
                        </a:lnTo>
                        <a:lnTo>
                          <a:pt x="284" y="402"/>
                        </a:lnTo>
                        <a:lnTo>
                          <a:pt x="234" y="441"/>
                        </a:lnTo>
                        <a:lnTo>
                          <a:pt x="186" y="489"/>
                        </a:lnTo>
                        <a:lnTo>
                          <a:pt x="160" y="519"/>
                        </a:lnTo>
                        <a:lnTo>
                          <a:pt x="130" y="553"/>
                        </a:lnTo>
                        <a:lnTo>
                          <a:pt x="96" y="593"/>
                        </a:lnTo>
                        <a:lnTo>
                          <a:pt x="59" y="639"/>
                        </a:lnTo>
                        <a:lnTo>
                          <a:pt x="34" y="657"/>
                        </a:lnTo>
                        <a:lnTo>
                          <a:pt x="11" y="653"/>
                        </a:lnTo>
                        <a:lnTo>
                          <a:pt x="0" y="598"/>
                        </a:lnTo>
                        <a:lnTo>
                          <a:pt x="0" y="5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976200">
                    <a:off x="5867280" y="2667240"/>
                    <a:ext cx="71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0" h="912">
                        <a:moveTo>
                          <a:pt x="109" y="769"/>
                        </a:moveTo>
                        <a:lnTo>
                          <a:pt x="161" y="758"/>
                        </a:lnTo>
                        <a:lnTo>
                          <a:pt x="208" y="727"/>
                        </a:lnTo>
                        <a:lnTo>
                          <a:pt x="232" y="709"/>
                        </a:lnTo>
                        <a:lnTo>
                          <a:pt x="255" y="692"/>
                        </a:lnTo>
                        <a:lnTo>
                          <a:pt x="279" y="677"/>
                        </a:lnTo>
                        <a:lnTo>
                          <a:pt x="304" y="667"/>
                        </a:lnTo>
                        <a:lnTo>
                          <a:pt x="399" y="653"/>
                        </a:lnTo>
                        <a:lnTo>
                          <a:pt x="493" y="643"/>
                        </a:lnTo>
                        <a:lnTo>
                          <a:pt x="508" y="556"/>
                        </a:lnTo>
                        <a:lnTo>
                          <a:pt x="506" y="512"/>
                        </a:lnTo>
                        <a:lnTo>
                          <a:pt x="508" y="466"/>
                        </a:lnTo>
                        <a:lnTo>
                          <a:pt x="518" y="430"/>
                        </a:lnTo>
                        <a:lnTo>
                          <a:pt x="538" y="393"/>
                        </a:lnTo>
                        <a:lnTo>
                          <a:pt x="565" y="354"/>
                        </a:lnTo>
                        <a:lnTo>
                          <a:pt x="600" y="317"/>
                        </a:lnTo>
                        <a:lnTo>
                          <a:pt x="642" y="281"/>
                        </a:lnTo>
                        <a:lnTo>
                          <a:pt x="688" y="245"/>
                        </a:lnTo>
                        <a:lnTo>
                          <a:pt x="713" y="227"/>
                        </a:lnTo>
                        <a:lnTo>
                          <a:pt x="738" y="210"/>
                        </a:lnTo>
                        <a:lnTo>
                          <a:pt x="764" y="194"/>
                        </a:lnTo>
                        <a:lnTo>
                          <a:pt x="792" y="178"/>
                        </a:lnTo>
                        <a:lnTo>
                          <a:pt x="847" y="148"/>
                        </a:lnTo>
                        <a:lnTo>
                          <a:pt x="902" y="120"/>
                        </a:lnTo>
                        <a:lnTo>
                          <a:pt x="958" y="95"/>
                        </a:lnTo>
                        <a:lnTo>
                          <a:pt x="1011" y="75"/>
                        </a:lnTo>
                        <a:lnTo>
                          <a:pt x="1062" y="58"/>
                        </a:lnTo>
                        <a:lnTo>
                          <a:pt x="1110" y="45"/>
                        </a:lnTo>
                        <a:lnTo>
                          <a:pt x="1189" y="35"/>
                        </a:lnTo>
                        <a:lnTo>
                          <a:pt x="1254" y="42"/>
                        </a:lnTo>
                        <a:lnTo>
                          <a:pt x="1303" y="64"/>
                        </a:lnTo>
                        <a:lnTo>
                          <a:pt x="1369" y="135"/>
                        </a:lnTo>
                        <a:lnTo>
                          <a:pt x="1412" y="230"/>
                        </a:lnTo>
                        <a:lnTo>
                          <a:pt x="1434" y="281"/>
                        </a:lnTo>
                        <a:lnTo>
                          <a:pt x="1459" y="330"/>
                        </a:lnTo>
                        <a:lnTo>
                          <a:pt x="1476" y="352"/>
                        </a:lnTo>
                        <a:lnTo>
                          <a:pt x="1495" y="367"/>
                        </a:lnTo>
                        <a:lnTo>
                          <a:pt x="1543" y="377"/>
                        </a:lnTo>
                        <a:lnTo>
                          <a:pt x="1660" y="350"/>
                        </a:lnTo>
                        <a:lnTo>
                          <a:pt x="1723" y="321"/>
                        </a:lnTo>
                        <a:lnTo>
                          <a:pt x="1782" y="291"/>
                        </a:lnTo>
                        <a:lnTo>
                          <a:pt x="1833" y="262"/>
                        </a:lnTo>
                        <a:lnTo>
                          <a:pt x="1875" y="243"/>
                        </a:lnTo>
                        <a:lnTo>
                          <a:pt x="2036" y="176"/>
                        </a:lnTo>
                        <a:lnTo>
                          <a:pt x="2016" y="120"/>
                        </a:lnTo>
                        <a:lnTo>
                          <a:pt x="1999" y="98"/>
                        </a:lnTo>
                        <a:lnTo>
                          <a:pt x="1977" y="76"/>
                        </a:lnTo>
                        <a:lnTo>
                          <a:pt x="1940" y="34"/>
                        </a:lnTo>
                        <a:lnTo>
                          <a:pt x="1944" y="9"/>
                        </a:lnTo>
                        <a:lnTo>
                          <a:pt x="1978" y="0"/>
                        </a:lnTo>
                        <a:lnTo>
                          <a:pt x="2031" y="9"/>
                        </a:lnTo>
                        <a:lnTo>
                          <a:pt x="2092" y="35"/>
                        </a:lnTo>
                        <a:lnTo>
                          <a:pt x="2150" y="77"/>
                        </a:lnTo>
                        <a:lnTo>
                          <a:pt x="2193" y="138"/>
                        </a:lnTo>
                        <a:lnTo>
                          <a:pt x="2210" y="216"/>
                        </a:lnTo>
                        <a:lnTo>
                          <a:pt x="2194" y="293"/>
                        </a:lnTo>
                        <a:lnTo>
                          <a:pt x="2174" y="327"/>
                        </a:lnTo>
                        <a:lnTo>
                          <a:pt x="2149" y="358"/>
                        </a:lnTo>
                        <a:lnTo>
                          <a:pt x="2116" y="387"/>
                        </a:lnTo>
                        <a:lnTo>
                          <a:pt x="2079" y="413"/>
                        </a:lnTo>
                        <a:lnTo>
                          <a:pt x="2040" y="436"/>
                        </a:lnTo>
                        <a:lnTo>
                          <a:pt x="1996" y="458"/>
                        </a:lnTo>
                        <a:lnTo>
                          <a:pt x="1951" y="476"/>
                        </a:lnTo>
                        <a:lnTo>
                          <a:pt x="1904" y="491"/>
                        </a:lnTo>
                        <a:lnTo>
                          <a:pt x="1812" y="517"/>
                        </a:lnTo>
                        <a:lnTo>
                          <a:pt x="1725" y="532"/>
                        </a:lnTo>
                        <a:lnTo>
                          <a:pt x="1653" y="539"/>
                        </a:lnTo>
                        <a:lnTo>
                          <a:pt x="1543" y="526"/>
                        </a:lnTo>
                        <a:lnTo>
                          <a:pt x="1466" y="484"/>
                        </a:lnTo>
                        <a:lnTo>
                          <a:pt x="1413" y="423"/>
                        </a:lnTo>
                        <a:lnTo>
                          <a:pt x="1375" y="352"/>
                        </a:lnTo>
                        <a:lnTo>
                          <a:pt x="1343" y="280"/>
                        </a:lnTo>
                        <a:lnTo>
                          <a:pt x="1307" y="218"/>
                        </a:lnTo>
                        <a:lnTo>
                          <a:pt x="1285" y="192"/>
                        </a:lnTo>
                        <a:lnTo>
                          <a:pt x="1260" y="173"/>
                        </a:lnTo>
                        <a:lnTo>
                          <a:pt x="1229" y="161"/>
                        </a:lnTo>
                        <a:lnTo>
                          <a:pt x="1190" y="156"/>
                        </a:lnTo>
                        <a:lnTo>
                          <a:pt x="1057" y="192"/>
                        </a:lnTo>
                        <a:lnTo>
                          <a:pt x="1010" y="212"/>
                        </a:lnTo>
                        <a:lnTo>
                          <a:pt x="961" y="232"/>
                        </a:lnTo>
                        <a:lnTo>
                          <a:pt x="911" y="256"/>
                        </a:lnTo>
                        <a:lnTo>
                          <a:pt x="860" y="280"/>
                        </a:lnTo>
                        <a:lnTo>
                          <a:pt x="811" y="306"/>
                        </a:lnTo>
                        <a:lnTo>
                          <a:pt x="763" y="333"/>
                        </a:lnTo>
                        <a:lnTo>
                          <a:pt x="720" y="359"/>
                        </a:lnTo>
                        <a:lnTo>
                          <a:pt x="680" y="386"/>
                        </a:lnTo>
                        <a:lnTo>
                          <a:pt x="595" y="478"/>
                        </a:lnTo>
                        <a:lnTo>
                          <a:pt x="592" y="551"/>
                        </a:lnTo>
                        <a:lnTo>
                          <a:pt x="601" y="614"/>
                        </a:lnTo>
                        <a:lnTo>
                          <a:pt x="620" y="713"/>
                        </a:lnTo>
                        <a:lnTo>
                          <a:pt x="612" y="754"/>
                        </a:lnTo>
                        <a:lnTo>
                          <a:pt x="599" y="775"/>
                        </a:lnTo>
                        <a:lnTo>
                          <a:pt x="578" y="794"/>
                        </a:lnTo>
                        <a:lnTo>
                          <a:pt x="550" y="814"/>
                        </a:lnTo>
                        <a:lnTo>
                          <a:pt x="510" y="834"/>
                        </a:lnTo>
                        <a:lnTo>
                          <a:pt x="460" y="854"/>
                        </a:lnTo>
                        <a:lnTo>
                          <a:pt x="399" y="876"/>
                        </a:lnTo>
                        <a:lnTo>
                          <a:pt x="310" y="898"/>
                        </a:lnTo>
                        <a:lnTo>
                          <a:pt x="209" y="912"/>
                        </a:lnTo>
                        <a:lnTo>
                          <a:pt x="112" y="902"/>
                        </a:lnTo>
                        <a:lnTo>
                          <a:pt x="31" y="859"/>
                        </a:lnTo>
                        <a:lnTo>
                          <a:pt x="5" y="807"/>
                        </a:lnTo>
                        <a:lnTo>
                          <a:pt x="0" y="735"/>
                        </a:lnTo>
                        <a:lnTo>
                          <a:pt x="12" y="656"/>
                        </a:lnTo>
                        <a:lnTo>
                          <a:pt x="35" y="579"/>
                        </a:lnTo>
                        <a:lnTo>
                          <a:pt x="64" y="514"/>
                        </a:lnTo>
                        <a:lnTo>
                          <a:pt x="90" y="473"/>
                        </a:lnTo>
                        <a:lnTo>
                          <a:pt x="109" y="466"/>
                        </a:lnTo>
                        <a:lnTo>
                          <a:pt x="115" y="505"/>
                        </a:lnTo>
                        <a:lnTo>
                          <a:pt x="109" y="769"/>
                        </a:lnTo>
                        <a:lnTo>
                          <a:pt x="109" y="7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5763960" y="2691720"/>
                  <a:ext cx="514440" cy="249840"/>
                </a:xfrm>
                <a:custGeom>
                  <a:avLst/>
                  <a:gdLst/>
                  <a:ahLst/>
                  <a:rect l="l" t="t" r="r" b="b"/>
                  <a:pathLst>
                    <a:path w="1591" h="1150">
                      <a:moveTo>
                        <a:pt x="634" y="144"/>
                      </a:moveTo>
                      <a:lnTo>
                        <a:pt x="609" y="304"/>
                      </a:lnTo>
                      <a:lnTo>
                        <a:pt x="592" y="381"/>
                      </a:lnTo>
                      <a:lnTo>
                        <a:pt x="573" y="456"/>
                      </a:lnTo>
                      <a:lnTo>
                        <a:pt x="549" y="530"/>
                      </a:lnTo>
                      <a:lnTo>
                        <a:pt x="520" y="603"/>
                      </a:lnTo>
                      <a:lnTo>
                        <a:pt x="503" y="639"/>
                      </a:lnTo>
                      <a:lnTo>
                        <a:pt x="484" y="675"/>
                      </a:lnTo>
                      <a:lnTo>
                        <a:pt x="463" y="710"/>
                      </a:lnTo>
                      <a:lnTo>
                        <a:pt x="441" y="746"/>
                      </a:lnTo>
                      <a:lnTo>
                        <a:pt x="409" y="790"/>
                      </a:lnTo>
                      <a:lnTo>
                        <a:pt x="389" y="817"/>
                      </a:lnTo>
                      <a:lnTo>
                        <a:pt x="367" y="845"/>
                      </a:lnTo>
                      <a:lnTo>
                        <a:pt x="343" y="875"/>
                      </a:lnTo>
                      <a:lnTo>
                        <a:pt x="317" y="907"/>
                      </a:lnTo>
                      <a:lnTo>
                        <a:pt x="291" y="938"/>
                      </a:lnTo>
                      <a:lnTo>
                        <a:pt x="263" y="969"/>
                      </a:lnTo>
                      <a:lnTo>
                        <a:pt x="235" y="1000"/>
                      </a:lnTo>
                      <a:lnTo>
                        <a:pt x="207" y="1029"/>
                      </a:lnTo>
                      <a:lnTo>
                        <a:pt x="179" y="1057"/>
                      </a:lnTo>
                      <a:lnTo>
                        <a:pt x="152" y="1082"/>
                      </a:lnTo>
                      <a:lnTo>
                        <a:pt x="100" y="1123"/>
                      </a:lnTo>
                      <a:lnTo>
                        <a:pt x="56" y="1147"/>
                      </a:lnTo>
                      <a:lnTo>
                        <a:pt x="24" y="1150"/>
                      </a:lnTo>
                      <a:lnTo>
                        <a:pt x="5" y="1139"/>
                      </a:lnTo>
                      <a:lnTo>
                        <a:pt x="0" y="1118"/>
                      </a:lnTo>
                      <a:lnTo>
                        <a:pt x="12" y="1089"/>
                      </a:lnTo>
                      <a:lnTo>
                        <a:pt x="41" y="1049"/>
                      </a:lnTo>
                      <a:lnTo>
                        <a:pt x="71" y="1012"/>
                      </a:lnTo>
                      <a:lnTo>
                        <a:pt x="101" y="976"/>
                      </a:lnTo>
                      <a:lnTo>
                        <a:pt x="132" y="941"/>
                      </a:lnTo>
                      <a:lnTo>
                        <a:pt x="164" y="908"/>
                      </a:lnTo>
                      <a:lnTo>
                        <a:pt x="195" y="875"/>
                      </a:lnTo>
                      <a:lnTo>
                        <a:pt x="225" y="842"/>
                      </a:lnTo>
                      <a:lnTo>
                        <a:pt x="255" y="808"/>
                      </a:lnTo>
                      <a:lnTo>
                        <a:pt x="285" y="773"/>
                      </a:lnTo>
                      <a:lnTo>
                        <a:pt x="312" y="739"/>
                      </a:lnTo>
                      <a:lnTo>
                        <a:pt x="339" y="701"/>
                      </a:lnTo>
                      <a:lnTo>
                        <a:pt x="364" y="663"/>
                      </a:lnTo>
                      <a:lnTo>
                        <a:pt x="407" y="579"/>
                      </a:lnTo>
                      <a:lnTo>
                        <a:pt x="441" y="482"/>
                      </a:lnTo>
                      <a:lnTo>
                        <a:pt x="459" y="392"/>
                      </a:lnTo>
                      <a:lnTo>
                        <a:pt x="481" y="263"/>
                      </a:lnTo>
                      <a:lnTo>
                        <a:pt x="505" y="142"/>
                      </a:lnTo>
                      <a:lnTo>
                        <a:pt x="527" y="72"/>
                      </a:lnTo>
                      <a:lnTo>
                        <a:pt x="555" y="43"/>
                      </a:lnTo>
                      <a:lnTo>
                        <a:pt x="589" y="22"/>
                      </a:lnTo>
                      <a:lnTo>
                        <a:pt x="631" y="7"/>
                      </a:lnTo>
                      <a:lnTo>
                        <a:pt x="676" y="0"/>
                      </a:lnTo>
                      <a:lnTo>
                        <a:pt x="763" y="9"/>
                      </a:lnTo>
                      <a:lnTo>
                        <a:pt x="833" y="49"/>
                      </a:lnTo>
                      <a:lnTo>
                        <a:pt x="868" y="87"/>
                      </a:lnTo>
                      <a:lnTo>
                        <a:pt x="899" y="113"/>
                      </a:lnTo>
                      <a:lnTo>
                        <a:pt x="928" y="131"/>
                      </a:lnTo>
                      <a:lnTo>
                        <a:pt x="956" y="143"/>
                      </a:lnTo>
                      <a:lnTo>
                        <a:pt x="1112" y="161"/>
                      </a:lnTo>
                      <a:lnTo>
                        <a:pt x="1341" y="183"/>
                      </a:lnTo>
                      <a:lnTo>
                        <a:pt x="1559" y="222"/>
                      </a:lnTo>
                      <a:lnTo>
                        <a:pt x="1591" y="262"/>
                      </a:lnTo>
                      <a:lnTo>
                        <a:pt x="1580" y="281"/>
                      </a:lnTo>
                      <a:lnTo>
                        <a:pt x="1551" y="294"/>
                      </a:lnTo>
                      <a:lnTo>
                        <a:pt x="1452" y="309"/>
                      </a:lnTo>
                      <a:lnTo>
                        <a:pt x="1328" y="316"/>
                      </a:lnTo>
                      <a:lnTo>
                        <a:pt x="1100" y="314"/>
                      </a:lnTo>
                      <a:lnTo>
                        <a:pt x="1027" y="297"/>
                      </a:lnTo>
                      <a:lnTo>
                        <a:pt x="958" y="265"/>
                      </a:lnTo>
                      <a:lnTo>
                        <a:pt x="924" y="246"/>
                      </a:lnTo>
                      <a:lnTo>
                        <a:pt x="890" y="226"/>
                      </a:lnTo>
                      <a:lnTo>
                        <a:pt x="859" y="205"/>
                      </a:lnTo>
                      <a:lnTo>
                        <a:pt x="828" y="185"/>
                      </a:lnTo>
                      <a:lnTo>
                        <a:pt x="798" y="166"/>
                      </a:lnTo>
                      <a:lnTo>
                        <a:pt x="770" y="149"/>
                      </a:lnTo>
                      <a:lnTo>
                        <a:pt x="718" y="126"/>
                      </a:lnTo>
                      <a:lnTo>
                        <a:pt x="672" y="121"/>
                      </a:lnTo>
                      <a:lnTo>
                        <a:pt x="634" y="144"/>
                      </a:lnTo>
                      <a:lnTo>
                        <a:pt x="63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298200" y="2701440"/>
                  <a:ext cx="176040" cy="68400"/>
                </a:xfrm>
                <a:custGeom>
                  <a:avLst/>
                  <a:gdLst/>
                  <a:ahLst/>
                  <a:rect l="l" t="t" r="r" b="b"/>
                  <a:pathLst>
                    <a:path w="543" h="315">
                      <a:moveTo>
                        <a:pt x="9" y="171"/>
                      </a:moveTo>
                      <a:lnTo>
                        <a:pt x="39" y="130"/>
                      </a:lnTo>
                      <a:lnTo>
                        <a:pt x="59" y="104"/>
                      </a:lnTo>
                      <a:lnTo>
                        <a:pt x="79" y="78"/>
                      </a:lnTo>
                      <a:lnTo>
                        <a:pt x="102" y="51"/>
                      </a:lnTo>
                      <a:lnTo>
                        <a:pt x="123" y="28"/>
                      </a:lnTo>
                      <a:lnTo>
                        <a:pt x="144" y="10"/>
                      </a:lnTo>
                      <a:lnTo>
                        <a:pt x="162" y="0"/>
                      </a:lnTo>
                      <a:lnTo>
                        <a:pt x="231" y="2"/>
                      </a:lnTo>
                      <a:lnTo>
                        <a:pt x="300" y="18"/>
                      </a:lnTo>
                      <a:lnTo>
                        <a:pt x="334" y="44"/>
                      </a:lnTo>
                      <a:lnTo>
                        <a:pt x="357" y="88"/>
                      </a:lnTo>
                      <a:lnTo>
                        <a:pt x="375" y="138"/>
                      </a:lnTo>
                      <a:lnTo>
                        <a:pt x="394" y="177"/>
                      </a:lnTo>
                      <a:lnTo>
                        <a:pt x="433" y="186"/>
                      </a:lnTo>
                      <a:lnTo>
                        <a:pt x="475" y="175"/>
                      </a:lnTo>
                      <a:lnTo>
                        <a:pt x="526" y="196"/>
                      </a:lnTo>
                      <a:lnTo>
                        <a:pt x="543" y="246"/>
                      </a:lnTo>
                      <a:lnTo>
                        <a:pt x="540" y="271"/>
                      </a:lnTo>
                      <a:lnTo>
                        <a:pt x="526" y="294"/>
                      </a:lnTo>
                      <a:lnTo>
                        <a:pt x="505" y="309"/>
                      </a:lnTo>
                      <a:lnTo>
                        <a:pt x="475" y="315"/>
                      </a:lnTo>
                      <a:lnTo>
                        <a:pt x="364" y="306"/>
                      </a:lnTo>
                      <a:lnTo>
                        <a:pt x="315" y="284"/>
                      </a:lnTo>
                      <a:lnTo>
                        <a:pt x="278" y="242"/>
                      </a:lnTo>
                      <a:lnTo>
                        <a:pt x="264" y="166"/>
                      </a:lnTo>
                      <a:lnTo>
                        <a:pt x="253" y="129"/>
                      </a:lnTo>
                      <a:lnTo>
                        <a:pt x="230" y="109"/>
                      </a:lnTo>
                      <a:lnTo>
                        <a:pt x="174" y="112"/>
                      </a:lnTo>
                      <a:lnTo>
                        <a:pt x="132" y="142"/>
                      </a:lnTo>
                      <a:lnTo>
                        <a:pt x="96" y="184"/>
                      </a:lnTo>
                      <a:lnTo>
                        <a:pt x="61" y="222"/>
                      </a:lnTo>
                      <a:lnTo>
                        <a:pt x="32" y="233"/>
                      </a:lnTo>
                      <a:lnTo>
                        <a:pt x="11" y="224"/>
                      </a:lnTo>
                      <a:lnTo>
                        <a:pt x="0" y="20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741280" y="2961360"/>
                  <a:ext cx="815760" cy="126000"/>
                </a:xfrm>
                <a:custGeom>
                  <a:avLst/>
                  <a:gdLst/>
                  <a:ahLst/>
                  <a:rect l="l" t="t" r="r" b="b"/>
                  <a:pathLst>
                    <a:path w="2521" h="578">
                      <a:moveTo>
                        <a:pt x="120" y="218"/>
                      </a:moveTo>
                      <a:lnTo>
                        <a:pt x="627" y="246"/>
                      </a:lnTo>
                      <a:lnTo>
                        <a:pt x="1133" y="278"/>
                      </a:lnTo>
                      <a:lnTo>
                        <a:pt x="1282" y="304"/>
                      </a:lnTo>
                      <a:lnTo>
                        <a:pt x="1393" y="327"/>
                      </a:lnTo>
                      <a:lnTo>
                        <a:pt x="1511" y="352"/>
                      </a:lnTo>
                      <a:lnTo>
                        <a:pt x="1625" y="378"/>
                      </a:lnTo>
                      <a:lnTo>
                        <a:pt x="1721" y="399"/>
                      </a:lnTo>
                      <a:lnTo>
                        <a:pt x="1812" y="421"/>
                      </a:lnTo>
                      <a:lnTo>
                        <a:pt x="1875" y="402"/>
                      </a:lnTo>
                      <a:lnTo>
                        <a:pt x="1915" y="385"/>
                      </a:lnTo>
                      <a:lnTo>
                        <a:pt x="1958" y="364"/>
                      </a:lnTo>
                      <a:lnTo>
                        <a:pt x="2005" y="342"/>
                      </a:lnTo>
                      <a:lnTo>
                        <a:pt x="2053" y="315"/>
                      </a:lnTo>
                      <a:lnTo>
                        <a:pt x="2103" y="288"/>
                      </a:lnTo>
                      <a:lnTo>
                        <a:pt x="2152" y="259"/>
                      </a:lnTo>
                      <a:lnTo>
                        <a:pt x="2203" y="229"/>
                      </a:lnTo>
                      <a:lnTo>
                        <a:pt x="2251" y="200"/>
                      </a:lnTo>
                      <a:lnTo>
                        <a:pt x="2298" y="171"/>
                      </a:lnTo>
                      <a:lnTo>
                        <a:pt x="2341" y="145"/>
                      </a:lnTo>
                      <a:lnTo>
                        <a:pt x="2380" y="121"/>
                      </a:lnTo>
                      <a:lnTo>
                        <a:pt x="2415" y="99"/>
                      </a:lnTo>
                      <a:lnTo>
                        <a:pt x="2445" y="81"/>
                      </a:lnTo>
                      <a:lnTo>
                        <a:pt x="2468" y="68"/>
                      </a:lnTo>
                      <a:lnTo>
                        <a:pt x="2504" y="51"/>
                      </a:lnTo>
                      <a:lnTo>
                        <a:pt x="2521" y="50"/>
                      </a:lnTo>
                      <a:lnTo>
                        <a:pt x="2516" y="81"/>
                      </a:lnTo>
                      <a:lnTo>
                        <a:pt x="2501" y="105"/>
                      </a:lnTo>
                      <a:lnTo>
                        <a:pt x="2483" y="129"/>
                      </a:lnTo>
                      <a:lnTo>
                        <a:pt x="2455" y="162"/>
                      </a:lnTo>
                      <a:lnTo>
                        <a:pt x="2406" y="200"/>
                      </a:lnTo>
                      <a:lnTo>
                        <a:pt x="2371" y="226"/>
                      </a:lnTo>
                      <a:lnTo>
                        <a:pt x="2331" y="256"/>
                      </a:lnTo>
                      <a:lnTo>
                        <a:pt x="2310" y="272"/>
                      </a:lnTo>
                      <a:lnTo>
                        <a:pt x="2287" y="289"/>
                      </a:lnTo>
                      <a:lnTo>
                        <a:pt x="2263" y="306"/>
                      </a:lnTo>
                      <a:lnTo>
                        <a:pt x="2239" y="322"/>
                      </a:lnTo>
                      <a:lnTo>
                        <a:pt x="2215" y="340"/>
                      </a:lnTo>
                      <a:lnTo>
                        <a:pt x="2190" y="358"/>
                      </a:lnTo>
                      <a:lnTo>
                        <a:pt x="2164" y="376"/>
                      </a:lnTo>
                      <a:lnTo>
                        <a:pt x="2139" y="393"/>
                      </a:lnTo>
                      <a:lnTo>
                        <a:pt x="2114" y="411"/>
                      </a:lnTo>
                      <a:lnTo>
                        <a:pt x="2089" y="428"/>
                      </a:lnTo>
                      <a:lnTo>
                        <a:pt x="2064" y="445"/>
                      </a:lnTo>
                      <a:lnTo>
                        <a:pt x="2040" y="461"/>
                      </a:lnTo>
                      <a:lnTo>
                        <a:pt x="1992" y="492"/>
                      </a:lnTo>
                      <a:lnTo>
                        <a:pt x="1948" y="519"/>
                      </a:lnTo>
                      <a:lnTo>
                        <a:pt x="1909" y="542"/>
                      </a:lnTo>
                      <a:lnTo>
                        <a:pt x="1875" y="560"/>
                      </a:lnTo>
                      <a:lnTo>
                        <a:pt x="1829" y="578"/>
                      </a:lnTo>
                      <a:lnTo>
                        <a:pt x="1721" y="557"/>
                      </a:lnTo>
                      <a:lnTo>
                        <a:pt x="1623" y="533"/>
                      </a:lnTo>
                      <a:lnTo>
                        <a:pt x="1512" y="505"/>
                      </a:lnTo>
                      <a:lnTo>
                        <a:pt x="1395" y="475"/>
                      </a:lnTo>
                      <a:lnTo>
                        <a:pt x="1285" y="449"/>
                      </a:lnTo>
                      <a:lnTo>
                        <a:pt x="1190" y="428"/>
                      </a:lnTo>
                      <a:lnTo>
                        <a:pt x="1123" y="419"/>
                      </a:lnTo>
                      <a:lnTo>
                        <a:pt x="377" y="386"/>
                      </a:lnTo>
                      <a:lnTo>
                        <a:pt x="220" y="356"/>
                      </a:lnTo>
                      <a:lnTo>
                        <a:pt x="142" y="343"/>
                      </a:lnTo>
                      <a:lnTo>
                        <a:pt x="63" y="337"/>
                      </a:lnTo>
                      <a:lnTo>
                        <a:pt x="17" y="301"/>
                      </a:lnTo>
                      <a:lnTo>
                        <a:pt x="3" y="217"/>
                      </a:lnTo>
                      <a:lnTo>
                        <a:pt x="0" y="52"/>
                      </a:lnTo>
                      <a:lnTo>
                        <a:pt x="0" y="16"/>
                      </a:lnTo>
                      <a:lnTo>
                        <a:pt x="9" y="0"/>
                      </a:lnTo>
                      <a:lnTo>
                        <a:pt x="47" y="19"/>
                      </a:lnTo>
                      <a:lnTo>
                        <a:pt x="92" y="97"/>
                      </a:lnTo>
                      <a:lnTo>
                        <a:pt x="120" y="218"/>
                      </a:lnTo>
                      <a:lnTo>
                        <a:pt x="12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982480" y="2780640"/>
                  <a:ext cx="343080" cy="189360"/>
                </a:xfrm>
                <a:custGeom>
                  <a:avLst/>
                  <a:gdLst/>
                  <a:ahLst/>
                  <a:rect l="l" t="t" r="r" b="b"/>
                  <a:pathLst>
                    <a:path w="1057" h="868">
                      <a:moveTo>
                        <a:pt x="685" y="195"/>
                      </a:moveTo>
                      <a:lnTo>
                        <a:pt x="653" y="151"/>
                      </a:lnTo>
                      <a:lnTo>
                        <a:pt x="613" y="115"/>
                      </a:lnTo>
                      <a:lnTo>
                        <a:pt x="570" y="98"/>
                      </a:lnTo>
                      <a:lnTo>
                        <a:pt x="524" y="86"/>
                      </a:lnTo>
                      <a:lnTo>
                        <a:pt x="433" y="80"/>
                      </a:lnTo>
                      <a:lnTo>
                        <a:pt x="343" y="96"/>
                      </a:lnTo>
                      <a:lnTo>
                        <a:pt x="260" y="131"/>
                      </a:lnTo>
                      <a:lnTo>
                        <a:pt x="223" y="156"/>
                      </a:lnTo>
                      <a:lnTo>
                        <a:pt x="189" y="185"/>
                      </a:lnTo>
                      <a:lnTo>
                        <a:pt x="134" y="254"/>
                      </a:lnTo>
                      <a:lnTo>
                        <a:pt x="102" y="338"/>
                      </a:lnTo>
                      <a:lnTo>
                        <a:pt x="96" y="434"/>
                      </a:lnTo>
                      <a:lnTo>
                        <a:pt x="108" y="496"/>
                      </a:lnTo>
                      <a:lnTo>
                        <a:pt x="133" y="548"/>
                      </a:lnTo>
                      <a:lnTo>
                        <a:pt x="150" y="572"/>
                      </a:lnTo>
                      <a:lnTo>
                        <a:pt x="169" y="593"/>
                      </a:lnTo>
                      <a:lnTo>
                        <a:pt x="213" y="629"/>
                      </a:lnTo>
                      <a:lnTo>
                        <a:pt x="238" y="644"/>
                      </a:lnTo>
                      <a:lnTo>
                        <a:pt x="266" y="656"/>
                      </a:lnTo>
                      <a:lnTo>
                        <a:pt x="325" y="678"/>
                      </a:lnTo>
                      <a:lnTo>
                        <a:pt x="387" y="691"/>
                      </a:lnTo>
                      <a:lnTo>
                        <a:pt x="452" y="698"/>
                      </a:lnTo>
                      <a:lnTo>
                        <a:pt x="582" y="694"/>
                      </a:lnTo>
                      <a:lnTo>
                        <a:pt x="701" y="668"/>
                      </a:lnTo>
                      <a:lnTo>
                        <a:pt x="797" y="625"/>
                      </a:lnTo>
                      <a:lnTo>
                        <a:pt x="855" y="568"/>
                      </a:lnTo>
                      <a:lnTo>
                        <a:pt x="878" y="510"/>
                      </a:lnTo>
                      <a:lnTo>
                        <a:pt x="874" y="470"/>
                      </a:lnTo>
                      <a:lnTo>
                        <a:pt x="850" y="434"/>
                      </a:lnTo>
                      <a:lnTo>
                        <a:pt x="815" y="390"/>
                      </a:lnTo>
                      <a:lnTo>
                        <a:pt x="820" y="360"/>
                      </a:lnTo>
                      <a:lnTo>
                        <a:pt x="841" y="348"/>
                      </a:lnTo>
                      <a:lnTo>
                        <a:pt x="866" y="337"/>
                      </a:lnTo>
                      <a:lnTo>
                        <a:pt x="923" y="325"/>
                      </a:lnTo>
                      <a:lnTo>
                        <a:pt x="967" y="332"/>
                      </a:lnTo>
                      <a:lnTo>
                        <a:pt x="1029" y="396"/>
                      </a:lnTo>
                      <a:lnTo>
                        <a:pt x="1057" y="467"/>
                      </a:lnTo>
                      <a:lnTo>
                        <a:pt x="1054" y="540"/>
                      </a:lnTo>
                      <a:lnTo>
                        <a:pt x="1043" y="577"/>
                      </a:lnTo>
                      <a:lnTo>
                        <a:pt x="1027" y="613"/>
                      </a:lnTo>
                      <a:lnTo>
                        <a:pt x="1006" y="648"/>
                      </a:lnTo>
                      <a:lnTo>
                        <a:pt x="981" y="682"/>
                      </a:lnTo>
                      <a:lnTo>
                        <a:pt x="952" y="713"/>
                      </a:lnTo>
                      <a:lnTo>
                        <a:pt x="922" y="742"/>
                      </a:lnTo>
                      <a:lnTo>
                        <a:pt x="889" y="768"/>
                      </a:lnTo>
                      <a:lnTo>
                        <a:pt x="855" y="791"/>
                      </a:lnTo>
                      <a:lnTo>
                        <a:pt x="820" y="810"/>
                      </a:lnTo>
                      <a:lnTo>
                        <a:pt x="785" y="823"/>
                      </a:lnTo>
                      <a:lnTo>
                        <a:pt x="728" y="841"/>
                      </a:lnTo>
                      <a:lnTo>
                        <a:pt x="667" y="855"/>
                      </a:lnTo>
                      <a:lnTo>
                        <a:pt x="540" y="868"/>
                      </a:lnTo>
                      <a:lnTo>
                        <a:pt x="412" y="861"/>
                      </a:lnTo>
                      <a:lnTo>
                        <a:pt x="290" y="833"/>
                      </a:lnTo>
                      <a:lnTo>
                        <a:pt x="234" y="810"/>
                      </a:lnTo>
                      <a:lnTo>
                        <a:pt x="181" y="781"/>
                      </a:lnTo>
                      <a:lnTo>
                        <a:pt x="92" y="704"/>
                      </a:lnTo>
                      <a:lnTo>
                        <a:pt x="30" y="601"/>
                      </a:lnTo>
                      <a:lnTo>
                        <a:pt x="0" y="470"/>
                      </a:lnTo>
                      <a:lnTo>
                        <a:pt x="7" y="324"/>
                      </a:lnTo>
                      <a:lnTo>
                        <a:pt x="24" y="260"/>
                      </a:lnTo>
                      <a:lnTo>
                        <a:pt x="47" y="204"/>
                      </a:lnTo>
                      <a:lnTo>
                        <a:pt x="78" y="155"/>
                      </a:lnTo>
                      <a:lnTo>
                        <a:pt x="114" y="113"/>
                      </a:lnTo>
                      <a:lnTo>
                        <a:pt x="157" y="77"/>
                      </a:lnTo>
                      <a:lnTo>
                        <a:pt x="180" y="61"/>
                      </a:lnTo>
                      <a:lnTo>
                        <a:pt x="204" y="47"/>
                      </a:lnTo>
                      <a:lnTo>
                        <a:pt x="255" y="25"/>
                      </a:lnTo>
                      <a:lnTo>
                        <a:pt x="310" y="9"/>
                      </a:lnTo>
                      <a:lnTo>
                        <a:pt x="430" y="0"/>
                      </a:lnTo>
                      <a:lnTo>
                        <a:pt x="556" y="18"/>
                      </a:lnTo>
                      <a:lnTo>
                        <a:pt x="686" y="65"/>
                      </a:lnTo>
                      <a:lnTo>
                        <a:pt x="794" y="101"/>
                      </a:lnTo>
                      <a:lnTo>
                        <a:pt x="811" y="143"/>
                      </a:lnTo>
                      <a:lnTo>
                        <a:pt x="803" y="168"/>
                      </a:lnTo>
                      <a:lnTo>
                        <a:pt x="789" y="191"/>
                      </a:lnTo>
                      <a:lnTo>
                        <a:pt x="767" y="209"/>
                      </a:lnTo>
                      <a:lnTo>
                        <a:pt x="741" y="218"/>
                      </a:lnTo>
                      <a:lnTo>
                        <a:pt x="685" y="195"/>
                      </a:lnTo>
                      <a:lnTo>
                        <a:pt x="685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176520" y="2819880"/>
                  <a:ext cx="186120" cy="60840"/>
                </a:xfrm>
                <a:custGeom>
                  <a:avLst/>
                  <a:gdLst/>
                  <a:ahLst/>
                  <a:rect l="l" t="t" r="r" b="b"/>
                  <a:pathLst>
                    <a:path w="574" h="279">
                      <a:moveTo>
                        <a:pt x="393" y="193"/>
                      </a:moveTo>
                      <a:lnTo>
                        <a:pt x="355" y="212"/>
                      </a:lnTo>
                      <a:lnTo>
                        <a:pt x="312" y="231"/>
                      </a:lnTo>
                      <a:lnTo>
                        <a:pt x="265" y="248"/>
                      </a:lnTo>
                      <a:lnTo>
                        <a:pt x="216" y="264"/>
                      </a:lnTo>
                      <a:lnTo>
                        <a:pt x="119" y="279"/>
                      </a:lnTo>
                      <a:lnTo>
                        <a:pt x="31" y="270"/>
                      </a:lnTo>
                      <a:lnTo>
                        <a:pt x="6" y="251"/>
                      </a:lnTo>
                      <a:lnTo>
                        <a:pt x="0" y="228"/>
                      </a:lnTo>
                      <a:lnTo>
                        <a:pt x="14" y="207"/>
                      </a:lnTo>
                      <a:lnTo>
                        <a:pt x="41" y="198"/>
                      </a:lnTo>
                      <a:lnTo>
                        <a:pt x="166" y="181"/>
                      </a:lnTo>
                      <a:lnTo>
                        <a:pt x="250" y="139"/>
                      </a:lnTo>
                      <a:lnTo>
                        <a:pt x="323" y="80"/>
                      </a:lnTo>
                      <a:lnTo>
                        <a:pt x="343" y="64"/>
                      </a:lnTo>
                      <a:lnTo>
                        <a:pt x="366" y="48"/>
                      </a:lnTo>
                      <a:lnTo>
                        <a:pt x="390" y="32"/>
                      </a:lnTo>
                      <a:lnTo>
                        <a:pt x="418" y="15"/>
                      </a:lnTo>
                      <a:lnTo>
                        <a:pt x="457" y="0"/>
                      </a:lnTo>
                      <a:lnTo>
                        <a:pt x="484" y="3"/>
                      </a:lnTo>
                      <a:lnTo>
                        <a:pt x="522" y="57"/>
                      </a:lnTo>
                      <a:lnTo>
                        <a:pt x="545" y="87"/>
                      </a:lnTo>
                      <a:lnTo>
                        <a:pt x="566" y="117"/>
                      </a:lnTo>
                      <a:lnTo>
                        <a:pt x="574" y="156"/>
                      </a:lnTo>
                      <a:lnTo>
                        <a:pt x="564" y="188"/>
                      </a:lnTo>
                      <a:lnTo>
                        <a:pt x="544" y="215"/>
                      </a:lnTo>
                      <a:lnTo>
                        <a:pt x="515" y="234"/>
                      </a:lnTo>
                      <a:lnTo>
                        <a:pt x="448" y="240"/>
                      </a:lnTo>
                      <a:lnTo>
                        <a:pt x="393" y="193"/>
                      </a:lnTo>
                      <a:lnTo>
                        <a:pt x="393" y="1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063120" y="2694960"/>
                  <a:ext cx="139320" cy="60840"/>
                </a:xfrm>
                <a:custGeom>
                  <a:avLst/>
                  <a:gdLst/>
                  <a:ahLst/>
                  <a:rect l="l" t="t" r="r" b="b"/>
                  <a:pathLst>
                    <a:path w="429" h="277">
                      <a:moveTo>
                        <a:pt x="242" y="266"/>
                      </a:moveTo>
                      <a:lnTo>
                        <a:pt x="212" y="277"/>
                      </a:lnTo>
                      <a:lnTo>
                        <a:pt x="168" y="262"/>
                      </a:lnTo>
                      <a:lnTo>
                        <a:pt x="120" y="239"/>
                      </a:lnTo>
                      <a:lnTo>
                        <a:pt x="77" y="229"/>
                      </a:lnTo>
                      <a:lnTo>
                        <a:pt x="20" y="224"/>
                      </a:lnTo>
                      <a:lnTo>
                        <a:pt x="0" y="212"/>
                      </a:lnTo>
                      <a:lnTo>
                        <a:pt x="18" y="195"/>
                      </a:lnTo>
                      <a:lnTo>
                        <a:pt x="82" y="145"/>
                      </a:lnTo>
                      <a:lnTo>
                        <a:pt x="113" y="73"/>
                      </a:lnTo>
                      <a:lnTo>
                        <a:pt x="118" y="37"/>
                      </a:lnTo>
                      <a:lnTo>
                        <a:pt x="131" y="14"/>
                      </a:lnTo>
                      <a:lnTo>
                        <a:pt x="150" y="3"/>
                      </a:lnTo>
                      <a:lnTo>
                        <a:pt x="176" y="0"/>
                      </a:lnTo>
                      <a:lnTo>
                        <a:pt x="291" y="13"/>
                      </a:lnTo>
                      <a:lnTo>
                        <a:pt x="341" y="29"/>
                      </a:lnTo>
                      <a:lnTo>
                        <a:pt x="354" y="63"/>
                      </a:lnTo>
                      <a:lnTo>
                        <a:pt x="368" y="141"/>
                      </a:lnTo>
                      <a:lnTo>
                        <a:pt x="429" y="227"/>
                      </a:lnTo>
                      <a:lnTo>
                        <a:pt x="426" y="251"/>
                      </a:lnTo>
                      <a:lnTo>
                        <a:pt x="406" y="266"/>
                      </a:lnTo>
                      <a:lnTo>
                        <a:pt x="333" y="276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306120" y="2943000"/>
                  <a:ext cx="192600" cy="82440"/>
                </a:xfrm>
                <a:custGeom>
                  <a:avLst/>
                  <a:gdLst/>
                  <a:ahLst/>
                  <a:rect l="l" t="t" r="r" b="b"/>
                  <a:pathLst>
                    <a:path w="595" h="377">
                      <a:moveTo>
                        <a:pt x="27" y="333"/>
                      </a:moveTo>
                      <a:lnTo>
                        <a:pt x="24" y="282"/>
                      </a:lnTo>
                      <a:lnTo>
                        <a:pt x="9" y="232"/>
                      </a:lnTo>
                      <a:lnTo>
                        <a:pt x="0" y="183"/>
                      </a:lnTo>
                      <a:lnTo>
                        <a:pt x="9" y="138"/>
                      </a:lnTo>
                      <a:lnTo>
                        <a:pt x="26" y="117"/>
                      </a:lnTo>
                      <a:lnTo>
                        <a:pt x="46" y="98"/>
                      </a:lnTo>
                      <a:lnTo>
                        <a:pt x="72" y="83"/>
                      </a:lnTo>
                      <a:lnTo>
                        <a:pt x="99" y="71"/>
                      </a:lnTo>
                      <a:lnTo>
                        <a:pt x="163" y="54"/>
                      </a:lnTo>
                      <a:lnTo>
                        <a:pt x="233" y="45"/>
                      </a:lnTo>
                      <a:lnTo>
                        <a:pt x="495" y="5"/>
                      </a:lnTo>
                      <a:lnTo>
                        <a:pt x="541" y="0"/>
                      </a:lnTo>
                      <a:lnTo>
                        <a:pt x="578" y="16"/>
                      </a:lnTo>
                      <a:lnTo>
                        <a:pt x="595" y="45"/>
                      </a:lnTo>
                      <a:lnTo>
                        <a:pt x="590" y="59"/>
                      </a:lnTo>
                      <a:lnTo>
                        <a:pt x="575" y="72"/>
                      </a:lnTo>
                      <a:lnTo>
                        <a:pt x="550" y="86"/>
                      </a:lnTo>
                      <a:lnTo>
                        <a:pt x="506" y="104"/>
                      </a:lnTo>
                      <a:lnTo>
                        <a:pt x="451" y="124"/>
                      </a:lnTo>
                      <a:lnTo>
                        <a:pt x="388" y="146"/>
                      </a:lnTo>
                      <a:lnTo>
                        <a:pt x="325" y="168"/>
                      </a:lnTo>
                      <a:lnTo>
                        <a:pt x="267" y="188"/>
                      </a:lnTo>
                      <a:lnTo>
                        <a:pt x="188" y="213"/>
                      </a:lnTo>
                      <a:lnTo>
                        <a:pt x="163" y="210"/>
                      </a:lnTo>
                      <a:lnTo>
                        <a:pt x="141" y="215"/>
                      </a:lnTo>
                      <a:lnTo>
                        <a:pt x="114" y="281"/>
                      </a:lnTo>
                      <a:lnTo>
                        <a:pt x="96" y="351"/>
                      </a:lnTo>
                      <a:lnTo>
                        <a:pt x="78" y="375"/>
                      </a:lnTo>
                      <a:lnTo>
                        <a:pt x="54" y="377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96360" y="3026880"/>
                  <a:ext cx="101880" cy="37800"/>
                </a:xfrm>
                <a:custGeom>
                  <a:avLst/>
                  <a:gdLst/>
                  <a:ahLst/>
                  <a:rect l="l" t="t" r="r" b="b"/>
                  <a:pathLst>
                    <a:path w="314" h="175">
                      <a:moveTo>
                        <a:pt x="46" y="0"/>
                      </a:moveTo>
                      <a:lnTo>
                        <a:pt x="99" y="26"/>
                      </a:lnTo>
                      <a:lnTo>
                        <a:pt x="154" y="44"/>
                      </a:lnTo>
                      <a:lnTo>
                        <a:pt x="266" y="72"/>
                      </a:lnTo>
                      <a:lnTo>
                        <a:pt x="302" y="90"/>
                      </a:lnTo>
                      <a:lnTo>
                        <a:pt x="314" y="120"/>
                      </a:lnTo>
                      <a:lnTo>
                        <a:pt x="302" y="149"/>
                      </a:lnTo>
                      <a:lnTo>
                        <a:pt x="287" y="160"/>
                      </a:lnTo>
                      <a:lnTo>
                        <a:pt x="266" y="167"/>
                      </a:lnTo>
                      <a:lnTo>
                        <a:pt x="216" y="175"/>
                      </a:lnTo>
                      <a:lnTo>
                        <a:pt x="120" y="162"/>
                      </a:lnTo>
                      <a:lnTo>
                        <a:pt x="33" y="127"/>
                      </a:lnTo>
                      <a:lnTo>
                        <a:pt x="6" y="88"/>
                      </a:lnTo>
                      <a:lnTo>
                        <a:pt x="0" y="38"/>
                      </a:lnTo>
                      <a:lnTo>
                        <a:pt x="13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173280" y="3061440"/>
                  <a:ext cx="127800" cy="34560"/>
                </a:xfrm>
                <a:custGeom>
                  <a:avLst/>
                  <a:gdLst/>
                  <a:ahLst/>
                  <a:rect l="l" t="t" r="r" b="b"/>
                  <a:pathLst>
                    <a:path w="397" h="162">
                      <a:moveTo>
                        <a:pt x="64" y="0"/>
                      </a:moveTo>
                      <a:lnTo>
                        <a:pt x="363" y="1"/>
                      </a:lnTo>
                      <a:lnTo>
                        <a:pt x="385" y="5"/>
                      </a:lnTo>
                      <a:lnTo>
                        <a:pt x="397" y="20"/>
                      </a:lnTo>
                      <a:lnTo>
                        <a:pt x="391" y="68"/>
                      </a:lnTo>
                      <a:lnTo>
                        <a:pt x="376" y="95"/>
                      </a:lnTo>
                      <a:lnTo>
                        <a:pt x="355" y="120"/>
                      </a:lnTo>
                      <a:lnTo>
                        <a:pt x="330" y="138"/>
                      </a:lnTo>
                      <a:lnTo>
                        <a:pt x="301" y="149"/>
                      </a:lnTo>
                      <a:lnTo>
                        <a:pt x="241" y="161"/>
                      </a:lnTo>
                      <a:lnTo>
                        <a:pt x="181" y="162"/>
                      </a:lnTo>
                      <a:lnTo>
                        <a:pt x="127" y="146"/>
                      </a:lnTo>
                      <a:lnTo>
                        <a:pt x="73" y="136"/>
                      </a:lnTo>
                      <a:lnTo>
                        <a:pt x="20" y="115"/>
                      </a:lnTo>
                      <a:lnTo>
                        <a:pt x="0" y="71"/>
                      </a:lnTo>
                      <a:lnTo>
                        <a:pt x="15" y="25"/>
                      </a:lnTo>
                      <a:lnTo>
                        <a:pt x="35" y="1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463440" y="2988720"/>
                  <a:ext cx="98640" cy="46440"/>
                </a:xfrm>
                <a:custGeom>
                  <a:avLst/>
                  <a:gdLst/>
                  <a:ahLst/>
                  <a:rect l="l" t="t" r="r" b="b"/>
                  <a:pathLst>
                    <a:path w="306" h="213">
                      <a:moveTo>
                        <a:pt x="42" y="78"/>
                      </a:moveTo>
                      <a:lnTo>
                        <a:pt x="130" y="57"/>
                      </a:lnTo>
                      <a:lnTo>
                        <a:pt x="207" y="8"/>
                      </a:lnTo>
                      <a:lnTo>
                        <a:pt x="246" y="0"/>
                      </a:lnTo>
                      <a:lnTo>
                        <a:pt x="283" y="34"/>
                      </a:lnTo>
                      <a:lnTo>
                        <a:pt x="306" y="84"/>
                      </a:lnTo>
                      <a:lnTo>
                        <a:pt x="299" y="132"/>
                      </a:lnTo>
                      <a:lnTo>
                        <a:pt x="262" y="170"/>
                      </a:lnTo>
                      <a:lnTo>
                        <a:pt x="225" y="190"/>
                      </a:lnTo>
                      <a:lnTo>
                        <a:pt x="131" y="213"/>
                      </a:lnTo>
                      <a:lnTo>
                        <a:pt x="60" y="207"/>
                      </a:lnTo>
                      <a:lnTo>
                        <a:pt x="12" y="166"/>
                      </a:lnTo>
                      <a:lnTo>
                        <a:pt x="0" y="116"/>
                      </a:lnTo>
                      <a:lnTo>
                        <a:pt x="14" y="94"/>
                      </a:lnTo>
                      <a:lnTo>
                        <a:pt x="42" y="78"/>
                      </a:lnTo>
                      <a:lnTo>
                        <a:pt x="4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421320" y="2703600"/>
                  <a:ext cx="173160" cy="279720"/>
                </a:xfrm>
                <a:custGeom>
                  <a:avLst/>
                  <a:gdLst/>
                  <a:ahLst/>
                  <a:rect l="l" t="t" r="r" b="b"/>
                  <a:pathLst>
                    <a:path w="533" h="1289">
                      <a:moveTo>
                        <a:pt x="274" y="983"/>
                      </a:moveTo>
                      <a:lnTo>
                        <a:pt x="227" y="894"/>
                      </a:lnTo>
                      <a:lnTo>
                        <a:pt x="202" y="795"/>
                      </a:lnTo>
                      <a:lnTo>
                        <a:pt x="190" y="573"/>
                      </a:lnTo>
                      <a:lnTo>
                        <a:pt x="196" y="131"/>
                      </a:lnTo>
                      <a:lnTo>
                        <a:pt x="170" y="130"/>
                      </a:lnTo>
                      <a:lnTo>
                        <a:pt x="149" y="150"/>
                      </a:lnTo>
                      <a:lnTo>
                        <a:pt x="119" y="202"/>
                      </a:lnTo>
                      <a:lnTo>
                        <a:pt x="97" y="222"/>
                      </a:lnTo>
                      <a:lnTo>
                        <a:pt x="73" y="232"/>
                      </a:lnTo>
                      <a:lnTo>
                        <a:pt x="28" y="223"/>
                      </a:lnTo>
                      <a:lnTo>
                        <a:pt x="0" y="187"/>
                      </a:lnTo>
                      <a:lnTo>
                        <a:pt x="6" y="133"/>
                      </a:lnTo>
                      <a:lnTo>
                        <a:pt x="42" y="74"/>
                      </a:lnTo>
                      <a:lnTo>
                        <a:pt x="85" y="32"/>
                      </a:lnTo>
                      <a:lnTo>
                        <a:pt x="109" y="17"/>
                      </a:lnTo>
                      <a:lnTo>
                        <a:pt x="133" y="7"/>
                      </a:lnTo>
                      <a:lnTo>
                        <a:pt x="181" y="0"/>
                      </a:lnTo>
                      <a:lnTo>
                        <a:pt x="227" y="12"/>
                      </a:lnTo>
                      <a:lnTo>
                        <a:pt x="266" y="43"/>
                      </a:lnTo>
                      <a:lnTo>
                        <a:pt x="295" y="95"/>
                      </a:lnTo>
                      <a:lnTo>
                        <a:pt x="313" y="167"/>
                      </a:lnTo>
                      <a:lnTo>
                        <a:pt x="316" y="319"/>
                      </a:lnTo>
                      <a:lnTo>
                        <a:pt x="305" y="472"/>
                      </a:lnTo>
                      <a:lnTo>
                        <a:pt x="296" y="624"/>
                      </a:lnTo>
                      <a:lnTo>
                        <a:pt x="312" y="777"/>
                      </a:lnTo>
                      <a:lnTo>
                        <a:pt x="338" y="874"/>
                      </a:lnTo>
                      <a:lnTo>
                        <a:pt x="365" y="939"/>
                      </a:lnTo>
                      <a:lnTo>
                        <a:pt x="391" y="976"/>
                      </a:lnTo>
                      <a:lnTo>
                        <a:pt x="417" y="995"/>
                      </a:lnTo>
                      <a:lnTo>
                        <a:pt x="468" y="1012"/>
                      </a:lnTo>
                      <a:lnTo>
                        <a:pt x="512" y="1053"/>
                      </a:lnTo>
                      <a:lnTo>
                        <a:pt x="533" y="1154"/>
                      </a:lnTo>
                      <a:lnTo>
                        <a:pt x="523" y="1204"/>
                      </a:lnTo>
                      <a:lnTo>
                        <a:pt x="506" y="1246"/>
                      </a:lnTo>
                      <a:lnTo>
                        <a:pt x="486" y="1276"/>
                      </a:lnTo>
                      <a:lnTo>
                        <a:pt x="467" y="1289"/>
                      </a:lnTo>
                      <a:lnTo>
                        <a:pt x="452" y="1281"/>
                      </a:lnTo>
                      <a:lnTo>
                        <a:pt x="446" y="1246"/>
                      </a:lnTo>
                      <a:lnTo>
                        <a:pt x="452" y="1136"/>
                      </a:lnTo>
                      <a:lnTo>
                        <a:pt x="446" y="1110"/>
                      </a:lnTo>
                      <a:lnTo>
                        <a:pt x="434" y="1095"/>
                      </a:lnTo>
                      <a:lnTo>
                        <a:pt x="378" y="1106"/>
                      </a:lnTo>
                      <a:lnTo>
                        <a:pt x="311" y="1055"/>
                      </a:lnTo>
                      <a:lnTo>
                        <a:pt x="274" y="983"/>
                      </a:lnTo>
                      <a:lnTo>
                        <a:pt x="274" y="9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815800" y="2657880"/>
                  <a:ext cx="120960" cy="29160"/>
                </a:xfrm>
                <a:custGeom>
                  <a:avLst/>
                  <a:gdLst/>
                  <a:ahLst/>
                  <a:rect l="l" t="t" r="r" b="b"/>
                  <a:pathLst>
                    <a:path w="375" h="137">
                      <a:moveTo>
                        <a:pt x="22" y="73"/>
                      </a:moveTo>
                      <a:lnTo>
                        <a:pt x="58" y="56"/>
                      </a:lnTo>
                      <a:lnTo>
                        <a:pt x="114" y="31"/>
                      </a:lnTo>
                      <a:lnTo>
                        <a:pt x="169" y="9"/>
                      </a:lnTo>
                      <a:lnTo>
                        <a:pt x="200" y="0"/>
                      </a:lnTo>
                      <a:lnTo>
                        <a:pt x="329" y="21"/>
                      </a:lnTo>
                      <a:lnTo>
                        <a:pt x="365" y="42"/>
                      </a:lnTo>
                      <a:lnTo>
                        <a:pt x="375" y="74"/>
                      </a:lnTo>
                      <a:lnTo>
                        <a:pt x="361" y="105"/>
                      </a:lnTo>
                      <a:lnTo>
                        <a:pt x="345" y="116"/>
                      </a:lnTo>
                      <a:lnTo>
                        <a:pt x="323" y="122"/>
                      </a:lnTo>
                      <a:lnTo>
                        <a:pt x="210" y="129"/>
                      </a:lnTo>
                      <a:lnTo>
                        <a:pt x="42" y="137"/>
                      </a:lnTo>
                      <a:lnTo>
                        <a:pt x="14" y="134"/>
                      </a:lnTo>
                      <a:lnTo>
                        <a:pt x="0" y="116"/>
                      </a:lnTo>
                      <a:lnTo>
                        <a:pt x="0" y="92"/>
                      </a:lnTo>
                      <a:lnTo>
                        <a:pt x="22" y="73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7251120" y="3559320"/>
                <a:ext cx="984600" cy="581400"/>
                <a:chOff x="7251120" y="3559320"/>
                <a:chExt cx="984600" cy="5814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7373160" y="3738600"/>
                  <a:ext cx="757440" cy="346680"/>
                </a:xfrm>
                <a:custGeom>
                  <a:avLst/>
                  <a:gdLst/>
                  <a:ahLst/>
                  <a:rect l="l" t="t" r="r" b="b"/>
                  <a:pathLst>
                    <a:path w="2342" h="1592">
                      <a:moveTo>
                        <a:pt x="640" y="33"/>
                      </a:moveTo>
                      <a:lnTo>
                        <a:pt x="538" y="578"/>
                      </a:lnTo>
                      <a:lnTo>
                        <a:pt x="120" y="1047"/>
                      </a:lnTo>
                      <a:lnTo>
                        <a:pt x="0" y="1180"/>
                      </a:lnTo>
                      <a:lnTo>
                        <a:pt x="45" y="1440"/>
                      </a:lnTo>
                      <a:lnTo>
                        <a:pt x="1803" y="1592"/>
                      </a:lnTo>
                      <a:lnTo>
                        <a:pt x="2342" y="1314"/>
                      </a:lnTo>
                      <a:lnTo>
                        <a:pt x="2031" y="58"/>
                      </a:lnTo>
                      <a:lnTo>
                        <a:pt x="1905" y="0"/>
                      </a:lnTo>
                      <a:lnTo>
                        <a:pt x="1677" y="255"/>
                      </a:lnTo>
                      <a:lnTo>
                        <a:pt x="980" y="197"/>
                      </a:lnTo>
                      <a:lnTo>
                        <a:pt x="760" y="0"/>
                      </a:lnTo>
                      <a:lnTo>
                        <a:pt x="640" y="33"/>
                      </a:lnTo>
                      <a:lnTo>
                        <a:pt x="64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377840" y="3758040"/>
                  <a:ext cx="857880" cy="370800"/>
                </a:xfrm>
                <a:custGeom>
                  <a:avLst/>
                  <a:gdLst/>
                  <a:ahLst/>
                  <a:rect l="l" t="t" r="r" b="b"/>
                  <a:pathLst>
                    <a:path w="2651" h="1707">
                      <a:moveTo>
                        <a:pt x="120" y="1155"/>
                      </a:moveTo>
                      <a:lnTo>
                        <a:pt x="551" y="1155"/>
                      </a:lnTo>
                      <a:lnTo>
                        <a:pt x="1291" y="1288"/>
                      </a:lnTo>
                      <a:lnTo>
                        <a:pt x="1146" y="1149"/>
                      </a:lnTo>
                      <a:lnTo>
                        <a:pt x="1708" y="850"/>
                      </a:lnTo>
                      <a:lnTo>
                        <a:pt x="1905" y="1021"/>
                      </a:lnTo>
                      <a:lnTo>
                        <a:pt x="1961" y="793"/>
                      </a:lnTo>
                      <a:lnTo>
                        <a:pt x="1905" y="241"/>
                      </a:lnTo>
                      <a:lnTo>
                        <a:pt x="1955" y="0"/>
                      </a:lnTo>
                      <a:lnTo>
                        <a:pt x="2069" y="165"/>
                      </a:lnTo>
                      <a:lnTo>
                        <a:pt x="2152" y="146"/>
                      </a:lnTo>
                      <a:lnTo>
                        <a:pt x="2222" y="0"/>
                      </a:lnTo>
                      <a:lnTo>
                        <a:pt x="2430" y="63"/>
                      </a:lnTo>
                      <a:lnTo>
                        <a:pt x="2461" y="818"/>
                      </a:lnTo>
                      <a:lnTo>
                        <a:pt x="2645" y="952"/>
                      </a:lnTo>
                      <a:lnTo>
                        <a:pt x="2651" y="1186"/>
                      </a:lnTo>
                      <a:lnTo>
                        <a:pt x="1741" y="1707"/>
                      </a:lnTo>
                      <a:lnTo>
                        <a:pt x="0" y="1402"/>
                      </a:lnTo>
                      <a:lnTo>
                        <a:pt x="120" y="1155"/>
                      </a:lnTo>
                      <a:lnTo>
                        <a:pt x="120" y="1155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1807200">
                  <a:off x="7291800" y="3702600"/>
                  <a:ext cx="262440" cy="232920"/>
                </a:xfrm>
                <a:custGeom>
                  <a:avLst/>
                  <a:gdLst/>
                  <a:ahLst/>
                  <a:rect l="l" t="t" r="r" b="b"/>
                  <a:pathLst>
                    <a:path w="810" h="1069">
                      <a:moveTo>
                        <a:pt x="235" y="736"/>
                      </a:moveTo>
                      <a:lnTo>
                        <a:pt x="295" y="710"/>
                      </a:lnTo>
                      <a:lnTo>
                        <a:pt x="357" y="682"/>
                      </a:lnTo>
                      <a:lnTo>
                        <a:pt x="417" y="660"/>
                      </a:lnTo>
                      <a:lnTo>
                        <a:pt x="471" y="650"/>
                      </a:lnTo>
                      <a:lnTo>
                        <a:pt x="516" y="657"/>
                      </a:lnTo>
                      <a:lnTo>
                        <a:pt x="545" y="687"/>
                      </a:lnTo>
                      <a:lnTo>
                        <a:pt x="555" y="747"/>
                      </a:lnTo>
                      <a:lnTo>
                        <a:pt x="543" y="840"/>
                      </a:lnTo>
                      <a:lnTo>
                        <a:pt x="609" y="825"/>
                      </a:lnTo>
                      <a:lnTo>
                        <a:pt x="665" y="825"/>
                      </a:lnTo>
                      <a:lnTo>
                        <a:pt x="746" y="855"/>
                      </a:lnTo>
                      <a:lnTo>
                        <a:pt x="793" y="915"/>
                      </a:lnTo>
                      <a:lnTo>
                        <a:pt x="810" y="982"/>
                      </a:lnTo>
                      <a:lnTo>
                        <a:pt x="799" y="1040"/>
                      </a:lnTo>
                      <a:lnTo>
                        <a:pt x="786" y="1059"/>
                      </a:lnTo>
                      <a:lnTo>
                        <a:pt x="767" y="1069"/>
                      </a:lnTo>
                      <a:lnTo>
                        <a:pt x="717" y="1047"/>
                      </a:lnTo>
                      <a:lnTo>
                        <a:pt x="687" y="1012"/>
                      </a:lnTo>
                      <a:lnTo>
                        <a:pt x="654" y="957"/>
                      </a:lnTo>
                      <a:lnTo>
                        <a:pt x="588" y="979"/>
                      </a:lnTo>
                      <a:lnTo>
                        <a:pt x="552" y="998"/>
                      </a:lnTo>
                      <a:lnTo>
                        <a:pt x="515" y="1015"/>
                      </a:lnTo>
                      <a:lnTo>
                        <a:pt x="480" y="1025"/>
                      </a:lnTo>
                      <a:lnTo>
                        <a:pt x="450" y="1027"/>
                      </a:lnTo>
                      <a:lnTo>
                        <a:pt x="407" y="975"/>
                      </a:lnTo>
                      <a:lnTo>
                        <a:pt x="407" y="925"/>
                      </a:lnTo>
                      <a:lnTo>
                        <a:pt x="425" y="878"/>
                      </a:lnTo>
                      <a:lnTo>
                        <a:pt x="458" y="782"/>
                      </a:lnTo>
                      <a:lnTo>
                        <a:pt x="429" y="796"/>
                      </a:lnTo>
                      <a:lnTo>
                        <a:pt x="389" y="816"/>
                      </a:lnTo>
                      <a:lnTo>
                        <a:pt x="341" y="842"/>
                      </a:lnTo>
                      <a:lnTo>
                        <a:pt x="289" y="868"/>
                      </a:lnTo>
                      <a:lnTo>
                        <a:pt x="238" y="893"/>
                      </a:lnTo>
                      <a:lnTo>
                        <a:pt x="191" y="914"/>
                      </a:lnTo>
                      <a:lnTo>
                        <a:pt x="130" y="927"/>
                      </a:lnTo>
                      <a:lnTo>
                        <a:pt x="73" y="893"/>
                      </a:lnTo>
                      <a:lnTo>
                        <a:pt x="56" y="845"/>
                      </a:lnTo>
                      <a:lnTo>
                        <a:pt x="70" y="790"/>
                      </a:lnTo>
                      <a:lnTo>
                        <a:pt x="101" y="730"/>
                      </a:lnTo>
                      <a:lnTo>
                        <a:pt x="120" y="700"/>
                      </a:lnTo>
                      <a:lnTo>
                        <a:pt x="139" y="671"/>
                      </a:lnTo>
                      <a:lnTo>
                        <a:pt x="174" y="618"/>
                      </a:lnTo>
                      <a:lnTo>
                        <a:pt x="191" y="552"/>
                      </a:lnTo>
                      <a:lnTo>
                        <a:pt x="156" y="533"/>
                      </a:lnTo>
                      <a:lnTo>
                        <a:pt x="114" y="520"/>
                      </a:lnTo>
                      <a:lnTo>
                        <a:pt x="35" y="496"/>
                      </a:lnTo>
                      <a:lnTo>
                        <a:pt x="8" y="477"/>
                      </a:lnTo>
                      <a:lnTo>
                        <a:pt x="0" y="448"/>
                      </a:lnTo>
                      <a:lnTo>
                        <a:pt x="11" y="405"/>
                      </a:lnTo>
                      <a:lnTo>
                        <a:pt x="26" y="377"/>
                      </a:lnTo>
                      <a:lnTo>
                        <a:pt x="50" y="345"/>
                      </a:lnTo>
                      <a:lnTo>
                        <a:pt x="73" y="321"/>
                      </a:lnTo>
                      <a:lnTo>
                        <a:pt x="100" y="299"/>
                      </a:lnTo>
                      <a:lnTo>
                        <a:pt x="128" y="280"/>
                      </a:lnTo>
                      <a:lnTo>
                        <a:pt x="157" y="263"/>
                      </a:lnTo>
                      <a:lnTo>
                        <a:pt x="136" y="113"/>
                      </a:lnTo>
                      <a:lnTo>
                        <a:pt x="151" y="67"/>
                      </a:lnTo>
                      <a:lnTo>
                        <a:pt x="184" y="35"/>
                      </a:lnTo>
                      <a:lnTo>
                        <a:pt x="229" y="16"/>
                      </a:lnTo>
                      <a:lnTo>
                        <a:pt x="285" y="5"/>
                      </a:lnTo>
                      <a:lnTo>
                        <a:pt x="426" y="0"/>
                      </a:lnTo>
                      <a:lnTo>
                        <a:pt x="441" y="18"/>
                      </a:lnTo>
                      <a:lnTo>
                        <a:pt x="429" y="58"/>
                      </a:lnTo>
                      <a:lnTo>
                        <a:pt x="415" y="79"/>
                      </a:lnTo>
                      <a:lnTo>
                        <a:pt x="399" y="97"/>
                      </a:lnTo>
                      <a:lnTo>
                        <a:pt x="383" y="111"/>
                      </a:lnTo>
                      <a:lnTo>
                        <a:pt x="366" y="115"/>
                      </a:lnTo>
                      <a:lnTo>
                        <a:pt x="291" y="108"/>
                      </a:lnTo>
                      <a:lnTo>
                        <a:pt x="227" y="124"/>
                      </a:lnTo>
                      <a:lnTo>
                        <a:pt x="222" y="161"/>
                      </a:lnTo>
                      <a:lnTo>
                        <a:pt x="240" y="201"/>
                      </a:lnTo>
                      <a:lnTo>
                        <a:pt x="283" y="274"/>
                      </a:lnTo>
                      <a:lnTo>
                        <a:pt x="284" y="306"/>
                      </a:lnTo>
                      <a:lnTo>
                        <a:pt x="273" y="328"/>
                      </a:lnTo>
                      <a:lnTo>
                        <a:pt x="253" y="341"/>
                      </a:lnTo>
                      <a:lnTo>
                        <a:pt x="228" y="351"/>
                      </a:lnTo>
                      <a:lnTo>
                        <a:pt x="179" y="366"/>
                      </a:lnTo>
                      <a:lnTo>
                        <a:pt x="152" y="397"/>
                      </a:lnTo>
                      <a:lnTo>
                        <a:pt x="164" y="413"/>
                      </a:lnTo>
                      <a:lnTo>
                        <a:pt x="193" y="414"/>
                      </a:lnTo>
                      <a:lnTo>
                        <a:pt x="256" y="415"/>
                      </a:lnTo>
                      <a:lnTo>
                        <a:pt x="289" y="441"/>
                      </a:lnTo>
                      <a:lnTo>
                        <a:pt x="308" y="478"/>
                      </a:lnTo>
                      <a:lnTo>
                        <a:pt x="312" y="570"/>
                      </a:lnTo>
                      <a:lnTo>
                        <a:pt x="300" y="620"/>
                      </a:lnTo>
                      <a:lnTo>
                        <a:pt x="282" y="666"/>
                      </a:lnTo>
                      <a:lnTo>
                        <a:pt x="260" y="706"/>
                      </a:lnTo>
                      <a:lnTo>
                        <a:pt x="235" y="736"/>
                      </a:lnTo>
                      <a:lnTo>
                        <a:pt x="235" y="7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2" name=""/>
                <p:cNvGrpSpPr/>
                <p:nvPr/>
              </p:nvGrpSpPr>
              <p:grpSpPr>
                <a:xfrm>
                  <a:off x="7485840" y="3559320"/>
                  <a:ext cx="747720" cy="446400"/>
                  <a:chOff x="7485840" y="3559320"/>
                  <a:chExt cx="747720" cy="446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976200">
                    <a:off x="7513560" y="3652200"/>
                    <a:ext cx="69912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9" h="1142">
                        <a:moveTo>
                          <a:pt x="0" y="1066"/>
                        </a:moveTo>
                        <a:lnTo>
                          <a:pt x="38" y="678"/>
                        </a:lnTo>
                        <a:lnTo>
                          <a:pt x="190" y="431"/>
                        </a:lnTo>
                        <a:lnTo>
                          <a:pt x="475" y="241"/>
                        </a:lnTo>
                        <a:lnTo>
                          <a:pt x="1006" y="50"/>
                        </a:lnTo>
                        <a:lnTo>
                          <a:pt x="1537" y="0"/>
                        </a:lnTo>
                        <a:lnTo>
                          <a:pt x="1918" y="197"/>
                        </a:lnTo>
                        <a:lnTo>
                          <a:pt x="2159" y="463"/>
                        </a:lnTo>
                        <a:lnTo>
                          <a:pt x="2007" y="666"/>
                        </a:lnTo>
                        <a:lnTo>
                          <a:pt x="1487" y="774"/>
                        </a:lnTo>
                        <a:lnTo>
                          <a:pt x="1184" y="336"/>
                        </a:lnTo>
                        <a:lnTo>
                          <a:pt x="519" y="628"/>
                        </a:lnTo>
                        <a:lnTo>
                          <a:pt x="411" y="1041"/>
                        </a:lnTo>
                        <a:lnTo>
                          <a:pt x="69" y="1142"/>
                        </a:lnTo>
                        <a:lnTo>
                          <a:pt x="0" y="1066"/>
                        </a:lnTo>
                        <a:lnTo>
                          <a:pt x="0" y="106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976200">
                    <a:off x="7562880" y="3701880"/>
                    <a:ext cx="62316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4" h="893">
                        <a:moveTo>
                          <a:pt x="12" y="856"/>
                        </a:moveTo>
                        <a:lnTo>
                          <a:pt x="45" y="551"/>
                        </a:lnTo>
                        <a:lnTo>
                          <a:pt x="153" y="406"/>
                        </a:lnTo>
                        <a:lnTo>
                          <a:pt x="253" y="412"/>
                        </a:lnTo>
                        <a:lnTo>
                          <a:pt x="247" y="298"/>
                        </a:lnTo>
                        <a:lnTo>
                          <a:pt x="431" y="171"/>
                        </a:lnTo>
                        <a:lnTo>
                          <a:pt x="754" y="51"/>
                        </a:lnTo>
                        <a:lnTo>
                          <a:pt x="1019" y="0"/>
                        </a:lnTo>
                        <a:lnTo>
                          <a:pt x="1183" y="70"/>
                        </a:lnTo>
                        <a:lnTo>
                          <a:pt x="1254" y="184"/>
                        </a:lnTo>
                        <a:lnTo>
                          <a:pt x="1348" y="279"/>
                        </a:lnTo>
                        <a:lnTo>
                          <a:pt x="1569" y="165"/>
                        </a:lnTo>
                        <a:lnTo>
                          <a:pt x="1741" y="190"/>
                        </a:lnTo>
                        <a:lnTo>
                          <a:pt x="1924" y="323"/>
                        </a:lnTo>
                        <a:lnTo>
                          <a:pt x="1500" y="532"/>
                        </a:lnTo>
                        <a:lnTo>
                          <a:pt x="1310" y="520"/>
                        </a:lnTo>
                        <a:lnTo>
                          <a:pt x="1069" y="215"/>
                        </a:lnTo>
                        <a:lnTo>
                          <a:pt x="879" y="221"/>
                        </a:lnTo>
                        <a:lnTo>
                          <a:pt x="398" y="476"/>
                        </a:lnTo>
                        <a:lnTo>
                          <a:pt x="361" y="665"/>
                        </a:lnTo>
                        <a:lnTo>
                          <a:pt x="323" y="843"/>
                        </a:lnTo>
                        <a:lnTo>
                          <a:pt x="0" y="893"/>
                        </a:lnTo>
                        <a:lnTo>
                          <a:pt x="12" y="856"/>
                        </a:lnTo>
                        <a:lnTo>
                          <a:pt x="12" y="856"/>
                        </a:lnTo>
                        <a:close/>
                      </a:path>
                    </a:pathLst>
                  </a:custGeom>
                  <a:solidFill>
                    <a:srgbClr val="a3a3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976200">
                    <a:off x="7569720" y="3636000"/>
                    <a:ext cx="5515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4" h="657">
                        <a:moveTo>
                          <a:pt x="0" y="598"/>
                        </a:moveTo>
                        <a:lnTo>
                          <a:pt x="15" y="559"/>
                        </a:lnTo>
                        <a:lnTo>
                          <a:pt x="35" y="522"/>
                        </a:lnTo>
                        <a:lnTo>
                          <a:pt x="60" y="485"/>
                        </a:lnTo>
                        <a:lnTo>
                          <a:pt x="90" y="449"/>
                        </a:lnTo>
                        <a:lnTo>
                          <a:pt x="126" y="413"/>
                        </a:lnTo>
                        <a:lnTo>
                          <a:pt x="166" y="378"/>
                        </a:lnTo>
                        <a:lnTo>
                          <a:pt x="210" y="345"/>
                        </a:lnTo>
                        <a:lnTo>
                          <a:pt x="233" y="328"/>
                        </a:lnTo>
                        <a:lnTo>
                          <a:pt x="257" y="312"/>
                        </a:lnTo>
                        <a:lnTo>
                          <a:pt x="282" y="295"/>
                        </a:lnTo>
                        <a:lnTo>
                          <a:pt x="309" y="280"/>
                        </a:lnTo>
                        <a:lnTo>
                          <a:pt x="363" y="250"/>
                        </a:lnTo>
                        <a:lnTo>
                          <a:pt x="420" y="220"/>
                        </a:lnTo>
                        <a:lnTo>
                          <a:pt x="479" y="192"/>
                        </a:lnTo>
                        <a:lnTo>
                          <a:pt x="540" y="166"/>
                        </a:lnTo>
                        <a:lnTo>
                          <a:pt x="604" y="140"/>
                        </a:lnTo>
                        <a:lnTo>
                          <a:pt x="667" y="118"/>
                        </a:lnTo>
                        <a:lnTo>
                          <a:pt x="733" y="96"/>
                        </a:lnTo>
                        <a:lnTo>
                          <a:pt x="798" y="77"/>
                        </a:lnTo>
                        <a:lnTo>
                          <a:pt x="865" y="59"/>
                        </a:lnTo>
                        <a:lnTo>
                          <a:pt x="931" y="44"/>
                        </a:lnTo>
                        <a:lnTo>
                          <a:pt x="997" y="30"/>
                        </a:lnTo>
                        <a:lnTo>
                          <a:pt x="1127" y="11"/>
                        </a:lnTo>
                        <a:lnTo>
                          <a:pt x="1250" y="0"/>
                        </a:lnTo>
                        <a:lnTo>
                          <a:pt x="1470" y="12"/>
                        </a:lnTo>
                        <a:lnTo>
                          <a:pt x="1560" y="36"/>
                        </a:lnTo>
                        <a:lnTo>
                          <a:pt x="1634" y="72"/>
                        </a:lnTo>
                        <a:lnTo>
                          <a:pt x="1687" y="124"/>
                        </a:lnTo>
                        <a:lnTo>
                          <a:pt x="1704" y="173"/>
                        </a:lnTo>
                        <a:lnTo>
                          <a:pt x="1698" y="191"/>
                        </a:lnTo>
                        <a:lnTo>
                          <a:pt x="1682" y="203"/>
                        </a:lnTo>
                        <a:lnTo>
                          <a:pt x="1621" y="200"/>
                        </a:lnTo>
                        <a:lnTo>
                          <a:pt x="1517" y="173"/>
                        </a:lnTo>
                        <a:lnTo>
                          <a:pt x="1409" y="144"/>
                        </a:lnTo>
                        <a:lnTo>
                          <a:pt x="1319" y="124"/>
                        </a:lnTo>
                        <a:lnTo>
                          <a:pt x="1224" y="115"/>
                        </a:lnTo>
                        <a:lnTo>
                          <a:pt x="1028" y="128"/>
                        </a:lnTo>
                        <a:lnTo>
                          <a:pt x="835" y="173"/>
                        </a:lnTo>
                        <a:lnTo>
                          <a:pt x="744" y="202"/>
                        </a:lnTo>
                        <a:lnTo>
                          <a:pt x="659" y="234"/>
                        </a:lnTo>
                        <a:lnTo>
                          <a:pt x="586" y="264"/>
                        </a:lnTo>
                        <a:lnTo>
                          <a:pt x="521" y="291"/>
                        </a:lnTo>
                        <a:lnTo>
                          <a:pt x="467" y="313"/>
                        </a:lnTo>
                        <a:lnTo>
                          <a:pt x="419" y="333"/>
                        </a:lnTo>
                        <a:lnTo>
                          <a:pt x="342" y="369"/>
                        </a:lnTo>
                        <a:lnTo>
                          <a:pt x="284" y="402"/>
                        </a:lnTo>
                        <a:lnTo>
                          <a:pt x="234" y="441"/>
                        </a:lnTo>
                        <a:lnTo>
                          <a:pt x="186" y="489"/>
                        </a:lnTo>
                        <a:lnTo>
                          <a:pt x="160" y="519"/>
                        </a:lnTo>
                        <a:lnTo>
                          <a:pt x="130" y="553"/>
                        </a:lnTo>
                        <a:lnTo>
                          <a:pt x="96" y="593"/>
                        </a:lnTo>
                        <a:lnTo>
                          <a:pt x="59" y="639"/>
                        </a:lnTo>
                        <a:lnTo>
                          <a:pt x="34" y="657"/>
                        </a:lnTo>
                        <a:lnTo>
                          <a:pt x="11" y="653"/>
                        </a:lnTo>
                        <a:lnTo>
                          <a:pt x="0" y="598"/>
                        </a:lnTo>
                        <a:lnTo>
                          <a:pt x="0" y="5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976200">
                    <a:off x="7499160" y="3711960"/>
                    <a:ext cx="71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0" h="912">
                        <a:moveTo>
                          <a:pt x="109" y="769"/>
                        </a:moveTo>
                        <a:lnTo>
                          <a:pt x="161" y="758"/>
                        </a:lnTo>
                        <a:lnTo>
                          <a:pt x="208" y="727"/>
                        </a:lnTo>
                        <a:lnTo>
                          <a:pt x="232" y="709"/>
                        </a:lnTo>
                        <a:lnTo>
                          <a:pt x="255" y="692"/>
                        </a:lnTo>
                        <a:lnTo>
                          <a:pt x="279" y="677"/>
                        </a:lnTo>
                        <a:lnTo>
                          <a:pt x="304" y="667"/>
                        </a:lnTo>
                        <a:lnTo>
                          <a:pt x="399" y="653"/>
                        </a:lnTo>
                        <a:lnTo>
                          <a:pt x="493" y="643"/>
                        </a:lnTo>
                        <a:lnTo>
                          <a:pt x="508" y="556"/>
                        </a:lnTo>
                        <a:lnTo>
                          <a:pt x="506" y="512"/>
                        </a:lnTo>
                        <a:lnTo>
                          <a:pt x="508" y="466"/>
                        </a:lnTo>
                        <a:lnTo>
                          <a:pt x="518" y="430"/>
                        </a:lnTo>
                        <a:lnTo>
                          <a:pt x="538" y="393"/>
                        </a:lnTo>
                        <a:lnTo>
                          <a:pt x="565" y="354"/>
                        </a:lnTo>
                        <a:lnTo>
                          <a:pt x="600" y="317"/>
                        </a:lnTo>
                        <a:lnTo>
                          <a:pt x="642" y="281"/>
                        </a:lnTo>
                        <a:lnTo>
                          <a:pt x="688" y="245"/>
                        </a:lnTo>
                        <a:lnTo>
                          <a:pt x="713" y="227"/>
                        </a:lnTo>
                        <a:lnTo>
                          <a:pt x="738" y="210"/>
                        </a:lnTo>
                        <a:lnTo>
                          <a:pt x="764" y="194"/>
                        </a:lnTo>
                        <a:lnTo>
                          <a:pt x="792" y="178"/>
                        </a:lnTo>
                        <a:lnTo>
                          <a:pt x="847" y="148"/>
                        </a:lnTo>
                        <a:lnTo>
                          <a:pt x="902" y="120"/>
                        </a:lnTo>
                        <a:lnTo>
                          <a:pt x="958" y="95"/>
                        </a:lnTo>
                        <a:lnTo>
                          <a:pt x="1011" y="75"/>
                        </a:lnTo>
                        <a:lnTo>
                          <a:pt x="1062" y="58"/>
                        </a:lnTo>
                        <a:lnTo>
                          <a:pt x="1110" y="45"/>
                        </a:lnTo>
                        <a:lnTo>
                          <a:pt x="1189" y="35"/>
                        </a:lnTo>
                        <a:lnTo>
                          <a:pt x="1254" y="42"/>
                        </a:lnTo>
                        <a:lnTo>
                          <a:pt x="1303" y="64"/>
                        </a:lnTo>
                        <a:lnTo>
                          <a:pt x="1369" y="135"/>
                        </a:lnTo>
                        <a:lnTo>
                          <a:pt x="1412" y="230"/>
                        </a:lnTo>
                        <a:lnTo>
                          <a:pt x="1434" y="281"/>
                        </a:lnTo>
                        <a:lnTo>
                          <a:pt x="1459" y="330"/>
                        </a:lnTo>
                        <a:lnTo>
                          <a:pt x="1476" y="352"/>
                        </a:lnTo>
                        <a:lnTo>
                          <a:pt x="1495" y="367"/>
                        </a:lnTo>
                        <a:lnTo>
                          <a:pt x="1543" y="377"/>
                        </a:lnTo>
                        <a:lnTo>
                          <a:pt x="1660" y="350"/>
                        </a:lnTo>
                        <a:lnTo>
                          <a:pt x="1723" y="321"/>
                        </a:lnTo>
                        <a:lnTo>
                          <a:pt x="1782" y="291"/>
                        </a:lnTo>
                        <a:lnTo>
                          <a:pt x="1833" y="262"/>
                        </a:lnTo>
                        <a:lnTo>
                          <a:pt x="1875" y="243"/>
                        </a:lnTo>
                        <a:lnTo>
                          <a:pt x="2036" y="176"/>
                        </a:lnTo>
                        <a:lnTo>
                          <a:pt x="2016" y="120"/>
                        </a:lnTo>
                        <a:lnTo>
                          <a:pt x="1999" y="98"/>
                        </a:lnTo>
                        <a:lnTo>
                          <a:pt x="1977" y="76"/>
                        </a:lnTo>
                        <a:lnTo>
                          <a:pt x="1940" y="34"/>
                        </a:lnTo>
                        <a:lnTo>
                          <a:pt x="1944" y="9"/>
                        </a:lnTo>
                        <a:lnTo>
                          <a:pt x="1978" y="0"/>
                        </a:lnTo>
                        <a:lnTo>
                          <a:pt x="2031" y="9"/>
                        </a:lnTo>
                        <a:lnTo>
                          <a:pt x="2092" y="35"/>
                        </a:lnTo>
                        <a:lnTo>
                          <a:pt x="2150" y="77"/>
                        </a:lnTo>
                        <a:lnTo>
                          <a:pt x="2193" y="138"/>
                        </a:lnTo>
                        <a:lnTo>
                          <a:pt x="2210" y="216"/>
                        </a:lnTo>
                        <a:lnTo>
                          <a:pt x="2194" y="293"/>
                        </a:lnTo>
                        <a:lnTo>
                          <a:pt x="2174" y="327"/>
                        </a:lnTo>
                        <a:lnTo>
                          <a:pt x="2149" y="358"/>
                        </a:lnTo>
                        <a:lnTo>
                          <a:pt x="2116" y="387"/>
                        </a:lnTo>
                        <a:lnTo>
                          <a:pt x="2079" y="413"/>
                        </a:lnTo>
                        <a:lnTo>
                          <a:pt x="2040" y="436"/>
                        </a:lnTo>
                        <a:lnTo>
                          <a:pt x="1996" y="458"/>
                        </a:lnTo>
                        <a:lnTo>
                          <a:pt x="1951" y="476"/>
                        </a:lnTo>
                        <a:lnTo>
                          <a:pt x="1904" y="491"/>
                        </a:lnTo>
                        <a:lnTo>
                          <a:pt x="1812" y="517"/>
                        </a:lnTo>
                        <a:lnTo>
                          <a:pt x="1725" y="532"/>
                        </a:lnTo>
                        <a:lnTo>
                          <a:pt x="1653" y="539"/>
                        </a:lnTo>
                        <a:lnTo>
                          <a:pt x="1543" y="526"/>
                        </a:lnTo>
                        <a:lnTo>
                          <a:pt x="1466" y="484"/>
                        </a:lnTo>
                        <a:lnTo>
                          <a:pt x="1413" y="423"/>
                        </a:lnTo>
                        <a:lnTo>
                          <a:pt x="1375" y="352"/>
                        </a:lnTo>
                        <a:lnTo>
                          <a:pt x="1343" y="280"/>
                        </a:lnTo>
                        <a:lnTo>
                          <a:pt x="1307" y="218"/>
                        </a:lnTo>
                        <a:lnTo>
                          <a:pt x="1285" y="192"/>
                        </a:lnTo>
                        <a:lnTo>
                          <a:pt x="1260" y="173"/>
                        </a:lnTo>
                        <a:lnTo>
                          <a:pt x="1229" y="161"/>
                        </a:lnTo>
                        <a:lnTo>
                          <a:pt x="1190" y="156"/>
                        </a:lnTo>
                        <a:lnTo>
                          <a:pt x="1057" y="192"/>
                        </a:lnTo>
                        <a:lnTo>
                          <a:pt x="1010" y="212"/>
                        </a:lnTo>
                        <a:lnTo>
                          <a:pt x="961" y="232"/>
                        </a:lnTo>
                        <a:lnTo>
                          <a:pt x="911" y="256"/>
                        </a:lnTo>
                        <a:lnTo>
                          <a:pt x="860" y="280"/>
                        </a:lnTo>
                        <a:lnTo>
                          <a:pt x="811" y="306"/>
                        </a:lnTo>
                        <a:lnTo>
                          <a:pt x="763" y="333"/>
                        </a:lnTo>
                        <a:lnTo>
                          <a:pt x="720" y="359"/>
                        </a:lnTo>
                        <a:lnTo>
                          <a:pt x="680" y="386"/>
                        </a:lnTo>
                        <a:lnTo>
                          <a:pt x="595" y="478"/>
                        </a:lnTo>
                        <a:lnTo>
                          <a:pt x="592" y="551"/>
                        </a:lnTo>
                        <a:lnTo>
                          <a:pt x="601" y="614"/>
                        </a:lnTo>
                        <a:lnTo>
                          <a:pt x="620" y="713"/>
                        </a:lnTo>
                        <a:lnTo>
                          <a:pt x="612" y="754"/>
                        </a:lnTo>
                        <a:lnTo>
                          <a:pt x="599" y="775"/>
                        </a:lnTo>
                        <a:lnTo>
                          <a:pt x="578" y="794"/>
                        </a:lnTo>
                        <a:lnTo>
                          <a:pt x="550" y="814"/>
                        </a:lnTo>
                        <a:lnTo>
                          <a:pt x="510" y="834"/>
                        </a:lnTo>
                        <a:lnTo>
                          <a:pt x="460" y="854"/>
                        </a:lnTo>
                        <a:lnTo>
                          <a:pt x="399" y="876"/>
                        </a:lnTo>
                        <a:lnTo>
                          <a:pt x="310" y="898"/>
                        </a:lnTo>
                        <a:lnTo>
                          <a:pt x="209" y="912"/>
                        </a:lnTo>
                        <a:lnTo>
                          <a:pt x="112" y="902"/>
                        </a:lnTo>
                        <a:lnTo>
                          <a:pt x="31" y="859"/>
                        </a:lnTo>
                        <a:lnTo>
                          <a:pt x="5" y="807"/>
                        </a:lnTo>
                        <a:lnTo>
                          <a:pt x="0" y="735"/>
                        </a:lnTo>
                        <a:lnTo>
                          <a:pt x="12" y="656"/>
                        </a:lnTo>
                        <a:lnTo>
                          <a:pt x="35" y="579"/>
                        </a:lnTo>
                        <a:lnTo>
                          <a:pt x="64" y="514"/>
                        </a:lnTo>
                        <a:lnTo>
                          <a:pt x="90" y="473"/>
                        </a:lnTo>
                        <a:lnTo>
                          <a:pt x="109" y="466"/>
                        </a:lnTo>
                        <a:lnTo>
                          <a:pt x="115" y="505"/>
                        </a:lnTo>
                        <a:lnTo>
                          <a:pt x="109" y="769"/>
                        </a:lnTo>
                        <a:lnTo>
                          <a:pt x="109" y="7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>
                  <a:off x="7395840" y="3736440"/>
                  <a:ext cx="514440" cy="249840"/>
                </a:xfrm>
                <a:custGeom>
                  <a:avLst/>
                  <a:gdLst/>
                  <a:ahLst/>
                  <a:rect l="l" t="t" r="r" b="b"/>
                  <a:pathLst>
                    <a:path w="1591" h="1150">
                      <a:moveTo>
                        <a:pt x="634" y="144"/>
                      </a:moveTo>
                      <a:lnTo>
                        <a:pt x="609" y="304"/>
                      </a:lnTo>
                      <a:lnTo>
                        <a:pt x="592" y="381"/>
                      </a:lnTo>
                      <a:lnTo>
                        <a:pt x="573" y="456"/>
                      </a:lnTo>
                      <a:lnTo>
                        <a:pt x="549" y="530"/>
                      </a:lnTo>
                      <a:lnTo>
                        <a:pt x="520" y="603"/>
                      </a:lnTo>
                      <a:lnTo>
                        <a:pt x="503" y="639"/>
                      </a:lnTo>
                      <a:lnTo>
                        <a:pt x="484" y="675"/>
                      </a:lnTo>
                      <a:lnTo>
                        <a:pt x="463" y="710"/>
                      </a:lnTo>
                      <a:lnTo>
                        <a:pt x="441" y="746"/>
                      </a:lnTo>
                      <a:lnTo>
                        <a:pt x="409" y="790"/>
                      </a:lnTo>
                      <a:lnTo>
                        <a:pt x="389" y="817"/>
                      </a:lnTo>
                      <a:lnTo>
                        <a:pt x="367" y="845"/>
                      </a:lnTo>
                      <a:lnTo>
                        <a:pt x="343" y="875"/>
                      </a:lnTo>
                      <a:lnTo>
                        <a:pt x="317" y="907"/>
                      </a:lnTo>
                      <a:lnTo>
                        <a:pt x="291" y="938"/>
                      </a:lnTo>
                      <a:lnTo>
                        <a:pt x="263" y="969"/>
                      </a:lnTo>
                      <a:lnTo>
                        <a:pt x="235" y="1000"/>
                      </a:lnTo>
                      <a:lnTo>
                        <a:pt x="207" y="1029"/>
                      </a:lnTo>
                      <a:lnTo>
                        <a:pt x="179" y="1057"/>
                      </a:lnTo>
                      <a:lnTo>
                        <a:pt x="152" y="1082"/>
                      </a:lnTo>
                      <a:lnTo>
                        <a:pt x="100" y="1123"/>
                      </a:lnTo>
                      <a:lnTo>
                        <a:pt x="56" y="1147"/>
                      </a:lnTo>
                      <a:lnTo>
                        <a:pt x="24" y="1150"/>
                      </a:lnTo>
                      <a:lnTo>
                        <a:pt x="5" y="1139"/>
                      </a:lnTo>
                      <a:lnTo>
                        <a:pt x="0" y="1118"/>
                      </a:lnTo>
                      <a:lnTo>
                        <a:pt x="12" y="1089"/>
                      </a:lnTo>
                      <a:lnTo>
                        <a:pt x="41" y="1049"/>
                      </a:lnTo>
                      <a:lnTo>
                        <a:pt x="71" y="1012"/>
                      </a:lnTo>
                      <a:lnTo>
                        <a:pt x="101" y="976"/>
                      </a:lnTo>
                      <a:lnTo>
                        <a:pt x="132" y="941"/>
                      </a:lnTo>
                      <a:lnTo>
                        <a:pt x="164" y="908"/>
                      </a:lnTo>
                      <a:lnTo>
                        <a:pt x="195" y="875"/>
                      </a:lnTo>
                      <a:lnTo>
                        <a:pt x="225" y="842"/>
                      </a:lnTo>
                      <a:lnTo>
                        <a:pt x="255" y="808"/>
                      </a:lnTo>
                      <a:lnTo>
                        <a:pt x="285" y="773"/>
                      </a:lnTo>
                      <a:lnTo>
                        <a:pt x="312" y="739"/>
                      </a:lnTo>
                      <a:lnTo>
                        <a:pt x="339" y="701"/>
                      </a:lnTo>
                      <a:lnTo>
                        <a:pt x="364" y="663"/>
                      </a:lnTo>
                      <a:lnTo>
                        <a:pt x="407" y="579"/>
                      </a:lnTo>
                      <a:lnTo>
                        <a:pt x="441" y="482"/>
                      </a:lnTo>
                      <a:lnTo>
                        <a:pt x="459" y="392"/>
                      </a:lnTo>
                      <a:lnTo>
                        <a:pt x="481" y="263"/>
                      </a:lnTo>
                      <a:lnTo>
                        <a:pt x="505" y="142"/>
                      </a:lnTo>
                      <a:lnTo>
                        <a:pt x="527" y="72"/>
                      </a:lnTo>
                      <a:lnTo>
                        <a:pt x="555" y="43"/>
                      </a:lnTo>
                      <a:lnTo>
                        <a:pt x="589" y="22"/>
                      </a:lnTo>
                      <a:lnTo>
                        <a:pt x="631" y="7"/>
                      </a:lnTo>
                      <a:lnTo>
                        <a:pt x="676" y="0"/>
                      </a:lnTo>
                      <a:lnTo>
                        <a:pt x="763" y="9"/>
                      </a:lnTo>
                      <a:lnTo>
                        <a:pt x="833" y="49"/>
                      </a:lnTo>
                      <a:lnTo>
                        <a:pt x="868" y="87"/>
                      </a:lnTo>
                      <a:lnTo>
                        <a:pt x="899" y="113"/>
                      </a:lnTo>
                      <a:lnTo>
                        <a:pt x="928" y="131"/>
                      </a:lnTo>
                      <a:lnTo>
                        <a:pt x="956" y="143"/>
                      </a:lnTo>
                      <a:lnTo>
                        <a:pt x="1112" y="161"/>
                      </a:lnTo>
                      <a:lnTo>
                        <a:pt x="1341" y="183"/>
                      </a:lnTo>
                      <a:lnTo>
                        <a:pt x="1559" y="222"/>
                      </a:lnTo>
                      <a:lnTo>
                        <a:pt x="1591" y="262"/>
                      </a:lnTo>
                      <a:lnTo>
                        <a:pt x="1580" y="281"/>
                      </a:lnTo>
                      <a:lnTo>
                        <a:pt x="1551" y="294"/>
                      </a:lnTo>
                      <a:lnTo>
                        <a:pt x="1452" y="309"/>
                      </a:lnTo>
                      <a:lnTo>
                        <a:pt x="1328" y="316"/>
                      </a:lnTo>
                      <a:lnTo>
                        <a:pt x="1100" y="314"/>
                      </a:lnTo>
                      <a:lnTo>
                        <a:pt x="1027" y="297"/>
                      </a:lnTo>
                      <a:lnTo>
                        <a:pt x="958" y="265"/>
                      </a:lnTo>
                      <a:lnTo>
                        <a:pt x="924" y="246"/>
                      </a:lnTo>
                      <a:lnTo>
                        <a:pt x="890" y="226"/>
                      </a:lnTo>
                      <a:lnTo>
                        <a:pt x="859" y="205"/>
                      </a:lnTo>
                      <a:lnTo>
                        <a:pt x="828" y="185"/>
                      </a:lnTo>
                      <a:lnTo>
                        <a:pt x="798" y="166"/>
                      </a:lnTo>
                      <a:lnTo>
                        <a:pt x="770" y="149"/>
                      </a:lnTo>
                      <a:lnTo>
                        <a:pt x="718" y="126"/>
                      </a:lnTo>
                      <a:lnTo>
                        <a:pt x="672" y="121"/>
                      </a:lnTo>
                      <a:lnTo>
                        <a:pt x="634" y="144"/>
                      </a:lnTo>
                      <a:lnTo>
                        <a:pt x="63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30080" y="3746160"/>
                  <a:ext cx="176040" cy="68400"/>
                </a:xfrm>
                <a:custGeom>
                  <a:avLst/>
                  <a:gdLst/>
                  <a:ahLst/>
                  <a:rect l="l" t="t" r="r" b="b"/>
                  <a:pathLst>
                    <a:path w="543" h="315">
                      <a:moveTo>
                        <a:pt x="9" y="171"/>
                      </a:moveTo>
                      <a:lnTo>
                        <a:pt x="39" y="130"/>
                      </a:lnTo>
                      <a:lnTo>
                        <a:pt x="59" y="104"/>
                      </a:lnTo>
                      <a:lnTo>
                        <a:pt x="79" y="78"/>
                      </a:lnTo>
                      <a:lnTo>
                        <a:pt x="102" y="51"/>
                      </a:lnTo>
                      <a:lnTo>
                        <a:pt x="123" y="28"/>
                      </a:lnTo>
                      <a:lnTo>
                        <a:pt x="144" y="10"/>
                      </a:lnTo>
                      <a:lnTo>
                        <a:pt x="162" y="0"/>
                      </a:lnTo>
                      <a:lnTo>
                        <a:pt x="231" y="2"/>
                      </a:lnTo>
                      <a:lnTo>
                        <a:pt x="300" y="18"/>
                      </a:lnTo>
                      <a:lnTo>
                        <a:pt x="334" y="44"/>
                      </a:lnTo>
                      <a:lnTo>
                        <a:pt x="357" y="88"/>
                      </a:lnTo>
                      <a:lnTo>
                        <a:pt x="375" y="138"/>
                      </a:lnTo>
                      <a:lnTo>
                        <a:pt x="394" y="177"/>
                      </a:lnTo>
                      <a:lnTo>
                        <a:pt x="433" y="186"/>
                      </a:lnTo>
                      <a:lnTo>
                        <a:pt x="475" y="175"/>
                      </a:lnTo>
                      <a:lnTo>
                        <a:pt x="526" y="196"/>
                      </a:lnTo>
                      <a:lnTo>
                        <a:pt x="543" y="246"/>
                      </a:lnTo>
                      <a:lnTo>
                        <a:pt x="540" y="271"/>
                      </a:lnTo>
                      <a:lnTo>
                        <a:pt x="526" y="294"/>
                      </a:lnTo>
                      <a:lnTo>
                        <a:pt x="505" y="309"/>
                      </a:lnTo>
                      <a:lnTo>
                        <a:pt x="475" y="315"/>
                      </a:lnTo>
                      <a:lnTo>
                        <a:pt x="364" y="306"/>
                      </a:lnTo>
                      <a:lnTo>
                        <a:pt x="315" y="284"/>
                      </a:lnTo>
                      <a:lnTo>
                        <a:pt x="278" y="242"/>
                      </a:lnTo>
                      <a:lnTo>
                        <a:pt x="264" y="166"/>
                      </a:lnTo>
                      <a:lnTo>
                        <a:pt x="253" y="129"/>
                      </a:lnTo>
                      <a:lnTo>
                        <a:pt x="230" y="109"/>
                      </a:lnTo>
                      <a:lnTo>
                        <a:pt x="174" y="112"/>
                      </a:lnTo>
                      <a:lnTo>
                        <a:pt x="132" y="142"/>
                      </a:lnTo>
                      <a:lnTo>
                        <a:pt x="96" y="184"/>
                      </a:lnTo>
                      <a:lnTo>
                        <a:pt x="61" y="222"/>
                      </a:lnTo>
                      <a:lnTo>
                        <a:pt x="32" y="233"/>
                      </a:lnTo>
                      <a:lnTo>
                        <a:pt x="11" y="224"/>
                      </a:lnTo>
                      <a:lnTo>
                        <a:pt x="0" y="20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373160" y="4006080"/>
                  <a:ext cx="815760" cy="126000"/>
                </a:xfrm>
                <a:custGeom>
                  <a:avLst/>
                  <a:gdLst/>
                  <a:ahLst/>
                  <a:rect l="l" t="t" r="r" b="b"/>
                  <a:pathLst>
                    <a:path w="2521" h="578">
                      <a:moveTo>
                        <a:pt x="120" y="218"/>
                      </a:moveTo>
                      <a:lnTo>
                        <a:pt x="627" y="246"/>
                      </a:lnTo>
                      <a:lnTo>
                        <a:pt x="1133" y="278"/>
                      </a:lnTo>
                      <a:lnTo>
                        <a:pt x="1282" y="304"/>
                      </a:lnTo>
                      <a:lnTo>
                        <a:pt x="1393" y="327"/>
                      </a:lnTo>
                      <a:lnTo>
                        <a:pt x="1511" y="352"/>
                      </a:lnTo>
                      <a:lnTo>
                        <a:pt x="1625" y="378"/>
                      </a:lnTo>
                      <a:lnTo>
                        <a:pt x="1721" y="399"/>
                      </a:lnTo>
                      <a:lnTo>
                        <a:pt x="1812" y="421"/>
                      </a:lnTo>
                      <a:lnTo>
                        <a:pt x="1875" y="402"/>
                      </a:lnTo>
                      <a:lnTo>
                        <a:pt x="1915" y="385"/>
                      </a:lnTo>
                      <a:lnTo>
                        <a:pt x="1958" y="364"/>
                      </a:lnTo>
                      <a:lnTo>
                        <a:pt x="2005" y="342"/>
                      </a:lnTo>
                      <a:lnTo>
                        <a:pt x="2053" y="315"/>
                      </a:lnTo>
                      <a:lnTo>
                        <a:pt x="2103" y="288"/>
                      </a:lnTo>
                      <a:lnTo>
                        <a:pt x="2152" y="259"/>
                      </a:lnTo>
                      <a:lnTo>
                        <a:pt x="2203" y="229"/>
                      </a:lnTo>
                      <a:lnTo>
                        <a:pt x="2251" y="200"/>
                      </a:lnTo>
                      <a:lnTo>
                        <a:pt x="2298" y="171"/>
                      </a:lnTo>
                      <a:lnTo>
                        <a:pt x="2341" y="145"/>
                      </a:lnTo>
                      <a:lnTo>
                        <a:pt x="2380" y="121"/>
                      </a:lnTo>
                      <a:lnTo>
                        <a:pt x="2415" y="99"/>
                      </a:lnTo>
                      <a:lnTo>
                        <a:pt x="2445" y="81"/>
                      </a:lnTo>
                      <a:lnTo>
                        <a:pt x="2468" y="68"/>
                      </a:lnTo>
                      <a:lnTo>
                        <a:pt x="2504" y="51"/>
                      </a:lnTo>
                      <a:lnTo>
                        <a:pt x="2521" y="50"/>
                      </a:lnTo>
                      <a:lnTo>
                        <a:pt x="2516" y="81"/>
                      </a:lnTo>
                      <a:lnTo>
                        <a:pt x="2501" y="105"/>
                      </a:lnTo>
                      <a:lnTo>
                        <a:pt x="2483" y="129"/>
                      </a:lnTo>
                      <a:lnTo>
                        <a:pt x="2455" y="162"/>
                      </a:lnTo>
                      <a:lnTo>
                        <a:pt x="2406" y="200"/>
                      </a:lnTo>
                      <a:lnTo>
                        <a:pt x="2371" y="226"/>
                      </a:lnTo>
                      <a:lnTo>
                        <a:pt x="2331" y="256"/>
                      </a:lnTo>
                      <a:lnTo>
                        <a:pt x="2310" y="272"/>
                      </a:lnTo>
                      <a:lnTo>
                        <a:pt x="2287" y="289"/>
                      </a:lnTo>
                      <a:lnTo>
                        <a:pt x="2263" y="306"/>
                      </a:lnTo>
                      <a:lnTo>
                        <a:pt x="2239" y="322"/>
                      </a:lnTo>
                      <a:lnTo>
                        <a:pt x="2215" y="340"/>
                      </a:lnTo>
                      <a:lnTo>
                        <a:pt x="2190" y="358"/>
                      </a:lnTo>
                      <a:lnTo>
                        <a:pt x="2164" y="376"/>
                      </a:lnTo>
                      <a:lnTo>
                        <a:pt x="2139" y="393"/>
                      </a:lnTo>
                      <a:lnTo>
                        <a:pt x="2114" y="411"/>
                      </a:lnTo>
                      <a:lnTo>
                        <a:pt x="2089" y="428"/>
                      </a:lnTo>
                      <a:lnTo>
                        <a:pt x="2064" y="445"/>
                      </a:lnTo>
                      <a:lnTo>
                        <a:pt x="2040" y="461"/>
                      </a:lnTo>
                      <a:lnTo>
                        <a:pt x="1992" y="492"/>
                      </a:lnTo>
                      <a:lnTo>
                        <a:pt x="1948" y="519"/>
                      </a:lnTo>
                      <a:lnTo>
                        <a:pt x="1909" y="542"/>
                      </a:lnTo>
                      <a:lnTo>
                        <a:pt x="1875" y="560"/>
                      </a:lnTo>
                      <a:lnTo>
                        <a:pt x="1829" y="578"/>
                      </a:lnTo>
                      <a:lnTo>
                        <a:pt x="1721" y="557"/>
                      </a:lnTo>
                      <a:lnTo>
                        <a:pt x="1623" y="533"/>
                      </a:lnTo>
                      <a:lnTo>
                        <a:pt x="1512" y="505"/>
                      </a:lnTo>
                      <a:lnTo>
                        <a:pt x="1395" y="475"/>
                      </a:lnTo>
                      <a:lnTo>
                        <a:pt x="1285" y="449"/>
                      </a:lnTo>
                      <a:lnTo>
                        <a:pt x="1190" y="428"/>
                      </a:lnTo>
                      <a:lnTo>
                        <a:pt x="1123" y="419"/>
                      </a:lnTo>
                      <a:lnTo>
                        <a:pt x="377" y="386"/>
                      </a:lnTo>
                      <a:lnTo>
                        <a:pt x="220" y="356"/>
                      </a:lnTo>
                      <a:lnTo>
                        <a:pt x="142" y="343"/>
                      </a:lnTo>
                      <a:lnTo>
                        <a:pt x="63" y="337"/>
                      </a:lnTo>
                      <a:lnTo>
                        <a:pt x="17" y="301"/>
                      </a:lnTo>
                      <a:lnTo>
                        <a:pt x="3" y="217"/>
                      </a:lnTo>
                      <a:lnTo>
                        <a:pt x="0" y="52"/>
                      </a:lnTo>
                      <a:lnTo>
                        <a:pt x="0" y="16"/>
                      </a:lnTo>
                      <a:lnTo>
                        <a:pt x="9" y="0"/>
                      </a:lnTo>
                      <a:lnTo>
                        <a:pt x="47" y="19"/>
                      </a:lnTo>
                      <a:lnTo>
                        <a:pt x="92" y="97"/>
                      </a:lnTo>
                      <a:lnTo>
                        <a:pt x="120" y="218"/>
                      </a:lnTo>
                      <a:lnTo>
                        <a:pt x="12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614360" y="3825360"/>
                  <a:ext cx="343080" cy="189360"/>
                </a:xfrm>
                <a:custGeom>
                  <a:avLst/>
                  <a:gdLst/>
                  <a:ahLst/>
                  <a:rect l="l" t="t" r="r" b="b"/>
                  <a:pathLst>
                    <a:path w="1057" h="868">
                      <a:moveTo>
                        <a:pt x="685" y="195"/>
                      </a:moveTo>
                      <a:lnTo>
                        <a:pt x="653" y="151"/>
                      </a:lnTo>
                      <a:lnTo>
                        <a:pt x="613" y="115"/>
                      </a:lnTo>
                      <a:lnTo>
                        <a:pt x="570" y="98"/>
                      </a:lnTo>
                      <a:lnTo>
                        <a:pt x="524" y="86"/>
                      </a:lnTo>
                      <a:lnTo>
                        <a:pt x="433" y="80"/>
                      </a:lnTo>
                      <a:lnTo>
                        <a:pt x="343" y="96"/>
                      </a:lnTo>
                      <a:lnTo>
                        <a:pt x="260" y="131"/>
                      </a:lnTo>
                      <a:lnTo>
                        <a:pt x="223" y="156"/>
                      </a:lnTo>
                      <a:lnTo>
                        <a:pt x="189" y="185"/>
                      </a:lnTo>
                      <a:lnTo>
                        <a:pt x="134" y="254"/>
                      </a:lnTo>
                      <a:lnTo>
                        <a:pt x="102" y="338"/>
                      </a:lnTo>
                      <a:lnTo>
                        <a:pt x="96" y="434"/>
                      </a:lnTo>
                      <a:lnTo>
                        <a:pt x="108" y="496"/>
                      </a:lnTo>
                      <a:lnTo>
                        <a:pt x="133" y="548"/>
                      </a:lnTo>
                      <a:lnTo>
                        <a:pt x="150" y="572"/>
                      </a:lnTo>
                      <a:lnTo>
                        <a:pt x="169" y="593"/>
                      </a:lnTo>
                      <a:lnTo>
                        <a:pt x="213" y="629"/>
                      </a:lnTo>
                      <a:lnTo>
                        <a:pt x="238" y="644"/>
                      </a:lnTo>
                      <a:lnTo>
                        <a:pt x="266" y="656"/>
                      </a:lnTo>
                      <a:lnTo>
                        <a:pt x="325" y="678"/>
                      </a:lnTo>
                      <a:lnTo>
                        <a:pt x="387" y="691"/>
                      </a:lnTo>
                      <a:lnTo>
                        <a:pt x="452" y="698"/>
                      </a:lnTo>
                      <a:lnTo>
                        <a:pt x="582" y="694"/>
                      </a:lnTo>
                      <a:lnTo>
                        <a:pt x="701" y="668"/>
                      </a:lnTo>
                      <a:lnTo>
                        <a:pt x="797" y="625"/>
                      </a:lnTo>
                      <a:lnTo>
                        <a:pt x="855" y="568"/>
                      </a:lnTo>
                      <a:lnTo>
                        <a:pt x="878" y="510"/>
                      </a:lnTo>
                      <a:lnTo>
                        <a:pt x="874" y="470"/>
                      </a:lnTo>
                      <a:lnTo>
                        <a:pt x="850" y="434"/>
                      </a:lnTo>
                      <a:lnTo>
                        <a:pt x="815" y="390"/>
                      </a:lnTo>
                      <a:lnTo>
                        <a:pt x="820" y="360"/>
                      </a:lnTo>
                      <a:lnTo>
                        <a:pt x="841" y="348"/>
                      </a:lnTo>
                      <a:lnTo>
                        <a:pt x="866" y="337"/>
                      </a:lnTo>
                      <a:lnTo>
                        <a:pt x="923" y="325"/>
                      </a:lnTo>
                      <a:lnTo>
                        <a:pt x="967" y="332"/>
                      </a:lnTo>
                      <a:lnTo>
                        <a:pt x="1029" y="396"/>
                      </a:lnTo>
                      <a:lnTo>
                        <a:pt x="1057" y="467"/>
                      </a:lnTo>
                      <a:lnTo>
                        <a:pt x="1054" y="540"/>
                      </a:lnTo>
                      <a:lnTo>
                        <a:pt x="1043" y="577"/>
                      </a:lnTo>
                      <a:lnTo>
                        <a:pt x="1027" y="613"/>
                      </a:lnTo>
                      <a:lnTo>
                        <a:pt x="1006" y="648"/>
                      </a:lnTo>
                      <a:lnTo>
                        <a:pt x="981" y="682"/>
                      </a:lnTo>
                      <a:lnTo>
                        <a:pt x="952" y="713"/>
                      </a:lnTo>
                      <a:lnTo>
                        <a:pt x="922" y="742"/>
                      </a:lnTo>
                      <a:lnTo>
                        <a:pt x="889" y="768"/>
                      </a:lnTo>
                      <a:lnTo>
                        <a:pt x="855" y="791"/>
                      </a:lnTo>
                      <a:lnTo>
                        <a:pt x="820" y="810"/>
                      </a:lnTo>
                      <a:lnTo>
                        <a:pt x="785" y="823"/>
                      </a:lnTo>
                      <a:lnTo>
                        <a:pt x="728" y="841"/>
                      </a:lnTo>
                      <a:lnTo>
                        <a:pt x="667" y="855"/>
                      </a:lnTo>
                      <a:lnTo>
                        <a:pt x="540" y="868"/>
                      </a:lnTo>
                      <a:lnTo>
                        <a:pt x="412" y="861"/>
                      </a:lnTo>
                      <a:lnTo>
                        <a:pt x="290" y="833"/>
                      </a:lnTo>
                      <a:lnTo>
                        <a:pt x="234" y="810"/>
                      </a:lnTo>
                      <a:lnTo>
                        <a:pt x="181" y="781"/>
                      </a:lnTo>
                      <a:lnTo>
                        <a:pt x="92" y="704"/>
                      </a:lnTo>
                      <a:lnTo>
                        <a:pt x="30" y="601"/>
                      </a:lnTo>
                      <a:lnTo>
                        <a:pt x="0" y="470"/>
                      </a:lnTo>
                      <a:lnTo>
                        <a:pt x="7" y="324"/>
                      </a:lnTo>
                      <a:lnTo>
                        <a:pt x="24" y="260"/>
                      </a:lnTo>
                      <a:lnTo>
                        <a:pt x="47" y="204"/>
                      </a:lnTo>
                      <a:lnTo>
                        <a:pt x="78" y="155"/>
                      </a:lnTo>
                      <a:lnTo>
                        <a:pt x="114" y="113"/>
                      </a:lnTo>
                      <a:lnTo>
                        <a:pt x="157" y="77"/>
                      </a:lnTo>
                      <a:lnTo>
                        <a:pt x="180" y="61"/>
                      </a:lnTo>
                      <a:lnTo>
                        <a:pt x="204" y="47"/>
                      </a:lnTo>
                      <a:lnTo>
                        <a:pt x="255" y="25"/>
                      </a:lnTo>
                      <a:lnTo>
                        <a:pt x="310" y="9"/>
                      </a:lnTo>
                      <a:lnTo>
                        <a:pt x="430" y="0"/>
                      </a:lnTo>
                      <a:lnTo>
                        <a:pt x="556" y="18"/>
                      </a:lnTo>
                      <a:lnTo>
                        <a:pt x="686" y="65"/>
                      </a:lnTo>
                      <a:lnTo>
                        <a:pt x="794" y="101"/>
                      </a:lnTo>
                      <a:lnTo>
                        <a:pt x="811" y="143"/>
                      </a:lnTo>
                      <a:lnTo>
                        <a:pt x="803" y="168"/>
                      </a:lnTo>
                      <a:lnTo>
                        <a:pt x="789" y="191"/>
                      </a:lnTo>
                      <a:lnTo>
                        <a:pt x="767" y="209"/>
                      </a:lnTo>
                      <a:lnTo>
                        <a:pt x="741" y="218"/>
                      </a:lnTo>
                      <a:lnTo>
                        <a:pt x="685" y="195"/>
                      </a:lnTo>
                      <a:lnTo>
                        <a:pt x="685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808400" y="3864600"/>
                  <a:ext cx="186120" cy="60840"/>
                </a:xfrm>
                <a:custGeom>
                  <a:avLst/>
                  <a:gdLst/>
                  <a:ahLst/>
                  <a:rect l="l" t="t" r="r" b="b"/>
                  <a:pathLst>
                    <a:path w="574" h="279">
                      <a:moveTo>
                        <a:pt x="393" y="193"/>
                      </a:moveTo>
                      <a:lnTo>
                        <a:pt x="355" y="212"/>
                      </a:lnTo>
                      <a:lnTo>
                        <a:pt x="312" y="231"/>
                      </a:lnTo>
                      <a:lnTo>
                        <a:pt x="265" y="248"/>
                      </a:lnTo>
                      <a:lnTo>
                        <a:pt x="216" y="264"/>
                      </a:lnTo>
                      <a:lnTo>
                        <a:pt x="119" y="279"/>
                      </a:lnTo>
                      <a:lnTo>
                        <a:pt x="31" y="270"/>
                      </a:lnTo>
                      <a:lnTo>
                        <a:pt x="6" y="251"/>
                      </a:lnTo>
                      <a:lnTo>
                        <a:pt x="0" y="228"/>
                      </a:lnTo>
                      <a:lnTo>
                        <a:pt x="14" y="207"/>
                      </a:lnTo>
                      <a:lnTo>
                        <a:pt x="41" y="198"/>
                      </a:lnTo>
                      <a:lnTo>
                        <a:pt x="166" y="181"/>
                      </a:lnTo>
                      <a:lnTo>
                        <a:pt x="250" y="139"/>
                      </a:lnTo>
                      <a:lnTo>
                        <a:pt x="323" y="80"/>
                      </a:lnTo>
                      <a:lnTo>
                        <a:pt x="343" y="64"/>
                      </a:lnTo>
                      <a:lnTo>
                        <a:pt x="366" y="48"/>
                      </a:lnTo>
                      <a:lnTo>
                        <a:pt x="390" y="32"/>
                      </a:lnTo>
                      <a:lnTo>
                        <a:pt x="418" y="15"/>
                      </a:lnTo>
                      <a:lnTo>
                        <a:pt x="457" y="0"/>
                      </a:lnTo>
                      <a:lnTo>
                        <a:pt x="484" y="3"/>
                      </a:lnTo>
                      <a:lnTo>
                        <a:pt x="522" y="57"/>
                      </a:lnTo>
                      <a:lnTo>
                        <a:pt x="545" y="87"/>
                      </a:lnTo>
                      <a:lnTo>
                        <a:pt x="566" y="117"/>
                      </a:lnTo>
                      <a:lnTo>
                        <a:pt x="574" y="156"/>
                      </a:lnTo>
                      <a:lnTo>
                        <a:pt x="564" y="188"/>
                      </a:lnTo>
                      <a:lnTo>
                        <a:pt x="544" y="215"/>
                      </a:lnTo>
                      <a:lnTo>
                        <a:pt x="515" y="234"/>
                      </a:lnTo>
                      <a:lnTo>
                        <a:pt x="448" y="240"/>
                      </a:lnTo>
                      <a:lnTo>
                        <a:pt x="393" y="193"/>
                      </a:lnTo>
                      <a:lnTo>
                        <a:pt x="393" y="1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695000" y="3739680"/>
                  <a:ext cx="139320" cy="60840"/>
                </a:xfrm>
                <a:custGeom>
                  <a:avLst/>
                  <a:gdLst/>
                  <a:ahLst/>
                  <a:rect l="l" t="t" r="r" b="b"/>
                  <a:pathLst>
                    <a:path w="429" h="277">
                      <a:moveTo>
                        <a:pt x="242" y="266"/>
                      </a:moveTo>
                      <a:lnTo>
                        <a:pt x="212" y="277"/>
                      </a:lnTo>
                      <a:lnTo>
                        <a:pt x="168" y="262"/>
                      </a:lnTo>
                      <a:lnTo>
                        <a:pt x="120" y="239"/>
                      </a:lnTo>
                      <a:lnTo>
                        <a:pt x="77" y="229"/>
                      </a:lnTo>
                      <a:lnTo>
                        <a:pt x="20" y="224"/>
                      </a:lnTo>
                      <a:lnTo>
                        <a:pt x="0" y="212"/>
                      </a:lnTo>
                      <a:lnTo>
                        <a:pt x="18" y="195"/>
                      </a:lnTo>
                      <a:lnTo>
                        <a:pt x="82" y="145"/>
                      </a:lnTo>
                      <a:lnTo>
                        <a:pt x="113" y="73"/>
                      </a:lnTo>
                      <a:lnTo>
                        <a:pt x="118" y="37"/>
                      </a:lnTo>
                      <a:lnTo>
                        <a:pt x="131" y="14"/>
                      </a:lnTo>
                      <a:lnTo>
                        <a:pt x="150" y="3"/>
                      </a:lnTo>
                      <a:lnTo>
                        <a:pt x="176" y="0"/>
                      </a:lnTo>
                      <a:lnTo>
                        <a:pt x="291" y="13"/>
                      </a:lnTo>
                      <a:lnTo>
                        <a:pt x="341" y="29"/>
                      </a:lnTo>
                      <a:lnTo>
                        <a:pt x="354" y="63"/>
                      </a:lnTo>
                      <a:lnTo>
                        <a:pt x="368" y="141"/>
                      </a:lnTo>
                      <a:lnTo>
                        <a:pt x="429" y="227"/>
                      </a:lnTo>
                      <a:lnTo>
                        <a:pt x="426" y="251"/>
                      </a:lnTo>
                      <a:lnTo>
                        <a:pt x="406" y="266"/>
                      </a:lnTo>
                      <a:lnTo>
                        <a:pt x="333" y="276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938000" y="3987720"/>
                  <a:ext cx="192600" cy="82440"/>
                </a:xfrm>
                <a:custGeom>
                  <a:avLst/>
                  <a:gdLst/>
                  <a:ahLst/>
                  <a:rect l="l" t="t" r="r" b="b"/>
                  <a:pathLst>
                    <a:path w="595" h="377">
                      <a:moveTo>
                        <a:pt x="27" y="333"/>
                      </a:moveTo>
                      <a:lnTo>
                        <a:pt x="24" y="282"/>
                      </a:lnTo>
                      <a:lnTo>
                        <a:pt x="9" y="232"/>
                      </a:lnTo>
                      <a:lnTo>
                        <a:pt x="0" y="183"/>
                      </a:lnTo>
                      <a:lnTo>
                        <a:pt x="9" y="138"/>
                      </a:lnTo>
                      <a:lnTo>
                        <a:pt x="26" y="117"/>
                      </a:lnTo>
                      <a:lnTo>
                        <a:pt x="46" y="98"/>
                      </a:lnTo>
                      <a:lnTo>
                        <a:pt x="72" y="83"/>
                      </a:lnTo>
                      <a:lnTo>
                        <a:pt x="99" y="71"/>
                      </a:lnTo>
                      <a:lnTo>
                        <a:pt x="163" y="54"/>
                      </a:lnTo>
                      <a:lnTo>
                        <a:pt x="233" y="45"/>
                      </a:lnTo>
                      <a:lnTo>
                        <a:pt x="495" y="5"/>
                      </a:lnTo>
                      <a:lnTo>
                        <a:pt x="541" y="0"/>
                      </a:lnTo>
                      <a:lnTo>
                        <a:pt x="578" y="16"/>
                      </a:lnTo>
                      <a:lnTo>
                        <a:pt x="595" y="45"/>
                      </a:lnTo>
                      <a:lnTo>
                        <a:pt x="590" y="59"/>
                      </a:lnTo>
                      <a:lnTo>
                        <a:pt x="575" y="72"/>
                      </a:lnTo>
                      <a:lnTo>
                        <a:pt x="550" y="86"/>
                      </a:lnTo>
                      <a:lnTo>
                        <a:pt x="506" y="104"/>
                      </a:lnTo>
                      <a:lnTo>
                        <a:pt x="451" y="124"/>
                      </a:lnTo>
                      <a:lnTo>
                        <a:pt x="388" y="146"/>
                      </a:lnTo>
                      <a:lnTo>
                        <a:pt x="325" y="168"/>
                      </a:lnTo>
                      <a:lnTo>
                        <a:pt x="267" y="188"/>
                      </a:lnTo>
                      <a:lnTo>
                        <a:pt x="188" y="213"/>
                      </a:lnTo>
                      <a:lnTo>
                        <a:pt x="163" y="210"/>
                      </a:lnTo>
                      <a:lnTo>
                        <a:pt x="141" y="215"/>
                      </a:lnTo>
                      <a:lnTo>
                        <a:pt x="114" y="281"/>
                      </a:lnTo>
                      <a:lnTo>
                        <a:pt x="96" y="351"/>
                      </a:lnTo>
                      <a:lnTo>
                        <a:pt x="78" y="375"/>
                      </a:lnTo>
                      <a:lnTo>
                        <a:pt x="54" y="377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428240" y="4071600"/>
                  <a:ext cx="101880" cy="37800"/>
                </a:xfrm>
                <a:custGeom>
                  <a:avLst/>
                  <a:gdLst/>
                  <a:ahLst/>
                  <a:rect l="l" t="t" r="r" b="b"/>
                  <a:pathLst>
                    <a:path w="314" h="175">
                      <a:moveTo>
                        <a:pt x="46" y="0"/>
                      </a:moveTo>
                      <a:lnTo>
                        <a:pt x="99" y="26"/>
                      </a:lnTo>
                      <a:lnTo>
                        <a:pt x="154" y="44"/>
                      </a:lnTo>
                      <a:lnTo>
                        <a:pt x="266" y="72"/>
                      </a:lnTo>
                      <a:lnTo>
                        <a:pt x="302" y="90"/>
                      </a:lnTo>
                      <a:lnTo>
                        <a:pt x="314" y="120"/>
                      </a:lnTo>
                      <a:lnTo>
                        <a:pt x="302" y="149"/>
                      </a:lnTo>
                      <a:lnTo>
                        <a:pt x="287" y="160"/>
                      </a:lnTo>
                      <a:lnTo>
                        <a:pt x="266" y="167"/>
                      </a:lnTo>
                      <a:lnTo>
                        <a:pt x="216" y="175"/>
                      </a:lnTo>
                      <a:lnTo>
                        <a:pt x="120" y="162"/>
                      </a:lnTo>
                      <a:lnTo>
                        <a:pt x="33" y="127"/>
                      </a:lnTo>
                      <a:lnTo>
                        <a:pt x="6" y="88"/>
                      </a:lnTo>
                      <a:lnTo>
                        <a:pt x="0" y="38"/>
                      </a:lnTo>
                      <a:lnTo>
                        <a:pt x="13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805160" y="4106160"/>
                  <a:ext cx="127800" cy="34560"/>
                </a:xfrm>
                <a:custGeom>
                  <a:avLst/>
                  <a:gdLst/>
                  <a:ahLst/>
                  <a:rect l="l" t="t" r="r" b="b"/>
                  <a:pathLst>
                    <a:path w="397" h="162">
                      <a:moveTo>
                        <a:pt x="64" y="0"/>
                      </a:moveTo>
                      <a:lnTo>
                        <a:pt x="363" y="1"/>
                      </a:lnTo>
                      <a:lnTo>
                        <a:pt x="385" y="5"/>
                      </a:lnTo>
                      <a:lnTo>
                        <a:pt x="397" y="20"/>
                      </a:lnTo>
                      <a:lnTo>
                        <a:pt x="391" y="68"/>
                      </a:lnTo>
                      <a:lnTo>
                        <a:pt x="376" y="95"/>
                      </a:lnTo>
                      <a:lnTo>
                        <a:pt x="355" y="120"/>
                      </a:lnTo>
                      <a:lnTo>
                        <a:pt x="330" y="138"/>
                      </a:lnTo>
                      <a:lnTo>
                        <a:pt x="301" y="149"/>
                      </a:lnTo>
                      <a:lnTo>
                        <a:pt x="241" y="161"/>
                      </a:lnTo>
                      <a:lnTo>
                        <a:pt x="181" y="162"/>
                      </a:lnTo>
                      <a:lnTo>
                        <a:pt x="127" y="146"/>
                      </a:lnTo>
                      <a:lnTo>
                        <a:pt x="73" y="136"/>
                      </a:lnTo>
                      <a:lnTo>
                        <a:pt x="20" y="115"/>
                      </a:lnTo>
                      <a:lnTo>
                        <a:pt x="0" y="71"/>
                      </a:lnTo>
                      <a:lnTo>
                        <a:pt x="15" y="25"/>
                      </a:lnTo>
                      <a:lnTo>
                        <a:pt x="35" y="1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095320" y="4033440"/>
                  <a:ext cx="98640" cy="46440"/>
                </a:xfrm>
                <a:custGeom>
                  <a:avLst/>
                  <a:gdLst/>
                  <a:ahLst/>
                  <a:rect l="l" t="t" r="r" b="b"/>
                  <a:pathLst>
                    <a:path w="306" h="213">
                      <a:moveTo>
                        <a:pt x="42" y="78"/>
                      </a:moveTo>
                      <a:lnTo>
                        <a:pt x="130" y="57"/>
                      </a:lnTo>
                      <a:lnTo>
                        <a:pt x="207" y="8"/>
                      </a:lnTo>
                      <a:lnTo>
                        <a:pt x="246" y="0"/>
                      </a:lnTo>
                      <a:lnTo>
                        <a:pt x="283" y="34"/>
                      </a:lnTo>
                      <a:lnTo>
                        <a:pt x="306" y="84"/>
                      </a:lnTo>
                      <a:lnTo>
                        <a:pt x="299" y="132"/>
                      </a:lnTo>
                      <a:lnTo>
                        <a:pt x="262" y="170"/>
                      </a:lnTo>
                      <a:lnTo>
                        <a:pt x="225" y="190"/>
                      </a:lnTo>
                      <a:lnTo>
                        <a:pt x="131" y="213"/>
                      </a:lnTo>
                      <a:lnTo>
                        <a:pt x="60" y="207"/>
                      </a:lnTo>
                      <a:lnTo>
                        <a:pt x="12" y="166"/>
                      </a:lnTo>
                      <a:lnTo>
                        <a:pt x="0" y="116"/>
                      </a:lnTo>
                      <a:lnTo>
                        <a:pt x="14" y="94"/>
                      </a:lnTo>
                      <a:lnTo>
                        <a:pt x="42" y="78"/>
                      </a:lnTo>
                      <a:lnTo>
                        <a:pt x="4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053200" y="3748320"/>
                  <a:ext cx="173160" cy="279720"/>
                </a:xfrm>
                <a:custGeom>
                  <a:avLst/>
                  <a:gdLst/>
                  <a:ahLst/>
                  <a:rect l="l" t="t" r="r" b="b"/>
                  <a:pathLst>
                    <a:path w="533" h="1289">
                      <a:moveTo>
                        <a:pt x="274" y="983"/>
                      </a:moveTo>
                      <a:lnTo>
                        <a:pt x="227" y="894"/>
                      </a:lnTo>
                      <a:lnTo>
                        <a:pt x="202" y="795"/>
                      </a:lnTo>
                      <a:lnTo>
                        <a:pt x="190" y="573"/>
                      </a:lnTo>
                      <a:lnTo>
                        <a:pt x="196" y="131"/>
                      </a:lnTo>
                      <a:lnTo>
                        <a:pt x="170" y="130"/>
                      </a:lnTo>
                      <a:lnTo>
                        <a:pt x="149" y="150"/>
                      </a:lnTo>
                      <a:lnTo>
                        <a:pt x="119" y="202"/>
                      </a:lnTo>
                      <a:lnTo>
                        <a:pt x="97" y="222"/>
                      </a:lnTo>
                      <a:lnTo>
                        <a:pt x="73" y="232"/>
                      </a:lnTo>
                      <a:lnTo>
                        <a:pt x="28" y="223"/>
                      </a:lnTo>
                      <a:lnTo>
                        <a:pt x="0" y="187"/>
                      </a:lnTo>
                      <a:lnTo>
                        <a:pt x="6" y="133"/>
                      </a:lnTo>
                      <a:lnTo>
                        <a:pt x="42" y="74"/>
                      </a:lnTo>
                      <a:lnTo>
                        <a:pt x="85" y="32"/>
                      </a:lnTo>
                      <a:lnTo>
                        <a:pt x="109" y="17"/>
                      </a:lnTo>
                      <a:lnTo>
                        <a:pt x="133" y="7"/>
                      </a:lnTo>
                      <a:lnTo>
                        <a:pt x="181" y="0"/>
                      </a:lnTo>
                      <a:lnTo>
                        <a:pt x="227" y="12"/>
                      </a:lnTo>
                      <a:lnTo>
                        <a:pt x="266" y="43"/>
                      </a:lnTo>
                      <a:lnTo>
                        <a:pt x="295" y="95"/>
                      </a:lnTo>
                      <a:lnTo>
                        <a:pt x="313" y="167"/>
                      </a:lnTo>
                      <a:lnTo>
                        <a:pt x="316" y="319"/>
                      </a:lnTo>
                      <a:lnTo>
                        <a:pt x="305" y="472"/>
                      </a:lnTo>
                      <a:lnTo>
                        <a:pt x="296" y="624"/>
                      </a:lnTo>
                      <a:lnTo>
                        <a:pt x="312" y="777"/>
                      </a:lnTo>
                      <a:lnTo>
                        <a:pt x="338" y="874"/>
                      </a:lnTo>
                      <a:lnTo>
                        <a:pt x="365" y="939"/>
                      </a:lnTo>
                      <a:lnTo>
                        <a:pt x="391" y="976"/>
                      </a:lnTo>
                      <a:lnTo>
                        <a:pt x="417" y="995"/>
                      </a:lnTo>
                      <a:lnTo>
                        <a:pt x="468" y="1012"/>
                      </a:lnTo>
                      <a:lnTo>
                        <a:pt x="512" y="1053"/>
                      </a:lnTo>
                      <a:lnTo>
                        <a:pt x="533" y="1154"/>
                      </a:lnTo>
                      <a:lnTo>
                        <a:pt x="523" y="1204"/>
                      </a:lnTo>
                      <a:lnTo>
                        <a:pt x="506" y="1246"/>
                      </a:lnTo>
                      <a:lnTo>
                        <a:pt x="486" y="1276"/>
                      </a:lnTo>
                      <a:lnTo>
                        <a:pt x="467" y="1289"/>
                      </a:lnTo>
                      <a:lnTo>
                        <a:pt x="452" y="1281"/>
                      </a:lnTo>
                      <a:lnTo>
                        <a:pt x="446" y="1246"/>
                      </a:lnTo>
                      <a:lnTo>
                        <a:pt x="452" y="1136"/>
                      </a:lnTo>
                      <a:lnTo>
                        <a:pt x="446" y="1110"/>
                      </a:lnTo>
                      <a:lnTo>
                        <a:pt x="434" y="1095"/>
                      </a:lnTo>
                      <a:lnTo>
                        <a:pt x="378" y="1106"/>
                      </a:lnTo>
                      <a:lnTo>
                        <a:pt x="311" y="1055"/>
                      </a:lnTo>
                      <a:lnTo>
                        <a:pt x="274" y="983"/>
                      </a:lnTo>
                      <a:lnTo>
                        <a:pt x="274" y="9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447680" y="3702600"/>
                  <a:ext cx="120960" cy="29160"/>
                </a:xfrm>
                <a:custGeom>
                  <a:avLst/>
                  <a:gdLst/>
                  <a:ahLst/>
                  <a:rect l="l" t="t" r="r" b="b"/>
                  <a:pathLst>
                    <a:path w="375" h="137">
                      <a:moveTo>
                        <a:pt x="22" y="73"/>
                      </a:moveTo>
                      <a:lnTo>
                        <a:pt x="58" y="56"/>
                      </a:lnTo>
                      <a:lnTo>
                        <a:pt x="114" y="31"/>
                      </a:lnTo>
                      <a:lnTo>
                        <a:pt x="169" y="9"/>
                      </a:lnTo>
                      <a:lnTo>
                        <a:pt x="200" y="0"/>
                      </a:lnTo>
                      <a:lnTo>
                        <a:pt x="329" y="21"/>
                      </a:lnTo>
                      <a:lnTo>
                        <a:pt x="365" y="42"/>
                      </a:lnTo>
                      <a:lnTo>
                        <a:pt x="375" y="74"/>
                      </a:lnTo>
                      <a:lnTo>
                        <a:pt x="361" y="105"/>
                      </a:lnTo>
                      <a:lnTo>
                        <a:pt x="345" y="116"/>
                      </a:lnTo>
                      <a:lnTo>
                        <a:pt x="323" y="122"/>
                      </a:lnTo>
                      <a:lnTo>
                        <a:pt x="210" y="129"/>
                      </a:lnTo>
                      <a:lnTo>
                        <a:pt x="42" y="137"/>
                      </a:lnTo>
                      <a:lnTo>
                        <a:pt x="14" y="134"/>
                      </a:lnTo>
                      <a:lnTo>
                        <a:pt x="0" y="116"/>
                      </a:lnTo>
                      <a:lnTo>
                        <a:pt x="0" y="92"/>
                      </a:lnTo>
                      <a:lnTo>
                        <a:pt x="22" y="73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6240960" y="4499640"/>
                <a:ext cx="984600" cy="581400"/>
                <a:chOff x="6240960" y="4499640"/>
                <a:chExt cx="984600" cy="58140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6363000" y="4678920"/>
                  <a:ext cx="757440" cy="346680"/>
                </a:xfrm>
                <a:custGeom>
                  <a:avLst/>
                  <a:gdLst/>
                  <a:ahLst/>
                  <a:rect l="l" t="t" r="r" b="b"/>
                  <a:pathLst>
                    <a:path w="2342" h="1592">
                      <a:moveTo>
                        <a:pt x="640" y="33"/>
                      </a:moveTo>
                      <a:lnTo>
                        <a:pt x="538" y="578"/>
                      </a:lnTo>
                      <a:lnTo>
                        <a:pt x="120" y="1047"/>
                      </a:lnTo>
                      <a:lnTo>
                        <a:pt x="0" y="1180"/>
                      </a:lnTo>
                      <a:lnTo>
                        <a:pt x="45" y="1440"/>
                      </a:lnTo>
                      <a:lnTo>
                        <a:pt x="1803" y="1592"/>
                      </a:lnTo>
                      <a:lnTo>
                        <a:pt x="2342" y="1314"/>
                      </a:lnTo>
                      <a:lnTo>
                        <a:pt x="2031" y="58"/>
                      </a:lnTo>
                      <a:lnTo>
                        <a:pt x="1905" y="0"/>
                      </a:lnTo>
                      <a:lnTo>
                        <a:pt x="1677" y="255"/>
                      </a:lnTo>
                      <a:lnTo>
                        <a:pt x="980" y="197"/>
                      </a:lnTo>
                      <a:lnTo>
                        <a:pt x="760" y="0"/>
                      </a:lnTo>
                      <a:lnTo>
                        <a:pt x="640" y="33"/>
                      </a:lnTo>
                      <a:lnTo>
                        <a:pt x="64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367680" y="4698360"/>
                  <a:ext cx="857880" cy="370800"/>
                </a:xfrm>
                <a:custGeom>
                  <a:avLst/>
                  <a:gdLst/>
                  <a:ahLst/>
                  <a:rect l="l" t="t" r="r" b="b"/>
                  <a:pathLst>
                    <a:path w="2651" h="1707">
                      <a:moveTo>
                        <a:pt x="120" y="1155"/>
                      </a:moveTo>
                      <a:lnTo>
                        <a:pt x="551" y="1155"/>
                      </a:lnTo>
                      <a:lnTo>
                        <a:pt x="1291" y="1288"/>
                      </a:lnTo>
                      <a:lnTo>
                        <a:pt x="1146" y="1149"/>
                      </a:lnTo>
                      <a:lnTo>
                        <a:pt x="1708" y="850"/>
                      </a:lnTo>
                      <a:lnTo>
                        <a:pt x="1905" y="1021"/>
                      </a:lnTo>
                      <a:lnTo>
                        <a:pt x="1961" y="793"/>
                      </a:lnTo>
                      <a:lnTo>
                        <a:pt x="1905" y="241"/>
                      </a:lnTo>
                      <a:lnTo>
                        <a:pt x="1955" y="0"/>
                      </a:lnTo>
                      <a:lnTo>
                        <a:pt x="2069" y="165"/>
                      </a:lnTo>
                      <a:lnTo>
                        <a:pt x="2152" y="146"/>
                      </a:lnTo>
                      <a:lnTo>
                        <a:pt x="2222" y="0"/>
                      </a:lnTo>
                      <a:lnTo>
                        <a:pt x="2430" y="63"/>
                      </a:lnTo>
                      <a:lnTo>
                        <a:pt x="2461" y="818"/>
                      </a:lnTo>
                      <a:lnTo>
                        <a:pt x="2645" y="952"/>
                      </a:lnTo>
                      <a:lnTo>
                        <a:pt x="2651" y="1186"/>
                      </a:lnTo>
                      <a:lnTo>
                        <a:pt x="1741" y="1707"/>
                      </a:lnTo>
                      <a:lnTo>
                        <a:pt x="0" y="1402"/>
                      </a:lnTo>
                      <a:lnTo>
                        <a:pt x="120" y="1155"/>
                      </a:lnTo>
                      <a:lnTo>
                        <a:pt x="120" y="1155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1807200">
                  <a:off x="6281640" y="4642920"/>
                  <a:ext cx="262440" cy="232920"/>
                </a:xfrm>
                <a:custGeom>
                  <a:avLst/>
                  <a:gdLst/>
                  <a:ahLst/>
                  <a:rect l="l" t="t" r="r" b="b"/>
                  <a:pathLst>
                    <a:path w="810" h="1069">
                      <a:moveTo>
                        <a:pt x="235" y="736"/>
                      </a:moveTo>
                      <a:lnTo>
                        <a:pt x="295" y="710"/>
                      </a:lnTo>
                      <a:lnTo>
                        <a:pt x="357" y="682"/>
                      </a:lnTo>
                      <a:lnTo>
                        <a:pt x="417" y="660"/>
                      </a:lnTo>
                      <a:lnTo>
                        <a:pt x="471" y="650"/>
                      </a:lnTo>
                      <a:lnTo>
                        <a:pt x="516" y="657"/>
                      </a:lnTo>
                      <a:lnTo>
                        <a:pt x="545" y="687"/>
                      </a:lnTo>
                      <a:lnTo>
                        <a:pt x="555" y="747"/>
                      </a:lnTo>
                      <a:lnTo>
                        <a:pt x="543" y="840"/>
                      </a:lnTo>
                      <a:lnTo>
                        <a:pt x="609" y="825"/>
                      </a:lnTo>
                      <a:lnTo>
                        <a:pt x="665" y="825"/>
                      </a:lnTo>
                      <a:lnTo>
                        <a:pt x="746" y="855"/>
                      </a:lnTo>
                      <a:lnTo>
                        <a:pt x="793" y="915"/>
                      </a:lnTo>
                      <a:lnTo>
                        <a:pt x="810" y="982"/>
                      </a:lnTo>
                      <a:lnTo>
                        <a:pt x="799" y="1040"/>
                      </a:lnTo>
                      <a:lnTo>
                        <a:pt x="786" y="1059"/>
                      </a:lnTo>
                      <a:lnTo>
                        <a:pt x="767" y="1069"/>
                      </a:lnTo>
                      <a:lnTo>
                        <a:pt x="717" y="1047"/>
                      </a:lnTo>
                      <a:lnTo>
                        <a:pt x="687" y="1012"/>
                      </a:lnTo>
                      <a:lnTo>
                        <a:pt x="654" y="957"/>
                      </a:lnTo>
                      <a:lnTo>
                        <a:pt x="588" y="979"/>
                      </a:lnTo>
                      <a:lnTo>
                        <a:pt x="552" y="998"/>
                      </a:lnTo>
                      <a:lnTo>
                        <a:pt x="515" y="1015"/>
                      </a:lnTo>
                      <a:lnTo>
                        <a:pt x="480" y="1025"/>
                      </a:lnTo>
                      <a:lnTo>
                        <a:pt x="450" y="1027"/>
                      </a:lnTo>
                      <a:lnTo>
                        <a:pt x="407" y="975"/>
                      </a:lnTo>
                      <a:lnTo>
                        <a:pt x="407" y="925"/>
                      </a:lnTo>
                      <a:lnTo>
                        <a:pt x="425" y="878"/>
                      </a:lnTo>
                      <a:lnTo>
                        <a:pt x="458" y="782"/>
                      </a:lnTo>
                      <a:lnTo>
                        <a:pt x="429" y="796"/>
                      </a:lnTo>
                      <a:lnTo>
                        <a:pt x="389" y="816"/>
                      </a:lnTo>
                      <a:lnTo>
                        <a:pt x="341" y="842"/>
                      </a:lnTo>
                      <a:lnTo>
                        <a:pt x="289" y="868"/>
                      </a:lnTo>
                      <a:lnTo>
                        <a:pt x="238" y="893"/>
                      </a:lnTo>
                      <a:lnTo>
                        <a:pt x="191" y="914"/>
                      </a:lnTo>
                      <a:lnTo>
                        <a:pt x="130" y="927"/>
                      </a:lnTo>
                      <a:lnTo>
                        <a:pt x="73" y="893"/>
                      </a:lnTo>
                      <a:lnTo>
                        <a:pt x="56" y="845"/>
                      </a:lnTo>
                      <a:lnTo>
                        <a:pt x="70" y="790"/>
                      </a:lnTo>
                      <a:lnTo>
                        <a:pt x="101" y="730"/>
                      </a:lnTo>
                      <a:lnTo>
                        <a:pt x="120" y="700"/>
                      </a:lnTo>
                      <a:lnTo>
                        <a:pt x="139" y="671"/>
                      </a:lnTo>
                      <a:lnTo>
                        <a:pt x="174" y="618"/>
                      </a:lnTo>
                      <a:lnTo>
                        <a:pt x="191" y="552"/>
                      </a:lnTo>
                      <a:lnTo>
                        <a:pt x="156" y="533"/>
                      </a:lnTo>
                      <a:lnTo>
                        <a:pt x="114" y="520"/>
                      </a:lnTo>
                      <a:lnTo>
                        <a:pt x="35" y="496"/>
                      </a:lnTo>
                      <a:lnTo>
                        <a:pt x="8" y="477"/>
                      </a:lnTo>
                      <a:lnTo>
                        <a:pt x="0" y="448"/>
                      </a:lnTo>
                      <a:lnTo>
                        <a:pt x="11" y="405"/>
                      </a:lnTo>
                      <a:lnTo>
                        <a:pt x="26" y="377"/>
                      </a:lnTo>
                      <a:lnTo>
                        <a:pt x="50" y="345"/>
                      </a:lnTo>
                      <a:lnTo>
                        <a:pt x="73" y="321"/>
                      </a:lnTo>
                      <a:lnTo>
                        <a:pt x="100" y="299"/>
                      </a:lnTo>
                      <a:lnTo>
                        <a:pt x="128" y="280"/>
                      </a:lnTo>
                      <a:lnTo>
                        <a:pt x="157" y="263"/>
                      </a:lnTo>
                      <a:lnTo>
                        <a:pt x="136" y="113"/>
                      </a:lnTo>
                      <a:lnTo>
                        <a:pt x="151" y="67"/>
                      </a:lnTo>
                      <a:lnTo>
                        <a:pt x="184" y="35"/>
                      </a:lnTo>
                      <a:lnTo>
                        <a:pt x="229" y="16"/>
                      </a:lnTo>
                      <a:lnTo>
                        <a:pt x="285" y="5"/>
                      </a:lnTo>
                      <a:lnTo>
                        <a:pt x="426" y="0"/>
                      </a:lnTo>
                      <a:lnTo>
                        <a:pt x="441" y="18"/>
                      </a:lnTo>
                      <a:lnTo>
                        <a:pt x="429" y="58"/>
                      </a:lnTo>
                      <a:lnTo>
                        <a:pt x="415" y="79"/>
                      </a:lnTo>
                      <a:lnTo>
                        <a:pt x="399" y="97"/>
                      </a:lnTo>
                      <a:lnTo>
                        <a:pt x="383" y="111"/>
                      </a:lnTo>
                      <a:lnTo>
                        <a:pt x="366" y="115"/>
                      </a:lnTo>
                      <a:lnTo>
                        <a:pt x="291" y="108"/>
                      </a:lnTo>
                      <a:lnTo>
                        <a:pt x="227" y="124"/>
                      </a:lnTo>
                      <a:lnTo>
                        <a:pt x="222" y="161"/>
                      </a:lnTo>
                      <a:lnTo>
                        <a:pt x="240" y="201"/>
                      </a:lnTo>
                      <a:lnTo>
                        <a:pt x="283" y="274"/>
                      </a:lnTo>
                      <a:lnTo>
                        <a:pt x="284" y="306"/>
                      </a:lnTo>
                      <a:lnTo>
                        <a:pt x="273" y="328"/>
                      </a:lnTo>
                      <a:lnTo>
                        <a:pt x="253" y="341"/>
                      </a:lnTo>
                      <a:lnTo>
                        <a:pt x="228" y="351"/>
                      </a:lnTo>
                      <a:lnTo>
                        <a:pt x="179" y="366"/>
                      </a:lnTo>
                      <a:lnTo>
                        <a:pt x="152" y="397"/>
                      </a:lnTo>
                      <a:lnTo>
                        <a:pt x="164" y="413"/>
                      </a:lnTo>
                      <a:lnTo>
                        <a:pt x="193" y="414"/>
                      </a:lnTo>
                      <a:lnTo>
                        <a:pt x="256" y="415"/>
                      </a:lnTo>
                      <a:lnTo>
                        <a:pt x="289" y="441"/>
                      </a:lnTo>
                      <a:lnTo>
                        <a:pt x="308" y="478"/>
                      </a:lnTo>
                      <a:lnTo>
                        <a:pt x="312" y="570"/>
                      </a:lnTo>
                      <a:lnTo>
                        <a:pt x="300" y="620"/>
                      </a:lnTo>
                      <a:lnTo>
                        <a:pt x="282" y="666"/>
                      </a:lnTo>
                      <a:lnTo>
                        <a:pt x="260" y="706"/>
                      </a:lnTo>
                      <a:lnTo>
                        <a:pt x="235" y="736"/>
                      </a:lnTo>
                      <a:lnTo>
                        <a:pt x="235" y="7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3" name=""/>
                <p:cNvGrpSpPr/>
                <p:nvPr/>
              </p:nvGrpSpPr>
              <p:grpSpPr>
                <a:xfrm>
                  <a:off x="6475680" y="4499640"/>
                  <a:ext cx="747720" cy="446400"/>
                  <a:chOff x="6475680" y="4499640"/>
                  <a:chExt cx="747720" cy="44640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rot="976200">
                    <a:off x="6503400" y="4592520"/>
                    <a:ext cx="69912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9" h="1142">
                        <a:moveTo>
                          <a:pt x="0" y="1066"/>
                        </a:moveTo>
                        <a:lnTo>
                          <a:pt x="38" y="678"/>
                        </a:lnTo>
                        <a:lnTo>
                          <a:pt x="190" y="431"/>
                        </a:lnTo>
                        <a:lnTo>
                          <a:pt x="475" y="241"/>
                        </a:lnTo>
                        <a:lnTo>
                          <a:pt x="1006" y="50"/>
                        </a:lnTo>
                        <a:lnTo>
                          <a:pt x="1537" y="0"/>
                        </a:lnTo>
                        <a:lnTo>
                          <a:pt x="1918" y="197"/>
                        </a:lnTo>
                        <a:lnTo>
                          <a:pt x="2159" y="463"/>
                        </a:lnTo>
                        <a:lnTo>
                          <a:pt x="2007" y="666"/>
                        </a:lnTo>
                        <a:lnTo>
                          <a:pt x="1487" y="774"/>
                        </a:lnTo>
                        <a:lnTo>
                          <a:pt x="1184" y="336"/>
                        </a:lnTo>
                        <a:lnTo>
                          <a:pt x="519" y="628"/>
                        </a:lnTo>
                        <a:lnTo>
                          <a:pt x="411" y="1041"/>
                        </a:lnTo>
                        <a:lnTo>
                          <a:pt x="69" y="1142"/>
                        </a:lnTo>
                        <a:lnTo>
                          <a:pt x="0" y="1066"/>
                        </a:lnTo>
                        <a:lnTo>
                          <a:pt x="0" y="106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976200">
                    <a:off x="6552720" y="4642200"/>
                    <a:ext cx="62316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4" h="893">
                        <a:moveTo>
                          <a:pt x="12" y="856"/>
                        </a:moveTo>
                        <a:lnTo>
                          <a:pt x="45" y="551"/>
                        </a:lnTo>
                        <a:lnTo>
                          <a:pt x="153" y="406"/>
                        </a:lnTo>
                        <a:lnTo>
                          <a:pt x="253" y="412"/>
                        </a:lnTo>
                        <a:lnTo>
                          <a:pt x="247" y="298"/>
                        </a:lnTo>
                        <a:lnTo>
                          <a:pt x="431" y="171"/>
                        </a:lnTo>
                        <a:lnTo>
                          <a:pt x="754" y="51"/>
                        </a:lnTo>
                        <a:lnTo>
                          <a:pt x="1019" y="0"/>
                        </a:lnTo>
                        <a:lnTo>
                          <a:pt x="1183" y="70"/>
                        </a:lnTo>
                        <a:lnTo>
                          <a:pt x="1254" y="184"/>
                        </a:lnTo>
                        <a:lnTo>
                          <a:pt x="1348" y="279"/>
                        </a:lnTo>
                        <a:lnTo>
                          <a:pt x="1569" y="165"/>
                        </a:lnTo>
                        <a:lnTo>
                          <a:pt x="1741" y="190"/>
                        </a:lnTo>
                        <a:lnTo>
                          <a:pt x="1924" y="323"/>
                        </a:lnTo>
                        <a:lnTo>
                          <a:pt x="1500" y="532"/>
                        </a:lnTo>
                        <a:lnTo>
                          <a:pt x="1310" y="520"/>
                        </a:lnTo>
                        <a:lnTo>
                          <a:pt x="1069" y="215"/>
                        </a:lnTo>
                        <a:lnTo>
                          <a:pt x="879" y="221"/>
                        </a:lnTo>
                        <a:lnTo>
                          <a:pt x="398" y="476"/>
                        </a:lnTo>
                        <a:lnTo>
                          <a:pt x="361" y="665"/>
                        </a:lnTo>
                        <a:lnTo>
                          <a:pt x="323" y="843"/>
                        </a:lnTo>
                        <a:lnTo>
                          <a:pt x="0" y="893"/>
                        </a:lnTo>
                        <a:lnTo>
                          <a:pt x="12" y="856"/>
                        </a:lnTo>
                        <a:lnTo>
                          <a:pt x="12" y="856"/>
                        </a:lnTo>
                        <a:close/>
                      </a:path>
                    </a:pathLst>
                  </a:custGeom>
                  <a:solidFill>
                    <a:srgbClr val="a3a3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976200">
                    <a:off x="6559560" y="4576320"/>
                    <a:ext cx="55152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4" h="657">
                        <a:moveTo>
                          <a:pt x="0" y="598"/>
                        </a:moveTo>
                        <a:lnTo>
                          <a:pt x="15" y="559"/>
                        </a:lnTo>
                        <a:lnTo>
                          <a:pt x="35" y="522"/>
                        </a:lnTo>
                        <a:lnTo>
                          <a:pt x="60" y="485"/>
                        </a:lnTo>
                        <a:lnTo>
                          <a:pt x="90" y="449"/>
                        </a:lnTo>
                        <a:lnTo>
                          <a:pt x="126" y="413"/>
                        </a:lnTo>
                        <a:lnTo>
                          <a:pt x="166" y="378"/>
                        </a:lnTo>
                        <a:lnTo>
                          <a:pt x="210" y="345"/>
                        </a:lnTo>
                        <a:lnTo>
                          <a:pt x="233" y="328"/>
                        </a:lnTo>
                        <a:lnTo>
                          <a:pt x="257" y="312"/>
                        </a:lnTo>
                        <a:lnTo>
                          <a:pt x="282" y="295"/>
                        </a:lnTo>
                        <a:lnTo>
                          <a:pt x="309" y="280"/>
                        </a:lnTo>
                        <a:lnTo>
                          <a:pt x="363" y="250"/>
                        </a:lnTo>
                        <a:lnTo>
                          <a:pt x="420" y="220"/>
                        </a:lnTo>
                        <a:lnTo>
                          <a:pt x="479" y="192"/>
                        </a:lnTo>
                        <a:lnTo>
                          <a:pt x="540" y="166"/>
                        </a:lnTo>
                        <a:lnTo>
                          <a:pt x="604" y="140"/>
                        </a:lnTo>
                        <a:lnTo>
                          <a:pt x="667" y="118"/>
                        </a:lnTo>
                        <a:lnTo>
                          <a:pt x="733" y="96"/>
                        </a:lnTo>
                        <a:lnTo>
                          <a:pt x="798" y="77"/>
                        </a:lnTo>
                        <a:lnTo>
                          <a:pt x="865" y="59"/>
                        </a:lnTo>
                        <a:lnTo>
                          <a:pt x="931" y="44"/>
                        </a:lnTo>
                        <a:lnTo>
                          <a:pt x="997" y="30"/>
                        </a:lnTo>
                        <a:lnTo>
                          <a:pt x="1127" y="11"/>
                        </a:lnTo>
                        <a:lnTo>
                          <a:pt x="1250" y="0"/>
                        </a:lnTo>
                        <a:lnTo>
                          <a:pt x="1470" y="12"/>
                        </a:lnTo>
                        <a:lnTo>
                          <a:pt x="1560" y="36"/>
                        </a:lnTo>
                        <a:lnTo>
                          <a:pt x="1634" y="72"/>
                        </a:lnTo>
                        <a:lnTo>
                          <a:pt x="1687" y="124"/>
                        </a:lnTo>
                        <a:lnTo>
                          <a:pt x="1704" y="173"/>
                        </a:lnTo>
                        <a:lnTo>
                          <a:pt x="1698" y="191"/>
                        </a:lnTo>
                        <a:lnTo>
                          <a:pt x="1682" y="203"/>
                        </a:lnTo>
                        <a:lnTo>
                          <a:pt x="1621" y="200"/>
                        </a:lnTo>
                        <a:lnTo>
                          <a:pt x="1517" y="173"/>
                        </a:lnTo>
                        <a:lnTo>
                          <a:pt x="1409" y="144"/>
                        </a:lnTo>
                        <a:lnTo>
                          <a:pt x="1319" y="124"/>
                        </a:lnTo>
                        <a:lnTo>
                          <a:pt x="1224" y="115"/>
                        </a:lnTo>
                        <a:lnTo>
                          <a:pt x="1028" y="128"/>
                        </a:lnTo>
                        <a:lnTo>
                          <a:pt x="835" y="173"/>
                        </a:lnTo>
                        <a:lnTo>
                          <a:pt x="744" y="202"/>
                        </a:lnTo>
                        <a:lnTo>
                          <a:pt x="659" y="234"/>
                        </a:lnTo>
                        <a:lnTo>
                          <a:pt x="586" y="264"/>
                        </a:lnTo>
                        <a:lnTo>
                          <a:pt x="521" y="291"/>
                        </a:lnTo>
                        <a:lnTo>
                          <a:pt x="467" y="313"/>
                        </a:lnTo>
                        <a:lnTo>
                          <a:pt x="419" y="333"/>
                        </a:lnTo>
                        <a:lnTo>
                          <a:pt x="342" y="369"/>
                        </a:lnTo>
                        <a:lnTo>
                          <a:pt x="284" y="402"/>
                        </a:lnTo>
                        <a:lnTo>
                          <a:pt x="234" y="441"/>
                        </a:lnTo>
                        <a:lnTo>
                          <a:pt x="186" y="489"/>
                        </a:lnTo>
                        <a:lnTo>
                          <a:pt x="160" y="519"/>
                        </a:lnTo>
                        <a:lnTo>
                          <a:pt x="130" y="553"/>
                        </a:lnTo>
                        <a:lnTo>
                          <a:pt x="96" y="593"/>
                        </a:lnTo>
                        <a:lnTo>
                          <a:pt x="59" y="639"/>
                        </a:lnTo>
                        <a:lnTo>
                          <a:pt x="34" y="657"/>
                        </a:lnTo>
                        <a:lnTo>
                          <a:pt x="11" y="653"/>
                        </a:lnTo>
                        <a:lnTo>
                          <a:pt x="0" y="598"/>
                        </a:lnTo>
                        <a:lnTo>
                          <a:pt x="0" y="5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976200">
                    <a:off x="6489000" y="4652280"/>
                    <a:ext cx="7149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0" h="912">
                        <a:moveTo>
                          <a:pt x="109" y="769"/>
                        </a:moveTo>
                        <a:lnTo>
                          <a:pt x="161" y="758"/>
                        </a:lnTo>
                        <a:lnTo>
                          <a:pt x="208" y="727"/>
                        </a:lnTo>
                        <a:lnTo>
                          <a:pt x="232" y="709"/>
                        </a:lnTo>
                        <a:lnTo>
                          <a:pt x="255" y="692"/>
                        </a:lnTo>
                        <a:lnTo>
                          <a:pt x="279" y="677"/>
                        </a:lnTo>
                        <a:lnTo>
                          <a:pt x="304" y="667"/>
                        </a:lnTo>
                        <a:lnTo>
                          <a:pt x="399" y="653"/>
                        </a:lnTo>
                        <a:lnTo>
                          <a:pt x="493" y="643"/>
                        </a:lnTo>
                        <a:lnTo>
                          <a:pt x="508" y="556"/>
                        </a:lnTo>
                        <a:lnTo>
                          <a:pt x="506" y="512"/>
                        </a:lnTo>
                        <a:lnTo>
                          <a:pt x="508" y="466"/>
                        </a:lnTo>
                        <a:lnTo>
                          <a:pt x="518" y="430"/>
                        </a:lnTo>
                        <a:lnTo>
                          <a:pt x="538" y="393"/>
                        </a:lnTo>
                        <a:lnTo>
                          <a:pt x="565" y="354"/>
                        </a:lnTo>
                        <a:lnTo>
                          <a:pt x="600" y="317"/>
                        </a:lnTo>
                        <a:lnTo>
                          <a:pt x="642" y="281"/>
                        </a:lnTo>
                        <a:lnTo>
                          <a:pt x="688" y="245"/>
                        </a:lnTo>
                        <a:lnTo>
                          <a:pt x="713" y="227"/>
                        </a:lnTo>
                        <a:lnTo>
                          <a:pt x="738" y="210"/>
                        </a:lnTo>
                        <a:lnTo>
                          <a:pt x="764" y="194"/>
                        </a:lnTo>
                        <a:lnTo>
                          <a:pt x="792" y="178"/>
                        </a:lnTo>
                        <a:lnTo>
                          <a:pt x="847" y="148"/>
                        </a:lnTo>
                        <a:lnTo>
                          <a:pt x="902" y="120"/>
                        </a:lnTo>
                        <a:lnTo>
                          <a:pt x="958" y="95"/>
                        </a:lnTo>
                        <a:lnTo>
                          <a:pt x="1011" y="75"/>
                        </a:lnTo>
                        <a:lnTo>
                          <a:pt x="1062" y="58"/>
                        </a:lnTo>
                        <a:lnTo>
                          <a:pt x="1110" y="45"/>
                        </a:lnTo>
                        <a:lnTo>
                          <a:pt x="1189" y="35"/>
                        </a:lnTo>
                        <a:lnTo>
                          <a:pt x="1254" y="42"/>
                        </a:lnTo>
                        <a:lnTo>
                          <a:pt x="1303" y="64"/>
                        </a:lnTo>
                        <a:lnTo>
                          <a:pt x="1369" y="135"/>
                        </a:lnTo>
                        <a:lnTo>
                          <a:pt x="1412" y="230"/>
                        </a:lnTo>
                        <a:lnTo>
                          <a:pt x="1434" y="281"/>
                        </a:lnTo>
                        <a:lnTo>
                          <a:pt x="1459" y="330"/>
                        </a:lnTo>
                        <a:lnTo>
                          <a:pt x="1476" y="352"/>
                        </a:lnTo>
                        <a:lnTo>
                          <a:pt x="1495" y="367"/>
                        </a:lnTo>
                        <a:lnTo>
                          <a:pt x="1543" y="377"/>
                        </a:lnTo>
                        <a:lnTo>
                          <a:pt x="1660" y="350"/>
                        </a:lnTo>
                        <a:lnTo>
                          <a:pt x="1723" y="321"/>
                        </a:lnTo>
                        <a:lnTo>
                          <a:pt x="1782" y="291"/>
                        </a:lnTo>
                        <a:lnTo>
                          <a:pt x="1833" y="262"/>
                        </a:lnTo>
                        <a:lnTo>
                          <a:pt x="1875" y="243"/>
                        </a:lnTo>
                        <a:lnTo>
                          <a:pt x="2036" y="176"/>
                        </a:lnTo>
                        <a:lnTo>
                          <a:pt x="2016" y="120"/>
                        </a:lnTo>
                        <a:lnTo>
                          <a:pt x="1999" y="98"/>
                        </a:lnTo>
                        <a:lnTo>
                          <a:pt x="1977" y="76"/>
                        </a:lnTo>
                        <a:lnTo>
                          <a:pt x="1940" y="34"/>
                        </a:lnTo>
                        <a:lnTo>
                          <a:pt x="1944" y="9"/>
                        </a:lnTo>
                        <a:lnTo>
                          <a:pt x="1978" y="0"/>
                        </a:lnTo>
                        <a:lnTo>
                          <a:pt x="2031" y="9"/>
                        </a:lnTo>
                        <a:lnTo>
                          <a:pt x="2092" y="35"/>
                        </a:lnTo>
                        <a:lnTo>
                          <a:pt x="2150" y="77"/>
                        </a:lnTo>
                        <a:lnTo>
                          <a:pt x="2193" y="138"/>
                        </a:lnTo>
                        <a:lnTo>
                          <a:pt x="2210" y="216"/>
                        </a:lnTo>
                        <a:lnTo>
                          <a:pt x="2194" y="293"/>
                        </a:lnTo>
                        <a:lnTo>
                          <a:pt x="2174" y="327"/>
                        </a:lnTo>
                        <a:lnTo>
                          <a:pt x="2149" y="358"/>
                        </a:lnTo>
                        <a:lnTo>
                          <a:pt x="2116" y="387"/>
                        </a:lnTo>
                        <a:lnTo>
                          <a:pt x="2079" y="413"/>
                        </a:lnTo>
                        <a:lnTo>
                          <a:pt x="2040" y="436"/>
                        </a:lnTo>
                        <a:lnTo>
                          <a:pt x="1996" y="458"/>
                        </a:lnTo>
                        <a:lnTo>
                          <a:pt x="1951" y="476"/>
                        </a:lnTo>
                        <a:lnTo>
                          <a:pt x="1904" y="491"/>
                        </a:lnTo>
                        <a:lnTo>
                          <a:pt x="1812" y="517"/>
                        </a:lnTo>
                        <a:lnTo>
                          <a:pt x="1725" y="532"/>
                        </a:lnTo>
                        <a:lnTo>
                          <a:pt x="1653" y="539"/>
                        </a:lnTo>
                        <a:lnTo>
                          <a:pt x="1543" y="526"/>
                        </a:lnTo>
                        <a:lnTo>
                          <a:pt x="1466" y="484"/>
                        </a:lnTo>
                        <a:lnTo>
                          <a:pt x="1413" y="423"/>
                        </a:lnTo>
                        <a:lnTo>
                          <a:pt x="1375" y="352"/>
                        </a:lnTo>
                        <a:lnTo>
                          <a:pt x="1343" y="280"/>
                        </a:lnTo>
                        <a:lnTo>
                          <a:pt x="1307" y="218"/>
                        </a:lnTo>
                        <a:lnTo>
                          <a:pt x="1285" y="192"/>
                        </a:lnTo>
                        <a:lnTo>
                          <a:pt x="1260" y="173"/>
                        </a:lnTo>
                        <a:lnTo>
                          <a:pt x="1229" y="161"/>
                        </a:lnTo>
                        <a:lnTo>
                          <a:pt x="1190" y="156"/>
                        </a:lnTo>
                        <a:lnTo>
                          <a:pt x="1057" y="192"/>
                        </a:lnTo>
                        <a:lnTo>
                          <a:pt x="1010" y="212"/>
                        </a:lnTo>
                        <a:lnTo>
                          <a:pt x="961" y="232"/>
                        </a:lnTo>
                        <a:lnTo>
                          <a:pt x="911" y="256"/>
                        </a:lnTo>
                        <a:lnTo>
                          <a:pt x="860" y="280"/>
                        </a:lnTo>
                        <a:lnTo>
                          <a:pt x="811" y="306"/>
                        </a:lnTo>
                        <a:lnTo>
                          <a:pt x="763" y="333"/>
                        </a:lnTo>
                        <a:lnTo>
                          <a:pt x="720" y="359"/>
                        </a:lnTo>
                        <a:lnTo>
                          <a:pt x="680" y="386"/>
                        </a:lnTo>
                        <a:lnTo>
                          <a:pt x="595" y="478"/>
                        </a:lnTo>
                        <a:lnTo>
                          <a:pt x="592" y="551"/>
                        </a:lnTo>
                        <a:lnTo>
                          <a:pt x="601" y="614"/>
                        </a:lnTo>
                        <a:lnTo>
                          <a:pt x="620" y="713"/>
                        </a:lnTo>
                        <a:lnTo>
                          <a:pt x="612" y="754"/>
                        </a:lnTo>
                        <a:lnTo>
                          <a:pt x="599" y="775"/>
                        </a:lnTo>
                        <a:lnTo>
                          <a:pt x="578" y="794"/>
                        </a:lnTo>
                        <a:lnTo>
                          <a:pt x="550" y="814"/>
                        </a:lnTo>
                        <a:lnTo>
                          <a:pt x="510" y="834"/>
                        </a:lnTo>
                        <a:lnTo>
                          <a:pt x="460" y="854"/>
                        </a:lnTo>
                        <a:lnTo>
                          <a:pt x="399" y="876"/>
                        </a:lnTo>
                        <a:lnTo>
                          <a:pt x="310" y="898"/>
                        </a:lnTo>
                        <a:lnTo>
                          <a:pt x="209" y="912"/>
                        </a:lnTo>
                        <a:lnTo>
                          <a:pt x="112" y="902"/>
                        </a:lnTo>
                        <a:lnTo>
                          <a:pt x="31" y="859"/>
                        </a:lnTo>
                        <a:lnTo>
                          <a:pt x="5" y="807"/>
                        </a:lnTo>
                        <a:lnTo>
                          <a:pt x="0" y="735"/>
                        </a:lnTo>
                        <a:lnTo>
                          <a:pt x="12" y="656"/>
                        </a:lnTo>
                        <a:lnTo>
                          <a:pt x="35" y="579"/>
                        </a:lnTo>
                        <a:lnTo>
                          <a:pt x="64" y="514"/>
                        </a:lnTo>
                        <a:lnTo>
                          <a:pt x="90" y="473"/>
                        </a:lnTo>
                        <a:lnTo>
                          <a:pt x="109" y="466"/>
                        </a:lnTo>
                        <a:lnTo>
                          <a:pt x="115" y="505"/>
                        </a:lnTo>
                        <a:lnTo>
                          <a:pt x="109" y="769"/>
                        </a:lnTo>
                        <a:lnTo>
                          <a:pt x="109" y="7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8" name=""/>
                <p:cNvSpPr/>
                <p:nvPr/>
              </p:nvSpPr>
              <p:spPr>
                <a:xfrm>
                  <a:off x="6385680" y="4676760"/>
                  <a:ext cx="514440" cy="249840"/>
                </a:xfrm>
                <a:custGeom>
                  <a:avLst/>
                  <a:gdLst/>
                  <a:ahLst/>
                  <a:rect l="l" t="t" r="r" b="b"/>
                  <a:pathLst>
                    <a:path w="1591" h="1150">
                      <a:moveTo>
                        <a:pt x="634" y="144"/>
                      </a:moveTo>
                      <a:lnTo>
                        <a:pt x="609" y="304"/>
                      </a:lnTo>
                      <a:lnTo>
                        <a:pt x="592" y="381"/>
                      </a:lnTo>
                      <a:lnTo>
                        <a:pt x="573" y="456"/>
                      </a:lnTo>
                      <a:lnTo>
                        <a:pt x="549" y="530"/>
                      </a:lnTo>
                      <a:lnTo>
                        <a:pt x="520" y="603"/>
                      </a:lnTo>
                      <a:lnTo>
                        <a:pt x="503" y="639"/>
                      </a:lnTo>
                      <a:lnTo>
                        <a:pt x="484" y="675"/>
                      </a:lnTo>
                      <a:lnTo>
                        <a:pt x="463" y="710"/>
                      </a:lnTo>
                      <a:lnTo>
                        <a:pt x="441" y="746"/>
                      </a:lnTo>
                      <a:lnTo>
                        <a:pt x="409" y="790"/>
                      </a:lnTo>
                      <a:lnTo>
                        <a:pt x="389" y="817"/>
                      </a:lnTo>
                      <a:lnTo>
                        <a:pt x="367" y="845"/>
                      </a:lnTo>
                      <a:lnTo>
                        <a:pt x="343" y="875"/>
                      </a:lnTo>
                      <a:lnTo>
                        <a:pt x="317" y="907"/>
                      </a:lnTo>
                      <a:lnTo>
                        <a:pt x="291" y="938"/>
                      </a:lnTo>
                      <a:lnTo>
                        <a:pt x="263" y="969"/>
                      </a:lnTo>
                      <a:lnTo>
                        <a:pt x="235" y="1000"/>
                      </a:lnTo>
                      <a:lnTo>
                        <a:pt x="207" y="1029"/>
                      </a:lnTo>
                      <a:lnTo>
                        <a:pt x="179" y="1057"/>
                      </a:lnTo>
                      <a:lnTo>
                        <a:pt x="152" y="1082"/>
                      </a:lnTo>
                      <a:lnTo>
                        <a:pt x="100" y="1123"/>
                      </a:lnTo>
                      <a:lnTo>
                        <a:pt x="56" y="1147"/>
                      </a:lnTo>
                      <a:lnTo>
                        <a:pt x="24" y="1150"/>
                      </a:lnTo>
                      <a:lnTo>
                        <a:pt x="5" y="1139"/>
                      </a:lnTo>
                      <a:lnTo>
                        <a:pt x="0" y="1118"/>
                      </a:lnTo>
                      <a:lnTo>
                        <a:pt x="12" y="1089"/>
                      </a:lnTo>
                      <a:lnTo>
                        <a:pt x="41" y="1049"/>
                      </a:lnTo>
                      <a:lnTo>
                        <a:pt x="71" y="1012"/>
                      </a:lnTo>
                      <a:lnTo>
                        <a:pt x="101" y="976"/>
                      </a:lnTo>
                      <a:lnTo>
                        <a:pt x="132" y="941"/>
                      </a:lnTo>
                      <a:lnTo>
                        <a:pt x="164" y="908"/>
                      </a:lnTo>
                      <a:lnTo>
                        <a:pt x="195" y="875"/>
                      </a:lnTo>
                      <a:lnTo>
                        <a:pt x="225" y="842"/>
                      </a:lnTo>
                      <a:lnTo>
                        <a:pt x="255" y="808"/>
                      </a:lnTo>
                      <a:lnTo>
                        <a:pt x="285" y="773"/>
                      </a:lnTo>
                      <a:lnTo>
                        <a:pt x="312" y="739"/>
                      </a:lnTo>
                      <a:lnTo>
                        <a:pt x="339" y="701"/>
                      </a:lnTo>
                      <a:lnTo>
                        <a:pt x="364" y="663"/>
                      </a:lnTo>
                      <a:lnTo>
                        <a:pt x="407" y="579"/>
                      </a:lnTo>
                      <a:lnTo>
                        <a:pt x="441" y="482"/>
                      </a:lnTo>
                      <a:lnTo>
                        <a:pt x="459" y="392"/>
                      </a:lnTo>
                      <a:lnTo>
                        <a:pt x="481" y="263"/>
                      </a:lnTo>
                      <a:lnTo>
                        <a:pt x="505" y="142"/>
                      </a:lnTo>
                      <a:lnTo>
                        <a:pt x="527" y="72"/>
                      </a:lnTo>
                      <a:lnTo>
                        <a:pt x="555" y="43"/>
                      </a:lnTo>
                      <a:lnTo>
                        <a:pt x="589" y="22"/>
                      </a:lnTo>
                      <a:lnTo>
                        <a:pt x="631" y="7"/>
                      </a:lnTo>
                      <a:lnTo>
                        <a:pt x="676" y="0"/>
                      </a:lnTo>
                      <a:lnTo>
                        <a:pt x="763" y="9"/>
                      </a:lnTo>
                      <a:lnTo>
                        <a:pt x="833" y="49"/>
                      </a:lnTo>
                      <a:lnTo>
                        <a:pt x="868" y="87"/>
                      </a:lnTo>
                      <a:lnTo>
                        <a:pt x="899" y="113"/>
                      </a:lnTo>
                      <a:lnTo>
                        <a:pt x="928" y="131"/>
                      </a:lnTo>
                      <a:lnTo>
                        <a:pt x="956" y="143"/>
                      </a:lnTo>
                      <a:lnTo>
                        <a:pt x="1112" y="161"/>
                      </a:lnTo>
                      <a:lnTo>
                        <a:pt x="1341" y="183"/>
                      </a:lnTo>
                      <a:lnTo>
                        <a:pt x="1559" y="222"/>
                      </a:lnTo>
                      <a:lnTo>
                        <a:pt x="1591" y="262"/>
                      </a:lnTo>
                      <a:lnTo>
                        <a:pt x="1580" y="281"/>
                      </a:lnTo>
                      <a:lnTo>
                        <a:pt x="1551" y="294"/>
                      </a:lnTo>
                      <a:lnTo>
                        <a:pt x="1452" y="309"/>
                      </a:lnTo>
                      <a:lnTo>
                        <a:pt x="1328" y="316"/>
                      </a:lnTo>
                      <a:lnTo>
                        <a:pt x="1100" y="314"/>
                      </a:lnTo>
                      <a:lnTo>
                        <a:pt x="1027" y="297"/>
                      </a:lnTo>
                      <a:lnTo>
                        <a:pt x="958" y="265"/>
                      </a:lnTo>
                      <a:lnTo>
                        <a:pt x="924" y="246"/>
                      </a:lnTo>
                      <a:lnTo>
                        <a:pt x="890" y="226"/>
                      </a:lnTo>
                      <a:lnTo>
                        <a:pt x="859" y="205"/>
                      </a:lnTo>
                      <a:lnTo>
                        <a:pt x="828" y="185"/>
                      </a:lnTo>
                      <a:lnTo>
                        <a:pt x="798" y="166"/>
                      </a:lnTo>
                      <a:lnTo>
                        <a:pt x="770" y="149"/>
                      </a:lnTo>
                      <a:lnTo>
                        <a:pt x="718" y="126"/>
                      </a:lnTo>
                      <a:lnTo>
                        <a:pt x="672" y="121"/>
                      </a:lnTo>
                      <a:lnTo>
                        <a:pt x="634" y="144"/>
                      </a:lnTo>
                      <a:lnTo>
                        <a:pt x="634" y="1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919920" y="4686480"/>
                  <a:ext cx="176040" cy="68400"/>
                </a:xfrm>
                <a:custGeom>
                  <a:avLst/>
                  <a:gdLst/>
                  <a:ahLst/>
                  <a:rect l="l" t="t" r="r" b="b"/>
                  <a:pathLst>
                    <a:path w="543" h="315">
                      <a:moveTo>
                        <a:pt x="9" y="171"/>
                      </a:moveTo>
                      <a:lnTo>
                        <a:pt x="39" y="130"/>
                      </a:lnTo>
                      <a:lnTo>
                        <a:pt x="59" y="104"/>
                      </a:lnTo>
                      <a:lnTo>
                        <a:pt x="79" y="78"/>
                      </a:lnTo>
                      <a:lnTo>
                        <a:pt x="102" y="51"/>
                      </a:lnTo>
                      <a:lnTo>
                        <a:pt x="123" y="28"/>
                      </a:lnTo>
                      <a:lnTo>
                        <a:pt x="144" y="10"/>
                      </a:lnTo>
                      <a:lnTo>
                        <a:pt x="162" y="0"/>
                      </a:lnTo>
                      <a:lnTo>
                        <a:pt x="231" y="2"/>
                      </a:lnTo>
                      <a:lnTo>
                        <a:pt x="300" y="18"/>
                      </a:lnTo>
                      <a:lnTo>
                        <a:pt x="334" y="44"/>
                      </a:lnTo>
                      <a:lnTo>
                        <a:pt x="357" y="88"/>
                      </a:lnTo>
                      <a:lnTo>
                        <a:pt x="375" y="138"/>
                      </a:lnTo>
                      <a:lnTo>
                        <a:pt x="394" y="177"/>
                      </a:lnTo>
                      <a:lnTo>
                        <a:pt x="433" y="186"/>
                      </a:lnTo>
                      <a:lnTo>
                        <a:pt x="475" y="175"/>
                      </a:lnTo>
                      <a:lnTo>
                        <a:pt x="526" y="196"/>
                      </a:lnTo>
                      <a:lnTo>
                        <a:pt x="543" y="246"/>
                      </a:lnTo>
                      <a:lnTo>
                        <a:pt x="540" y="271"/>
                      </a:lnTo>
                      <a:lnTo>
                        <a:pt x="526" y="294"/>
                      </a:lnTo>
                      <a:lnTo>
                        <a:pt x="505" y="309"/>
                      </a:lnTo>
                      <a:lnTo>
                        <a:pt x="475" y="315"/>
                      </a:lnTo>
                      <a:lnTo>
                        <a:pt x="364" y="306"/>
                      </a:lnTo>
                      <a:lnTo>
                        <a:pt x="315" y="284"/>
                      </a:lnTo>
                      <a:lnTo>
                        <a:pt x="278" y="242"/>
                      </a:lnTo>
                      <a:lnTo>
                        <a:pt x="264" y="166"/>
                      </a:lnTo>
                      <a:lnTo>
                        <a:pt x="253" y="129"/>
                      </a:lnTo>
                      <a:lnTo>
                        <a:pt x="230" y="109"/>
                      </a:lnTo>
                      <a:lnTo>
                        <a:pt x="174" y="112"/>
                      </a:lnTo>
                      <a:lnTo>
                        <a:pt x="132" y="142"/>
                      </a:lnTo>
                      <a:lnTo>
                        <a:pt x="96" y="184"/>
                      </a:lnTo>
                      <a:lnTo>
                        <a:pt x="61" y="222"/>
                      </a:lnTo>
                      <a:lnTo>
                        <a:pt x="32" y="233"/>
                      </a:lnTo>
                      <a:lnTo>
                        <a:pt x="11" y="224"/>
                      </a:lnTo>
                      <a:lnTo>
                        <a:pt x="0" y="201"/>
                      </a:lnTo>
                      <a:lnTo>
                        <a:pt x="9" y="171"/>
                      </a:lnTo>
                      <a:lnTo>
                        <a:pt x="9" y="1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363000" y="4946400"/>
                  <a:ext cx="815760" cy="126000"/>
                </a:xfrm>
                <a:custGeom>
                  <a:avLst/>
                  <a:gdLst/>
                  <a:ahLst/>
                  <a:rect l="l" t="t" r="r" b="b"/>
                  <a:pathLst>
                    <a:path w="2521" h="578">
                      <a:moveTo>
                        <a:pt x="120" y="218"/>
                      </a:moveTo>
                      <a:lnTo>
                        <a:pt x="627" y="246"/>
                      </a:lnTo>
                      <a:lnTo>
                        <a:pt x="1133" y="278"/>
                      </a:lnTo>
                      <a:lnTo>
                        <a:pt x="1282" y="304"/>
                      </a:lnTo>
                      <a:lnTo>
                        <a:pt x="1393" y="327"/>
                      </a:lnTo>
                      <a:lnTo>
                        <a:pt x="1511" y="352"/>
                      </a:lnTo>
                      <a:lnTo>
                        <a:pt x="1625" y="378"/>
                      </a:lnTo>
                      <a:lnTo>
                        <a:pt x="1721" y="399"/>
                      </a:lnTo>
                      <a:lnTo>
                        <a:pt x="1812" y="421"/>
                      </a:lnTo>
                      <a:lnTo>
                        <a:pt x="1875" y="402"/>
                      </a:lnTo>
                      <a:lnTo>
                        <a:pt x="1915" y="385"/>
                      </a:lnTo>
                      <a:lnTo>
                        <a:pt x="1958" y="364"/>
                      </a:lnTo>
                      <a:lnTo>
                        <a:pt x="2005" y="342"/>
                      </a:lnTo>
                      <a:lnTo>
                        <a:pt x="2053" y="315"/>
                      </a:lnTo>
                      <a:lnTo>
                        <a:pt x="2103" y="288"/>
                      </a:lnTo>
                      <a:lnTo>
                        <a:pt x="2152" y="259"/>
                      </a:lnTo>
                      <a:lnTo>
                        <a:pt x="2203" y="229"/>
                      </a:lnTo>
                      <a:lnTo>
                        <a:pt x="2251" y="200"/>
                      </a:lnTo>
                      <a:lnTo>
                        <a:pt x="2298" y="171"/>
                      </a:lnTo>
                      <a:lnTo>
                        <a:pt x="2341" y="145"/>
                      </a:lnTo>
                      <a:lnTo>
                        <a:pt x="2380" y="121"/>
                      </a:lnTo>
                      <a:lnTo>
                        <a:pt x="2415" y="99"/>
                      </a:lnTo>
                      <a:lnTo>
                        <a:pt x="2445" y="81"/>
                      </a:lnTo>
                      <a:lnTo>
                        <a:pt x="2468" y="68"/>
                      </a:lnTo>
                      <a:lnTo>
                        <a:pt x="2504" y="51"/>
                      </a:lnTo>
                      <a:lnTo>
                        <a:pt x="2521" y="50"/>
                      </a:lnTo>
                      <a:lnTo>
                        <a:pt x="2516" y="81"/>
                      </a:lnTo>
                      <a:lnTo>
                        <a:pt x="2501" y="105"/>
                      </a:lnTo>
                      <a:lnTo>
                        <a:pt x="2483" y="129"/>
                      </a:lnTo>
                      <a:lnTo>
                        <a:pt x="2455" y="162"/>
                      </a:lnTo>
                      <a:lnTo>
                        <a:pt x="2406" y="200"/>
                      </a:lnTo>
                      <a:lnTo>
                        <a:pt x="2371" y="226"/>
                      </a:lnTo>
                      <a:lnTo>
                        <a:pt x="2331" y="256"/>
                      </a:lnTo>
                      <a:lnTo>
                        <a:pt x="2310" y="272"/>
                      </a:lnTo>
                      <a:lnTo>
                        <a:pt x="2287" y="289"/>
                      </a:lnTo>
                      <a:lnTo>
                        <a:pt x="2263" y="306"/>
                      </a:lnTo>
                      <a:lnTo>
                        <a:pt x="2239" y="322"/>
                      </a:lnTo>
                      <a:lnTo>
                        <a:pt x="2215" y="340"/>
                      </a:lnTo>
                      <a:lnTo>
                        <a:pt x="2190" y="358"/>
                      </a:lnTo>
                      <a:lnTo>
                        <a:pt x="2164" y="376"/>
                      </a:lnTo>
                      <a:lnTo>
                        <a:pt x="2139" y="393"/>
                      </a:lnTo>
                      <a:lnTo>
                        <a:pt x="2114" y="411"/>
                      </a:lnTo>
                      <a:lnTo>
                        <a:pt x="2089" y="428"/>
                      </a:lnTo>
                      <a:lnTo>
                        <a:pt x="2064" y="445"/>
                      </a:lnTo>
                      <a:lnTo>
                        <a:pt x="2040" y="461"/>
                      </a:lnTo>
                      <a:lnTo>
                        <a:pt x="1992" y="492"/>
                      </a:lnTo>
                      <a:lnTo>
                        <a:pt x="1948" y="519"/>
                      </a:lnTo>
                      <a:lnTo>
                        <a:pt x="1909" y="542"/>
                      </a:lnTo>
                      <a:lnTo>
                        <a:pt x="1875" y="560"/>
                      </a:lnTo>
                      <a:lnTo>
                        <a:pt x="1829" y="578"/>
                      </a:lnTo>
                      <a:lnTo>
                        <a:pt x="1721" y="557"/>
                      </a:lnTo>
                      <a:lnTo>
                        <a:pt x="1623" y="533"/>
                      </a:lnTo>
                      <a:lnTo>
                        <a:pt x="1512" y="505"/>
                      </a:lnTo>
                      <a:lnTo>
                        <a:pt x="1395" y="475"/>
                      </a:lnTo>
                      <a:lnTo>
                        <a:pt x="1285" y="449"/>
                      </a:lnTo>
                      <a:lnTo>
                        <a:pt x="1190" y="428"/>
                      </a:lnTo>
                      <a:lnTo>
                        <a:pt x="1123" y="419"/>
                      </a:lnTo>
                      <a:lnTo>
                        <a:pt x="377" y="386"/>
                      </a:lnTo>
                      <a:lnTo>
                        <a:pt x="220" y="356"/>
                      </a:lnTo>
                      <a:lnTo>
                        <a:pt x="142" y="343"/>
                      </a:lnTo>
                      <a:lnTo>
                        <a:pt x="63" y="337"/>
                      </a:lnTo>
                      <a:lnTo>
                        <a:pt x="17" y="301"/>
                      </a:lnTo>
                      <a:lnTo>
                        <a:pt x="3" y="217"/>
                      </a:lnTo>
                      <a:lnTo>
                        <a:pt x="0" y="52"/>
                      </a:lnTo>
                      <a:lnTo>
                        <a:pt x="0" y="16"/>
                      </a:lnTo>
                      <a:lnTo>
                        <a:pt x="9" y="0"/>
                      </a:lnTo>
                      <a:lnTo>
                        <a:pt x="47" y="19"/>
                      </a:lnTo>
                      <a:lnTo>
                        <a:pt x="92" y="97"/>
                      </a:lnTo>
                      <a:lnTo>
                        <a:pt x="120" y="218"/>
                      </a:lnTo>
                      <a:lnTo>
                        <a:pt x="120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604200" y="4765680"/>
                  <a:ext cx="343080" cy="189360"/>
                </a:xfrm>
                <a:custGeom>
                  <a:avLst/>
                  <a:gdLst/>
                  <a:ahLst/>
                  <a:rect l="l" t="t" r="r" b="b"/>
                  <a:pathLst>
                    <a:path w="1057" h="868">
                      <a:moveTo>
                        <a:pt x="685" y="195"/>
                      </a:moveTo>
                      <a:lnTo>
                        <a:pt x="653" y="151"/>
                      </a:lnTo>
                      <a:lnTo>
                        <a:pt x="613" y="115"/>
                      </a:lnTo>
                      <a:lnTo>
                        <a:pt x="570" y="98"/>
                      </a:lnTo>
                      <a:lnTo>
                        <a:pt x="524" y="86"/>
                      </a:lnTo>
                      <a:lnTo>
                        <a:pt x="433" y="80"/>
                      </a:lnTo>
                      <a:lnTo>
                        <a:pt x="343" y="96"/>
                      </a:lnTo>
                      <a:lnTo>
                        <a:pt x="260" y="131"/>
                      </a:lnTo>
                      <a:lnTo>
                        <a:pt x="223" y="156"/>
                      </a:lnTo>
                      <a:lnTo>
                        <a:pt x="189" y="185"/>
                      </a:lnTo>
                      <a:lnTo>
                        <a:pt x="134" y="254"/>
                      </a:lnTo>
                      <a:lnTo>
                        <a:pt x="102" y="338"/>
                      </a:lnTo>
                      <a:lnTo>
                        <a:pt x="96" y="434"/>
                      </a:lnTo>
                      <a:lnTo>
                        <a:pt x="108" y="496"/>
                      </a:lnTo>
                      <a:lnTo>
                        <a:pt x="133" y="548"/>
                      </a:lnTo>
                      <a:lnTo>
                        <a:pt x="150" y="572"/>
                      </a:lnTo>
                      <a:lnTo>
                        <a:pt x="169" y="593"/>
                      </a:lnTo>
                      <a:lnTo>
                        <a:pt x="213" y="629"/>
                      </a:lnTo>
                      <a:lnTo>
                        <a:pt x="238" y="644"/>
                      </a:lnTo>
                      <a:lnTo>
                        <a:pt x="266" y="656"/>
                      </a:lnTo>
                      <a:lnTo>
                        <a:pt x="325" y="678"/>
                      </a:lnTo>
                      <a:lnTo>
                        <a:pt x="387" y="691"/>
                      </a:lnTo>
                      <a:lnTo>
                        <a:pt x="452" y="698"/>
                      </a:lnTo>
                      <a:lnTo>
                        <a:pt x="582" y="694"/>
                      </a:lnTo>
                      <a:lnTo>
                        <a:pt x="701" y="668"/>
                      </a:lnTo>
                      <a:lnTo>
                        <a:pt x="797" y="625"/>
                      </a:lnTo>
                      <a:lnTo>
                        <a:pt x="855" y="568"/>
                      </a:lnTo>
                      <a:lnTo>
                        <a:pt x="878" y="510"/>
                      </a:lnTo>
                      <a:lnTo>
                        <a:pt x="874" y="470"/>
                      </a:lnTo>
                      <a:lnTo>
                        <a:pt x="850" y="434"/>
                      </a:lnTo>
                      <a:lnTo>
                        <a:pt x="815" y="390"/>
                      </a:lnTo>
                      <a:lnTo>
                        <a:pt x="820" y="360"/>
                      </a:lnTo>
                      <a:lnTo>
                        <a:pt x="841" y="348"/>
                      </a:lnTo>
                      <a:lnTo>
                        <a:pt x="866" y="337"/>
                      </a:lnTo>
                      <a:lnTo>
                        <a:pt x="923" y="325"/>
                      </a:lnTo>
                      <a:lnTo>
                        <a:pt x="967" y="332"/>
                      </a:lnTo>
                      <a:lnTo>
                        <a:pt x="1029" y="396"/>
                      </a:lnTo>
                      <a:lnTo>
                        <a:pt x="1057" y="467"/>
                      </a:lnTo>
                      <a:lnTo>
                        <a:pt x="1054" y="540"/>
                      </a:lnTo>
                      <a:lnTo>
                        <a:pt x="1043" y="577"/>
                      </a:lnTo>
                      <a:lnTo>
                        <a:pt x="1027" y="613"/>
                      </a:lnTo>
                      <a:lnTo>
                        <a:pt x="1006" y="648"/>
                      </a:lnTo>
                      <a:lnTo>
                        <a:pt x="981" y="682"/>
                      </a:lnTo>
                      <a:lnTo>
                        <a:pt x="952" y="713"/>
                      </a:lnTo>
                      <a:lnTo>
                        <a:pt x="922" y="742"/>
                      </a:lnTo>
                      <a:lnTo>
                        <a:pt x="889" y="768"/>
                      </a:lnTo>
                      <a:lnTo>
                        <a:pt x="855" y="791"/>
                      </a:lnTo>
                      <a:lnTo>
                        <a:pt x="820" y="810"/>
                      </a:lnTo>
                      <a:lnTo>
                        <a:pt x="785" y="823"/>
                      </a:lnTo>
                      <a:lnTo>
                        <a:pt x="728" y="841"/>
                      </a:lnTo>
                      <a:lnTo>
                        <a:pt x="667" y="855"/>
                      </a:lnTo>
                      <a:lnTo>
                        <a:pt x="540" y="868"/>
                      </a:lnTo>
                      <a:lnTo>
                        <a:pt x="412" y="861"/>
                      </a:lnTo>
                      <a:lnTo>
                        <a:pt x="290" y="833"/>
                      </a:lnTo>
                      <a:lnTo>
                        <a:pt x="234" y="810"/>
                      </a:lnTo>
                      <a:lnTo>
                        <a:pt x="181" y="781"/>
                      </a:lnTo>
                      <a:lnTo>
                        <a:pt x="92" y="704"/>
                      </a:lnTo>
                      <a:lnTo>
                        <a:pt x="30" y="601"/>
                      </a:lnTo>
                      <a:lnTo>
                        <a:pt x="0" y="470"/>
                      </a:lnTo>
                      <a:lnTo>
                        <a:pt x="7" y="324"/>
                      </a:lnTo>
                      <a:lnTo>
                        <a:pt x="24" y="260"/>
                      </a:lnTo>
                      <a:lnTo>
                        <a:pt x="47" y="204"/>
                      </a:lnTo>
                      <a:lnTo>
                        <a:pt x="78" y="155"/>
                      </a:lnTo>
                      <a:lnTo>
                        <a:pt x="114" y="113"/>
                      </a:lnTo>
                      <a:lnTo>
                        <a:pt x="157" y="77"/>
                      </a:lnTo>
                      <a:lnTo>
                        <a:pt x="180" y="61"/>
                      </a:lnTo>
                      <a:lnTo>
                        <a:pt x="204" y="47"/>
                      </a:lnTo>
                      <a:lnTo>
                        <a:pt x="255" y="25"/>
                      </a:lnTo>
                      <a:lnTo>
                        <a:pt x="310" y="9"/>
                      </a:lnTo>
                      <a:lnTo>
                        <a:pt x="430" y="0"/>
                      </a:lnTo>
                      <a:lnTo>
                        <a:pt x="556" y="18"/>
                      </a:lnTo>
                      <a:lnTo>
                        <a:pt x="686" y="65"/>
                      </a:lnTo>
                      <a:lnTo>
                        <a:pt x="794" y="101"/>
                      </a:lnTo>
                      <a:lnTo>
                        <a:pt x="811" y="143"/>
                      </a:lnTo>
                      <a:lnTo>
                        <a:pt x="803" y="168"/>
                      </a:lnTo>
                      <a:lnTo>
                        <a:pt x="789" y="191"/>
                      </a:lnTo>
                      <a:lnTo>
                        <a:pt x="767" y="209"/>
                      </a:lnTo>
                      <a:lnTo>
                        <a:pt x="741" y="218"/>
                      </a:lnTo>
                      <a:lnTo>
                        <a:pt x="685" y="195"/>
                      </a:lnTo>
                      <a:lnTo>
                        <a:pt x="685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798240" y="4804920"/>
                  <a:ext cx="186120" cy="60840"/>
                </a:xfrm>
                <a:custGeom>
                  <a:avLst/>
                  <a:gdLst/>
                  <a:ahLst/>
                  <a:rect l="l" t="t" r="r" b="b"/>
                  <a:pathLst>
                    <a:path w="574" h="279">
                      <a:moveTo>
                        <a:pt x="393" y="193"/>
                      </a:moveTo>
                      <a:lnTo>
                        <a:pt x="355" y="212"/>
                      </a:lnTo>
                      <a:lnTo>
                        <a:pt x="312" y="231"/>
                      </a:lnTo>
                      <a:lnTo>
                        <a:pt x="265" y="248"/>
                      </a:lnTo>
                      <a:lnTo>
                        <a:pt x="216" y="264"/>
                      </a:lnTo>
                      <a:lnTo>
                        <a:pt x="119" y="279"/>
                      </a:lnTo>
                      <a:lnTo>
                        <a:pt x="31" y="270"/>
                      </a:lnTo>
                      <a:lnTo>
                        <a:pt x="6" y="251"/>
                      </a:lnTo>
                      <a:lnTo>
                        <a:pt x="0" y="228"/>
                      </a:lnTo>
                      <a:lnTo>
                        <a:pt x="14" y="207"/>
                      </a:lnTo>
                      <a:lnTo>
                        <a:pt x="41" y="198"/>
                      </a:lnTo>
                      <a:lnTo>
                        <a:pt x="166" y="181"/>
                      </a:lnTo>
                      <a:lnTo>
                        <a:pt x="250" y="139"/>
                      </a:lnTo>
                      <a:lnTo>
                        <a:pt x="323" y="80"/>
                      </a:lnTo>
                      <a:lnTo>
                        <a:pt x="343" y="64"/>
                      </a:lnTo>
                      <a:lnTo>
                        <a:pt x="366" y="48"/>
                      </a:lnTo>
                      <a:lnTo>
                        <a:pt x="390" y="32"/>
                      </a:lnTo>
                      <a:lnTo>
                        <a:pt x="418" y="15"/>
                      </a:lnTo>
                      <a:lnTo>
                        <a:pt x="457" y="0"/>
                      </a:lnTo>
                      <a:lnTo>
                        <a:pt x="484" y="3"/>
                      </a:lnTo>
                      <a:lnTo>
                        <a:pt x="522" y="57"/>
                      </a:lnTo>
                      <a:lnTo>
                        <a:pt x="545" y="87"/>
                      </a:lnTo>
                      <a:lnTo>
                        <a:pt x="566" y="117"/>
                      </a:lnTo>
                      <a:lnTo>
                        <a:pt x="574" y="156"/>
                      </a:lnTo>
                      <a:lnTo>
                        <a:pt x="564" y="188"/>
                      </a:lnTo>
                      <a:lnTo>
                        <a:pt x="544" y="215"/>
                      </a:lnTo>
                      <a:lnTo>
                        <a:pt x="515" y="234"/>
                      </a:lnTo>
                      <a:lnTo>
                        <a:pt x="448" y="240"/>
                      </a:lnTo>
                      <a:lnTo>
                        <a:pt x="393" y="193"/>
                      </a:lnTo>
                      <a:lnTo>
                        <a:pt x="393" y="1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684840" y="4680000"/>
                  <a:ext cx="139320" cy="60840"/>
                </a:xfrm>
                <a:custGeom>
                  <a:avLst/>
                  <a:gdLst/>
                  <a:ahLst/>
                  <a:rect l="l" t="t" r="r" b="b"/>
                  <a:pathLst>
                    <a:path w="429" h="277">
                      <a:moveTo>
                        <a:pt x="242" y="266"/>
                      </a:moveTo>
                      <a:lnTo>
                        <a:pt x="212" y="277"/>
                      </a:lnTo>
                      <a:lnTo>
                        <a:pt x="168" y="262"/>
                      </a:lnTo>
                      <a:lnTo>
                        <a:pt x="120" y="239"/>
                      </a:lnTo>
                      <a:lnTo>
                        <a:pt x="77" y="229"/>
                      </a:lnTo>
                      <a:lnTo>
                        <a:pt x="20" y="224"/>
                      </a:lnTo>
                      <a:lnTo>
                        <a:pt x="0" y="212"/>
                      </a:lnTo>
                      <a:lnTo>
                        <a:pt x="18" y="195"/>
                      </a:lnTo>
                      <a:lnTo>
                        <a:pt x="82" y="145"/>
                      </a:lnTo>
                      <a:lnTo>
                        <a:pt x="113" y="73"/>
                      </a:lnTo>
                      <a:lnTo>
                        <a:pt x="118" y="37"/>
                      </a:lnTo>
                      <a:lnTo>
                        <a:pt x="131" y="14"/>
                      </a:lnTo>
                      <a:lnTo>
                        <a:pt x="150" y="3"/>
                      </a:lnTo>
                      <a:lnTo>
                        <a:pt x="176" y="0"/>
                      </a:lnTo>
                      <a:lnTo>
                        <a:pt x="291" y="13"/>
                      </a:lnTo>
                      <a:lnTo>
                        <a:pt x="341" y="29"/>
                      </a:lnTo>
                      <a:lnTo>
                        <a:pt x="354" y="63"/>
                      </a:lnTo>
                      <a:lnTo>
                        <a:pt x="368" y="141"/>
                      </a:lnTo>
                      <a:lnTo>
                        <a:pt x="429" y="227"/>
                      </a:lnTo>
                      <a:lnTo>
                        <a:pt x="426" y="251"/>
                      </a:lnTo>
                      <a:lnTo>
                        <a:pt x="406" y="266"/>
                      </a:lnTo>
                      <a:lnTo>
                        <a:pt x="333" y="276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927840" y="4928040"/>
                  <a:ext cx="192600" cy="82440"/>
                </a:xfrm>
                <a:custGeom>
                  <a:avLst/>
                  <a:gdLst/>
                  <a:ahLst/>
                  <a:rect l="l" t="t" r="r" b="b"/>
                  <a:pathLst>
                    <a:path w="595" h="377">
                      <a:moveTo>
                        <a:pt x="27" y="333"/>
                      </a:moveTo>
                      <a:lnTo>
                        <a:pt x="24" y="282"/>
                      </a:lnTo>
                      <a:lnTo>
                        <a:pt x="9" y="232"/>
                      </a:lnTo>
                      <a:lnTo>
                        <a:pt x="0" y="183"/>
                      </a:lnTo>
                      <a:lnTo>
                        <a:pt x="9" y="138"/>
                      </a:lnTo>
                      <a:lnTo>
                        <a:pt x="26" y="117"/>
                      </a:lnTo>
                      <a:lnTo>
                        <a:pt x="46" y="98"/>
                      </a:lnTo>
                      <a:lnTo>
                        <a:pt x="72" y="83"/>
                      </a:lnTo>
                      <a:lnTo>
                        <a:pt x="99" y="71"/>
                      </a:lnTo>
                      <a:lnTo>
                        <a:pt x="163" y="54"/>
                      </a:lnTo>
                      <a:lnTo>
                        <a:pt x="233" y="45"/>
                      </a:lnTo>
                      <a:lnTo>
                        <a:pt x="495" y="5"/>
                      </a:lnTo>
                      <a:lnTo>
                        <a:pt x="541" y="0"/>
                      </a:lnTo>
                      <a:lnTo>
                        <a:pt x="578" y="16"/>
                      </a:lnTo>
                      <a:lnTo>
                        <a:pt x="595" y="45"/>
                      </a:lnTo>
                      <a:lnTo>
                        <a:pt x="590" y="59"/>
                      </a:lnTo>
                      <a:lnTo>
                        <a:pt x="575" y="72"/>
                      </a:lnTo>
                      <a:lnTo>
                        <a:pt x="550" y="86"/>
                      </a:lnTo>
                      <a:lnTo>
                        <a:pt x="506" y="104"/>
                      </a:lnTo>
                      <a:lnTo>
                        <a:pt x="451" y="124"/>
                      </a:lnTo>
                      <a:lnTo>
                        <a:pt x="388" y="146"/>
                      </a:lnTo>
                      <a:lnTo>
                        <a:pt x="325" y="168"/>
                      </a:lnTo>
                      <a:lnTo>
                        <a:pt x="267" y="188"/>
                      </a:lnTo>
                      <a:lnTo>
                        <a:pt x="188" y="213"/>
                      </a:lnTo>
                      <a:lnTo>
                        <a:pt x="163" y="210"/>
                      </a:lnTo>
                      <a:lnTo>
                        <a:pt x="141" y="215"/>
                      </a:lnTo>
                      <a:lnTo>
                        <a:pt x="114" y="281"/>
                      </a:lnTo>
                      <a:lnTo>
                        <a:pt x="96" y="351"/>
                      </a:lnTo>
                      <a:lnTo>
                        <a:pt x="78" y="375"/>
                      </a:lnTo>
                      <a:lnTo>
                        <a:pt x="54" y="377"/>
                      </a:lnTo>
                      <a:lnTo>
                        <a:pt x="27" y="333"/>
                      </a:lnTo>
                      <a:lnTo>
                        <a:pt x="27" y="3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418080" y="5011920"/>
                  <a:ext cx="101880" cy="37800"/>
                </a:xfrm>
                <a:custGeom>
                  <a:avLst/>
                  <a:gdLst/>
                  <a:ahLst/>
                  <a:rect l="l" t="t" r="r" b="b"/>
                  <a:pathLst>
                    <a:path w="314" h="175">
                      <a:moveTo>
                        <a:pt x="46" y="0"/>
                      </a:moveTo>
                      <a:lnTo>
                        <a:pt x="99" y="26"/>
                      </a:lnTo>
                      <a:lnTo>
                        <a:pt x="154" y="44"/>
                      </a:lnTo>
                      <a:lnTo>
                        <a:pt x="266" y="72"/>
                      </a:lnTo>
                      <a:lnTo>
                        <a:pt x="302" y="90"/>
                      </a:lnTo>
                      <a:lnTo>
                        <a:pt x="314" y="120"/>
                      </a:lnTo>
                      <a:lnTo>
                        <a:pt x="302" y="149"/>
                      </a:lnTo>
                      <a:lnTo>
                        <a:pt x="287" y="160"/>
                      </a:lnTo>
                      <a:lnTo>
                        <a:pt x="266" y="167"/>
                      </a:lnTo>
                      <a:lnTo>
                        <a:pt x="216" y="175"/>
                      </a:lnTo>
                      <a:lnTo>
                        <a:pt x="120" y="162"/>
                      </a:lnTo>
                      <a:lnTo>
                        <a:pt x="33" y="127"/>
                      </a:lnTo>
                      <a:lnTo>
                        <a:pt x="6" y="88"/>
                      </a:lnTo>
                      <a:lnTo>
                        <a:pt x="0" y="38"/>
                      </a:lnTo>
                      <a:lnTo>
                        <a:pt x="13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795000" y="5046480"/>
                  <a:ext cx="127800" cy="34560"/>
                </a:xfrm>
                <a:custGeom>
                  <a:avLst/>
                  <a:gdLst/>
                  <a:ahLst/>
                  <a:rect l="l" t="t" r="r" b="b"/>
                  <a:pathLst>
                    <a:path w="397" h="162">
                      <a:moveTo>
                        <a:pt x="64" y="0"/>
                      </a:moveTo>
                      <a:lnTo>
                        <a:pt x="363" y="1"/>
                      </a:lnTo>
                      <a:lnTo>
                        <a:pt x="385" y="5"/>
                      </a:lnTo>
                      <a:lnTo>
                        <a:pt x="397" y="20"/>
                      </a:lnTo>
                      <a:lnTo>
                        <a:pt x="391" y="68"/>
                      </a:lnTo>
                      <a:lnTo>
                        <a:pt x="376" y="95"/>
                      </a:lnTo>
                      <a:lnTo>
                        <a:pt x="355" y="120"/>
                      </a:lnTo>
                      <a:lnTo>
                        <a:pt x="330" y="138"/>
                      </a:lnTo>
                      <a:lnTo>
                        <a:pt x="301" y="149"/>
                      </a:lnTo>
                      <a:lnTo>
                        <a:pt x="241" y="161"/>
                      </a:lnTo>
                      <a:lnTo>
                        <a:pt x="181" y="162"/>
                      </a:lnTo>
                      <a:lnTo>
                        <a:pt x="127" y="146"/>
                      </a:lnTo>
                      <a:lnTo>
                        <a:pt x="73" y="136"/>
                      </a:lnTo>
                      <a:lnTo>
                        <a:pt x="20" y="115"/>
                      </a:lnTo>
                      <a:lnTo>
                        <a:pt x="0" y="71"/>
                      </a:lnTo>
                      <a:lnTo>
                        <a:pt x="15" y="25"/>
                      </a:lnTo>
                      <a:lnTo>
                        <a:pt x="35" y="1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085160" y="4973760"/>
                  <a:ext cx="98640" cy="46440"/>
                </a:xfrm>
                <a:custGeom>
                  <a:avLst/>
                  <a:gdLst/>
                  <a:ahLst/>
                  <a:rect l="l" t="t" r="r" b="b"/>
                  <a:pathLst>
                    <a:path w="306" h="213">
                      <a:moveTo>
                        <a:pt x="42" y="78"/>
                      </a:moveTo>
                      <a:lnTo>
                        <a:pt x="130" y="57"/>
                      </a:lnTo>
                      <a:lnTo>
                        <a:pt x="207" y="8"/>
                      </a:lnTo>
                      <a:lnTo>
                        <a:pt x="246" y="0"/>
                      </a:lnTo>
                      <a:lnTo>
                        <a:pt x="283" y="34"/>
                      </a:lnTo>
                      <a:lnTo>
                        <a:pt x="306" y="84"/>
                      </a:lnTo>
                      <a:lnTo>
                        <a:pt x="299" y="132"/>
                      </a:lnTo>
                      <a:lnTo>
                        <a:pt x="262" y="170"/>
                      </a:lnTo>
                      <a:lnTo>
                        <a:pt x="225" y="190"/>
                      </a:lnTo>
                      <a:lnTo>
                        <a:pt x="131" y="213"/>
                      </a:lnTo>
                      <a:lnTo>
                        <a:pt x="60" y="207"/>
                      </a:lnTo>
                      <a:lnTo>
                        <a:pt x="12" y="166"/>
                      </a:lnTo>
                      <a:lnTo>
                        <a:pt x="0" y="116"/>
                      </a:lnTo>
                      <a:lnTo>
                        <a:pt x="14" y="94"/>
                      </a:lnTo>
                      <a:lnTo>
                        <a:pt x="42" y="78"/>
                      </a:lnTo>
                      <a:lnTo>
                        <a:pt x="4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043040" y="4688640"/>
                  <a:ext cx="173160" cy="279720"/>
                </a:xfrm>
                <a:custGeom>
                  <a:avLst/>
                  <a:gdLst/>
                  <a:ahLst/>
                  <a:rect l="l" t="t" r="r" b="b"/>
                  <a:pathLst>
                    <a:path w="533" h="1289">
                      <a:moveTo>
                        <a:pt x="274" y="983"/>
                      </a:moveTo>
                      <a:lnTo>
                        <a:pt x="227" y="894"/>
                      </a:lnTo>
                      <a:lnTo>
                        <a:pt x="202" y="795"/>
                      </a:lnTo>
                      <a:lnTo>
                        <a:pt x="190" y="573"/>
                      </a:lnTo>
                      <a:lnTo>
                        <a:pt x="196" y="131"/>
                      </a:lnTo>
                      <a:lnTo>
                        <a:pt x="170" y="130"/>
                      </a:lnTo>
                      <a:lnTo>
                        <a:pt x="149" y="150"/>
                      </a:lnTo>
                      <a:lnTo>
                        <a:pt x="119" y="202"/>
                      </a:lnTo>
                      <a:lnTo>
                        <a:pt x="97" y="222"/>
                      </a:lnTo>
                      <a:lnTo>
                        <a:pt x="73" y="232"/>
                      </a:lnTo>
                      <a:lnTo>
                        <a:pt x="28" y="223"/>
                      </a:lnTo>
                      <a:lnTo>
                        <a:pt x="0" y="187"/>
                      </a:lnTo>
                      <a:lnTo>
                        <a:pt x="6" y="133"/>
                      </a:lnTo>
                      <a:lnTo>
                        <a:pt x="42" y="74"/>
                      </a:lnTo>
                      <a:lnTo>
                        <a:pt x="85" y="32"/>
                      </a:lnTo>
                      <a:lnTo>
                        <a:pt x="109" y="17"/>
                      </a:lnTo>
                      <a:lnTo>
                        <a:pt x="133" y="7"/>
                      </a:lnTo>
                      <a:lnTo>
                        <a:pt x="181" y="0"/>
                      </a:lnTo>
                      <a:lnTo>
                        <a:pt x="227" y="12"/>
                      </a:lnTo>
                      <a:lnTo>
                        <a:pt x="266" y="43"/>
                      </a:lnTo>
                      <a:lnTo>
                        <a:pt x="295" y="95"/>
                      </a:lnTo>
                      <a:lnTo>
                        <a:pt x="313" y="167"/>
                      </a:lnTo>
                      <a:lnTo>
                        <a:pt x="316" y="319"/>
                      </a:lnTo>
                      <a:lnTo>
                        <a:pt x="305" y="472"/>
                      </a:lnTo>
                      <a:lnTo>
                        <a:pt x="296" y="624"/>
                      </a:lnTo>
                      <a:lnTo>
                        <a:pt x="312" y="777"/>
                      </a:lnTo>
                      <a:lnTo>
                        <a:pt x="338" y="874"/>
                      </a:lnTo>
                      <a:lnTo>
                        <a:pt x="365" y="939"/>
                      </a:lnTo>
                      <a:lnTo>
                        <a:pt x="391" y="976"/>
                      </a:lnTo>
                      <a:lnTo>
                        <a:pt x="417" y="995"/>
                      </a:lnTo>
                      <a:lnTo>
                        <a:pt x="468" y="1012"/>
                      </a:lnTo>
                      <a:lnTo>
                        <a:pt x="512" y="1053"/>
                      </a:lnTo>
                      <a:lnTo>
                        <a:pt x="533" y="1154"/>
                      </a:lnTo>
                      <a:lnTo>
                        <a:pt x="523" y="1204"/>
                      </a:lnTo>
                      <a:lnTo>
                        <a:pt x="506" y="1246"/>
                      </a:lnTo>
                      <a:lnTo>
                        <a:pt x="486" y="1276"/>
                      </a:lnTo>
                      <a:lnTo>
                        <a:pt x="467" y="1289"/>
                      </a:lnTo>
                      <a:lnTo>
                        <a:pt x="452" y="1281"/>
                      </a:lnTo>
                      <a:lnTo>
                        <a:pt x="446" y="1246"/>
                      </a:lnTo>
                      <a:lnTo>
                        <a:pt x="452" y="1136"/>
                      </a:lnTo>
                      <a:lnTo>
                        <a:pt x="446" y="1110"/>
                      </a:lnTo>
                      <a:lnTo>
                        <a:pt x="434" y="1095"/>
                      </a:lnTo>
                      <a:lnTo>
                        <a:pt x="378" y="1106"/>
                      </a:lnTo>
                      <a:lnTo>
                        <a:pt x="311" y="1055"/>
                      </a:lnTo>
                      <a:lnTo>
                        <a:pt x="274" y="983"/>
                      </a:lnTo>
                      <a:lnTo>
                        <a:pt x="274" y="9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437520" y="4642920"/>
                  <a:ext cx="120960" cy="29160"/>
                </a:xfrm>
                <a:custGeom>
                  <a:avLst/>
                  <a:gdLst/>
                  <a:ahLst/>
                  <a:rect l="l" t="t" r="r" b="b"/>
                  <a:pathLst>
                    <a:path w="375" h="137">
                      <a:moveTo>
                        <a:pt x="22" y="73"/>
                      </a:moveTo>
                      <a:lnTo>
                        <a:pt x="58" y="56"/>
                      </a:lnTo>
                      <a:lnTo>
                        <a:pt x="114" y="31"/>
                      </a:lnTo>
                      <a:lnTo>
                        <a:pt x="169" y="9"/>
                      </a:lnTo>
                      <a:lnTo>
                        <a:pt x="200" y="0"/>
                      </a:lnTo>
                      <a:lnTo>
                        <a:pt x="329" y="21"/>
                      </a:lnTo>
                      <a:lnTo>
                        <a:pt x="365" y="42"/>
                      </a:lnTo>
                      <a:lnTo>
                        <a:pt x="375" y="74"/>
                      </a:lnTo>
                      <a:lnTo>
                        <a:pt x="361" y="105"/>
                      </a:lnTo>
                      <a:lnTo>
                        <a:pt x="345" y="116"/>
                      </a:lnTo>
                      <a:lnTo>
                        <a:pt x="323" y="122"/>
                      </a:lnTo>
                      <a:lnTo>
                        <a:pt x="210" y="129"/>
                      </a:lnTo>
                      <a:lnTo>
                        <a:pt x="42" y="137"/>
                      </a:lnTo>
                      <a:lnTo>
                        <a:pt x="14" y="134"/>
                      </a:lnTo>
                      <a:lnTo>
                        <a:pt x="0" y="116"/>
                      </a:lnTo>
                      <a:lnTo>
                        <a:pt x="0" y="92"/>
                      </a:lnTo>
                      <a:lnTo>
                        <a:pt x="22" y="73"/>
                      </a:lnTo>
                      <a:lnTo>
                        <a:pt x="2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0" name=""/>
              <p:cNvSpPr/>
              <p:nvPr/>
            </p:nvSpPr>
            <p:spPr>
              <a:xfrm>
                <a:off x="4262760" y="30704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672240" y="27057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993080" y="41151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972760" y="49507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651200" y="4794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1850760" y="2808360"/>
              <a:ext cx="2021040" cy="784440"/>
            </a:xfrm>
            <a:prstGeom prst="line">
              <a:avLst/>
            </a:prstGeom>
            <a:ln cap="rnd" w="57240">
              <a:solidFill>
                <a:srgbClr val="cc00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341000">
              <a:off x="2244240" y="2871720"/>
              <a:ext cx="15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l STA 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606680" y="54403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make Preset Call Forward to STA (A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352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27760" y="1693800"/>
            <a:ext cx="78649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vailable for incoming CO lines (not for DI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can be assigned regardless of the number of station. But, looping of P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Forward is not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19120" y="3886200"/>
            <a:ext cx="48088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t Call Forward               : PGM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t Call Forward Timer    : PGM181-BTN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3520" y="3483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15560" y="9828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t Call Forward 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553680" y="1433520"/>
            <a:ext cx="80110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tion can pick up a call ringing other station by pressing the pick up code (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intercom number of ringing s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7480" y="936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Call Pick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104840" y="2329560"/>
            <a:ext cx="6932520" cy="3219480"/>
            <a:chOff x="1104840" y="2329560"/>
            <a:chExt cx="6932520" cy="3219480"/>
          </a:xfrm>
        </p:grpSpPr>
        <p:pic>
          <p:nvPicPr>
            <p:cNvPr id="847" name="" descr=""/>
            <p:cNvPicPr/>
            <p:nvPr/>
          </p:nvPicPr>
          <p:blipFill>
            <a:blip r:embed="rId1"/>
            <a:stretch/>
          </p:blipFill>
          <p:spPr>
            <a:xfrm>
              <a:off x="5524560" y="2425680"/>
              <a:ext cx="2512800" cy="20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8" name=""/>
            <p:cNvGrpSpPr/>
            <p:nvPr/>
          </p:nvGrpSpPr>
          <p:grpSpPr>
            <a:xfrm>
              <a:off x="1104840" y="2425680"/>
              <a:ext cx="2481480" cy="2028960"/>
              <a:chOff x="1104840" y="2425680"/>
              <a:chExt cx="2481480" cy="2028960"/>
            </a:xfrm>
          </p:grpSpPr>
          <p:sp>
            <p:nvSpPr>
              <p:cNvPr id="849" name=""/>
              <p:cNvSpPr/>
              <p:nvPr/>
            </p:nvSpPr>
            <p:spPr>
              <a:xfrm>
                <a:off x="1155600" y="2425680"/>
                <a:ext cx="2430720" cy="1636560"/>
              </a:xfrm>
              <a:custGeom>
                <a:avLst/>
                <a:gdLst/>
                <a:ahLst/>
                <a:rect l="l" t="t" r="r" b="b"/>
                <a:pathLst>
                  <a:path w="3062" h="2063">
                    <a:moveTo>
                      <a:pt x="1485" y="8"/>
                    </a:moveTo>
                    <a:lnTo>
                      <a:pt x="1472" y="6"/>
                    </a:lnTo>
                    <a:lnTo>
                      <a:pt x="1440" y="4"/>
                    </a:lnTo>
                    <a:lnTo>
                      <a:pt x="1386" y="2"/>
                    </a:lnTo>
                    <a:lnTo>
                      <a:pt x="1318" y="2"/>
                    </a:lnTo>
                    <a:lnTo>
                      <a:pt x="1235" y="0"/>
                    </a:lnTo>
                    <a:lnTo>
                      <a:pt x="1144" y="0"/>
                    </a:lnTo>
                    <a:lnTo>
                      <a:pt x="1045" y="4"/>
                    </a:lnTo>
                    <a:lnTo>
                      <a:pt x="941" y="11"/>
                    </a:lnTo>
                    <a:lnTo>
                      <a:pt x="836" y="18"/>
                    </a:lnTo>
                    <a:lnTo>
                      <a:pt x="733" y="31"/>
                    </a:lnTo>
                    <a:lnTo>
                      <a:pt x="635" y="45"/>
                    </a:lnTo>
                    <a:lnTo>
                      <a:pt x="545" y="66"/>
                    </a:lnTo>
                    <a:lnTo>
                      <a:pt x="463" y="91"/>
                    </a:lnTo>
                    <a:lnTo>
                      <a:pt x="396" y="121"/>
                    </a:lnTo>
                    <a:lnTo>
                      <a:pt x="346" y="160"/>
                    </a:lnTo>
                    <a:lnTo>
                      <a:pt x="317" y="204"/>
                    </a:lnTo>
                    <a:lnTo>
                      <a:pt x="300" y="252"/>
                    </a:lnTo>
                    <a:lnTo>
                      <a:pt x="289" y="309"/>
                    </a:lnTo>
                    <a:lnTo>
                      <a:pt x="282" y="369"/>
                    </a:lnTo>
                    <a:lnTo>
                      <a:pt x="282" y="431"/>
                    </a:lnTo>
                    <a:lnTo>
                      <a:pt x="283" y="495"/>
                    </a:lnTo>
                    <a:lnTo>
                      <a:pt x="289" y="560"/>
                    </a:lnTo>
                    <a:lnTo>
                      <a:pt x="294" y="624"/>
                    </a:lnTo>
                    <a:lnTo>
                      <a:pt x="301" y="688"/>
                    </a:lnTo>
                    <a:lnTo>
                      <a:pt x="305" y="746"/>
                    </a:lnTo>
                    <a:lnTo>
                      <a:pt x="308" y="803"/>
                    </a:lnTo>
                    <a:lnTo>
                      <a:pt x="308" y="855"/>
                    </a:lnTo>
                    <a:lnTo>
                      <a:pt x="305" y="899"/>
                    </a:lnTo>
                    <a:lnTo>
                      <a:pt x="296" y="936"/>
                    </a:lnTo>
                    <a:lnTo>
                      <a:pt x="282" y="966"/>
                    </a:lnTo>
                    <a:lnTo>
                      <a:pt x="260" y="986"/>
                    </a:lnTo>
                    <a:lnTo>
                      <a:pt x="231" y="995"/>
                    </a:lnTo>
                    <a:lnTo>
                      <a:pt x="197" y="1002"/>
                    </a:lnTo>
                    <a:lnTo>
                      <a:pt x="165" y="1021"/>
                    </a:lnTo>
                    <a:lnTo>
                      <a:pt x="135" y="1048"/>
                    </a:lnTo>
                    <a:lnTo>
                      <a:pt x="108" y="1085"/>
                    </a:lnTo>
                    <a:lnTo>
                      <a:pt x="83" y="1127"/>
                    </a:lnTo>
                    <a:lnTo>
                      <a:pt x="61" y="1177"/>
                    </a:lnTo>
                    <a:lnTo>
                      <a:pt x="43" y="1228"/>
                    </a:lnTo>
                    <a:lnTo>
                      <a:pt x="29" y="1283"/>
                    </a:lnTo>
                    <a:lnTo>
                      <a:pt x="16" y="1337"/>
                    </a:lnTo>
                    <a:lnTo>
                      <a:pt x="6" y="1392"/>
                    </a:lnTo>
                    <a:lnTo>
                      <a:pt x="0" y="1443"/>
                    </a:lnTo>
                    <a:lnTo>
                      <a:pt x="0" y="1493"/>
                    </a:lnTo>
                    <a:lnTo>
                      <a:pt x="2" y="1535"/>
                    </a:lnTo>
                    <a:lnTo>
                      <a:pt x="11" y="1572"/>
                    </a:lnTo>
                    <a:lnTo>
                      <a:pt x="23" y="1601"/>
                    </a:lnTo>
                    <a:lnTo>
                      <a:pt x="40" y="1620"/>
                    </a:lnTo>
                    <a:lnTo>
                      <a:pt x="57" y="1636"/>
                    </a:lnTo>
                    <a:lnTo>
                      <a:pt x="72" y="1654"/>
                    </a:lnTo>
                    <a:lnTo>
                      <a:pt x="84" y="1673"/>
                    </a:lnTo>
                    <a:lnTo>
                      <a:pt x="95" y="1696"/>
                    </a:lnTo>
                    <a:lnTo>
                      <a:pt x="102" y="1718"/>
                    </a:lnTo>
                    <a:lnTo>
                      <a:pt x="111" y="1741"/>
                    </a:lnTo>
                    <a:lnTo>
                      <a:pt x="115" y="1764"/>
                    </a:lnTo>
                    <a:lnTo>
                      <a:pt x="118" y="1788"/>
                    </a:lnTo>
                    <a:lnTo>
                      <a:pt x="120" y="1810"/>
                    </a:lnTo>
                    <a:lnTo>
                      <a:pt x="122" y="1829"/>
                    </a:lnTo>
                    <a:lnTo>
                      <a:pt x="122" y="1849"/>
                    </a:lnTo>
                    <a:lnTo>
                      <a:pt x="122" y="1865"/>
                    </a:lnTo>
                    <a:lnTo>
                      <a:pt x="122" y="1879"/>
                    </a:lnTo>
                    <a:lnTo>
                      <a:pt x="122" y="1889"/>
                    </a:lnTo>
                    <a:lnTo>
                      <a:pt x="122" y="1897"/>
                    </a:lnTo>
                    <a:lnTo>
                      <a:pt x="122" y="1898"/>
                    </a:lnTo>
                    <a:lnTo>
                      <a:pt x="3059" y="2063"/>
                    </a:lnTo>
                    <a:lnTo>
                      <a:pt x="3059" y="2058"/>
                    </a:lnTo>
                    <a:lnTo>
                      <a:pt x="3059" y="2044"/>
                    </a:lnTo>
                    <a:lnTo>
                      <a:pt x="3060" y="2022"/>
                    </a:lnTo>
                    <a:lnTo>
                      <a:pt x="3062" y="1994"/>
                    </a:lnTo>
                    <a:lnTo>
                      <a:pt x="3062" y="1959"/>
                    </a:lnTo>
                    <a:lnTo>
                      <a:pt x="3062" y="1921"/>
                    </a:lnTo>
                    <a:lnTo>
                      <a:pt x="3060" y="1879"/>
                    </a:lnTo>
                    <a:lnTo>
                      <a:pt x="3059" y="1836"/>
                    </a:lnTo>
                    <a:lnTo>
                      <a:pt x="3050" y="1788"/>
                    </a:lnTo>
                    <a:lnTo>
                      <a:pt x="3039" y="1742"/>
                    </a:lnTo>
                    <a:lnTo>
                      <a:pt x="3023" y="1696"/>
                    </a:lnTo>
                    <a:lnTo>
                      <a:pt x="3005" y="1652"/>
                    </a:lnTo>
                    <a:lnTo>
                      <a:pt x="2980" y="1609"/>
                    </a:lnTo>
                    <a:lnTo>
                      <a:pt x="2951" y="1574"/>
                    </a:lnTo>
                    <a:lnTo>
                      <a:pt x="2915" y="1540"/>
                    </a:lnTo>
                    <a:lnTo>
                      <a:pt x="2872" y="1516"/>
                    </a:lnTo>
                    <a:lnTo>
                      <a:pt x="2829" y="1487"/>
                    </a:lnTo>
                    <a:lnTo>
                      <a:pt x="2793" y="1454"/>
                    </a:lnTo>
                    <a:lnTo>
                      <a:pt x="2765" y="1416"/>
                    </a:lnTo>
                    <a:lnTo>
                      <a:pt x="2743" y="1374"/>
                    </a:lnTo>
                    <a:lnTo>
                      <a:pt x="2727" y="1326"/>
                    </a:lnTo>
                    <a:lnTo>
                      <a:pt x="2716" y="1276"/>
                    </a:lnTo>
                    <a:lnTo>
                      <a:pt x="2711" y="1227"/>
                    </a:lnTo>
                    <a:lnTo>
                      <a:pt x="2711" y="1174"/>
                    </a:lnTo>
                    <a:lnTo>
                      <a:pt x="2714" y="1120"/>
                    </a:lnTo>
                    <a:lnTo>
                      <a:pt x="2725" y="1067"/>
                    </a:lnTo>
                    <a:lnTo>
                      <a:pt x="2738" y="1014"/>
                    </a:lnTo>
                    <a:lnTo>
                      <a:pt x="2756" y="966"/>
                    </a:lnTo>
                    <a:lnTo>
                      <a:pt x="2774" y="917"/>
                    </a:lnTo>
                    <a:lnTo>
                      <a:pt x="2799" y="874"/>
                    </a:lnTo>
                    <a:lnTo>
                      <a:pt x="2826" y="833"/>
                    </a:lnTo>
                    <a:lnTo>
                      <a:pt x="2856" y="800"/>
                    </a:lnTo>
                    <a:lnTo>
                      <a:pt x="2881" y="764"/>
                    </a:lnTo>
                    <a:lnTo>
                      <a:pt x="2899" y="731"/>
                    </a:lnTo>
                    <a:lnTo>
                      <a:pt x="2908" y="697"/>
                    </a:lnTo>
                    <a:lnTo>
                      <a:pt x="2910" y="665"/>
                    </a:lnTo>
                    <a:lnTo>
                      <a:pt x="2903" y="630"/>
                    </a:lnTo>
                    <a:lnTo>
                      <a:pt x="2890" y="598"/>
                    </a:lnTo>
                    <a:lnTo>
                      <a:pt x="2870" y="566"/>
                    </a:lnTo>
                    <a:lnTo>
                      <a:pt x="2845" y="537"/>
                    </a:lnTo>
                    <a:lnTo>
                      <a:pt x="2813" y="509"/>
                    </a:lnTo>
                    <a:lnTo>
                      <a:pt x="2774" y="484"/>
                    </a:lnTo>
                    <a:lnTo>
                      <a:pt x="2730" y="461"/>
                    </a:lnTo>
                    <a:lnTo>
                      <a:pt x="2684" y="442"/>
                    </a:lnTo>
                    <a:lnTo>
                      <a:pt x="2630" y="424"/>
                    </a:lnTo>
                    <a:lnTo>
                      <a:pt x="2573" y="412"/>
                    </a:lnTo>
                    <a:lnTo>
                      <a:pt x="2512" y="403"/>
                    </a:lnTo>
                    <a:lnTo>
                      <a:pt x="2447" y="401"/>
                    </a:lnTo>
                    <a:lnTo>
                      <a:pt x="2384" y="397"/>
                    </a:lnTo>
                    <a:lnTo>
                      <a:pt x="2331" y="390"/>
                    </a:lnTo>
                    <a:lnTo>
                      <a:pt x="2284" y="381"/>
                    </a:lnTo>
                    <a:lnTo>
                      <a:pt x="2250" y="374"/>
                    </a:lnTo>
                    <a:lnTo>
                      <a:pt x="2221" y="360"/>
                    </a:lnTo>
                    <a:lnTo>
                      <a:pt x="2200" y="350"/>
                    </a:lnTo>
                    <a:lnTo>
                      <a:pt x="2187" y="335"/>
                    </a:lnTo>
                    <a:lnTo>
                      <a:pt x="2184" y="323"/>
                    </a:lnTo>
                    <a:lnTo>
                      <a:pt x="2184" y="309"/>
                    </a:lnTo>
                    <a:lnTo>
                      <a:pt x="2193" y="295"/>
                    </a:lnTo>
                    <a:lnTo>
                      <a:pt x="2207" y="282"/>
                    </a:lnTo>
                    <a:lnTo>
                      <a:pt x="2229" y="272"/>
                    </a:lnTo>
                    <a:lnTo>
                      <a:pt x="2255" y="261"/>
                    </a:lnTo>
                    <a:lnTo>
                      <a:pt x="2288" y="254"/>
                    </a:lnTo>
                    <a:lnTo>
                      <a:pt x="2327" y="249"/>
                    </a:lnTo>
                    <a:lnTo>
                      <a:pt x="2370" y="245"/>
                    </a:lnTo>
                    <a:lnTo>
                      <a:pt x="2413" y="241"/>
                    </a:lnTo>
                    <a:lnTo>
                      <a:pt x="2454" y="234"/>
                    </a:lnTo>
                    <a:lnTo>
                      <a:pt x="2490" y="227"/>
                    </a:lnTo>
                    <a:lnTo>
                      <a:pt x="2526" y="217"/>
                    </a:lnTo>
                    <a:lnTo>
                      <a:pt x="2557" y="202"/>
                    </a:lnTo>
                    <a:lnTo>
                      <a:pt x="2583" y="188"/>
                    </a:lnTo>
                    <a:lnTo>
                      <a:pt x="2605" y="174"/>
                    </a:lnTo>
                    <a:lnTo>
                      <a:pt x="2625" y="158"/>
                    </a:lnTo>
                    <a:lnTo>
                      <a:pt x="2637" y="142"/>
                    </a:lnTo>
                    <a:lnTo>
                      <a:pt x="2648" y="126"/>
                    </a:lnTo>
                    <a:lnTo>
                      <a:pt x="2653" y="112"/>
                    </a:lnTo>
                    <a:lnTo>
                      <a:pt x="2655" y="100"/>
                    </a:lnTo>
                    <a:lnTo>
                      <a:pt x="2650" y="87"/>
                    </a:lnTo>
                    <a:lnTo>
                      <a:pt x="2641" y="78"/>
                    </a:lnTo>
                    <a:lnTo>
                      <a:pt x="2627" y="71"/>
                    </a:lnTo>
                    <a:lnTo>
                      <a:pt x="2609" y="66"/>
                    </a:lnTo>
                    <a:lnTo>
                      <a:pt x="2576" y="62"/>
                    </a:lnTo>
                    <a:lnTo>
                      <a:pt x="2526" y="59"/>
                    </a:lnTo>
                    <a:lnTo>
                      <a:pt x="2460" y="54"/>
                    </a:lnTo>
                    <a:lnTo>
                      <a:pt x="2383" y="50"/>
                    </a:lnTo>
                    <a:lnTo>
                      <a:pt x="2293" y="45"/>
                    </a:lnTo>
                    <a:lnTo>
                      <a:pt x="2200" y="39"/>
                    </a:lnTo>
                    <a:lnTo>
                      <a:pt x="2101" y="34"/>
                    </a:lnTo>
                    <a:lnTo>
                      <a:pt x="2001" y="31"/>
                    </a:lnTo>
                    <a:lnTo>
                      <a:pt x="1902" y="25"/>
                    </a:lnTo>
                    <a:lnTo>
                      <a:pt x="1809" y="22"/>
                    </a:lnTo>
                    <a:lnTo>
                      <a:pt x="1721" y="16"/>
                    </a:lnTo>
                    <a:lnTo>
                      <a:pt x="1644" y="15"/>
                    </a:lnTo>
                    <a:lnTo>
                      <a:pt x="1578" y="11"/>
                    </a:lnTo>
                    <a:lnTo>
                      <a:pt x="1528" y="9"/>
                    </a:lnTo>
                    <a:lnTo>
                      <a:pt x="1495" y="8"/>
                    </a:lnTo>
                    <a:lnTo>
                      <a:pt x="1485" y="8"/>
                    </a:lnTo>
                    <a:lnTo>
                      <a:pt x="1485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04840" y="3859200"/>
                <a:ext cx="2478240" cy="595440"/>
              </a:xfrm>
              <a:custGeom>
                <a:avLst/>
                <a:gdLst/>
                <a:ahLst/>
                <a:rect l="l" t="t" r="r" b="b"/>
                <a:pathLst>
                  <a:path w="3123" h="752">
                    <a:moveTo>
                      <a:pt x="503" y="0"/>
                    </a:moveTo>
                    <a:lnTo>
                      <a:pt x="2662" y="156"/>
                    </a:lnTo>
                    <a:lnTo>
                      <a:pt x="2665" y="156"/>
                    </a:lnTo>
                    <a:lnTo>
                      <a:pt x="2680" y="154"/>
                    </a:lnTo>
                    <a:lnTo>
                      <a:pt x="2701" y="153"/>
                    </a:lnTo>
                    <a:lnTo>
                      <a:pt x="2732" y="153"/>
                    </a:lnTo>
                    <a:lnTo>
                      <a:pt x="2768" y="151"/>
                    </a:lnTo>
                    <a:lnTo>
                      <a:pt x="2805" y="151"/>
                    </a:lnTo>
                    <a:lnTo>
                      <a:pt x="2846" y="151"/>
                    </a:lnTo>
                    <a:lnTo>
                      <a:pt x="2891" y="154"/>
                    </a:lnTo>
                    <a:lnTo>
                      <a:pt x="2934" y="156"/>
                    </a:lnTo>
                    <a:lnTo>
                      <a:pt x="2976" y="163"/>
                    </a:lnTo>
                    <a:lnTo>
                      <a:pt x="3013" y="170"/>
                    </a:lnTo>
                    <a:lnTo>
                      <a:pt x="3049" y="183"/>
                    </a:lnTo>
                    <a:lnTo>
                      <a:pt x="3078" y="195"/>
                    </a:lnTo>
                    <a:lnTo>
                      <a:pt x="3101" y="211"/>
                    </a:lnTo>
                    <a:lnTo>
                      <a:pt x="3117" y="232"/>
                    </a:lnTo>
                    <a:lnTo>
                      <a:pt x="3123" y="257"/>
                    </a:lnTo>
                    <a:lnTo>
                      <a:pt x="3119" y="284"/>
                    </a:lnTo>
                    <a:lnTo>
                      <a:pt x="3112" y="314"/>
                    </a:lnTo>
                    <a:lnTo>
                      <a:pt x="3099" y="344"/>
                    </a:lnTo>
                    <a:lnTo>
                      <a:pt x="3085" y="376"/>
                    </a:lnTo>
                    <a:lnTo>
                      <a:pt x="3063" y="406"/>
                    </a:lnTo>
                    <a:lnTo>
                      <a:pt x="3042" y="438"/>
                    </a:lnTo>
                    <a:lnTo>
                      <a:pt x="3017" y="468"/>
                    </a:lnTo>
                    <a:lnTo>
                      <a:pt x="2986" y="498"/>
                    </a:lnTo>
                    <a:lnTo>
                      <a:pt x="2956" y="523"/>
                    </a:lnTo>
                    <a:lnTo>
                      <a:pt x="2920" y="548"/>
                    </a:lnTo>
                    <a:lnTo>
                      <a:pt x="2884" y="569"/>
                    </a:lnTo>
                    <a:lnTo>
                      <a:pt x="2846" y="587"/>
                    </a:lnTo>
                    <a:lnTo>
                      <a:pt x="2805" y="597"/>
                    </a:lnTo>
                    <a:lnTo>
                      <a:pt x="2764" y="604"/>
                    </a:lnTo>
                    <a:lnTo>
                      <a:pt x="2723" y="604"/>
                    </a:lnTo>
                    <a:lnTo>
                      <a:pt x="2682" y="599"/>
                    </a:lnTo>
                    <a:lnTo>
                      <a:pt x="2630" y="589"/>
                    </a:lnTo>
                    <a:lnTo>
                      <a:pt x="2561" y="581"/>
                    </a:lnTo>
                    <a:lnTo>
                      <a:pt x="2481" y="573"/>
                    </a:lnTo>
                    <a:lnTo>
                      <a:pt x="2391" y="569"/>
                    </a:lnTo>
                    <a:lnTo>
                      <a:pt x="2291" y="562"/>
                    </a:lnTo>
                    <a:lnTo>
                      <a:pt x="2187" y="558"/>
                    </a:lnTo>
                    <a:lnTo>
                      <a:pt x="2081" y="557"/>
                    </a:lnTo>
                    <a:lnTo>
                      <a:pt x="1975" y="557"/>
                    </a:lnTo>
                    <a:lnTo>
                      <a:pt x="1869" y="557"/>
                    </a:lnTo>
                    <a:lnTo>
                      <a:pt x="1773" y="558"/>
                    </a:lnTo>
                    <a:lnTo>
                      <a:pt x="1681" y="562"/>
                    </a:lnTo>
                    <a:lnTo>
                      <a:pt x="1604" y="569"/>
                    </a:lnTo>
                    <a:lnTo>
                      <a:pt x="1538" y="573"/>
                    </a:lnTo>
                    <a:lnTo>
                      <a:pt x="1488" y="583"/>
                    </a:lnTo>
                    <a:lnTo>
                      <a:pt x="1457" y="592"/>
                    </a:lnTo>
                    <a:lnTo>
                      <a:pt x="1448" y="606"/>
                    </a:lnTo>
                    <a:lnTo>
                      <a:pt x="1450" y="619"/>
                    </a:lnTo>
                    <a:lnTo>
                      <a:pt x="1455" y="635"/>
                    </a:lnTo>
                    <a:lnTo>
                      <a:pt x="1461" y="649"/>
                    </a:lnTo>
                    <a:lnTo>
                      <a:pt x="1468" y="665"/>
                    </a:lnTo>
                    <a:lnTo>
                      <a:pt x="1471" y="679"/>
                    </a:lnTo>
                    <a:lnTo>
                      <a:pt x="1475" y="693"/>
                    </a:lnTo>
                    <a:lnTo>
                      <a:pt x="1475" y="705"/>
                    </a:lnTo>
                    <a:lnTo>
                      <a:pt x="1473" y="720"/>
                    </a:lnTo>
                    <a:lnTo>
                      <a:pt x="1464" y="729"/>
                    </a:lnTo>
                    <a:lnTo>
                      <a:pt x="1452" y="739"/>
                    </a:lnTo>
                    <a:lnTo>
                      <a:pt x="1430" y="744"/>
                    </a:lnTo>
                    <a:lnTo>
                      <a:pt x="1403" y="750"/>
                    </a:lnTo>
                    <a:lnTo>
                      <a:pt x="1366" y="752"/>
                    </a:lnTo>
                    <a:lnTo>
                      <a:pt x="1321" y="750"/>
                    </a:lnTo>
                    <a:lnTo>
                      <a:pt x="1263" y="744"/>
                    </a:lnTo>
                    <a:lnTo>
                      <a:pt x="1197" y="737"/>
                    </a:lnTo>
                    <a:lnTo>
                      <a:pt x="1116" y="727"/>
                    </a:lnTo>
                    <a:lnTo>
                      <a:pt x="1030" y="718"/>
                    </a:lnTo>
                    <a:lnTo>
                      <a:pt x="939" y="707"/>
                    </a:lnTo>
                    <a:lnTo>
                      <a:pt x="844" y="698"/>
                    </a:lnTo>
                    <a:lnTo>
                      <a:pt x="744" y="688"/>
                    </a:lnTo>
                    <a:lnTo>
                      <a:pt x="647" y="679"/>
                    </a:lnTo>
                    <a:lnTo>
                      <a:pt x="548" y="668"/>
                    </a:lnTo>
                    <a:lnTo>
                      <a:pt x="453" y="658"/>
                    </a:lnTo>
                    <a:lnTo>
                      <a:pt x="364" y="645"/>
                    </a:lnTo>
                    <a:lnTo>
                      <a:pt x="277" y="633"/>
                    </a:lnTo>
                    <a:lnTo>
                      <a:pt x="202" y="619"/>
                    </a:lnTo>
                    <a:lnTo>
                      <a:pt x="136" y="604"/>
                    </a:lnTo>
                    <a:lnTo>
                      <a:pt x="80" y="589"/>
                    </a:lnTo>
                    <a:lnTo>
                      <a:pt x="37" y="571"/>
                    </a:lnTo>
                    <a:lnTo>
                      <a:pt x="10" y="551"/>
                    </a:lnTo>
                    <a:lnTo>
                      <a:pt x="1" y="532"/>
                    </a:lnTo>
                    <a:lnTo>
                      <a:pt x="0" y="507"/>
                    </a:lnTo>
                    <a:lnTo>
                      <a:pt x="1" y="480"/>
                    </a:lnTo>
                    <a:lnTo>
                      <a:pt x="5" y="450"/>
                    </a:lnTo>
                    <a:lnTo>
                      <a:pt x="10" y="422"/>
                    </a:lnTo>
                    <a:lnTo>
                      <a:pt x="16" y="388"/>
                    </a:lnTo>
                    <a:lnTo>
                      <a:pt x="26" y="356"/>
                    </a:lnTo>
                    <a:lnTo>
                      <a:pt x="35" y="321"/>
                    </a:lnTo>
                    <a:lnTo>
                      <a:pt x="48" y="291"/>
                    </a:lnTo>
                    <a:lnTo>
                      <a:pt x="61" y="255"/>
                    </a:lnTo>
                    <a:lnTo>
                      <a:pt x="75" y="225"/>
                    </a:lnTo>
                    <a:lnTo>
                      <a:pt x="89" y="195"/>
                    </a:lnTo>
                    <a:lnTo>
                      <a:pt x="109" y="169"/>
                    </a:lnTo>
                    <a:lnTo>
                      <a:pt x="125" y="144"/>
                    </a:lnTo>
                    <a:lnTo>
                      <a:pt x="145" y="122"/>
                    </a:lnTo>
                    <a:lnTo>
                      <a:pt x="165" y="107"/>
                    </a:lnTo>
                    <a:lnTo>
                      <a:pt x="186" y="92"/>
                    </a:lnTo>
                    <a:lnTo>
                      <a:pt x="206" y="82"/>
                    </a:lnTo>
                    <a:lnTo>
                      <a:pt x="229" y="71"/>
                    </a:lnTo>
                    <a:lnTo>
                      <a:pt x="254" y="62"/>
                    </a:lnTo>
                    <a:lnTo>
                      <a:pt x="281" y="53"/>
                    </a:lnTo>
                    <a:lnTo>
                      <a:pt x="306" y="43"/>
                    </a:lnTo>
                    <a:lnTo>
                      <a:pt x="333" y="37"/>
                    </a:lnTo>
                    <a:lnTo>
                      <a:pt x="358" y="30"/>
                    </a:lnTo>
                    <a:lnTo>
                      <a:pt x="385" y="25"/>
                    </a:lnTo>
                    <a:lnTo>
                      <a:pt x="408" y="18"/>
                    </a:lnTo>
                    <a:lnTo>
                      <a:pt x="432" y="13"/>
                    </a:lnTo>
                    <a:lnTo>
                      <a:pt x="450" y="9"/>
                    </a:lnTo>
                    <a:lnTo>
                      <a:pt x="469" y="6"/>
                    </a:lnTo>
                    <a:lnTo>
                      <a:pt x="482" y="2"/>
                    </a:lnTo>
                    <a:lnTo>
                      <a:pt x="494" y="0"/>
                    </a:lnTo>
                    <a:lnTo>
                      <a:pt x="500" y="0"/>
                    </a:lnTo>
                    <a:lnTo>
                      <a:pt x="503" y="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776680" y="3021120"/>
                <a:ext cx="368280" cy="946080"/>
              </a:xfrm>
              <a:custGeom>
                <a:avLst/>
                <a:gdLst/>
                <a:ahLst/>
                <a:rect l="l" t="t" r="r" b="b"/>
                <a:pathLst>
                  <a:path w="464" h="1193">
                    <a:moveTo>
                      <a:pt x="228" y="0"/>
                    </a:moveTo>
                    <a:lnTo>
                      <a:pt x="230" y="0"/>
                    </a:lnTo>
                    <a:lnTo>
                      <a:pt x="240" y="2"/>
                    </a:lnTo>
                    <a:lnTo>
                      <a:pt x="253" y="5"/>
                    </a:lnTo>
                    <a:lnTo>
                      <a:pt x="271" y="12"/>
                    </a:lnTo>
                    <a:lnTo>
                      <a:pt x="290" y="20"/>
                    </a:lnTo>
                    <a:lnTo>
                      <a:pt x="312" y="32"/>
                    </a:lnTo>
                    <a:lnTo>
                      <a:pt x="337" y="46"/>
                    </a:lnTo>
                    <a:lnTo>
                      <a:pt x="362" y="64"/>
                    </a:lnTo>
                    <a:lnTo>
                      <a:pt x="384" y="83"/>
                    </a:lnTo>
                    <a:lnTo>
                      <a:pt x="407" y="106"/>
                    </a:lnTo>
                    <a:lnTo>
                      <a:pt x="425" y="136"/>
                    </a:lnTo>
                    <a:lnTo>
                      <a:pt x="445" y="168"/>
                    </a:lnTo>
                    <a:lnTo>
                      <a:pt x="455" y="204"/>
                    </a:lnTo>
                    <a:lnTo>
                      <a:pt x="463" y="246"/>
                    </a:lnTo>
                    <a:lnTo>
                      <a:pt x="464" y="292"/>
                    </a:lnTo>
                    <a:lnTo>
                      <a:pt x="461" y="346"/>
                    </a:lnTo>
                    <a:lnTo>
                      <a:pt x="450" y="401"/>
                    </a:lnTo>
                    <a:lnTo>
                      <a:pt x="438" y="454"/>
                    </a:lnTo>
                    <a:lnTo>
                      <a:pt x="423" y="507"/>
                    </a:lnTo>
                    <a:lnTo>
                      <a:pt x="407" y="562"/>
                    </a:lnTo>
                    <a:lnTo>
                      <a:pt x="389" y="611"/>
                    </a:lnTo>
                    <a:lnTo>
                      <a:pt x="373" y="663"/>
                    </a:lnTo>
                    <a:lnTo>
                      <a:pt x="353" y="712"/>
                    </a:lnTo>
                    <a:lnTo>
                      <a:pt x="337" y="760"/>
                    </a:lnTo>
                    <a:lnTo>
                      <a:pt x="317" y="806"/>
                    </a:lnTo>
                    <a:lnTo>
                      <a:pt x="301" y="851"/>
                    </a:lnTo>
                    <a:lnTo>
                      <a:pt x="285" y="891"/>
                    </a:lnTo>
                    <a:lnTo>
                      <a:pt x="274" y="930"/>
                    </a:lnTo>
                    <a:lnTo>
                      <a:pt x="262" y="966"/>
                    </a:lnTo>
                    <a:lnTo>
                      <a:pt x="255" y="999"/>
                    </a:lnTo>
                    <a:lnTo>
                      <a:pt x="249" y="1028"/>
                    </a:lnTo>
                    <a:lnTo>
                      <a:pt x="247" y="1056"/>
                    </a:lnTo>
                    <a:lnTo>
                      <a:pt x="247" y="1077"/>
                    </a:lnTo>
                    <a:lnTo>
                      <a:pt x="247" y="1099"/>
                    </a:lnTo>
                    <a:lnTo>
                      <a:pt x="247" y="1116"/>
                    </a:lnTo>
                    <a:lnTo>
                      <a:pt x="249" y="1132"/>
                    </a:lnTo>
                    <a:lnTo>
                      <a:pt x="251" y="1145"/>
                    </a:lnTo>
                    <a:lnTo>
                      <a:pt x="251" y="1155"/>
                    </a:lnTo>
                    <a:lnTo>
                      <a:pt x="253" y="1164"/>
                    </a:lnTo>
                    <a:lnTo>
                      <a:pt x="255" y="1173"/>
                    </a:lnTo>
                    <a:lnTo>
                      <a:pt x="255" y="1178"/>
                    </a:lnTo>
                    <a:lnTo>
                      <a:pt x="256" y="1184"/>
                    </a:lnTo>
                    <a:lnTo>
                      <a:pt x="256" y="1186"/>
                    </a:lnTo>
                    <a:lnTo>
                      <a:pt x="258" y="1189"/>
                    </a:lnTo>
                    <a:lnTo>
                      <a:pt x="262" y="1191"/>
                    </a:lnTo>
                    <a:lnTo>
                      <a:pt x="262" y="1193"/>
                    </a:lnTo>
                    <a:lnTo>
                      <a:pt x="0" y="1180"/>
                    </a:lnTo>
                    <a:lnTo>
                      <a:pt x="228" y="0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863720" y="2984400"/>
                <a:ext cx="1219320" cy="974880"/>
              </a:xfrm>
              <a:custGeom>
                <a:avLst/>
                <a:gdLst/>
                <a:ahLst/>
                <a:rect l="l" t="t" r="r" b="b"/>
                <a:pathLst>
                  <a:path w="866" h="1228">
                    <a:moveTo>
                      <a:pt x="0" y="14"/>
                    </a:moveTo>
                    <a:lnTo>
                      <a:pt x="9" y="14"/>
                    </a:lnTo>
                    <a:lnTo>
                      <a:pt x="34" y="12"/>
                    </a:lnTo>
                    <a:lnTo>
                      <a:pt x="73" y="9"/>
                    </a:lnTo>
                    <a:lnTo>
                      <a:pt x="125" y="7"/>
                    </a:lnTo>
                    <a:lnTo>
                      <a:pt x="188" y="3"/>
                    </a:lnTo>
                    <a:lnTo>
                      <a:pt x="258" y="2"/>
                    </a:lnTo>
                    <a:lnTo>
                      <a:pt x="332" y="0"/>
                    </a:lnTo>
                    <a:lnTo>
                      <a:pt x="410" y="2"/>
                    </a:lnTo>
                    <a:lnTo>
                      <a:pt x="488" y="2"/>
                    </a:lnTo>
                    <a:lnTo>
                      <a:pt x="563" y="7"/>
                    </a:lnTo>
                    <a:lnTo>
                      <a:pt x="636" y="14"/>
                    </a:lnTo>
                    <a:lnTo>
                      <a:pt x="703" y="25"/>
                    </a:lnTo>
                    <a:lnTo>
                      <a:pt x="758" y="39"/>
                    </a:lnTo>
                    <a:lnTo>
                      <a:pt x="805" y="58"/>
                    </a:lnTo>
                    <a:lnTo>
                      <a:pt x="839" y="81"/>
                    </a:lnTo>
                    <a:lnTo>
                      <a:pt x="857" y="111"/>
                    </a:lnTo>
                    <a:lnTo>
                      <a:pt x="862" y="143"/>
                    </a:lnTo>
                    <a:lnTo>
                      <a:pt x="866" y="179"/>
                    </a:lnTo>
                    <a:lnTo>
                      <a:pt x="866" y="218"/>
                    </a:lnTo>
                    <a:lnTo>
                      <a:pt x="864" y="260"/>
                    </a:lnTo>
                    <a:lnTo>
                      <a:pt x="859" y="303"/>
                    </a:lnTo>
                    <a:lnTo>
                      <a:pt x="851" y="347"/>
                    </a:lnTo>
                    <a:lnTo>
                      <a:pt x="843" y="390"/>
                    </a:lnTo>
                    <a:lnTo>
                      <a:pt x="835" y="434"/>
                    </a:lnTo>
                    <a:lnTo>
                      <a:pt x="823" y="475"/>
                    </a:lnTo>
                    <a:lnTo>
                      <a:pt x="814" y="515"/>
                    </a:lnTo>
                    <a:lnTo>
                      <a:pt x="801" y="553"/>
                    </a:lnTo>
                    <a:lnTo>
                      <a:pt x="792" y="586"/>
                    </a:lnTo>
                    <a:lnTo>
                      <a:pt x="782" y="615"/>
                    </a:lnTo>
                    <a:lnTo>
                      <a:pt x="774" y="639"/>
                    </a:lnTo>
                    <a:lnTo>
                      <a:pt x="767" y="657"/>
                    </a:lnTo>
                    <a:lnTo>
                      <a:pt x="764" y="671"/>
                    </a:lnTo>
                    <a:lnTo>
                      <a:pt x="758" y="684"/>
                    </a:lnTo>
                    <a:lnTo>
                      <a:pt x="751" y="707"/>
                    </a:lnTo>
                    <a:lnTo>
                      <a:pt x="744" y="739"/>
                    </a:lnTo>
                    <a:lnTo>
                      <a:pt x="737" y="776"/>
                    </a:lnTo>
                    <a:lnTo>
                      <a:pt x="728" y="818"/>
                    </a:lnTo>
                    <a:lnTo>
                      <a:pt x="719" y="866"/>
                    </a:lnTo>
                    <a:lnTo>
                      <a:pt x="712" y="914"/>
                    </a:lnTo>
                    <a:lnTo>
                      <a:pt x="703" y="966"/>
                    </a:lnTo>
                    <a:lnTo>
                      <a:pt x="692" y="1015"/>
                    </a:lnTo>
                    <a:lnTo>
                      <a:pt x="685" y="1061"/>
                    </a:lnTo>
                    <a:lnTo>
                      <a:pt x="676" y="1106"/>
                    </a:lnTo>
                    <a:lnTo>
                      <a:pt x="672" y="1146"/>
                    </a:lnTo>
                    <a:lnTo>
                      <a:pt x="665" y="1178"/>
                    </a:lnTo>
                    <a:lnTo>
                      <a:pt x="661" y="1203"/>
                    </a:lnTo>
                    <a:lnTo>
                      <a:pt x="658" y="1221"/>
                    </a:lnTo>
                    <a:lnTo>
                      <a:pt x="658" y="1228"/>
                    </a:lnTo>
                    <a:lnTo>
                      <a:pt x="52" y="1185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59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763720" y="320832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32" y="64"/>
                    </a:moveTo>
                    <a:lnTo>
                      <a:pt x="38" y="64"/>
                    </a:lnTo>
                    <a:lnTo>
                      <a:pt x="45" y="61"/>
                    </a:lnTo>
                    <a:lnTo>
                      <a:pt x="50" y="57"/>
                    </a:lnTo>
                    <a:lnTo>
                      <a:pt x="56" y="54"/>
                    </a:lnTo>
                    <a:lnTo>
                      <a:pt x="57" y="48"/>
                    </a:lnTo>
                    <a:lnTo>
                      <a:pt x="63" y="43"/>
                    </a:lnTo>
                    <a:lnTo>
                      <a:pt x="64" y="38"/>
                    </a:lnTo>
                    <a:lnTo>
                      <a:pt x="66" y="32"/>
                    </a:lnTo>
                    <a:lnTo>
                      <a:pt x="64" y="25"/>
                    </a:lnTo>
                    <a:lnTo>
                      <a:pt x="63" y="20"/>
                    </a:lnTo>
                    <a:lnTo>
                      <a:pt x="57" y="13"/>
                    </a:lnTo>
                    <a:lnTo>
                      <a:pt x="56" y="9"/>
                    </a:lnTo>
                    <a:lnTo>
                      <a:pt x="50" y="4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1" y="54"/>
                    </a:lnTo>
                    <a:lnTo>
                      <a:pt x="14" y="57"/>
                    </a:lnTo>
                    <a:lnTo>
                      <a:pt x="20" y="61"/>
                    </a:lnTo>
                    <a:lnTo>
                      <a:pt x="25" y="64"/>
                    </a:lnTo>
                    <a:lnTo>
                      <a:pt x="32" y="64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763720" y="31464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11" y="1"/>
                    </a:moveTo>
                    <a:lnTo>
                      <a:pt x="14" y="0"/>
                    </a:lnTo>
                    <a:lnTo>
                      <a:pt x="18" y="3"/>
                    </a:lnTo>
                    <a:lnTo>
                      <a:pt x="20" y="7"/>
                    </a:lnTo>
                    <a:lnTo>
                      <a:pt x="23" y="14"/>
                    </a:lnTo>
                    <a:lnTo>
                      <a:pt x="23" y="19"/>
                    </a:lnTo>
                    <a:lnTo>
                      <a:pt x="23" y="26"/>
                    </a:lnTo>
                    <a:lnTo>
                      <a:pt x="23" y="33"/>
                    </a:lnTo>
                    <a:lnTo>
                      <a:pt x="23" y="40"/>
                    </a:lnTo>
                    <a:lnTo>
                      <a:pt x="18" y="47"/>
                    </a:lnTo>
                    <a:lnTo>
                      <a:pt x="12" y="53"/>
                    </a:lnTo>
                    <a:lnTo>
                      <a:pt x="11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2" y="33"/>
                    </a:lnTo>
                    <a:lnTo>
                      <a:pt x="4" y="26"/>
                    </a:lnTo>
                    <a:lnTo>
                      <a:pt x="5" y="21"/>
                    </a:lnTo>
                    <a:lnTo>
                      <a:pt x="7" y="12"/>
                    </a:lnTo>
                    <a:lnTo>
                      <a:pt x="7" y="7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828880" y="316404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31" y="0"/>
                    </a:moveTo>
                    <a:lnTo>
                      <a:pt x="38" y="5"/>
                    </a:lnTo>
                    <a:lnTo>
                      <a:pt x="42" y="10"/>
                    </a:lnTo>
                    <a:lnTo>
                      <a:pt x="38" y="18"/>
                    </a:lnTo>
                    <a:lnTo>
                      <a:pt x="34" y="25"/>
                    </a:lnTo>
                    <a:lnTo>
                      <a:pt x="25" y="32"/>
                    </a:lnTo>
                    <a:lnTo>
                      <a:pt x="18" y="35"/>
                    </a:lnTo>
                    <a:lnTo>
                      <a:pt x="9" y="37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2" y="23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3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840040" y="323676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5" y="0"/>
                    </a:moveTo>
                    <a:lnTo>
                      <a:pt x="12" y="2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39" y="5"/>
                    </a:lnTo>
                    <a:lnTo>
                      <a:pt x="46" y="7"/>
                    </a:lnTo>
                    <a:lnTo>
                      <a:pt x="55" y="11"/>
                    </a:lnTo>
                    <a:lnTo>
                      <a:pt x="62" y="14"/>
                    </a:lnTo>
                    <a:lnTo>
                      <a:pt x="64" y="21"/>
                    </a:lnTo>
                    <a:lnTo>
                      <a:pt x="59" y="32"/>
                    </a:lnTo>
                    <a:lnTo>
                      <a:pt x="54" y="28"/>
                    </a:lnTo>
                    <a:lnTo>
                      <a:pt x="45" y="28"/>
                    </a:lnTo>
                    <a:lnTo>
                      <a:pt x="36" y="28"/>
                    </a:lnTo>
                    <a:lnTo>
                      <a:pt x="27" y="27"/>
                    </a:lnTo>
                    <a:lnTo>
                      <a:pt x="19" y="25"/>
                    </a:lnTo>
                    <a:lnTo>
                      <a:pt x="12" y="23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89280" y="3294000"/>
                <a:ext cx="22320" cy="5256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15" y="0"/>
                    </a:moveTo>
                    <a:lnTo>
                      <a:pt x="18" y="5"/>
                    </a:lnTo>
                    <a:lnTo>
                      <a:pt x="24" y="12"/>
                    </a:lnTo>
                    <a:lnTo>
                      <a:pt x="24" y="17"/>
                    </a:lnTo>
                    <a:lnTo>
                      <a:pt x="25" y="24"/>
                    </a:lnTo>
                    <a:lnTo>
                      <a:pt x="25" y="30"/>
                    </a:lnTo>
                    <a:lnTo>
                      <a:pt x="27" y="37"/>
                    </a:lnTo>
                    <a:lnTo>
                      <a:pt x="25" y="47"/>
                    </a:lnTo>
                    <a:lnTo>
                      <a:pt x="22" y="56"/>
                    </a:lnTo>
                    <a:lnTo>
                      <a:pt x="16" y="63"/>
                    </a:lnTo>
                    <a:lnTo>
                      <a:pt x="7" y="65"/>
                    </a:lnTo>
                    <a:lnTo>
                      <a:pt x="4" y="56"/>
                    </a:lnTo>
                    <a:lnTo>
                      <a:pt x="2" y="47"/>
                    </a:lnTo>
                    <a:lnTo>
                      <a:pt x="0" y="39"/>
                    </a:lnTo>
                    <a:lnTo>
                      <a:pt x="2" y="31"/>
                    </a:lnTo>
                    <a:lnTo>
                      <a:pt x="4" y="21"/>
                    </a:lnTo>
                    <a:lnTo>
                      <a:pt x="7" y="14"/>
                    </a:lnTo>
                    <a:lnTo>
                      <a:pt x="9" y="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2085840" y="3398760"/>
                <a:ext cx="1405080" cy="941760"/>
                <a:chOff x="2085840" y="3398760"/>
                <a:chExt cx="1405080" cy="941760"/>
              </a:xfrm>
            </p:grpSpPr>
            <p:sp>
              <p:nvSpPr>
                <p:cNvPr id="859" name=""/>
                <p:cNvSpPr/>
                <p:nvPr/>
              </p:nvSpPr>
              <p:spPr>
                <a:xfrm rot="839400">
                  <a:off x="2145960" y="3675600"/>
                  <a:ext cx="393840" cy="546840"/>
                </a:xfrm>
                <a:custGeom>
                  <a:avLst/>
                  <a:gdLst/>
                  <a:ahLst/>
                  <a:rect l="l" t="t" r="r" b="b"/>
                  <a:pathLst>
                    <a:path w="672" h="988">
                      <a:moveTo>
                        <a:pt x="466" y="37"/>
                      </a:moveTo>
                      <a:lnTo>
                        <a:pt x="456" y="44"/>
                      </a:lnTo>
                      <a:lnTo>
                        <a:pt x="447" y="51"/>
                      </a:lnTo>
                      <a:lnTo>
                        <a:pt x="438" y="58"/>
                      </a:lnTo>
                      <a:lnTo>
                        <a:pt x="430" y="64"/>
                      </a:lnTo>
                      <a:lnTo>
                        <a:pt x="421" y="71"/>
                      </a:lnTo>
                      <a:lnTo>
                        <a:pt x="412" y="78"/>
                      </a:lnTo>
                      <a:lnTo>
                        <a:pt x="402" y="84"/>
                      </a:lnTo>
                      <a:lnTo>
                        <a:pt x="393" y="90"/>
                      </a:lnTo>
                      <a:lnTo>
                        <a:pt x="379" y="89"/>
                      </a:lnTo>
                      <a:lnTo>
                        <a:pt x="366" y="90"/>
                      </a:lnTo>
                      <a:lnTo>
                        <a:pt x="353" y="91"/>
                      </a:lnTo>
                      <a:lnTo>
                        <a:pt x="339" y="93"/>
                      </a:lnTo>
                      <a:lnTo>
                        <a:pt x="325" y="97"/>
                      </a:lnTo>
                      <a:lnTo>
                        <a:pt x="313" y="100"/>
                      </a:lnTo>
                      <a:lnTo>
                        <a:pt x="299" y="103"/>
                      </a:lnTo>
                      <a:lnTo>
                        <a:pt x="285" y="105"/>
                      </a:lnTo>
                      <a:lnTo>
                        <a:pt x="276" y="111"/>
                      </a:lnTo>
                      <a:lnTo>
                        <a:pt x="266" y="115"/>
                      </a:lnTo>
                      <a:lnTo>
                        <a:pt x="255" y="119"/>
                      </a:lnTo>
                      <a:lnTo>
                        <a:pt x="245" y="123"/>
                      </a:lnTo>
                      <a:lnTo>
                        <a:pt x="236" y="129"/>
                      </a:lnTo>
                      <a:lnTo>
                        <a:pt x="227" y="136"/>
                      </a:lnTo>
                      <a:lnTo>
                        <a:pt x="218" y="144"/>
                      </a:lnTo>
                      <a:lnTo>
                        <a:pt x="213" y="153"/>
                      </a:lnTo>
                      <a:lnTo>
                        <a:pt x="224" y="159"/>
                      </a:lnTo>
                      <a:lnTo>
                        <a:pt x="236" y="161"/>
                      </a:lnTo>
                      <a:lnTo>
                        <a:pt x="248" y="161"/>
                      </a:lnTo>
                      <a:lnTo>
                        <a:pt x="261" y="161"/>
                      </a:lnTo>
                      <a:lnTo>
                        <a:pt x="273" y="161"/>
                      </a:lnTo>
                      <a:lnTo>
                        <a:pt x="284" y="164"/>
                      </a:lnTo>
                      <a:lnTo>
                        <a:pt x="294" y="169"/>
                      </a:lnTo>
                      <a:lnTo>
                        <a:pt x="302" y="180"/>
                      </a:lnTo>
                      <a:lnTo>
                        <a:pt x="302" y="183"/>
                      </a:lnTo>
                      <a:lnTo>
                        <a:pt x="300" y="184"/>
                      </a:lnTo>
                      <a:lnTo>
                        <a:pt x="299" y="185"/>
                      </a:lnTo>
                      <a:lnTo>
                        <a:pt x="298" y="188"/>
                      </a:lnTo>
                      <a:lnTo>
                        <a:pt x="274" y="191"/>
                      </a:lnTo>
                      <a:lnTo>
                        <a:pt x="250" y="198"/>
                      </a:lnTo>
                      <a:lnTo>
                        <a:pt x="224" y="206"/>
                      </a:lnTo>
                      <a:lnTo>
                        <a:pt x="201" y="217"/>
                      </a:lnTo>
                      <a:lnTo>
                        <a:pt x="179" y="230"/>
                      </a:lnTo>
                      <a:lnTo>
                        <a:pt x="160" y="247"/>
                      </a:lnTo>
                      <a:lnTo>
                        <a:pt x="143" y="265"/>
                      </a:lnTo>
                      <a:lnTo>
                        <a:pt x="130" y="287"/>
                      </a:lnTo>
                      <a:lnTo>
                        <a:pt x="128" y="295"/>
                      </a:lnTo>
                      <a:lnTo>
                        <a:pt x="128" y="304"/>
                      </a:lnTo>
                      <a:lnTo>
                        <a:pt x="130" y="311"/>
                      </a:lnTo>
                      <a:lnTo>
                        <a:pt x="138" y="316"/>
                      </a:lnTo>
                      <a:lnTo>
                        <a:pt x="148" y="318"/>
                      </a:lnTo>
                      <a:lnTo>
                        <a:pt x="158" y="319"/>
                      </a:lnTo>
                      <a:lnTo>
                        <a:pt x="167" y="318"/>
                      </a:lnTo>
                      <a:lnTo>
                        <a:pt x="177" y="316"/>
                      </a:lnTo>
                      <a:lnTo>
                        <a:pt x="186" y="313"/>
                      </a:lnTo>
                      <a:lnTo>
                        <a:pt x="195" y="312"/>
                      </a:lnTo>
                      <a:lnTo>
                        <a:pt x="204" y="313"/>
                      </a:lnTo>
                      <a:lnTo>
                        <a:pt x="213" y="316"/>
                      </a:lnTo>
                      <a:lnTo>
                        <a:pt x="216" y="326"/>
                      </a:lnTo>
                      <a:lnTo>
                        <a:pt x="215" y="333"/>
                      </a:lnTo>
                      <a:lnTo>
                        <a:pt x="209" y="338"/>
                      </a:lnTo>
                      <a:lnTo>
                        <a:pt x="201" y="340"/>
                      </a:lnTo>
                      <a:lnTo>
                        <a:pt x="192" y="342"/>
                      </a:lnTo>
                      <a:lnTo>
                        <a:pt x="182" y="344"/>
                      </a:lnTo>
                      <a:lnTo>
                        <a:pt x="172" y="348"/>
                      </a:lnTo>
                      <a:lnTo>
                        <a:pt x="166" y="354"/>
                      </a:lnTo>
                      <a:lnTo>
                        <a:pt x="148" y="365"/>
                      </a:lnTo>
                      <a:lnTo>
                        <a:pt x="132" y="377"/>
                      </a:lnTo>
                      <a:lnTo>
                        <a:pt x="115" y="388"/>
                      </a:lnTo>
                      <a:lnTo>
                        <a:pt x="98" y="401"/>
                      </a:lnTo>
                      <a:lnTo>
                        <a:pt x="83" y="416"/>
                      </a:lnTo>
                      <a:lnTo>
                        <a:pt x="69" y="430"/>
                      </a:lnTo>
                      <a:lnTo>
                        <a:pt x="56" y="446"/>
                      </a:lnTo>
                      <a:lnTo>
                        <a:pt x="47" y="463"/>
                      </a:lnTo>
                      <a:lnTo>
                        <a:pt x="57" y="470"/>
                      </a:lnTo>
                      <a:lnTo>
                        <a:pt x="68" y="473"/>
                      </a:lnTo>
                      <a:lnTo>
                        <a:pt x="78" y="472"/>
                      </a:lnTo>
                      <a:lnTo>
                        <a:pt x="89" y="469"/>
                      </a:lnTo>
                      <a:lnTo>
                        <a:pt x="99" y="465"/>
                      </a:lnTo>
                      <a:lnTo>
                        <a:pt x="109" y="461"/>
                      </a:lnTo>
                      <a:lnTo>
                        <a:pt x="120" y="458"/>
                      </a:lnTo>
                      <a:lnTo>
                        <a:pt x="130" y="458"/>
                      </a:lnTo>
                      <a:lnTo>
                        <a:pt x="138" y="454"/>
                      </a:lnTo>
                      <a:lnTo>
                        <a:pt x="147" y="448"/>
                      </a:lnTo>
                      <a:lnTo>
                        <a:pt x="155" y="448"/>
                      </a:lnTo>
                      <a:lnTo>
                        <a:pt x="162" y="456"/>
                      </a:lnTo>
                      <a:lnTo>
                        <a:pt x="169" y="463"/>
                      </a:lnTo>
                      <a:lnTo>
                        <a:pt x="167" y="470"/>
                      </a:lnTo>
                      <a:lnTo>
                        <a:pt x="160" y="477"/>
                      </a:lnTo>
                      <a:lnTo>
                        <a:pt x="154" y="483"/>
                      </a:lnTo>
                      <a:lnTo>
                        <a:pt x="137" y="499"/>
                      </a:lnTo>
                      <a:lnTo>
                        <a:pt x="121" y="516"/>
                      </a:lnTo>
                      <a:lnTo>
                        <a:pt x="106" y="533"/>
                      </a:lnTo>
                      <a:lnTo>
                        <a:pt x="93" y="552"/>
                      </a:lnTo>
                      <a:lnTo>
                        <a:pt x="80" y="570"/>
                      </a:lnTo>
                      <a:lnTo>
                        <a:pt x="70" y="591"/>
                      </a:lnTo>
                      <a:lnTo>
                        <a:pt x="62" y="612"/>
                      </a:lnTo>
                      <a:lnTo>
                        <a:pt x="56" y="635"/>
                      </a:lnTo>
                      <a:lnTo>
                        <a:pt x="62" y="639"/>
                      </a:lnTo>
                      <a:lnTo>
                        <a:pt x="69" y="642"/>
                      </a:lnTo>
                      <a:lnTo>
                        <a:pt x="77" y="642"/>
                      </a:lnTo>
                      <a:lnTo>
                        <a:pt x="84" y="640"/>
                      </a:lnTo>
                      <a:lnTo>
                        <a:pt x="95" y="638"/>
                      </a:lnTo>
                      <a:lnTo>
                        <a:pt x="106" y="635"/>
                      </a:lnTo>
                      <a:lnTo>
                        <a:pt x="117" y="630"/>
                      </a:lnTo>
                      <a:lnTo>
                        <a:pt x="129" y="627"/>
                      </a:lnTo>
                      <a:lnTo>
                        <a:pt x="139" y="622"/>
                      </a:lnTo>
                      <a:lnTo>
                        <a:pt x="151" y="616"/>
                      </a:lnTo>
                      <a:lnTo>
                        <a:pt x="161" y="611"/>
                      </a:lnTo>
                      <a:lnTo>
                        <a:pt x="171" y="604"/>
                      </a:lnTo>
                      <a:lnTo>
                        <a:pt x="177" y="607"/>
                      </a:lnTo>
                      <a:lnTo>
                        <a:pt x="182" y="612"/>
                      </a:lnTo>
                      <a:lnTo>
                        <a:pt x="186" y="617"/>
                      </a:lnTo>
                      <a:lnTo>
                        <a:pt x="191" y="622"/>
                      </a:lnTo>
                      <a:lnTo>
                        <a:pt x="178" y="643"/>
                      </a:lnTo>
                      <a:lnTo>
                        <a:pt x="164" y="662"/>
                      </a:lnTo>
                      <a:lnTo>
                        <a:pt x="151" y="682"/>
                      </a:lnTo>
                      <a:lnTo>
                        <a:pt x="138" y="703"/>
                      </a:lnTo>
                      <a:lnTo>
                        <a:pt x="125" y="723"/>
                      </a:lnTo>
                      <a:lnTo>
                        <a:pt x="116" y="745"/>
                      </a:lnTo>
                      <a:lnTo>
                        <a:pt x="110" y="768"/>
                      </a:lnTo>
                      <a:lnTo>
                        <a:pt x="109" y="794"/>
                      </a:lnTo>
                      <a:lnTo>
                        <a:pt x="114" y="797"/>
                      </a:lnTo>
                      <a:lnTo>
                        <a:pt x="120" y="798"/>
                      </a:lnTo>
                      <a:lnTo>
                        <a:pt x="124" y="797"/>
                      </a:lnTo>
                      <a:lnTo>
                        <a:pt x="130" y="796"/>
                      </a:lnTo>
                      <a:lnTo>
                        <a:pt x="135" y="795"/>
                      </a:lnTo>
                      <a:lnTo>
                        <a:pt x="140" y="793"/>
                      </a:lnTo>
                      <a:lnTo>
                        <a:pt x="145" y="791"/>
                      </a:lnTo>
                      <a:lnTo>
                        <a:pt x="151" y="790"/>
                      </a:lnTo>
                      <a:lnTo>
                        <a:pt x="160" y="783"/>
                      </a:lnTo>
                      <a:lnTo>
                        <a:pt x="170" y="776"/>
                      </a:lnTo>
                      <a:lnTo>
                        <a:pt x="179" y="770"/>
                      </a:lnTo>
                      <a:lnTo>
                        <a:pt x="190" y="763"/>
                      </a:lnTo>
                      <a:lnTo>
                        <a:pt x="198" y="755"/>
                      </a:lnTo>
                      <a:lnTo>
                        <a:pt x="207" y="746"/>
                      </a:lnTo>
                      <a:lnTo>
                        <a:pt x="214" y="738"/>
                      </a:lnTo>
                      <a:lnTo>
                        <a:pt x="221" y="729"/>
                      </a:lnTo>
                      <a:lnTo>
                        <a:pt x="228" y="728"/>
                      </a:lnTo>
                      <a:lnTo>
                        <a:pt x="233" y="731"/>
                      </a:lnTo>
                      <a:lnTo>
                        <a:pt x="239" y="736"/>
                      </a:lnTo>
                      <a:lnTo>
                        <a:pt x="245" y="738"/>
                      </a:lnTo>
                      <a:lnTo>
                        <a:pt x="233" y="758"/>
                      </a:lnTo>
                      <a:lnTo>
                        <a:pt x="224" y="780"/>
                      </a:lnTo>
                      <a:lnTo>
                        <a:pt x="216" y="803"/>
                      </a:lnTo>
                      <a:lnTo>
                        <a:pt x="213" y="826"/>
                      </a:lnTo>
                      <a:lnTo>
                        <a:pt x="212" y="847"/>
                      </a:lnTo>
                      <a:lnTo>
                        <a:pt x="208" y="866"/>
                      </a:lnTo>
                      <a:lnTo>
                        <a:pt x="206" y="887"/>
                      </a:lnTo>
                      <a:lnTo>
                        <a:pt x="208" y="907"/>
                      </a:lnTo>
                      <a:lnTo>
                        <a:pt x="227" y="903"/>
                      </a:lnTo>
                      <a:lnTo>
                        <a:pt x="244" y="896"/>
                      </a:lnTo>
                      <a:lnTo>
                        <a:pt x="261" y="888"/>
                      </a:lnTo>
                      <a:lnTo>
                        <a:pt x="277" y="878"/>
                      </a:lnTo>
                      <a:lnTo>
                        <a:pt x="293" y="867"/>
                      </a:lnTo>
                      <a:lnTo>
                        <a:pt x="309" y="856"/>
                      </a:lnTo>
                      <a:lnTo>
                        <a:pt x="324" y="844"/>
                      </a:lnTo>
                      <a:lnTo>
                        <a:pt x="338" y="833"/>
                      </a:lnTo>
                      <a:lnTo>
                        <a:pt x="344" y="835"/>
                      </a:lnTo>
                      <a:lnTo>
                        <a:pt x="350" y="837"/>
                      </a:lnTo>
                      <a:lnTo>
                        <a:pt x="354" y="841"/>
                      </a:lnTo>
                      <a:lnTo>
                        <a:pt x="360" y="844"/>
                      </a:lnTo>
                      <a:lnTo>
                        <a:pt x="353" y="858"/>
                      </a:lnTo>
                      <a:lnTo>
                        <a:pt x="347" y="873"/>
                      </a:lnTo>
                      <a:lnTo>
                        <a:pt x="342" y="888"/>
                      </a:lnTo>
                      <a:lnTo>
                        <a:pt x="338" y="904"/>
                      </a:lnTo>
                      <a:lnTo>
                        <a:pt x="337" y="919"/>
                      </a:lnTo>
                      <a:lnTo>
                        <a:pt x="338" y="935"/>
                      </a:lnTo>
                      <a:lnTo>
                        <a:pt x="343" y="949"/>
                      </a:lnTo>
                      <a:lnTo>
                        <a:pt x="352" y="963"/>
                      </a:lnTo>
                      <a:lnTo>
                        <a:pt x="368" y="958"/>
                      </a:lnTo>
                      <a:lnTo>
                        <a:pt x="382" y="952"/>
                      </a:lnTo>
                      <a:lnTo>
                        <a:pt x="392" y="941"/>
                      </a:lnTo>
                      <a:lnTo>
                        <a:pt x="402" y="928"/>
                      </a:lnTo>
                      <a:lnTo>
                        <a:pt x="410" y="916"/>
                      </a:lnTo>
                      <a:lnTo>
                        <a:pt x="419" y="902"/>
                      </a:lnTo>
                      <a:lnTo>
                        <a:pt x="425" y="888"/>
                      </a:lnTo>
                      <a:lnTo>
                        <a:pt x="433" y="875"/>
                      </a:lnTo>
                      <a:lnTo>
                        <a:pt x="442" y="877"/>
                      </a:lnTo>
                      <a:lnTo>
                        <a:pt x="448" y="880"/>
                      </a:lnTo>
                      <a:lnTo>
                        <a:pt x="454" y="884"/>
                      </a:lnTo>
                      <a:lnTo>
                        <a:pt x="463" y="885"/>
                      </a:lnTo>
                      <a:lnTo>
                        <a:pt x="459" y="900"/>
                      </a:lnTo>
                      <a:lnTo>
                        <a:pt x="453" y="917"/>
                      </a:lnTo>
                      <a:lnTo>
                        <a:pt x="452" y="933"/>
                      </a:lnTo>
                      <a:lnTo>
                        <a:pt x="460" y="949"/>
                      </a:lnTo>
                      <a:lnTo>
                        <a:pt x="465" y="952"/>
                      </a:lnTo>
                      <a:lnTo>
                        <a:pt x="469" y="954"/>
                      </a:lnTo>
                      <a:lnTo>
                        <a:pt x="475" y="955"/>
                      </a:lnTo>
                      <a:lnTo>
                        <a:pt x="481" y="956"/>
                      </a:lnTo>
                      <a:lnTo>
                        <a:pt x="486" y="956"/>
                      </a:lnTo>
                      <a:lnTo>
                        <a:pt x="492" y="956"/>
                      </a:lnTo>
                      <a:lnTo>
                        <a:pt x="498" y="956"/>
                      </a:lnTo>
                      <a:lnTo>
                        <a:pt x="502" y="955"/>
                      </a:lnTo>
                      <a:lnTo>
                        <a:pt x="511" y="947"/>
                      </a:lnTo>
                      <a:lnTo>
                        <a:pt x="520" y="939"/>
                      </a:lnTo>
                      <a:lnTo>
                        <a:pt x="528" y="931"/>
                      </a:lnTo>
                      <a:lnTo>
                        <a:pt x="536" y="923"/>
                      </a:lnTo>
                      <a:lnTo>
                        <a:pt x="544" y="914"/>
                      </a:lnTo>
                      <a:lnTo>
                        <a:pt x="550" y="904"/>
                      </a:lnTo>
                      <a:lnTo>
                        <a:pt x="553" y="894"/>
                      </a:lnTo>
                      <a:lnTo>
                        <a:pt x="555" y="881"/>
                      </a:lnTo>
                      <a:lnTo>
                        <a:pt x="561" y="879"/>
                      </a:lnTo>
                      <a:lnTo>
                        <a:pt x="567" y="879"/>
                      </a:lnTo>
                      <a:lnTo>
                        <a:pt x="571" y="880"/>
                      </a:lnTo>
                      <a:lnTo>
                        <a:pt x="578" y="882"/>
                      </a:lnTo>
                      <a:lnTo>
                        <a:pt x="590" y="882"/>
                      </a:lnTo>
                      <a:lnTo>
                        <a:pt x="601" y="884"/>
                      </a:lnTo>
                      <a:lnTo>
                        <a:pt x="613" y="884"/>
                      </a:lnTo>
                      <a:lnTo>
                        <a:pt x="626" y="884"/>
                      </a:lnTo>
                      <a:lnTo>
                        <a:pt x="637" y="885"/>
                      </a:lnTo>
                      <a:lnTo>
                        <a:pt x="649" y="885"/>
                      </a:lnTo>
                      <a:lnTo>
                        <a:pt x="660" y="885"/>
                      </a:lnTo>
                      <a:lnTo>
                        <a:pt x="672" y="885"/>
                      </a:lnTo>
                      <a:lnTo>
                        <a:pt x="672" y="896"/>
                      </a:lnTo>
                      <a:lnTo>
                        <a:pt x="669" y="905"/>
                      </a:lnTo>
                      <a:lnTo>
                        <a:pt x="663" y="914"/>
                      </a:lnTo>
                      <a:lnTo>
                        <a:pt x="653" y="917"/>
                      </a:lnTo>
                      <a:lnTo>
                        <a:pt x="642" y="916"/>
                      </a:lnTo>
                      <a:lnTo>
                        <a:pt x="631" y="916"/>
                      </a:lnTo>
                      <a:lnTo>
                        <a:pt x="621" y="917"/>
                      </a:lnTo>
                      <a:lnTo>
                        <a:pt x="611" y="918"/>
                      </a:lnTo>
                      <a:lnTo>
                        <a:pt x="601" y="919"/>
                      </a:lnTo>
                      <a:lnTo>
                        <a:pt x="591" y="920"/>
                      </a:lnTo>
                      <a:lnTo>
                        <a:pt x="582" y="922"/>
                      </a:lnTo>
                      <a:lnTo>
                        <a:pt x="571" y="923"/>
                      </a:lnTo>
                      <a:lnTo>
                        <a:pt x="569" y="934"/>
                      </a:lnTo>
                      <a:lnTo>
                        <a:pt x="566" y="945"/>
                      </a:lnTo>
                      <a:lnTo>
                        <a:pt x="560" y="954"/>
                      </a:lnTo>
                      <a:lnTo>
                        <a:pt x="554" y="962"/>
                      </a:lnTo>
                      <a:lnTo>
                        <a:pt x="547" y="970"/>
                      </a:lnTo>
                      <a:lnTo>
                        <a:pt x="538" y="976"/>
                      </a:lnTo>
                      <a:lnTo>
                        <a:pt x="529" y="980"/>
                      </a:lnTo>
                      <a:lnTo>
                        <a:pt x="517" y="984"/>
                      </a:lnTo>
                      <a:lnTo>
                        <a:pt x="508" y="986"/>
                      </a:lnTo>
                      <a:lnTo>
                        <a:pt x="499" y="987"/>
                      </a:lnTo>
                      <a:lnTo>
                        <a:pt x="489" y="988"/>
                      </a:lnTo>
                      <a:lnTo>
                        <a:pt x="479" y="988"/>
                      </a:lnTo>
                      <a:lnTo>
                        <a:pt x="469" y="987"/>
                      </a:lnTo>
                      <a:lnTo>
                        <a:pt x="460" y="985"/>
                      </a:lnTo>
                      <a:lnTo>
                        <a:pt x="452" y="980"/>
                      </a:lnTo>
                      <a:lnTo>
                        <a:pt x="445" y="975"/>
                      </a:lnTo>
                      <a:lnTo>
                        <a:pt x="440" y="969"/>
                      </a:lnTo>
                      <a:lnTo>
                        <a:pt x="437" y="962"/>
                      </a:lnTo>
                      <a:lnTo>
                        <a:pt x="433" y="956"/>
                      </a:lnTo>
                      <a:lnTo>
                        <a:pt x="430" y="950"/>
                      </a:lnTo>
                      <a:lnTo>
                        <a:pt x="425" y="956"/>
                      </a:lnTo>
                      <a:lnTo>
                        <a:pt x="421" y="963"/>
                      </a:lnTo>
                      <a:lnTo>
                        <a:pt x="415" y="968"/>
                      </a:lnTo>
                      <a:lnTo>
                        <a:pt x="409" y="973"/>
                      </a:lnTo>
                      <a:lnTo>
                        <a:pt x="402" y="978"/>
                      </a:lnTo>
                      <a:lnTo>
                        <a:pt x="396" y="981"/>
                      </a:lnTo>
                      <a:lnTo>
                        <a:pt x="389" y="985"/>
                      </a:lnTo>
                      <a:lnTo>
                        <a:pt x="381" y="987"/>
                      </a:lnTo>
                      <a:lnTo>
                        <a:pt x="374" y="986"/>
                      </a:lnTo>
                      <a:lnTo>
                        <a:pt x="367" y="986"/>
                      </a:lnTo>
                      <a:lnTo>
                        <a:pt x="359" y="985"/>
                      </a:lnTo>
                      <a:lnTo>
                        <a:pt x="352" y="985"/>
                      </a:lnTo>
                      <a:lnTo>
                        <a:pt x="344" y="983"/>
                      </a:lnTo>
                      <a:lnTo>
                        <a:pt x="337" y="980"/>
                      </a:lnTo>
                      <a:lnTo>
                        <a:pt x="331" y="977"/>
                      </a:lnTo>
                      <a:lnTo>
                        <a:pt x="325" y="972"/>
                      </a:lnTo>
                      <a:lnTo>
                        <a:pt x="315" y="954"/>
                      </a:lnTo>
                      <a:lnTo>
                        <a:pt x="307" y="934"/>
                      </a:lnTo>
                      <a:lnTo>
                        <a:pt x="305" y="914"/>
                      </a:lnTo>
                      <a:lnTo>
                        <a:pt x="307" y="892"/>
                      </a:lnTo>
                      <a:lnTo>
                        <a:pt x="297" y="897"/>
                      </a:lnTo>
                      <a:lnTo>
                        <a:pt x="285" y="903"/>
                      </a:lnTo>
                      <a:lnTo>
                        <a:pt x="274" y="909"/>
                      </a:lnTo>
                      <a:lnTo>
                        <a:pt x="262" y="915"/>
                      </a:lnTo>
                      <a:lnTo>
                        <a:pt x="250" y="919"/>
                      </a:lnTo>
                      <a:lnTo>
                        <a:pt x="238" y="924"/>
                      </a:lnTo>
                      <a:lnTo>
                        <a:pt x="225" y="926"/>
                      </a:lnTo>
                      <a:lnTo>
                        <a:pt x="213" y="928"/>
                      </a:lnTo>
                      <a:lnTo>
                        <a:pt x="206" y="926"/>
                      </a:lnTo>
                      <a:lnTo>
                        <a:pt x="198" y="923"/>
                      </a:lnTo>
                      <a:lnTo>
                        <a:pt x="191" y="919"/>
                      </a:lnTo>
                      <a:lnTo>
                        <a:pt x="184" y="915"/>
                      </a:lnTo>
                      <a:lnTo>
                        <a:pt x="178" y="910"/>
                      </a:lnTo>
                      <a:lnTo>
                        <a:pt x="172" y="904"/>
                      </a:lnTo>
                      <a:lnTo>
                        <a:pt x="169" y="897"/>
                      </a:lnTo>
                      <a:lnTo>
                        <a:pt x="166" y="889"/>
                      </a:lnTo>
                      <a:lnTo>
                        <a:pt x="163" y="869"/>
                      </a:lnTo>
                      <a:lnTo>
                        <a:pt x="164" y="849"/>
                      </a:lnTo>
                      <a:lnTo>
                        <a:pt x="168" y="831"/>
                      </a:lnTo>
                      <a:lnTo>
                        <a:pt x="172" y="810"/>
                      </a:lnTo>
                      <a:lnTo>
                        <a:pt x="161" y="811"/>
                      </a:lnTo>
                      <a:lnTo>
                        <a:pt x="149" y="814"/>
                      </a:lnTo>
                      <a:lnTo>
                        <a:pt x="137" y="817"/>
                      </a:lnTo>
                      <a:lnTo>
                        <a:pt x="123" y="818"/>
                      </a:lnTo>
                      <a:lnTo>
                        <a:pt x="110" y="819"/>
                      </a:lnTo>
                      <a:lnTo>
                        <a:pt x="98" y="816"/>
                      </a:lnTo>
                      <a:lnTo>
                        <a:pt x="87" y="810"/>
                      </a:lnTo>
                      <a:lnTo>
                        <a:pt x="77" y="799"/>
                      </a:lnTo>
                      <a:lnTo>
                        <a:pt x="71" y="782"/>
                      </a:lnTo>
                      <a:lnTo>
                        <a:pt x="72" y="763"/>
                      </a:lnTo>
                      <a:lnTo>
                        <a:pt x="77" y="743"/>
                      </a:lnTo>
                      <a:lnTo>
                        <a:pt x="80" y="725"/>
                      </a:lnTo>
                      <a:lnTo>
                        <a:pt x="84" y="718"/>
                      </a:lnTo>
                      <a:lnTo>
                        <a:pt x="87" y="710"/>
                      </a:lnTo>
                      <a:lnTo>
                        <a:pt x="92" y="703"/>
                      </a:lnTo>
                      <a:lnTo>
                        <a:pt x="95" y="695"/>
                      </a:lnTo>
                      <a:lnTo>
                        <a:pt x="100" y="688"/>
                      </a:lnTo>
                      <a:lnTo>
                        <a:pt x="105" y="681"/>
                      </a:lnTo>
                      <a:lnTo>
                        <a:pt x="109" y="674"/>
                      </a:lnTo>
                      <a:lnTo>
                        <a:pt x="115" y="668"/>
                      </a:lnTo>
                      <a:lnTo>
                        <a:pt x="102" y="667"/>
                      </a:lnTo>
                      <a:lnTo>
                        <a:pt x="87" y="667"/>
                      </a:lnTo>
                      <a:lnTo>
                        <a:pt x="72" y="668"/>
                      </a:lnTo>
                      <a:lnTo>
                        <a:pt x="57" y="668"/>
                      </a:lnTo>
                      <a:lnTo>
                        <a:pt x="44" y="667"/>
                      </a:lnTo>
                      <a:lnTo>
                        <a:pt x="31" y="662"/>
                      </a:lnTo>
                      <a:lnTo>
                        <a:pt x="21" y="653"/>
                      </a:lnTo>
                      <a:lnTo>
                        <a:pt x="13" y="640"/>
                      </a:lnTo>
                      <a:lnTo>
                        <a:pt x="16" y="620"/>
                      </a:lnTo>
                      <a:lnTo>
                        <a:pt x="22" y="599"/>
                      </a:lnTo>
                      <a:lnTo>
                        <a:pt x="31" y="581"/>
                      </a:lnTo>
                      <a:lnTo>
                        <a:pt x="40" y="562"/>
                      </a:lnTo>
                      <a:lnTo>
                        <a:pt x="52" y="545"/>
                      </a:lnTo>
                      <a:lnTo>
                        <a:pt x="64" y="528"/>
                      </a:lnTo>
                      <a:lnTo>
                        <a:pt x="78" y="511"/>
                      </a:lnTo>
                      <a:lnTo>
                        <a:pt x="92" y="495"/>
                      </a:lnTo>
                      <a:lnTo>
                        <a:pt x="80" y="494"/>
                      </a:lnTo>
                      <a:lnTo>
                        <a:pt x="67" y="494"/>
                      </a:lnTo>
                      <a:lnTo>
                        <a:pt x="53" y="494"/>
                      </a:lnTo>
                      <a:lnTo>
                        <a:pt x="39" y="494"/>
                      </a:lnTo>
                      <a:lnTo>
                        <a:pt x="25" y="492"/>
                      </a:lnTo>
                      <a:lnTo>
                        <a:pt x="14" y="487"/>
                      </a:lnTo>
                      <a:lnTo>
                        <a:pt x="5" y="478"/>
                      </a:lnTo>
                      <a:lnTo>
                        <a:pt x="0" y="464"/>
                      </a:lnTo>
                      <a:lnTo>
                        <a:pt x="2" y="446"/>
                      </a:lnTo>
                      <a:lnTo>
                        <a:pt x="9" y="430"/>
                      </a:lnTo>
                      <a:lnTo>
                        <a:pt x="18" y="415"/>
                      </a:lnTo>
                      <a:lnTo>
                        <a:pt x="31" y="401"/>
                      </a:lnTo>
                      <a:lnTo>
                        <a:pt x="45" y="388"/>
                      </a:lnTo>
                      <a:lnTo>
                        <a:pt x="60" y="377"/>
                      </a:lnTo>
                      <a:lnTo>
                        <a:pt x="76" y="365"/>
                      </a:lnTo>
                      <a:lnTo>
                        <a:pt x="91" y="354"/>
                      </a:lnTo>
                      <a:lnTo>
                        <a:pt x="95" y="351"/>
                      </a:lnTo>
                      <a:lnTo>
                        <a:pt x="101" y="349"/>
                      </a:lnTo>
                      <a:lnTo>
                        <a:pt x="106" y="346"/>
                      </a:lnTo>
                      <a:lnTo>
                        <a:pt x="110" y="343"/>
                      </a:lnTo>
                      <a:lnTo>
                        <a:pt x="116" y="341"/>
                      </a:lnTo>
                      <a:lnTo>
                        <a:pt x="121" y="338"/>
                      </a:lnTo>
                      <a:lnTo>
                        <a:pt x="125" y="335"/>
                      </a:lnTo>
                      <a:lnTo>
                        <a:pt x="130" y="333"/>
                      </a:lnTo>
                      <a:lnTo>
                        <a:pt x="124" y="329"/>
                      </a:lnTo>
                      <a:lnTo>
                        <a:pt x="118" y="325"/>
                      </a:lnTo>
                      <a:lnTo>
                        <a:pt x="113" y="321"/>
                      </a:lnTo>
                      <a:lnTo>
                        <a:pt x="107" y="316"/>
                      </a:lnTo>
                      <a:lnTo>
                        <a:pt x="101" y="311"/>
                      </a:lnTo>
                      <a:lnTo>
                        <a:pt x="98" y="305"/>
                      </a:lnTo>
                      <a:lnTo>
                        <a:pt x="94" y="298"/>
                      </a:lnTo>
                      <a:lnTo>
                        <a:pt x="92" y="291"/>
                      </a:lnTo>
                      <a:lnTo>
                        <a:pt x="97" y="273"/>
                      </a:lnTo>
                      <a:lnTo>
                        <a:pt x="103" y="256"/>
                      </a:lnTo>
                      <a:lnTo>
                        <a:pt x="112" y="238"/>
                      </a:lnTo>
                      <a:lnTo>
                        <a:pt x="122" y="223"/>
                      </a:lnTo>
                      <a:lnTo>
                        <a:pt x="133" y="210"/>
                      </a:lnTo>
                      <a:lnTo>
                        <a:pt x="148" y="197"/>
                      </a:lnTo>
                      <a:lnTo>
                        <a:pt x="163" y="187"/>
                      </a:lnTo>
                      <a:lnTo>
                        <a:pt x="182" y="179"/>
                      </a:lnTo>
                      <a:lnTo>
                        <a:pt x="185" y="179"/>
                      </a:lnTo>
                      <a:lnTo>
                        <a:pt x="190" y="177"/>
                      </a:lnTo>
                      <a:lnTo>
                        <a:pt x="194" y="177"/>
                      </a:lnTo>
                      <a:lnTo>
                        <a:pt x="199" y="176"/>
                      </a:lnTo>
                      <a:lnTo>
                        <a:pt x="204" y="175"/>
                      </a:lnTo>
                      <a:lnTo>
                        <a:pt x="205" y="173"/>
                      </a:lnTo>
                      <a:lnTo>
                        <a:pt x="204" y="170"/>
                      </a:lnTo>
                      <a:lnTo>
                        <a:pt x="199" y="166"/>
                      </a:lnTo>
                      <a:lnTo>
                        <a:pt x="192" y="158"/>
                      </a:lnTo>
                      <a:lnTo>
                        <a:pt x="186" y="150"/>
                      </a:lnTo>
                      <a:lnTo>
                        <a:pt x="183" y="142"/>
                      </a:lnTo>
                      <a:lnTo>
                        <a:pt x="182" y="132"/>
                      </a:lnTo>
                      <a:lnTo>
                        <a:pt x="190" y="119"/>
                      </a:lnTo>
                      <a:lnTo>
                        <a:pt x="198" y="107"/>
                      </a:lnTo>
                      <a:lnTo>
                        <a:pt x="208" y="98"/>
                      </a:lnTo>
                      <a:lnTo>
                        <a:pt x="218" y="90"/>
                      </a:lnTo>
                      <a:lnTo>
                        <a:pt x="230" y="84"/>
                      </a:lnTo>
                      <a:lnTo>
                        <a:pt x="243" y="78"/>
                      </a:lnTo>
                      <a:lnTo>
                        <a:pt x="256" y="75"/>
                      </a:lnTo>
                      <a:lnTo>
                        <a:pt x="270" y="71"/>
                      </a:lnTo>
                      <a:lnTo>
                        <a:pt x="284" y="70"/>
                      </a:lnTo>
                      <a:lnTo>
                        <a:pt x="298" y="68"/>
                      </a:lnTo>
                      <a:lnTo>
                        <a:pt x="313" y="67"/>
                      </a:lnTo>
                      <a:lnTo>
                        <a:pt x="327" y="66"/>
                      </a:lnTo>
                      <a:lnTo>
                        <a:pt x="340" y="64"/>
                      </a:lnTo>
                      <a:lnTo>
                        <a:pt x="355" y="63"/>
                      </a:lnTo>
                      <a:lnTo>
                        <a:pt x="369" y="62"/>
                      </a:lnTo>
                      <a:lnTo>
                        <a:pt x="382" y="60"/>
                      </a:lnTo>
                      <a:lnTo>
                        <a:pt x="385" y="53"/>
                      </a:lnTo>
                      <a:lnTo>
                        <a:pt x="391" y="46"/>
                      </a:lnTo>
                      <a:lnTo>
                        <a:pt x="398" y="40"/>
                      </a:lnTo>
                      <a:lnTo>
                        <a:pt x="405" y="35"/>
                      </a:lnTo>
                      <a:lnTo>
                        <a:pt x="413" y="29"/>
                      </a:lnTo>
                      <a:lnTo>
                        <a:pt x="420" y="24"/>
                      </a:lnTo>
                      <a:lnTo>
                        <a:pt x="427" y="18"/>
                      </a:lnTo>
                      <a:lnTo>
                        <a:pt x="432" y="13"/>
                      </a:lnTo>
                      <a:lnTo>
                        <a:pt x="440" y="11"/>
                      </a:lnTo>
                      <a:lnTo>
                        <a:pt x="446" y="6"/>
                      </a:lnTo>
                      <a:lnTo>
                        <a:pt x="452" y="1"/>
                      </a:lnTo>
                      <a:lnTo>
                        <a:pt x="460" y="0"/>
                      </a:lnTo>
                      <a:lnTo>
                        <a:pt x="467" y="9"/>
                      </a:lnTo>
                      <a:lnTo>
                        <a:pt x="474" y="20"/>
                      </a:lnTo>
                      <a:lnTo>
                        <a:pt x="476" y="29"/>
                      </a:lnTo>
                      <a:lnTo>
                        <a:pt x="466" y="3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839400">
                  <a:off x="3372120" y="3867840"/>
                  <a:ext cx="110160" cy="83880"/>
                </a:xfrm>
                <a:custGeom>
                  <a:avLst/>
                  <a:gdLst/>
                  <a:ahLst/>
                  <a:rect l="l" t="t" r="r" b="b"/>
                  <a:pathLst>
                    <a:path w="188" h="150">
                      <a:moveTo>
                        <a:pt x="122" y="8"/>
                      </a:moveTo>
                      <a:lnTo>
                        <a:pt x="126" y="15"/>
                      </a:lnTo>
                      <a:lnTo>
                        <a:pt x="124" y="20"/>
                      </a:lnTo>
                      <a:lnTo>
                        <a:pt x="119" y="25"/>
                      </a:lnTo>
                      <a:lnTo>
                        <a:pt x="112" y="25"/>
                      </a:lnTo>
                      <a:lnTo>
                        <a:pt x="100" y="27"/>
                      </a:lnTo>
                      <a:lnTo>
                        <a:pt x="90" y="31"/>
                      </a:lnTo>
                      <a:lnTo>
                        <a:pt x="81" y="36"/>
                      </a:lnTo>
                      <a:lnTo>
                        <a:pt x="73" y="44"/>
                      </a:lnTo>
                      <a:lnTo>
                        <a:pt x="65" y="53"/>
                      </a:lnTo>
                      <a:lnTo>
                        <a:pt x="57" y="61"/>
                      </a:lnTo>
                      <a:lnTo>
                        <a:pt x="50" y="70"/>
                      </a:lnTo>
                      <a:lnTo>
                        <a:pt x="43" y="79"/>
                      </a:lnTo>
                      <a:lnTo>
                        <a:pt x="39" y="89"/>
                      </a:lnTo>
                      <a:lnTo>
                        <a:pt x="36" y="101"/>
                      </a:lnTo>
                      <a:lnTo>
                        <a:pt x="35" y="111"/>
                      </a:lnTo>
                      <a:lnTo>
                        <a:pt x="37" y="123"/>
                      </a:lnTo>
                      <a:lnTo>
                        <a:pt x="49" y="123"/>
                      </a:lnTo>
                      <a:lnTo>
                        <a:pt x="60" y="124"/>
                      </a:lnTo>
                      <a:lnTo>
                        <a:pt x="70" y="123"/>
                      </a:lnTo>
                      <a:lnTo>
                        <a:pt x="82" y="123"/>
                      </a:lnTo>
                      <a:lnTo>
                        <a:pt x="93" y="122"/>
                      </a:lnTo>
                      <a:lnTo>
                        <a:pt x="105" y="119"/>
                      </a:lnTo>
                      <a:lnTo>
                        <a:pt x="118" y="117"/>
                      </a:lnTo>
                      <a:lnTo>
                        <a:pt x="129" y="112"/>
                      </a:lnTo>
                      <a:lnTo>
                        <a:pt x="139" y="106"/>
                      </a:lnTo>
                      <a:lnTo>
                        <a:pt x="149" y="97"/>
                      </a:lnTo>
                      <a:lnTo>
                        <a:pt x="157" y="88"/>
                      </a:lnTo>
                      <a:lnTo>
                        <a:pt x="162" y="76"/>
                      </a:lnTo>
                      <a:lnTo>
                        <a:pt x="157" y="73"/>
                      </a:lnTo>
                      <a:lnTo>
                        <a:pt x="150" y="72"/>
                      </a:lnTo>
                      <a:lnTo>
                        <a:pt x="144" y="72"/>
                      </a:lnTo>
                      <a:lnTo>
                        <a:pt x="137" y="73"/>
                      </a:lnTo>
                      <a:lnTo>
                        <a:pt x="130" y="76"/>
                      </a:lnTo>
                      <a:lnTo>
                        <a:pt x="124" y="78"/>
                      </a:lnTo>
                      <a:lnTo>
                        <a:pt x="118" y="81"/>
                      </a:lnTo>
                      <a:lnTo>
                        <a:pt x="112" y="85"/>
                      </a:lnTo>
                      <a:lnTo>
                        <a:pt x="105" y="89"/>
                      </a:lnTo>
                      <a:lnTo>
                        <a:pt x="99" y="95"/>
                      </a:lnTo>
                      <a:lnTo>
                        <a:pt x="93" y="102"/>
                      </a:lnTo>
                      <a:lnTo>
                        <a:pt x="87" y="108"/>
                      </a:lnTo>
                      <a:lnTo>
                        <a:pt x="84" y="103"/>
                      </a:lnTo>
                      <a:lnTo>
                        <a:pt x="81" y="97"/>
                      </a:lnTo>
                      <a:lnTo>
                        <a:pt x="75" y="93"/>
                      </a:lnTo>
                      <a:lnTo>
                        <a:pt x="70" y="88"/>
                      </a:lnTo>
                      <a:lnTo>
                        <a:pt x="67" y="84"/>
                      </a:lnTo>
                      <a:lnTo>
                        <a:pt x="66" y="80"/>
                      </a:lnTo>
                      <a:lnTo>
                        <a:pt x="68" y="77"/>
                      </a:lnTo>
                      <a:lnTo>
                        <a:pt x="75" y="74"/>
                      </a:lnTo>
                      <a:lnTo>
                        <a:pt x="81" y="65"/>
                      </a:lnTo>
                      <a:lnTo>
                        <a:pt x="89" y="58"/>
                      </a:lnTo>
                      <a:lnTo>
                        <a:pt x="99" y="54"/>
                      </a:lnTo>
                      <a:lnTo>
                        <a:pt x="110" y="50"/>
                      </a:lnTo>
                      <a:lnTo>
                        <a:pt x="121" y="48"/>
                      </a:lnTo>
                      <a:lnTo>
                        <a:pt x="131" y="47"/>
                      </a:lnTo>
                      <a:lnTo>
                        <a:pt x="143" y="47"/>
                      </a:lnTo>
                      <a:lnTo>
                        <a:pt x="153" y="47"/>
                      </a:lnTo>
                      <a:lnTo>
                        <a:pt x="159" y="48"/>
                      </a:lnTo>
                      <a:lnTo>
                        <a:pt x="164" y="50"/>
                      </a:lnTo>
                      <a:lnTo>
                        <a:pt x="168" y="51"/>
                      </a:lnTo>
                      <a:lnTo>
                        <a:pt x="173" y="54"/>
                      </a:lnTo>
                      <a:lnTo>
                        <a:pt x="176" y="56"/>
                      </a:lnTo>
                      <a:lnTo>
                        <a:pt x="180" y="59"/>
                      </a:lnTo>
                      <a:lnTo>
                        <a:pt x="184" y="63"/>
                      </a:lnTo>
                      <a:lnTo>
                        <a:pt x="188" y="66"/>
                      </a:lnTo>
                      <a:lnTo>
                        <a:pt x="187" y="84"/>
                      </a:lnTo>
                      <a:lnTo>
                        <a:pt x="182" y="100"/>
                      </a:lnTo>
                      <a:lnTo>
                        <a:pt x="174" y="114"/>
                      </a:lnTo>
                      <a:lnTo>
                        <a:pt x="164" y="126"/>
                      </a:lnTo>
                      <a:lnTo>
                        <a:pt x="147" y="135"/>
                      </a:lnTo>
                      <a:lnTo>
                        <a:pt x="133" y="140"/>
                      </a:lnTo>
                      <a:lnTo>
                        <a:pt x="116" y="144"/>
                      </a:lnTo>
                      <a:lnTo>
                        <a:pt x="100" y="146"/>
                      </a:lnTo>
                      <a:lnTo>
                        <a:pt x="84" y="147"/>
                      </a:lnTo>
                      <a:lnTo>
                        <a:pt x="67" y="147"/>
                      </a:lnTo>
                      <a:lnTo>
                        <a:pt x="51" y="148"/>
                      </a:lnTo>
                      <a:lnTo>
                        <a:pt x="35" y="150"/>
                      </a:lnTo>
                      <a:lnTo>
                        <a:pt x="28" y="148"/>
                      </a:lnTo>
                      <a:lnTo>
                        <a:pt x="21" y="145"/>
                      </a:lnTo>
                      <a:lnTo>
                        <a:pt x="15" y="140"/>
                      </a:lnTo>
                      <a:lnTo>
                        <a:pt x="9" y="135"/>
                      </a:lnTo>
                      <a:lnTo>
                        <a:pt x="5" y="130"/>
                      </a:lnTo>
                      <a:lnTo>
                        <a:pt x="3" y="123"/>
                      </a:lnTo>
                      <a:lnTo>
                        <a:pt x="0" y="116"/>
                      </a:lnTo>
                      <a:lnTo>
                        <a:pt x="1" y="108"/>
                      </a:lnTo>
                      <a:lnTo>
                        <a:pt x="3" y="92"/>
                      </a:lnTo>
                      <a:lnTo>
                        <a:pt x="7" y="77"/>
                      </a:lnTo>
                      <a:lnTo>
                        <a:pt x="13" y="62"/>
                      </a:lnTo>
                      <a:lnTo>
                        <a:pt x="22" y="49"/>
                      </a:lnTo>
                      <a:lnTo>
                        <a:pt x="32" y="36"/>
                      </a:lnTo>
                      <a:lnTo>
                        <a:pt x="44" y="25"/>
                      </a:lnTo>
                      <a:lnTo>
                        <a:pt x="57" y="16"/>
                      </a:lnTo>
                      <a:lnTo>
                        <a:pt x="70" y="8"/>
                      </a:lnTo>
                      <a:lnTo>
                        <a:pt x="77" y="4"/>
                      </a:lnTo>
                      <a:lnTo>
                        <a:pt x="84" y="2"/>
                      </a:lnTo>
                      <a:lnTo>
                        <a:pt x="91" y="0"/>
                      </a:lnTo>
                      <a:lnTo>
                        <a:pt x="98" y="0"/>
                      </a:lnTo>
                      <a:lnTo>
                        <a:pt x="105" y="1"/>
                      </a:lnTo>
                      <a:lnTo>
                        <a:pt x="111" y="2"/>
                      </a:lnTo>
                      <a:lnTo>
                        <a:pt x="116" y="4"/>
                      </a:lnTo>
                      <a:lnTo>
                        <a:pt x="122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839400">
                  <a:off x="3239280" y="3671280"/>
                  <a:ext cx="126720" cy="97920"/>
                </a:xfrm>
                <a:custGeom>
                  <a:avLst/>
                  <a:gdLst/>
                  <a:ahLst/>
                  <a:rect l="l" t="t" r="r" b="b"/>
                  <a:pathLst>
                    <a:path w="217" h="177">
                      <a:moveTo>
                        <a:pt x="182" y="22"/>
                      </a:moveTo>
                      <a:lnTo>
                        <a:pt x="192" y="31"/>
                      </a:lnTo>
                      <a:lnTo>
                        <a:pt x="201" y="43"/>
                      </a:lnTo>
                      <a:lnTo>
                        <a:pt x="206" y="54"/>
                      </a:lnTo>
                      <a:lnTo>
                        <a:pt x="210" y="67"/>
                      </a:lnTo>
                      <a:lnTo>
                        <a:pt x="213" y="81"/>
                      </a:lnTo>
                      <a:lnTo>
                        <a:pt x="215" y="93"/>
                      </a:lnTo>
                      <a:lnTo>
                        <a:pt x="215" y="107"/>
                      </a:lnTo>
                      <a:lnTo>
                        <a:pt x="217" y="121"/>
                      </a:lnTo>
                      <a:lnTo>
                        <a:pt x="214" y="130"/>
                      </a:lnTo>
                      <a:lnTo>
                        <a:pt x="210" y="138"/>
                      </a:lnTo>
                      <a:lnTo>
                        <a:pt x="205" y="146"/>
                      </a:lnTo>
                      <a:lnTo>
                        <a:pt x="201" y="153"/>
                      </a:lnTo>
                      <a:lnTo>
                        <a:pt x="194" y="160"/>
                      </a:lnTo>
                      <a:lnTo>
                        <a:pt x="187" y="166"/>
                      </a:lnTo>
                      <a:lnTo>
                        <a:pt x="179" y="170"/>
                      </a:lnTo>
                      <a:lnTo>
                        <a:pt x="169" y="175"/>
                      </a:lnTo>
                      <a:lnTo>
                        <a:pt x="159" y="176"/>
                      </a:lnTo>
                      <a:lnTo>
                        <a:pt x="148" y="177"/>
                      </a:lnTo>
                      <a:lnTo>
                        <a:pt x="136" y="177"/>
                      </a:lnTo>
                      <a:lnTo>
                        <a:pt x="126" y="177"/>
                      </a:lnTo>
                      <a:lnTo>
                        <a:pt x="114" y="175"/>
                      </a:lnTo>
                      <a:lnTo>
                        <a:pt x="104" y="172"/>
                      </a:lnTo>
                      <a:lnTo>
                        <a:pt x="94" y="167"/>
                      </a:lnTo>
                      <a:lnTo>
                        <a:pt x="84" y="160"/>
                      </a:lnTo>
                      <a:lnTo>
                        <a:pt x="76" y="149"/>
                      </a:lnTo>
                      <a:lnTo>
                        <a:pt x="72" y="136"/>
                      </a:lnTo>
                      <a:lnTo>
                        <a:pt x="69" y="122"/>
                      </a:lnTo>
                      <a:lnTo>
                        <a:pt x="68" y="109"/>
                      </a:lnTo>
                      <a:lnTo>
                        <a:pt x="72" y="100"/>
                      </a:lnTo>
                      <a:lnTo>
                        <a:pt x="76" y="93"/>
                      </a:lnTo>
                      <a:lnTo>
                        <a:pt x="82" y="88"/>
                      </a:lnTo>
                      <a:lnTo>
                        <a:pt x="90" y="82"/>
                      </a:lnTo>
                      <a:lnTo>
                        <a:pt x="98" y="78"/>
                      </a:lnTo>
                      <a:lnTo>
                        <a:pt x="106" y="76"/>
                      </a:lnTo>
                      <a:lnTo>
                        <a:pt x="115" y="74"/>
                      </a:lnTo>
                      <a:lnTo>
                        <a:pt x="123" y="71"/>
                      </a:lnTo>
                      <a:lnTo>
                        <a:pt x="129" y="74"/>
                      </a:lnTo>
                      <a:lnTo>
                        <a:pt x="135" y="76"/>
                      </a:lnTo>
                      <a:lnTo>
                        <a:pt x="141" y="77"/>
                      </a:lnTo>
                      <a:lnTo>
                        <a:pt x="146" y="79"/>
                      </a:lnTo>
                      <a:lnTo>
                        <a:pt x="152" y="82"/>
                      </a:lnTo>
                      <a:lnTo>
                        <a:pt x="157" y="85"/>
                      </a:lnTo>
                      <a:lnTo>
                        <a:pt x="163" y="89"/>
                      </a:lnTo>
                      <a:lnTo>
                        <a:pt x="167" y="92"/>
                      </a:lnTo>
                      <a:lnTo>
                        <a:pt x="167" y="101"/>
                      </a:lnTo>
                      <a:lnTo>
                        <a:pt x="163" y="107"/>
                      </a:lnTo>
                      <a:lnTo>
                        <a:pt x="157" y="114"/>
                      </a:lnTo>
                      <a:lnTo>
                        <a:pt x="150" y="120"/>
                      </a:lnTo>
                      <a:lnTo>
                        <a:pt x="144" y="119"/>
                      </a:lnTo>
                      <a:lnTo>
                        <a:pt x="141" y="113"/>
                      </a:lnTo>
                      <a:lnTo>
                        <a:pt x="137" y="107"/>
                      </a:lnTo>
                      <a:lnTo>
                        <a:pt x="130" y="104"/>
                      </a:lnTo>
                      <a:lnTo>
                        <a:pt x="122" y="100"/>
                      </a:lnTo>
                      <a:lnTo>
                        <a:pt x="115" y="101"/>
                      </a:lnTo>
                      <a:lnTo>
                        <a:pt x="109" y="106"/>
                      </a:lnTo>
                      <a:lnTo>
                        <a:pt x="103" y="111"/>
                      </a:lnTo>
                      <a:lnTo>
                        <a:pt x="97" y="119"/>
                      </a:lnTo>
                      <a:lnTo>
                        <a:pt x="97" y="127"/>
                      </a:lnTo>
                      <a:lnTo>
                        <a:pt x="98" y="136"/>
                      </a:lnTo>
                      <a:lnTo>
                        <a:pt x="99" y="144"/>
                      </a:lnTo>
                      <a:lnTo>
                        <a:pt x="105" y="147"/>
                      </a:lnTo>
                      <a:lnTo>
                        <a:pt x="111" y="150"/>
                      </a:lnTo>
                      <a:lnTo>
                        <a:pt x="117" y="151"/>
                      </a:lnTo>
                      <a:lnTo>
                        <a:pt x="122" y="152"/>
                      </a:lnTo>
                      <a:lnTo>
                        <a:pt x="129" y="153"/>
                      </a:lnTo>
                      <a:lnTo>
                        <a:pt x="135" y="152"/>
                      </a:lnTo>
                      <a:lnTo>
                        <a:pt x="141" y="152"/>
                      </a:lnTo>
                      <a:lnTo>
                        <a:pt x="148" y="150"/>
                      </a:lnTo>
                      <a:lnTo>
                        <a:pt x="153" y="147"/>
                      </a:lnTo>
                      <a:lnTo>
                        <a:pt x="159" y="145"/>
                      </a:lnTo>
                      <a:lnTo>
                        <a:pt x="165" y="142"/>
                      </a:lnTo>
                      <a:lnTo>
                        <a:pt x="169" y="137"/>
                      </a:lnTo>
                      <a:lnTo>
                        <a:pt x="174" y="132"/>
                      </a:lnTo>
                      <a:lnTo>
                        <a:pt x="178" y="128"/>
                      </a:lnTo>
                      <a:lnTo>
                        <a:pt x="182" y="123"/>
                      </a:lnTo>
                      <a:lnTo>
                        <a:pt x="186" y="119"/>
                      </a:lnTo>
                      <a:lnTo>
                        <a:pt x="187" y="97"/>
                      </a:lnTo>
                      <a:lnTo>
                        <a:pt x="186" y="75"/>
                      </a:lnTo>
                      <a:lnTo>
                        <a:pt x="179" y="53"/>
                      </a:lnTo>
                      <a:lnTo>
                        <a:pt x="166" y="36"/>
                      </a:lnTo>
                      <a:lnTo>
                        <a:pt x="152" y="29"/>
                      </a:lnTo>
                      <a:lnTo>
                        <a:pt x="137" y="26"/>
                      </a:lnTo>
                      <a:lnTo>
                        <a:pt x="122" y="26"/>
                      </a:lnTo>
                      <a:lnTo>
                        <a:pt x="107" y="29"/>
                      </a:lnTo>
                      <a:lnTo>
                        <a:pt x="92" y="33"/>
                      </a:lnTo>
                      <a:lnTo>
                        <a:pt x="79" y="40"/>
                      </a:lnTo>
                      <a:lnTo>
                        <a:pt x="65" y="47"/>
                      </a:lnTo>
                      <a:lnTo>
                        <a:pt x="52" y="55"/>
                      </a:lnTo>
                      <a:lnTo>
                        <a:pt x="45" y="59"/>
                      </a:lnTo>
                      <a:lnTo>
                        <a:pt x="38" y="64"/>
                      </a:lnTo>
                      <a:lnTo>
                        <a:pt x="33" y="73"/>
                      </a:lnTo>
                      <a:lnTo>
                        <a:pt x="27" y="79"/>
                      </a:lnTo>
                      <a:lnTo>
                        <a:pt x="21" y="85"/>
                      </a:lnTo>
                      <a:lnTo>
                        <a:pt x="15" y="88"/>
                      </a:lnTo>
                      <a:lnTo>
                        <a:pt x="9" y="85"/>
                      </a:lnTo>
                      <a:lnTo>
                        <a:pt x="0" y="76"/>
                      </a:lnTo>
                      <a:lnTo>
                        <a:pt x="2" y="66"/>
                      </a:lnTo>
                      <a:lnTo>
                        <a:pt x="5" y="56"/>
                      </a:lnTo>
                      <a:lnTo>
                        <a:pt x="11" y="47"/>
                      </a:lnTo>
                      <a:lnTo>
                        <a:pt x="18" y="38"/>
                      </a:lnTo>
                      <a:lnTo>
                        <a:pt x="27" y="30"/>
                      </a:lnTo>
                      <a:lnTo>
                        <a:pt x="36" y="23"/>
                      </a:lnTo>
                      <a:lnTo>
                        <a:pt x="46" y="16"/>
                      </a:lnTo>
                      <a:lnTo>
                        <a:pt x="56" y="10"/>
                      </a:lnTo>
                      <a:lnTo>
                        <a:pt x="72" y="7"/>
                      </a:lnTo>
                      <a:lnTo>
                        <a:pt x="89" y="3"/>
                      </a:lnTo>
                      <a:lnTo>
                        <a:pt x="105" y="1"/>
                      </a:lnTo>
                      <a:lnTo>
                        <a:pt x="121" y="0"/>
                      </a:lnTo>
                      <a:lnTo>
                        <a:pt x="137" y="2"/>
                      </a:lnTo>
                      <a:lnTo>
                        <a:pt x="153" y="6"/>
                      </a:lnTo>
                      <a:lnTo>
                        <a:pt x="168" y="11"/>
                      </a:lnTo>
                      <a:lnTo>
                        <a:pt x="182" y="2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839400">
                  <a:off x="3052800" y="3686760"/>
                  <a:ext cx="110160" cy="110160"/>
                </a:xfrm>
                <a:custGeom>
                  <a:avLst/>
                  <a:gdLst/>
                  <a:ahLst/>
                  <a:rect l="l" t="t" r="r" b="b"/>
                  <a:pathLst>
                    <a:path w="190" h="199">
                      <a:moveTo>
                        <a:pt x="190" y="18"/>
                      </a:moveTo>
                      <a:lnTo>
                        <a:pt x="169" y="40"/>
                      </a:lnTo>
                      <a:lnTo>
                        <a:pt x="149" y="62"/>
                      </a:lnTo>
                      <a:lnTo>
                        <a:pt x="127" y="84"/>
                      </a:lnTo>
                      <a:lnTo>
                        <a:pt x="104" y="106"/>
                      </a:lnTo>
                      <a:lnTo>
                        <a:pt x="83" y="127"/>
                      </a:lnTo>
                      <a:lnTo>
                        <a:pt x="61" y="150"/>
                      </a:lnTo>
                      <a:lnTo>
                        <a:pt x="42" y="173"/>
                      </a:lnTo>
                      <a:lnTo>
                        <a:pt x="24" y="197"/>
                      </a:lnTo>
                      <a:lnTo>
                        <a:pt x="17" y="199"/>
                      </a:lnTo>
                      <a:lnTo>
                        <a:pt x="11" y="197"/>
                      </a:lnTo>
                      <a:lnTo>
                        <a:pt x="5" y="193"/>
                      </a:lnTo>
                      <a:lnTo>
                        <a:pt x="0" y="189"/>
                      </a:lnTo>
                      <a:lnTo>
                        <a:pt x="3" y="175"/>
                      </a:lnTo>
                      <a:lnTo>
                        <a:pt x="9" y="163"/>
                      </a:lnTo>
                      <a:lnTo>
                        <a:pt x="17" y="153"/>
                      </a:lnTo>
                      <a:lnTo>
                        <a:pt x="27" y="143"/>
                      </a:lnTo>
                      <a:lnTo>
                        <a:pt x="43" y="125"/>
                      </a:lnTo>
                      <a:lnTo>
                        <a:pt x="60" y="109"/>
                      </a:lnTo>
                      <a:lnTo>
                        <a:pt x="77" y="92"/>
                      </a:lnTo>
                      <a:lnTo>
                        <a:pt x="93" y="75"/>
                      </a:lnTo>
                      <a:lnTo>
                        <a:pt x="109" y="57"/>
                      </a:lnTo>
                      <a:lnTo>
                        <a:pt x="126" y="40"/>
                      </a:lnTo>
                      <a:lnTo>
                        <a:pt x="139" y="21"/>
                      </a:lnTo>
                      <a:lnTo>
                        <a:pt x="153" y="1"/>
                      </a:lnTo>
                      <a:lnTo>
                        <a:pt x="159" y="0"/>
                      </a:lnTo>
                      <a:lnTo>
                        <a:pt x="165" y="0"/>
                      </a:lnTo>
                      <a:lnTo>
                        <a:pt x="169" y="1"/>
                      </a:lnTo>
                      <a:lnTo>
                        <a:pt x="174" y="4"/>
                      </a:lnTo>
                      <a:lnTo>
                        <a:pt x="178" y="7"/>
                      </a:lnTo>
                      <a:lnTo>
                        <a:pt x="183" y="11"/>
                      </a:lnTo>
                      <a:lnTo>
                        <a:pt x="186" y="15"/>
                      </a:lnTo>
                      <a:lnTo>
                        <a:pt x="190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839400">
                  <a:off x="3115080" y="3758400"/>
                  <a:ext cx="126720" cy="70560"/>
                </a:xfrm>
                <a:custGeom>
                  <a:avLst/>
                  <a:gdLst/>
                  <a:ahLst/>
                  <a:rect l="l" t="t" r="r" b="b"/>
                  <a:pathLst>
                    <a:path w="217" h="127">
                      <a:moveTo>
                        <a:pt x="217" y="26"/>
                      </a:moveTo>
                      <a:lnTo>
                        <a:pt x="203" y="30"/>
                      </a:lnTo>
                      <a:lnTo>
                        <a:pt x="190" y="36"/>
                      </a:lnTo>
                      <a:lnTo>
                        <a:pt x="177" y="42"/>
                      </a:lnTo>
                      <a:lnTo>
                        <a:pt x="165" y="48"/>
                      </a:lnTo>
                      <a:lnTo>
                        <a:pt x="152" y="55"/>
                      </a:lnTo>
                      <a:lnTo>
                        <a:pt x="140" y="60"/>
                      </a:lnTo>
                      <a:lnTo>
                        <a:pt x="127" y="67"/>
                      </a:lnTo>
                      <a:lnTo>
                        <a:pt x="115" y="74"/>
                      </a:lnTo>
                      <a:lnTo>
                        <a:pt x="103" y="81"/>
                      </a:lnTo>
                      <a:lnTo>
                        <a:pt x="90" y="88"/>
                      </a:lnTo>
                      <a:lnTo>
                        <a:pt x="79" y="95"/>
                      </a:lnTo>
                      <a:lnTo>
                        <a:pt x="66" y="102"/>
                      </a:lnTo>
                      <a:lnTo>
                        <a:pt x="53" y="108"/>
                      </a:lnTo>
                      <a:lnTo>
                        <a:pt x="41" y="115"/>
                      </a:lnTo>
                      <a:lnTo>
                        <a:pt x="28" y="121"/>
                      </a:lnTo>
                      <a:lnTo>
                        <a:pt x="15" y="127"/>
                      </a:lnTo>
                      <a:lnTo>
                        <a:pt x="12" y="118"/>
                      </a:lnTo>
                      <a:lnTo>
                        <a:pt x="4" y="109"/>
                      </a:lnTo>
                      <a:lnTo>
                        <a:pt x="0" y="101"/>
                      </a:lnTo>
                      <a:lnTo>
                        <a:pt x="6" y="91"/>
                      </a:lnTo>
                      <a:lnTo>
                        <a:pt x="18" y="85"/>
                      </a:lnTo>
                      <a:lnTo>
                        <a:pt x="29" y="79"/>
                      </a:lnTo>
                      <a:lnTo>
                        <a:pt x="41" y="72"/>
                      </a:lnTo>
                      <a:lnTo>
                        <a:pt x="53" y="66"/>
                      </a:lnTo>
                      <a:lnTo>
                        <a:pt x="65" y="59"/>
                      </a:lnTo>
                      <a:lnTo>
                        <a:pt x="77" y="53"/>
                      </a:lnTo>
                      <a:lnTo>
                        <a:pt x="90" y="48"/>
                      </a:lnTo>
                      <a:lnTo>
                        <a:pt x="103" y="42"/>
                      </a:lnTo>
                      <a:lnTo>
                        <a:pt x="115" y="36"/>
                      </a:lnTo>
                      <a:lnTo>
                        <a:pt x="128" y="30"/>
                      </a:lnTo>
                      <a:lnTo>
                        <a:pt x="141" y="25"/>
                      </a:lnTo>
                      <a:lnTo>
                        <a:pt x="153" y="20"/>
                      </a:lnTo>
                      <a:lnTo>
                        <a:pt x="166" y="14"/>
                      </a:lnTo>
                      <a:lnTo>
                        <a:pt x="179" y="10"/>
                      </a:lnTo>
                      <a:lnTo>
                        <a:pt x="190" y="5"/>
                      </a:lnTo>
                      <a:lnTo>
                        <a:pt x="203" y="0"/>
                      </a:lnTo>
                      <a:lnTo>
                        <a:pt x="205" y="9"/>
                      </a:lnTo>
                      <a:lnTo>
                        <a:pt x="209" y="14"/>
                      </a:lnTo>
                      <a:lnTo>
                        <a:pt x="213" y="20"/>
                      </a:lnTo>
                      <a:lnTo>
                        <a:pt x="217" y="2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839400">
                  <a:off x="3182040" y="3855960"/>
                  <a:ext cx="119520" cy="60480"/>
                </a:xfrm>
                <a:custGeom>
                  <a:avLst/>
                  <a:gdLst/>
                  <a:ahLst/>
                  <a:rect l="l" t="t" r="r" b="b"/>
                  <a:pathLst>
                    <a:path w="205" h="110">
                      <a:moveTo>
                        <a:pt x="202" y="17"/>
                      </a:moveTo>
                      <a:lnTo>
                        <a:pt x="205" y="22"/>
                      </a:lnTo>
                      <a:lnTo>
                        <a:pt x="204" y="27"/>
                      </a:lnTo>
                      <a:lnTo>
                        <a:pt x="199" y="30"/>
                      </a:lnTo>
                      <a:lnTo>
                        <a:pt x="194" y="32"/>
                      </a:lnTo>
                      <a:lnTo>
                        <a:pt x="172" y="41"/>
                      </a:lnTo>
                      <a:lnTo>
                        <a:pt x="151" y="51"/>
                      </a:lnTo>
                      <a:lnTo>
                        <a:pt x="129" y="60"/>
                      </a:lnTo>
                      <a:lnTo>
                        <a:pt x="107" y="70"/>
                      </a:lnTo>
                      <a:lnTo>
                        <a:pt x="85" y="80"/>
                      </a:lnTo>
                      <a:lnTo>
                        <a:pt x="63" y="89"/>
                      </a:lnTo>
                      <a:lnTo>
                        <a:pt x="41" y="100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2" y="93"/>
                      </a:lnTo>
                      <a:lnTo>
                        <a:pt x="6" y="85"/>
                      </a:lnTo>
                      <a:lnTo>
                        <a:pt x="0" y="78"/>
                      </a:lnTo>
                      <a:lnTo>
                        <a:pt x="12" y="73"/>
                      </a:lnTo>
                      <a:lnTo>
                        <a:pt x="23" y="67"/>
                      </a:lnTo>
                      <a:lnTo>
                        <a:pt x="35" y="63"/>
                      </a:lnTo>
                      <a:lnTo>
                        <a:pt x="46" y="57"/>
                      </a:lnTo>
                      <a:lnTo>
                        <a:pt x="58" y="52"/>
                      </a:lnTo>
                      <a:lnTo>
                        <a:pt x="69" y="48"/>
                      </a:lnTo>
                      <a:lnTo>
                        <a:pt x="82" y="43"/>
                      </a:lnTo>
                      <a:lnTo>
                        <a:pt x="94" y="38"/>
                      </a:lnTo>
                      <a:lnTo>
                        <a:pt x="106" y="34"/>
                      </a:lnTo>
                      <a:lnTo>
                        <a:pt x="118" y="29"/>
                      </a:lnTo>
                      <a:lnTo>
                        <a:pt x="131" y="24"/>
                      </a:lnTo>
                      <a:lnTo>
                        <a:pt x="143" y="19"/>
                      </a:lnTo>
                      <a:lnTo>
                        <a:pt x="155" y="14"/>
                      </a:lnTo>
                      <a:lnTo>
                        <a:pt x="168" y="10"/>
                      </a:lnTo>
                      <a:lnTo>
                        <a:pt x="179" y="5"/>
                      </a:lnTo>
                      <a:lnTo>
                        <a:pt x="192" y="0"/>
                      </a:lnTo>
                      <a:lnTo>
                        <a:pt x="195" y="5"/>
                      </a:lnTo>
                      <a:lnTo>
                        <a:pt x="199" y="9"/>
                      </a:lnTo>
                      <a:lnTo>
                        <a:pt x="201" y="13"/>
                      </a:lnTo>
                      <a:lnTo>
                        <a:pt x="202" y="1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839400">
                  <a:off x="2574720" y="3440880"/>
                  <a:ext cx="382320" cy="258480"/>
                </a:xfrm>
                <a:custGeom>
                  <a:avLst/>
                  <a:gdLst/>
                  <a:ahLst/>
                  <a:rect l="l" t="t" r="r" b="b"/>
                  <a:pathLst>
                    <a:path w="651" h="468">
                      <a:moveTo>
                        <a:pt x="651" y="0"/>
                      </a:moveTo>
                      <a:lnTo>
                        <a:pt x="628" y="8"/>
                      </a:lnTo>
                      <a:lnTo>
                        <a:pt x="605" y="16"/>
                      </a:lnTo>
                      <a:lnTo>
                        <a:pt x="582" y="24"/>
                      </a:lnTo>
                      <a:lnTo>
                        <a:pt x="560" y="33"/>
                      </a:lnTo>
                      <a:lnTo>
                        <a:pt x="537" y="44"/>
                      </a:lnTo>
                      <a:lnTo>
                        <a:pt x="515" y="54"/>
                      </a:lnTo>
                      <a:lnTo>
                        <a:pt x="494" y="65"/>
                      </a:lnTo>
                      <a:lnTo>
                        <a:pt x="472" y="75"/>
                      </a:lnTo>
                      <a:lnTo>
                        <a:pt x="450" y="88"/>
                      </a:lnTo>
                      <a:lnTo>
                        <a:pt x="429" y="99"/>
                      </a:lnTo>
                      <a:lnTo>
                        <a:pt x="407" y="112"/>
                      </a:lnTo>
                      <a:lnTo>
                        <a:pt x="387" y="124"/>
                      </a:lnTo>
                      <a:lnTo>
                        <a:pt x="366" y="137"/>
                      </a:lnTo>
                      <a:lnTo>
                        <a:pt x="345" y="151"/>
                      </a:lnTo>
                      <a:lnTo>
                        <a:pt x="324" y="165"/>
                      </a:lnTo>
                      <a:lnTo>
                        <a:pt x="304" y="179"/>
                      </a:lnTo>
                      <a:lnTo>
                        <a:pt x="284" y="195"/>
                      </a:lnTo>
                      <a:lnTo>
                        <a:pt x="264" y="211"/>
                      </a:lnTo>
                      <a:lnTo>
                        <a:pt x="243" y="227"/>
                      </a:lnTo>
                      <a:lnTo>
                        <a:pt x="222" y="243"/>
                      </a:lnTo>
                      <a:lnTo>
                        <a:pt x="201" y="259"/>
                      </a:lnTo>
                      <a:lnTo>
                        <a:pt x="180" y="275"/>
                      </a:lnTo>
                      <a:lnTo>
                        <a:pt x="159" y="293"/>
                      </a:lnTo>
                      <a:lnTo>
                        <a:pt x="138" y="309"/>
                      </a:lnTo>
                      <a:lnTo>
                        <a:pt x="119" y="327"/>
                      </a:lnTo>
                      <a:lnTo>
                        <a:pt x="99" y="344"/>
                      </a:lnTo>
                      <a:lnTo>
                        <a:pt x="80" y="363"/>
                      </a:lnTo>
                      <a:lnTo>
                        <a:pt x="62" y="382"/>
                      </a:lnTo>
                      <a:lnTo>
                        <a:pt x="45" y="402"/>
                      </a:lnTo>
                      <a:lnTo>
                        <a:pt x="29" y="423"/>
                      </a:lnTo>
                      <a:lnTo>
                        <a:pt x="14" y="445"/>
                      </a:lnTo>
                      <a:lnTo>
                        <a:pt x="0" y="468"/>
                      </a:lnTo>
                      <a:lnTo>
                        <a:pt x="14" y="454"/>
                      </a:lnTo>
                      <a:lnTo>
                        <a:pt x="28" y="441"/>
                      </a:lnTo>
                      <a:lnTo>
                        <a:pt x="44" y="430"/>
                      </a:lnTo>
                      <a:lnTo>
                        <a:pt x="60" y="419"/>
                      </a:lnTo>
                      <a:lnTo>
                        <a:pt x="76" y="410"/>
                      </a:lnTo>
                      <a:lnTo>
                        <a:pt x="93" y="402"/>
                      </a:lnTo>
                      <a:lnTo>
                        <a:pt x="112" y="395"/>
                      </a:lnTo>
                      <a:lnTo>
                        <a:pt x="130" y="389"/>
                      </a:lnTo>
                      <a:lnTo>
                        <a:pt x="149" y="385"/>
                      </a:lnTo>
                      <a:lnTo>
                        <a:pt x="168" y="381"/>
                      </a:lnTo>
                      <a:lnTo>
                        <a:pt x="188" y="380"/>
                      </a:lnTo>
                      <a:lnTo>
                        <a:pt x="207" y="380"/>
                      </a:lnTo>
                      <a:lnTo>
                        <a:pt x="227" y="381"/>
                      </a:lnTo>
                      <a:lnTo>
                        <a:pt x="246" y="385"/>
                      </a:lnTo>
                      <a:lnTo>
                        <a:pt x="265" y="389"/>
                      </a:lnTo>
                      <a:lnTo>
                        <a:pt x="284" y="395"/>
                      </a:lnTo>
                      <a:lnTo>
                        <a:pt x="292" y="397"/>
                      </a:lnTo>
                      <a:lnTo>
                        <a:pt x="300" y="403"/>
                      </a:lnTo>
                      <a:lnTo>
                        <a:pt x="308" y="412"/>
                      </a:lnTo>
                      <a:lnTo>
                        <a:pt x="316" y="420"/>
                      </a:lnTo>
                      <a:lnTo>
                        <a:pt x="324" y="426"/>
                      </a:lnTo>
                      <a:lnTo>
                        <a:pt x="331" y="427"/>
                      </a:lnTo>
                      <a:lnTo>
                        <a:pt x="336" y="422"/>
                      </a:lnTo>
                      <a:lnTo>
                        <a:pt x="341" y="407"/>
                      </a:lnTo>
                      <a:lnTo>
                        <a:pt x="350" y="392"/>
                      </a:lnTo>
                      <a:lnTo>
                        <a:pt x="359" y="377"/>
                      </a:lnTo>
                      <a:lnTo>
                        <a:pt x="369" y="363"/>
                      </a:lnTo>
                      <a:lnTo>
                        <a:pt x="381" y="350"/>
                      </a:lnTo>
                      <a:lnTo>
                        <a:pt x="392" y="336"/>
                      </a:lnTo>
                      <a:lnTo>
                        <a:pt x="405" y="325"/>
                      </a:lnTo>
                      <a:lnTo>
                        <a:pt x="418" y="313"/>
                      </a:lnTo>
                      <a:lnTo>
                        <a:pt x="431" y="302"/>
                      </a:lnTo>
                      <a:lnTo>
                        <a:pt x="445" y="291"/>
                      </a:lnTo>
                      <a:lnTo>
                        <a:pt x="459" y="281"/>
                      </a:lnTo>
                      <a:lnTo>
                        <a:pt x="474" y="272"/>
                      </a:lnTo>
                      <a:lnTo>
                        <a:pt x="488" y="264"/>
                      </a:lnTo>
                      <a:lnTo>
                        <a:pt x="503" y="256"/>
                      </a:lnTo>
                      <a:lnTo>
                        <a:pt x="518" y="248"/>
                      </a:lnTo>
                      <a:lnTo>
                        <a:pt x="534" y="241"/>
                      </a:lnTo>
                      <a:lnTo>
                        <a:pt x="549" y="235"/>
                      </a:lnTo>
                      <a:lnTo>
                        <a:pt x="545" y="222"/>
                      </a:lnTo>
                      <a:lnTo>
                        <a:pt x="544" y="209"/>
                      </a:lnTo>
                      <a:lnTo>
                        <a:pt x="544" y="195"/>
                      </a:lnTo>
                      <a:lnTo>
                        <a:pt x="543" y="181"/>
                      </a:lnTo>
                      <a:lnTo>
                        <a:pt x="544" y="153"/>
                      </a:lnTo>
                      <a:lnTo>
                        <a:pt x="550" y="127"/>
                      </a:lnTo>
                      <a:lnTo>
                        <a:pt x="560" y="101"/>
                      </a:lnTo>
                      <a:lnTo>
                        <a:pt x="573" y="76"/>
                      </a:lnTo>
                      <a:lnTo>
                        <a:pt x="588" y="54"/>
                      </a:lnTo>
                      <a:lnTo>
                        <a:pt x="607" y="33"/>
                      </a:lnTo>
                      <a:lnTo>
                        <a:pt x="628" y="15"/>
                      </a:lnTo>
                      <a:lnTo>
                        <a:pt x="65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839400">
                  <a:off x="2950560" y="3527280"/>
                  <a:ext cx="144000" cy="105840"/>
                </a:xfrm>
                <a:custGeom>
                  <a:avLst/>
                  <a:gdLst/>
                  <a:ahLst/>
                  <a:rect l="l" t="t" r="r" b="b"/>
                  <a:pathLst>
                    <a:path w="245" h="191">
                      <a:moveTo>
                        <a:pt x="191" y="40"/>
                      </a:moveTo>
                      <a:lnTo>
                        <a:pt x="185" y="41"/>
                      </a:lnTo>
                      <a:lnTo>
                        <a:pt x="179" y="44"/>
                      </a:lnTo>
                      <a:lnTo>
                        <a:pt x="174" y="46"/>
                      </a:lnTo>
                      <a:lnTo>
                        <a:pt x="169" y="47"/>
                      </a:lnTo>
                      <a:lnTo>
                        <a:pt x="166" y="39"/>
                      </a:lnTo>
                      <a:lnTo>
                        <a:pt x="163" y="31"/>
                      </a:lnTo>
                      <a:lnTo>
                        <a:pt x="159" y="23"/>
                      </a:lnTo>
                      <a:lnTo>
                        <a:pt x="157" y="15"/>
                      </a:lnTo>
                      <a:lnTo>
                        <a:pt x="150" y="16"/>
                      </a:lnTo>
                      <a:lnTo>
                        <a:pt x="142" y="18"/>
                      </a:lnTo>
                      <a:lnTo>
                        <a:pt x="135" y="19"/>
                      </a:lnTo>
                      <a:lnTo>
                        <a:pt x="127" y="21"/>
                      </a:lnTo>
                      <a:lnTo>
                        <a:pt x="120" y="23"/>
                      </a:lnTo>
                      <a:lnTo>
                        <a:pt x="112" y="24"/>
                      </a:lnTo>
                      <a:lnTo>
                        <a:pt x="105" y="25"/>
                      </a:lnTo>
                      <a:lnTo>
                        <a:pt x="99" y="26"/>
                      </a:lnTo>
                      <a:lnTo>
                        <a:pt x="99" y="29"/>
                      </a:lnTo>
                      <a:lnTo>
                        <a:pt x="97" y="30"/>
                      </a:lnTo>
                      <a:lnTo>
                        <a:pt x="96" y="32"/>
                      </a:lnTo>
                      <a:lnTo>
                        <a:pt x="95" y="34"/>
                      </a:lnTo>
                      <a:lnTo>
                        <a:pt x="90" y="48"/>
                      </a:lnTo>
                      <a:lnTo>
                        <a:pt x="86" y="64"/>
                      </a:lnTo>
                      <a:lnTo>
                        <a:pt x="79" y="76"/>
                      </a:lnTo>
                      <a:lnTo>
                        <a:pt x="63" y="75"/>
                      </a:lnTo>
                      <a:lnTo>
                        <a:pt x="62" y="75"/>
                      </a:lnTo>
                      <a:lnTo>
                        <a:pt x="59" y="75"/>
                      </a:lnTo>
                      <a:lnTo>
                        <a:pt x="58" y="75"/>
                      </a:lnTo>
                      <a:lnTo>
                        <a:pt x="56" y="75"/>
                      </a:lnTo>
                      <a:lnTo>
                        <a:pt x="57" y="65"/>
                      </a:lnTo>
                      <a:lnTo>
                        <a:pt x="59" y="56"/>
                      </a:lnTo>
                      <a:lnTo>
                        <a:pt x="61" y="47"/>
                      </a:lnTo>
                      <a:lnTo>
                        <a:pt x="63" y="38"/>
                      </a:lnTo>
                      <a:lnTo>
                        <a:pt x="55" y="41"/>
                      </a:lnTo>
                      <a:lnTo>
                        <a:pt x="47" y="45"/>
                      </a:lnTo>
                      <a:lnTo>
                        <a:pt x="40" y="49"/>
                      </a:lnTo>
                      <a:lnTo>
                        <a:pt x="32" y="54"/>
                      </a:lnTo>
                      <a:lnTo>
                        <a:pt x="25" y="59"/>
                      </a:lnTo>
                      <a:lnTo>
                        <a:pt x="19" y="64"/>
                      </a:lnTo>
                      <a:lnTo>
                        <a:pt x="13" y="70"/>
                      </a:lnTo>
                      <a:lnTo>
                        <a:pt x="8" y="77"/>
                      </a:lnTo>
                      <a:lnTo>
                        <a:pt x="1" y="92"/>
                      </a:lnTo>
                      <a:lnTo>
                        <a:pt x="0" y="109"/>
                      </a:lnTo>
                      <a:lnTo>
                        <a:pt x="4" y="128"/>
                      </a:lnTo>
                      <a:lnTo>
                        <a:pt x="12" y="145"/>
                      </a:lnTo>
                      <a:lnTo>
                        <a:pt x="17" y="129"/>
                      </a:lnTo>
                      <a:lnTo>
                        <a:pt x="20" y="112"/>
                      </a:lnTo>
                      <a:lnTo>
                        <a:pt x="26" y="102"/>
                      </a:lnTo>
                      <a:lnTo>
                        <a:pt x="41" y="109"/>
                      </a:lnTo>
                      <a:lnTo>
                        <a:pt x="44" y="113"/>
                      </a:lnTo>
                      <a:lnTo>
                        <a:pt x="48" y="116"/>
                      </a:lnTo>
                      <a:lnTo>
                        <a:pt x="51" y="118"/>
                      </a:lnTo>
                      <a:lnTo>
                        <a:pt x="55" y="121"/>
                      </a:lnTo>
                      <a:lnTo>
                        <a:pt x="48" y="132"/>
                      </a:lnTo>
                      <a:lnTo>
                        <a:pt x="42" y="144"/>
                      </a:lnTo>
                      <a:lnTo>
                        <a:pt x="36" y="155"/>
                      </a:lnTo>
                      <a:lnTo>
                        <a:pt x="30" y="167"/>
                      </a:lnTo>
                      <a:lnTo>
                        <a:pt x="35" y="171"/>
                      </a:lnTo>
                      <a:lnTo>
                        <a:pt x="42" y="177"/>
                      </a:lnTo>
                      <a:lnTo>
                        <a:pt x="49" y="182"/>
                      </a:lnTo>
                      <a:lnTo>
                        <a:pt x="56" y="185"/>
                      </a:lnTo>
                      <a:lnTo>
                        <a:pt x="57" y="174"/>
                      </a:lnTo>
                      <a:lnTo>
                        <a:pt x="58" y="163"/>
                      </a:lnTo>
                      <a:lnTo>
                        <a:pt x="62" y="154"/>
                      </a:lnTo>
                      <a:lnTo>
                        <a:pt x="67" y="146"/>
                      </a:lnTo>
                      <a:lnTo>
                        <a:pt x="85" y="146"/>
                      </a:lnTo>
                      <a:lnTo>
                        <a:pt x="90" y="156"/>
                      </a:lnTo>
                      <a:lnTo>
                        <a:pt x="88" y="173"/>
                      </a:lnTo>
                      <a:lnTo>
                        <a:pt x="84" y="191"/>
                      </a:lnTo>
                      <a:lnTo>
                        <a:pt x="88" y="191"/>
                      </a:lnTo>
                      <a:lnTo>
                        <a:pt x="93" y="191"/>
                      </a:lnTo>
                      <a:lnTo>
                        <a:pt x="97" y="190"/>
                      </a:lnTo>
                      <a:lnTo>
                        <a:pt x="102" y="189"/>
                      </a:lnTo>
                      <a:lnTo>
                        <a:pt x="107" y="188"/>
                      </a:lnTo>
                      <a:lnTo>
                        <a:pt x="111" y="186"/>
                      </a:lnTo>
                      <a:lnTo>
                        <a:pt x="116" y="184"/>
                      </a:lnTo>
                      <a:lnTo>
                        <a:pt x="120" y="182"/>
                      </a:lnTo>
                      <a:lnTo>
                        <a:pt x="120" y="182"/>
                      </a:lnTo>
                      <a:lnTo>
                        <a:pt x="122" y="181"/>
                      </a:lnTo>
                      <a:lnTo>
                        <a:pt x="122" y="181"/>
                      </a:lnTo>
                      <a:lnTo>
                        <a:pt x="123" y="181"/>
                      </a:lnTo>
                      <a:lnTo>
                        <a:pt x="123" y="176"/>
                      </a:lnTo>
                      <a:lnTo>
                        <a:pt x="123" y="170"/>
                      </a:lnTo>
                      <a:lnTo>
                        <a:pt x="123" y="166"/>
                      </a:lnTo>
                      <a:lnTo>
                        <a:pt x="123" y="161"/>
                      </a:lnTo>
                      <a:lnTo>
                        <a:pt x="128" y="161"/>
                      </a:lnTo>
                      <a:lnTo>
                        <a:pt x="134" y="161"/>
                      </a:lnTo>
                      <a:lnTo>
                        <a:pt x="141" y="160"/>
                      </a:lnTo>
                      <a:lnTo>
                        <a:pt x="147" y="158"/>
                      </a:lnTo>
                      <a:lnTo>
                        <a:pt x="148" y="159"/>
                      </a:lnTo>
                      <a:lnTo>
                        <a:pt x="148" y="159"/>
                      </a:lnTo>
                      <a:lnTo>
                        <a:pt x="148" y="160"/>
                      </a:lnTo>
                      <a:lnTo>
                        <a:pt x="148" y="161"/>
                      </a:lnTo>
                      <a:lnTo>
                        <a:pt x="154" y="155"/>
                      </a:lnTo>
                      <a:lnTo>
                        <a:pt x="159" y="148"/>
                      </a:lnTo>
                      <a:lnTo>
                        <a:pt x="164" y="143"/>
                      </a:lnTo>
                      <a:lnTo>
                        <a:pt x="170" y="137"/>
                      </a:lnTo>
                      <a:lnTo>
                        <a:pt x="165" y="128"/>
                      </a:lnTo>
                      <a:lnTo>
                        <a:pt x="162" y="117"/>
                      </a:lnTo>
                      <a:lnTo>
                        <a:pt x="157" y="110"/>
                      </a:lnTo>
                      <a:lnTo>
                        <a:pt x="151" y="106"/>
                      </a:lnTo>
                      <a:lnTo>
                        <a:pt x="151" y="102"/>
                      </a:lnTo>
                      <a:lnTo>
                        <a:pt x="150" y="99"/>
                      </a:lnTo>
                      <a:lnTo>
                        <a:pt x="149" y="95"/>
                      </a:lnTo>
                      <a:lnTo>
                        <a:pt x="149" y="92"/>
                      </a:lnTo>
                      <a:lnTo>
                        <a:pt x="153" y="88"/>
                      </a:lnTo>
                      <a:lnTo>
                        <a:pt x="158" y="88"/>
                      </a:lnTo>
                      <a:lnTo>
                        <a:pt x="162" y="87"/>
                      </a:lnTo>
                      <a:lnTo>
                        <a:pt x="163" y="82"/>
                      </a:lnTo>
                      <a:lnTo>
                        <a:pt x="170" y="91"/>
                      </a:lnTo>
                      <a:lnTo>
                        <a:pt x="174" y="100"/>
                      </a:lnTo>
                      <a:lnTo>
                        <a:pt x="180" y="110"/>
                      </a:lnTo>
                      <a:lnTo>
                        <a:pt x="185" y="120"/>
                      </a:lnTo>
                      <a:lnTo>
                        <a:pt x="192" y="112"/>
                      </a:lnTo>
                      <a:lnTo>
                        <a:pt x="199" y="105"/>
                      </a:lnTo>
                      <a:lnTo>
                        <a:pt x="205" y="98"/>
                      </a:lnTo>
                      <a:lnTo>
                        <a:pt x="214" y="91"/>
                      </a:lnTo>
                      <a:lnTo>
                        <a:pt x="220" y="85"/>
                      </a:lnTo>
                      <a:lnTo>
                        <a:pt x="228" y="79"/>
                      </a:lnTo>
                      <a:lnTo>
                        <a:pt x="237" y="74"/>
                      </a:lnTo>
                      <a:lnTo>
                        <a:pt x="245" y="69"/>
                      </a:lnTo>
                      <a:lnTo>
                        <a:pt x="240" y="52"/>
                      </a:lnTo>
                      <a:lnTo>
                        <a:pt x="234" y="35"/>
                      </a:lnTo>
                      <a:lnTo>
                        <a:pt x="227" y="19"/>
                      </a:lnTo>
                      <a:lnTo>
                        <a:pt x="219" y="4"/>
                      </a:lnTo>
                      <a:lnTo>
                        <a:pt x="218" y="3"/>
                      </a:lnTo>
                      <a:lnTo>
                        <a:pt x="217" y="2"/>
                      </a:lnTo>
                      <a:lnTo>
                        <a:pt x="216" y="1"/>
                      </a:lnTo>
                      <a:lnTo>
                        <a:pt x="215" y="0"/>
                      </a:lnTo>
                      <a:lnTo>
                        <a:pt x="208" y="2"/>
                      </a:lnTo>
                      <a:lnTo>
                        <a:pt x="202" y="4"/>
                      </a:lnTo>
                      <a:lnTo>
                        <a:pt x="195" y="6"/>
                      </a:lnTo>
                      <a:lnTo>
                        <a:pt x="188" y="8"/>
                      </a:lnTo>
                      <a:lnTo>
                        <a:pt x="188" y="16"/>
                      </a:lnTo>
                      <a:lnTo>
                        <a:pt x="189" y="24"/>
                      </a:lnTo>
                      <a:lnTo>
                        <a:pt x="191" y="32"/>
                      </a:lnTo>
                      <a:lnTo>
                        <a:pt x="191" y="4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839400">
                  <a:off x="2919600" y="3500640"/>
                  <a:ext cx="174600" cy="178920"/>
                </a:xfrm>
                <a:custGeom>
                  <a:avLst/>
                  <a:gdLst/>
                  <a:ahLst/>
                  <a:rect l="l" t="t" r="r" b="b"/>
                  <a:pathLst>
                    <a:path w="297" h="324">
                      <a:moveTo>
                        <a:pt x="234" y="162"/>
                      </a:moveTo>
                      <a:lnTo>
                        <a:pt x="237" y="166"/>
                      </a:lnTo>
                      <a:lnTo>
                        <a:pt x="241" y="171"/>
                      </a:lnTo>
                      <a:lnTo>
                        <a:pt x="245" y="175"/>
                      </a:lnTo>
                      <a:lnTo>
                        <a:pt x="251" y="179"/>
                      </a:lnTo>
                      <a:lnTo>
                        <a:pt x="241" y="192"/>
                      </a:lnTo>
                      <a:lnTo>
                        <a:pt x="233" y="194"/>
                      </a:lnTo>
                      <a:lnTo>
                        <a:pt x="226" y="189"/>
                      </a:lnTo>
                      <a:lnTo>
                        <a:pt x="219" y="179"/>
                      </a:lnTo>
                      <a:lnTo>
                        <a:pt x="213" y="185"/>
                      </a:lnTo>
                      <a:lnTo>
                        <a:pt x="208" y="190"/>
                      </a:lnTo>
                      <a:lnTo>
                        <a:pt x="203" y="197"/>
                      </a:lnTo>
                      <a:lnTo>
                        <a:pt x="197" y="203"/>
                      </a:lnTo>
                      <a:lnTo>
                        <a:pt x="198" y="215"/>
                      </a:lnTo>
                      <a:lnTo>
                        <a:pt x="198" y="226"/>
                      </a:lnTo>
                      <a:lnTo>
                        <a:pt x="198" y="239"/>
                      </a:lnTo>
                      <a:lnTo>
                        <a:pt x="198" y="250"/>
                      </a:lnTo>
                      <a:lnTo>
                        <a:pt x="192" y="253"/>
                      </a:lnTo>
                      <a:lnTo>
                        <a:pt x="188" y="256"/>
                      </a:lnTo>
                      <a:lnTo>
                        <a:pt x="182" y="258"/>
                      </a:lnTo>
                      <a:lnTo>
                        <a:pt x="175" y="260"/>
                      </a:lnTo>
                      <a:lnTo>
                        <a:pt x="172" y="251"/>
                      </a:lnTo>
                      <a:lnTo>
                        <a:pt x="171" y="242"/>
                      </a:lnTo>
                      <a:lnTo>
                        <a:pt x="171" y="232"/>
                      </a:lnTo>
                      <a:lnTo>
                        <a:pt x="172" y="223"/>
                      </a:lnTo>
                      <a:lnTo>
                        <a:pt x="171" y="223"/>
                      </a:lnTo>
                      <a:lnTo>
                        <a:pt x="171" y="223"/>
                      </a:lnTo>
                      <a:lnTo>
                        <a:pt x="169" y="224"/>
                      </a:lnTo>
                      <a:lnTo>
                        <a:pt x="169" y="224"/>
                      </a:lnTo>
                      <a:lnTo>
                        <a:pt x="165" y="226"/>
                      </a:lnTo>
                      <a:lnTo>
                        <a:pt x="160" y="228"/>
                      </a:lnTo>
                      <a:lnTo>
                        <a:pt x="156" y="230"/>
                      </a:lnTo>
                      <a:lnTo>
                        <a:pt x="151" y="231"/>
                      </a:lnTo>
                      <a:lnTo>
                        <a:pt x="146" y="232"/>
                      </a:lnTo>
                      <a:lnTo>
                        <a:pt x="142" y="233"/>
                      </a:lnTo>
                      <a:lnTo>
                        <a:pt x="137" y="233"/>
                      </a:lnTo>
                      <a:lnTo>
                        <a:pt x="133" y="233"/>
                      </a:lnTo>
                      <a:lnTo>
                        <a:pt x="131" y="239"/>
                      </a:lnTo>
                      <a:lnTo>
                        <a:pt x="130" y="245"/>
                      </a:lnTo>
                      <a:lnTo>
                        <a:pt x="130" y="249"/>
                      </a:lnTo>
                      <a:lnTo>
                        <a:pt x="131" y="254"/>
                      </a:lnTo>
                      <a:lnTo>
                        <a:pt x="127" y="257"/>
                      </a:lnTo>
                      <a:lnTo>
                        <a:pt x="121" y="258"/>
                      </a:lnTo>
                      <a:lnTo>
                        <a:pt x="115" y="258"/>
                      </a:lnTo>
                      <a:lnTo>
                        <a:pt x="110" y="258"/>
                      </a:lnTo>
                      <a:lnTo>
                        <a:pt x="108" y="250"/>
                      </a:lnTo>
                      <a:lnTo>
                        <a:pt x="106" y="242"/>
                      </a:lnTo>
                      <a:lnTo>
                        <a:pt x="105" y="235"/>
                      </a:lnTo>
                      <a:lnTo>
                        <a:pt x="105" y="227"/>
                      </a:lnTo>
                      <a:lnTo>
                        <a:pt x="98" y="224"/>
                      </a:lnTo>
                      <a:lnTo>
                        <a:pt x="91" y="219"/>
                      </a:lnTo>
                      <a:lnTo>
                        <a:pt x="84" y="213"/>
                      </a:lnTo>
                      <a:lnTo>
                        <a:pt x="79" y="209"/>
                      </a:lnTo>
                      <a:lnTo>
                        <a:pt x="77" y="210"/>
                      </a:lnTo>
                      <a:lnTo>
                        <a:pt x="77" y="211"/>
                      </a:lnTo>
                      <a:lnTo>
                        <a:pt x="76" y="212"/>
                      </a:lnTo>
                      <a:lnTo>
                        <a:pt x="75" y="213"/>
                      </a:lnTo>
                      <a:lnTo>
                        <a:pt x="69" y="209"/>
                      </a:lnTo>
                      <a:lnTo>
                        <a:pt x="60" y="205"/>
                      </a:lnTo>
                      <a:lnTo>
                        <a:pt x="54" y="201"/>
                      </a:lnTo>
                      <a:lnTo>
                        <a:pt x="56" y="193"/>
                      </a:lnTo>
                      <a:lnTo>
                        <a:pt x="57" y="192"/>
                      </a:lnTo>
                      <a:lnTo>
                        <a:pt x="59" y="189"/>
                      </a:lnTo>
                      <a:lnTo>
                        <a:pt x="60" y="188"/>
                      </a:lnTo>
                      <a:lnTo>
                        <a:pt x="61" y="187"/>
                      </a:lnTo>
                      <a:lnTo>
                        <a:pt x="53" y="170"/>
                      </a:lnTo>
                      <a:lnTo>
                        <a:pt x="49" y="151"/>
                      </a:lnTo>
                      <a:lnTo>
                        <a:pt x="50" y="134"/>
                      </a:lnTo>
                      <a:lnTo>
                        <a:pt x="57" y="119"/>
                      </a:lnTo>
                      <a:lnTo>
                        <a:pt x="62" y="112"/>
                      </a:lnTo>
                      <a:lnTo>
                        <a:pt x="68" y="106"/>
                      </a:lnTo>
                      <a:lnTo>
                        <a:pt x="74" y="101"/>
                      </a:lnTo>
                      <a:lnTo>
                        <a:pt x="81" y="96"/>
                      </a:lnTo>
                      <a:lnTo>
                        <a:pt x="89" y="91"/>
                      </a:lnTo>
                      <a:lnTo>
                        <a:pt x="96" y="87"/>
                      </a:lnTo>
                      <a:lnTo>
                        <a:pt x="104" y="83"/>
                      </a:lnTo>
                      <a:lnTo>
                        <a:pt x="112" y="80"/>
                      </a:lnTo>
                      <a:lnTo>
                        <a:pt x="114" y="72"/>
                      </a:lnTo>
                      <a:lnTo>
                        <a:pt x="116" y="63"/>
                      </a:lnTo>
                      <a:lnTo>
                        <a:pt x="120" y="54"/>
                      </a:lnTo>
                      <a:lnTo>
                        <a:pt x="123" y="46"/>
                      </a:lnTo>
                      <a:lnTo>
                        <a:pt x="133" y="50"/>
                      </a:lnTo>
                      <a:lnTo>
                        <a:pt x="142" y="53"/>
                      </a:lnTo>
                      <a:lnTo>
                        <a:pt x="148" y="60"/>
                      </a:lnTo>
                      <a:lnTo>
                        <a:pt x="148" y="68"/>
                      </a:lnTo>
                      <a:lnTo>
                        <a:pt x="154" y="67"/>
                      </a:lnTo>
                      <a:lnTo>
                        <a:pt x="161" y="66"/>
                      </a:lnTo>
                      <a:lnTo>
                        <a:pt x="169" y="65"/>
                      </a:lnTo>
                      <a:lnTo>
                        <a:pt x="176" y="63"/>
                      </a:lnTo>
                      <a:lnTo>
                        <a:pt x="184" y="61"/>
                      </a:lnTo>
                      <a:lnTo>
                        <a:pt x="191" y="60"/>
                      </a:lnTo>
                      <a:lnTo>
                        <a:pt x="199" y="58"/>
                      </a:lnTo>
                      <a:lnTo>
                        <a:pt x="206" y="57"/>
                      </a:lnTo>
                      <a:lnTo>
                        <a:pt x="205" y="52"/>
                      </a:lnTo>
                      <a:lnTo>
                        <a:pt x="204" y="48"/>
                      </a:lnTo>
                      <a:lnTo>
                        <a:pt x="203" y="44"/>
                      </a:lnTo>
                      <a:lnTo>
                        <a:pt x="202" y="39"/>
                      </a:lnTo>
                      <a:lnTo>
                        <a:pt x="199" y="39"/>
                      </a:lnTo>
                      <a:lnTo>
                        <a:pt x="197" y="39"/>
                      </a:lnTo>
                      <a:lnTo>
                        <a:pt x="196" y="38"/>
                      </a:lnTo>
                      <a:lnTo>
                        <a:pt x="196" y="36"/>
                      </a:lnTo>
                      <a:lnTo>
                        <a:pt x="202" y="34"/>
                      </a:lnTo>
                      <a:lnTo>
                        <a:pt x="207" y="31"/>
                      </a:lnTo>
                      <a:lnTo>
                        <a:pt x="213" y="28"/>
                      </a:lnTo>
                      <a:lnTo>
                        <a:pt x="220" y="26"/>
                      </a:lnTo>
                      <a:lnTo>
                        <a:pt x="226" y="26"/>
                      </a:lnTo>
                      <a:lnTo>
                        <a:pt x="230" y="27"/>
                      </a:lnTo>
                      <a:lnTo>
                        <a:pt x="236" y="30"/>
                      </a:lnTo>
                      <a:lnTo>
                        <a:pt x="240" y="37"/>
                      </a:lnTo>
                      <a:lnTo>
                        <a:pt x="238" y="39"/>
                      </a:lnTo>
                      <a:lnTo>
                        <a:pt x="237" y="43"/>
                      </a:lnTo>
                      <a:lnTo>
                        <a:pt x="237" y="46"/>
                      </a:lnTo>
                      <a:lnTo>
                        <a:pt x="237" y="50"/>
                      </a:lnTo>
                      <a:lnTo>
                        <a:pt x="244" y="48"/>
                      </a:lnTo>
                      <a:lnTo>
                        <a:pt x="251" y="46"/>
                      </a:lnTo>
                      <a:lnTo>
                        <a:pt x="257" y="44"/>
                      </a:lnTo>
                      <a:lnTo>
                        <a:pt x="264" y="42"/>
                      </a:lnTo>
                      <a:lnTo>
                        <a:pt x="257" y="35"/>
                      </a:lnTo>
                      <a:lnTo>
                        <a:pt x="250" y="28"/>
                      </a:lnTo>
                      <a:lnTo>
                        <a:pt x="243" y="22"/>
                      </a:lnTo>
                      <a:lnTo>
                        <a:pt x="235" y="18"/>
                      </a:lnTo>
                      <a:lnTo>
                        <a:pt x="228" y="12"/>
                      </a:lnTo>
                      <a:lnTo>
                        <a:pt x="220" y="8"/>
                      </a:lnTo>
                      <a:lnTo>
                        <a:pt x="212" y="4"/>
                      </a:lnTo>
                      <a:lnTo>
                        <a:pt x="204" y="0"/>
                      </a:lnTo>
                      <a:lnTo>
                        <a:pt x="181" y="3"/>
                      </a:lnTo>
                      <a:lnTo>
                        <a:pt x="158" y="7"/>
                      </a:lnTo>
                      <a:lnTo>
                        <a:pt x="136" y="13"/>
                      </a:lnTo>
                      <a:lnTo>
                        <a:pt x="115" y="22"/>
                      </a:lnTo>
                      <a:lnTo>
                        <a:pt x="96" y="33"/>
                      </a:lnTo>
                      <a:lnTo>
                        <a:pt x="76" y="45"/>
                      </a:lnTo>
                      <a:lnTo>
                        <a:pt x="58" y="59"/>
                      </a:lnTo>
                      <a:lnTo>
                        <a:pt x="39" y="74"/>
                      </a:lnTo>
                      <a:lnTo>
                        <a:pt x="27" y="89"/>
                      </a:lnTo>
                      <a:lnTo>
                        <a:pt x="16" y="105"/>
                      </a:lnTo>
                      <a:lnTo>
                        <a:pt x="10" y="122"/>
                      </a:lnTo>
                      <a:lnTo>
                        <a:pt x="6" y="142"/>
                      </a:lnTo>
                      <a:lnTo>
                        <a:pt x="4" y="162"/>
                      </a:lnTo>
                      <a:lnTo>
                        <a:pt x="3" y="182"/>
                      </a:lnTo>
                      <a:lnTo>
                        <a:pt x="1" y="203"/>
                      </a:lnTo>
                      <a:lnTo>
                        <a:pt x="1" y="224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3" y="255"/>
                      </a:lnTo>
                      <a:lnTo>
                        <a:pt x="12" y="268"/>
                      </a:lnTo>
                      <a:lnTo>
                        <a:pt x="20" y="283"/>
                      </a:lnTo>
                      <a:lnTo>
                        <a:pt x="30" y="295"/>
                      </a:lnTo>
                      <a:lnTo>
                        <a:pt x="42" y="304"/>
                      </a:lnTo>
                      <a:lnTo>
                        <a:pt x="56" y="311"/>
                      </a:lnTo>
                      <a:lnTo>
                        <a:pt x="70" y="317"/>
                      </a:lnTo>
                      <a:lnTo>
                        <a:pt x="87" y="321"/>
                      </a:lnTo>
                      <a:lnTo>
                        <a:pt x="103" y="323"/>
                      </a:lnTo>
                      <a:lnTo>
                        <a:pt x="119" y="324"/>
                      </a:lnTo>
                      <a:lnTo>
                        <a:pt x="145" y="322"/>
                      </a:lnTo>
                      <a:lnTo>
                        <a:pt x="169" y="314"/>
                      </a:lnTo>
                      <a:lnTo>
                        <a:pt x="192" y="302"/>
                      </a:lnTo>
                      <a:lnTo>
                        <a:pt x="214" y="287"/>
                      </a:lnTo>
                      <a:lnTo>
                        <a:pt x="234" y="269"/>
                      </a:lnTo>
                      <a:lnTo>
                        <a:pt x="252" y="249"/>
                      </a:lnTo>
                      <a:lnTo>
                        <a:pt x="267" y="227"/>
                      </a:lnTo>
                      <a:lnTo>
                        <a:pt x="281" y="205"/>
                      </a:lnTo>
                      <a:lnTo>
                        <a:pt x="291" y="183"/>
                      </a:lnTo>
                      <a:lnTo>
                        <a:pt x="297" y="160"/>
                      </a:lnTo>
                      <a:lnTo>
                        <a:pt x="297" y="136"/>
                      </a:lnTo>
                      <a:lnTo>
                        <a:pt x="294" y="111"/>
                      </a:lnTo>
                      <a:lnTo>
                        <a:pt x="286" y="116"/>
                      </a:lnTo>
                      <a:lnTo>
                        <a:pt x="277" y="121"/>
                      </a:lnTo>
                      <a:lnTo>
                        <a:pt x="269" y="127"/>
                      </a:lnTo>
                      <a:lnTo>
                        <a:pt x="263" y="133"/>
                      </a:lnTo>
                      <a:lnTo>
                        <a:pt x="254" y="140"/>
                      </a:lnTo>
                      <a:lnTo>
                        <a:pt x="248" y="147"/>
                      </a:lnTo>
                      <a:lnTo>
                        <a:pt x="241" y="154"/>
                      </a:lnTo>
                      <a:lnTo>
                        <a:pt x="234" y="16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839400">
                  <a:off x="2525040" y="3637800"/>
                  <a:ext cx="199440" cy="169920"/>
                </a:xfrm>
                <a:custGeom>
                  <a:avLst/>
                  <a:gdLst/>
                  <a:ahLst/>
                  <a:rect l="l" t="t" r="r" b="b"/>
                  <a:pathLst>
                    <a:path w="341" h="308">
                      <a:moveTo>
                        <a:pt x="321" y="47"/>
                      </a:moveTo>
                      <a:lnTo>
                        <a:pt x="315" y="39"/>
                      </a:lnTo>
                      <a:lnTo>
                        <a:pt x="310" y="31"/>
                      </a:lnTo>
                      <a:lnTo>
                        <a:pt x="303" y="24"/>
                      </a:lnTo>
                      <a:lnTo>
                        <a:pt x="295" y="19"/>
                      </a:lnTo>
                      <a:lnTo>
                        <a:pt x="286" y="14"/>
                      </a:lnTo>
                      <a:lnTo>
                        <a:pt x="278" y="10"/>
                      </a:lnTo>
                      <a:lnTo>
                        <a:pt x="268" y="7"/>
                      </a:lnTo>
                      <a:lnTo>
                        <a:pt x="259" y="5"/>
                      </a:lnTo>
                      <a:lnTo>
                        <a:pt x="243" y="1"/>
                      </a:lnTo>
                      <a:lnTo>
                        <a:pt x="227" y="0"/>
                      </a:lnTo>
                      <a:lnTo>
                        <a:pt x="211" y="0"/>
                      </a:lnTo>
                      <a:lnTo>
                        <a:pt x="196" y="1"/>
                      </a:lnTo>
                      <a:lnTo>
                        <a:pt x="180" y="4"/>
                      </a:lnTo>
                      <a:lnTo>
                        <a:pt x="166" y="8"/>
                      </a:lnTo>
                      <a:lnTo>
                        <a:pt x="151" y="13"/>
                      </a:lnTo>
                      <a:lnTo>
                        <a:pt x="137" y="19"/>
                      </a:lnTo>
                      <a:lnTo>
                        <a:pt x="123" y="25"/>
                      </a:lnTo>
                      <a:lnTo>
                        <a:pt x="110" y="34"/>
                      </a:lnTo>
                      <a:lnTo>
                        <a:pt x="97" y="43"/>
                      </a:lnTo>
                      <a:lnTo>
                        <a:pt x="84" y="52"/>
                      </a:lnTo>
                      <a:lnTo>
                        <a:pt x="72" y="62"/>
                      </a:lnTo>
                      <a:lnTo>
                        <a:pt x="60" y="73"/>
                      </a:lnTo>
                      <a:lnTo>
                        <a:pt x="49" y="84"/>
                      </a:lnTo>
                      <a:lnTo>
                        <a:pt x="37" y="96"/>
                      </a:lnTo>
                      <a:lnTo>
                        <a:pt x="31" y="103"/>
                      </a:lnTo>
                      <a:lnTo>
                        <a:pt x="26" y="111"/>
                      </a:lnTo>
                      <a:lnTo>
                        <a:pt x="21" y="118"/>
                      </a:lnTo>
                      <a:lnTo>
                        <a:pt x="15" y="126"/>
                      </a:lnTo>
                      <a:lnTo>
                        <a:pt x="11" y="135"/>
                      </a:lnTo>
                      <a:lnTo>
                        <a:pt x="7" y="143"/>
                      </a:lnTo>
                      <a:lnTo>
                        <a:pt x="4" y="152"/>
                      </a:lnTo>
                      <a:lnTo>
                        <a:pt x="0" y="160"/>
                      </a:lnTo>
                      <a:lnTo>
                        <a:pt x="10" y="159"/>
                      </a:lnTo>
                      <a:lnTo>
                        <a:pt x="18" y="157"/>
                      </a:lnTo>
                      <a:lnTo>
                        <a:pt x="27" y="154"/>
                      </a:lnTo>
                      <a:lnTo>
                        <a:pt x="35" y="152"/>
                      </a:lnTo>
                      <a:lnTo>
                        <a:pt x="44" y="149"/>
                      </a:lnTo>
                      <a:lnTo>
                        <a:pt x="52" y="146"/>
                      </a:lnTo>
                      <a:lnTo>
                        <a:pt x="61" y="143"/>
                      </a:lnTo>
                      <a:lnTo>
                        <a:pt x="69" y="140"/>
                      </a:lnTo>
                      <a:lnTo>
                        <a:pt x="61" y="130"/>
                      </a:lnTo>
                      <a:lnTo>
                        <a:pt x="57" y="122"/>
                      </a:lnTo>
                      <a:lnTo>
                        <a:pt x="58" y="113"/>
                      </a:lnTo>
                      <a:lnTo>
                        <a:pt x="67" y="104"/>
                      </a:lnTo>
                      <a:lnTo>
                        <a:pt x="74" y="101"/>
                      </a:lnTo>
                      <a:lnTo>
                        <a:pt x="79" y="101"/>
                      </a:lnTo>
                      <a:lnTo>
                        <a:pt x="81" y="105"/>
                      </a:lnTo>
                      <a:lnTo>
                        <a:pt x="82" y="111"/>
                      </a:lnTo>
                      <a:lnTo>
                        <a:pt x="86" y="115"/>
                      </a:lnTo>
                      <a:lnTo>
                        <a:pt x="89" y="119"/>
                      </a:lnTo>
                      <a:lnTo>
                        <a:pt x="91" y="123"/>
                      </a:lnTo>
                      <a:lnTo>
                        <a:pt x="95" y="128"/>
                      </a:lnTo>
                      <a:lnTo>
                        <a:pt x="102" y="125"/>
                      </a:lnTo>
                      <a:lnTo>
                        <a:pt x="109" y="122"/>
                      </a:lnTo>
                      <a:lnTo>
                        <a:pt x="115" y="119"/>
                      </a:lnTo>
                      <a:lnTo>
                        <a:pt x="121" y="115"/>
                      </a:lnTo>
                      <a:lnTo>
                        <a:pt x="128" y="112"/>
                      </a:lnTo>
                      <a:lnTo>
                        <a:pt x="135" y="110"/>
                      </a:lnTo>
                      <a:lnTo>
                        <a:pt x="141" y="106"/>
                      </a:lnTo>
                      <a:lnTo>
                        <a:pt x="148" y="104"/>
                      </a:lnTo>
                      <a:lnTo>
                        <a:pt x="148" y="93"/>
                      </a:lnTo>
                      <a:lnTo>
                        <a:pt x="146" y="84"/>
                      </a:lnTo>
                      <a:lnTo>
                        <a:pt x="145" y="74"/>
                      </a:lnTo>
                      <a:lnTo>
                        <a:pt x="143" y="65"/>
                      </a:lnTo>
                      <a:lnTo>
                        <a:pt x="151" y="62"/>
                      </a:lnTo>
                      <a:lnTo>
                        <a:pt x="160" y="59"/>
                      </a:lnTo>
                      <a:lnTo>
                        <a:pt x="168" y="59"/>
                      </a:lnTo>
                      <a:lnTo>
                        <a:pt x="174" y="65"/>
                      </a:lnTo>
                      <a:lnTo>
                        <a:pt x="174" y="72"/>
                      </a:lnTo>
                      <a:lnTo>
                        <a:pt x="174" y="78"/>
                      </a:lnTo>
                      <a:lnTo>
                        <a:pt x="174" y="85"/>
                      </a:lnTo>
                      <a:lnTo>
                        <a:pt x="174" y="92"/>
                      </a:lnTo>
                      <a:lnTo>
                        <a:pt x="182" y="90"/>
                      </a:lnTo>
                      <a:lnTo>
                        <a:pt x="190" y="88"/>
                      </a:lnTo>
                      <a:lnTo>
                        <a:pt x="198" y="85"/>
                      </a:lnTo>
                      <a:lnTo>
                        <a:pt x="205" y="83"/>
                      </a:lnTo>
                      <a:lnTo>
                        <a:pt x="206" y="75"/>
                      </a:lnTo>
                      <a:lnTo>
                        <a:pt x="207" y="66"/>
                      </a:lnTo>
                      <a:lnTo>
                        <a:pt x="210" y="59"/>
                      </a:lnTo>
                      <a:lnTo>
                        <a:pt x="211" y="52"/>
                      </a:lnTo>
                      <a:lnTo>
                        <a:pt x="215" y="53"/>
                      </a:lnTo>
                      <a:lnTo>
                        <a:pt x="220" y="53"/>
                      </a:lnTo>
                      <a:lnTo>
                        <a:pt x="223" y="53"/>
                      </a:lnTo>
                      <a:lnTo>
                        <a:pt x="228" y="53"/>
                      </a:lnTo>
                      <a:lnTo>
                        <a:pt x="233" y="53"/>
                      </a:lnTo>
                      <a:lnTo>
                        <a:pt x="236" y="53"/>
                      </a:lnTo>
                      <a:lnTo>
                        <a:pt x="241" y="54"/>
                      </a:lnTo>
                      <a:lnTo>
                        <a:pt x="245" y="55"/>
                      </a:lnTo>
                      <a:lnTo>
                        <a:pt x="246" y="62"/>
                      </a:lnTo>
                      <a:lnTo>
                        <a:pt x="246" y="70"/>
                      </a:lnTo>
                      <a:lnTo>
                        <a:pt x="244" y="78"/>
                      </a:lnTo>
                      <a:lnTo>
                        <a:pt x="243" y="85"/>
                      </a:lnTo>
                      <a:lnTo>
                        <a:pt x="249" y="89"/>
                      </a:lnTo>
                      <a:lnTo>
                        <a:pt x="253" y="93"/>
                      </a:lnTo>
                      <a:lnTo>
                        <a:pt x="258" y="99"/>
                      </a:lnTo>
                      <a:lnTo>
                        <a:pt x="263" y="106"/>
                      </a:lnTo>
                      <a:lnTo>
                        <a:pt x="264" y="107"/>
                      </a:lnTo>
                      <a:lnTo>
                        <a:pt x="264" y="110"/>
                      </a:lnTo>
                      <a:lnTo>
                        <a:pt x="264" y="111"/>
                      </a:lnTo>
                      <a:lnTo>
                        <a:pt x="265" y="113"/>
                      </a:lnTo>
                      <a:lnTo>
                        <a:pt x="265" y="111"/>
                      </a:lnTo>
                      <a:lnTo>
                        <a:pt x="266" y="110"/>
                      </a:lnTo>
                      <a:lnTo>
                        <a:pt x="266" y="107"/>
                      </a:lnTo>
                      <a:lnTo>
                        <a:pt x="267" y="105"/>
                      </a:lnTo>
                      <a:lnTo>
                        <a:pt x="275" y="110"/>
                      </a:lnTo>
                      <a:lnTo>
                        <a:pt x="282" y="115"/>
                      </a:lnTo>
                      <a:lnTo>
                        <a:pt x="289" y="121"/>
                      </a:lnTo>
                      <a:lnTo>
                        <a:pt x="296" y="127"/>
                      </a:lnTo>
                      <a:lnTo>
                        <a:pt x="295" y="133"/>
                      </a:lnTo>
                      <a:lnTo>
                        <a:pt x="292" y="137"/>
                      </a:lnTo>
                      <a:lnTo>
                        <a:pt x="289" y="143"/>
                      </a:lnTo>
                      <a:lnTo>
                        <a:pt x="287" y="148"/>
                      </a:lnTo>
                      <a:lnTo>
                        <a:pt x="283" y="145"/>
                      </a:lnTo>
                      <a:lnTo>
                        <a:pt x="279" y="142"/>
                      </a:lnTo>
                      <a:lnTo>
                        <a:pt x="273" y="140"/>
                      </a:lnTo>
                      <a:lnTo>
                        <a:pt x="268" y="136"/>
                      </a:lnTo>
                      <a:lnTo>
                        <a:pt x="267" y="149"/>
                      </a:lnTo>
                      <a:lnTo>
                        <a:pt x="263" y="160"/>
                      </a:lnTo>
                      <a:lnTo>
                        <a:pt x="256" y="171"/>
                      </a:lnTo>
                      <a:lnTo>
                        <a:pt x="246" y="179"/>
                      </a:lnTo>
                      <a:lnTo>
                        <a:pt x="249" y="183"/>
                      </a:lnTo>
                      <a:lnTo>
                        <a:pt x="251" y="187"/>
                      </a:lnTo>
                      <a:lnTo>
                        <a:pt x="252" y="191"/>
                      </a:lnTo>
                      <a:lnTo>
                        <a:pt x="251" y="196"/>
                      </a:lnTo>
                      <a:lnTo>
                        <a:pt x="245" y="204"/>
                      </a:lnTo>
                      <a:lnTo>
                        <a:pt x="238" y="205"/>
                      </a:lnTo>
                      <a:lnTo>
                        <a:pt x="232" y="203"/>
                      </a:lnTo>
                      <a:lnTo>
                        <a:pt x="225" y="198"/>
                      </a:lnTo>
                      <a:lnTo>
                        <a:pt x="223" y="197"/>
                      </a:lnTo>
                      <a:lnTo>
                        <a:pt x="223" y="196"/>
                      </a:lnTo>
                      <a:lnTo>
                        <a:pt x="222" y="195"/>
                      </a:lnTo>
                      <a:lnTo>
                        <a:pt x="222" y="194"/>
                      </a:lnTo>
                      <a:lnTo>
                        <a:pt x="217" y="196"/>
                      </a:lnTo>
                      <a:lnTo>
                        <a:pt x="211" y="197"/>
                      </a:lnTo>
                      <a:lnTo>
                        <a:pt x="205" y="199"/>
                      </a:lnTo>
                      <a:lnTo>
                        <a:pt x="199" y="201"/>
                      </a:lnTo>
                      <a:lnTo>
                        <a:pt x="194" y="203"/>
                      </a:lnTo>
                      <a:lnTo>
                        <a:pt x="187" y="204"/>
                      </a:lnTo>
                      <a:lnTo>
                        <a:pt x="181" y="205"/>
                      </a:lnTo>
                      <a:lnTo>
                        <a:pt x="174" y="206"/>
                      </a:lnTo>
                      <a:lnTo>
                        <a:pt x="178" y="217"/>
                      </a:lnTo>
                      <a:lnTo>
                        <a:pt x="181" y="227"/>
                      </a:lnTo>
                      <a:lnTo>
                        <a:pt x="183" y="237"/>
                      </a:lnTo>
                      <a:lnTo>
                        <a:pt x="186" y="249"/>
                      </a:lnTo>
                      <a:lnTo>
                        <a:pt x="180" y="248"/>
                      </a:lnTo>
                      <a:lnTo>
                        <a:pt x="174" y="250"/>
                      </a:lnTo>
                      <a:lnTo>
                        <a:pt x="168" y="254"/>
                      </a:lnTo>
                      <a:lnTo>
                        <a:pt x="163" y="252"/>
                      </a:lnTo>
                      <a:lnTo>
                        <a:pt x="159" y="242"/>
                      </a:lnTo>
                      <a:lnTo>
                        <a:pt x="153" y="232"/>
                      </a:lnTo>
                      <a:lnTo>
                        <a:pt x="149" y="221"/>
                      </a:lnTo>
                      <a:lnTo>
                        <a:pt x="144" y="211"/>
                      </a:lnTo>
                      <a:lnTo>
                        <a:pt x="140" y="212"/>
                      </a:lnTo>
                      <a:lnTo>
                        <a:pt x="134" y="212"/>
                      </a:lnTo>
                      <a:lnTo>
                        <a:pt x="129" y="213"/>
                      </a:lnTo>
                      <a:lnTo>
                        <a:pt x="123" y="214"/>
                      </a:lnTo>
                      <a:lnTo>
                        <a:pt x="121" y="220"/>
                      </a:lnTo>
                      <a:lnTo>
                        <a:pt x="119" y="227"/>
                      </a:lnTo>
                      <a:lnTo>
                        <a:pt x="115" y="232"/>
                      </a:lnTo>
                      <a:lnTo>
                        <a:pt x="112" y="235"/>
                      </a:lnTo>
                      <a:lnTo>
                        <a:pt x="107" y="239"/>
                      </a:lnTo>
                      <a:lnTo>
                        <a:pt x="102" y="240"/>
                      </a:lnTo>
                      <a:lnTo>
                        <a:pt x="96" y="239"/>
                      </a:lnTo>
                      <a:lnTo>
                        <a:pt x="88" y="236"/>
                      </a:lnTo>
                      <a:lnTo>
                        <a:pt x="88" y="232"/>
                      </a:lnTo>
                      <a:lnTo>
                        <a:pt x="88" y="227"/>
                      </a:lnTo>
                      <a:lnTo>
                        <a:pt x="88" y="221"/>
                      </a:lnTo>
                      <a:lnTo>
                        <a:pt x="89" y="217"/>
                      </a:lnTo>
                      <a:lnTo>
                        <a:pt x="79" y="218"/>
                      </a:lnTo>
                      <a:lnTo>
                        <a:pt x="69" y="218"/>
                      </a:lnTo>
                      <a:lnTo>
                        <a:pt x="59" y="219"/>
                      </a:lnTo>
                      <a:lnTo>
                        <a:pt x="50" y="220"/>
                      </a:lnTo>
                      <a:lnTo>
                        <a:pt x="40" y="221"/>
                      </a:lnTo>
                      <a:lnTo>
                        <a:pt x="30" y="221"/>
                      </a:lnTo>
                      <a:lnTo>
                        <a:pt x="21" y="222"/>
                      </a:lnTo>
                      <a:lnTo>
                        <a:pt x="12" y="224"/>
                      </a:lnTo>
                      <a:lnTo>
                        <a:pt x="21" y="237"/>
                      </a:lnTo>
                      <a:lnTo>
                        <a:pt x="31" y="251"/>
                      </a:lnTo>
                      <a:lnTo>
                        <a:pt x="44" y="264"/>
                      </a:lnTo>
                      <a:lnTo>
                        <a:pt x="58" y="275"/>
                      </a:lnTo>
                      <a:lnTo>
                        <a:pt x="72" y="286"/>
                      </a:lnTo>
                      <a:lnTo>
                        <a:pt x="88" y="294"/>
                      </a:lnTo>
                      <a:lnTo>
                        <a:pt x="103" y="301"/>
                      </a:lnTo>
                      <a:lnTo>
                        <a:pt x="119" y="307"/>
                      </a:lnTo>
                      <a:lnTo>
                        <a:pt x="137" y="308"/>
                      </a:lnTo>
                      <a:lnTo>
                        <a:pt x="156" y="307"/>
                      </a:lnTo>
                      <a:lnTo>
                        <a:pt x="173" y="303"/>
                      </a:lnTo>
                      <a:lnTo>
                        <a:pt x="189" y="298"/>
                      </a:lnTo>
                      <a:lnTo>
                        <a:pt x="204" y="292"/>
                      </a:lnTo>
                      <a:lnTo>
                        <a:pt x="219" y="284"/>
                      </a:lnTo>
                      <a:lnTo>
                        <a:pt x="234" y="274"/>
                      </a:lnTo>
                      <a:lnTo>
                        <a:pt x="248" y="263"/>
                      </a:lnTo>
                      <a:lnTo>
                        <a:pt x="260" y="251"/>
                      </a:lnTo>
                      <a:lnTo>
                        <a:pt x="272" y="239"/>
                      </a:lnTo>
                      <a:lnTo>
                        <a:pt x="284" y="225"/>
                      </a:lnTo>
                      <a:lnTo>
                        <a:pt x="295" y="211"/>
                      </a:lnTo>
                      <a:lnTo>
                        <a:pt x="305" y="197"/>
                      </a:lnTo>
                      <a:lnTo>
                        <a:pt x="315" y="182"/>
                      </a:lnTo>
                      <a:lnTo>
                        <a:pt x="325" y="167"/>
                      </a:lnTo>
                      <a:lnTo>
                        <a:pt x="334" y="153"/>
                      </a:lnTo>
                      <a:lnTo>
                        <a:pt x="338" y="126"/>
                      </a:lnTo>
                      <a:lnTo>
                        <a:pt x="341" y="98"/>
                      </a:lnTo>
                      <a:lnTo>
                        <a:pt x="335" y="72"/>
                      </a:lnTo>
                      <a:lnTo>
                        <a:pt x="321" y="4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839400">
                  <a:off x="2524680" y="3678840"/>
                  <a:ext cx="158040" cy="77400"/>
                </a:xfrm>
                <a:custGeom>
                  <a:avLst/>
                  <a:gdLst/>
                  <a:ahLst/>
                  <a:rect l="l" t="t" r="r" b="b"/>
                  <a:pathLst>
                    <a:path w="270" h="141">
                      <a:moveTo>
                        <a:pt x="108" y="89"/>
                      </a:moveTo>
                      <a:lnTo>
                        <a:pt x="116" y="90"/>
                      </a:lnTo>
                      <a:lnTo>
                        <a:pt x="123" y="91"/>
                      </a:lnTo>
                      <a:lnTo>
                        <a:pt x="130" y="93"/>
                      </a:lnTo>
                      <a:lnTo>
                        <a:pt x="137" y="96"/>
                      </a:lnTo>
                      <a:lnTo>
                        <a:pt x="134" y="103"/>
                      </a:lnTo>
                      <a:lnTo>
                        <a:pt x="131" y="112"/>
                      </a:lnTo>
                      <a:lnTo>
                        <a:pt x="129" y="121"/>
                      </a:lnTo>
                      <a:lnTo>
                        <a:pt x="125" y="131"/>
                      </a:lnTo>
                      <a:lnTo>
                        <a:pt x="131" y="130"/>
                      </a:lnTo>
                      <a:lnTo>
                        <a:pt x="136" y="129"/>
                      </a:lnTo>
                      <a:lnTo>
                        <a:pt x="142" y="129"/>
                      </a:lnTo>
                      <a:lnTo>
                        <a:pt x="146" y="128"/>
                      </a:lnTo>
                      <a:lnTo>
                        <a:pt x="145" y="123"/>
                      </a:lnTo>
                      <a:lnTo>
                        <a:pt x="145" y="119"/>
                      </a:lnTo>
                      <a:lnTo>
                        <a:pt x="145" y="114"/>
                      </a:lnTo>
                      <a:lnTo>
                        <a:pt x="145" y="109"/>
                      </a:lnTo>
                      <a:lnTo>
                        <a:pt x="153" y="107"/>
                      </a:lnTo>
                      <a:lnTo>
                        <a:pt x="161" y="104"/>
                      </a:lnTo>
                      <a:lnTo>
                        <a:pt x="168" y="104"/>
                      </a:lnTo>
                      <a:lnTo>
                        <a:pt x="173" y="112"/>
                      </a:lnTo>
                      <a:lnTo>
                        <a:pt x="174" y="114"/>
                      </a:lnTo>
                      <a:lnTo>
                        <a:pt x="175" y="118"/>
                      </a:lnTo>
                      <a:lnTo>
                        <a:pt x="175" y="121"/>
                      </a:lnTo>
                      <a:lnTo>
                        <a:pt x="176" y="123"/>
                      </a:lnTo>
                      <a:lnTo>
                        <a:pt x="183" y="122"/>
                      </a:lnTo>
                      <a:lnTo>
                        <a:pt x="189" y="121"/>
                      </a:lnTo>
                      <a:lnTo>
                        <a:pt x="196" y="120"/>
                      </a:lnTo>
                      <a:lnTo>
                        <a:pt x="201" y="118"/>
                      </a:lnTo>
                      <a:lnTo>
                        <a:pt x="207" y="116"/>
                      </a:lnTo>
                      <a:lnTo>
                        <a:pt x="213" y="114"/>
                      </a:lnTo>
                      <a:lnTo>
                        <a:pt x="219" y="113"/>
                      </a:lnTo>
                      <a:lnTo>
                        <a:pt x="224" y="111"/>
                      </a:lnTo>
                      <a:lnTo>
                        <a:pt x="217" y="103"/>
                      </a:lnTo>
                      <a:lnTo>
                        <a:pt x="212" y="95"/>
                      </a:lnTo>
                      <a:lnTo>
                        <a:pt x="207" y="88"/>
                      </a:lnTo>
                      <a:lnTo>
                        <a:pt x="206" y="78"/>
                      </a:lnTo>
                      <a:lnTo>
                        <a:pt x="211" y="76"/>
                      </a:lnTo>
                      <a:lnTo>
                        <a:pt x="213" y="73"/>
                      </a:lnTo>
                      <a:lnTo>
                        <a:pt x="217" y="69"/>
                      </a:lnTo>
                      <a:lnTo>
                        <a:pt x="223" y="68"/>
                      </a:lnTo>
                      <a:lnTo>
                        <a:pt x="228" y="76"/>
                      </a:lnTo>
                      <a:lnTo>
                        <a:pt x="235" y="83"/>
                      </a:lnTo>
                      <a:lnTo>
                        <a:pt x="242" y="89"/>
                      </a:lnTo>
                      <a:lnTo>
                        <a:pt x="248" y="96"/>
                      </a:lnTo>
                      <a:lnTo>
                        <a:pt x="258" y="88"/>
                      </a:lnTo>
                      <a:lnTo>
                        <a:pt x="265" y="77"/>
                      </a:lnTo>
                      <a:lnTo>
                        <a:pt x="269" y="66"/>
                      </a:lnTo>
                      <a:lnTo>
                        <a:pt x="270" y="53"/>
                      </a:lnTo>
                      <a:lnTo>
                        <a:pt x="267" y="50"/>
                      </a:lnTo>
                      <a:lnTo>
                        <a:pt x="263" y="45"/>
                      </a:lnTo>
                      <a:lnTo>
                        <a:pt x="262" y="39"/>
                      </a:lnTo>
                      <a:lnTo>
                        <a:pt x="262" y="33"/>
                      </a:lnTo>
                      <a:lnTo>
                        <a:pt x="265" y="33"/>
                      </a:lnTo>
                      <a:lnTo>
                        <a:pt x="266" y="32"/>
                      </a:lnTo>
                      <a:lnTo>
                        <a:pt x="266" y="31"/>
                      </a:lnTo>
                      <a:lnTo>
                        <a:pt x="267" y="30"/>
                      </a:lnTo>
                      <a:lnTo>
                        <a:pt x="266" y="28"/>
                      </a:lnTo>
                      <a:lnTo>
                        <a:pt x="266" y="27"/>
                      </a:lnTo>
                      <a:lnTo>
                        <a:pt x="266" y="24"/>
                      </a:lnTo>
                      <a:lnTo>
                        <a:pt x="265" y="23"/>
                      </a:lnTo>
                      <a:lnTo>
                        <a:pt x="260" y="16"/>
                      </a:lnTo>
                      <a:lnTo>
                        <a:pt x="255" y="10"/>
                      </a:lnTo>
                      <a:lnTo>
                        <a:pt x="251" y="6"/>
                      </a:lnTo>
                      <a:lnTo>
                        <a:pt x="245" y="2"/>
                      </a:lnTo>
                      <a:lnTo>
                        <a:pt x="243" y="9"/>
                      </a:lnTo>
                      <a:lnTo>
                        <a:pt x="242" y="15"/>
                      </a:lnTo>
                      <a:lnTo>
                        <a:pt x="239" y="21"/>
                      </a:lnTo>
                      <a:lnTo>
                        <a:pt x="236" y="27"/>
                      </a:lnTo>
                      <a:lnTo>
                        <a:pt x="228" y="27"/>
                      </a:lnTo>
                      <a:lnTo>
                        <a:pt x="222" y="24"/>
                      </a:lnTo>
                      <a:lnTo>
                        <a:pt x="215" y="22"/>
                      </a:lnTo>
                      <a:lnTo>
                        <a:pt x="207" y="22"/>
                      </a:lnTo>
                      <a:lnTo>
                        <a:pt x="207" y="16"/>
                      </a:lnTo>
                      <a:lnTo>
                        <a:pt x="207" y="10"/>
                      </a:lnTo>
                      <a:lnTo>
                        <a:pt x="207" y="6"/>
                      </a:lnTo>
                      <a:lnTo>
                        <a:pt x="207" y="0"/>
                      </a:lnTo>
                      <a:lnTo>
                        <a:pt x="200" y="2"/>
                      </a:lnTo>
                      <a:lnTo>
                        <a:pt x="192" y="5"/>
                      </a:lnTo>
                      <a:lnTo>
                        <a:pt x="184" y="7"/>
                      </a:lnTo>
                      <a:lnTo>
                        <a:pt x="176" y="9"/>
                      </a:lnTo>
                      <a:lnTo>
                        <a:pt x="177" y="21"/>
                      </a:lnTo>
                      <a:lnTo>
                        <a:pt x="178" y="31"/>
                      </a:lnTo>
                      <a:lnTo>
                        <a:pt x="177" y="42"/>
                      </a:lnTo>
                      <a:lnTo>
                        <a:pt x="174" y="52"/>
                      </a:lnTo>
                      <a:lnTo>
                        <a:pt x="169" y="55"/>
                      </a:lnTo>
                      <a:lnTo>
                        <a:pt x="163" y="55"/>
                      </a:lnTo>
                      <a:lnTo>
                        <a:pt x="158" y="55"/>
                      </a:lnTo>
                      <a:lnTo>
                        <a:pt x="151" y="55"/>
                      </a:lnTo>
                      <a:lnTo>
                        <a:pt x="150" y="47"/>
                      </a:lnTo>
                      <a:lnTo>
                        <a:pt x="150" y="38"/>
                      </a:lnTo>
                      <a:lnTo>
                        <a:pt x="150" y="30"/>
                      </a:lnTo>
                      <a:lnTo>
                        <a:pt x="150" y="21"/>
                      </a:lnTo>
                      <a:lnTo>
                        <a:pt x="143" y="23"/>
                      </a:lnTo>
                      <a:lnTo>
                        <a:pt x="137" y="27"/>
                      </a:lnTo>
                      <a:lnTo>
                        <a:pt x="130" y="29"/>
                      </a:lnTo>
                      <a:lnTo>
                        <a:pt x="123" y="32"/>
                      </a:lnTo>
                      <a:lnTo>
                        <a:pt x="117" y="36"/>
                      </a:lnTo>
                      <a:lnTo>
                        <a:pt x="111" y="39"/>
                      </a:lnTo>
                      <a:lnTo>
                        <a:pt x="104" y="42"/>
                      </a:lnTo>
                      <a:lnTo>
                        <a:pt x="97" y="45"/>
                      </a:lnTo>
                      <a:lnTo>
                        <a:pt x="100" y="50"/>
                      </a:lnTo>
                      <a:lnTo>
                        <a:pt x="102" y="54"/>
                      </a:lnTo>
                      <a:lnTo>
                        <a:pt x="105" y="59"/>
                      </a:lnTo>
                      <a:lnTo>
                        <a:pt x="107" y="63"/>
                      </a:lnTo>
                      <a:lnTo>
                        <a:pt x="102" y="66"/>
                      </a:lnTo>
                      <a:lnTo>
                        <a:pt x="98" y="70"/>
                      </a:lnTo>
                      <a:lnTo>
                        <a:pt x="93" y="74"/>
                      </a:lnTo>
                      <a:lnTo>
                        <a:pt x="88" y="75"/>
                      </a:lnTo>
                      <a:lnTo>
                        <a:pt x="84" y="70"/>
                      </a:lnTo>
                      <a:lnTo>
                        <a:pt x="81" y="66"/>
                      </a:lnTo>
                      <a:lnTo>
                        <a:pt x="76" y="61"/>
                      </a:lnTo>
                      <a:lnTo>
                        <a:pt x="71" y="57"/>
                      </a:lnTo>
                      <a:lnTo>
                        <a:pt x="63" y="60"/>
                      </a:lnTo>
                      <a:lnTo>
                        <a:pt x="54" y="63"/>
                      </a:lnTo>
                      <a:lnTo>
                        <a:pt x="46" y="66"/>
                      </a:lnTo>
                      <a:lnTo>
                        <a:pt x="37" y="69"/>
                      </a:lnTo>
                      <a:lnTo>
                        <a:pt x="29" y="71"/>
                      </a:lnTo>
                      <a:lnTo>
                        <a:pt x="20" y="74"/>
                      </a:lnTo>
                      <a:lnTo>
                        <a:pt x="12" y="76"/>
                      </a:lnTo>
                      <a:lnTo>
                        <a:pt x="2" y="77"/>
                      </a:lnTo>
                      <a:lnTo>
                        <a:pt x="0" y="91"/>
                      </a:lnTo>
                      <a:lnTo>
                        <a:pt x="0" y="105"/>
                      </a:lnTo>
                      <a:lnTo>
                        <a:pt x="4" y="119"/>
                      </a:lnTo>
                      <a:lnTo>
                        <a:pt x="10" y="133"/>
                      </a:lnTo>
                      <a:lnTo>
                        <a:pt x="12" y="135"/>
                      </a:lnTo>
                      <a:lnTo>
                        <a:pt x="13" y="136"/>
                      </a:lnTo>
                      <a:lnTo>
                        <a:pt x="13" y="138"/>
                      </a:lnTo>
                      <a:lnTo>
                        <a:pt x="14" y="141"/>
                      </a:lnTo>
                      <a:lnTo>
                        <a:pt x="23" y="139"/>
                      </a:lnTo>
                      <a:lnTo>
                        <a:pt x="32" y="138"/>
                      </a:lnTo>
                      <a:lnTo>
                        <a:pt x="42" y="138"/>
                      </a:lnTo>
                      <a:lnTo>
                        <a:pt x="52" y="137"/>
                      </a:lnTo>
                      <a:lnTo>
                        <a:pt x="61" y="136"/>
                      </a:lnTo>
                      <a:lnTo>
                        <a:pt x="71" y="135"/>
                      </a:lnTo>
                      <a:lnTo>
                        <a:pt x="81" y="135"/>
                      </a:lnTo>
                      <a:lnTo>
                        <a:pt x="91" y="134"/>
                      </a:lnTo>
                      <a:lnTo>
                        <a:pt x="96" y="122"/>
                      </a:lnTo>
                      <a:lnTo>
                        <a:pt x="100" y="111"/>
                      </a:lnTo>
                      <a:lnTo>
                        <a:pt x="105" y="100"/>
                      </a:lnTo>
                      <a:lnTo>
                        <a:pt x="108" y="8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rot="839400">
                  <a:off x="2658960" y="3834000"/>
                  <a:ext cx="403560" cy="379080"/>
                </a:xfrm>
                <a:custGeom>
                  <a:avLst/>
                  <a:gdLst/>
                  <a:ahLst/>
                  <a:rect l="l" t="t" r="r" b="b"/>
                  <a:pathLst>
                    <a:path w="686" h="686">
                      <a:moveTo>
                        <a:pt x="628" y="0"/>
                      </a:moveTo>
                      <a:lnTo>
                        <a:pt x="617" y="1"/>
                      </a:lnTo>
                      <a:lnTo>
                        <a:pt x="608" y="5"/>
                      </a:lnTo>
                      <a:lnTo>
                        <a:pt x="599" y="12"/>
                      </a:lnTo>
                      <a:lnTo>
                        <a:pt x="591" y="19"/>
                      </a:lnTo>
                      <a:lnTo>
                        <a:pt x="583" y="27"/>
                      </a:lnTo>
                      <a:lnTo>
                        <a:pt x="576" y="36"/>
                      </a:lnTo>
                      <a:lnTo>
                        <a:pt x="569" y="44"/>
                      </a:lnTo>
                      <a:lnTo>
                        <a:pt x="561" y="51"/>
                      </a:lnTo>
                      <a:lnTo>
                        <a:pt x="561" y="77"/>
                      </a:lnTo>
                      <a:lnTo>
                        <a:pt x="563" y="104"/>
                      </a:lnTo>
                      <a:lnTo>
                        <a:pt x="563" y="129"/>
                      </a:lnTo>
                      <a:lnTo>
                        <a:pt x="557" y="153"/>
                      </a:lnTo>
                      <a:lnTo>
                        <a:pt x="553" y="153"/>
                      </a:lnTo>
                      <a:lnTo>
                        <a:pt x="548" y="155"/>
                      </a:lnTo>
                      <a:lnTo>
                        <a:pt x="544" y="156"/>
                      </a:lnTo>
                      <a:lnTo>
                        <a:pt x="540" y="158"/>
                      </a:lnTo>
                      <a:lnTo>
                        <a:pt x="536" y="159"/>
                      </a:lnTo>
                      <a:lnTo>
                        <a:pt x="531" y="159"/>
                      </a:lnTo>
                      <a:lnTo>
                        <a:pt x="528" y="160"/>
                      </a:lnTo>
                      <a:lnTo>
                        <a:pt x="523" y="159"/>
                      </a:lnTo>
                      <a:lnTo>
                        <a:pt x="517" y="126"/>
                      </a:lnTo>
                      <a:lnTo>
                        <a:pt x="516" y="92"/>
                      </a:lnTo>
                      <a:lnTo>
                        <a:pt x="515" y="59"/>
                      </a:lnTo>
                      <a:lnTo>
                        <a:pt x="511" y="26"/>
                      </a:lnTo>
                      <a:lnTo>
                        <a:pt x="509" y="28"/>
                      </a:lnTo>
                      <a:lnTo>
                        <a:pt x="507" y="29"/>
                      </a:lnTo>
                      <a:lnTo>
                        <a:pt x="505" y="30"/>
                      </a:lnTo>
                      <a:lnTo>
                        <a:pt x="502" y="31"/>
                      </a:lnTo>
                      <a:lnTo>
                        <a:pt x="490" y="52"/>
                      </a:lnTo>
                      <a:lnTo>
                        <a:pt x="479" y="73"/>
                      </a:lnTo>
                      <a:lnTo>
                        <a:pt x="470" y="95"/>
                      </a:lnTo>
                      <a:lnTo>
                        <a:pt x="462" y="117"/>
                      </a:lnTo>
                      <a:lnTo>
                        <a:pt x="455" y="139"/>
                      </a:lnTo>
                      <a:lnTo>
                        <a:pt x="448" y="162"/>
                      </a:lnTo>
                      <a:lnTo>
                        <a:pt x="444" y="185"/>
                      </a:lnTo>
                      <a:lnTo>
                        <a:pt x="439" y="208"/>
                      </a:lnTo>
                      <a:lnTo>
                        <a:pt x="438" y="211"/>
                      </a:lnTo>
                      <a:lnTo>
                        <a:pt x="437" y="213"/>
                      </a:lnTo>
                      <a:lnTo>
                        <a:pt x="436" y="217"/>
                      </a:lnTo>
                      <a:lnTo>
                        <a:pt x="432" y="220"/>
                      </a:lnTo>
                      <a:lnTo>
                        <a:pt x="426" y="220"/>
                      </a:lnTo>
                      <a:lnTo>
                        <a:pt x="421" y="221"/>
                      </a:lnTo>
                      <a:lnTo>
                        <a:pt x="414" y="221"/>
                      </a:lnTo>
                      <a:lnTo>
                        <a:pt x="408" y="221"/>
                      </a:lnTo>
                      <a:lnTo>
                        <a:pt x="402" y="221"/>
                      </a:lnTo>
                      <a:lnTo>
                        <a:pt x="396" y="221"/>
                      </a:lnTo>
                      <a:lnTo>
                        <a:pt x="391" y="220"/>
                      </a:lnTo>
                      <a:lnTo>
                        <a:pt x="386" y="220"/>
                      </a:lnTo>
                      <a:lnTo>
                        <a:pt x="392" y="197"/>
                      </a:lnTo>
                      <a:lnTo>
                        <a:pt x="398" y="175"/>
                      </a:lnTo>
                      <a:lnTo>
                        <a:pt x="405" y="153"/>
                      </a:lnTo>
                      <a:lnTo>
                        <a:pt x="409" y="130"/>
                      </a:lnTo>
                      <a:lnTo>
                        <a:pt x="398" y="132"/>
                      </a:lnTo>
                      <a:lnTo>
                        <a:pt x="387" y="135"/>
                      </a:lnTo>
                      <a:lnTo>
                        <a:pt x="376" y="139"/>
                      </a:lnTo>
                      <a:lnTo>
                        <a:pt x="365" y="142"/>
                      </a:lnTo>
                      <a:lnTo>
                        <a:pt x="355" y="147"/>
                      </a:lnTo>
                      <a:lnTo>
                        <a:pt x="344" y="150"/>
                      </a:lnTo>
                      <a:lnTo>
                        <a:pt x="333" y="153"/>
                      </a:lnTo>
                      <a:lnTo>
                        <a:pt x="322" y="156"/>
                      </a:lnTo>
                      <a:lnTo>
                        <a:pt x="308" y="160"/>
                      </a:lnTo>
                      <a:lnTo>
                        <a:pt x="293" y="166"/>
                      </a:lnTo>
                      <a:lnTo>
                        <a:pt x="279" y="171"/>
                      </a:lnTo>
                      <a:lnTo>
                        <a:pt x="265" y="175"/>
                      </a:lnTo>
                      <a:lnTo>
                        <a:pt x="252" y="180"/>
                      </a:lnTo>
                      <a:lnTo>
                        <a:pt x="238" y="185"/>
                      </a:lnTo>
                      <a:lnTo>
                        <a:pt x="224" y="189"/>
                      </a:lnTo>
                      <a:lnTo>
                        <a:pt x="210" y="193"/>
                      </a:lnTo>
                      <a:lnTo>
                        <a:pt x="204" y="183"/>
                      </a:lnTo>
                      <a:lnTo>
                        <a:pt x="206" y="174"/>
                      </a:lnTo>
                      <a:lnTo>
                        <a:pt x="210" y="164"/>
                      </a:lnTo>
                      <a:lnTo>
                        <a:pt x="213" y="151"/>
                      </a:lnTo>
                      <a:lnTo>
                        <a:pt x="214" y="127"/>
                      </a:lnTo>
                      <a:lnTo>
                        <a:pt x="215" y="104"/>
                      </a:lnTo>
                      <a:lnTo>
                        <a:pt x="215" y="80"/>
                      </a:lnTo>
                      <a:lnTo>
                        <a:pt x="210" y="58"/>
                      </a:lnTo>
                      <a:lnTo>
                        <a:pt x="203" y="60"/>
                      </a:lnTo>
                      <a:lnTo>
                        <a:pt x="196" y="65"/>
                      </a:lnTo>
                      <a:lnTo>
                        <a:pt x="190" y="69"/>
                      </a:lnTo>
                      <a:lnTo>
                        <a:pt x="184" y="75"/>
                      </a:lnTo>
                      <a:lnTo>
                        <a:pt x="177" y="81"/>
                      </a:lnTo>
                      <a:lnTo>
                        <a:pt x="170" y="87"/>
                      </a:lnTo>
                      <a:lnTo>
                        <a:pt x="164" y="94"/>
                      </a:lnTo>
                      <a:lnTo>
                        <a:pt x="157" y="99"/>
                      </a:lnTo>
                      <a:lnTo>
                        <a:pt x="146" y="114"/>
                      </a:lnTo>
                      <a:lnTo>
                        <a:pt x="141" y="129"/>
                      </a:lnTo>
                      <a:lnTo>
                        <a:pt x="141" y="147"/>
                      </a:lnTo>
                      <a:lnTo>
                        <a:pt x="144" y="163"/>
                      </a:lnTo>
                      <a:lnTo>
                        <a:pt x="147" y="180"/>
                      </a:lnTo>
                      <a:lnTo>
                        <a:pt x="150" y="197"/>
                      </a:lnTo>
                      <a:lnTo>
                        <a:pt x="152" y="215"/>
                      </a:lnTo>
                      <a:lnTo>
                        <a:pt x="150" y="231"/>
                      </a:lnTo>
                      <a:lnTo>
                        <a:pt x="146" y="232"/>
                      </a:lnTo>
                      <a:lnTo>
                        <a:pt x="141" y="233"/>
                      </a:lnTo>
                      <a:lnTo>
                        <a:pt x="138" y="234"/>
                      </a:lnTo>
                      <a:lnTo>
                        <a:pt x="133" y="235"/>
                      </a:lnTo>
                      <a:lnTo>
                        <a:pt x="129" y="236"/>
                      </a:lnTo>
                      <a:lnTo>
                        <a:pt x="124" y="236"/>
                      </a:lnTo>
                      <a:lnTo>
                        <a:pt x="119" y="235"/>
                      </a:lnTo>
                      <a:lnTo>
                        <a:pt x="115" y="234"/>
                      </a:lnTo>
                      <a:lnTo>
                        <a:pt x="111" y="218"/>
                      </a:lnTo>
                      <a:lnTo>
                        <a:pt x="109" y="201"/>
                      </a:lnTo>
                      <a:lnTo>
                        <a:pt x="107" y="182"/>
                      </a:lnTo>
                      <a:lnTo>
                        <a:pt x="104" y="165"/>
                      </a:lnTo>
                      <a:lnTo>
                        <a:pt x="100" y="148"/>
                      </a:lnTo>
                      <a:lnTo>
                        <a:pt x="95" y="130"/>
                      </a:lnTo>
                      <a:lnTo>
                        <a:pt x="89" y="113"/>
                      </a:lnTo>
                      <a:lnTo>
                        <a:pt x="80" y="98"/>
                      </a:lnTo>
                      <a:lnTo>
                        <a:pt x="73" y="102"/>
                      </a:lnTo>
                      <a:lnTo>
                        <a:pt x="69" y="107"/>
                      </a:lnTo>
                      <a:lnTo>
                        <a:pt x="63" y="114"/>
                      </a:lnTo>
                      <a:lnTo>
                        <a:pt x="57" y="121"/>
                      </a:lnTo>
                      <a:lnTo>
                        <a:pt x="52" y="140"/>
                      </a:lnTo>
                      <a:lnTo>
                        <a:pt x="46" y="158"/>
                      </a:lnTo>
                      <a:lnTo>
                        <a:pt x="40" y="175"/>
                      </a:lnTo>
                      <a:lnTo>
                        <a:pt x="35" y="194"/>
                      </a:lnTo>
                      <a:lnTo>
                        <a:pt x="31" y="212"/>
                      </a:lnTo>
                      <a:lnTo>
                        <a:pt x="26" y="231"/>
                      </a:lnTo>
                      <a:lnTo>
                        <a:pt x="24" y="250"/>
                      </a:lnTo>
                      <a:lnTo>
                        <a:pt x="23" y="269"/>
                      </a:lnTo>
                      <a:lnTo>
                        <a:pt x="17" y="278"/>
                      </a:lnTo>
                      <a:lnTo>
                        <a:pt x="11" y="287"/>
                      </a:lnTo>
                      <a:lnTo>
                        <a:pt x="6" y="297"/>
                      </a:lnTo>
                      <a:lnTo>
                        <a:pt x="0" y="307"/>
                      </a:lnTo>
                      <a:lnTo>
                        <a:pt x="32" y="299"/>
                      </a:lnTo>
                      <a:lnTo>
                        <a:pt x="65" y="289"/>
                      </a:lnTo>
                      <a:lnTo>
                        <a:pt x="99" y="279"/>
                      </a:lnTo>
                      <a:lnTo>
                        <a:pt x="133" y="270"/>
                      </a:lnTo>
                      <a:lnTo>
                        <a:pt x="168" y="261"/>
                      </a:lnTo>
                      <a:lnTo>
                        <a:pt x="202" y="254"/>
                      </a:lnTo>
                      <a:lnTo>
                        <a:pt x="235" y="247"/>
                      </a:lnTo>
                      <a:lnTo>
                        <a:pt x="270" y="243"/>
                      </a:lnTo>
                      <a:lnTo>
                        <a:pt x="302" y="241"/>
                      </a:lnTo>
                      <a:lnTo>
                        <a:pt x="334" y="242"/>
                      </a:lnTo>
                      <a:lnTo>
                        <a:pt x="365" y="247"/>
                      </a:lnTo>
                      <a:lnTo>
                        <a:pt x="395" y="255"/>
                      </a:lnTo>
                      <a:lnTo>
                        <a:pt x="424" y="268"/>
                      </a:lnTo>
                      <a:lnTo>
                        <a:pt x="451" y="285"/>
                      </a:lnTo>
                      <a:lnTo>
                        <a:pt x="476" y="308"/>
                      </a:lnTo>
                      <a:lnTo>
                        <a:pt x="499" y="336"/>
                      </a:lnTo>
                      <a:lnTo>
                        <a:pt x="500" y="337"/>
                      </a:lnTo>
                      <a:lnTo>
                        <a:pt x="500" y="337"/>
                      </a:lnTo>
                      <a:lnTo>
                        <a:pt x="500" y="338"/>
                      </a:lnTo>
                      <a:lnTo>
                        <a:pt x="500" y="339"/>
                      </a:lnTo>
                      <a:lnTo>
                        <a:pt x="507" y="326"/>
                      </a:lnTo>
                      <a:lnTo>
                        <a:pt x="513" y="315"/>
                      </a:lnTo>
                      <a:lnTo>
                        <a:pt x="520" y="303"/>
                      </a:lnTo>
                      <a:lnTo>
                        <a:pt x="528" y="292"/>
                      </a:lnTo>
                      <a:lnTo>
                        <a:pt x="534" y="280"/>
                      </a:lnTo>
                      <a:lnTo>
                        <a:pt x="541" y="269"/>
                      </a:lnTo>
                      <a:lnTo>
                        <a:pt x="549" y="258"/>
                      </a:lnTo>
                      <a:lnTo>
                        <a:pt x="557" y="248"/>
                      </a:lnTo>
                      <a:lnTo>
                        <a:pt x="564" y="254"/>
                      </a:lnTo>
                      <a:lnTo>
                        <a:pt x="570" y="261"/>
                      </a:lnTo>
                      <a:lnTo>
                        <a:pt x="576" y="268"/>
                      </a:lnTo>
                      <a:lnTo>
                        <a:pt x="583" y="273"/>
                      </a:lnTo>
                      <a:lnTo>
                        <a:pt x="575" y="286"/>
                      </a:lnTo>
                      <a:lnTo>
                        <a:pt x="567" y="297"/>
                      </a:lnTo>
                      <a:lnTo>
                        <a:pt x="559" y="310"/>
                      </a:lnTo>
                      <a:lnTo>
                        <a:pt x="552" y="322"/>
                      </a:lnTo>
                      <a:lnTo>
                        <a:pt x="544" y="334"/>
                      </a:lnTo>
                      <a:lnTo>
                        <a:pt x="537" y="347"/>
                      </a:lnTo>
                      <a:lnTo>
                        <a:pt x="529" y="359"/>
                      </a:lnTo>
                      <a:lnTo>
                        <a:pt x="522" y="371"/>
                      </a:lnTo>
                      <a:lnTo>
                        <a:pt x="541" y="407"/>
                      </a:lnTo>
                      <a:lnTo>
                        <a:pt x="557" y="445"/>
                      </a:lnTo>
                      <a:lnTo>
                        <a:pt x="571" y="483"/>
                      </a:lnTo>
                      <a:lnTo>
                        <a:pt x="582" y="523"/>
                      </a:lnTo>
                      <a:lnTo>
                        <a:pt x="591" y="562"/>
                      </a:lnTo>
                      <a:lnTo>
                        <a:pt x="598" y="604"/>
                      </a:lnTo>
                      <a:lnTo>
                        <a:pt x="603" y="644"/>
                      </a:lnTo>
                      <a:lnTo>
                        <a:pt x="607" y="686"/>
                      </a:lnTo>
                      <a:lnTo>
                        <a:pt x="615" y="676"/>
                      </a:lnTo>
                      <a:lnTo>
                        <a:pt x="623" y="667"/>
                      </a:lnTo>
                      <a:lnTo>
                        <a:pt x="630" y="658"/>
                      </a:lnTo>
                      <a:lnTo>
                        <a:pt x="638" y="649"/>
                      </a:lnTo>
                      <a:lnTo>
                        <a:pt x="645" y="640"/>
                      </a:lnTo>
                      <a:lnTo>
                        <a:pt x="652" y="630"/>
                      </a:lnTo>
                      <a:lnTo>
                        <a:pt x="659" y="621"/>
                      </a:lnTo>
                      <a:lnTo>
                        <a:pt x="664" y="611"/>
                      </a:lnTo>
                      <a:lnTo>
                        <a:pt x="670" y="532"/>
                      </a:lnTo>
                      <a:lnTo>
                        <a:pt x="677" y="454"/>
                      </a:lnTo>
                      <a:lnTo>
                        <a:pt x="684" y="376"/>
                      </a:lnTo>
                      <a:lnTo>
                        <a:pt x="686" y="297"/>
                      </a:lnTo>
                      <a:lnTo>
                        <a:pt x="684" y="220"/>
                      </a:lnTo>
                      <a:lnTo>
                        <a:pt x="675" y="145"/>
                      </a:lnTo>
                      <a:lnTo>
                        <a:pt x="656" y="72"/>
                      </a:lnTo>
                      <a:lnTo>
                        <a:pt x="62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rot="839400">
                  <a:off x="2522520" y="3975480"/>
                  <a:ext cx="149040" cy="295920"/>
                </a:xfrm>
                <a:custGeom>
                  <a:avLst/>
                  <a:gdLst/>
                  <a:ahLst/>
                  <a:rect l="l" t="t" r="r" b="b"/>
                  <a:pathLst>
                    <a:path w="256" h="536">
                      <a:moveTo>
                        <a:pt x="117" y="308"/>
                      </a:moveTo>
                      <a:lnTo>
                        <a:pt x="120" y="279"/>
                      </a:lnTo>
                      <a:lnTo>
                        <a:pt x="127" y="250"/>
                      </a:lnTo>
                      <a:lnTo>
                        <a:pt x="136" y="224"/>
                      </a:lnTo>
                      <a:lnTo>
                        <a:pt x="146" y="197"/>
                      </a:lnTo>
                      <a:lnTo>
                        <a:pt x="158" y="172"/>
                      </a:lnTo>
                      <a:lnTo>
                        <a:pt x="172" y="147"/>
                      </a:lnTo>
                      <a:lnTo>
                        <a:pt x="186" y="121"/>
                      </a:lnTo>
                      <a:lnTo>
                        <a:pt x="199" y="96"/>
                      </a:lnTo>
                      <a:lnTo>
                        <a:pt x="204" y="97"/>
                      </a:lnTo>
                      <a:lnTo>
                        <a:pt x="210" y="98"/>
                      </a:lnTo>
                      <a:lnTo>
                        <a:pt x="214" y="100"/>
                      </a:lnTo>
                      <a:lnTo>
                        <a:pt x="219" y="100"/>
                      </a:lnTo>
                      <a:lnTo>
                        <a:pt x="226" y="89"/>
                      </a:lnTo>
                      <a:lnTo>
                        <a:pt x="233" y="79"/>
                      </a:lnTo>
                      <a:lnTo>
                        <a:pt x="240" y="70"/>
                      </a:lnTo>
                      <a:lnTo>
                        <a:pt x="246" y="59"/>
                      </a:lnTo>
                      <a:lnTo>
                        <a:pt x="256" y="41"/>
                      </a:lnTo>
                      <a:lnTo>
                        <a:pt x="256" y="26"/>
                      </a:lnTo>
                      <a:lnTo>
                        <a:pt x="246" y="17"/>
                      </a:lnTo>
                      <a:lnTo>
                        <a:pt x="233" y="10"/>
                      </a:lnTo>
                      <a:lnTo>
                        <a:pt x="212" y="6"/>
                      </a:lnTo>
                      <a:lnTo>
                        <a:pt x="190" y="4"/>
                      </a:lnTo>
                      <a:lnTo>
                        <a:pt x="166" y="2"/>
                      </a:lnTo>
                      <a:lnTo>
                        <a:pt x="142" y="0"/>
                      </a:lnTo>
                      <a:lnTo>
                        <a:pt x="120" y="33"/>
                      </a:lnTo>
                      <a:lnTo>
                        <a:pt x="99" y="65"/>
                      </a:lnTo>
                      <a:lnTo>
                        <a:pt x="79" y="97"/>
                      </a:lnTo>
                      <a:lnTo>
                        <a:pt x="59" y="131"/>
                      </a:lnTo>
                      <a:lnTo>
                        <a:pt x="42" y="165"/>
                      </a:lnTo>
                      <a:lnTo>
                        <a:pt x="26" y="200"/>
                      </a:lnTo>
                      <a:lnTo>
                        <a:pt x="13" y="235"/>
                      </a:lnTo>
                      <a:lnTo>
                        <a:pt x="4" y="272"/>
                      </a:lnTo>
                      <a:lnTo>
                        <a:pt x="0" y="309"/>
                      </a:lnTo>
                      <a:lnTo>
                        <a:pt x="2" y="346"/>
                      </a:lnTo>
                      <a:lnTo>
                        <a:pt x="6" y="381"/>
                      </a:lnTo>
                      <a:lnTo>
                        <a:pt x="14" y="414"/>
                      </a:lnTo>
                      <a:lnTo>
                        <a:pt x="26" y="447"/>
                      </a:lnTo>
                      <a:lnTo>
                        <a:pt x="42" y="479"/>
                      </a:lnTo>
                      <a:lnTo>
                        <a:pt x="60" y="508"/>
                      </a:lnTo>
                      <a:lnTo>
                        <a:pt x="83" y="536"/>
                      </a:lnTo>
                      <a:lnTo>
                        <a:pt x="92" y="535"/>
                      </a:lnTo>
                      <a:lnTo>
                        <a:pt x="102" y="534"/>
                      </a:lnTo>
                      <a:lnTo>
                        <a:pt x="111" y="534"/>
                      </a:lnTo>
                      <a:lnTo>
                        <a:pt x="120" y="534"/>
                      </a:lnTo>
                      <a:lnTo>
                        <a:pt x="129" y="533"/>
                      </a:lnTo>
                      <a:lnTo>
                        <a:pt x="140" y="532"/>
                      </a:lnTo>
                      <a:lnTo>
                        <a:pt x="148" y="530"/>
                      </a:lnTo>
                      <a:lnTo>
                        <a:pt x="157" y="528"/>
                      </a:lnTo>
                      <a:lnTo>
                        <a:pt x="169" y="525"/>
                      </a:lnTo>
                      <a:lnTo>
                        <a:pt x="181" y="520"/>
                      </a:lnTo>
                      <a:lnTo>
                        <a:pt x="194" y="517"/>
                      </a:lnTo>
                      <a:lnTo>
                        <a:pt x="206" y="513"/>
                      </a:lnTo>
                      <a:lnTo>
                        <a:pt x="218" y="510"/>
                      </a:lnTo>
                      <a:lnTo>
                        <a:pt x="230" y="506"/>
                      </a:lnTo>
                      <a:lnTo>
                        <a:pt x="242" y="503"/>
                      </a:lnTo>
                      <a:lnTo>
                        <a:pt x="255" y="499"/>
                      </a:lnTo>
                      <a:lnTo>
                        <a:pt x="243" y="491"/>
                      </a:lnTo>
                      <a:lnTo>
                        <a:pt x="233" y="483"/>
                      </a:lnTo>
                      <a:lnTo>
                        <a:pt x="222" y="475"/>
                      </a:lnTo>
                      <a:lnTo>
                        <a:pt x="212" y="466"/>
                      </a:lnTo>
                      <a:lnTo>
                        <a:pt x="204" y="457"/>
                      </a:lnTo>
                      <a:lnTo>
                        <a:pt x="196" y="446"/>
                      </a:lnTo>
                      <a:lnTo>
                        <a:pt x="188" y="435"/>
                      </a:lnTo>
                      <a:lnTo>
                        <a:pt x="182" y="422"/>
                      </a:lnTo>
                      <a:lnTo>
                        <a:pt x="176" y="411"/>
                      </a:lnTo>
                      <a:lnTo>
                        <a:pt x="172" y="399"/>
                      </a:lnTo>
                      <a:lnTo>
                        <a:pt x="167" y="389"/>
                      </a:lnTo>
                      <a:lnTo>
                        <a:pt x="164" y="377"/>
                      </a:lnTo>
                      <a:lnTo>
                        <a:pt x="159" y="378"/>
                      </a:lnTo>
                      <a:lnTo>
                        <a:pt x="153" y="379"/>
                      </a:lnTo>
                      <a:lnTo>
                        <a:pt x="149" y="381"/>
                      </a:lnTo>
                      <a:lnTo>
                        <a:pt x="143" y="382"/>
                      </a:lnTo>
                      <a:lnTo>
                        <a:pt x="138" y="383"/>
                      </a:lnTo>
                      <a:lnTo>
                        <a:pt x="133" y="383"/>
                      </a:lnTo>
                      <a:lnTo>
                        <a:pt x="128" y="384"/>
                      </a:lnTo>
                      <a:lnTo>
                        <a:pt x="122" y="385"/>
                      </a:lnTo>
                      <a:lnTo>
                        <a:pt x="115" y="367"/>
                      </a:lnTo>
                      <a:lnTo>
                        <a:pt x="114" y="348"/>
                      </a:lnTo>
                      <a:lnTo>
                        <a:pt x="115" y="329"/>
                      </a:lnTo>
                      <a:lnTo>
                        <a:pt x="117" y="30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839400">
                  <a:off x="2609640" y="3956400"/>
                  <a:ext cx="379080" cy="343440"/>
                </a:xfrm>
                <a:custGeom>
                  <a:avLst/>
                  <a:gdLst/>
                  <a:ahLst/>
                  <a:rect l="l" t="t" r="r" b="b"/>
                  <a:pathLst>
                    <a:path w="645" h="623">
                      <a:moveTo>
                        <a:pt x="560" y="130"/>
                      </a:moveTo>
                      <a:lnTo>
                        <a:pt x="547" y="154"/>
                      </a:lnTo>
                      <a:lnTo>
                        <a:pt x="535" y="180"/>
                      </a:lnTo>
                      <a:lnTo>
                        <a:pt x="523" y="205"/>
                      </a:lnTo>
                      <a:lnTo>
                        <a:pt x="513" y="230"/>
                      </a:lnTo>
                      <a:lnTo>
                        <a:pt x="502" y="256"/>
                      </a:lnTo>
                      <a:lnTo>
                        <a:pt x="492" y="281"/>
                      </a:lnTo>
                      <a:lnTo>
                        <a:pt x="484" y="308"/>
                      </a:lnTo>
                      <a:lnTo>
                        <a:pt x="476" y="334"/>
                      </a:lnTo>
                      <a:lnTo>
                        <a:pt x="471" y="343"/>
                      </a:lnTo>
                      <a:lnTo>
                        <a:pt x="471" y="356"/>
                      </a:lnTo>
                      <a:lnTo>
                        <a:pt x="472" y="369"/>
                      </a:lnTo>
                      <a:lnTo>
                        <a:pt x="475" y="381"/>
                      </a:lnTo>
                      <a:lnTo>
                        <a:pt x="475" y="393"/>
                      </a:lnTo>
                      <a:lnTo>
                        <a:pt x="471" y="401"/>
                      </a:lnTo>
                      <a:lnTo>
                        <a:pt x="462" y="404"/>
                      </a:lnTo>
                      <a:lnTo>
                        <a:pt x="445" y="402"/>
                      </a:lnTo>
                      <a:lnTo>
                        <a:pt x="441" y="381"/>
                      </a:lnTo>
                      <a:lnTo>
                        <a:pt x="440" y="361"/>
                      </a:lnTo>
                      <a:lnTo>
                        <a:pt x="441" y="339"/>
                      </a:lnTo>
                      <a:lnTo>
                        <a:pt x="445" y="319"/>
                      </a:lnTo>
                      <a:lnTo>
                        <a:pt x="457" y="291"/>
                      </a:lnTo>
                      <a:lnTo>
                        <a:pt x="469" y="264"/>
                      </a:lnTo>
                      <a:lnTo>
                        <a:pt x="480" y="236"/>
                      </a:lnTo>
                      <a:lnTo>
                        <a:pt x="492" y="209"/>
                      </a:lnTo>
                      <a:lnTo>
                        <a:pt x="502" y="180"/>
                      </a:lnTo>
                      <a:lnTo>
                        <a:pt x="514" y="152"/>
                      </a:lnTo>
                      <a:lnTo>
                        <a:pt x="525" y="124"/>
                      </a:lnTo>
                      <a:lnTo>
                        <a:pt x="538" y="98"/>
                      </a:lnTo>
                      <a:lnTo>
                        <a:pt x="538" y="97"/>
                      </a:lnTo>
                      <a:lnTo>
                        <a:pt x="538" y="96"/>
                      </a:lnTo>
                      <a:lnTo>
                        <a:pt x="538" y="96"/>
                      </a:lnTo>
                      <a:lnTo>
                        <a:pt x="537" y="95"/>
                      </a:lnTo>
                      <a:lnTo>
                        <a:pt x="514" y="67"/>
                      </a:lnTo>
                      <a:lnTo>
                        <a:pt x="489" y="44"/>
                      </a:lnTo>
                      <a:lnTo>
                        <a:pt x="462" y="27"/>
                      </a:lnTo>
                      <a:lnTo>
                        <a:pt x="433" y="14"/>
                      </a:lnTo>
                      <a:lnTo>
                        <a:pt x="403" y="6"/>
                      </a:lnTo>
                      <a:lnTo>
                        <a:pt x="372" y="1"/>
                      </a:lnTo>
                      <a:lnTo>
                        <a:pt x="340" y="0"/>
                      </a:lnTo>
                      <a:lnTo>
                        <a:pt x="308" y="2"/>
                      </a:lnTo>
                      <a:lnTo>
                        <a:pt x="273" y="6"/>
                      </a:lnTo>
                      <a:lnTo>
                        <a:pt x="240" y="13"/>
                      </a:lnTo>
                      <a:lnTo>
                        <a:pt x="206" y="20"/>
                      </a:lnTo>
                      <a:lnTo>
                        <a:pt x="171" y="29"/>
                      </a:lnTo>
                      <a:lnTo>
                        <a:pt x="137" y="38"/>
                      </a:lnTo>
                      <a:lnTo>
                        <a:pt x="103" y="48"/>
                      </a:lnTo>
                      <a:lnTo>
                        <a:pt x="70" y="58"/>
                      </a:lnTo>
                      <a:lnTo>
                        <a:pt x="38" y="66"/>
                      </a:lnTo>
                      <a:lnTo>
                        <a:pt x="33" y="74"/>
                      </a:lnTo>
                      <a:lnTo>
                        <a:pt x="29" y="81"/>
                      </a:lnTo>
                      <a:lnTo>
                        <a:pt x="24" y="89"/>
                      </a:lnTo>
                      <a:lnTo>
                        <a:pt x="19" y="96"/>
                      </a:lnTo>
                      <a:lnTo>
                        <a:pt x="14" y="103"/>
                      </a:lnTo>
                      <a:lnTo>
                        <a:pt x="9" y="109"/>
                      </a:lnTo>
                      <a:lnTo>
                        <a:pt x="4" y="118"/>
                      </a:lnTo>
                      <a:lnTo>
                        <a:pt x="0" y="124"/>
                      </a:lnTo>
                      <a:lnTo>
                        <a:pt x="19" y="126"/>
                      </a:lnTo>
                      <a:lnTo>
                        <a:pt x="38" y="127"/>
                      </a:lnTo>
                      <a:lnTo>
                        <a:pt x="57" y="128"/>
                      </a:lnTo>
                      <a:lnTo>
                        <a:pt x="75" y="130"/>
                      </a:lnTo>
                      <a:lnTo>
                        <a:pt x="90" y="134"/>
                      </a:lnTo>
                      <a:lnTo>
                        <a:pt x="102" y="139"/>
                      </a:lnTo>
                      <a:lnTo>
                        <a:pt x="110" y="146"/>
                      </a:lnTo>
                      <a:lnTo>
                        <a:pt x="114" y="156"/>
                      </a:lnTo>
                      <a:lnTo>
                        <a:pt x="125" y="153"/>
                      </a:lnTo>
                      <a:lnTo>
                        <a:pt x="138" y="151"/>
                      </a:lnTo>
                      <a:lnTo>
                        <a:pt x="150" y="149"/>
                      </a:lnTo>
                      <a:lnTo>
                        <a:pt x="162" y="147"/>
                      </a:lnTo>
                      <a:lnTo>
                        <a:pt x="175" y="146"/>
                      </a:lnTo>
                      <a:lnTo>
                        <a:pt x="187" y="145"/>
                      </a:lnTo>
                      <a:lnTo>
                        <a:pt x="200" y="144"/>
                      </a:lnTo>
                      <a:lnTo>
                        <a:pt x="213" y="143"/>
                      </a:lnTo>
                      <a:lnTo>
                        <a:pt x="225" y="142"/>
                      </a:lnTo>
                      <a:lnTo>
                        <a:pt x="238" y="141"/>
                      </a:lnTo>
                      <a:lnTo>
                        <a:pt x="249" y="139"/>
                      </a:lnTo>
                      <a:lnTo>
                        <a:pt x="262" y="138"/>
                      </a:lnTo>
                      <a:lnTo>
                        <a:pt x="275" y="137"/>
                      </a:lnTo>
                      <a:lnTo>
                        <a:pt x="286" y="136"/>
                      </a:lnTo>
                      <a:lnTo>
                        <a:pt x="299" y="135"/>
                      </a:lnTo>
                      <a:lnTo>
                        <a:pt x="310" y="133"/>
                      </a:lnTo>
                      <a:lnTo>
                        <a:pt x="321" y="133"/>
                      </a:lnTo>
                      <a:lnTo>
                        <a:pt x="331" y="131"/>
                      </a:lnTo>
                      <a:lnTo>
                        <a:pt x="342" y="131"/>
                      </a:lnTo>
                      <a:lnTo>
                        <a:pt x="353" y="130"/>
                      </a:lnTo>
                      <a:lnTo>
                        <a:pt x="363" y="133"/>
                      </a:lnTo>
                      <a:lnTo>
                        <a:pt x="371" y="137"/>
                      </a:lnTo>
                      <a:lnTo>
                        <a:pt x="378" y="144"/>
                      </a:lnTo>
                      <a:lnTo>
                        <a:pt x="383" y="157"/>
                      </a:lnTo>
                      <a:lnTo>
                        <a:pt x="370" y="186"/>
                      </a:lnTo>
                      <a:lnTo>
                        <a:pt x="356" y="214"/>
                      </a:lnTo>
                      <a:lnTo>
                        <a:pt x="342" y="244"/>
                      </a:lnTo>
                      <a:lnTo>
                        <a:pt x="328" y="273"/>
                      </a:lnTo>
                      <a:lnTo>
                        <a:pt x="314" y="304"/>
                      </a:lnTo>
                      <a:lnTo>
                        <a:pt x="301" y="334"/>
                      </a:lnTo>
                      <a:lnTo>
                        <a:pt x="288" y="365"/>
                      </a:lnTo>
                      <a:lnTo>
                        <a:pt x="278" y="397"/>
                      </a:lnTo>
                      <a:lnTo>
                        <a:pt x="276" y="406"/>
                      </a:lnTo>
                      <a:lnTo>
                        <a:pt x="275" y="414"/>
                      </a:lnTo>
                      <a:lnTo>
                        <a:pt x="272" y="422"/>
                      </a:lnTo>
                      <a:lnTo>
                        <a:pt x="270" y="430"/>
                      </a:lnTo>
                      <a:lnTo>
                        <a:pt x="267" y="433"/>
                      </a:lnTo>
                      <a:lnTo>
                        <a:pt x="262" y="434"/>
                      </a:lnTo>
                      <a:lnTo>
                        <a:pt x="257" y="437"/>
                      </a:lnTo>
                      <a:lnTo>
                        <a:pt x="253" y="439"/>
                      </a:lnTo>
                      <a:lnTo>
                        <a:pt x="238" y="442"/>
                      </a:lnTo>
                      <a:lnTo>
                        <a:pt x="223" y="446"/>
                      </a:lnTo>
                      <a:lnTo>
                        <a:pt x="209" y="449"/>
                      </a:lnTo>
                      <a:lnTo>
                        <a:pt x="194" y="453"/>
                      </a:lnTo>
                      <a:lnTo>
                        <a:pt x="180" y="457"/>
                      </a:lnTo>
                      <a:lnTo>
                        <a:pt x="165" y="462"/>
                      </a:lnTo>
                      <a:lnTo>
                        <a:pt x="152" y="465"/>
                      </a:lnTo>
                      <a:lnTo>
                        <a:pt x="138" y="470"/>
                      </a:lnTo>
                      <a:lnTo>
                        <a:pt x="123" y="475"/>
                      </a:lnTo>
                      <a:lnTo>
                        <a:pt x="109" y="478"/>
                      </a:lnTo>
                      <a:lnTo>
                        <a:pt x="94" y="483"/>
                      </a:lnTo>
                      <a:lnTo>
                        <a:pt x="80" y="487"/>
                      </a:lnTo>
                      <a:lnTo>
                        <a:pt x="65" y="491"/>
                      </a:lnTo>
                      <a:lnTo>
                        <a:pt x="52" y="494"/>
                      </a:lnTo>
                      <a:lnTo>
                        <a:pt x="37" y="498"/>
                      </a:lnTo>
                      <a:lnTo>
                        <a:pt x="22" y="501"/>
                      </a:lnTo>
                      <a:lnTo>
                        <a:pt x="22" y="501"/>
                      </a:lnTo>
                      <a:lnTo>
                        <a:pt x="25" y="513"/>
                      </a:lnTo>
                      <a:lnTo>
                        <a:pt x="30" y="523"/>
                      </a:lnTo>
                      <a:lnTo>
                        <a:pt x="34" y="535"/>
                      </a:lnTo>
                      <a:lnTo>
                        <a:pt x="40" y="546"/>
                      </a:lnTo>
                      <a:lnTo>
                        <a:pt x="46" y="559"/>
                      </a:lnTo>
                      <a:lnTo>
                        <a:pt x="54" y="570"/>
                      </a:lnTo>
                      <a:lnTo>
                        <a:pt x="62" y="581"/>
                      </a:lnTo>
                      <a:lnTo>
                        <a:pt x="70" y="590"/>
                      </a:lnTo>
                      <a:lnTo>
                        <a:pt x="80" y="599"/>
                      </a:lnTo>
                      <a:lnTo>
                        <a:pt x="91" y="607"/>
                      </a:lnTo>
                      <a:lnTo>
                        <a:pt x="101" y="615"/>
                      </a:lnTo>
                      <a:lnTo>
                        <a:pt x="113" y="623"/>
                      </a:lnTo>
                      <a:lnTo>
                        <a:pt x="130" y="618"/>
                      </a:lnTo>
                      <a:lnTo>
                        <a:pt x="146" y="613"/>
                      </a:lnTo>
                      <a:lnTo>
                        <a:pt x="163" y="607"/>
                      </a:lnTo>
                      <a:lnTo>
                        <a:pt x="179" y="603"/>
                      </a:lnTo>
                      <a:lnTo>
                        <a:pt x="196" y="597"/>
                      </a:lnTo>
                      <a:lnTo>
                        <a:pt x="213" y="592"/>
                      </a:lnTo>
                      <a:lnTo>
                        <a:pt x="230" y="586"/>
                      </a:lnTo>
                      <a:lnTo>
                        <a:pt x="246" y="581"/>
                      </a:lnTo>
                      <a:lnTo>
                        <a:pt x="268" y="576"/>
                      </a:lnTo>
                      <a:lnTo>
                        <a:pt x="291" y="571"/>
                      </a:lnTo>
                      <a:lnTo>
                        <a:pt x="313" y="566"/>
                      </a:lnTo>
                      <a:lnTo>
                        <a:pt x="334" y="560"/>
                      </a:lnTo>
                      <a:lnTo>
                        <a:pt x="356" y="554"/>
                      </a:lnTo>
                      <a:lnTo>
                        <a:pt x="378" y="548"/>
                      </a:lnTo>
                      <a:lnTo>
                        <a:pt x="400" y="543"/>
                      </a:lnTo>
                      <a:lnTo>
                        <a:pt x="422" y="537"/>
                      </a:lnTo>
                      <a:lnTo>
                        <a:pt x="444" y="530"/>
                      </a:lnTo>
                      <a:lnTo>
                        <a:pt x="466" y="524"/>
                      </a:lnTo>
                      <a:lnTo>
                        <a:pt x="487" y="518"/>
                      </a:lnTo>
                      <a:lnTo>
                        <a:pt x="509" y="513"/>
                      </a:lnTo>
                      <a:lnTo>
                        <a:pt x="532" y="507"/>
                      </a:lnTo>
                      <a:lnTo>
                        <a:pt x="554" y="502"/>
                      </a:lnTo>
                      <a:lnTo>
                        <a:pt x="576" y="498"/>
                      </a:lnTo>
                      <a:lnTo>
                        <a:pt x="599" y="493"/>
                      </a:lnTo>
                      <a:lnTo>
                        <a:pt x="605" y="487"/>
                      </a:lnTo>
                      <a:lnTo>
                        <a:pt x="610" y="482"/>
                      </a:lnTo>
                      <a:lnTo>
                        <a:pt x="616" y="476"/>
                      </a:lnTo>
                      <a:lnTo>
                        <a:pt x="622" y="469"/>
                      </a:lnTo>
                      <a:lnTo>
                        <a:pt x="628" y="463"/>
                      </a:lnTo>
                      <a:lnTo>
                        <a:pt x="633" y="457"/>
                      </a:lnTo>
                      <a:lnTo>
                        <a:pt x="639" y="450"/>
                      </a:lnTo>
                      <a:lnTo>
                        <a:pt x="645" y="445"/>
                      </a:lnTo>
                      <a:lnTo>
                        <a:pt x="641" y="403"/>
                      </a:lnTo>
                      <a:lnTo>
                        <a:pt x="636" y="363"/>
                      </a:lnTo>
                      <a:lnTo>
                        <a:pt x="629" y="321"/>
                      </a:lnTo>
                      <a:lnTo>
                        <a:pt x="620" y="282"/>
                      </a:lnTo>
                      <a:lnTo>
                        <a:pt x="609" y="242"/>
                      </a:lnTo>
                      <a:lnTo>
                        <a:pt x="595" y="204"/>
                      </a:lnTo>
                      <a:lnTo>
                        <a:pt x="579" y="166"/>
                      </a:lnTo>
                      <a:lnTo>
                        <a:pt x="560" y="13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839400">
                  <a:off x="2677680" y="4035960"/>
                  <a:ext cx="28080" cy="38520"/>
                </a:xfrm>
                <a:custGeom>
                  <a:avLst/>
                  <a:gdLst/>
                  <a:ahLst/>
                  <a:rect l="l" t="t" r="r" b="b"/>
                  <a:pathLst>
                    <a:path w="47" h="70">
                      <a:moveTo>
                        <a:pt x="22" y="3"/>
                      </a:moveTo>
                      <a:lnTo>
                        <a:pt x="21" y="9"/>
                      </a:lnTo>
                      <a:lnTo>
                        <a:pt x="18" y="15"/>
                      </a:lnTo>
                      <a:lnTo>
                        <a:pt x="17" y="22"/>
                      </a:lnTo>
                      <a:lnTo>
                        <a:pt x="15" y="28"/>
                      </a:lnTo>
                      <a:lnTo>
                        <a:pt x="10" y="37"/>
                      </a:lnTo>
                      <a:lnTo>
                        <a:pt x="7" y="47"/>
                      </a:lnTo>
                      <a:lnTo>
                        <a:pt x="3" y="56"/>
                      </a:lnTo>
                      <a:lnTo>
                        <a:pt x="0" y="67"/>
                      </a:lnTo>
                      <a:lnTo>
                        <a:pt x="7" y="66"/>
                      </a:lnTo>
                      <a:lnTo>
                        <a:pt x="14" y="68"/>
                      </a:lnTo>
                      <a:lnTo>
                        <a:pt x="19" y="70"/>
                      </a:lnTo>
                      <a:lnTo>
                        <a:pt x="26" y="67"/>
                      </a:lnTo>
                      <a:lnTo>
                        <a:pt x="29" y="56"/>
                      </a:lnTo>
                      <a:lnTo>
                        <a:pt x="32" y="46"/>
                      </a:lnTo>
                      <a:lnTo>
                        <a:pt x="35" y="36"/>
                      </a:lnTo>
                      <a:lnTo>
                        <a:pt x="39" y="27"/>
                      </a:lnTo>
                      <a:lnTo>
                        <a:pt x="41" y="21"/>
                      </a:lnTo>
                      <a:lnTo>
                        <a:pt x="44" y="14"/>
                      </a:lnTo>
                      <a:lnTo>
                        <a:pt x="45" y="7"/>
                      </a:lnTo>
                      <a:lnTo>
                        <a:pt x="47" y="0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7" y="1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839400">
                  <a:off x="2715120" y="4045320"/>
                  <a:ext cx="24480" cy="42840"/>
                </a:xfrm>
                <a:custGeom>
                  <a:avLst/>
                  <a:gdLst/>
                  <a:ahLst/>
                  <a:rect l="l" t="t" r="r" b="b"/>
                  <a:pathLst>
                    <a:path w="42" h="77">
                      <a:moveTo>
                        <a:pt x="14" y="3"/>
                      </a:moveTo>
                      <a:lnTo>
                        <a:pt x="13" y="9"/>
                      </a:lnTo>
                      <a:lnTo>
                        <a:pt x="12" y="14"/>
                      </a:lnTo>
                      <a:lnTo>
                        <a:pt x="10" y="20"/>
                      </a:lnTo>
                      <a:lnTo>
                        <a:pt x="8" y="25"/>
                      </a:lnTo>
                      <a:lnTo>
                        <a:pt x="5" y="38"/>
                      </a:lnTo>
                      <a:lnTo>
                        <a:pt x="3" y="51"/>
                      </a:lnTo>
                      <a:lnTo>
                        <a:pt x="0" y="63"/>
                      </a:lnTo>
                      <a:lnTo>
                        <a:pt x="0" y="76"/>
                      </a:lnTo>
                      <a:lnTo>
                        <a:pt x="11" y="77"/>
                      </a:lnTo>
                      <a:lnTo>
                        <a:pt x="19" y="75"/>
                      </a:lnTo>
                      <a:lnTo>
                        <a:pt x="23" y="69"/>
                      </a:lnTo>
                      <a:lnTo>
                        <a:pt x="26" y="61"/>
                      </a:lnTo>
                      <a:lnTo>
                        <a:pt x="28" y="53"/>
                      </a:lnTo>
                      <a:lnTo>
                        <a:pt x="29" y="43"/>
                      </a:lnTo>
                      <a:lnTo>
                        <a:pt x="31" y="33"/>
                      </a:lnTo>
                      <a:lnTo>
                        <a:pt x="35" y="25"/>
                      </a:lnTo>
                      <a:lnTo>
                        <a:pt x="36" y="24"/>
                      </a:lnTo>
                      <a:lnTo>
                        <a:pt x="36" y="23"/>
                      </a:lnTo>
                      <a:lnTo>
                        <a:pt x="37" y="22"/>
                      </a:lnTo>
                      <a:lnTo>
                        <a:pt x="38" y="21"/>
                      </a:lnTo>
                      <a:lnTo>
                        <a:pt x="42" y="15"/>
                      </a:lnTo>
                      <a:lnTo>
                        <a:pt x="42" y="9"/>
                      </a:lnTo>
                      <a:lnTo>
                        <a:pt x="39" y="6"/>
                      </a:lnTo>
                      <a:lnTo>
                        <a:pt x="35" y="2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18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839400">
                  <a:off x="2747520" y="4050360"/>
                  <a:ext cx="19800" cy="4284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4" y="3"/>
                      </a:moveTo>
                      <a:lnTo>
                        <a:pt x="4" y="6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3" y="21"/>
                      </a:lnTo>
                      <a:lnTo>
                        <a:pt x="4" y="24"/>
                      </a:lnTo>
                      <a:lnTo>
                        <a:pt x="5" y="26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4" y="40"/>
                      </a:lnTo>
                      <a:lnTo>
                        <a:pt x="3" y="49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1" y="71"/>
                      </a:lnTo>
                      <a:lnTo>
                        <a:pt x="3" y="76"/>
                      </a:lnTo>
                      <a:lnTo>
                        <a:pt x="10" y="77"/>
                      </a:lnTo>
                      <a:lnTo>
                        <a:pt x="22" y="76"/>
                      </a:lnTo>
                      <a:lnTo>
                        <a:pt x="24" y="68"/>
                      </a:lnTo>
                      <a:lnTo>
                        <a:pt x="25" y="58"/>
                      </a:lnTo>
                      <a:lnTo>
                        <a:pt x="27" y="50"/>
                      </a:lnTo>
                      <a:lnTo>
                        <a:pt x="28" y="42"/>
                      </a:lnTo>
                      <a:lnTo>
                        <a:pt x="30" y="32"/>
                      </a:lnTo>
                      <a:lnTo>
                        <a:pt x="32" y="20"/>
                      </a:lnTo>
                      <a:lnTo>
                        <a:pt x="33" y="10"/>
                      </a:lnTo>
                      <a:lnTo>
                        <a:pt x="33" y="0"/>
                      </a:ln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1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839400">
                  <a:off x="2709000" y="41382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30" h="38">
                      <a:moveTo>
                        <a:pt x="4" y="6"/>
                      </a:moveTo>
                      <a:lnTo>
                        <a:pt x="0" y="13"/>
                      </a:lnTo>
                      <a:lnTo>
                        <a:pt x="3" y="20"/>
                      </a:lnTo>
                      <a:lnTo>
                        <a:pt x="7" y="25"/>
                      </a:lnTo>
                      <a:lnTo>
                        <a:pt x="10" y="33"/>
                      </a:lnTo>
                      <a:lnTo>
                        <a:pt x="10" y="35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8" y="38"/>
                      </a:lnTo>
                      <a:lnTo>
                        <a:pt x="14" y="37"/>
                      </a:lnTo>
                      <a:lnTo>
                        <a:pt x="20" y="36"/>
                      </a:lnTo>
                      <a:lnTo>
                        <a:pt x="26" y="35"/>
                      </a:lnTo>
                      <a:lnTo>
                        <a:pt x="30" y="32"/>
                      </a:lnTo>
                      <a:lnTo>
                        <a:pt x="30" y="31"/>
                      </a:lnTo>
                      <a:lnTo>
                        <a:pt x="30" y="30"/>
                      </a:lnTo>
                      <a:lnTo>
                        <a:pt x="30" y="30"/>
                      </a:lnTo>
                      <a:lnTo>
                        <a:pt x="30" y="29"/>
                      </a:lnTo>
                      <a:lnTo>
                        <a:pt x="29" y="15"/>
                      </a:lnTo>
                      <a:lnTo>
                        <a:pt x="26" y="5"/>
                      </a:lnTo>
                      <a:lnTo>
                        <a:pt x="18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839400">
                  <a:off x="2630520" y="4127040"/>
                  <a:ext cx="21240" cy="35280"/>
                </a:xfrm>
                <a:custGeom>
                  <a:avLst/>
                  <a:gdLst/>
                  <a:ahLst/>
                  <a:rect l="l" t="t" r="r" b="b"/>
                  <a:pathLst>
                    <a:path w="37" h="65">
                      <a:moveTo>
                        <a:pt x="36" y="5"/>
                      </a:moveTo>
                      <a:lnTo>
                        <a:pt x="29" y="2"/>
                      </a:lnTo>
                      <a:lnTo>
                        <a:pt x="22" y="1"/>
                      </a:lnTo>
                      <a:lnTo>
                        <a:pt x="15" y="0"/>
                      </a:lnTo>
                      <a:lnTo>
                        <a:pt x="9" y="5"/>
                      </a:lnTo>
                      <a:lnTo>
                        <a:pt x="8" y="9"/>
                      </a:lnTo>
                      <a:lnTo>
                        <a:pt x="8" y="14"/>
                      </a:lnTo>
                      <a:lnTo>
                        <a:pt x="7" y="18"/>
                      </a:lnTo>
                      <a:lnTo>
                        <a:pt x="6" y="23"/>
                      </a:lnTo>
                      <a:lnTo>
                        <a:pt x="5" y="31"/>
                      </a:lnTo>
                      <a:lnTo>
                        <a:pt x="2" y="39"/>
                      </a:lnTo>
                      <a:lnTo>
                        <a:pt x="1" y="47"/>
                      </a:lnTo>
                      <a:lnTo>
                        <a:pt x="0" y="55"/>
                      </a:lnTo>
                      <a:lnTo>
                        <a:pt x="2" y="58"/>
                      </a:lnTo>
                      <a:lnTo>
                        <a:pt x="5" y="60"/>
                      </a:lnTo>
                      <a:lnTo>
                        <a:pt x="9" y="60"/>
                      </a:lnTo>
                      <a:lnTo>
                        <a:pt x="13" y="61"/>
                      </a:lnTo>
                      <a:lnTo>
                        <a:pt x="21" y="65"/>
                      </a:lnTo>
                      <a:lnTo>
                        <a:pt x="25" y="61"/>
                      </a:lnTo>
                      <a:lnTo>
                        <a:pt x="29" y="53"/>
                      </a:lnTo>
                      <a:lnTo>
                        <a:pt x="31" y="45"/>
                      </a:lnTo>
                      <a:lnTo>
                        <a:pt x="31" y="42"/>
                      </a:lnTo>
                      <a:lnTo>
                        <a:pt x="31" y="38"/>
                      </a:lnTo>
                      <a:lnTo>
                        <a:pt x="32" y="35"/>
                      </a:lnTo>
                      <a:lnTo>
                        <a:pt x="33" y="32"/>
                      </a:lnTo>
                      <a:lnTo>
                        <a:pt x="35" y="25"/>
                      </a:lnTo>
                      <a:lnTo>
                        <a:pt x="36" y="18"/>
                      </a:lnTo>
                      <a:lnTo>
                        <a:pt x="37" y="12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839400">
                  <a:off x="2667960" y="4142520"/>
                  <a:ext cx="16200" cy="2304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24" y="2"/>
                      </a:moveTo>
                      <a:lnTo>
                        <a:pt x="17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" y="8"/>
                      </a:lnTo>
                      <a:lnTo>
                        <a:pt x="2" y="11"/>
                      </a:lnTo>
                      <a:lnTo>
                        <a:pt x="2" y="16"/>
                      </a:lnTo>
                      <a:lnTo>
                        <a:pt x="2" y="20"/>
                      </a:lnTo>
                      <a:lnTo>
                        <a:pt x="2" y="25"/>
                      </a:lnTo>
                      <a:lnTo>
                        <a:pt x="2" y="28"/>
                      </a:lnTo>
                      <a:lnTo>
                        <a:pt x="2" y="33"/>
                      </a:lnTo>
                      <a:lnTo>
                        <a:pt x="2" y="36"/>
                      </a:lnTo>
                      <a:lnTo>
                        <a:pt x="8" y="41"/>
                      </a:lnTo>
                      <a:lnTo>
                        <a:pt x="14" y="40"/>
                      </a:lnTo>
                      <a:lnTo>
                        <a:pt x="21" y="38"/>
                      </a:lnTo>
                      <a:lnTo>
                        <a:pt x="28" y="35"/>
                      </a:lnTo>
                      <a:lnTo>
                        <a:pt x="26" y="31"/>
                      </a:lnTo>
                      <a:lnTo>
                        <a:pt x="26" y="26"/>
                      </a:lnTo>
                      <a:lnTo>
                        <a:pt x="25" y="23"/>
                      </a:lnTo>
                      <a:lnTo>
                        <a:pt x="25" y="18"/>
                      </a:lnTo>
                      <a:lnTo>
                        <a:pt x="24" y="13"/>
                      </a:lnTo>
                      <a:lnTo>
                        <a:pt x="24" y="10"/>
                      </a:lnTo>
                      <a:lnTo>
                        <a:pt x="24" y="6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839400">
                  <a:off x="2728800" y="4095000"/>
                  <a:ext cx="24480" cy="37440"/>
                </a:xfrm>
                <a:custGeom>
                  <a:avLst/>
                  <a:gdLst/>
                  <a:ahLst/>
                  <a:rect l="l" t="t" r="r" b="b"/>
                  <a:pathLst>
                    <a:path w="40" h="68">
                      <a:moveTo>
                        <a:pt x="30" y="67"/>
                      </a:moveTo>
                      <a:lnTo>
                        <a:pt x="31" y="60"/>
                      </a:lnTo>
                      <a:lnTo>
                        <a:pt x="31" y="52"/>
                      </a:lnTo>
                      <a:lnTo>
                        <a:pt x="31" y="45"/>
                      </a:lnTo>
                      <a:lnTo>
                        <a:pt x="32" y="38"/>
                      </a:lnTo>
                      <a:lnTo>
                        <a:pt x="33" y="32"/>
                      </a:lnTo>
                      <a:lnTo>
                        <a:pt x="34" y="28"/>
                      </a:lnTo>
                      <a:lnTo>
                        <a:pt x="36" y="22"/>
                      </a:lnTo>
                      <a:lnTo>
                        <a:pt x="38" y="17"/>
                      </a:lnTo>
                      <a:lnTo>
                        <a:pt x="40" y="10"/>
                      </a:lnTo>
                      <a:lnTo>
                        <a:pt x="39" y="6"/>
                      </a:lnTo>
                      <a:lnTo>
                        <a:pt x="36" y="5"/>
                      </a:lnTo>
                      <a:lnTo>
                        <a:pt x="31" y="5"/>
                      </a:lnTo>
                      <a:lnTo>
                        <a:pt x="25" y="5"/>
                      </a:lnTo>
                      <a:lnTo>
                        <a:pt x="19" y="5"/>
                      </a:lnTo>
                      <a:lnTo>
                        <a:pt x="14" y="3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9" y="20"/>
                      </a:lnTo>
                      <a:lnTo>
                        <a:pt x="7" y="30"/>
                      </a:lnTo>
                      <a:lnTo>
                        <a:pt x="5" y="40"/>
                      </a:lnTo>
                      <a:lnTo>
                        <a:pt x="3" y="45"/>
                      </a:lnTo>
                      <a:lnTo>
                        <a:pt x="2" y="50"/>
                      </a:lnTo>
                      <a:lnTo>
                        <a:pt x="1" y="54"/>
                      </a:lnTo>
                      <a:lnTo>
                        <a:pt x="0" y="59"/>
                      </a:lnTo>
                      <a:lnTo>
                        <a:pt x="3" y="67"/>
                      </a:lnTo>
                      <a:lnTo>
                        <a:pt x="11" y="68"/>
                      </a:lnTo>
                      <a:lnTo>
                        <a:pt x="22" y="66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839400">
                  <a:off x="2691360" y="4092120"/>
                  <a:ext cx="21240" cy="41760"/>
                </a:xfrm>
                <a:custGeom>
                  <a:avLst/>
                  <a:gdLst/>
                  <a:ahLst/>
                  <a:rect l="l" t="t" r="r" b="b"/>
                  <a:pathLst>
                    <a:path w="35" h="75">
                      <a:moveTo>
                        <a:pt x="6" y="36"/>
                      </a:moveTo>
                      <a:lnTo>
                        <a:pt x="4" y="45"/>
                      </a:lnTo>
                      <a:lnTo>
                        <a:pt x="1" y="53"/>
                      </a:lnTo>
                      <a:lnTo>
                        <a:pt x="0" y="62"/>
                      </a:lnTo>
                      <a:lnTo>
                        <a:pt x="2" y="71"/>
                      </a:lnTo>
                      <a:lnTo>
                        <a:pt x="7" y="72"/>
                      </a:lnTo>
                      <a:lnTo>
                        <a:pt x="11" y="74"/>
                      </a:lnTo>
                      <a:lnTo>
                        <a:pt x="15" y="75"/>
                      </a:lnTo>
                      <a:lnTo>
                        <a:pt x="19" y="74"/>
                      </a:lnTo>
                      <a:lnTo>
                        <a:pt x="23" y="63"/>
                      </a:lnTo>
                      <a:lnTo>
                        <a:pt x="25" y="51"/>
                      </a:lnTo>
                      <a:lnTo>
                        <a:pt x="27" y="40"/>
                      </a:lnTo>
                      <a:lnTo>
                        <a:pt x="30" y="28"/>
                      </a:lnTo>
                      <a:lnTo>
                        <a:pt x="31" y="22"/>
                      </a:lnTo>
                      <a:lnTo>
                        <a:pt x="32" y="15"/>
                      </a:lnTo>
                      <a:lnTo>
                        <a:pt x="34" y="9"/>
                      </a:lnTo>
                      <a:lnTo>
                        <a:pt x="35" y="2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17" y="2"/>
                      </a:lnTo>
                      <a:lnTo>
                        <a:pt x="10" y="0"/>
                      </a:lnTo>
                      <a:lnTo>
                        <a:pt x="9" y="7"/>
                      </a:lnTo>
                      <a:lnTo>
                        <a:pt x="8" y="13"/>
                      </a:lnTo>
                      <a:lnTo>
                        <a:pt x="6" y="20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839400">
                  <a:off x="2650680" y="4084560"/>
                  <a:ext cx="30240" cy="36000"/>
                </a:xfrm>
                <a:custGeom>
                  <a:avLst/>
                  <a:gdLst/>
                  <a:ahLst/>
                  <a:rect l="l" t="t" r="r" b="b"/>
                  <a:pathLst>
                    <a:path w="52" h="65">
                      <a:moveTo>
                        <a:pt x="23" y="65"/>
                      </a:moveTo>
                      <a:lnTo>
                        <a:pt x="27" y="58"/>
                      </a:lnTo>
                      <a:lnTo>
                        <a:pt x="29" y="51"/>
                      </a:lnTo>
                      <a:lnTo>
                        <a:pt x="31" y="46"/>
                      </a:lnTo>
                      <a:lnTo>
                        <a:pt x="35" y="39"/>
                      </a:lnTo>
                      <a:lnTo>
                        <a:pt x="36" y="35"/>
                      </a:lnTo>
                      <a:lnTo>
                        <a:pt x="38" y="32"/>
                      </a:lnTo>
                      <a:lnTo>
                        <a:pt x="42" y="28"/>
                      </a:lnTo>
                      <a:lnTo>
                        <a:pt x="45" y="26"/>
                      </a:lnTo>
                      <a:lnTo>
                        <a:pt x="48" y="24"/>
                      </a:lnTo>
                      <a:lnTo>
                        <a:pt x="50" y="22"/>
                      </a:lnTo>
                      <a:lnTo>
                        <a:pt x="51" y="19"/>
                      </a:lnTo>
                      <a:lnTo>
                        <a:pt x="52" y="16"/>
                      </a:lnTo>
                      <a:lnTo>
                        <a:pt x="46" y="10"/>
                      </a:lnTo>
                      <a:lnTo>
                        <a:pt x="41" y="5"/>
                      </a:lnTo>
                      <a:lnTo>
                        <a:pt x="34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4" y="26"/>
                      </a:lnTo>
                      <a:lnTo>
                        <a:pt x="10" y="35"/>
                      </a:lnTo>
                      <a:lnTo>
                        <a:pt x="7" y="40"/>
                      </a:lnTo>
                      <a:lnTo>
                        <a:pt x="5" y="45"/>
                      </a:lnTo>
                      <a:lnTo>
                        <a:pt x="3" y="49"/>
                      </a:lnTo>
                      <a:lnTo>
                        <a:pt x="0" y="54"/>
                      </a:lnTo>
                      <a:lnTo>
                        <a:pt x="2" y="60"/>
                      </a:lnTo>
                      <a:lnTo>
                        <a:pt x="8" y="62"/>
                      </a:lnTo>
                      <a:lnTo>
                        <a:pt x="16" y="63"/>
                      </a:lnTo>
                      <a:lnTo>
                        <a:pt x="23" y="6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2" name=""/>
            <p:cNvGrpSpPr/>
            <p:nvPr/>
          </p:nvGrpSpPr>
          <p:grpSpPr>
            <a:xfrm>
              <a:off x="3581280" y="3187800"/>
              <a:ext cx="1981440" cy="609480"/>
              <a:chOff x="3581280" y="3187800"/>
              <a:chExt cx="1981440" cy="609480"/>
            </a:xfrm>
          </p:grpSpPr>
          <p:sp>
            <p:nvSpPr>
              <p:cNvPr id="883" name=""/>
              <p:cNvSpPr/>
              <p:nvPr/>
            </p:nvSpPr>
            <p:spPr>
              <a:xfrm>
                <a:off x="3581280" y="3797280"/>
                <a:ext cx="1981440" cy="0"/>
              </a:xfrm>
              <a:prstGeom prst="line">
                <a:avLst/>
              </a:prstGeom>
              <a:ln cap="rnd" w="38160">
                <a:solidFill>
                  <a:srgbClr val="ff9933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34080" y="3187800"/>
                <a:ext cx="1451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600" spc="-1" strike="noStrike">
                    <a:solidFill>
                      <a:srgbClr val="000000"/>
                    </a:solidFill>
                    <a:latin typeface="Arial"/>
                  </a:rPr>
                  <a:t>7 +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al th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tercom no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 flipH="1" rot="13495200">
              <a:off x="3439440" y="2797200"/>
              <a:ext cx="2260440" cy="226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00" y="653"/>
                  </a:moveTo>
                  <a:arcTo wR="10800" hR="10800" stAng="-6602023" swAng="7704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7100" y="653"/>
                  </a:moveTo>
                  <a:arcTo wR="10800" hR="10800" stAng="-6602023" swAng="7704579"/>
                </a:path>
              </a:pathLst>
            </a:custGeom>
            <a:noFill/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5400" y="5211720"/>
              <a:ext cx="373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ick up the call of STA (A) in STA 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3352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50480" y="44658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69840" y="44658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31080" y="1146240"/>
            <a:ext cx="80676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tion in the same pick-up group can pick-up a call ringing the other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group. Intercom calls, incoming CO calla, recalling CO calls and transfe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calls can be answered by a station instead of the ringing station if they ar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er of the same pick-up group.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 1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4960" y="10476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Call Pick-up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3520" y="765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838080" y="2355840"/>
            <a:ext cx="7467840" cy="2778120"/>
            <a:chOff x="838080" y="2355840"/>
            <a:chExt cx="7467840" cy="2778120"/>
          </a:xfrm>
        </p:grpSpPr>
        <p:sp>
          <p:nvSpPr>
            <p:cNvPr id="894" name=""/>
            <p:cNvSpPr/>
            <p:nvPr/>
          </p:nvSpPr>
          <p:spPr>
            <a:xfrm>
              <a:off x="838080" y="2643120"/>
              <a:ext cx="3915000" cy="2490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08360" y="4724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ck-up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" descr=""/>
            <p:cNvPicPr/>
            <p:nvPr/>
          </p:nvPicPr>
          <p:blipFill>
            <a:blip r:embed="rId1"/>
            <a:stretch/>
          </p:blipFill>
          <p:spPr>
            <a:xfrm>
              <a:off x="2830680" y="4025880"/>
              <a:ext cx="944280" cy="63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7" name=""/>
            <p:cNvGrpSpPr/>
            <p:nvPr/>
          </p:nvGrpSpPr>
          <p:grpSpPr>
            <a:xfrm>
              <a:off x="1067040" y="3230280"/>
              <a:ext cx="912600" cy="601560"/>
              <a:chOff x="1067040" y="3230280"/>
              <a:chExt cx="912600" cy="601560"/>
            </a:xfrm>
          </p:grpSpPr>
          <p:sp>
            <p:nvSpPr>
              <p:cNvPr id="898" name=""/>
              <p:cNvSpPr/>
              <p:nvPr/>
            </p:nvSpPr>
            <p:spPr>
              <a:xfrm>
                <a:off x="1186920" y="3405600"/>
                <a:ext cx="693000" cy="367200"/>
              </a:xfrm>
              <a:custGeom>
                <a:avLst/>
                <a:gdLst/>
                <a:ahLst/>
                <a:rect l="l" t="t" r="r" b="b"/>
                <a:pathLst>
                  <a:path w="2342" h="1592">
                    <a:moveTo>
                      <a:pt x="640" y="33"/>
                    </a:moveTo>
                    <a:lnTo>
                      <a:pt x="538" y="578"/>
                    </a:lnTo>
                    <a:lnTo>
                      <a:pt x="120" y="1047"/>
                    </a:lnTo>
                    <a:lnTo>
                      <a:pt x="0" y="1180"/>
                    </a:lnTo>
                    <a:lnTo>
                      <a:pt x="45" y="1440"/>
                    </a:lnTo>
                    <a:lnTo>
                      <a:pt x="1803" y="1592"/>
                    </a:lnTo>
                    <a:lnTo>
                      <a:pt x="2342" y="1314"/>
                    </a:lnTo>
                    <a:lnTo>
                      <a:pt x="2031" y="58"/>
                    </a:lnTo>
                    <a:lnTo>
                      <a:pt x="1905" y="0"/>
                    </a:lnTo>
                    <a:lnTo>
                      <a:pt x="1677" y="255"/>
                    </a:lnTo>
                    <a:lnTo>
                      <a:pt x="980" y="197"/>
                    </a:lnTo>
                    <a:lnTo>
                      <a:pt x="760" y="0"/>
                    </a:lnTo>
                    <a:lnTo>
                      <a:pt x="640" y="33"/>
                    </a:lnTo>
                    <a:lnTo>
                      <a:pt x="64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91240" y="3426480"/>
                <a:ext cx="784800" cy="393120"/>
              </a:xfrm>
              <a:custGeom>
                <a:avLst/>
                <a:gdLst/>
                <a:ahLst/>
                <a:rect l="l" t="t" r="r" b="b"/>
                <a:pathLst>
                  <a:path w="2651" h="1707">
                    <a:moveTo>
                      <a:pt x="120" y="1155"/>
                    </a:moveTo>
                    <a:lnTo>
                      <a:pt x="551" y="1155"/>
                    </a:lnTo>
                    <a:lnTo>
                      <a:pt x="1291" y="1288"/>
                    </a:lnTo>
                    <a:lnTo>
                      <a:pt x="1146" y="1149"/>
                    </a:lnTo>
                    <a:lnTo>
                      <a:pt x="1708" y="850"/>
                    </a:lnTo>
                    <a:lnTo>
                      <a:pt x="1905" y="1021"/>
                    </a:lnTo>
                    <a:lnTo>
                      <a:pt x="1961" y="793"/>
                    </a:lnTo>
                    <a:lnTo>
                      <a:pt x="1905" y="241"/>
                    </a:lnTo>
                    <a:lnTo>
                      <a:pt x="1955" y="0"/>
                    </a:lnTo>
                    <a:lnTo>
                      <a:pt x="2069" y="165"/>
                    </a:lnTo>
                    <a:lnTo>
                      <a:pt x="2152" y="146"/>
                    </a:lnTo>
                    <a:lnTo>
                      <a:pt x="2222" y="0"/>
                    </a:lnTo>
                    <a:lnTo>
                      <a:pt x="2430" y="63"/>
                    </a:lnTo>
                    <a:lnTo>
                      <a:pt x="2461" y="818"/>
                    </a:lnTo>
                    <a:lnTo>
                      <a:pt x="2645" y="952"/>
                    </a:lnTo>
                    <a:lnTo>
                      <a:pt x="2651" y="1186"/>
                    </a:lnTo>
                    <a:lnTo>
                      <a:pt x="1741" y="1707"/>
                    </a:lnTo>
                    <a:lnTo>
                      <a:pt x="0" y="1402"/>
                    </a:lnTo>
                    <a:lnTo>
                      <a:pt x="120" y="1155"/>
                    </a:lnTo>
                    <a:lnTo>
                      <a:pt x="120" y="1155"/>
                    </a:lnTo>
                    <a:close/>
                  </a:path>
                </a:pathLst>
              </a:custGeom>
              <a:solidFill>
                <a:srgbClr val="a3a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807200">
                <a:off x="1112760" y="3367440"/>
                <a:ext cx="240120" cy="246600"/>
              </a:xfrm>
              <a:custGeom>
                <a:avLst/>
                <a:gdLst/>
                <a:ahLst/>
                <a:rect l="l" t="t" r="r" b="b"/>
                <a:pathLst>
                  <a:path w="810" h="1069">
                    <a:moveTo>
                      <a:pt x="235" y="736"/>
                    </a:moveTo>
                    <a:lnTo>
                      <a:pt x="295" y="710"/>
                    </a:lnTo>
                    <a:lnTo>
                      <a:pt x="357" y="682"/>
                    </a:lnTo>
                    <a:lnTo>
                      <a:pt x="417" y="660"/>
                    </a:lnTo>
                    <a:lnTo>
                      <a:pt x="471" y="650"/>
                    </a:lnTo>
                    <a:lnTo>
                      <a:pt x="516" y="657"/>
                    </a:lnTo>
                    <a:lnTo>
                      <a:pt x="545" y="687"/>
                    </a:lnTo>
                    <a:lnTo>
                      <a:pt x="555" y="747"/>
                    </a:lnTo>
                    <a:lnTo>
                      <a:pt x="543" y="840"/>
                    </a:lnTo>
                    <a:lnTo>
                      <a:pt x="609" y="825"/>
                    </a:lnTo>
                    <a:lnTo>
                      <a:pt x="665" y="825"/>
                    </a:lnTo>
                    <a:lnTo>
                      <a:pt x="746" y="855"/>
                    </a:lnTo>
                    <a:lnTo>
                      <a:pt x="793" y="915"/>
                    </a:lnTo>
                    <a:lnTo>
                      <a:pt x="810" y="982"/>
                    </a:lnTo>
                    <a:lnTo>
                      <a:pt x="799" y="1040"/>
                    </a:lnTo>
                    <a:lnTo>
                      <a:pt x="786" y="1059"/>
                    </a:lnTo>
                    <a:lnTo>
                      <a:pt x="767" y="1069"/>
                    </a:lnTo>
                    <a:lnTo>
                      <a:pt x="717" y="1047"/>
                    </a:lnTo>
                    <a:lnTo>
                      <a:pt x="687" y="1012"/>
                    </a:lnTo>
                    <a:lnTo>
                      <a:pt x="654" y="957"/>
                    </a:lnTo>
                    <a:lnTo>
                      <a:pt x="588" y="979"/>
                    </a:lnTo>
                    <a:lnTo>
                      <a:pt x="552" y="998"/>
                    </a:lnTo>
                    <a:lnTo>
                      <a:pt x="515" y="1015"/>
                    </a:lnTo>
                    <a:lnTo>
                      <a:pt x="480" y="1025"/>
                    </a:lnTo>
                    <a:lnTo>
                      <a:pt x="450" y="1027"/>
                    </a:lnTo>
                    <a:lnTo>
                      <a:pt x="407" y="975"/>
                    </a:lnTo>
                    <a:lnTo>
                      <a:pt x="407" y="925"/>
                    </a:lnTo>
                    <a:lnTo>
                      <a:pt x="425" y="878"/>
                    </a:lnTo>
                    <a:lnTo>
                      <a:pt x="458" y="782"/>
                    </a:lnTo>
                    <a:lnTo>
                      <a:pt x="429" y="796"/>
                    </a:lnTo>
                    <a:lnTo>
                      <a:pt x="389" y="816"/>
                    </a:lnTo>
                    <a:lnTo>
                      <a:pt x="341" y="842"/>
                    </a:lnTo>
                    <a:lnTo>
                      <a:pt x="289" y="868"/>
                    </a:lnTo>
                    <a:lnTo>
                      <a:pt x="238" y="893"/>
                    </a:lnTo>
                    <a:lnTo>
                      <a:pt x="191" y="914"/>
                    </a:lnTo>
                    <a:lnTo>
                      <a:pt x="130" y="927"/>
                    </a:lnTo>
                    <a:lnTo>
                      <a:pt x="73" y="893"/>
                    </a:lnTo>
                    <a:lnTo>
                      <a:pt x="56" y="845"/>
                    </a:lnTo>
                    <a:lnTo>
                      <a:pt x="70" y="790"/>
                    </a:lnTo>
                    <a:lnTo>
                      <a:pt x="101" y="730"/>
                    </a:lnTo>
                    <a:lnTo>
                      <a:pt x="120" y="700"/>
                    </a:lnTo>
                    <a:lnTo>
                      <a:pt x="139" y="671"/>
                    </a:lnTo>
                    <a:lnTo>
                      <a:pt x="174" y="618"/>
                    </a:lnTo>
                    <a:lnTo>
                      <a:pt x="191" y="552"/>
                    </a:lnTo>
                    <a:lnTo>
                      <a:pt x="156" y="533"/>
                    </a:lnTo>
                    <a:lnTo>
                      <a:pt x="114" y="520"/>
                    </a:lnTo>
                    <a:lnTo>
                      <a:pt x="35" y="496"/>
                    </a:lnTo>
                    <a:lnTo>
                      <a:pt x="8" y="477"/>
                    </a:lnTo>
                    <a:lnTo>
                      <a:pt x="0" y="448"/>
                    </a:lnTo>
                    <a:lnTo>
                      <a:pt x="11" y="405"/>
                    </a:lnTo>
                    <a:lnTo>
                      <a:pt x="26" y="377"/>
                    </a:lnTo>
                    <a:lnTo>
                      <a:pt x="50" y="345"/>
                    </a:lnTo>
                    <a:lnTo>
                      <a:pt x="73" y="321"/>
                    </a:lnTo>
                    <a:lnTo>
                      <a:pt x="100" y="299"/>
                    </a:lnTo>
                    <a:lnTo>
                      <a:pt x="128" y="280"/>
                    </a:lnTo>
                    <a:lnTo>
                      <a:pt x="157" y="263"/>
                    </a:lnTo>
                    <a:lnTo>
                      <a:pt x="136" y="113"/>
                    </a:lnTo>
                    <a:lnTo>
                      <a:pt x="151" y="67"/>
                    </a:lnTo>
                    <a:lnTo>
                      <a:pt x="184" y="35"/>
                    </a:lnTo>
                    <a:lnTo>
                      <a:pt x="229" y="16"/>
                    </a:lnTo>
                    <a:lnTo>
                      <a:pt x="285" y="5"/>
                    </a:lnTo>
                    <a:lnTo>
                      <a:pt x="426" y="0"/>
                    </a:lnTo>
                    <a:lnTo>
                      <a:pt x="441" y="18"/>
                    </a:lnTo>
                    <a:lnTo>
                      <a:pt x="429" y="58"/>
                    </a:lnTo>
                    <a:lnTo>
                      <a:pt x="415" y="79"/>
                    </a:lnTo>
                    <a:lnTo>
                      <a:pt x="399" y="97"/>
                    </a:lnTo>
                    <a:lnTo>
                      <a:pt x="383" y="111"/>
                    </a:lnTo>
                    <a:lnTo>
                      <a:pt x="366" y="115"/>
                    </a:lnTo>
                    <a:lnTo>
                      <a:pt x="291" y="108"/>
                    </a:lnTo>
                    <a:lnTo>
                      <a:pt x="227" y="124"/>
                    </a:lnTo>
                    <a:lnTo>
                      <a:pt x="222" y="161"/>
                    </a:lnTo>
                    <a:lnTo>
                      <a:pt x="240" y="201"/>
                    </a:lnTo>
                    <a:lnTo>
                      <a:pt x="283" y="274"/>
                    </a:lnTo>
                    <a:lnTo>
                      <a:pt x="284" y="306"/>
                    </a:lnTo>
                    <a:lnTo>
                      <a:pt x="273" y="328"/>
                    </a:lnTo>
                    <a:lnTo>
                      <a:pt x="253" y="341"/>
                    </a:lnTo>
                    <a:lnTo>
                      <a:pt x="228" y="351"/>
                    </a:lnTo>
                    <a:lnTo>
                      <a:pt x="179" y="366"/>
                    </a:lnTo>
                    <a:lnTo>
                      <a:pt x="152" y="397"/>
                    </a:lnTo>
                    <a:lnTo>
                      <a:pt x="164" y="413"/>
                    </a:lnTo>
                    <a:lnTo>
                      <a:pt x="193" y="414"/>
                    </a:lnTo>
                    <a:lnTo>
                      <a:pt x="256" y="415"/>
                    </a:lnTo>
                    <a:lnTo>
                      <a:pt x="289" y="441"/>
                    </a:lnTo>
                    <a:lnTo>
                      <a:pt x="308" y="478"/>
                    </a:lnTo>
                    <a:lnTo>
                      <a:pt x="312" y="570"/>
                    </a:lnTo>
                    <a:lnTo>
                      <a:pt x="300" y="620"/>
                    </a:lnTo>
                    <a:lnTo>
                      <a:pt x="282" y="666"/>
                    </a:lnTo>
                    <a:lnTo>
                      <a:pt x="260" y="706"/>
                    </a:lnTo>
                    <a:lnTo>
                      <a:pt x="235" y="736"/>
                    </a:lnTo>
                    <a:lnTo>
                      <a:pt x="235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84840" y="3230280"/>
                <a:ext cx="694800" cy="444240"/>
                <a:chOff x="1284840" y="3230280"/>
                <a:chExt cx="694800" cy="444240"/>
              </a:xfrm>
            </p:grpSpPr>
            <p:sp>
              <p:nvSpPr>
                <p:cNvPr id="902" name=""/>
                <p:cNvSpPr/>
                <p:nvPr/>
              </p:nvSpPr>
              <p:spPr>
                <a:xfrm rot="976200">
                  <a:off x="1315800" y="3314520"/>
                  <a:ext cx="639720" cy="262800"/>
                </a:xfrm>
                <a:custGeom>
                  <a:avLst/>
                  <a:gdLst/>
                  <a:ahLst/>
                  <a:rect l="l" t="t" r="r" b="b"/>
                  <a:pathLst>
                    <a:path w="2159" h="1142">
                      <a:moveTo>
                        <a:pt x="0" y="1066"/>
                      </a:moveTo>
                      <a:lnTo>
                        <a:pt x="38" y="678"/>
                      </a:lnTo>
                      <a:lnTo>
                        <a:pt x="190" y="431"/>
                      </a:lnTo>
                      <a:lnTo>
                        <a:pt x="475" y="241"/>
                      </a:lnTo>
                      <a:lnTo>
                        <a:pt x="1006" y="50"/>
                      </a:lnTo>
                      <a:lnTo>
                        <a:pt x="1537" y="0"/>
                      </a:lnTo>
                      <a:lnTo>
                        <a:pt x="1918" y="197"/>
                      </a:lnTo>
                      <a:lnTo>
                        <a:pt x="2159" y="463"/>
                      </a:lnTo>
                      <a:lnTo>
                        <a:pt x="2007" y="666"/>
                      </a:lnTo>
                      <a:lnTo>
                        <a:pt x="1487" y="774"/>
                      </a:lnTo>
                      <a:lnTo>
                        <a:pt x="1184" y="336"/>
                      </a:lnTo>
                      <a:lnTo>
                        <a:pt x="519" y="628"/>
                      </a:lnTo>
                      <a:lnTo>
                        <a:pt x="411" y="1041"/>
                      </a:lnTo>
                      <a:lnTo>
                        <a:pt x="69" y="1142"/>
                      </a:lnTo>
                      <a:lnTo>
                        <a:pt x="0" y="1066"/>
                      </a:lnTo>
                      <a:lnTo>
                        <a:pt x="0" y="10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976200">
                  <a:off x="1360080" y="3366360"/>
                  <a:ext cx="569880" cy="205200"/>
                </a:xfrm>
                <a:custGeom>
                  <a:avLst/>
                  <a:gdLst/>
                  <a:ahLst/>
                  <a:rect l="l" t="t" r="r" b="b"/>
                  <a:pathLst>
                    <a:path w="1924" h="893">
                      <a:moveTo>
                        <a:pt x="12" y="856"/>
                      </a:moveTo>
                      <a:lnTo>
                        <a:pt x="45" y="551"/>
                      </a:lnTo>
                      <a:lnTo>
                        <a:pt x="153" y="406"/>
                      </a:lnTo>
                      <a:lnTo>
                        <a:pt x="253" y="412"/>
                      </a:lnTo>
                      <a:lnTo>
                        <a:pt x="247" y="298"/>
                      </a:lnTo>
                      <a:lnTo>
                        <a:pt x="431" y="171"/>
                      </a:lnTo>
                      <a:lnTo>
                        <a:pt x="754" y="51"/>
                      </a:lnTo>
                      <a:lnTo>
                        <a:pt x="1019" y="0"/>
                      </a:lnTo>
                      <a:lnTo>
                        <a:pt x="1183" y="70"/>
                      </a:lnTo>
                      <a:lnTo>
                        <a:pt x="1254" y="184"/>
                      </a:lnTo>
                      <a:lnTo>
                        <a:pt x="1348" y="279"/>
                      </a:lnTo>
                      <a:lnTo>
                        <a:pt x="1569" y="165"/>
                      </a:lnTo>
                      <a:lnTo>
                        <a:pt x="1741" y="190"/>
                      </a:lnTo>
                      <a:lnTo>
                        <a:pt x="1924" y="323"/>
                      </a:lnTo>
                      <a:lnTo>
                        <a:pt x="1500" y="532"/>
                      </a:lnTo>
                      <a:lnTo>
                        <a:pt x="1310" y="520"/>
                      </a:lnTo>
                      <a:lnTo>
                        <a:pt x="1069" y="215"/>
                      </a:lnTo>
                      <a:lnTo>
                        <a:pt x="879" y="221"/>
                      </a:lnTo>
                      <a:lnTo>
                        <a:pt x="398" y="476"/>
                      </a:lnTo>
                      <a:lnTo>
                        <a:pt x="361" y="665"/>
                      </a:lnTo>
                      <a:lnTo>
                        <a:pt x="323" y="843"/>
                      </a:lnTo>
                      <a:lnTo>
                        <a:pt x="0" y="893"/>
                      </a:lnTo>
                      <a:lnTo>
                        <a:pt x="12" y="856"/>
                      </a:lnTo>
                      <a:lnTo>
                        <a:pt x="12" y="856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976200">
                  <a:off x="1369080" y="3298680"/>
                  <a:ext cx="504720" cy="151920"/>
                </a:xfrm>
                <a:custGeom>
                  <a:avLst/>
                  <a:gdLst/>
                  <a:ahLst/>
                  <a:rect l="l" t="t" r="r" b="b"/>
                  <a:pathLst>
                    <a:path w="1704" h="657">
                      <a:moveTo>
                        <a:pt x="0" y="598"/>
                      </a:moveTo>
                      <a:lnTo>
                        <a:pt x="15" y="559"/>
                      </a:lnTo>
                      <a:lnTo>
                        <a:pt x="35" y="522"/>
                      </a:lnTo>
                      <a:lnTo>
                        <a:pt x="60" y="485"/>
                      </a:lnTo>
                      <a:lnTo>
                        <a:pt x="90" y="449"/>
                      </a:lnTo>
                      <a:lnTo>
                        <a:pt x="126" y="413"/>
                      </a:lnTo>
                      <a:lnTo>
                        <a:pt x="166" y="378"/>
                      </a:lnTo>
                      <a:lnTo>
                        <a:pt x="210" y="345"/>
                      </a:lnTo>
                      <a:lnTo>
                        <a:pt x="233" y="328"/>
                      </a:lnTo>
                      <a:lnTo>
                        <a:pt x="257" y="312"/>
                      </a:lnTo>
                      <a:lnTo>
                        <a:pt x="282" y="295"/>
                      </a:lnTo>
                      <a:lnTo>
                        <a:pt x="309" y="280"/>
                      </a:lnTo>
                      <a:lnTo>
                        <a:pt x="363" y="250"/>
                      </a:lnTo>
                      <a:lnTo>
                        <a:pt x="420" y="220"/>
                      </a:lnTo>
                      <a:lnTo>
                        <a:pt x="479" y="192"/>
                      </a:lnTo>
                      <a:lnTo>
                        <a:pt x="540" y="166"/>
                      </a:lnTo>
                      <a:lnTo>
                        <a:pt x="604" y="140"/>
                      </a:lnTo>
                      <a:lnTo>
                        <a:pt x="667" y="118"/>
                      </a:lnTo>
                      <a:lnTo>
                        <a:pt x="733" y="96"/>
                      </a:lnTo>
                      <a:lnTo>
                        <a:pt x="798" y="77"/>
                      </a:lnTo>
                      <a:lnTo>
                        <a:pt x="865" y="59"/>
                      </a:lnTo>
                      <a:lnTo>
                        <a:pt x="931" y="44"/>
                      </a:lnTo>
                      <a:lnTo>
                        <a:pt x="997" y="30"/>
                      </a:lnTo>
                      <a:lnTo>
                        <a:pt x="1127" y="11"/>
                      </a:lnTo>
                      <a:lnTo>
                        <a:pt x="1250" y="0"/>
                      </a:lnTo>
                      <a:lnTo>
                        <a:pt x="1470" y="12"/>
                      </a:lnTo>
                      <a:lnTo>
                        <a:pt x="1560" y="36"/>
                      </a:lnTo>
                      <a:lnTo>
                        <a:pt x="1634" y="72"/>
                      </a:lnTo>
                      <a:lnTo>
                        <a:pt x="1687" y="124"/>
                      </a:lnTo>
                      <a:lnTo>
                        <a:pt x="1704" y="173"/>
                      </a:lnTo>
                      <a:lnTo>
                        <a:pt x="1698" y="191"/>
                      </a:lnTo>
                      <a:lnTo>
                        <a:pt x="1682" y="203"/>
                      </a:lnTo>
                      <a:lnTo>
                        <a:pt x="1621" y="200"/>
                      </a:lnTo>
                      <a:lnTo>
                        <a:pt x="1517" y="173"/>
                      </a:lnTo>
                      <a:lnTo>
                        <a:pt x="1409" y="144"/>
                      </a:lnTo>
                      <a:lnTo>
                        <a:pt x="1319" y="124"/>
                      </a:lnTo>
                      <a:lnTo>
                        <a:pt x="1224" y="115"/>
                      </a:lnTo>
                      <a:lnTo>
                        <a:pt x="1028" y="128"/>
                      </a:lnTo>
                      <a:lnTo>
                        <a:pt x="835" y="173"/>
                      </a:lnTo>
                      <a:lnTo>
                        <a:pt x="744" y="202"/>
                      </a:lnTo>
                      <a:lnTo>
                        <a:pt x="659" y="234"/>
                      </a:lnTo>
                      <a:lnTo>
                        <a:pt x="586" y="264"/>
                      </a:lnTo>
                      <a:lnTo>
                        <a:pt x="521" y="291"/>
                      </a:lnTo>
                      <a:lnTo>
                        <a:pt x="467" y="313"/>
                      </a:lnTo>
                      <a:lnTo>
                        <a:pt x="419" y="333"/>
                      </a:lnTo>
                      <a:lnTo>
                        <a:pt x="342" y="369"/>
                      </a:lnTo>
                      <a:lnTo>
                        <a:pt x="284" y="402"/>
                      </a:lnTo>
                      <a:lnTo>
                        <a:pt x="234" y="441"/>
                      </a:lnTo>
                      <a:lnTo>
                        <a:pt x="186" y="489"/>
                      </a:lnTo>
                      <a:lnTo>
                        <a:pt x="160" y="519"/>
                      </a:lnTo>
                      <a:lnTo>
                        <a:pt x="130" y="553"/>
                      </a:lnTo>
                      <a:lnTo>
                        <a:pt x="96" y="593"/>
                      </a:lnTo>
                      <a:lnTo>
                        <a:pt x="59" y="639"/>
                      </a:lnTo>
                      <a:lnTo>
                        <a:pt x="34" y="657"/>
                      </a:lnTo>
                      <a:lnTo>
                        <a:pt x="11" y="653"/>
                      </a:lnTo>
                      <a:lnTo>
                        <a:pt x="0" y="598"/>
                      </a:lnTo>
                      <a:lnTo>
                        <a:pt x="0" y="5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976200">
                  <a:off x="1301040" y="3377520"/>
                  <a:ext cx="654480" cy="209520"/>
                </a:xfrm>
                <a:custGeom>
                  <a:avLst/>
                  <a:gdLst/>
                  <a:ahLst/>
                  <a:rect l="l" t="t" r="r" b="b"/>
                  <a:pathLst>
                    <a:path w="2210" h="912">
                      <a:moveTo>
                        <a:pt x="109" y="769"/>
                      </a:moveTo>
                      <a:lnTo>
                        <a:pt x="161" y="758"/>
                      </a:lnTo>
                      <a:lnTo>
                        <a:pt x="208" y="727"/>
                      </a:lnTo>
                      <a:lnTo>
                        <a:pt x="232" y="709"/>
                      </a:lnTo>
                      <a:lnTo>
                        <a:pt x="255" y="692"/>
                      </a:lnTo>
                      <a:lnTo>
                        <a:pt x="279" y="677"/>
                      </a:lnTo>
                      <a:lnTo>
                        <a:pt x="304" y="667"/>
                      </a:lnTo>
                      <a:lnTo>
                        <a:pt x="399" y="653"/>
                      </a:lnTo>
                      <a:lnTo>
                        <a:pt x="493" y="643"/>
                      </a:lnTo>
                      <a:lnTo>
                        <a:pt x="508" y="556"/>
                      </a:lnTo>
                      <a:lnTo>
                        <a:pt x="506" y="512"/>
                      </a:lnTo>
                      <a:lnTo>
                        <a:pt x="508" y="466"/>
                      </a:lnTo>
                      <a:lnTo>
                        <a:pt x="518" y="430"/>
                      </a:lnTo>
                      <a:lnTo>
                        <a:pt x="538" y="393"/>
                      </a:lnTo>
                      <a:lnTo>
                        <a:pt x="565" y="354"/>
                      </a:lnTo>
                      <a:lnTo>
                        <a:pt x="600" y="317"/>
                      </a:lnTo>
                      <a:lnTo>
                        <a:pt x="642" y="281"/>
                      </a:lnTo>
                      <a:lnTo>
                        <a:pt x="688" y="245"/>
                      </a:lnTo>
                      <a:lnTo>
                        <a:pt x="713" y="227"/>
                      </a:lnTo>
                      <a:lnTo>
                        <a:pt x="738" y="210"/>
                      </a:lnTo>
                      <a:lnTo>
                        <a:pt x="764" y="194"/>
                      </a:lnTo>
                      <a:lnTo>
                        <a:pt x="792" y="178"/>
                      </a:lnTo>
                      <a:lnTo>
                        <a:pt x="847" y="148"/>
                      </a:lnTo>
                      <a:lnTo>
                        <a:pt x="902" y="120"/>
                      </a:lnTo>
                      <a:lnTo>
                        <a:pt x="958" y="95"/>
                      </a:lnTo>
                      <a:lnTo>
                        <a:pt x="1011" y="75"/>
                      </a:lnTo>
                      <a:lnTo>
                        <a:pt x="1062" y="58"/>
                      </a:lnTo>
                      <a:lnTo>
                        <a:pt x="1110" y="45"/>
                      </a:lnTo>
                      <a:lnTo>
                        <a:pt x="1189" y="35"/>
                      </a:lnTo>
                      <a:lnTo>
                        <a:pt x="1254" y="42"/>
                      </a:lnTo>
                      <a:lnTo>
                        <a:pt x="1303" y="64"/>
                      </a:lnTo>
                      <a:lnTo>
                        <a:pt x="1369" y="135"/>
                      </a:lnTo>
                      <a:lnTo>
                        <a:pt x="1412" y="230"/>
                      </a:lnTo>
                      <a:lnTo>
                        <a:pt x="1434" y="281"/>
                      </a:lnTo>
                      <a:lnTo>
                        <a:pt x="1459" y="330"/>
                      </a:lnTo>
                      <a:lnTo>
                        <a:pt x="1476" y="352"/>
                      </a:lnTo>
                      <a:lnTo>
                        <a:pt x="1495" y="367"/>
                      </a:lnTo>
                      <a:lnTo>
                        <a:pt x="1543" y="377"/>
                      </a:lnTo>
                      <a:lnTo>
                        <a:pt x="1660" y="350"/>
                      </a:lnTo>
                      <a:lnTo>
                        <a:pt x="1723" y="321"/>
                      </a:lnTo>
                      <a:lnTo>
                        <a:pt x="1782" y="291"/>
                      </a:lnTo>
                      <a:lnTo>
                        <a:pt x="1833" y="262"/>
                      </a:lnTo>
                      <a:lnTo>
                        <a:pt x="1875" y="243"/>
                      </a:lnTo>
                      <a:lnTo>
                        <a:pt x="2036" y="176"/>
                      </a:lnTo>
                      <a:lnTo>
                        <a:pt x="2016" y="120"/>
                      </a:lnTo>
                      <a:lnTo>
                        <a:pt x="1999" y="98"/>
                      </a:lnTo>
                      <a:lnTo>
                        <a:pt x="1977" y="76"/>
                      </a:lnTo>
                      <a:lnTo>
                        <a:pt x="1940" y="34"/>
                      </a:lnTo>
                      <a:lnTo>
                        <a:pt x="1944" y="9"/>
                      </a:lnTo>
                      <a:lnTo>
                        <a:pt x="1978" y="0"/>
                      </a:lnTo>
                      <a:lnTo>
                        <a:pt x="2031" y="9"/>
                      </a:lnTo>
                      <a:lnTo>
                        <a:pt x="2092" y="35"/>
                      </a:lnTo>
                      <a:lnTo>
                        <a:pt x="2150" y="77"/>
                      </a:lnTo>
                      <a:lnTo>
                        <a:pt x="2193" y="138"/>
                      </a:lnTo>
                      <a:lnTo>
                        <a:pt x="2210" y="216"/>
                      </a:lnTo>
                      <a:lnTo>
                        <a:pt x="2194" y="293"/>
                      </a:lnTo>
                      <a:lnTo>
                        <a:pt x="2174" y="327"/>
                      </a:lnTo>
                      <a:lnTo>
                        <a:pt x="2149" y="358"/>
                      </a:lnTo>
                      <a:lnTo>
                        <a:pt x="2116" y="387"/>
                      </a:lnTo>
                      <a:lnTo>
                        <a:pt x="2079" y="413"/>
                      </a:lnTo>
                      <a:lnTo>
                        <a:pt x="2040" y="436"/>
                      </a:lnTo>
                      <a:lnTo>
                        <a:pt x="1996" y="458"/>
                      </a:lnTo>
                      <a:lnTo>
                        <a:pt x="1951" y="476"/>
                      </a:lnTo>
                      <a:lnTo>
                        <a:pt x="1904" y="491"/>
                      </a:lnTo>
                      <a:lnTo>
                        <a:pt x="1812" y="517"/>
                      </a:lnTo>
                      <a:lnTo>
                        <a:pt x="1725" y="532"/>
                      </a:lnTo>
                      <a:lnTo>
                        <a:pt x="1653" y="539"/>
                      </a:lnTo>
                      <a:lnTo>
                        <a:pt x="1543" y="526"/>
                      </a:lnTo>
                      <a:lnTo>
                        <a:pt x="1466" y="484"/>
                      </a:lnTo>
                      <a:lnTo>
                        <a:pt x="1413" y="423"/>
                      </a:lnTo>
                      <a:lnTo>
                        <a:pt x="1375" y="352"/>
                      </a:lnTo>
                      <a:lnTo>
                        <a:pt x="1343" y="280"/>
                      </a:lnTo>
                      <a:lnTo>
                        <a:pt x="1307" y="218"/>
                      </a:lnTo>
                      <a:lnTo>
                        <a:pt x="1285" y="192"/>
                      </a:lnTo>
                      <a:lnTo>
                        <a:pt x="1260" y="173"/>
                      </a:lnTo>
                      <a:lnTo>
                        <a:pt x="1229" y="161"/>
                      </a:lnTo>
                      <a:lnTo>
                        <a:pt x="1190" y="156"/>
                      </a:lnTo>
                      <a:lnTo>
                        <a:pt x="1057" y="192"/>
                      </a:lnTo>
                      <a:lnTo>
                        <a:pt x="1010" y="212"/>
                      </a:lnTo>
                      <a:lnTo>
                        <a:pt x="961" y="232"/>
                      </a:lnTo>
                      <a:lnTo>
                        <a:pt x="911" y="256"/>
                      </a:lnTo>
                      <a:lnTo>
                        <a:pt x="860" y="280"/>
                      </a:lnTo>
                      <a:lnTo>
                        <a:pt x="811" y="306"/>
                      </a:lnTo>
                      <a:lnTo>
                        <a:pt x="763" y="333"/>
                      </a:lnTo>
                      <a:lnTo>
                        <a:pt x="720" y="359"/>
                      </a:lnTo>
                      <a:lnTo>
                        <a:pt x="680" y="386"/>
                      </a:lnTo>
                      <a:lnTo>
                        <a:pt x="595" y="478"/>
                      </a:lnTo>
                      <a:lnTo>
                        <a:pt x="592" y="551"/>
                      </a:lnTo>
                      <a:lnTo>
                        <a:pt x="601" y="614"/>
                      </a:lnTo>
                      <a:lnTo>
                        <a:pt x="620" y="713"/>
                      </a:lnTo>
                      <a:lnTo>
                        <a:pt x="612" y="754"/>
                      </a:lnTo>
                      <a:lnTo>
                        <a:pt x="599" y="775"/>
                      </a:lnTo>
                      <a:lnTo>
                        <a:pt x="578" y="794"/>
                      </a:lnTo>
                      <a:lnTo>
                        <a:pt x="550" y="814"/>
                      </a:lnTo>
                      <a:lnTo>
                        <a:pt x="510" y="834"/>
                      </a:lnTo>
                      <a:lnTo>
                        <a:pt x="460" y="854"/>
                      </a:lnTo>
                      <a:lnTo>
                        <a:pt x="399" y="876"/>
                      </a:lnTo>
                      <a:lnTo>
                        <a:pt x="310" y="898"/>
                      </a:lnTo>
                      <a:lnTo>
                        <a:pt x="209" y="912"/>
                      </a:lnTo>
                      <a:lnTo>
                        <a:pt x="112" y="902"/>
                      </a:lnTo>
                      <a:lnTo>
                        <a:pt x="31" y="859"/>
                      </a:lnTo>
                      <a:lnTo>
                        <a:pt x="5" y="807"/>
                      </a:lnTo>
                      <a:lnTo>
                        <a:pt x="0" y="735"/>
                      </a:lnTo>
                      <a:lnTo>
                        <a:pt x="12" y="656"/>
                      </a:lnTo>
                      <a:lnTo>
                        <a:pt x="35" y="579"/>
                      </a:lnTo>
                      <a:lnTo>
                        <a:pt x="64" y="514"/>
                      </a:lnTo>
                      <a:lnTo>
                        <a:pt x="90" y="473"/>
                      </a:lnTo>
                      <a:lnTo>
                        <a:pt x="109" y="466"/>
                      </a:lnTo>
                      <a:lnTo>
                        <a:pt x="115" y="505"/>
                      </a:lnTo>
                      <a:lnTo>
                        <a:pt x="109" y="769"/>
                      </a:lnTo>
                      <a:lnTo>
                        <a:pt x="109" y="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1207800" y="3403440"/>
                <a:ext cx="470880" cy="264960"/>
              </a:xfrm>
              <a:custGeom>
                <a:avLst/>
                <a:gdLst/>
                <a:ahLst/>
                <a:rect l="l" t="t" r="r" b="b"/>
                <a:pathLst>
                  <a:path w="1591" h="1150">
                    <a:moveTo>
                      <a:pt x="634" y="144"/>
                    </a:moveTo>
                    <a:lnTo>
                      <a:pt x="609" y="304"/>
                    </a:lnTo>
                    <a:lnTo>
                      <a:pt x="592" y="381"/>
                    </a:lnTo>
                    <a:lnTo>
                      <a:pt x="573" y="456"/>
                    </a:lnTo>
                    <a:lnTo>
                      <a:pt x="549" y="530"/>
                    </a:lnTo>
                    <a:lnTo>
                      <a:pt x="520" y="603"/>
                    </a:lnTo>
                    <a:lnTo>
                      <a:pt x="503" y="639"/>
                    </a:lnTo>
                    <a:lnTo>
                      <a:pt x="484" y="675"/>
                    </a:lnTo>
                    <a:lnTo>
                      <a:pt x="463" y="710"/>
                    </a:lnTo>
                    <a:lnTo>
                      <a:pt x="441" y="746"/>
                    </a:lnTo>
                    <a:lnTo>
                      <a:pt x="409" y="790"/>
                    </a:lnTo>
                    <a:lnTo>
                      <a:pt x="389" y="817"/>
                    </a:lnTo>
                    <a:lnTo>
                      <a:pt x="367" y="845"/>
                    </a:lnTo>
                    <a:lnTo>
                      <a:pt x="343" y="875"/>
                    </a:lnTo>
                    <a:lnTo>
                      <a:pt x="317" y="907"/>
                    </a:lnTo>
                    <a:lnTo>
                      <a:pt x="291" y="938"/>
                    </a:lnTo>
                    <a:lnTo>
                      <a:pt x="263" y="969"/>
                    </a:lnTo>
                    <a:lnTo>
                      <a:pt x="235" y="1000"/>
                    </a:lnTo>
                    <a:lnTo>
                      <a:pt x="207" y="1029"/>
                    </a:lnTo>
                    <a:lnTo>
                      <a:pt x="179" y="1057"/>
                    </a:lnTo>
                    <a:lnTo>
                      <a:pt x="152" y="1082"/>
                    </a:lnTo>
                    <a:lnTo>
                      <a:pt x="100" y="1123"/>
                    </a:lnTo>
                    <a:lnTo>
                      <a:pt x="56" y="1147"/>
                    </a:lnTo>
                    <a:lnTo>
                      <a:pt x="24" y="1150"/>
                    </a:lnTo>
                    <a:lnTo>
                      <a:pt x="5" y="1139"/>
                    </a:lnTo>
                    <a:lnTo>
                      <a:pt x="0" y="1118"/>
                    </a:lnTo>
                    <a:lnTo>
                      <a:pt x="12" y="1089"/>
                    </a:lnTo>
                    <a:lnTo>
                      <a:pt x="41" y="1049"/>
                    </a:lnTo>
                    <a:lnTo>
                      <a:pt x="71" y="1012"/>
                    </a:lnTo>
                    <a:lnTo>
                      <a:pt x="101" y="976"/>
                    </a:lnTo>
                    <a:lnTo>
                      <a:pt x="132" y="941"/>
                    </a:lnTo>
                    <a:lnTo>
                      <a:pt x="164" y="908"/>
                    </a:lnTo>
                    <a:lnTo>
                      <a:pt x="195" y="875"/>
                    </a:lnTo>
                    <a:lnTo>
                      <a:pt x="225" y="842"/>
                    </a:lnTo>
                    <a:lnTo>
                      <a:pt x="255" y="808"/>
                    </a:lnTo>
                    <a:lnTo>
                      <a:pt x="285" y="773"/>
                    </a:lnTo>
                    <a:lnTo>
                      <a:pt x="312" y="739"/>
                    </a:lnTo>
                    <a:lnTo>
                      <a:pt x="339" y="701"/>
                    </a:lnTo>
                    <a:lnTo>
                      <a:pt x="364" y="663"/>
                    </a:lnTo>
                    <a:lnTo>
                      <a:pt x="407" y="579"/>
                    </a:lnTo>
                    <a:lnTo>
                      <a:pt x="441" y="482"/>
                    </a:lnTo>
                    <a:lnTo>
                      <a:pt x="459" y="392"/>
                    </a:lnTo>
                    <a:lnTo>
                      <a:pt x="481" y="263"/>
                    </a:lnTo>
                    <a:lnTo>
                      <a:pt x="505" y="142"/>
                    </a:lnTo>
                    <a:lnTo>
                      <a:pt x="527" y="72"/>
                    </a:lnTo>
                    <a:lnTo>
                      <a:pt x="555" y="43"/>
                    </a:lnTo>
                    <a:lnTo>
                      <a:pt x="589" y="22"/>
                    </a:lnTo>
                    <a:lnTo>
                      <a:pt x="631" y="7"/>
                    </a:lnTo>
                    <a:lnTo>
                      <a:pt x="676" y="0"/>
                    </a:lnTo>
                    <a:lnTo>
                      <a:pt x="763" y="9"/>
                    </a:lnTo>
                    <a:lnTo>
                      <a:pt x="833" y="49"/>
                    </a:lnTo>
                    <a:lnTo>
                      <a:pt x="868" y="87"/>
                    </a:lnTo>
                    <a:lnTo>
                      <a:pt x="899" y="113"/>
                    </a:lnTo>
                    <a:lnTo>
                      <a:pt x="928" y="131"/>
                    </a:lnTo>
                    <a:lnTo>
                      <a:pt x="956" y="143"/>
                    </a:lnTo>
                    <a:lnTo>
                      <a:pt x="1112" y="161"/>
                    </a:lnTo>
                    <a:lnTo>
                      <a:pt x="1341" y="183"/>
                    </a:lnTo>
                    <a:lnTo>
                      <a:pt x="1559" y="222"/>
                    </a:lnTo>
                    <a:lnTo>
                      <a:pt x="1591" y="262"/>
                    </a:lnTo>
                    <a:lnTo>
                      <a:pt x="1580" y="281"/>
                    </a:lnTo>
                    <a:lnTo>
                      <a:pt x="1551" y="294"/>
                    </a:lnTo>
                    <a:lnTo>
                      <a:pt x="1452" y="309"/>
                    </a:lnTo>
                    <a:lnTo>
                      <a:pt x="1328" y="316"/>
                    </a:lnTo>
                    <a:lnTo>
                      <a:pt x="1100" y="314"/>
                    </a:lnTo>
                    <a:lnTo>
                      <a:pt x="1027" y="297"/>
                    </a:lnTo>
                    <a:lnTo>
                      <a:pt x="958" y="265"/>
                    </a:lnTo>
                    <a:lnTo>
                      <a:pt x="924" y="246"/>
                    </a:lnTo>
                    <a:lnTo>
                      <a:pt x="890" y="226"/>
                    </a:lnTo>
                    <a:lnTo>
                      <a:pt x="859" y="205"/>
                    </a:lnTo>
                    <a:lnTo>
                      <a:pt x="828" y="185"/>
                    </a:lnTo>
                    <a:lnTo>
                      <a:pt x="798" y="166"/>
                    </a:lnTo>
                    <a:lnTo>
                      <a:pt x="770" y="149"/>
                    </a:lnTo>
                    <a:lnTo>
                      <a:pt x="718" y="126"/>
                    </a:lnTo>
                    <a:lnTo>
                      <a:pt x="672" y="121"/>
                    </a:lnTo>
                    <a:lnTo>
                      <a:pt x="634" y="144"/>
                    </a:lnTo>
                    <a:lnTo>
                      <a:pt x="63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96320" y="3413520"/>
                <a:ext cx="160920" cy="72360"/>
              </a:xfrm>
              <a:custGeom>
                <a:avLst/>
                <a:gdLst/>
                <a:ahLst/>
                <a:rect l="l" t="t" r="r" b="b"/>
                <a:pathLst>
                  <a:path w="543" h="315">
                    <a:moveTo>
                      <a:pt x="9" y="171"/>
                    </a:moveTo>
                    <a:lnTo>
                      <a:pt x="39" y="130"/>
                    </a:lnTo>
                    <a:lnTo>
                      <a:pt x="59" y="104"/>
                    </a:lnTo>
                    <a:lnTo>
                      <a:pt x="79" y="78"/>
                    </a:lnTo>
                    <a:lnTo>
                      <a:pt x="102" y="51"/>
                    </a:lnTo>
                    <a:lnTo>
                      <a:pt x="123" y="28"/>
                    </a:lnTo>
                    <a:lnTo>
                      <a:pt x="144" y="10"/>
                    </a:lnTo>
                    <a:lnTo>
                      <a:pt x="162" y="0"/>
                    </a:lnTo>
                    <a:lnTo>
                      <a:pt x="231" y="2"/>
                    </a:lnTo>
                    <a:lnTo>
                      <a:pt x="300" y="18"/>
                    </a:lnTo>
                    <a:lnTo>
                      <a:pt x="334" y="44"/>
                    </a:lnTo>
                    <a:lnTo>
                      <a:pt x="357" y="88"/>
                    </a:lnTo>
                    <a:lnTo>
                      <a:pt x="375" y="138"/>
                    </a:lnTo>
                    <a:lnTo>
                      <a:pt x="394" y="177"/>
                    </a:lnTo>
                    <a:lnTo>
                      <a:pt x="433" y="186"/>
                    </a:lnTo>
                    <a:lnTo>
                      <a:pt x="475" y="175"/>
                    </a:lnTo>
                    <a:lnTo>
                      <a:pt x="526" y="196"/>
                    </a:lnTo>
                    <a:lnTo>
                      <a:pt x="543" y="246"/>
                    </a:lnTo>
                    <a:lnTo>
                      <a:pt x="540" y="271"/>
                    </a:lnTo>
                    <a:lnTo>
                      <a:pt x="526" y="294"/>
                    </a:lnTo>
                    <a:lnTo>
                      <a:pt x="505" y="309"/>
                    </a:lnTo>
                    <a:lnTo>
                      <a:pt x="475" y="315"/>
                    </a:lnTo>
                    <a:lnTo>
                      <a:pt x="364" y="306"/>
                    </a:lnTo>
                    <a:lnTo>
                      <a:pt x="315" y="284"/>
                    </a:lnTo>
                    <a:lnTo>
                      <a:pt x="278" y="242"/>
                    </a:lnTo>
                    <a:lnTo>
                      <a:pt x="264" y="166"/>
                    </a:lnTo>
                    <a:lnTo>
                      <a:pt x="253" y="129"/>
                    </a:lnTo>
                    <a:lnTo>
                      <a:pt x="230" y="109"/>
                    </a:lnTo>
                    <a:lnTo>
                      <a:pt x="174" y="112"/>
                    </a:lnTo>
                    <a:lnTo>
                      <a:pt x="132" y="142"/>
                    </a:lnTo>
                    <a:lnTo>
                      <a:pt x="96" y="184"/>
                    </a:lnTo>
                    <a:lnTo>
                      <a:pt x="61" y="222"/>
                    </a:lnTo>
                    <a:lnTo>
                      <a:pt x="32" y="233"/>
                    </a:lnTo>
                    <a:lnTo>
                      <a:pt x="11" y="224"/>
                    </a:lnTo>
                    <a:lnTo>
                      <a:pt x="0" y="201"/>
                    </a:lnTo>
                    <a:lnTo>
                      <a:pt x="9" y="171"/>
                    </a:lnTo>
                    <a:lnTo>
                      <a:pt x="9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86920" y="3689280"/>
                <a:ext cx="746280" cy="133560"/>
              </a:xfrm>
              <a:custGeom>
                <a:avLst/>
                <a:gdLst/>
                <a:ahLst/>
                <a:rect l="l" t="t" r="r" b="b"/>
                <a:pathLst>
                  <a:path w="2521" h="578">
                    <a:moveTo>
                      <a:pt x="120" y="218"/>
                    </a:moveTo>
                    <a:lnTo>
                      <a:pt x="627" y="246"/>
                    </a:lnTo>
                    <a:lnTo>
                      <a:pt x="1133" y="278"/>
                    </a:lnTo>
                    <a:lnTo>
                      <a:pt x="1282" y="304"/>
                    </a:lnTo>
                    <a:lnTo>
                      <a:pt x="1393" y="327"/>
                    </a:lnTo>
                    <a:lnTo>
                      <a:pt x="1511" y="352"/>
                    </a:lnTo>
                    <a:lnTo>
                      <a:pt x="1625" y="378"/>
                    </a:lnTo>
                    <a:lnTo>
                      <a:pt x="1721" y="399"/>
                    </a:lnTo>
                    <a:lnTo>
                      <a:pt x="1812" y="421"/>
                    </a:lnTo>
                    <a:lnTo>
                      <a:pt x="1875" y="402"/>
                    </a:lnTo>
                    <a:lnTo>
                      <a:pt x="1915" y="385"/>
                    </a:lnTo>
                    <a:lnTo>
                      <a:pt x="1958" y="364"/>
                    </a:lnTo>
                    <a:lnTo>
                      <a:pt x="2005" y="342"/>
                    </a:lnTo>
                    <a:lnTo>
                      <a:pt x="2053" y="315"/>
                    </a:lnTo>
                    <a:lnTo>
                      <a:pt x="2103" y="288"/>
                    </a:lnTo>
                    <a:lnTo>
                      <a:pt x="2152" y="259"/>
                    </a:lnTo>
                    <a:lnTo>
                      <a:pt x="2203" y="229"/>
                    </a:lnTo>
                    <a:lnTo>
                      <a:pt x="2251" y="200"/>
                    </a:lnTo>
                    <a:lnTo>
                      <a:pt x="2298" y="171"/>
                    </a:lnTo>
                    <a:lnTo>
                      <a:pt x="2341" y="145"/>
                    </a:lnTo>
                    <a:lnTo>
                      <a:pt x="2380" y="121"/>
                    </a:lnTo>
                    <a:lnTo>
                      <a:pt x="2415" y="99"/>
                    </a:lnTo>
                    <a:lnTo>
                      <a:pt x="2445" y="81"/>
                    </a:lnTo>
                    <a:lnTo>
                      <a:pt x="2468" y="68"/>
                    </a:lnTo>
                    <a:lnTo>
                      <a:pt x="2504" y="51"/>
                    </a:lnTo>
                    <a:lnTo>
                      <a:pt x="2521" y="50"/>
                    </a:lnTo>
                    <a:lnTo>
                      <a:pt x="2516" y="81"/>
                    </a:lnTo>
                    <a:lnTo>
                      <a:pt x="2501" y="105"/>
                    </a:lnTo>
                    <a:lnTo>
                      <a:pt x="2483" y="129"/>
                    </a:lnTo>
                    <a:lnTo>
                      <a:pt x="2455" y="162"/>
                    </a:lnTo>
                    <a:lnTo>
                      <a:pt x="2406" y="200"/>
                    </a:lnTo>
                    <a:lnTo>
                      <a:pt x="2371" y="226"/>
                    </a:lnTo>
                    <a:lnTo>
                      <a:pt x="2331" y="256"/>
                    </a:lnTo>
                    <a:lnTo>
                      <a:pt x="2310" y="272"/>
                    </a:lnTo>
                    <a:lnTo>
                      <a:pt x="2287" y="289"/>
                    </a:lnTo>
                    <a:lnTo>
                      <a:pt x="2263" y="306"/>
                    </a:lnTo>
                    <a:lnTo>
                      <a:pt x="2239" y="322"/>
                    </a:lnTo>
                    <a:lnTo>
                      <a:pt x="2215" y="340"/>
                    </a:lnTo>
                    <a:lnTo>
                      <a:pt x="2190" y="358"/>
                    </a:lnTo>
                    <a:lnTo>
                      <a:pt x="2164" y="376"/>
                    </a:lnTo>
                    <a:lnTo>
                      <a:pt x="2139" y="393"/>
                    </a:lnTo>
                    <a:lnTo>
                      <a:pt x="2114" y="411"/>
                    </a:lnTo>
                    <a:lnTo>
                      <a:pt x="2089" y="428"/>
                    </a:lnTo>
                    <a:lnTo>
                      <a:pt x="2064" y="445"/>
                    </a:lnTo>
                    <a:lnTo>
                      <a:pt x="2040" y="461"/>
                    </a:lnTo>
                    <a:lnTo>
                      <a:pt x="1992" y="492"/>
                    </a:lnTo>
                    <a:lnTo>
                      <a:pt x="1948" y="519"/>
                    </a:lnTo>
                    <a:lnTo>
                      <a:pt x="1909" y="542"/>
                    </a:lnTo>
                    <a:lnTo>
                      <a:pt x="1875" y="560"/>
                    </a:lnTo>
                    <a:lnTo>
                      <a:pt x="1829" y="578"/>
                    </a:lnTo>
                    <a:lnTo>
                      <a:pt x="1721" y="557"/>
                    </a:lnTo>
                    <a:lnTo>
                      <a:pt x="1623" y="533"/>
                    </a:lnTo>
                    <a:lnTo>
                      <a:pt x="1512" y="505"/>
                    </a:lnTo>
                    <a:lnTo>
                      <a:pt x="1395" y="475"/>
                    </a:lnTo>
                    <a:lnTo>
                      <a:pt x="1285" y="449"/>
                    </a:lnTo>
                    <a:lnTo>
                      <a:pt x="1190" y="428"/>
                    </a:lnTo>
                    <a:lnTo>
                      <a:pt x="1123" y="419"/>
                    </a:lnTo>
                    <a:lnTo>
                      <a:pt x="377" y="386"/>
                    </a:lnTo>
                    <a:lnTo>
                      <a:pt x="220" y="356"/>
                    </a:lnTo>
                    <a:lnTo>
                      <a:pt x="142" y="343"/>
                    </a:lnTo>
                    <a:lnTo>
                      <a:pt x="63" y="337"/>
                    </a:lnTo>
                    <a:lnTo>
                      <a:pt x="17" y="301"/>
                    </a:lnTo>
                    <a:lnTo>
                      <a:pt x="3" y="217"/>
                    </a:lnTo>
                    <a:lnTo>
                      <a:pt x="0" y="52"/>
                    </a:lnTo>
                    <a:lnTo>
                      <a:pt x="0" y="16"/>
                    </a:lnTo>
                    <a:lnTo>
                      <a:pt x="9" y="0"/>
                    </a:lnTo>
                    <a:lnTo>
                      <a:pt x="47" y="19"/>
                    </a:lnTo>
                    <a:lnTo>
                      <a:pt x="92" y="97"/>
                    </a:lnTo>
                    <a:lnTo>
                      <a:pt x="120" y="218"/>
                    </a:lnTo>
                    <a:lnTo>
                      <a:pt x="12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07600" y="3497760"/>
                <a:ext cx="313920" cy="200520"/>
              </a:xfrm>
              <a:custGeom>
                <a:avLst/>
                <a:gdLst/>
                <a:ahLst/>
                <a:rect l="l" t="t" r="r" b="b"/>
                <a:pathLst>
                  <a:path w="1057" h="868">
                    <a:moveTo>
                      <a:pt x="685" y="195"/>
                    </a:moveTo>
                    <a:lnTo>
                      <a:pt x="653" y="151"/>
                    </a:lnTo>
                    <a:lnTo>
                      <a:pt x="613" y="115"/>
                    </a:lnTo>
                    <a:lnTo>
                      <a:pt x="570" y="98"/>
                    </a:lnTo>
                    <a:lnTo>
                      <a:pt x="524" y="86"/>
                    </a:lnTo>
                    <a:lnTo>
                      <a:pt x="433" y="80"/>
                    </a:lnTo>
                    <a:lnTo>
                      <a:pt x="343" y="96"/>
                    </a:lnTo>
                    <a:lnTo>
                      <a:pt x="260" y="131"/>
                    </a:lnTo>
                    <a:lnTo>
                      <a:pt x="223" y="156"/>
                    </a:lnTo>
                    <a:lnTo>
                      <a:pt x="189" y="185"/>
                    </a:lnTo>
                    <a:lnTo>
                      <a:pt x="134" y="254"/>
                    </a:lnTo>
                    <a:lnTo>
                      <a:pt x="102" y="338"/>
                    </a:lnTo>
                    <a:lnTo>
                      <a:pt x="96" y="434"/>
                    </a:lnTo>
                    <a:lnTo>
                      <a:pt x="108" y="496"/>
                    </a:lnTo>
                    <a:lnTo>
                      <a:pt x="133" y="548"/>
                    </a:lnTo>
                    <a:lnTo>
                      <a:pt x="150" y="572"/>
                    </a:lnTo>
                    <a:lnTo>
                      <a:pt x="169" y="593"/>
                    </a:lnTo>
                    <a:lnTo>
                      <a:pt x="213" y="629"/>
                    </a:lnTo>
                    <a:lnTo>
                      <a:pt x="238" y="644"/>
                    </a:lnTo>
                    <a:lnTo>
                      <a:pt x="266" y="656"/>
                    </a:lnTo>
                    <a:lnTo>
                      <a:pt x="325" y="678"/>
                    </a:lnTo>
                    <a:lnTo>
                      <a:pt x="387" y="691"/>
                    </a:lnTo>
                    <a:lnTo>
                      <a:pt x="452" y="698"/>
                    </a:lnTo>
                    <a:lnTo>
                      <a:pt x="582" y="694"/>
                    </a:lnTo>
                    <a:lnTo>
                      <a:pt x="701" y="668"/>
                    </a:lnTo>
                    <a:lnTo>
                      <a:pt x="797" y="625"/>
                    </a:lnTo>
                    <a:lnTo>
                      <a:pt x="855" y="568"/>
                    </a:lnTo>
                    <a:lnTo>
                      <a:pt x="878" y="510"/>
                    </a:lnTo>
                    <a:lnTo>
                      <a:pt x="874" y="470"/>
                    </a:lnTo>
                    <a:lnTo>
                      <a:pt x="850" y="434"/>
                    </a:lnTo>
                    <a:lnTo>
                      <a:pt x="815" y="390"/>
                    </a:lnTo>
                    <a:lnTo>
                      <a:pt x="820" y="360"/>
                    </a:lnTo>
                    <a:lnTo>
                      <a:pt x="841" y="348"/>
                    </a:lnTo>
                    <a:lnTo>
                      <a:pt x="866" y="337"/>
                    </a:lnTo>
                    <a:lnTo>
                      <a:pt x="923" y="325"/>
                    </a:lnTo>
                    <a:lnTo>
                      <a:pt x="967" y="332"/>
                    </a:lnTo>
                    <a:lnTo>
                      <a:pt x="1029" y="396"/>
                    </a:lnTo>
                    <a:lnTo>
                      <a:pt x="1057" y="467"/>
                    </a:lnTo>
                    <a:lnTo>
                      <a:pt x="1054" y="540"/>
                    </a:lnTo>
                    <a:lnTo>
                      <a:pt x="1043" y="577"/>
                    </a:lnTo>
                    <a:lnTo>
                      <a:pt x="1027" y="613"/>
                    </a:lnTo>
                    <a:lnTo>
                      <a:pt x="1006" y="648"/>
                    </a:lnTo>
                    <a:lnTo>
                      <a:pt x="981" y="682"/>
                    </a:lnTo>
                    <a:lnTo>
                      <a:pt x="952" y="713"/>
                    </a:lnTo>
                    <a:lnTo>
                      <a:pt x="922" y="742"/>
                    </a:lnTo>
                    <a:lnTo>
                      <a:pt x="889" y="768"/>
                    </a:lnTo>
                    <a:lnTo>
                      <a:pt x="855" y="791"/>
                    </a:lnTo>
                    <a:lnTo>
                      <a:pt x="820" y="810"/>
                    </a:lnTo>
                    <a:lnTo>
                      <a:pt x="785" y="823"/>
                    </a:lnTo>
                    <a:lnTo>
                      <a:pt x="728" y="841"/>
                    </a:lnTo>
                    <a:lnTo>
                      <a:pt x="667" y="855"/>
                    </a:lnTo>
                    <a:lnTo>
                      <a:pt x="540" y="868"/>
                    </a:lnTo>
                    <a:lnTo>
                      <a:pt x="412" y="861"/>
                    </a:lnTo>
                    <a:lnTo>
                      <a:pt x="290" y="833"/>
                    </a:lnTo>
                    <a:lnTo>
                      <a:pt x="234" y="810"/>
                    </a:lnTo>
                    <a:lnTo>
                      <a:pt x="181" y="781"/>
                    </a:lnTo>
                    <a:lnTo>
                      <a:pt x="92" y="704"/>
                    </a:lnTo>
                    <a:lnTo>
                      <a:pt x="30" y="601"/>
                    </a:lnTo>
                    <a:lnTo>
                      <a:pt x="0" y="470"/>
                    </a:lnTo>
                    <a:lnTo>
                      <a:pt x="7" y="324"/>
                    </a:lnTo>
                    <a:lnTo>
                      <a:pt x="24" y="260"/>
                    </a:lnTo>
                    <a:lnTo>
                      <a:pt x="47" y="204"/>
                    </a:lnTo>
                    <a:lnTo>
                      <a:pt x="78" y="155"/>
                    </a:lnTo>
                    <a:lnTo>
                      <a:pt x="114" y="113"/>
                    </a:lnTo>
                    <a:lnTo>
                      <a:pt x="157" y="77"/>
                    </a:lnTo>
                    <a:lnTo>
                      <a:pt x="180" y="61"/>
                    </a:lnTo>
                    <a:lnTo>
                      <a:pt x="204" y="47"/>
                    </a:lnTo>
                    <a:lnTo>
                      <a:pt x="255" y="25"/>
                    </a:lnTo>
                    <a:lnTo>
                      <a:pt x="310" y="9"/>
                    </a:lnTo>
                    <a:lnTo>
                      <a:pt x="430" y="0"/>
                    </a:lnTo>
                    <a:lnTo>
                      <a:pt x="556" y="18"/>
                    </a:lnTo>
                    <a:lnTo>
                      <a:pt x="686" y="65"/>
                    </a:lnTo>
                    <a:lnTo>
                      <a:pt x="794" y="101"/>
                    </a:lnTo>
                    <a:lnTo>
                      <a:pt x="811" y="143"/>
                    </a:lnTo>
                    <a:lnTo>
                      <a:pt x="803" y="168"/>
                    </a:lnTo>
                    <a:lnTo>
                      <a:pt x="789" y="191"/>
                    </a:lnTo>
                    <a:lnTo>
                      <a:pt x="767" y="209"/>
                    </a:lnTo>
                    <a:lnTo>
                      <a:pt x="741" y="218"/>
                    </a:lnTo>
                    <a:lnTo>
                      <a:pt x="685" y="195"/>
                    </a:lnTo>
                    <a:lnTo>
                      <a:pt x="685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585080" y="3539160"/>
                <a:ext cx="170280" cy="64440"/>
              </a:xfrm>
              <a:custGeom>
                <a:avLst/>
                <a:gdLst/>
                <a:ahLst/>
                <a:rect l="l" t="t" r="r" b="b"/>
                <a:pathLst>
                  <a:path w="574" h="279">
                    <a:moveTo>
                      <a:pt x="393" y="193"/>
                    </a:moveTo>
                    <a:lnTo>
                      <a:pt x="355" y="212"/>
                    </a:lnTo>
                    <a:lnTo>
                      <a:pt x="312" y="231"/>
                    </a:lnTo>
                    <a:lnTo>
                      <a:pt x="265" y="248"/>
                    </a:lnTo>
                    <a:lnTo>
                      <a:pt x="216" y="264"/>
                    </a:lnTo>
                    <a:lnTo>
                      <a:pt x="119" y="279"/>
                    </a:lnTo>
                    <a:lnTo>
                      <a:pt x="31" y="270"/>
                    </a:lnTo>
                    <a:lnTo>
                      <a:pt x="6" y="251"/>
                    </a:lnTo>
                    <a:lnTo>
                      <a:pt x="0" y="228"/>
                    </a:lnTo>
                    <a:lnTo>
                      <a:pt x="14" y="207"/>
                    </a:lnTo>
                    <a:lnTo>
                      <a:pt x="41" y="198"/>
                    </a:lnTo>
                    <a:lnTo>
                      <a:pt x="166" y="181"/>
                    </a:lnTo>
                    <a:lnTo>
                      <a:pt x="250" y="139"/>
                    </a:lnTo>
                    <a:lnTo>
                      <a:pt x="323" y="80"/>
                    </a:lnTo>
                    <a:lnTo>
                      <a:pt x="343" y="64"/>
                    </a:lnTo>
                    <a:lnTo>
                      <a:pt x="366" y="48"/>
                    </a:lnTo>
                    <a:lnTo>
                      <a:pt x="390" y="32"/>
                    </a:lnTo>
                    <a:lnTo>
                      <a:pt x="418" y="15"/>
                    </a:lnTo>
                    <a:lnTo>
                      <a:pt x="457" y="0"/>
                    </a:lnTo>
                    <a:lnTo>
                      <a:pt x="484" y="3"/>
                    </a:lnTo>
                    <a:lnTo>
                      <a:pt x="522" y="57"/>
                    </a:lnTo>
                    <a:lnTo>
                      <a:pt x="545" y="87"/>
                    </a:lnTo>
                    <a:lnTo>
                      <a:pt x="566" y="117"/>
                    </a:lnTo>
                    <a:lnTo>
                      <a:pt x="574" y="156"/>
                    </a:lnTo>
                    <a:lnTo>
                      <a:pt x="564" y="188"/>
                    </a:lnTo>
                    <a:lnTo>
                      <a:pt x="544" y="215"/>
                    </a:lnTo>
                    <a:lnTo>
                      <a:pt x="515" y="234"/>
                    </a:lnTo>
                    <a:lnTo>
                      <a:pt x="448" y="240"/>
                    </a:lnTo>
                    <a:lnTo>
                      <a:pt x="393" y="193"/>
                    </a:lnTo>
                    <a:lnTo>
                      <a:pt x="393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81400" y="3406680"/>
                <a:ext cx="127440" cy="64440"/>
              </a:xfrm>
              <a:custGeom>
                <a:avLst/>
                <a:gdLst/>
                <a:ahLst/>
                <a:rect l="l" t="t" r="r" b="b"/>
                <a:pathLst>
                  <a:path w="429" h="277">
                    <a:moveTo>
                      <a:pt x="242" y="266"/>
                    </a:moveTo>
                    <a:lnTo>
                      <a:pt x="212" y="277"/>
                    </a:lnTo>
                    <a:lnTo>
                      <a:pt x="168" y="262"/>
                    </a:lnTo>
                    <a:lnTo>
                      <a:pt x="120" y="239"/>
                    </a:lnTo>
                    <a:lnTo>
                      <a:pt x="77" y="229"/>
                    </a:lnTo>
                    <a:lnTo>
                      <a:pt x="20" y="224"/>
                    </a:lnTo>
                    <a:lnTo>
                      <a:pt x="0" y="212"/>
                    </a:lnTo>
                    <a:lnTo>
                      <a:pt x="18" y="195"/>
                    </a:lnTo>
                    <a:lnTo>
                      <a:pt x="82" y="145"/>
                    </a:lnTo>
                    <a:lnTo>
                      <a:pt x="113" y="73"/>
                    </a:lnTo>
                    <a:lnTo>
                      <a:pt x="118" y="37"/>
                    </a:lnTo>
                    <a:lnTo>
                      <a:pt x="131" y="14"/>
                    </a:lnTo>
                    <a:lnTo>
                      <a:pt x="150" y="3"/>
                    </a:lnTo>
                    <a:lnTo>
                      <a:pt x="176" y="0"/>
                    </a:lnTo>
                    <a:lnTo>
                      <a:pt x="291" y="13"/>
                    </a:lnTo>
                    <a:lnTo>
                      <a:pt x="341" y="29"/>
                    </a:lnTo>
                    <a:lnTo>
                      <a:pt x="354" y="63"/>
                    </a:lnTo>
                    <a:lnTo>
                      <a:pt x="368" y="141"/>
                    </a:lnTo>
                    <a:lnTo>
                      <a:pt x="429" y="227"/>
                    </a:lnTo>
                    <a:lnTo>
                      <a:pt x="426" y="251"/>
                    </a:lnTo>
                    <a:lnTo>
                      <a:pt x="406" y="266"/>
                    </a:lnTo>
                    <a:lnTo>
                      <a:pt x="333" y="276"/>
                    </a:lnTo>
                    <a:lnTo>
                      <a:pt x="242" y="266"/>
                    </a:lnTo>
                    <a:lnTo>
                      <a:pt x="24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703880" y="3669480"/>
                <a:ext cx="176040" cy="87480"/>
              </a:xfrm>
              <a:custGeom>
                <a:avLst/>
                <a:gdLst/>
                <a:ahLst/>
                <a:rect l="l" t="t" r="r" b="b"/>
                <a:pathLst>
                  <a:path w="595" h="377">
                    <a:moveTo>
                      <a:pt x="27" y="333"/>
                    </a:moveTo>
                    <a:lnTo>
                      <a:pt x="24" y="282"/>
                    </a:lnTo>
                    <a:lnTo>
                      <a:pt x="9" y="232"/>
                    </a:lnTo>
                    <a:lnTo>
                      <a:pt x="0" y="183"/>
                    </a:lnTo>
                    <a:lnTo>
                      <a:pt x="9" y="138"/>
                    </a:lnTo>
                    <a:lnTo>
                      <a:pt x="26" y="117"/>
                    </a:lnTo>
                    <a:lnTo>
                      <a:pt x="46" y="98"/>
                    </a:lnTo>
                    <a:lnTo>
                      <a:pt x="72" y="83"/>
                    </a:lnTo>
                    <a:lnTo>
                      <a:pt x="99" y="71"/>
                    </a:lnTo>
                    <a:lnTo>
                      <a:pt x="163" y="54"/>
                    </a:lnTo>
                    <a:lnTo>
                      <a:pt x="233" y="45"/>
                    </a:lnTo>
                    <a:lnTo>
                      <a:pt x="495" y="5"/>
                    </a:lnTo>
                    <a:lnTo>
                      <a:pt x="541" y="0"/>
                    </a:lnTo>
                    <a:lnTo>
                      <a:pt x="578" y="16"/>
                    </a:lnTo>
                    <a:lnTo>
                      <a:pt x="595" y="45"/>
                    </a:lnTo>
                    <a:lnTo>
                      <a:pt x="590" y="59"/>
                    </a:lnTo>
                    <a:lnTo>
                      <a:pt x="575" y="72"/>
                    </a:lnTo>
                    <a:lnTo>
                      <a:pt x="550" y="86"/>
                    </a:lnTo>
                    <a:lnTo>
                      <a:pt x="506" y="104"/>
                    </a:lnTo>
                    <a:lnTo>
                      <a:pt x="451" y="124"/>
                    </a:lnTo>
                    <a:lnTo>
                      <a:pt x="388" y="146"/>
                    </a:lnTo>
                    <a:lnTo>
                      <a:pt x="325" y="168"/>
                    </a:lnTo>
                    <a:lnTo>
                      <a:pt x="267" y="188"/>
                    </a:lnTo>
                    <a:lnTo>
                      <a:pt x="188" y="213"/>
                    </a:lnTo>
                    <a:lnTo>
                      <a:pt x="163" y="210"/>
                    </a:lnTo>
                    <a:lnTo>
                      <a:pt x="141" y="215"/>
                    </a:lnTo>
                    <a:lnTo>
                      <a:pt x="114" y="281"/>
                    </a:lnTo>
                    <a:lnTo>
                      <a:pt x="96" y="351"/>
                    </a:lnTo>
                    <a:lnTo>
                      <a:pt x="78" y="375"/>
                    </a:lnTo>
                    <a:lnTo>
                      <a:pt x="54" y="377"/>
                    </a:lnTo>
                    <a:lnTo>
                      <a:pt x="27" y="333"/>
                    </a:lnTo>
                    <a:lnTo>
                      <a:pt x="27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237320" y="3758400"/>
                <a:ext cx="93240" cy="39960"/>
              </a:xfrm>
              <a:custGeom>
                <a:avLst/>
                <a:gdLst/>
                <a:ahLst/>
                <a:rect l="l" t="t" r="r" b="b"/>
                <a:pathLst>
                  <a:path w="314" h="175">
                    <a:moveTo>
                      <a:pt x="46" y="0"/>
                    </a:moveTo>
                    <a:lnTo>
                      <a:pt x="99" y="26"/>
                    </a:lnTo>
                    <a:lnTo>
                      <a:pt x="154" y="44"/>
                    </a:lnTo>
                    <a:lnTo>
                      <a:pt x="266" y="72"/>
                    </a:lnTo>
                    <a:lnTo>
                      <a:pt x="302" y="90"/>
                    </a:lnTo>
                    <a:lnTo>
                      <a:pt x="314" y="120"/>
                    </a:lnTo>
                    <a:lnTo>
                      <a:pt x="302" y="149"/>
                    </a:lnTo>
                    <a:lnTo>
                      <a:pt x="287" y="160"/>
                    </a:lnTo>
                    <a:lnTo>
                      <a:pt x="266" y="167"/>
                    </a:lnTo>
                    <a:lnTo>
                      <a:pt x="216" y="175"/>
                    </a:lnTo>
                    <a:lnTo>
                      <a:pt x="120" y="162"/>
                    </a:lnTo>
                    <a:lnTo>
                      <a:pt x="33" y="127"/>
                    </a:lnTo>
                    <a:lnTo>
                      <a:pt x="6" y="88"/>
                    </a:lnTo>
                    <a:lnTo>
                      <a:pt x="0" y="38"/>
                    </a:lnTo>
                    <a:lnTo>
                      <a:pt x="13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582200" y="3795120"/>
                <a:ext cx="117000" cy="36720"/>
              </a:xfrm>
              <a:custGeom>
                <a:avLst/>
                <a:gdLst/>
                <a:ahLst/>
                <a:rect l="l" t="t" r="r" b="b"/>
                <a:pathLst>
                  <a:path w="397" h="162">
                    <a:moveTo>
                      <a:pt x="64" y="0"/>
                    </a:moveTo>
                    <a:lnTo>
                      <a:pt x="363" y="1"/>
                    </a:lnTo>
                    <a:lnTo>
                      <a:pt x="385" y="5"/>
                    </a:lnTo>
                    <a:lnTo>
                      <a:pt x="397" y="20"/>
                    </a:lnTo>
                    <a:lnTo>
                      <a:pt x="391" y="68"/>
                    </a:lnTo>
                    <a:lnTo>
                      <a:pt x="376" y="95"/>
                    </a:lnTo>
                    <a:lnTo>
                      <a:pt x="355" y="120"/>
                    </a:lnTo>
                    <a:lnTo>
                      <a:pt x="330" y="138"/>
                    </a:lnTo>
                    <a:lnTo>
                      <a:pt x="301" y="149"/>
                    </a:lnTo>
                    <a:lnTo>
                      <a:pt x="241" y="161"/>
                    </a:lnTo>
                    <a:lnTo>
                      <a:pt x="181" y="162"/>
                    </a:lnTo>
                    <a:lnTo>
                      <a:pt x="127" y="146"/>
                    </a:lnTo>
                    <a:lnTo>
                      <a:pt x="73" y="136"/>
                    </a:lnTo>
                    <a:lnTo>
                      <a:pt x="20" y="115"/>
                    </a:lnTo>
                    <a:lnTo>
                      <a:pt x="0" y="71"/>
                    </a:lnTo>
                    <a:lnTo>
                      <a:pt x="15" y="25"/>
                    </a:lnTo>
                    <a:lnTo>
                      <a:pt x="35" y="1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847520" y="3718080"/>
                <a:ext cx="90360" cy="49320"/>
              </a:xfrm>
              <a:custGeom>
                <a:avLst/>
                <a:gdLst/>
                <a:ahLst/>
                <a:rect l="l" t="t" r="r" b="b"/>
                <a:pathLst>
                  <a:path w="306" h="213">
                    <a:moveTo>
                      <a:pt x="42" y="78"/>
                    </a:moveTo>
                    <a:lnTo>
                      <a:pt x="130" y="57"/>
                    </a:lnTo>
                    <a:lnTo>
                      <a:pt x="207" y="8"/>
                    </a:lnTo>
                    <a:lnTo>
                      <a:pt x="246" y="0"/>
                    </a:lnTo>
                    <a:lnTo>
                      <a:pt x="283" y="34"/>
                    </a:lnTo>
                    <a:lnTo>
                      <a:pt x="306" y="84"/>
                    </a:lnTo>
                    <a:lnTo>
                      <a:pt x="299" y="132"/>
                    </a:lnTo>
                    <a:lnTo>
                      <a:pt x="262" y="170"/>
                    </a:lnTo>
                    <a:lnTo>
                      <a:pt x="225" y="190"/>
                    </a:lnTo>
                    <a:lnTo>
                      <a:pt x="131" y="213"/>
                    </a:lnTo>
                    <a:lnTo>
                      <a:pt x="60" y="207"/>
                    </a:lnTo>
                    <a:lnTo>
                      <a:pt x="12" y="166"/>
                    </a:lnTo>
                    <a:lnTo>
                      <a:pt x="0" y="116"/>
                    </a:lnTo>
                    <a:lnTo>
                      <a:pt x="14" y="94"/>
                    </a:lnTo>
                    <a:lnTo>
                      <a:pt x="42" y="7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09000" y="3416040"/>
                <a:ext cx="158400" cy="296280"/>
              </a:xfrm>
              <a:custGeom>
                <a:avLst/>
                <a:gdLst/>
                <a:ahLst/>
                <a:rect l="l" t="t" r="r" b="b"/>
                <a:pathLst>
                  <a:path w="533" h="1289">
                    <a:moveTo>
                      <a:pt x="274" y="983"/>
                    </a:moveTo>
                    <a:lnTo>
                      <a:pt x="227" y="894"/>
                    </a:lnTo>
                    <a:lnTo>
                      <a:pt x="202" y="795"/>
                    </a:lnTo>
                    <a:lnTo>
                      <a:pt x="190" y="573"/>
                    </a:lnTo>
                    <a:lnTo>
                      <a:pt x="196" y="131"/>
                    </a:lnTo>
                    <a:lnTo>
                      <a:pt x="170" y="130"/>
                    </a:lnTo>
                    <a:lnTo>
                      <a:pt x="149" y="150"/>
                    </a:lnTo>
                    <a:lnTo>
                      <a:pt x="119" y="202"/>
                    </a:lnTo>
                    <a:lnTo>
                      <a:pt x="97" y="222"/>
                    </a:lnTo>
                    <a:lnTo>
                      <a:pt x="73" y="232"/>
                    </a:lnTo>
                    <a:lnTo>
                      <a:pt x="28" y="223"/>
                    </a:lnTo>
                    <a:lnTo>
                      <a:pt x="0" y="187"/>
                    </a:lnTo>
                    <a:lnTo>
                      <a:pt x="6" y="133"/>
                    </a:lnTo>
                    <a:lnTo>
                      <a:pt x="42" y="74"/>
                    </a:lnTo>
                    <a:lnTo>
                      <a:pt x="85" y="32"/>
                    </a:lnTo>
                    <a:lnTo>
                      <a:pt x="109" y="17"/>
                    </a:lnTo>
                    <a:lnTo>
                      <a:pt x="133" y="7"/>
                    </a:lnTo>
                    <a:lnTo>
                      <a:pt x="181" y="0"/>
                    </a:lnTo>
                    <a:lnTo>
                      <a:pt x="227" y="12"/>
                    </a:lnTo>
                    <a:lnTo>
                      <a:pt x="266" y="43"/>
                    </a:lnTo>
                    <a:lnTo>
                      <a:pt x="295" y="95"/>
                    </a:lnTo>
                    <a:lnTo>
                      <a:pt x="313" y="167"/>
                    </a:lnTo>
                    <a:lnTo>
                      <a:pt x="316" y="319"/>
                    </a:lnTo>
                    <a:lnTo>
                      <a:pt x="305" y="472"/>
                    </a:lnTo>
                    <a:lnTo>
                      <a:pt x="296" y="624"/>
                    </a:lnTo>
                    <a:lnTo>
                      <a:pt x="312" y="777"/>
                    </a:lnTo>
                    <a:lnTo>
                      <a:pt x="338" y="874"/>
                    </a:lnTo>
                    <a:lnTo>
                      <a:pt x="365" y="939"/>
                    </a:lnTo>
                    <a:lnTo>
                      <a:pt x="391" y="976"/>
                    </a:lnTo>
                    <a:lnTo>
                      <a:pt x="417" y="995"/>
                    </a:lnTo>
                    <a:lnTo>
                      <a:pt x="468" y="1012"/>
                    </a:lnTo>
                    <a:lnTo>
                      <a:pt x="512" y="1053"/>
                    </a:lnTo>
                    <a:lnTo>
                      <a:pt x="533" y="1154"/>
                    </a:lnTo>
                    <a:lnTo>
                      <a:pt x="523" y="1204"/>
                    </a:lnTo>
                    <a:lnTo>
                      <a:pt x="506" y="1246"/>
                    </a:lnTo>
                    <a:lnTo>
                      <a:pt x="486" y="1276"/>
                    </a:lnTo>
                    <a:lnTo>
                      <a:pt x="467" y="1289"/>
                    </a:lnTo>
                    <a:lnTo>
                      <a:pt x="452" y="1281"/>
                    </a:lnTo>
                    <a:lnTo>
                      <a:pt x="446" y="1246"/>
                    </a:lnTo>
                    <a:lnTo>
                      <a:pt x="452" y="1136"/>
                    </a:lnTo>
                    <a:lnTo>
                      <a:pt x="446" y="1110"/>
                    </a:lnTo>
                    <a:lnTo>
                      <a:pt x="434" y="1095"/>
                    </a:lnTo>
                    <a:lnTo>
                      <a:pt x="378" y="1106"/>
                    </a:lnTo>
                    <a:lnTo>
                      <a:pt x="311" y="1055"/>
                    </a:lnTo>
                    <a:lnTo>
                      <a:pt x="274" y="983"/>
                    </a:lnTo>
                    <a:lnTo>
                      <a:pt x="274" y="9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254960" y="3367440"/>
                <a:ext cx="110520" cy="30960"/>
              </a:xfrm>
              <a:custGeom>
                <a:avLst/>
                <a:gdLst/>
                <a:ahLst/>
                <a:rect l="l" t="t" r="r" b="b"/>
                <a:pathLst>
                  <a:path w="375" h="137">
                    <a:moveTo>
                      <a:pt x="22" y="73"/>
                    </a:moveTo>
                    <a:lnTo>
                      <a:pt x="58" y="56"/>
                    </a:lnTo>
                    <a:lnTo>
                      <a:pt x="114" y="31"/>
                    </a:lnTo>
                    <a:lnTo>
                      <a:pt x="169" y="9"/>
                    </a:lnTo>
                    <a:lnTo>
                      <a:pt x="200" y="0"/>
                    </a:lnTo>
                    <a:lnTo>
                      <a:pt x="329" y="21"/>
                    </a:lnTo>
                    <a:lnTo>
                      <a:pt x="365" y="42"/>
                    </a:lnTo>
                    <a:lnTo>
                      <a:pt x="375" y="74"/>
                    </a:lnTo>
                    <a:lnTo>
                      <a:pt x="361" y="105"/>
                    </a:lnTo>
                    <a:lnTo>
                      <a:pt x="345" y="116"/>
                    </a:lnTo>
                    <a:lnTo>
                      <a:pt x="323" y="122"/>
                    </a:lnTo>
                    <a:lnTo>
                      <a:pt x="210" y="129"/>
                    </a:lnTo>
                    <a:lnTo>
                      <a:pt x="42" y="137"/>
                    </a:lnTo>
                    <a:lnTo>
                      <a:pt x="14" y="134"/>
                    </a:lnTo>
                    <a:lnTo>
                      <a:pt x="0" y="116"/>
                    </a:lnTo>
                    <a:lnTo>
                      <a:pt x="0" y="92"/>
                    </a:lnTo>
                    <a:lnTo>
                      <a:pt x="22" y="73"/>
                    </a:lnTo>
                    <a:lnTo>
                      <a:pt x="2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2319480" y="3230280"/>
              <a:ext cx="912600" cy="601560"/>
              <a:chOff x="2319480" y="3230280"/>
              <a:chExt cx="912600" cy="601560"/>
            </a:xfrm>
          </p:grpSpPr>
          <p:sp>
            <p:nvSpPr>
              <p:cNvPr id="919" name=""/>
              <p:cNvSpPr/>
              <p:nvPr/>
            </p:nvSpPr>
            <p:spPr>
              <a:xfrm>
                <a:off x="2439360" y="3405600"/>
                <a:ext cx="693000" cy="367200"/>
              </a:xfrm>
              <a:custGeom>
                <a:avLst/>
                <a:gdLst/>
                <a:ahLst/>
                <a:rect l="l" t="t" r="r" b="b"/>
                <a:pathLst>
                  <a:path w="2342" h="1592">
                    <a:moveTo>
                      <a:pt x="640" y="33"/>
                    </a:moveTo>
                    <a:lnTo>
                      <a:pt x="538" y="578"/>
                    </a:lnTo>
                    <a:lnTo>
                      <a:pt x="120" y="1047"/>
                    </a:lnTo>
                    <a:lnTo>
                      <a:pt x="0" y="1180"/>
                    </a:lnTo>
                    <a:lnTo>
                      <a:pt x="45" y="1440"/>
                    </a:lnTo>
                    <a:lnTo>
                      <a:pt x="1803" y="1592"/>
                    </a:lnTo>
                    <a:lnTo>
                      <a:pt x="2342" y="1314"/>
                    </a:lnTo>
                    <a:lnTo>
                      <a:pt x="2031" y="58"/>
                    </a:lnTo>
                    <a:lnTo>
                      <a:pt x="1905" y="0"/>
                    </a:lnTo>
                    <a:lnTo>
                      <a:pt x="1677" y="255"/>
                    </a:lnTo>
                    <a:lnTo>
                      <a:pt x="980" y="197"/>
                    </a:lnTo>
                    <a:lnTo>
                      <a:pt x="760" y="0"/>
                    </a:lnTo>
                    <a:lnTo>
                      <a:pt x="640" y="33"/>
                    </a:lnTo>
                    <a:lnTo>
                      <a:pt x="64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443680" y="3426480"/>
                <a:ext cx="784800" cy="393120"/>
              </a:xfrm>
              <a:custGeom>
                <a:avLst/>
                <a:gdLst/>
                <a:ahLst/>
                <a:rect l="l" t="t" r="r" b="b"/>
                <a:pathLst>
                  <a:path w="2651" h="1707">
                    <a:moveTo>
                      <a:pt x="120" y="1155"/>
                    </a:moveTo>
                    <a:lnTo>
                      <a:pt x="551" y="1155"/>
                    </a:lnTo>
                    <a:lnTo>
                      <a:pt x="1291" y="1288"/>
                    </a:lnTo>
                    <a:lnTo>
                      <a:pt x="1146" y="1149"/>
                    </a:lnTo>
                    <a:lnTo>
                      <a:pt x="1708" y="850"/>
                    </a:lnTo>
                    <a:lnTo>
                      <a:pt x="1905" y="1021"/>
                    </a:lnTo>
                    <a:lnTo>
                      <a:pt x="1961" y="793"/>
                    </a:lnTo>
                    <a:lnTo>
                      <a:pt x="1905" y="241"/>
                    </a:lnTo>
                    <a:lnTo>
                      <a:pt x="1955" y="0"/>
                    </a:lnTo>
                    <a:lnTo>
                      <a:pt x="2069" y="165"/>
                    </a:lnTo>
                    <a:lnTo>
                      <a:pt x="2152" y="146"/>
                    </a:lnTo>
                    <a:lnTo>
                      <a:pt x="2222" y="0"/>
                    </a:lnTo>
                    <a:lnTo>
                      <a:pt x="2430" y="63"/>
                    </a:lnTo>
                    <a:lnTo>
                      <a:pt x="2461" y="818"/>
                    </a:lnTo>
                    <a:lnTo>
                      <a:pt x="2645" y="952"/>
                    </a:lnTo>
                    <a:lnTo>
                      <a:pt x="2651" y="1186"/>
                    </a:lnTo>
                    <a:lnTo>
                      <a:pt x="1741" y="1707"/>
                    </a:lnTo>
                    <a:lnTo>
                      <a:pt x="0" y="1402"/>
                    </a:lnTo>
                    <a:lnTo>
                      <a:pt x="120" y="1155"/>
                    </a:lnTo>
                    <a:lnTo>
                      <a:pt x="120" y="1155"/>
                    </a:lnTo>
                    <a:close/>
                  </a:path>
                </a:pathLst>
              </a:custGeom>
              <a:solidFill>
                <a:srgbClr val="a3a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807200">
                <a:off x="2365200" y="3367440"/>
                <a:ext cx="240120" cy="246600"/>
              </a:xfrm>
              <a:custGeom>
                <a:avLst/>
                <a:gdLst/>
                <a:ahLst/>
                <a:rect l="l" t="t" r="r" b="b"/>
                <a:pathLst>
                  <a:path w="810" h="1069">
                    <a:moveTo>
                      <a:pt x="235" y="736"/>
                    </a:moveTo>
                    <a:lnTo>
                      <a:pt x="295" y="710"/>
                    </a:lnTo>
                    <a:lnTo>
                      <a:pt x="357" y="682"/>
                    </a:lnTo>
                    <a:lnTo>
                      <a:pt x="417" y="660"/>
                    </a:lnTo>
                    <a:lnTo>
                      <a:pt x="471" y="650"/>
                    </a:lnTo>
                    <a:lnTo>
                      <a:pt x="516" y="657"/>
                    </a:lnTo>
                    <a:lnTo>
                      <a:pt x="545" y="687"/>
                    </a:lnTo>
                    <a:lnTo>
                      <a:pt x="555" y="747"/>
                    </a:lnTo>
                    <a:lnTo>
                      <a:pt x="543" y="840"/>
                    </a:lnTo>
                    <a:lnTo>
                      <a:pt x="609" y="825"/>
                    </a:lnTo>
                    <a:lnTo>
                      <a:pt x="665" y="825"/>
                    </a:lnTo>
                    <a:lnTo>
                      <a:pt x="746" y="855"/>
                    </a:lnTo>
                    <a:lnTo>
                      <a:pt x="793" y="915"/>
                    </a:lnTo>
                    <a:lnTo>
                      <a:pt x="810" y="982"/>
                    </a:lnTo>
                    <a:lnTo>
                      <a:pt x="799" y="1040"/>
                    </a:lnTo>
                    <a:lnTo>
                      <a:pt x="786" y="1059"/>
                    </a:lnTo>
                    <a:lnTo>
                      <a:pt x="767" y="1069"/>
                    </a:lnTo>
                    <a:lnTo>
                      <a:pt x="717" y="1047"/>
                    </a:lnTo>
                    <a:lnTo>
                      <a:pt x="687" y="1012"/>
                    </a:lnTo>
                    <a:lnTo>
                      <a:pt x="654" y="957"/>
                    </a:lnTo>
                    <a:lnTo>
                      <a:pt x="588" y="979"/>
                    </a:lnTo>
                    <a:lnTo>
                      <a:pt x="552" y="998"/>
                    </a:lnTo>
                    <a:lnTo>
                      <a:pt x="515" y="1015"/>
                    </a:lnTo>
                    <a:lnTo>
                      <a:pt x="480" y="1025"/>
                    </a:lnTo>
                    <a:lnTo>
                      <a:pt x="450" y="1027"/>
                    </a:lnTo>
                    <a:lnTo>
                      <a:pt x="407" y="975"/>
                    </a:lnTo>
                    <a:lnTo>
                      <a:pt x="407" y="925"/>
                    </a:lnTo>
                    <a:lnTo>
                      <a:pt x="425" y="878"/>
                    </a:lnTo>
                    <a:lnTo>
                      <a:pt x="458" y="782"/>
                    </a:lnTo>
                    <a:lnTo>
                      <a:pt x="429" y="796"/>
                    </a:lnTo>
                    <a:lnTo>
                      <a:pt x="389" y="816"/>
                    </a:lnTo>
                    <a:lnTo>
                      <a:pt x="341" y="842"/>
                    </a:lnTo>
                    <a:lnTo>
                      <a:pt x="289" y="868"/>
                    </a:lnTo>
                    <a:lnTo>
                      <a:pt x="238" y="893"/>
                    </a:lnTo>
                    <a:lnTo>
                      <a:pt x="191" y="914"/>
                    </a:lnTo>
                    <a:lnTo>
                      <a:pt x="130" y="927"/>
                    </a:lnTo>
                    <a:lnTo>
                      <a:pt x="73" y="893"/>
                    </a:lnTo>
                    <a:lnTo>
                      <a:pt x="56" y="845"/>
                    </a:lnTo>
                    <a:lnTo>
                      <a:pt x="70" y="790"/>
                    </a:lnTo>
                    <a:lnTo>
                      <a:pt x="101" y="730"/>
                    </a:lnTo>
                    <a:lnTo>
                      <a:pt x="120" y="700"/>
                    </a:lnTo>
                    <a:lnTo>
                      <a:pt x="139" y="671"/>
                    </a:lnTo>
                    <a:lnTo>
                      <a:pt x="174" y="618"/>
                    </a:lnTo>
                    <a:lnTo>
                      <a:pt x="191" y="552"/>
                    </a:lnTo>
                    <a:lnTo>
                      <a:pt x="156" y="533"/>
                    </a:lnTo>
                    <a:lnTo>
                      <a:pt x="114" y="520"/>
                    </a:lnTo>
                    <a:lnTo>
                      <a:pt x="35" y="496"/>
                    </a:lnTo>
                    <a:lnTo>
                      <a:pt x="8" y="477"/>
                    </a:lnTo>
                    <a:lnTo>
                      <a:pt x="0" y="448"/>
                    </a:lnTo>
                    <a:lnTo>
                      <a:pt x="11" y="405"/>
                    </a:lnTo>
                    <a:lnTo>
                      <a:pt x="26" y="377"/>
                    </a:lnTo>
                    <a:lnTo>
                      <a:pt x="50" y="345"/>
                    </a:lnTo>
                    <a:lnTo>
                      <a:pt x="73" y="321"/>
                    </a:lnTo>
                    <a:lnTo>
                      <a:pt x="100" y="299"/>
                    </a:lnTo>
                    <a:lnTo>
                      <a:pt x="128" y="280"/>
                    </a:lnTo>
                    <a:lnTo>
                      <a:pt x="157" y="263"/>
                    </a:lnTo>
                    <a:lnTo>
                      <a:pt x="136" y="113"/>
                    </a:lnTo>
                    <a:lnTo>
                      <a:pt x="151" y="67"/>
                    </a:lnTo>
                    <a:lnTo>
                      <a:pt x="184" y="35"/>
                    </a:lnTo>
                    <a:lnTo>
                      <a:pt x="229" y="16"/>
                    </a:lnTo>
                    <a:lnTo>
                      <a:pt x="285" y="5"/>
                    </a:lnTo>
                    <a:lnTo>
                      <a:pt x="426" y="0"/>
                    </a:lnTo>
                    <a:lnTo>
                      <a:pt x="441" y="18"/>
                    </a:lnTo>
                    <a:lnTo>
                      <a:pt x="429" y="58"/>
                    </a:lnTo>
                    <a:lnTo>
                      <a:pt x="415" y="79"/>
                    </a:lnTo>
                    <a:lnTo>
                      <a:pt x="399" y="97"/>
                    </a:lnTo>
                    <a:lnTo>
                      <a:pt x="383" y="111"/>
                    </a:lnTo>
                    <a:lnTo>
                      <a:pt x="366" y="115"/>
                    </a:lnTo>
                    <a:lnTo>
                      <a:pt x="291" y="108"/>
                    </a:lnTo>
                    <a:lnTo>
                      <a:pt x="227" y="124"/>
                    </a:lnTo>
                    <a:lnTo>
                      <a:pt x="222" y="161"/>
                    </a:lnTo>
                    <a:lnTo>
                      <a:pt x="240" y="201"/>
                    </a:lnTo>
                    <a:lnTo>
                      <a:pt x="283" y="274"/>
                    </a:lnTo>
                    <a:lnTo>
                      <a:pt x="284" y="306"/>
                    </a:lnTo>
                    <a:lnTo>
                      <a:pt x="273" y="328"/>
                    </a:lnTo>
                    <a:lnTo>
                      <a:pt x="253" y="341"/>
                    </a:lnTo>
                    <a:lnTo>
                      <a:pt x="228" y="351"/>
                    </a:lnTo>
                    <a:lnTo>
                      <a:pt x="179" y="366"/>
                    </a:lnTo>
                    <a:lnTo>
                      <a:pt x="152" y="397"/>
                    </a:lnTo>
                    <a:lnTo>
                      <a:pt x="164" y="413"/>
                    </a:lnTo>
                    <a:lnTo>
                      <a:pt x="193" y="414"/>
                    </a:lnTo>
                    <a:lnTo>
                      <a:pt x="256" y="415"/>
                    </a:lnTo>
                    <a:lnTo>
                      <a:pt x="289" y="441"/>
                    </a:lnTo>
                    <a:lnTo>
                      <a:pt x="308" y="478"/>
                    </a:lnTo>
                    <a:lnTo>
                      <a:pt x="312" y="570"/>
                    </a:lnTo>
                    <a:lnTo>
                      <a:pt x="300" y="620"/>
                    </a:lnTo>
                    <a:lnTo>
                      <a:pt x="282" y="666"/>
                    </a:lnTo>
                    <a:lnTo>
                      <a:pt x="260" y="706"/>
                    </a:lnTo>
                    <a:lnTo>
                      <a:pt x="235" y="736"/>
                    </a:lnTo>
                    <a:lnTo>
                      <a:pt x="235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2" name=""/>
              <p:cNvGrpSpPr/>
              <p:nvPr/>
            </p:nvGrpSpPr>
            <p:grpSpPr>
              <a:xfrm>
                <a:off x="2537280" y="3230280"/>
                <a:ext cx="694800" cy="444240"/>
                <a:chOff x="2537280" y="3230280"/>
                <a:chExt cx="694800" cy="444240"/>
              </a:xfrm>
            </p:grpSpPr>
            <p:sp>
              <p:nvSpPr>
                <p:cNvPr id="923" name=""/>
                <p:cNvSpPr/>
                <p:nvPr/>
              </p:nvSpPr>
              <p:spPr>
                <a:xfrm rot="976200">
                  <a:off x="2568240" y="3314520"/>
                  <a:ext cx="639720" cy="262800"/>
                </a:xfrm>
                <a:custGeom>
                  <a:avLst/>
                  <a:gdLst/>
                  <a:ahLst/>
                  <a:rect l="l" t="t" r="r" b="b"/>
                  <a:pathLst>
                    <a:path w="2159" h="1142">
                      <a:moveTo>
                        <a:pt x="0" y="1066"/>
                      </a:moveTo>
                      <a:lnTo>
                        <a:pt x="38" y="678"/>
                      </a:lnTo>
                      <a:lnTo>
                        <a:pt x="190" y="431"/>
                      </a:lnTo>
                      <a:lnTo>
                        <a:pt x="475" y="241"/>
                      </a:lnTo>
                      <a:lnTo>
                        <a:pt x="1006" y="50"/>
                      </a:lnTo>
                      <a:lnTo>
                        <a:pt x="1537" y="0"/>
                      </a:lnTo>
                      <a:lnTo>
                        <a:pt x="1918" y="197"/>
                      </a:lnTo>
                      <a:lnTo>
                        <a:pt x="2159" y="463"/>
                      </a:lnTo>
                      <a:lnTo>
                        <a:pt x="2007" y="666"/>
                      </a:lnTo>
                      <a:lnTo>
                        <a:pt x="1487" y="774"/>
                      </a:lnTo>
                      <a:lnTo>
                        <a:pt x="1184" y="336"/>
                      </a:lnTo>
                      <a:lnTo>
                        <a:pt x="519" y="628"/>
                      </a:lnTo>
                      <a:lnTo>
                        <a:pt x="411" y="1041"/>
                      </a:lnTo>
                      <a:lnTo>
                        <a:pt x="69" y="1142"/>
                      </a:lnTo>
                      <a:lnTo>
                        <a:pt x="0" y="1066"/>
                      </a:lnTo>
                      <a:lnTo>
                        <a:pt x="0" y="10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rot="976200">
                  <a:off x="2612520" y="3366360"/>
                  <a:ext cx="569880" cy="205200"/>
                </a:xfrm>
                <a:custGeom>
                  <a:avLst/>
                  <a:gdLst/>
                  <a:ahLst/>
                  <a:rect l="l" t="t" r="r" b="b"/>
                  <a:pathLst>
                    <a:path w="1924" h="893">
                      <a:moveTo>
                        <a:pt x="12" y="856"/>
                      </a:moveTo>
                      <a:lnTo>
                        <a:pt x="45" y="551"/>
                      </a:lnTo>
                      <a:lnTo>
                        <a:pt x="153" y="406"/>
                      </a:lnTo>
                      <a:lnTo>
                        <a:pt x="253" y="412"/>
                      </a:lnTo>
                      <a:lnTo>
                        <a:pt x="247" y="298"/>
                      </a:lnTo>
                      <a:lnTo>
                        <a:pt x="431" y="171"/>
                      </a:lnTo>
                      <a:lnTo>
                        <a:pt x="754" y="51"/>
                      </a:lnTo>
                      <a:lnTo>
                        <a:pt x="1019" y="0"/>
                      </a:lnTo>
                      <a:lnTo>
                        <a:pt x="1183" y="70"/>
                      </a:lnTo>
                      <a:lnTo>
                        <a:pt x="1254" y="184"/>
                      </a:lnTo>
                      <a:lnTo>
                        <a:pt x="1348" y="279"/>
                      </a:lnTo>
                      <a:lnTo>
                        <a:pt x="1569" y="165"/>
                      </a:lnTo>
                      <a:lnTo>
                        <a:pt x="1741" y="190"/>
                      </a:lnTo>
                      <a:lnTo>
                        <a:pt x="1924" y="323"/>
                      </a:lnTo>
                      <a:lnTo>
                        <a:pt x="1500" y="532"/>
                      </a:lnTo>
                      <a:lnTo>
                        <a:pt x="1310" y="520"/>
                      </a:lnTo>
                      <a:lnTo>
                        <a:pt x="1069" y="215"/>
                      </a:lnTo>
                      <a:lnTo>
                        <a:pt x="879" y="221"/>
                      </a:lnTo>
                      <a:lnTo>
                        <a:pt x="398" y="476"/>
                      </a:lnTo>
                      <a:lnTo>
                        <a:pt x="361" y="665"/>
                      </a:lnTo>
                      <a:lnTo>
                        <a:pt x="323" y="843"/>
                      </a:lnTo>
                      <a:lnTo>
                        <a:pt x="0" y="893"/>
                      </a:lnTo>
                      <a:lnTo>
                        <a:pt x="12" y="856"/>
                      </a:lnTo>
                      <a:lnTo>
                        <a:pt x="12" y="856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976200">
                  <a:off x="2621520" y="3298680"/>
                  <a:ext cx="504720" cy="151920"/>
                </a:xfrm>
                <a:custGeom>
                  <a:avLst/>
                  <a:gdLst/>
                  <a:ahLst/>
                  <a:rect l="l" t="t" r="r" b="b"/>
                  <a:pathLst>
                    <a:path w="1704" h="657">
                      <a:moveTo>
                        <a:pt x="0" y="598"/>
                      </a:moveTo>
                      <a:lnTo>
                        <a:pt x="15" y="559"/>
                      </a:lnTo>
                      <a:lnTo>
                        <a:pt x="35" y="522"/>
                      </a:lnTo>
                      <a:lnTo>
                        <a:pt x="60" y="485"/>
                      </a:lnTo>
                      <a:lnTo>
                        <a:pt x="90" y="449"/>
                      </a:lnTo>
                      <a:lnTo>
                        <a:pt x="126" y="413"/>
                      </a:lnTo>
                      <a:lnTo>
                        <a:pt x="166" y="378"/>
                      </a:lnTo>
                      <a:lnTo>
                        <a:pt x="210" y="345"/>
                      </a:lnTo>
                      <a:lnTo>
                        <a:pt x="233" y="328"/>
                      </a:lnTo>
                      <a:lnTo>
                        <a:pt x="257" y="312"/>
                      </a:lnTo>
                      <a:lnTo>
                        <a:pt x="282" y="295"/>
                      </a:lnTo>
                      <a:lnTo>
                        <a:pt x="309" y="280"/>
                      </a:lnTo>
                      <a:lnTo>
                        <a:pt x="363" y="250"/>
                      </a:lnTo>
                      <a:lnTo>
                        <a:pt x="420" y="220"/>
                      </a:lnTo>
                      <a:lnTo>
                        <a:pt x="479" y="192"/>
                      </a:lnTo>
                      <a:lnTo>
                        <a:pt x="540" y="166"/>
                      </a:lnTo>
                      <a:lnTo>
                        <a:pt x="604" y="140"/>
                      </a:lnTo>
                      <a:lnTo>
                        <a:pt x="667" y="118"/>
                      </a:lnTo>
                      <a:lnTo>
                        <a:pt x="733" y="96"/>
                      </a:lnTo>
                      <a:lnTo>
                        <a:pt x="798" y="77"/>
                      </a:lnTo>
                      <a:lnTo>
                        <a:pt x="865" y="59"/>
                      </a:lnTo>
                      <a:lnTo>
                        <a:pt x="931" y="44"/>
                      </a:lnTo>
                      <a:lnTo>
                        <a:pt x="997" y="30"/>
                      </a:lnTo>
                      <a:lnTo>
                        <a:pt x="1127" y="11"/>
                      </a:lnTo>
                      <a:lnTo>
                        <a:pt x="1250" y="0"/>
                      </a:lnTo>
                      <a:lnTo>
                        <a:pt x="1470" y="12"/>
                      </a:lnTo>
                      <a:lnTo>
                        <a:pt x="1560" y="36"/>
                      </a:lnTo>
                      <a:lnTo>
                        <a:pt x="1634" y="72"/>
                      </a:lnTo>
                      <a:lnTo>
                        <a:pt x="1687" y="124"/>
                      </a:lnTo>
                      <a:lnTo>
                        <a:pt x="1704" y="173"/>
                      </a:lnTo>
                      <a:lnTo>
                        <a:pt x="1698" y="191"/>
                      </a:lnTo>
                      <a:lnTo>
                        <a:pt x="1682" y="203"/>
                      </a:lnTo>
                      <a:lnTo>
                        <a:pt x="1621" y="200"/>
                      </a:lnTo>
                      <a:lnTo>
                        <a:pt x="1517" y="173"/>
                      </a:lnTo>
                      <a:lnTo>
                        <a:pt x="1409" y="144"/>
                      </a:lnTo>
                      <a:lnTo>
                        <a:pt x="1319" y="124"/>
                      </a:lnTo>
                      <a:lnTo>
                        <a:pt x="1224" y="115"/>
                      </a:lnTo>
                      <a:lnTo>
                        <a:pt x="1028" y="128"/>
                      </a:lnTo>
                      <a:lnTo>
                        <a:pt x="835" y="173"/>
                      </a:lnTo>
                      <a:lnTo>
                        <a:pt x="744" y="202"/>
                      </a:lnTo>
                      <a:lnTo>
                        <a:pt x="659" y="234"/>
                      </a:lnTo>
                      <a:lnTo>
                        <a:pt x="586" y="264"/>
                      </a:lnTo>
                      <a:lnTo>
                        <a:pt x="521" y="291"/>
                      </a:lnTo>
                      <a:lnTo>
                        <a:pt x="467" y="313"/>
                      </a:lnTo>
                      <a:lnTo>
                        <a:pt x="419" y="333"/>
                      </a:lnTo>
                      <a:lnTo>
                        <a:pt x="342" y="369"/>
                      </a:lnTo>
                      <a:lnTo>
                        <a:pt x="284" y="402"/>
                      </a:lnTo>
                      <a:lnTo>
                        <a:pt x="234" y="441"/>
                      </a:lnTo>
                      <a:lnTo>
                        <a:pt x="186" y="489"/>
                      </a:lnTo>
                      <a:lnTo>
                        <a:pt x="160" y="519"/>
                      </a:lnTo>
                      <a:lnTo>
                        <a:pt x="130" y="553"/>
                      </a:lnTo>
                      <a:lnTo>
                        <a:pt x="96" y="593"/>
                      </a:lnTo>
                      <a:lnTo>
                        <a:pt x="59" y="639"/>
                      </a:lnTo>
                      <a:lnTo>
                        <a:pt x="34" y="657"/>
                      </a:lnTo>
                      <a:lnTo>
                        <a:pt x="11" y="653"/>
                      </a:lnTo>
                      <a:lnTo>
                        <a:pt x="0" y="598"/>
                      </a:lnTo>
                      <a:lnTo>
                        <a:pt x="0" y="5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976200">
                  <a:off x="2553480" y="3377520"/>
                  <a:ext cx="654480" cy="209520"/>
                </a:xfrm>
                <a:custGeom>
                  <a:avLst/>
                  <a:gdLst/>
                  <a:ahLst/>
                  <a:rect l="l" t="t" r="r" b="b"/>
                  <a:pathLst>
                    <a:path w="2210" h="912">
                      <a:moveTo>
                        <a:pt x="109" y="769"/>
                      </a:moveTo>
                      <a:lnTo>
                        <a:pt x="161" y="758"/>
                      </a:lnTo>
                      <a:lnTo>
                        <a:pt x="208" y="727"/>
                      </a:lnTo>
                      <a:lnTo>
                        <a:pt x="232" y="709"/>
                      </a:lnTo>
                      <a:lnTo>
                        <a:pt x="255" y="692"/>
                      </a:lnTo>
                      <a:lnTo>
                        <a:pt x="279" y="677"/>
                      </a:lnTo>
                      <a:lnTo>
                        <a:pt x="304" y="667"/>
                      </a:lnTo>
                      <a:lnTo>
                        <a:pt x="399" y="653"/>
                      </a:lnTo>
                      <a:lnTo>
                        <a:pt x="493" y="643"/>
                      </a:lnTo>
                      <a:lnTo>
                        <a:pt x="508" y="556"/>
                      </a:lnTo>
                      <a:lnTo>
                        <a:pt x="506" y="512"/>
                      </a:lnTo>
                      <a:lnTo>
                        <a:pt x="508" y="466"/>
                      </a:lnTo>
                      <a:lnTo>
                        <a:pt x="518" y="430"/>
                      </a:lnTo>
                      <a:lnTo>
                        <a:pt x="538" y="393"/>
                      </a:lnTo>
                      <a:lnTo>
                        <a:pt x="565" y="354"/>
                      </a:lnTo>
                      <a:lnTo>
                        <a:pt x="600" y="317"/>
                      </a:lnTo>
                      <a:lnTo>
                        <a:pt x="642" y="281"/>
                      </a:lnTo>
                      <a:lnTo>
                        <a:pt x="688" y="245"/>
                      </a:lnTo>
                      <a:lnTo>
                        <a:pt x="713" y="227"/>
                      </a:lnTo>
                      <a:lnTo>
                        <a:pt x="738" y="210"/>
                      </a:lnTo>
                      <a:lnTo>
                        <a:pt x="764" y="194"/>
                      </a:lnTo>
                      <a:lnTo>
                        <a:pt x="792" y="178"/>
                      </a:lnTo>
                      <a:lnTo>
                        <a:pt x="847" y="148"/>
                      </a:lnTo>
                      <a:lnTo>
                        <a:pt x="902" y="120"/>
                      </a:lnTo>
                      <a:lnTo>
                        <a:pt x="958" y="95"/>
                      </a:lnTo>
                      <a:lnTo>
                        <a:pt x="1011" y="75"/>
                      </a:lnTo>
                      <a:lnTo>
                        <a:pt x="1062" y="58"/>
                      </a:lnTo>
                      <a:lnTo>
                        <a:pt x="1110" y="45"/>
                      </a:lnTo>
                      <a:lnTo>
                        <a:pt x="1189" y="35"/>
                      </a:lnTo>
                      <a:lnTo>
                        <a:pt x="1254" y="42"/>
                      </a:lnTo>
                      <a:lnTo>
                        <a:pt x="1303" y="64"/>
                      </a:lnTo>
                      <a:lnTo>
                        <a:pt x="1369" y="135"/>
                      </a:lnTo>
                      <a:lnTo>
                        <a:pt x="1412" y="230"/>
                      </a:lnTo>
                      <a:lnTo>
                        <a:pt x="1434" y="281"/>
                      </a:lnTo>
                      <a:lnTo>
                        <a:pt x="1459" y="330"/>
                      </a:lnTo>
                      <a:lnTo>
                        <a:pt x="1476" y="352"/>
                      </a:lnTo>
                      <a:lnTo>
                        <a:pt x="1495" y="367"/>
                      </a:lnTo>
                      <a:lnTo>
                        <a:pt x="1543" y="377"/>
                      </a:lnTo>
                      <a:lnTo>
                        <a:pt x="1660" y="350"/>
                      </a:lnTo>
                      <a:lnTo>
                        <a:pt x="1723" y="321"/>
                      </a:lnTo>
                      <a:lnTo>
                        <a:pt x="1782" y="291"/>
                      </a:lnTo>
                      <a:lnTo>
                        <a:pt x="1833" y="262"/>
                      </a:lnTo>
                      <a:lnTo>
                        <a:pt x="1875" y="243"/>
                      </a:lnTo>
                      <a:lnTo>
                        <a:pt x="2036" y="176"/>
                      </a:lnTo>
                      <a:lnTo>
                        <a:pt x="2016" y="120"/>
                      </a:lnTo>
                      <a:lnTo>
                        <a:pt x="1999" y="98"/>
                      </a:lnTo>
                      <a:lnTo>
                        <a:pt x="1977" y="76"/>
                      </a:lnTo>
                      <a:lnTo>
                        <a:pt x="1940" y="34"/>
                      </a:lnTo>
                      <a:lnTo>
                        <a:pt x="1944" y="9"/>
                      </a:lnTo>
                      <a:lnTo>
                        <a:pt x="1978" y="0"/>
                      </a:lnTo>
                      <a:lnTo>
                        <a:pt x="2031" y="9"/>
                      </a:lnTo>
                      <a:lnTo>
                        <a:pt x="2092" y="35"/>
                      </a:lnTo>
                      <a:lnTo>
                        <a:pt x="2150" y="77"/>
                      </a:lnTo>
                      <a:lnTo>
                        <a:pt x="2193" y="138"/>
                      </a:lnTo>
                      <a:lnTo>
                        <a:pt x="2210" y="216"/>
                      </a:lnTo>
                      <a:lnTo>
                        <a:pt x="2194" y="293"/>
                      </a:lnTo>
                      <a:lnTo>
                        <a:pt x="2174" y="327"/>
                      </a:lnTo>
                      <a:lnTo>
                        <a:pt x="2149" y="358"/>
                      </a:lnTo>
                      <a:lnTo>
                        <a:pt x="2116" y="387"/>
                      </a:lnTo>
                      <a:lnTo>
                        <a:pt x="2079" y="413"/>
                      </a:lnTo>
                      <a:lnTo>
                        <a:pt x="2040" y="436"/>
                      </a:lnTo>
                      <a:lnTo>
                        <a:pt x="1996" y="458"/>
                      </a:lnTo>
                      <a:lnTo>
                        <a:pt x="1951" y="476"/>
                      </a:lnTo>
                      <a:lnTo>
                        <a:pt x="1904" y="491"/>
                      </a:lnTo>
                      <a:lnTo>
                        <a:pt x="1812" y="517"/>
                      </a:lnTo>
                      <a:lnTo>
                        <a:pt x="1725" y="532"/>
                      </a:lnTo>
                      <a:lnTo>
                        <a:pt x="1653" y="539"/>
                      </a:lnTo>
                      <a:lnTo>
                        <a:pt x="1543" y="526"/>
                      </a:lnTo>
                      <a:lnTo>
                        <a:pt x="1466" y="484"/>
                      </a:lnTo>
                      <a:lnTo>
                        <a:pt x="1413" y="423"/>
                      </a:lnTo>
                      <a:lnTo>
                        <a:pt x="1375" y="352"/>
                      </a:lnTo>
                      <a:lnTo>
                        <a:pt x="1343" y="280"/>
                      </a:lnTo>
                      <a:lnTo>
                        <a:pt x="1307" y="218"/>
                      </a:lnTo>
                      <a:lnTo>
                        <a:pt x="1285" y="192"/>
                      </a:lnTo>
                      <a:lnTo>
                        <a:pt x="1260" y="173"/>
                      </a:lnTo>
                      <a:lnTo>
                        <a:pt x="1229" y="161"/>
                      </a:lnTo>
                      <a:lnTo>
                        <a:pt x="1190" y="156"/>
                      </a:lnTo>
                      <a:lnTo>
                        <a:pt x="1057" y="192"/>
                      </a:lnTo>
                      <a:lnTo>
                        <a:pt x="1010" y="212"/>
                      </a:lnTo>
                      <a:lnTo>
                        <a:pt x="961" y="232"/>
                      </a:lnTo>
                      <a:lnTo>
                        <a:pt x="911" y="256"/>
                      </a:lnTo>
                      <a:lnTo>
                        <a:pt x="860" y="280"/>
                      </a:lnTo>
                      <a:lnTo>
                        <a:pt x="811" y="306"/>
                      </a:lnTo>
                      <a:lnTo>
                        <a:pt x="763" y="333"/>
                      </a:lnTo>
                      <a:lnTo>
                        <a:pt x="720" y="359"/>
                      </a:lnTo>
                      <a:lnTo>
                        <a:pt x="680" y="386"/>
                      </a:lnTo>
                      <a:lnTo>
                        <a:pt x="595" y="478"/>
                      </a:lnTo>
                      <a:lnTo>
                        <a:pt x="592" y="551"/>
                      </a:lnTo>
                      <a:lnTo>
                        <a:pt x="601" y="614"/>
                      </a:lnTo>
                      <a:lnTo>
                        <a:pt x="620" y="713"/>
                      </a:lnTo>
                      <a:lnTo>
                        <a:pt x="612" y="754"/>
                      </a:lnTo>
                      <a:lnTo>
                        <a:pt x="599" y="775"/>
                      </a:lnTo>
                      <a:lnTo>
                        <a:pt x="578" y="794"/>
                      </a:lnTo>
                      <a:lnTo>
                        <a:pt x="550" y="814"/>
                      </a:lnTo>
                      <a:lnTo>
                        <a:pt x="510" y="834"/>
                      </a:lnTo>
                      <a:lnTo>
                        <a:pt x="460" y="854"/>
                      </a:lnTo>
                      <a:lnTo>
                        <a:pt x="399" y="876"/>
                      </a:lnTo>
                      <a:lnTo>
                        <a:pt x="310" y="898"/>
                      </a:lnTo>
                      <a:lnTo>
                        <a:pt x="209" y="912"/>
                      </a:lnTo>
                      <a:lnTo>
                        <a:pt x="112" y="902"/>
                      </a:lnTo>
                      <a:lnTo>
                        <a:pt x="31" y="859"/>
                      </a:lnTo>
                      <a:lnTo>
                        <a:pt x="5" y="807"/>
                      </a:lnTo>
                      <a:lnTo>
                        <a:pt x="0" y="735"/>
                      </a:lnTo>
                      <a:lnTo>
                        <a:pt x="12" y="656"/>
                      </a:lnTo>
                      <a:lnTo>
                        <a:pt x="35" y="579"/>
                      </a:lnTo>
                      <a:lnTo>
                        <a:pt x="64" y="514"/>
                      </a:lnTo>
                      <a:lnTo>
                        <a:pt x="90" y="473"/>
                      </a:lnTo>
                      <a:lnTo>
                        <a:pt x="109" y="466"/>
                      </a:lnTo>
                      <a:lnTo>
                        <a:pt x="115" y="505"/>
                      </a:lnTo>
                      <a:lnTo>
                        <a:pt x="109" y="769"/>
                      </a:lnTo>
                      <a:lnTo>
                        <a:pt x="109" y="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2460240" y="3403440"/>
                <a:ext cx="470880" cy="264960"/>
              </a:xfrm>
              <a:custGeom>
                <a:avLst/>
                <a:gdLst/>
                <a:ahLst/>
                <a:rect l="l" t="t" r="r" b="b"/>
                <a:pathLst>
                  <a:path w="1591" h="1150">
                    <a:moveTo>
                      <a:pt x="634" y="144"/>
                    </a:moveTo>
                    <a:lnTo>
                      <a:pt x="609" y="304"/>
                    </a:lnTo>
                    <a:lnTo>
                      <a:pt x="592" y="381"/>
                    </a:lnTo>
                    <a:lnTo>
                      <a:pt x="573" y="456"/>
                    </a:lnTo>
                    <a:lnTo>
                      <a:pt x="549" y="530"/>
                    </a:lnTo>
                    <a:lnTo>
                      <a:pt x="520" y="603"/>
                    </a:lnTo>
                    <a:lnTo>
                      <a:pt x="503" y="639"/>
                    </a:lnTo>
                    <a:lnTo>
                      <a:pt x="484" y="675"/>
                    </a:lnTo>
                    <a:lnTo>
                      <a:pt x="463" y="710"/>
                    </a:lnTo>
                    <a:lnTo>
                      <a:pt x="441" y="746"/>
                    </a:lnTo>
                    <a:lnTo>
                      <a:pt x="409" y="790"/>
                    </a:lnTo>
                    <a:lnTo>
                      <a:pt x="389" y="817"/>
                    </a:lnTo>
                    <a:lnTo>
                      <a:pt x="367" y="845"/>
                    </a:lnTo>
                    <a:lnTo>
                      <a:pt x="343" y="875"/>
                    </a:lnTo>
                    <a:lnTo>
                      <a:pt x="317" y="907"/>
                    </a:lnTo>
                    <a:lnTo>
                      <a:pt x="291" y="938"/>
                    </a:lnTo>
                    <a:lnTo>
                      <a:pt x="263" y="969"/>
                    </a:lnTo>
                    <a:lnTo>
                      <a:pt x="235" y="1000"/>
                    </a:lnTo>
                    <a:lnTo>
                      <a:pt x="207" y="1029"/>
                    </a:lnTo>
                    <a:lnTo>
                      <a:pt x="179" y="1057"/>
                    </a:lnTo>
                    <a:lnTo>
                      <a:pt x="152" y="1082"/>
                    </a:lnTo>
                    <a:lnTo>
                      <a:pt x="100" y="1123"/>
                    </a:lnTo>
                    <a:lnTo>
                      <a:pt x="56" y="1147"/>
                    </a:lnTo>
                    <a:lnTo>
                      <a:pt x="24" y="1150"/>
                    </a:lnTo>
                    <a:lnTo>
                      <a:pt x="5" y="1139"/>
                    </a:lnTo>
                    <a:lnTo>
                      <a:pt x="0" y="1118"/>
                    </a:lnTo>
                    <a:lnTo>
                      <a:pt x="12" y="1089"/>
                    </a:lnTo>
                    <a:lnTo>
                      <a:pt x="41" y="1049"/>
                    </a:lnTo>
                    <a:lnTo>
                      <a:pt x="71" y="1012"/>
                    </a:lnTo>
                    <a:lnTo>
                      <a:pt x="101" y="976"/>
                    </a:lnTo>
                    <a:lnTo>
                      <a:pt x="132" y="941"/>
                    </a:lnTo>
                    <a:lnTo>
                      <a:pt x="164" y="908"/>
                    </a:lnTo>
                    <a:lnTo>
                      <a:pt x="195" y="875"/>
                    </a:lnTo>
                    <a:lnTo>
                      <a:pt x="225" y="842"/>
                    </a:lnTo>
                    <a:lnTo>
                      <a:pt x="255" y="808"/>
                    </a:lnTo>
                    <a:lnTo>
                      <a:pt x="285" y="773"/>
                    </a:lnTo>
                    <a:lnTo>
                      <a:pt x="312" y="739"/>
                    </a:lnTo>
                    <a:lnTo>
                      <a:pt x="339" y="701"/>
                    </a:lnTo>
                    <a:lnTo>
                      <a:pt x="364" y="663"/>
                    </a:lnTo>
                    <a:lnTo>
                      <a:pt x="407" y="579"/>
                    </a:lnTo>
                    <a:lnTo>
                      <a:pt x="441" y="482"/>
                    </a:lnTo>
                    <a:lnTo>
                      <a:pt x="459" y="392"/>
                    </a:lnTo>
                    <a:lnTo>
                      <a:pt x="481" y="263"/>
                    </a:lnTo>
                    <a:lnTo>
                      <a:pt x="505" y="142"/>
                    </a:lnTo>
                    <a:lnTo>
                      <a:pt x="527" y="72"/>
                    </a:lnTo>
                    <a:lnTo>
                      <a:pt x="555" y="43"/>
                    </a:lnTo>
                    <a:lnTo>
                      <a:pt x="589" y="22"/>
                    </a:lnTo>
                    <a:lnTo>
                      <a:pt x="631" y="7"/>
                    </a:lnTo>
                    <a:lnTo>
                      <a:pt x="676" y="0"/>
                    </a:lnTo>
                    <a:lnTo>
                      <a:pt x="763" y="9"/>
                    </a:lnTo>
                    <a:lnTo>
                      <a:pt x="833" y="49"/>
                    </a:lnTo>
                    <a:lnTo>
                      <a:pt x="868" y="87"/>
                    </a:lnTo>
                    <a:lnTo>
                      <a:pt x="899" y="113"/>
                    </a:lnTo>
                    <a:lnTo>
                      <a:pt x="928" y="131"/>
                    </a:lnTo>
                    <a:lnTo>
                      <a:pt x="956" y="143"/>
                    </a:lnTo>
                    <a:lnTo>
                      <a:pt x="1112" y="161"/>
                    </a:lnTo>
                    <a:lnTo>
                      <a:pt x="1341" y="183"/>
                    </a:lnTo>
                    <a:lnTo>
                      <a:pt x="1559" y="222"/>
                    </a:lnTo>
                    <a:lnTo>
                      <a:pt x="1591" y="262"/>
                    </a:lnTo>
                    <a:lnTo>
                      <a:pt x="1580" y="281"/>
                    </a:lnTo>
                    <a:lnTo>
                      <a:pt x="1551" y="294"/>
                    </a:lnTo>
                    <a:lnTo>
                      <a:pt x="1452" y="309"/>
                    </a:lnTo>
                    <a:lnTo>
                      <a:pt x="1328" y="316"/>
                    </a:lnTo>
                    <a:lnTo>
                      <a:pt x="1100" y="314"/>
                    </a:lnTo>
                    <a:lnTo>
                      <a:pt x="1027" y="297"/>
                    </a:lnTo>
                    <a:lnTo>
                      <a:pt x="958" y="265"/>
                    </a:lnTo>
                    <a:lnTo>
                      <a:pt x="924" y="246"/>
                    </a:lnTo>
                    <a:lnTo>
                      <a:pt x="890" y="226"/>
                    </a:lnTo>
                    <a:lnTo>
                      <a:pt x="859" y="205"/>
                    </a:lnTo>
                    <a:lnTo>
                      <a:pt x="828" y="185"/>
                    </a:lnTo>
                    <a:lnTo>
                      <a:pt x="798" y="166"/>
                    </a:lnTo>
                    <a:lnTo>
                      <a:pt x="770" y="149"/>
                    </a:lnTo>
                    <a:lnTo>
                      <a:pt x="718" y="126"/>
                    </a:lnTo>
                    <a:lnTo>
                      <a:pt x="672" y="121"/>
                    </a:lnTo>
                    <a:lnTo>
                      <a:pt x="634" y="144"/>
                    </a:lnTo>
                    <a:lnTo>
                      <a:pt x="63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948760" y="3413520"/>
                <a:ext cx="160920" cy="72360"/>
              </a:xfrm>
              <a:custGeom>
                <a:avLst/>
                <a:gdLst/>
                <a:ahLst/>
                <a:rect l="l" t="t" r="r" b="b"/>
                <a:pathLst>
                  <a:path w="543" h="315">
                    <a:moveTo>
                      <a:pt x="9" y="171"/>
                    </a:moveTo>
                    <a:lnTo>
                      <a:pt x="39" y="130"/>
                    </a:lnTo>
                    <a:lnTo>
                      <a:pt x="59" y="104"/>
                    </a:lnTo>
                    <a:lnTo>
                      <a:pt x="79" y="78"/>
                    </a:lnTo>
                    <a:lnTo>
                      <a:pt x="102" y="51"/>
                    </a:lnTo>
                    <a:lnTo>
                      <a:pt x="123" y="28"/>
                    </a:lnTo>
                    <a:lnTo>
                      <a:pt x="144" y="10"/>
                    </a:lnTo>
                    <a:lnTo>
                      <a:pt x="162" y="0"/>
                    </a:lnTo>
                    <a:lnTo>
                      <a:pt x="231" y="2"/>
                    </a:lnTo>
                    <a:lnTo>
                      <a:pt x="300" y="18"/>
                    </a:lnTo>
                    <a:lnTo>
                      <a:pt x="334" y="44"/>
                    </a:lnTo>
                    <a:lnTo>
                      <a:pt x="357" y="88"/>
                    </a:lnTo>
                    <a:lnTo>
                      <a:pt x="375" y="138"/>
                    </a:lnTo>
                    <a:lnTo>
                      <a:pt x="394" y="177"/>
                    </a:lnTo>
                    <a:lnTo>
                      <a:pt x="433" y="186"/>
                    </a:lnTo>
                    <a:lnTo>
                      <a:pt x="475" y="175"/>
                    </a:lnTo>
                    <a:lnTo>
                      <a:pt x="526" y="196"/>
                    </a:lnTo>
                    <a:lnTo>
                      <a:pt x="543" y="246"/>
                    </a:lnTo>
                    <a:lnTo>
                      <a:pt x="540" y="271"/>
                    </a:lnTo>
                    <a:lnTo>
                      <a:pt x="526" y="294"/>
                    </a:lnTo>
                    <a:lnTo>
                      <a:pt x="505" y="309"/>
                    </a:lnTo>
                    <a:lnTo>
                      <a:pt x="475" y="315"/>
                    </a:lnTo>
                    <a:lnTo>
                      <a:pt x="364" y="306"/>
                    </a:lnTo>
                    <a:lnTo>
                      <a:pt x="315" y="284"/>
                    </a:lnTo>
                    <a:lnTo>
                      <a:pt x="278" y="242"/>
                    </a:lnTo>
                    <a:lnTo>
                      <a:pt x="264" y="166"/>
                    </a:lnTo>
                    <a:lnTo>
                      <a:pt x="253" y="129"/>
                    </a:lnTo>
                    <a:lnTo>
                      <a:pt x="230" y="109"/>
                    </a:lnTo>
                    <a:lnTo>
                      <a:pt x="174" y="112"/>
                    </a:lnTo>
                    <a:lnTo>
                      <a:pt x="132" y="142"/>
                    </a:lnTo>
                    <a:lnTo>
                      <a:pt x="96" y="184"/>
                    </a:lnTo>
                    <a:lnTo>
                      <a:pt x="61" y="222"/>
                    </a:lnTo>
                    <a:lnTo>
                      <a:pt x="32" y="233"/>
                    </a:lnTo>
                    <a:lnTo>
                      <a:pt x="11" y="224"/>
                    </a:lnTo>
                    <a:lnTo>
                      <a:pt x="0" y="201"/>
                    </a:lnTo>
                    <a:lnTo>
                      <a:pt x="9" y="171"/>
                    </a:lnTo>
                    <a:lnTo>
                      <a:pt x="9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439360" y="3689280"/>
                <a:ext cx="746280" cy="133560"/>
              </a:xfrm>
              <a:custGeom>
                <a:avLst/>
                <a:gdLst/>
                <a:ahLst/>
                <a:rect l="l" t="t" r="r" b="b"/>
                <a:pathLst>
                  <a:path w="2521" h="578">
                    <a:moveTo>
                      <a:pt x="120" y="218"/>
                    </a:moveTo>
                    <a:lnTo>
                      <a:pt x="627" y="246"/>
                    </a:lnTo>
                    <a:lnTo>
                      <a:pt x="1133" y="278"/>
                    </a:lnTo>
                    <a:lnTo>
                      <a:pt x="1282" y="304"/>
                    </a:lnTo>
                    <a:lnTo>
                      <a:pt x="1393" y="327"/>
                    </a:lnTo>
                    <a:lnTo>
                      <a:pt x="1511" y="352"/>
                    </a:lnTo>
                    <a:lnTo>
                      <a:pt x="1625" y="378"/>
                    </a:lnTo>
                    <a:lnTo>
                      <a:pt x="1721" y="399"/>
                    </a:lnTo>
                    <a:lnTo>
                      <a:pt x="1812" y="421"/>
                    </a:lnTo>
                    <a:lnTo>
                      <a:pt x="1875" y="402"/>
                    </a:lnTo>
                    <a:lnTo>
                      <a:pt x="1915" y="385"/>
                    </a:lnTo>
                    <a:lnTo>
                      <a:pt x="1958" y="364"/>
                    </a:lnTo>
                    <a:lnTo>
                      <a:pt x="2005" y="342"/>
                    </a:lnTo>
                    <a:lnTo>
                      <a:pt x="2053" y="315"/>
                    </a:lnTo>
                    <a:lnTo>
                      <a:pt x="2103" y="288"/>
                    </a:lnTo>
                    <a:lnTo>
                      <a:pt x="2152" y="259"/>
                    </a:lnTo>
                    <a:lnTo>
                      <a:pt x="2203" y="229"/>
                    </a:lnTo>
                    <a:lnTo>
                      <a:pt x="2251" y="200"/>
                    </a:lnTo>
                    <a:lnTo>
                      <a:pt x="2298" y="171"/>
                    </a:lnTo>
                    <a:lnTo>
                      <a:pt x="2341" y="145"/>
                    </a:lnTo>
                    <a:lnTo>
                      <a:pt x="2380" y="121"/>
                    </a:lnTo>
                    <a:lnTo>
                      <a:pt x="2415" y="99"/>
                    </a:lnTo>
                    <a:lnTo>
                      <a:pt x="2445" y="81"/>
                    </a:lnTo>
                    <a:lnTo>
                      <a:pt x="2468" y="68"/>
                    </a:lnTo>
                    <a:lnTo>
                      <a:pt x="2504" y="51"/>
                    </a:lnTo>
                    <a:lnTo>
                      <a:pt x="2521" y="50"/>
                    </a:lnTo>
                    <a:lnTo>
                      <a:pt x="2516" y="81"/>
                    </a:lnTo>
                    <a:lnTo>
                      <a:pt x="2501" y="105"/>
                    </a:lnTo>
                    <a:lnTo>
                      <a:pt x="2483" y="129"/>
                    </a:lnTo>
                    <a:lnTo>
                      <a:pt x="2455" y="162"/>
                    </a:lnTo>
                    <a:lnTo>
                      <a:pt x="2406" y="200"/>
                    </a:lnTo>
                    <a:lnTo>
                      <a:pt x="2371" y="226"/>
                    </a:lnTo>
                    <a:lnTo>
                      <a:pt x="2331" y="256"/>
                    </a:lnTo>
                    <a:lnTo>
                      <a:pt x="2310" y="272"/>
                    </a:lnTo>
                    <a:lnTo>
                      <a:pt x="2287" y="289"/>
                    </a:lnTo>
                    <a:lnTo>
                      <a:pt x="2263" y="306"/>
                    </a:lnTo>
                    <a:lnTo>
                      <a:pt x="2239" y="322"/>
                    </a:lnTo>
                    <a:lnTo>
                      <a:pt x="2215" y="340"/>
                    </a:lnTo>
                    <a:lnTo>
                      <a:pt x="2190" y="358"/>
                    </a:lnTo>
                    <a:lnTo>
                      <a:pt x="2164" y="376"/>
                    </a:lnTo>
                    <a:lnTo>
                      <a:pt x="2139" y="393"/>
                    </a:lnTo>
                    <a:lnTo>
                      <a:pt x="2114" y="411"/>
                    </a:lnTo>
                    <a:lnTo>
                      <a:pt x="2089" y="428"/>
                    </a:lnTo>
                    <a:lnTo>
                      <a:pt x="2064" y="445"/>
                    </a:lnTo>
                    <a:lnTo>
                      <a:pt x="2040" y="461"/>
                    </a:lnTo>
                    <a:lnTo>
                      <a:pt x="1992" y="492"/>
                    </a:lnTo>
                    <a:lnTo>
                      <a:pt x="1948" y="519"/>
                    </a:lnTo>
                    <a:lnTo>
                      <a:pt x="1909" y="542"/>
                    </a:lnTo>
                    <a:lnTo>
                      <a:pt x="1875" y="560"/>
                    </a:lnTo>
                    <a:lnTo>
                      <a:pt x="1829" y="578"/>
                    </a:lnTo>
                    <a:lnTo>
                      <a:pt x="1721" y="557"/>
                    </a:lnTo>
                    <a:lnTo>
                      <a:pt x="1623" y="533"/>
                    </a:lnTo>
                    <a:lnTo>
                      <a:pt x="1512" y="505"/>
                    </a:lnTo>
                    <a:lnTo>
                      <a:pt x="1395" y="475"/>
                    </a:lnTo>
                    <a:lnTo>
                      <a:pt x="1285" y="449"/>
                    </a:lnTo>
                    <a:lnTo>
                      <a:pt x="1190" y="428"/>
                    </a:lnTo>
                    <a:lnTo>
                      <a:pt x="1123" y="419"/>
                    </a:lnTo>
                    <a:lnTo>
                      <a:pt x="377" y="386"/>
                    </a:lnTo>
                    <a:lnTo>
                      <a:pt x="220" y="356"/>
                    </a:lnTo>
                    <a:lnTo>
                      <a:pt x="142" y="343"/>
                    </a:lnTo>
                    <a:lnTo>
                      <a:pt x="63" y="337"/>
                    </a:lnTo>
                    <a:lnTo>
                      <a:pt x="17" y="301"/>
                    </a:lnTo>
                    <a:lnTo>
                      <a:pt x="3" y="217"/>
                    </a:lnTo>
                    <a:lnTo>
                      <a:pt x="0" y="52"/>
                    </a:lnTo>
                    <a:lnTo>
                      <a:pt x="0" y="16"/>
                    </a:lnTo>
                    <a:lnTo>
                      <a:pt x="9" y="0"/>
                    </a:lnTo>
                    <a:lnTo>
                      <a:pt x="47" y="19"/>
                    </a:lnTo>
                    <a:lnTo>
                      <a:pt x="92" y="97"/>
                    </a:lnTo>
                    <a:lnTo>
                      <a:pt x="120" y="218"/>
                    </a:lnTo>
                    <a:lnTo>
                      <a:pt x="12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60040" y="3497760"/>
                <a:ext cx="313920" cy="200520"/>
              </a:xfrm>
              <a:custGeom>
                <a:avLst/>
                <a:gdLst/>
                <a:ahLst/>
                <a:rect l="l" t="t" r="r" b="b"/>
                <a:pathLst>
                  <a:path w="1057" h="868">
                    <a:moveTo>
                      <a:pt x="685" y="195"/>
                    </a:moveTo>
                    <a:lnTo>
                      <a:pt x="653" y="151"/>
                    </a:lnTo>
                    <a:lnTo>
                      <a:pt x="613" y="115"/>
                    </a:lnTo>
                    <a:lnTo>
                      <a:pt x="570" y="98"/>
                    </a:lnTo>
                    <a:lnTo>
                      <a:pt x="524" y="86"/>
                    </a:lnTo>
                    <a:lnTo>
                      <a:pt x="433" y="80"/>
                    </a:lnTo>
                    <a:lnTo>
                      <a:pt x="343" y="96"/>
                    </a:lnTo>
                    <a:lnTo>
                      <a:pt x="260" y="131"/>
                    </a:lnTo>
                    <a:lnTo>
                      <a:pt x="223" y="156"/>
                    </a:lnTo>
                    <a:lnTo>
                      <a:pt x="189" y="185"/>
                    </a:lnTo>
                    <a:lnTo>
                      <a:pt x="134" y="254"/>
                    </a:lnTo>
                    <a:lnTo>
                      <a:pt x="102" y="338"/>
                    </a:lnTo>
                    <a:lnTo>
                      <a:pt x="96" y="434"/>
                    </a:lnTo>
                    <a:lnTo>
                      <a:pt x="108" y="496"/>
                    </a:lnTo>
                    <a:lnTo>
                      <a:pt x="133" y="548"/>
                    </a:lnTo>
                    <a:lnTo>
                      <a:pt x="150" y="572"/>
                    </a:lnTo>
                    <a:lnTo>
                      <a:pt x="169" y="593"/>
                    </a:lnTo>
                    <a:lnTo>
                      <a:pt x="213" y="629"/>
                    </a:lnTo>
                    <a:lnTo>
                      <a:pt x="238" y="644"/>
                    </a:lnTo>
                    <a:lnTo>
                      <a:pt x="266" y="656"/>
                    </a:lnTo>
                    <a:lnTo>
                      <a:pt x="325" y="678"/>
                    </a:lnTo>
                    <a:lnTo>
                      <a:pt x="387" y="691"/>
                    </a:lnTo>
                    <a:lnTo>
                      <a:pt x="452" y="698"/>
                    </a:lnTo>
                    <a:lnTo>
                      <a:pt x="582" y="694"/>
                    </a:lnTo>
                    <a:lnTo>
                      <a:pt x="701" y="668"/>
                    </a:lnTo>
                    <a:lnTo>
                      <a:pt x="797" y="625"/>
                    </a:lnTo>
                    <a:lnTo>
                      <a:pt x="855" y="568"/>
                    </a:lnTo>
                    <a:lnTo>
                      <a:pt x="878" y="510"/>
                    </a:lnTo>
                    <a:lnTo>
                      <a:pt x="874" y="470"/>
                    </a:lnTo>
                    <a:lnTo>
                      <a:pt x="850" y="434"/>
                    </a:lnTo>
                    <a:lnTo>
                      <a:pt x="815" y="390"/>
                    </a:lnTo>
                    <a:lnTo>
                      <a:pt x="820" y="360"/>
                    </a:lnTo>
                    <a:lnTo>
                      <a:pt x="841" y="348"/>
                    </a:lnTo>
                    <a:lnTo>
                      <a:pt x="866" y="337"/>
                    </a:lnTo>
                    <a:lnTo>
                      <a:pt x="923" y="325"/>
                    </a:lnTo>
                    <a:lnTo>
                      <a:pt x="967" y="332"/>
                    </a:lnTo>
                    <a:lnTo>
                      <a:pt x="1029" y="396"/>
                    </a:lnTo>
                    <a:lnTo>
                      <a:pt x="1057" y="467"/>
                    </a:lnTo>
                    <a:lnTo>
                      <a:pt x="1054" y="540"/>
                    </a:lnTo>
                    <a:lnTo>
                      <a:pt x="1043" y="577"/>
                    </a:lnTo>
                    <a:lnTo>
                      <a:pt x="1027" y="613"/>
                    </a:lnTo>
                    <a:lnTo>
                      <a:pt x="1006" y="648"/>
                    </a:lnTo>
                    <a:lnTo>
                      <a:pt x="981" y="682"/>
                    </a:lnTo>
                    <a:lnTo>
                      <a:pt x="952" y="713"/>
                    </a:lnTo>
                    <a:lnTo>
                      <a:pt x="922" y="742"/>
                    </a:lnTo>
                    <a:lnTo>
                      <a:pt x="889" y="768"/>
                    </a:lnTo>
                    <a:lnTo>
                      <a:pt x="855" y="791"/>
                    </a:lnTo>
                    <a:lnTo>
                      <a:pt x="820" y="810"/>
                    </a:lnTo>
                    <a:lnTo>
                      <a:pt x="785" y="823"/>
                    </a:lnTo>
                    <a:lnTo>
                      <a:pt x="728" y="841"/>
                    </a:lnTo>
                    <a:lnTo>
                      <a:pt x="667" y="855"/>
                    </a:lnTo>
                    <a:lnTo>
                      <a:pt x="540" y="868"/>
                    </a:lnTo>
                    <a:lnTo>
                      <a:pt x="412" y="861"/>
                    </a:lnTo>
                    <a:lnTo>
                      <a:pt x="290" y="833"/>
                    </a:lnTo>
                    <a:lnTo>
                      <a:pt x="234" y="810"/>
                    </a:lnTo>
                    <a:lnTo>
                      <a:pt x="181" y="781"/>
                    </a:lnTo>
                    <a:lnTo>
                      <a:pt x="92" y="704"/>
                    </a:lnTo>
                    <a:lnTo>
                      <a:pt x="30" y="601"/>
                    </a:lnTo>
                    <a:lnTo>
                      <a:pt x="0" y="470"/>
                    </a:lnTo>
                    <a:lnTo>
                      <a:pt x="7" y="324"/>
                    </a:lnTo>
                    <a:lnTo>
                      <a:pt x="24" y="260"/>
                    </a:lnTo>
                    <a:lnTo>
                      <a:pt x="47" y="204"/>
                    </a:lnTo>
                    <a:lnTo>
                      <a:pt x="78" y="155"/>
                    </a:lnTo>
                    <a:lnTo>
                      <a:pt x="114" y="113"/>
                    </a:lnTo>
                    <a:lnTo>
                      <a:pt x="157" y="77"/>
                    </a:lnTo>
                    <a:lnTo>
                      <a:pt x="180" y="61"/>
                    </a:lnTo>
                    <a:lnTo>
                      <a:pt x="204" y="47"/>
                    </a:lnTo>
                    <a:lnTo>
                      <a:pt x="255" y="25"/>
                    </a:lnTo>
                    <a:lnTo>
                      <a:pt x="310" y="9"/>
                    </a:lnTo>
                    <a:lnTo>
                      <a:pt x="430" y="0"/>
                    </a:lnTo>
                    <a:lnTo>
                      <a:pt x="556" y="18"/>
                    </a:lnTo>
                    <a:lnTo>
                      <a:pt x="686" y="65"/>
                    </a:lnTo>
                    <a:lnTo>
                      <a:pt x="794" y="101"/>
                    </a:lnTo>
                    <a:lnTo>
                      <a:pt x="811" y="143"/>
                    </a:lnTo>
                    <a:lnTo>
                      <a:pt x="803" y="168"/>
                    </a:lnTo>
                    <a:lnTo>
                      <a:pt x="789" y="191"/>
                    </a:lnTo>
                    <a:lnTo>
                      <a:pt x="767" y="209"/>
                    </a:lnTo>
                    <a:lnTo>
                      <a:pt x="741" y="218"/>
                    </a:lnTo>
                    <a:lnTo>
                      <a:pt x="685" y="195"/>
                    </a:lnTo>
                    <a:lnTo>
                      <a:pt x="685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37520" y="3539160"/>
                <a:ext cx="170280" cy="64440"/>
              </a:xfrm>
              <a:custGeom>
                <a:avLst/>
                <a:gdLst/>
                <a:ahLst/>
                <a:rect l="l" t="t" r="r" b="b"/>
                <a:pathLst>
                  <a:path w="574" h="279">
                    <a:moveTo>
                      <a:pt x="393" y="193"/>
                    </a:moveTo>
                    <a:lnTo>
                      <a:pt x="355" y="212"/>
                    </a:lnTo>
                    <a:lnTo>
                      <a:pt x="312" y="231"/>
                    </a:lnTo>
                    <a:lnTo>
                      <a:pt x="265" y="248"/>
                    </a:lnTo>
                    <a:lnTo>
                      <a:pt x="216" y="264"/>
                    </a:lnTo>
                    <a:lnTo>
                      <a:pt x="119" y="279"/>
                    </a:lnTo>
                    <a:lnTo>
                      <a:pt x="31" y="270"/>
                    </a:lnTo>
                    <a:lnTo>
                      <a:pt x="6" y="251"/>
                    </a:lnTo>
                    <a:lnTo>
                      <a:pt x="0" y="228"/>
                    </a:lnTo>
                    <a:lnTo>
                      <a:pt x="14" y="207"/>
                    </a:lnTo>
                    <a:lnTo>
                      <a:pt x="41" y="198"/>
                    </a:lnTo>
                    <a:lnTo>
                      <a:pt x="166" y="181"/>
                    </a:lnTo>
                    <a:lnTo>
                      <a:pt x="250" y="139"/>
                    </a:lnTo>
                    <a:lnTo>
                      <a:pt x="323" y="80"/>
                    </a:lnTo>
                    <a:lnTo>
                      <a:pt x="343" y="64"/>
                    </a:lnTo>
                    <a:lnTo>
                      <a:pt x="366" y="48"/>
                    </a:lnTo>
                    <a:lnTo>
                      <a:pt x="390" y="32"/>
                    </a:lnTo>
                    <a:lnTo>
                      <a:pt x="418" y="15"/>
                    </a:lnTo>
                    <a:lnTo>
                      <a:pt x="457" y="0"/>
                    </a:lnTo>
                    <a:lnTo>
                      <a:pt x="484" y="3"/>
                    </a:lnTo>
                    <a:lnTo>
                      <a:pt x="522" y="57"/>
                    </a:lnTo>
                    <a:lnTo>
                      <a:pt x="545" y="87"/>
                    </a:lnTo>
                    <a:lnTo>
                      <a:pt x="566" y="117"/>
                    </a:lnTo>
                    <a:lnTo>
                      <a:pt x="574" y="156"/>
                    </a:lnTo>
                    <a:lnTo>
                      <a:pt x="564" y="188"/>
                    </a:lnTo>
                    <a:lnTo>
                      <a:pt x="544" y="215"/>
                    </a:lnTo>
                    <a:lnTo>
                      <a:pt x="515" y="234"/>
                    </a:lnTo>
                    <a:lnTo>
                      <a:pt x="448" y="240"/>
                    </a:lnTo>
                    <a:lnTo>
                      <a:pt x="393" y="193"/>
                    </a:lnTo>
                    <a:lnTo>
                      <a:pt x="393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733840" y="3406680"/>
                <a:ext cx="127440" cy="64440"/>
              </a:xfrm>
              <a:custGeom>
                <a:avLst/>
                <a:gdLst/>
                <a:ahLst/>
                <a:rect l="l" t="t" r="r" b="b"/>
                <a:pathLst>
                  <a:path w="429" h="277">
                    <a:moveTo>
                      <a:pt x="242" y="266"/>
                    </a:moveTo>
                    <a:lnTo>
                      <a:pt x="212" y="277"/>
                    </a:lnTo>
                    <a:lnTo>
                      <a:pt x="168" y="262"/>
                    </a:lnTo>
                    <a:lnTo>
                      <a:pt x="120" y="239"/>
                    </a:lnTo>
                    <a:lnTo>
                      <a:pt x="77" y="229"/>
                    </a:lnTo>
                    <a:lnTo>
                      <a:pt x="20" y="224"/>
                    </a:lnTo>
                    <a:lnTo>
                      <a:pt x="0" y="212"/>
                    </a:lnTo>
                    <a:lnTo>
                      <a:pt x="18" y="195"/>
                    </a:lnTo>
                    <a:lnTo>
                      <a:pt x="82" y="145"/>
                    </a:lnTo>
                    <a:lnTo>
                      <a:pt x="113" y="73"/>
                    </a:lnTo>
                    <a:lnTo>
                      <a:pt x="118" y="37"/>
                    </a:lnTo>
                    <a:lnTo>
                      <a:pt x="131" y="14"/>
                    </a:lnTo>
                    <a:lnTo>
                      <a:pt x="150" y="3"/>
                    </a:lnTo>
                    <a:lnTo>
                      <a:pt x="176" y="0"/>
                    </a:lnTo>
                    <a:lnTo>
                      <a:pt x="291" y="13"/>
                    </a:lnTo>
                    <a:lnTo>
                      <a:pt x="341" y="29"/>
                    </a:lnTo>
                    <a:lnTo>
                      <a:pt x="354" y="63"/>
                    </a:lnTo>
                    <a:lnTo>
                      <a:pt x="368" y="141"/>
                    </a:lnTo>
                    <a:lnTo>
                      <a:pt x="429" y="227"/>
                    </a:lnTo>
                    <a:lnTo>
                      <a:pt x="426" y="251"/>
                    </a:lnTo>
                    <a:lnTo>
                      <a:pt x="406" y="266"/>
                    </a:lnTo>
                    <a:lnTo>
                      <a:pt x="333" y="276"/>
                    </a:lnTo>
                    <a:lnTo>
                      <a:pt x="242" y="266"/>
                    </a:lnTo>
                    <a:lnTo>
                      <a:pt x="24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56320" y="3669480"/>
                <a:ext cx="176040" cy="87480"/>
              </a:xfrm>
              <a:custGeom>
                <a:avLst/>
                <a:gdLst/>
                <a:ahLst/>
                <a:rect l="l" t="t" r="r" b="b"/>
                <a:pathLst>
                  <a:path w="595" h="377">
                    <a:moveTo>
                      <a:pt x="27" y="333"/>
                    </a:moveTo>
                    <a:lnTo>
                      <a:pt x="24" y="282"/>
                    </a:lnTo>
                    <a:lnTo>
                      <a:pt x="9" y="232"/>
                    </a:lnTo>
                    <a:lnTo>
                      <a:pt x="0" y="183"/>
                    </a:lnTo>
                    <a:lnTo>
                      <a:pt x="9" y="138"/>
                    </a:lnTo>
                    <a:lnTo>
                      <a:pt x="26" y="117"/>
                    </a:lnTo>
                    <a:lnTo>
                      <a:pt x="46" y="98"/>
                    </a:lnTo>
                    <a:lnTo>
                      <a:pt x="72" y="83"/>
                    </a:lnTo>
                    <a:lnTo>
                      <a:pt x="99" y="71"/>
                    </a:lnTo>
                    <a:lnTo>
                      <a:pt x="163" y="54"/>
                    </a:lnTo>
                    <a:lnTo>
                      <a:pt x="233" y="45"/>
                    </a:lnTo>
                    <a:lnTo>
                      <a:pt x="495" y="5"/>
                    </a:lnTo>
                    <a:lnTo>
                      <a:pt x="541" y="0"/>
                    </a:lnTo>
                    <a:lnTo>
                      <a:pt x="578" y="16"/>
                    </a:lnTo>
                    <a:lnTo>
                      <a:pt x="595" y="45"/>
                    </a:lnTo>
                    <a:lnTo>
                      <a:pt x="590" y="59"/>
                    </a:lnTo>
                    <a:lnTo>
                      <a:pt x="575" y="72"/>
                    </a:lnTo>
                    <a:lnTo>
                      <a:pt x="550" y="86"/>
                    </a:lnTo>
                    <a:lnTo>
                      <a:pt x="506" y="104"/>
                    </a:lnTo>
                    <a:lnTo>
                      <a:pt x="451" y="124"/>
                    </a:lnTo>
                    <a:lnTo>
                      <a:pt x="388" y="146"/>
                    </a:lnTo>
                    <a:lnTo>
                      <a:pt x="325" y="168"/>
                    </a:lnTo>
                    <a:lnTo>
                      <a:pt x="267" y="188"/>
                    </a:lnTo>
                    <a:lnTo>
                      <a:pt x="188" y="213"/>
                    </a:lnTo>
                    <a:lnTo>
                      <a:pt x="163" y="210"/>
                    </a:lnTo>
                    <a:lnTo>
                      <a:pt x="141" y="215"/>
                    </a:lnTo>
                    <a:lnTo>
                      <a:pt x="114" y="281"/>
                    </a:lnTo>
                    <a:lnTo>
                      <a:pt x="96" y="351"/>
                    </a:lnTo>
                    <a:lnTo>
                      <a:pt x="78" y="375"/>
                    </a:lnTo>
                    <a:lnTo>
                      <a:pt x="54" y="377"/>
                    </a:lnTo>
                    <a:lnTo>
                      <a:pt x="27" y="333"/>
                    </a:lnTo>
                    <a:lnTo>
                      <a:pt x="27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489760" y="3758400"/>
                <a:ext cx="93240" cy="39960"/>
              </a:xfrm>
              <a:custGeom>
                <a:avLst/>
                <a:gdLst/>
                <a:ahLst/>
                <a:rect l="l" t="t" r="r" b="b"/>
                <a:pathLst>
                  <a:path w="314" h="175">
                    <a:moveTo>
                      <a:pt x="46" y="0"/>
                    </a:moveTo>
                    <a:lnTo>
                      <a:pt x="99" y="26"/>
                    </a:lnTo>
                    <a:lnTo>
                      <a:pt x="154" y="44"/>
                    </a:lnTo>
                    <a:lnTo>
                      <a:pt x="266" y="72"/>
                    </a:lnTo>
                    <a:lnTo>
                      <a:pt x="302" y="90"/>
                    </a:lnTo>
                    <a:lnTo>
                      <a:pt x="314" y="120"/>
                    </a:lnTo>
                    <a:lnTo>
                      <a:pt x="302" y="149"/>
                    </a:lnTo>
                    <a:lnTo>
                      <a:pt x="287" y="160"/>
                    </a:lnTo>
                    <a:lnTo>
                      <a:pt x="266" y="167"/>
                    </a:lnTo>
                    <a:lnTo>
                      <a:pt x="216" y="175"/>
                    </a:lnTo>
                    <a:lnTo>
                      <a:pt x="120" y="162"/>
                    </a:lnTo>
                    <a:lnTo>
                      <a:pt x="33" y="127"/>
                    </a:lnTo>
                    <a:lnTo>
                      <a:pt x="6" y="88"/>
                    </a:lnTo>
                    <a:lnTo>
                      <a:pt x="0" y="38"/>
                    </a:lnTo>
                    <a:lnTo>
                      <a:pt x="13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34640" y="3795120"/>
                <a:ext cx="117000" cy="36720"/>
              </a:xfrm>
              <a:custGeom>
                <a:avLst/>
                <a:gdLst/>
                <a:ahLst/>
                <a:rect l="l" t="t" r="r" b="b"/>
                <a:pathLst>
                  <a:path w="397" h="162">
                    <a:moveTo>
                      <a:pt x="64" y="0"/>
                    </a:moveTo>
                    <a:lnTo>
                      <a:pt x="363" y="1"/>
                    </a:lnTo>
                    <a:lnTo>
                      <a:pt x="385" y="5"/>
                    </a:lnTo>
                    <a:lnTo>
                      <a:pt x="397" y="20"/>
                    </a:lnTo>
                    <a:lnTo>
                      <a:pt x="391" y="68"/>
                    </a:lnTo>
                    <a:lnTo>
                      <a:pt x="376" y="95"/>
                    </a:lnTo>
                    <a:lnTo>
                      <a:pt x="355" y="120"/>
                    </a:lnTo>
                    <a:lnTo>
                      <a:pt x="330" y="138"/>
                    </a:lnTo>
                    <a:lnTo>
                      <a:pt x="301" y="149"/>
                    </a:lnTo>
                    <a:lnTo>
                      <a:pt x="241" y="161"/>
                    </a:lnTo>
                    <a:lnTo>
                      <a:pt x="181" y="162"/>
                    </a:lnTo>
                    <a:lnTo>
                      <a:pt x="127" y="146"/>
                    </a:lnTo>
                    <a:lnTo>
                      <a:pt x="73" y="136"/>
                    </a:lnTo>
                    <a:lnTo>
                      <a:pt x="20" y="115"/>
                    </a:lnTo>
                    <a:lnTo>
                      <a:pt x="0" y="71"/>
                    </a:lnTo>
                    <a:lnTo>
                      <a:pt x="15" y="25"/>
                    </a:lnTo>
                    <a:lnTo>
                      <a:pt x="35" y="1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99960" y="3718080"/>
                <a:ext cx="90360" cy="49320"/>
              </a:xfrm>
              <a:custGeom>
                <a:avLst/>
                <a:gdLst/>
                <a:ahLst/>
                <a:rect l="l" t="t" r="r" b="b"/>
                <a:pathLst>
                  <a:path w="306" h="213">
                    <a:moveTo>
                      <a:pt x="42" y="78"/>
                    </a:moveTo>
                    <a:lnTo>
                      <a:pt x="130" y="57"/>
                    </a:lnTo>
                    <a:lnTo>
                      <a:pt x="207" y="8"/>
                    </a:lnTo>
                    <a:lnTo>
                      <a:pt x="246" y="0"/>
                    </a:lnTo>
                    <a:lnTo>
                      <a:pt x="283" y="34"/>
                    </a:lnTo>
                    <a:lnTo>
                      <a:pt x="306" y="84"/>
                    </a:lnTo>
                    <a:lnTo>
                      <a:pt x="299" y="132"/>
                    </a:lnTo>
                    <a:lnTo>
                      <a:pt x="262" y="170"/>
                    </a:lnTo>
                    <a:lnTo>
                      <a:pt x="225" y="190"/>
                    </a:lnTo>
                    <a:lnTo>
                      <a:pt x="131" y="213"/>
                    </a:lnTo>
                    <a:lnTo>
                      <a:pt x="60" y="207"/>
                    </a:lnTo>
                    <a:lnTo>
                      <a:pt x="12" y="166"/>
                    </a:lnTo>
                    <a:lnTo>
                      <a:pt x="0" y="116"/>
                    </a:lnTo>
                    <a:lnTo>
                      <a:pt x="14" y="94"/>
                    </a:lnTo>
                    <a:lnTo>
                      <a:pt x="42" y="7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061440" y="3416040"/>
                <a:ext cx="158400" cy="296280"/>
              </a:xfrm>
              <a:custGeom>
                <a:avLst/>
                <a:gdLst/>
                <a:ahLst/>
                <a:rect l="l" t="t" r="r" b="b"/>
                <a:pathLst>
                  <a:path w="533" h="1289">
                    <a:moveTo>
                      <a:pt x="274" y="983"/>
                    </a:moveTo>
                    <a:lnTo>
                      <a:pt x="227" y="894"/>
                    </a:lnTo>
                    <a:lnTo>
                      <a:pt x="202" y="795"/>
                    </a:lnTo>
                    <a:lnTo>
                      <a:pt x="190" y="573"/>
                    </a:lnTo>
                    <a:lnTo>
                      <a:pt x="196" y="131"/>
                    </a:lnTo>
                    <a:lnTo>
                      <a:pt x="170" y="130"/>
                    </a:lnTo>
                    <a:lnTo>
                      <a:pt x="149" y="150"/>
                    </a:lnTo>
                    <a:lnTo>
                      <a:pt x="119" y="202"/>
                    </a:lnTo>
                    <a:lnTo>
                      <a:pt x="97" y="222"/>
                    </a:lnTo>
                    <a:lnTo>
                      <a:pt x="73" y="232"/>
                    </a:lnTo>
                    <a:lnTo>
                      <a:pt x="28" y="223"/>
                    </a:lnTo>
                    <a:lnTo>
                      <a:pt x="0" y="187"/>
                    </a:lnTo>
                    <a:lnTo>
                      <a:pt x="6" y="133"/>
                    </a:lnTo>
                    <a:lnTo>
                      <a:pt x="42" y="74"/>
                    </a:lnTo>
                    <a:lnTo>
                      <a:pt x="85" y="32"/>
                    </a:lnTo>
                    <a:lnTo>
                      <a:pt x="109" y="17"/>
                    </a:lnTo>
                    <a:lnTo>
                      <a:pt x="133" y="7"/>
                    </a:lnTo>
                    <a:lnTo>
                      <a:pt x="181" y="0"/>
                    </a:lnTo>
                    <a:lnTo>
                      <a:pt x="227" y="12"/>
                    </a:lnTo>
                    <a:lnTo>
                      <a:pt x="266" y="43"/>
                    </a:lnTo>
                    <a:lnTo>
                      <a:pt x="295" y="95"/>
                    </a:lnTo>
                    <a:lnTo>
                      <a:pt x="313" y="167"/>
                    </a:lnTo>
                    <a:lnTo>
                      <a:pt x="316" y="319"/>
                    </a:lnTo>
                    <a:lnTo>
                      <a:pt x="305" y="472"/>
                    </a:lnTo>
                    <a:lnTo>
                      <a:pt x="296" y="624"/>
                    </a:lnTo>
                    <a:lnTo>
                      <a:pt x="312" y="777"/>
                    </a:lnTo>
                    <a:lnTo>
                      <a:pt x="338" y="874"/>
                    </a:lnTo>
                    <a:lnTo>
                      <a:pt x="365" y="939"/>
                    </a:lnTo>
                    <a:lnTo>
                      <a:pt x="391" y="976"/>
                    </a:lnTo>
                    <a:lnTo>
                      <a:pt x="417" y="995"/>
                    </a:lnTo>
                    <a:lnTo>
                      <a:pt x="468" y="1012"/>
                    </a:lnTo>
                    <a:lnTo>
                      <a:pt x="512" y="1053"/>
                    </a:lnTo>
                    <a:lnTo>
                      <a:pt x="533" y="1154"/>
                    </a:lnTo>
                    <a:lnTo>
                      <a:pt x="523" y="1204"/>
                    </a:lnTo>
                    <a:lnTo>
                      <a:pt x="506" y="1246"/>
                    </a:lnTo>
                    <a:lnTo>
                      <a:pt x="486" y="1276"/>
                    </a:lnTo>
                    <a:lnTo>
                      <a:pt x="467" y="1289"/>
                    </a:lnTo>
                    <a:lnTo>
                      <a:pt x="452" y="1281"/>
                    </a:lnTo>
                    <a:lnTo>
                      <a:pt x="446" y="1246"/>
                    </a:lnTo>
                    <a:lnTo>
                      <a:pt x="452" y="1136"/>
                    </a:lnTo>
                    <a:lnTo>
                      <a:pt x="446" y="1110"/>
                    </a:lnTo>
                    <a:lnTo>
                      <a:pt x="434" y="1095"/>
                    </a:lnTo>
                    <a:lnTo>
                      <a:pt x="378" y="1106"/>
                    </a:lnTo>
                    <a:lnTo>
                      <a:pt x="311" y="1055"/>
                    </a:lnTo>
                    <a:lnTo>
                      <a:pt x="274" y="983"/>
                    </a:lnTo>
                    <a:lnTo>
                      <a:pt x="274" y="9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507400" y="3367440"/>
                <a:ext cx="110520" cy="30960"/>
              </a:xfrm>
              <a:custGeom>
                <a:avLst/>
                <a:gdLst/>
                <a:ahLst/>
                <a:rect l="l" t="t" r="r" b="b"/>
                <a:pathLst>
                  <a:path w="375" h="137">
                    <a:moveTo>
                      <a:pt x="22" y="73"/>
                    </a:moveTo>
                    <a:lnTo>
                      <a:pt x="58" y="56"/>
                    </a:lnTo>
                    <a:lnTo>
                      <a:pt x="114" y="31"/>
                    </a:lnTo>
                    <a:lnTo>
                      <a:pt x="169" y="9"/>
                    </a:lnTo>
                    <a:lnTo>
                      <a:pt x="200" y="0"/>
                    </a:lnTo>
                    <a:lnTo>
                      <a:pt x="329" y="21"/>
                    </a:lnTo>
                    <a:lnTo>
                      <a:pt x="365" y="42"/>
                    </a:lnTo>
                    <a:lnTo>
                      <a:pt x="375" y="74"/>
                    </a:lnTo>
                    <a:lnTo>
                      <a:pt x="361" y="105"/>
                    </a:lnTo>
                    <a:lnTo>
                      <a:pt x="345" y="116"/>
                    </a:lnTo>
                    <a:lnTo>
                      <a:pt x="323" y="122"/>
                    </a:lnTo>
                    <a:lnTo>
                      <a:pt x="210" y="129"/>
                    </a:lnTo>
                    <a:lnTo>
                      <a:pt x="42" y="137"/>
                    </a:lnTo>
                    <a:lnTo>
                      <a:pt x="14" y="134"/>
                    </a:lnTo>
                    <a:lnTo>
                      <a:pt x="0" y="116"/>
                    </a:lnTo>
                    <a:lnTo>
                      <a:pt x="0" y="92"/>
                    </a:lnTo>
                    <a:lnTo>
                      <a:pt x="22" y="73"/>
                    </a:lnTo>
                    <a:lnTo>
                      <a:pt x="2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3497760" y="3230640"/>
              <a:ext cx="912240" cy="601200"/>
              <a:chOff x="3497760" y="3230640"/>
              <a:chExt cx="912240" cy="601200"/>
            </a:xfrm>
          </p:grpSpPr>
          <p:sp>
            <p:nvSpPr>
              <p:cNvPr id="940" name=""/>
              <p:cNvSpPr/>
              <p:nvPr/>
            </p:nvSpPr>
            <p:spPr>
              <a:xfrm>
                <a:off x="3617640" y="3405600"/>
                <a:ext cx="693000" cy="367200"/>
              </a:xfrm>
              <a:custGeom>
                <a:avLst/>
                <a:gdLst/>
                <a:ahLst/>
                <a:rect l="l" t="t" r="r" b="b"/>
                <a:pathLst>
                  <a:path w="2342" h="1592">
                    <a:moveTo>
                      <a:pt x="640" y="33"/>
                    </a:moveTo>
                    <a:lnTo>
                      <a:pt x="538" y="578"/>
                    </a:lnTo>
                    <a:lnTo>
                      <a:pt x="120" y="1047"/>
                    </a:lnTo>
                    <a:lnTo>
                      <a:pt x="0" y="1180"/>
                    </a:lnTo>
                    <a:lnTo>
                      <a:pt x="45" y="1440"/>
                    </a:lnTo>
                    <a:lnTo>
                      <a:pt x="1803" y="1592"/>
                    </a:lnTo>
                    <a:lnTo>
                      <a:pt x="2342" y="1314"/>
                    </a:lnTo>
                    <a:lnTo>
                      <a:pt x="2031" y="58"/>
                    </a:lnTo>
                    <a:lnTo>
                      <a:pt x="1905" y="0"/>
                    </a:lnTo>
                    <a:lnTo>
                      <a:pt x="1677" y="255"/>
                    </a:lnTo>
                    <a:lnTo>
                      <a:pt x="980" y="197"/>
                    </a:lnTo>
                    <a:lnTo>
                      <a:pt x="760" y="0"/>
                    </a:lnTo>
                    <a:lnTo>
                      <a:pt x="640" y="33"/>
                    </a:lnTo>
                    <a:lnTo>
                      <a:pt x="64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621960" y="3426480"/>
                <a:ext cx="784440" cy="393120"/>
              </a:xfrm>
              <a:custGeom>
                <a:avLst/>
                <a:gdLst/>
                <a:ahLst/>
                <a:rect l="l" t="t" r="r" b="b"/>
                <a:pathLst>
                  <a:path w="2651" h="1707">
                    <a:moveTo>
                      <a:pt x="120" y="1155"/>
                    </a:moveTo>
                    <a:lnTo>
                      <a:pt x="551" y="1155"/>
                    </a:lnTo>
                    <a:lnTo>
                      <a:pt x="1291" y="1288"/>
                    </a:lnTo>
                    <a:lnTo>
                      <a:pt x="1146" y="1149"/>
                    </a:lnTo>
                    <a:lnTo>
                      <a:pt x="1708" y="850"/>
                    </a:lnTo>
                    <a:lnTo>
                      <a:pt x="1905" y="1021"/>
                    </a:lnTo>
                    <a:lnTo>
                      <a:pt x="1961" y="793"/>
                    </a:lnTo>
                    <a:lnTo>
                      <a:pt x="1905" y="241"/>
                    </a:lnTo>
                    <a:lnTo>
                      <a:pt x="1955" y="0"/>
                    </a:lnTo>
                    <a:lnTo>
                      <a:pt x="2069" y="165"/>
                    </a:lnTo>
                    <a:lnTo>
                      <a:pt x="2152" y="146"/>
                    </a:lnTo>
                    <a:lnTo>
                      <a:pt x="2222" y="0"/>
                    </a:lnTo>
                    <a:lnTo>
                      <a:pt x="2430" y="63"/>
                    </a:lnTo>
                    <a:lnTo>
                      <a:pt x="2461" y="818"/>
                    </a:lnTo>
                    <a:lnTo>
                      <a:pt x="2645" y="952"/>
                    </a:lnTo>
                    <a:lnTo>
                      <a:pt x="2651" y="1186"/>
                    </a:lnTo>
                    <a:lnTo>
                      <a:pt x="1741" y="1707"/>
                    </a:lnTo>
                    <a:lnTo>
                      <a:pt x="0" y="1402"/>
                    </a:lnTo>
                    <a:lnTo>
                      <a:pt x="120" y="1155"/>
                    </a:lnTo>
                    <a:lnTo>
                      <a:pt x="120" y="1155"/>
                    </a:lnTo>
                    <a:close/>
                  </a:path>
                </a:pathLst>
              </a:custGeom>
              <a:solidFill>
                <a:srgbClr val="a3a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807200">
                <a:off x="3543480" y="3367080"/>
                <a:ext cx="239760" cy="246600"/>
              </a:xfrm>
              <a:custGeom>
                <a:avLst/>
                <a:gdLst/>
                <a:ahLst/>
                <a:rect l="l" t="t" r="r" b="b"/>
                <a:pathLst>
                  <a:path w="810" h="1069">
                    <a:moveTo>
                      <a:pt x="235" y="736"/>
                    </a:moveTo>
                    <a:lnTo>
                      <a:pt x="295" y="710"/>
                    </a:lnTo>
                    <a:lnTo>
                      <a:pt x="357" y="682"/>
                    </a:lnTo>
                    <a:lnTo>
                      <a:pt x="417" y="660"/>
                    </a:lnTo>
                    <a:lnTo>
                      <a:pt x="471" y="650"/>
                    </a:lnTo>
                    <a:lnTo>
                      <a:pt x="516" y="657"/>
                    </a:lnTo>
                    <a:lnTo>
                      <a:pt x="545" y="687"/>
                    </a:lnTo>
                    <a:lnTo>
                      <a:pt x="555" y="747"/>
                    </a:lnTo>
                    <a:lnTo>
                      <a:pt x="543" y="840"/>
                    </a:lnTo>
                    <a:lnTo>
                      <a:pt x="609" y="825"/>
                    </a:lnTo>
                    <a:lnTo>
                      <a:pt x="665" y="825"/>
                    </a:lnTo>
                    <a:lnTo>
                      <a:pt x="746" y="855"/>
                    </a:lnTo>
                    <a:lnTo>
                      <a:pt x="793" y="915"/>
                    </a:lnTo>
                    <a:lnTo>
                      <a:pt x="810" y="982"/>
                    </a:lnTo>
                    <a:lnTo>
                      <a:pt x="799" y="1040"/>
                    </a:lnTo>
                    <a:lnTo>
                      <a:pt x="786" y="1059"/>
                    </a:lnTo>
                    <a:lnTo>
                      <a:pt x="767" y="1069"/>
                    </a:lnTo>
                    <a:lnTo>
                      <a:pt x="717" y="1047"/>
                    </a:lnTo>
                    <a:lnTo>
                      <a:pt x="687" y="1012"/>
                    </a:lnTo>
                    <a:lnTo>
                      <a:pt x="654" y="957"/>
                    </a:lnTo>
                    <a:lnTo>
                      <a:pt x="588" y="979"/>
                    </a:lnTo>
                    <a:lnTo>
                      <a:pt x="552" y="998"/>
                    </a:lnTo>
                    <a:lnTo>
                      <a:pt x="515" y="1015"/>
                    </a:lnTo>
                    <a:lnTo>
                      <a:pt x="480" y="1025"/>
                    </a:lnTo>
                    <a:lnTo>
                      <a:pt x="450" y="1027"/>
                    </a:lnTo>
                    <a:lnTo>
                      <a:pt x="407" y="975"/>
                    </a:lnTo>
                    <a:lnTo>
                      <a:pt x="407" y="925"/>
                    </a:lnTo>
                    <a:lnTo>
                      <a:pt x="425" y="878"/>
                    </a:lnTo>
                    <a:lnTo>
                      <a:pt x="458" y="782"/>
                    </a:lnTo>
                    <a:lnTo>
                      <a:pt x="429" y="796"/>
                    </a:lnTo>
                    <a:lnTo>
                      <a:pt x="389" y="816"/>
                    </a:lnTo>
                    <a:lnTo>
                      <a:pt x="341" y="842"/>
                    </a:lnTo>
                    <a:lnTo>
                      <a:pt x="289" y="868"/>
                    </a:lnTo>
                    <a:lnTo>
                      <a:pt x="238" y="893"/>
                    </a:lnTo>
                    <a:lnTo>
                      <a:pt x="191" y="914"/>
                    </a:lnTo>
                    <a:lnTo>
                      <a:pt x="130" y="927"/>
                    </a:lnTo>
                    <a:lnTo>
                      <a:pt x="73" y="893"/>
                    </a:lnTo>
                    <a:lnTo>
                      <a:pt x="56" y="845"/>
                    </a:lnTo>
                    <a:lnTo>
                      <a:pt x="70" y="790"/>
                    </a:lnTo>
                    <a:lnTo>
                      <a:pt x="101" y="730"/>
                    </a:lnTo>
                    <a:lnTo>
                      <a:pt x="120" y="700"/>
                    </a:lnTo>
                    <a:lnTo>
                      <a:pt x="139" y="671"/>
                    </a:lnTo>
                    <a:lnTo>
                      <a:pt x="174" y="618"/>
                    </a:lnTo>
                    <a:lnTo>
                      <a:pt x="191" y="552"/>
                    </a:lnTo>
                    <a:lnTo>
                      <a:pt x="156" y="533"/>
                    </a:lnTo>
                    <a:lnTo>
                      <a:pt x="114" y="520"/>
                    </a:lnTo>
                    <a:lnTo>
                      <a:pt x="35" y="496"/>
                    </a:lnTo>
                    <a:lnTo>
                      <a:pt x="8" y="477"/>
                    </a:lnTo>
                    <a:lnTo>
                      <a:pt x="0" y="448"/>
                    </a:lnTo>
                    <a:lnTo>
                      <a:pt x="11" y="405"/>
                    </a:lnTo>
                    <a:lnTo>
                      <a:pt x="26" y="377"/>
                    </a:lnTo>
                    <a:lnTo>
                      <a:pt x="50" y="345"/>
                    </a:lnTo>
                    <a:lnTo>
                      <a:pt x="73" y="321"/>
                    </a:lnTo>
                    <a:lnTo>
                      <a:pt x="100" y="299"/>
                    </a:lnTo>
                    <a:lnTo>
                      <a:pt x="128" y="280"/>
                    </a:lnTo>
                    <a:lnTo>
                      <a:pt x="157" y="263"/>
                    </a:lnTo>
                    <a:lnTo>
                      <a:pt x="136" y="113"/>
                    </a:lnTo>
                    <a:lnTo>
                      <a:pt x="151" y="67"/>
                    </a:lnTo>
                    <a:lnTo>
                      <a:pt x="184" y="35"/>
                    </a:lnTo>
                    <a:lnTo>
                      <a:pt x="229" y="16"/>
                    </a:lnTo>
                    <a:lnTo>
                      <a:pt x="285" y="5"/>
                    </a:lnTo>
                    <a:lnTo>
                      <a:pt x="426" y="0"/>
                    </a:lnTo>
                    <a:lnTo>
                      <a:pt x="441" y="18"/>
                    </a:lnTo>
                    <a:lnTo>
                      <a:pt x="429" y="58"/>
                    </a:lnTo>
                    <a:lnTo>
                      <a:pt x="415" y="79"/>
                    </a:lnTo>
                    <a:lnTo>
                      <a:pt x="399" y="97"/>
                    </a:lnTo>
                    <a:lnTo>
                      <a:pt x="383" y="111"/>
                    </a:lnTo>
                    <a:lnTo>
                      <a:pt x="366" y="115"/>
                    </a:lnTo>
                    <a:lnTo>
                      <a:pt x="291" y="108"/>
                    </a:lnTo>
                    <a:lnTo>
                      <a:pt x="227" y="124"/>
                    </a:lnTo>
                    <a:lnTo>
                      <a:pt x="222" y="161"/>
                    </a:lnTo>
                    <a:lnTo>
                      <a:pt x="240" y="201"/>
                    </a:lnTo>
                    <a:lnTo>
                      <a:pt x="283" y="274"/>
                    </a:lnTo>
                    <a:lnTo>
                      <a:pt x="284" y="306"/>
                    </a:lnTo>
                    <a:lnTo>
                      <a:pt x="273" y="328"/>
                    </a:lnTo>
                    <a:lnTo>
                      <a:pt x="253" y="341"/>
                    </a:lnTo>
                    <a:lnTo>
                      <a:pt x="228" y="351"/>
                    </a:lnTo>
                    <a:lnTo>
                      <a:pt x="179" y="366"/>
                    </a:lnTo>
                    <a:lnTo>
                      <a:pt x="152" y="397"/>
                    </a:lnTo>
                    <a:lnTo>
                      <a:pt x="164" y="413"/>
                    </a:lnTo>
                    <a:lnTo>
                      <a:pt x="193" y="414"/>
                    </a:lnTo>
                    <a:lnTo>
                      <a:pt x="256" y="415"/>
                    </a:lnTo>
                    <a:lnTo>
                      <a:pt x="289" y="441"/>
                    </a:lnTo>
                    <a:lnTo>
                      <a:pt x="308" y="478"/>
                    </a:lnTo>
                    <a:lnTo>
                      <a:pt x="312" y="570"/>
                    </a:lnTo>
                    <a:lnTo>
                      <a:pt x="300" y="620"/>
                    </a:lnTo>
                    <a:lnTo>
                      <a:pt x="282" y="666"/>
                    </a:lnTo>
                    <a:lnTo>
                      <a:pt x="260" y="706"/>
                    </a:lnTo>
                    <a:lnTo>
                      <a:pt x="235" y="736"/>
                    </a:lnTo>
                    <a:lnTo>
                      <a:pt x="235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715560" y="3230640"/>
                <a:ext cx="694440" cy="443880"/>
                <a:chOff x="3715560" y="3230640"/>
                <a:chExt cx="694440" cy="443880"/>
              </a:xfrm>
            </p:grpSpPr>
            <p:sp>
              <p:nvSpPr>
                <p:cNvPr id="944" name=""/>
                <p:cNvSpPr/>
                <p:nvPr/>
              </p:nvSpPr>
              <p:spPr>
                <a:xfrm rot="976200">
                  <a:off x="3746520" y="3314880"/>
                  <a:ext cx="639360" cy="262800"/>
                </a:xfrm>
                <a:custGeom>
                  <a:avLst/>
                  <a:gdLst/>
                  <a:ahLst/>
                  <a:rect l="l" t="t" r="r" b="b"/>
                  <a:pathLst>
                    <a:path w="2159" h="1142">
                      <a:moveTo>
                        <a:pt x="0" y="1066"/>
                      </a:moveTo>
                      <a:lnTo>
                        <a:pt x="38" y="678"/>
                      </a:lnTo>
                      <a:lnTo>
                        <a:pt x="190" y="431"/>
                      </a:lnTo>
                      <a:lnTo>
                        <a:pt x="475" y="241"/>
                      </a:lnTo>
                      <a:lnTo>
                        <a:pt x="1006" y="50"/>
                      </a:lnTo>
                      <a:lnTo>
                        <a:pt x="1537" y="0"/>
                      </a:lnTo>
                      <a:lnTo>
                        <a:pt x="1918" y="197"/>
                      </a:lnTo>
                      <a:lnTo>
                        <a:pt x="2159" y="463"/>
                      </a:lnTo>
                      <a:lnTo>
                        <a:pt x="2007" y="666"/>
                      </a:lnTo>
                      <a:lnTo>
                        <a:pt x="1487" y="774"/>
                      </a:lnTo>
                      <a:lnTo>
                        <a:pt x="1184" y="336"/>
                      </a:lnTo>
                      <a:lnTo>
                        <a:pt x="519" y="628"/>
                      </a:lnTo>
                      <a:lnTo>
                        <a:pt x="411" y="1041"/>
                      </a:lnTo>
                      <a:lnTo>
                        <a:pt x="69" y="1142"/>
                      </a:lnTo>
                      <a:lnTo>
                        <a:pt x="0" y="1066"/>
                      </a:lnTo>
                      <a:lnTo>
                        <a:pt x="0" y="10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976200">
                  <a:off x="3790440" y="3366360"/>
                  <a:ext cx="569880" cy="205200"/>
                </a:xfrm>
                <a:custGeom>
                  <a:avLst/>
                  <a:gdLst/>
                  <a:ahLst/>
                  <a:rect l="l" t="t" r="r" b="b"/>
                  <a:pathLst>
                    <a:path w="1924" h="893">
                      <a:moveTo>
                        <a:pt x="12" y="856"/>
                      </a:moveTo>
                      <a:lnTo>
                        <a:pt x="45" y="551"/>
                      </a:lnTo>
                      <a:lnTo>
                        <a:pt x="153" y="406"/>
                      </a:lnTo>
                      <a:lnTo>
                        <a:pt x="253" y="412"/>
                      </a:lnTo>
                      <a:lnTo>
                        <a:pt x="247" y="298"/>
                      </a:lnTo>
                      <a:lnTo>
                        <a:pt x="431" y="171"/>
                      </a:lnTo>
                      <a:lnTo>
                        <a:pt x="754" y="51"/>
                      </a:lnTo>
                      <a:lnTo>
                        <a:pt x="1019" y="0"/>
                      </a:lnTo>
                      <a:lnTo>
                        <a:pt x="1183" y="70"/>
                      </a:lnTo>
                      <a:lnTo>
                        <a:pt x="1254" y="184"/>
                      </a:lnTo>
                      <a:lnTo>
                        <a:pt x="1348" y="279"/>
                      </a:lnTo>
                      <a:lnTo>
                        <a:pt x="1569" y="165"/>
                      </a:lnTo>
                      <a:lnTo>
                        <a:pt x="1741" y="190"/>
                      </a:lnTo>
                      <a:lnTo>
                        <a:pt x="1924" y="323"/>
                      </a:lnTo>
                      <a:lnTo>
                        <a:pt x="1500" y="532"/>
                      </a:lnTo>
                      <a:lnTo>
                        <a:pt x="1310" y="520"/>
                      </a:lnTo>
                      <a:lnTo>
                        <a:pt x="1069" y="215"/>
                      </a:lnTo>
                      <a:lnTo>
                        <a:pt x="879" y="221"/>
                      </a:lnTo>
                      <a:lnTo>
                        <a:pt x="398" y="476"/>
                      </a:lnTo>
                      <a:lnTo>
                        <a:pt x="361" y="665"/>
                      </a:lnTo>
                      <a:lnTo>
                        <a:pt x="323" y="843"/>
                      </a:lnTo>
                      <a:lnTo>
                        <a:pt x="0" y="893"/>
                      </a:lnTo>
                      <a:lnTo>
                        <a:pt x="12" y="856"/>
                      </a:lnTo>
                      <a:lnTo>
                        <a:pt x="12" y="856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976200">
                  <a:off x="3799800" y="3298680"/>
                  <a:ext cx="504360" cy="151920"/>
                </a:xfrm>
                <a:custGeom>
                  <a:avLst/>
                  <a:gdLst/>
                  <a:ahLst/>
                  <a:rect l="l" t="t" r="r" b="b"/>
                  <a:pathLst>
                    <a:path w="1704" h="657">
                      <a:moveTo>
                        <a:pt x="0" y="598"/>
                      </a:moveTo>
                      <a:lnTo>
                        <a:pt x="15" y="559"/>
                      </a:lnTo>
                      <a:lnTo>
                        <a:pt x="35" y="522"/>
                      </a:lnTo>
                      <a:lnTo>
                        <a:pt x="60" y="485"/>
                      </a:lnTo>
                      <a:lnTo>
                        <a:pt x="90" y="449"/>
                      </a:lnTo>
                      <a:lnTo>
                        <a:pt x="126" y="413"/>
                      </a:lnTo>
                      <a:lnTo>
                        <a:pt x="166" y="378"/>
                      </a:lnTo>
                      <a:lnTo>
                        <a:pt x="210" y="345"/>
                      </a:lnTo>
                      <a:lnTo>
                        <a:pt x="233" y="328"/>
                      </a:lnTo>
                      <a:lnTo>
                        <a:pt x="257" y="312"/>
                      </a:lnTo>
                      <a:lnTo>
                        <a:pt x="282" y="295"/>
                      </a:lnTo>
                      <a:lnTo>
                        <a:pt x="309" y="280"/>
                      </a:lnTo>
                      <a:lnTo>
                        <a:pt x="363" y="250"/>
                      </a:lnTo>
                      <a:lnTo>
                        <a:pt x="420" y="220"/>
                      </a:lnTo>
                      <a:lnTo>
                        <a:pt x="479" y="192"/>
                      </a:lnTo>
                      <a:lnTo>
                        <a:pt x="540" y="166"/>
                      </a:lnTo>
                      <a:lnTo>
                        <a:pt x="604" y="140"/>
                      </a:lnTo>
                      <a:lnTo>
                        <a:pt x="667" y="118"/>
                      </a:lnTo>
                      <a:lnTo>
                        <a:pt x="733" y="96"/>
                      </a:lnTo>
                      <a:lnTo>
                        <a:pt x="798" y="77"/>
                      </a:lnTo>
                      <a:lnTo>
                        <a:pt x="865" y="59"/>
                      </a:lnTo>
                      <a:lnTo>
                        <a:pt x="931" y="44"/>
                      </a:lnTo>
                      <a:lnTo>
                        <a:pt x="997" y="30"/>
                      </a:lnTo>
                      <a:lnTo>
                        <a:pt x="1127" y="11"/>
                      </a:lnTo>
                      <a:lnTo>
                        <a:pt x="1250" y="0"/>
                      </a:lnTo>
                      <a:lnTo>
                        <a:pt x="1470" y="12"/>
                      </a:lnTo>
                      <a:lnTo>
                        <a:pt x="1560" y="36"/>
                      </a:lnTo>
                      <a:lnTo>
                        <a:pt x="1634" y="72"/>
                      </a:lnTo>
                      <a:lnTo>
                        <a:pt x="1687" y="124"/>
                      </a:lnTo>
                      <a:lnTo>
                        <a:pt x="1704" y="173"/>
                      </a:lnTo>
                      <a:lnTo>
                        <a:pt x="1698" y="191"/>
                      </a:lnTo>
                      <a:lnTo>
                        <a:pt x="1682" y="203"/>
                      </a:lnTo>
                      <a:lnTo>
                        <a:pt x="1621" y="200"/>
                      </a:lnTo>
                      <a:lnTo>
                        <a:pt x="1517" y="173"/>
                      </a:lnTo>
                      <a:lnTo>
                        <a:pt x="1409" y="144"/>
                      </a:lnTo>
                      <a:lnTo>
                        <a:pt x="1319" y="124"/>
                      </a:lnTo>
                      <a:lnTo>
                        <a:pt x="1224" y="115"/>
                      </a:lnTo>
                      <a:lnTo>
                        <a:pt x="1028" y="128"/>
                      </a:lnTo>
                      <a:lnTo>
                        <a:pt x="835" y="173"/>
                      </a:lnTo>
                      <a:lnTo>
                        <a:pt x="744" y="202"/>
                      </a:lnTo>
                      <a:lnTo>
                        <a:pt x="659" y="234"/>
                      </a:lnTo>
                      <a:lnTo>
                        <a:pt x="586" y="264"/>
                      </a:lnTo>
                      <a:lnTo>
                        <a:pt x="521" y="291"/>
                      </a:lnTo>
                      <a:lnTo>
                        <a:pt x="467" y="313"/>
                      </a:lnTo>
                      <a:lnTo>
                        <a:pt x="419" y="333"/>
                      </a:lnTo>
                      <a:lnTo>
                        <a:pt x="342" y="369"/>
                      </a:lnTo>
                      <a:lnTo>
                        <a:pt x="284" y="402"/>
                      </a:lnTo>
                      <a:lnTo>
                        <a:pt x="234" y="441"/>
                      </a:lnTo>
                      <a:lnTo>
                        <a:pt x="186" y="489"/>
                      </a:lnTo>
                      <a:lnTo>
                        <a:pt x="160" y="519"/>
                      </a:lnTo>
                      <a:lnTo>
                        <a:pt x="130" y="553"/>
                      </a:lnTo>
                      <a:lnTo>
                        <a:pt x="96" y="593"/>
                      </a:lnTo>
                      <a:lnTo>
                        <a:pt x="59" y="639"/>
                      </a:lnTo>
                      <a:lnTo>
                        <a:pt x="34" y="657"/>
                      </a:lnTo>
                      <a:lnTo>
                        <a:pt x="11" y="653"/>
                      </a:lnTo>
                      <a:lnTo>
                        <a:pt x="0" y="598"/>
                      </a:lnTo>
                      <a:lnTo>
                        <a:pt x="0" y="5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976200">
                  <a:off x="3731760" y="3377160"/>
                  <a:ext cx="654120" cy="209520"/>
                </a:xfrm>
                <a:custGeom>
                  <a:avLst/>
                  <a:gdLst/>
                  <a:ahLst/>
                  <a:rect l="l" t="t" r="r" b="b"/>
                  <a:pathLst>
                    <a:path w="2210" h="912">
                      <a:moveTo>
                        <a:pt x="109" y="769"/>
                      </a:moveTo>
                      <a:lnTo>
                        <a:pt x="161" y="758"/>
                      </a:lnTo>
                      <a:lnTo>
                        <a:pt x="208" y="727"/>
                      </a:lnTo>
                      <a:lnTo>
                        <a:pt x="232" y="709"/>
                      </a:lnTo>
                      <a:lnTo>
                        <a:pt x="255" y="692"/>
                      </a:lnTo>
                      <a:lnTo>
                        <a:pt x="279" y="677"/>
                      </a:lnTo>
                      <a:lnTo>
                        <a:pt x="304" y="667"/>
                      </a:lnTo>
                      <a:lnTo>
                        <a:pt x="399" y="653"/>
                      </a:lnTo>
                      <a:lnTo>
                        <a:pt x="493" y="643"/>
                      </a:lnTo>
                      <a:lnTo>
                        <a:pt x="508" y="556"/>
                      </a:lnTo>
                      <a:lnTo>
                        <a:pt x="506" y="512"/>
                      </a:lnTo>
                      <a:lnTo>
                        <a:pt x="508" y="466"/>
                      </a:lnTo>
                      <a:lnTo>
                        <a:pt x="518" y="430"/>
                      </a:lnTo>
                      <a:lnTo>
                        <a:pt x="538" y="393"/>
                      </a:lnTo>
                      <a:lnTo>
                        <a:pt x="565" y="354"/>
                      </a:lnTo>
                      <a:lnTo>
                        <a:pt x="600" y="317"/>
                      </a:lnTo>
                      <a:lnTo>
                        <a:pt x="642" y="281"/>
                      </a:lnTo>
                      <a:lnTo>
                        <a:pt x="688" y="245"/>
                      </a:lnTo>
                      <a:lnTo>
                        <a:pt x="713" y="227"/>
                      </a:lnTo>
                      <a:lnTo>
                        <a:pt x="738" y="210"/>
                      </a:lnTo>
                      <a:lnTo>
                        <a:pt x="764" y="194"/>
                      </a:lnTo>
                      <a:lnTo>
                        <a:pt x="792" y="178"/>
                      </a:lnTo>
                      <a:lnTo>
                        <a:pt x="847" y="148"/>
                      </a:lnTo>
                      <a:lnTo>
                        <a:pt x="902" y="120"/>
                      </a:lnTo>
                      <a:lnTo>
                        <a:pt x="958" y="95"/>
                      </a:lnTo>
                      <a:lnTo>
                        <a:pt x="1011" y="75"/>
                      </a:lnTo>
                      <a:lnTo>
                        <a:pt x="1062" y="58"/>
                      </a:lnTo>
                      <a:lnTo>
                        <a:pt x="1110" y="45"/>
                      </a:lnTo>
                      <a:lnTo>
                        <a:pt x="1189" y="35"/>
                      </a:lnTo>
                      <a:lnTo>
                        <a:pt x="1254" y="42"/>
                      </a:lnTo>
                      <a:lnTo>
                        <a:pt x="1303" y="64"/>
                      </a:lnTo>
                      <a:lnTo>
                        <a:pt x="1369" y="135"/>
                      </a:lnTo>
                      <a:lnTo>
                        <a:pt x="1412" y="230"/>
                      </a:lnTo>
                      <a:lnTo>
                        <a:pt x="1434" y="281"/>
                      </a:lnTo>
                      <a:lnTo>
                        <a:pt x="1459" y="330"/>
                      </a:lnTo>
                      <a:lnTo>
                        <a:pt x="1476" y="352"/>
                      </a:lnTo>
                      <a:lnTo>
                        <a:pt x="1495" y="367"/>
                      </a:lnTo>
                      <a:lnTo>
                        <a:pt x="1543" y="377"/>
                      </a:lnTo>
                      <a:lnTo>
                        <a:pt x="1660" y="350"/>
                      </a:lnTo>
                      <a:lnTo>
                        <a:pt x="1723" y="321"/>
                      </a:lnTo>
                      <a:lnTo>
                        <a:pt x="1782" y="291"/>
                      </a:lnTo>
                      <a:lnTo>
                        <a:pt x="1833" y="262"/>
                      </a:lnTo>
                      <a:lnTo>
                        <a:pt x="1875" y="243"/>
                      </a:lnTo>
                      <a:lnTo>
                        <a:pt x="2036" y="176"/>
                      </a:lnTo>
                      <a:lnTo>
                        <a:pt x="2016" y="120"/>
                      </a:lnTo>
                      <a:lnTo>
                        <a:pt x="1999" y="98"/>
                      </a:lnTo>
                      <a:lnTo>
                        <a:pt x="1977" y="76"/>
                      </a:lnTo>
                      <a:lnTo>
                        <a:pt x="1940" y="34"/>
                      </a:lnTo>
                      <a:lnTo>
                        <a:pt x="1944" y="9"/>
                      </a:lnTo>
                      <a:lnTo>
                        <a:pt x="1978" y="0"/>
                      </a:lnTo>
                      <a:lnTo>
                        <a:pt x="2031" y="9"/>
                      </a:lnTo>
                      <a:lnTo>
                        <a:pt x="2092" y="35"/>
                      </a:lnTo>
                      <a:lnTo>
                        <a:pt x="2150" y="77"/>
                      </a:lnTo>
                      <a:lnTo>
                        <a:pt x="2193" y="138"/>
                      </a:lnTo>
                      <a:lnTo>
                        <a:pt x="2210" y="216"/>
                      </a:lnTo>
                      <a:lnTo>
                        <a:pt x="2194" y="293"/>
                      </a:lnTo>
                      <a:lnTo>
                        <a:pt x="2174" y="327"/>
                      </a:lnTo>
                      <a:lnTo>
                        <a:pt x="2149" y="358"/>
                      </a:lnTo>
                      <a:lnTo>
                        <a:pt x="2116" y="387"/>
                      </a:lnTo>
                      <a:lnTo>
                        <a:pt x="2079" y="413"/>
                      </a:lnTo>
                      <a:lnTo>
                        <a:pt x="2040" y="436"/>
                      </a:lnTo>
                      <a:lnTo>
                        <a:pt x="1996" y="458"/>
                      </a:lnTo>
                      <a:lnTo>
                        <a:pt x="1951" y="476"/>
                      </a:lnTo>
                      <a:lnTo>
                        <a:pt x="1904" y="491"/>
                      </a:lnTo>
                      <a:lnTo>
                        <a:pt x="1812" y="517"/>
                      </a:lnTo>
                      <a:lnTo>
                        <a:pt x="1725" y="532"/>
                      </a:lnTo>
                      <a:lnTo>
                        <a:pt x="1653" y="539"/>
                      </a:lnTo>
                      <a:lnTo>
                        <a:pt x="1543" y="526"/>
                      </a:lnTo>
                      <a:lnTo>
                        <a:pt x="1466" y="484"/>
                      </a:lnTo>
                      <a:lnTo>
                        <a:pt x="1413" y="423"/>
                      </a:lnTo>
                      <a:lnTo>
                        <a:pt x="1375" y="352"/>
                      </a:lnTo>
                      <a:lnTo>
                        <a:pt x="1343" y="280"/>
                      </a:lnTo>
                      <a:lnTo>
                        <a:pt x="1307" y="218"/>
                      </a:lnTo>
                      <a:lnTo>
                        <a:pt x="1285" y="192"/>
                      </a:lnTo>
                      <a:lnTo>
                        <a:pt x="1260" y="173"/>
                      </a:lnTo>
                      <a:lnTo>
                        <a:pt x="1229" y="161"/>
                      </a:lnTo>
                      <a:lnTo>
                        <a:pt x="1190" y="156"/>
                      </a:lnTo>
                      <a:lnTo>
                        <a:pt x="1057" y="192"/>
                      </a:lnTo>
                      <a:lnTo>
                        <a:pt x="1010" y="212"/>
                      </a:lnTo>
                      <a:lnTo>
                        <a:pt x="961" y="232"/>
                      </a:lnTo>
                      <a:lnTo>
                        <a:pt x="911" y="256"/>
                      </a:lnTo>
                      <a:lnTo>
                        <a:pt x="860" y="280"/>
                      </a:lnTo>
                      <a:lnTo>
                        <a:pt x="811" y="306"/>
                      </a:lnTo>
                      <a:lnTo>
                        <a:pt x="763" y="333"/>
                      </a:lnTo>
                      <a:lnTo>
                        <a:pt x="720" y="359"/>
                      </a:lnTo>
                      <a:lnTo>
                        <a:pt x="680" y="386"/>
                      </a:lnTo>
                      <a:lnTo>
                        <a:pt x="595" y="478"/>
                      </a:lnTo>
                      <a:lnTo>
                        <a:pt x="592" y="551"/>
                      </a:lnTo>
                      <a:lnTo>
                        <a:pt x="601" y="614"/>
                      </a:lnTo>
                      <a:lnTo>
                        <a:pt x="620" y="713"/>
                      </a:lnTo>
                      <a:lnTo>
                        <a:pt x="612" y="754"/>
                      </a:lnTo>
                      <a:lnTo>
                        <a:pt x="599" y="775"/>
                      </a:lnTo>
                      <a:lnTo>
                        <a:pt x="578" y="794"/>
                      </a:lnTo>
                      <a:lnTo>
                        <a:pt x="550" y="814"/>
                      </a:lnTo>
                      <a:lnTo>
                        <a:pt x="510" y="834"/>
                      </a:lnTo>
                      <a:lnTo>
                        <a:pt x="460" y="854"/>
                      </a:lnTo>
                      <a:lnTo>
                        <a:pt x="399" y="876"/>
                      </a:lnTo>
                      <a:lnTo>
                        <a:pt x="310" y="898"/>
                      </a:lnTo>
                      <a:lnTo>
                        <a:pt x="209" y="912"/>
                      </a:lnTo>
                      <a:lnTo>
                        <a:pt x="112" y="902"/>
                      </a:lnTo>
                      <a:lnTo>
                        <a:pt x="31" y="859"/>
                      </a:lnTo>
                      <a:lnTo>
                        <a:pt x="5" y="807"/>
                      </a:lnTo>
                      <a:lnTo>
                        <a:pt x="0" y="735"/>
                      </a:lnTo>
                      <a:lnTo>
                        <a:pt x="12" y="656"/>
                      </a:lnTo>
                      <a:lnTo>
                        <a:pt x="35" y="579"/>
                      </a:lnTo>
                      <a:lnTo>
                        <a:pt x="64" y="514"/>
                      </a:lnTo>
                      <a:lnTo>
                        <a:pt x="90" y="473"/>
                      </a:lnTo>
                      <a:lnTo>
                        <a:pt x="109" y="466"/>
                      </a:lnTo>
                      <a:lnTo>
                        <a:pt x="115" y="505"/>
                      </a:lnTo>
                      <a:lnTo>
                        <a:pt x="109" y="769"/>
                      </a:lnTo>
                      <a:lnTo>
                        <a:pt x="109" y="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8" name=""/>
              <p:cNvSpPr/>
              <p:nvPr/>
            </p:nvSpPr>
            <p:spPr>
              <a:xfrm>
                <a:off x="3638160" y="3403440"/>
                <a:ext cx="470520" cy="264960"/>
              </a:xfrm>
              <a:custGeom>
                <a:avLst/>
                <a:gdLst/>
                <a:ahLst/>
                <a:rect l="l" t="t" r="r" b="b"/>
                <a:pathLst>
                  <a:path w="1591" h="1150">
                    <a:moveTo>
                      <a:pt x="634" y="144"/>
                    </a:moveTo>
                    <a:lnTo>
                      <a:pt x="609" y="304"/>
                    </a:lnTo>
                    <a:lnTo>
                      <a:pt x="592" y="381"/>
                    </a:lnTo>
                    <a:lnTo>
                      <a:pt x="573" y="456"/>
                    </a:lnTo>
                    <a:lnTo>
                      <a:pt x="549" y="530"/>
                    </a:lnTo>
                    <a:lnTo>
                      <a:pt x="520" y="603"/>
                    </a:lnTo>
                    <a:lnTo>
                      <a:pt x="503" y="639"/>
                    </a:lnTo>
                    <a:lnTo>
                      <a:pt x="484" y="675"/>
                    </a:lnTo>
                    <a:lnTo>
                      <a:pt x="463" y="710"/>
                    </a:lnTo>
                    <a:lnTo>
                      <a:pt x="441" y="746"/>
                    </a:lnTo>
                    <a:lnTo>
                      <a:pt x="409" y="790"/>
                    </a:lnTo>
                    <a:lnTo>
                      <a:pt x="389" y="817"/>
                    </a:lnTo>
                    <a:lnTo>
                      <a:pt x="367" y="845"/>
                    </a:lnTo>
                    <a:lnTo>
                      <a:pt x="343" y="875"/>
                    </a:lnTo>
                    <a:lnTo>
                      <a:pt x="317" y="907"/>
                    </a:lnTo>
                    <a:lnTo>
                      <a:pt x="291" y="938"/>
                    </a:lnTo>
                    <a:lnTo>
                      <a:pt x="263" y="969"/>
                    </a:lnTo>
                    <a:lnTo>
                      <a:pt x="235" y="1000"/>
                    </a:lnTo>
                    <a:lnTo>
                      <a:pt x="207" y="1029"/>
                    </a:lnTo>
                    <a:lnTo>
                      <a:pt x="179" y="1057"/>
                    </a:lnTo>
                    <a:lnTo>
                      <a:pt x="152" y="1082"/>
                    </a:lnTo>
                    <a:lnTo>
                      <a:pt x="100" y="1123"/>
                    </a:lnTo>
                    <a:lnTo>
                      <a:pt x="56" y="1147"/>
                    </a:lnTo>
                    <a:lnTo>
                      <a:pt x="24" y="1150"/>
                    </a:lnTo>
                    <a:lnTo>
                      <a:pt x="5" y="1139"/>
                    </a:lnTo>
                    <a:lnTo>
                      <a:pt x="0" y="1118"/>
                    </a:lnTo>
                    <a:lnTo>
                      <a:pt x="12" y="1089"/>
                    </a:lnTo>
                    <a:lnTo>
                      <a:pt x="41" y="1049"/>
                    </a:lnTo>
                    <a:lnTo>
                      <a:pt x="71" y="1012"/>
                    </a:lnTo>
                    <a:lnTo>
                      <a:pt x="101" y="976"/>
                    </a:lnTo>
                    <a:lnTo>
                      <a:pt x="132" y="941"/>
                    </a:lnTo>
                    <a:lnTo>
                      <a:pt x="164" y="908"/>
                    </a:lnTo>
                    <a:lnTo>
                      <a:pt x="195" y="875"/>
                    </a:lnTo>
                    <a:lnTo>
                      <a:pt x="225" y="842"/>
                    </a:lnTo>
                    <a:lnTo>
                      <a:pt x="255" y="808"/>
                    </a:lnTo>
                    <a:lnTo>
                      <a:pt x="285" y="773"/>
                    </a:lnTo>
                    <a:lnTo>
                      <a:pt x="312" y="739"/>
                    </a:lnTo>
                    <a:lnTo>
                      <a:pt x="339" y="701"/>
                    </a:lnTo>
                    <a:lnTo>
                      <a:pt x="364" y="663"/>
                    </a:lnTo>
                    <a:lnTo>
                      <a:pt x="407" y="579"/>
                    </a:lnTo>
                    <a:lnTo>
                      <a:pt x="441" y="482"/>
                    </a:lnTo>
                    <a:lnTo>
                      <a:pt x="459" y="392"/>
                    </a:lnTo>
                    <a:lnTo>
                      <a:pt x="481" y="263"/>
                    </a:lnTo>
                    <a:lnTo>
                      <a:pt x="505" y="142"/>
                    </a:lnTo>
                    <a:lnTo>
                      <a:pt x="527" y="72"/>
                    </a:lnTo>
                    <a:lnTo>
                      <a:pt x="555" y="43"/>
                    </a:lnTo>
                    <a:lnTo>
                      <a:pt x="589" y="22"/>
                    </a:lnTo>
                    <a:lnTo>
                      <a:pt x="631" y="7"/>
                    </a:lnTo>
                    <a:lnTo>
                      <a:pt x="676" y="0"/>
                    </a:lnTo>
                    <a:lnTo>
                      <a:pt x="763" y="9"/>
                    </a:lnTo>
                    <a:lnTo>
                      <a:pt x="833" y="49"/>
                    </a:lnTo>
                    <a:lnTo>
                      <a:pt x="868" y="87"/>
                    </a:lnTo>
                    <a:lnTo>
                      <a:pt x="899" y="113"/>
                    </a:lnTo>
                    <a:lnTo>
                      <a:pt x="928" y="131"/>
                    </a:lnTo>
                    <a:lnTo>
                      <a:pt x="956" y="143"/>
                    </a:lnTo>
                    <a:lnTo>
                      <a:pt x="1112" y="161"/>
                    </a:lnTo>
                    <a:lnTo>
                      <a:pt x="1341" y="183"/>
                    </a:lnTo>
                    <a:lnTo>
                      <a:pt x="1559" y="222"/>
                    </a:lnTo>
                    <a:lnTo>
                      <a:pt x="1591" y="262"/>
                    </a:lnTo>
                    <a:lnTo>
                      <a:pt x="1580" y="281"/>
                    </a:lnTo>
                    <a:lnTo>
                      <a:pt x="1551" y="294"/>
                    </a:lnTo>
                    <a:lnTo>
                      <a:pt x="1452" y="309"/>
                    </a:lnTo>
                    <a:lnTo>
                      <a:pt x="1328" y="316"/>
                    </a:lnTo>
                    <a:lnTo>
                      <a:pt x="1100" y="314"/>
                    </a:lnTo>
                    <a:lnTo>
                      <a:pt x="1027" y="297"/>
                    </a:lnTo>
                    <a:lnTo>
                      <a:pt x="958" y="265"/>
                    </a:lnTo>
                    <a:lnTo>
                      <a:pt x="924" y="246"/>
                    </a:lnTo>
                    <a:lnTo>
                      <a:pt x="890" y="226"/>
                    </a:lnTo>
                    <a:lnTo>
                      <a:pt x="859" y="205"/>
                    </a:lnTo>
                    <a:lnTo>
                      <a:pt x="828" y="185"/>
                    </a:lnTo>
                    <a:lnTo>
                      <a:pt x="798" y="166"/>
                    </a:lnTo>
                    <a:lnTo>
                      <a:pt x="770" y="149"/>
                    </a:lnTo>
                    <a:lnTo>
                      <a:pt x="718" y="126"/>
                    </a:lnTo>
                    <a:lnTo>
                      <a:pt x="672" y="121"/>
                    </a:lnTo>
                    <a:lnTo>
                      <a:pt x="634" y="144"/>
                    </a:lnTo>
                    <a:lnTo>
                      <a:pt x="63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127040" y="3413520"/>
                <a:ext cx="160920" cy="72360"/>
              </a:xfrm>
              <a:custGeom>
                <a:avLst/>
                <a:gdLst/>
                <a:ahLst/>
                <a:rect l="l" t="t" r="r" b="b"/>
                <a:pathLst>
                  <a:path w="543" h="315">
                    <a:moveTo>
                      <a:pt x="9" y="171"/>
                    </a:moveTo>
                    <a:lnTo>
                      <a:pt x="39" y="130"/>
                    </a:lnTo>
                    <a:lnTo>
                      <a:pt x="59" y="104"/>
                    </a:lnTo>
                    <a:lnTo>
                      <a:pt x="79" y="78"/>
                    </a:lnTo>
                    <a:lnTo>
                      <a:pt x="102" y="51"/>
                    </a:lnTo>
                    <a:lnTo>
                      <a:pt x="123" y="28"/>
                    </a:lnTo>
                    <a:lnTo>
                      <a:pt x="144" y="10"/>
                    </a:lnTo>
                    <a:lnTo>
                      <a:pt x="162" y="0"/>
                    </a:lnTo>
                    <a:lnTo>
                      <a:pt x="231" y="2"/>
                    </a:lnTo>
                    <a:lnTo>
                      <a:pt x="300" y="18"/>
                    </a:lnTo>
                    <a:lnTo>
                      <a:pt x="334" y="44"/>
                    </a:lnTo>
                    <a:lnTo>
                      <a:pt x="357" y="88"/>
                    </a:lnTo>
                    <a:lnTo>
                      <a:pt x="375" y="138"/>
                    </a:lnTo>
                    <a:lnTo>
                      <a:pt x="394" y="177"/>
                    </a:lnTo>
                    <a:lnTo>
                      <a:pt x="433" y="186"/>
                    </a:lnTo>
                    <a:lnTo>
                      <a:pt x="475" y="175"/>
                    </a:lnTo>
                    <a:lnTo>
                      <a:pt x="526" y="196"/>
                    </a:lnTo>
                    <a:lnTo>
                      <a:pt x="543" y="246"/>
                    </a:lnTo>
                    <a:lnTo>
                      <a:pt x="540" y="271"/>
                    </a:lnTo>
                    <a:lnTo>
                      <a:pt x="526" y="294"/>
                    </a:lnTo>
                    <a:lnTo>
                      <a:pt x="505" y="309"/>
                    </a:lnTo>
                    <a:lnTo>
                      <a:pt x="475" y="315"/>
                    </a:lnTo>
                    <a:lnTo>
                      <a:pt x="364" y="306"/>
                    </a:lnTo>
                    <a:lnTo>
                      <a:pt x="315" y="284"/>
                    </a:lnTo>
                    <a:lnTo>
                      <a:pt x="278" y="242"/>
                    </a:lnTo>
                    <a:lnTo>
                      <a:pt x="264" y="166"/>
                    </a:lnTo>
                    <a:lnTo>
                      <a:pt x="253" y="129"/>
                    </a:lnTo>
                    <a:lnTo>
                      <a:pt x="230" y="109"/>
                    </a:lnTo>
                    <a:lnTo>
                      <a:pt x="174" y="112"/>
                    </a:lnTo>
                    <a:lnTo>
                      <a:pt x="132" y="142"/>
                    </a:lnTo>
                    <a:lnTo>
                      <a:pt x="96" y="184"/>
                    </a:lnTo>
                    <a:lnTo>
                      <a:pt x="61" y="222"/>
                    </a:lnTo>
                    <a:lnTo>
                      <a:pt x="32" y="233"/>
                    </a:lnTo>
                    <a:lnTo>
                      <a:pt x="11" y="224"/>
                    </a:lnTo>
                    <a:lnTo>
                      <a:pt x="0" y="201"/>
                    </a:lnTo>
                    <a:lnTo>
                      <a:pt x="9" y="171"/>
                    </a:lnTo>
                    <a:lnTo>
                      <a:pt x="9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17640" y="3689280"/>
                <a:ext cx="745920" cy="133560"/>
              </a:xfrm>
              <a:custGeom>
                <a:avLst/>
                <a:gdLst/>
                <a:ahLst/>
                <a:rect l="l" t="t" r="r" b="b"/>
                <a:pathLst>
                  <a:path w="2521" h="578">
                    <a:moveTo>
                      <a:pt x="120" y="218"/>
                    </a:moveTo>
                    <a:lnTo>
                      <a:pt x="627" y="246"/>
                    </a:lnTo>
                    <a:lnTo>
                      <a:pt x="1133" y="278"/>
                    </a:lnTo>
                    <a:lnTo>
                      <a:pt x="1282" y="304"/>
                    </a:lnTo>
                    <a:lnTo>
                      <a:pt x="1393" y="327"/>
                    </a:lnTo>
                    <a:lnTo>
                      <a:pt x="1511" y="352"/>
                    </a:lnTo>
                    <a:lnTo>
                      <a:pt x="1625" y="378"/>
                    </a:lnTo>
                    <a:lnTo>
                      <a:pt x="1721" y="399"/>
                    </a:lnTo>
                    <a:lnTo>
                      <a:pt x="1812" y="421"/>
                    </a:lnTo>
                    <a:lnTo>
                      <a:pt x="1875" y="402"/>
                    </a:lnTo>
                    <a:lnTo>
                      <a:pt x="1915" y="385"/>
                    </a:lnTo>
                    <a:lnTo>
                      <a:pt x="1958" y="364"/>
                    </a:lnTo>
                    <a:lnTo>
                      <a:pt x="2005" y="342"/>
                    </a:lnTo>
                    <a:lnTo>
                      <a:pt x="2053" y="315"/>
                    </a:lnTo>
                    <a:lnTo>
                      <a:pt x="2103" y="288"/>
                    </a:lnTo>
                    <a:lnTo>
                      <a:pt x="2152" y="259"/>
                    </a:lnTo>
                    <a:lnTo>
                      <a:pt x="2203" y="229"/>
                    </a:lnTo>
                    <a:lnTo>
                      <a:pt x="2251" y="200"/>
                    </a:lnTo>
                    <a:lnTo>
                      <a:pt x="2298" y="171"/>
                    </a:lnTo>
                    <a:lnTo>
                      <a:pt x="2341" y="145"/>
                    </a:lnTo>
                    <a:lnTo>
                      <a:pt x="2380" y="121"/>
                    </a:lnTo>
                    <a:lnTo>
                      <a:pt x="2415" y="99"/>
                    </a:lnTo>
                    <a:lnTo>
                      <a:pt x="2445" y="81"/>
                    </a:lnTo>
                    <a:lnTo>
                      <a:pt x="2468" y="68"/>
                    </a:lnTo>
                    <a:lnTo>
                      <a:pt x="2504" y="51"/>
                    </a:lnTo>
                    <a:lnTo>
                      <a:pt x="2521" y="50"/>
                    </a:lnTo>
                    <a:lnTo>
                      <a:pt x="2516" y="81"/>
                    </a:lnTo>
                    <a:lnTo>
                      <a:pt x="2501" y="105"/>
                    </a:lnTo>
                    <a:lnTo>
                      <a:pt x="2483" y="129"/>
                    </a:lnTo>
                    <a:lnTo>
                      <a:pt x="2455" y="162"/>
                    </a:lnTo>
                    <a:lnTo>
                      <a:pt x="2406" y="200"/>
                    </a:lnTo>
                    <a:lnTo>
                      <a:pt x="2371" y="226"/>
                    </a:lnTo>
                    <a:lnTo>
                      <a:pt x="2331" y="256"/>
                    </a:lnTo>
                    <a:lnTo>
                      <a:pt x="2310" y="272"/>
                    </a:lnTo>
                    <a:lnTo>
                      <a:pt x="2287" y="289"/>
                    </a:lnTo>
                    <a:lnTo>
                      <a:pt x="2263" y="306"/>
                    </a:lnTo>
                    <a:lnTo>
                      <a:pt x="2239" y="322"/>
                    </a:lnTo>
                    <a:lnTo>
                      <a:pt x="2215" y="340"/>
                    </a:lnTo>
                    <a:lnTo>
                      <a:pt x="2190" y="358"/>
                    </a:lnTo>
                    <a:lnTo>
                      <a:pt x="2164" y="376"/>
                    </a:lnTo>
                    <a:lnTo>
                      <a:pt x="2139" y="393"/>
                    </a:lnTo>
                    <a:lnTo>
                      <a:pt x="2114" y="411"/>
                    </a:lnTo>
                    <a:lnTo>
                      <a:pt x="2089" y="428"/>
                    </a:lnTo>
                    <a:lnTo>
                      <a:pt x="2064" y="445"/>
                    </a:lnTo>
                    <a:lnTo>
                      <a:pt x="2040" y="461"/>
                    </a:lnTo>
                    <a:lnTo>
                      <a:pt x="1992" y="492"/>
                    </a:lnTo>
                    <a:lnTo>
                      <a:pt x="1948" y="519"/>
                    </a:lnTo>
                    <a:lnTo>
                      <a:pt x="1909" y="542"/>
                    </a:lnTo>
                    <a:lnTo>
                      <a:pt x="1875" y="560"/>
                    </a:lnTo>
                    <a:lnTo>
                      <a:pt x="1829" y="578"/>
                    </a:lnTo>
                    <a:lnTo>
                      <a:pt x="1721" y="557"/>
                    </a:lnTo>
                    <a:lnTo>
                      <a:pt x="1623" y="533"/>
                    </a:lnTo>
                    <a:lnTo>
                      <a:pt x="1512" y="505"/>
                    </a:lnTo>
                    <a:lnTo>
                      <a:pt x="1395" y="475"/>
                    </a:lnTo>
                    <a:lnTo>
                      <a:pt x="1285" y="449"/>
                    </a:lnTo>
                    <a:lnTo>
                      <a:pt x="1190" y="428"/>
                    </a:lnTo>
                    <a:lnTo>
                      <a:pt x="1123" y="419"/>
                    </a:lnTo>
                    <a:lnTo>
                      <a:pt x="377" y="386"/>
                    </a:lnTo>
                    <a:lnTo>
                      <a:pt x="220" y="356"/>
                    </a:lnTo>
                    <a:lnTo>
                      <a:pt x="142" y="343"/>
                    </a:lnTo>
                    <a:lnTo>
                      <a:pt x="63" y="337"/>
                    </a:lnTo>
                    <a:lnTo>
                      <a:pt x="17" y="301"/>
                    </a:lnTo>
                    <a:lnTo>
                      <a:pt x="3" y="217"/>
                    </a:lnTo>
                    <a:lnTo>
                      <a:pt x="0" y="52"/>
                    </a:lnTo>
                    <a:lnTo>
                      <a:pt x="0" y="16"/>
                    </a:lnTo>
                    <a:lnTo>
                      <a:pt x="9" y="0"/>
                    </a:lnTo>
                    <a:lnTo>
                      <a:pt x="47" y="19"/>
                    </a:lnTo>
                    <a:lnTo>
                      <a:pt x="92" y="97"/>
                    </a:lnTo>
                    <a:lnTo>
                      <a:pt x="120" y="218"/>
                    </a:lnTo>
                    <a:lnTo>
                      <a:pt x="12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837960" y="3497760"/>
                <a:ext cx="313920" cy="200520"/>
              </a:xfrm>
              <a:custGeom>
                <a:avLst/>
                <a:gdLst/>
                <a:ahLst/>
                <a:rect l="l" t="t" r="r" b="b"/>
                <a:pathLst>
                  <a:path w="1057" h="868">
                    <a:moveTo>
                      <a:pt x="685" y="195"/>
                    </a:moveTo>
                    <a:lnTo>
                      <a:pt x="653" y="151"/>
                    </a:lnTo>
                    <a:lnTo>
                      <a:pt x="613" y="115"/>
                    </a:lnTo>
                    <a:lnTo>
                      <a:pt x="570" y="98"/>
                    </a:lnTo>
                    <a:lnTo>
                      <a:pt x="524" y="86"/>
                    </a:lnTo>
                    <a:lnTo>
                      <a:pt x="433" y="80"/>
                    </a:lnTo>
                    <a:lnTo>
                      <a:pt x="343" y="96"/>
                    </a:lnTo>
                    <a:lnTo>
                      <a:pt x="260" y="131"/>
                    </a:lnTo>
                    <a:lnTo>
                      <a:pt x="223" y="156"/>
                    </a:lnTo>
                    <a:lnTo>
                      <a:pt x="189" y="185"/>
                    </a:lnTo>
                    <a:lnTo>
                      <a:pt x="134" y="254"/>
                    </a:lnTo>
                    <a:lnTo>
                      <a:pt x="102" y="338"/>
                    </a:lnTo>
                    <a:lnTo>
                      <a:pt x="96" y="434"/>
                    </a:lnTo>
                    <a:lnTo>
                      <a:pt x="108" y="496"/>
                    </a:lnTo>
                    <a:lnTo>
                      <a:pt x="133" y="548"/>
                    </a:lnTo>
                    <a:lnTo>
                      <a:pt x="150" y="572"/>
                    </a:lnTo>
                    <a:lnTo>
                      <a:pt x="169" y="593"/>
                    </a:lnTo>
                    <a:lnTo>
                      <a:pt x="213" y="629"/>
                    </a:lnTo>
                    <a:lnTo>
                      <a:pt x="238" y="644"/>
                    </a:lnTo>
                    <a:lnTo>
                      <a:pt x="266" y="656"/>
                    </a:lnTo>
                    <a:lnTo>
                      <a:pt x="325" y="678"/>
                    </a:lnTo>
                    <a:lnTo>
                      <a:pt x="387" y="691"/>
                    </a:lnTo>
                    <a:lnTo>
                      <a:pt x="452" y="698"/>
                    </a:lnTo>
                    <a:lnTo>
                      <a:pt x="582" y="694"/>
                    </a:lnTo>
                    <a:lnTo>
                      <a:pt x="701" y="668"/>
                    </a:lnTo>
                    <a:lnTo>
                      <a:pt x="797" y="625"/>
                    </a:lnTo>
                    <a:lnTo>
                      <a:pt x="855" y="568"/>
                    </a:lnTo>
                    <a:lnTo>
                      <a:pt x="878" y="510"/>
                    </a:lnTo>
                    <a:lnTo>
                      <a:pt x="874" y="470"/>
                    </a:lnTo>
                    <a:lnTo>
                      <a:pt x="850" y="434"/>
                    </a:lnTo>
                    <a:lnTo>
                      <a:pt x="815" y="390"/>
                    </a:lnTo>
                    <a:lnTo>
                      <a:pt x="820" y="360"/>
                    </a:lnTo>
                    <a:lnTo>
                      <a:pt x="841" y="348"/>
                    </a:lnTo>
                    <a:lnTo>
                      <a:pt x="866" y="337"/>
                    </a:lnTo>
                    <a:lnTo>
                      <a:pt x="923" y="325"/>
                    </a:lnTo>
                    <a:lnTo>
                      <a:pt x="967" y="332"/>
                    </a:lnTo>
                    <a:lnTo>
                      <a:pt x="1029" y="396"/>
                    </a:lnTo>
                    <a:lnTo>
                      <a:pt x="1057" y="467"/>
                    </a:lnTo>
                    <a:lnTo>
                      <a:pt x="1054" y="540"/>
                    </a:lnTo>
                    <a:lnTo>
                      <a:pt x="1043" y="577"/>
                    </a:lnTo>
                    <a:lnTo>
                      <a:pt x="1027" y="613"/>
                    </a:lnTo>
                    <a:lnTo>
                      <a:pt x="1006" y="648"/>
                    </a:lnTo>
                    <a:lnTo>
                      <a:pt x="981" y="682"/>
                    </a:lnTo>
                    <a:lnTo>
                      <a:pt x="952" y="713"/>
                    </a:lnTo>
                    <a:lnTo>
                      <a:pt x="922" y="742"/>
                    </a:lnTo>
                    <a:lnTo>
                      <a:pt x="889" y="768"/>
                    </a:lnTo>
                    <a:lnTo>
                      <a:pt x="855" y="791"/>
                    </a:lnTo>
                    <a:lnTo>
                      <a:pt x="820" y="810"/>
                    </a:lnTo>
                    <a:lnTo>
                      <a:pt x="785" y="823"/>
                    </a:lnTo>
                    <a:lnTo>
                      <a:pt x="728" y="841"/>
                    </a:lnTo>
                    <a:lnTo>
                      <a:pt x="667" y="855"/>
                    </a:lnTo>
                    <a:lnTo>
                      <a:pt x="540" y="868"/>
                    </a:lnTo>
                    <a:lnTo>
                      <a:pt x="412" y="861"/>
                    </a:lnTo>
                    <a:lnTo>
                      <a:pt x="290" y="833"/>
                    </a:lnTo>
                    <a:lnTo>
                      <a:pt x="234" y="810"/>
                    </a:lnTo>
                    <a:lnTo>
                      <a:pt x="181" y="781"/>
                    </a:lnTo>
                    <a:lnTo>
                      <a:pt x="92" y="704"/>
                    </a:lnTo>
                    <a:lnTo>
                      <a:pt x="30" y="601"/>
                    </a:lnTo>
                    <a:lnTo>
                      <a:pt x="0" y="470"/>
                    </a:lnTo>
                    <a:lnTo>
                      <a:pt x="7" y="324"/>
                    </a:lnTo>
                    <a:lnTo>
                      <a:pt x="24" y="260"/>
                    </a:lnTo>
                    <a:lnTo>
                      <a:pt x="47" y="204"/>
                    </a:lnTo>
                    <a:lnTo>
                      <a:pt x="78" y="155"/>
                    </a:lnTo>
                    <a:lnTo>
                      <a:pt x="114" y="113"/>
                    </a:lnTo>
                    <a:lnTo>
                      <a:pt x="157" y="77"/>
                    </a:lnTo>
                    <a:lnTo>
                      <a:pt x="180" y="61"/>
                    </a:lnTo>
                    <a:lnTo>
                      <a:pt x="204" y="47"/>
                    </a:lnTo>
                    <a:lnTo>
                      <a:pt x="255" y="25"/>
                    </a:lnTo>
                    <a:lnTo>
                      <a:pt x="310" y="9"/>
                    </a:lnTo>
                    <a:lnTo>
                      <a:pt x="430" y="0"/>
                    </a:lnTo>
                    <a:lnTo>
                      <a:pt x="556" y="18"/>
                    </a:lnTo>
                    <a:lnTo>
                      <a:pt x="686" y="65"/>
                    </a:lnTo>
                    <a:lnTo>
                      <a:pt x="794" y="101"/>
                    </a:lnTo>
                    <a:lnTo>
                      <a:pt x="811" y="143"/>
                    </a:lnTo>
                    <a:lnTo>
                      <a:pt x="803" y="168"/>
                    </a:lnTo>
                    <a:lnTo>
                      <a:pt x="789" y="191"/>
                    </a:lnTo>
                    <a:lnTo>
                      <a:pt x="767" y="209"/>
                    </a:lnTo>
                    <a:lnTo>
                      <a:pt x="741" y="218"/>
                    </a:lnTo>
                    <a:lnTo>
                      <a:pt x="685" y="195"/>
                    </a:lnTo>
                    <a:lnTo>
                      <a:pt x="685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15800" y="3539160"/>
                <a:ext cx="169920" cy="64440"/>
              </a:xfrm>
              <a:custGeom>
                <a:avLst/>
                <a:gdLst/>
                <a:ahLst/>
                <a:rect l="l" t="t" r="r" b="b"/>
                <a:pathLst>
                  <a:path w="574" h="279">
                    <a:moveTo>
                      <a:pt x="393" y="193"/>
                    </a:moveTo>
                    <a:lnTo>
                      <a:pt x="355" y="212"/>
                    </a:lnTo>
                    <a:lnTo>
                      <a:pt x="312" y="231"/>
                    </a:lnTo>
                    <a:lnTo>
                      <a:pt x="265" y="248"/>
                    </a:lnTo>
                    <a:lnTo>
                      <a:pt x="216" y="264"/>
                    </a:lnTo>
                    <a:lnTo>
                      <a:pt x="119" y="279"/>
                    </a:lnTo>
                    <a:lnTo>
                      <a:pt x="31" y="270"/>
                    </a:lnTo>
                    <a:lnTo>
                      <a:pt x="6" y="251"/>
                    </a:lnTo>
                    <a:lnTo>
                      <a:pt x="0" y="228"/>
                    </a:lnTo>
                    <a:lnTo>
                      <a:pt x="14" y="207"/>
                    </a:lnTo>
                    <a:lnTo>
                      <a:pt x="41" y="198"/>
                    </a:lnTo>
                    <a:lnTo>
                      <a:pt x="166" y="181"/>
                    </a:lnTo>
                    <a:lnTo>
                      <a:pt x="250" y="139"/>
                    </a:lnTo>
                    <a:lnTo>
                      <a:pt x="323" y="80"/>
                    </a:lnTo>
                    <a:lnTo>
                      <a:pt x="343" y="64"/>
                    </a:lnTo>
                    <a:lnTo>
                      <a:pt x="366" y="48"/>
                    </a:lnTo>
                    <a:lnTo>
                      <a:pt x="390" y="32"/>
                    </a:lnTo>
                    <a:lnTo>
                      <a:pt x="418" y="15"/>
                    </a:lnTo>
                    <a:lnTo>
                      <a:pt x="457" y="0"/>
                    </a:lnTo>
                    <a:lnTo>
                      <a:pt x="484" y="3"/>
                    </a:lnTo>
                    <a:lnTo>
                      <a:pt x="522" y="57"/>
                    </a:lnTo>
                    <a:lnTo>
                      <a:pt x="545" y="87"/>
                    </a:lnTo>
                    <a:lnTo>
                      <a:pt x="566" y="117"/>
                    </a:lnTo>
                    <a:lnTo>
                      <a:pt x="574" y="156"/>
                    </a:lnTo>
                    <a:lnTo>
                      <a:pt x="564" y="188"/>
                    </a:lnTo>
                    <a:lnTo>
                      <a:pt x="544" y="215"/>
                    </a:lnTo>
                    <a:lnTo>
                      <a:pt x="515" y="234"/>
                    </a:lnTo>
                    <a:lnTo>
                      <a:pt x="448" y="240"/>
                    </a:lnTo>
                    <a:lnTo>
                      <a:pt x="393" y="193"/>
                    </a:lnTo>
                    <a:lnTo>
                      <a:pt x="393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12120" y="3406680"/>
                <a:ext cx="127440" cy="64440"/>
              </a:xfrm>
              <a:custGeom>
                <a:avLst/>
                <a:gdLst/>
                <a:ahLst/>
                <a:rect l="l" t="t" r="r" b="b"/>
                <a:pathLst>
                  <a:path w="429" h="277">
                    <a:moveTo>
                      <a:pt x="242" y="266"/>
                    </a:moveTo>
                    <a:lnTo>
                      <a:pt x="212" y="277"/>
                    </a:lnTo>
                    <a:lnTo>
                      <a:pt x="168" y="262"/>
                    </a:lnTo>
                    <a:lnTo>
                      <a:pt x="120" y="239"/>
                    </a:lnTo>
                    <a:lnTo>
                      <a:pt x="77" y="229"/>
                    </a:lnTo>
                    <a:lnTo>
                      <a:pt x="20" y="224"/>
                    </a:lnTo>
                    <a:lnTo>
                      <a:pt x="0" y="212"/>
                    </a:lnTo>
                    <a:lnTo>
                      <a:pt x="18" y="195"/>
                    </a:lnTo>
                    <a:lnTo>
                      <a:pt x="82" y="145"/>
                    </a:lnTo>
                    <a:lnTo>
                      <a:pt x="113" y="73"/>
                    </a:lnTo>
                    <a:lnTo>
                      <a:pt x="118" y="37"/>
                    </a:lnTo>
                    <a:lnTo>
                      <a:pt x="131" y="14"/>
                    </a:lnTo>
                    <a:lnTo>
                      <a:pt x="150" y="3"/>
                    </a:lnTo>
                    <a:lnTo>
                      <a:pt x="176" y="0"/>
                    </a:lnTo>
                    <a:lnTo>
                      <a:pt x="291" y="13"/>
                    </a:lnTo>
                    <a:lnTo>
                      <a:pt x="341" y="29"/>
                    </a:lnTo>
                    <a:lnTo>
                      <a:pt x="354" y="63"/>
                    </a:lnTo>
                    <a:lnTo>
                      <a:pt x="368" y="141"/>
                    </a:lnTo>
                    <a:lnTo>
                      <a:pt x="429" y="227"/>
                    </a:lnTo>
                    <a:lnTo>
                      <a:pt x="426" y="251"/>
                    </a:lnTo>
                    <a:lnTo>
                      <a:pt x="406" y="266"/>
                    </a:lnTo>
                    <a:lnTo>
                      <a:pt x="333" y="276"/>
                    </a:lnTo>
                    <a:lnTo>
                      <a:pt x="242" y="266"/>
                    </a:lnTo>
                    <a:lnTo>
                      <a:pt x="24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134240" y="3669480"/>
                <a:ext cx="176040" cy="87480"/>
              </a:xfrm>
              <a:custGeom>
                <a:avLst/>
                <a:gdLst/>
                <a:ahLst/>
                <a:rect l="l" t="t" r="r" b="b"/>
                <a:pathLst>
                  <a:path w="595" h="377">
                    <a:moveTo>
                      <a:pt x="27" y="333"/>
                    </a:moveTo>
                    <a:lnTo>
                      <a:pt x="24" y="282"/>
                    </a:lnTo>
                    <a:lnTo>
                      <a:pt x="9" y="232"/>
                    </a:lnTo>
                    <a:lnTo>
                      <a:pt x="0" y="183"/>
                    </a:lnTo>
                    <a:lnTo>
                      <a:pt x="9" y="138"/>
                    </a:lnTo>
                    <a:lnTo>
                      <a:pt x="26" y="117"/>
                    </a:lnTo>
                    <a:lnTo>
                      <a:pt x="46" y="98"/>
                    </a:lnTo>
                    <a:lnTo>
                      <a:pt x="72" y="83"/>
                    </a:lnTo>
                    <a:lnTo>
                      <a:pt x="99" y="71"/>
                    </a:lnTo>
                    <a:lnTo>
                      <a:pt x="163" y="54"/>
                    </a:lnTo>
                    <a:lnTo>
                      <a:pt x="233" y="45"/>
                    </a:lnTo>
                    <a:lnTo>
                      <a:pt x="495" y="5"/>
                    </a:lnTo>
                    <a:lnTo>
                      <a:pt x="541" y="0"/>
                    </a:lnTo>
                    <a:lnTo>
                      <a:pt x="578" y="16"/>
                    </a:lnTo>
                    <a:lnTo>
                      <a:pt x="595" y="45"/>
                    </a:lnTo>
                    <a:lnTo>
                      <a:pt x="590" y="59"/>
                    </a:lnTo>
                    <a:lnTo>
                      <a:pt x="575" y="72"/>
                    </a:lnTo>
                    <a:lnTo>
                      <a:pt x="550" y="86"/>
                    </a:lnTo>
                    <a:lnTo>
                      <a:pt x="506" y="104"/>
                    </a:lnTo>
                    <a:lnTo>
                      <a:pt x="451" y="124"/>
                    </a:lnTo>
                    <a:lnTo>
                      <a:pt x="388" y="146"/>
                    </a:lnTo>
                    <a:lnTo>
                      <a:pt x="325" y="168"/>
                    </a:lnTo>
                    <a:lnTo>
                      <a:pt x="267" y="188"/>
                    </a:lnTo>
                    <a:lnTo>
                      <a:pt x="188" y="213"/>
                    </a:lnTo>
                    <a:lnTo>
                      <a:pt x="163" y="210"/>
                    </a:lnTo>
                    <a:lnTo>
                      <a:pt x="141" y="215"/>
                    </a:lnTo>
                    <a:lnTo>
                      <a:pt x="114" y="281"/>
                    </a:lnTo>
                    <a:lnTo>
                      <a:pt x="96" y="351"/>
                    </a:lnTo>
                    <a:lnTo>
                      <a:pt x="78" y="375"/>
                    </a:lnTo>
                    <a:lnTo>
                      <a:pt x="54" y="377"/>
                    </a:lnTo>
                    <a:lnTo>
                      <a:pt x="27" y="333"/>
                    </a:lnTo>
                    <a:lnTo>
                      <a:pt x="27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668040" y="3758400"/>
                <a:ext cx="93240" cy="39960"/>
              </a:xfrm>
              <a:custGeom>
                <a:avLst/>
                <a:gdLst/>
                <a:ahLst/>
                <a:rect l="l" t="t" r="r" b="b"/>
                <a:pathLst>
                  <a:path w="314" h="175">
                    <a:moveTo>
                      <a:pt x="46" y="0"/>
                    </a:moveTo>
                    <a:lnTo>
                      <a:pt x="99" y="26"/>
                    </a:lnTo>
                    <a:lnTo>
                      <a:pt x="154" y="44"/>
                    </a:lnTo>
                    <a:lnTo>
                      <a:pt x="266" y="72"/>
                    </a:lnTo>
                    <a:lnTo>
                      <a:pt x="302" y="90"/>
                    </a:lnTo>
                    <a:lnTo>
                      <a:pt x="314" y="120"/>
                    </a:lnTo>
                    <a:lnTo>
                      <a:pt x="302" y="149"/>
                    </a:lnTo>
                    <a:lnTo>
                      <a:pt x="287" y="160"/>
                    </a:lnTo>
                    <a:lnTo>
                      <a:pt x="266" y="167"/>
                    </a:lnTo>
                    <a:lnTo>
                      <a:pt x="216" y="175"/>
                    </a:lnTo>
                    <a:lnTo>
                      <a:pt x="120" y="162"/>
                    </a:lnTo>
                    <a:lnTo>
                      <a:pt x="33" y="127"/>
                    </a:lnTo>
                    <a:lnTo>
                      <a:pt x="6" y="88"/>
                    </a:lnTo>
                    <a:lnTo>
                      <a:pt x="0" y="38"/>
                    </a:lnTo>
                    <a:lnTo>
                      <a:pt x="13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12560" y="3795120"/>
                <a:ext cx="117000" cy="36720"/>
              </a:xfrm>
              <a:custGeom>
                <a:avLst/>
                <a:gdLst/>
                <a:ahLst/>
                <a:rect l="l" t="t" r="r" b="b"/>
                <a:pathLst>
                  <a:path w="397" h="162">
                    <a:moveTo>
                      <a:pt x="64" y="0"/>
                    </a:moveTo>
                    <a:lnTo>
                      <a:pt x="363" y="1"/>
                    </a:lnTo>
                    <a:lnTo>
                      <a:pt x="385" y="5"/>
                    </a:lnTo>
                    <a:lnTo>
                      <a:pt x="397" y="20"/>
                    </a:lnTo>
                    <a:lnTo>
                      <a:pt x="391" y="68"/>
                    </a:lnTo>
                    <a:lnTo>
                      <a:pt x="376" y="95"/>
                    </a:lnTo>
                    <a:lnTo>
                      <a:pt x="355" y="120"/>
                    </a:lnTo>
                    <a:lnTo>
                      <a:pt x="330" y="138"/>
                    </a:lnTo>
                    <a:lnTo>
                      <a:pt x="301" y="149"/>
                    </a:lnTo>
                    <a:lnTo>
                      <a:pt x="241" y="161"/>
                    </a:lnTo>
                    <a:lnTo>
                      <a:pt x="181" y="162"/>
                    </a:lnTo>
                    <a:lnTo>
                      <a:pt x="127" y="146"/>
                    </a:lnTo>
                    <a:lnTo>
                      <a:pt x="73" y="136"/>
                    </a:lnTo>
                    <a:lnTo>
                      <a:pt x="20" y="115"/>
                    </a:lnTo>
                    <a:lnTo>
                      <a:pt x="0" y="71"/>
                    </a:lnTo>
                    <a:lnTo>
                      <a:pt x="15" y="25"/>
                    </a:lnTo>
                    <a:lnTo>
                      <a:pt x="35" y="1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77880" y="3718080"/>
                <a:ext cx="90000" cy="49320"/>
              </a:xfrm>
              <a:custGeom>
                <a:avLst/>
                <a:gdLst/>
                <a:ahLst/>
                <a:rect l="l" t="t" r="r" b="b"/>
                <a:pathLst>
                  <a:path w="306" h="213">
                    <a:moveTo>
                      <a:pt x="42" y="78"/>
                    </a:moveTo>
                    <a:lnTo>
                      <a:pt x="130" y="57"/>
                    </a:lnTo>
                    <a:lnTo>
                      <a:pt x="207" y="8"/>
                    </a:lnTo>
                    <a:lnTo>
                      <a:pt x="246" y="0"/>
                    </a:lnTo>
                    <a:lnTo>
                      <a:pt x="283" y="34"/>
                    </a:lnTo>
                    <a:lnTo>
                      <a:pt x="306" y="84"/>
                    </a:lnTo>
                    <a:lnTo>
                      <a:pt x="299" y="132"/>
                    </a:lnTo>
                    <a:lnTo>
                      <a:pt x="262" y="170"/>
                    </a:lnTo>
                    <a:lnTo>
                      <a:pt x="225" y="190"/>
                    </a:lnTo>
                    <a:lnTo>
                      <a:pt x="131" y="213"/>
                    </a:lnTo>
                    <a:lnTo>
                      <a:pt x="60" y="207"/>
                    </a:lnTo>
                    <a:lnTo>
                      <a:pt x="12" y="166"/>
                    </a:lnTo>
                    <a:lnTo>
                      <a:pt x="0" y="116"/>
                    </a:lnTo>
                    <a:lnTo>
                      <a:pt x="14" y="94"/>
                    </a:lnTo>
                    <a:lnTo>
                      <a:pt x="42" y="7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39360" y="3416040"/>
                <a:ext cx="158400" cy="296280"/>
              </a:xfrm>
              <a:custGeom>
                <a:avLst/>
                <a:gdLst/>
                <a:ahLst/>
                <a:rect l="l" t="t" r="r" b="b"/>
                <a:pathLst>
                  <a:path w="533" h="1289">
                    <a:moveTo>
                      <a:pt x="274" y="983"/>
                    </a:moveTo>
                    <a:lnTo>
                      <a:pt x="227" y="894"/>
                    </a:lnTo>
                    <a:lnTo>
                      <a:pt x="202" y="795"/>
                    </a:lnTo>
                    <a:lnTo>
                      <a:pt x="190" y="573"/>
                    </a:lnTo>
                    <a:lnTo>
                      <a:pt x="196" y="131"/>
                    </a:lnTo>
                    <a:lnTo>
                      <a:pt x="170" y="130"/>
                    </a:lnTo>
                    <a:lnTo>
                      <a:pt x="149" y="150"/>
                    </a:lnTo>
                    <a:lnTo>
                      <a:pt x="119" y="202"/>
                    </a:lnTo>
                    <a:lnTo>
                      <a:pt x="97" y="222"/>
                    </a:lnTo>
                    <a:lnTo>
                      <a:pt x="73" y="232"/>
                    </a:lnTo>
                    <a:lnTo>
                      <a:pt x="28" y="223"/>
                    </a:lnTo>
                    <a:lnTo>
                      <a:pt x="0" y="187"/>
                    </a:lnTo>
                    <a:lnTo>
                      <a:pt x="6" y="133"/>
                    </a:lnTo>
                    <a:lnTo>
                      <a:pt x="42" y="74"/>
                    </a:lnTo>
                    <a:lnTo>
                      <a:pt x="85" y="32"/>
                    </a:lnTo>
                    <a:lnTo>
                      <a:pt x="109" y="17"/>
                    </a:lnTo>
                    <a:lnTo>
                      <a:pt x="133" y="7"/>
                    </a:lnTo>
                    <a:lnTo>
                      <a:pt x="181" y="0"/>
                    </a:lnTo>
                    <a:lnTo>
                      <a:pt x="227" y="12"/>
                    </a:lnTo>
                    <a:lnTo>
                      <a:pt x="266" y="43"/>
                    </a:lnTo>
                    <a:lnTo>
                      <a:pt x="295" y="95"/>
                    </a:lnTo>
                    <a:lnTo>
                      <a:pt x="313" y="167"/>
                    </a:lnTo>
                    <a:lnTo>
                      <a:pt x="316" y="319"/>
                    </a:lnTo>
                    <a:lnTo>
                      <a:pt x="305" y="472"/>
                    </a:lnTo>
                    <a:lnTo>
                      <a:pt x="296" y="624"/>
                    </a:lnTo>
                    <a:lnTo>
                      <a:pt x="312" y="777"/>
                    </a:lnTo>
                    <a:lnTo>
                      <a:pt x="338" y="874"/>
                    </a:lnTo>
                    <a:lnTo>
                      <a:pt x="365" y="939"/>
                    </a:lnTo>
                    <a:lnTo>
                      <a:pt x="391" y="976"/>
                    </a:lnTo>
                    <a:lnTo>
                      <a:pt x="417" y="995"/>
                    </a:lnTo>
                    <a:lnTo>
                      <a:pt x="468" y="1012"/>
                    </a:lnTo>
                    <a:lnTo>
                      <a:pt x="512" y="1053"/>
                    </a:lnTo>
                    <a:lnTo>
                      <a:pt x="533" y="1154"/>
                    </a:lnTo>
                    <a:lnTo>
                      <a:pt x="523" y="1204"/>
                    </a:lnTo>
                    <a:lnTo>
                      <a:pt x="506" y="1246"/>
                    </a:lnTo>
                    <a:lnTo>
                      <a:pt x="486" y="1276"/>
                    </a:lnTo>
                    <a:lnTo>
                      <a:pt x="467" y="1289"/>
                    </a:lnTo>
                    <a:lnTo>
                      <a:pt x="452" y="1281"/>
                    </a:lnTo>
                    <a:lnTo>
                      <a:pt x="446" y="1246"/>
                    </a:lnTo>
                    <a:lnTo>
                      <a:pt x="452" y="1136"/>
                    </a:lnTo>
                    <a:lnTo>
                      <a:pt x="446" y="1110"/>
                    </a:lnTo>
                    <a:lnTo>
                      <a:pt x="434" y="1095"/>
                    </a:lnTo>
                    <a:lnTo>
                      <a:pt x="378" y="1106"/>
                    </a:lnTo>
                    <a:lnTo>
                      <a:pt x="311" y="1055"/>
                    </a:lnTo>
                    <a:lnTo>
                      <a:pt x="274" y="983"/>
                    </a:lnTo>
                    <a:lnTo>
                      <a:pt x="274" y="9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85680" y="3367440"/>
                <a:ext cx="110520" cy="30960"/>
              </a:xfrm>
              <a:custGeom>
                <a:avLst/>
                <a:gdLst/>
                <a:ahLst/>
                <a:rect l="l" t="t" r="r" b="b"/>
                <a:pathLst>
                  <a:path w="375" h="137">
                    <a:moveTo>
                      <a:pt x="22" y="73"/>
                    </a:moveTo>
                    <a:lnTo>
                      <a:pt x="58" y="56"/>
                    </a:lnTo>
                    <a:lnTo>
                      <a:pt x="114" y="31"/>
                    </a:lnTo>
                    <a:lnTo>
                      <a:pt x="169" y="9"/>
                    </a:lnTo>
                    <a:lnTo>
                      <a:pt x="200" y="0"/>
                    </a:lnTo>
                    <a:lnTo>
                      <a:pt x="329" y="21"/>
                    </a:lnTo>
                    <a:lnTo>
                      <a:pt x="365" y="42"/>
                    </a:lnTo>
                    <a:lnTo>
                      <a:pt x="375" y="74"/>
                    </a:lnTo>
                    <a:lnTo>
                      <a:pt x="361" y="105"/>
                    </a:lnTo>
                    <a:lnTo>
                      <a:pt x="345" y="116"/>
                    </a:lnTo>
                    <a:lnTo>
                      <a:pt x="323" y="122"/>
                    </a:lnTo>
                    <a:lnTo>
                      <a:pt x="210" y="129"/>
                    </a:lnTo>
                    <a:lnTo>
                      <a:pt x="42" y="137"/>
                    </a:lnTo>
                    <a:lnTo>
                      <a:pt x="14" y="134"/>
                    </a:lnTo>
                    <a:lnTo>
                      <a:pt x="0" y="116"/>
                    </a:lnTo>
                    <a:lnTo>
                      <a:pt x="0" y="92"/>
                    </a:lnTo>
                    <a:lnTo>
                      <a:pt x="22" y="73"/>
                    </a:lnTo>
                    <a:lnTo>
                      <a:pt x="2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555920" y="4005000"/>
              <a:ext cx="914040" cy="601560"/>
              <a:chOff x="1555920" y="4005000"/>
              <a:chExt cx="914040" cy="601560"/>
            </a:xfrm>
          </p:grpSpPr>
          <p:sp>
            <p:nvSpPr>
              <p:cNvPr id="961" name=""/>
              <p:cNvSpPr/>
              <p:nvPr/>
            </p:nvSpPr>
            <p:spPr>
              <a:xfrm>
                <a:off x="1675800" y="4180320"/>
                <a:ext cx="694440" cy="367200"/>
              </a:xfrm>
              <a:custGeom>
                <a:avLst/>
                <a:gdLst/>
                <a:ahLst/>
                <a:rect l="l" t="t" r="r" b="b"/>
                <a:pathLst>
                  <a:path w="2342" h="1592">
                    <a:moveTo>
                      <a:pt x="640" y="33"/>
                    </a:moveTo>
                    <a:lnTo>
                      <a:pt x="538" y="578"/>
                    </a:lnTo>
                    <a:lnTo>
                      <a:pt x="120" y="1047"/>
                    </a:lnTo>
                    <a:lnTo>
                      <a:pt x="0" y="1180"/>
                    </a:lnTo>
                    <a:lnTo>
                      <a:pt x="45" y="1440"/>
                    </a:lnTo>
                    <a:lnTo>
                      <a:pt x="1803" y="1592"/>
                    </a:lnTo>
                    <a:lnTo>
                      <a:pt x="2342" y="1314"/>
                    </a:lnTo>
                    <a:lnTo>
                      <a:pt x="2031" y="58"/>
                    </a:lnTo>
                    <a:lnTo>
                      <a:pt x="1905" y="0"/>
                    </a:lnTo>
                    <a:lnTo>
                      <a:pt x="1677" y="255"/>
                    </a:lnTo>
                    <a:lnTo>
                      <a:pt x="980" y="197"/>
                    </a:lnTo>
                    <a:lnTo>
                      <a:pt x="760" y="0"/>
                    </a:lnTo>
                    <a:lnTo>
                      <a:pt x="640" y="33"/>
                    </a:lnTo>
                    <a:lnTo>
                      <a:pt x="64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80120" y="4201200"/>
                <a:ext cx="786600" cy="393120"/>
              </a:xfrm>
              <a:custGeom>
                <a:avLst/>
                <a:gdLst/>
                <a:ahLst/>
                <a:rect l="l" t="t" r="r" b="b"/>
                <a:pathLst>
                  <a:path w="2651" h="1707">
                    <a:moveTo>
                      <a:pt x="120" y="1155"/>
                    </a:moveTo>
                    <a:lnTo>
                      <a:pt x="551" y="1155"/>
                    </a:lnTo>
                    <a:lnTo>
                      <a:pt x="1291" y="1288"/>
                    </a:lnTo>
                    <a:lnTo>
                      <a:pt x="1146" y="1149"/>
                    </a:lnTo>
                    <a:lnTo>
                      <a:pt x="1708" y="850"/>
                    </a:lnTo>
                    <a:lnTo>
                      <a:pt x="1905" y="1021"/>
                    </a:lnTo>
                    <a:lnTo>
                      <a:pt x="1961" y="793"/>
                    </a:lnTo>
                    <a:lnTo>
                      <a:pt x="1905" y="241"/>
                    </a:lnTo>
                    <a:lnTo>
                      <a:pt x="1955" y="0"/>
                    </a:lnTo>
                    <a:lnTo>
                      <a:pt x="2069" y="165"/>
                    </a:lnTo>
                    <a:lnTo>
                      <a:pt x="2152" y="146"/>
                    </a:lnTo>
                    <a:lnTo>
                      <a:pt x="2222" y="0"/>
                    </a:lnTo>
                    <a:lnTo>
                      <a:pt x="2430" y="63"/>
                    </a:lnTo>
                    <a:lnTo>
                      <a:pt x="2461" y="818"/>
                    </a:lnTo>
                    <a:lnTo>
                      <a:pt x="2645" y="952"/>
                    </a:lnTo>
                    <a:lnTo>
                      <a:pt x="2651" y="1186"/>
                    </a:lnTo>
                    <a:lnTo>
                      <a:pt x="1741" y="1707"/>
                    </a:lnTo>
                    <a:lnTo>
                      <a:pt x="0" y="1402"/>
                    </a:lnTo>
                    <a:lnTo>
                      <a:pt x="120" y="1155"/>
                    </a:lnTo>
                    <a:lnTo>
                      <a:pt x="120" y="1155"/>
                    </a:lnTo>
                    <a:close/>
                  </a:path>
                </a:pathLst>
              </a:custGeom>
              <a:solidFill>
                <a:srgbClr val="a3a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807200">
                <a:off x="1601640" y="4142160"/>
                <a:ext cx="240480" cy="246600"/>
              </a:xfrm>
              <a:custGeom>
                <a:avLst/>
                <a:gdLst/>
                <a:ahLst/>
                <a:rect l="l" t="t" r="r" b="b"/>
                <a:pathLst>
                  <a:path w="810" h="1069">
                    <a:moveTo>
                      <a:pt x="235" y="736"/>
                    </a:moveTo>
                    <a:lnTo>
                      <a:pt x="295" y="710"/>
                    </a:lnTo>
                    <a:lnTo>
                      <a:pt x="357" y="682"/>
                    </a:lnTo>
                    <a:lnTo>
                      <a:pt x="417" y="660"/>
                    </a:lnTo>
                    <a:lnTo>
                      <a:pt x="471" y="650"/>
                    </a:lnTo>
                    <a:lnTo>
                      <a:pt x="516" y="657"/>
                    </a:lnTo>
                    <a:lnTo>
                      <a:pt x="545" y="687"/>
                    </a:lnTo>
                    <a:lnTo>
                      <a:pt x="555" y="747"/>
                    </a:lnTo>
                    <a:lnTo>
                      <a:pt x="543" y="840"/>
                    </a:lnTo>
                    <a:lnTo>
                      <a:pt x="609" y="825"/>
                    </a:lnTo>
                    <a:lnTo>
                      <a:pt x="665" y="825"/>
                    </a:lnTo>
                    <a:lnTo>
                      <a:pt x="746" y="855"/>
                    </a:lnTo>
                    <a:lnTo>
                      <a:pt x="793" y="915"/>
                    </a:lnTo>
                    <a:lnTo>
                      <a:pt x="810" y="982"/>
                    </a:lnTo>
                    <a:lnTo>
                      <a:pt x="799" y="1040"/>
                    </a:lnTo>
                    <a:lnTo>
                      <a:pt x="786" y="1059"/>
                    </a:lnTo>
                    <a:lnTo>
                      <a:pt x="767" y="1069"/>
                    </a:lnTo>
                    <a:lnTo>
                      <a:pt x="717" y="1047"/>
                    </a:lnTo>
                    <a:lnTo>
                      <a:pt x="687" y="1012"/>
                    </a:lnTo>
                    <a:lnTo>
                      <a:pt x="654" y="957"/>
                    </a:lnTo>
                    <a:lnTo>
                      <a:pt x="588" y="979"/>
                    </a:lnTo>
                    <a:lnTo>
                      <a:pt x="552" y="998"/>
                    </a:lnTo>
                    <a:lnTo>
                      <a:pt x="515" y="1015"/>
                    </a:lnTo>
                    <a:lnTo>
                      <a:pt x="480" y="1025"/>
                    </a:lnTo>
                    <a:lnTo>
                      <a:pt x="450" y="1027"/>
                    </a:lnTo>
                    <a:lnTo>
                      <a:pt x="407" y="975"/>
                    </a:lnTo>
                    <a:lnTo>
                      <a:pt x="407" y="925"/>
                    </a:lnTo>
                    <a:lnTo>
                      <a:pt x="425" y="878"/>
                    </a:lnTo>
                    <a:lnTo>
                      <a:pt x="458" y="782"/>
                    </a:lnTo>
                    <a:lnTo>
                      <a:pt x="429" y="796"/>
                    </a:lnTo>
                    <a:lnTo>
                      <a:pt x="389" y="816"/>
                    </a:lnTo>
                    <a:lnTo>
                      <a:pt x="341" y="842"/>
                    </a:lnTo>
                    <a:lnTo>
                      <a:pt x="289" y="868"/>
                    </a:lnTo>
                    <a:lnTo>
                      <a:pt x="238" y="893"/>
                    </a:lnTo>
                    <a:lnTo>
                      <a:pt x="191" y="914"/>
                    </a:lnTo>
                    <a:lnTo>
                      <a:pt x="130" y="927"/>
                    </a:lnTo>
                    <a:lnTo>
                      <a:pt x="73" y="893"/>
                    </a:lnTo>
                    <a:lnTo>
                      <a:pt x="56" y="845"/>
                    </a:lnTo>
                    <a:lnTo>
                      <a:pt x="70" y="790"/>
                    </a:lnTo>
                    <a:lnTo>
                      <a:pt x="101" y="730"/>
                    </a:lnTo>
                    <a:lnTo>
                      <a:pt x="120" y="700"/>
                    </a:lnTo>
                    <a:lnTo>
                      <a:pt x="139" y="671"/>
                    </a:lnTo>
                    <a:lnTo>
                      <a:pt x="174" y="618"/>
                    </a:lnTo>
                    <a:lnTo>
                      <a:pt x="191" y="552"/>
                    </a:lnTo>
                    <a:lnTo>
                      <a:pt x="156" y="533"/>
                    </a:lnTo>
                    <a:lnTo>
                      <a:pt x="114" y="520"/>
                    </a:lnTo>
                    <a:lnTo>
                      <a:pt x="35" y="496"/>
                    </a:lnTo>
                    <a:lnTo>
                      <a:pt x="8" y="477"/>
                    </a:lnTo>
                    <a:lnTo>
                      <a:pt x="0" y="448"/>
                    </a:lnTo>
                    <a:lnTo>
                      <a:pt x="11" y="405"/>
                    </a:lnTo>
                    <a:lnTo>
                      <a:pt x="26" y="377"/>
                    </a:lnTo>
                    <a:lnTo>
                      <a:pt x="50" y="345"/>
                    </a:lnTo>
                    <a:lnTo>
                      <a:pt x="73" y="321"/>
                    </a:lnTo>
                    <a:lnTo>
                      <a:pt x="100" y="299"/>
                    </a:lnTo>
                    <a:lnTo>
                      <a:pt x="128" y="280"/>
                    </a:lnTo>
                    <a:lnTo>
                      <a:pt x="157" y="263"/>
                    </a:lnTo>
                    <a:lnTo>
                      <a:pt x="136" y="113"/>
                    </a:lnTo>
                    <a:lnTo>
                      <a:pt x="151" y="67"/>
                    </a:lnTo>
                    <a:lnTo>
                      <a:pt x="184" y="35"/>
                    </a:lnTo>
                    <a:lnTo>
                      <a:pt x="229" y="16"/>
                    </a:lnTo>
                    <a:lnTo>
                      <a:pt x="285" y="5"/>
                    </a:lnTo>
                    <a:lnTo>
                      <a:pt x="426" y="0"/>
                    </a:lnTo>
                    <a:lnTo>
                      <a:pt x="441" y="18"/>
                    </a:lnTo>
                    <a:lnTo>
                      <a:pt x="429" y="58"/>
                    </a:lnTo>
                    <a:lnTo>
                      <a:pt x="415" y="79"/>
                    </a:lnTo>
                    <a:lnTo>
                      <a:pt x="399" y="97"/>
                    </a:lnTo>
                    <a:lnTo>
                      <a:pt x="383" y="111"/>
                    </a:lnTo>
                    <a:lnTo>
                      <a:pt x="366" y="115"/>
                    </a:lnTo>
                    <a:lnTo>
                      <a:pt x="291" y="108"/>
                    </a:lnTo>
                    <a:lnTo>
                      <a:pt x="227" y="124"/>
                    </a:lnTo>
                    <a:lnTo>
                      <a:pt x="222" y="161"/>
                    </a:lnTo>
                    <a:lnTo>
                      <a:pt x="240" y="201"/>
                    </a:lnTo>
                    <a:lnTo>
                      <a:pt x="283" y="274"/>
                    </a:lnTo>
                    <a:lnTo>
                      <a:pt x="284" y="306"/>
                    </a:lnTo>
                    <a:lnTo>
                      <a:pt x="273" y="328"/>
                    </a:lnTo>
                    <a:lnTo>
                      <a:pt x="253" y="341"/>
                    </a:lnTo>
                    <a:lnTo>
                      <a:pt x="228" y="351"/>
                    </a:lnTo>
                    <a:lnTo>
                      <a:pt x="179" y="366"/>
                    </a:lnTo>
                    <a:lnTo>
                      <a:pt x="152" y="397"/>
                    </a:lnTo>
                    <a:lnTo>
                      <a:pt x="164" y="413"/>
                    </a:lnTo>
                    <a:lnTo>
                      <a:pt x="193" y="414"/>
                    </a:lnTo>
                    <a:lnTo>
                      <a:pt x="256" y="415"/>
                    </a:lnTo>
                    <a:lnTo>
                      <a:pt x="289" y="441"/>
                    </a:lnTo>
                    <a:lnTo>
                      <a:pt x="308" y="478"/>
                    </a:lnTo>
                    <a:lnTo>
                      <a:pt x="312" y="570"/>
                    </a:lnTo>
                    <a:lnTo>
                      <a:pt x="300" y="620"/>
                    </a:lnTo>
                    <a:lnTo>
                      <a:pt x="282" y="666"/>
                    </a:lnTo>
                    <a:lnTo>
                      <a:pt x="260" y="706"/>
                    </a:lnTo>
                    <a:lnTo>
                      <a:pt x="235" y="736"/>
                    </a:lnTo>
                    <a:lnTo>
                      <a:pt x="235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1774080" y="4005000"/>
                <a:ext cx="695880" cy="444240"/>
                <a:chOff x="1774080" y="4005000"/>
                <a:chExt cx="695880" cy="444240"/>
              </a:xfrm>
            </p:grpSpPr>
            <p:sp>
              <p:nvSpPr>
                <p:cNvPr id="965" name=""/>
                <p:cNvSpPr/>
                <p:nvPr/>
              </p:nvSpPr>
              <p:spPr>
                <a:xfrm rot="976200">
                  <a:off x="1805040" y="4089240"/>
                  <a:ext cx="640800" cy="262800"/>
                </a:xfrm>
                <a:custGeom>
                  <a:avLst/>
                  <a:gdLst/>
                  <a:ahLst/>
                  <a:rect l="l" t="t" r="r" b="b"/>
                  <a:pathLst>
                    <a:path w="2159" h="1142">
                      <a:moveTo>
                        <a:pt x="0" y="1066"/>
                      </a:moveTo>
                      <a:lnTo>
                        <a:pt x="38" y="678"/>
                      </a:lnTo>
                      <a:lnTo>
                        <a:pt x="190" y="431"/>
                      </a:lnTo>
                      <a:lnTo>
                        <a:pt x="475" y="241"/>
                      </a:lnTo>
                      <a:lnTo>
                        <a:pt x="1006" y="50"/>
                      </a:lnTo>
                      <a:lnTo>
                        <a:pt x="1537" y="0"/>
                      </a:lnTo>
                      <a:lnTo>
                        <a:pt x="1918" y="197"/>
                      </a:lnTo>
                      <a:lnTo>
                        <a:pt x="2159" y="463"/>
                      </a:lnTo>
                      <a:lnTo>
                        <a:pt x="2007" y="666"/>
                      </a:lnTo>
                      <a:lnTo>
                        <a:pt x="1487" y="774"/>
                      </a:lnTo>
                      <a:lnTo>
                        <a:pt x="1184" y="336"/>
                      </a:lnTo>
                      <a:lnTo>
                        <a:pt x="519" y="628"/>
                      </a:lnTo>
                      <a:lnTo>
                        <a:pt x="411" y="1041"/>
                      </a:lnTo>
                      <a:lnTo>
                        <a:pt x="69" y="1142"/>
                      </a:lnTo>
                      <a:lnTo>
                        <a:pt x="0" y="1066"/>
                      </a:lnTo>
                      <a:lnTo>
                        <a:pt x="0" y="10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976200">
                  <a:off x="1849320" y="4141080"/>
                  <a:ext cx="571320" cy="205200"/>
                </a:xfrm>
                <a:custGeom>
                  <a:avLst/>
                  <a:gdLst/>
                  <a:ahLst/>
                  <a:rect l="l" t="t" r="r" b="b"/>
                  <a:pathLst>
                    <a:path w="1924" h="893">
                      <a:moveTo>
                        <a:pt x="12" y="856"/>
                      </a:moveTo>
                      <a:lnTo>
                        <a:pt x="45" y="551"/>
                      </a:lnTo>
                      <a:lnTo>
                        <a:pt x="153" y="406"/>
                      </a:lnTo>
                      <a:lnTo>
                        <a:pt x="253" y="412"/>
                      </a:lnTo>
                      <a:lnTo>
                        <a:pt x="247" y="298"/>
                      </a:lnTo>
                      <a:lnTo>
                        <a:pt x="431" y="171"/>
                      </a:lnTo>
                      <a:lnTo>
                        <a:pt x="754" y="51"/>
                      </a:lnTo>
                      <a:lnTo>
                        <a:pt x="1019" y="0"/>
                      </a:lnTo>
                      <a:lnTo>
                        <a:pt x="1183" y="70"/>
                      </a:lnTo>
                      <a:lnTo>
                        <a:pt x="1254" y="184"/>
                      </a:lnTo>
                      <a:lnTo>
                        <a:pt x="1348" y="279"/>
                      </a:lnTo>
                      <a:lnTo>
                        <a:pt x="1569" y="165"/>
                      </a:lnTo>
                      <a:lnTo>
                        <a:pt x="1741" y="190"/>
                      </a:lnTo>
                      <a:lnTo>
                        <a:pt x="1924" y="323"/>
                      </a:lnTo>
                      <a:lnTo>
                        <a:pt x="1500" y="532"/>
                      </a:lnTo>
                      <a:lnTo>
                        <a:pt x="1310" y="520"/>
                      </a:lnTo>
                      <a:lnTo>
                        <a:pt x="1069" y="215"/>
                      </a:lnTo>
                      <a:lnTo>
                        <a:pt x="879" y="221"/>
                      </a:lnTo>
                      <a:lnTo>
                        <a:pt x="398" y="476"/>
                      </a:lnTo>
                      <a:lnTo>
                        <a:pt x="361" y="665"/>
                      </a:lnTo>
                      <a:lnTo>
                        <a:pt x="323" y="843"/>
                      </a:lnTo>
                      <a:lnTo>
                        <a:pt x="0" y="893"/>
                      </a:lnTo>
                      <a:lnTo>
                        <a:pt x="12" y="856"/>
                      </a:lnTo>
                      <a:lnTo>
                        <a:pt x="12" y="856"/>
                      </a:lnTo>
                      <a:close/>
                    </a:path>
                  </a:pathLst>
                </a:custGeom>
                <a:solidFill>
                  <a:srgbClr val="a3a3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976200">
                  <a:off x="1858320" y="4073400"/>
                  <a:ext cx="505800" cy="151920"/>
                </a:xfrm>
                <a:custGeom>
                  <a:avLst/>
                  <a:gdLst/>
                  <a:ahLst/>
                  <a:rect l="l" t="t" r="r" b="b"/>
                  <a:pathLst>
                    <a:path w="1704" h="657">
                      <a:moveTo>
                        <a:pt x="0" y="598"/>
                      </a:moveTo>
                      <a:lnTo>
                        <a:pt x="15" y="559"/>
                      </a:lnTo>
                      <a:lnTo>
                        <a:pt x="35" y="522"/>
                      </a:lnTo>
                      <a:lnTo>
                        <a:pt x="60" y="485"/>
                      </a:lnTo>
                      <a:lnTo>
                        <a:pt x="90" y="449"/>
                      </a:lnTo>
                      <a:lnTo>
                        <a:pt x="126" y="413"/>
                      </a:lnTo>
                      <a:lnTo>
                        <a:pt x="166" y="378"/>
                      </a:lnTo>
                      <a:lnTo>
                        <a:pt x="210" y="345"/>
                      </a:lnTo>
                      <a:lnTo>
                        <a:pt x="233" y="328"/>
                      </a:lnTo>
                      <a:lnTo>
                        <a:pt x="257" y="312"/>
                      </a:lnTo>
                      <a:lnTo>
                        <a:pt x="282" y="295"/>
                      </a:lnTo>
                      <a:lnTo>
                        <a:pt x="309" y="280"/>
                      </a:lnTo>
                      <a:lnTo>
                        <a:pt x="363" y="250"/>
                      </a:lnTo>
                      <a:lnTo>
                        <a:pt x="420" y="220"/>
                      </a:lnTo>
                      <a:lnTo>
                        <a:pt x="479" y="192"/>
                      </a:lnTo>
                      <a:lnTo>
                        <a:pt x="540" y="166"/>
                      </a:lnTo>
                      <a:lnTo>
                        <a:pt x="604" y="140"/>
                      </a:lnTo>
                      <a:lnTo>
                        <a:pt x="667" y="118"/>
                      </a:lnTo>
                      <a:lnTo>
                        <a:pt x="733" y="96"/>
                      </a:lnTo>
                      <a:lnTo>
                        <a:pt x="798" y="77"/>
                      </a:lnTo>
                      <a:lnTo>
                        <a:pt x="865" y="59"/>
                      </a:lnTo>
                      <a:lnTo>
                        <a:pt x="931" y="44"/>
                      </a:lnTo>
                      <a:lnTo>
                        <a:pt x="997" y="30"/>
                      </a:lnTo>
                      <a:lnTo>
                        <a:pt x="1127" y="11"/>
                      </a:lnTo>
                      <a:lnTo>
                        <a:pt x="1250" y="0"/>
                      </a:lnTo>
                      <a:lnTo>
                        <a:pt x="1470" y="12"/>
                      </a:lnTo>
                      <a:lnTo>
                        <a:pt x="1560" y="36"/>
                      </a:lnTo>
                      <a:lnTo>
                        <a:pt x="1634" y="72"/>
                      </a:lnTo>
                      <a:lnTo>
                        <a:pt x="1687" y="124"/>
                      </a:lnTo>
                      <a:lnTo>
                        <a:pt x="1704" y="173"/>
                      </a:lnTo>
                      <a:lnTo>
                        <a:pt x="1698" y="191"/>
                      </a:lnTo>
                      <a:lnTo>
                        <a:pt x="1682" y="203"/>
                      </a:lnTo>
                      <a:lnTo>
                        <a:pt x="1621" y="200"/>
                      </a:lnTo>
                      <a:lnTo>
                        <a:pt x="1517" y="173"/>
                      </a:lnTo>
                      <a:lnTo>
                        <a:pt x="1409" y="144"/>
                      </a:lnTo>
                      <a:lnTo>
                        <a:pt x="1319" y="124"/>
                      </a:lnTo>
                      <a:lnTo>
                        <a:pt x="1224" y="115"/>
                      </a:lnTo>
                      <a:lnTo>
                        <a:pt x="1028" y="128"/>
                      </a:lnTo>
                      <a:lnTo>
                        <a:pt x="835" y="173"/>
                      </a:lnTo>
                      <a:lnTo>
                        <a:pt x="744" y="202"/>
                      </a:lnTo>
                      <a:lnTo>
                        <a:pt x="659" y="234"/>
                      </a:lnTo>
                      <a:lnTo>
                        <a:pt x="586" y="264"/>
                      </a:lnTo>
                      <a:lnTo>
                        <a:pt x="521" y="291"/>
                      </a:lnTo>
                      <a:lnTo>
                        <a:pt x="467" y="313"/>
                      </a:lnTo>
                      <a:lnTo>
                        <a:pt x="419" y="333"/>
                      </a:lnTo>
                      <a:lnTo>
                        <a:pt x="342" y="369"/>
                      </a:lnTo>
                      <a:lnTo>
                        <a:pt x="284" y="402"/>
                      </a:lnTo>
                      <a:lnTo>
                        <a:pt x="234" y="441"/>
                      </a:lnTo>
                      <a:lnTo>
                        <a:pt x="186" y="489"/>
                      </a:lnTo>
                      <a:lnTo>
                        <a:pt x="160" y="519"/>
                      </a:lnTo>
                      <a:lnTo>
                        <a:pt x="130" y="553"/>
                      </a:lnTo>
                      <a:lnTo>
                        <a:pt x="96" y="593"/>
                      </a:lnTo>
                      <a:lnTo>
                        <a:pt x="59" y="639"/>
                      </a:lnTo>
                      <a:lnTo>
                        <a:pt x="34" y="657"/>
                      </a:lnTo>
                      <a:lnTo>
                        <a:pt x="11" y="653"/>
                      </a:lnTo>
                      <a:lnTo>
                        <a:pt x="0" y="598"/>
                      </a:lnTo>
                      <a:lnTo>
                        <a:pt x="0" y="5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976200">
                  <a:off x="1789920" y="4151880"/>
                  <a:ext cx="655920" cy="209520"/>
                </a:xfrm>
                <a:custGeom>
                  <a:avLst/>
                  <a:gdLst/>
                  <a:ahLst/>
                  <a:rect l="l" t="t" r="r" b="b"/>
                  <a:pathLst>
                    <a:path w="2210" h="912">
                      <a:moveTo>
                        <a:pt x="109" y="769"/>
                      </a:moveTo>
                      <a:lnTo>
                        <a:pt x="161" y="758"/>
                      </a:lnTo>
                      <a:lnTo>
                        <a:pt x="208" y="727"/>
                      </a:lnTo>
                      <a:lnTo>
                        <a:pt x="232" y="709"/>
                      </a:lnTo>
                      <a:lnTo>
                        <a:pt x="255" y="692"/>
                      </a:lnTo>
                      <a:lnTo>
                        <a:pt x="279" y="677"/>
                      </a:lnTo>
                      <a:lnTo>
                        <a:pt x="304" y="667"/>
                      </a:lnTo>
                      <a:lnTo>
                        <a:pt x="399" y="653"/>
                      </a:lnTo>
                      <a:lnTo>
                        <a:pt x="493" y="643"/>
                      </a:lnTo>
                      <a:lnTo>
                        <a:pt x="508" y="556"/>
                      </a:lnTo>
                      <a:lnTo>
                        <a:pt x="506" y="512"/>
                      </a:lnTo>
                      <a:lnTo>
                        <a:pt x="508" y="466"/>
                      </a:lnTo>
                      <a:lnTo>
                        <a:pt x="518" y="430"/>
                      </a:lnTo>
                      <a:lnTo>
                        <a:pt x="538" y="393"/>
                      </a:lnTo>
                      <a:lnTo>
                        <a:pt x="565" y="354"/>
                      </a:lnTo>
                      <a:lnTo>
                        <a:pt x="600" y="317"/>
                      </a:lnTo>
                      <a:lnTo>
                        <a:pt x="642" y="281"/>
                      </a:lnTo>
                      <a:lnTo>
                        <a:pt x="688" y="245"/>
                      </a:lnTo>
                      <a:lnTo>
                        <a:pt x="713" y="227"/>
                      </a:lnTo>
                      <a:lnTo>
                        <a:pt x="738" y="210"/>
                      </a:lnTo>
                      <a:lnTo>
                        <a:pt x="764" y="194"/>
                      </a:lnTo>
                      <a:lnTo>
                        <a:pt x="792" y="178"/>
                      </a:lnTo>
                      <a:lnTo>
                        <a:pt x="847" y="148"/>
                      </a:lnTo>
                      <a:lnTo>
                        <a:pt x="902" y="120"/>
                      </a:lnTo>
                      <a:lnTo>
                        <a:pt x="958" y="95"/>
                      </a:lnTo>
                      <a:lnTo>
                        <a:pt x="1011" y="75"/>
                      </a:lnTo>
                      <a:lnTo>
                        <a:pt x="1062" y="58"/>
                      </a:lnTo>
                      <a:lnTo>
                        <a:pt x="1110" y="45"/>
                      </a:lnTo>
                      <a:lnTo>
                        <a:pt x="1189" y="35"/>
                      </a:lnTo>
                      <a:lnTo>
                        <a:pt x="1254" y="42"/>
                      </a:lnTo>
                      <a:lnTo>
                        <a:pt x="1303" y="64"/>
                      </a:lnTo>
                      <a:lnTo>
                        <a:pt x="1369" y="135"/>
                      </a:lnTo>
                      <a:lnTo>
                        <a:pt x="1412" y="230"/>
                      </a:lnTo>
                      <a:lnTo>
                        <a:pt x="1434" y="281"/>
                      </a:lnTo>
                      <a:lnTo>
                        <a:pt x="1459" y="330"/>
                      </a:lnTo>
                      <a:lnTo>
                        <a:pt x="1476" y="352"/>
                      </a:lnTo>
                      <a:lnTo>
                        <a:pt x="1495" y="367"/>
                      </a:lnTo>
                      <a:lnTo>
                        <a:pt x="1543" y="377"/>
                      </a:lnTo>
                      <a:lnTo>
                        <a:pt x="1660" y="350"/>
                      </a:lnTo>
                      <a:lnTo>
                        <a:pt x="1723" y="321"/>
                      </a:lnTo>
                      <a:lnTo>
                        <a:pt x="1782" y="291"/>
                      </a:lnTo>
                      <a:lnTo>
                        <a:pt x="1833" y="262"/>
                      </a:lnTo>
                      <a:lnTo>
                        <a:pt x="1875" y="243"/>
                      </a:lnTo>
                      <a:lnTo>
                        <a:pt x="2036" y="176"/>
                      </a:lnTo>
                      <a:lnTo>
                        <a:pt x="2016" y="120"/>
                      </a:lnTo>
                      <a:lnTo>
                        <a:pt x="1999" y="98"/>
                      </a:lnTo>
                      <a:lnTo>
                        <a:pt x="1977" y="76"/>
                      </a:lnTo>
                      <a:lnTo>
                        <a:pt x="1940" y="34"/>
                      </a:lnTo>
                      <a:lnTo>
                        <a:pt x="1944" y="9"/>
                      </a:lnTo>
                      <a:lnTo>
                        <a:pt x="1978" y="0"/>
                      </a:lnTo>
                      <a:lnTo>
                        <a:pt x="2031" y="9"/>
                      </a:lnTo>
                      <a:lnTo>
                        <a:pt x="2092" y="35"/>
                      </a:lnTo>
                      <a:lnTo>
                        <a:pt x="2150" y="77"/>
                      </a:lnTo>
                      <a:lnTo>
                        <a:pt x="2193" y="138"/>
                      </a:lnTo>
                      <a:lnTo>
                        <a:pt x="2210" y="216"/>
                      </a:lnTo>
                      <a:lnTo>
                        <a:pt x="2194" y="293"/>
                      </a:lnTo>
                      <a:lnTo>
                        <a:pt x="2174" y="327"/>
                      </a:lnTo>
                      <a:lnTo>
                        <a:pt x="2149" y="358"/>
                      </a:lnTo>
                      <a:lnTo>
                        <a:pt x="2116" y="387"/>
                      </a:lnTo>
                      <a:lnTo>
                        <a:pt x="2079" y="413"/>
                      </a:lnTo>
                      <a:lnTo>
                        <a:pt x="2040" y="436"/>
                      </a:lnTo>
                      <a:lnTo>
                        <a:pt x="1996" y="458"/>
                      </a:lnTo>
                      <a:lnTo>
                        <a:pt x="1951" y="476"/>
                      </a:lnTo>
                      <a:lnTo>
                        <a:pt x="1904" y="491"/>
                      </a:lnTo>
                      <a:lnTo>
                        <a:pt x="1812" y="517"/>
                      </a:lnTo>
                      <a:lnTo>
                        <a:pt x="1725" y="532"/>
                      </a:lnTo>
                      <a:lnTo>
                        <a:pt x="1653" y="539"/>
                      </a:lnTo>
                      <a:lnTo>
                        <a:pt x="1543" y="526"/>
                      </a:lnTo>
                      <a:lnTo>
                        <a:pt x="1466" y="484"/>
                      </a:lnTo>
                      <a:lnTo>
                        <a:pt x="1413" y="423"/>
                      </a:lnTo>
                      <a:lnTo>
                        <a:pt x="1375" y="352"/>
                      </a:lnTo>
                      <a:lnTo>
                        <a:pt x="1343" y="280"/>
                      </a:lnTo>
                      <a:lnTo>
                        <a:pt x="1307" y="218"/>
                      </a:lnTo>
                      <a:lnTo>
                        <a:pt x="1285" y="192"/>
                      </a:lnTo>
                      <a:lnTo>
                        <a:pt x="1260" y="173"/>
                      </a:lnTo>
                      <a:lnTo>
                        <a:pt x="1229" y="161"/>
                      </a:lnTo>
                      <a:lnTo>
                        <a:pt x="1190" y="156"/>
                      </a:lnTo>
                      <a:lnTo>
                        <a:pt x="1057" y="192"/>
                      </a:lnTo>
                      <a:lnTo>
                        <a:pt x="1010" y="212"/>
                      </a:lnTo>
                      <a:lnTo>
                        <a:pt x="961" y="232"/>
                      </a:lnTo>
                      <a:lnTo>
                        <a:pt x="911" y="256"/>
                      </a:lnTo>
                      <a:lnTo>
                        <a:pt x="860" y="280"/>
                      </a:lnTo>
                      <a:lnTo>
                        <a:pt x="811" y="306"/>
                      </a:lnTo>
                      <a:lnTo>
                        <a:pt x="763" y="333"/>
                      </a:lnTo>
                      <a:lnTo>
                        <a:pt x="720" y="359"/>
                      </a:lnTo>
                      <a:lnTo>
                        <a:pt x="680" y="386"/>
                      </a:lnTo>
                      <a:lnTo>
                        <a:pt x="595" y="478"/>
                      </a:lnTo>
                      <a:lnTo>
                        <a:pt x="592" y="551"/>
                      </a:lnTo>
                      <a:lnTo>
                        <a:pt x="601" y="614"/>
                      </a:lnTo>
                      <a:lnTo>
                        <a:pt x="620" y="713"/>
                      </a:lnTo>
                      <a:lnTo>
                        <a:pt x="612" y="754"/>
                      </a:lnTo>
                      <a:lnTo>
                        <a:pt x="599" y="775"/>
                      </a:lnTo>
                      <a:lnTo>
                        <a:pt x="578" y="794"/>
                      </a:lnTo>
                      <a:lnTo>
                        <a:pt x="550" y="814"/>
                      </a:lnTo>
                      <a:lnTo>
                        <a:pt x="510" y="834"/>
                      </a:lnTo>
                      <a:lnTo>
                        <a:pt x="460" y="854"/>
                      </a:lnTo>
                      <a:lnTo>
                        <a:pt x="399" y="876"/>
                      </a:lnTo>
                      <a:lnTo>
                        <a:pt x="310" y="898"/>
                      </a:lnTo>
                      <a:lnTo>
                        <a:pt x="209" y="912"/>
                      </a:lnTo>
                      <a:lnTo>
                        <a:pt x="112" y="902"/>
                      </a:lnTo>
                      <a:lnTo>
                        <a:pt x="31" y="859"/>
                      </a:lnTo>
                      <a:lnTo>
                        <a:pt x="5" y="807"/>
                      </a:lnTo>
                      <a:lnTo>
                        <a:pt x="0" y="735"/>
                      </a:lnTo>
                      <a:lnTo>
                        <a:pt x="12" y="656"/>
                      </a:lnTo>
                      <a:lnTo>
                        <a:pt x="35" y="579"/>
                      </a:lnTo>
                      <a:lnTo>
                        <a:pt x="64" y="514"/>
                      </a:lnTo>
                      <a:lnTo>
                        <a:pt x="90" y="473"/>
                      </a:lnTo>
                      <a:lnTo>
                        <a:pt x="109" y="466"/>
                      </a:lnTo>
                      <a:lnTo>
                        <a:pt x="115" y="505"/>
                      </a:lnTo>
                      <a:lnTo>
                        <a:pt x="109" y="769"/>
                      </a:lnTo>
                      <a:lnTo>
                        <a:pt x="109" y="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1696680" y="4178160"/>
                <a:ext cx="471600" cy="264960"/>
              </a:xfrm>
              <a:custGeom>
                <a:avLst/>
                <a:gdLst/>
                <a:ahLst/>
                <a:rect l="l" t="t" r="r" b="b"/>
                <a:pathLst>
                  <a:path w="1591" h="1150">
                    <a:moveTo>
                      <a:pt x="634" y="144"/>
                    </a:moveTo>
                    <a:lnTo>
                      <a:pt x="609" y="304"/>
                    </a:lnTo>
                    <a:lnTo>
                      <a:pt x="592" y="381"/>
                    </a:lnTo>
                    <a:lnTo>
                      <a:pt x="573" y="456"/>
                    </a:lnTo>
                    <a:lnTo>
                      <a:pt x="549" y="530"/>
                    </a:lnTo>
                    <a:lnTo>
                      <a:pt x="520" y="603"/>
                    </a:lnTo>
                    <a:lnTo>
                      <a:pt x="503" y="639"/>
                    </a:lnTo>
                    <a:lnTo>
                      <a:pt x="484" y="675"/>
                    </a:lnTo>
                    <a:lnTo>
                      <a:pt x="463" y="710"/>
                    </a:lnTo>
                    <a:lnTo>
                      <a:pt x="441" y="746"/>
                    </a:lnTo>
                    <a:lnTo>
                      <a:pt x="409" y="790"/>
                    </a:lnTo>
                    <a:lnTo>
                      <a:pt x="389" y="817"/>
                    </a:lnTo>
                    <a:lnTo>
                      <a:pt x="367" y="845"/>
                    </a:lnTo>
                    <a:lnTo>
                      <a:pt x="343" y="875"/>
                    </a:lnTo>
                    <a:lnTo>
                      <a:pt x="317" y="907"/>
                    </a:lnTo>
                    <a:lnTo>
                      <a:pt x="291" y="938"/>
                    </a:lnTo>
                    <a:lnTo>
                      <a:pt x="263" y="969"/>
                    </a:lnTo>
                    <a:lnTo>
                      <a:pt x="235" y="1000"/>
                    </a:lnTo>
                    <a:lnTo>
                      <a:pt x="207" y="1029"/>
                    </a:lnTo>
                    <a:lnTo>
                      <a:pt x="179" y="1057"/>
                    </a:lnTo>
                    <a:lnTo>
                      <a:pt x="152" y="1082"/>
                    </a:lnTo>
                    <a:lnTo>
                      <a:pt x="100" y="1123"/>
                    </a:lnTo>
                    <a:lnTo>
                      <a:pt x="56" y="1147"/>
                    </a:lnTo>
                    <a:lnTo>
                      <a:pt x="24" y="1150"/>
                    </a:lnTo>
                    <a:lnTo>
                      <a:pt x="5" y="1139"/>
                    </a:lnTo>
                    <a:lnTo>
                      <a:pt x="0" y="1118"/>
                    </a:lnTo>
                    <a:lnTo>
                      <a:pt x="12" y="1089"/>
                    </a:lnTo>
                    <a:lnTo>
                      <a:pt x="41" y="1049"/>
                    </a:lnTo>
                    <a:lnTo>
                      <a:pt x="71" y="1012"/>
                    </a:lnTo>
                    <a:lnTo>
                      <a:pt x="101" y="976"/>
                    </a:lnTo>
                    <a:lnTo>
                      <a:pt x="132" y="941"/>
                    </a:lnTo>
                    <a:lnTo>
                      <a:pt x="164" y="908"/>
                    </a:lnTo>
                    <a:lnTo>
                      <a:pt x="195" y="875"/>
                    </a:lnTo>
                    <a:lnTo>
                      <a:pt x="225" y="842"/>
                    </a:lnTo>
                    <a:lnTo>
                      <a:pt x="255" y="808"/>
                    </a:lnTo>
                    <a:lnTo>
                      <a:pt x="285" y="773"/>
                    </a:lnTo>
                    <a:lnTo>
                      <a:pt x="312" y="739"/>
                    </a:lnTo>
                    <a:lnTo>
                      <a:pt x="339" y="701"/>
                    </a:lnTo>
                    <a:lnTo>
                      <a:pt x="364" y="663"/>
                    </a:lnTo>
                    <a:lnTo>
                      <a:pt x="407" y="579"/>
                    </a:lnTo>
                    <a:lnTo>
                      <a:pt x="441" y="482"/>
                    </a:lnTo>
                    <a:lnTo>
                      <a:pt x="459" y="392"/>
                    </a:lnTo>
                    <a:lnTo>
                      <a:pt x="481" y="263"/>
                    </a:lnTo>
                    <a:lnTo>
                      <a:pt x="505" y="142"/>
                    </a:lnTo>
                    <a:lnTo>
                      <a:pt x="527" y="72"/>
                    </a:lnTo>
                    <a:lnTo>
                      <a:pt x="555" y="43"/>
                    </a:lnTo>
                    <a:lnTo>
                      <a:pt x="589" y="22"/>
                    </a:lnTo>
                    <a:lnTo>
                      <a:pt x="631" y="7"/>
                    </a:lnTo>
                    <a:lnTo>
                      <a:pt x="676" y="0"/>
                    </a:lnTo>
                    <a:lnTo>
                      <a:pt x="763" y="9"/>
                    </a:lnTo>
                    <a:lnTo>
                      <a:pt x="833" y="49"/>
                    </a:lnTo>
                    <a:lnTo>
                      <a:pt x="868" y="87"/>
                    </a:lnTo>
                    <a:lnTo>
                      <a:pt x="899" y="113"/>
                    </a:lnTo>
                    <a:lnTo>
                      <a:pt x="928" y="131"/>
                    </a:lnTo>
                    <a:lnTo>
                      <a:pt x="956" y="143"/>
                    </a:lnTo>
                    <a:lnTo>
                      <a:pt x="1112" y="161"/>
                    </a:lnTo>
                    <a:lnTo>
                      <a:pt x="1341" y="183"/>
                    </a:lnTo>
                    <a:lnTo>
                      <a:pt x="1559" y="222"/>
                    </a:lnTo>
                    <a:lnTo>
                      <a:pt x="1591" y="262"/>
                    </a:lnTo>
                    <a:lnTo>
                      <a:pt x="1580" y="281"/>
                    </a:lnTo>
                    <a:lnTo>
                      <a:pt x="1551" y="294"/>
                    </a:lnTo>
                    <a:lnTo>
                      <a:pt x="1452" y="309"/>
                    </a:lnTo>
                    <a:lnTo>
                      <a:pt x="1328" y="316"/>
                    </a:lnTo>
                    <a:lnTo>
                      <a:pt x="1100" y="314"/>
                    </a:lnTo>
                    <a:lnTo>
                      <a:pt x="1027" y="297"/>
                    </a:lnTo>
                    <a:lnTo>
                      <a:pt x="958" y="265"/>
                    </a:lnTo>
                    <a:lnTo>
                      <a:pt x="924" y="246"/>
                    </a:lnTo>
                    <a:lnTo>
                      <a:pt x="890" y="226"/>
                    </a:lnTo>
                    <a:lnTo>
                      <a:pt x="859" y="205"/>
                    </a:lnTo>
                    <a:lnTo>
                      <a:pt x="828" y="185"/>
                    </a:lnTo>
                    <a:lnTo>
                      <a:pt x="798" y="166"/>
                    </a:lnTo>
                    <a:lnTo>
                      <a:pt x="770" y="149"/>
                    </a:lnTo>
                    <a:lnTo>
                      <a:pt x="718" y="126"/>
                    </a:lnTo>
                    <a:lnTo>
                      <a:pt x="672" y="121"/>
                    </a:lnTo>
                    <a:lnTo>
                      <a:pt x="634" y="144"/>
                    </a:lnTo>
                    <a:lnTo>
                      <a:pt x="634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186640" y="4188240"/>
                <a:ext cx="161280" cy="72360"/>
              </a:xfrm>
              <a:custGeom>
                <a:avLst/>
                <a:gdLst/>
                <a:ahLst/>
                <a:rect l="l" t="t" r="r" b="b"/>
                <a:pathLst>
                  <a:path w="543" h="315">
                    <a:moveTo>
                      <a:pt x="9" y="171"/>
                    </a:moveTo>
                    <a:lnTo>
                      <a:pt x="39" y="130"/>
                    </a:lnTo>
                    <a:lnTo>
                      <a:pt x="59" y="104"/>
                    </a:lnTo>
                    <a:lnTo>
                      <a:pt x="79" y="78"/>
                    </a:lnTo>
                    <a:lnTo>
                      <a:pt x="102" y="51"/>
                    </a:lnTo>
                    <a:lnTo>
                      <a:pt x="123" y="28"/>
                    </a:lnTo>
                    <a:lnTo>
                      <a:pt x="144" y="10"/>
                    </a:lnTo>
                    <a:lnTo>
                      <a:pt x="162" y="0"/>
                    </a:lnTo>
                    <a:lnTo>
                      <a:pt x="231" y="2"/>
                    </a:lnTo>
                    <a:lnTo>
                      <a:pt x="300" y="18"/>
                    </a:lnTo>
                    <a:lnTo>
                      <a:pt x="334" y="44"/>
                    </a:lnTo>
                    <a:lnTo>
                      <a:pt x="357" y="88"/>
                    </a:lnTo>
                    <a:lnTo>
                      <a:pt x="375" y="138"/>
                    </a:lnTo>
                    <a:lnTo>
                      <a:pt x="394" y="177"/>
                    </a:lnTo>
                    <a:lnTo>
                      <a:pt x="433" y="186"/>
                    </a:lnTo>
                    <a:lnTo>
                      <a:pt x="475" y="175"/>
                    </a:lnTo>
                    <a:lnTo>
                      <a:pt x="526" y="196"/>
                    </a:lnTo>
                    <a:lnTo>
                      <a:pt x="543" y="246"/>
                    </a:lnTo>
                    <a:lnTo>
                      <a:pt x="540" y="271"/>
                    </a:lnTo>
                    <a:lnTo>
                      <a:pt x="526" y="294"/>
                    </a:lnTo>
                    <a:lnTo>
                      <a:pt x="505" y="309"/>
                    </a:lnTo>
                    <a:lnTo>
                      <a:pt x="475" y="315"/>
                    </a:lnTo>
                    <a:lnTo>
                      <a:pt x="364" y="306"/>
                    </a:lnTo>
                    <a:lnTo>
                      <a:pt x="315" y="284"/>
                    </a:lnTo>
                    <a:lnTo>
                      <a:pt x="278" y="242"/>
                    </a:lnTo>
                    <a:lnTo>
                      <a:pt x="264" y="166"/>
                    </a:lnTo>
                    <a:lnTo>
                      <a:pt x="253" y="129"/>
                    </a:lnTo>
                    <a:lnTo>
                      <a:pt x="230" y="109"/>
                    </a:lnTo>
                    <a:lnTo>
                      <a:pt x="174" y="112"/>
                    </a:lnTo>
                    <a:lnTo>
                      <a:pt x="132" y="142"/>
                    </a:lnTo>
                    <a:lnTo>
                      <a:pt x="96" y="184"/>
                    </a:lnTo>
                    <a:lnTo>
                      <a:pt x="61" y="222"/>
                    </a:lnTo>
                    <a:lnTo>
                      <a:pt x="32" y="233"/>
                    </a:lnTo>
                    <a:lnTo>
                      <a:pt x="11" y="224"/>
                    </a:lnTo>
                    <a:lnTo>
                      <a:pt x="0" y="201"/>
                    </a:lnTo>
                    <a:lnTo>
                      <a:pt x="9" y="171"/>
                    </a:lnTo>
                    <a:lnTo>
                      <a:pt x="9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75800" y="4464000"/>
                <a:ext cx="747720" cy="133560"/>
              </a:xfrm>
              <a:custGeom>
                <a:avLst/>
                <a:gdLst/>
                <a:ahLst/>
                <a:rect l="l" t="t" r="r" b="b"/>
                <a:pathLst>
                  <a:path w="2521" h="578">
                    <a:moveTo>
                      <a:pt x="120" y="218"/>
                    </a:moveTo>
                    <a:lnTo>
                      <a:pt x="627" y="246"/>
                    </a:lnTo>
                    <a:lnTo>
                      <a:pt x="1133" y="278"/>
                    </a:lnTo>
                    <a:lnTo>
                      <a:pt x="1282" y="304"/>
                    </a:lnTo>
                    <a:lnTo>
                      <a:pt x="1393" y="327"/>
                    </a:lnTo>
                    <a:lnTo>
                      <a:pt x="1511" y="352"/>
                    </a:lnTo>
                    <a:lnTo>
                      <a:pt x="1625" y="378"/>
                    </a:lnTo>
                    <a:lnTo>
                      <a:pt x="1721" y="399"/>
                    </a:lnTo>
                    <a:lnTo>
                      <a:pt x="1812" y="421"/>
                    </a:lnTo>
                    <a:lnTo>
                      <a:pt x="1875" y="402"/>
                    </a:lnTo>
                    <a:lnTo>
                      <a:pt x="1915" y="385"/>
                    </a:lnTo>
                    <a:lnTo>
                      <a:pt x="1958" y="364"/>
                    </a:lnTo>
                    <a:lnTo>
                      <a:pt x="2005" y="342"/>
                    </a:lnTo>
                    <a:lnTo>
                      <a:pt x="2053" y="315"/>
                    </a:lnTo>
                    <a:lnTo>
                      <a:pt x="2103" y="288"/>
                    </a:lnTo>
                    <a:lnTo>
                      <a:pt x="2152" y="259"/>
                    </a:lnTo>
                    <a:lnTo>
                      <a:pt x="2203" y="229"/>
                    </a:lnTo>
                    <a:lnTo>
                      <a:pt x="2251" y="200"/>
                    </a:lnTo>
                    <a:lnTo>
                      <a:pt x="2298" y="171"/>
                    </a:lnTo>
                    <a:lnTo>
                      <a:pt x="2341" y="145"/>
                    </a:lnTo>
                    <a:lnTo>
                      <a:pt x="2380" y="121"/>
                    </a:lnTo>
                    <a:lnTo>
                      <a:pt x="2415" y="99"/>
                    </a:lnTo>
                    <a:lnTo>
                      <a:pt x="2445" y="81"/>
                    </a:lnTo>
                    <a:lnTo>
                      <a:pt x="2468" y="68"/>
                    </a:lnTo>
                    <a:lnTo>
                      <a:pt x="2504" y="51"/>
                    </a:lnTo>
                    <a:lnTo>
                      <a:pt x="2521" y="50"/>
                    </a:lnTo>
                    <a:lnTo>
                      <a:pt x="2516" y="81"/>
                    </a:lnTo>
                    <a:lnTo>
                      <a:pt x="2501" y="105"/>
                    </a:lnTo>
                    <a:lnTo>
                      <a:pt x="2483" y="129"/>
                    </a:lnTo>
                    <a:lnTo>
                      <a:pt x="2455" y="162"/>
                    </a:lnTo>
                    <a:lnTo>
                      <a:pt x="2406" y="200"/>
                    </a:lnTo>
                    <a:lnTo>
                      <a:pt x="2371" y="226"/>
                    </a:lnTo>
                    <a:lnTo>
                      <a:pt x="2331" y="256"/>
                    </a:lnTo>
                    <a:lnTo>
                      <a:pt x="2310" y="272"/>
                    </a:lnTo>
                    <a:lnTo>
                      <a:pt x="2287" y="289"/>
                    </a:lnTo>
                    <a:lnTo>
                      <a:pt x="2263" y="306"/>
                    </a:lnTo>
                    <a:lnTo>
                      <a:pt x="2239" y="322"/>
                    </a:lnTo>
                    <a:lnTo>
                      <a:pt x="2215" y="340"/>
                    </a:lnTo>
                    <a:lnTo>
                      <a:pt x="2190" y="358"/>
                    </a:lnTo>
                    <a:lnTo>
                      <a:pt x="2164" y="376"/>
                    </a:lnTo>
                    <a:lnTo>
                      <a:pt x="2139" y="393"/>
                    </a:lnTo>
                    <a:lnTo>
                      <a:pt x="2114" y="411"/>
                    </a:lnTo>
                    <a:lnTo>
                      <a:pt x="2089" y="428"/>
                    </a:lnTo>
                    <a:lnTo>
                      <a:pt x="2064" y="445"/>
                    </a:lnTo>
                    <a:lnTo>
                      <a:pt x="2040" y="461"/>
                    </a:lnTo>
                    <a:lnTo>
                      <a:pt x="1992" y="492"/>
                    </a:lnTo>
                    <a:lnTo>
                      <a:pt x="1948" y="519"/>
                    </a:lnTo>
                    <a:lnTo>
                      <a:pt x="1909" y="542"/>
                    </a:lnTo>
                    <a:lnTo>
                      <a:pt x="1875" y="560"/>
                    </a:lnTo>
                    <a:lnTo>
                      <a:pt x="1829" y="578"/>
                    </a:lnTo>
                    <a:lnTo>
                      <a:pt x="1721" y="557"/>
                    </a:lnTo>
                    <a:lnTo>
                      <a:pt x="1623" y="533"/>
                    </a:lnTo>
                    <a:lnTo>
                      <a:pt x="1512" y="505"/>
                    </a:lnTo>
                    <a:lnTo>
                      <a:pt x="1395" y="475"/>
                    </a:lnTo>
                    <a:lnTo>
                      <a:pt x="1285" y="449"/>
                    </a:lnTo>
                    <a:lnTo>
                      <a:pt x="1190" y="428"/>
                    </a:lnTo>
                    <a:lnTo>
                      <a:pt x="1123" y="419"/>
                    </a:lnTo>
                    <a:lnTo>
                      <a:pt x="377" y="386"/>
                    </a:lnTo>
                    <a:lnTo>
                      <a:pt x="220" y="356"/>
                    </a:lnTo>
                    <a:lnTo>
                      <a:pt x="142" y="343"/>
                    </a:lnTo>
                    <a:lnTo>
                      <a:pt x="63" y="337"/>
                    </a:lnTo>
                    <a:lnTo>
                      <a:pt x="17" y="301"/>
                    </a:lnTo>
                    <a:lnTo>
                      <a:pt x="3" y="217"/>
                    </a:lnTo>
                    <a:lnTo>
                      <a:pt x="0" y="52"/>
                    </a:lnTo>
                    <a:lnTo>
                      <a:pt x="0" y="16"/>
                    </a:lnTo>
                    <a:lnTo>
                      <a:pt x="9" y="0"/>
                    </a:lnTo>
                    <a:lnTo>
                      <a:pt x="47" y="19"/>
                    </a:lnTo>
                    <a:lnTo>
                      <a:pt x="92" y="97"/>
                    </a:lnTo>
                    <a:lnTo>
                      <a:pt x="120" y="218"/>
                    </a:lnTo>
                    <a:lnTo>
                      <a:pt x="120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96840" y="4272480"/>
                <a:ext cx="314640" cy="200520"/>
              </a:xfrm>
              <a:custGeom>
                <a:avLst/>
                <a:gdLst/>
                <a:ahLst/>
                <a:rect l="l" t="t" r="r" b="b"/>
                <a:pathLst>
                  <a:path w="1057" h="868">
                    <a:moveTo>
                      <a:pt x="685" y="195"/>
                    </a:moveTo>
                    <a:lnTo>
                      <a:pt x="653" y="151"/>
                    </a:lnTo>
                    <a:lnTo>
                      <a:pt x="613" y="115"/>
                    </a:lnTo>
                    <a:lnTo>
                      <a:pt x="570" y="98"/>
                    </a:lnTo>
                    <a:lnTo>
                      <a:pt x="524" y="86"/>
                    </a:lnTo>
                    <a:lnTo>
                      <a:pt x="433" y="80"/>
                    </a:lnTo>
                    <a:lnTo>
                      <a:pt x="343" y="96"/>
                    </a:lnTo>
                    <a:lnTo>
                      <a:pt x="260" y="131"/>
                    </a:lnTo>
                    <a:lnTo>
                      <a:pt x="223" y="156"/>
                    </a:lnTo>
                    <a:lnTo>
                      <a:pt x="189" y="185"/>
                    </a:lnTo>
                    <a:lnTo>
                      <a:pt x="134" y="254"/>
                    </a:lnTo>
                    <a:lnTo>
                      <a:pt x="102" y="338"/>
                    </a:lnTo>
                    <a:lnTo>
                      <a:pt x="96" y="434"/>
                    </a:lnTo>
                    <a:lnTo>
                      <a:pt x="108" y="496"/>
                    </a:lnTo>
                    <a:lnTo>
                      <a:pt x="133" y="548"/>
                    </a:lnTo>
                    <a:lnTo>
                      <a:pt x="150" y="572"/>
                    </a:lnTo>
                    <a:lnTo>
                      <a:pt x="169" y="593"/>
                    </a:lnTo>
                    <a:lnTo>
                      <a:pt x="213" y="629"/>
                    </a:lnTo>
                    <a:lnTo>
                      <a:pt x="238" y="644"/>
                    </a:lnTo>
                    <a:lnTo>
                      <a:pt x="266" y="656"/>
                    </a:lnTo>
                    <a:lnTo>
                      <a:pt x="325" y="678"/>
                    </a:lnTo>
                    <a:lnTo>
                      <a:pt x="387" y="691"/>
                    </a:lnTo>
                    <a:lnTo>
                      <a:pt x="452" y="698"/>
                    </a:lnTo>
                    <a:lnTo>
                      <a:pt x="582" y="694"/>
                    </a:lnTo>
                    <a:lnTo>
                      <a:pt x="701" y="668"/>
                    </a:lnTo>
                    <a:lnTo>
                      <a:pt x="797" y="625"/>
                    </a:lnTo>
                    <a:lnTo>
                      <a:pt x="855" y="568"/>
                    </a:lnTo>
                    <a:lnTo>
                      <a:pt x="878" y="510"/>
                    </a:lnTo>
                    <a:lnTo>
                      <a:pt x="874" y="470"/>
                    </a:lnTo>
                    <a:lnTo>
                      <a:pt x="850" y="434"/>
                    </a:lnTo>
                    <a:lnTo>
                      <a:pt x="815" y="390"/>
                    </a:lnTo>
                    <a:lnTo>
                      <a:pt x="820" y="360"/>
                    </a:lnTo>
                    <a:lnTo>
                      <a:pt x="841" y="348"/>
                    </a:lnTo>
                    <a:lnTo>
                      <a:pt x="866" y="337"/>
                    </a:lnTo>
                    <a:lnTo>
                      <a:pt x="923" y="325"/>
                    </a:lnTo>
                    <a:lnTo>
                      <a:pt x="967" y="332"/>
                    </a:lnTo>
                    <a:lnTo>
                      <a:pt x="1029" y="396"/>
                    </a:lnTo>
                    <a:lnTo>
                      <a:pt x="1057" y="467"/>
                    </a:lnTo>
                    <a:lnTo>
                      <a:pt x="1054" y="540"/>
                    </a:lnTo>
                    <a:lnTo>
                      <a:pt x="1043" y="577"/>
                    </a:lnTo>
                    <a:lnTo>
                      <a:pt x="1027" y="613"/>
                    </a:lnTo>
                    <a:lnTo>
                      <a:pt x="1006" y="648"/>
                    </a:lnTo>
                    <a:lnTo>
                      <a:pt x="981" y="682"/>
                    </a:lnTo>
                    <a:lnTo>
                      <a:pt x="952" y="713"/>
                    </a:lnTo>
                    <a:lnTo>
                      <a:pt x="922" y="742"/>
                    </a:lnTo>
                    <a:lnTo>
                      <a:pt x="889" y="768"/>
                    </a:lnTo>
                    <a:lnTo>
                      <a:pt x="855" y="791"/>
                    </a:lnTo>
                    <a:lnTo>
                      <a:pt x="820" y="810"/>
                    </a:lnTo>
                    <a:lnTo>
                      <a:pt x="785" y="823"/>
                    </a:lnTo>
                    <a:lnTo>
                      <a:pt x="728" y="841"/>
                    </a:lnTo>
                    <a:lnTo>
                      <a:pt x="667" y="855"/>
                    </a:lnTo>
                    <a:lnTo>
                      <a:pt x="540" y="868"/>
                    </a:lnTo>
                    <a:lnTo>
                      <a:pt x="412" y="861"/>
                    </a:lnTo>
                    <a:lnTo>
                      <a:pt x="290" y="833"/>
                    </a:lnTo>
                    <a:lnTo>
                      <a:pt x="234" y="810"/>
                    </a:lnTo>
                    <a:lnTo>
                      <a:pt x="181" y="781"/>
                    </a:lnTo>
                    <a:lnTo>
                      <a:pt x="92" y="704"/>
                    </a:lnTo>
                    <a:lnTo>
                      <a:pt x="30" y="601"/>
                    </a:lnTo>
                    <a:lnTo>
                      <a:pt x="0" y="470"/>
                    </a:lnTo>
                    <a:lnTo>
                      <a:pt x="7" y="324"/>
                    </a:lnTo>
                    <a:lnTo>
                      <a:pt x="24" y="260"/>
                    </a:lnTo>
                    <a:lnTo>
                      <a:pt x="47" y="204"/>
                    </a:lnTo>
                    <a:lnTo>
                      <a:pt x="78" y="155"/>
                    </a:lnTo>
                    <a:lnTo>
                      <a:pt x="114" y="113"/>
                    </a:lnTo>
                    <a:lnTo>
                      <a:pt x="157" y="77"/>
                    </a:lnTo>
                    <a:lnTo>
                      <a:pt x="180" y="61"/>
                    </a:lnTo>
                    <a:lnTo>
                      <a:pt x="204" y="47"/>
                    </a:lnTo>
                    <a:lnTo>
                      <a:pt x="255" y="25"/>
                    </a:lnTo>
                    <a:lnTo>
                      <a:pt x="310" y="9"/>
                    </a:lnTo>
                    <a:lnTo>
                      <a:pt x="430" y="0"/>
                    </a:lnTo>
                    <a:lnTo>
                      <a:pt x="556" y="18"/>
                    </a:lnTo>
                    <a:lnTo>
                      <a:pt x="686" y="65"/>
                    </a:lnTo>
                    <a:lnTo>
                      <a:pt x="794" y="101"/>
                    </a:lnTo>
                    <a:lnTo>
                      <a:pt x="811" y="143"/>
                    </a:lnTo>
                    <a:lnTo>
                      <a:pt x="803" y="168"/>
                    </a:lnTo>
                    <a:lnTo>
                      <a:pt x="789" y="191"/>
                    </a:lnTo>
                    <a:lnTo>
                      <a:pt x="767" y="209"/>
                    </a:lnTo>
                    <a:lnTo>
                      <a:pt x="741" y="218"/>
                    </a:lnTo>
                    <a:lnTo>
                      <a:pt x="685" y="195"/>
                    </a:lnTo>
                    <a:lnTo>
                      <a:pt x="685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075040" y="4313880"/>
                <a:ext cx="170640" cy="64440"/>
              </a:xfrm>
              <a:custGeom>
                <a:avLst/>
                <a:gdLst/>
                <a:ahLst/>
                <a:rect l="l" t="t" r="r" b="b"/>
                <a:pathLst>
                  <a:path w="574" h="279">
                    <a:moveTo>
                      <a:pt x="393" y="193"/>
                    </a:moveTo>
                    <a:lnTo>
                      <a:pt x="355" y="212"/>
                    </a:lnTo>
                    <a:lnTo>
                      <a:pt x="312" y="231"/>
                    </a:lnTo>
                    <a:lnTo>
                      <a:pt x="265" y="248"/>
                    </a:lnTo>
                    <a:lnTo>
                      <a:pt x="216" y="264"/>
                    </a:lnTo>
                    <a:lnTo>
                      <a:pt x="119" y="279"/>
                    </a:lnTo>
                    <a:lnTo>
                      <a:pt x="31" y="270"/>
                    </a:lnTo>
                    <a:lnTo>
                      <a:pt x="6" y="251"/>
                    </a:lnTo>
                    <a:lnTo>
                      <a:pt x="0" y="228"/>
                    </a:lnTo>
                    <a:lnTo>
                      <a:pt x="14" y="207"/>
                    </a:lnTo>
                    <a:lnTo>
                      <a:pt x="41" y="198"/>
                    </a:lnTo>
                    <a:lnTo>
                      <a:pt x="166" y="181"/>
                    </a:lnTo>
                    <a:lnTo>
                      <a:pt x="250" y="139"/>
                    </a:lnTo>
                    <a:lnTo>
                      <a:pt x="323" y="80"/>
                    </a:lnTo>
                    <a:lnTo>
                      <a:pt x="343" y="64"/>
                    </a:lnTo>
                    <a:lnTo>
                      <a:pt x="366" y="48"/>
                    </a:lnTo>
                    <a:lnTo>
                      <a:pt x="390" y="32"/>
                    </a:lnTo>
                    <a:lnTo>
                      <a:pt x="418" y="15"/>
                    </a:lnTo>
                    <a:lnTo>
                      <a:pt x="457" y="0"/>
                    </a:lnTo>
                    <a:lnTo>
                      <a:pt x="484" y="3"/>
                    </a:lnTo>
                    <a:lnTo>
                      <a:pt x="522" y="57"/>
                    </a:lnTo>
                    <a:lnTo>
                      <a:pt x="545" y="87"/>
                    </a:lnTo>
                    <a:lnTo>
                      <a:pt x="566" y="117"/>
                    </a:lnTo>
                    <a:lnTo>
                      <a:pt x="574" y="156"/>
                    </a:lnTo>
                    <a:lnTo>
                      <a:pt x="564" y="188"/>
                    </a:lnTo>
                    <a:lnTo>
                      <a:pt x="544" y="215"/>
                    </a:lnTo>
                    <a:lnTo>
                      <a:pt x="515" y="234"/>
                    </a:lnTo>
                    <a:lnTo>
                      <a:pt x="448" y="240"/>
                    </a:lnTo>
                    <a:lnTo>
                      <a:pt x="393" y="193"/>
                    </a:lnTo>
                    <a:lnTo>
                      <a:pt x="393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971000" y="4181400"/>
                <a:ext cx="127800" cy="64440"/>
              </a:xfrm>
              <a:custGeom>
                <a:avLst/>
                <a:gdLst/>
                <a:ahLst/>
                <a:rect l="l" t="t" r="r" b="b"/>
                <a:pathLst>
                  <a:path w="429" h="277">
                    <a:moveTo>
                      <a:pt x="242" y="266"/>
                    </a:moveTo>
                    <a:lnTo>
                      <a:pt x="212" y="277"/>
                    </a:lnTo>
                    <a:lnTo>
                      <a:pt x="168" y="262"/>
                    </a:lnTo>
                    <a:lnTo>
                      <a:pt x="120" y="239"/>
                    </a:lnTo>
                    <a:lnTo>
                      <a:pt x="77" y="229"/>
                    </a:lnTo>
                    <a:lnTo>
                      <a:pt x="20" y="224"/>
                    </a:lnTo>
                    <a:lnTo>
                      <a:pt x="0" y="212"/>
                    </a:lnTo>
                    <a:lnTo>
                      <a:pt x="18" y="195"/>
                    </a:lnTo>
                    <a:lnTo>
                      <a:pt x="82" y="145"/>
                    </a:lnTo>
                    <a:lnTo>
                      <a:pt x="113" y="73"/>
                    </a:lnTo>
                    <a:lnTo>
                      <a:pt x="118" y="37"/>
                    </a:lnTo>
                    <a:lnTo>
                      <a:pt x="131" y="14"/>
                    </a:lnTo>
                    <a:lnTo>
                      <a:pt x="150" y="3"/>
                    </a:lnTo>
                    <a:lnTo>
                      <a:pt x="176" y="0"/>
                    </a:lnTo>
                    <a:lnTo>
                      <a:pt x="291" y="13"/>
                    </a:lnTo>
                    <a:lnTo>
                      <a:pt x="341" y="29"/>
                    </a:lnTo>
                    <a:lnTo>
                      <a:pt x="354" y="63"/>
                    </a:lnTo>
                    <a:lnTo>
                      <a:pt x="368" y="141"/>
                    </a:lnTo>
                    <a:lnTo>
                      <a:pt x="429" y="227"/>
                    </a:lnTo>
                    <a:lnTo>
                      <a:pt x="426" y="251"/>
                    </a:lnTo>
                    <a:lnTo>
                      <a:pt x="406" y="266"/>
                    </a:lnTo>
                    <a:lnTo>
                      <a:pt x="333" y="276"/>
                    </a:lnTo>
                    <a:lnTo>
                      <a:pt x="242" y="266"/>
                    </a:lnTo>
                    <a:lnTo>
                      <a:pt x="242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193840" y="4444200"/>
                <a:ext cx="176400" cy="87480"/>
              </a:xfrm>
              <a:custGeom>
                <a:avLst/>
                <a:gdLst/>
                <a:ahLst/>
                <a:rect l="l" t="t" r="r" b="b"/>
                <a:pathLst>
                  <a:path w="595" h="377">
                    <a:moveTo>
                      <a:pt x="27" y="333"/>
                    </a:moveTo>
                    <a:lnTo>
                      <a:pt x="24" y="282"/>
                    </a:lnTo>
                    <a:lnTo>
                      <a:pt x="9" y="232"/>
                    </a:lnTo>
                    <a:lnTo>
                      <a:pt x="0" y="183"/>
                    </a:lnTo>
                    <a:lnTo>
                      <a:pt x="9" y="138"/>
                    </a:lnTo>
                    <a:lnTo>
                      <a:pt x="26" y="117"/>
                    </a:lnTo>
                    <a:lnTo>
                      <a:pt x="46" y="98"/>
                    </a:lnTo>
                    <a:lnTo>
                      <a:pt x="72" y="83"/>
                    </a:lnTo>
                    <a:lnTo>
                      <a:pt x="99" y="71"/>
                    </a:lnTo>
                    <a:lnTo>
                      <a:pt x="163" y="54"/>
                    </a:lnTo>
                    <a:lnTo>
                      <a:pt x="233" y="45"/>
                    </a:lnTo>
                    <a:lnTo>
                      <a:pt x="495" y="5"/>
                    </a:lnTo>
                    <a:lnTo>
                      <a:pt x="541" y="0"/>
                    </a:lnTo>
                    <a:lnTo>
                      <a:pt x="578" y="16"/>
                    </a:lnTo>
                    <a:lnTo>
                      <a:pt x="595" y="45"/>
                    </a:lnTo>
                    <a:lnTo>
                      <a:pt x="590" y="59"/>
                    </a:lnTo>
                    <a:lnTo>
                      <a:pt x="575" y="72"/>
                    </a:lnTo>
                    <a:lnTo>
                      <a:pt x="550" y="86"/>
                    </a:lnTo>
                    <a:lnTo>
                      <a:pt x="506" y="104"/>
                    </a:lnTo>
                    <a:lnTo>
                      <a:pt x="451" y="124"/>
                    </a:lnTo>
                    <a:lnTo>
                      <a:pt x="388" y="146"/>
                    </a:lnTo>
                    <a:lnTo>
                      <a:pt x="325" y="168"/>
                    </a:lnTo>
                    <a:lnTo>
                      <a:pt x="267" y="188"/>
                    </a:lnTo>
                    <a:lnTo>
                      <a:pt x="188" y="213"/>
                    </a:lnTo>
                    <a:lnTo>
                      <a:pt x="163" y="210"/>
                    </a:lnTo>
                    <a:lnTo>
                      <a:pt x="141" y="215"/>
                    </a:lnTo>
                    <a:lnTo>
                      <a:pt x="114" y="281"/>
                    </a:lnTo>
                    <a:lnTo>
                      <a:pt x="96" y="351"/>
                    </a:lnTo>
                    <a:lnTo>
                      <a:pt x="78" y="375"/>
                    </a:lnTo>
                    <a:lnTo>
                      <a:pt x="54" y="377"/>
                    </a:lnTo>
                    <a:lnTo>
                      <a:pt x="27" y="333"/>
                    </a:lnTo>
                    <a:lnTo>
                      <a:pt x="27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726200" y="4533120"/>
                <a:ext cx="93240" cy="39960"/>
              </a:xfrm>
              <a:custGeom>
                <a:avLst/>
                <a:gdLst/>
                <a:ahLst/>
                <a:rect l="l" t="t" r="r" b="b"/>
                <a:pathLst>
                  <a:path w="314" h="175">
                    <a:moveTo>
                      <a:pt x="46" y="0"/>
                    </a:moveTo>
                    <a:lnTo>
                      <a:pt x="99" y="26"/>
                    </a:lnTo>
                    <a:lnTo>
                      <a:pt x="154" y="44"/>
                    </a:lnTo>
                    <a:lnTo>
                      <a:pt x="266" y="72"/>
                    </a:lnTo>
                    <a:lnTo>
                      <a:pt x="302" y="90"/>
                    </a:lnTo>
                    <a:lnTo>
                      <a:pt x="314" y="120"/>
                    </a:lnTo>
                    <a:lnTo>
                      <a:pt x="302" y="149"/>
                    </a:lnTo>
                    <a:lnTo>
                      <a:pt x="287" y="160"/>
                    </a:lnTo>
                    <a:lnTo>
                      <a:pt x="266" y="167"/>
                    </a:lnTo>
                    <a:lnTo>
                      <a:pt x="216" y="175"/>
                    </a:lnTo>
                    <a:lnTo>
                      <a:pt x="120" y="162"/>
                    </a:lnTo>
                    <a:lnTo>
                      <a:pt x="33" y="127"/>
                    </a:lnTo>
                    <a:lnTo>
                      <a:pt x="6" y="88"/>
                    </a:lnTo>
                    <a:lnTo>
                      <a:pt x="0" y="38"/>
                    </a:lnTo>
                    <a:lnTo>
                      <a:pt x="13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072160" y="456984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397" h="162">
                    <a:moveTo>
                      <a:pt x="64" y="0"/>
                    </a:moveTo>
                    <a:lnTo>
                      <a:pt x="363" y="1"/>
                    </a:lnTo>
                    <a:lnTo>
                      <a:pt x="385" y="5"/>
                    </a:lnTo>
                    <a:lnTo>
                      <a:pt x="397" y="20"/>
                    </a:lnTo>
                    <a:lnTo>
                      <a:pt x="391" y="68"/>
                    </a:lnTo>
                    <a:lnTo>
                      <a:pt x="376" y="95"/>
                    </a:lnTo>
                    <a:lnTo>
                      <a:pt x="355" y="120"/>
                    </a:lnTo>
                    <a:lnTo>
                      <a:pt x="330" y="138"/>
                    </a:lnTo>
                    <a:lnTo>
                      <a:pt x="301" y="149"/>
                    </a:lnTo>
                    <a:lnTo>
                      <a:pt x="241" y="161"/>
                    </a:lnTo>
                    <a:lnTo>
                      <a:pt x="181" y="162"/>
                    </a:lnTo>
                    <a:lnTo>
                      <a:pt x="127" y="146"/>
                    </a:lnTo>
                    <a:lnTo>
                      <a:pt x="73" y="136"/>
                    </a:lnTo>
                    <a:lnTo>
                      <a:pt x="20" y="115"/>
                    </a:lnTo>
                    <a:lnTo>
                      <a:pt x="0" y="71"/>
                    </a:lnTo>
                    <a:lnTo>
                      <a:pt x="15" y="25"/>
                    </a:lnTo>
                    <a:lnTo>
                      <a:pt x="35" y="1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337840" y="4492800"/>
                <a:ext cx="90360" cy="49320"/>
              </a:xfrm>
              <a:custGeom>
                <a:avLst/>
                <a:gdLst/>
                <a:ahLst/>
                <a:rect l="l" t="t" r="r" b="b"/>
                <a:pathLst>
                  <a:path w="306" h="213">
                    <a:moveTo>
                      <a:pt x="42" y="78"/>
                    </a:moveTo>
                    <a:lnTo>
                      <a:pt x="130" y="57"/>
                    </a:lnTo>
                    <a:lnTo>
                      <a:pt x="207" y="8"/>
                    </a:lnTo>
                    <a:lnTo>
                      <a:pt x="246" y="0"/>
                    </a:lnTo>
                    <a:lnTo>
                      <a:pt x="283" y="34"/>
                    </a:lnTo>
                    <a:lnTo>
                      <a:pt x="306" y="84"/>
                    </a:lnTo>
                    <a:lnTo>
                      <a:pt x="299" y="132"/>
                    </a:lnTo>
                    <a:lnTo>
                      <a:pt x="262" y="170"/>
                    </a:lnTo>
                    <a:lnTo>
                      <a:pt x="225" y="190"/>
                    </a:lnTo>
                    <a:lnTo>
                      <a:pt x="131" y="213"/>
                    </a:lnTo>
                    <a:lnTo>
                      <a:pt x="60" y="207"/>
                    </a:lnTo>
                    <a:lnTo>
                      <a:pt x="12" y="166"/>
                    </a:lnTo>
                    <a:lnTo>
                      <a:pt x="0" y="116"/>
                    </a:lnTo>
                    <a:lnTo>
                      <a:pt x="14" y="94"/>
                    </a:lnTo>
                    <a:lnTo>
                      <a:pt x="42" y="7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299320" y="4190760"/>
                <a:ext cx="158760" cy="296280"/>
              </a:xfrm>
              <a:custGeom>
                <a:avLst/>
                <a:gdLst/>
                <a:ahLst/>
                <a:rect l="l" t="t" r="r" b="b"/>
                <a:pathLst>
                  <a:path w="533" h="1289">
                    <a:moveTo>
                      <a:pt x="274" y="983"/>
                    </a:moveTo>
                    <a:lnTo>
                      <a:pt x="227" y="894"/>
                    </a:lnTo>
                    <a:lnTo>
                      <a:pt x="202" y="795"/>
                    </a:lnTo>
                    <a:lnTo>
                      <a:pt x="190" y="573"/>
                    </a:lnTo>
                    <a:lnTo>
                      <a:pt x="196" y="131"/>
                    </a:lnTo>
                    <a:lnTo>
                      <a:pt x="170" y="130"/>
                    </a:lnTo>
                    <a:lnTo>
                      <a:pt x="149" y="150"/>
                    </a:lnTo>
                    <a:lnTo>
                      <a:pt x="119" y="202"/>
                    </a:lnTo>
                    <a:lnTo>
                      <a:pt x="97" y="222"/>
                    </a:lnTo>
                    <a:lnTo>
                      <a:pt x="73" y="232"/>
                    </a:lnTo>
                    <a:lnTo>
                      <a:pt x="28" y="223"/>
                    </a:lnTo>
                    <a:lnTo>
                      <a:pt x="0" y="187"/>
                    </a:lnTo>
                    <a:lnTo>
                      <a:pt x="6" y="133"/>
                    </a:lnTo>
                    <a:lnTo>
                      <a:pt x="42" y="74"/>
                    </a:lnTo>
                    <a:lnTo>
                      <a:pt x="85" y="32"/>
                    </a:lnTo>
                    <a:lnTo>
                      <a:pt x="109" y="17"/>
                    </a:lnTo>
                    <a:lnTo>
                      <a:pt x="133" y="7"/>
                    </a:lnTo>
                    <a:lnTo>
                      <a:pt x="181" y="0"/>
                    </a:lnTo>
                    <a:lnTo>
                      <a:pt x="227" y="12"/>
                    </a:lnTo>
                    <a:lnTo>
                      <a:pt x="266" y="43"/>
                    </a:lnTo>
                    <a:lnTo>
                      <a:pt x="295" y="95"/>
                    </a:lnTo>
                    <a:lnTo>
                      <a:pt x="313" y="167"/>
                    </a:lnTo>
                    <a:lnTo>
                      <a:pt x="316" y="319"/>
                    </a:lnTo>
                    <a:lnTo>
                      <a:pt x="305" y="472"/>
                    </a:lnTo>
                    <a:lnTo>
                      <a:pt x="296" y="624"/>
                    </a:lnTo>
                    <a:lnTo>
                      <a:pt x="312" y="777"/>
                    </a:lnTo>
                    <a:lnTo>
                      <a:pt x="338" y="874"/>
                    </a:lnTo>
                    <a:lnTo>
                      <a:pt x="365" y="939"/>
                    </a:lnTo>
                    <a:lnTo>
                      <a:pt x="391" y="976"/>
                    </a:lnTo>
                    <a:lnTo>
                      <a:pt x="417" y="995"/>
                    </a:lnTo>
                    <a:lnTo>
                      <a:pt x="468" y="1012"/>
                    </a:lnTo>
                    <a:lnTo>
                      <a:pt x="512" y="1053"/>
                    </a:lnTo>
                    <a:lnTo>
                      <a:pt x="533" y="1154"/>
                    </a:lnTo>
                    <a:lnTo>
                      <a:pt x="523" y="1204"/>
                    </a:lnTo>
                    <a:lnTo>
                      <a:pt x="506" y="1246"/>
                    </a:lnTo>
                    <a:lnTo>
                      <a:pt x="486" y="1276"/>
                    </a:lnTo>
                    <a:lnTo>
                      <a:pt x="467" y="1289"/>
                    </a:lnTo>
                    <a:lnTo>
                      <a:pt x="452" y="1281"/>
                    </a:lnTo>
                    <a:lnTo>
                      <a:pt x="446" y="1246"/>
                    </a:lnTo>
                    <a:lnTo>
                      <a:pt x="452" y="1136"/>
                    </a:lnTo>
                    <a:lnTo>
                      <a:pt x="446" y="1110"/>
                    </a:lnTo>
                    <a:lnTo>
                      <a:pt x="434" y="1095"/>
                    </a:lnTo>
                    <a:lnTo>
                      <a:pt x="378" y="1106"/>
                    </a:lnTo>
                    <a:lnTo>
                      <a:pt x="311" y="1055"/>
                    </a:lnTo>
                    <a:lnTo>
                      <a:pt x="274" y="983"/>
                    </a:lnTo>
                    <a:lnTo>
                      <a:pt x="274" y="9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744200" y="4142160"/>
                <a:ext cx="110880" cy="30960"/>
              </a:xfrm>
              <a:custGeom>
                <a:avLst/>
                <a:gdLst/>
                <a:ahLst/>
                <a:rect l="l" t="t" r="r" b="b"/>
                <a:pathLst>
                  <a:path w="375" h="137">
                    <a:moveTo>
                      <a:pt x="22" y="73"/>
                    </a:moveTo>
                    <a:lnTo>
                      <a:pt x="58" y="56"/>
                    </a:lnTo>
                    <a:lnTo>
                      <a:pt x="114" y="31"/>
                    </a:lnTo>
                    <a:lnTo>
                      <a:pt x="169" y="9"/>
                    </a:lnTo>
                    <a:lnTo>
                      <a:pt x="200" y="0"/>
                    </a:lnTo>
                    <a:lnTo>
                      <a:pt x="329" y="21"/>
                    </a:lnTo>
                    <a:lnTo>
                      <a:pt x="365" y="42"/>
                    </a:lnTo>
                    <a:lnTo>
                      <a:pt x="375" y="74"/>
                    </a:lnTo>
                    <a:lnTo>
                      <a:pt x="361" y="105"/>
                    </a:lnTo>
                    <a:lnTo>
                      <a:pt x="345" y="116"/>
                    </a:lnTo>
                    <a:lnTo>
                      <a:pt x="323" y="122"/>
                    </a:lnTo>
                    <a:lnTo>
                      <a:pt x="210" y="129"/>
                    </a:lnTo>
                    <a:lnTo>
                      <a:pt x="42" y="137"/>
                    </a:lnTo>
                    <a:lnTo>
                      <a:pt x="14" y="134"/>
                    </a:lnTo>
                    <a:lnTo>
                      <a:pt x="0" y="116"/>
                    </a:lnTo>
                    <a:lnTo>
                      <a:pt x="0" y="92"/>
                    </a:lnTo>
                    <a:lnTo>
                      <a:pt x="22" y="73"/>
                    </a:lnTo>
                    <a:lnTo>
                      <a:pt x="2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1398600" y="30304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65080" y="4508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59640" y="4532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1620720" y="2997360"/>
              <a:ext cx="5183280" cy="465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21318600">
              <a:off x="3132000" y="2852640"/>
              <a:ext cx="25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al Pick-up code (566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3684240" y="3086280"/>
              <a:ext cx="3344760" cy="1326960"/>
            </a:xfrm>
            <a:prstGeom prst="line">
              <a:avLst/>
            </a:prstGeom>
            <a:ln cap="rnd" w="38160">
              <a:solidFill>
                <a:srgbClr val="ff66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247600">
              <a:off x="5007240" y="3668400"/>
              <a:ext cx="134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l STA (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58080" y="2355840"/>
              <a:ext cx="1347840" cy="1066680"/>
            </a:xfrm>
            <a:prstGeom prst="cloudCallout">
              <a:avLst>
                <a:gd name="adj1" fmla="val -21379"/>
                <a:gd name="adj2" fmla="val 1189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 LI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33520" y="5300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1720" y="5756400"/>
            <a:ext cx="48974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Call Pick-up Code               : PGM107-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1419120"/>
            <a:ext cx="78487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an access the CO line to make an outgoing call with several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120" y="98280"/>
            <a:ext cx="36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access CO line? (1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34160" y="3567240"/>
            <a:ext cx="1550880" cy="933480"/>
          </a:xfrm>
          <a:prstGeom prst="cloudCallout">
            <a:avLst>
              <a:gd name="adj1" fmla="val -14995"/>
              <a:gd name="adj2" fmla="val 448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T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63840" y="3164040"/>
            <a:ext cx="137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4003560"/>
            <a:ext cx="4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397188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01000" y="4238640"/>
            <a:ext cx="8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450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886120"/>
            <a:ext cx="911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ff3300"/>
                </a:solidFill>
                <a:uFillTx/>
                <a:latin typeface="Arial"/>
              </a:rPr>
              <a:t>9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450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457880"/>
            <a:ext cx="1292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ff3300"/>
                </a:solidFill>
                <a:uFillTx/>
                <a:latin typeface="Arial"/>
              </a:rPr>
              <a:t>80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450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714840"/>
            <a:ext cx="14479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 u="sng">
                <a:solidFill>
                  <a:srgbClr val="ff3300"/>
                </a:solidFill>
                <a:uFillTx/>
                <a:latin typeface="Arial"/>
              </a:rPr>
              <a:t>880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450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514600"/>
            <a:ext cx="147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LDK-60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5920" y="3987720"/>
            <a:ext cx="1379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8800" y="4730760"/>
            <a:ext cx="137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29600" y="2944800"/>
            <a:ext cx="395280" cy="56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6478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04920" y="42670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2210040" cy="2181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924680" y="3581280"/>
            <a:ext cx="9097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549720" y="1600200"/>
            <a:ext cx="636660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assign Call Pick-up Grou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/PGM] + * + # + [TRANS/PGM] + 1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 the group number to be assign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3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 1] + ‘6’ + [HOLD/SAVE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) [BTN 3] + station range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[BTN 3] + Flexible BTN + station number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assign Auto Pick-up Grou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/PGM] + * + # + [TRANS/PGM] + 1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 the group number to be assigned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3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 1]  + ‘1’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8480" y="9360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Call Pick-up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0920" y="334476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3419640" y="26971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538520" y="26906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78560" y="9540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Pickup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8360" y="114156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66480" y="1068480"/>
            <a:ext cx="47923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Call pickup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est direct call pic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Make Pickup Group 620 with station 101 and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492800" y="3300480"/>
            <a:ext cx="1015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48000" y="2205000"/>
            <a:ext cx="2203560" cy="1800360"/>
          </a:xfrm>
          <a:prstGeom prst="ellipse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11680" y="2403360"/>
            <a:ext cx="129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620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240" y="4724280"/>
            <a:ext cx="6612120" cy="8229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90 + 620 (select group number) + Flx1 + 6 (select pickup grou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90 + 620 (select group number) + Flx3 + 101 102 (select station r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91 + 620 (select group number) + Flx1 +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533520" y="1289160"/>
            <a:ext cx="806760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When a user calls a busy station, busy tone is heard and the user can give a signal to the busy station. The busy station is notified of the call waiting by a camp-on tone and flashing LED of the [HOLD/SAVE] button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The busy station can alternate conversation between the two parties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y pres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[HOLD/SAVE] button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[In SLT : Hook Flash + SLT Hold Code “560”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840" y="10476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Waiting(Camp 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015920" y="3086640"/>
            <a:ext cx="7108560" cy="3188520"/>
            <a:chOff x="1015920" y="3086640"/>
            <a:chExt cx="7108560" cy="3188520"/>
          </a:xfrm>
        </p:grpSpPr>
        <p:sp>
          <p:nvSpPr>
            <p:cNvPr id="1007" name=""/>
            <p:cNvSpPr/>
            <p:nvPr/>
          </p:nvSpPr>
          <p:spPr>
            <a:xfrm>
              <a:off x="1886040" y="4175280"/>
              <a:ext cx="2376360" cy="579240"/>
            </a:xfrm>
            <a:prstGeom prst="rightArrow">
              <a:avLst>
                <a:gd name="adj1" fmla="val 50000"/>
                <a:gd name="adj2" fmla="val 102564"/>
              </a:avLst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8" name="" descr=""/>
            <p:cNvPicPr/>
            <p:nvPr/>
          </p:nvPicPr>
          <p:blipFill>
            <a:blip r:embed="rId1"/>
            <a:stretch/>
          </p:blipFill>
          <p:spPr>
            <a:xfrm>
              <a:off x="1015920" y="3594240"/>
              <a:ext cx="10429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 flipH="1" flipV="1">
              <a:off x="1076400" y="4837320"/>
              <a:ext cx="2257200" cy="1187280"/>
            </a:xfrm>
            <a:prstGeom prst="wedgeRoundRectCallout">
              <a:avLst>
                <a:gd name="adj1" fmla="val 30587"/>
                <a:gd name="adj2" fmla="val 73393"/>
                <a:gd name="adj3" fmla="val 16667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l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sy Tone is he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al ‘*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rs M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3640" y="392580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A 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29000" y="3281400"/>
              <a:ext cx="3724560" cy="2238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602400" y="3679920"/>
              <a:ext cx="1388880" cy="1146960"/>
              <a:chOff x="6602400" y="3679920"/>
              <a:chExt cx="1388880" cy="1146960"/>
            </a:xfrm>
          </p:grpSpPr>
          <p:sp>
            <p:nvSpPr>
              <p:cNvPr id="1013" name=""/>
              <p:cNvSpPr/>
              <p:nvPr/>
            </p:nvSpPr>
            <p:spPr>
              <a:xfrm>
                <a:off x="6629400" y="3679920"/>
                <a:ext cx="1361520" cy="924480"/>
              </a:xfrm>
              <a:custGeom>
                <a:avLst/>
                <a:gdLst/>
                <a:ahLst/>
                <a:rect l="l" t="t" r="r" b="b"/>
                <a:pathLst>
                  <a:path w="2228" h="1507">
                    <a:moveTo>
                      <a:pt x="1080" y="5"/>
                    </a:moveTo>
                    <a:lnTo>
                      <a:pt x="1071" y="4"/>
                    </a:lnTo>
                    <a:lnTo>
                      <a:pt x="1047" y="2"/>
                    </a:lnTo>
                    <a:lnTo>
                      <a:pt x="1008" y="1"/>
                    </a:lnTo>
                    <a:lnTo>
                      <a:pt x="958" y="1"/>
                    </a:lnTo>
                    <a:lnTo>
                      <a:pt x="898" y="0"/>
                    </a:lnTo>
                    <a:lnTo>
                      <a:pt x="832" y="0"/>
                    </a:lnTo>
                    <a:lnTo>
                      <a:pt x="760" y="2"/>
                    </a:lnTo>
                    <a:lnTo>
                      <a:pt x="685" y="8"/>
                    </a:lnTo>
                    <a:lnTo>
                      <a:pt x="608" y="13"/>
                    </a:lnTo>
                    <a:lnTo>
                      <a:pt x="533" y="22"/>
                    </a:lnTo>
                    <a:lnTo>
                      <a:pt x="461" y="32"/>
                    </a:lnTo>
                    <a:lnTo>
                      <a:pt x="396" y="48"/>
                    </a:lnTo>
                    <a:lnTo>
                      <a:pt x="336" y="66"/>
                    </a:lnTo>
                    <a:lnTo>
                      <a:pt x="288" y="88"/>
                    </a:lnTo>
                    <a:lnTo>
                      <a:pt x="251" y="116"/>
                    </a:lnTo>
                    <a:lnTo>
                      <a:pt x="230" y="149"/>
                    </a:lnTo>
                    <a:lnTo>
                      <a:pt x="217" y="184"/>
                    </a:lnTo>
                    <a:lnTo>
                      <a:pt x="210" y="225"/>
                    </a:lnTo>
                    <a:lnTo>
                      <a:pt x="204" y="269"/>
                    </a:lnTo>
                    <a:lnTo>
                      <a:pt x="204" y="314"/>
                    </a:lnTo>
                    <a:lnTo>
                      <a:pt x="206" y="361"/>
                    </a:lnTo>
                    <a:lnTo>
                      <a:pt x="210" y="409"/>
                    </a:lnTo>
                    <a:lnTo>
                      <a:pt x="214" y="456"/>
                    </a:lnTo>
                    <a:lnTo>
                      <a:pt x="219" y="502"/>
                    </a:lnTo>
                    <a:lnTo>
                      <a:pt x="221" y="545"/>
                    </a:lnTo>
                    <a:lnTo>
                      <a:pt x="224" y="586"/>
                    </a:lnTo>
                    <a:lnTo>
                      <a:pt x="224" y="624"/>
                    </a:lnTo>
                    <a:lnTo>
                      <a:pt x="221" y="656"/>
                    </a:lnTo>
                    <a:lnTo>
                      <a:pt x="215" y="683"/>
                    </a:lnTo>
                    <a:lnTo>
                      <a:pt x="204" y="705"/>
                    </a:lnTo>
                    <a:lnTo>
                      <a:pt x="189" y="720"/>
                    </a:lnTo>
                    <a:lnTo>
                      <a:pt x="168" y="726"/>
                    </a:lnTo>
                    <a:lnTo>
                      <a:pt x="143" y="731"/>
                    </a:lnTo>
                    <a:lnTo>
                      <a:pt x="120" y="746"/>
                    </a:lnTo>
                    <a:lnTo>
                      <a:pt x="97" y="765"/>
                    </a:lnTo>
                    <a:lnTo>
                      <a:pt x="78" y="792"/>
                    </a:lnTo>
                    <a:lnTo>
                      <a:pt x="60" y="823"/>
                    </a:lnTo>
                    <a:lnTo>
                      <a:pt x="44" y="860"/>
                    </a:lnTo>
                    <a:lnTo>
                      <a:pt x="31" y="897"/>
                    </a:lnTo>
                    <a:lnTo>
                      <a:pt x="20" y="937"/>
                    </a:lnTo>
                    <a:lnTo>
                      <a:pt x="11" y="976"/>
                    </a:lnTo>
                    <a:lnTo>
                      <a:pt x="3" y="1016"/>
                    </a:lnTo>
                    <a:lnTo>
                      <a:pt x="0" y="1054"/>
                    </a:lnTo>
                    <a:lnTo>
                      <a:pt x="0" y="1090"/>
                    </a:lnTo>
                    <a:lnTo>
                      <a:pt x="1" y="1121"/>
                    </a:lnTo>
                    <a:lnTo>
                      <a:pt x="7" y="1148"/>
                    </a:lnTo>
                    <a:lnTo>
                      <a:pt x="17" y="1169"/>
                    </a:lnTo>
                    <a:lnTo>
                      <a:pt x="28" y="1183"/>
                    </a:lnTo>
                    <a:lnTo>
                      <a:pt x="41" y="1195"/>
                    </a:lnTo>
                    <a:lnTo>
                      <a:pt x="52" y="1208"/>
                    </a:lnTo>
                    <a:lnTo>
                      <a:pt x="61" y="1222"/>
                    </a:lnTo>
                    <a:lnTo>
                      <a:pt x="69" y="1239"/>
                    </a:lnTo>
                    <a:lnTo>
                      <a:pt x="74" y="1254"/>
                    </a:lnTo>
                    <a:lnTo>
                      <a:pt x="80" y="1271"/>
                    </a:lnTo>
                    <a:lnTo>
                      <a:pt x="83" y="1288"/>
                    </a:lnTo>
                    <a:lnTo>
                      <a:pt x="86" y="1306"/>
                    </a:lnTo>
                    <a:lnTo>
                      <a:pt x="87" y="1322"/>
                    </a:lnTo>
                    <a:lnTo>
                      <a:pt x="88" y="1336"/>
                    </a:lnTo>
                    <a:lnTo>
                      <a:pt x="88" y="1350"/>
                    </a:lnTo>
                    <a:lnTo>
                      <a:pt x="88" y="1362"/>
                    </a:lnTo>
                    <a:lnTo>
                      <a:pt x="88" y="1372"/>
                    </a:lnTo>
                    <a:lnTo>
                      <a:pt x="88" y="1380"/>
                    </a:lnTo>
                    <a:lnTo>
                      <a:pt x="88" y="1385"/>
                    </a:lnTo>
                    <a:lnTo>
                      <a:pt x="88" y="1386"/>
                    </a:lnTo>
                    <a:lnTo>
                      <a:pt x="2225" y="1507"/>
                    </a:lnTo>
                    <a:lnTo>
                      <a:pt x="2225" y="1503"/>
                    </a:lnTo>
                    <a:lnTo>
                      <a:pt x="2225" y="1493"/>
                    </a:lnTo>
                    <a:lnTo>
                      <a:pt x="2227" y="1477"/>
                    </a:lnTo>
                    <a:lnTo>
                      <a:pt x="2228" y="1456"/>
                    </a:lnTo>
                    <a:lnTo>
                      <a:pt x="2228" y="1431"/>
                    </a:lnTo>
                    <a:lnTo>
                      <a:pt x="2228" y="1403"/>
                    </a:lnTo>
                    <a:lnTo>
                      <a:pt x="2227" y="1372"/>
                    </a:lnTo>
                    <a:lnTo>
                      <a:pt x="2225" y="1341"/>
                    </a:lnTo>
                    <a:lnTo>
                      <a:pt x="2219" y="1306"/>
                    </a:lnTo>
                    <a:lnTo>
                      <a:pt x="2211" y="1273"/>
                    </a:lnTo>
                    <a:lnTo>
                      <a:pt x="2199" y="1239"/>
                    </a:lnTo>
                    <a:lnTo>
                      <a:pt x="2186" y="1207"/>
                    </a:lnTo>
                    <a:lnTo>
                      <a:pt x="2168" y="1175"/>
                    </a:lnTo>
                    <a:lnTo>
                      <a:pt x="2147" y="1150"/>
                    </a:lnTo>
                    <a:lnTo>
                      <a:pt x="2121" y="1125"/>
                    </a:lnTo>
                    <a:lnTo>
                      <a:pt x="2090" y="1107"/>
                    </a:lnTo>
                    <a:lnTo>
                      <a:pt x="2058" y="1086"/>
                    </a:lnTo>
                    <a:lnTo>
                      <a:pt x="2032" y="1062"/>
                    </a:lnTo>
                    <a:lnTo>
                      <a:pt x="2011" y="1034"/>
                    </a:lnTo>
                    <a:lnTo>
                      <a:pt x="1996" y="1003"/>
                    </a:lnTo>
                    <a:lnTo>
                      <a:pt x="1984" y="968"/>
                    </a:lnTo>
                    <a:lnTo>
                      <a:pt x="1976" y="932"/>
                    </a:lnTo>
                    <a:lnTo>
                      <a:pt x="1972" y="896"/>
                    </a:lnTo>
                    <a:lnTo>
                      <a:pt x="1972" y="857"/>
                    </a:lnTo>
                    <a:lnTo>
                      <a:pt x="1975" y="818"/>
                    </a:lnTo>
                    <a:lnTo>
                      <a:pt x="1983" y="779"/>
                    </a:lnTo>
                    <a:lnTo>
                      <a:pt x="1992" y="740"/>
                    </a:lnTo>
                    <a:lnTo>
                      <a:pt x="2005" y="705"/>
                    </a:lnTo>
                    <a:lnTo>
                      <a:pt x="2018" y="669"/>
                    </a:lnTo>
                    <a:lnTo>
                      <a:pt x="2036" y="638"/>
                    </a:lnTo>
                    <a:lnTo>
                      <a:pt x="2056" y="608"/>
                    </a:lnTo>
                    <a:lnTo>
                      <a:pt x="2078" y="584"/>
                    </a:lnTo>
                    <a:lnTo>
                      <a:pt x="2096" y="558"/>
                    </a:lnTo>
                    <a:lnTo>
                      <a:pt x="2109" y="533"/>
                    </a:lnTo>
                    <a:lnTo>
                      <a:pt x="2116" y="509"/>
                    </a:lnTo>
                    <a:lnTo>
                      <a:pt x="2117" y="485"/>
                    </a:lnTo>
                    <a:lnTo>
                      <a:pt x="2112" y="460"/>
                    </a:lnTo>
                    <a:lnTo>
                      <a:pt x="2103" y="436"/>
                    </a:lnTo>
                    <a:lnTo>
                      <a:pt x="2088" y="413"/>
                    </a:lnTo>
                    <a:lnTo>
                      <a:pt x="2070" y="392"/>
                    </a:lnTo>
                    <a:lnTo>
                      <a:pt x="2047" y="371"/>
                    </a:lnTo>
                    <a:lnTo>
                      <a:pt x="2018" y="353"/>
                    </a:lnTo>
                    <a:lnTo>
                      <a:pt x="1987" y="337"/>
                    </a:lnTo>
                    <a:lnTo>
                      <a:pt x="1953" y="322"/>
                    </a:lnTo>
                    <a:lnTo>
                      <a:pt x="1913" y="309"/>
                    </a:lnTo>
                    <a:lnTo>
                      <a:pt x="1872" y="300"/>
                    </a:lnTo>
                    <a:lnTo>
                      <a:pt x="1827" y="294"/>
                    </a:lnTo>
                    <a:lnTo>
                      <a:pt x="1780" y="292"/>
                    </a:lnTo>
                    <a:lnTo>
                      <a:pt x="1735" y="290"/>
                    </a:lnTo>
                    <a:lnTo>
                      <a:pt x="1696" y="285"/>
                    </a:lnTo>
                    <a:lnTo>
                      <a:pt x="1662" y="278"/>
                    </a:lnTo>
                    <a:lnTo>
                      <a:pt x="1637" y="273"/>
                    </a:lnTo>
                    <a:lnTo>
                      <a:pt x="1616" y="263"/>
                    </a:lnTo>
                    <a:lnTo>
                      <a:pt x="1600" y="255"/>
                    </a:lnTo>
                    <a:lnTo>
                      <a:pt x="1591" y="245"/>
                    </a:lnTo>
                    <a:lnTo>
                      <a:pt x="1589" y="236"/>
                    </a:lnTo>
                    <a:lnTo>
                      <a:pt x="1589" y="225"/>
                    </a:lnTo>
                    <a:lnTo>
                      <a:pt x="1595" y="215"/>
                    </a:lnTo>
                    <a:lnTo>
                      <a:pt x="1606" y="206"/>
                    </a:lnTo>
                    <a:lnTo>
                      <a:pt x="1621" y="198"/>
                    </a:lnTo>
                    <a:lnTo>
                      <a:pt x="1641" y="190"/>
                    </a:lnTo>
                    <a:lnTo>
                      <a:pt x="1664" y="185"/>
                    </a:lnTo>
                    <a:lnTo>
                      <a:pt x="1693" y="181"/>
                    </a:lnTo>
                    <a:lnTo>
                      <a:pt x="1724" y="179"/>
                    </a:lnTo>
                    <a:lnTo>
                      <a:pt x="1756" y="176"/>
                    </a:lnTo>
                    <a:lnTo>
                      <a:pt x="1786" y="171"/>
                    </a:lnTo>
                    <a:lnTo>
                      <a:pt x="1812" y="166"/>
                    </a:lnTo>
                    <a:lnTo>
                      <a:pt x="1838" y="158"/>
                    </a:lnTo>
                    <a:lnTo>
                      <a:pt x="1860" y="147"/>
                    </a:lnTo>
                    <a:lnTo>
                      <a:pt x="1880" y="137"/>
                    </a:lnTo>
                    <a:lnTo>
                      <a:pt x="1895" y="127"/>
                    </a:lnTo>
                    <a:lnTo>
                      <a:pt x="1910" y="115"/>
                    </a:lnTo>
                    <a:lnTo>
                      <a:pt x="1919" y="103"/>
                    </a:lnTo>
                    <a:lnTo>
                      <a:pt x="1927" y="92"/>
                    </a:lnTo>
                    <a:lnTo>
                      <a:pt x="1930" y="81"/>
                    </a:lnTo>
                    <a:lnTo>
                      <a:pt x="1932" y="72"/>
                    </a:lnTo>
                    <a:lnTo>
                      <a:pt x="1928" y="63"/>
                    </a:lnTo>
                    <a:lnTo>
                      <a:pt x="1921" y="57"/>
                    </a:lnTo>
                    <a:lnTo>
                      <a:pt x="1911" y="52"/>
                    </a:lnTo>
                    <a:lnTo>
                      <a:pt x="1898" y="48"/>
                    </a:lnTo>
                    <a:lnTo>
                      <a:pt x="1874" y="45"/>
                    </a:lnTo>
                    <a:lnTo>
                      <a:pt x="1838" y="43"/>
                    </a:lnTo>
                    <a:lnTo>
                      <a:pt x="1790" y="39"/>
                    </a:lnTo>
                    <a:lnTo>
                      <a:pt x="1733" y="36"/>
                    </a:lnTo>
                    <a:lnTo>
                      <a:pt x="1668" y="32"/>
                    </a:lnTo>
                    <a:lnTo>
                      <a:pt x="1600" y="28"/>
                    </a:lnTo>
                    <a:lnTo>
                      <a:pt x="1529" y="24"/>
                    </a:lnTo>
                    <a:lnTo>
                      <a:pt x="1456" y="22"/>
                    </a:lnTo>
                    <a:lnTo>
                      <a:pt x="1384" y="18"/>
                    </a:lnTo>
                    <a:lnTo>
                      <a:pt x="1316" y="15"/>
                    </a:lnTo>
                    <a:lnTo>
                      <a:pt x="1252" y="12"/>
                    </a:lnTo>
                    <a:lnTo>
                      <a:pt x="1196" y="10"/>
                    </a:lnTo>
                    <a:lnTo>
                      <a:pt x="1148" y="8"/>
                    </a:lnTo>
                    <a:lnTo>
                      <a:pt x="1111" y="6"/>
                    </a:lnTo>
                    <a:lnTo>
                      <a:pt x="1088" y="5"/>
                    </a:lnTo>
                    <a:lnTo>
                      <a:pt x="1080" y="5"/>
                    </a:lnTo>
                    <a:lnTo>
                      <a:pt x="1080" y="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023240" y="4177800"/>
                <a:ext cx="105120" cy="318240"/>
              </a:xfrm>
              <a:custGeom>
                <a:avLst/>
                <a:gdLst/>
                <a:ahLst/>
                <a:rect l="l" t="t" r="r" b="b"/>
                <a:pathLst>
                  <a:path w="171" h="521">
                    <a:moveTo>
                      <a:pt x="45" y="0"/>
                    </a:moveTo>
                    <a:lnTo>
                      <a:pt x="44" y="4"/>
                    </a:lnTo>
                    <a:lnTo>
                      <a:pt x="41" y="18"/>
                    </a:lnTo>
                    <a:lnTo>
                      <a:pt x="37" y="40"/>
                    </a:lnTo>
                    <a:lnTo>
                      <a:pt x="33" y="69"/>
                    </a:lnTo>
                    <a:lnTo>
                      <a:pt x="27" y="102"/>
                    </a:lnTo>
                    <a:lnTo>
                      <a:pt x="21" y="141"/>
                    </a:lnTo>
                    <a:lnTo>
                      <a:pt x="16" y="183"/>
                    </a:lnTo>
                    <a:lnTo>
                      <a:pt x="11" y="227"/>
                    </a:lnTo>
                    <a:lnTo>
                      <a:pt x="6" y="271"/>
                    </a:lnTo>
                    <a:lnTo>
                      <a:pt x="3" y="316"/>
                    </a:lnTo>
                    <a:lnTo>
                      <a:pt x="0" y="359"/>
                    </a:lnTo>
                    <a:lnTo>
                      <a:pt x="0" y="400"/>
                    </a:lnTo>
                    <a:lnTo>
                      <a:pt x="2" y="436"/>
                    </a:lnTo>
                    <a:lnTo>
                      <a:pt x="6" y="469"/>
                    </a:lnTo>
                    <a:lnTo>
                      <a:pt x="12" y="495"/>
                    </a:lnTo>
                    <a:lnTo>
                      <a:pt x="23" y="514"/>
                    </a:lnTo>
                    <a:lnTo>
                      <a:pt x="171" y="521"/>
                    </a:lnTo>
                    <a:lnTo>
                      <a:pt x="152" y="39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59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651720" y="4569840"/>
                <a:ext cx="363960" cy="63720"/>
              </a:xfrm>
              <a:custGeom>
                <a:avLst/>
                <a:gdLst/>
                <a:ahLst/>
                <a:rect l="l" t="t" r="r" b="b"/>
                <a:pathLst>
                  <a:path w="596" h="104">
                    <a:moveTo>
                      <a:pt x="449" y="82"/>
                    </a:moveTo>
                    <a:lnTo>
                      <a:pt x="446" y="83"/>
                    </a:lnTo>
                    <a:lnTo>
                      <a:pt x="442" y="90"/>
                    </a:lnTo>
                    <a:lnTo>
                      <a:pt x="438" y="91"/>
                    </a:lnTo>
                    <a:lnTo>
                      <a:pt x="434" y="95"/>
                    </a:lnTo>
                    <a:lnTo>
                      <a:pt x="429" y="99"/>
                    </a:lnTo>
                    <a:lnTo>
                      <a:pt x="425" y="101"/>
                    </a:lnTo>
                    <a:lnTo>
                      <a:pt x="419" y="103"/>
                    </a:lnTo>
                    <a:lnTo>
                      <a:pt x="412" y="104"/>
                    </a:lnTo>
                    <a:lnTo>
                      <a:pt x="406" y="103"/>
                    </a:lnTo>
                    <a:lnTo>
                      <a:pt x="398" y="103"/>
                    </a:lnTo>
                    <a:lnTo>
                      <a:pt x="390" y="99"/>
                    </a:lnTo>
                    <a:lnTo>
                      <a:pt x="382" y="93"/>
                    </a:lnTo>
                    <a:lnTo>
                      <a:pt x="373" y="86"/>
                    </a:lnTo>
                    <a:lnTo>
                      <a:pt x="365" y="77"/>
                    </a:lnTo>
                    <a:lnTo>
                      <a:pt x="155" y="74"/>
                    </a:lnTo>
                    <a:lnTo>
                      <a:pt x="0" y="101"/>
                    </a:lnTo>
                    <a:lnTo>
                      <a:pt x="49" y="35"/>
                    </a:lnTo>
                    <a:lnTo>
                      <a:pt x="122" y="0"/>
                    </a:lnTo>
                    <a:lnTo>
                      <a:pt x="402" y="3"/>
                    </a:lnTo>
                    <a:lnTo>
                      <a:pt x="596" y="99"/>
                    </a:lnTo>
                    <a:lnTo>
                      <a:pt x="548" y="88"/>
                    </a:lnTo>
                    <a:lnTo>
                      <a:pt x="449" y="82"/>
                    </a:lnTo>
                    <a:lnTo>
                      <a:pt x="449" y="82"/>
                    </a:lnTo>
                    <a:close/>
                  </a:path>
                </a:pathLst>
              </a:custGeom>
              <a:solidFill>
                <a:srgbClr val="264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602400" y="4489200"/>
                <a:ext cx="1388880" cy="337680"/>
              </a:xfrm>
              <a:custGeom>
                <a:avLst/>
                <a:gdLst/>
                <a:ahLst/>
                <a:rect l="l" t="t" r="r" b="b"/>
                <a:pathLst>
                  <a:path w="2272" h="549">
                    <a:moveTo>
                      <a:pt x="366" y="0"/>
                    </a:moveTo>
                    <a:lnTo>
                      <a:pt x="1937" y="114"/>
                    </a:lnTo>
                    <a:lnTo>
                      <a:pt x="1940" y="114"/>
                    </a:lnTo>
                    <a:lnTo>
                      <a:pt x="1950" y="113"/>
                    </a:lnTo>
                    <a:lnTo>
                      <a:pt x="1966" y="112"/>
                    </a:lnTo>
                    <a:lnTo>
                      <a:pt x="1988" y="112"/>
                    </a:lnTo>
                    <a:lnTo>
                      <a:pt x="2014" y="110"/>
                    </a:lnTo>
                    <a:lnTo>
                      <a:pt x="2041" y="110"/>
                    </a:lnTo>
                    <a:lnTo>
                      <a:pt x="2071" y="110"/>
                    </a:lnTo>
                    <a:lnTo>
                      <a:pt x="2104" y="113"/>
                    </a:lnTo>
                    <a:lnTo>
                      <a:pt x="2135" y="114"/>
                    </a:lnTo>
                    <a:lnTo>
                      <a:pt x="2165" y="119"/>
                    </a:lnTo>
                    <a:lnTo>
                      <a:pt x="2193" y="124"/>
                    </a:lnTo>
                    <a:lnTo>
                      <a:pt x="2219" y="134"/>
                    </a:lnTo>
                    <a:lnTo>
                      <a:pt x="2240" y="143"/>
                    </a:lnTo>
                    <a:lnTo>
                      <a:pt x="2257" y="154"/>
                    </a:lnTo>
                    <a:lnTo>
                      <a:pt x="2268" y="170"/>
                    </a:lnTo>
                    <a:lnTo>
                      <a:pt x="2272" y="188"/>
                    </a:lnTo>
                    <a:lnTo>
                      <a:pt x="2270" y="207"/>
                    </a:lnTo>
                    <a:lnTo>
                      <a:pt x="2264" y="229"/>
                    </a:lnTo>
                    <a:lnTo>
                      <a:pt x="2255" y="251"/>
                    </a:lnTo>
                    <a:lnTo>
                      <a:pt x="2245" y="275"/>
                    </a:lnTo>
                    <a:lnTo>
                      <a:pt x="2229" y="297"/>
                    </a:lnTo>
                    <a:lnTo>
                      <a:pt x="2214" y="320"/>
                    </a:lnTo>
                    <a:lnTo>
                      <a:pt x="2195" y="342"/>
                    </a:lnTo>
                    <a:lnTo>
                      <a:pt x="2173" y="364"/>
                    </a:lnTo>
                    <a:lnTo>
                      <a:pt x="2151" y="382"/>
                    </a:lnTo>
                    <a:lnTo>
                      <a:pt x="2125" y="400"/>
                    </a:lnTo>
                    <a:lnTo>
                      <a:pt x="2099" y="416"/>
                    </a:lnTo>
                    <a:lnTo>
                      <a:pt x="2071" y="429"/>
                    </a:lnTo>
                    <a:lnTo>
                      <a:pt x="2041" y="436"/>
                    </a:lnTo>
                    <a:lnTo>
                      <a:pt x="2011" y="442"/>
                    </a:lnTo>
                    <a:lnTo>
                      <a:pt x="1981" y="442"/>
                    </a:lnTo>
                    <a:lnTo>
                      <a:pt x="1951" y="438"/>
                    </a:lnTo>
                    <a:lnTo>
                      <a:pt x="1914" y="430"/>
                    </a:lnTo>
                    <a:lnTo>
                      <a:pt x="1864" y="425"/>
                    </a:lnTo>
                    <a:lnTo>
                      <a:pt x="1805" y="418"/>
                    </a:lnTo>
                    <a:lnTo>
                      <a:pt x="1740" y="416"/>
                    </a:lnTo>
                    <a:lnTo>
                      <a:pt x="1667" y="411"/>
                    </a:lnTo>
                    <a:lnTo>
                      <a:pt x="1591" y="408"/>
                    </a:lnTo>
                    <a:lnTo>
                      <a:pt x="1514" y="407"/>
                    </a:lnTo>
                    <a:lnTo>
                      <a:pt x="1437" y="407"/>
                    </a:lnTo>
                    <a:lnTo>
                      <a:pt x="1360" y="407"/>
                    </a:lnTo>
                    <a:lnTo>
                      <a:pt x="1290" y="408"/>
                    </a:lnTo>
                    <a:lnTo>
                      <a:pt x="1223" y="411"/>
                    </a:lnTo>
                    <a:lnTo>
                      <a:pt x="1167" y="416"/>
                    </a:lnTo>
                    <a:lnTo>
                      <a:pt x="1119" y="418"/>
                    </a:lnTo>
                    <a:lnTo>
                      <a:pt x="1082" y="426"/>
                    </a:lnTo>
                    <a:lnTo>
                      <a:pt x="1060" y="433"/>
                    </a:lnTo>
                    <a:lnTo>
                      <a:pt x="1054" y="443"/>
                    </a:lnTo>
                    <a:lnTo>
                      <a:pt x="1055" y="452"/>
                    </a:lnTo>
                    <a:lnTo>
                      <a:pt x="1059" y="464"/>
                    </a:lnTo>
                    <a:lnTo>
                      <a:pt x="1063" y="474"/>
                    </a:lnTo>
                    <a:lnTo>
                      <a:pt x="1068" y="486"/>
                    </a:lnTo>
                    <a:lnTo>
                      <a:pt x="1071" y="496"/>
                    </a:lnTo>
                    <a:lnTo>
                      <a:pt x="1073" y="506"/>
                    </a:lnTo>
                    <a:lnTo>
                      <a:pt x="1073" y="515"/>
                    </a:lnTo>
                    <a:lnTo>
                      <a:pt x="1072" y="526"/>
                    </a:lnTo>
                    <a:lnTo>
                      <a:pt x="1066" y="532"/>
                    </a:lnTo>
                    <a:lnTo>
                      <a:pt x="1056" y="540"/>
                    </a:lnTo>
                    <a:lnTo>
                      <a:pt x="1041" y="544"/>
                    </a:lnTo>
                    <a:lnTo>
                      <a:pt x="1021" y="548"/>
                    </a:lnTo>
                    <a:lnTo>
                      <a:pt x="994" y="549"/>
                    </a:lnTo>
                    <a:lnTo>
                      <a:pt x="961" y="548"/>
                    </a:lnTo>
                    <a:lnTo>
                      <a:pt x="919" y="544"/>
                    </a:lnTo>
                    <a:lnTo>
                      <a:pt x="871" y="539"/>
                    </a:lnTo>
                    <a:lnTo>
                      <a:pt x="812" y="531"/>
                    </a:lnTo>
                    <a:lnTo>
                      <a:pt x="750" y="525"/>
                    </a:lnTo>
                    <a:lnTo>
                      <a:pt x="683" y="517"/>
                    </a:lnTo>
                    <a:lnTo>
                      <a:pt x="614" y="510"/>
                    </a:lnTo>
                    <a:lnTo>
                      <a:pt x="541" y="502"/>
                    </a:lnTo>
                    <a:lnTo>
                      <a:pt x="471" y="496"/>
                    </a:lnTo>
                    <a:lnTo>
                      <a:pt x="399" y="488"/>
                    </a:lnTo>
                    <a:lnTo>
                      <a:pt x="330" y="480"/>
                    </a:lnTo>
                    <a:lnTo>
                      <a:pt x="264" y="471"/>
                    </a:lnTo>
                    <a:lnTo>
                      <a:pt x="202" y="462"/>
                    </a:lnTo>
                    <a:lnTo>
                      <a:pt x="147" y="452"/>
                    </a:lnTo>
                    <a:lnTo>
                      <a:pt x="99" y="442"/>
                    </a:lnTo>
                    <a:lnTo>
                      <a:pt x="58" y="430"/>
                    </a:lnTo>
                    <a:lnTo>
                      <a:pt x="27" y="417"/>
                    </a:lnTo>
                    <a:lnTo>
                      <a:pt x="7" y="403"/>
                    </a:lnTo>
                    <a:lnTo>
                      <a:pt x="1" y="389"/>
                    </a:lnTo>
                    <a:lnTo>
                      <a:pt x="0" y="370"/>
                    </a:lnTo>
                    <a:lnTo>
                      <a:pt x="1" y="351"/>
                    </a:lnTo>
                    <a:lnTo>
                      <a:pt x="4" y="329"/>
                    </a:lnTo>
                    <a:lnTo>
                      <a:pt x="7" y="308"/>
                    </a:lnTo>
                    <a:lnTo>
                      <a:pt x="11" y="284"/>
                    </a:lnTo>
                    <a:lnTo>
                      <a:pt x="19" y="260"/>
                    </a:lnTo>
                    <a:lnTo>
                      <a:pt x="26" y="235"/>
                    </a:lnTo>
                    <a:lnTo>
                      <a:pt x="35" y="212"/>
                    </a:lnTo>
                    <a:lnTo>
                      <a:pt x="44" y="187"/>
                    </a:lnTo>
                    <a:lnTo>
                      <a:pt x="54" y="165"/>
                    </a:lnTo>
                    <a:lnTo>
                      <a:pt x="65" y="143"/>
                    </a:lnTo>
                    <a:lnTo>
                      <a:pt x="79" y="123"/>
                    </a:lnTo>
                    <a:lnTo>
                      <a:pt x="91" y="105"/>
                    </a:lnTo>
                    <a:lnTo>
                      <a:pt x="105" y="89"/>
                    </a:lnTo>
                    <a:lnTo>
                      <a:pt x="120" y="78"/>
                    </a:lnTo>
                    <a:lnTo>
                      <a:pt x="135" y="67"/>
                    </a:lnTo>
                    <a:lnTo>
                      <a:pt x="150" y="60"/>
                    </a:lnTo>
                    <a:lnTo>
                      <a:pt x="167" y="52"/>
                    </a:lnTo>
                    <a:lnTo>
                      <a:pt x="185" y="45"/>
                    </a:lnTo>
                    <a:lnTo>
                      <a:pt x="204" y="39"/>
                    </a:lnTo>
                    <a:lnTo>
                      <a:pt x="223" y="31"/>
                    </a:lnTo>
                    <a:lnTo>
                      <a:pt x="242" y="27"/>
                    </a:lnTo>
                    <a:lnTo>
                      <a:pt x="261" y="22"/>
                    </a:lnTo>
                    <a:lnTo>
                      <a:pt x="280" y="18"/>
                    </a:lnTo>
                    <a:lnTo>
                      <a:pt x="297" y="13"/>
                    </a:lnTo>
                    <a:lnTo>
                      <a:pt x="314" y="9"/>
                    </a:lnTo>
                    <a:lnTo>
                      <a:pt x="327" y="7"/>
                    </a:lnTo>
                    <a:lnTo>
                      <a:pt x="341" y="4"/>
                    </a:lnTo>
                    <a:lnTo>
                      <a:pt x="351" y="1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323480" y="4646160"/>
                <a:ext cx="207720" cy="608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113" y="0"/>
                    </a:moveTo>
                    <a:lnTo>
                      <a:pt x="112" y="0"/>
                    </a:lnTo>
                    <a:lnTo>
                      <a:pt x="108" y="0"/>
                    </a:lnTo>
                    <a:lnTo>
                      <a:pt x="101" y="3"/>
                    </a:lnTo>
                    <a:lnTo>
                      <a:pt x="94" y="5"/>
                    </a:lnTo>
                    <a:lnTo>
                      <a:pt x="84" y="7"/>
                    </a:lnTo>
                    <a:lnTo>
                      <a:pt x="74" y="11"/>
                    </a:lnTo>
                    <a:lnTo>
                      <a:pt x="64" y="14"/>
                    </a:lnTo>
                    <a:lnTo>
                      <a:pt x="53" y="18"/>
                    </a:lnTo>
                    <a:lnTo>
                      <a:pt x="41" y="22"/>
                    </a:lnTo>
                    <a:lnTo>
                      <a:pt x="31" y="26"/>
                    </a:lnTo>
                    <a:lnTo>
                      <a:pt x="22" y="31"/>
                    </a:lnTo>
                    <a:lnTo>
                      <a:pt x="14" y="35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1" y="52"/>
                    </a:lnTo>
                    <a:lnTo>
                      <a:pt x="5" y="56"/>
                    </a:lnTo>
                    <a:lnTo>
                      <a:pt x="14" y="60"/>
                    </a:lnTo>
                    <a:lnTo>
                      <a:pt x="27" y="66"/>
                    </a:lnTo>
                    <a:lnTo>
                      <a:pt x="44" y="71"/>
                    </a:lnTo>
                    <a:lnTo>
                      <a:pt x="62" y="78"/>
                    </a:lnTo>
                    <a:lnTo>
                      <a:pt x="84" y="83"/>
                    </a:lnTo>
                    <a:lnTo>
                      <a:pt x="109" y="88"/>
                    </a:lnTo>
                    <a:lnTo>
                      <a:pt x="135" y="93"/>
                    </a:lnTo>
                    <a:lnTo>
                      <a:pt x="161" y="97"/>
                    </a:lnTo>
                    <a:lnTo>
                      <a:pt x="189" y="99"/>
                    </a:lnTo>
                    <a:lnTo>
                      <a:pt x="216" y="99"/>
                    </a:lnTo>
                    <a:lnTo>
                      <a:pt x="244" y="97"/>
                    </a:lnTo>
                    <a:lnTo>
                      <a:pt x="270" y="92"/>
                    </a:lnTo>
                    <a:lnTo>
                      <a:pt x="294" y="86"/>
                    </a:lnTo>
                    <a:lnTo>
                      <a:pt x="317" y="75"/>
                    </a:lnTo>
                    <a:lnTo>
                      <a:pt x="339" y="64"/>
                    </a:lnTo>
                    <a:lnTo>
                      <a:pt x="340" y="61"/>
                    </a:lnTo>
                    <a:lnTo>
                      <a:pt x="340" y="56"/>
                    </a:lnTo>
                    <a:lnTo>
                      <a:pt x="340" y="53"/>
                    </a:lnTo>
                    <a:lnTo>
                      <a:pt x="340" y="49"/>
                    </a:lnTo>
                    <a:lnTo>
                      <a:pt x="339" y="44"/>
                    </a:lnTo>
                    <a:lnTo>
                      <a:pt x="336" y="42"/>
                    </a:lnTo>
                    <a:lnTo>
                      <a:pt x="332" y="35"/>
                    </a:lnTo>
                    <a:lnTo>
                      <a:pt x="327" y="30"/>
                    </a:lnTo>
                    <a:lnTo>
                      <a:pt x="319" y="25"/>
                    </a:lnTo>
                    <a:lnTo>
                      <a:pt x="309" y="20"/>
                    </a:lnTo>
                    <a:lnTo>
                      <a:pt x="296" y="14"/>
                    </a:lnTo>
                    <a:lnTo>
                      <a:pt x="281" y="9"/>
                    </a:lnTo>
                    <a:lnTo>
                      <a:pt x="263" y="5"/>
                    </a:lnTo>
                    <a:lnTo>
                      <a:pt x="242" y="0"/>
                    </a:lnTo>
                    <a:lnTo>
                      <a:pt x="1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5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891120" y="4572720"/>
                <a:ext cx="376200" cy="75600"/>
              </a:xfrm>
              <a:custGeom>
                <a:avLst/>
                <a:gdLst/>
                <a:ahLst/>
                <a:rect l="l" t="t" r="r" b="b"/>
                <a:pathLst>
                  <a:path w="618" h="125">
                    <a:moveTo>
                      <a:pt x="30" y="67"/>
                    </a:moveTo>
                    <a:lnTo>
                      <a:pt x="33" y="67"/>
                    </a:lnTo>
                    <a:lnTo>
                      <a:pt x="36" y="67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6" y="71"/>
                    </a:lnTo>
                    <a:lnTo>
                      <a:pt x="65" y="74"/>
                    </a:lnTo>
                    <a:lnTo>
                      <a:pt x="74" y="77"/>
                    </a:lnTo>
                    <a:lnTo>
                      <a:pt x="83" y="79"/>
                    </a:lnTo>
                    <a:lnTo>
                      <a:pt x="93" y="83"/>
                    </a:lnTo>
                    <a:lnTo>
                      <a:pt x="103" y="85"/>
                    </a:lnTo>
                    <a:lnTo>
                      <a:pt x="113" y="90"/>
                    </a:lnTo>
                    <a:lnTo>
                      <a:pt x="123" y="94"/>
                    </a:lnTo>
                    <a:lnTo>
                      <a:pt x="132" y="98"/>
                    </a:lnTo>
                    <a:lnTo>
                      <a:pt x="141" y="103"/>
                    </a:lnTo>
                    <a:lnTo>
                      <a:pt x="149" y="110"/>
                    </a:lnTo>
                    <a:lnTo>
                      <a:pt x="159" y="114"/>
                    </a:lnTo>
                    <a:lnTo>
                      <a:pt x="175" y="118"/>
                    </a:lnTo>
                    <a:lnTo>
                      <a:pt x="194" y="120"/>
                    </a:lnTo>
                    <a:lnTo>
                      <a:pt x="218" y="123"/>
                    </a:lnTo>
                    <a:lnTo>
                      <a:pt x="243" y="123"/>
                    </a:lnTo>
                    <a:lnTo>
                      <a:pt x="271" y="125"/>
                    </a:lnTo>
                    <a:lnTo>
                      <a:pt x="300" y="125"/>
                    </a:lnTo>
                    <a:lnTo>
                      <a:pt x="330" y="125"/>
                    </a:lnTo>
                    <a:lnTo>
                      <a:pt x="357" y="123"/>
                    </a:lnTo>
                    <a:lnTo>
                      <a:pt x="386" y="123"/>
                    </a:lnTo>
                    <a:lnTo>
                      <a:pt x="411" y="122"/>
                    </a:lnTo>
                    <a:lnTo>
                      <a:pt x="433" y="122"/>
                    </a:lnTo>
                    <a:lnTo>
                      <a:pt x="453" y="120"/>
                    </a:lnTo>
                    <a:lnTo>
                      <a:pt x="467" y="119"/>
                    </a:lnTo>
                    <a:lnTo>
                      <a:pt x="476" y="119"/>
                    </a:lnTo>
                    <a:lnTo>
                      <a:pt x="480" y="119"/>
                    </a:lnTo>
                    <a:lnTo>
                      <a:pt x="618" y="0"/>
                    </a:lnTo>
                    <a:lnTo>
                      <a:pt x="21" y="46"/>
                    </a:lnTo>
                    <a:lnTo>
                      <a:pt x="0" y="74"/>
                    </a:lnTo>
                    <a:lnTo>
                      <a:pt x="30" y="67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666120" y="4501440"/>
                <a:ext cx="386280" cy="119880"/>
              </a:xfrm>
              <a:custGeom>
                <a:avLst/>
                <a:gdLst/>
                <a:ahLst/>
                <a:rect l="l" t="t" r="r" b="b"/>
                <a:pathLst>
                  <a:path w="633" h="196">
                    <a:moveTo>
                      <a:pt x="44" y="142"/>
                    </a:moveTo>
                    <a:lnTo>
                      <a:pt x="0" y="196"/>
                    </a:lnTo>
                    <a:lnTo>
                      <a:pt x="1" y="195"/>
                    </a:lnTo>
                    <a:lnTo>
                      <a:pt x="5" y="195"/>
                    </a:lnTo>
                    <a:lnTo>
                      <a:pt x="10" y="194"/>
                    </a:lnTo>
                    <a:lnTo>
                      <a:pt x="20" y="192"/>
                    </a:lnTo>
                    <a:lnTo>
                      <a:pt x="30" y="190"/>
                    </a:lnTo>
                    <a:lnTo>
                      <a:pt x="43" y="187"/>
                    </a:lnTo>
                    <a:lnTo>
                      <a:pt x="60" y="185"/>
                    </a:lnTo>
                    <a:lnTo>
                      <a:pt x="78" y="183"/>
                    </a:lnTo>
                    <a:lnTo>
                      <a:pt x="98" y="181"/>
                    </a:lnTo>
                    <a:lnTo>
                      <a:pt x="121" y="178"/>
                    </a:lnTo>
                    <a:lnTo>
                      <a:pt x="147" y="177"/>
                    </a:lnTo>
                    <a:lnTo>
                      <a:pt x="176" y="177"/>
                    </a:lnTo>
                    <a:lnTo>
                      <a:pt x="207" y="177"/>
                    </a:lnTo>
                    <a:lnTo>
                      <a:pt x="241" y="177"/>
                    </a:lnTo>
                    <a:lnTo>
                      <a:pt x="278" y="177"/>
                    </a:lnTo>
                    <a:lnTo>
                      <a:pt x="317" y="180"/>
                    </a:lnTo>
                    <a:lnTo>
                      <a:pt x="322" y="180"/>
                    </a:lnTo>
                    <a:lnTo>
                      <a:pt x="327" y="180"/>
                    </a:lnTo>
                    <a:lnTo>
                      <a:pt x="334" y="181"/>
                    </a:lnTo>
                    <a:lnTo>
                      <a:pt x="339" y="181"/>
                    </a:lnTo>
                    <a:lnTo>
                      <a:pt x="343" y="182"/>
                    </a:lnTo>
                    <a:lnTo>
                      <a:pt x="348" y="182"/>
                    </a:lnTo>
                    <a:lnTo>
                      <a:pt x="354" y="183"/>
                    </a:lnTo>
                    <a:lnTo>
                      <a:pt x="359" y="185"/>
                    </a:lnTo>
                    <a:lnTo>
                      <a:pt x="365" y="186"/>
                    </a:lnTo>
                    <a:lnTo>
                      <a:pt x="370" y="189"/>
                    </a:lnTo>
                    <a:lnTo>
                      <a:pt x="374" y="190"/>
                    </a:lnTo>
                    <a:lnTo>
                      <a:pt x="376" y="190"/>
                    </a:lnTo>
                    <a:lnTo>
                      <a:pt x="633" y="0"/>
                    </a:lnTo>
                    <a:lnTo>
                      <a:pt x="106" y="99"/>
                    </a:lnTo>
                    <a:lnTo>
                      <a:pt x="44" y="142"/>
                    </a:lnTo>
                    <a:lnTo>
                      <a:pt x="44" y="142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658920" y="4474080"/>
                <a:ext cx="393480" cy="127800"/>
              </a:xfrm>
              <a:custGeom>
                <a:avLst/>
                <a:gdLst/>
                <a:ahLst/>
                <a:rect l="l" t="t" r="r" b="b"/>
                <a:pathLst>
                  <a:path w="645" h="207">
                    <a:moveTo>
                      <a:pt x="645" y="46"/>
                    </a:moveTo>
                    <a:lnTo>
                      <a:pt x="645" y="44"/>
                    </a:lnTo>
                    <a:lnTo>
                      <a:pt x="645" y="40"/>
                    </a:lnTo>
                    <a:lnTo>
                      <a:pt x="642" y="37"/>
                    </a:lnTo>
                    <a:lnTo>
                      <a:pt x="641" y="33"/>
                    </a:lnTo>
                    <a:lnTo>
                      <a:pt x="637" y="29"/>
                    </a:lnTo>
                    <a:lnTo>
                      <a:pt x="633" y="26"/>
                    </a:lnTo>
                    <a:lnTo>
                      <a:pt x="626" y="21"/>
                    </a:lnTo>
                    <a:lnTo>
                      <a:pt x="617" y="17"/>
                    </a:lnTo>
                    <a:lnTo>
                      <a:pt x="606" y="13"/>
                    </a:lnTo>
                    <a:lnTo>
                      <a:pt x="593" y="12"/>
                    </a:lnTo>
                    <a:lnTo>
                      <a:pt x="576" y="8"/>
                    </a:lnTo>
                    <a:lnTo>
                      <a:pt x="557" y="5"/>
                    </a:lnTo>
                    <a:lnTo>
                      <a:pt x="534" y="3"/>
                    </a:lnTo>
                    <a:lnTo>
                      <a:pt x="508" y="2"/>
                    </a:lnTo>
                    <a:lnTo>
                      <a:pt x="479" y="0"/>
                    </a:lnTo>
                    <a:lnTo>
                      <a:pt x="452" y="0"/>
                    </a:lnTo>
                    <a:lnTo>
                      <a:pt x="426" y="0"/>
                    </a:lnTo>
                    <a:lnTo>
                      <a:pt x="401" y="2"/>
                    </a:lnTo>
                    <a:lnTo>
                      <a:pt x="379" y="2"/>
                    </a:lnTo>
                    <a:lnTo>
                      <a:pt x="356" y="3"/>
                    </a:lnTo>
                    <a:lnTo>
                      <a:pt x="337" y="4"/>
                    </a:lnTo>
                    <a:lnTo>
                      <a:pt x="319" y="5"/>
                    </a:lnTo>
                    <a:lnTo>
                      <a:pt x="302" y="8"/>
                    </a:lnTo>
                    <a:lnTo>
                      <a:pt x="287" y="9"/>
                    </a:lnTo>
                    <a:lnTo>
                      <a:pt x="274" y="11"/>
                    </a:lnTo>
                    <a:lnTo>
                      <a:pt x="265" y="12"/>
                    </a:lnTo>
                    <a:lnTo>
                      <a:pt x="256" y="13"/>
                    </a:lnTo>
                    <a:lnTo>
                      <a:pt x="251" y="13"/>
                    </a:lnTo>
                    <a:lnTo>
                      <a:pt x="247" y="15"/>
                    </a:lnTo>
                    <a:lnTo>
                      <a:pt x="246" y="16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7"/>
                    </a:lnTo>
                    <a:lnTo>
                      <a:pt x="15" y="196"/>
                    </a:lnTo>
                    <a:lnTo>
                      <a:pt x="25" y="193"/>
                    </a:lnTo>
                    <a:lnTo>
                      <a:pt x="37" y="191"/>
                    </a:lnTo>
                    <a:lnTo>
                      <a:pt x="51" y="188"/>
                    </a:lnTo>
                    <a:lnTo>
                      <a:pt x="67" y="185"/>
                    </a:lnTo>
                    <a:lnTo>
                      <a:pt x="84" y="183"/>
                    </a:lnTo>
                    <a:lnTo>
                      <a:pt x="101" y="180"/>
                    </a:lnTo>
                    <a:lnTo>
                      <a:pt x="116" y="178"/>
                    </a:lnTo>
                    <a:lnTo>
                      <a:pt x="132" y="175"/>
                    </a:lnTo>
                    <a:lnTo>
                      <a:pt x="146" y="175"/>
                    </a:lnTo>
                    <a:lnTo>
                      <a:pt x="161" y="175"/>
                    </a:lnTo>
                    <a:lnTo>
                      <a:pt x="172" y="176"/>
                    </a:lnTo>
                    <a:lnTo>
                      <a:pt x="182" y="178"/>
                    </a:lnTo>
                    <a:lnTo>
                      <a:pt x="189" y="182"/>
                    </a:lnTo>
                    <a:lnTo>
                      <a:pt x="195" y="184"/>
                    </a:lnTo>
                    <a:lnTo>
                      <a:pt x="202" y="185"/>
                    </a:lnTo>
                    <a:lnTo>
                      <a:pt x="210" y="187"/>
                    </a:lnTo>
                    <a:lnTo>
                      <a:pt x="222" y="188"/>
                    </a:lnTo>
                    <a:lnTo>
                      <a:pt x="234" y="187"/>
                    </a:lnTo>
                    <a:lnTo>
                      <a:pt x="247" y="185"/>
                    </a:lnTo>
                    <a:lnTo>
                      <a:pt x="259" y="185"/>
                    </a:lnTo>
                    <a:lnTo>
                      <a:pt x="273" y="184"/>
                    </a:lnTo>
                    <a:lnTo>
                      <a:pt x="286" y="182"/>
                    </a:lnTo>
                    <a:lnTo>
                      <a:pt x="298" y="180"/>
                    </a:lnTo>
                    <a:lnTo>
                      <a:pt x="309" y="179"/>
                    </a:lnTo>
                    <a:lnTo>
                      <a:pt x="320" y="179"/>
                    </a:lnTo>
                    <a:lnTo>
                      <a:pt x="330" y="178"/>
                    </a:lnTo>
                    <a:lnTo>
                      <a:pt x="338" y="178"/>
                    </a:lnTo>
                    <a:lnTo>
                      <a:pt x="346" y="178"/>
                    </a:lnTo>
                    <a:lnTo>
                      <a:pt x="350" y="180"/>
                    </a:lnTo>
                    <a:lnTo>
                      <a:pt x="356" y="182"/>
                    </a:lnTo>
                    <a:lnTo>
                      <a:pt x="363" y="187"/>
                    </a:lnTo>
                    <a:lnTo>
                      <a:pt x="371" y="192"/>
                    </a:lnTo>
                    <a:lnTo>
                      <a:pt x="380" y="196"/>
                    </a:lnTo>
                    <a:lnTo>
                      <a:pt x="386" y="200"/>
                    </a:lnTo>
                    <a:lnTo>
                      <a:pt x="392" y="204"/>
                    </a:lnTo>
                    <a:lnTo>
                      <a:pt x="396" y="205"/>
                    </a:lnTo>
                    <a:lnTo>
                      <a:pt x="397" y="207"/>
                    </a:lnTo>
                    <a:lnTo>
                      <a:pt x="586" y="126"/>
                    </a:lnTo>
                    <a:lnTo>
                      <a:pt x="645" y="46"/>
                    </a:lnTo>
                    <a:lnTo>
                      <a:pt x="645" y="4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38760" y="4016160"/>
                <a:ext cx="205560" cy="534240"/>
              </a:xfrm>
              <a:custGeom>
                <a:avLst/>
                <a:gdLst/>
                <a:ahLst/>
                <a:rect l="l" t="t" r="r" b="b"/>
                <a:pathLst>
                  <a:path w="337" h="871">
                    <a:moveTo>
                      <a:pt x="165" y="0"/>
                    </a:moveTo>
                    <a:lnTo>
                      <a:pt x="167" y="0"/>
                    </a:lnTo>
                    <a:lnTo>
                      <a:pt x="174" y="1"/>
                    </a:lnTo>
                    <a:lnTo>
                      <a:pt x="184" y="3"/>
                    </a:lnTo>
                    <a:lnTo>
                      <a:pt x="197" y="9"/>
                    </a:lnTo>
                    <a:lnTo>
                      <a:pt x="211" y="14"/>
                    </a:lnTo>
                    <a:lnTo>
                      <a:pt x="227" y="23"/>
                    </a:lnTo>
                    <a:lnTo>
                      <a:pt x="245" y="33"/>
                    </a:lnTo>
                    <a:lnTo>
                      <a:pt x="263" y="46"/>
                    </a:lnTo>
                    <a:lnTo>
                      <a:pt x="279" y="60"/>
                    </a:lnTo>
                    <a:lnTo>
                      <a:pt x="296" y="77"/>
                    </a:lnTo>
                    <a:lnTo>
                      <a:pt x="309" y="99"/>
                    </a:lnTo>
                    <a:lnTo>
                      <a:pt x="323" y="123"/>
                    </a:lnTo>
                    <a:lnTo>
                      <a:pt x="331" y="148"/>
                    </a:lnTo>
                    <a:lnTo>
                      <a:pt x="336" y="179"/>
                    </a:lnTo>
                    <a:lnTo>
                      <a:pt x="337" y="213"/>
                    </a:lnTo>
                    <a:lnTo>
                      <a:pt x="335" y="252"/>
                    </a:lnTo>
                    <a:lnTo>
                      <a:pt x="327" y="292"/>
                    </a:lnTo>
                    <a:lnTo>
                      <a:pt x="318" y="331"/>
                    </a:lnTo>
                    <a:lnTo>
                      <a:pt x="307" y="370"/>
                    </a:lnTo>
                    <a:lnTo>
                      <a:pt x="296" y="410"/>
                    </a:lnTo>
                    <a:lnTo>
                      <a:pt x="283" y="446"/>
                    </a:lnTo>
                    <a:lnTo>
                      <a:pt x="271" y="484"/>
                    </a:lnTo>
                    <a:lnTo>
                      <a:pt x="257" y="520"/>
                    </a:lnTo>
                    <a:lnTo>
                      <a:pt x="245" y="555"/>
                    </a:lnTo>
                    <a:lnTo>
                      <a:pt x="230" y="589"/>
                    </a:lnTo>
                    <a:lnTo>
                      <a:pt x="219" y="621"/>
                    </a:lnTo>
                    <a:lnTo>
                      <a:pt x="207" y="651"/>
                    </a:lnTo>
                    <a:lnTo>
                      <a:pt x="199" y="679"/>
                    </a:lnTo>
                    <a:lnTo>
                      <a:pt x="190" y="705"/>
                    </a:lnTo>
                    <a:lnTo>
                      <a:pt x="185" y="730"/>
                    </a:lnTo>
                    <a:lnTo>
                      <a:pt x="181" y="750"/>
                    </a:lnTo>
                    <a:lnTo>
                      <a:pt x="180" y="771"/>
                    </a:lnTo>
                    <a:lnTo>
                      <a:pt x="180" y="787"/>
                    </a:lnTo>
                    <a:lnTo>
                      <a:pt x="180" y="802"/>
                    </a:lnTo>
                    <a:lnTo>
                      <a:pt x="180" y="815"/>
                    </a:lnTo>
                    <a:lnTo>
                      <a:pt x="181" y="827"/>
                    </a:lnTo>
                    <a:lnTo>
                      <a:pt x="182" y="836"/>
                    </a:lnTo>
                    <a:lnTo>
                      <a:pt x="182" y="844"/>
                    </a:lnTo>
                    <a:lnTo>
                      <a:pt x="184" y="850"/>
                    </a:lnTo>
                    <a:lnTo>
                      <a:pt x="185" y="857"/>
                    </a:lnTo>
                    <a:lnTo>
                      <a:pt x="185" y="860"/>
                    </a:lnTo>
                    <a:lnTo>
                      <a:pt x="186" y="864"/>
                    </a:lnTo>
                    <a:lnTo>
                      <a:pt x="186" y="866"/>
                    </a:lnTo>
                    <a:lnTo>
                      <a:pt x="187" y="868"/>
                    </a:lnTo>
                    <a:lnTo>
                      <a:pt x="190" y="870"/>
                    </a:lnTo>
                    <a:lnTo>
                      <a:pt x="190" y="871"/>
                    </a:lnTo>
                    <a:lnTo>
                      <a:pt x="0" y="862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248240" y="4496400"/>
                <a:ext cx="85320" cy="68040"/>
              </a:xfrm>
              <a:custGeom>
                <a:avLst/>
                <a:gdLst/>
                <a:ahLst/>
                <a:rect l="l" t="t" r="r" b="b"/>
                <a:pathLst>
                  <a:path w="142" h="111">
                    <a:moveTo>
                      <a:pt x="0" y="0"/>
                    </a:moveTo>
                    <a:lnTo>
                      <a:pt x="74" y="0"/>
                    </a:lnTo>
                    <a:lnTo>
                      <a:pt x="142" y="75"/>
                    </a:lnTo>
                    <a:lnTo>
                      <a:pt x="82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89640" y="3996000"/>
                <a:ext cx="383400" cy="551880"/>
              </a:xfrm>
              <a:custGeom>
                <a:avLst/>
                <a:gdLst/>
                <a:ahLst/>
                <a:rect l="l" t="t" r="r" b="b"/>
                <a:pathLst>
                  <a:path w="630" h="897">
                    <a:moveTo>
                      <a:pt x="0" y="11"/>
                    </a:moveTo>
                    <a:lnTo>
                      <a:pt x="7" y="11"/>
                    </a:lnTo>
                    <a:lnTo>
                      <a:pt x="25" y="9"/>
                    </a:lnTo>
                    <a:lnTo>
                      <a:pt x="54" y="7"/>
                    </a:lnTo>
                    <a:lnTo>
                      <a:pt x="92" y="5"/>
                    </a:lnTo>
                    <a:lnTo>
                      <a:pt x="137" y="3"/>
                    </a:lnTo>
                    <a:lnTo>
                      <a:pt x="188" y="1"/>
                    </a:lnTo>
                    <a:lnTo>
                      <a:pt x="242" y="0"/>
                    </a:lnTo>
                    <a:lnTo>
                      <a:pt x="299" y="1"/>
                    </a:lnTo>
                    <a:lnTo>
                      <a:pt x="355" y="1"/>
                    </a:lnTo>
                    <a:lnTo>
                      <a:pt x="410" y="5"/>
                    </a:lnTo>
                    <a:lnTo>
                      <a:pt x="463" y="11"/>
                    </a:lnTo>
                    <a:lnTo>
                      <a:pt x="512" y="18"/>
                    </a:lnTo>
                    <a:lnTo>
                      <a:pt x="552" y="29"/>
                    </a:lnTo>
                    <a:lnTo>
                      <a:pt x="586" y="43"/>
                    </a:lnTo>
                    <a:lnTo>
                      <a:pt x="611" y="60"/>
                    </a:lnTo>
                    <a:lnTo>
                      <a:pt x="624" y="82"/>
                    </a:lnTo>
                    <a:lnTo>
                      <a:pt x="628" y="105"/>
                    </a:lnTo>
                    <a:lnTo>
                      <a:pt x="630" y="131"/>
                    </a:lnTo>
                    <a:lnTo>
                      <a:pt x="630" y="159"/>
                    </a:lnTo>
                    <a:lnTo>
                      <a:pt x="629" y="190"/>
                    </a:lnTo>
                    <a:lnTo>
                      <a:pt x="625" y="222"/>
                    </a:lnTo>
                    <a:lnTo>
                      <a:pt x="620" y="254"/>
                    </a:lnTo>
                    <a:lnTo>
                      <a:pt x="613" y="285"/>
                    </a:lnTo>
                    <a:lnTo>
                      <a:pt x="608" y="317"/>
                    </a:lnTo>
                    <a:lnTo>
                      <a:pt x="599" y="347"/>
                    </a:lnTo>
                    <a:lnTo>
                      <a:pt x="593" y="377"/>
                    </a:lnTo>
                    <a:lnTo>
                      <a:pt x="583" y="404"/>
                    </a:lnTo>
                    <a:lnTo>
                      <a:pt x="577" y="429"/>
                    </a:lnTo>
                    <a:lnTo>
                      <a:pt x="569" y="449"/>
                    </a:lnTo>
                    <a:lnTo>
                      <a:pt x="564" y="468"/>
                    </a:lnTo>
                    <a:lnTo>
                      <a:pt x="559" y="480"/>
                    </a:lnTo>
                    <a:lnTo>
                      <a:pt x="556" y="491"/>
                    </a:lnTo>
                    <a:lnTo>
                      <a:pt x="552" y="500"/>
                    </a:lnTo>
                    <a:lnTo>
                      <a:pt x="547" y="517"/>
                    </a:lnTo>
                    <a:lnTo>
                      <a:pt x="542" y="540"/>
                    </a:lnTo>
                    <a:lnTo>
                      <a:pt x="536" y="567"/>
                    </a:lnTo>
                    <a:lnTo>
                      <a:pt x="530" y="598"/>
                    </a:lnTo>
                    <a:lnTo>
                      <a:pt x="523" y="633"/>
                    </a:lnTo>
                    <a:lnTo>
                      <a:pt x="518" y="668"/>
                    </a:lnTo>
                    <a:lnTo>
                      <a:pt x="512" y="706"/>
                    </a:lnTo>
                    <a:lnTo>
                      <a:pt x="504" y="742"/>
                    </a:lnTo>
                    <a:lnTo>
                      <a:pt x="499" y="776"/>
                    </a:lnTo>
                    <a:lnTo>
                      <a:pt x="492" y="808"/>
                    </a:lnTo>
                    <a:lnTo>
                      <a:pt x="489" y="838"/>
                    </a:lnTo>
                    <a:lnTo>
                      <a:pt x="484" y="861"/>
                    </a:lnTo>
                    <a:lnTo>
                      <a:pt x="482" y="879"/>
                    </a:lnTo>
                    <a:lnTo>
                      <a:pt x="479" y="892"/>
                    </a:lnTo>
                    <a:lnTo>
                      <a:pt x="479" y="897"/>
                    </a:lnTo>
                    <a:lnTo>
                      <a:pt x="38" y="86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59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822360" y="4060080"/>
                <a:ext cx="702000" cy="509760"/>
              </a:xfrm>
              <a:custGeom>
                <a:avLst/>
                <a:gdLst/>
                <a:ahLst/>
                <a:rect l="l" t="t" r="r" b="b"/>
                <a:pathLst>
                  <a:path w="1147" h="834">
                    <a:moveTo>
                      <a:pt x="406" y="40"/>
                    </a:moveTo>
                    <a:lnTo>
                      <a:pt x="403" y="40"/>
                    </a:lnTo>
                    <a:lnTo>
                      <a:pt x="400" y="42"/>
                    </a:lnTo>
                    <a:lnTo>
                      <a:pt x="396" y="42"/>
                    </a:lnTo>
                    <a:lnTo>
                      <a:pt x="393" y="44"/>
                    </a:lnTo>
                    <a:lnTo>
                      <a:pt x="388" y="45"/>
                    </a:lnTo>
                    <a:lnTo>
                      <a:pt x="384" y="48"/>
                    </a:lnTo>
                    <a:lnTo>
                      <a:pt x="379" y="49"/>
                    </a:lnTo>
                    <a:lnTo>
                      <a:pt x="373" y="52"/>
                    </a:lnTo>
                    <a:lnTo>
                      <a:pt x="368" y="56"/>
                    </a:lnTo>
                    <a:lnTo>
                      <a:pt x="363" y="60"/>
                    </a:lnTo>
                    <a:lnTo>
                      <a:pt x="356" y="62"/>
                    </a:lnTo>
                    <a:lnTo>
                      <a:pt x="351" y="67"/>
                    </a:lnTo>
                    <a:lnTo>
                      <a:pt x="345" y="71"/>
                    </a:lnTo>
                    <a:lnTo>
                      <a:pt x="340" y="78"/>
                    </a:lnTo>
                    <a:lnTo>
                      <a:pt x="330" y="84"/>
                    </a:lnTo>
                    <a:lnTo>
                      <a:pt x="319" y="93"/>
                    </a:lnTo>
                    <a:lnTo>
                      <a:pt x="304" y="106"/>
                    </a:lnTo>
                    <a:lnTo>
                      <a:pt x="287" y="121"/>
                    </a:lnTo>
                    <a:lnTo>
                      <a:pt x="268" y="136"/>
                    </a:lnTo>
                    <a:lnTo>
                      <a:pt x="247" y="153"/>
                    </a:lnTo>
                    <a:lnTo>
                      <a:pt x="226" y="171"/>
                    </a:lnTo>
                    <a:lnTo>
                      <a:pt x="204" y="188"/>
                    </a:lnTo>
                    <a:lnTo>
                      <a:pt x="183" y="205"/>
                    </a:lnTo>
                    <a:lnTo>
                      <a:pt x="162" y="223"/>
                    </a:lnTo>
                    <a:lnTo>
                      <a:pt x="143" y="237"/>
                    </a:lnTo>
                    <a:lnTo>
                      <a:pt x="127" y="251"/>
                    </a:lnTo>
                    <a:lnTo>
                      <a:pt x="112" y="263"/>
                    </a:lnTo>
                    <a:lnTo>
                      <a:pt x="101" y="272"/>
                    </a:lnTo>
                    <a:lnTo>
                      <a:pt x="93" y="279"/>
                    </a:lnTo>
                    <a:lnTo>
                      <a:pt x="90" y="282"/>
                    </a:lnTo>
                    <a:lnTo>
                      <a:pt x="89" y="284"/>
                    </a:lnTo>
                    <a:lnTo>
                      <a:pt x="88" y="290"/>
                    </a:lnTo>
                    <a:lnTo>
                      <a:pt x="86" y="297"/>
                    </a:lnTo>
                    <a:lnTo>
                      <a:pt x="86" y="306"/>
                    </a:lnTo>
                    <a:lnTo>
                      <a:pt x="85" y="316"/>
                    </a:lnTo>
                    <a:lnTo>
                      <a:pt x="84" y="328"/>
                    </a:lnTo>
                    <a:lnTo>
                      <a:pt x="84" y="341"/>
                    </a:lnTo>
                    <a:lnTo>
                      <a:pt x="84" y="355"/>
                    </a:lnTo>
                    <a:lnTo>
                      <a:pt x="81" y="368"/>
                    </a:lnTo>
                    <a:lnTo>
                      <a:pt x="81" y="381"/>
                    </a:lnTo>
                    <a:lnTo>
                      <a:pt x="80" y="392"/>
                    </a:lnTo>
                    <a:lnTo>
                      <a:pt x="80" y="404"/>
                    </a:lnTo>
                    <a:lnTo>
                      <a:pt x="79" y="414"/>
                    </a:lnTo>
                    <a:lnTo>
                      <a:pt x="79" y="424"/>
                    </a:lnTo>
                    <a:lnTo>
                      <a:pt x="77" y="431"/>
                    </a:lnTo>
                    <a:lnTo>
                      <a:pt x="77" y="438"/>
                    </a:lnTo>
                    <a:lnTo>
                      <a:pt x="73" y="442"/>
                    </a:lnTo>
                    <a:lnTo>
                      <a:pt x="71" y="449"/>
                    </a:lnTo>
                    <a:lnTo>
                      <a:pt x="66" y="460"/>
                    </a:lnTo>
                    <a:lnTo>
                      <a:pt x="60" y="471"/>
                    </a:lnTo>
                    <a:lnTo>
                      <a:pt x="54" y="486"/>
                    </a:lnTo>
                    <a:lnTo>
                      <a:pt x="47" y="500"/>
                    </a:lnTo>
                    <a:lnTo>
                      <a:pt x="41" y="515"/>
                    </a:lnTo>
                    <a:lnTo>
                      <a:pt x="34" y="531"/>
                    </a:lnTo>
                    <a:lnTo>
                      <a:pt x="26" y="547"/>
                    </a:lnTo>
                    <a:lnTo>
                      <a:pt x="20" y="562"/>
                    </a:lnTo>
                    <a:lnTo>
                      <a:pt x="13" y="575"/>
                    </a:lnTo>
                    <a:lnTo>
                      <a:pt x="8" y="589"/>
                    </a:lnTo>
                    <a:lnTo>
                      <a:pt x="4" y="600"/>
                    </a:lnTo>
                    <a:lnTo>
                      <a:pt x="2" y="609"/>
                    </a:lnTo>
                    <a:lnTo>
                      <a:pt x="0" y="615"/>
                    </a:lnTo>
                    <a:lnTo>
                      <a:pt x="0" y="619"/>
                    </a:lnTo>
                    <a:lnTo>
                      <a:pt x="2" y="619"/>
                    </a:lnTo>
                    <a:lnTo>
                      <a:pt x="7" y="620"/>
                    </a:lnTo>
                    <a:lnTo>
                      <a:pt x="12" y="619"/>
                    </a:lnTo>
                    <a:lnTo>
                      <a:pt x="20" y="619"/>
                    </a:lnTo>
                    <a:lnTo>
                      <a:pt x="28" y="618"/>
                    </a:lnTo>
                    <a:lnTo>
                      <a:pt x="37" y="616"/>
                    </a:lnTo>
                    <a:lnTo>
                      <a:pt x="46" y="615"/>
                    </a:lnTo>
                    <a:lnTo>
                      <a:pt x="56" y="614"/>
                    </a:lnTo>
                    <a:lnTo>
                      <a:pt x="66" y="613"/>
                    </a:lnTo>
                    <a:lnTo>
                      <a:pt x="76" y="613"/>
                    </a:lnTo>
                    <a:lnTo>
                      <a:pt x="85" y="613"/>
                    </a:lnTo>
                    <a:lnTo>
                      <a:pt x="94" y="615"/>
                    </a:lnTo>
                    <a:lnTo>
                      <a:pt x="102" y="618"/>
                    </a:lnTo>
                    <a:lnTo>
                      <a:pt x="110" y="622"/>
                    </a:lnTo>
                    <a:lnTo>
                      <a:pt x="114" y="627"/>
                    </a:lnTo>
                    <a:lnTo>
                      <a:pt x="118" y="635"/>
                    </a:lnTo>
                    <a:lnTo>
                      <a:pt x="120" y="641"/>
                    </a:lnTo>
                    <a:lnTo>
                      <a:pt x="122" y="647"/>
                    </a:lnTo>
                    <a:lnTo>
                      <a:pt x="124" y="653"/>
                    </a:lnTo>
                    <a:lnTo>
                      <a:pt x="126" y="658"/>
                    </a:lnTo>
                    <a:lnTo>
                      <a:pt x="129" y="666"/>
                    </a:lnTo>
                    <a:lnTo>
                      <a:pt x="133" y="671"/>
                    </a:lnTo>
                    <a:lnTo>
                      <a:pt x="137" y="675"/>
                    </a:lnTo>
                    <a:lnTo>
                      <a:pt x="139" y="676"/>
                    </a:lnTo>
                    <a:lnTo>
                      <a:pt x="140" y="673"/>
                    </a:lnTo>
                    <a:lnTo>
                      <a:pt x="144" y="667"/>
                    </a:lnTo>
                    <a:lnTo>
                      <a:pt x="149" y="658"/>
                    </a:lnTo>
                    <a:lnTo>
                      <a:pt x="157" y="646"/>
                    </a:lnTo>
                    <a:lnTo>
                      <a:pt x="166" y="632"/>
                    </a:lnTo>
                    <a:lnTo>
                      <a:pt x="176" y="615"/>
                    </a:lnTo>
                    <a:lnTo>
                      <a:pt x="187" y="597"/>
                    </a:lnTo>
                    <a:lnTo>
                      <a:pt x="199" y="578"/>
                    </a:lnTo>
                    <a:lnTo>
                      <a:pt x="210" y="557"/>
                    </a:lnTo>
                    <a:lnTo>
                      <a:pt x="221" y="535"/>
                    </a:lnTo>
                    <a:lnTo>
                      <a:pt x="231" y="513"/>
                    </a:lnTo>
                    <a:lnTo>
                      <a:pt x="242" y="492"/>
                    </a:lnTo>
                    <a:lnTo>
                      <a:pt x="248" y="470"/>
                    </a:lnTo>
                    <a:lnTo>
                      <a:pt x="255" y="451"/>
                    </a:lnTo>
                    <a:lnTo>
                      <a:pt x="260" y="431"/>
                    </a:lnTo>
                    <a:lnTo>
                      <a:pt x="263" y="416"/>
                    </a:lnTo>
                    <a:lnTo>
                      <a:pt x="261" y="405"/>
                    </a:lnTo>
                    <a:lnTo>
                      <a:pt x="260" y="396"/>
                    </a:lnTo>
                    <a:lnTo>
                      <a:pt x="257" y="390"/>
                    </a:lnTo>
                    <a:lnTo>
                      <a:pt x="255" y="383"/>
                    </a:lnTo>
                    <a:lnTo>
                      <a:pt x="252" y="379"/>
                    </a:lnTo>
                    <a:lnTo>
                      <a:pt x="247" y="374"/>
                    </a:lnTo>
                    <a:lnTo>
                      <a:pt x="240" y="370"/>
                    </a:lnTo>
                    <a:lnTo>
                      <a:pt x="238" y="367"/>
                    </a:lnTo>
                    <a:lnTo>
                      <a:pt x="236" y="364"/>
                    </a:lnTo>
                    <a:lnTo>
                      <a:pt x="236" y="360"/>
                    </a:lnTo>
                    <a:lnTo>
                      <a:pt x="238" y="355"/>
                    </a:lnTo>
                    <a:lnTo>
                      <a:pt x="239" y="360"/>
                    </a:lnTo>
                    <a:lnTo>
                      <a:pt x="242" y="364"/>
                    </a:lnTo>
                    <a:lnTo>
                      <a:pt x="246" y="368"/>
                    </a:lnTo>
                    <a:lnTo>
                      <a:pt x="251" y="372"/>
                    </a:lnTo>
                    <a:lnTo>
                      <a:pt x="256" y="373"/>
                    </a:lnTo>
                    <a:lnTo>
                      <a:pt x="261" y="376"/>
                    </a:lnTo>
                    <a:lnTo>
                      <a:pt x="266" y="377"/>
                    </a:lnTo>
                    <a:lnTo>
                      <a:pt x="268" y="378"/>
                    </a:lnTo>
                    <a:lnTo>
                      <a:pt x="272" y="377"/>
                    </a:lnTo>
                    <a:lnTo>
                      <a:pt x="255" y="361"/>
                    </a:lnTo>
                    <a:lnTo>
                      <a:pt x="251" y="352"/>
                    </a:lnTo>
                    <a:lnTo>
                      <a:pt x="249" y="345"/>
                    </a:lnTo>
                    <a:lnTo>
                      <a:pt x="252" y="348"/>
                    </a:lnTo>
                    <a:lnTo>
                      <a:pt x="256" y="355"/>
                    </a:lnTo>
                    <a:lnTo>
                      <a:pt x="260" y="359"/>
                    </a:lnTo>
                    <a:lnTo>
                      <a:pt x="264" y="364"/>
                    </a:lnTo>
                    <a:lnTo>
                      <a:pt x="270" y="367"/>
                    </a:lnTo>
                    <a:lnTo>
                      <a:pt x="276" y="367"/>
                    </a:lnTo>
                    <a:lnTo>
                      <a:pt x="279" y="364"/>
                    </a:lnTo>
                    <a:lnTo>
                      <a:pt x="285" y="363"/>
                    </a:lnTo>
                    <a:lnTo>
                      <a:pt x="291" y="359"/>
                    </a:lnTo>
                    <a:lnTo>
                      <a:pt x="299" y="355"/>
                    </a:lnTo>
                    <a:lnTo>
                      <a:pt x="307" y="348"/>
                    </a:lnTo>
                    <a:lnTo>
                      <a:pt x="316" y="343"/>
                    </a:lnTo>
                    <a:lnTo>
                      <a:pt x="325" y="337"/>
                    </a:lnTo>
                    <a:lnTo>
                      <a:pt x="336" y="330"/>
                    </a:lnTo>
                    <a:lnTo>
                      <a:pt x="345" y="323"/>
                    </a:lnTo>
                    <a:lnTo>
                      <a:pt x="354" y="316"/>
                    </a:lnTo>
                    <a:lnTo>
                      <a:pt x="363" y="308"/>
                    </a:lnTo>
                    <a:lnTo>
                      <a:pt x="372" y="303"/>
                    </a:lnTo>
                    <a:lnTo>
                      <a:pt x="379" y="295"/>
                    </a:lnTo>
                    <a:lnTo>
                      <a:pt x="386" y="290"/>
                    </a:lnTo>
                    <a:lnTo>
                      <a:pt x="392" y="284"/>
                    </a:lnTo>
                    <a:lnTo>
                      <a:pt x="397" y="280"/>
                    </a:lnTo>
                    <a:lnTo>
                      <a:pt x="397" y="282"/>
                    </a:lnTo>
                    <a:lnTo>
                      <a:pt x="397" y="285"/>
                    </a:lnTo>
                    <a:lnTo>
                      <a:pt x="397" y="291"/>
                    </a:lnTo>
                    <a:lnTo>
                      <a:pt x="397" y="295"/>
                    </a:lnTo>
                    <a:lnTo>
                      <a:pt x="397" y="303"/>
                    </a:lnTo>
                    <a:lnTo>
                      <a:pt x="398" y="310"/>
                    </a:lnTo>
                    <a:lnTo>
                      <a:pt x="400" y="317"/>
                    </a:lnTo>
                    <a:lnTo>
                      <a:pt x="401" y="324"/>
                    </a:lnTo>
                    <a:lnTo>
                      <a:pt x="402" y="333"/>
                    </a:lnTo>
                    <a:lnTo>
                      <a:pt x="403" y="339"/>
                    </a:lnTo>
                    <a:lnTo>
                      <a:pt x="405" y="348"/>
                    </a:lnTo>
                    <a:lnTo>
                      <a:pt x="406" y="355"/>
                    </a:lnTo>
                    <a:lnTo>
                      <a:pt x="407" y="361"/>
                    </a:lnTo>
                    <a:lnTo>
                      <a:pt x="410" y="368"/>
                    </a:lnTo>
                    <a:lnTo>
                      <a:pt x="413" y="373"/>
                    </a:lnTo>
                    <a:lnTo>
                      <a:pt x="413" y="378"/>
                    </a:lnTo>
                    <a:lnTo>
                      <a:pt x="414" y="387"/>
                    </a:lnTo>
                    <a:lnTo>
                      <a:pt x="414" y="399"/>
                    </a:lnTo>
                    <a:lnTo>
                      <a:pt x="414" y="412"/>
                    </a:lnTo>
                    <a:lnTo>
                      <a:pt x="413" y="427"/>
                    </a:lnTo>
                    <a:lnTo>
                      <a:pt x="411" y="446"/>
                    </a:lnTo>
                    <a:lnTo>
                      <a:pt x="409" y="462"/>
                    </a:lnTo>
                    <a:lnTo>
                      <a:pt x="407" y="480"/>
                    </a:lnTo>
                    <a:lnTo>
                      <a:pt x="405" y="497"/>
                    </a:lnTo>
                    <a:lnTo>
                      <a:pt x="403" y="515"/>
                    </a:lnTo>
                    <a:lnTo>
                      <a:pt x="401" y="531"/>
                    </a:lnTo>
                    <a:lnTo>
                      <a:pt x="400" y="547"/>
                    </a:lnTo>
                    <a:lnTo>
                      <a:pt x="397" y="558"/>
                    </a:lnTo>
                    <a:lnTo>
                      <a:pt x="397" y="570"/>
                    </a:lnTo>
                    <a:lnTo>
                      <a:pt x="397" y="578"/>
                    </a:lnTo>
                    <a:lnTo>
                      <a:pt x="398" y="583"/>
                    </a:lnTo>
                    <a:lnTo>
                      <a:pt x="398" y="587"/>
                    </a:lnTo>
                    <a:lnTo>
                      <a:pt x="400" y="591"/>
                    </a:lnTo>
                    <a:lnTo>
                      <a:pt x="401" y="596"/>
                    </a:lnTo>
                    <a:lnTo>
                      <a:pt x="402" y="602"/>
                    </a:lnTo>
                    <a:lnTo>
                      <a:pt x="403" y="607"/>
                    </a:lnTo>
                    <a:lnTo>
                      <a:pt x="405" y="614"/>
                    </a:lnTo>
                    <a:lnTo>
                      <a:pt x="406" y="622"/>
                    </a:lnTo>
                    <a:lnTo>
                      <a:pt x="407" y="628"/>
                    </a:lnTo>
                    <a:lnTo>
                      <a:pt x="409" y="635"/>
                    </a:lnTo>
                    <a:lnTo>
                      <a:pt x="409" y="641"/>
                    </a:lnTo>
                    <a:lnTo>
                      <a:pt x="410" y="646"/>
                    </a:lnTo>
                    <a:lnTo>
                      <a:pt x="411" y="654"/>
                    </a:lnTo>
                    <a:lnTo>
                      <a:pt x="411" y="659"/>
                    </a:lnTo>
                    <a:lnTo>
                      <a:pt x="413" y="664"/>
                    </a:lnTo>
                    <a:lnTo>
                      <a:pt x="413" y="668"/>
                    </a:lnTo>
                    <a:lnTo>
                      <a:pt x="413" y="673"/>
                    </a:lnTo>
                    <a:lnTo>
                      <a:pt x="411" y="679"/>
                    </a:lnTo>
                    <a:lnTo>
                      <a:pt x="413" y="686"/>
                    </a:lnTo>
                    <a:lnTo>
                      <a:pt x="414" y="690"/>
                    </a:lnTo>
                    <a:lnTo>
                      <a:pt x="415" y="695"/>
                    </a:lnTo>
                    <a:lnTo>
                      <a:pt x="416" y="699"/>
                    </a:lnTo>
                    <a:lnTo>
                      <a:pt x="419" y="703"/>
                    </a:lnTo>
                    <a:lnTo>
                      <a:pt x="422" y="711"/>
                    </a:lnTo>
                    <a:lnTo>
                      <a:pt x="424" y="717"/>
                    </a:lnTo>
                    <a:lnTo>
                      <a:pt x="427" y="721"/>
                    </a:lnTo>
                    <a:lnTo>
                      <a:pt x="428" y="724"/>
                    </a:lnTo>
                    <a:lnTo>
                      <a:pt x="430" y="724"/>
                    </a:lnTo>
                    <a:lnTo>
                      <a:pt x="433" y="725"/>
                    </a:lnTo>
                    <a:lnTo>
                      <a:pt x="441" y="728"/>
                    </a:lnTo>
                    <a:lnTo>
                      <a:pt x="452" y="732"/>
                    </a:lnTo>
                    <a:lnTo>
                      <a:pt x="462" y="734"/>
                    </a:lnTo>
                    <a:lnTo>
                      <a:pt x="476" y="738"/>
                    </a:lnTo>
                    <a:lnTo>
                      <a:pt x="492" y="742"/>
                    </a:lnTo>
                    <a:lnTo>
                      <a:pt x="508" y="746"/>
                    </a:lnTo>
                    <a:lnTo>
                      <a:pt x="523" y="750"/>
                    </a:lnTo>
                    <a:lnTo>
                      <a:pt x="539" y="752"/>
                    </a:lnTo>
                    <a:lnTo>
                      <a:pt x="555" y="754"/>
                    </a:lnTo>
                    <a:lnTo>
                      <a:pt x="570" y="756"/>
                    </a:lnTo>
                    <a:lnTo>
                      <a:pt x="585" y="756"/>
                    </a:lnTo>
                    <a:lnTo>
                      <a:pt x="598" y="755"/>
                    </a:lnTo>
                    <a:lnTo>
                      <a:pt x="608" y="754"/>
                    </a:lnTo>
                    <a:lnTo>
                      <a:pt x="617" y="750"/>
                    </a:lnTo>
                    <a:lnTo>
                      <a:pt x="624" y="745"/>
                    </a:lnTo>
                    <a:lnTo>
                      <a:pt x="630" y="741"/>
                    </a:lnTo>
                    <a:lnTo>
                      <a:pt x="636" y="737"/>
                    </a:lnTo>
                    <a:lnTo>
                      <a:pt x="642" y="733"/>
                    </a:lnTo>
                    <a:lnTo>
                      <a:pt x="646" y="729"/>
                    </a:lnTo>
                    <a:lnTo>
                      <a:pt x="651" y="725"/>
                    </a:lnTo>
                    <a:lnTo>
                      <a:pt x="654" y="723"/>
                    </a:lnTo>
                    <a:lnTo>
                      <a:pt x="658" y="720"/>
                    </a:lnTo>
                    <a:lnTo>
                      <a:pt x="663" y="715"/>
                    </a:lnTo>
                    <a:lnTo>
                      <a:pt x="666" y="712"/>
                    </a:lnTo>
                    <a:lnTo>
                      <a:pt x="668" y="710"/>
                    </a:lnTo>
                    <a:lnTo>
                      <a:pt x="668" y="710"/>
                    </a:lnTo>
                    <a:lnTo>
                      <a:pt x="671" y="710"/>
                    </a:lnTo>
                    <a:lnTo>
                      <a:pt x="676" y="711"/>
                    </a:lnTo>
                    <a:lnTo>
                      <a:pt x="684" y="712"/>
                    </a:lnTo>
                    <a:lnTo>
                      <a:pt x="696" y="715"/>
                    </a:lnTo>
                    <a:lnTo>
                      <a:pt x="707" y="717"/>
                    </a:lnTo>
                    <a:lnTo>
                      <a:pt x="722" y="723"/>
                    </a:lnTo>
                    <a:lnTo>
                      <a:pt x="736" y="728"/>
                    </a:lnTo>
                    <a:lnTo>
                      <a:pt x="752" y="734"/>
                    </a:lnTo>
                    <a:lnTo>
                      <a:pt x="765" y="742"/>
                    </a:lnTo>
                    <a:lnTo>
                      <a:pt x="779" y="751"/>
                    </a:lnTo>
                    <a:lnTo>
                      <a:pt x="791" y="760"/>
                    </a:lnTo>
                    <a:lnTo>
                      <a:pt x="801" y="773"/>
                    </a:lnTo>
                    <a:lnTo>
                      <a:pt x="808" y="786"/>
                    </a:lnTo>
                    <a:lnTo>
                      <a:pt x="812" y="800"/>
                    </a:lnTo>
                    <a:lnTo>
                      <a:pt x="812" y="816"/>
                    </a:lnTo>
                    <a:lnTo>
                      <a:pt x="808" y="834"/>
                    </a:lnTo>
                    <a:lnTo>
                      <a:pt x="809" y="833"/>
                    </a:lnTo>
                    <a:lnTo>
                      <a:pt x="820" y="829"/>
                    </a:lnTo>
                    <a:lnTo>
                      <a:pt x="833" y="824"/>
                    </a:lnTo>
                    <a:lnTo>
                      <a:pt x="851" y="817"/>
                    </a:lnTo>
                    <a:lnTo>
                      <a:pt x="872" y="808"/>
                    </a:lnTo>
                    <a:lnTo>
                      <a:pt x="897" y="796"/>
                    </a:lnTo>
                    <a:lnTo>
                      <a:pt x="923" y="785"/>
                    </a:lnTo>
                    <a:lnTo>
                      <a:pt x="950" y="772"/>
                    </a:lnTo>
                    <a:lnTo>
                      <a:pt x="977" y="758"/>
                    </a:lnTo>
                    <a:lnTo>
                      <a:pt x="1006" y="742"/>
                    </a:lnTo>
                    <a:lnTo>
                      <a:pt x="1034" y="725"/>
                    </a:lnTo>
                    <a:lnTo>
                      <a:pt x="1058" y="710"/>
                    </a:lnTo>
                    <a:lnTo>
                      <a:pt x="1081" y="693"/>
                    </a:lnTo>
                    <a:lnTo>
                      <a:pt x="1100" y="675"/>
                    </a:lnTo>
                    <a:lnTo>
                      <a:pt x="1117" y="658"/>
                    </a:lnTo>
                    <a:lnTo>
                      <a:pt x="1129" y="642"/>
                    </a:lnTo>
                    <a:lnTo>
                      <a:pt x="1129" y="640"/>
                    </a:lnTo>
                    <a:lnTo>
                      <a:pt x="1129" y="635"/>
                    </a:lnTo>
                    <a:lnTo>
                      <a:pt x="1129" y="627"/>
                    </a:lnTo>
                    <a:lnTo>
                      <a:pt x="1131" y="616"/>
                    </a:lnTo>
                    <a:lnTo>
                      <a:pt x="1131" y="603"/>
                    </a:lnTo>
                    <a:lnTo>
                      <a:pt x="1133" y="589"/>
                    </a:lnTo>
                    <a:lnTo>
                      <a:pt x="1134" y="574"/>
                    </a:lnTo>
                    <a:lnTo>
                      <a:pt x="1137" y="558"/>
                    </a:lnTo>
                    <a:lnTo>
                      <a:pt x="1138" y="541"/>
                    </a:lnTo>
                    <a:lnTo>
                      <a:pt x="1139" y="526"/>
                    </a:lnTo>
                    <a:lnTo>
                      <a:pt x="1141" y="510"/>
                    </a:lnTo>
                    <a:lnTo>
                      <a:pt x="1143" y="495"/>
                    </a:lnTo>
                    <a:lnTo>
                      <a:pt x="1143" y="482"/>
                    </a:lnTo>
                    <a:lnTo>
                      <a:pt x="1144" y="470"/>
                    </a:lnTo>
                    <a:lnTo>
                      <a:pt x="1146" y="461"/>
                    </a:lnTo>
                    <a:lnTo>
                      <a:pt x="1147" y="455"/>
                    </a:lnTo>
                    <a:lnTo>
                      <a:pt x="1147" y="446"/>
                    </a:lnTo>
                    <a:lnTo>
                      <a:pt x="1147" y="433"/>
                    </a:lnTo>
                    <a:lnTo>
                      <a:pt x="1147" y="414"/>
                    </a:lnTo>
                    <a:lnTo>
                      <a:pt x="1147" y="395"/>
                    </a:lnTo>
                    <a:lnTo>
                      <a:pt x="1144" y="370"/>
                    </a:lnTo>
                    <a:lnTo>
                      <a:pt x="1144" y="345"/>
                    </a:lnTo>
                    <a:lnTo>
                      <a:pt x="1143" y="316"/>
                    </a:lnTo>
                    <a:lnTo>
                      <a:pt x="1142" y="290"/>
                    </a:lnTo>
                    <a:lnTo>
                      <a:pt x="1139" y="260"/>
                    </a:lnTo>
                    <a:lnTo>
                      <a:pt x="1137" y="233"/>
                    </a:lnTo>
                    <a:lnTo>
                      <a:pt x="1135" y="207"/>
                    </a:lnTo>
                    <a:lnTo>
                      <a:pt x="1133" y="183"/>
                    </a:lnTo>
                    <a:lnTo>
                      <a:pt x="1129" y="161"/>
                    </a:lnTo>
                    <a:lnTo>
                      <a:pt x="1126" y="144"/>
                    </a:lnTo>
                    <a:lnTo>
                      <a:pt x="1124" y="130"/>
                    </a:lnTo>
                    <a:lnTo>
                      <a:pt x="1120" y="123"/>
                    </a:lnTo>
                    <a:lnTo>
                      <a:pt x="1114" y="115"/>
                    </a:lnTo>
                    <a:lnTo>
                      <a:pt x="1109" y="109"/>
                    </a:lnTo>
                    <a:lnTo>
                      <a:pt x="1103" y="104"/>
                    </a:lnTo>
                    <a:lnTo>
                      <a:pt x="1095" y="97"/>
                    </a:lnTo>
                    <a:lnTo>
                      <a:pt x="1086" y="91"/>
                    </a:lnTo>
                    <a:lnTo>
                      <a:pt x="1078" y="86"/>
                    </a:lnTo>
                    <a:lnTo>
                      <a:pt x="1067" y="79"/>
                    </a:lnTo>
                    <a:lnTo>
                      <a:pt x="1060" y="75"/>
                    </a:lnTo>
                    <a:lnTo>
                      <a:pt x="1049" y="69"/>
                    </a:lnTo>
                    <a:lnTo>
                      <a:pt x="1039" y="65"/>
                    </a:lnTo>
                    <a:lnTo>
                      <a:pt x="1030" y="60"/>
                    </a:lnTo>
                    <a:lnTo>
                      <a:pt x="1021" y="56"/>
                    </a:lnTo>
                    <a:lnTo>
                      <a:pt x="1011" y="52"/>
                    </a:lnTo>
                    <a:lnTo>
                      <a:pt x="1004" y="48"/>
                    </a:lnTo>
                    <a:lnTo>
                      <a:pt x="996" y="45"/>
                    </a:lnTo>
                    <a:lnTo>
                      <a:pt x="989" y="44"/>
                    </a:lnTo>
                    <a:lnTo>
                      <a:pt x="981" y="40"/>
                    </a:lnTo>
                    <a:lnTo>
                      <a:pt x="974" y="38"/>
                    </a:lnTo>
                    <a:lnTo>
                      <a:pt x="964" y="34"/>
                    </a:lnTo>
                    <a:lnTo>
                      <a:pt x="955" y="31"/>
                    </a:lnTo>
                    <a:lnTo>
                      <a:pt x="945" y="27"/>
                    </a:lnTo>
                    <a:lnTo>
                      <a:pt x="934" y="25"/>
                    </a:lnTo>
                    <a:lnTo>
                      <a:pt x="923" y="21"/>
                    </a:lnTo>
                    <a:lnTo>
                      <a:pt x="914" y="17"/>
                    </a:lnTo>
                    <a:lnTo>
                      <a:pt x="903" y="13"/>
                    </a:lnTo>
                    <a:lnTo>
                      <a:pt x="894" y="11"/>
                    </a:lnTo>
                    <a:lnTo>
                      <a:pt x="885" y="8"/>
                    </a:lnTo>
                    <a:lnTo>
                      <a:pt x="878" y="5"/>
                    </a:lnTo>
                    <a:lnTo>
                      <a:pt x="872" y="3"/>
                    </a:lnTo>
                    <a:lnTo>
                      <a:pt x="868" y="1"/>
                    </a:lnTo>
                    <a:lnTo>
                      <a:pt x="864" y="0"/>
                    </a:lnTo>
                    <a:lnTo>
                      <a:pt x="406" y="40"/>
                    </a:lnTo>
                    <a:lnTo>
                      <a:pt x="406" y="4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272720" y="4028400"/>
                <a:ext cx="114480" cy="222840"/>
              </a:xfrm>
              <a:custGeom>
                <a:avLst/>
                <a:gdLst/>
                <a:ahLst/>
                <a:rect l="l" t="t" r="r" b="b"/>
                <a:pathLst>
                  <a:path w="187" h="364">
                    <a:moveTo>
                      <a:pt x="78" y="0"/>
                    </a:move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3" y="4"/>
                    </a:lnTo>
                    <a:lnTo>
                      <a:pt x="101" y="7"/>
                    </a:lnTo>
                    <a:lnTo>
                      <a:pt x="110" y="9"/>
                    </a:lnTo>
                    <a:lnTo>
                      <a:pt x="120" y="13"/>
                    </a:lnTo>
                    <a:lnTo>
                      <a:pt x="130" y="17"/>
                    </a:lnTo>
                    <a:lnTo>
                      <a:pt x="139" y="20"/>
                    </a:lnTo>
                    <a:lnTo>
                      <a:pt x="150" y="24"/>
                    </a:lnTo>
                    <a:lnTo>
                      <a:pt x="159" y="28"/>
                    </a:lnTo>
                    <a:lnTo>
                      <a:pt x="168" y="31"/>
                    </a:lnTo>
                    <a:lnTo>
                      <a:pt x="174" y="35"/>
                    </a:lnTo>
                    <a:lnTo>
                      <a:pt x="181" y="38"/>
                    </a:lnTo>
                    <a:lnTo>
                      <a:pt x="185" y="41"/>
                    </a:lnTo>
                    <a:lnTo>
                      <a:pt x="187" y="44"/>
                    </a:lnTo>
                    <a:lnTo>
                      <a:pt x="186" y="50"/>
                    </a:lnTo>
                    <a:lnTo>
                      <a:pt x="183" y="61"/>
                    </a:lnTo>
                    <a:lnTo>
                      <a:pt x="180" y="78"/>
                    </a:lnTo>
                    <a:lnTo>
                      <a:pt x="174" y="99"/>
                    </a:lnTo>
                    <a:lnTo>
                      <a:pt x="165" y="123"/>
                    </a:lnTo>
                    <a:lnTo>
                      <a:pt x="156" y="149"/>
                    </a:lnTo>
                    <a:lnTo>
                      <a:pt x="147" y="178"/>
                    </a:lnTo>
                    <a:lnTo>
                      <a:pt x="138" y="208"/>
                    </a:lnTo>
                    <a:lnTo>
                      <a:pt x="126" y="235"/>
                    </a:lnTo>
                    <a:lnTo>
                      <a:pt x="116" y="263"/>
                    </a:lnTo>
                    <a:lnTo>
                      <a:pt x="104" y="289"/>
                    </a:lnTo>
                    <a:lnTo>
                      <a:pt x="93" y="312"/>
                    </a:lnTo>
                    <a:lnTo>
                      <a:pt x="83" y="333"/>
                    </a:lnTo>
                    <a:lnTo>
                      <a:pt x="74" y="349"/>
                    </a:lnTo>
                    <a:lnTo>
                      <a:pt x="63" y="359"/>
                    </a:lnTo>
                    <a:lnTo>
                      <a:pt x="58" y="364"/>
                    </a:lnTo>
                    <a:lnTo>
                      <a:pt x="0" y="261"/>
                    </a:lnTo>
                    <a:lnTo>
                      <a:pt x="1" y="257"/>
                    </a:lnTo>
                    <a:lnTo>
                      <a:pt x="5" y="249"/>
                    </a:lnTo>
                    <a:lnTo>
                      <a:pt x="10" y="236"/>
                    </a:lnTo>
                    <a:lnTo>
                      <a:pt x="18" y="220"/>
                    </a:lnTo>
                    <a:lnTo>
                      <a:pt x="26" y="201"/>
                    </a:lnTo>
                    <a:lnTo>
                      <a:pt x="35" y="180"/>
                    </a:lnTo>
                    <a:lnTo>
                      <a:pt x="45" y="157"/>
                    </a:lnTo>
                    <a:lnTo>
                      <a:pt x="54" y="134"/>
                    </a:lnTo>
                    <a:lnTo>
                      <a:pt x="63" y="109"/>
                    </a:lnTo>
                    <a:lnTo>
                      <a:pt x="71" y="87"/>
                    </a:lnTo>
                    <a:lnTo>
                      <a:pt x="78" y="65"/>
                    </a:lnTo>
                    <a:lnTo>
                      <a:pt x="83" y="46"/>
                    </a:lnTo>
                    <a:lnTo>
                      <a:pt x="86" y="28"/>
                    </a:lnTo>
                    <a:lnTo>
                      <a:pt x="86" y="15"/>
                    </a:lnTo>
                    <a:lnTo>
                      <a:pt x="83" y="4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903360" y="4520880"/>
                <a:ext cx="361440" cy="105480"/>
              </a:xfrm>
              <a:custGeom>
                <a:avLst/>
                <a:gdLst/>
                <a:ahLst/>
                <a:rect l="l" t="t" r="r" b="b"/>
                <a:pathLst>
                  <a:path w="593" h="173">
                    <a:moveTo>
                      <a:pt x="0" y="139"/>
                    </a:moveTo>
                    <a:lnTo>
                      <a:pt x="0" y="138"/>
                    </a:lnTo>
                    <a:lnTo>
                      <a:pt x="4" y="138"/>
                    </a:lnTo>
                    <a:lnTo>
                      <a:pt x="8" y="138"/>
                    </a:lnTo>
                    <a:lnTo>
                      <a:pt x="15" y="138"/>
                    </a:lnTo>
                    <a:lnTo>
                      <a:pt x="23" y="138"/>
                    </a:lnTo>
                    <a:lnTo>
                      <a:pt x="32" y="138"/>
                    </a:lnTo>
                    <a:lnTo>
                      <a:pt x="43" y="138"/>
                    </a:lnTo>
                    <a:lnTo>
                      <a:pt x="56" y="139"/>
                    </a:lnTo>
                    <a:lnTo>
                      <a:pt x="68" y="139"/>
                    </a:lnTo>
                    <a:lnTo>
                      <a:pt x="82" y="141"/>
                    </a:lnTo>
                    <a:lnTo>
                      <a:pt x="95" y="143"/>
                    </a:lnTo>
                    <a:lnTo>
                      <a:pt x="109" y="146"/>
                    </a:lnTo>
                    <a:lnTo>
                      <a:pt x="124" y="147"/>
                    </a:lnTo>
                    <a:lnTo>
                      <a:pt x="138" y="151"/>
                    </a:lnTo>
                    <a:lnTo>
                      <a:pt x="152" y="155"/>
                    </a:lnTo>
                    <a:lnTo>
                      <a:pt x="168" y="161"/>
                    </a:lnTo>
                    <a:lnTo>
                      <a:pt x="181" y="164"/>
                    </a:lnTo>
                    <a:lnTo>
                      <a:pt x="199" y="168"/>
                    </a:lnTo>
                    <a:lnTo>
                      <a:pt x="218" y="171"/>
                    </a:lnTo>
                    <a:lnTo>
                      <a:pt x="240" y="172"/>
                    </a:lnTo>
                    <a:lnTo>
                      <a:pt x="261" y="172"/>
                    </a:lnTo>
                    <a:lnTo>
                      <a:pt x="284" y="173"/>
                    </a:lnTo>
                    <a:lnTo>
                      <a:pt x="306" y="172"/>
                    </a:lnTo>
                    <a:lnTo>
                      <a:pt x="330" y="172"/>
                    </a:lnTo>
                    <a:lnTo>
                      <a:pt x="351" y="171"/>
                    </a:lnTo>
                    <a:lnTo>
                      <a:pt x="370" y="169"/>
                    </a:lnTo>
                    <a:lnTo>
                      <a:pt x="390" y="168"/>
                    </a:lnTo>
                    <a:lnTo>
                      <a:pt x="406" y="167"/>
                    </a:lnTo>
                    <a:lnTo>
                      <a:pt x="419" y="165"/>
                    </a:lnTo>
                    <a:lnTo>
                      <a:pt x="429" y="164"/>
                    </a:lnTo>
                    <a:lnTo>
                      <a:pt x="436" y="164"/>
                    </a:lnTo>
                    <a:lnTo>
                      <a:pt x="438" y="164"/>
                    </a:lnTo>
                    <a:lnTo>
                      <a:pt x="593" y="71"/>
                    </a:lnTo>
                    <a:lnTo>
                      <a:pt x="402" y="0"/>
                    </a:lnTo>
                    <a:lnTo>
                      <a:pt x="0" y="130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144920" y="407952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121" h="273">
                    <a:moveTo>
                      <a:pt x="121" y="203"/>
                    </a:moveTo>
                    <a:lnTo>
                      <a:pt x="60" y="273"/>
                    </a:lnTo>
                    <a:lnTo>
                      <a:pt x="58" y="270"/>
                    </a:lnTo>
                    <a:lnTo>
                      <a:pt x="56" y="265"/>
                    </a:lnTo>
                    <a:lnTo>
                      <a:pt x="52" y="256"/>
                    </a:lnTo>
                    <a:lnTo>
                      <a:pt x="47" y="246"/>
                    </a:lnTo>
                    <a:lnTo>
                      <a:pt x="40" y="233"/>
                    </a:lnTo>
                    <a:lnTo>
                      <a:pt x="34" y="219"/>
                    </a:lnTo>
                    <a:lnTo>
                      <a:pt x="27" y="202"/>
                    </a:lnTo>
                    <a:lnTo>
                      <a:pt x="21" y="186"/>
                    </a:lnTo>
                    <a:lnTo>
                      <a:pt x="14" y="167"/>
                    </a:lnTo>
                    <a:lnTo>
                      <a:pt x="9" y="149"/>
                    </a:lnTo>
                    <a:lnTo>
                      <a:pt x="4" y="131"/>
                    </a:lnTo>
                    <a:lnTo>
                      <a:pt x="1" y="114"/>
                    </a:lnTo>
                    <a:lnTo>
                      <a:pt x="0" y="96"/>
                    </a:lnTo>
                    <a:lnTo>
                      <a:pt x="0" y="80"/>
                    </a:lnTo>
                    <a:lnTo>
                      <a:pt x="4" y="66"/>
                    </a:lnTo>
                    <a:lnTo>
                      <a:pt x="9" y="54"/>
                    </a:lnTo>
                    <a:lnTo>
                      <a:pt x="69" y="0"/>
                    </a:lnTo>
                    <a:lnTo>
                      <a:pt x="121" y="203"/>
                    </a:lnTo>
                    <a:lnTo>
                      <a:pt x="121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052400" y="4040640"/>
                <a:ext cx="161280" cy="168840"/>
              </a:xfrm>
              <a:custGeom>
                <a:avLst/>
                <a:gdLst/>
                <a:ahLst/>
                <a:rect l="l" t="t" r="r" b="b"/>
                <a:pathLst>
                  <a:path w="265" h="277">
                    <a:moveTo>
                      <a:pt x="0" y="30"/>
                    </a:moveTo>
                    <a:lnTo>
                      <a:pt x="0" y="31"/>
                    </a:lnTo>
                    <a:lnTo>
                      <a:pt x="2" y="39"/>
                    </a:lnTo>
                    <a:lnTo>
                      <a:pt x="6" y="48"/>
                    </a:lnTo>
                    <a:lnTo>
                      <a:pt x="11" y="62"/>
                    </a:lnTo>
                    <a:lnTo>
                      <a:pt x="18" y="76"/>
                    </a:lnTo>
                    <a:lnTo>
                      <a:pt x="27" y="96"/>
                    </a:lnTo>
                    <a:lnTo>
                      <a:pt x="38" y="115"/>
                    </a:lnTo>
                    <a:lnTo>
                      <a:pt x="49" y="136"/>
                    </a:lnTo>
                    <a:lnTo>
                      <a:pt x="62" y="158"/>
                    </a:lnTo>
                    <a:lnTo>
                      <a:pt x="78" y="179"/>
                    </a:lnTo>
                    <a:lnTo>
                      <a:pt x="94" y="198"/>
                    </a:lnTo>
                    <a:lnTo>
                      <a:pt x="113" y="219"/>
                    </a:lnTo>
                    <a:lnTo>
                      <a:pt x="134" y="237"/>
                    </a:lnTo>
                    <a:lnTo>
                      <a:pt x="156" y="254"/>
                    </a:lnTo>
                    <a:lnTo>
                      <a:pt x="180" y="267"/>
                    </a:lnTo>
                    <a:lnTo>
                      <a:pt x="206" y="277"/>
                    </a:lnTo>
                    <a:lnTo>
                      <a:pt x="265" y="234"/>
                    </a:lnTo>
                    <a:lnTo>
                      <a:pt x="263" y="233"/>
                    </a:lnTo>
                    <a:lnTo>
                      <a:pt x="259" y="231"/>
                    </a:lnTo>
                    <a:lnTo>
                      <a:pt x="255" y="224"/>
                    </a:lnTo>
                    <a:lnTo>
                      <a:pt x="249" y="218"/>
                    </a:lnTo>
                    <a:lnTo>
                      <a:pt x="242" y="209"/>
                    </a:lnTo>
                    <a:lnTo>
                      <a:pt x="233" y="199"/>
                    </a:lnTo>
                    <a:lnTo>
                      <a:pt x="223" y="188"/>
                    </a:lnTo>
                    <a:lnTo>
                      <a:pt x="214" y="176"/>
                    </a:lnTo>
                    <a:lnTo>
                      <a:pt x="203" y="163"/>
                    </a:lnTo>
                    <a:lnTo>
                      <a:pt x="192" y="150"/>
                    </a:lnTo>
                    <a:lnTo>
                      <a:pt x="181" y="136"/>
                    </a:lnTo>
                    <a:lnTo>
                      <a:pt x="171" y="123"/>
                    </a:lnTo>
                    <a:lnTo>
                      <a:pt x="162" y="108"/>
                    </a:lnTo>
                    <a:lnTo>
                      <a:pt x="151" y="95"/>
                    </a:lnTo>
                    <a:lnTo>
                      <a:pt x="142" y="80"/>
                    </a:lnTo>
                    <a:lnTo>
                      <a:pt x="135" y="69"/>
                    </a:lnTo>
                    <a:lnTo>
                      <a:pt x="126" y="56"/>
                    </a:lnTo>
                    <a:lnTo>
                      <a:pt x="118" y="45"/>
                    </a:lnTo>
                    <a:lnTo>
                      <a:pt x="109" y="36"/>
                    </a:lnTo>
                    <a:lnTo>
                      <a:pt x="100" y="29"/>
                    </a:lnTo>
                    <a:lnTo>
                      <a:pt x="90" y="21"/>
                    </a:lnTo>
                    <a:lnTo>
                      <a:pt x="81" y="17"/>
                    </a:lnTo>
                    <a:lnTo>
                      <a:pt x="70" y="12"/>
                    </a:lnTo>
                    <a:lnTo>
                      <a:pt x="61" y="9"/>
                    </a:lnTo>
                    <a:lnTo>
                      <a:pt x="52" y="5"/>
                    </a:lnTo>
                    <a:lnTo>
                      <a:pt x="44" y="4"/>
                    </a:lnTo>
                    <a:lnTo>
                      <a:pt x="36" y="1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67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89560" y="3983760"/>
                <a:ext cx="144000" cy="235440"/>
              </a:xfrm>
              <a:custGeom>
                <a:avLst/>
                <a:gdLst/>
                <a:ahLst/>
                <a:rect l="l" t="t" r="r" b="b"/>
                <a:pathLst>
                  <a:path w="236" h="383">
                    <a:moveTo>
                      <a:pt x="159" y="0"/>
                    </a:moveTo>
                    <a:lnTo>
                      <a:pt x="163" y="3"/>
                    </a:lnTo>
                    <a:lnTo>
                      <a:pt x="167" y="8"/>
                    </a:lnTo>
                    <a:lnTo>
                      <a:pt x="172" y="13"/>
                    </a:lnTo>
                    <a:lnTo>
                      <a:pt x="177" y="20"/>
                    </a:lnTo>
                    <a:lnTo>
                      <a:pt x="185" y="29"/>
                    </a:lnTo>
                    <a:lnTo>
                      <a:pt x="193" y="38"/>
                    </a:lnTo>
                    <a:lnTo>
                      <a:pt x="199" y="48"/>
                    </a:lnTo>
                    <a:lnTo>
                      <a:pt x="207" y="57"/>
                    </a:lnTo>
                    <a:lnTo>
                      <a:pt x="214" y="69"/>
                    </a:lnTo>
                    <a:lnTo>
                      <a:pt x="220" y="78"/>
                    </a:lnTo>
                    <a:lnTo>
                      <a:pt x="227" y="88"/>
                    </a:lnTo>
                    <a:lnTo>
                      <a:pt x="231" y="99"/>
                    </a:lnTo>
                    <a:lnTo>
                      <a:pt x="235" y="108"/>
                    </a:lnTo>
                    <a:lnTo>
                      <a:pt x="236" y="115"/>
                    </a:lnTo>
                    <a:lnTo>
                      <a:pt x="236" y="123"/>
                    </a:lnTo>
                    <a:lnTo>
                      <a:pt x="232" y="131"/>
                    </a:lnTo>
                    <a:lnTo>
                      <a:pt x="229" y="144"/>
                    </a:lnTo>
                    <a:lnTo>
                      <a:pt x="226" y="159"/>
                    </a:lnTo>
                    <a:lnTo>
                      <a:pt x="219" y="176"/>
                    </a:lnTo>
                    <a:lnTo>
                      <a:pt x="212" y="196"/>
                    </a:lnTo>
                    <a:lnTo>
                      <a:pt x="206" y="218"/>
                    </a:lnTo>
                    <a:lnTo>
                      <a:pt x="197" y="240"/>
                    </a:lnTo>
                    <a:lnTo>
                      <a:pt x="189" y="263"/>
                    </a:lnTo>
                    <a:lnTo>
                      <a:pt x="179" y="284"/>
                    </a:lnTo>
                    <a:lnTo>
                      <a:pt x="169" y="306"/>
                    </a:lnTo>
                    <a:lnTo>
                      <a:pt x="159" y="325"/>
                    </a:lnTo>
                    <a:lnTo>
                      <a:pt x="150" y="343"/>
                    </a:lnTo>
                    <a:lnTo>
                      <a:pt x="141" y="357"/>
                    </a:lnTo>
                    <a:lnTo>
                      <a:pt x="130" y="370"/>
                    </a:lnTo>
                    <a:lnTo>
                      <a:pt x="121" y="380"/>
                    </a:lnTo>
                    <a:lnTo>
                      <a:pt x="111" y="383"/>
                    </a:lnTo>
                    <a:lnTo>
                      <a:pt x="102" y="383"/>
                    </a:lnTo>
                    <a:lnTo>
                      <a:pt x="92" y="383"/>
                    </a:lnTo>
                    <a:lnTo>
                      <a:pt x="82" y="382"/>
                    </a:lnTo>
                    <a:lnTo>
                      <a:pt x="74" y="380"/>
                    </a:lnTo>
                    <a:lnTo>
                      <a:pt x="65" y="374"/>
                    </a:lnTo>
                    <a:lnTo>
                      <a:pt x="56" y="369"/>
                    </a:lnTo>
                    <a:lnTo>
                      <a:pt x="48" y="364"/>
                    </a:lnTo>
                    <a:lnTo>
                      <a:pt x="42" y="359"/>
                    </a:lnTo>
                    <a:lnTo>
                      <a:pt x="34" y="351"/>
                    </a:lnTo>
                    <a:lnTo>
                      <a:pt x="29" y="346"/>
                    </a:lnTo>
                    <a:lnTo>
                      <a:pt x="22" y="339"/>
                    </a:lnTo>
                    <a:lnTo>
                      <a:pt x="18" y="335"/>
                    </a:lnTo>
                    <a:lnTo>
                      <a:pt x="13" y="330"/>
                    </a:lnTo>
                    <a:lnTo>
                      <a:pt x="12" y="328"/>
                    </a:lnTo>
                    <a:lnTo>
                      <a:pt x="9" y="325"/>
                    </a:lnTo>
                    <a:lnTo>
                      <a:pt x="0" y="163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054560" y="4045680"/>
                <a:ext cx="51480" cy="6588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11" y="0"/>
                    </a:moveTo>
                    <a:lnTo>
                      <a:pt x="8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9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5"/>
                    </a:lnTo>
                    <a:lnTo>
                      <a:pt x="12" y="50"/>
                    </a:lnTo>
                    <a:lnTo>
                      <a:pt x="17" y="57"/>
                    </a:lnTo>
                    <a:lnTo>
                      <a:pt x="21" y="63"/>
                    </a:lnTo>
                    <a:lnTo>
                      <a:pt x="26" y="70"/>
                    </a:lnTo>
                    <a:lnTo>
                      <a:pt x="30" y="76"/>
                    </a:lnTo>
                    <a:lnTo>
                      <a:pt x="36" y="83"/>
                    </a:lnTo>
                    <a:lnTo>
                      <a:pt x="39" y="88"/>
                    </a:lnTo>
                    <a:lnTo>
                      <a:pt x="43" y="94"/>
                    </a:lnTo>
                    <a:lnTo>
                      <a:pt x="47" y="98"/>
                    </a:lnTo>
                    <a:lnTo>
                      <a:pt x="51" y="103"/>
                    </a:lnTo>
                    <a:lnTo>
                      <a:pt x="58" y="109"/>
                    </a:lnTo>
                    <a:lnTo>
                      <a:pt x="62" y="110"/>
                    </a:lnTo>
                    <a:lnTo>
                      <a:pt x="64" y="106"/>
                    </a:lnTo>
                    <a:lnTo>
                      <a:pt x="68" y="103"/>
                    </a:lnTo>
                    <a:lnTo>
                      <a:pt x="72" y="100"/>
                    </a:lnTo>
                    <a:lnTo>
                      <a:pt x="77" y="96"/>
                    </a:lnTo>
                    <a:lnTo>
                      <a:pt x="84" y="89"/>
                    </a:lnTo>
                    <a:lnTo>
                      <a:pt x="88" y="87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87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96320" y="4089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152" h="148">
                    <a:moveTo>
                      <a:pt x="0" y="28"/>
                    </a:moveTo>
                    <a:lnTo>
                      <a:pt x="0" y="30"/>
                    </a:lnTo>
                    <a:lnTo>
                      <a:pt x="3" y="34"/>
                    </a:lnTo>
                    <a:lnTo>
                      <a:pt x="7" y="39"/>
                    </a:lnTo>
                    <a:lnTo>
                      <a:pt x="12" y="47"/>
                    </a:lnTo>
                    <a:lnTo>
                      <a:pt x="17" y="56"/>
                    </a:lnTo>
                    <a:lnTo>
                      <a:pt x="24" y="66"/>
                    </a:lnTo>
                    <a:lnTo>
                      <a:pt x="31" y="76"/>
                    </a:lnTo>
                    <a:lnTo>
                      <a:pt x="41" y="88"/>
                    </a:lnTo>
                    <a:lnTo>
                      <a:pt x="48" y="100"/>
                    </a:lnTo>
                    <a:lnTo>
                      <a:pt x="58" y="110"/>
                    </a:lnTo>
                    <a:lnTo>
                      <a:pt x="68" y="119"/>
                    </a:lnTo>
                    <a:lnTo>
                      <a:pt x="77" y="129"/>
                    </a:lnTo>
                    <a:lnTo>
                      <a:pt x="85" y="136"/>
                    </a:lnTo>
                    <a:lnTo>
                      <a:pt x="95" y="142"/>
                    </a:lnTo>
                    <a:lnTo>
                      <a:pt x="103" y="146"/>
                    </a:lnTo>
                    <a:lnTo>
                      <a:pt x="112" y="148"/>
                    </a:lnTo>
                    <a:lnTo>
                      <a:pt x="152" y="84"/>
                    </a:lnTo>
                    <a:lnTo>
                      <a:pt x="133" y="8"/>
                    </a:lnTo>
                    <a:lnTo>
                      <a:pt x="20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8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44920" y="4128480"/>
                <a:ext cx="85680" cy="8316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30" y="14"/>
                    </a:moveTo>
                    <a:lnTo>
                      <a:pt x="28" y="14"/>
                    </a:lnTo>
                    <a:lnTo>
                      <a:pt x="24" y="17"/>
                    </a:lnTo>
                    <a:lnTo>
                      <a:pt x="18" y="21"/>
                    </a:lnTo>
                    <a:lnTo>
                      <a:pt x="11" y="26"/>
                    </a:lnTo>
                    <a:lnTo>
                      <a:pt x="5" y="31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1" y="51"/>
                    </a:lnTo>
                    <a:lnTo>
                      <a:pt x="4" y="57"/>
                    </a:lnTo>
                    <a:lnTo>
                      <a:pt x="6" y="61"/>
                    </a:lnTo>
                    <a:lnTo>
                      <a:pt x="9" y="67"/>
                    </a:lnTo>
                    <a:lnTo>
                      <a:pt x="13" y="74"/>
                    </a:lnTo>
                    <a:lnTo>
                      <a:pt x="17" y="80"/>
                    </a:lnTo>
                    <a:lnTo>
                      <a:pt x="19" y="87"/>
                    </a:lnTo>
                    <a:lnTo>
                      <a:pt x="23" y="93"/>
                    </a:lnTo>
                    <a:lnTo>
                      <a:pt x="27" y="100"/>
                    </a:lnTo>
                    <a:lnTo>
                      <a:pt x="32" y="106"/>
                    </a:lnTo>
                    <a:lnTo>
                      <a:pt x="36" y="113"/>
                    </a:lnTo>
                    <a:lnTo>
                      <a:pt x="40" y="118"/>
                    </a:lnTo>
                    <a:lnTo>
                      <a:pt x="45" y="123"/>
                    </a:lnTo>
                    <a:lnTo>
                      <a:pt x="49" y="127"/>
                    </a:lnTo>
                    <a:lnTo>
                      <a:pt x="53" y="131"/>
                    </a:lnTo>
                    <a:lnTo>
                      <a:pt x="58" y="133"/>
                    </a:lnTo>
                    <a:lnTo>
                      <a:pt x="62" y="133"/>
                    </a:lnTo>
                    <a:lnTo>
                      <a:pt x="68" y="135"/>
                    </a:lnTo>
                    <a:lnTo>
                      <a:pt x="71" y="132"/>
                    </a:lnTo>
                    <a:lnTo>
                      <a:pt x="77" y="131"/>
                    </a:lnTo>
                    <a:lnTo>
                      <a:pt x="82" y="128"/>
                    </a:lnTo>
                    <a:lnTo>
                      <a:pt x="90" y="126"/>
                    </a:lnTo>
                    <a:lnTo>
                      <a:pt x="95" y="122"/>
                    </a:lnTo>
                    <a:lnTo>
                      <a:pt x="101" y="119"/>
                    </a:lnTo>
                    <a:lnTo>
                      <a:pt x="108" y="117"/>
                    </a:lnTo>
                    <a:lnTo>
                      <a:pt x="114" y="113"/>
                    </a:lnTo>
                    <a:lnTo>
                      <a:pt x="121" y="109"/>
                    </a:lnTo>
                    <a:lnTo>
                      <a:pt x="126" y="105"/>
                    </a:lnTo>
                    <a:lnTo>
                      <a:pt x="130" y="101"/>
                    </a:lnTo>
                    <a:lnTo>
                      <a:pt x="134" y="97"/>
                    </a:lnTo>
                    <a:lnTo>
                      <a:pt x="137" y="92"/>
                    </a:lnTo>
                    <a:lnTo>
                      <a:pt x="139" y="87"/>
                    </a:lnTo>
                    <a:lnTo>
                      <a:pt x="139" y="83"/>
                    </a:lnTo>
                    <a:lnTo>
                      <a:pt x="139" y="80"/>
                    </a:lnTo>
                    <a:lnTo>
                      <a:pt x="138" y="75"/>
                    </a:lnTo>
                    <a:lnTo>
                      <a:pt x="135" y="71"/>
                    </a:lnTo>
                    <a:lnTo>
                      <a:pt x="133" y="66"/>
                    </a:lnTo>
                    <a:lnTo>
                      <a:pt x="130" y="61"/>
                    </a:lnTo>
                    <a:lnTo>
                      <a:pt x="126" y="53"/>
                    </a:lnTo>
                    <a:lnTo>
                      <a:pt x="124" y="47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2" y="29"/>
                    </a:lnTo>
                    <a:lnTo>
                      <a:pt x="107" y="23"/>
                    </a:lnTo>
                    <a:lnTo>
                      <a:pt x="103" y="18"/>
                    </a:lnTo>
                    <a:lnTo>
                      <a:pt x="98" y="13"/>
                    </a:lnTo>
                    <a:lnTo>
                      <a:pt x="94" y="9"/>
                    </a:lnTo>
                    <a:lnTo>
                      <a:pt x="90" y="5"/>
                    </a:lnTo>
                    <a:lnTo>
                      <a:pt x="84" y="3"/>
                    </a:lnTo>
                    <a:lnTo>
                      <a:pt x="82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58" y="1"/>
                    </a:lnTo>
                    <a:lnTo>
                      <a:pt x="56" y="3"/>
                    </a:lnTo>
                    <a:lnTo>
                      <a:pt x="51" y="3"/>
                    </a:lnTo>
                    <a:lnTo>
                      <a:pt x="48" y="5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87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023240" y="3898080"/>
                <a:ext cx="273600" cy="245160"/>
              </a:xfrm>
              <a:custGeom>
                <a:avLst/>
                <a:gdLst/>
                <a:ahLst/>
                <a:rect l="l" t="t" r="r" b="b"/>
                <a:pathLst>
                  <a:path w="452" h="402">
                    <a:moveTo>
                      <a:pt x="16" y="157"/>
                    </a:moveTo>
                    <a:lnTo>
                      <a:pt x="16" y="158"/>
                    </a:lnTo>
                    <a:lnTo>
                      <a:pt x="20" y="165"/>
                    </a:lnTo>
                    <a:lnTo>
                      <a:pt x="24" y="174"/>
                    </a:lnTo>
                    <a:lnTo>
                      <a:pt x="31" y="187"/>
                    </a:lnTo>
                    <a:lnTo>
                      <a:pt x="39" y="201"/>
                    </a:lnTo>
                    <a:lnTo>
                      <a:pt x="50" y="218"/>
                    </a:lnTo>
                    <a:lnTo>
                      <a:pt x="59" y="236"/>
                    </a:lnTo>
                    <a:lnTo>
                      <a:pt x="72" y="255"/>
                    </a:lnTo>
                    <a:lnTo>
                      <a:pt x="84" y="274"/>
                    </a:lnTo>
                    <a:lnTo>
                      <a:pt x="95" y="292"/>
                    </a:lnTo>
                    <a:lnTo>
                      <a:pt x="108" y="310"/>
                    </a:lnTo>
                    <a:lnTo>
                      <a:pt x="123" y="327"/>
                    </a:lnTo>
                    <a:lnTo>
                      <a:pt x="136" y="340"/>
                    </a:lnTo>
                    <a:lnTo>
                      <a:pt x="149" y="352"/>
                    </a:lnTo>
                    <a:lnTo>
                      <a:pt x="161" y="362"/>
                    </a:lnTo>
                    <a:lnTo>
                      <a:pt x="172" y="368"/>
                    </a:lnTo>
                    <a:lnTo>
                      <a:pt x="172" y="367"/>
                    </a:lnTo>
                    <a:lnTo>
                      <a:pt x="176" y="364"/>
                    </a:lnTo>
                    <a:lnTo>
                      <a:pt x="180" y="362"/>
                    </a:lnTo>
                    <a:lnTo>
                      <a:pt x="185" y="359"/>
                    </a:lnTo>
                    <a:lnTo>
                      <a:pt x="189" y="355"/>
                    </a:lnTo>
                    <a:lnTo>
                      <a:pt x="195" y="351"/>
                    </a:lnTo>
                    <a:lnTo>
                      <a:pt x="198" y="347"/>
                    </a:lnTo>
                    <a:lnTo>
                      <a:pt x="201" y="345"/>
                    </a:lnTo>
                    <a:lnTo>
                      <a:pt x="206" y="343"/>
                    </a:lnTo>
                    <a:lnTo>
                      <a:pt x="214" y="347"/>
                    </a:lnTo>
                    <a:lnTo>
                      <a:pt x="217" y="350"/>
                    </a:lnTo>
                    <a:lnTo>
                      <a:pt x="219" y="354"/>
                    </a:lnTo>
                    <a:lnTo>
                      <a:pt x="221" y="358"/>
                    </a:lnTo>
                    <a:lnTo>
                      <a:pt x="222" y="363"/>
                    </a:lnTo>
                    <a:lnTo>
                      <a:pt x="225" y="368"/>
                    </a:lnTo>
                    <a:lnTo>
                      <a:pt x="230" y="374"/>
                    </a:lnTo>
                    <a:lnTo>
                      <a:pt x="234" y="374"/>
                    </a:lnTo>
                    <a:lnTo>
                      <a:pt x="238" y="376"/>
                    </a:lnTo>
                    <a:lnTo>
                      <a:pt x="242" y="376"/>
                    </a:lnTo>
                    <a:lnTo>
                      <a:pt x="245" y="374"/>
                    </a:lnTo>
                    <a:lnTo>
                      <a:pt x="251" y="369"/>
                    </a:lnTo>
                    <a:lnTo>
                      <a:pt x="256" y="367"/>
                    </a:lnTo>
                    <a:lnTo>
                      <a:pt x="260" y="368"/>
                    </a:lnTo>
                    <a:lnTo>
                      <a:pt x="264" y="373"/>
                    </a:lnTo>
                    <a:lnTo>
                      <a:pt x="268" y="380"/>
                    </a:lnTo>
                    <a:lnTo>
                      <a:pt x="274" y="386"/>
                    </a:lnTo>
                    <a:lnTo>
                      <a:pt x="279" y="391"/>
                    </a:lnTo>
                    <a:lnTo>
                      <a:pt x="282" y="393"/>
                    </a:lnTo>
                    <a:lnTo>
                      <a:pt x="302" y="382"/>
                    </a:lnTo>
                    <a:lnTo>
                      <a:pt x="303" y="382"/>
                    </a:lnTo>
                    <a:lnTo>
                      <a:pt x="309" y="386"/>
                    </a:lnTo>
                    <a:lnTo>
                      <a:pt x="313" y="387"/>
                    </a:lnTo>
                    <a:lnTo>
                      <a:pt x="318" y="390"/>
                    </a:lnTo>
                    <a:lnTo>
                      <a:pt x="324" y="393"/>
                    </a:lnTo>
                    <a:lnTo>
                      <a:pt x="330" y="395"/>
                    </a:lnTo>
                    <a:lnTo>
                      <a:pt x="335" y="398"/>
                    </a:lnTo>
                    <a:lnTo>
                      <a:pt x="342" y="399"/>
                    </a:lnTo>
                    <a:lnTo>
                      <a:pt x="348" y="400"/>
                    </a:lnTo>
                    <a:lnTo>
                      <a:pt x="355" y="402"/>
                    </a:lnTo>
                    <a:lnTo>
                      <a:pt x="360" y="402"/>
                    </a:lnTo>
                    <a:lnTo>
                      <a:pt x="365" y="402"/>
                    </a:lnTo>
                    <a:lnTo>
                      <a:pt x="371" y="399"/>
                    </a:lnTo>
                    <a:lnTo>
                      <a:pt x="375" y="398"/>
                    </a:lnTo>
                    <a:lnTo>
                      <a:pt x="379" y="391"/>
                    </a:lnTo>
                    <a:lnTo>
                      <a:pt x="385" y="385"/>
                    </a:lnTo>
                    <a:lnTo>
                      <a:pt x="392" y="376"/>
                    </a:lnTo>
                    <a:lnTo>
                      <a:pt x="399" y="365"/>
                    </a:lnTo>
                    <a:lnTo>
                      <a:pt x="407" y="351"/>
                    </a:lnTo>
                    <a:lnTo>
                      <a:pt x="416" y="338"/>
                    </a:lnTo>
                    <a:lnTo>
                      <a:pt x="424" y="323"/>
                    </a:lnTo>
                    <a:lnTo>
                      <a:pt x="432" y="307"/>
                    </a:lnTo>
                    <a:lnTo>
                      <a:pt x="439" y="289"/>
                    </a:lnTo>
                    <a:lnTo>
                      <a:pt x="444" y="271"/>
                    </a:lnTo>
                    <a:lnTo>
                      <a:pt x="449" y="253"/>
                    </a:lnTo>
                    <a:lnTo>
                      <a:pt x="452" y="236"/>
                    </a:lnTo>
                    <a:lnTo>
                      <a:pt x="452" y="219"/>
                    </a:lnTo>
                    <a:lnTo>
                      <a:pt x="449" y="202"/>
                    </a:lnTo>
                    <a:lnTo>
                      <a:pt x="444" y="187"/>
                    </a:lnTo>
                    <a:lnTo>
                      <a:pt x="437" y="173"/>
                    </a:lnTo>
                    <a:lnTo>
                      <a:pt x="427" y="81"/>
                    </a:lnTo>
                    <a:lnTo>
                      <a:pt x="272" y="0"/>
                    </a:lnTo>
                    <a:lnTo>
                      <a:pt x="43" y="22"/>
                    </a:lnTo>
                    <a:lnTo>
                      <a:pt x="0" y="131"/>
                    </a:lnTo>
                    <a:lnTo>
                      <a:pt x="16" y="15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47800" y="395424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4" y="0"/>
                    </a:lnTo>
                    <a:lnTo>
                      <a:pt x="8" y="3"/>
                    </a:lnTo>
                    <a:lnTo>
                      <a:pt x="10" y="7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0" y="19"/>
                    </a:lnTo>
                    <a:lnTo>
                      <a:pt x="8" y="22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25840" y="39693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0"/>
                    </a:moveTo>
                    <a:lnTo>
                      <a:pt x="8" y="0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7" y="11"/>
                    </a:lnTo>
                    <a:lnTo>
                      <a:pt x="17" y="18"/>
                    </a:lnTo>
                    <a:lnTo>
                      <a:pt x="15" y="22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08560" y="3983760"/>
                <a:ext cx="9720" cy="14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3" y="0"/>
                    </a:moveTo>
                    <a:lnTo>
                      <a:pt x="9" y="0"/>
                    </a:lnTo>
                    <a:lnTo>
                      <a:pt x="14" y="4"/>
                    </a:lnTo>
                    <a:lnTo>
                      <a:pt x="17" y="11"/>
                    </a:lnTo>
                    <a:lnTo>
                      <a:pt x="18" y="16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96320" y="399888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" y="0"/>
                    </a:move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9"/>
                    </a:lnTo>
                    <a:lnTo>
                      <a:pt x="9" y="22"/>
                    </a:lnTo>
                    <a:lnTo>
                      <a:pt x="5" y="17"/>
                    </a:lnTo>
                    <a:lnTo>
                      <a:pt x="2" y="10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086960" y="402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1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4" y="9"/>
                    </a:lnTo>
                    <a:lnTo>
                      <a:pt x="22" y="15"/>
                    </a:lnTo>
                    <a:lnTo>
                      <a:pt x="18" y="15"/>
                    </a:lnTo>
                    <a:lnTo>
                      <a:pt x="11" y="15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81920" y="403776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4" y="2"/>
                    </a:moveTo>
                    <a:lnTo>
                      <a:pt x="8" y="0"/>
                    </a:lnTo>
                    <a:lnTo>
                      <a:pt x="13" y="3"/>
                    </a:lnTo>
                    <a:lnTo>
                      <a:pt x="16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091280" y="3962160"/>
                <a:ext cx="73440" cy="99720"/>
              </a:xfrm>
              <a:custGeom>
                <a:avLst/>
                <a:gdLst/>
                <a:ahLst/>
                <a:rect l="l" t="t" r="r" b="b"/>
                <a:pathLst>
                  <a:path w="122" h="163">
                    <a:moveTo>
                      <a:pt x="0" y="163"/>
                    </a:moveTo>
                    <a:lnTo>
                      <a:pt x="0" y="161"/>
                    </a:lnTo>
                    <a:lnTo>
                      <a:pt x="0" y="157"/>
                    </a:lnTo>
                    <a:lnTo>
                      <a:pt x="0" y="150"/>
                    </a:lnTo>
                    <a:lnTo>
                      <a:pt x="2" y="142"/>
                    </a:lnTo>
                    <a:lnTo>
                      <a:pt x="3" y="133"/>
                    </a:lnTo>
                    <a:lnTo>
                      <a:pt x="6" y="121"/>
                    </a:lnTo>
                    <a:lnTo>
                      <a:pt x="8" y="110"/>
                    </a:lnTo>
                    <a:lnTo>
                      <a:pt x="15" y="97"/>
                    </a:lnTo>
                    <a:lnTo>
                      <a:pt x="20" y="82"/>
                    </a:lnTo>
                    <a:lnTo>
                      <a:pt x="28" y="69"/>
                    </a:lnTo>
                    <a:lnTo>
                      <a:pt x="37" y="55"/>
                    </a:lnTo>
                    <a:lnTo>
                      <a:pt x="50" y="42"/>
                    </a:lnTo>
                    <a:lnTo>
                      <a:pt x="64" y="29"/>
                    </a:lnTo>
                    <a:lnTo>
                      <a:pt x="80" y="19"/>
                    </a:lnTo>
                    <a:lnTo>
                      <a:pt x="100" y="9"/>
                    </a:lnTo>
                    <a:lnTo>
                      <a:pt x="122" y="0"/>
                    </a:lnTo>
                    <a:lnTo>
                      <a:pt x="122" y="1"/>
                    </a:lnTo>
                    <a:lnTo>
                      <a:pt x="122" y="3"/>
                    </a:lnTo>
                    <a:lnTo>
                      <a:pt x="122" y="9"/>
                    </a:lnTo>
                    <a:lnTo>
                      <a:pt x="122" y="16"/>
                    </a:lnTo>
                    <a:lnTo>
                      <a:pt x="120" y="24"/>
                    </a:lnTo>
                    <a:lnTo>
                      <a:pt x="120" y="34"/>
                    </a:lnTo>
                    <a:lnTo>
                      <a:pt x="116" y="45"/>
                    </a:lnTo>
                    <a:lnTo>
                      <a:pt x="114" y="58"/>
                    </a:lnTo>
                    <a:lnTo>
                      <a:pt x="109" y="69"/>
                    </a:lnTo>
                    <a:lnTo>
                      <a:pt x="103" y="82"/>
                    </a:lnTo>
                    <a:lnTo>
                      <a:pt x="94" y="95"/>
                    </a:lnTo>
                    <a:lnTo>
                      <a:pt x="84" y="110"/>
                    </a:lnTo>
                    <a:lnTo>
                      <a:pt x="71" y="122"/>
                    </a:lnTo>
                    <a:lnTo>
                      <a:pt x="56" y="135"/>
                    </a:lnTo>
                    <a:lnTo>
                      <a:pt x="38" y="147"/>
                    </a:lnTo>
                    <a:lnTo>
                      <a:pt x="19" y="16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103520" y="3978720"/>
                <a:ext cx="44280" cy="63720"/>
              </a:xfrm>
              <a:custGeom>
                <a:avLst/>
                <a:gdLst/>
                <a:ahLst/>
                <a:rect l="l" t="t" r="r" b="b"/>
                <a:pathLst>
                  <a:path w="72" h="101">
                    <a:moveTo>
                      <a:pt x="0" y="101"/>
                    </a:moveTo>
                    <a:lnTo>
                      <a:pt x="0" y="100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3" y="91"/>
                    </a:lnTo>
                    <a:lnTo>
                      <a:pt x="4" y="85"/>
                    </a:lnTo>
                    <a:lnTo>
                      <a:pt x="7" y="79"/>
                    </a:lnTo>
                    <a:lnTo>
                      <a:pt x="8" y="72"/>
                    </a:lnTo>
                    <a:lnTo>
                      <a:pt x="13" y="66"/>
                    </a:lnTo>
                    <a:lnTo>
                      <a:pt x="17" y="57"/>
                    </a:lnTo>
                    <a:lnTo>
                      <a:pt x="22" y="49"/>
                    </a:lnTo>
                    <a:lnTo>
                      <a:pt x="28" y="41"/>
                    </a:lnTo>
                    <a:lnTo>
                      <a:pt x="35" y="32"/>
                    </a:lnTo>
                    <a:lnTo>
                      <a:pt x="42" y="23"/>
                    </a:lnTo>
                    <a:lnTo>
                      <a:pt x="51" y="14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2" y="5"/>
                    </a:lnTo>
                    <a:lnTo>
                      <a:pt x="72" y="9"/>
                    </a:lnTo>
                    <a:lnTo>
                      <a:pt x="71" y="14"/>
                    </a:lnTo>
                    <a:lnTo>
                      <a:pt x="71" y="21"/>
                    </a:lnTo>
                    <a:lnTo>
                      <a:pt x="69" y="28"/>
                    </a:lnTo>
                    <a:lnTo>
                      <a:pt x="68" y="36"/>
                    </a:lnTo>
                    <a:lnTo>
                      <a:pt x="64" y="43"/>
                    </a:lnTo>
                    <a:lnTo>
                      <a:pt x="62" y="52"/>
                    </a:lnTo>
                    <a:lnTo>
                      <a:pt x="56" y="60"/>
                    </a:lnTo>
                    <a:lnTo>
                      <a:pt x="51" y="69"/>
                    </a:lnTo>
                    <a:lnTo>
                      <a:pt x="45" y="76"/>
                    </a:lnTo>
                    <a:lnTo>
                      <a:pt x="37" y="84"/>
                    </a:lnTo>
                    <a:lnTo>
                      <a:pt x="26" y="92"/>
                    </a:lnTo>
                    <a:lnTo>
                      <a:pt x="16" y="10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986520" y="3785400"/>
                <a:ext cx="319680" cy="220680"/>
              </a:xfrm>
              <a:custGeom>
                <a:avLst/>
                <a:gdLst/>
                <a:ahLst/>
                <a:rect l="l" t="t" r="r" b="b"/>
                <a:pathLst>
                  <a:path w="524" h="362">
                    <a:moveTo>
                      <a:pt x="73" y="341"/>
                    </a:moveTo>
                    <a:lnTo>
                      <a:pt x="70" y="341"/>
                    </a:lnTo>
                    <a:lnTo>
                      <a:pt x="66" y="344"/>
                    </a:lnTo>
                    <a:lnTo>
                      <a:pt x="58" y="347"/>
                    </a:lnTo>
                    <a:lnTo>
                      <a:pt x="52" y="349"/>
                    </a:lnTo>
                    <a:lnTo>
                      <a:pt x="44" y="349"/>
                    </a:lnTo>
                    <a:lnTo>
                      <a:pt x="38" y="345"/>
                    </a:lnTo>
                    <a:lnTo>
                      <a:pt x="35" y="342"/>
                    </a:lnTo>
                    <a:lnTo>
                      <a:pt x="32" y="337"/>
                    </a:lnTo>
                    <a:lnTo>
                      <a:pt x="31" y="332"/>
                    </a:lnTo>
                    <a:lnTo>
                      <a:pt x="32" y="325"/>
                    </a:lnTo>
                    <a:lnTo>
                      <a:pt x="32" y="319"/>
                    </a:lnTo>
                    <a:lnTo>
                      <a:pt x="32" y="313"/>
                    </a:lnTo>
                    <a:lnTo>
                      <a:pt x="31" y="307"/>
                    </a:lnTo>
                    <a:lnTo>
                      <a:pt x="30" y="303"/>
                    </a:lnTo>
                    <a:lnTo>
                      <a:pt x="27" y="297"/>
                    </a:lnTo>
                    <a:lnTo>
                      <a:pt x="23" y="293"/>
                    </a:lnTo>
                    <a:lnTo>
                      <a:pt x="17" y="291"/>
                    </a:lnTo>
                    <a:lnTo>
                      <a:pt x="11" y="288"/>
                    </a:lnTo>
                    <a:lnTo>
                      <a:pt x="8" y="284"/>
                    </a:lnTo>
                    <a:lnTo>
                      <a:pt x="4" y="278"/>
                    </a:lnTo>
                    <a:lnTo>
                      <a:pt x="2" y="270"/>
                    </a:lnTo>
                    <a:lnTo>
                      <a:pt x="4" y="262"/>
                    </a:lnTo>
                    <a:lnTo>
                      <a:pt x="5" y="257"/>
                    </a:lnTo>
                    <a:lnTo>
                      <a:pt x="8" y="253"/>
                    </a:lnTo>
                    <a:lnTo>
                      <a:pt x="10" y="248"/>
                    </a:lnTo>
                    <a:lnTo>
                      <a:pt x="13" y="244"/>
                    </a:lnTo>
                    <a:lnTo>
                      <a:pt x="15" y="240"/>
                    </a:lnTo>
                    <a:lnTo>
                      <a:pt x="18" y="235"/>
                    </a:lnTo>
                    <a:lnTo>
                      <a:pt x="19" y="231"/>
                    </a:lnTo>
                    <a:lnTo>
                      <a:pt x="22" y="227"/>
                    </a:lnTo>
                    <a:lnTo>
                      <a:pt x="23" y="219"/>
                    </a:lnTo>
                    <a:lnTo>
                      <a:pt x="23" y="213"/>
                    </a:lnTo>
                    <a:lnTo>
                      <a:pt x="19" y="209"/>
                    </a:lnTo>
                    <a:lnTo>
                      <a:pt x="18" y="205"/>
                    </a:lnTo>
                    <a:lnTo>
                      <a:pt x="15" y="201"/>
                    </a:lnTo>
                    <a:lnTo>
                      <a:pt x="13" y="197"/>
                    </a:lnTo>
                    <a:lnTo>
                      <a:pt x="10" y="192"/>
                    </a:lnTo>
                    <a:lnTo>
                      <a:pt x="8" y="188"/>
                    </a:lnTo>
                    <a:lnTo>
                      <a:pt x="6" y="183"/>
                    </a:lnTo>
                    <a:lnTo>
                      <a:pt x="4" y="179"/>
                    </a:lnTo>
                    <a:lnTo>
                      <a:pt x="2" y="175"/>
                    </a:lnTo>
                    <a:lnTo>
                      <a:pt x="0" y="170"/>
                    </a:lnTo>
                    <a:lnTo>
                      <a:pt x="0" y="16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6" y="152"/>
                    </a:lnTo>
                    <a:lnTo>
                      <a:pt x="11" y="147"/>
                    </a:lnTo>
                    <a:lnTo>
                      <a:pt x="19" y="140"/>
                    </a:lnTo>
                    <a:lnTo>
                      <a:pt x="25" y="133"/>
                    </a:lnTo>
                    <a:lnTo>
                      <a:pt x="32" y="126"/>
                    </a:lnTo>
                    <a:lnTo>
                      <a:pt x="35" y="121"/>
                    </a:lnTo>
                    <a:lnTo>
                      <a:pt x="36" y="117"/>
                    </a:lnTo>
                    <a:lnTo>
                      <a:pt x="39" y="113"/>
                    </a:lnTo>
                    <a:lnTo>
                      <a:pt x="40" y="109"/>
                    </a:lnTo>
                    <a:lnTo>
                      <a:pt x="43" y="101"/>
                    </a:lnTo>
                    <a:lnTo>
                      <a:pt x="43" y="95"/>
                    </a:lnTo>
                    <a:lnTo>
                      <a:pt x="43" y="89"/>
                    </a:lnTo>
                    <a:lnTo>
                      <a:pt x="48" y="85"/>
                    </a:lnTo>
                    <a:lnTo>
                      <a:pt x="51" y="82"/>
                    </a:lnTo>
                    <a:lnTo>
                      <a:pt x="55" y="81"/>
                    </a:lnTo>
                    <a:lnTo>
                      <a:pt x="60" y="79"/>
                    </a:lnTo>
                    <a:lnTo>
                      <a:pt x="64" y="78"/>
                    </a:lnTo>
                    <a:lnTo>
                      <a:pt x="69" y="77"/>
                    </a:lnTo>
                    <a:lnTo>
                      <a:pt x="73" y="76"/>
                    </a:lnTo>
                    <a:lnTo>
                      <a:pt x="78" y="73"/>
                    </a:lnTo>
                    <a:lnTo>
                      <a:pt x="83" y="73"/>
                    </a:lnTo>
                    <a:lnTo>
                      <a:pt x="87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9" y="65"/>
                    </a:lnTo>
                    <a:lnTo>
                      <a:pt x="100" y="61"/>
                    </a:lnTo>
                    <a:lnTo>
                      <a:pt x="102" y="57"/>
                    </a:lnTo>
                    <a:lnTo>
                      <a:pt x="103" y="54"/>
                    </a:lnTo>
                    <a:lnTo>
                      <a:pt x="105" y="50"/>
                    </a:lnTo>
                    <a:lnTo>
                      <a:pt x="107" y="45"/>
                    </a:lnTo>
                    <a:lnTo>
                      <a:pt x="109" y="41"/>
                    </a:lnTo>
                    <a:lnTo>
                      <a:pt x="112" y="35"/>
                    </a:lnTo>
                    <a:lnTo>
                      <a:pt x="113" y="32"/>
                    </a:lnTo>
                    <a:lnTo>
                      <a:pt x="117" y="24"/>
                    </a:lnTo>
                    <a:lnTo>
                      <a:pt x="124" y="19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5" y="17"/>
                    </a:lnTo>
                    <a:lnTo>
                      <a:pt x="141" y="20"/>
                    </a:lnTo>
                    <a:lnTo>
                      <a:pt x="145" y="20"/>
                    </a:lnTo>
                    <a:lnTo>
                      <a:pt x="148" y="21"/>
                    </a:lnTo>
                    <a:lnTo>
                      <a:pt x="152" y="23"/>
                    </a:lnTo>
                    <a:lnTo>
                      <a:pt x="158" y="23"/>
                    </a:lnTo>
                    <a:lnTo>
                      <a:pt x="162" y="23"/>
                    </a:lnTo>
                    <a:lnTo>
                      <a:pt x="165" y="23"/>
                    </a:lnTo>
                    <a:lnTo>
                      <a:pt x="169" y="23"/>
                    </a:lnTo>
                    <a:lnTo>
                      <a:pt x="175" y="21"/>
                    </a:lnTo>
                    <a:lnTo>
                      <a:pt x="181" y="19"/>
                    </a:lnTo>
                    <a:lnTo>
                      <a:pt x="189" y="15"/>
                    </a:lnTo>
                    <a:lnTo>
                      <a:pt x="197" y="10"/>
                    </a:lnTo>
                    <a:lnTo>
                      <a:pt x="203" y="4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5" y="2"/>
                    </a:lnTo>
                    <a:lnTo>
                      <a:pt x="229" y="3"/>
                    </a:lnTo>
                    <a:lnTo>
                      <a:pt x="233" y="6"/>
                    </a:lnTo>
                    <a:lnTo>
                      <a:pt x="241" y="10"/>
                    </a:lnTo>
                    <a:lnTo>
                      <a:pt x="249" y="15"/>
                    </a:lnTo>
                    <a:lnTo>
                      <a:pt x="255" y="19"/>
                    </a:lnTo>
                    <a:lnTo>
                      <a:pt x="261" y="23"/>
                    </a:lnTo>
                    <a:lnTo>
                      <a:pt x="265" y="21"/>
                    </a:lnTo>
                    <a:lnTo>
                      <a:pt x="271" y="17"/>
                    </a:lnTo>
                    <a:lnTo>
                      <a:pt x="274" y="15"/>
                    </a:lnTo>
                    <a:lnTo>
                      <a:pt x="278" y="12"/>
                    </a:lnTo>
                    <a:lnTo>
                      <a:pt x="283" y="10"/>
                    </a:lnTo>
                    <a:lnTo>
                      <a:pt x="287" y="8"/>
                    </a:lnTo>
                    <a:lnTo>
                      <a:pt x="291" y="4"/>
                    </a:lnTo>
                    <a:lnTo>
                      <a:pt x="296" y="2"/>
                    </a:lnTo>
                    <a:lnTo>
                      <a:pt x="300" y="0"/>
                    </a:lnTo>
                    <a:lnTo>
                      <a:pt x="305" y="0"/>
                    </a:lnTo>
                    <a:lnTo>
                      <a:pt x="312" y="0"/>
                    </a:lnTo>
                    <a:lnTo>
                      <a:pt x="318" y="6"/>
                    </a:lnTo>
                    <a:lnTo>
                      <a:pt x="322" y="13"/>
                    </a:lnTo>
                    <a:lnTo>
                      <a:pt x="327" y="20"/>
                    </a:lnTo>
                    <a:lnTo>
                      <a:pt x="331" y="25"/>
                    </a:lnTo>
                    <a:lnTo>
                      <a:pt x="335" y="30"/>
                    </a:lnTo>
                    <a:lnTo>
                      <a:pt x="338" y="33"/>
                    </a:lnTo>
                    <a:lnTo>
                      <a:pt x="342" y="33"/>
                    </a:lnTo>
                    <a:lnTo>
                      <a:pt x="347" y="33"/>
                    </a:lnTo>
                    <a:lnTo>
                      <a:pt x="352" y="30"/>
                    </a:lnTo>
                    <a:lnTo>
                      <a:pt x="357" y="26"/>
                    </a:lnTo>
                    <a:lnTo>
                      <a:pt x="365" y="25"/>
                    </a:lnTo>
                    <a:lnTo>
                      <a:pt x="368" y="24"/>
                    </a:lnTo>
                    <a:lnTo>
                      <a:pt x="373" y="24"/>
                    </a:lnTo>
                    <a:lnTo>
                      <a:pt x="377" y="24"/>
                    </a:lnTo>
                    <a:lnTo>
                      <a:pt x="382" y="25"/>
                    </a:lnTo>
                    <a:lnTo>
                      <a:pt x="389" y="26"/>
                    </a:lnTo>
                    <a:lnTo>
                      <a:pt x="395" y="32"/>
                    </a:lnTo>
                    <a:lnTo>
                      <a:pt x="400" y="37"/>
                    </a:lnTo>
                    <a:lnTo>
                      <a:pt x="403" y="45"/>
                    </a:lnTo>
                    <a:lnTo>
                      <a:pt x="404" y="50"/>
                    </a:lnTo>
                    <a:lnTo>
                      <a:pt x="407" y="54"/>
                    </a:lnTo>
                    <a:lnTo>
                      <a:pt x="411" y="55"/>
                    </a:lnTo>
                    <a:lnTo>
                      <a:pt x="415" y="56"/>
                    </a:lnTo>
                    <a:lnTo>
                      <a:pt x="419" y="56"/>
                    </a:lnTo>
                    <a:lnTo>
                      <a:pt x="424" y="57"/>
                    </a:lnTo>
                    <a:lnTo>
                      <a:pt x="428" y="60"/>
                    </a:lnTo>
                    <a:lnTo>
                      <a:pt x="434" y="65"/>
                    </a:lnTo>
                    <a:lnTo>
                      <a:pt x="437" y="73"/>
                    </a:lnTo>
                    <a:lnTo>
                      <a:pt x="441" y="79"/>
                    </a:lnTo>
                    <a:lnTo>
                      <a:pt x="443" y="86"/>
                    </a:lnTo>
                    <a:lnTo>
                      <a:pt x="446" y="94"/>
                    </a:lnTo>
                    <a:lnTo>
                      <a:pt x="449" y="100"/>
                    </a:lnTo>
                    <a:lnTo>
                      <a:pt x="452" y="104"/>
                    </a:lnTo>
                    <a:lnTo>
                      <a:pt x="458" y="108"/>
                    </a:lnTo>
                    <a:lnTo>
                      <a:pt x="464" y="111"/>
                    </a:lnTo>
                    <a:lnTo>
                      <a:pt x="471" y="111"/>
                    </a:lnTo>
                    <a:lnTo>
                      <a:pt x="479" y="112"/>
                    </a:lnTo>
                    <a:lnTo>
                      <a:pt x="484" y="112"/>
                    </a:lnTo>
                    <a:lnTo>
                      <a:pt x="489" y="114"/>
                    </a:lnTo>
                    <a:lnTo>
                      <a:pt x="493" y="116"/>
                    </a:lnTo>
                    <a:lnTo>
                      <a:pt x="496" y="121"/>
                    </a:lnTo>
                    <a:lnTo>
                      <a:pt x="496" y="122"/>
                    </a:lnTo>
                    <a:lnTo>
                      <a:pt x="496" y="126"/>
                    </a:lnTo>
                    <a:lnTo>
                      <a:pt x="496" y="130"/>
                    </a:lnTo>
                    <a:lnTo>
                      <a:pt x="496" y="134"/>
                    </a:lnTo>
                    <a:lnTo>
                      <a:pt x="493" y="142"/>
                    </a:lnTo>
                    <a:lnTo>
                      <a:pt x="493" y="148"/>
                    </a:lnTo>
                    <a:lnTo>
                      <a:pt x="496" y="153"/>
                    </a:lnTo>
                    <a:lnTo>
                      <a:pt x="499" y="157"/>
                    </a:lnTo>
                    <a:lnTo>
                      <a:pt x="501" y="161"/>
                    </a:lnTo>
                    <a:lnTo>
                      <a:pt x="506" y="165"/>
                    </a:lnTo>
                    <a:lnTo>
                      <a:pt x="509" y="168"/>
                    </a:lnTo>
                    <a:lnTo>
                      <a:pt x="512" y="173"/>
                    </a:lnTo>
                    <a:lnTo>
                      <a:pt x="515" y="177"/>
                    </a:lnTo>
                    <a:lnTo>
                      <a:pt x="516" y="180"/>
                    </a:lnTo>
                    <a:lnTo>
                      <a:pt x="516" y="184"/>
                    </a:lnTo>
                    <a:lnTo>
                      <a:pt x="516" y="190"/>
                    </a:lnTo>
                    <a:lnTo>
                      <a:pt x="515" y="193"/>
                    </a:lnTo>
                    <a:lnTo>
                      <a:pt x="514" y="199"/>
                    </a:lnTo>
                    <a:lnTo>
                      <a:pt x="511" y="204"/>
                    </a:lnTo>
                    <a:lnTo>
                      <a:pt x="510" y="209"/>
                    </a:lnTo>
                    <a:lnTo>
                      <a:pt x="507" y="213"/>
                    </a:lnTo>
                    <a:lnTo>
                      <a:pt x="509" y="217"/>
                    </a:lnTo>
                    <a:lnTo>
                      <a:pt x="511" y="221"/>
                    </a:lnTo>
                    <a:lnTo>
                      <a:pt x="515" y="226"/>
                    </a:lnTo>
                    <a:lnTo>
                      <a:pt x="518" y="230"/>
                    </a:lnTo>
                    <a:lnTo>
                      <a:pt x="523" y="235"/>
                    </a:lnTo>
                    <a:lnTo>
                      <a:pt x="524" y="240"/>
                    </a:lnTo>
                    <a:lnTo>
                      <a:pt x="524" y="248"/>
                    </a:lnTo>
                    <a:lnTo>
                      <a:pt x="520" y="253"/>
                    </a:lnTo>
                    <a:lnTo>
                      <a:pt x="516" y="259"/>
                    </a:lnTo>
                    <a:lnTo>
                      <a:pt x="512" y="263"/>
                    </a:lnTo>
                    <a:lnTo>
                      <a:pt x="511" y="267"/>
                    </a:lnTo>
                    <a:lnTo>
                      <a:pt x="507" y="268"/>
                    </a:lnTo>
                    <a:lnTo>
                      <a:pt x="506" y="272"/>
                    </a:lnTo>
                    <a:lnTo>
                      <a:pt x="507" y="275"/>
                    </a:lnTo>
                    <a:lnTo>
                      <a:pt x="510" y="280"/>
                    </a:lnTo>
                    <a:lnTo>
                      <a:pt x="514" y="285"/>
                    </a:lnTo>
                    <a:lnTo>
                      <a:pt x="518" y="291"/>
                    </a:lnTo>
                    <a:lnTo>
                      <a:pt x="520" y="296"/>
                    </a:lnTo>
                    <a:lnTo>
                      <a:pt x="523" y="302"/>
                    </a:lnTo>
                    <a:lnTo>
                      <a:pt x="524" y="307"/>
                    </a:lnTo>
                    <a:lnTo>
                      <a:pt x="524" y="313"/>
                    </a:lnTo>
                    <a:lnTo>
                      <a:pt x="524" y="318"/>
                    </a:lnTo>
                    <a:lnTo>
                      <a:pt x="522" y="323"/>
                    </a:lnTo>
                    <a:lnTo>
                      <a:pt x="518" y="327"/>
                    </a:lnTo>
                    <a:lnTo>
                      <a:pt x="518" y="332"/>
                    </a:lnTo>
                    <a:lnTo>
                      <a:pt x="518" y="337"/>
                    </a:lnTo>
                    <a:lnTo>
                      <a:pt x="519" y="342"/>
                    </a:lnTo>
                    <a:lnTo>
                      <a:pt x="520" y="347"/>
                    </a:lnTo>
                    <a:lnTo>
                      <a:pt x="520" y="353"/>
                    </a:lnTo>
                    <a:lnTo>
                      <a:pt x="520" y="357"/>
                    </a:lnTo>
                    <a:lnTo>
                      <a:pt x="518" y="360"/>
                    </a:lnTo>
                    <a:lnTo>
                      <a:pt x="515" y="360"/>
                    </a:lnTo>
                    <a:lnTo>
                      <a:pt x="512" y="362"/>
                    </a:lnTo>
                    <a:lnTo>
                      <a:pt x="509" y="362"/>
                    </a:lnTo>
                    <a:lnTo>
                      <a:pt x="505" y="362"/>
                    </a:lnTo>
                    <a:lnTo>
                      <a:pt x="499" y="360"/>
                    </a:lnTo>
                    <a:lnTo>
                      <a:pt x="496" y="359"/>
                    </a:lnTo>
                    <a:lnTo>
                      <a:pt x="489" y="358"/>
                    </a:lnTo>
                    <a:lnTo>
                      <a:pt x="485" y="357"/>
                    </a:lnTo>
                    <a:lnTo>
                      <a:pt x="480" y="354"/>
                    </a:lnTo>
                    <a:lnTo>
                      <a:pt x="475" y="351"/>
                    </a:lnTo>
                    <a:lnTo>
                      <a:pt x="471" y="349"/>
                    </a:lnTo>
                    <a:lnTo>
                      <a:pt x="467" y="346"/>
                    </a:lnTo>
                    <a:lnTo>
                      <a:pt x="462" y="340"/>
                    </a:lnTo>
                    <a:lnTo>
                      <a:pt x="462" y="333"/>
                    </a:lnTo>
                    <a:lnTo>
                      <a:pt x="462" y="328"/>
                    </a:lnTo>
                    <a:lnTo>
                      <a:pt x="463" y="323"/>
                    </a:lnTo>
                    <a:lnTo>
                      <a:pt x="464" y="319"/>
                    </a:lnTo>
                    <a:lnTo>
                      <a:pt x="466" y="314"/>
                    </a:lnTo>
                    <a:lnTo>
                      <a:pt x="467" y="309"/>
                    </a:lnTo>
                    <a:lnTo>
                      <a:pt x="467" y="305"/>
                    </a:lnTo>
                    <a:lnTo>
                      <a:pt x="468" y="300"/>
                    </a:lnTo>
                    <a:lnTo>
                      <a:pt x="469" y="296"/>
                    </a:lnTo>
                    <a:lnTo>
                      <a:pt x="469" y="291"/>
                    </a:lnTo>
                    <a:lnTo>
                      <a:pt x="469" y="285"/>
                    </a:lnTo>
                    <a:lnTo>
                      <a:pt x="468" y="281"/>
                    </a:lnTo>
                    <a:lnTo>
                      <a:pt x="468" y="278"/>
                    </a:lnTo>
                    <a:lnTo>
                      <a:pt x="466" y="275"/>
                    </a:lnTo>
                    <a:lnTo>
                      <a:pt x="463" y="271"/>
                    </a:lnTo>
                    <a:lnTo>
                      <a:pt x="460" y="268"/>
                    </a:lnTo>
                    <a:lnTo>
                      <a:pt x="456" y="267"/>
                    </a:lnTo>
                    <a:lnTo>
                      <a:pt x="451" y="265"/>
                    </a:lnTo>
                    <a:lnTo>
                      <a:pt x="445" y="263"/>
                    </a:lnTo>
                    <a:lnTo>
                      <a:pt x="439" y="261"/>
                    </a:lnTo>
                    <a:lnTo>
                      <a:pt x="434" y="258"/>
                    </a:lnTo>
                    <a:lnTo>
                      <a:pt x="429" y="256"/>
                    </a:lnTo>
                    <a:lnTo>
                      <a:pt x="424" y="253"/>
                    </a:lnTo>
                    <a:lnTo>
                      <a:pt x="419" y="252"/>
                    </a:lnTo>
                    <a:lnTo>
                      <a:pt x="415" y="249"/>
                    </a:lnTo>
                    <a:lnTo>
                      <a:pt x="409" y="248"/>
                    </a:lnTo>
                    <a:lnTo>
                      <a:pt x="405" y="246"/>
                    </a:lnTo>
                    <a:lnTo>
                      <a:pt x="400" y="245"/>
                    </a:lnTo>
                    <a:lnTo>
                      <a:pt x="399" y="245"/>
                    </a:lnTo>
                    <a:lnTo>
                      <a:pt x="394" y="248"/>
                    </a:lnTo>
                    <a:lnTo>
                      <a:pt x="392" y="254"/>
                    </a:lnTo>
                    <a:lnTo>
                      <a:pt x="389" y="261"/>
                    </a:lnTo>
                    <a:lnTo>
                      <a:pt x="383" y="265"/>
                    </a:lnTo>
                    <a:lnTo>
                      <a:pt x="379" y="266"/>
                    </a:lnTo>
                    <a:lnTo>
                      <a:pt x="375" y="267"/>
                    </a:lnTo>
                    <a:lnTo>
                      <a:pt x="372" y="268"/>
                    </a:lnTo>
                    <a:lnTo>
                      <a:pt x="368" y="268"/>
                    </a:lnTo>
                    <a:lnTo>
                      <a:pt x="362" y="267"/>
                    </a:lnTo>
                    <a:lnTo>
                      <a:pt x="359" y="267"/>
                    </a:lnTo>
                    <a:lnTo>
                      <a:pt x="353" y="265"/>
                    </a:lnTo>
                    <a:lnTo>
                      <a:pt x="351" y="263"/>
                    </a:lnTo>
                    <a:lnTo>
                      <a:pt x="344" y="258"/>
                    </a:lnTo>
                    <a:lnTo>
                      <a:pt x="343" y="252"/>
                    </a:lnTo>
                    <a:lnTo>
                      <a:pt x="342" y="246"/>
                    </a:lnTo>
                    <a:lnTo>
                      <a:pt x="342" y="244"/>
                    </a:lnTo>
                    <a:lnTo>
                      <a:pt x="340" y="240"/>
                    </a:lnTo>
                    <a:lnTo>
                      <a:pt x="339" y="240"/>
                    </a:lnTo>
                    <a:lnTo>
                      <a:pt x="338" y="237"/>
                    </a:lnTo>
                    <a:lnTo>
                      <a:pt x="335" y="237"/>
                    </a:lnTo>
                    <a:lnTo>
                      <a:pt x="330" y="237"/>
                    </a:lnTo>
                    <a:lnTo>
                      <a:pt x="325" y="239"/>
                    </a:lnTo>
                    <a:lnTo>
                      <a:pt x="321" y="239"/>
                    </a:lnTo>
                    <a:lnTo>
                      <a:pt x="318" y="240"/>
                    </a:lnTo>
                    <a:lnTo>
                      <a:pt x="313" y="240"/>
                    </a:lnTo>
                    <a:lnTo>
                      <a:pt x="309" y="241"/>
                    </a:lnTo>
                    <a:lnTo>
                      <a:pt x="304" y="240"/>
                    </a:lnTo>
                    <a:lnTo>
                      <a:pt x="299" y="237"/>
                    </a:lnTo>
                    <a:lnTo>
                      <a:pt x="296" y="236"/>
                    </a:lnTo>
                    <a:lnTo>
                      <a:pt x="293" y="234"/>
                    </a:lnTo>
                    <a:lnTo>
                      <a:pt x="289" y="226"/>
                    </a:lnTo>
                    <a:lnTo>
                      <a:pt x="287" y="218"/>
                    </a:lnTo>
                    <a:lnTo>
                      <a:pt x="283" y="212"/>
                    </a:lnTo>
                    <a:lnTo>
                      <a:pt x="282" y="208"/>
                    </a:lnTo>
                    <a:lnTo>
                      <a:pt x="279" y="206"/>
                    </a:lnTo>
                    <a:lnTo>
                      <a:pt x="276" y="208"/>
                    </a:lnTo>
                    <a:lnTo>
                      <a:pt x="272" y="209"/>
                    </a:lnTo>
                    <a:lnTo>
                      <a:pt x="270" y="213"/>
                    </a:lnTo>
                    <a:lnTo>
                      <a:pt x="265" y="217"/>
                    </a:lnTo>
                    <a:lnTo>
                      <a:pt x="261" y="219"/>
                    </a:lnTo>
                    <a:lnTo>
                      <a:pt x="257" y="223"/>
                    </a:lnTo>
                    <a:lnTo>
                      <a:pt x="254" y="226"/>
                    </a:lnTo>
                    <a:lnTo>
                      <a:pt x="250" y="231"/>
                    </a:lnTo>
                    <a:lnTo>
                      <a:pt x="245" y="236"/>
                    </a:lnTo>
                    <a:lnTo>
                      <a:pt x="240" y="237"/>
                    </a:lnTo>
                    <a:lnTo>
                      <a:pt x="235" y="237"/>
                    </a:lnTo>
                    <a:lnTo>
                      <a:pt x="229" y="235"/>
                    </a:lnTo>
                    <a:lnTo>
                      <a:pt x="222" y="230"/>
                    </a:lnTo>
                    <a:lnTo>
                      <a:pt x="218" y="226"/>
                    </a:lnTo>
                    <a:lnTo>
                      <a:pt x="212" y="223"/>
                    </a:lnTo>
                    <a:lnTo>
                      <a:pt x="208" y="221"/>
                    </a:lnTo>
                    <a:lnTo>
                      <a:pt x="206" y="219"/>
                    </a:lnTo>
                    <a:lnTo>
                      <a:pt x="198" y="215"/>
                    </a:lnTo>
                    <a:lnTo>
                      <a:pt x="194" y="214"/>
                    </a:lnTo>
                    <a:lnTo>
                      <a:pt x="189" y="214"/>
                    </a:lnTo>
                    <a:lnTo>
                      <a:pt x="186" y="218"/>
                    </a:lnTo>
                    <a:lnTo>
                      <a:pt x="185" y="221"/>
                    </a:lnTo>
                    <a:lnTo>
                      <a:pt x="184" y="223"/>
                    </a:lnTo>
                    <a:lnTo>
                      <a:pt x="184" y="228"/>
                    </a:lnTo>
                    <a:lnTo>
                      <a:pt x="184" y="234"/>
                    </a:lnTo>
                    <a:lnTo>
                      <a:pt x="181" y="237"/>
                    </a:lnTo>
                    <a:lnTo>
                      <a:pt x="180" y="241"/>
                    </a:lnTo>
                    <a:lnTo>
                      <a:pt x="178" y="245"/>
                    </a:lnTo>
                    <a:lnTo>
                      <a:pt x="177" y="248"/>
                    </a:lnTo>
                    <a:lnTo>
                      <a:pt x="172" y="252"/>
                    </a:lnTo>
                    <a:lnTo>
                      <a:pt x="165" y="252"/>
                    </a:lnTo>
                    <a:lnTo>
                      <a:pt x="159" y="250"/>
                    </a:lnTo>
                    <a:lnTo>
                      <a:pt x="152" y="249"/>
                    </a:lnTo>
                    <a:lnTo>
                      <a:pt x="145" y="245"/>
                    </a:lnTo>
                    <a:lnTo>
                      <a:pt x="138" y="244"/>
                    </a:lnTo>
                    <a:lnTo>
                      <a:pt x="132" y="240"/>
                    </a:lnTo>
                    <a:lnTo>
                      <a:pt x="128" y="241"/>
                    </a:lnTo>
                    <a:lnTo>
                      <a:pt x="124" y="245"/>
                    </a:lnTo>
                    <a:lnTo>
                      <a:pt x="121" y="252"/>
                    </a:lnTo>
                    <a:lnTo>
                      <a:pt x="118" y="257"/>
                    </a:lnTo>
                    <a:lnTo>
                      <a:pt x="117" y="265"/>
                    </a:lnTo>
                    <a:lnTo>
                      <a:pt x="115" y="272"/>
                    </a:lnTo>
                    <a:lnTo>
                      <a:pt x="113" y="281"/>
                    </a:lnTo>
                    <a:lnTo>
                      <a:pt x="111" y="285"/>
                    </a:lnTo>
                    <a:lnTo>
                      <a:pt x="107" y="289"/>
                    </a:lnTo>
                    <a:lnTo>
                      <a:pt x="103" y="289"/>
                    </a:lnTo>
                    <a:lnTo>
                      <a:pt x="99" y="289"/>
                    </a:lnTo>
                    <a:lnTo>
                      <a:pt x="95" y="289"/>
                    </a:lnTo>
                    <a:lnTo>
                      <a:pt x="91" y="291"/>
                    </a:lnTo>
                    <a:lnTo>
                      <a:pt x="88" y="292"/>
                    </a:lnTo>
                    <a:lnTo>
                      <a:pt x="87" y="293"/>
                    </a:lnTo>
                    <a:lnTo>
                      <a:pt x="85" y="297"/>
                    </a:lnTo>
                    <a:lnTo>
                      <a:pt x="85" y="301"/>
                    </a:lnTo>
                    <a:lnTo>
                      <a:pt x="79" y="309"/>
                    </a:lnTo>
                    <a:lnTo>
                      <a:pt x="77" y="316"/>
                    </a:lnTo>
                    <a:lnTo>
                      <a:pt x="75" y="323"/>
                    </a:lnTo>
                    <a:lnTo>
                      <a:pt x="74" y="329"/>
                    </a:lnTo>
                    <a:lnTo>
                      <a:pt x="73" y="333"/>
                    </a:lnTo>
                    <a:lnTo>
                      <a:pt x="73" y="337"/>
                    </a:lnTo>
                    <a:lnTo>
                      <a:pt x="73" y="340"/>
                    </a:lnTo>
                    <a:lnTo>
                      <a:pt x="73" y="341"/>
                    </a:lnTo>
                    <a:lnTo>
                      <a:pt x="73" y="341"/>
                    </a:lnTo>
                    <a:close/>
                  </a:path>
                </a:pathLst>
              </a:custGeom>
              <a:solidFill>
                <a:srgbClr val="8f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06400" y="3804840"/>
                <a:ext cx="43560" cy="3924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17" y="0"/>
                    </a:moveTo>
                    <a:lnTo>
                      <a:pt x="21" y="0"/>
                    </a:lnTo>
                    <a:lnTo>
                      <a:pt x="26" y="2"/>
                    </a:lnTo>
                    <a:lnTo>
                      <a:pt x="30" y="6"/>
                    </a:lnTo>
                    <a:lnTo>
                      <a:pt x="34" y="10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5" y="13"/>
                    </a:lnTo>
                    <a:lnTo>
                      <a:pt x="60" y="16"/>
                    </a:lnTo>
                    <a:lnTo>
                      <a:pt x="65" y="20"/>
                    </a:lnTo>
                    <a:lnTo>
                      <a:pt x="69" y="25"/>
                    </a:lnTo>
                    <a:lnTo>
                      <a:pt x="72" y="32"/>
                    </a:lnTo>
                    <a:lnTo>
                      <a:pt x="72" y="37"/>
                    </a:lnTo>
                    <a:lnTo>
                      <a:pt x="72" y="42"/>
                    </a:lnTo>
                    <a:lnTo>
                      <a:pt x="69" y="47"/>
                    </a:lnTo>
                    <a:lnTo>
                      <a:pt x="68" y="53"/>
                    </a:lnTo>
                    <a:lnTo>
                      <a:pt x="64" y="57"/>
                    </a:lnTo>
                    <a:lnTo>
                      <a:pt x="60" y="60"/>
                    </a:lnTo>
                    <a:lnTo>
                      <a:pt x="55" y="63"/>
                    </a:lnTo>
                    <a:lnTo>
                      <a:pt x="49" y="66"/>
                    </a:lnTo>
                    <a:lnTo>
                      <a:pt x="44" y="66"/>
                    </a:lnTo>
                    <a:lnTo>
                      <a:pt x="38" y="66"/>
                    </a:lnTo>
                    <a:lnTo>
                      <a:pt x="32" y="63"/>
                    </a:lnTo>
                    <a:lnTo>
                      <a:pt x="27" y="60"/>
                    </a:lnTo>
                    <a:lnTo>
                      <a:pt x="22" y="58"/>
                    </a:lnTo>
                    <a:lnTo>
                      <a:pt x="17" y="55"/>
                    </a:lnTo>
                    <a:lnTo>
                      <a:pt x="13" y="53"/>
                    </a:lnTo>
                    <a:lnTo>
                      <a:pt x="10" y="49"/>
                    </a:lnTo>
                    <a:lnTo>
                      <a:pt x="6" y="45"/>
                    </a:lnTo>
                    <a:lnTo>
                      <a:pt x="4" y="40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11" y="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47360" y="3802680"/>
                <a:ext cx="53640" cy="51480"/>
              </a:xfrm>
              <a:custGeom>
                <a:avLst/>
                <a:gdLst/>
                <a:ahLst/>
                <a:rect l="l" t="t" r="r" b="b"/>
                <a:pathLst>
                  <a:path w="85" h="83">
                    <a:moveTo>
                      <a:pt x="60" y="0"/>
                    </a:moveTo>
                    <a:lnTo>
                      <a:pt x="67" y="4"/>
                    </a:lnTo>
                    <a:lnTo>
                      <a:pt x="73" y="9"/>
                    </a:lnTo>
                    <a:lnTo>
                      <a:pt x="77" y="15"/>
                    </a:lnTo>
                    <a:lnTo>
                      <a:pt x="81" y="22"/>
                    </a:lnTo>
                    <a:lnTo>
                      <a:pt x="84" y="27"/>
                    </a:lnTo>
                    <a:lnTo>
                      <a:pt x="85" y="35"/>
                    </a:lnTo>
                    <a:lnTo>
                      <a:pt x="85" y="42"/>
                    </a:lnTo>
                    <a:lnTo>
                      <a:pt x="85" y="49"/>
                    </a:lnTo>
                    <a:lnTo>
                      <a:pt x="82" y="56"/>
                    </a:lnTo>
                    <a:lnTo>
                      <a:pt x="80" y="62"/>
                    </a:lnTo>
                    <a:lnTo>
                      <a:pt x="76" y="68"/>
                    </a:lnTo>
                    <a:lnTo>
                      <a:pt x="72" y="74"/>
                    </a:lnTo>
                    <a:lnTo>
                      <a:pt x="65" y="78"/>
                    </a:lnTo>
                    <a:lnTo>
                      <a:pt x="59" y="81"/>
                    </a:lnTo>
                    <a:lnTo>
                      <a:pt x="51" y="82"/>
                    </a:lnTo>
                    <a:lnTo>
                      <a:pt x="45" y="83"/>
                    </a:lnTo>
                    <a:lnTo>
                      <a:pt x="39" y="82"/>
                    </a:lnTo>
                    <a:lnTo>
                      <a:pt x="35" y="79"/>
                    </a:lnTo>
                    <a:lnTo>
                      <a:pt x="29" y="75"/>
                    </a:lnTo>
                    <a:lnTo>
                      <a:pt x="25" y="74"/>
                    </a:lnTo>
                    <a:lnTo>
                      <a:pt x="20" y="69"/>
                    </a:lnTo>
                    <a:lnTo>
                      <a:pt x="16" y="65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4" y="51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" y="27"/>
                    </a:lnTo>
                    <a:lnTo>
                      <a:pt x="7" y="22"/>
                    </a:lnTo>
                    <a:lnTo>
                      <a:pt x="12" y="20"/>
                    </a:lnTo>
                    <a:lnTo>
                      <a:pt x="17" y="15"/>
                    </a:lnTo>
                    <a:lnTo>
                      <a:pt x="24" y="12"/>
                    </a:lnTo>
                    <a:lnTo>
                      <a:pt x="32" y="12"/>
                    </a:lnTo>
                    <a:lnTo>
                      <a:pt x="38" y="13"/>
                    </a:lnTo>
                    <a:lnTo>
                      <a:pt x="45" y="16"/>
                    </a:lnTo>
                    <a:lnTo>
                      <a:pt x="50" y="21"/>
                    </a:lnTo>
                    <a:lnTo>
                      <a:pt x="54" y="27"/>
                    </a:lnTo>
                    <a:lnTo>
                      <a:pt x="58" y="35"/>
                    </a:lnTo>
                    <a:lnTo>
                      <a:pt x="56" y="39"/>
                    </a:lnTo>
                    <a:lnTo>
                      <a:pt x="56" y="43"/>
                    </a:lnTo>
                    <a:lnTo>
                      <a:pt x="55" y="48"/>
                    </a:lnTo>
                    <a:lnTo>
                      <a:pt x="55" y="53"/>
                    </a:lnTo>
                    <a:lnTo>
                      <a:pt x="51" y="53"/>
                    </a:lnTo>
                    <a:lnTo>
                      <a:pt x="46" y="53"/>
                    </a:lnTo>
                    <a:lnTo>
                      <a:pt x="42" y="53"/>
                    </a:lnTo>
                    <a:lnTo>
                      <a:pt x="38" y="55"/>
                    </a:lnTo>
                    <a:lnTo>
                      <a:pt x="37" y="48"/>
                    </a:lnTo>
                    <a:lnTo>
                      <a:pt x="37" y="43"/>
                    </a:lnTo>
                    <a:lnTo>
                      <a:pt x="37" y="37"/>
                    </a:lnTo>
                    <a:lnTo>
                      <a:pt x="39" y="34"/>
                    </a:lnTo>
                    <a:lnTo>
                      <a:pt x="35" y="33"/>
                    </a:lnTo>
                    <a:lnTo>
                      <a:pt x="29" y="34"/>
                    </a:lnTo>
                    <a:lnTo>
                      <a:pt x="21" y="37"/>
                    </a:lnTo>
                    <a:lnTo>
                      <a:pt x="17" y="40"/>
                    </a:lnTo>
                    <a:lnTo>
                      <a:pt x="21" y="48"/>
                    </a:lnTo>
                    <a:lnTo>
                      <a:pt x="28" y="55"/>
                    </a:lnTo>
                    <a:lnTo>
                      <a:pt x="33" y="60"/>
                    </a:lnTo>
                    <a:lnTo>
                      <a:pt x="41" y="65"/>
                    </a:lnTo>
                    <a:lnTo>
                      <a:pt x="47" y="66"/>
                    </a:lnTo>
                    <a:lnTo>
                      <a:pt x="55" y="65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67" y="57"/>
                    </a:lnTo>
                    <a:lnTo>
                      <a:pt x="71" y="53"/>
                    </a:lnTo>
                    <a:lnTo>
                      <a:pt x="71" y="47"/>
                    </a:lnTo>
                    <a:lnTo>
                      <a:pt x="71" y="39"/>
                    </a:lnTo>
                    <a:lnTo>
                      <a:pt x="69" y="34"/>
                    </a:lnTo>
                    <a:lnTo>
                      <a:pt x="68" y="27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9" y="12"/>
                    </a:lnTo>
                    <a:lnTo>
                      <a:pt x="55" y="8"/>
                    </a:lnTo>
                    <a:lnTo>
                      <a:pt x="58" y="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201800" y="3802680"/>
                <a:ext cx="36360" cy="4860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16" y="0"/>
                    </a:moveTo>
                    <a:lnTo>
                      <a:pt x="23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3" y="11"/>
                    </a:lnTo>
                    <a:lnTo>
                      <a:pt x="47" y="16"/>
                    </a:lnTo>
                    <a:lnTo>
                      <a:pt x="52" y="22"/>
                    </a:lnTo>
                    <a:lnTo>
                      <a:pt x="55" y="30"/>
                    </a:lnTo>
                    <a:lnTo>
                      <a:pt x="59" y="38"/>
                    </a:lnTo>
                    <a:lnTo>
                      <a:pt x="59" y="44"/>
                    </a:lnTo>
                    <a:lnTo>
                      <a:pt x="59" y="52"/>
                    </a:lnTo>
                    <a:lnTo>
                      <a:pt x="56" y="59"/>
                    </a:lnTo>
                    <a:lnTo>
                      <a:pt x="55" y="65"/>
                    </a:lnTo>
                    <a:lnTo>
                      <a:pt x="50" y="70"/>
                    </a:lnTo>
                    <a:lnTo>
                      <a:pt x="44" y="75"/>
                    </a:lnTo>
                    <a:lnTo>
                      <a:pt x="38" y="78"/>
                    </a:lnTo>
                    <a:lnTo>
                      <a:pt x="30" y="79"/>
                    </a:lnTo>
                    <a:lnTo>
                      <a:pt x="23" y="77"/>
                    </a:lnTo>
                    <a:lnTo>
                      <a:pt x="17" y="73"/>
                    </a:lnTo>
                    <a:lnTo>
                      <a:pt x="10" y="68"/>
                    </a:lnTo>
                    <a:lnTo>
                      <a:pt x="7" y="62"/>
                    </a:lnTo>
                    <a:lnTo>
                      <a:pt x="3" y="56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4" y="35"/>
                    </a:lnTo>
                    <a:lnTo>
                      <a:pt x="7" y="33"/>
                    </a:lnTo>
                    <a:lnTo>
                      <a:pt x="12" y="30"/>
                    </a:lnTo>
                    <a:lnTo>
                      <a:pt x="16" y="27"/>
                    </a:lnTo>
                    <a:lnTo>
                      <a:pt x="20" y="26"/>
                    </a:lnTo>
                    <a:lnTo>
                      <a:pt x="26" y="30"/>
                    </a:lnTo>
                    <a:lnTo>
                      <a:pt x="35" y="35"/>
                    </a:lnTo>
                    <a:lnTo>
                      <a:pt x="31" y="38"/>
                    </a:lnTo>
                    <a:lnTo>
                      <a:pt x="27" y="40"/>
                    </a:lnTo>
                    <a:lnTo>
                      <a:pt x="22" y="42"/>
                    </a:lnTo>
                    <a:lnTo>
                      <a:pt x="20" y="43"/>
                    </a:lnTo>
                    <a:lnTo>
                      <a:pt x="17" y="47"/>
                    </a:lnTo>
                    <a:lnTo>
                      <a:pt x="18" y="51"/>
                    </a:lnTo>
                    <a:lnTo>
                      <a:pt x="21" y="55"/>
                    </a:lnTo>
                    <a:lnTo>
                      <a:pt x="26" y="59"/>
                    </a:lnTo>
                    <a:lnTo>
                      <a:pt x="30" y="60"/>
                    </a:lnTo>
                    <a:lnTo>
                      <a:pt x="35" y="60"/>
                    </a:lnTo>
                    <a:lnTo>
                      <a:pt x="39" y="57"/>
                    </a:lnTo>
                    <a:lnTo>
                      <a:pt x="43" y="52"/>
                    </a:lnTo>
                    <a:lnTo>
                      <a:pt x="43" y="46"/>
                    </a:lnTo>
                    <a:lnTo>
                      <a:pt x="44" y="40"/>
                    </a:lnTo>
                    <a:lnTo>
                      <a:pt x="43" y="37"/>
                    </a:lnTo>
                    <a:lnTo>
                      <a:pt x="42" y="34"/>
                    </a:lnTo>
                    <a:lnTo>
                      <a:pt x="37" y="27"/>
                    </a:lnTo>
                    <a:lnTo>
                      <a:pt x="30" y="22"/>
                    </a:lnTo>
                    <a:lnTo>
                      <a:pt x="22" y="18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49960" y="3809880"/>
                <a:ext cx="44280" cy="5148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26" y="3"/>
                    </a:moveTo>
                    <a:lnTo>
                      <a:pt x="33" y="0"/>
                    </a:lnTo>
                    <a:lnTo>
                      <a:pt x="41" y="1"/>
                    </a:lnTo>
                    <a:lnTo>
                      <a:pt x="48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3" y="21"/>
                    </a:lnTo>
                    <a:lnTo>
                      <a:pt x="66" y="27"/>
                    </a:lnTo>
                    <a:lnTo>
                      <a:pt x="70" y="36"/>
                    </a:lnTo>
                    <a:lnTo>
                      <a:pt x="70" y="43"/>
                    </a:lnTo>
                    <a:lnTo>
                      <a:pt x="70" y="50"/>
                    </a:lnTo>
                    <a:lnTo>
                      <a:pt x="69" y="58"/>
                    </a:lnTo>
                    <a:lnTo>
                      <a:pt x="66" y="66"/>
                    </a:lnTo>
                    <a:lnTo>
                      <a:pt x="62" y="71"/>
                    </a:lnTo>
                    <a:lnTo>
                      <a:pt x="57" y="76"/>
                    </a:lnTo>
                    <a:lnTo>
                      <a:pt x="50" y="80"/>
                    </a:lnTo>
                    <a:lnTo>
                      <a:pt x="44" y="83"/>
                    </a:lnTo>
                    <a:lnTo>
                      <a:pt x="39" y="80"/>
                    </a:lnTo>
                    <a:lnTo>
                      <a:pt x="35" y="79"/>
                    </a:lnTo>
                    <a:lnTo>
                      <a:pt x="30" y="76"/>
                    </a:lnTo>
                    <a:lnTo>
                      <a:pt x="26" y="75"/>
                    </a:lnTo>
                    <a:lnTo>
                      <a:pt x="20" y="72"/>
                    </a:lnTo>
                    <a:lnTo>
                      <a:pt x="16" y="70"/>
                    </a:lnTo>
                    <a:lnTo>
                      <a:pt x="13" y="67"/>
                    </a:lnTo>
                    <a:lnTo>
                      <a:pt x="11" y="66"/>
                    </a:lnTo>
                    <a:lnTo>
                      <a:pt x="11" y="62"/>
                    </a:lnTo>
                    <a:lnTo>
                      <a:pt x="13" y="59"/>
                    </a:lnTo>
                    <a:lnTo>
                      <a:pt x="15" y="54"/>
                    </a:lnTo>
                    <a:lnTo>
                      <a:pt x="18" y="50"/>
                    </a:lnTo>
                    <a:lnTo>
                      <a:pt x="20" y="45"/>
                    </a:lnTo>
                    <a:lnTo>
                      <a:pt x="23" y="41"/>
                    </a:lnTo>
                    <a:lnTo>
                      <a:pt x="26" y="39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1" y="43"/>
                    </a:lnTo>
                    <a:lnTo>
                      <a:pt x="37" y="49"/>
                    </a:lnTo>
                    <a:lnTo>
                      <a:pt x="32" y="54"/>
                    </a:lnTo>
                    <a:lnTo>
                      <a:pt x="28" y="58"/>
                    </a:lnTo>
                    <a:lnTo>
                      <a:pt x="32" y="62"/>
                    </a:lnTo>
                    <a:lnTo>
                      <a:pt x="39" y="67"/>
                    </a:lnTo>
                    <a:lnTo>
                      <a:pt x="45" y="62"/>
                    </a:lnTo>
                    <a:lnTo>
                      <a:pt x="53" y="58"/>
                    </a:lnTo>
                    <a:lnTo>
                      <a:pt x="53" y="54"/>
                    </a:lnTo>
                    <a:lnTo>
                      <a:pt x="52" y="49"/>
                    </a:lnTo>
                    <a:lnTo>
                      <a:pt x="50" y="44"/>
                    </a:lnTo>
                    <a:lnTo>
                      <a:pt x="50" y="39"/>
                    </a:lnTo>
                    <a:lnTo>
                      <a:pt x="49" y="32"/>
                    </a:lnTo>
                    <a:lnTo>
                      <a:pt x="48" y="27"/>
                    </a:lnTo>
                    <a:lnTo>
                      <a:pt x="46" y="23"/>
                    </a:lnTo>
                    <a:lnTo>
                      <a:pt x="45" y="22"/>
                    </a:lnTo>
                    <a:lnTo>
                      <a:pt x="37" y="18"/>
                    </a:lnTo>
                    <a:lnTo>
                      <a:pt x="31" y="19"/>
                    </a:lnTo>
                    <a:lnTo>
                      <a:pt x="26" y="22"/>
                    </a:lnTo>
                    <a:lnTo>
                      <a:pt x="20" y="26"/>
                    </a:lnTo>
                    <a:lnTo>
                      <a:pt x="16" y="31"/>
                    </a:lnTo>
                    <a:lnTo>
                      <a:pt x="13" y="37"/>
                    </a:lnTo>
                    <a:lnTo>
                      <a:pt x="10" y="43"/>
                    </a:lnTo>
                    <a:lnTo>
                      <a:pt x="9" y="49"/>
                    </a:lnTo>
                    <a:lnTo>
                      <a:pt x="3" y="43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3"/>
                    </a:lnTo>
                    <a:lnTo>
                      <a:pt x="9" y="19"/>
                    </a:lnTo>
                    <a:lnTo>
                      <a:pt x="11" y="14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6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094160" y="3834360"/>
                <a:ext cx="48600" cy="5148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36" y="0"/>
                    </a:moveTo>
                    <a:lnTo>
                      <a:pt x="40" y="7"/>
                    </a:lnTo>
                    <a:lnTo>
                      <a:pt x="39" y="13"/>
                    </a:lnTo>
                    <a:lnTo>
                      <a:pt x="32" y="19"/>
                    </a:lnTo>
                    <a:lnTo>
                      <a:pt x="26" y="26"/>
                    </a:lnTo>
                    <a:lnTo>
                      <a:pt x="18" y="34"/>
                    </a:lnTo>
                    <a:lnTo>
                      <a:pt x="14" y="40"/>
                    </a:lnTo>
                    <a:lnTo>
                      <a:pt x="13" y="44"/>
                    </a:lnTo>
                    <a:lnTo>
                      <a:pt x="14" y="49"/>
                    </a:lnTo>
                    <a:lnTo>
                      <a:pt x="17" y="54"/>
                    </a:lnTo>
                    <a:lnTo>
                      <a:pt x="22" y="60"/>
                    </a:lnTo>
                    <a:lnTo>
                      <a:pt x="23" y="60"/>
                    </a:lnTo>
                    <a:lnTo>
                      <a:pt x="29" y="60"/>
                    </a:lnTo>
                    <a:lnTo>
                      <a:pt x="32" y="60"/>
                    </a:lnTo>
                    <a:lnTo>
                      <a:pt x="38" y="61"/>
                    </a:lnTo>
                    <a:lnTo>
                      <a:pt x="43" y="61"/>
                    </a:lnTo>
                    <a:lnTo>
                      <a:pt x="48" y="62"/>
                    </a:lnTo>
                    <a:lnTo>
                      <a:pt x="52" y="62"/>
                    </a:lnTo>
                    <a:lnTo>
                      <a:pt x="56" y="62"/>
                    </a:lnTo>
                    <a:lnTo>
                      <a:pt x="59" y="54"/>
                    </a:lnTo>
                    <a:lnTo>
                      <a:pt x="63" y="47"/>
                    </a:lnTo>
                    <a:lnTo>
                      <a:pt x="57" y="44"/>
                    </a:lnTo>
                    <a:lnTo>
                      <a:pt x="52" y="41"/>
                    </a:lnTo>
                    <a:lnTo>
                      <a:pt x="46" y="39"/>
                    </a:lnTo>
                    <a:lnTo>
                      <a:pt x="40" y="39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38" y="52"/>
                    </a:lnTo>
                    <a:lnTo>
                      <a:pt x="34" y="54"/>
                    </a:lnTo>
                    <a:lnTo>
                      <a:pt x="30" y="48"/>
                    </a:lnTo>
                    <a:lnTo>
                      <a:pt x="25" y="41"/>
                    </a:lnTo>
                    <a:lnTo>
                      <a:pt x="30" y="34"/>
                    </a:lnTo>
                    <a:lnTo>
                      <a:pt x="34" y="26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1" y="19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7"/>
                    </a:lnTo>
                    <a:lnTo>
                      <a:pt x="70" y="31"/>
                    </a:lnTo>
                    <a:lnTo>
                      <a:pt x="74" y="36"/>
                    </a:lnTo>
                    <a:lnTo>
                      <a:pt x="76" y="40"/>
                    </a:lnTo>
                    <a:lnTo>
                      <a:pt x="78" y="47"/>
                    </a:lnTo>
                    <a:lnTo>
                      <a:pt x="78" y="52"/>
                    </a:lnTo>
                    <a:lnTo>
                      <a:pt x="78" y="58"/>
                    </a:lnTo>
                    <a:lnTo>
                      <a:pt x="76" y="63"/>
                    </a:lnTo>
                    <a:lnTo>
                      <a:pt x="73" y="69"/>
                    </a:lnTo>
                    <a:lnTo>
                      <a:pt x="69" y="74"/>
                    </a:lnTo>
                    <a:lnTo>
                      <a:pt x="64" y="79"/>
                    </a:lnTo>
                    <a:lnTo>
                      <a:pt x="55" y="82"/>
                    </a:lnTo>
                    <a:lnTo>
                      <a:pt x="46" y="84"/>
                    </a:lnTo>
                    <a:lnTo>
                      <a:pt x="38" y="83"/>
                    </a:lnTo>
                    <a:lnTo>
                      <a:pt x="30" y="82"/>
                    </a:lnTo>
                    <a:lnTo>
                      <a:pt x="22" y="78"/>
                    </a:lnTo>
                    <a:lnTo>
                      <a:pt x="17" y="74"/>
                    </a:lnTo>
                    <a:lnTo>
                      <a:pt x="12" y="67"/>
                    </a:lnTo>
                    <a:lnTo>
                      <a:pt x="8" y="61"/>
                    </a:lnTo>
                    <a:lnTo>
                      <a:pt x="4" y="52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4" y="22"/>
                    </a:lnTo>
                    <a:lnTo>
                      <a:pt x="9" y="14"/>
                    </a:lnTo>
                    <a:lnTo>
                      <a:pt x="16" y="8"/>
                    </a:lnTo>
                    <a:lnTo>
                      <a:pt x="25" y="4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005960" y="3837240"/>
                <a:ext cx="53640" cy="6336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0"/>
                    </a:moveTo>
                    <a:lnTo>
                      <a:pt x="50" y="0"/>
                    </a:lnTo>
                    <a:lnTo>
                      <a:pt x="58" y="3"/>
                    </a:lnTo>
                    <a:lnTo>
                      <a:pt x="64" y="5"/>
                    </a:lnTo>
                    <a:lnTo>
                      <a:pt x="72" y="10"/>
                    </a:lnTo>
                    <a:lnTo>
                      <a:pt x="76" y="15"/>
                    </a:lnTo>
                    <a:lnTo>
                      <a:pt x="81" y="23"/>
                    </a:lnTo>
                    <a:lnTo>
                      <a:pt x="84" y="31"/>
                    </a:lnTo>
                    <a:lnTo>
                      <a:pt x="86" y="39"/>
                    </a:lnTo>
                    <a:lnTo>
                      <a:pt x="86" y="47"/>
                    </a:lnTo>
                    <a:lnTo>
                      <a:pt x="86" y="54"/>
                    </a:lnTo>
                    <a:lnTo>
                      <a:pt x="85" y="62"/>
                    </a:lnTo>
                    <a:lnTo>
                      <a:pt x="83" y="71"/>
                    </a:lnTo>
                    <a:lnTo>
                      <a:pt x="79" y="78"/>
                    </a:lnTo>
                    <a:lnTo>
                      <a:pt x="73" y="84"/>
                    </a:lnTo>
                    <a:lnTo>
                      <a:pt x="67" y="89"/>
                    </a:lnTo>
                    <a:lnTo>
                      <a:pt x="59" y="94"/>
                    </a:lnTo>
                    <a:lnTo>
                      <a:pt x="51" y="98"/>
                    </a:lnTo>
                    <a:lnTo>
                      <a:pt x="45" y="101"/>
                    </a:lnTo>
                    <a:lnTo>
                      <a:pt x="37" y="102"/>
                    </a:lnTo>
                    <a:lnTo>
                      <a:pt x="30" y="102"/>
                    </a:lnTo>
                    <a:lnTo>
                      <a:pt x="24" y="100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4" y="82"/>
                    </a:lnTo>
                    <a:lnTo>
                      <a:pt x="2" y="75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3" y="57"/>
                    </a:lnTo>
                    <a:lnTo>
                      <a:pt x="8" y="52"/>
                    </a:lnTo>
                    <a:lnTo>
                      <a:pt x="15" y="47"/>
                    </a:lnTo>
                    <a:lnTo>
                      <a:pt x="23" y="43"/>
                    </a:lnTo>
                    <a:lnTo>
                      <a:pt x="26" y="40"/>
                    </a:lnTo>
                    <a:lnTo>
                      <a:pt x="32" y="40"/>
                    </a:lnTo>
                    <a:lnTo>
                      <a:pt x="36" y="40"/>
                    </a:lnTo>
                    <a:lnTo>
                      <a:pt x="41" y="40"/>
                    </a:lnTo>
                    <a:lnTo>
                      <a:pt x="46" y="45"/>
                    </a:lnTo>
                    <a:lnTo>
                      <a:pt x="53" y="53"/>
                    </a:lnTo>
                    <a:lnTo>
                      <a:pt x="50" y="56"/>
                    </a:lnTo>
                    <a:lnTo>
                      <a:pt x="50" y="59"/>
                    </a:lnTo>
                    <a:lnTo>
                      <a:pt x="49" y="63"/>
                    </a:lnTo>
                    <a:lnTo>
                      <a:pt x="49" y="67"/>
                    </a:lnTo>
                    <a:lnTo>
                      <a:pt x="45" y="69"/>
                    </a:lnTo>
                    <a:lnTo>
                      <a:pt x="41" y="71"/>
                    </a:lnTo>
                    <a:lnTo>
                      <a:pt x="37" y="72"/>
                    </a:lnTo>
                    <a:lnTo>
                      <a:pt x="34" y="75"/>
                    </a:lnTo>
                    <a:lnTo>
                      <a:pt x="32" y="71"/>
                    </a:lnTo>
                    <a:lnTo>
                      <a:pt x="32" y="66"/>
                    </a:lnTo>
                    <a:lnTo>
                      <a:pt x="32" y="59"/>
                    </a:lnTo>
                    <a:lnTo>
                      <a:pt x="34" y="57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4" y="63"/>
                    </a:lnTo>
                    <a:lnTo>
                      <a:pt x="20" y="71"/>
                    </a:lnTo>
                    <a:lnTo>
                      <a:pt x="19" y="78"/>
                    </a:lnTo>
                    <a:lnTo>
                      <a:pt x="25" y="82"/>
                    </a:lnTo>
                    <a:lnTo>
                      <a:pt x="34" y="84"/>
                    </a:lnTo>
                    <a:lnTo>
                      <a:pt x="40" y="84"/>
                    </a:lnTo>
                    <a:lnTo>
                      <a:pt x="47" y="83"/>
                    </a:lnTo>
                    <a:lnTo>
                      <a:pt x="53" y="80"/>
                    </a:lnTo>
                    <a:lnTo>
                      <a:pt x="59" y="76"/>
                    </a:lnTo>
                    <a:lnTo>
                      <a:pt x="63" y="71"/>
                    </a:lnTo>
                    <a:lnTo>
                      <a:pt x="67" y="66"/>
                    </a:lnTo>
                    <a:lnTo>
                      <a:pt x="68" y="59"/>
                    </a:lnTo>
                    <a:lnTo>
                      <a:pt x="71" y="54"/>
                    </a:lnTo>
                    <a:lnTo>
                      <a:pt x="71" y="47"/>
                    </a:lnTo>
                    <a:lnTo>
                      <a:pt x="71" y="40"/>
                    </a:lnTo>
                    <a:lnTo>
                      <a:pt x="68" y="35"/>
                    </a:lnTo>
                    <a:lnTo>
                      <a:pt x="67" y="30"/>
                    </a:lnTo>
                    <a:lnTo>
                      <a:pt x="63" y="25"/>
                    </a:lnTo>
                    <a:lnTo>
                      <a:pt x="58" y="22"/>
                    </a:lnTo>
                    <a:lnTo>
                      <a:pt x="51" y="19"/>
                    </a:lnTo>
                    <a:lnTo>
                      <a:pt x="45" y="19"/>
                    </a:lnTo>
                    <a:lnTo>
                      <a:pt x="37" y="23"/>
                    </a:lnTo>
                    <a:lnTo>
                      <a:pt x="32" y="27"/>
                    </a:lnTo>
                    <a:lnTo>
                      <a:pt x="28" y="22"/>
                    </a:lnTo>
                    <a:lnTo>
                      <a:pt x="25" y="17"/>
                    </a:lnTo>
                    <a:lnTo>
                      <a:pt x="29" y="12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50400" y="3851640"/>
                <a:ext cx="34200" cy="51480"/>
              </a:xfrm>
              <a:custGeom>
                <a:avLst/>
                <a:gdLst/>
                <a:ahLst/>
                <a:rect l="l" t="t" r="r" b="b"/>
                <a:pathLst>
                  <a:path w="53" h="87">
                    <a:moveTo>
                      <a:pt x="10" y="1"/>
                    </a:moveTo>
                    <a:lnTo>
                      <a:pt x="17" y="0"/>
                    </a:lnTo>
                    <a:lnTo>
                      <a:pt x="25" y="1"/>
                    </a:lnTo>
                    <a:lnTo>
                      <a:pt x="31" y="4"/>
                    </a:lnTo>
                    <a:lnTo>
                      <a:pt x="38" y="9"/>
                    </a:lnTo>
                    <a:lnTo>
                      <a:pt x="42" y="14"/>
                    </a:lnTo>
                    <a:lnTo>
                      <a:pt x="47" y="22"/>
                    </a:lnTo>
                    <a:lnTo>
                      <a:pt x="49" y="30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3" y="54"/>
                    </a:lnTo>
                    <a:lnTo>
                      <a:pt x="52" y="61"/>
                    </a:lnTo>
                    <a:lnTo>
                      <a:pt x="51" y="69"/>
                    </a:lnTo>
                    <a:lnTo>
                      <a:pt x="47" y="75"/>
                    </a:lnTo>
                    <a:lnTo>
                      <a:pt x="42" y="80"/>
                    </a:lnTo>
                    <a:lnTo>
                      <a:pt x="35" y="84"/>
                    </a:lnTo>
                    <a:lnTo>
                      <a:pt x="29" y="87"/>
                    </a:lnTo>
                    <a:lnTo>
                      <a:pt x="23" y="85"/>
                    </a:lnTo>
                    <a:lnTo>
                      <a:pt x="19" y="85"/>
                    </a:lnTo>
                    <a:lnTo>
                      <a:pt x="17" y="84"/>
                    </a:lnTo>
                    <a:lnTo>
                      <a:pt x="13" y="82"/>
                    </a:lnTo>
                    <a:lnTo>
                      <a:pt x="8" y="76"/>
                    </a:lnTo>
                    <a:lnTo>
                      <a:pt x="4" y="71"/>
                    </a:lnTo>
                    <a:lnTo>
                      <a:pt x="1" y="63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7" y="27"/>
                    </a:lnTo>
                    <a:lnTo>
                      <a:pt x="21" y="32"/>
                    </a:lnTo>
                    <a:lnTo>
                      <a:pt x="29" y="36"/>
                    </a:lnTo>
                    <a:lnTo>
                      <a:pt x="26" y="41"/>
                    </a:lnTo>
                    <a:lnTo>
                      <a:pt x="22" y="49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21" y="63"/>
                    </a:lnTo>
                    <a:lnTo>
                      <a:pt x="26" y="66"/>
                    </a:lnTo>
                    <a:lnTo>
                      <a:pt x="30" y="66"/>
                    </a:lnTo>
                    <a:lnTo>
                      <a:pt x="33" y="65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36" y="50"/>
                    </a:lnTo>
                    <a:lnTo>
                      <a:pt x="38" y="45"/>
                    </a:lnTo>
                    <a:lnTo>
                      <a:pt x="35" y="39"/>
                    </a:lnTo>
                    <a:lnTo>
                      <a:pt x="34" y="32"/>
                    </a:lnTo>
                    <a:lnTo>
                      <a:pt x="31" y="27"/>
                    </a:lnTo>
                    <a:lnTo>
                      <a:pt x="29" y="22"/>
                    </a:lnTo>
                    <a:lnTo>
                      <a:pt x="25" y="18"/>
                    </a:lnTo>
                    <a:lnTo>
                      <a:pt x="21" y="17"/>
                    </a:lnTo>
                    <a:lnTo>
                      <a:pt x="16" y="15"/>
                    </a:lnTo>
                    <a:lnTo>
                      <a:pt x="10" y="18"/>
                    </a:lnTo>
                    <a:lnTo>
                      <a:pt x="8" y="14"/>
                    </a:lnTo>
                    <a:lnTo>
                      <a:pt x="8" y="9"/>
                    </a:lnTo>
                    <a:lnTo>
                      <a:pt x="8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206480" y="3856680"/>
                <a:ext cx="38520" cy="4392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32" y="0"/>
                    </a:moveTo>
                    <a:lnTo>
                      <a:pt x="36" y="2"/>
                    </a:lnTo>
                    <a:lnTo>
                      <a:pt x="37" y="6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2" y="18"/>
                    </a:lnTo>
                    <a:lnTo>
                      <a:pt x="26" y="26"/>
                    </a:lnTo>
                    <a:lnTo>
                      <a:pt x="18" y="32"/>
                    </a:lnTo>
                    <a:lnTo>
                      <a:pt x="15" y="40"/>
                    </a:lnTo>
                    <a:lnTo>
                      <a:pt x="14" y="42"/>
                    </a:lnTo>
                    <a:lnTo>
                      <a:pt x="15" y="48"/>
                    </a:lnTo>
                    <a:lnTo>
                      <a:pt x="19" y="52"/>
                    </a:lnTo>
                    <a:lnTo>
                      <a:pt x="24" y="57"/>
                    </a:lnTo>
                    <a:lnTo>
                      <a:pt x="31" y="53"/>
                    </a:lnTo>
                    <a:lnTo>
                      <a:pt x="37" y="49"/>
                    </a:lnTo>
                    <a:lnTo>
                      <a:pt x="44" y="45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7" y="45"/>
                    </a:lnTo>
                    <a:lnTo>
                      <a:pt x="31" y="48"/>
                    </a:lnTo>
                    <a:lnTo>
                      <a:pt x="27" y="50"/>
                    </a:lnTo>
                    <a:lnTo>
                      <a:pt x="27" y="45"/>
                    </a:lnTo>
                    <a:lnTo>
                      <a:pt x="28" y="39"/>
                    </a:lnTo>
                    <a:lnTo>
                      <a:pt x="32" y="31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49" y="26"/>
                    </a:lnTo>
                    <a:lnTo>
                      <a:pt x="54" y="27"/>
                    </a:lnTo>
                    <a:lnTo>
                      <a:pt x="60" y="33"/>
                    </a:lnTo>
                    <a:lnTo>
                      <a:pt x="62" y="40"/>
                    </a:lnTo>
                    <a:lnTo>
                      <a:pt x="62" y="45"/>
                    </a:lnTo>
                    <a:lnTo>
                      <a:pt x="62" y="52"/>
                    </a:lnTo>
                    <a:lnTo>
                      <a:pt x="58" y="57"/>
                    </a:lnTo>
                    <a:lnTo>
                      <a:pt x="54" y="62"/>
                    </a:lnTo>
                    <a:lnTo>
                      <a:pt x="49" y="66"/>
                    </a:lnTo>
                    <a:lnTo>
                      <a:pt x="44" y="70"/>
                    </a:lnTo>
                    <a:lnTo>
                      <a:pt x="37" y="71"/>
                    </a:lnTo>
                    <a:lnTo>
                      <a:pt x="31" y="74"/>
                    </a:lnTo>
                    <a:lnTo>
                      <a:pt x="23" y="72"/>
                    </a:lnTo>
                    <a:lnTo>
                      <a:pt x="18" y="72"/>
                    </a:lnTo>
                    <a:lnTo>
                      <a:pt x="11" y="70"/>
                    </a:lnTo>
                    <a:lnTo>
                      <a:pt x="7" y="66"/>
                    </a:lnTo>
                    <a:lnTo>
                      <a:pt x="3" y="59"/>
                    </a:lnTo>
                    <a:lnTo>
                      <a:pt x="2" y="53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6" y="20"/>
                    </a:lnTo>
                    <a:lnTo>
                      <a:pt x="11" y="13"/>
                    </a:lnTo>
                    <a:lnTo>
                      <a:pt x="16" y="7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054560" y="3868920"/>
                <a:ext cx="44280" cy="4860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35" y="0"/>
                    </a:moveTo>
                    <a:lnTo>
                      <a:pt x="39" y="3"/>
                    </a:lnTo>
                    <a:lnTo>
                      <a:pt x="40" y="7"/>
                    </a:lnTo>
                    <a:lnTo>
                      <a:pt x="40" y="9"/>
                    </a:lnTo>
                    <a:lnTo>
                      <a:pt x="40" y="13"/>
                    </a:lnTo>
                    <a:lnTo>
                      <a:pt x="36" y="18"/>
                    </a:lnTo>
                    <a:lnTo>
                      <a:pt x="30" y="26"/>
                    </a:lnTo>
                    <a:lnTo>
                      <a:pt x="22" y="33"/>
                    </a:lnTo>
                    <a:lnTo>
                      <a:pt x="17" y="40"/>
                    </a:lnTo>
                    <a:lnTo>
                      <a:pt x="14" y="44"/>
                    </a:lnTo>
                    <a:lnTo>
                      <a:pt x="14" y="49"/>
                    </a:lnTo>
                    <a:lnTo>
                      <a:pt x="16" y="53"/>
                    </a:lnTo>
                    <a:lnTo>
                      <a:pt x="18" y="60"/>
                    </a:lnTo>
                    <a:lnTo>
                      <a:pt x="21" y="61"/>
                    </a:lnTo>
                    <a:lnTo>
                      <a:pt x="25" y="62"/>
                    </a:lnTo>
                    <a:lnTo>
                      <a:pt x="29" y="65"/>
                    </a:lnTo>
                    <a:lnTo>
                      <a:pt x="34" y="69"/>
                    </a:lnTo>
                    <a:lnTo>
                      <a:pt x="36" y="65"/>
                    </a:lnTo>
                    <a:lnTo>
                      <a:pt x="40" y="62"/>
                    </a:lnTo>
                    <a:lnTo>
                      <a:pt x="44" y="58"/>
                    </a:lnTo>
                    <a:lnTo>
                      <a:pt x="50" y="56"/>
                    </a:lnTo>
                    <a:lnTo>
                      <a:pt x="52" y="51"/>
                    </a:lnTo>
                    <a:lnTo>
                      <a:pt x="53" y="47"/>
                    </a:lnTo>
                    <a:lnTo>
                      <a:pt x="52" y="43"/>
                    </a:lnTo>
                    <a:lnTo>
                      <a:pt x="48" y="39"/>
                    </a:lnTo>
                    <a:lnTo>
                      <a:pt x="44" y="42"/>
                    </a:lnTo>
                    <a:lnTo>
                      <a:pt x="39" y="47"/>
                    </a:lnTo>
                    <a:lnTo>
                      <a:pt x="33" y="53"/>
                    </a:lnTo>
                    <a:lnTo>
                      <a:pt x="29" y="56"/>
                    </a:lnTo>
                    <a:lnTo>
                      <a:pt x="27" y="52"/>
                    </a:lnTo>
                    <a:lnTo>
                      <a:pt x="26" y="48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31" y="34"/>
                    </a:lnTo>
                    <a:lnTo>
                      <a:pt x="38" y="29"/>
                    </a:lnTo>
                    <a:lnTo>
                      <a:pt x="42" y="26"/>
                    </a:lnTo>
                    <a:lnTo>
                      <a:pt x="48" y="26"/>
                    </a:lnTo>
                    <a:lnTo>
                      <a:pt x="52" y="26"/>
                    </a:lnTo>
                    <a:lnTo>
                      <a:pt x="59" y="26"/>
                    </a:lnTo>
                    <a:lnTo>
                      <a:pt x="65" y="34"/>
                    </a:lnTo>
                    <a:lnTo>
                      <a:pt x="69" y="40"/>
                    </a:lnTo>
                    <a:lnTo>
                      <a:pt x="69" y="47"/>
                    </a:lnTo>
                    <a:lnTo>
                      <a:pt x="69" y="55"/>
                    </a:lnTo>
                    <a:lnTo>
                      <a:pt x="65" y="61"/>
                    </a:lnTo>
                    <a:lnTo>
                      <a:pt x="60" y="67"/>
                    </a:lnTo>
                    <a:lnTo>
                      <a:pt x="53" y="73"/>
                    </a:lnTo>
                    <a:lnTo>
                      <a:pt x="48" y="78"/>
                    </a:lnTo>
                    <a:lnTo>
                      <a:pt x="39" y="80"/>
                    </a:lnTo>
                    <a:lnTo>
                      <a:pt x="31" y="83"/>
                    </a:lnTo>
                    <a:lnTo>
                      <a:pt x="23" y="83"/>
                    </a:lnTo>
                    <a:lnTo>
                      <a:pt x="17" y="82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1" y="66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1" y="40"/>
                    </a:lnTo>
                    <a:lnTo>
                      <a:pt x="4" y="33"/>
                    </a:lnTo>
                    <a:lnTo>
                      <a:pt x="9" y="25"/>
                    </a:lnTo>
                    <a:lnTo>
                      <a:pt x="14" y="18"/>
                    </a:lnTo>
                    <a:lnTo>
                      <a:pt x="21" y="10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149960" y="3871080"/>
                <a:ext cx="48600" cy="39240"/>
              </a:xfrm>
              <a:custGeom>
                <a:avLst/>
                <a:gdLst/>
                <a:ahLst/>
                <a:rect l="l" t="t" r="r" b="b"/>
                <a:pathLst>
                  <a:path w="78" h="65">
                    <a:moveTo>
                      <a:pt x="20" y="0"/>
                    </a:moveTo>
                    <a:lnTo>
                      <a:pt x="26" y="3"/>
                    </a:lnTo>
                    <a:lnTo>
                      <a:pt x="26" y="9"/>
                    </a:lnTo>
                    <a:lnTo>
                      <a:pt x="23" y="14"/>
                    </a:lnTo>
                    <a:lnTo>
                      <a:pt x="20" y="21"/>
                    </a:lnTo>
                    <a:lnTo>
                      <a:pt x="16" y="27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8" y="39"/>
                    </a:lnTo>
                    <a:lnTo>
                      <a:pt x="22" y="41"/>
                    </a:lnTo>
                    <a:lnTo>
                      <a:pt x="28" y="45"/>
                    </a:lnTo>
                    <a:lnTo>
                      <a:pt x="30" y="48"/>
                    </a:lnTo>
                    <a:lnTo>
                      <a:pt x="33" y="51"/>
                    </a:lnTo>
                    <a:lnTo>
                      <a:pt x="37" y="51"/>
                    </a:lnTo>
                    <a:lnTo>
                      <a:pt x="43" y="51"/>
                    </a:lnTo>
                    <a:lnTo>
                      <a:pt x="49" y="45"/>
                    </a:lnTo>
                    <a:lnTo>
                      <a:pt x="56" y="39"/>
                    </a:lnTo>
                    <a:lnTo>
                      <a:pt x="58" y="30"/>
                    </a:lnTo>
                    <a:lnTo>
                      <a:pt x="58" y="23"/>
                    </a:lnTo>
                    <a:lnTo>
                      <a:pt x="57" y="21"/>
                    </a:lnTo>
                    <a:lnTo>
                      <a:pt x="54" y="18"/>
                    </a:lnTo>
                    <a:lnTo>
                      <a:pt x="50" y="18"/>
                    </a:lnTo>
                    <a:lnTo>
                      <a:pt x="46" y="18"/>
                    </a:lnTo>
                    <a:lnTo>
                      <a:pt x="45" y="22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9" y="38"/>
                    </a:lnTo>
                    <a:lnTo>
                      <a:pt x="36" y="31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31" y="19"/>
                    </a:lnTo>
                    <a:lnTo>
                      <a:pt x="33" y="14"/>
                    </a:lnTo>
                    <a:lnTo>
                      <a:pt x="36" y="10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6" y="5"/>
                    </a:lnTo>
                    <a:lnTo>
                      <a:pt x="73" y="9"/>
                    </a:lnTo>
                    <a:lnTo>
                      <a:pt x="75" y="14"/>
                    </a:lnTo>
                    <a:lnTo>
                      <a:pt x="78" y="22"/>
                    </a:lnTo>
                    <a:lnTo>
                      <a:pt x="76" y="29"/>
                    </a:lnTo>
                    <a:lnTo>
                      <a:pt x="76" y="34"/>
                    </a:lnTo>
                    <a:lnTo>
                      <a:pt x="74" y="40"/>
                    </a:lnTo>
                    <a:lnTo>
                      <a:pt x="70" y="47"/>
                    </a:lnTo>
                    <a:lnTo>
                      <a:pt x="65" y="52"/>
                    </a:lnTo>
                    <a:lnTo>
                      <a:pt x="61" y="57"/>
                    </a:lnTo>
                    <a:lnTo>
                      <a:pt x="54" y="61"/>
                    </a:lnTo>
                    <a:lnTo>
                      <a:pt x="49" y="63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28" y="62"/>
                    </a:lnTo>
                    <a:lnTo>
                      <a:pt x="22" y="57"/>
                    </a:lnTo>
                    <a:lnTo>
                      <a:pt x="16" y="54"/>
                    </a:lnTo>
                    <a:lnTo>
                      <a:pt x="13" y="52"/>
                    </a:lnTo>
                    <a:lnTo>
                      <a:pt x="7" y="49"/>
                    </a:lnTo>
                    <a:lnTo>
                      <a:pt x="5" y="45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108560" y="3888360"/>
                <a:ext cx="29160" cy="2700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36" y="0"/>
                    </a:moveTo>
                    <a:lnTo>
                      <a:pt x="40" y="0"/>
                    </a:lnTo>
                    <a:lnTo>
                      <a:pt x="43" y="4"/>
                    </a:lnTo>
                    <a:lnTo>
                      <a:pt x="46" y="9"/>
                    </a:lnTo>
                    <a:lnTo>
                      <a:pt x="50" y="15"/>
                    </a:lnTo>
                    <a:lnTo>
                      <a:pt x="50" y="21"/>
                    </a:lnTo>
                    <a:lnTo>
                      <a:pt x="50" y="27"/>
                    </a:lnTo>
                    <a:lnTo>
                      <a:pt x="50" y="32"/>
                    </a:lnTo>
                    <a:lnTo>
                      <a:pt x="47" y="37"/>
                    </a:lnTo>
                    <a:lnTo>
                      <a:pt x="40" y="43"/>
                    </a:lnTo>
                    <a:lnTo>
                      <a:pt x="33" y="45"/>
                    </a:lnTo>
                    <a:lnTo>
                      <a:pt x="28" y="44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3"/>
                    </a:lnTo>
                    <a:lnTo>
                      <a:pt x="8" y="37"/>
                    </a:lnTo>
                    <a:lnTo>
                      <a:pt x="3" y="31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5" y="4"/>
                    </a:lnTo>
                    <a:lnTo>
                      <a:pt x="17" y="8"/>
                    </a:lnTo>
                    <a:lnTo>
                      <a:pt x="19" y="13"/>
                    </a:lnTo>
                    <a:lnTo>
                      <a:pt x="21" y="19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0" y="30"/>
                    </a:lnTo>
                    <a:lnTo>
                      <a:pt x="33" y="21"/>
                    </a:lnTo>
                    <a:lnTo>
                      <a:pt x="33" y="13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225920" y="3898080"/>
                <a:ext cx="41400" cy="34200"/>
              </a:xfrm>
              <a:custGeom>
                <a:avLst/>
                <a:gdLst/>
                <a:ahLst/>
                <a:rect l="l" t="t" r="r" b="b"/>
                <a:pathLst>
                  <a:path w="69" h="54">
                    <a:moveTo>
                      <a:pt x="24" y="0"/>
                    </a:moveTo>
                    <a:lnTo>
                      <a:pt x="28" y="0"/>
                    </a:lnTo>
                    <a:lnTo>
                      <a:pt x="31" y="3"/>
                    </a:lnTo>
                    <a:lnTo>
                      <a:pt x="33" y="6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9" y="19"/>
                    </a:lnTo>
                    <a:lnTo>
                      <a:pt x="25" y="21"/>
                    </a:lnTo>
                    <a:lnTo>
                      <a:pt x="18" y="21"/>
                    </a:lnTo>
                    <a:lnTo>
                      <a:pt x="14" y="27"/>
                    </a:lnTo>
                    <a:lnTo>
                      <a:pt x="16" y="32"/>
                    </a:lnTo>
                    <a:lnTo>
                      <a:pt x="20" y="36"/>
                    </a:lnTo>
                    <a:lnTo>
                      <a:pt x="28" y="39"/>
                    </a:lnTo>
                    <a:lnTo>
                      <a:pt x="35" y="39"/>
                    </a:lnTo>
                    <a:lnTo>
                      <a:pt x="43" y="39"/>
                    </a:lnTo>
                    <a:lnTo>
                      <a:pt x="48" y="36"/>
                    </a:lnTo>
                    <a:lnTo>
                      <a:pt x="50" y="31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4" y="32"/>
                    </a:lnTo>
                    <a:lnTo>
                      <a:pt x="30" y="34"/>
                    </a:lnTo>
                    <a:lnTo>
                      <a:pt x="29" y="27"/>
                    </a:lnTo>
                    <a:lnTo>
                      <a:pt x="29" y="23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7" y="15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2" y="17"/>
                    </a:lnTo>
                    <a:lnTo>
                      <a:pt x="56" y="17"/>
                    </a:lnTo>
                    <a:lnTo>
                      <a:pt x="60" y="19"/>
                    </a:lnTo>
                    <a:lnTo>
                      <a:pt x="64" y="22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4"/>
                    </a:lnTo>
                    <a:lnTo>
                      <a:pt x="68" y="37"/>
                    </a:lnTo>
                    <a:lnTo>
                      <a:pt x="65" y="43"/>
                    </a:lnTo>
                    <a:lnTo>
                      <a:pt x="61" y="48"/>
                    </a:lnTo>
                    <a:lnTo>
                      <a:pt x="56" y="50"/>
                    </a:lnTo>
                    <a:lnTo>
                      <a:pt x="51" y="53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4"/>
                    </a:lnTo>
                    <a:lnTo>
                      <a:pt x="17" y="53"/>
                    </a:lnTo>
                    <a:lnTo>
                      <a:pt x="12" y="50"/>
                    </a:lnTo>
                    <a:lnTo>
                      <a:pt x="8" y="48"/>
                    </a:lnTo>
                    <a:lnTo>
                      <a:pt x="5" y="45"/>
                    </a:lnTo>
                    <a:lnTo>
                      <a:pt x="3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17" y="1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000920" y="39031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34" y="0"/>
                    </a:moveTo>
                    <a:lnTo>
                      <a:pt x="38" y="1"/>
                    </a:lnTo>
                    <a:lnTo>
                      <a:pt x="41" y="4"/>
                    </a:lnTo>
                    <a:lnTo>
                      <a:pt x="41" y="9"/>
                    </a:lnTo>
                    <a:lnTo>
                      <a:pt x="41" y="14"/>
                    </a:lnTo>
                    <a:lnTo>
                      <a:pt x="38" y="18"/>
                    </a:lnTo>
                    <a:lnTo>
                      <a:pt x="34" y="23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6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1" y="45"/>
                    </a:lnTo>
                    <a:lnTo>
                      <a:pt x="21" y="51"/>
                    </a:lnTo>
                    <a:lnTo>
                      <a:pt x="21" y="56"/>
                    </a:lnTo>
                    <a:lnTo>
                      <a:pt x="21" y="60"/>
                    </a:lnTo>
                    <a:lnTo>
                      <a:pt x="26" y="61"/>
                    </a:lnTo>
                    <a:lnTo>
                      <a:pt x="32" y="64"/>
                    </a:lnTo>
                    <a:lnTo>
                      <a:pt x="35" y="65"/>
                    </a:lnTo>
                    <a:lnTo>
                      <a:pt x="41" y="67"/>
                    </a:lnTo>
                    <a:lnTo>
                      <a:pt x="45" y="65"/>
                    </a:lnTo>
                    <a:lnTo>
                      <a:pt x="50" y="64"/>
                    </a:lnTo>
                    <a:lnTo>
                      <a:pt x="54" y="64"/>
                    </a:lnTo>
                    <a:lnTo>
                      <a:pt x="59" y="62"/>
                    </a:lnTo>
                    <a:lnTo>
                      <a:pt x="60" y="54"/>
                    </a:lnTo>
                    <a:lnTo>
                      <a:pt x="62" y="48"/>
                    </a:lnTo>
                    <a:lnTo>
                      <a:pt x="56" y="45"/>
                    </a:lnTo>
                    <a:lnTo>
                      <a:pt x="51" y="43"/>
                    </a:lnTo>
                    <a:lnTo>
                      <a:pt x="46" y="40"/>
                    </a:lnTo>
                    <a:lnTo>
                      <a:pt x="43" y="42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4" y="57"/>
                    </a:lnTo>
                    <a:lnTo>
                      <a:pt x="32" y="53"/>
                    </a:lnTo>
                    <a:lnTo>
                      <a:pt x="29" y="49"/>
                    </a:lnTo>
                    <a:lnTo>
                      <a:pt x="28" y="44"/>
                    </a:lnTo>
                    <a:lnTo>
                      <a:pt x="25" y="42"/>
                    </a:lnTo>
                    <a:lnTo>
                      <a:pt x="29" y="32"/>
                    </a:lnTo>
                    <a:lnTo>
                      <a:pt x="34" y="25"/>
                    </a:lnTo>
                    <a:lnTo>
                      <a:pt x="39" y="22"/>
                    </a:lnTo>
                    <a:lnTo>
                      <a:pt x="45" y="21"/>
                    </a:lnTo>
                    <a:lnTo>
                      <a:pt x="50" y="21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9"/>
                    </a:lnTo>
                    <a:lnTo>
                      <a:pt x="68" y="32"/>
                    </a:lnTo>
                    <a:lnTo>
                      <a:pt x="73" y="38"/>
                    </a:lnTo>
                    <a:lnTo>
                      <a:pt x="75" y="42"/>
                    </a:lnTo>
                    <a:lnTo>
                      <a:pt x="77" y="48"/>
                    </a:lnTo>
                    <a:lnTo>
                      <a:pt x="77" y="53"/>
                    </a:lnTo>
                    <a:lnTo>
                      <a:pt x="79" y="60"/>
                    </a:lnTo>
                    <a:lnTo>
                      <a:pt x="77" y="64"/>
                    </a:lnTo>
                    <a:lnTo>
                      <a:pt x="75" y="69"/>
                    </a:lnTo>
                    <a:lnTo>
                      <a:pt x="69" y="74"/>
                    </a:lnTo>
                    <a:lnTo>
                      <a:pt x="65" y="79"/>
                    </a:lnTo>
                    <a:lnTo>
                      <a:pt x="58" y="80"/>
                    </a:lnTo>
                    <a:lnTo>
                      <a:pt x="52" y="82"/>
                    </a:lnTo>
                    <a:lnTo>
                      <a:pt x="46" y="82"/>
                    </a:lnTo>
                    <a:lnTo>
                      <a:pt x="39" y="83"/>
                    </a:lnTo>
                    <a:lnTo>
                      <a:pt x="33" y="80"/>
                    </a:lnTo>
                    <a:lnTo>
                      <a:pt x="28" y="79"/>
                    </a:lnTo>
                    <a:lnTo>
                      <a:pt x="21" y="76"/>
                    </a:lnTo>
                    <a:lnTo>
                      <a:pt x="16" y="75"/>
                    </a:lnTo>
                    <a:lnTo>
                      <a:pt x="11" y="70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5" y="31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220880" y="4209480"/>
                <a:ext cx="48600" cy="58680"/>
              </a:xfrm>
              <a:custGeom>
                <a:avLst/>
                <a:gdLst/>
                <a:ahLst/>
                <a:rect l="l" t="t" r="r" b="b"/>
                <a:pathLst>
                  <a:path w="81" h="97">
                    <a:moveTo>
                      <a:pt x="29" y="5"/>
                    </a:moveTo>
                    <a:lnTo>
                      <a:pt x="28" y="5"/>
                    </a:lnTo>
                    <a:lnTo>
                      <a:pt x="25" y="7"/>
                    </a:lnTo>
                    <a:lnTo>
                      <a:pt x="24" y="11"/>
                    </a:lnTo>
                    <a:lnTo>
                      <a:pt x="21" y="16"/>
                    </a:lnTo>
                    <a:lnTo>
                      <a:pt x="17" y="21"/>
                    </a:lnTo>
                    <a:lnTo>
                      <a:pt x="13" y="27"/>
                    </a:lnTo>
                    <a:lnTo>
                      <a:pt x="9" y="34"/>
                    </a:lnTo>
                    <a:lnTo>
                      <a:pt x="7" y="42"/>
                    </a:lnTo>
                    <a:lnTo>
                      <a:pt x="4" y="49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3" y="82"/>
                    </a:lnTo>
                    <a:lnTo>
                      <a:pt x="7" y="86"/>
                    </a:lnTo>
                    <a:lnTo>
                      <a:pt x="13" y="91"/>
                    </a:lnTo>
                    <a:lnTo>
                      <a:pt x="20" y="92"/>
                    </a:lnTo>
                    <a:lnTo>
                      <a:pt x="25" y="95"/>
                    </a:lnTo>
                    <a:lnTo>
                      <a:pt x="32" y="96"/>
                    </a:lnTo>
                    <a:lnTo>
                      <a:pt x="38" y="97"/>
                    </a:lnTo>
                    <a:lnTo>
                      <a:pt x="43" y="96"/>
                    </a:lnTo>
                    <a:lnTo>
                      <a:pt x="49" y="96"/>
                    </a:lnTo>
                    <a:lnTo>
                      <a:pt x="53" y="96"/>
                    </a:lnTo>
                    <a:lnTo>
                      <a:pt x="58" y="95"/>
                    </a:lnTo>
                    <a:lnTo>
                      <a:pt x="62" y="92"/>
                    </a:lnTo>
                    <a:lnTo>
                      <a:pt x="67" y="89"/>
                    </a:lnTo>
                    <a:lnTo>
                      <a:pt x="69" y="87"/>
                    </a:lnTo>
                    <a:lnTo>
                      <a:pt x="73" y="84"/>
                    </a:lnTo>
                    <a:lnTo>
                      <a:pt x="77" y="78"/>
                    </a:lnTo>
                    <a:lnTo>
                      <a:pt x="81" y="70"/>
                    </a:lnTo>
                    <a:lnTo>
                      <a:pt x="81" y="65"/>
                    </a:lnTo>
                    <a:lnTo>
                      <a:pt x="81" y="60"/>
                    </a:lnTo>
                    <a:lnTo>
                      <a:pt x="81" y="55"/>
                    </a:lnTo>
                    <a:lnTo>
                      <a:pt x="81" y="49"/>
                    </a:lnTo>
                    <a:lnTo>
                      <a:pt x="80" y="43"/>
                    </a:lnTo>
                    <a:lnTo>
                      <a:pt x="80" y="36"/>
                    </a:lnTo>
                    <a:lnTo>
                      <a:pt x="80" y="30"/>
                    </a:lnTo>
                    <a:lnTo>
                      <a:pt x="80" y="26"/>
                    </a:lnTo>
                    <a:lnTo>
                      <a:pt x="77" y="21"/>
                    </a:lnTo>
                    <a:lnTo>
                      <a:pt x="76" y="14"/>
                    </a:lnTo>
                    <a:lnTo>
                      <a:pt x="75" y="11"/>
                    </a:lnTo>
                    <a:lnTo>
                      <a:pt x="73" y="7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805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198920" y="4249080"/>
                <a:ext cx="80640" cy="247320"/>
              </a:xfrm>
              <a:custGeom>
                <a:avLst/>
                <a:gdLst/>
                <a:ahLst/>
                <a:rect l="l" t="t" r="r" b="b"/>
                <a:pathLst>
                  <a:path w="134" h="407">
                    <a:moveTo>
                      <a:pt x="55" y="11"/>
                    </a:moveTo>
                    <a:lnTo>
                      <a:pt x="55" y="12"/>
                    </a:lnTo>
                    <a:lnTo>
                      <a:pt x="54" y="16"/>
                    </a:lnTo>
                    <a:lnTo>
                      <a:pt x="53" y="22"/>
                    </a:lnTo>
                    <a:lnTo>
                      <a:pt x="51" y="31"/>
                    </a:lnTo>
                    <a:lnTo>
                      <a:pt x="49" y="42"/>
                    </a:lnTo>
                    <a:lnTo>
                      <a:pt x="46" y="55"/>
                    </a:lnTo>
                    <a:lnTo>
                      <a:pt x="44" y="68"/>
                    </a:lnTo>
                    <a:lnTo>
                      <a:pt x="41" y="82"/>
                    </a:lnTo>
                    <a:lnTo>
                      <a:pt x="37" y="96"/>
                    </a:lnTo>
                    <a:lnTo>
                      <a:pt x="34" y="110"/>
                    </a:lnTo>
                    <a:lnTo>
                      <a:pt x="32" y="123"/>
                    </a:lnTo>
                    <a:lnTo>
                      <a:pt x="29" y="139"/>
                    </a:lnTo>
                    <a:lnTo>
                      <a:pt x="27" y="150"/>
                    </a:lnTo>
                    <a:lnTo>
                      <a:pt x="24" y="162"/>
                    </a:lnTo>
                    <a:lnTo>
                      <a:pt x="21" y="172"/>
                    </a:lnTo>
                    <a:lnTo>
                      <a:pt x="21" y="180"/>
                    </a:lnTo>
                    <a:lnTo>
                      <a:pt x="19" y="187"/>
                    </a:lnTo>
                    <a:lnTo>
                      <a:pt x="17" y="194"/>
                    </a:lnTo>
                    <a:lnTo>
                      <a:pt x="16" y="202"/>
                    </a:lnTo>
                    <a:lnTo>
                      <a:pt x="14" y="211"/>
                    </a:lnTo>
                    <a:lnTo>
                      <a:pt x="11" y="222"/>
                    </a:lnTo>
                    <a:lnTo>
                      <a:pt x="10" y="231"/>
                    </a:lnTo>
                    <a:lnTo>
                      <a:pt x="8" y="240"/>
                    </a:lnTo>
                    <a:lnTo>
                      <a:pt x="7" y="250"/>
                    </a:lnTo>
                    <a:lnTo>
                      <a:pt x="6" y="259"/>
                    </a:lnTo>
                    <a:lnTo>
                      <a:pt x="6" y="270"/>
                    </a:lnTo>
                    <a:lnTo>
                      <a:pt x="4" y="277"/>
                    </a:lnTo>
                    <a:lnTo>
                      <a:pt x="4" y="286"/>
                    </a:lnTo>
                    <a:lnTo>
                      <a:pt x="3" y="294"/>
                    </a:lnTo>
                    <a:lnTo>
                      <a:pt x="3" y="302"/>
                    </a:lnTo>
                    <a:lnTo>
                      <a:pt x="4" y="310"/>
                    </a:lnTo>
                    <a:lnTo>
                      <a:pt x="6" y="315"/>
                    </a:lnTo>
                    <a:lnTo>
                      <a:pt x="6" y="320"/>
                    </a:lnTo>
                    <a:lnTo>
                      <a:pt x="6" y="327"/>
                    </a:lnTo>
                    <a:lnTo>
                      <a:pt x="6" y="333"/>
                    </a:lnTo>
                    <a:lnTo>
                      <a:pt x="6" y="341"/>
                    </a:lnTo>
                    <a:lnTo>
                      <a:pt x="6" y="347"/>
                    </a:lnTo>
                    <a:lnTo>
                      <a:pt x="4" y="356"/>
                    </a:lnTo>
                    <a:lnTo>
                      <a:pt x="4" y="363"/>
                    </a:lnTo>
                    <a:lnTo>
                      <a:pt x="4" y="372"/>
                    </a:lnTo>
                    <a:lnTo>
                      <a:pt x="2" y="378"/>
                    </a:lnTo>
                    <a:lnTo>
                      <a:pt x="2" y="385"/>
                    </a:lnTo>
                    <a:lnTo>
                      <a:pt x="0" y="391"/>
                    </a:lnTo>
                    <a:lnTo>
                      <a:pt x="0" y="396"/>
                    </a:lnTo>
                    <a:lnTo>
                      <a:pt x="0" y="400"/>
                    </a:lnTo>
                    <a:lnTo>
                      <a:pt x="0" y="404"/>
                    </a:lnTo>
                    <a:lnTo>
                      <a:pt x="0" y="406"/>
                    </a:lnTo>
                    <a:lnTo>
                      <a:pt x="0" y="407"/>
                    </a:lnTo>
                    <a:lnTo>
                      <a:pt x="134" y="355"/>
                    </a:lnTo>
                    <a:lnTo>
                      <a:pt x="132" y="352"/>
                    </a:lnTo>
                    <a:lnTo>
                      <a:pt x="131" y="349"/>
                    </a:lnTo>
                    <a:lnTo>
                      <a:pt x="131" y="342"/>
                    </a:lnTo>
                    <a:lnTo>
                      <a:pt x="130" y="333"/>
                    </a:lnTo>
                    <a:lnTo>
                      <a:pt x="128" y="321"/>
                    </a:lnTo>
                    <a:lnTo>
                      <a:pt x="127" y="310"/>
                    </a:lnTo>
                    <a:lnTo>
                      <a:pt x="126" y="295"/>
                    </a:lnTo>
                    <a:lnTo>
                      <a:pt x="126" y="281"/>
                    </a:lnTo>
                    <a:lnTo>
                      <a:pt x="123" y="266"/>
                    </a:lnTo>
                    <a:lnTo>
                      <a:pt x="122" y="250"/>
                    </a:lnTo>
                    <a:lnTo>
                      <a:pt x="119" y="233"/>
                    </a:lnTo>
                    <a:lnTo>
                      <a:pt x="118" y="218"/>
                    </a:lnTo>
                    <a:lnTo>
                      <a:pt x="115" y="202"/>
                    </a:lnTo>
                    <a:lnTo>
                      <a:pt x="114" y="188"/>
                    </a:lnTo>
                    <a:lnTo>
                      <a:pt x="111" y="174"/>
                    </a:lnTo>
                    <a:lnTo>
                      <a:pt x="111" y="163"/>
                    </a:lnTo>
                    <a:lnTo>
                      <a:pt x="109" y="150"/>
                    </a:lnTo>
                    <a:lnTo>
                      <a:pt x="106" y="139"/>
                    </a:lnTo>
                    <a:lnTo>
                      <a:pt x="105" y="126"/>
                    </a:lnTo>
                    <a:lnTo>
                      <a:pt x="104" y="112"/>
                    </a:lnTo>
                    <a:lnTo>
                      <a:pt x="101" y="99"/>
                    </a:lnTo>
                    <a:lnTo>
                      <a:pt x="100" y="84"/>
                    </a:lnTo>
                    <a:lnTo>
                      <a:pt x="98" y="70"/>
                    </a:lnTo>
                    <a:lnTo>
                      <a:pt x="98" y="59"/>
                    </a:lnTo>
                    <a:lnTo>
                      <a:pt x="96" y="47"/>
                    </a:lnTo>
                    <a:lnTo>
                      <a:pt x="94" y="35"/>
                    </a:lnTo>
                    <a:lnTo>
                      <a:pt x="93" y="26"/>
                    </a:lnTo>
                    <a:lnTo>
                      <a:pt x="93" y="17"/>
                    </a:lnTo>
                    <a:lnTo>
                      <a:pt x="93" y="9"/>
                    </a:lnTo>
                    <a:lnTo>
                      <a:pt x="93" y="4"/>
                    </a:lnTo>
                    <a:lnTo>
                      <a:pt x="93" y="2"/>
                    </a:lnTo>
                    <a:lnTo>
                      <a:pt x="93" y="0"/>
                    </a:lnTo>
                    <a:lnTo>
                      <a:pt x="55" y="11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805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900480" y="4447440"/>
                <a:ext cx="264240" cy="158760"/>
              </a:xfrm>
              <a:custGeom>
                <a:avLst/>
                <a:gdLst/>
                <a:ahLst/>
                <a:rect l="l" t="t" r="r" b="b"/>
                <a:pathLst>
                  <a:path w="432" h="260">
                    <a:moveTo>
                      <a:pt x="0" y="249"/>
                    </a:moveTo>
                    <a:lnTo>
                      <a:pt x="2" y="247"/>
                    </a:lnTo>
                    <a:lnTo>
                      <a:pt x="8" y="240"/>
                    </a:lnTo>
                    <a:lnTo>
                      <a:pt x="18" y="230"/>
                    </a:lnTo>
                    <a:lnTo>
                      <a:pt x="31" y="218"/>
                    </a:lnTo>
                    <a:lnTo>
                      <a:pt x="44" y="203"/>
                    </a:lnTo>
                    <a:lnTo>
                      <a:pt x="62" y="186"/>
                    </a:lnTo>
                    <a:lnTo>
                      <a:pt x="81" y="168"/>
                    </a:lnTo>
                    <a:lnTo>
                      <a:pt x="100" y="150"/>
                    </a:lnTo>
                    <a:lnTo>
                      <a:pt x="120" y="128"/>
                    </a:lnTo>
                    <a:lnTo>
                      <a:pt x="141" y="107"/>
                    </a:lnTo>
                    <a:lnTo>
                      <a:pt x="159" y="88"/>
                    </a:lnTo>
                    <a:lnTo>
                      <a:pt x="179" y="68"/>
                    </a:lnTo>
                    <a:lnTo>
                      <a:pt x="196" y="49"/>
                    </a:lnTo>
                    <a:lnTo>
                      <a:pt x="210" y="32"/>
                    </a:lnTo>
                    <a:lnTo>
                      <a:pt x="224" y="18"/>
                    </a:lnTo>
                    <a:lnTo>
                      <a:pt x="233" y="6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9" y="9"/>
                    </a:lnTo>
                    <a:lnTo>
                      <a:pt x="282" y="16"/>
                    </a:lnTo>
                    <a:lnTo>
                      <a:pt x="295" y="27"/>
                    </a:lnTo>
                    <a:lnTo>
                      <a:pt x="310" y="37"/>
                    </a:lnTo>
                    <a:lnTo>
                      <a:pt x="326" y="50"/>
                    </a:lnTo>
                    <a:lnTo>
                      <a:pt x="340" y="62"/>
                    </a:lnTo>
                    <a:lnTo>
                      <a:pt x="356" y="73"/>
                    </a:lnTo>
                    <a:lnTo>
                      <a:pt x="370" y="84"/>
                    </a:lnTo>
                    <a:lnTo>
                      <a:pt x="386" y="94"/>
                    </a:lnTo>
                    <a:lnTo>
                      <a:pt x="399" y="102"/>
                    </a:lnTo>
                    <a:lnTo>
                      <a:pt x="411" y="108"/>
                    </a:lnTo>
                    <a:lnTo>
                      <a:pt x="423" y="111"/>
                    </a:lnTo>
                    <a:lnTo>
                      <a:pt x="432" y="112"/>
                    </a:lnTo>
                    <a:lnTo>
                      <a:pt x="430" y="113"/>
                    </a:lnTo>
                    <a:lnTo>
                      <a:pt x="428" y="116"/>
                    </a:lnTo>
                    <a:lnTo>
                      <a:pt x="423" y="123"/>
                    </a:lnTo>
                    <a:lnTo>
                      <a:pt x="415" y="132"/>
                    </a:lnTo>
                    <a:lnTo>
                      <a:pt x="403" y="141"/>
                    </a:lnTo>
                    <a:lnTo>
                      <a:pt x="390" y="152"/>
                    </a:lnTo>
                    <a:lnTo>
                      <a:pt x="373" y="164"/>
                    </a:lnTo>
                    <a:lnTo>
                      <a:pt x="353" y="178"/>
                    </a:lnTo>
                    <a:lnTo>
                      <a:pt x="329" y="190"/>
                    </a:lnTo>
                    <a:lnTo>
                      <a:pt x="301" y="203"/>
                    </a:lnTo>
                    <a:lnTo>
                      <a:pt x="269" y="214"/>
                    </a:lnTo>
                    <a:lnTo>
                      <a:pt x="231" y="227"/>
                    </a:lnTo>
                    <a:lnTo>
                      <a:pt x="188" y="238"/>
                    </a:lnTo>
                    <a:lnTo>
                      <a:pt x="141" y="247"/>
                    </a:lnTo>
                    <a:lnTo>
                      <a:pt x="87" y="253"/>
                    </a:lnTo>
                    <a:lnTo>
                      <a:pt x="29" y="260"/>
                    </a:lnTo>
                    <a:lnTo>
                      <a:pt x="22" y="258"/>
                    </a:lnTo>
                    <a:lnTo>
                      <a:pt x="16" y="258"/>
                    </a:lnTo>
                    <a:lnTo>
                      <a:pt x="12" y="258"/>
                    </a:lnTo>
                    <a:lnTo>
                      <a:pt x="9" y="258"/>
                    </a:lnTo>
                    <a:lnTo>
                      <a:pt x="4" y="257"/>
                    </a:lnTo>
                    <a:lnTo>
                      <a:pt x="1" y="255"/>
                    </a:lnTo>
                    <a:lnTo>
                      <a:pt x="0" y="251"/>
                    </a:lnTo>
                    <a:lnTo>
                      <a:pt x="0" y="249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30520" y="4486320"/>
                <a:ext cx="166320" cy="102600"/>
              </a:xfrm>
              <a:custGeom>
                <a:avLst/>
                <a:gdLst/>
                <a:ahLst/>
                <a:rect l="l" t="t" r="r" b="b"/>
                <a:pathLst>
                  <a:path w="272" h="166">
                    <a:moveTo>
                      <a:pt x="168" y="3"/>
                    </a:moveTo>
                    <a:lnTo>
                      <a:pt x="165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26" y="3"/>
                    </a:lnTo>
                    <a:lnTo>
                      <a:pt x="121" y="3"/>
                    </a:lnTo>
                    <a:lnTo>
                      <a:pt x="116" y="5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1" y="15"/>
                    </a:lnTo>
                    <a:lnTo>
                      <a:pt x="95" y="18"/>
                    </a:lnTo>
                    <a:lnTo>
                      <a:pt x="87" y="24"/>
                    </a:lnTo>
                    <a:lnTo>
                      <a:pt x="80" y="27"/>
                    </a:lnTo>
                    <a:lnTo>
                      <a:pt x="71" y="33"/>
                    </a:lnTo>
                    <a:lnTo>
                      <a:pt x="62" y="38"/>
                    </a:lnTo>
                    <a:lnTo>
                      <a:pt x="54" y="43"/>
                    </a:lnTo>
                    <a:lnTo>
                      <a:pt x="45" y="49"/>
                    </a:lnTo>
                    <a:lnTo>
                      <a:pt x="36" y="55"/>
                    </a:lnTo>
                    <a:lnTo>
                      <a:pt x="28" y="61"/>
                    </a:lnTo>
                    <a:lnTo>
                      <a:pt x="20" y="66"/>
                    </a:lnTo>
                    <a:lnTo>
                      <a:pt x="14" y="71"/>
                    </a:lnTo>
                    <a:lnTo>
                      <a:pt x="7" y="78"/>
                    </a:lnTo>
                    <a:lnTo>
                      <a:pt x="4" y="83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5" y="101"/>
                    </a:lnTo>
                    <a:lnTo>
                      <a:pt x="11" y="101"/>
                    </a:lnTo>
                    <a:lnTo>
                      <a:pt x="18" y="100"/>
                    </a:lnTo>
                    <a:lnTo>
                      <a:pt x="24" y="97"/>
                    </a:lnTo>
                    <a:lnTo>
                      <a:pt x="31" y="93"/>
                    </a:lnTo>
                    <a:lnTo>
                      <a:pt x="35" y="91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4" y="95"/>
                    </a:lnTo>
                    <a:lnTo>
                      <a:pt x="30" y="99"/>
                    </a:lnTo>
                    <a:lnTo>
                      <a:pt x="26" y="106"/>
                    </a:lnTo>
                    <a:lnTo>
                      <a:pt x="22" y="112"/>
                    </a:lnTo>
                    <a:lnTo>
                      <a:pt x="19" y="118"/>
                    </a:lnTo>
                    <a:lnTo>
                      <a:pt x="19" y="123"/>
                    </a:lnTo>
                    <a:lnTo>
                      <a:pt x="22" y="127"/>
                    </a:lnTo>
                    <a:lnTo>
                      <a:pt x="24" y="128"/>
                    </a:lnTo>
                    <a:lnTo>
                      <a:pt x="30" y="127"/>
                    </a:lnTo>
                    <a:lnTo>
                      <a:pt x="35" y="125"/>
                    </a:lnTo>
                    <a:lnTo>
                      <a:pt x="43" y="122"/>
                    </a:lnTo>
                    <a:lnTo>
                      <a:pt x="48" y="118"/>
                    </a:lnTo>
                    <a:lnTo>
                      <a:pt x="52" y="116"/>
                    </a:lnTo>
                    <a:lnTo>
                      <a:pt x="56" y="113"/>
                    </a:lnTo>
                    <a:lnTo>
                      <a:pt x="58" y="113"/>
                    </a:lnTo>
                    <a:lnTo>
                      <a:pt x="56" y="114"/>
                    </a:lnTo>
                    <a:lnTo>
                      <a:pt x="54" y="118"/>
                    </a:lnTo>
                    <a:lnTo>
                      <a:pt x="50" y="122"/>
                    </a:lnTo>
                    <a:lnTo>
                      <a:pt x="48" y="130"/>
                    </a:lnTo>
                    <a:lnTo>
                      <a:pt x="47" y="135"/>
                    </a:lnTo>
                    <a:lnTo>
                      <a:pt x="44" y="141"/>
                    </a:lnTo>
                    <a:lnTo>
                      <a:pt x="45" y="145"/>
                    </a:lnTo>
                    <a:lnTo>
                      <a:pt x="48" y="147"/>
                    </a:lnTo>
                    <a:lnTo>
                      <a:pt x="52" y="147"/>
                    </a:lnTo>
                    <a:lnTo>
                      <a:pt x="58" y="145"/>
                    </a:lnTo>
                    <a:lnTo>
                      <a:pt x="62" y="141"/>
                    </a:lnTo>
                    <a:lnTo>
                      <a:pt x="67" y="139"/>
                    </a:lnTo>
                    <a:lnTo>
                      <a:pt x="71" y="135"/>
                    </a:lnTo>
                    <a:lnTo>
                      <a:pt x="75" y="134"/>
                    </a:lnTo>
                    <a:lnTo>
                      <a:pt x="78" y="131"/>
                    </a:lnTo>
                    <a:lnTo>
                      <a:pt x="79" y="131"/>
                    </a:lnTo>
                    <a:lnTo>
                      <a:pt x="79" y="134"/>
                    </a:lnTo>
                    <a:lnTo>
                      <a:pt x="82" y="139"/>
                    </a:lnTo>
                    <a:lnTo>
                      <a:pt x="82" y="143"/>
                    </a:lnTo>
                    <a:lnTo>
                      <a:pt x="83" y="147"/>
                    </a:lnTo>
                    <a:lnTo>
                      <a:pt x="84" y="150"/>
                    </a:lnTo>
                    <a:lnTo>
                      <a:pt x="86" y="154"/>
                    </a:lnTo>
                    <a:lnTo>
                      <a:pt x="87" y="156"/>
                    </a:lnTo>
                    <a:lnTo>
                      <a:pt x="92" y="152"/>
                    </a:lnTo>
                    <a:lnTo>
                      <a:pt x="95" y="148"/>
                    </a:lnTo>
                    <a:lnTo>
                      <a:pt x="99" y="145"/>
                    </a:lnTo>
                    <a:lnTo>
                      <a:pt x="101" y="141"/>
                    </a:lnTo>
                    <a:lnTo>
                      <a:pt x="105" y="138"/>
                    </a:lnTo>
                    <a:lnTo>
                      <a:pt x="108" y="132"/>
                    </a:lnTo>
                    <a:lnTo>
                      <a:pt x="112" y="127"/>
                    </a:lnTo>
                    <a:lnTo>
                      <a:pt x="114" y="123"/>
                    </a:lnTo>
                    <a:lnTo>
                      <a:pt x="118" y="119"/>
                    </a:lnTo>
                    <a:lnTo>
                      <a:pt x="122" y="114"/>
                    </a:lnTo>
                    <a:lnTo>
                      <a:pt x="125" y="113"/>
                    </a:lnTo>
                    <a:lnTo>
                      <a:pt x="125" y="114"/>
                    </a:lnTo>
                    <a:lnTo>
                      <a:pt x="127" y="121"/>
                    </a:lnTo>
                    <a:lnTo>
                      <a:pt x="127" y="125"/>
                    </a:lnTo>
                    <a:lnTo>
                      <a:pt x="129" y="130"/>
                    </a:lnTo>
                    <a:lnTo>
                      <a:pt x="131" y="134"/>
                    </a:lnTo>
                    <a:lnTo>
                      <a:pt x="134" y="139"/>
                    </a:lnTo>
                    <a:lnTo>
                      <a:pt x="135" y="144"/>
                    </a:lnTo>
                    <a:lnTo>
                      <a:pt x="138" y="148"/>
                    </a:lnTo>
                    <a:lnTo>
                      <a:pt x="140" y="153"/>
                    </a:lnTo>
                    <a:lnTo>
                      <a:pt x="144" y="157"/>
                    </a:lnTo>
                    <a:lnTo>
                      <a:pt x="151" y="162"/>
                    </a:lnTo>
                    <a:lnTo>
                      <a:pt x="159" y="166"/>
                    </a:lnTo>
                    <a:lnTo>
                      <a:pt x="161" y="165"/>
                    </a:lnTo>
                    <a:lnTo>
                      <a:pt x="165" y="163"/>
                    </a:lnTo>
                    <a:lnTo>
                      <a:pt x="170" y="163"/>
                    </a:lnTo>
                    <a:lnTo>
                      <a:pt x="174" y="162"/>
                    </a:lnTo>
                    <a:lnTo>
                      <a:pt x="180" y="161"/>
                    </a:lnTo>
                    <a:lnTo>
                      <a:pt x="184" y="160"/>
                    </a:lnTo>
                    <a:lnTo>
                      <a:pt x="189" y="158"/>
                    </a:lnTo>
                    <a:lnTo>
                      <a:pt x="193" y="158"/>
                    </a:lnTo>
                    <a:lnTo>
                      <a:pt x="197" y="156"/>
                    </a:lnTo>
                    <a:lnTo>
                      <a:pt x="201" y="154"/>
                    </a:lnTo>
                    <a:lnTo>
                      <a:pt x="204" y="153"/>
                    </a:lnTo>
                    <a:lnTo>
                      <a:pt x="210" y="153"/>
                    </a:lnTo>
                    <a:lnTo>
                      <a:pt x="216" y="150"/>
                    </a:lnTo>
                    <a:lnTo>
                      <a:pt x="223" y="150"/>
                    </a:lnTo>
                    <a:lnTo>
                      <a:pt x="228" y="148"/>
                    </a:lnTo>
                    <a:lnTo>
                      <a:pt x="236" y="147"/>
                    </a:lnTo>
                    <a:lnTo>
                      <a:pt x="244" y="143"/>
                    </a:lnTo>
                    <a:lnTo>
                      <a:pt x="253" y="140"/>
                    </a:lnTo>
                    <a:lnTo>
                      <a:pt x="259" y="135"/>
                    </a:lnTo>
                    <a:lnTo>
                      <a:pt x="266" y="130"/>
                    </a:lnTo>
                    <a:lnTo>
                      <a:pt x="270" y="125"/>
                    </a:lnTo>
                    <a:lnTo>
                      <a:pt x="272" y="119"/>
                    </a:lnTo>
                    <a:lnTo>
                      <a:pt x="271" y="116"/>
                    </a:lnTo>
                    <a:lnTo>
                      <a:pt x="270" y="112"/>
                    </a:lnTo>
                    <a:lnTo>
                      <a:pt x="268" y="106"/>
                    </a:lnTo>
                    <a:lnTo>
                      <a:pt x="266" y="100"/>
                    </a:lnTo>
                    <a:lnTo>
                      <a:pt x="262" y="93"/>
                    </a:lnTo>
                    <a:lnTo>
                      <a:pt x="259" y="87"/>
                    </a:lnTo>
                    <a:lnTo>
                      <a:pt x="255" y="79"/>
                    </a:lnTo>
                    <a:lnTo>
                      <a:pt x="251" y="71"/>
                    </a:lnTo>
                    <a:lnTo>
                      <a:pt x="246" y="64"/>
                    </a:lnTo>
                    <a:lnTo>
                      <a:pt x="241" y="56"/>
                    </a:lnTo>
                    <a:lnTo>
                      <a:pt x="236" y="48"/>
                    </a:lnTo>
                    <a:lnTo>
                      <a:pt x="229" y="42"/>
                    </a:lnTo>
                    <a:lnTo>
                      <a:pt x="224" y="34"/>
                    </a:lnTo>
                    <a:lnTo>
                      <a:pt x="217" y="27"/>
                    </a:lnTo>
                    <a:lnTo>
                      <a:pt x="210" y="21"/>
                    </a:lnTo>
                    <a:lnTo>
                      <a:pt x="204" y="16"/>
                    </a:lnTo>
                    <a:lnTo>
                      <a:pt x="199" y="15"/>
                    </a:lnTo>
                    <a:lnTo>
                      <a:pt x="195" y="12"/>
                    </a:lnTo>
                    <a:lnTo>
                      <a:pt x="189" y="9"/>
                    </a:lnTo>
                    <a:lnTo>
                      <a:pt x="184" y="7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8" y="3"/>
                    </a:lnTo>
                    <a:lnTo>
                      <a:pt x="168" y="3"/>
                    </a:lnTo>
                    <a:lnTo>
                      <a:pt x="168" y="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751440" y="4432320"/>
                <a:ext cx="173520" cy="105480"/>
              </a:xfrm>
              <a:custGeom>
                <a:avLst/>
                <a:gdLst/>
                <a:ahLst/>
                <a:rect l="l" t="t" r="r" b="b"/>
                <a:pathLst>
                  <a:path w="282" h="172">
                    <a:moveTo>
                      <a:pt x="218" y="1"/>
                    </a:moveTo>
                    <a:lnTo>
                      <a:pt x="219" y="1"/>
                    </a:lnTo>
                    <a:lnTo>
                      <a:pt x="225" y="2"/>
                    </a:lnTo>
                    <a:lnTo>
                      <a:pt x="227" y="2"/>
                    </a:lnTo>
                    <a:lnTo>
                      <a:pt x="231" y="5"/>
                    </a:lnTo>
                    <a:lnTo>
                      <a:pt x="236" y="6"/>
                    </a:lnTo>
                    <a:lnTo>
                      <a:pt x="240" y="9"/>
                    </a:lnTo>
                    <a:lnTo>
                      <a:pt x="244" y="11"/>
                    </a:lnTo>
                    <a:lnTo>
                      <a:pt x="248" y="16"/>
                    </a:lnTo>
                    <a:lnTo>
                      <a:pt x="251" y="22"/>
                    </a:lnTo>
                    <a:lnTo>
                      <a:pt x="255" y="28"/>
                    </a:lnTo>
                    <a:lnTo>
                      <a:pt x="257" y="35"/>
                    </a:lnTo>
                    <a:lnTo>
                      <a:pt x="259" y="45"/>
                    </a:lnTo>
                    <a:lnTo>
                      <a:pt x="260" y="54"/>
                    </a:lnTo>
                    <a:lnTo>
                      <a:pt x="261" y="67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61" y="77"/>
                    </a:lnTo>
                    <a:lnTo>
                      <a:pt x="261" y="81"/>
                    </a:lnTo>
                    <a:lnTo>
                      <a:pt x="262" y="85"/>
                    </a:lnTo>
                    <a:lnTo>
                      <a:pt x="264" y="92"/>
                    </a:lnTo>
                    <a:lnTo>
                      <a:pt x="265" y="97"/>
                    </a:lnTo>
                    <a:lnTo>
                      <a:pt x="268" y="102"/>
                    </a:lnTo>
                    <a:lnTo>
                      <a:pt x="269" y="108"/>
                    </a:lnTo>
                    <a:lnTo>
                      <a:pt x="270" y="114"/>
                    </a:lnTo>
                    <a:lnTo>
                      <a:pt x="273" y="120"/>
                    </a:lnTo>
                    <a:lnTo>
                      <a:pt x="274" y="125"/>
                    </a:lnTo>
                    <a:lnTo>
                      <a:pt x="277" y="129"/>
                    </a:lnTo>
                    <a:lnTo>
                      <a:pt x="278" y="134"/>
                    </a:lnTo>
                    <a:lnTo>
                      <a:pt x="279" y="137"/>
                    </a:lnTo>
                    <a:lnTo>
                      <a:pt x="282" y="141"/>
                    </a:lnTo>
                    <a:lnTo>
                      <a:pt x="282" y="143"/>
                    </a:lnTo>
                    <a:lnTo>
                      <a:pt x="279" y="146"/>
                    </a:lnTo>
                    <a:lnTo>
                      <a:pt x="275" y="149"/>
                    </a:lnTo>
                    <a:lnTo>
                      <a:pt x="269" y="151"/>
                    </a:lnTo>
                    <a:lnTo>
                      <a:pt x="264" y="149"/>
                    </a:lnTo>
                    <a:lnTo>
                      <a:pt x="259" y="147"/>
                    </a:lnTo>
                    <a:lnTo>
                      <a:pt x="253" y="145"/>
                    </a:lnTo>
                    <a:lnTo>
                      <a:pt x="248" y="142"/>
                    </a:lnTo>
                    <a:lnTo>
                      <a:pt x="242" y="137"/>
                    </a:lnTo>
                    <a:lnTo>
                      <a:pt x="236" y="130"/>
                    </a:lnTo>
                    <a:lnTo>
                      <a:pt x="230" y="123"/>
                    </a:lnTo>
                    <a:lnTo>
                      <a:pt x="223" y="114"/>
                    </a:lnTo>
                    <a:lnTo>
                      <a:pt x="222" y="114"/>
                    </a:lnTo>
                    <a:lnTo>
                      <a:pt x="221" y="114"/>
                    </a:lnTo>
                    <a:lnTo>
                      <a:pt x="217" y="112"/>
                    </a:lnTo>
                    <a:lnTo>
                      <a:pt x="213" y="112"/>
                    </a:lnTo>
                    <a:lnTo>
                      <a:pt x="206" y="112"/>
                    </a:lnTo>
                    <a:lnTo>
                      <a:pt x="201" y="111"/>
                    </a:lnTo>
                    <a:lnTo>
                      <a:pt x="195" y="110"/>
                    </a:lnTo>
                    <a:lnTo>
                      <a:pt x="188" y="110"/>
                    </a:lnTo>
                    <a:lnTo>
                      <a:pt x="182" y="108"/>
                    </a:lnTo>
                    <a:lnTo>
                      <a:pt x="174" y="108"/>
                    </a:lnTo>
                    <a:lnTo>
                      <a:pt x="167" y="107"/>
                    </a:lnTo>
                    <a:lnTo>
                      <a:pt x="162" y="106"/>
                    </a:lnTo>
                    <a:lnTo>
                      <a:pt x="157" y="105"/>
                    </a:lnTo>
                    <a:lnTo>
                      <a:pt x="153" y="105"/>
                    </a:lnTo>
                    <a:lnTo>
                      <a:pt x="149" y="102"/>
                    </a:lnTo>
                    <a:lnTo>
                      <a:pt x="148" y="102"/>
                    </a:lnTo>
                    <a:lnTo>
                      <a:pt x="148" y="102"/>
                    </a:lnTo>
                    <a:lnTo>
                      <a:pt x="145" y="105"/>
                    </a:lnTo>
                    <a:lnTo>
                      <a:pt x="142" y="107"/>
                    </a:lnTo>
                    <a:lnTo>
                      <a:pt x="140" y="112"/>
                    </a:lnTo>
                    <a:lnTo>
                      <a:pt x="136" y="116"/>
                    </a:lnTo>
                    <a:lnTo>
                      <a:pt x="132" y="121"/>
                    </a:lnTo>
                    <a:lnTo>
                      <a:pt x="128" y="128"/>
                    </a:lnTo>
                    <a:lnTo>
                      <a:pt x="124" y="136"/>
                    </a:lnTo>
                    <a:lnTo>
                      <a:pt x="118" y="141"/>
                    </a:lnTo>
                    <a:lnTo>
                      <a:pt x="114" y="147"/>
                    </a:lnTo>
                    <a:lnTo>
                      <a:pt x="108" y="152"/>
                    </a:lnTo>
                    <a:lnTo>
                      <a:pt x="105" y="159"/>
                    </a:lnTo>
                    <a:lnTo>
                      <a:pt x="99" y="163"/>
                    </a:lnTo>
                    <a:lnTo>
                      <a:pt x="97" y="167"/>
                    </a:lnTo>
                    <a:lnTo>
                      <a:pt x="94" y="169"/>
                    </a:lnTo>
                    <a:lnTo>
                      <a:pt x="93" y="172"/>
                    </a:lnTo>
                    <a:lnTo>
                      <a:pt x="89" y="171"/>
                    </a:lnTo>
                    <a:lnTo>
                      <a:pt x="88" y="168"/>
                    </a:lnTo>
                    <a:lnTo>
                      <a:pt x="88" y="161"/>
                    </a:lnTo>
                    <a:lnTo>
                      <a:pt x="89" y="155"/>
                    </a:lnTo>
                    <a:lnTo>
                      <a:pt x="89" y="149"/>
                    </a:lnTo>
                    <a:lnTo>
                      <a:pt x="90" y="142"/>
                    </a:lnTo>
                    <a:lnTo>
                      <a:pt x="92" y="138"/>
                    </a:lnTo>
                    <a:lnTo>
                      <a:pt x="92" y="137"/>
                    </a:lnTo>
                    <a:lnTo>
                      <a:pt x="90" y="137"/>
                    </a:lnTo>
                    <a:lnTo>
                      <a:pt x="88" y="141"/>
                    </a:lnTo>
                    <a:lnTo>
                      <a:pt x="84" y="146"/>
                    </a:lnTo>
                    <a:lnTo>
                      <a:pt x="80" y="152"/>
                    </a:lnTo>
                    <a:lnTo>
                      <a:pt x="75" y="158"/>
                    </a:lnTo>
                    <a:lnTo>
                      <a:pt x="69" y="161"/>
                    </a:lnTo>
                    <a:lnTo>
                      <a:pt x="64" y="165"/>
                    </a:lnTo>
                    <a:lnTo>
                      <a:pt x="63" y="168"/>
                    </a:lnTo>
                    <a:lnTo>
                      <a:pt x="60" y="167"/>
                    </a:lnTo>
                    <a:lnTo>
                      <a:pt x="60" y="164"/>
                    </a:lnTo>
                    <a:lnTo>
                      <a:pt x="60" y="158"/>
                    </a:lnTo>
                    <a:lnTo>
                      <a:pt x="63" y="152"/>
                    </a:lnTo>
                    <a:lnTo>
                      <a:pt x="64" y="145"/>
                    </a:lnTo>
                    <a:lnTo>
                      <a:pt x="65" y="139"/>
                    </a:lnTo>
                    <a:lnTo>
                      <a:pt x="67" y="136"/>
                    </a:lnTo>
                    <a:lnTo>
                      <a:pt x="68" y="134"/>
                    </a:lnTo>
                    <a:lnTo>
                      <a:pt x="34" y="165"/>
                    </a:lnTo>
                    <a:lnTo>
                      <a:pt x="41" y="129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3" y="149"/>
                    </a:lnTo>
                    <a:lnTo>
                      <a:pt x="5" y="142"/>
                    </a:lnTo>
                    <a:lnTo>
                      <a:pt x="11" y="137"/>
                    </a:lnTo>
                    <a:lnTo>
                      <a:pt x="15" y="129"/>
                    </a:lnTo>
                    <a:lnTo>
                      <a:pt x="21" y="120"/>
                    </a:lnTo>
                    <a:lnTo>
                      <a:pt x="28" y="111"/>
                    </a:lnTo>
                    <a:lnTo>
                      <a:pt x="34" y="102"/>
                    </a:lnTo>
                    <a:lnTo>
                      <a:pt x="41" y="92"/>
                    </a:lnTo>
                    <a:lnTo>
                      <a:pt x="47" y="83"/>
                    </a:lnTo>
                    <a:lnTo>
                      <a:pt x="54" y="73"/>
                    </a:lnTo>
                    <a:lnTo>
                      <a:pt x="60" y="64"/>
                    </a:lnTo>
                    <a:lnTo>
                      <a:pt x="65" y="57"/>
                    </a:lnTo>
                    <a:lnTo>
                      <a:pt x="71" y="50"/>
                    </a:lnTo>
                    <a:lnTo>
                      <a:pt x="76" y="46"/>
                    </a:lnTo>
                    <a:lnTo>
                      <a:pt x="80" y="44"/>
                    </a:lnTo>
                    <a:lnTo>
                      <a:pt x="84" y="40"/>
                    </a:lnTo>
                    <a:lnTo>
                      <a:pt x="90" y="35"/>
                    </a:lnTo>
                    <a:lnTo>
                      <a:pt x="97" y="29"/>
                    </a:lnTo>
                    <a:lnTo>
                      <a:pt x="105" y="26"/>
                    </a:lnTo>
                    <a:lnTo>
                      <a:pt x="111" y="20"/>
                    </a:lnTo>
                    <a:lnTo>
                      <a:pt x="118" y="14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6" y="5"/>
                    </a:lnTo>
                    <a:lnTo>
                      <a:pt x="140" y="4"/>
                    </a:lnTo>
                    <a:lnTo>
                      <a:pt x="145" y="2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2" y="1"/>
                    </a:lnTo>
                    <a:lnTo>
                      <a:pt x="188" y="0"/>
                    </a:lnTo>
                    <a:lnTo>
                      <a:pt x="195" y="0"/>
                    </a:lnTo>
                    <a:lnTo>
                      <a:pt x="201" y="0"/>
                    </a:lnTo>
                    <a:lnTo>
                      <a:pt x="206" y="1"/>
                    </a:lnTo>
                    <a:lnTo>
                      <a:pt x="210" y="1"/>
                    </a:lnTo>
                    <a:lnTo>
                      <a:pt x="214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8" y="1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061760" y="419220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55" y="0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4" y="8"/>
                    </a:lnTo>
                    <a:lnTo>
                      <a:pt x="65" y="12"/>
                    </a:lnTo>
                    <a:lnTo>
                      <a:pt x="64" y="18"/>
                    </a:lnTo>
                    <a:lnTo>
                      <a:pt x="59" y="27"/>
                    </a:lnTo>
                    <a:lnTo>
                      <a:pt x="52" y="35"/>
                    </a:lnTo>
                    <a:lnTo>
                      <a:pt x="44" y="43"/>
                    </a:lnTo>
                    <a:lnTo>
                      <a:pt x="37" y="49"/>
                    </a:lnTo>
                    <a:lnTo>
                      <a:pt x="31" y="56"/>
                    </a:lnTo>
                    <a:lnTo>
                      <a:pt x="29" y="56"/>
                    </a:lnTo>
                    <a:lnTo>
                      <a:pt x="25" y="57"/>
                    </a:lnTo>
                    <a:lnTo>
                      <a:pt x="20" y="60"/>
                    </a:lnTo>
                    <a:lnTo>
                      <a:pt x="16" y="62"/>
                    </a:lnTo>
                    <a:lnTo>
                      <a:pt x="10" y="63"/>
                    </a:lnTo>
                    <a:lnTo>
                      <a:pt x="7" y="65"/>
                    </a:lnTo>
                    <a:lnTo>
                      <a:pt x="3" y="6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6"/>
                    </a:lnTo>
                    <a:lnTo>
                      <a:pt x="9" y="49"/>
                    </a:lnTo>
                    <a:lnTo>
                      <a:pt x="17" y="44"/>
                    </a:lnTo>
                    <a:lnTo>
                      <a:pt x="23" y="36"/>
                    </a:lnTo>
                    <a:lnTo>
                      <a:pt x="30" y="30"/>
                    </a:lnTo>
                    <a:lnTo>
                      <a:pt x="35" y="22"/>
                    </a:lnTo>
                    <a:lnTo>
                      <a:pt x="42" y="15"/>
                    </a:lnTo>
                    <a:lnTo>
                      <a:pt x="48" y="8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18720" y="4197240"/>
                <a:ext cx="209880" cy="291600"/>
              </a:xfrm>
              <a:custGeom>
                <a:avLst/>
                <a:gdLst/>
                <a:ahLst/>
                <a:rect l="l" t="t" r="r" b="b"/>
                <a:pathLst>
                  <a:path w="342" h="478">
                    <a:moveTo>
                      <a:pt x="287" y="0"/>
                    </a:moveTo>
                    <a:lnTo>
                      <a:pt x="291" y="3"/>
                    </a:lnTo>
                    <a:lnTo>
                      <a:pt x="295" y="8"/>
                    </a:lnTo>
                    <a:lnTo>
                      <a:pt x="298" y="12"/>
                    </a:lnTo>
                    <a:lnTo>
                      <a:pt x="300" y="17"/>
                    </a:lnTo>
                    <a:lnTo>
                      <a:pt x="302" y="22"/>
                    </a:lnTo>
                    <a:lnTo>
                      <a:pt x="302" y="27"/>
                    </a:lnTo>
                    <a:lnTo>
                      <a:pt x="302" y="34"/>
                    </a:lnTo>
                    <a:lnTo>
                      <a:pt x="303" y="40"/>
                    </a:lnTo>
                    <a:lnTo>
                      <a:pt x="302" y="47"/>
                    </a:lnTo>
                    <a:lnTo>
                      <a:pt x="302" y="53"/>
                    </a:lnTo>
                    <a:lnTo>
                      <a:pt x="302" y="60"/>
                    </a:lnTo>
                    <a:lnTo>
                      <a:pt x="302" y="66"/>
                    </a:lnTo>
                    <a:lnTo>
                      <a:pt x="302" y="73"/>
                    </a:lnTo>
                    <a:lnTo>
                      <a:pt x="302" y="79"/>
                    </a:lnTo>
                    <a:lnTo>
                      <a:pt x="303" y="84"/>
                    </a:lnTo>
                    <a:lnTo>
                      <a:pt x="306" y="91"/>
                    </a:lnTo>
                    <a:lnTo>
                      <a:pt x="306" y="101"/>
                    </a:lnTo>
                    <a:lnTo>
                      <a:pt x="307" y="111"/>
                    </a:lnTo>
                    <a:lnTo>
                      <a:pt x="307" y="123"/>
                    </a:lnTo>
                    <a:lnTo>
                      <a:pt x="310" y="135"/>
                    </a:lnTo>
                    <a:lnTo>
                      <a:pt x="310" y="145"/>
                    </a:lnTo>
                    <a:lnTo>
                      <a:pt x="311" y="157"/>
                    </a:lnTo>
                    <a:lnTo>
                      <a:pt x="311" y="168"/>
                    </a:lnTo>
                    <a:lnTo>
                      <a:pt x="312" y="180"/>
                    </a:lnTo>
                    <a:lnTo>
                      <a:pt x="312" y="190"/>
                    </a:lnTo>
                    <a:lnTo>
                      <a:pt x="315" y="202"/>
                    </a:lnTo>
                    <a:lnTo>
                      <a:pt x="315" y="214"/>
                    </a:lnTo>
                    <a:lnTo>
                      <a:pt x="316" y="225"/>
                    </a:lnTo>
                    <a:lnTo>
                      <a:pt x="316" y="237"/>
                    </a:lnTo>
                    <a:lnTo>
                      <a:pt x="316" y="249"/>
                    </a:lnTo>
                    <a:lnTo>
                      <a:pt x="316" y="260"/>
                    </a:lnTo>
                    <a:lnTo>
                      <a:pt x="316" y="272"/>
                    </a:lnTo>
                    <a:lnTo>
                      <a:pt x="312" y="275"/>
                    </a:lnTo>
                    <a:lnTo>
                      <a:pt x="307" y="278"/>
                    </a:lnTo>
                    <a:lnTo>
                      <a:pt x="302" y="280"/>
                    </a:lnTo>
                    <a:lnTo>
                      <a:pt x="298" y="282"/>
                    </a:lnTo>
                    <a:lnTo>
                      <a:pt x="291" y="284"/>
                    </a:lnTo>
                    <a:lnTo>
                      <a:pt x="286" y="286"/>
                    </a:lnTo>
                    <a:lnTo>
                      <a:pt x="281" y="288"/>
                    </a:lnTo>
                    <a:lnTo>
                      <a:pt x="276" y="291"/>
                    </a:lnTo>
                    <a:lnTo>
                      <a:pt x="280" y="291"/>
                    </a:lnTo>
                    <a:lnTo>
                      <a:pt x="285" y="293"/>
                    </a:lnTo>
                    <a:lnTo>
                      <a:pt x="289" y="293"/>
                    </a:lnTo>
                    <a:lnTo>
                      <a:pt x="294" y="294"/>
                    </a:lnTo>
                    <a:lnTo>
                      <a:pt x="298" y="294"/>
                    </a:lnTo>
                    <a:lnTo>
                      <a:pt x="302" y="295"/>
                    </a:lnTo>
                    <a:lnTo>
                      <a:pt x="307" y="295"/>
                    </a:lnTo>
                    <a:lnTo>
                      <a:pt x="311" y="298"/>
                    </a:lnTo>
                    <a:lnTo>
                      <a:pt x="319" y="299"/>
                    </a:lnTo>
                    <a:lnTo>
                      <a:pt x="328" y="304"/>
                    </a:lnTo>
                    <a:lnTo>
                      <a:pt x="330" y="307"/>
                    </a:lnTo>
                    <a:lnTo>
                      <a:pt x="334" y="310"/>
                    </a:lnTo>
                    <a:lnTo>
                      <a:pt x="338" y="313"/>
                    </a:lnTo>
                    <a:lnTo>
                      <a:pt x="342" y="319"/>
                    </a:lnTo>
                    <a:lnTo>
                      <a:pt x="334" y="324"/>
                    </a:lnTo>
                    <a:lnTo>
                      <a:pt x="327" y="330"/>
                    </a:lnTo>
                    <a:lnTo>
                      <a:pt x="319" y="334"/>
                    </a:lnTo>
                    <a:lnTo>
                      <a:pt x="311" y="339"/>
                    </a:lnTo>
                    <a:lnTo>
                      <a:pt x="303" y="342"/>
                    </a:lnTo>
                    <a:lnTo>
                      <a:pt x="294" y="346"/>
                    </a:lnTo>
                    <a:lnTo>
                      <a:pt x="286" y="350"/>
                    </a:lnTo>
                    <a:lnTo>
                      <a:pt x="278" y="352"/>
                    </a:lnTo>
                    <a:lnTo>
                      <a:pt x="268" y="355"/>
                    </a:lnTo>
                    <a:lnTo>
                      <a:pt x="260" y="357"/>
                    </a:lnTo>
                    <a:lnTo>
                      <a:pt x="251" y="360"/>
                    </a:lnTo>
                    <a:lnTo>
                      <a:pt x="243" y="364"/>
                    </a:lnTo>
                    <a:lnTo>
                      <a:pt x="235" y="367"/>
                    </a:lnTo>
                    <a:lnTo>
                      <a:pt x="227" y="372"/>
                    </a:lnTo>
                    <a:lnTo>
                      <a:pt x="218" y="376"/>
                    </a:lnTo>
                    <a:lnTo>
                      <a:pt x="212" y="382"/>
                    </a:lnTo>
                    <a:lnTo>
                      <a:pt x="201" y="387"/>
                    </a:lnTo>
                    <a:lnTo>
                      <a:pt x="192" y="394"/>
                    </a:lnTo>
                    <a:lnTo>
                      <a:pt x="183" y="399"/>
                    </a:lnTo>
                    <a:lnTo>
                      <a:pt x="177" y="405"/>
                    </a:lnTo>
                    <a:lnTo>
                      <a:pt x="169" y="412"/>
                    </a:lnTo>
                    <a:lnTo>
                      <a:pt x="161" y="418"/>
                    </a:lnTo>
                    <a:lnTo>
                      <a:pt x="153" y="425"/>
                    </a:lnTo>
                    <a:lnTo>
                      <a:pt x="147" y="430"/>
                    </a:lnTo>
                    <a:lnTo>
                      <a:pt x="137" y="435"/>
                    </a:lnTo>
                    <a:lnTo>
                      <a:pt x="128" y="442"/>
                    </a:lnTo>
                    <a:lnTo>
                      <a:pt x="118" y="447"/>
                    </a:lnTo>
                    <a:lnTo>
                      <a:pt x="107" y="452"/>
                    </a:lnTo>
                    <a:lnTo>
                      <a:pt x="94" y="456"/>
                    </a:lnTo>
                    <a:lnTo>
                      <a:pt x="81" y="461"/>
                    </a:lnTo>
                    <a:lnTo>
                      <a:pt x="64" y="464"/>
                    </a:lnTo>
                    <a:lnTo>
                      <a:pt x="47" y="468"/>
                    </a:lnTo>
                    <a:lnTo>
                      <a:pt x="42" y="469"/>
                    </a:lnTo>
                    <a:lnTo>
                      <a:pt x="36" y="471"/>
                    </a:lnTo>
                    <a:lnTo>
                      <a:pt x="28" y="475"/>
                    </a:lnTo>
                    <a:lnTo>
                      <a:pt x="24" y="478"/>
                    </a:lnTo>
                    <a:lnTo>
                      <a:pt x="17" y="477"/>
                    </a:lnTo>
                    <a:lnTo>
                      <a:pt x="12" y="477"/>
                    </a:lnTo>
                    <a:lnTo>
                      <a:pt x="4" y="475"/>
                    </a:lnTo>
                    <a:lnTo>
                      <a:pt x="0" y="475"/>
                    </a:lnTo>
                    <a:lnTo>
                      <a:pt x="8" y="468"/>
                    </a:lnTo>
                    <a:lnTo>
                      <a:pt x="16" y="461"/>
                    </a:lnTo>
                    <a:lnTo>
                      <a:pt x="24" y="455"/>
                    </a:lnTo>
                    <a:lnTo>
                      <a:pt x="33" y="451"/>
                    </a:lnTo>
                    <a:lnTo>
                      <a:pt x="43" y="447"/>
                    </a:lnTo>
                    <a:lnTo>
                      <a:pt x="53" y="443"/>
                    </a:lnTo>
                    <a:lnTo>
                      <a:pt x="62" y="439"/>
                    </a:lnTo>
                    <a:lnTo>
                      <a:pt x="71" y="436"/>
                    </a:lnTo>
                    <a:lnTo>
                      <a:pt x="80" y="434"/>
                    </a:lnTo>
                    <a:lnTo>
                      <a:pt x="89" y="430"/>
                    </a:lnTo>
                    <a:lnTo>
                      <a:pt x="100" y="426"/>
                    </a:lnTo>
                    <a:lnTo>
                      <a:pt x="109" y="423"/>
                    </a:lnTo>
                    <a:lnTo>
                      <a:pt x="117" y="418"/>
                    </a:lnTo>
                    <a:lnTo>
                      <a:pt x="126" y="414"/>
                    </a:lnTo>
                    <a:lnTo>
                      <a:pt x="135" y="409"/>
                    </a:lnTo>
                    <a:lnTo>
                      <a:pt x="144" y="403"/>
                    </a:lnTo>
                    <a:lnTo>
                      <a:pt x="153" y="395"/>
                    </a:lnTo>
                    <a:lnTo>
                      <a:pt x="162" y="389"/>
                    </a:lnTo>
                    <a:lnTo>
                      <a:pt x="173" y="382"/>
                    </a:lnTo>
                    <a:lnTo>
                      <a:pt x="183" y="376"/>
                    </a:lnTo>
                    <a:lnTo>
                      <a:pt x="193" y="369"/>
                    </a:lnTo>
                    <a:lnTo>
                      <a:pt x="204" y="364"/>
                    </a:lnTo>
                    <a:lnTo>
                      <a:pt x="214" y="359"/>
                    </a:lnTo>
                    <a:lnTo>
                      <a:pt x="226" y="354"/>
                    </a:lnTo>
                    <a:lnTo>
                      <a:pt x="235" y="348"/>
                    </a:lnTo>
                    <a:lnTo>
                      <a:pt x="247" y="343"/>
                    </a:lnTo>
                    <a:lnTo>
                      <a:pt x="257" y="339"/>
                    </a:lnTo>
                    <a:lnTo>
                      <a:pt x="268" y="335"/>
                    </a:lnTo>
                    <a:lnTo>
                      <a:pt x="280" y="330"/>
                    </a:lnTo>
                    <a:lnTo>
                      <a:pt x="290" y="326"/>
                    </a:lnTo>
                    <a:lnTo>
                      <a:pt x="302" y="323"/>
                    </a:lnTo>
                    <a:lnTo>
                      <a:pt x="314" y="319"/>
                    </a:lnTo>
                    <a:lnTo>
                      <a:pt x="306" y="313"/>
                    </a:lnTo>
                    <a:lnTo>
                      <a:pt x="298" y="310"/>
                    </a:lnTo>
                    <a:lnTo>
                      <a:pt x="293" y="307"/>
                    </a:lnTo>
                    <a:lnTo>
                      <a:pt x="289" y="307"/>
                    </a:lnTo>
                    <a:lnTo>
                      <a:pt x="284" y="307"/>
                    </a:lnTo>
                    <a:lnTo>
                      <a:pt x="280" y="307"/>
                    </a:lnTo>
                    <a:lnTo>
                      <a:pt x="276" y="307"/>
                    </a:lnTo>
                    <a:lnTo>
                      <a:pt x="270" y="307"/>
                    </a:lnTo>
                    <a:lnTo>
                      <a:pt x="267" y="307"/>
                    </a:lnTo>
                    <a:lnTo>
                      <a:pt x="261" y="307"/>
                    </a:lnTo>
                    <a:lnTo>
                      <a:pt x="257" y="307"/>
                    </a:lnTo>
                    <a:lnTo>
                      <a:pt x="252" y="307"/>
                    </a:lnTo>
                    <a:lnTo>
                      <a:pt x="247" y="307"/>
                    </a:lnTo>
                    <a:lnTo>
                      <a:pt x="243" y="307"/>
                    </a:lnTo>
                    <a:lnTo>
                      <a:pt x="238" y="306"/>
                    </a:lnTo>
                    <a:lnTo>
                      <a:pt x="235" y="303"/>
                    </a:lnTo>
                    <a:lnTo>
                      <a:pt x="233" y="301"/>
                    </a:lnTo>
                    <a:lnTo>
                      <a:pt x="233" y="299"/>
                    </a:lnTo>
                    <a:lnTo>
                      <a:pt x="234" y="294"/>
                    </a:lnTo>
                    <a:lnTo>
                      <a:pt x="239" y="290"/>
                    </a:lnTo>
                    <a:lnTo>
                      <a:pt x="246" y="286"/>
                    </a:lnTo>
                    <a:lnTo>
                      <a:pt x="252" y="282"/>
                    </a:lnTo>
                    <a:lnTo>
                      <a:pt x="257" y="280"/>
                    </a:lnTo>
                    <a:lnTo>
                      <a:pt x="261" y="280"/>
                    </a:lnTo>
                    <a:lnTo>
                      <a:pt x="267" y="276"/>
                    </a:lnTo>
                    <a:lnTo>
                      <a:pt x="273" y="273"/>
                    </a:lnTo>
                    <a:lnTo>
                      <a:pt x="280" y="271"/>
                    </a:lnTo>
                    <a:lnTo>
                      <a:pt x="287" y="268"/>
                    </a:lnTo>
                    <a:lnTo>
                      <a:pt x="294" y="264"/>
                    </a:lnTo>
                    <a:lnTo>
                      <a:pt x="298" y="259"/>
                    </a:lnTo>
                    <a:lnTo>
                      <a:pt x="298" y="255"/>
                    </a:lnTo>
                    <a:lnTo>
                      <a:pt x="299" y="253"/>
                    </a:lnTo>
                    <a:lnTo>
                      <a:pt x="298" y="247"/>
                    </a:lnTo>
                    <a:lnTo>
                      <a:pt x="298" y="244"/>
                    </a:lnTo>
                    <a:lnTo>
                      <a:pt x="295" y="228"/>
                    </a:lnTo>
                    <a:lnTo>
                      <a:pt x="294" y="214"/>
                    </a:lnTo>
                    <a:lnTo>
                      <a:pt x="293" y="200"/>
                    </a:lnTo>
                    <a:lnTo>
                      <a:pt x="291" y="185"/>
                    </a:lnTo>
                    <a:lnTo>
                      <a:pt x="290" y="171"/>
                    </a:lnTo>
                    <a:lnTo>
                      <a:pt x="289" y="157"/>
                    </a:lnTo>
                    <a:lnTo>
                      <a:pt x="287" y="143"/>
                    </a:lnTo>
                    <a:lnTo>
                      <a:pt x="286" y="128"/>
                    </a:lnTo>
                    <a:lnTo>
                      <a:pt x="284" y="114"/>
                    </a:lnTo>
                    <a:lnTo>
                      <a:pt x="284" y="100"/>
                    </a:lnTo>
                    <a:lnTo>
                      <a:pt x="282" y="86"/>
                    </a:lnTo>
                    <a:lnTo>
                      <a:pt x="282" y="71"/>
                    </a:lnTo>
                    <a:lnTo>
                      <a:pt x="280" y="57"/>
                    </a:lnTo>
                    <a:lnTo>
                      <a:pt x="280" y="43"/>
                    </a:lnTo>
                    <a:lnTo>
                      <a:pt x="280" y="27"/>
                    </a:lnTo>
                    <a:lnTo>
                      <a:pt x="280" y="13"/>
                    </a:lnTo>
                    <a:lnTo>
                      <a:pt x="284" y="7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45800" y="4510800"/>
                <a:ext cx="16920" cy="464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6" y="0"/>
                    </a:moveTo>
                    <a:lnTo>
                      <a:pt x="11" y="1"/>
                    </a:lnTo>
                    <a:lnTo>
                      <a:pt x="15" y="4"/>
                    </a:lnTo>
                    <a:lnTo>
                      <a:pt x="19" y="8"/>
                    </a:lnTo>
                    <a:lnTo>
                      <a:pt x="23" y="11"/>
                    </a:lnTo>
                    <a:lnTo>
                      <a:pt x="26" y="15"/>
                    </a:lnTo>
                    <a:lnTo>
                      <a:pt x="27" y="21"/>
                    </a:lnTo>
                    <a:lnTo>
                      <a:pt x="28" y="26"/>
                    </a:lnTo>
                    <a:lnTo>
                      <a:pt x="30" y="32"/>
                    </a:lnTo>
                    <a:lnTo>
                      <a:pt x="28" y="37"/>
                    </a:lnTo>
                    <a:lnTo>
                      <a:pt x="28" y="44"/>
                    </a:lnTo>
                    <a:lnTo>
                      <a:pt x="27" y="49"/>
                    </a:lnTo>
                    <a:lnTo>
                      <a:pt x="27" y="55"/>
                    </a:lnTo>
                    <a:lnTo>
                      <a:pt x="24" y="59"/>
                    </a:lnTo>
                    <a:lnTo>
                      <a:pt x="23" y="65"/>
                    </a:lnTo>
                    <a:lnTo>
                      <a:pt x="20" y="70"/>
                    </a:lnTo>
                    <a:lnTo>
                      <a:pt x="19" y="74"/>
                    </a:lnTo>
                    <a:lnTo>
                      <a:pt x="14" y="74"/>
                    </a:lnTo>
                    <a:lnTo>
                      <a:pt x="10" y="75"/>
                    </a:lnTo>
                    <a:lnTo>
                      <a:pt x="5" y="75"/>
                    </a:lnTo>
                    <a:lnTo>
                      <a:pt x="2" y="78"/>
                    </a:lnTo>
                    <a:lnTo>
                      <a:pt x="2" y="72"/>
                    </a:lnTo>
                    <a:lnTo>
                      <a:pt x="2" y="67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2" y="53"/>
                    </a:lnTo>
                    <a:lnTo>
                      <a:pt x="3" y="49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5" y="22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98920" y="4195080"/>
                <a:ext cx="376200" cy="423360"/>
              </a:xfrm>
              <a:custGeom>
                <a:avLst/>
                <a:gdLst/>
                <a:ahLst/>
                <a:rect l="l" t="t" r="r" b="b"/>
                <a:pathLst>
                  <a:path w="616" h="690">
                    <a:moveTo>
                      <a:pt x="69" y="11"/>
                    </a:moveTo>
                    <a:lnTo>
                      <a:pt x="74" y="13"/>
                    </a:lnTo>
                    <a:lnTo>
                      <a:pt x="78" y="14"/>
                    </a:lnTo>
                    <a:lnTo>
                      <a:pt x="80" y="17"/>
                    </a:lnTo>
                    <a:lnTo>
                      <a:pt x="82" y="21"/>
                    </a:lnTo>
                    <a:lnTo>
                      <a:pt x="82" y="27"/>
                    </a:lnTo>
                    <a:lnTo>
                      <a:pt x="80" y="35"/>
                    </a:lnTo>
                    <a:lnTo>
                      <a:pt x="74" y="41"/>
                    </a:lnTo>
                    <a:lnTo>
                      <a:pt x="68" y="46"/>
                    </a:lnTo>
                    <a:lnTo>
                      <a:pt x="63" y="48"/>
                    </a:lnTo>
                    <a:lnTo>
                      <a:pt x="59" y="49"/>
                    </a:lnTo>
                    <a:lnTo>
                      <a:pt x="55" y="49"/>
                    </a:lnTo>
                    <a:lnTo>
                      <a:pt x="51" y="49"/>
                    </a:lnTo>
                    <a:lnTo>
                      <a:pt x="50" y="53"/>
                    </a:lnTo>
                    <a:lnTo>
                      <a:pt x="51" y="57"/>
                    </a:lnTo>
                    <a:lnTo>
                      <a:pt x="52" y="61"/>
                    </a:lnTo>
                    <a:lnTo>
                      <a:pt x="57" y="63"/>
                    </a:lnTo>
                    <a:lnTo>
                      <a:pt x="60" y="65"/>
                    </a:lnTo>
                    <a:lnTo>
                      <a:pt x="64" y="67"/>
                    </a:lnTo>
                    <a:lnTo>
                      <a:pt x="69" y="68"/>
                    </a:lnTo>
                    <a:lnTo>
                      <a:pt x="74" y="70"/>
                    </a:lnTo>
                    <a:lnTo>
                      <a:pt x="78" y="68"/>
                    </a:lnTo>
                    <a:lnTo>
                      <a:pt x="84" y="68"/>
                    </a:lnTo>
                    <a:lnTo>
                      <a:pt x="88" y="67"/>
                    </a:lnTo>
                    <a:lnTo>
                      <a:pt x="91" y="65"/>
                    </a:lnTo>
                    <a:lnTo>
                      <a:pt x="94" y="62"/>
                    </a:lnTo>
                    <a:lnTo>
                      <a:pt x="97" y="58"/>
                    </a:lnTo>
                    <a:lnTo>
                      <a:pt x="98" y="53"/>
                    </a:lnTo>
                    <a:lnTo>
                      <a:pt x="99" y="49"/>
                    </a:lnTo>
                    <a:lnTo>
                      <a:pt x="103" y="49"/>
                    </a:lnTo>
                    <a:lnTo>
                      <a:pt x="107" y="48"/>
                    </a:lnTo>
                    <a:lnTo>
                      <a:pt x="111" y="48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6" y="53"/>
                    </a:lnTo>
                    <a:lnTo>
                      <a:pt x="115" y="57"/>
                    </a:lnTo>
                    <a:lnTo>
                      <a:pt x="115" y="62"/>
                    </a:lnTo>
                    <a:lnTo>
                      <a:pt x="115" y="67"/>
                    </a:lnTo>
                    <a:lnTo>
                      <a:pt x="114" y="71"/>
                    </a:lnTo>
                    <a:lnTo>
                      <a:pt x="114" y="75"/>
                    </a:lnTo>
                    <a:lnTo>
                      <a:pt x="114" y="78"/>
                    </a:lnTo>
                    <a:lnTo>
                      <a:pt x="119" y="81"/>
                    </a:lnTo>
                    <a:lnTo>
                      <a:pt x="123" y="87"/>
                    </a:lnTo>
                    <a:lnTo>
                      <a:pt x="124" y="85"/>
                    </a:lnTo>
                    <a:lnTo>
                      <a:pt x="128" y="84"/>
                    </a:lnTo>
                    <a:lnTo>
                      <a:pt x="132" y="80"/>
                    </a:lnTo>
                    <a:lnTo>
                      <a:pt x="137" y="78"/>
                    </a:lnTo>
                    <a:lnTo>
                      <a:pt x="144" y="72"/>
                    </a:lnTo>
                    <a:lnTo>
                      <a:pt x="149" y="67"/>
                    </a:lnTo>
                    <a:lnTo>
                      <a:pt x="157" y="67"/>
                    </a:lnTo>
                    <a:lnTo>
                      <a:pt x="164" y="70"/>
                    </a:lnTo>
                    <a:lnTo>
                      <a:pt x="161" y="76"/>
                    </a:lnTo>
                    <a:lnTo>
                      <a:pt x="158" y="83"/>
                    </a:lnTo>
                    <a:lnTo>
                      <a:pt x="154" y="89"/>
                    </a:lnTo>
                    <a:lnTo>
                      <a:pt x="153" y="98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5" y="114"/>
                    </a:lnTo>
                    <a:lnTo>
                      <a:pt x="158" y="116"/>
                    </a:lnTo>
                    <a:lnTo>
                      <a:pt x="162" y="119"/>
                    </a:lnTo>
                    <a:lnTo>
                      <a:pt x="168" y="120"/>
                    </a:lnTo>
                    <a:lnTo>
                      <a:pt x="175" y="124"/>
                    </a:lnTo>
                    <a:lnTo>
                      <a:pt x="180" y="124"/>
                    </a:lnTo>
                    <a:lnTo>
                      <a:pt x="185" y="120"/>
                    </a:lnTo>
                    <a:lnTo>
                      <a:pt x="189" y="116"/>
                    </a:lnTo>
                    <a:lnTo>
                      <a:pt x="192" y="110"/>
                    </a:lnTo>
                    <a:lnTo>
                      <a:pt x="196" y="105"/>
                    </a:lnTo>
                    <a:lnTo>
                      <a:pt x="200" y="101"/>
                    </a:lnTo>
                    <a:lnTo>
                      <a:pt x="208" y="100"/>
                    </a:lnTo>
                    <a:lnTo>
                      <a:pt x="211" y="105"/>
                    </a:lnTo>
                    <a:lnTo>
                      <a:pt x="219" y="112"/>
                    </a:lnTo>
                    <a:lnTo>
                      <a:pt x="218" y="118"/>
                    </a:lnTo>
                    <a:lnTo>
                      <a:pt x="214" y="123"/>
                    </a:lnTo>
                    <a:lnTo>
                      <a:pt x="209" y="128"/>
                    </a:lnTo>
                    <a:lnTo>
                      <a:pt x="205" y="133"/>
                    </a:lnTo>
                    <a:lnTo>
                      <a:pt x="200" y="137"/>
                    </a:lnTo>
                    <a:lnTo>
                      <a:pt x="197" y="144"/>
                    </a:lnTo>
                    <a:lnTo>
                      <a:pt x="198" y="147"/>
                    </a:lnTo>
                    <a:lnTo>
                      <a:pt x="205" y="155"/>
                    </a:lnTo>
                    <a:lnTo>
                      <a:pt x="211" y="160"/>
                    </a:lnTo>
                    <a:lnTo>
                      <a:pt x="219" y="166"/>
                    </a:lnTo>
                    <a:lnTo>
                      <a:pt x="226" y="168"/>
                    </a:lnTo>
                    <a:lnTo>
                      <a:pt x="234" y="169"/>
                    </a:lnTo>
                    <a:lnTo>
                      <a:pt x="240" y="169"/>
                    </a:lnTo>
                    <a:lnTo>
                      <a:pt x="249" y="168"/>
                    </a:lnTo>
                    <a:lnTo>
                      <a:pt x="256" y="164"/>
                    </a:lnTo>
                    <a:lnTo>
                      <a:pt x="265" y="159"/>
                    </a:lnTo>
                    <a:lnTo>
                      <a:pt x="270" y="166"/>
                    </a:lnTo>
                    <a:lnTo>
                      <a:pt x="277" y="173"/>
                    </a:lnTo>
                    <a:lnTo>
                      <a:pt x="273" y="177"/>
                    </a:lnTo>
                    <a:lnTo>
                      <a:pt x="268" y="184"/>
                    </a:lnTo>
                    <a:lnTo>
                      <a:pt x="261" y="191"/>
                    </a:lnTo>
                    <a:lnTo>
                      <a:pt x="258" y="198"/>
                    </a:lnTo>
                    <a:lnTo>
                      <a:pt x="264" y="204"/>
                    </a:lnTo>
                    <a:lnTo>
                      <a:pt x="270" y="211"/>
                    </a:lnTo>
                    <a:lnTo>
                      <a:pt x="277" y="215"/>
                    </a:lnTo>
                    <a:lnTo>
                      <a:pt x="283" y="216"/>
                    </a:lnTo>
                    <a:lnTo>
                      <a:pt x="288" y="212"/>
                    </a:lnTo>
                    <a:lnTo>
                      <a:pt x="295" y="208"/>
                    </a:lnTo>
                    <a:lnTo>
                      <a:pt x="299" y="203"/>
                    </a:lnTo>
                    <a:lnTo>
                      <a:pt x="305" y="198"/>
                    </a:lnTo>
                    <a:lnTo>
                      <a:pt x="311" y="195"/>
                    </a:lnTo>
                    <a:lnTo>
                      <a:pt x="317" y="195"/>
                    </a:lnTo>
                    <a:lnTo>
                      <a:pt x="318" y="197"/>
                    </a:lnTo>
                    <a:lnTo>
                      <a:pt x="321" y="201"/>
                    </a:lnTo>
                    <a:lnTo>
                      <a:pt x="324" y="204"/>
                    </a:lnTo>
                    <a:lnTo>
                      <a:pt x="326" y="211"/>
                    </a:lnTo>
                    <a:lnTo>
                      <a:pt x="322" y="215"/>
                    </a:lnTo>
                    <a:lnTo>
                      <a:pt x="318" y="223"/>
                    </a:lnTo>
                    <a:lnTo>
                      <a:pt x="317" y="226"/>
                    </a:lnTo>
                    <a:lnTo>
                      <a:pt x="316" y="230"/>
                    </a:lnTo>
                    <a:lnTo>
                      <a:pt x="315" y="234"/>
                    </a:lnTo>
                    <a:lnTo>
                      <a:pt x="315" y="237"/>
                    </a:lnTo>
                    <a:lnTo>
                      <a:pt x="321" y="243"/>
                    </a:lnTo>
                    <a:lnTo>
                      <a:pt x="329" y="248"/>
                    </a:lnTo>
                    <a:lnTo>
                      <a:pt x="330" y="247"/>
                    </a:lnTo>
                    <a:lnTo>
                      <a:pt x="334" y="245"/>
                    </a:lnTo>
                    <a:lnTo>
                      <a:pt x="338" y="243"/>
                    </a:lnTo>
                    <a:lnTo>
                      <a:pt x="342" y="241"/>
                    </a:lnTo>
                    <a:lnTo>
                      <a:pt x="346" y="237"/>
                    </a:lnTo>
                    <a:lnTo>
                      <a:pt x="351" y="235"/>
                    </a:lnTo>
                    <a:lnTo>
                      <a:pt x="354" y="233"/>
                    </a:lnTo>
                    <a:lnTo>
                      <a:pt x="358" y="232"/>
                    </a:lnTo>
                    <a:lnTo>
                      <a:pt x="363" y="235"/>
                    </a:lnTo>
                    <a:lnTo>
                      <a:pt x="371" y="241"/>
                    </a:lnTo>
                    <a:lnTo>
                      <a:pt x="373" y="247"/>
                    </a:lnTo>
                    <a:lnTo>
                      <a:pt x="371" y="254"/>
                    </a:lnTo>
                    <a:lnTo>
                      <a:pt x="367" y="259"/>
                    </a:lnTo>
                    <a:lnTo>
                      <a:pt x="361" y="263"/>
                    </a:lnTo>
                    <a:lnTo>
                      <a:pt x="356" y="265"/>
                    </a:lnTo>
                    <a:lnTo>
                      <a:pt x="354" y="270"/>
                    </a:lnTo>
                    <a:lnTo>
                      <a:pt x="352" y="273"/>
                    </a:lnTo>
                    <a:lnTo>
                      <a:pt x="354" y="276"/>
                    </a:lnTo>
                    <a:lnTo>
                      <a:pt x="358" y="278"/>
                    </a:lnTo>
                    <a:lnTo>
                      <a:pt x="363" y="282"/>
                    </a:lnTo>
                    <a:lnTo>
                      <a:pt x="367" y="286"/>
                    </a:lnTo>
                    <a:lnTo>
                      <a:pt x="371" y="289"/>
                    </a:lnTo>
                    <a:lnTo>
                      <a:pt x="376" y="289"/>
                    </a:lnTo>
                    <a:lnTo>
                      <a:pt x="382" y="289"/>
                    </a:lnTo>
                    <a:lnTo>
                      <a:pt x="388" y="286"/>
                    </a:lnTo>
                    <a:lnTo>
                      <a:pt x="393" y="283"/>
                    </a:lnTo>
                    <a:lnTo>
                      <a:pt x="398" y="278"/>
                    </a:lnTo>
                    <a:lnTo>
                      <a:pt x="402" y="274"/>
                    </a:lnTo>
                    <a:lnTo>
                      <a:pt x="410" y="277"/>
                    </a:lnTo>
                    <a:lnTo>
                      <a:pt x="416" y="282"/>
                    </a:lnTo>
                    <a:lnTo>
                      <a:pt x="418" y="287"/>
                    </a:lnTo>
                    <a:lnTo>
                      <a:pt x="415" y="294"/>
                    </a:lnTo>
                    <a:lnTo>
                      <a:pt x="411" y="299"/>
                    </a:lnTo>
                    <a:lnTo>
                      <a:pt x="407" y="305"/>
                    </a:lnTo>
                    <a:lnTo>
                      <a:pt x="403" y="311"/>
                    </a:lnTo>
                    <a:lnTo>
                      <a:pt x="403" y="316"/>
                    </a:lnTo>
                    <a:lnTo>
                      <a:pt x="403" y="318"/>
                    </a:lnTo>
                    <a:lnTo>
                      <a:pt x="406" y="321"/>
                    </a:lnTo>
                    <a:lnTo>
                      <a:pt x="407" y="324"/>
                    </a:lnTo>
                    <a:lnTo>
                      <a:pt x="414" y="326"/>
                    </a:lnTo>
                    <a:lnTo>
                      <a:pt x="415" y="330"/>
                    </a:lnTo>
                    <a:lnTo>
                      <a:pt x="418" y="334"/>
                    </a:lnTo>
                    <a:lnTo>
                      <a:pt x="420" y="335"/>
                    </a:lnTo>
                    <a:lnTo>
                      <a:pt x="423" y="335"/>
                    </a:lnTo>
                    <a:lnTo>
                      <a:pt x="427" y="334"/>
                    </a:lnTo>
                    <a:lnTo>
                      <a:pt x="432" y="331"/>
                    </a:lnTo>
                    <a:lnTo>
                      <a:pt x="436" y="326"/>
                    </a:lnTo>
                    <a:lnTo>
                      <a:pt x="442" y="324"/>
                    </a:lnTo>
                    <a:lnTo>
                      <a:pt x="448" y="322"/>
                    </a:lnTo>
                    <a:lnTo>
                      <a:pt x="454" y="325"/>
                    </a:lnTo>
                    <a:lnTo>
                      <a:pt x="457" y="334"/>
                    </a:lnTo>
                    <a:lnTo>
                      <a:pt x="455" y="340"/>
                    </a:lnTo>
                    <a:lnTo>
                      <a:pt x="450" y="347"/>
                    </a:lnTo>
                    <a:lnTo>
                      <a:pt x="446" y="355"/>
                    </a:lnTo>
                    <a:lnTo>
                      <a:pt x="442" y="360"/>
                    </a:lnTo>
                    <a:lnTo>
                      <a:pt x="440" y="366"/>
                    </a:lnTo>
                    <a:lnTo>
                      <a:pt x="441" y="370"/>
                    </a:lnTo>
                    <a:lnTo>
                      <a:pt x="444" y="373"/>
                    </a:lnTo>
                    <a:lnTo>
                      <a:pt x="448" y="377"/>
                    </a:lnTo>
                    <a:lnTo>
                      <a:pt x="454" y="382"/>
                    </a:lnTo>
                    <a:lnTo>
                      <a:pt x="459" y="384"/>
                    </a:lnTo>
                    <a:lnTo>
                      <a:pt x="466" y="387"/>
                    </a:lnTo>
                    <a:lnTo>
                      <a:pt x="472" y="387"/>
                    </a:lnTo>
                    <a:lnTo>
                      <a:pt x="479" y="386"/>
                    </a:lnTo>
                    <a:lnTo>
                      <a:pt x="485" y="383"/>
                    </a:lnTo>
                    <a:lnTo>
                      <a:pt x="492" y="379"/>
                    </a:lnTo>
                    <a:lnTo>
                      <a:pt x="498" y="377"/>
                    </a:lnTo>
                    <a:lnTo>
                      <a:pt x="505" y="375"/>
                    </a:lnTo>
                    <a:lnTo>
                      <a:pt x="512" y="380"/>
                    </a:lnTo>
                    <a:lnTo>
                      <a:pt x="517" y="387"/>
                    </a:lnTo>
                    <a:lnTo>
                      <a:pt x="517" y="391"/>
                    </a:lnTo>
                    <a:lnTo>
                      <a:pt x="515" y="393"/>
                    </a:lnTo>
                    <a:lnTo>
                      <a:pt x="513" y="396"/>
                    </a:lnTo>
                    <a:lnTo>
                      <a:pt x="512" y="399"/>
                    </a:lnTo>
                    <a:lnTo>
                      <a:pt x="506" y="401"/>
                    </a:lnTo>
                    <a:lnTo>
                      <a:pt x="500" y="404"/>
                    </a:lnTo>
                    <a:lnTo>
                      <a:pt x="493" y="406"/>
                    </a:lnTo>
                    <a:lnTo>
                      <a:pt x="491" y="412"/>
                    </a:lnTo>
                    <a:lnTo>
                      <a:pt x="491" y="414"/>
                    </a:lnTo>
                    <a:lnTo>
                      <a:pt x="492" y="417"/>
                    </a:lnTo>
                    <a:lnTo>
                      <a:pt x="495" y="421"/>
                    </a:lnTo>
                    <a:lnTo>
                      <a:pt x="498" y="427"/>
                    </a:lnTo>
                    <a:lnTo>
                      <a:pt x="502" y="431"/>
                    </a:lnTo>
                    <a:lnTo>
                      <a:pt x="506" y="434"/>
                    </a:lnTo>
                    <a:lnTo>
                      <a:pt x="509" y="436"/>
                    </a:lnTo>
                    <a:lnTo>
                      <a:pt x="513" y="439"/>
                    </a:lnTo>
                    <a:lnTo>
                      <a:pt x="521" y="440"/>
                    </a:lnTo>
                    <a:lnTo>
                      <a:pt x="530" y="440"/>
                    </a:lnTo>
                    <a:lnTo>
                      <a:pt x="534" y="439"/>
                    </a:lnTo>
                    <a:lnTo>
                      <a:pt x="539" y="439"/>
                    </a:lnTo>
                    <a:lnTo>
                      <a:pt x="543" y="436"/>
                    </a:lnTo>
                    <a:lnTo>
                      <a:pt x="547" y="436"/>
                    </a:lnTo>
                    <a:lnTo>
                      <a:pt x="552" y="436"/>
                    </a:lnTo>
                    <a:lnTo>
                      <a:pt x="556" y="436"/>
                    </a:lnTo>
                    <a:lnTo>
                      <a:pt x="561" y="436"/>
                    </a:lnTo>
                    <a:lnTo>
                      <a:pt x="565" y="437"/>
                    </a:lnTo>
                    <a:lnTo>
                      <a:pt x="568" y="441"/>
                    </a:lnTo>
                    <a:lnTo>
                      <a:pt x="569" y="445"/>
                    </a:lnTo>
                    <a:lnTo>
                      <a:pt x="569" y="448"/>
                    </a:lnTo>
                    <a:lnTo>
                      <a:pt x="569" y="452"/>
                    </a:lnTo>
                    <a:lnTo>
                      <a:pt x="564" y="454"/>
                    </a:lnTo>
                    <a:lnTo>
                      <a:pt x="557" y="458"/>
                    </a:lnTo>
                    <a:lnTo>
                      <a:pt x="551" y="459"/>
                    </a:lnTo>
                    <a:lnTo>
                      <a:pt x="547" y="463"/>
                    </a:lnTo>
                    <a:lnTo>
                      <a:pt x="544" y="466"/>
                    </a:lnTo>
                    <a:lnTo>
                      <a:pt x="544" y="470"/>
                    </a:lnTo>
                    <a:lnTo>
                      <a:pt x="544" y="474"/>
                    </a:lnTo>
                    <a:lnTo>
                      <a:pt x="548" y="480"/>
                    </a:lnTo>
                    <a:lnTo>
                      <a:pt x="548" y="487"/>
                    </a:lnTo>
                    <a:lnTo>
                      <a:pt x="551" y="494"/>
                    </a:lnTo>
                    <a:lnTo>
                      <a:pt x="553" y="500"/>
                    </a:lnTo>
                    <a:lnTo>
                      <a:pt x="560" y="503"/>
                    </a:lnTo>
                    <a:lnTo>
                      <a:pt x="565" y="506"/>
                    </a:lnTo>
                    <a:lnTo>
                      <a:pt x="573" y="507"/>
                    </a:lnTo>
                    <a:lnTo>
                      <a:pt x="581" y="507"/>
                    </a:lnTo>
                    <a:lnTo>
                      <a:pt x="588" y="506"/>
                    </a:lnTo>
                    <a:lnTo>
                      <a:pt x="588" y="514"/>
                    </a:lnTo>
                    <a:lnTo>
                      <a:pt x="588" y="520"/>
                    </a:lnTo>
                    <a:lnTo>
                      <a:pt x="581" y="519"/>
                    </a:lnTo>
                    <a:lnTo>
                      <a:pt x="574" y="520"/>
                    </a:lnTo>
                    <a:lnTo>
                      <a:pt x="569" y="523"/>
                    </a:lnTo>
                    <a:lnTo>
                      <a:pt x="565" y="527"/>
                    </a:lnTo>
                    <a:lnTo>
                      <a:pt x="561" y="531"/>
                    </a:lnTo>
                    <a:lnTo>
                      <a:pt x="558" y="535"/>
                    </a:lnTo>
                    <a:lnTo>
                      <a:pt x="556" y="540"/>
                    </a:lnTo>
                    <a:lnTo>
                      <a:pt x="556" y="547"/>
                    </a:lnTo>
                    <a:lnTo>
                      <a:pt x="556" y="553"/>
                    </a:lnTo>
                    <a:lnTo>
                      <a:pt x="556" y="558"/>
                    </a:lnTo>
                    <a:lnTo>
                      <a:pt x="557" y="563"/>
                    </a:lnTo>
                    <a:lnTo>
                      <a:pt x="561" y="569"/>
                    </a:lnTo>
                    <a:lnTo>
                      <a:pt x="564" y="573"/>
                    </a:lnTo>
                    <a:lnTo>
                      <a:pt x="568" y="577"/>
                    </a:lnTo>
                    <a:lnTo>
                      <a:pt x="573" y="579"/>
                    </a:lnTo>
                    <a:lnTo>
                      <a:pt x="581" y="581"/>
                    </a:lnTo>
                    <a:lnTo>
                      <a:pt x="582" y="580"/>
                    </a:lnTo>
                    <a:lnTo>
                      <a:pt x="587" y="579"/>
                    </a:lnTo>
                    <a:lnTo>
                      <a:pt x="591" y="576"/>
                    </a:lnTo>
                    <a:lnTo>
                      <a:pt x="598" y="576"/>
                    </a:lnTo>
                    <a:lnTo>
                      <a:pt x="602" y="575"/>
                    </a:lnTo>
                    <a:lnTo>
                      <a:pt x="608" y="575"/>
                    </a:lnTo>
                    <a:lnTo>
                      <a:pt x="612" y="575"/>
                    </a:lnTo>
                    <a:lnTo>
                      <a:pt x="616" y="575"/>
                    </a:lnTo>
                    <a:lnTo>
                      <a:pt x="613" y="581"/>
                    </a:lnTo>
                    <a:lnTo>
                      <a:pt x="612" y="589"/>
                    </a:lnTo>
                    <a:lnTo>
                      <a:pt x="605" y="589"/>
                    </a:lnTo>
                    <a:lnTo>
                      <a:pt x="599" y="592"/>
                    </a:lnTo>
                    <a:lnTo>
                      <a:pt x="592" y="595"/>
                    </a:lnTo>
                    <a:lnTo>
                      <a:pt x="588" y="602"/>
                    </a:lnTo>
                    <a:lnTo>
                      <a:pt x="583" y="606"/>
                    </a:lnTo>
                    <a:lnTo>
                      <a:pt x="582" y="614"/>
                    </a:lnTo>
                    <a:lnTo>
                      <a:pt x="579" y="619"/>
                    </a:lnTo>
                    <a:lnTo>
                      <a:pt x="581" y="626"/>
                    </a:lnTo>
                    <a:lnTo>
                      <a:pt x="582" y="625"/>
                    </a:lnTo>
                    <a:lnTo>
                      <a:pt x="586" y="625"/>
                    </a:lnTo>
                    <a:lnTo>
                      <a:pt x="590" y="625"/>
                    </a:lnTo>
                    <a:lnTo>
                      <a:pt x="594" y="625"/>
                    </a:lnTo>
                    <a:lnTo>
                      <a:pt x="599" y="625"/>
                    </a:lnTo>
                    <a:lnTo>
                      <a:pt x="604" y="625"/>
                    </a:lnTo>
                    <a:lnTo>
                      <a:pt x="608" y="625"/>
                    </a:lnTo>
                    <a:lnTo>
                      <a:pt x="612" y="625"/>
                    </a:lnTo>
                    <a:lnTo>
                      <a:pt x="612" y="632"/>
                    </a:lnTo>
                    <a:lnTo>
                      <a:pt x="615" y="639"/>
                    </a:lnTo>
                    <a:lnTo>
                      <a:pt x="612" y="639"/>
                    </a:lnTo>
                    <a:lnTo>
                      <a:pt x="608" y="642"/>
                    </a:lnTo>
                    <a:lnTo>
                      <a:pt x="604" y="645"/>
                    </a:lnTo>
                    <a:lnTo>
                      <a:pt x="600" y="648"/>
                    </a:lnTo>
                    <a:lnTo>
                      <a:pt x="592" y="655"/>
                    </a:lnTo>
                    <a:lnTo>
                      <a:pt x="588" y="660"/>
                    </a:lnTo>
                    <a:lnTo>
                      <a:pt x="588" y="664"/>
                    </a:lnTo>
                    <a:lnTo>
                      <a:pt x="592" y="669"/>
                    </a:lnTo>
                    <a:lnTo>
                      <a:pt x="596" y="672"/>
                    </a:lnTo>
                    <a:lnTo>
                      <a:pt x="602" y="674"/>
                    </a:lnTo>
                    <a:lnTo>
                      <a:pt x="605" y="677"/>
                    </a:lnTo>
                    <a:lnTo>
                      <a:pt x="608" y="681"/>
                    </a:lnTo>
                    <a:lnTo>
                      <a:pt x="608" y="685"/>
                    </a:lnTo>
                    <a:lnTo>
                      <a:pt x="607" y="690"/>
                    </a:lnTo>
                    <a:lnTo>
                      <a:pt x="602" y="690"/>
                    </a:lnTo>
                    <a:lnTo>
                      <a:pt x="598" y="690"/>
                    </a:lnTo>
                    <a:lnTo>
                      <a:pt x="592" y="687"/>
                    </a:lnTo>
                    <a:lnTo>
                      <a:pt x="588" y="686"/>
                    </a:lnTo>
                    <a:lnTo>
                      <a:pt x="585" y="683"/>
                    </a:lnTo>
                    <a:lnTo>
                      <a:pt x="583" y="682"/>
                    </a:lnTo>
                    <a:lnTo>
                      <a:pt x="577" y="677"/>
                    </a:lnTo>
                    <a:lnTo>
                      <a:pt x="574" y="670"/>
                    </a:lnTo>
                    <a:lnTo>
                      <a:pt x="572" y="664"/>
                    </a:lnTo>
                    <a:lnTo>
                      <a:pt x="572" y="658"/>
                    </a:lnTo>
                    <a:lnTo>
                      <a:pt x="572" y="650"/>
                    </a:lnTo>
                    <a:lnTo>
                      <a:pt x="573" y="642"/>
                    </a:lnTo>
                    <a:lnTo>
                      <a:pt x="566" y="636"/>
                    </a:lnTo>
                    <a:lnTo>
                      <a:pt x="564" y="630"/>
                    </a:lnTo>
                    <a:lnTo>
                      <a:pt x="561" y="625"/>
                    </a:lnTo>
                    <a:lnTo>
                      <a:pt x="562" y="620"/>
                    </a:lnTo>
                    <a:lnTo>
                      <a:pt x="564" y="614"/>
                    </a:lnTo>
                    <a:lnTo>
                      <a:pt x="566" y="607"/>
                    </a:lnTo>
                    <a:lnTo>
                      <a:pt x="569" y="602"/>
                    </a:lnTo>
                    <a:lnTo>
                      <a:pt x="573" y="595"/>
                    </a:lnTo>
                    <a:lnTo>
                      <a:pt x="568" y="594"/>
                    </a:lnTo>
                    <a:lnTo>
                      <a:pt x="562" y="592"/>
                    </a:lnTo>
                    <a:lnTo>
                      <a:pt x="557" y="588"/>
                    </a:lnTo>
                    <a:lnTo>
                      <a:pt x="553" y="585"/>
                    </a:lnTo>
                    <a:lnTo>
                      <a:pt x="549" y="580"/>
                    </a:lnTo>
                    <a:lnTo>
                      <a:pt x="547" y="575"/>
                    </a:lnTo>
                    <a:lnTo>
                      <a:pt x="544" y="571"/>
                    </a:lnTo>
                    <a:lnTo>
                      <a:pt x="543" y="566"/>
                    </a:lnTo>
                    <a:lnTo>
                      <a:pt x="540" y="559"/>
                    </a:lnTo>
                    <a:lnTo>
                      <a:pt x="540" y="554"/>
                    </a:lnTo>
                    <a:lnTo>
                      <a:pt x="540" y="547"/>
                    </a:lnTo>
                    <a:lnTo>
                      <a:pt x="540" y="544"/>
                    </a:lnTo>
                    <a:lnTo>
                      <a:pt x="540" y="537"/>
                    </a:lnTo>
                    <a:lnTo>
                      <a:pt x="543" y="532"/>
                    </a:lnTo>
                    <a:lnTo>
                      <a:pt x="544" y="528"/>
                    </a:lnTo>
                    <a:lnTo>
                      <a:pt x="548" y="524"/>
                    </a:lnTo>
                    <a:lnTo>
                      <a:pt x="544" y="515"/>
                    </a:lnTo>
                    <a:lnTo>
                      <a:pt x="540" y="507"/>
                    </a:lnTo>
                    <a:lnTo>
                      <a:pt x="538" y="500"/>
                    </a:lnTo>
                    <a:lnTo>
                      <a:pt x="535" y="492"/>
                    </a:lnTo>
                    <a:lnTo>
                      <a:pt x="534" y="488"/>
                    </a:lnTo>
                    <a:lnTo>
                      <a:pt x="532" y="484"/>
                    </a:lnTo>
                    <a:lnTo>
                      <a:pt x="532" y="479"/>
                    </a:lnTo>
                    <a:lnTo>
                      <a:pt x="532" y="475"/>
                    </a:lnTo>
                    <a:lnTo>
                      <a:pt x="531" y="471"/>
                    </a:lnTo>
                    <a:lnTo>
                      <a:pt x="531" y="467"/>
                    </a:lnTo>
                    <a:lnTo>
                      <a:pt x="532" y="462"/>
                    </a:lnTo>
                    <a:lnTo>
                      <a:pt x="534" y="458"/>
                    </a:lnTo>
                    <a:lnTo>
                      <a:pt x="527" y="457"/>
                    </a:lnTo>
                    <a:lnTo>
                      <a:pt x="523" y="456"/>
                    </a:lnTo>
                    <a:lnTo>
                      <a:pt x="517" y="454"/>
                    </a:lnTo>
                    <a:lnTo>
                      <a:pt x="512" y="453"/>
                    </a:lnTo>
                    <a:lnTo>
                      <a:pt x="506" y="450"/>
                    </a:lnTo>
                    <a:lnTo>
                      <a:pt x="502" y="448"/>
                    </a:lnTo>
                    <a:lnTo>
                      <a:pt x="497" y="445"/>
                    </a:lnTo>
                    <a:lnTo>
                      <a:pt x="493" y="443"/>
                    </a:lnTo>
                    <a:lnTo>
                      <a:pt x="488" y="439"/>
                    </a:lnTo>
                    <a:lnTo>
                      <a:pt x="484" y="435"/>
                    </a:lnTo>
                    <a:lnTo>
                      <a:pt x="482" y="431"/>
                    </a:lnTo>
                    <a:lnTo>
                      <a:pt x="479" y="426"/>
                    </a:lnTo>
                    <a:lnTo>
                      <a:pt x="476" y="421"/>
                    </a:lnTo>
                    <a:lnTo>
                      <a:pt x="475" y="415"/>
                    </a:lnTo>
                    <a:lnTo>
                      <a:pt x="475" y="410"/>
                    </a:lnTo>
                    <a:lnTo>
                      <a:pt x="475" y="405"/>
                    </a:lnTo>
                    <a:lnTo>
                      <a:pt x="465" y="402"/>
                    </a:lnTo>
                    <a:lnTo>
                      <a:pt x="455" y="399"/>
                    </a:lnTo>
                    <a:lnTo>
                      <a:pt x="448" y="392"/>
                    </a:lnTo>
                    <a:lnTo>
                      <a:pt x="442" y="387"/>
                    </a:lnTo>
                    <a:lnTo>
                      <a:pt x="435" y="380"/>
                    </a:lnTo>
                    <a:lnTo>
                      <a:pt x="429" y="373"/>
                    </a:lnTo>
                    <a:lnTo>
                      <a:pt x="423" y="366"/>
                    </a:lnTo>
                    <a:lnTo>
                      <a:pt x="418" y="358"/>
                    </a:lnTo>
                    <a:lnTo>
                      <a:pt x="411" y="349"/>
                    </a:lnTo>
                    <a:lnTo>
                      <a:pt x="406" y="340"/>
                    </a:lnTo>
                    <a:lnTo>
                      <a:pt x="401" y="334"/>
                    </a:lnTo>
                    <a:lnTo>
                      <a:pt x="395" y="326"/>
                    </a:lnTo>
                    <a:lnTo>
                      <a:pt x="388" y="318"/>
                    </a:lnTo>
                    <a:lnTo>
                      <a:pt x="382" y="312"/>
                    </a:lnTo>
                    <a:lnTo>
                      <a:pt x="375" y="307"/>
                    </a:lnTo>
                    <a:lnTo>
                      <a:pt x="367" y="303"/>
                    </a:lnTo>
                    <a:lnTo>
                      <a:pt x="361" y="299"/>
                    </a:lnTo>
                    <a:lnTo>
                      <a:pt x="356" y="296"/>
                    </a:lnTo>
                    <a:lnTo>
                      <a:pt x="352" y="292"/>
                    </a:lnTo>
                    <a:lnTo>
                      <a:pt x="350" y="290"/>
                    </a:lnTo>
                    <a:lnTo>
                      <a:pt x="342" y="282"/>
                    </a:lnTo>
                    <a:lnTo>
                      <a:pt x="337" y="276"/>
                    </a:lnTo>
                    <a:lnTo>
                      <a:pt x="329" y="268"/>
                    </a:lnTo>
                    <a:lnTo>
                      <a:pt x="322" y="260"/>
                    </a:lnTo>
                    <a:lnTo>
                      <a:pt x="318" y="257"/>
                    </a:lnTo>
                    <a:lnTo>
                      <a:pt x="315" y="255"/>
                    </a:lnTo>
                    <a:lnTo>
                      <a:pt x="311" y="252"/>
                    </a:lnTo>
                    <a:lnTo>
                      <a:pt x="307" y="251"/>
                    </a:lnTo>
                    <a:lnTo>
                      <a:pt x="303" y="245"/>
                    </a:lnTo>
                    <a:lnTo>
                      <a:pt x="300" y="241"/>
                    </a:lnTo>
                    <a:lnTo>
                      <a:pt x="296" y="237"/>
                    </a:lnTo>
                    <a:lnTo>
                      <a:pt x="292" y="234"/>
                    </a:lnTo>
                    <a:lnTo>
                      <a:pt x="288" y="232"/>
                    </a:lnTo>
                    <a:lnTo>
                      <a:pt x="283" y="229"/>
                    </a:lnTo>
                    <a:lnTo>
                      <a:pt x="278" y="228"/>
                    </a:lnTo>
                    <a:lnTo>
                      <a:pt x="273" y="226"/>
                    </a:lnTo>
                    <a:lnTo>
                      <a:pt x="268" y="224"/>
                    </a:lnTo>
                    <a:lnTo>
                      <a:pt x="264" y="223"/>
                    </a:lnTo>
                    <a:lnTo>
                      <a:pt x="258" y="220"/>
                    </a:lnTo>
                    <a:lnTo>
                      <a:pt x="254" y="219"/>
                    </a:lnTo>
                    <a:lnTo>
                      <a:pt x="249" y="216"/>
                    </a:lnTo>
                    <a:lnTo>
                      <a:pt x="247" y="212"/>
                    </a:lnTo>
                    <a:lnTo>
                      <a:pt x="244" y="207"/>
                    </a:lnTo>
                    <a:lnTo>
                      <a:pt x="243" y="203"/>
                    </a:lnTo>
                    <a:lnTo>
                      <a:pt x="240" y="197"/>
                    </a:lnTo>
                    <a:lnTo>
                      <a:pt x="236" y="193"/>
                    </a:lnTo>
                    <a:lnTo>
                      <a:pt x="232" y="189"/>
                    </a:lnTo>
                    <a:lnTo>
                      <a:pt x="230" y="188"/>
                    </a:lnTo>
                    <a:lnTo>
                      <a:pt x="224" y="184"/>
                    </a:lnTo>
                    <a:lnTo>
                      <a:pt x="221" y="181"/>
                    </a:lnTo>
                    <a:lnTo>
                      <a:pt x="217" y="180"/>
                    </a:lnTo>
                    <a:lnTo>
                      <a:pt x="213" y="179"/>
                    </a:lnTo>
                    <a:lnTo>
                      <a:pt x="208" y="175"/>
                    </a:lnTo>
                    <a:lnTo>
                      <a:pt x="204" y="172"/>
                    </a:lnTo>
                    <a:lnTo>
                      <a:pt x="198" y="169"/>
                    </a:lnTo>
                    <a:lnTo>
                      <a:pt x="196" y="168"/>
                    </a:lnTo>
                    <a:lnTo>
                      <a:pt x="191" y="164"/>
                    </a:lnTo>
                    <a:lnTo>
                      <a:pt x="188" y="160"/>
                    </a:lnTo>
                    <a:lnTo>
                      <a:pt x="185" y="155"/>
                    </a:lnTo>
                    <a:lnTo>
                      <a:pt x="184" y="151"/>
                    </a:lnTo>
                    <a:lnTo>
                      <a:pt x="176" y="144"/>
                    </a:lnTo>
                    <a:lnTo>
                      <a:pt x="170" y="137"/>
                    </a:lnTo>
                    <a:lnTo>
                      <a:pt x="163" y="133"/>
                    </a:lnTo>
                    <a:lnTo>
                      <a:pt x="155" y="129"/>
                    </a:lnTo>
                    <a:lnTo>
                      <a:pt x="149" y="125"/>
                    </a:lnTo>
                    <a:lnTo>
                      <a:pt x="142" y="120"/>
                    </a:lnTo>
                    <a:lnTo>
                      <a:pt x="140" y="118"/>
                    </a:lnTo>
                    <a:lnTo>
                      <a:pt x="137" y="115"/>
                    </a:lnTo>
                    <a:lnTo>
                      <a:pt x="134" y="111"/>
                    </a:lnTo>
                    <a:lnTo>
                      <a:pt x="134" y="107"/>
                    </a:lnTo>
                    <a:lnTo>
                      <a:pt x="128" y="106"/>
                    </a:lnTo>
                    <a:lnTo>
                      <a:pt x="124" y="105"/>
                    </a:lnTo>
                    <a:lnTo>
                      <a:pt x="120" y="103"/>
                    </a:lnTo>
                    <a:lnTo>
                      <a:pt x="116" y="102"/>
                    </a:lnTo>
                    <a:lnTo>
                      <a:pt x="108" y="97"/>
                    </a:lnTo>
                    <a:lnTo>
                      <a:pt x="102" y="92"/>
                    </a:lnTo>
                    <a:lnTo>
                      <a:pt x="97" y="88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3"/>
                    </a:lnTo>
                    <a:lnTo>
                      <a:pt x="80" y="80"/>
                    </a:lnTo>
                    <a:lnTo>
                      <a:pt x="76" y="80"/>
                    </a:lnTo>
                    <a:lnTo>
                      <a:pt x="71" y="81"/>
                    </a:lnTo>
                    <a:lnTo>
                      <a:pt x="67" y="84"/>
                    </a:lnTo>
                    <a:lnTo>
                      <a:pt x="60" y="83"/>
                    </a:lnTo>
                    <a:lnTo>
                      <a:pt x="55" y="81"/>
                    </a:lnTo>
                    <a:lnTo>
                      <a:pt x="51" y="79"/>
                    </a:lnTo>
                    <a:lnTo>
                      <a:pt x="47" y="78"/>
                    </a:lnTo>
                    <a:lnTo>
                      <a:pt x="42" y="71"/>
                    </a:lnTo>
                    <a:lnTo>
                      <a:pt x="38" y="62"/>
                    </a:lnTo>
                    <a:lnTo>
                      <a:pt x="34" y="58"/>
                    </a:lnTo>
                    <a:lnTo>
                      <a:pt x="31" y="53"/>
                    </a:lnTo>
                    <a:lnTo>
                      <a:pt x="30" y="49"/>
                    </a:lnTo>
                    <a:lnTo>
                      <a:pt x="27" y="46"/>
                    </a:lnTo>
                    <a:lnTo>
                      <a:pt x="24" y="43"/>
                    </a:lnTo>
                    <a:lnTo>
                      <a:pt x="21" y="40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9" y="34"/>
                    </a:lnTo>
                    <a:lnTo>
                      <a:pt x="7" y="26"/>
                    </a:lnTo>
                    <a:lnTo>
                      <a:pt x="4" y="21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3" y="9"/>
                    </a:lnTo>
                    <a:lnTo>
                      <a:pt x="8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8" y="9"/>
                    </a:lnTo>
                    <a:lnTo>
                      <a:pt x="22" y="17"/>
                    </a:lnTo>
                    <a:lnTo>
                      <a:pt x="25" y="22"/>
                    </a:lnTo>
                    <a:lnTo>
                      <a:pt x="29" y="26"/>
                    </a:lnTo>
                    <a:lnTo>
                      <a:pt x="35" y="30"/>
                    </a:lnTo>
                    <a:lnTo>
                      <a:pt x="43" y="30"/>
                    </a:lnTo>
                    <a:lnTo>
                      <a:pt x="48" y="24"/>
                    </a:lnTo>
                    <a:lnTo>
                      <a:pt x="56" y="19"/>
                    </a:lnTo>
                    <a:lnTo>
                      <a:pt x="63" y="14"/>
                    </a:lnTo>
                    <a:lnTo>
                      <a:pt x="69" y="11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548840" y="4530960"/>
                <a:ext cx="251640" cy="137160"/>
              </a:xfrm>
              <a:custGeom>
                <a:avLst/>
                <a:gdLst/>
                <a:ahLst/>
                <a:rect l="l" t="t" r="r" b="b"/>
                <a:pathLst>
                  <a:path w="414" h="224">
                    <a:moveTo>
                      <a:pt x="5" y="140"/>
                    </a:moveTo>
                    <a:lnTo>
                      <a:pt x="7" y="139"/>
                    </a:lnTo>
                    <a:lnTo>
                      <a:pt x="16" y="135"/>
                    </a:lnTo>
                    <a:lnTo>
                      <a:pt x="32" y="127"/>
                    </a:lnTo>
                    <a:lnTo>
                      <a:pt x="54" y="118"/>
                    </a:lnTo>
                    <a:lnTo>
                      <a:pt x="77" y="106"/>
                    </a:lnTo>
                    <a:lnTo>
                      <a:pt x="106" y="93"/>
                    </a:lnTo>
                    <a:lnTo>
                      <a:pt x="137" y="79"/>
                    </a:lnTo>
                    <a:lnTo>
                      <a:pt x="170" y="66"/>
                    </a:lnTo>
                    <a:lnTo>
                      <a:pt x="201" y="52"/>
                    </a:lnTo>
                    <a:lnTo>
                      <a:pt x="234" y="39"/>
                    </a:lnTo>
                    <a:lnTo>
                      <a:pt x="265" y="26"/>
                    </a:lnTo>
                    <a:lnTo>
                      <a:pt x="294" y="16"/>
                    </a:lnTo>
                    <a:lnTo>
                      <a:pt x="319" y="8"/>
                    </a:lnTo>
                    <a:lnTo>
                      <a:pt x="341" y="1"/>
                    </a:lnTo>
                    <a:lnTo>
                      <a:pt x="355" y="0"/>
                    </a:lnTo>
                    <a:lnTo>
                      <a:pt x="366" y="1"/>
                    </a:lnTo>
                    <a:lnTo>
                      <a:pt x="371" y="7"/>
                    </a:lnTo>
                    <a:lnTo>
                      <a:pt x="377" y="16"/>
                    </a:lnTo>
                    <a:lnTo>
                      <a:pt x="382" y="27"/>
                    </a:lnTo>
                    <a:lnTo>
                      <a:pt x="389" y="42"/>
                    </a:lnTo>
                    <a:lnTo>
                      <a:pt x="393" y="57"/>
                    </a:lnTo>
                    <a:lnTo>
                      <a:pt x="397" y="75"/>
                    </a:lnTo>
                    <a:lnTo>
                      <a:pt x="401" y="93"/>
                    </a:lnTo>
                    <a:lnTo>
                      <a:pt x="405" y="114"/>
                    </a:lnTo>
                    <a:lnTo>
                      <a:pt x="407" y="132"/>
                    </a:lnTo>
                    <a:lnTo>
                      <a:pt x="410" y="152"/>
                    </a:lnTo>
                    <a:lnTo>
                      <a:pt x="411" y="169"/>
                    </a:lnTo>
                    <a:lnTo>
                      <a:pt x="414" y="184"/>
                    </a:lnTo>
                    <a:lnTo>
                      <a:pt x="414" y="197"/>
                    </a:lnTo>
                    <a:lnTo>
                      <a:pt x="414" y="209"/>
                    </a:lnTo>
                    <a:lnTo>
                      <a:pt x="414" y="216"/>
                    </a:lnTo>
                    <a:lnTo>
                      <a:pt x="414" y="220"/>
                    </a:lnTo>
                    <a:lnTo>
                      <a:pt x="406" y="222"/>
                    </a:lnTo>
                    <a:lnTo>
                      <a:pt x="393" y="223"/>
                    </a:lnTo>
                    <a:lnTo>
                      <a:pt x="373" y="224"/>
                    </a:lnTo>
                    <a:lnTo>
                      <a:pt x="349" y="224"/>
                    </a:lnTo>
                    <a:lnTo>
                      <a:pt x="317" y="224"/>
                    </a:lnTo>
                    <a:lnTo>
                      <a:pt x="285" y="224"/>
                    </a:lnTo>
                    <a:lnTo>
                      <a:pt x="249" y="223"/>
                    </a:lnTo>
                    <a:lnTo>
                      <a:pt x="213" y="223"/>
                    </a:lnTo>
                    <a:lnTo>
                      <a:pt x="176" y="220"/>
                    </a:lnTo>
                    <a:lnTo>
                      <a:pt x="140" y="218"/>
                    </a:lnTo>
                    <a:lnTo>
                      <a:pt x="106" y="215"/>
                    </a:lnTo>
                    <a:lnTo>
                      <a:pt x="76" y="213"/>
                    </a:lnTo>
                    <a:lnTo>
                      <a:pt x="50" y="209"/>
                    </a:lnTo>
                    <a:lnTo>
                      <a:pt x="29" y="205"/>
                    </a:lnTo>
                    <a:lnTo>
                      <a:pt x="15" y="200"/>
                    </a:lnTo>
                    <a:lnTo>
                      <a:pt x="9" y="196"/>
                    </a:lnTo>
                    <a:lnTo>
                      <a:pt x="5" y="191"/>
                    </a:lnTo>
                    <a:lnTo>
                      <a:pt x="3" y="185"/>
                    </a:lnTo>
                    <a:lnTo>
                      <a:pt x="2" y="180"/>
                    </a:lnTo>
                    <a:lnTo>
                      <a:pt x="2" y="176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2" y="158"/>
                    </a:lnTo>
                    <a:lnTo>
                      <a:pt x="2" y="150"/>
                    </a:lnTo>
                    <a:lnTo>
                      <a:pt x="3" y="145"/>
                    </a:lnTo>
                    <a:lnTo>
                      <a:pt x="4" y="141"/>
                    </a:lnTo>
                    <a:lnTo>
                      <a:pt x="5" y="140"/>
                    </a:lnTo>
                    <a:lnTo>
                      <a:pt x="5" y="140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770960" y="4528080"/>
                <a:ext cx="161280" cy="137160"/>
              </a:xfrm>
              <a:custGeom>
                <a:avLst/>
                <a:gdLst/>
                <a:ahLst/>
                <a:rect l="l" t="t" r="r" b="b"/>
                <a:pathLst>
                  <a:path w="262" h="221">
                    <a:moveTo>
                      <a:pt x="0" y="2"/>
                    </a:moveTo>
                    <a:lnTo>
                      <a:pt x="2" y="2"/>
                    </a:lnTo>
                    <a:lnTo>
                      <a:pt x="10" y="1"/>
                    </a:lnTo>
                    <a:lnTo>
                      <a:pt x="20" y="1"/>
                    </a:lnTo>
                    <a:lnTo>
                      <a:pt x="37" y="1"/>
                    </a:lnTo>
                    <a:lnTo>
                      <a:pt x="56" y="0"/>
                    </a:lnTo>
                    <a:lnTo>
                      <a:pt x="75" y="0"/>
                    </a:lnTo>
                    <a:lnTo>
                      <a:pt x="97" y="0"/>
                    </a:lnTo>
                    <a:lnTo>
                      <a:pt x="121" y="1"/>
                    </a:lnTo>
                    <a:lnTo>
                      <a:pt x="143" y="1"/>
                    </a:lnTo>
                    <a:lnTo>
                      <a:pt x="165" y="2"/>
                    </a:lnTo>
                    <a:lnTo>
                      <a:pt x="186" y="5"/>
                    </a:lnTo>
                    <a:lnTo>
                      <a:pt x="206" y="9"/>
                    </a:lnTo>
                    <a:lnTo>
                      <a:pt x="221" y="13"/>
                    </a:lnTo>
                    <a:lnTo>
                      <a:pt x="234" y="19"/>
                    </a:lnTo>
                    <a:lnTo>
                      <a:pt x="243" y="26"/>
                    </a:lnTo>
                    <a:lnTo>
                      <a:pt x="249" y="35"/>
                    </a:lnTo>
                    <a:lnTo>
                      <a:pt x="249" y="43"/>
                    </a:lnTo>
                    <a:lnTo>
                      <a:pt x="250" y="53"/>
                    </a:lnTo>
                    <a:lnTo>
                      <a:pt x="250" y="62"/>
                    </a:lnTo>
                    <a:lnTo>
                      <a:pt x="251" y="72"/>
                    </a:lnTo>
                    <a:lnTo>
                      <a:pt x="253" y="83"/>
                    </a:lnTo>
                    <a:lnTo>
                      <a:pt x="254" y="93"/>
                    </a:lnTo>
                    <a:lnTo>
                      <a:pt x="255" y="102"/>
                    </a:lnTo>
                    <a:lnTo>
                      <a:pt x="257" y="113"/>
                    </a:lnTo>
                    <a:lnTo>
                      <a:pt x="257" y="122"/>
                    </a:lnTo>
                    <a:lnTo>
                      <a:pt x="258" y="129"/>
                    </a:lnTo>
                    <a:lnTo>
                      <a:pt x="258" y="137"/>
                    </a:lnTo>
                    <a:lnTo>
                      <a:pt x="259" y="144"/>
                    </a:lnTo>
                    <a:lnTo>
                      <a:pt x="259" y="149"/>
                    </a:lnTo>
                    <a:lnTo>
                      <a:pt x="260" y="153"/>
                    </a:lnTo>
                    <a:lnTo>
                      <a:pt x="260" y="155"/>
                    </a:lnTo>
                    <a:lnTo>
                      <a:pt x="262" y="157"/>
                    </a:lnTo>
                    <a:lnTo>
                      <a:pt x="73" y="214"/>
                    </a:lnTo>
                    <a:lnTo>
                      <a:pt x="48" y="22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94760" y="4577040"/>
                <a:ext cx="87840" cy="107640"/>
              </a:xfrm>
              <a:custGeom>
                <a:avLst/>
                <a:gdLst/>
                <a:ahLst/>
                <a:rect l="l" t="t" r="r" b="b"/>
                <a:pathLst>
                  <a:path w="148" h="179">
                    <a:moveTo>
                      <a:pt x="0" y="0"/>
                    </a:moveTo>
                    <a:lnTo>
                      <a:pt x="1" y="169"/>
                    </a:lnTo>
                    <a:lnTo>
                      <a:pt x="1" y="169"/>
                    </a:lnTo>
                    <a:lnTo>
                      <a:pt x="5" y="170"/>
                    </a:lnTo>
                    <a:lnTo>
                      <a:pt x="11" y="170"/>
                    </a:lnTo>
                    <a:lnTo>
                      <a:pt x="18" y="172"/>
                    </a:lnTo>
                    <a:lnTo>
                      <a:pt x="26" y="174"/>
                    </a:lnTo>
                    <a:lnTo>
                      <a:pt x="37" y="176"/>
                    </a:lnTo>
                    <a:lnTo>
                      <a:pt x="48" y="178"/>
                    </a:lnTo>
                    <a:lnTo>
                      <a:pt x="59" y="179"/>
                    </a:lnTo>
                    <a:lnTo>
                      <a:pt x="71" y="179"/>
                    </a:lnTo>
                    <a:lnTo>
                      <a:pt x="82" y="179"/>
                    </a:lnTo>
                    <a:lnTo>
                      <a:pt x="94" y="178"/>
                    </a:lnTo>
                    <a:lnTo>
                      <a:pt x="107" y="178"/>
                    </a:lnTo>
                    <a:lnTo>
                      <a:pt x="118" y="174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2" y="162"/>
                    </a:lnTo>
                    <a:lnTo>
                      <a:pt x="14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65680" y="4597200"/>
                <a:ext cx="41400" cy="460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9" y="8"/>
                    </a:moveTo>
                    <a:lnTo>
                      <a:pt x="11" y="6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63" y="5"/>
                    </a:lnTo>
                    <a:lnTo>
                      <a:pt x="67" y="12"/>
                    </a:lnTo>
                    <a:lnTo>
                      <a:pt x="67" y="14"/>
                    </a:lnTo>
                    <a:lnTo>
                      <a:pt x="67" y="19"/>
                    </a:lnTo>
                    <a:lnTo>
                      <a:pt x="67" y="23"/>
                    </a:lnTo>
                    <a:lnTo>
                      <a:pt x="68" y="28"/>
                    </a:lnTo>
                    <a:lnTo>
                      <a:pt x="68" y="32"/>
                    </a:lnTo>
                    <a:lnTo>
                      <a:pt x="68" y="37"/>
                    </a:lnTo>
                    <a:lnTo>
                      <a:pt x="68" y="43"/>
                    </a:lnTo>
                    <a:lnTo>
                      <a:pt x="69" y="48"/>
                    </a:lnTo>
                    <a:lnTo>
                      <a:pt x="68" y="52"/>
                    </a:lnTo>
                    <a:lnTo>
                      <a:pt x="68" y="56"/>
                    </a:lnTo>
                    <a:lnTo>
                      <a:pt x="67" y="60"/>
                    </a:lnTo>
                    <a:lnTo>
                      <a:pt x="65" y="63"/>
                    </a:lnTo>
                    <a:lnTo>
                      <a:pt x="63" y="69"/>
                    </a:lnTo>
                    <a:lnTo>
                      <a:pt x="59" y="71"/>
                    </a:lnTo>
                    <a:lnTo>
                      <a:pt x="55" y="71"/>
                    </a:lnTo>
                    <a:lnTo>
                      <a:pt x="51" y="72"/>
                    </a:lnTo>
                    <a:lnTo>
                      <a:pt x="47" y="72"/>
                    </a:lnTo>
                    <a:lnTo>
                      <a:pt x="43" y="74"/>
                    </a:lnTo>
                    <a:lnTo>
                      <a:pt x="38" y="74"/>
                    </a:lnTo>
                    <a:lnTo>
                      <a:pt x="34" y="74"/>
                    </a:lnTo>
                    <a:lnTo>
                      <a:pt x="29" y="75"/>
                    </a:lnTo>
                    <a:lnTo>
                      <a:pt x="25" y="75"/>
                    </a:lnTo>
                    <a:lnTo>
                      <a:pt x="20" y="75"/>
                    </a:lnTo>
                    <a:lnTo>
                      <a:pt x="15" y="76"/>
                    </a:lnTo>
                    <a:lnTo>
                      <a:pt x="11" y="76"/>
                    </a:lnTo>
                    <a:lnTo>
                      <a:pt x="8" y="76"/>
                    </a:lnTo>
                    <a:lnTo>
                      <a:pt x="3" y="76"/>
                    </a:lnTo>
                    <a:lnTo>
                      <a:pt x="2" y="78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21" y="58"/>
                    </a:lnTo>
                    <a:lnTo>
                      <a:pt x="26" y="60"/>
                    </a:lnTo>
                    <a:lnTo>
                      <a:pt x="30" y="60"/>
                    </a:lnTo>
                    <a:lnTo>
                      <a:pt x="38" y="60"/>
                    </a:lnTo>
                    <a:lnTo>
                      <a:pt x="46" y="58"/>
                    </a:lnTo>
                    <a:lnTo>
                      <a:pt x="51" y="56"/>
                    </a:lnTo>
                    <a:lnTo>
                      <a:pt x="54" y="50"/>
                    </a:lnTo>
                    <a:lnTo>
                      <a:pt x="52" y="43"/>
                    </a:lnTo>
                    <a:lnTo>
                      <a:pt x="52" y="35"/>
                    </a:lnTo>
                    <a:lnTo>
                      <a:pt x="51" y="28"/>
                    </a:lnTo>
                    <a:lnTo>
                      <a:pt x="51" y="23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39" y="15"/>
                    </a:lnTo>
                    <a:lnTo>
                      <a:pt x="32" y="15"/>
                    </a:lnTo>
                    <a:lnTo>
                      <a:pt x="24" y="17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8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00480" y="4417920"/>
                <a:ext cx="16920" cy="194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5" y="31"/>
                    </a:moveTo>
                    <a:lnTo>
                      <a:pt x="20" y="29"/>
                    </a:lnTo>
                    <a:lnTo>
                      <a:pt x="27" y="27"/>
                    </a:lnTo>
                    <a:lnTo>
                      <a:pt x="30" y="22"/>
                    </a:lnTo>
                    <a:lnTo>
                      <a:pt x="31" y="16"/>
                    </a:lnTo>
                    <a:lnTo>
                      <a:pt x="30" y="9"/>
                    </a:lnTo>
                    <a:lnTo>
                      <a:pt x="27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9" y="29"/>
                    </a:lnTo>
                    <a:lnTo>
                      <a:pt x="15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ad5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33560" y="44913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48"/>
                    </a:moveTo>
                    <a:lnTo>
                      <a:pt x="28" y="48"/>
                    </a:lnTo>
                    <a:lnTo>
                      <a:pt x="32" y="47"/>
                    </a:lnTo>
                    <a:lnTo>
                      <a:pt x="36" y="43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7" y="34"/>
                    </a:lnTo>
                    <a:lnTo>
                      <a:pt x="48" y="29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6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7" y="41"/>
                    </a:lnTo>
                    <a:lnTo>
                      <a:pt x="9" y="43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4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ad5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57160" y="415080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22"/>
                    </a:moveTo>
                    <a:lnTo>
                      <a:pt x="15" y="21"/>
                    </a:lnTo>
                    <a:lnTo>
                      <a:pt x="19" y="18"/>
                    </a:lnTo>
                    <a:lnTo>
                      <a:pt x="21" y="14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174440" y="414324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0" y="21"/>
                    </a:moveTo>
                    <a:lnTo>
                      <a:pt x="18" y="18"/>
                    </a:lnTo>
                    <a:lnTo>
                      <a:pt x="21" y="12"/>
                    </a:lnTo>
                    <a:lnTo>
                      <a:pt x="18" y="4"/>
                    </a:lnTo>
                    <a:lnTo>
                      <a:pt x="10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69400" y="417024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7" y="18"/>
                    </a:moveTo>
                    <a:lnTo>
                      <a:pt x="15" y="14"/>
                    </a:lnTo>
                    <a:lnTo>
                      <a:pt x="18" y="9"/>
                    </a:lnTo>
                    <a:lnTo>
                      <a:pt x="15" y="1"/>
                    </a:lnTo>
                    <a:lnTo>
                      <a:pt x="7" y="0"/>
                    </a:lnTo>
                    <a:lnTo>
                      <a:pt x="2" y="1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84520" y="416052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1" y="17"/>
                    </a:moveTo>
                    <a:lnTo>
                      <a:pt x="16" y="14"/>
                    </a:lnTo>
                    <a:lnTo>
                      <a:pt x="20" y="9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3" y="1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179480" y="4187160"/>
                <a:ext cx="11880" cy="97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9" y="18"/>
                    </a:moveTo>
                    <a:lnTo>
                      <a:pt x="16" y="15"/>
                    </a:lnTo>
                    <a:lnTo>
                      <a:pt x="20" y="7"/>
                    </a:lnTo>
                    <a:lnTo>
                      <a:pt x="16" y="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5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198920" y="417492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4" y="14"/>
                    </a:lnTo>
                    <a:lnTo>
                      <a:pt x="17" y="8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118640" y="40082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3" y="27"/>
                    </a:moveTo>
                    <a:lnTo>
                      <a:pt x="19" y="26"/>
                    </a:lnTo>
                    <a:lnTo>
                      <a:pt x="23" y="23"/>
                    </a:lnTo>
                    <a:lnTo>
                      <a:pt x="26" y="18"/>
                    </a:lnTo>
                    <a:lnTo>
                      <a:pt x="28" y="14"/>
                    </a:lnTo>
                    <a:lnTo>
                      <a:pt x="26" y="8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4" y="23"/>
                    </a:lnTo>
                    <a:lnTo>
                      <a:pt x="8" y="26"/>
                    </a:lnTo>
                    <a:lnTo>
                      <a:pt x="13" y="27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118640" y="3809880"/>
                <a:ext cx="19080" cy="194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6" y="0"/>
                    </a:moveTo>
                    <a:lnTo>
                      <a:pt x="5" y="6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6" y="18"/>
                    </a:lnTo>
                    <a:lnTo>
                      <a:pt x="8" y="21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7" y="13"/>
                    </a:lnTo>
                    <a:lnTo>
                      <a:pt x="30" y="17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1" y="29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3" y="34"/>
                    </a:lnTo>
                    <a:lnTo>
                      <a:pt x="6" y="30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9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94760" y="4562640"/>
                <a:ext cx="87840" cy="21960"/>
              </a:xfrm>
              <a:custGeom>
                <a:avLst/>
                <a:gdLst/>
                <a:ahLst/>
                <a:rect l="l" t="t" r="r" b="b"/>
                <a:pathLst>
                  <a:path w="148" h="38">
                    <a:moveTo>
                      <a:pt x="4" y="26"/>
                    </a:moveTo>
                    <a:lnTo>
                      <a:pt x="4" y="26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25" y="30"/>
                    </a:lnTo>
                    <a:lnTo>
                      <a:pt x="37" y="31"/>
                    </a:lnTo>
                    <a:lnTo>
                      <a:pt x="48" y="33"/>
                    </a:lnTo>
                    <a:lnTo>
                      <a:pt x="61" y="34"/>
                    </a:lnTo>
                    <a:lnTo>
                      <a:pt x="74" y="37"/>
                    </a:lnTo>
                    <a:lnTo>
                      <a:pt x="88" y="37"/>
                    </a:lnTo>
                    <a:lnTo>
                      <a:pt x="101" y="38"/>
                    </a:lnTo>
                    <a:lnTo>
                      <a:pt x="112" y="37"/>
                    </a:lnTo>
                    <a:lnTo>
                      <a:pt x="124" y="37"/>
                    </a:lnTo>
                    <a:lnTo>
                      <a:pt x="133" y="35"/>
                    </a:lnTo>
                    <a:lnTo>
                      <a:pt x="141" y="34"/>
                    </a:lnTo>
                    <a:lnTo>
                      <a:pt x="145" y="31"/>
                    </a:lnTo>
                    <a:lnTo>
                      <a:pt x="148" y="27"/>
                    </a:lnTo>
                    <a:lnTo>
                      <a:pt x="146" y="22"/>
                    </a:lnTo>
                    <a:lnTo>
                      <a:pt x="142" y="18"/>
                    </a:lnTo>
                    <a:lnTo>
                      <a:pt x="134" y="13"/>
                    </a:lnTo>
                    <a:lnTo>
                      <a:pt x="128" y="11"/>
                    </a:lnTo>
                    <a:lnTo>
                      <a:pt x="118" y="8"/>
                    </a:lnTo>
                    <a:lnTo>
                      <a:pt x="108" y="5"/>
                    </a:lnTo>
                    <a:lnTo>
                      <a:pt x="97" y="4"/>
                    </a:lnTo>
                    <a:lnTo>
                      <a:pt x="85" y="3"/>
                    </a:lnTo>
                    <a:lnTo>
                      <a:pt x="73" y="2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6" y="3"/>
                    </a:lnTo>
                    <a:lnTo>
                      <a:pt x="12" y="5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4"/>
                    </a:lnTo>
                    <a:lnTo>
                      <a:pt x="4" y="26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f5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62200" y="409680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47" y="0"/>
                    </a:moveTo>
                    <a:lnTo>
                      <a:pt x="49" y="5"/>
                    </a:lnTo>
                    <a:lnTo>
                      <a:pt x="53" y="12"/>
                    </a:lnTo>
                    <a:lnTo>
                      <a:pt x="55" y="15"/>
                    </a:lnTo>
                    <a:lnTo>
                      <a:pt x="57" y="18"/>
                    </a:lnTo>
                    <a:lnTo>
                      <a:pt x="58" y="24"/>
                    </a:lnTo>
                    <a:lnTo>
                      <a:pt x="61" y="29"/>
                    </a:lnTo>
                    <a:lnTo>
                      <a:pt x="62" y="31"/>
                    </a:lnTo>
                    <a:lnTo>
                      <a:pt x="64" y="37"/>
                    </a:lnTo>
                    <a:lnTo>
                      <a:pt x="64" y="42"/>
                    </a:lnTo>
                    <a:lnTo>
                      <a:pt x="65" y="46"/>
                    </a:lnTo>
                    <a:lnTo>
                      <a:pt x="64" y="49"/>
                    </a:lnTo>
                    <a:lnTo>
                      <a:pt x="64" y="55"/>
                    </a:lnTo>
                    <a:lnTo>
                      <a:pt x="62" y="59"/>
                    </a:lnTo>
                    <a:lnTo>
                      <a:pt x="60" y="64"/>
                    </a:lnTo>
                    <a:lnTo>
                      <a:pt x="55" y="65"/>
                    </a:lnTo>
                    <a:lnTo>
                      <a:pt x="51" y="65"/>
                    </a:lnTo>
                    <a:lnTo>
                      <a:pt x="48" y="64"/>
                    </a:lnTo>
                    <a:lnTo>
                      <a:pt x="45" y="62"/>
                    </a:lnTo>
                    <a:lnTo>
                      <a:pt x="40" y="57"/>
                    </a:lnTo>
                    <a:lnTo>
                      <a:pt x="39" y="52"/>
                    </a:lnTo>
                    <a:lnTo>
                      <a:pt x="35" y="46"/>
                    </a:lnTo>
                    <a:lnTo>
                      <a:pt x="31" y="42"/>
                    </a:lnTo>
                    <a:lnTo>
                      <a:pt x="28" y="40"/>
                    </a:lnTo>
                    <a:lnTo>
                      <a:pt x="26" y="42"/>
                    </a:lnTo>
                    <a:lnTo>
                      <a:pt x="22" y="42"/>
                    </a:lnTo>
                    <a:lnTo>
                      <a:pt x="18" y="46"/>
                    </a:lnTo>
                    <a:lnTo>
                      <a:pt x="14" y="47"/>
                    </a:lnTo>
                    <a:lnTo>
                      <a:pt x="10" y="49"/>
                    </a:lnTo>
                    <a:lnTo>
                      <a:pt x="5" y="49"/>
                    </a:lnTo>
                    <a:lnTo>
                      <a:pt x="0" y="46"/>
                    </a:lnTo>
                    <a:lnTo>
                      <a:pt x="2" y="39"/>
                    </a:lnTo>
                    <a:lnTo>
                      <a:pt x="4" y="33"/>
                    </a:lnTo>
                    <a:lnTo>
                      <a:pt x="10" y="29"/>
                    </a:lnTo>
                    <a:lnTo>
                      <a:pt x="15" y="26"/>
                    </a:lnTo>
                    <a:lnTo>
                      <a:pt x="22" y="24"/>
                    </a:lnTo>
                    <a:lnTo>
                      <a:pt x="27" y="20"/>
                    </a:lnTo>
                    <a:lnTo>
                      <a:pt x="32" y="16"/>
                    </a:lnTo>
                    <a:lnTo>
                      <a:pt x="36" y="12"/>
                    </a:lnTo>
                    <a:lnTo>
                      <a:pt x="42" y="7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31560" y="4123800"/>
                <a:ext cx="29160" cy="2664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23" y="47"/>
                    </a:moveTo>
                    <a:lnTo>
                      <a:pt x="27" y="47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5"/>
                    </a:lnTo>
                    <a:lnTo>
                      <a:pt x="45" y="31"/>
                    </a:lnTo>
                    <a:lnTo>
                      <a:pt x="47" y="27"/>
                    </a:lnTo>
                    <a:lnTo>
                      <a:pt x="48" y="23"/>
                    </a:lnTo>
                    <a:lnTo>
                      <a:pt x="47" y="18"/>
                    </a:lnTo>
                    <a:lnTo>
                      <a:pt x="45" y="14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6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1"/>
                    </a:lnTo>
                    <a:lnTo>
                      <a:pt x="4" y="35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4" y="44"/>
                    </a:lnTo>
                    <a:lnTo>
                      <a:pt x="18" y="47"/>
                    </a:lnTo>
                    <a:lnTo>
                      <a:pt x="23" y="47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31560" y="408960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8" y="1"/>
                    </a:moveTo>
                    <a:lnTo>
                      <a:pt x="10" y="0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7" y="10"/>
                    </a:lnTo>
                    <a:lnTo>
                      <a:pt x="17" y="14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7" y="30"/>
                    </a:lnTo>
                    <a:lnTo>
                      <a:pt x="13" y="35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1" y="25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68280" y="4096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22" y="0"/>
                    </a:moveTo>
                    <a:lnTo>
                      <a:pt x="27" y="3"/>
                    </a:lnTo>
                    <a:lnTo>
                      <a:pt x="30" y="7"/>
                    </a:lnTo>
                    <a:lnTo>
                      <a:pt x="27" y="13"/>
                    </a:lnTo>
                    <a:lnTo>
                      <a:pt x="25" y="18"/>
                    </a:lnTo>
                    <a:lnTo>
                      <a:pt x="18" y="23"/>
                    </a:lnTo>
                    <a:lnTo>
                      <a:pt x="13" y="25"/>
                    </a:lnTo>
                    <a:lnTo>
                      <a:pt x="6" y="27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3"/>
                    </a:lnTo>
                    <a:lnTo>
                      <a:pt x="6" y="10"/>
                    </a:lnTo>
                    <a:lnTo>
                      <a:pt x="10" y="7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75480" y="4138560"/>
                <a:ext cx="27000" cy="147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" y="0"/>
                    </a:moveTo>
                    <a:lnTo>
                      <a:pt x="9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4" y="5"/>
                    </a:lnTo>
                    <a:lnTo>
                      <a:pt x="41" y="8"/>
                    </a:lnTo>
                    <a:lnTo>
                      <a:pt x="46" y="10"/>
                    </a:lnTo>
                    <a:lnTo>
                      <a:pt x="47" y="15"/>
                    </a:lnTo>
                    <a:lnTo>
                      <a:pt x="43" y="23"/>
                    </a:lnTo>
                    <a:lnTo>
                      <a:pt x="39" y="21"/>
                    </a:lnTo>
                    <a:lnTo>
                      <a:pt x="33" y="21"/>
                    </a:lnTo>
                    <a:lnTo>
                      <a:pt x="26" y="21"/>
                    </a:lnTo>
                    <a:lnTo>
                      <a:pt x="20" y="19"/>
                    </a:lnTo>
                    <a:lnTo>
                      <a:pt x="15" y="18"/>
                    </a:lnTo>
                    <a:lnTo>
                      <a:pt x="9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46680" y="4172760"/>
                <a:ext cx="11880" cy="2664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1" y="0"/>
                    </a:moveTo>
                    <a:lnTo>
                      <a:pt x="13" y="4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9" y="18"/>
                    </a:lnTo>
                    <a:lnTo>
                      <a:pt x="19" y="22"/>
                    </a:lnTo>
                    <a:lnTo>
                      <a:pt x="20" y="27"/>
                    </a:lnTo>
                    <a:lnTo>
                      <a:pt x="19" y="35"/>
                    </a:lnTo>
                    <a:lnTo>
                      <a:pt x="16" y="41"/>
                    </a:lnTo>
                    <a:lnTo>
                      <a:pt x="12" y="47"/>
                    </a:lnTo>
                    <a:lnTo>
                      <a:pt x="6" y="48"/>
                    </a:lnTo>
                    <a:lnTo>
                      <a:pt x="3" y="41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2" y="23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974280" y="4471920"/>
                <a:ext cx="80280" cy="104760"/>
              </a:xfrm>
              <a:custGeom>
                <a:avLst/>
                <a:gdLst/>
                <a:ahLst/>
                <a:rect l="l" t="t" r="r" b="b"/>
                <a:pathLst>
                  <a:path w="133" h="168">
                    <a:moveTo>
                      <a:pt x="126" y="0"/>
                    </a:moveTo>
                    <a:lnTo>
                      <a:pt x="131" y="6"/>
                    </a:lnTo>
                    <a:lnTo>
                      <a:pt x="133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27" y="26"/>
                    </a:lnTo>
                    <a:lnTo>
                      <a:pt x="125" y="31"/>
                    </a:lnTo>
                    <a:lnTo>
                      <a:pt x="118" y="39"/>
                    </a:lnTo>
                    <a:lnTo>
                      <a:pt x="112" y="47"/>
                    </a:lnTo>
                    <a:lnTo>
                      <a:pt x="105" y="54"/>
                    </a:lnTo>
                    <a:lnTo>
                      <a:pt x="101" y="62"/>
                    </a:lnTo>
                    <a:lnTo>
                      <a:pt x="95" y="69"/>
                    </a:lnTo>
                    <a:lnTo>
                      <a:pt x="90" y="75"/>
                    </a:lnTo>
                    <a:lnTo>
                      <a:pt x="84" y="82"/>
                    </a:lnTo>
                    <a:lnTo>
                      <a:pt x="79" y="89"/>
                    </a:lnTo>
                    <a:lnTo>
                      <a:pt x="74" y="96"/>
                    </a:lnTo>
                    <a:lnTo>
                      <a:pt x="70" y="104"/>
                    </a:lnTo>
                    <a:lnTo>
                      <a:pt x="65" y="111"/>
                    </a:lnTo>
                    <a:lnTo>
                      <a:pt x="61" y="119"/>
                    </a:lnTo>
                    <a:lnTo>
                      <a:pt x="56" y="126"/>
                    </a:lnTo>
                    <a:lnTo>
                      <a:pt x="50" y="132"/>
                    </a:lnTo>
                    <a:lnTo>
                      <a:pt x="45" y="139"/>
                    </a:lnTo>
                    <a:lnTo>
                      <a:pt x="41" y="146"/>
                    </a:lnTo>
                    <a:lnTo>
                      <a:pt x="35" y="151"/>
                    </a:lnTo>
                    <a:lnTo>
                      <a:pt x="30" y="158"/>
                    </a:lnTo>
                    <a:lnTo>
                      <a:pt x="22" y="162"/>
                    </a:lnTo>
                    <a:lnTo>
                      <a:pt x="15" y="168"/>
                    </a:lnTo>
                    <a:lnTo>
                      <a:pt x="11" y="166"/>
                    </a:lnTo>
                    <a:lnTo>
                      <a:pt x="6" y="166"/>
                    </a:lnTo>
                    <a:lnTo>
                      <a:pt x="2" y="164"/>
                    </a:lnTo>
                    <a:lnTo>
                      <a:pt x="0" y="164"/>
                    </a:lnTo>
                    <a:lnTo>
                      <a:pt x="3" y="159"/>
                    </a:lnTo>
                    <a:lnTo>
                      <a:pt x="9" y="154"/>
                    </a:lnTo>
                    <a:lnTo>
                      <a:pt x="13" y="150"/>
                    </a:lnTo>
                    <a:lnTo>
                      <a:pt x="18" y="145"/>
                    </a:lnTo>
                    <a:lnTo>
                      <a:pt x="22" y="141"/>
                    </a:lnTo>
                    <a:lnTo>
                      <a:pt x="27" y="136"/>
                    </a:lnTo>
                    <a:lnTo>
                      <a:pt x="32" y="132"/>
                    </a:lnTo>
                    <a:lnTo>
                      <a:pt x="36" y="127"/>
                    </a:lnTo>
                    <a:lnTo>
                      <a:pt x="40" y="122"/>
                    </a:lnTo>
                    <a:lnTo>
                      <a:pt x="44" y="116"/>
                    </a:lnTo>
                    <a:lnTo>
                      <a:pt x="47" y="111"/>
                    </a:lnTo>
                    <a:lnTo>
                      <a:pt x="50" y="106"/>
                    </a:lnTo>
                    <a:lnTo>
                      <a:pt x="54" y="101"/>
                    </a:lnTo>
                    <a:lnTo>
                      <a:pt x="58" y="96"/>
                    </a:lnTo>
                    <a:lnTo>
                      <a:pt x="61" y="91"/>
                    </a:lnTo>
                    <a:lnTo>
                      <a:pt x="65" y="85"/>
                    </a:lnTo>
                    <a:lnTo>
                      <a:pt x="67" y="79"/>
                    </a:lnTo>
                    <a:lnTo>
                      <a:pt x="71" y="74"/>
                    </a:lnTo>
                    <a:lnTo>
                      <a:pt x="75" y="69"/>
                    </a:lnTo>
                    <a:lnTo>
                      <a:pt x="79" y="63"/>
                    </a:lnTo>
                    <a:lnTo>
                      <a:pt x="84" y="58"/>
                    </a:lnTo>
                    <a:lnTo>
                      <a:pt x="88" y="53"/>
                    </a:lnTo>
                    <a:lnTo>
                      <a:pt x="91" y="47"/>
                    </a:lnTo>
                    <a:lnTo>
                      <a:pt x="96" y="43"/>
                    </a:lnTo>
                    <a:lnTo>
                      <a:pt x="99" y="38"/>
                    </a:lnTo>
                    <a:lnTo>
                      <a:pt x="103" y="31"/>
                    </a:lnTo>
                    <a:lnTo>
                      <a:pt x="107" y="26"/>
                    </a:lnTo>
                    <a:lnTo>
                      <a:pt x="110" y="21"/>
                    </a:lnTo>
                    <a:lnTo>
                      <a:pt x="114" y="16"/>
                    </a:lnTo>
                    <a:lnTo>
                      <a:pt x="118" y="10"/>
                    </a:lnTo>
                    <a:lnTo>
                      <a:pt x="122" y="5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013160" y="4493520"/>
                <a:ext cx="58680" cy="78840"/>
              </a:xfrm>
              <a:custGeom>
                <a:avLst/>
                <a:gdLst/>
                <a:ahLst/>
                <a:rect l="l" t="t" r="r" b="b"/>
                <a:pathLst>
                  <a:path w="97" h="129">
                    <a:moveTo>
                      <a:pt x="89" y="0"/>
                    </a:moveTo>
                    <a:lnTo>
                      <a:pt x="94" y="7"/>
                    </a:lnTo>
                    <a:lnTo>
                      <a:pt x="97" y="15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3" y="29"/>
                    </a:lnTo>
                    <a:lnTo>
                      <a:pt x="91" y="33"/>
                    </a:lnTo>
                    <a:lnTo>
                      <a:pt x="85" y="40"/>
                    </a:lnTo>
                    <a:lnTo>
                      <a:pt x="80" y="50"/>
                    </a:lnTo>
                    <a:lnTo>
                      <a:pt x="72" y="55"/>
                    </a:lnTo>
                    <a:lnTo>
                      <a:pt x="64" y="61"/>
                    </a:lnTo>
                    <a:lnTo>
                      <a:pt x="58" y="69"/>
                    </a:lnTo>
                    <a:lnTo>
                      <a:pt x="51" y="77"/>
                    </a:lnTo>
                    <a:lnTo>
                      <a:pt x="48" y="81"/>
                    </a:lnTo>
                    <a:lnTo>
                      <a:pt x="44" y="84"/>
                    </a:lnTo>
                    <a:lnTo>
                      <a:pt x="43" y="90"/>
                    </a:lnTo>
                    <a:lnTo>
                      <a:pt x="41" y="94"/>
                    </a:lnTo>
                    <a:lnTo>
                      <a:pt x="35" y="101"/>
                    </a:lnTo>
                    <a:lnTo>
                      <a:pt x="29" y="110"/>
                    </a:lnTo>
                    <a:lnTo>
                      <a:pt x="26" y="114"/>
                    </a:lnTo>
                    <a:lnTo>
                      <a:pt x="24" y="118"/>
                    </a:lnTo>
                    <a:lnTo>
                      <a:pt x="20" y="122"/>
                    </a:lnTo>
                    <a:lnTo>
                      <a:pt x="17" y="127"/>
                    </a:lnTo>
                    <a:lnTo>
                      <a:pt x="12" y="127"/>
                    </a:lnTo>
                    <a:lnTo>
                      <a:pt x="8" y="127"/>
                    </a:lnTo>
                    <a:lnTo>
                      <a:pt x="4" y="127"/>
                    </a:lnTo>
                    <a:lnTo>
                      <a:pt x="0" y="129"/>
                    </a:lnTo>
                    <a:lnTo>
                      <a:pt x="4" y="121"/>
                    </a:lnTo>
                    <a:lnTo>
                      <a:pt x="8" y="114"/>
                    </a:lnTo>
                    <a:lnTo>
                      <a:pt x="11" y="109"/>
                    </a:lnTo>
                    <a:lnTo>
                      <a:pt x="14" y="103"/>
                    </a:lnTo>
                    <a:lnTo>
                      <a:pt x="18" y="96"/>
                    </a:lnTo>
                    <a:lnTo>
                      <a:pt x="22" y="90"/>
                    </a:lnTo>
                    <a:lnTo>
                      <a:pt x="26" y="83"/>
                    </a:lnTo>
                    <a:lnTo>
                      <a:pt x="31" y="78"/>
                    </a:lnTo>
                    <a:lnTo>
                      <a:pt x="35" y="72"/>
                    </a:lnTo>
                    <a:lnTo>
                      <a:pt x="39" y="66"/>
                    </a:lnTo>
                    <a:lnTo>
                      <a:pt x="44" y="60"/>
                    </a:lnTo>
                    <a:lnTo>
                      <a:pt x="50" y="55"/>
                    </a:lnTo>
                    <a:lnTo>
                      <a:pt x="55" y="50"/>
                    </a:lnTo>
                    <a:lnTo>
                      <a:pt x="60" y="43"/>
                    </a:lnTo>
                    <a:lnTo>
                      <a:pt x="67" y="39"/>
                    </a:lnTo>
                    <a:lnTo>
                      <a:pt x="73" y="34"/>
                    </a:lnTo>
                    <a:lnTo>
                      <a:pt x="76" y="30"/>
                    </a:lnTo>
                    <a:lnTo>
                      <a:pt x="78" y="26"/>
                    </a:lnTo>
                    <a:lnTo>
                      <a:pt x="80" y="21"/>
                    </a:lnTo>
                    <a:lnTo>
                      <a:pt x="81" y="17"/>
                    </a:lnTo>
                    <a:lnTo>
                      <a:pt x="81" y="13"/>
                    </a:lnTo>
                    <a:lnTo>
                      <a:pt x="82" y="8"/>
                    </a:lnTo>
                    <a:lnTo>
                      <a:pt x="84" y="3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69680" y="4501440"/>
                <a:ext cx="21600" cy="3384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30" y="0"/>
                    </a:moveTo>
                    <a:lnTo>
                      <a:pt x="36" y="5"/>
                    </a:lnTo>
                    <a:lnTo>
                      <a:pt x="37" y="12"/>
                    </a:lnTo>
                    <a:lnTo>
                      <a:pt x="34" y="18"/>
                    </a:lnTo>
                    <a:lnTo>
                      <a:pt x="30" y="26"/>
                    </a:lnTo>
                    <a:lnTo>
                      <a:pt x="25" y="34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1" y="54"/>
                    </a:lnTo>
                    <a:lnTo>
                      <a:pt x="7" y="54"/>
                    </a:lnTo>
                    <a:lnTo>
                      <a:pt x="3" y="54"/>
                    </a:lnTo>
                    <a:lnTo>
                      <a:pt x="0" y="46"/>
                    </a:lnTo>
                    <a:lnTo>
                      <a:pt x="2" y="39"/>
                    </a:lnTo>
                    <a:lnTo>
                      <a:pt x="6" y="32"/>
                    </a:lnTo>
                    <a:lnTo>
                      <a:pt x="11" y="26"/>
                    </a:lnTo>
                    <a:lnTo>
                      <a:pt x="16" y="19"/>
                    </a:lnTo>
                    <a:lnTo>
                      <a:pt x="21" y="13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81920" y="4510800"/>
                <a:ext cx="33480" cy="51480"/>
              </a:xfrm>
              <a:custGeom>
                <a:avLst/>
                <a:gdLst/>
                <a:ahLst/>
                <a:rect l="l" t="t" r="r" b="b"/>
                <a:pathLst>
                  <a:path w="57" h="84">
                    <a:moveTo>
                      <a:pt x="52" y="0"/>
                    </a:moveTo>
                    <a:lnTo>
                      <a:pt x="54" y="4"/>
                    </a:lnTo>
                    <a:lnTo>
                      <a:pt x="56" y="8"/>
                    </a:lnTo>
                    <a:lnTo>
                      <a:pt x="56" y="13"/>
                    </a:lnTo>
                    <a:lnTo>
                      <a:pt x="57" y="17"/>
                    </a:lnTo>
                    <a:lnTo>
                      <a:pt x="56" y="22"/>
                    </a:lnTo>
                    <a:lnTo>
                      <a:pt x="56" y="27"/>
                    </a:lnTo>
                    <a:lnTo>
                      <a:pt x="53" y="32"/>
                    </a:lnTo>
                    <a:lnTo>
                      <a:pt x="52" y="38"/>
                    </a:lnTo>
                    <a:lnTo>
                      <a:pt x="48" y="43"/>
                    </a:lnTo>
                    <a:lnTo>
                      <a:pt x="44" y="47"/>
                    </a:lnTo>
                    <a:lnTo>
                      <a:pt x="41" y="52"/>
                    </a:lnTo>
                    <a:lnTo>
                      <a:pt x="39" y="57"/>
                    </a:lnTo>
                    <a:lnTo>
                      <a:pt x="34" y="61"/>
                    </a:lnTo>
                    <a:lnTo>
                      <a:pt x="30" y="66"/>
                    </a:lnTo>
                    <a:lnTo>
                      <a:pt x="26" y="70"/>
                    </a:lnTo>
                    <a:lnTo>
                      <a:pt x="23" y="74"/>
                    </a:lnTo>
                    <a:lnTo>
                      <a:pt x="17" y="79"/>
                    </a:lnTo>
                    <a:lnTo>
                      <a:pt x="11" y="84"/>
                    </a:lnTo>
                    <a:lnTo>
                      <a:pt x="5" y="80"/>
                    </a:lnTo>
                    <a:lnTo>
                      <a:pt x="0" y="79"/>
                    </a:lnTo>
                    <a:lnTo>
                      <a:pt x="4" y="74"/>
                    </a:lnTo>
                    <a:lnTo>
                      <a:pt x="8" y="70"/>
                    </a:lnTo>
                    <a:lnTo>
                      <a:pt x="11" y="65"/>
                    </a:lnTo>
                    <a:lnTo>
                      <a:pt x="15" y="60"/>
                    </a:lnTo>
                    <a:lnTo>
                      <a:pt x="19" y="54"/>
                    </a:lnTo>
                    <a:lnTo>
                      <a:pt x="22" y="51"/>
                    </a:lnTo>
                    <a:lnTo>
                      <a:pt x="26" y="45"/>
                    </a:lnTo>
                    <a:lnTo>
                      <a:pt x="30" y="40"/>
                    </a:lnTo>
                    <a:lnTo>
                      <a:pt x="31" y="35"/>
                    </a:lnTo>
                    <a:lnTo>
                      <a:pt x="35" y="30"/>
                    </a:lnTo>
                    <a:lnTo>
                      <a:pt x="36" y="25"/>
                    </a:lnTo>
                    <a:lnTo>
                      <a:pt x="40" y="20"/>
                    </a:lnTo>
                    <a:lnTo>
                      <a:pt x="43" y="14"/>
                    </a:lnTo>
                    <a:lnTo>
                      <a:pt x="45" y="10"/>
                    </a:lnTo>
                    <a:lnTo>
                      <a:pt x="48" y="4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37640" y="4555440"/>
                <a:ext cx="29160" cy="3168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2" y="0"/>
                    </a:moveTo>
                    <a:lnTo>
                      <a:pt x="47" y="6"/>
                    </a:lnTo>
                    <a:lnTo>
                      <a:pt x="49" y="12"/>
                    </a:lnTo>
                    <a:lnTo>
                      <a:pt x="46" y="20"/>
                    </a:lnTo>
                    <a:lnTo>
                      <a:pt x="41" y="28"/>
                    </a:lnTo>
                    <a:lnTo>
                      <a:pt x="34" y="33"/>
                    </a:lnTo>
                    <a:lnTo>
                      <a:pt x="28" y="40"/>
                    </a:lnTo>
                    <a:lnTo>
                      <a:pt x="21" y="47"/>
                    </a:lnTo>
                    <a:lnTo>
                      <a:pt x="16" y="52"/>
                    </a:lnTo>
                    <a:lnTo>
                      <a:pt x="12" y="52"/>
                    </a:lnTo>
                    <a:lnTo>
                      <a:pt x="8" y="52"/>
                    </a:lnTo>
                    <a:lnTo>
                      <a:pt x="3" y="52"/>
                    </a:lnTo>
                    <a:lnTo>
                      <a:pt x="0" y="53"/>
                    </a:lnTo>
                    <a:lnTo>
                      <a:pt x="2" y="44"/>
                    </a:lnTo>
                    <a:lnTo>
                      <a:pt x="7" y="38"/>
                    </a:lnTo>
                    <a:lnTo>
                      <a:pt x="12" y="31"/>
                    </a:lnTo>
                    <a:lnTo>
                      <a:pt x="19" y="25"/>
                    </a:lnTo>
                    <a:lnTo>
                      <a:pt x="25" y="18"/>
                    </a:lnTo>
                    <a:lnTo>
                      <a:pt x="30" y="12"/>
                    </a:lnTo>
                    <a:lnTo>
                      <a:pt x="37" y="6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3080" y="4621680"/>
                <a:ext cx="27000" cy="216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31" y="0"/>
                    </a:moveTo>
                    <a:lnTo>
                      <a:pt x="35" y="0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3" y="7"/>
                    </a:lnTo>
                    <a:lnTo>
                      <a:pt x="44" y="12"/>
                    </a:lnTo>
                    <a:lnTo>
                      <a:pt x="43" y="20"/>
                    </a:lnTo>
                    <a:lnTo>
                      <a:pt x="38" y="25"/>
                    </a:lnTo>
                    <a:lnTo>
                      <a:pt x="34" y="30"/>
                    </a:lnTo>
                    <a:lnTo>
                      <a:pt x="26" y="35"/>
                    </a:lnTo>
                    <a:lnTo>
                      <a:pt x="20" y="36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7" y="34"/>
                    </a:lnTo>
                    <a:lnTo>
                      <a:pt x="3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7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88240" y="465804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30" y="0"/>
                    </a:moveTo>
                    <a:lnTo>
                      <a:pt x="33" y="2"/>
                    </a:lnTo>
                    <a:lnTo>
                      <a:pt x="39" y="6"/>
                    </a:lnTo>
                    <a:lnTo>
                      <a:pt x="45" y="9"/>
                    </a:lnTo>
                    <a:lnTo>
                      <a:pt x="50" y="13"/>
                    </a:lnTo>
                    <a:lnTo>
                      <a:pt x="48" y="17"/>
                    </a:lnTo>
                    <a:lnTo>
                      <a:pt x="48" y="21"/>
                    </a:lnTo>
                    <a:lnTo>
                      <a:pt x="48" y="25"/>
                    </a:lnTo>
                    <a:lnTo>
                      <a:pt x="48" y="29"/>
                    </a:lnTo>
                    <a:lnTo>
                      <a:pt x="43" y="33"/>
                    </a:lnTo>
                    <a:lnTo>
                      <a:pt x="35" y="37"/>
                    </a:lnTo>
                    <a:lnTo>
                      <a:pt x="30" y="38"/>
                    </a:lnTo>
                    <a:lnTo>
                      <a:pt x="25" y="39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2" y="37"/>
                    </a:lnTo>
                    <a:lnTo>
                      <a:pt x="7" y="35"/>
                    </a:lnTo>
                    <a:lnTo>
                      <a:pt x="3" y="33"/>
                    </a:lnTo>
                    <a:lnTo>
                      <a:pt x="0" y="29"/>
                    </a:lnTo>
                    <a:lnTo>
                      <a:pt x="2" y="24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66120" y="464832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20" y="0"/>
                    </a:moveTo>
                    <a:lnTo>
                      <a:pt x="25" y="0"/>
                    </a:lnTo>
                    <a:lnTo>
                      <a:pt x="29" y="2"/>
                    </a:lnTo>
                    <a:lnTo>
                      <a:pt x="33" y="3"/>
                    </a:lnTo>
                    <a:lnTo>
                      <a:pt x="35" y="7"/>
                    </a:lnTo>
                    <a:lnTo>
                      <a:pt x="37" y="13"/>
                    </a:lnTo>
                    <a:lnTo>
                      <a:pt x="35" y="21"/>
                    </a:lnTo>
                    <a:lnTo>
                      <a:pt x="32" y="25"/>
                    </a:lnTo>
                    <a:lnTo>
                      <a:pt x="26" y="29"/>
                    </a:lnTo>
                    <a:lnTo>
                      <a:pt x="22" y="29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189560" y="413604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1" y="19"/>
                    </a:moveTo>
                    <a:lnTo>
                      <a:pt x="18" y="17"/>
                    </a:lnTo>
                    <a:lnTo>
                      <a:pt x="21" y="9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3" y="1"/>
                    </a:lnTo>
                    <a:lnTo>
                      <a:pt x="0" y="9"/>
                    </a:lnTo>
                    <a:lnTo>
                      <a:pt x="3" y="17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98920" y="4153320"/>
                <a:ext cx="11880" cy="118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0" y="18"/>
                    </a:moveTo>
                    <a:lnTo>
                      <a:pt x="15" y="15"/>
                    </a:lnTo>
                    <a:lnTo>
                      <a:pt x="19" y="9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13680" y="4170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5" y="15"/>
                    </a:lnTo>
                    <a:lnTo>
                      <a:pt x="17" y="8"/>
                    </a:lnTo>
                    <a:lnTo>
                      <a:pt x="15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5479920" y="409428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A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46760" y="475776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A 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9" name="" descr=""/>
            <p:cNvPicPr/>
            <p:nvPr/>
          </p:nvPicPr>
          <p:blipFill>
            <a:blip r:embed="rId2"/>
            <a:stretch/>
          </p:blipFill>
          <p:spPr>
            <a:xfrm>
              <a:off x="4605480" y="3597480"/>
              <a:ext cx="15253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 rot="19373400">
              <a:off x="4852080" y="3604680"/>
              <a:ext cx="2440080" cy="215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89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8918"/>
                </a:path>
              </a:pathLst>
            </a:custGeom>
            <a:noFill/>
            <a:ln w="284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956120" y="4615200"/>
              <a:ext cx="628200" cy="422640"/>
              <a:chOff x="4956120" y="4615200"/>
              <a:chExt cx="628200" cy="422640"/>
            </a:xfrm>
          </p:grpSpPr>
          <p:sp>
            <p:nvSpPr>
              <p:cNvPr id="1102" name=""/>
              <p:cNvSpPr/>
              <p:nvPr/>
            </p:nvSpPr>
            <p:spPr>
              <a:xfrm flipV="1" rot="18353400">
                <a:off x="4969440" y="4731840"/>
                <a:ext cx="303480" cy="188280"/>
              </a:xfrm>
              <a:custGeom>
                <a:avLst/>
                <a:gdLst/>
                <a:ahLst/>
                <a:rect l="l" t="t" r="r" b="b"/>
                <a:pathLst>
                  <a:path w="351" h="227">
                    <a:moveTo>
                      <a:pt x="0" y="0"/>
                    </a:moveTo>
                    <a:lnTo>
                      <a:pt x="41" y="116"/>
                    </a:lnTo>
                    <a:lnTo>
                      <a:pt x="351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 rot="18353400">
                <a:off x="5167080" y="4738320"/>
                <a:ext cx="246240" cy="250920"/>
              </a:xfrm>
              <a:custGeom>
                <a:avLst/>
                <a:gdLst/>
                <a:ahLst/>
                <a:rect l="l" t="t" r="r" b="b"/>
                <a:pathLst>
                  <a:path w="286" h="306">
                    <a:moveTo>
                      <a:pt x="29" y="0"/>
                    </a:moveTo>
                    <a:lnTo>
                      <a:pt x="0" y="88"/>
                    </a:lnTo>
                    <a:lnTo>
                      <a:pt x="286" y="30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 rot="18353400">
                <a:off x="5354640" y="4628520"/>
                <a:ext cx="162000" cy="249480"/>
              </a:xfrm>
              <a:custGeom>
                <a:avLst/>
                <a:gdLst/>
                <a:ahLst/>
                <a:rect l="l" t="t" r="r" b="b"/>
                <a:pathLst>
                  <a:path w="188" h="302">
                    <a:moveTo>
                      <a:pt x="93" y="0"/>
                    </a:moveTo>
                    <a:lnTo>
                      <a:pt x="0" y="36"/>
                    </a:lnTo>
                    <a:lnTo>
                      <a:pt x="188" y="302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flipH="1" flipV="1">
              <a:off x="5523840" y="5675400"/>
              <a:ext cx="2600280" cy="496800"/>
            </a:xfrm>
            <a:prstGeom prst="borderCallout1">
              <a:avLst>
                <a:gd name="adj1" fmla="val 18750"/>
                <a:gd name="adj2" fmla="val -8333"/>
                <a:gd name="adj3" fmla="val 264212"/>
                <a:gd name="adj4" fmla="val 122402"/>
              </a:avLst>
            </a:prstGeom>
            <a:solidFill>
              <a:srgbClr val="e6f3fe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hort Beep Tone is he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533520" y="1289160"/>
            <a:ext cx="8143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feature provides voice announcements for a busy station wit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rupting the existing conversation. The caller can talk to the busy station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existing conversation so that only the busy station hear both incoming par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usy station can alternate conversation between the two parties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y pres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[HOLD/SAVE] button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2280" y="5334120"/>
            <a:ext cx="5590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Over for called extension : PGM113-BTN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 Voice Over : PGM111-BTN22(From V3.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0360" y="921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028880" y="2517120"/>
            <a:ext cx="7092720" cy="3057840"/>
            <a:chOff x="1028880" y="2517120"/>
            <a:chExt cx="7092720" cy="3057840"/>
          </a:xfrm>
        </p:grpSpPr>
        <p:sp>
          <p:nvSpPr>
            <p:cNvPr id="1111" name=""/>
            <p:cNvSpPr/>
            <p:nvPr/>
          </p:nvSpPr>
          <p:spPr>
            <a:xfrm>
              <a:off x="1873080" y="3543480"/>
              <a:ext cx="2438640" cy="533160"/>
            </a:xfrm>
            <a:prstGeom prst="rightArrow">
              <a:avLst>
                <a:gd name="adj1" fmla="val 50000"/>
                <a:gd name="adj2" fmla="val 114348"/>
              </a:avLst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2" name="" descr=""/>
            <p:cNvPicPr/>
            <p:nvPr/>
          </p:nvPicPr>
          <p:blipFill>
            <a:blip r:embed="rId1"/>
            <a:stretch/>
          </p:blipFill>
          <p:spPr>
            <a:xfrm>
              <a:off x="1028880" y="3029040"/>
              <a:ext cx="10728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 flipH="1" flipV="1">
              <a:off x="1111320" y="4247280"/>
              <a:ext cx="2209680" cy="1009800"/>
            </a:xfrm>
            <a:prstGeom prst="wedgeRoundRectCallout">
              <a:avLst>
                <a:gd name="adj1" fmla="val 11634"/>
                <a:gd name="adj2" fmla="val 70597"/>
                <a:gd name="adj3" fmla="val 16667"/>
              </a:avLst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l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sy Tone is he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al ‘*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n talk to STA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23640" y="333360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A 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1873080" y="3808440"/>
              <a:ext cx="2568600" cy="14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5454720" y="4924440"/>
              <a:ext cx="2666880" cy="457200"/>
            </a:xfrm>
            <a:prstGeom prst="borderCallout1">
              <a:avLst>
                <a:gd name="adj1" fmla="val 18750"/>
                <a:gd name="adj2" fmla="val -8333"/>
                <a:gd name="adj3" fmla="val 241666"/>
                <a:gd name="adj4" fmla="val 115115"/>
              </a:avLst>
            </a:prstGeom>
            <a:solidFill>
              <a:srgbClr val="e6f3fe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oice of STA 105 is he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73560" y="2762280"/>
              <a:ext cx="3581280" cy="2057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6429240" y="3095640"/>
              <a:ext cx="1336320" cy="1055160"/>
              <a:chOff x="6429240" y="3095640"/>
              <a:chExt cx="1336320" cy="1055160"/>
            </a:xfrm>
          </p:grpSpPr>
          <p:sp>
            <p:nvSpPr>
              <p:cNvPr id="1119" name=""/>
              <p:cNvSpPr/>
              <p:nvPr/>
            </p:nvSpPr>
            <p:spPr>
              <a:xfrm>
                <a:off x="6455160" y="3095640"/>
                <a:ext cx="1310040" cy="850320"/>
              </a:xfrm>
              <a:custGeom>
                <a:avLst/>
                <a:gdLst/>
                <a:ahLst/>
                <a:rect l="l" t="t" r="r" b="b"/>
                <a:pathLst>
                  <a:path w="2228" h="1507">
                    <a:moveTo>
                      <a:pt x="1080" y="5"/>
                    </a:moveTo>
                    <a:lnTo>
                      <a:pt x="1071" y="4"/>
                    </a:lnTo>
                    <a:lnTo>
                      <a:pt x="1047" y="2"/>
                    </a:lnTo>
                    <a:lnTo>
                      <a:pt x="1008" y="1"/>
                    </a:lnTo>
                    <a:lnTo>
                      <a:pt x="958" y="1"/>
                    </a:lnTo>
                    <a:lnTo>
                      <a:pt x="898" y="0"/>
                    </a:lnTo>
                    <a:lnTo>
                      <a:pt x="832" y="0"/>
                    </a:lnTo>
                    <a:lnTo>
                      <a:pt x="760" y="2"/>
                    </a:lnTo>
                    <a:lnTo>
                      <a:pt x="685" y="8"/>
                    </a:lnTo>
                    <a:lnTo>
                      <a:pt x="608" y="13"/>
                    </a:lnTo>
                    <a:lnTo>
                      <a:pt x="533" y="22"/>
                    </a:lnTo>
                    <a:lnTo>
                      <a:pt x="461" y="32"/>
                    </a:lnTo>
                    <a:lnTo>
                      <a:pt x="396" y="48"/>
                    </a:lnTo>
                    <a:lnTo>
                      <a:pt x="336" y="66"/>
                    </a:lnTo>
                    <a:lnTo>
                      <a:pt x="288" y="88"/>
                    </a:lnTo>
                    <a:lnTo>
                      <a:pt x="251" y="116"/>
                    </a:lnTo>
                    <a:lnTo>
                      <a:pt x="230" y="149"/>
                    </a:lnTo>
                    <a:lnTo>
                      <a:pt x="217" y="184"/>
                    </a:lnTo>
                    <a:lnTo>
                      <a:pt x="210" y="225"/>
                    </a:lnTo>
                    <a:lnTo>
                      <a:pt x="204" y="269"/>
                    </a:lnTo>
                    <a:lnTo>
                      <a:pt x="204" y="314"/>
                    </a:lnTo>
                    <a:lnTo>
                      <a:pt x="206" y="361"/>
                    </a:lnTo>
                    <a:lnTo>
                      <a:pt x="210" y="409"/>
                    </a:lnTo>
                    <a:lnTo>
                      <a:pt x="214" y="456"/>
                    </a:lnTo>
                    <a:lnTo>
                      <a:pt x="219" y="502"/>
                    </a:lnTo>
                    <a:lnTo>
                      <a:pt x="221" y="545"/>
                    </a:lnTo>
                    <a:lnTo>
                      <a:pt x="224" y="586"/>
                    </a:lnTo>
                    <a:lnTo>
                      <a:pt x="224" y="624"/>
                    </a:lnTo>
                    <a:lnTo>
                      <a:pt x="221" y="656"/>
                    </a:lnTo>
                    <a:lnTo>
                      <a:pt x="215" y="683"/>
                    </a:lnTo>
                    <a:lnTo>
                      <a:pt x="204" y="705"/>
                    </a:lnTo>
                    <a:lnTo>
                      <a:pt x="189" y="720"/>
                    </a:lnTo>
                    <a:lnTo>
                      <a:pt x="168" y="726"/>
                    </a:lnTo>
                    <a:lnTo>
                      <a:pt x="143" y="731"/>
                    </a:lnTo>
                    <a:lnTo>
                      <a:pt x="120" y="746"/>
                    </a:lnTo>
                    <a:lnTo>
                      <a:pt x="97" y="765"/>
                    </a:lnTo>
                    <a:lnTo>
                      <a:pt x="78" y="792"/>
                    </a:lnTo>
                    <a:lnTo>
                      <a:pt x="60" y="823"/>
                    </a:lnTo>
                    <a:lnTo>
                      <a:pt x="44" y="860"/>
                    </a:lnTo>
                    <a:lnTo>
                      <a:pt x="31" y="897"/>
                    </a:lnTo>
                    <a:lnTo>
                      <a:pt x="20" y="937"/>
                    </a:lnTo>
                    <a:lnTo>
                      <a:pt x="11" y="976"/>
                    </a:lnTo>
                    <a:lnTo>
                      <a:pt x="3" y="1016"/>
                    </a:lnTo>
                    <a:lnTo>
                      <a:pt x="0" y="1054"/>
                    </a:lnTo>
                    <a:lnTo>
                      <a:pt x="0" y="1090"/>
                    </a:lnTo>
                    <a:lnTo>
                      <a:pt x="1" y="1121"/>
                    </a:lnTo>
                    <a:lnTo>
                      <a:pt x="7" y="1148"/>
                    </a:lnTo>
                    <a:lnTo>
                      <a:pt x="17" y="1169"/>
                    </a:lnTo>
                    <a:lnTo>
                      <a:pt x="28" y="1183"/>
                    </a:lnTo>
                    <a:lnTo>
                      <a:pt x="41" y="1195"/>
                    </a:lnTo>
                    <a:lnTo>
                      <a:pt x="52" y="1208"/>
                    </a:lnTo>
                    <a:lnTo>
                      <a:pt x="61" y="1222"/>
                    </a:lnTo>
                    <a:lnTo>
                      <a:pt x="69" y="1239"/>
                    </a:lnTo>
                    <a:lnTo>
                      <a:pt x="74" y="1254"/>
                    </a:lnTo>
                    <a:lnTo>
                      <a:pt x="80" y="1271"/>
                    </a:lnTo>
                    <a:lnTo>
                      <a:pt x="83" y="1288"/>
                    </a:lnTo>
                    <a:lnTo>
                      <a:pt x="86" y="1306"/>
                    </a:lnTo>
                    <a:lnTo>
                      <a:pt x="87" y="1322"/>
                    </a:lnTo>
                    <a:lnTo>
                      <a:pt x="88" y="1336"/>
                    </a:lnTo>
                    <a:lnTo>
                      <a:pt x="88" y="1350"/>
                    </a:lnTo>
                    <a:lnTo>
                      <a:pt x="88" y="1362"/>
                    </a:lnTo>
                    <a:lnTo>
                      <a:pt x="88" y="1372"/>
                    </a:lnTo>
                    <a:lnTo>
                      <a:pt x="88" y="1380"/>
                    </a:lnTo>
                    <a:lnTo>
                      <a:pt x="88" y="1385"/>
                    </a:lnTo>
                    <a:lnTo>
                      <a:pt x="88" y="1386"/>
                    </a:lnTo>
                    <a:lnTo>
                      <a:pt x="2225" y="1507"/>
                    </a:lnTo>
                    <a:lnTo>
                      <a:pt x="2225" y="1503"/>
                    </a:lnTo>
                    <a:lnTo>
                      <a:pt x="2225" y="1493"/>
                    </a:lnTo>
                    <a:lnTo>
                      <a:pt x="2227" y="1477"/>
                    </a:lnTo>
                    <a:lnTo>
                      <a:pt x="2228" y="1456"/>
                    </a:lnTo>
                    <a:lnTo>
                      <a:pt x="2228" y="1431"/>
                    </a:lnTo>
                    <a:lnTo>
                      <a:pt x="2228" y="1403"/>
                    </a:lnTo>
                    <a:lnTo>
                      <a:pt x="2227" y="1372"/>
                    </a:lnTo>
                    <a:lnTo>
                      <a:pt x="2225" y="1341"/>
                    </a:lnTo>
                    <a:lnTo>
                      <a:pt x="2219" y="1306"/>
                    </a:lnTo>
                    <a:lnTo>
                      <a:pt x="2211" y="1273"/>
                    </a:lnTo>
                    <a:lnTo>
                      <a:pt x="2199" y="1239"/>
                    </a:lnTo>
                    <a:lnTo>
                      <a:pt x="2186" y="1207"/>
                    </a:lnTo>
                    <a:lnTo>
                      <a:pt x="2168" y="1175"/>
                    </a:lnTo>
                    <a:lnTo>
                      <a:pt x="2147" y="1150"/>
                    </a:lnTo>
                    <a:lnTo>
                      <a:pt x="2121" y="1125"/>
                    </a:lnTo>
                    <a:lnTo>
                      <a:pt x="2090" y="1107"/>
                    </a:lnTo>
                    <a:lnTo>
                      <a:pt x="2058" y="1086"/>
                    </a:lnTo>
                    <a:lnTo>
                      <a:pt x="2032" y="1062"/>
                    </a:lnTo>
                    <a:lnTo>
                      <a:pt x="2011" y="1034"/>
                    </a:lnTo>
                    <a:lnTo>
                      <a:pt x="1996" y="1003"/>
                    </a:lnTo>
                    <a:lnTo>
                      <a:pt x="1984" y="968"/>
                    </a:lnTo>
                    <a:lnTo>
                      <a:pt x="1976" y="932"/>
                    </a:lnTo>
                    <a:lnTo>
                      <a:pt x="1972" y="896"/>
                    </a:lnTo>
                    <a:lnTo>
                      <a:pt x="1972" y="857"/>
                    </a:lnTo>
                    <a:lnTo>
                      <a:pt x="1975" y="818"/>
                    </a:lnTo>
                    <a:lnTo>
                      <a:pt x="1983" y="779"/>
                    </a:lnTo>
                    <a:lnTo>
                      <a:pt x="1992" y="740"/>
                    </a:lnTo>
                    <a:lnTo>
                      <a:pt x="2005" y="705"/>
                    </a:lnTo>
                    <a:lnTo>
                      <a:pt x="2018" y="669"/>
                    </a:lnTo>
                    <a:lnTo>
                      <a:pt x="2036" y="638"/>
                    </a:lnTo>
                    <a:lnTo>
                      <a:pt x="2056" y="608"/>
                    </a:lnTo>
                    <a:lnTo>
                      <a:pt x="2078" y="584"/>
                    </a:lnTo>
                    <a:lnTo>
                      <a:pt x="2096" y="558"/>
                    </a:lnTo>
                    <a:lnTo>
                      <a:pt x="2109" y="533"/>
                    </a:lnTo>
                    <a:lnTo>
                      <a:pt x="2116" y="509"/>
                    </a:lnTo>
                    <a:lnTo>
                      <a:pt x="2117" y="485"/>
                    </a:lnTo>
                    <a:lnTo>
                      <a:pt x="2112" y="460"/>
                    </a:lnTo>
                    <a:lnTo>
                      <a:pt x="2103" y="436"/>
                    </a:lnTo>
                    <a:lnTo>
                      <a:pt x="2088" y="413"/>
                    </a:lnTo>
                    <a:lnTo>
                      <a:pt x="2070" y="392"/>
                    </a:lnTo>
                    <a:lnTo>
                      <a:pt x="2047" y="371"/>
                    </a:lnTo>
                    <a:lnTo>
                      <a:pt x="2018" y="353"/>
                    </a:lnTo>
                    <a:lnTo>
                      <a:pt x="1987" y="337"/>
                    </a:lnTo>
                    <a:lnTo>
                      <a:pt x="1953" y="322"/>
                    </a:lnTo>
                    <a:lnTo>
                      <a:pt x="1913" y="309"/>
                    </a:lnTo>
                    <a:lnTo>
                      <a:pt x="1872" y="300"/>
                    </a:lnTo>
                    <a:lnTo>
                      <a:pt x="1827" y="294"/>
                    </a:lnTo>
                    <a:lnTo>
                      <a:pt x="1780" y="292"/>
                    </a:lnTo>
                    <a:lnTo>
                      <a:pt x="1735" y="290"/>
                    </a:lnTo>
                    <a:lnTo>
                      <a:pt x="1696" y="285"/>
                    </a:lnTo>
                    <a:lnTo>
                      <a:pt x="1662" y="278"/>
                    </a:lnTo>
                    <a:lnTo>
                      <a:pt x="1637" y="273"/>
                    </a:lnTo>
                    <a:lnTo>
                      <a:pt x="1616" y="263"/>
                    </a:lnTo>
                    <a:lnTo>
                      <a:pt x="1600" y="255"/>
                    </a:lnTo>
                    <a:lnTo>
                      <a:pt x="1591" y="245"/>
                    </a:lnTo>
                    <a:lnTo>
                      <a:pt x="1589" y="236"/>
                    </a:lnTo>
                    <a:lnTo>
                      <a:pt x="1589" y="225"/>
                    </a:lnTo>
                    <a:lnTo>
                      <a:pt x="1595" y="215"/>
                    </a:lnTo>
                    <a:lnTo>
                      <a:pt x="1606" y="206"/>
                    </a:lnTo>
                    <a:lnTo>
                      <a:pt x="1621" y="198"/>
                    </a:lnTo>
                    <a:lnTo>
                      <a:pt x="1641" y="190"/>
                    </a:lnTo>
                    <a:lnTo>
                      <a:pt x="1664" y="185"/>
                    </a:lnTo>
                    <a:lnTo>
                      <a:pt x="1693" y="181"/>
                    </a:lnTo>
                    <a:lnTo>
                      <a:pt x="1724" y="179"/>
                    </a:lnTo>
                    <a:lnTo>
                      <a:pt x="1756" y="176"/>
                    </a:lnTo>
                    <a:lnTo>
                      <a:pt x="1786" y="171"/>
                    </a:lnTo>
                    <a:lnTo>
                      <a:pt x="1812" y="166"/>
                    </a:lnTo>
                    <a:lnTo>
                      <a:pt x="1838" y="158"/>
                    </a:lnTo>
                    <a:lnTo>
                      <a:pt x="1860" y="147"/>
                    </a:lnTo>
                    <a:lnTo>
                      <a:pt x="1880" y="137"/>
                    </a:lnTo>
                    <a:lnTo>
                      <a:pt x="1895" y="127"/>
                    </a:lnTo>
                    <a:lnTo>
                      <a:pt x="1910" y="115"/>
                    </a:lnTo>
                    <a:lnTo>
                      <a:pt x="1919" y="103"/>
                    </a:lnTo>
                    <a:lnTo>
                      <a:pt x="1927" y="92"/>
                    </a:lnTo>
                    <a:lnTo>
                      <a:pt x="1930" y="81"/>
                    </a:lnTo>
                    <a:lnTo>
                      <a:pt x="1932" y="72"/>
                    </a:lnTo>
                    <a:lnTo>
                      <a:pt x="1928" y="63"/>
                    </a:lnTo>
                    <a:lnTo>
                      <a:pt x="1921" y="57"/>
                    </a:lnTo>
                    <a:lnTo>
                      <a:pt x="1911" y="52"/>
                    </a:lnTo>
                    <a:lnTo>
                      <a:pt x="1898" y="48"/>
                    </a:lnTo>
                    <a:lnTo>
                      <a:pt x="1874" y="45"/>
                    </a:lnTo>
                    <a:lnTo>
                      <a:pt x="1838" y="43"/>
                    </a:lnTo>
                    <a:lnTo>
                      <a:pt x="1790" y="39"/>
                    </a:lnTo>
                    <a:lnTo>
                      <a:pt x="1733" y="36"/>
                    </a:lnTo>
                    <a:lnTo>
                      <a:pt x="1668" y="32"/>
                    </a:lnTo>
                    <a:lnTo>
                      <a:pt x="1600" y="28"/>
                    </a:lnTo>
                    <a:lnTo>
                      <a:pt x="1529" y="24"/>
                    </a:lnTo>
                    <a:lnTo>
                      <a:pt x="1456" y="22"/>
                    </a:lnTo>
                    <a:lnTo>
                      <a:pt x="1384" y="18"/>
                    </a:lnTo>
                    <a:lnTo>
                      <a:pt x="1316" y="15"/>
                    </a:lnTo>
                    <a:lnTo>
                      <a:pt x="1252" y="12"/>
                    </a:lnTo>
                    <a:lnTo>
                      <a:pt x="1196" y="10"/>
                    </a:lnTo>
                    <a:lnTo>
                      <a:pt x="1148" y="8"/>
                    </a:lnTo>
                    <a:lnTo>
                      <a:pt x="1111" y="6"/>
                    </a:lnTo>
                    <a:lnTo>
                      <a:pt x="1088" y="5"/>
                    </a:lnTo>
                    <a:lnTo>
                      <a:pt x="1080" y="5"/>
                    </a:lnTo>
                    <a:lnTo>
                      <a:pt x="1080" y="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33880" y="3553560"/>
                <a:ext cx="101160" cy="292680"/>
              </a:xfrm>
              <a:custGeom>
                <a:avLst/>
                <a:gdLst/>
                <a:ahLst/>
                <a:rect l="l" t="t" r="r" b="b"/>
                <a:pathLst>
                  <a:path w="171" h="521">
                    <a:moveTo>
                      <a:pt x="45" y="0"/>
                    </a:moveTo>
                    <a:lnTo>
                      <a:pt x="44" y="4"/>
                    </a:lnTo>
                    <a:lnTo>
                      <a:pt x="41" y="18"/>
                    </a:lnTo>
                    <a:lnTo>
                      <a:pt x="37" y="40"/>
                    </a:lnTo>
                    <a:lnTo>
                      <a:pt x="33" y="69"/>
                    </a:lnTo>
                    <a:lnTo>
                      <a:pt x="27" y="102"/>
                    </a:lnTo>
                    <a:lnTo>
                      <a:pt x="21" y="141"/>
                    </a:lnTo>
                    <a:lnTo>
                      <a:pt x="16" y="183"/>
                    </a:lnTo>
                    <a:lnTo>
                      <a:pt x="11" y="227"/>
                    </a:lnTo>
                    <a:lnTo>
                      <a:pt x="6" y="271"/>
                    </a:lnTo>
                    <a:lnTo>
                      <a:pt x="3" y="316"/>
                    </a:lnTo>
                    <a:lnTo>
                      <a:pt x="0" y="359"/>
                    </a:lnTo>
                    <a:lnTo>
                      <a:pt x="0" y="400"/>
                    </a:lnTo>
                    <a:lnTo>
                      <a:pt x="2" y="436"/>
                    </a:lnTo>
                    <a:lnTo>
                      <a:pt x="6" y="469"/>
                    </a:lnTo>
                    <a:lnTo>
                      <a:pt x="12" y="495"/>
                    </a:lnTo>
                    <a:lnTo>
                      <a:pt x="23" y="514"/>
                    </a:lnTo>
                    <a:lnTo>
                      <a:pt x="171" y="521"/>
                    </a:lnTo>
                    <a:lnTo>
                      <a:pt x="152" y="39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59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476400" y="3913920"/>
                <a:ext cx="350280" cy="58680"/>
              </a:xfrm>
              <a:custGeom>
                <a:avLst/>
                <a:gdLst/>
                <a:ahLst/>
                <a:rect l="l" t="t" r="r" b="b"/>
                <a:pathLst>
                  <a:path w="596" h="104">
                    <a:moveTo>
                      <a:pt x="449" y="82"/>
                    </a:moveTo>
                    <a:lnTo>
                      <a:pt x="446" y="83"/>
                    </a:lnTo>
                    <a:lnTo>
                      <a:pt x="442" y="90"/>
                    </a:lnTo>
                    <a:lnTo>
                      <a:pt x="438" y="91"/>
                    </a:lnTo>
                    <a:lnTo>
                      <a:pt x="434" y="95"/>
                    </a:lnTo>
                    <a:lnTo>
                      <a:pt x="429" y="99"/>
                    </a:lnTo>
                    <a:lnTo>
                      <a:pt x="425" y="101"/>
                    </a:lnTo>
                    <a:lnTo>
                      <a:pt x="419" y="103"/>
                    </a:lnTo>
                    <a:lnTo>
                      <a:pt x="412" y="104"/>
                    </a:lnTo>
                    <a:lnTo>
                      <a:pt x="406" y="103"/>
                    </a:lnTo>
                    <a:lnTo>
                      <a:pt x="398" y="103"/>
                    </a:lnTo>
                    <a:lnTo>
                      <a:pt x="390" y="99"/>
                    </a:lnTo>
                    <a:lnTo>
                      <a:pt x="382" y="93"/>
                    </a:lnTo>
                    <a:lnTo>
                      <a:pt x="373" y="86"/>
                    </a:lnTo>
                    <a:lnTo>
                      <a:pt x="365" y="77"/>
                    </a:lnTo>
                    <a:lnTo>
                      <a:pt x="155" y="74"/>
                    </a:lnTo>
                    <a:lnTo>
                      <a:pt x="0" y="101"/>
                    </a:lnTo>
                    <a:lnTo>
                      <a:pt x="49" y="35"/>
                    </a:lnTo>
                    <a:lnTo>
                      <a:pt x="122" y="0"/>
                    </a:lnTo>
                    <a:lnTo>
                      <a:pt x="402" y="3"/>
                    </a:lnTo>
                    <a:lnTo>
                      <a:pt x="596" y="99"/>
                    </a:lnTo>
                    <a:lnTo>
                      <a:pt x="548" y="88"/>
                    </a:lnTo>
                    <a:lnTo>
                      <a:pt x="449" y="82"/>
                    </a:lnTo>
                    <a:lnTo>
                      <a:pt x="449" y="82"/>
                    </a:lnTo>
                    <a:close/>
                  </a:path>
                </a:pathLst>
              </a:custGeom>
              <a:solidFill>
                <a:srgbClr val="264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29240" y="3840120"/>
                <a:ext cx="1336320" cy="310680"/>
              </a:xfrm>
              <a:custGeom>
                <a:avLst/>
                <a:gdLst/>
                <a:ahLst/>
                <a:rect l="l" t="t" r="r" b="b"/>
                <a:pathLst>
                  <a:path w="2272" h="549">
                    <a:moveTo>
                      <a:pt x="366" y="0"/>
                    </a:moveTo>
                    <a:lnTo>
                      <a:pt x="1937" y="114"/>
                    </a:lnTo>
                    <a:lnTo>
                      <a:pt x="1940" y="114"/>
                    </a:lnTo>
                    <a:lnTo>
                      <a:pt x="1950" y="113"/>
                    </a:lnTo>
                    <a:lnTo>
                      <a:pt x="1966" y="112"/>
                    </a:lnTo>
                    <a:lnTo>
                      <a:pt x="1988" y="112"/>
                    </a:lnTo>
                    <a:lnTo>
                      <a:pt x="2014" y="110"/>
                    </a:lnTo>
                    <a:lnTo>
                      <a:pt x="2041" y="110"/>
                    </a:lnTo>
                    <a:lnTo>
                      <a:pt x="2071" y="110"/>
                    </a:lnTo>
                    <a:lnTo>
                      <a:pt x="2104" y="113"/>
                    </a:lnTo>
                    <a:lnTo>
                      <a:pt x="2135" y="114"/>
                    </a:lnTo>
                    <a:lnTo>
                      <a:pt x="2165" y="119"/>
                    </a:lnTo>
                    <a:lnTo>
                      <a:pt x="2193" y="124"/>
                    </a:lnTo>
                    <a:lnTo>
                      <a:pt x="2219" y="134"/>
                    </a:lnTo>
                    <a:lnTo>
                      <a:pt x="2240" y="143"/>
                    </a:lnTo>
                    <a:lnTo>
                      <a:pt x="2257" y="154"/>
                    </a:lnTo>
                    <a:lnTo>
                      <a:pt x="2268" y="170"/>
                    </a:lnTo>
                    <a:lnTo>
                      <a:pt x="2272" y="188"/>
                    </a:lnTo>
                    <a:lnTo>
                      <a:pt x="2270" y="207"/>
                    </a:lnTo>
                    <a:lnTo>
                      <a:pt x="2264" y="229"/>
                    </a:lnTo>
                    <a:lnTo>
                      <a:pt x="2255" y="251"/>
                    </a:lnTo>
                    <a:lnTo>
                      <a:pt x="2245" y="275"/>
                    </a:lnTo>
                    <a:lnTo>
                      <a:pt x="2229" y="297"/>
                    </a:lnTo>
                    <a:lnTo>
                      <a:pt x="2214" y="320"/>
                    </a:lnTo>
                    <a:lnTo>
                      <a:pt x="2195" y="342"/>
                    </a:lnTo>
                    <a:lnTo>
                      <a:pt x="2173" y="364"/>
                    </a:lnTo>
                    <a:lnTo>
                      <a:pt x="2151" y="382"/>
                    </a:lnTo>
                    <a:lnTo>
                      <a:pt x="2125" y="400"/>
                    </a:lnTo>
                    <a:lnTo>
                      <a:pt x="2099" y="416"/>
                    </a:lnTo>
                    <a:lnTo>
                      <a:pt x="2071" y="429"/>
                    </a:lnTo>
                    <a:lnTo>
                      <a:pt x="2041" y="436"/>
                    </a:lnTo>
                    <a:lnTo>
                      <a:pt x="2011" y="442"/>
                    </a:lnTo>
                    <a:lnTo>
                      <a:pt x="1981" y="442"/>
                    </a:lnTo>
                    <a:lnTo>
                      <a:pt x="1951" y="438"/>
                    </a:lnTo>
                    <a:lnTo>
                      <a:pt x="1914" y="430"/>
                    </a:lnTo>
                    <a:lnTo>
                      <a:pt x="1864" y="425"/>
                    </a:lnTo>
                    <a:lnTo>
                      <a:pt x="1805" y="418"/>
                    </a:lnTo>
                    <a:lnTo>
                      <a:pt x="1740" y="416"/>
                    </a:lnTo>
                    <a:lnTo>
                      <a:pt x="1667" y="411"/>
                    </a:lnTo>
                    <a:lnTo>
                      <a:pt x="1591" y="408"/>
                    </a:lnTo>
                    <a:lnTo>
                      <a:pt x="1514" y="407"/>
                    </a:lnTo>
                    <a:lnTo>
                      <a:pt x="1437" y="407"/>
                    </a:lnTo>
                    <a:lnTo>
                      <a:pt x="1360" y="407"/>
                    </a:lnTo>
                    <a:lnTo>
                      <a:pt x="1290" y="408"/>
                    </a:lnTo>
                    <a:lnTo>
                      <a:pt x="1223" y="411"/>
                    </a:lnTo>
                    <a:lnTo>
                      <a:pt x="1167" y="416"/>
                    </a:lnTo>
                    <a:lnTo>
                      <a:pt x="1119" y="418"/>
                    </a:lnTo>
                    <a:lnTo>
                      <a:pt x="1082" y="426"/>
                    </a:lnTo>
                    <a:lnTo>
                      <a:pt x="1060" y="433"/>
                    </a:lnTo>
                    <a:lnTo>
                      <a:pt x="1054" y="443"/>
                    </a:lnTo>
                    <a:lnTo>
                      <a:pt x="1055" y="452"/>
                    </a:lnTo>
                    <a:lnTo>
                      <a:pt x="1059" y="464"/>
                    </a:lnTo>
                    <a:lnTo>
                      <a:pt x="1063" y="474"/>
                    </a:lnTo>
                    <a:lnTo>
                      <a:pt x="1068" y="486"/>
                    </a:lnTo>
                    <a:lnTo>
                      <a:pt x="1071" y="496"/>
                    </a:lnTo>
                    <a:lnTo>
                      <a:pt x="1073" y="506"/>
                    </a:lnTo>
                    <a:lnTo>
                      <a:pt x="1073" y="515"/>
                    </a:lnTo>
                    <a:lnTo>
                      <a:pt x="1072" y="526"/>
                    </a:lnTo>
                    <a:lnTo>
                      <a:pt x="1066" y="532"/>
                    </a:lnTo>
                    <a:lnTo>
                      <a:pt x="1056" y="540"/>
                    </a:lnTo>
                    <a:lnTo>
                      <a:pt x="1041" y="544"/>
                    </a:lnTo>
                    <a:lnTo>
                      <a:pt x="1021" y="548"/>
                    </a:lnTo>
                    <a:lnTo>
                      <a:pt x="994" y="549"/>
                    </a:lnTo>
                    <a:lnTo>
                      <a:pt x="961" y="548"/>
                    </a:lnTo>
                    <a:lnTo>
                      <a:pt x="919" y="544"/>
                    </a:lnTo>
                    <a:lnTo>
                      <a:pt x="871" y="539"/>
                    </a:lnTo>
                    <a:lnTo>
                      <a:pt x="812" y="531"/>
                    </a:lnTo>
                    <a:lnTo>
                      <a:pt x="750" y="525"/>
                    </a:lnTo>
                    <a:lnTo>
                      <a:pt x="683" y="517"/>
                    </a:lnTo>
                    <a:lnTo>
                      <a:pt x="614" y="510"/>
                    </a:lnTo>
                    <a:lnTo>
                      <a:pt x="541" y="502"/>
                    </a:lnTo>
                    <a:lnTo>
                      <a:pt x="471" y="496"/>
                    </a:lnTo>
                    <a:lnTo>
                      <a:pt x="399" y="488"/>
                    </a:lnTo>
                    <a:lnTo>
                      <a:pt x="330" y="480"/>
                    </a:lnTo>
                    <a:lnTo>
                      <a:pt x="264" y="471"/>
                    </a:lnTo>
                    <a:lnTo>
                      <a:pt x="202" y="462"/>
                    </a:lnTo>
                    <a:lnTo>
                      <a:pt x="147" y="452"/>
                    </a:lnTo>
                    <a:lnTo>
                      <a:pt x="99" y="442"/>
                    </a:lnTo>
                    <a:lnTo>
                      <a:pt x="58" y="430"/>
                    </a:lnTo>
                    <a:lnTo>
                      <a:pt x="27" y="417"/>
                    </a:lnTo>
                    <a:lnTo>
                      <a:pt x="7" y="403"/>
                    </a:lnTo>
                    <a:lnTo>
                      <a:pt x="1" y="389"/>
                    </a:lnTo>
                    <a:lnTo>
                      <a:pt x="0" y="370"/>
                    </a:lnTo>
                    <a:lnTo>
                      <a:pt x="1" y="351"/>
                    </a:lnTo>
                    <a:lnTo>
                      <a:pt x="4" y="329"/>
                    </a:lnTo>
                    <a:lnTo>
                      <a:pt x="7" y="308"/>
                    </a:lnTo>
                    <a:lnTo>
                      <a:pt x="11" y="284"/>
                    </a:lnTo>
                    <a:lnTo>
                      <a:pt x="19" y="260"/>
                    </a:lnTo>
                    <a:lnTo>
                      <a:pt x="26" y="235"/>
                    </a:lnTo>
                    <a:lnTo>
                      <a:pt x="35" y="212"/>
                    </a:lnTo>
                    <a:lnTo>
                      <a:pt x="44" y="187"/>
                    </a:lnTo>
                    <a:lnTo>
                      <a:pt x="54" y="165"/>
                    </a:lnTo>
                    <a:lnTo>
                      <a:pt x="65" y="143"/>
                    </a:lnTo>
                    <a:lnTo>
                      <a:pt x="79" y="123"/>
                    </a:lnTo>
                    <a:lnTo>
                      <a:pt x="91" y="105"/>
                    </a:lnTo>
                    <a:lnTo>
                      <a:pt x="105" y="89"/>
                    </a:lnTo>
                    <a:lnTo>
                      <a:pt x="120" y="78"/>
                    </a:lnTo>
                    <a:lnTo>
                      <a:pt x="135" y="67"/>
                    </a:lnTo>
                    <a:lnTo>
                      <a:pt x="150" y="60"/>
                    </a:lnTo>
                    <a:lnTo>
                      <a:pt x="167" y="52"/>
                    </a:lnTo>
                    <a:lnTo>
                      <a:pt x="185" y="45"/>
                    </a:lnTo>
                    <a:lnTo>
                      <a:pt x="204" y="39"/>
                    </a:lnTo>
                    <a:lnTo>
                      <a:pt x="223" y="31"/>
                    </a:lnTo>
                    <a:lnTo>
                      <a:pt x="242" y="27"/>
                    </a:lnTo>
                    <a:lnTo>
                      <a:pt x="261" y="22"/>
                    </a:lnTo>
                    <a:lnTo>
                      <a:pt x="280" y="18"/>
                    </a:lnTo>
                    <a:lnTo>
                      <a:pt x="297" y="13"/>
                    </a:lnTo>
                    <a:lnTo>
                      <a:pt x="314" y="9"/>
                    </a:lnTo>
                    <a:lnTo>
                      <a:pt x="327" y="7"/>
                    </a:lnTo>
                    <a:lnTo>
                      <a:pt x="341" y="4"/>
                    </a:lnTo>
                    <a:lnTo>
                      <a:pt x="351" y="1"/>
                    </a:lnTo>
                    <a:lnTo>
                      <a:pt x="360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123320" y="3984120"/>
                <a:ext cx="199800" cy="5616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113" y="0"/>
                    </a:moveTo>
                    <a:lnTo>
                      <a:pt x="112" y="0"/>
                    </a:lnTo>
                    <a:lnTo>
                      <a:pt x="108" y="0"/>
                    </a:lnTo>
                    <a:lnTo>
                      <a:pt x="101" y="3"/>
                    </a:lnTo>
                    <a:lnTo>
                      <a:pt x="94" y="5"/>
                    </a:lnTo>
                    <a:lnTo>
                      <a:pt x="84" y="7"/>
                    </a:lnTo>
                    <a:lnTo>
                      <a:pt x="74" y="11"/>
                    </a:lnTo>
                    <a:lnTo>
                      <a:pt x="64" y="14"/>
                    </a:lnTo>
                    <a:lnTo>
                      <a:pt x="53" y="18"/>
                    </a:lnTo>
                    <a:lnTo>
                      <a:pt x="41" y="22"/>
                    </a:lnTo>
                    <a:lnTo>
                      <a:pt x="31" y="26"/>
                    </a:lnTo>
                    <a:lnTo>
                      <a:pt x="22" y="31"/>
                    </a:lnTo>
                    <a:lnTo>
                      <a:pt x="14" y="35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7"/>
                    </a:lnTo>
                    <a:lnTo>
                      <a:pt x="1" y="52"/>
                    </a:lnTo>
                    <a:lnTo>
                      <a:pt x="5" y="56"/>
                    </a:lnTo>
                    <a:lnTo>
                      <a:pt x="14" y="60"/>
                    </a:lnTo>
                    <a:lnTo>
                      <a:pt x="27" y="66"/>
                    </a:lnTo>
                    <a:lnTo>
                      <a:pt x="44" y="71"/>
                    </a:lnTo>
                    <a:lnTo>
                      <a:pt x="62" y="78"/>
                    </a:lnTo>
                    <a:lnTo>
                      <a:pt x="84" y="83"/>
                    </a:lnTo>
                    <a:lnTo>
                      <a:pt x="109" y="88"/>
                    </a:lnTo>
                    <a:lnTo>
                      <a:pt x="135" y="93"/>
                    </a:lnTo>
                    <a:lnTo>
                      <a:pt x="161" y="97"/>
                    </a:lnTo>
                    <a:lnTo>
                      <a:pt x="189" y="99"/>
                    </a:lnTo>
                    <a:lnTo>
                      <a:pt x="216" y="99"/>
                    </a:lnTo>
                    <a:lnTo>
                      <a:pt x="244" y="97"/>
                    </a:lnTo>
                    <a:lnTo>
                      <a:pt x="270" y="92"/>
                    </a:lnTo>
                    <a:lnTo>
                      <a:pt x="294" y="86"/>
                    </a:lnTo>
                    <a:lnTo>
                      <a:pt x="317" y="75"/>
                    </a:lnTo>
                    <a:lnTo>
                      <a:pt x="339" y="64"/>
                    </a:lnTo>
                    <a:lnTo>
                      <a:pt x="340" y="61"/>
                    </a:lnTo>
                    <a:lnTo>
                      <a:pt x="340" y="56"/>
                    </a:lnTo>
                    <a:lnTo>
                      <a:pt x="340" y="53"/>
                    </a:lnTo>
                    <a:lnTo>
                      <a:pt x="340" y="49"/>
                    </a:lnTo>
                    <a:lnTo>
                      <a:pt x="339" y="44"/>
                    </a:lnTo>
                    <a:lnTo>
                      <a:pt x="336" y="42"/>
                    </a:lnTo>
                    <a:lnTo>
                      <a:pt x="332" y="35"/>
                    </a:lnTo>
                    <a:lnTo>
                      <a:pt x="327" y="30"/>
                    </a:lnTo>
                    <a:lnTo>
                      <a:pt x="319" y="25"/>
                    </a:lnTo>
                    <a:lnTo>
                      <a:pt x="309" y="20"/>
                    </a:lnTo>
                    <a:lnTo>
                      <a:pt x="296" y="14"/>
                    </a:lnTo>
                    <a:lnTo>
                      <a:pt x="281" y="9"/>
                    </a:lnTo>
                    <a:lnTo>
                      <a:pt x="263" y="5"/>
                    </a:lnTo>
                    <a:lnTo>
                      <a:pt x="242" y="0"/>
                    </a:lnTo>
                    <a:lnTo>
                      <a:pt x="113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5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07160" y="3916800"/>
                <a:ext cx="362160" cy="69480"/>
              </a:xfrm>
              <a:custGeom>
                <a:avLst/>
                <a:gdLst/>
                <a:ahLst/>
                <a:rect l="l" t="t" r="r" b="b"/>
                <a:pathLst>
                  <a:path w="618" h="125">
                    <a:moveTo>
                      <a:pt x="30" y="67"/>
                    </a:moveTo>
                    <a:lnTo>
                      <a:pt x="33" y="67"/>
                    </a:lnTo>
                    <a:lnTo>
                      <a:pt x="36" y="67"/>
                    </a:lnTo>
                    <a:lnTo>
                      <a:pt x="43" y="68"/>
                    </a:lnTo>
                    <a:lnTo>
                      <a:pt x="48" y="70"/>
                    </a:lnTo>
                    <a:lnTo>
                      <a:pt x="56" y="71"/>
                    </a:lnTo>
                    <a:lnTo>
                      <a:pt x="65" y="74"/>
                    </a:lnTo>
                    <a:lnTo>
                      <a:pt x="74" y="77"/>
                    </a:lnTo>
                    <a:lnTo>
                      <a:pt x="83" y="79"/>
                    </a:lnTo>
                    <a:lnTo>
                      <a:pt x="93" y="83"/>
                    </a:lnTo>
                    <a:lnTo>
                      <a:pt x="103" y="85"/>
                    </a:lnTo>
                    <a:lnTo>
                      <a:pt x="113" y="90"/>
                    </a:lnTo>
                    <a:lnTo>
                      <a:pt x="123" y="94"/>
                    </a:lnTo>
                    <a:lnTo>
                      <a:pt x="132" y="98"/>
                    </a:lnTo>
                    <a:lnTo>
                      <a:pt x="141" y="103"/>
                    </a:lnTo>
                    <a:lnTo>
                      <a:pt x="149" y="110"/>
                    </a:lnTo>
                    <a:lnTo>
                      <a:pt x="159" y="114"/>
                    </a:lnTo>
                    <a:lnTo>
                      <a:pt x="175" y="118"/>
                    </a:lnTo>
                    <a:lnTo>
                      <a:pt x="194" y="120"/>
                    </a:lnTo>
                    <a:lnTo>
                      <a:pt x="218" y="123"/>
                    </a:lnTo>
                    <a:lnTo>
                      <a:pt x="243" y="123"/>
                    </a:lnTo>
                    <a:lnTo>
                      <a:pt x="271" y="125"/>
                    </a:lnTo>
                    <a:lnTo>
                      <a:pt x="300" y="125"/>
                    </a:lnTo>
                    <a:lnTo>
                      <a:pt x="330" y="125"/>
                    </a:lnTo>
                    <a:lnTo>
                      <a:pt x="357" y="123"/>
                    </a:lnTo>
                    <a:lnTo>
                      <a:pt x="386" y="123"/>
                    </a:lnTo>
                    <a:lnTo>
                      <a:pt x="411" y="122"/>
                    </a:lnTo>
                    <a:lnTo>
                      <a:pt x="433" y="122"/>
                    </a:lnTo>
                    <a:lnTo>
                      <a:pt x="453" y="120"/>
                    </a:lnTo>
                    <a:lnTo>
                      <a:pt x="467" y="119"/>
                    </a:lnTo>
                    <a:lnTo>
                      <a:pt x="476" y="119"/>
                    </a:lnTo>
                    <a:lnTo>
                      <a:pt x="480" y="119"/>
                    </a:lnTo>
                    <a:lnTo>
                      <a:pt x="618" y="0"/>
                    </a:lnTo>
                    <a:lnTo>
                      <a:pt x="21" y="46"/>
                    </a:lnTo>
                    <a:lnTo>
                      <a:pt x="0" y="74"/>
                    </a:lnTo>
                    <a:lnTo>
                      <a:pt x="30" y="67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90440" y="3851280"/>
                <a:ext cx="371520" cy="110160"/>
              </a:xfrm>
              <a:custGeom>
                <a:avLst/>
                <a:gdLst/>
                <a:ahLst/>
                <a:rect l="l" t="t" r="r" b="b"/>
                <a:pathLst>
                  <a:path w="633" h="196">
                    <a:moveTo>
                      <a:pt x="44" y="142"/>
                    </a:moveTo>
                    <a:lnTo>
                      <a:pt x="0" y="196"/>
                    </a:lnTo>
                    <a:lnTo>
                      <a:pt x="1" y="195"/>
                    </a:lnTo>
                    <a:lnTo>
                      <a:pt x="5" y="195"/>
                    </a:lnTo>
                    <a:lnTo>
                      <a:pt x="10" y="194"/>
                    </a:lnTo>
                    <a:lnTo>
                      <a:pt x="20" y="192"/>
                    </a:lnTo>
                    <a:lnTo>
                      <a:pt x="30" y="190"/>
                    </a:lnTo>
                    <a:lnTo>
                      <a:pt x="43" y="187"/>
                    </a:lnTo>
                    <a:lnTo>
                      <a:pt x="60" y="185"/>
                    </a:lnTo>
                    <a:lnTo>
                      <a:pt x="78" y="183"/>
                    </a:lnTo>
                    <a:lnTo>
                      <a:pt x="98" y="181"/>
                    </a:lnTo>
                    <a:lnTo>
                      <a:pt x="121" y="178"/>
                    </a:lnTo>
                    <a:lnTo>
                      <a:pt x="147" y="177"/>
                    </a:lnTo>
                    <a:lnTo>
                      <a:pt x="176" y="177"/>
                    </a:lnTo>
                    <a:lnTo>
                      <a:pt x="207" y="177"/>
                    </a:lnTo>
                    <a:lnTo>
                      <a:pt x="241" y="177"/>
                    </a:lnTo>
                    <a:lnTo>
                      <a:pt x="278" y="177"/>
                    </a:lnTo>
                    <a:lnTo>
                      <a:pt x="317" y="180"/>
                    </a:lnTo>
                    <a:lnTo>
                      <a:pt x="322" y="180"/>
                    </a:lnTo>
                    <a:lnTo>
                      <a:pt x="327" y="180"/>
                    </a:lnTo>
                    <a:lnTo>
                      <a:pt x="334" y="181"/>
                    </a:lnTo>
                    <a:lnTo>
                      <a:pt x="339" y="181"/>
                    </a:lnTo>
                    <a:lnTo>
                      <a:pt x="343" y="182"/>
                    </a:lnTo>
                    <a:lnTo>
                      <a:pt x="348" y="182"/>
                    </a:lnTo>
                    <a:lnTo>
                      <a:pt x="354" y="183"/>
                    </a:lnTo>
                    <a:lnTo>
                      <a:pt x="359" y="185"/>
                    </a:lnTo>
                    <a:lnTo>
                      <a:pt x="365" y="186"/>
                    </a:lnTo>
                    <a:lnTo>
                      <a:pt x="370" y="189"/>
                    </a:lnTo>
                    <a:lnTo>
                      <a:pt x="374" y="190"/>
                    </a:lnTo>
                    <a:lnTo>
                      <a:pt x="376" y="190"/>
                    </a:lnTo>
                    <a:lnTo>
                      <a:pt x="633" y="0"/>
                    </a:lnTo>
                    <a:lnTo>
                      <a:pt x="106" y="99"/>
                    </a:lnTo>
                    <a:lnTo>
                      <a:pt x="44" y="142"/>
                    </a:lnTo>
                    <a:lnTo>
                      <a:pt x="44" y="142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483600" y="3826080"/>
                <a:ext cx="378720" cy="117360"/>
              </a:xfrm>
              <a:custGeom>
                <a:avLst/>
                <a:gdLst/>
                <a:ahLst/>
                <a:rect l="l" t="t" r="r" b="b"/>
                <a:pathLst>
                  <a:path w="645" h="207">
                    <a:moveTo>
                      <a:pt x="645" y="46"/>
                    </a:moveTo>
                    <a:lnTo>
                      <a:pt x="645" y="44"/>
                    </a:lnTo>
                    <a:lnTo>
                      <a:pt x="645" y="40"/>
                    </a:lnTo>
                    <a:lnTo>
                      <a:pt x="642" y="37"/>
                    </a:lnTo>
                    <a:lnTo>
                      <a:pt x="641" y="33"/>
                    </a:lnTo>
                    <a:lnTo>
                      <a:pt x="637" y="29"/>
                    </a:lnTo>
                    <a:lnTo>
                      <a:pt x="633" y="26"/>
                    </a:lnTo>
                    <a:lnTo>
                      <a:pt x="626" y="21"/>
                    </a:lnTo>
                    <a:lnTo>
                      <a:pt x="617" y="17"/>
                    </a:lnTo>
                    <a:lnTo>
                      <a:pt x="606" y="13"/>
                    </a:lnTo>
                    <a:lnTo>
                      <a:pt x="593" y="12"/>
                    </a:lnTo>
                    <a:lnTo>
                      <a:pt x="576" y="8"/>
                    </a:lnTo>
                    <a:lnTo>
                      <a:pt x="557" y="5"/>
                    </a:lnTo>
                    <a:lnTo>
                      <a:pt x="534" y="3"/>
                    </a:lnTo>
                    <a:lnTo>
                      <a:pt x="508" y="2"/>
                    </a:lnTo>
                    <a:lnTo>
                      <a:pt x="479" y="0"/>
                    </a:lnTo>
                    <a:lnTo>
                      <a:pt x="452" y="0"/>
                    </a:lnTo>
                    <a:lnTo>
                      <a:pt x="426" y="0"/>
                    </a:lnTo>
                    <a:lnTo>
                      <a:pt x="401" y="2"/>
                    </a:lnTo>
                    <a:lnTo>
                      <a:pt x="379" y="2"/>
                    </a:lnTo>
                    <a:lnTo>
                      <a:pt x="356" y="3"/>
                    </a:lnTo>
                    <a:lnTo>
                      <a:pt x="337" y="4"/>
                    </a:lnTo>
                    <a:lnTo>
                      <a:pt x="319" y="5"/>
                    </a:lnTo>
                    <a:lnTo>
                      <a:pt x="302" y="8"/>
                    </a:lnTo>
                    <a:lnTo>
                      <a:pt x="287" y="9"/>
                    </a:lnTo>
                    <a:lnTo>
                      <a:pt x="274" y="11"/>
                    </a:lnTo>
                    <a:lnTo>
                      <a:pt x="265" y="12"/>
                    </a:lnTo>
                    <a:lnTo>
                      <a:pt x="256" y="13"/>
                    </a:lnTo>
                    <a:lnTo>
                      <a:pt x="251" y="13"/>
                    </a:lnTo>
                    <a:lnTo>
                      <a:pt x="247" y="15"/>
                    </a:lnTo>
                    <a:lnTo>
                      <a:pt x="246" y="16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7"/>
                    </a:lnTo>
                    <a:lnTo>
                      <a:pt x="15" y="196"/>
                    </a:lnTo>
                    <a:lnTo>
                      <a:pt x="25" y="193"/>
                    </a:lnTo>
                    <a:lnTo>
                      <a:pt x="37" y="191"/>
                    </a:lnTo>
                    <a:lnTo>
                      <a:pt x="51" y="188"/>
                    </a:lnTo>
                    <a:lnTo>
                      <a:pt x="67" y="185"/>
                    </a:lnTo>
                    <a:lnTo>
                      <a:pt x="84" y="183"/>
                    </a:lnTo>
                    <a:lnTo>
                      <a:pt x="101" y="180"/>
                    </a:lnTo>
                    <a:lnTo>
                      <a:pt x="116" y="178"/>
                    </a:lnTo>
                    <a:lnTo>
                      <a:pt x="132" y="175"/>
                    </a:lnTo>
                    <a:lnTo>
                      <a:pt x="146" y="175"/>
                    </a:lnTo>
                    <a:lnTo>
                      <a:pt x="161" y="175"/>
                    </a:lnTo>
                    <a:lnTo>
                      <a:pt x="172" y="176"/>
                    </a:lnTo>
                    <a:lnTo>
                      <a:pt x="182" y="178"/>
                    </a:lnTo>
                    <a:lnTo>
                      <a:pt x="189" y="182"/>
                    </a:lnTo>
                    <a:lnTo>
                      <a:pt x="195" y="184"/>
                    </a:lnTo>
                    <a:lnTo>
                      <a:pt x="202" y="185"/>
                    </a:lnTo>
                    <a:lnTo>
                      <a:pt x="210" y="187"/>
                    </a:lnTo>
                    <a:lnTo>
                      <a:pt x="222" y="188"/>
                    </a:lnTo>
                    <a:lnTo>
                      <a:pt x="234" y="187"/>
                    </a:lnTo>
                    <a:lnTo>
                      <a:pt x="247" y="185"/>
                    </a:lnTo>
                    <a:lnTo>
                      <a:pt x="259" y="185"/>
                    </a:lnTo>
                    <a:lnTo>
                      <a:pt x="273" y="184"/>
                    </a:lnTo>
                    <a:lnTo>
                      <a:pt x="286" y="182"/>
                    </a:lnTo>
                    <a:lnTo>
                      <a:pt x="298" y="180"/>
                    </a:lnTo>
                    <a:lnTo>
                      <a:pt x="309" y="179"/>
                    </a:lnTo>
                    <a:lnTo>
                      <a:pt x="320" y="179"/>
                    </a:lnTo>
                    <a:lnTo>
                      <a:pt x="330" y="178"/>
                    </a:lnTo>
                    <a:lnTo>
                      <a:pt x="338" y="178"/>
                    </a:lnTo>
                    <a:lnTo>
                      <a:pt x="346" y="178"/>
                    </a:lnTo>
                    <a:lnTo>
                      <a:pt x="350" y="180"/>
                    </a:lnTo>
                    <a:lnTo>
                      <a:pt x="356" y="182"/>
                    </a:lnTo>
                    <a:lnTo>
                      <a:pt x="363" y="187"/>
                    </a:lnTo>
                    <a:lnTo>
                      <a:pt x="371" y="192"/>
                    </a:lnTo>
                    <a:lnTo>
                      <a:pt x="380" y="196"/>
                    </a:lnTo>
                    <a:lnTo>
                      <a:pt x="386" y="200"/>
                    </a:lnTo>
                    <a:lnTo>
                      <a:pt x="392" y="204"/>
                    </a:lnTo>
                    <a:lnTo>
                      <a:pt x="396" y="205"/>
                    </a:lnTo>
                    <a:lnTo>
                      <a:pt x="397" y="207"/>
                    </a:lnTo>
                    <a:lnTo>
                      <a:pt x="586" y="126"/>
                    </a:lnTo>
                    <a:lnTo>
                      <a:pt x="645" y="46"/>
                    </a:lnTo>
                    <a:lnTo>
                      <a:pt x="645" y="4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330320" y="3404880"/>
                <a:ext cx="197640" cy="491040"/>
              </a:xfrm>
              <a:custGeom>
                <a:avLst/>
                <a:gdLst/>
                <a:ahLst/>
                <a:rect l="l" t="t" r="r" b="b"/>
                <a:pathLst>
                  <a:path w="337" h="871">
                    <a:moveTo>
                      <a:pt x="165" y="0"/>
                    </a:moveTo>
                    <a:lnTo>
                      <a:pt x="167" y="0"/>
                    </a:lnTo>
                    <a:lnTo>
                      <a:pt x="174" y="1"/>
                    </a:lnTo>
                    <a:lnTo>
                      <a:pt x="184" y="3"/>
                    </a:lnTo>
                    <a:lnTo>
                      <a:pt x="197" y="9"/>
                    </a:lnTo>
                    <a:lnTo>
                      <a:pt x="211" y="14"/>
                    </a:lnTo>
                    <a:lnTo>
                      <a:pt x="227" y="23"/>
                    </a:lnTo>
                    <a:lnTo>
                      <a:pt x="245" y="33"/>
                    </a:lnTo>
                    <a:lnTo>
                      <a:pt x="263" y="46"/>
                    </a:lnTo>
                    <a:lnTo>
                      <a:pt x="279" y="60"/>
                    </a:lnTo>
                    <a:lnTo>
                      <a:pt x="296" y="77"/>
                    </a:lnTo>
                    <a:lnTo>
                      <a:pt x="309" y="99"/>
                    </a:lnTo>
                    <a:lnTo>
                      <a:pt x="323" y="123"/>
                    </a:lnTo>
                    <a:lnTo>
                      <a:pt x="331" y="148"/>
                    </a:lnTo>
                    <a:lnTo>
                      <a:pt x="336" y="179"/>
                    </a:lnTo>
                    <a:lnTo>
                      <a:pt x="337" y="213"/>
                    </a:lnTo>
                    <a:lnTo>
                      <a:pt x="335" y="252"/>
                    </a:lnTo>
                    <a:lnTo>
                      <a:pt x="327" y="292"/>
                    </a:lnTo>
                    <a:lnTo>
                      <a:pt x="318" y="331"/>
                    </a:lnTo>
                    <a:lnTo>
                      <a:pt x="307" y="370"/>
                    </a:lnTo>
                    <a:lnTo>
                      <a:pt x="296" y="410"/>
                    </a:lnTo>
                    <a:lnTo>
                      <a:pt x="283" y="446"/>
                    </a:lnTo>
                    <a:lnTo>
                      <a:pt x="271" y="484"/>
                    </a:lnTo>
                    <a:lnTo>
                      <a:pt x="257" y="520"/>
                    </a:lnTo>
                    <a:lnTo>
                      <a:pt x="245" y="555"/>
                    </a:lnTo>
                    <a:lnTo>
                      <a:pt x="230" y="589"/>
                    </a:lnTo>
                    <a:lnTo>
                      <a:pt x="219" y="621"/>
                    </a:lnTo>
                    <a:lnTo>
                      <a:pt x="207" y="651"/>
                    </a:lnTo>
                    <a:lnTo>
                      <a:pt x="199" y="679"/>
                    </a:lnTo>
                    <a:lnTo>
                      <a:pt x="190" y="705"/>
                    </a:lnTo>
                    <a:lnTo>
                      <a:pt x="185" y="730"/>
                    </a:lnTo>
                    <a:lnTo>
                      <a:pt x="181" y="750"/>
                    </a:lnTo>
                    <a:lnTo>
                      <a:pt x="180" y="771"/>
                    </a:lnTo>
                    <a:lnTo>
                      <a:pt x="180" y="787"/>
                    </a:lnTo>
                    <a:lnTo>
                      <a:pt x="180" y="802"/>
                    </a:lnTo>
                    <a:lnTo>
                      <a:pt x="180" y="815"/>
                    </a:lnTo>
                    <a:lnTo>
                      <a:pt x="181" y="827"/>
                    </a:lnTo>
                    <a:lnTo>
                      <a:pt x="182" y="836"/>
                    </a:lnTo>
                    <a:lnTo>
                      <a:pt x="182" y="844"/>
                    </a:lnTo>
                    <a:lnTo>
                      <a:pt x="184" y="850"/>
                    </a:lnTo>
                    <a:lnTo>
                      <a:pt x="185" y="857"/>
                    </a:lnTo>
                    <a:lnTo>
                      <a:pt x="185" y="860"/>
                    </a:lnTo>
                    <a:lnTo>
                      <a:pt x="186" y="864"/>
                    </a:lnTo>
                    <a:lnTo>
                      <a:pt x="186" y="866"/>
                    </a:lnTo>
                    <a:lnTo>
                      <a:pt x="187" y="868"/>
                    </a:lnTo>
                    <a:lnTo>
                      <a:pt x="190" y="870"/>
                    </a:lnTo>
                    <a:lnTo>
                      <a:pt x="190" y="871"/>
                    </a:lnTo>
                    <a:lnTo>
                      <a:pt x="0" y="862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50600" y="3846600"/>
                <a:ext cx="82080" cy="62640"/>
              </a:xfrm>
              <a:custGeom>
                <a:avLst/>
                <a:gdLst/>
                <a:ahLst/>
                <a:rect l="l" t="t" r="r" b="b"/>
                <a:pathLst>
                  <a:path w="142" h="111">
                    <a:moveTo>
                      <a:pt x="0" y="0"/>
                    </a:moveTo>
                    <a:lnTo>
                      <a:pt x="74" y="0"/>
                    </a:lnTo>
                    <a:lnTo>
                      <a:pt x="142" y="75"/>
                    </a:lnTo>
                    <a:lnTo>
                      <a:pt x="82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90560" y="3386520"/>
                <a:ext cx="369000" cy="507600"/>
              </a:xfrm>
              <a:custGeom>
                <a:avLst/>
                <a:gdLst/>
                <a:ahLst/>
                <a:rect l="l" t="t" r="r" b="b"/>
                <a:pathLst>
                  <a:path w="630" h="897">
                    <a:moveTo>
                      <a:pt x="0" y="11"/>
                    </a:moveTo>
                    <a:lnTo>
                      <a:pt x="7" y="11"/>
                    </a:lnTo>
                    <a:lnTo>
                      <a:pt x="25" y="9"/>
                    </a:lnTo>
                    <a:lnTo>
                      <a:pt x="54" y="7"/>
                    </a:lnTo>
                    <a:lnTo>
                      <a:pt x="92" y="5"/>
                    </a:lnTo>
                    <a:lnTo>
                      <a:pt x="137" y="3"/>
                    </a:lnTo>
                    <a:lnTo>
                      <a:pt x="188" y="1"/>
                    </a:lnTo>
                    <a:lnTo>
                      <a:pt x="242" y="0"/>
                    </a:lnTo>
                    <a:lnTo>
                      <a:pt x="299" y="1"/>
                    </a:lnTo>
                    <a:lnTo>
                      <a:pt x="355" y="1"/>
                    </a:lnTo>
                    <a:lnTo>
                      <a:pt x="410" y="5"/>
                    </a:lnTo>
                    <a:lnTo>
                      <a:pt x="463" y="11"/>
                    </a:lnTo>
                    <a:lnTo>
                      <a:pt x="512" y="18"/>
                    </a:lnTo>
                    <a:lnTo>
                      <a:pt x="552" y="29"/>
                    </a:lnTo>
                    <a:lnTo>
                      <a:pt x="586" y="43"/>
                    </a:lnTo>
                    <a:lnTo>
                      <a:pt x="611" y="60"/>
                    </a:lnTo>
                    <a:lnTo>
                      <a:pt x="624" y="82"/>
                    </a:lnTo>
                    <a:lnTo>
                      <a:pt x="628" y="105"/>
                    </a:lnTo>
                    <a:lnTo>
                      <a:pt x="630" y="131"/>
                    </a:lnTo>
                    <a:lnTo>
                      <a:pt x="630" y="159"/>
                    </a:lnTo>
                    <a:lnTo>
                      <a:pt x="629" y="190"/>
                    </a:lnTo>
                    <a:lnTo>
                      <a:pt x="625" y="222"/>
                    </a:lnTo>
                    <a:lnTo>
                      <a:pt x="620" y="254"/>
                    </a:lnTo>
                    <a:lnTo>
                      <a:pt x="613" y="285"/>
                    </a:lnTo>
                    <a:lnTo>
                      <a:pt x="608" y="317"/>
                    </a:lnTo>
                    <a:lnTo>
                      <a:pt x="599" y="347"/>
                    </a:lnTo>
                    <a:lnTo>
                      <a:pt x="593" y="377"/>
                    </a:lnTo>
                    <a:lnTo>
                      <a:pt x="583" y="404"/>
                    </a:lnTo>
                    <a:lnTo>
                      <a:pt x="577" y="429"/>
                    </a:lnTo>
                    <a:lnTo>
                      <a:pt x="569" y="449"/>
                    </a:lnTo>
                    <a:lnTo>
                      <a:pt x="564" y="468"/>
                    </a:lnTo>
                    <a:lnTo>
                      <a:pt x="559" y="480"/>
                    </a:lnTo>
                    <a:lnTo>
                      <a:pt x="556" y="491"/>
                    </a:lnTo>
                    <a:lnTo>
                      <a:pt x="552" y="500"/>
                    </a:lnTo>
                    <a:lnTo>
                      <a:pt x="547" y="517"/>
                    </a:lnTo>
                    <a:lnTo>
                      <a:pt x="542" y="540"/>
                    </a:lnTo>
                    <a:lnTo>
                      <a:pt x="536" y="567"/>
                    </a:lnTo>
                    <a:lnTo>
                      <a:pt x="530" y="598"/>
                    </a:lnTo>
                    <a:lnTo>
                      <a:pt x="523" y="633"/>
                    </a:lnTo>
                    <a:lnTo>
                      <a:pt x="518" y="668"/>
                    </a:lnTo>
                    <a:lnTo>
                      <a:pt x="512" y="706"/>
                    </a:lnTo>
                    <a:lnTo>
                      <a:pt x="504" y="742"/>
                    </a:lnTo>
                    <a:lnTo>
                      <a:pt x="499" y="776"/>
                    </a:lnTo>
                    <a:lnTo>
                      <a:pt x="492" y="808"/>
                    </a:lnTo>
                    <a:lnTo>
                      <a:pt x="489" y="838"/>
                    </a:lnTo>
                    <a:lnTo>
                      <a:pt x="484" y="861"/>
                    </a:lnTo>
                    <a:lnTo>
                      <a:pt x="482" y="879"/>
                    </a:lnTo>
                    <a:lnTo>
                      <a:pt x="479" y="892"/>
                    </a:lnTo>
                    <a:lnTo>
                      <a:pt x="479" y="897"/>
                    </a:lnTo>
                    <a:lnTo>
                      <a:pt x="38" y="866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59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640920" y="3445200"/>
                <a:ext cx="675360" cy="468720"/>
              </a:xfrm>
              <a:custGeom>
                <a:avLst/>
                <a:gdLst/>
                <a:ahLst/>
                <a:rect l="l" t="t" r="r" b="b"/>
                <a:pathLst>
                  <a:path w="1147" h="834">
                    <a:moveTo>
                      <a:pt x="406" y="40"/>
                    </a:moveTo>
                    <a:lnTo>
                      <a:pt x="403" y="40"/>
                    </a:lnTo>
                    <a:lnTo>
                      <a:pt x="400" y="42"/>
                    </a:lnTo>
                    <a:lnTo>
                      <a:pt x="396" y="42"/>
                    </a:lnTo>
                    <a:lnTo>
                      <a:pt x="393" y="44"/>
                    </a:lnTo>
                    <a:lnTo>
                      <a:pt x="388" y="45"/>
                    </a:lnTo>
                    <a:lnTo>
                      <a:pt x="384" y="48"/>
                    </a:lnTo>
                    <a:lnTo>
                      <a:pt x="379" y="49"/>
                    </a:lnTo>
                    <a:lnTo>
                      <a:pt x="373" y="52"/>
                    </a:lnTo>
                    <a:lnTo>
                      <a:pt x="368" y="56"/>
                    </a:lnTo>
                    <a:lnTo>
                      <a:pt x="363" y="60"/>
                    </a:lnTo>
                    <a:lnTo>
                      <a:pt x="356" y="62"/>
                    </a:lnTo>
                    <a:lnTo>
                      <a:pt x="351" y="67"/>
                    </a:lnTo>
                    <a:lnTo>
                      <a:pt x="345" y="71"/>
                    </a:lnTo>
                    <a:lnTo>
                      <a:pt x="340" y="78"/>
                    </a:lnTo>
                    <a:lnTo>
                      <a:pt x="330" y="84"/>
                    </a:lnTo>
                    <a:lnTo>
                      <a:pt x="319" y="93"/>
                    </a:lnTo>
                    <a:lnTo>
                      <a:pt x="304" y="106"/>
                    </a:lnTo>
                    <a:lnTo>
                      <a:pt x="287" y="121"/>
                    </a:lnTo>
                    <a:lnTo>
                      <a:pt x="268" y="136"/>
                    </a:lnTo>
                    <a:lnTo>
                      <a:pt x="247" y="153"/>
                    </a:lnTo>
                    <a:lnTo>
                      <a:pt x="226" y="171"/>
                    </a:lnTo>
                    <a:lnTo>
                      <a:pt x="204" y="188"/>
                    </a:lnTo>
                    <a:lnTo>
                      <a:pt x="183" y="205"/>
                    </a:lnTo>
                    <a:lnTo>
                      <a:pt x="162" y="223"/>
                    </a:lnTo>
                    <a:lnTo>
                      <a:pt x="143" y="237"/>
                    </a:lnTo>
                    <a:lnTo>
                      <a:pt x="127" y="251"/>
                    </a:lnTo>
                    <a:lnTo>
                      <a:pt x="112" y="263"/>
                    </a:lnTo>
                    <a:lnTo>
                      <a:pt x="101" y="272"/>
                    </a:lnTo>
                    <a:lnTo>
                      <a:pt x="93" y="279"/>
                    </a:lnTo>
                    <a:lnTo>
                      <a:pt x="90" y="282"/>
                    </a:lnTo>
                    <a:lnTo>
                      <a:pt x="89" y="284"/>
                    </a:lnTo>
                    <a:lnTo>
                      <a:pt x="88" y="290"/>
                    </a:lnTo>
                    <a:lnTo>
                      <a:pt x="86" y="297"/>
                    </a:lnTo>
                    <a:lnTo>
                      <a:pt x="86" y="306"/>
                    </a:lnTo>
                    <a:lnTo>
                      <a:pt x="85" y="316"/>
                    </a:lnTo>
                    <a:lnTo>
                      <a:pt x="84" y="328"/>
                    </a:lnTo>
                    <a:lnTo>
                      <a:pt x="84" y="341"/>
                    </a:lnTo>
                    <a:lnTo>
                      <a:pt x="84" y="355"/>
                    </a:lnTo>
                    <a:lnTo>
                      <a:pt x="81" y="368"/>
                    </a:lnTo>
                    <a:lnTo>
                      <a:pt x="81" y="381"/>
                    </a:lnTo>
                    <a:lnTo>
                      <a:pt x="80" y="392"/>
                    </a:lnTo>
                    <a:lnTo>
                      <a:pt x="80" y="404"/>
                    </a:lnTo>
                    <a:lnTo>
                      <a:pt x="79" y="414"/>
                    </a:lnTo>
                    <a:lnTo>
                      <a:pt x="79" y="424"/>
                    </a:lnTo>
                    <a:lnTo>
                      <a:pt x="77" y="431"/>
                    </a:lnTo>
                    <a:lnTo>
                      <a:pt x="77" y="438"/>
                    </a:lnTo>
                    <a:lnTo>
                      <a:pt x="73" y="442"/>
                    </a:lnTo>
                    <a:lnTo>
                      <a:pt x="71" y="449"/>
                    </a:lnTo>
                    <a:lnTo>
                      <a:pt x="66" y="460"/>
                    </a:lnTo>
                    <a:lnTo>
                      <a:pt x="60" y="471"/>
                    </a:lnTo>
                    <a:lnTo>
                      <a:pt x="54" y="486"/>
                    </a:lnTo>
                    <a:lnTo>
                      <a:pt x="47" y="500"/>
                    </a:lnTo>
                    <a:lnTo>
                      <a:pt x="41" y="515"/>
                    </a:lnTo>
                    <a:lnTo>
                      <a:pt x="34" y="531"/>
                    </a:lnTo>
                    <a:lnTo>
                      <a:pt x="26" y="547"/>
                    </a:lnTo>
                    <a:lnTo>
                      <a:pt x="20" y="562"/>
                    </a:lnTo>
                    <a:lnTo>
                      <a:pt x="13" y="575"/>
                    </a:lnTo>
                    <a:lnTo>
                      <a:pt x="8" y="589"/>
                    </a:lnTo>
                    <a:lnTo>
                      <a:pt x="4" y="600"/>
                    </a:lnTo>
                    <a:lnTo>
                      <a:pt x="2" y="609"/>
                    </a:lnTo>
                    <a:lnTo>
                      <a:pt x="0" y="615"/>
                    </a:lnTo>
                    <a:lnTo>
                      <a:pt x="0" y="619"/>
                    </a:lnTo>
                    <a:lnTo>
                      <a:pt x="2" y="619"/>
                    </a:lnTo>
                    <a:lnTo>
                      <a:pt x="7" y="620"/>
                    </a:lnTo>
                    <a:lnTo>
                      <a:pt x="12" y="619"/>
                    </a:lnTo>
                    <a:lnTo>
                      <a:pt x="20" y="619"/>
                    </a:lnTo>
                    <a:lnTo>
                      <a:pt x="28" y="618"/>
                    </a:lnTo>
                    <a:lnTo>
                      <a:pt x="37" y="616"/>
                    </a:lnTo>
                    <a:lnTo>
                      <a:pt x="46" y="615"/>
                    </a:lnTo>
                    <a:lnTo>
                      <a:pt x="56" y="614"/>
                    </a:lnTo>
                    <a:lnTo>
                      <a:pt x="66" y="613"/>
                    </a:lnTo>
                    <a:lnTo>
                      <a:pt x="76" y="613"/>
                    </a:lnTo>
                    <a:lnTo>
                      <a:pt x="85" y="613"/>
                    </a:lnTo>
                    <a:lnTo>
                      <a:pt x="94" y="615"/>
                    </a:lnTo>
                    <a:lnTo>
                      <a:pt x="102" y="618"/>
                    </a:lnTo>
                    <a:lnTo>
                      <a:pt x="110" y="622"/>
                    </a:lnTo>
                    <a:lnTo>
                      <a:pt x="114" y="627"/>
                    </a:lnTo>
                    <a:lnTo>
                      <a:pt x="118" y="635"/>
                    </a:lnTo>
                    <a:lnTo>
                      <a:pt x="120" y="641"/>
                    </a:lnTo>
                    <a:lnTo>
                      <a:pt x="122" y="647"/>
                    </a:lnTo>
                    <a:lnTo>
                      <a:pt x="124" y="653"/>
                    </a:lnTo>
                    <a:lnTo>
                      <a:pt x="126" y="658"/>
                    </a:lnTo>
                    <a:lnTo>
                      <a:pt x="129" y="666"/>
                    </a:lnTo>
                    <a:lnTo>
                      <a:pt x="133" y="671"/>
                    </a:lnTo>
                    <a:lnTo>
                      <a:pt x="137" y="675"/>
                    </a:lnTo>
                    <a:lnTo>
                      <a:pt x="139" y="676"/>
                    </a:lnTo>
                    <a:lnTo>
                      <a:pt x="140" y="673"/>
                    </a:lnTo>
                    <a:lnTo>
                      <a:pt x="144" y="667"/>
                    </a:lnTo>
                    <a:lnTo>
                      <a:pt x="149" y="658"/>
                    </a:lnTo>
                    <a:lnTo>
                      <a:pt x="157" y="646"/>
                    </a:lnTo>
                    <a:lnTo>
                      <a:pt x="166" y="632"/>
                    </a:lnTo>
                    <a:lnTo>
                      <a:pt x="176" y="615"/>
                    </a:lnTo>
                    <a:lnTo>
                      <a:pt x="187" y="597"/>
                    </a:lnTo>
                    <a:lnTo>
                      <a:pt x="199" y="578"/>
                    </a:lnTo>
                    <a:lnTo>
                      <a:pt x="210" y="557"/>
                    </a:lnTo>
                    <a:lnTo>
                      <a:pt x="221" y="535"/>
                    </a:lnTo>
                    <a:lnTo>
                      <a:pt x="231" y="513"/>
                    </a:lnTo>
                    <a:lnTo>
                      <a:pt x="242" y="492"/>
                    </a:lnTo>
                    <a:lnTo>
                      <a:pt x="248" y="470"/>
                    </a:lnTo>
                    <a:lnTo>
                      <a:pt x="255" y="451"/>
                    </a:lnTo>
                    <a:lnTo>
                      <a:pt x="260" y="431"/>
                    </a:lnTo>
                    <a:lnTo>
                      <a:pt x="263" y="416"/>
                    </a:lnTo>
                    <a:lnTo>
                      <a:pt x="261" y="405"/>
                    </a:lnTo>
                    <a:lnTo>
                      <a:pt x="260" y="396"/>
                    </a:lnTo>
                    <a:lnTo>
                      <a:pt x="257" y="390"/>
                    </a:lnTo>
                    <a:lnTo>
                      <a:pt x="255" y="383"/>
                    </a:lnTo>
                    <a:lnTo>
                      <a:pt x="252" y="379"/>
                    </a:lnTo>
                    <a:lnTo>
                      <a:pt x="247" y="374"/>
                    </a:lnTo>
                    <a:lnTo>
                      <a:pt x="240" y="370"/>
                    </a:lnTo>
                    <a:lnTo>
                      <a:pt x="238" y="367"/>
                    </a:lnTo>
                    <a:lnTo>
                      <a:pt x="236" y="364"/>
                    </a:lnTo>
                    <a:lnTo>
                      <a:pt x="236" y="360"/>
                    </a:lnTo>
                    <a:lnTo>
                      <a:pt x="238" y="355"/>
                    </a:lnTo>
                    <a:lnTo>
                      <a:pt x="239" y="360"/>
                    </a:lnTo>
                    <a:lnTo>
                      <a:pt x="242" y="364"/>
                    </a:lnTo>
                    <a:lnTo>
                      <a:pt x="246" y="368"/>
                    </a:lnTo>
                    <a:lnTo>
                      <a:pt x="251" y="372"/>
                    </a:lnTo>
                    <a:lnTo>
                      <a:pt x="256" y="373"/>
                    </a:lnTo>
                    <a:lnTo>
                      <a:pt x="261" y="376"/>
                    </a:lnTo>
                    <a:lnTo>
                      <a:pt x="266" y="377"/>
                    </a:lnTo>
                    <a:lnTo>
                      <a:pt x="268" y="378"/>
                    </a:lnTo>
                    <a:lnTo>
                      <a:pt x="272" y="377"/>
                    </a:lnTo>
                    <a:lnTo>
                      <a:pt x="255" y="361"/>
                    </a:lnTo>
                    <a:lnTo>
                      <a:pt x="251" y="352"/>
                    </a:lnTo>
                    <a:lnTo>
                      <a:pt x="249" y="345"/>
                    </a:lnTo>
                    <a:lnTo>
                      <a:pt x="252" y="348"/>
                    </a:lnTo>
                    <a:lnTo>
                      <a:pt x="256" y="355"/>
                    </a:lnTo>
                    <a:lnTo>
                      <a:pt x="260" y="359"/>
                    </a:lnTo>
                    <a:lnTo>
                      <a:pt x="264" y="364"/>
                    </a:lnTo>
                    <a:lnTo>
                      <a:pt x="270" y="367"/>
                    </a:lnTo>
                    <a:lnTo>
                      <a:pt x="276" y="367"/>
                    </a:lnTo>
                    <a:lnTo>
                      <a:pt x="279" y="364"/>
                    </a:lnTo>
                    <a:lnTo>
                      <a:pt x="285" y="363"/>
                    </a:lnTo>
                    <a:lnTo>
                      <a:pt x="291" y="359"/>
                    </a:lnTo>
                    <a:lnTo>
                      <a:pt x="299" y="355"/>
                    </a:lnTo>
                    <a:lnTo>
                      <a:pt x="307" y="348"/>
                    </a:lnTo>
                    <a:lnTo>
                      <a:pt x="316" y="343"/>
                    </a:lnTo>
                    <a:lnTo>
                      <a:pt x="325" y="337"/>
                    </a:lnTo>
                    <a:lnTo>
                      <a:pt x="336" y="330"/>
                    </a:lnTo>
                    <a:lnTo>
                      <a:pt x="345" y="323"/>
                    </a:lnTo>
                    <a:lnTo>
                      <a:pt x="354" y="316"/>
                    </a:lnTo>
                    <a:lnTo>
                      <a:pt x="363" y="308"/>
                    </a:lnTo>
                    <a:lnTo>
                      <a:pt x="372" y="303"/>
                    </a:lnTo>
                    <a:lnTo>
                      <a:pt x="379" y="295"/>
                    </a:lnTo>
                    <a:lnTo>
                      <a:pt x="386" y="290"/>
                    </a:lnTo>
                    <a:lnTo>
                      <a:pt x="392" y="284"/>
                    </a:lnTo>
                    <a:lnTo>
                      <a:pt x="397" y="280"/>
                    </a:lnTo>
                    <a:lnTo>
                      <a:pt x="397" y="282"/>
                    </a:lnTo>
                    <a:lnTo>
                      <a:pt x="397" y="285"/>
                    </a:lnTo>
                    <a:lnTo>
                      <a:pt x="397" y="291"/>
                    </a:lnTo>
                    <a:lnTo>
                      <a:pt x="397" y="295"/>
                    </a:lnTo>
                    <a:lnTo>
                      <a:pt x="397" y="303"/>
                    </a:lnTo>
                    <a:lnTo>
                      <a:pt x="398" y="310"/>
                    </a:lnTo>
                    <a:lnTo>
                      <a:pt x="400" y="317"/>
                    </a:lnTo>
                    <a:lnTo>
                      <a:pt x="401" y="324"/>
                    </a:lnTo>
                    <a:lnTo>
                      <a:pt x="402" y="333"/>
                    </a:lnTo>
                    <a:lnTo>
                      <a:pt x="403" y="339"/>
                    </a:lnTo>
                    <a:lnTo>
                      <a:pt x="405" y="348"/>
                    </a:lnTo>
                    <a:lnTo>
                      <a:pt x="406" y="355"/>
                    </a:lnTo>
                    <a:lnTo>
                      <a:pt x="407" y="361"/>
                    </a:lnTo>
                    <a:lnTo>
                      <a:pt x="410" y="368"/>
                    </a:lnTo>
                    <a:lnTo>
                      <a:pt x="413" y="373"/>
                    </a:lnTo>
                    <a:lnTo>
                      <a:pt x="413" y="378"/>
                    </a:lnTo>
                    <a:lnTo>
                      <a:pt x="414" y="387"/>
                    </a:lnTo>
                    <a:lnTo>
                      <a:pt x="414" y="399"/>
                    </a:lnTo>
                    <a:lnTo>
                      <a:pt x="414" y="412"/>
                    </a:lnTo>
                    <a:lnTo>
                      <a:pt x="413" y="427"/>
                    </a:lnTo>
                    <a:lnTo>
                      <a:pt x="411" y="446"/>
                    </a:lnTo>
                    <a:lnTo>
                      <a:pt x="409" y="462"/>
                    </a:lnTo>
                    <a:lnTo>
                      <a:pt x="407" y="480"/>
                    </a:lnTo>
                    <a:lnTo>
                      <a:pt x="405" y="497"/>
                    </a:lnTo>
                    <a:lnTo>
                      <a:pt x="403" y="515"/>
                    </a:lnTo>
                    <a:lnTo>
                      <a:pt x="401" y="531"/>
                    </a:lnTo>
                    <a:lnTo>
                      <a:pt x="400" y="547"/>
                    </a:lnTo>
                    <a:lnTo>
                      <a:pt x="397" y="558"/>
                    </a:lnTo>
                    <a:lnTo>
                      <a:pt x="397" y="570"/>
                    </a:lnTo>
                    <a:lnTo>
                      <a:pt x="397" y="578"/>
                    </a:lnTo>
                    <a:lnTo>
                      <a:pt x="398" y="583"/>
                    </a:lnTo>
                    <a:lnTo>
                      <a:pt x="398" y="587"/>
                    </a:lnTo>
                    <a:lnTo>
                      <a:pt x="400" y="591"/>
                    </a:lnTo>
                    <a:lnTo>
                      <a:pt x="401" y="596"/>
                    </a:lnTo>
                    <a:lnTo>
                      <a:pt x="402" y="602"/>
                    </a:lnTo>
                    <a:lnTo>
                      <a:pt x="403" y="607"/>
                    </a:lnTo>
                    <a:lnTo>
                      <a:pt x="405" y="614"/>
                    </a:lnTo>
                    <a:lnTo>
                      <a:pt x="406" y="622"/>
                    </a:lnTo>
                    <a:lnTo>
                      <a:pt x="407" y="628"/>
                    </a:lnTo>
                    <a:lnTo>
                      <a:pt x="409" y="635"/>
                    </a:lnTo>
                    <a:lnTo>
                      <a:pt x="409" y="641"/>
                    </a:lnTo>
                    <a:lnTo>
                      <a:pt x="410" y="646"/>
                    </a:lnTo>
                    <a:lnTo>
                      <a:pt x="411" y="654"/>
                    </a:lnTo>
                    <a:lnTo>
                      <a:pt x="411" y="659"/>
                    </a:lnTo>
                    <a:lnTo>
                      <a:pt x="413" y="664"/>
                    </a:lnTo>
                    <a:lnTo>
                      <a:pt x="413" y="668"/>
                    </a:lnTo>
                    <a:lnTo>
                      <a:pt x="413" y="673"/>
                    </a:lnTo>
                    <a:lnTo>
                      <a:pt x="411" y="679"/>
                    </a:lnTo>
                    <a:lnTo>
                      <a:pt x="413" y="686"/>
                    </a:lnTo>
                    <a:lnTo>
                      <a:pt x="414" y="690"/>
                    </a:lnTo>
                    <a:lnTo>
                      <a:pt x="415" y="695"/>
                    </a:lnTo>
                    <a:lnTo>
                      <a:pt x="416" y="699"/>
                    </a:lnTo>
                    <a:lnTo>
                      <a:pt x="419" y="703"/>
                    </a:lnTo>
                    <a:lnTo>
                      <a:pt x="422" y="711"/>
                    </a:lnTo>
                    <a:lnTo>
                      <a:pt x="424" y="717"/>
                    </a:lnTo>
                    <a:lnTo>
                      <a:pt x="427" y="721"/>
                    </a:lnTo>
                    <a:lnTo>
                      <a:pt x="428" y="724"/>
                    </a:lnTo>
                    <a:lnTo>
                      <a:pt x="430" y="724"/>
                    </a:lnTo>
                    <a:lnTo>
                      <a:pt x="433" y="725"/>
                    </a:lnTo>
                    <a:lnTo>
                      <a:pt x="441" y="728"/>
                    </a:lnTo>
                    <a:lnTo>
                      <a:pt x="452" y="732"/>
                    </a:lnTo>
                    <a:lnTo>
                      <a:pt x="462" y="734"/>
                    </a:lnTo>
                    <a:lnTo>
                      <a:pt x="476" y="738"/>
                    </a:lnTo>
                    <a:lnTo>
                      <a:pt x="492" y="742"/>
                    </a:lnTo>
                    <a:lnTo>
                      <a:pt x="508" y="746"/>
                    </a:lnTo>
                    <a:lnTo>
                      <a:pt x="523" y="750"/>
                    </a:lnTo>
                    <a:lnTo>
                      <a:pt x="539" y="752"/>
                    </a:lnTo>
                    <a:lnTo>
                      <a:pt x="555" y="754"/>
                    </a:lnTo>
                    <a:lnTo>
                      <a:pt x="570" y="756"/>
                    </a:lnTo>
                    <a:lnTo>
                      <a:pt x="585" y="756"/>
                    </a:lnTo>
                    <a:lnTo>
                      <a:pt x="598" y="755"/>
                    </a:lnTo>
                    <a:lnTo>
                      <a:pt x="608" y="754"/>
                    </a:lnTo>
                    <a:lnTo>
                      <a:pt x="617" y="750"/>
                    </a:lnTo>
                    <a:lnTo>
                      <a:pt x="624" y="745"/>
                    </a:lnTo>
                    <a:lnTo>
                      <a:pt x="630" y="741"/>
                    </a:lnTo>
                    <a:lnTo>
                      <a:pt x="636" y="737"/>
                    </a:lnTo>
                    <a:lnTo>
                      <a:pt x="642" y="733"/>
                    </a:lnTo>
                    <a:lnTo>
                      <a:pt x="646" y="729"/>
                    </a:lnTo>
                    <a:lnTo>
                      <a:pt x="651" y="725"/>
                    </a:lnTo>
                    <a:lnTo>
                      <a:pt x="654" y="723"/>
                    </a:lnTo>
                    <a:lnTo>
                      <a:pt x="658" y="720"/>
                    </a:lnTo>
                    <a:lnTo>
                      <a:pt x="663" y="715"/>
                    </a:lnTo>
                    <a:lnTo>
                      <a:pt x="666" y="712"/>
                    </a:lnTo>
                    <a:lnTo>
                      <a:pt x="668" y="710"/>
                    </a:lnTo>
                    <a:lnTo>
                      <a:pt x="668" y="710"/>
                    </a:lnTo>
                    <a:lnTo>
                      <a:pt x="671" y="710"/>
                    </a:lnTo>
                    <a:lnTo>
                      <a:pt x="676" y="711"/>
                    </a:lnTo>
                    <a:lnTo>
                      <a:pt x="684" y="712"/>
                    </a:lnTo>
                    <a:lnTo>
                      <a:pt x="696" y="715"/>
                    </a:lnTo>
                    <a:lnTo>
                      <a:pt x="707" y="717"/>
                    </a:lnTo>
                    <a:lnTo>
                      <a:pt x="722" y="723"/>
                    </a:lnTo>
                    <a:lnTo>
                      <a:pt x="736" y="728"/>
                    </a:lnTo>
                    <a:lnTo>
                      <a:pt x="752" y="734"/>
                    </a:lnTo>
                    <a:lnTo>
                      <a:pt x="765" y="742"/>
                    </a:lnTo>
                    <a:lnTo>
                      <a:pt x="779" y="751"/>
                    </a:lnTo>
                    <a:lnTo>
                      <a:pt x="791" y="760"/>
                    </a:lnTo>
                    <a:lnTo>
                      <a:pt x="801" y="773"/>
                    </a:lnTo>
                    <a:lnTo>
                      <a:pt x="808" y="786"/>
                    </a:lnTo>
                    <a:lnTo>
                      <a:pt x="812" y="800"/>
                    </a:lnTo>
                    <a:lnTo>
                      <a:pt x="812" y="816"/>
                    </a:lnTo>
                    <a:lnTo>
                      <a:pt x="808" y="834"/>
                    </a:lnTo>
                    <a:lnTo>
                      <a:pt x="809" y="833"/>
                    </a:lnTo>
                    <a:lnTo>
                      <a:pt x="820" y="829"/>
                    </a:lnTo>
                    <a:lnTo>
                      <a:pt x="833" y="824"/>
                    </a:lnTo>
                    <a:lnTo>
                      <a:pt x="851" y="817"/>
                    </a:lnTo>
                    <a:lnTo>
                      <a:pt x="872" y="808"/>
                    </a:lnTo>
                    <a:lnTo>
                      <a:pt x="897" y="796"/>
                    </a:lnTo>
                    <a:lnTo>
                      <a:pt x="923" y="785"/>
                    </a:lnTo>
                    <a:lnTo>
                      <a:pt x="950" y="772"/>
                    </a:lnTo>
                    <a:lnTo>
                      <a:pt x="977" y="758"/>
                    </a:lnTo>
                    <a:lnTo>
                      <a:pt x="1006" y="742"/>
                    </a:lnTo>
                    <a:lnTo>
                      <a:pt x="1034" y="725"/>
                    </a:lnTo>
                    <a:lnTo>
                      <a:pt x="1058" y="710"/>
                    </a:lnTo>
                    <a:lnTo>
                      <a:pt x="1081" y="693"/>
                    </a:lnTo>
                    <a:lnTo>
                      <a:pt x="1100" y="675"/>
                    </a:lnTo>
                    <a:lnTo>
                      <a:pt x="1117" y="658"/>
                    </a:lnTo>
                    <a:lnTo>
                      <a:pt x="1129" y="642"/>
                    </a:lnTo>
                    <a:lnTo>
                      <a:pt x="1129" y="640"/>
                    </a:lnTo>
                    <a:lnTo>
                      <a:pt x="1129" y="635"/>
                    </a:lnTo>
                    <a:lnTo>
                      <a:pt x="1129" y="627"/>
                    </a:lnTo>
                    <a:lnTo>
                      <a:pt x="1131" y="616"/>
                    </a:lnTo>
                    <a:lnTo>
                      <a:pt x="1131" y="603"/>
                    </a:lnTo>
                    <a:lnTo>
                      <a:pt x="1133" y="589"/>
                    </a:lnTo>
                    <a:lnTo>
                      <a:pt x="1134" y="574"/>
                    </a:lnTo>
                    <a:lnTo>
                      <a:pt x="1137" y="558"/>
                    </a:lnTo>
                    <a:lnTo>
                      <a:pt x="1138" y="541"/>
                    </a:lnTo>
                    <a:lnTo>
                      <a:pt x="1139" y="526"/>
                    </a:lnTo>
                    <a:lnTo>
                      <a:pt x="1141" y="510"/>
                    </a:lnTo>
                    <a:lnTo>
                      <a:pt x="1143" y="495"/>
                    </a:lnTo>
                    <a:lnTo>
                      <a:pt x="1143" y="482"/>
                    </a:lnTo>
                    <a:lnTo>
                      <a:pt x="1144" y="470"/>
                    </a:lnTo>
                    <a:lnTo>
                      <a:pt x="1146" y="461"/>
                    </a:lnTo>
                    <a:lnTo>
                      <a:pt x="1147" y="455"/>
                    </a:lnTo>
                    <a:lnTo>
                      <a:pt x="1147" y="446"/>
                    </a:lnTo>
                    <a:lnTo>
                      <a:pt x="1147" y="433"/>
                    </a:lnTo>
                    <a:lnTo>
                      <a:pt x="1147" y="414"/>
                    </a:lnTo>
                    <a:lnTo>
                      <a:pt x="1147" y="395"/>
                    </a:lnTo>
                    <a:lnTo>
                      <a:pt x="1144" y="370"/>
                    </a:lnTo>
                    <a:lnTo>
                      <a:pt x="1144" y="345"/>
                    </a:lnTo>
                    <a:lnTo>
                      <a:pt x="1143" y="316"/>
                    </a:lnTo>
                    <a:lnTo>
                      <a:pt x="1142" y="290"/>
                    </a:lnTo>
                    <a:lnTo>
                      <a:pt x="1139" y="260"/>
                    </a:lnTo>
                    <a:lnTo>
                      <a:pt x="1137" y="233"/>
                    </a:lnTo>
                    <a:lnTo>
                      <a:pt x="1135" y="207"/>
                    </a:lnTo>
                    <a:lnTo>
                      <a:pt x="1133" y="183"/>
                    </a:lnTo>
                    <a:lnTo>
                      <a:pt x="1129" y="161"/>
                    </a:lnTo>
                    <a:lnTo>
                      <a:pt x="1126" y="144"/>
                    </a:lnTo>
                    <a:lnTo>
                      <a:pt x="1124" y="130"/>
                    </a:lnTo>
                    <a:lnTo>
                      <a:pt x="1120" y="123"/>
                    </a:lnTo>
                    <a:lnTo>
                      <a:pt x="1114" y="115"/>
                    </a:lnTo>
                    <a:lnTo>
                      <a:pt x="1109" y="109"/>
                    </a:lnTo>
                    <a:lnTo>
                      <a:pt x="1103" y="104"/>
                    </a:lnTo>
                    <a:lnTo>
                      <a:pt x="1095" y="97"/>
                    </a:lnTo>
                    <a:lnTo>
                      <a:pt x="1086" y="91"/>
                    </a:lnTo>
                    <a:lnTo>
                      <a:pt x="1078" y="86"/>
                    </a:lnTo>
                    <a:lnTo>
                      <a:pt x="1067" y="79"/>
                    </a:lnTo>
                    <a:lnTo>
                      <a:pt x="1060" y="75"/>
                    </a:lnTo>
                    <a:lnTo>
                      <a:pt x="1049" y="69"/>
                    </a:lnTo>
                    <a:lnTo>
                      <a:pt x="1039" y="65"/>
                    </a:lnTo>
                    <a:lnTo>
                      <a:pt x="1030" y="60"/>
                    </a:lnTo>
                    <a:lnTo>
                      <a:pt x="1021" y="56"/>
                    </a:lnTo>
                    <a:lnTo>
                      <a:pt x="1011" y="52"/>
                    </a:lnTo>
                    <a:lnTo>
                      <a:pt x="1004" y="48"/>
                    </a:lnTo>
                    <a:lnTo>
                      <a:pt x="996" y="45"/>
                    </a:lnTo>
                    <a:lnTo>
                      <a:pt x="989" y="44"/>
                    </a:lnTo>
                    <a:lnTo>
                      <a:pt x="981" y="40"/>
                    </a:lnTo>
                    <a:lnTo>
                      <a:pt x="974" y="38"/>
                    </a:lnTo>
                    <a:lnTo>
                      <a:pt x="964" y="34"/>
                    </a:lnTo>
                    <a:lnTo>
                      <a:pt x="955" y="31"/>
                    </a:lnTo>
                    <a:lnTo>
                      <a:pt x="945" y="27"/>
                    </a:lnTo>
                    <a:lnTo>
                      <a:pt x="934" y="25"/>
                    </a:lnTo>
                    <a:lnTo>
                      <a:pt x="923" y="21"/>
                    </a:lnTo>
                    <a:lnTo>
                      <a:pt x="914" y="17"/>
                    </a:lnTo>
                    <a:lnTo>
                      <a:pt x="903" y="13"/>
                    </a:lnTo>
                    <a:lnTo>
                      <a:pt x="894" y="11"/>
                    </a:lnTo>
                    <a:lnTo>
                      <a:pt x="885" y="8"/>
                    </a:lnTo>
                    <a:lnTo>
                      <a:pt x="878" y="5"/>
                    </a:lnTo>
                    <a:lnTo>
                      <a:pt x="872" y="3"/>
                    </a:lnTo>
                    <a:lnTo>
                      <a:pt x="868" y="1"/>
                    </a:lnTo>
                    <a:lnTo>
                      <a:pt x="864" y="0"/>
                    </a:lnTo>
                    <a:lnTo>
                      <a:pt x="406" y="40"/>
                    </a:lnTo>
                    <a:lnTo>
                      <a:pt x="406" y="4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074000" y="3416040"/>
                <a:ext cx="110160" cy="204840"/>
              </a:xfrm>
              <a:custGeom>
                <a:avLst/>
                <a:gdLst/>
                <a:ahLst/>
                <a:rect l="l" t="t" r="r" b="b"/>
                <a:pathLst>
                  <a:path w="187" h="364">
                    <a:moveTo>
                      <a:pt x="78" y="0"/>
                    </a:moveTo>
                    <a:lnTo>
                      <a:pt x="78" y="0"/>
                    </a:lnTo>
                    <a:lnTo>
                      <a:pt x="82" y="0"/>
                    </a:lnTo>
                    <a:lnTo>
                      <a:pt x="86" y="2"/>
                    </a:lnTo>
                    <a:lnTo>
                      <a:pt x="93" y="4"/>
                    </a:lnTo>
                    <a:lnTo>
                      <a:pt x="101" y="7"/>
                    </a:lnTo>
                    <a:lnTo>
                      <a:pt x="110" y="9"/>
                    </a:lnTo>
                    <a:lnTo>
                      <a:pt x="120" y="13"/>
                    </a:lnTo>
                    <a:lnTo>
                      <a:pt x="130" y="17"/>
                    </a:lnTo>
                    <a:lnTo>
                      <a:pt x="139" y="20"/>
                    </a:lnTo>
                    <a:lnTo>
                      <a:pt x="150" y="24"/>
                    </a:lnTo>
                    <a:lnTo>
                      <a:pt x="159" y="28"/>
                    </a:lnTo>
                    <a:lnTo>
                      <a:pt x="168" y="31"/>
                    </a:lnTo>
                    <a:lnTo>
                      <a:pt x="174" y="35"/>
                    </a:lnTo>
                    <a:lnTo>
                      <a:pt x="181" y="38"/>
                    </a:lnTo>
                    <a:lnTo>
                      <a:pt x="185" y="41"/>
                    </a:lnTo>
                    <a:lnTo>
                      <a:pt x="187" y="44"/>
                    </a:lnTo>
                    <a:lnTo>
                      <a:pt x="186" y="50"/>
                    </a:lnTo>
                    <a:lnTo>
                      <a:pt x="183" y="61"/>
                    </a:lnTo>
                    <a:lnTo>
                      <a:pt x="180" y="78"/>
                    </a:lnTo>
                    <a:lnTo>
                      <a:pt x="174" y="99"/>
                    </a:lnTo>
                    <a:lnTo>
                      <a:pt x="165" y="123"/>
                    </a:lnTo>
                    <a:lnTo>
                      <a:pt x="156" y="149"/>
                    </a:lnTo>
                    <a:lnTo>
                      <a:pt x="147" y="178"/>
                    </a:lnTo>
                    <a:lnTo>
                      <a:pt x="138" y="208"/>
                    </a:lnTo>
                    <a:lnTo>
                      <a:pt x="126" y="235"/>
                    </a:lnTo>
                    <a:lnTo>
                      <a:pt x="116" y="263"/>
                    </a:lnTo>
                    <a:lnTo>
                      <a:pt x="104" y="289"/>
                    </a:lnTo>
                    <a:lnTo>
                      <a:pt x="93" y="312"/>
                    </a:lnTo>
                    <a:lnTo>
                      <a:pt x="83" y="333"/>
                    </a:lnTo>
                    <a:lnTo>
                      <a:pt x="74" y="349"/>
                    </a:lnTo>
                    <a:lnTo>
                      <a:pt x="63" y="359"/>
                    </a:lnTo>
                    <a:lnTo>
                      <a:pt x="58" y="364"/>
                    </a:lnTo>
                    <a:lnTo>
                      <a:pt x="0" y="261"/>
                    </a:lnTo>
                    <a:lnTo>
                      <a:pt x="1" y="257"/>
                    </a:lnTo>
                    <a:lnTo>
                      <a:pt x="5" y="249"/>
                    </a:lnTo>
                    <a:lnTo>
                      <a:pt x="10" y="236"/>
                    </a:lnTo>
                    <a:lnTo>
                      <a:pt x="18" y="220"/>
                    </a:lnTo>
                    <a:lnTo>
                      <a:pt x="26" y="201"/>
                    </a:lnTo>
                    <a:lnTo>
                      <a:pt x="35" y="180"/>
                    </a:lnTo>
                    <a:lnTo>
                      <a:pt x="45" y="157"/>
                    </a:lnTo>
                    <a:lnTo>
                      <a:pt x="54" y="134"/>
                    </a:lnTo>
                    <a:lnTo>
                      <a:pt x="63" y="109"/>
                    </a:lnTo>
                    <a:lnTo>
                      <a:pt x="71" y="87"/>
                    </a:lnTo>
                    <a:lnTo>
                      <a:pt x="78" y="65"/>
                    </a:lnTo>
                    <a:lnTo>
                      <a:pt x="83" y="46"/>
                    </a:lnTo>
                    <a:lnTo>
                      <a:pt x="86" y="28"/>
                    </a:lnTo>
                    <a:lnTo>
                      <a:pt x="86" y="15"/>
                    </a:lnTo>
                    <a:lnTo>
                      <a:pt x="83" y="4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8680" y="3868920"/>
                <a:ext cx="347760" cy="96840"/>
              </a:xfrm>
              <a:custGeom>
                <a:avLst/>
                <a:gdLst/>
                <a:ahLst/>
                <a:rect l="l" t="t" r="r" b="b"/>
                <a:pathLst>
                  <a:path w="593" h="173">
                    <a:moveTo>
                      <a:pt x="0" y="139"/>
                    </a:moveTo>
                    <a:lnTo>
                      <a:pt x="0" y="138"/>
                    </a:lnTo>
                    <a:lnTo>
                      <a:pt x="4" y="138"/>
                    </a:lnTo>
                    <a:lnTo>
                      <a:pt x="8" y="138"/>
                    </a:lnTo>
                    <a:lnTo>
                      <a:pt x="15" y="138"/>
                    </a:lnTo>
                    <a:lnTo>
                      <a:pt x="23" y="138"/>
                    </a:lnTo>
                    <a:lnTo>
                      <a:pt x="32" y="138"/>
                    </a:lnTo>
                    <a:lnTo>
                      <a:pt x="43" y="138"/>
                    </a:lnTo>
                    <a:lnTo>
                      <a:pt x="56" y="139"/>
                    </a:lnTo>
                    <a:lnTo>
                      <a:pt x="68" y="139"/>
                    </a:lnTo>
                    <a:lnTo>
                      <a:pt x="82" y="141"/>
                    </a:lnTo>
                    <a:lnTo>
                      <a:pt x="95" y="143"/>
                    </a:lnTo>
                    <a:lnTo>
                      <a:pt x="109" y="146"/>
                    </a:lnTo>
                    <a:lnTo>
                      <a:pt x="124" y="147"/>
                    </a:lnTo>
                    <a:lnTo>
                      <a:pt x="138" y="151"/>
                    </a:lnTo>
                    <a:lnTo>
                      <a:pt x="152" y="155"/>
                    </a:lnTo>
                    <a:lnTo>
                      <a:pt x="168" y="161"/>
                    </a:lnTo>
                    <a:lnTo>
                      <a:pt x="181" y="164"/>
                    </a:lnTo>
                    <a:lnTo>
                      <a:pt x="199" y="168"/>
                    </a:lnTo>
                    <a:lnTo>
                      <a:pt x="218" y="171"/>
                    </a:lnTo>
                    <a:lnTo>
                      <a:pt x="240" y="172"/>
                    </a:lnTo>
                    <a:lnTo>
                      <a:pt x="261" y="172"/>
                    </a:lnTo>
                    <a:lnTo>
                      <a:pt x="284" y="173"/>
                    </a:lnTo>
                    <a:lnTo>
                      <a:pt x="306" y="172"/>
                    </a:lnTo>
                    <a:lnTo>
                      <a:pt x="330" y="172"/>
                    </a:lnTo>
                    <a:lnTo>
                      <a:pt x="351" y="171"/>
                    </a:lnTo>
                    <a:lnTo>
                      <a:pt x="370" y="169"/>
                    </a:lnTo>
                    <a:lnTo>
                      <a:pt x="390" y="168"/>
                    </a:lnTo>
                    <a:lnTo>
                      <a:pt x="406" y="167"/>
                    </a:lnTo>
                    <a:lnTo>
                      <a:pt x="419" y="165"/>
                    </a:lnTo>
                    <a:lnTo>
                      <a:pt x="429" y="164"/>
                    </a:lnTo>
                    <a:lnTo>
                      <a:pt x="436" y="164"/>
                    </a:lnTo>
                    <a:lnTo>
                      <a:pt x="438" y="164"/>
                    </a:lnTo>
                    <a:lnTo>
                      <a:pt x="593" y="71"/>
                    </a:lnTo>
                    <a:lnTo>
                      <a:pt x="402" y="0"/>
                    </a:lnTo>
                    <a:lnTo>
                      <a:pt x="0" y="130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51240" y="3463200"/>
                <a:ext cx="73080" cy="153360"/>
              </a:xfrm>
              <a:custGeom>
                <a:avLst/>
                <a:gdLst/>
                <a:ahLst/>
                <a:rect l="l" t="t" r="r" b="b"/>
                <a:pathLst>
                  <a:path w="121" h="273">
                    <a:moveTo>
                      <a:pt x="121" y="203"/>
                    </a:moveTo>
                    <a:lnTo>
                      <a:pt x="60" y="273"/>
                    </a:lnTo>
                    <a:lnTo>
                      <a:pt x="58" y="270"/>
                    </a:lnTo>
                    <a:lnTo>
                      <a:pt x="56" y="265"/>
                    </a:lnTo>
                    <a:lnTo>
                      <a:pt x="52" y="256"/>
                    </a:lnTo>
                    <a:lnTo>
                      <a:pt x="47" y="246"/>
                    </a:lnTo>
                    <a:lnTo>
                      <a:pt x="40" y="233"/>
                    </a:lnTo>
                    <a:lnTo>
                      <a:pt x="34" y="219"/>
                    </a:lnTo>
                    <a:lnTo>
                      <a:pt x="27" y="202"/>
                    </a:lnTo>
                    <a:lnTo>
                      <a:pt x="21" y="186"/>
                    </a:lnTo>
                    <a:lnTo>
                      <a:pt x="14" y="167"/>
                    </a:lnTo>
                    <a:lnTo>
                      <a:pt x="9" y="149"/>
                    </a:lnTo>
                    <a:lnTo>
                      <a:pt x="4" y="131"/>
                    </a:lnTo>
                    <a:lnTo>
                      <a:pt x="1" y="114"/>
                    </a:lnTo>
                    <a:lnTo>
                      <a:pt x="0" y="96"/>
                    </a:lnTo>
                    <a:lnTo>
                      <a:pt x="0" y="80"/>
                    </a:lnTo>
                    <a:lnTo>
                      <a:pt x="4" y="66"/>
                    </a:lnTo>
                    <a:lnTo>
                      <a:pt x="9" y="54"/>
                    </a:lnTo>
                    <a:lnTo>
                      <a:pt x="69" y="0"/>
                    </a:lnTo>
                    <a:lnTo>
                      <a:pt x="121" y="203"/>
                    </a:lnTo>
                    <a:lnTo>
                      <a:pt x="121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62320" y="3427200"/>
                <a:ext cx="155160" cy="155160"/>
              </a:xfrm>
              <a:custGeom>
                <a:avLst/>
                <a:gdLst/>
                <a:ahLst/>
                <a:rect l="l" t="t" r="r" b="b"/>
                <a:pathLst>
                  <a:path w="265" h="277">
                    <a:moveTo>
                      <a:pt x="0" y="30"/>
                    </a:moveTo>
                    <a:lnTo>
                      <a:pt x="0" y="31"/>
                    </a:lnTo>
                    <a:lnTo>
                      <a:pt x="2" y="39"/>
                    </a:lnTo>
                    <a:lnTo>
                      <a:pt x="6" y="48"/>
                    </a:lnTo>
                    <a:lnTo>
                      <a:pt x="11" y="62"/>
                    </a:lnTo>
                    <a:lnTo>
                      <a:pt x="18" y="76"/>
                    </a:lnTo>
                    <a:lnTo>
                      <a:pt x="27" y="96"/>
                    </a:lnTo>
                    <a:lnTo>
                      <a:pt x="38" y="115"/>
                    </a:lnTo>
                    <a:lnTo>
                      <a:pt x="49" y="136"/>
                    </a:lnTo>
                    <a:lnTo>
                      <a:pt x="62" y="158"/>
                    </a:lnTo>
                    <a:lnTo>
                      <a:pt x="78" y="179"/>
                    </a:lnTo>
                    <a:lnTo>
                      <a:pt x="94" y="198"/>
                    </a:lnTo>
                    <a:lnTo>
                      <a:pt x="113" y="219"/>
                    </a:lnTo>
                    <a:lnTo>
                      <a:pt x="134" y="237"/>
                    </a:lnTo>
                    <a:lnTo>
                      <a:pt x="156" y="254"/>
                    </a:lnTo>
                    <a:lnTo>
                      <a:pt x="180" y="267"/>
                    </a:lnTo>
                    <a:lnTo>
                      <a:pt x="206" y="277"/>
                    </a:lnTo>
                    <a:lnTo>
                      <a:pt x="265" y="234"/>
                    </a:lnTo>
                    <a:lnTo>
                      <a:pt x="263" y="233"/>
                    </a:lnTo>
                    <a:lnTo>
                      <a:pt x="259" y="231"/>
                    </a:lnTo>
                    <a:lnTo>
                      <a:pt x="255" y="224"/>
                    </a:lnTo>
                    <a:lnTo>
                      <a:pt x="249" y="218"/>
                    </a:lnTo>
                    <a:lnTo>
                      <a:pt x="242" y="209"/>
                    </a:lnTo>
                    <a:lnTo>
                      <a:pt x="233" y="199"/>
                    </a:lnTo>
                    <a:lnTo>
                      <a:pt x="223" y="188"/>
                    </a:lnTo>
                    <a:lnTo>
                      <a:pt x="214" y="176"/>
                    </a:lnTo>
                    <a:lnTo>
                      <a:pt x="203" y="163"/>
                    </a:lnTo>
                    <a:lnTo>
                      <a:pt x="192" y="150"/>
                    </a:lnTo>
                    <a:lnTo>
                      <a:pt x="181" y="136"/>
                    </a:lnTo>
                    <a:lnTo>
                      <a:pt x="171" y="123"/>
                    </a:lnTo>
                    <a:lnTo>
                      <a:pt x="162" y="108"/>
                    </a:lnTo>
                    <a:lnTo>
                      <a:pt x="151" y="95"/>
                    </a:lnTo>
                    <a:lnTo>
                      <a:pt x="142" y="80"/>
                    </a:lnTo>
                    <a:lnTo>
                      <a:pt x="135" y="69"/>
                    </a:lnTo>
                    <a:lnTo>
                      <a:pt x="126" y="56"/>
                    </a:lnTo>
                    <a:lnTo>
                      <a:pt x="118" y="45"/>
                    </a:lnTo>
                    <a:lnTo>
                      <a:pt x="109" y="36"/>
                    </a:lnTo>
                    <a:lnTo>
                      <a:pt x="100" y="29"/>
                    </a:lnTo>
                    <a:lnTo>
                      <a:pt x="90" y="21"/>
                    </a:lnTo>
                    <a:lnTo>
                      <a:pt x="81" y="17"/>
                    </a:lnTo>
                    <a:lnTo>
                      <a:pt x="70" y="12"/>
                    </a:lnTo>
                    <a:lnTo>
                      <a:pt x="61" y="9"/>
                    </a:lnTo>
                    <a:lnTo>
                      <a:pt x="52" y="5"/>
                    </a:lnTo>
                    <a:lnTo>
                      <a:pt x="44" y="4"/>
                    </a:lnTo>
                    <a:lnTo>
                      <a:pt x="36" y="1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67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94080" y="3375000"/>
                <a:ext cx="138600" cy="216720"/>
              </a:xfrm>
              <a:custGeom>
                <a:avLst/>
                <a:gdLst/>
                <a:ahLst/>
                <a:rect l="l" t="t" r="r" b="b"/>
                <a:pathLst>
                  <a:path w="236" h="383">
                    <a:moveTo>
                      <a:pt x="159" y="0"/>
                    </a:moveTo>
                    <a:lnTo>
                      <a:pt x="163" y="3"/>
                    </a:lnTo>
                    <a:lnTo>
                      <a:pt x="167" y="8"/>
                    </a:lnTo>
                    <a:lnTo>
                      <a:pt x="172" y="13"/>
                    </a:lnTo>
                    <a:lnTo>
                      <a:pt x="177" y="20"/>
                    </a:lnTo>
                    <a:lnTo>
                      <a:pt x="185" y="29"/>
                    </a:lnTo>
                    <a:lnTo>
                      <a:pt x="193" y="38"/>
                    </a:lnTo>
                    <a:lnTo>
                      <a:pt x="199" y="48"/>
                    </a:lnTo>
                    <a:lnTo>
                      <a:pt x="207" y="57"/>
                    </a:lnTo>
                    <a:lnTo>
                      <a:pt x="214" y="69"/>
                    </a:lnTo>
                    <a:lnTo>
                      <a:pt x="220" y="78"/>
                    </a:lnTo>
                    <a:lnTo>
                      <a:pt x="227" y="88"/>
                    </a:lnTo>
                    <a:lnTo>
                      <a:pt x="231" y="99"/>
                    </a:lnTo>
                    <a:lnTo>
                      <a:pt x="235" y="108"/>
                    </a:lnTo>
                    <a:lnTo>
                      <a:pt x="236" y="115"/>
                    </a:lnTo>
                    <a:lnTo>
                      <a:pt x="236" y="123"/>
                    </a:lnTo>
                    <a:lnTo>
                      <a:pt x="232" y="131"/>
                    </a:lnTo>
                    <a:lnTo>
                      <a:pt x="229" y="144"/>
                    </a:lnTo>
                    <a:lnTo>
                      <a:pt x="226" y="159"/>
                    </a:lnTo>
                    <a:lnTo>
                      <a:pt x="219" y="176"/>
                    </a:lnTo>
                    <a:lnTo>
                      <a:pt x="212" y="196"/>
                    </a:lnTo>
                    <a:lnTo>
                      <a:pt x="206" y="218"/>
                    </a:lnTo>
                    <a:lnTo>
                      <a:pt x="197" y="240"/>
                    </a:lnTo>
                    <a:lnTo>
                      <a:pt x="189" y="263"/>
                    </a:lnTo>
                    <a:lnTo>
                      <a:pt x="179" y="284"/>
                    </a:lnTo>
                    <a:lnTo>
                      <a:pt x="169" y="306"/>
                    </a:lnTo>
                    <a:lnTo>
                      <a:pt x="159" y="325"/>
                    </a:lnTo>
                    <a:lnTo>
                      <a:pt x="150" y="343"/>
                    </a:lnTo>
                    <a:lnTo>
                      <a:pt x="141" y="357"/>
                    </a:lnTo>
                    <a:lnTo>
                      <a:pt x="130" y="370"/>
                    </a:lnTo>
                    <a:lnTo>
                      <a:pt x="121" y="380"/>
                    </a:lnTo>
                    <a:lnTo>
                      <a:pt x="111" y="383"/>
                    </a:lnTo>
                    <a:lnTo>
                      <a:pt x="102" y="383"/>
                    </a:lnTo>
                    <a:lnTo>
                      <a:pt x="92" y="383"/>
                    </a:lnTo>
                    <a:lnTo>
                      <a:pt x="82" y="382"/>
                    </a:lnTo>
                    <a:lnTo>
                      <a:pt x="74" y="380"/>
                    </a:lnTo>
                    <a:lnTo>
                      <a:pt x="65" y="374"/>
                    </a:lnTo>
                    <a:lnTo>
                      <a:pt x="56" y="369"/>
                    </a:lnTo>
                    <a:lnTo>
                      <a:pt x="48" y="364"/>
                    </a:lnTo>
                    <a:lnTo>
                      <a:pt x="42" y="359"/>
                    </a:lnTo>
                    <a:lnTo>
                      <a:pt x="34" y="351"/>
                    </a:lnTo>
                    <a:lnTo>
                      <a:pt x="29" y="346"/>
                    </a:lnTo>
                    <a:lnTo>
                      <a:pt x="22" y="339"/>
                    </a:lnTo>
                    <a:lnTo>
                      <a:pt x="18" y="335"/>
                    </a:lnTo>
                    <a:lnTo>
                      <a:pt x="13" y="330"/>
                    </a:lnTo>
                    <a:lnTo>
                      <a:pt x="12" y="328"/>
                    </a:lnTo>
                    <a:lnTo>
                      <a:pt x="9" y="325"/>
                    </a:lnTo>
                    <a:lnTo>
                      <a:pt x="0" y="163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864480" y="343188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11" y="0"/>
                    </a:moveTo>
                    <a:lnTo>
                      <a:pt x="8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9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5"/>
                    </a:lnTo>
                    <a:lnTo>
                      <a:pt x="12" y="50"/>
                    </a:lnTo>
                    <a:lnTo>
                      <a:pt x="17" y="57"/>
                    </a:lnTo>
                    <a:lnTo>
                      <a:pt x="21" y="63"/>
                    </a:lnTo>
                    <a:lnTo>
                      <a:pt x="26" y="70"/>
                    </a:lnTo>
                    <a:lnTo>
                      <a:pt x="30" y="76"/>
                    </a:lnTo>
                    <a:lnTo>
                      <a:pt x="36" y="83"/>
                    </a:lnTo>
                    <a:lnTo>
                      <a:pt x="39" y="88"/>
                    </a:lnTo>
                    <a:lnTo>
                      <a:pt x="43" y="94"/>
                    </a:lnTo>
                    <a:lnTo>
                      <a:pt x="47" y="98"/>
                    </a:lnTo>
                    <a:lnTo>
                      <a:pt x="51" y="103"/>
                    </a:lnTo>
                    <a:lnTo>
                      <a:pt x="58" y="109"/>
                    </a:lnTo>
                    <a:lnTo>
                      <a:pt x="62" y="110"/>
                    </a:lnTo>
                    <a:lnTo>
                      <a:pt x="64" y="106"/>
                    </a:lnTo>
                    <a:lnTo>
                      <a:pt x="68" y="103"/>
                    </a:lnTo>
                    <a:lnTo>
                      <a:pt x="72" y="100"/>
                    </a:lnTo>
                    <a:lnTo>
                      <a:pt x="77" y="96"/>
                    </a:lnTo>
                    <a:lnTo>
                      <a:pt x="84" y="89"/>
                    </a:lnTo>
                    <a:lnTo>
                      <a:pt x="88" y="87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87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04440" y="3472200"/>
                <a:ext cx="86760" cy="83160"/>
              </a:xfrm>
              <a:custGeom>
                <a:avLst/>
                <a:gdLst/>
                <a:ahLst/>
                <a:rect l="l" t="t" r="r" b="b"/>
                <a:pathLst>
                  <a:path w="152" h="148">
                    <a:moveTo>
                      <a:pt x="0" y="28"/>
                    </a:moveTo>
                    <a:lnTo>
                      <a:pt x="0" y="30"/>
                    </a:lnTo>
                    <a:lnTo>
                      <a:pt x="3" y="34"/>
                    </a:lnTo>
                    <a:lnTo>
                      <a:pt x="7" y="39"/>
                    </a:lnTo>
                    <a:lnTo>
                      <a:pt x="12" y="47"/>
                    </a:lnTo>
                    <a:lnTo>
                      <a:pt x="17" y="56"/>
                    </a:lnTo>
                    <a:lnTo>
                      <a:pt x="24" y="66"/>
                    </a:lnTo>
                    <a:lnTo>
                      <a:pt x="31" y="76"/>
                    </a:lnTo>
                    <a:lnTo>
                      <a:pt x="41" y="88"/>
                    </a:lnTo>
                    <a:lnTo>
                      <a:pt x="48" y="100"/>
                    </a:lnTo>
                    <a:lnTo>
                      <a:pt x="58" y="110"/>
                    </a:lnTo>
                    <a:lnTo>
                      <a:pt x="68" y="119"/>
                    </a:lnTo>
                    <a:lnTo>
                      <a:pt x="77" y="129"/>
                    </a:lnTo>
                    <a:lnTo>
                      <a:pt x="85" y="136"/>
                    </a:lnTo>
                    <a:lnTo>
                      <a:pt x="95" y="142"/>
                    </a:lnTo>
                    <a:lnTo>
                      <a:pt x="103" y="146"/>
                    </a:lnTo>
                    <a:lnTo>
                      <a:pt x="112" y="148"/>
                    </a:lnTo>
                    <a:lnTo>
                      <a:pt x="152" y="84"/>
                    </a:lnTo>
                    <a:lnTo>
                      <a:pt x="133" y="8"/>
                    </a:lnTo>
                    <a:lnTo>
                      <a:pt x="20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8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951240" y="3508200"/>
                <a:ext cx="82440" cy="7668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30" y="14"/>
                    </a:moveTo>
                    <a:lnTo>
                      <a:pt x="28" y="14"/>
                    </a:lnTo>
                    <a:lnTo>
                      <a:pt x="24" y="17"/>
                    </a:lnTo>
                    <a:lnTo>
                      <a:pt x="18" y="21"/>
                    </a:lnTo>
                    <a:lnTo>
                      <a:pt x="11" y="26"/>
                    </a:lnTo>
                    <a:lnTo>
                      <a:pt x="5" y="31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1" y="51"/>
                    </a:lnTo>
                    <a:lnTo>
                      <a:pt x="4" y="57"/>
                    </a:lnTo>
                    <a:lnTo>
                      <a:pt x="6" y="61"/>
                    </a:lnTo>
                    <a:lnTo>
                      <a:pt x="9" y="67"/>
                    </a:lnTo>
                    <a:lnTo>
                      <a:pt x="13" y="74"/>
                    </a:lnTo>
                    <a:lnTo>
                      <a:pt x="17" y="80"/>
                    </a:lnTo>
                    <a:lnTo>
                      <a:pt x="19" y="87"/>
                    </a:lnTo>
                    <a:lnTo>
                      <a:pt x="23" y="93"/>
                    </a:lnTo>
                    <a:lnTo>
                      <a:pt x="27" y="100"/>
                    </a:lnTo>
                    <a:lnTo>
                      <a:pt x="32" y="106"/>
                    </a:lnTo>
                    <a:lnTo>
                      <a:pt x="36" y="113"/>
                    </a:lnTo>
                    <a:lnTo>
                      <a:pt x="40" y="118"/>
                    </a:lnTo>
                    <a:lnTo>
                      <a:pt x="45" y="123"/>
                    </a:lnTo>
                    <a:lnTo>
                      <a:pt x="49" y="127"/>
                    </a:lnTo>
                    <a:lnTo>
                      <a:pt x="53" y="131"/>
                    </a:lnTo>
                    <a:lnTo>
                      <a:pt x="58" y="133"/>
                    </a:lnTo>
                    <a:lnTo>
                      <a:pt x="62" y="133"/>
                    </a:lnTo>
                    <a:lnTo>
                      <a:pt x="68" y="135"/>
                    </a:lnTo>
                    <a:lnTo>
                      <a:pt x="71" y="132"/>
                    </a:lnTo>
                    <a:lnTo>
                      <a:pt x="77" y="131"/>
                    </a:lnTo>
                    <a:lnTo>
                      <a:pt x="82" y="128"/>
                    </a:lnTo>
                    <a:lnTo>
                      <a:pt x="90" y="126"/>
                    </a:lnTo>
                    <a:lnTo>
                      <a:pt x="95" y="122"/>
                    </a:lnTo>
                    <a:lnTo>
                      <a:pt x="101" y="119"/>
                    </a:lnTo>
                    <a:lnTo>
                      <a:pt x="108" y="117"/>
                    </a:lnTo>
                    <a:lnTo>
                      <a:pt x="114" y="113"/>
                    </a:lnTo>
                    <a:lnTo>
                      <a:pt x="121" y="109"/>
                    </a:lnTo>
                    <a:lnTo>
                      <a:pt x="126" y="105"/>
                    </a:lnTo>
                    <a:lnTo>
                      <a:pt x="130" y="101"/>
                    </a:lnTo>
                    <a:lnTo>
                      <a:pt x="134" y="97"/>
                    </a:lnTo>
                    <a:lnTo>
                      <a:pt x="137" y="92"/>
                    </a:lnTo>
                    <a:lnTo>
                      <a:pt x="139" y="87"/>
                    </a:lnTo>
                    <a:lnTo>
                      <a:pt x="139" y="83"/>
                    </a:lnTo>
                    <a:lnTo>
                      <a:pt x="139" y="80"/>
                    </a:lnTo>
                    <a:lnTo>
                      <a:pt x="138" y="75"/>
                    </a:lnTo>
                    <a:lnTo>
                      <a:pt x="135" y="71"/>
                    </a:lnTo>
                    <a:lnTo>
                      <a:pt x="133" y="66"/>
                    </a:lnTo>
                    <a:lnTo>
                      <a:pt x="130" y="61"/>
                    </a:lnTo>
                    <a:lnTo>
                      <a:pt x="126" y="53"/>
                    </a:lnTo>
                    <a:lnTo>
                      <a:pt x="124" y="47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2" y="29"/>
                    </a:lnTo>
                    <a:lnTo>
                      <a:pt x="107" y="23"/>
                    </a:lnTo>
                    <a:lnTo>
                      <a:pt x="103" y="18"/>
                    </a:lnTo>
                    <a:lnTo>
                      <a:pt x="98" y="13"/>
                    </a:lnTo>
                    <a:lnTo>
                      <a:pt x="94" y="9"/>
                    </a:lnTo>
                    <a:lnTo>
                      <a:pt x="90" y="5"/>
                    </a:lnTo>
                    <a:lnTo>
                      <a:pt x="84" y="3"/>
                    </a:lnTo>
                    <a:lnTo>
                      <a:pt x="82" y="1"/>
                    </a:lnTo>
                    <a:lnTo>
                      <a:pt x="77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58" y="1"/>
                    </a:lnTo>
                    <a:lnTo>
                      <a:pt x="56" y="3"/>
                    </a:lnTo>
                    <a:lnTo>
                      <a:pt x="51" y="3"/>
                    </a:lnTo>
                    <a:lnTo>
                      <a:pt x="48" y="5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087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833880" y="3296520"/>
                <a:ext cx="263520" cy="225360"/>
              </a:xfrm>
              <a:custGeom>
                <a:avLst/>
                <a:gdLst/>
                <a:ahLst/>
                <a:rect l="l" t="t" r="r" b="b"/>
                <a:pathLst>
                  <a:path w="452" h="402">
                    <a:moveTo>
                      <a:pt x="16" y="157"/>
                    </a:moveTo>
                    <a:lnTo>
                      <a:pt x="16" y="158"/>
                    </a:lnTo>
                    <a:lnTo>
                      <a:pt x="20" y="165"/>
                    </a:lnTo>
                    <a:lnTo>
                      <a:pt x="24" y="174"/>
                    </a:lnTo>
                    <a:lnTo>
                      <a:pt x="31" y="187"/>
                    </a:lnTo>
                    <a:lnTo>
                      <a:pt x="39" y="201"/>
                    </a:lnTo>
                    <a:lnTo>
                      <a:pt x="50" y="218"/>
                    </a:lnTo>
                    <a:lnTo>
                      <a:pt x="59" y="236"/>
                    </a:lnTo>
                    <a:lnTo>
                      <a:pt x="72" y="255"/>
                    </a:lnTo>
                    <a:lnTo>
                      <a:pt x="84" y="274"/>
                    </a:lnTo>
                    <a:lnTo>
                      <a:pt x="95" y="292"/>
                    </a:lnTo>
                    <a:lnTo>
                      <a:pt x="108" y="310"/>
                    </a:lnTo>
                    <a:lnTo>
                      <a:pt x="123" y="327"/>
                    </a:lnTo>
                    <a:lnTo>
                      <a:pt x="136" y="340"/>
                    </a:lnTo>
                    <a:lnTo>
                      <a:pt x="149" y="352"/>
                    </a:lnTo>
                    <a:lnTo>
                      <a:pt x="161" y="362"/>
                    </a:lnTo>
                    <a:lnTo>
                      <a:pt x="172" y="368"/>
                    </a:lnTo>
                    <a:lnTo>
                      <a:pt x="172" y="367"/>
                    </a:lnTo>
                    <a:lnTo>
                      <a:pt x="176" y="364"/>
                    </a:lnTo>
                    <a:lnTo>
                      <a:pt x="180" y="362"/>
                    </a:lnTo>
                    <a:lnTo>
                      <a:pt x="185" y="359"/>
                    </a:lnTo>
                    <a:lnTo>
                      <a:pt x="189" y="355"/>
                    </a:lnTo>
                    <a:lnTo>
                      <a:pt x="195" y="351"/>
                    </a:lnTo>
                    <a:lnTo>
                      <a:pt x="198" y="347"/>
                    </a:lnTo>
                    <a:lnTo>
                      <a:pt x="201" y="345"/>
                    </a:lnTo>
                    <a:lnTo>
                      <a:pt x="206" y="343"/>
                    </a:lnTo>
                    <a:lnTo>
                      <a:pt x="214" y="347"/>
                    </a:lnTo>
                    <a:lnTo>
                      <a:pt x="217" y="350"/>
                    </a:lnTo>
                    <a:lnTo>
                      <a:pt x="219" y="354"/>
                    </a:lnTo>
                    <a:lnTo>
                      <a:pt x="221" y="358"/>
                    </a:lnTo>
                    <a:lnTo>
                      <a:pt x="222" y="363"/>
                    </a:lnTo>
                    <a:lnTo>
                      <a:pt x="225" y="368"/>
                    </a:lnTo>
                    <a:lnTo>
                      <a:pt x="230" y="374"/>
                    </a:lnTo>
                    <a:lnTo>
                      <a:pt x="234" y="374"/>
                    </a:lnTo>
                    <a:lnTo>
                      <a:pt x="238" y="376"/>
                    </a:lnTo>
                    <a:lnTo>
                      <a:pt x="242" y="376"/>
                    </a:lnTo>
                    <a:lnTo>
                      <a:pt x="245" y="374"/>
                    </a:lnTo>
                    <a:lnTo>
                      <a:pt x="251" y="369"/>
                    </a:lnTo>
                    <a:lnTo>
                      <a:pt x="256" y="367"/>
                    </a:lnTo>
                    <a:lnTo>
                      <a:pt x="260" y="368"/>
                    </a:lnTo>
                    <a:lnTo>
                      <a:pt x="264" y="373"/>
                    </a:lnTo>
                    <a:lnTo>
                      <a:pt x="268" y="380"/>
                    </a:lnTo>
                    <a:lnTo>
                      <a:pt x="274" y="386"/>
                    </a:lnTo>
                    <a:lnTo>
                      <a:pt x="279" y="391"/>
                    </a:lnTo>
                    <a:lnTo>
                      <a:pt x="282" y="393"/>
                    </a:lnTo>
                    <a:lnTo>
                      <a:pt x="302" y="382"/>
                    </a:lnTo>
                    <a:lnTo>
                      <a:pt x="303" y="382"/>
                    </a:lnTo>
                    <a:lnTo>
                      <a:pt x="309" y="386"/>
                    </a:lnTo>
                    <a:lnTo>
                      <a:pt x="313" y="387"/>
                    </a:lnTo>
                    <a:lnTo>
                      <a:pt x="318" y="390"/>
                    </a:lnTo>
                    <a:lnTo>
                      <a:pt x="324" y="393"/>
                    </a:lnTo>
                    <a:lnTo>
                      <a:pt x="330" y="395"/>
                    </a:lnTo>
                    <a:lnTo>
                      <a:pt x="335" y="398"/>
                    </a:lnTo>
                    <a:lnTo>
                      <a:pt x="342" y="399"/>
                    </a:lnTo>
                    <a:lnTo>
                      <a:pt x="348" y="400"/>
                    </a:lnTo>
                    <a:lnTo>
                      <a:pt x="355" y="402"/>
                    </a:lnTo>
                    <a:lnTo>
                      <a:pt x="360" y="402"/>
                    </a:lnTo>
                    <a:lnTo>
                      <a:pt x="365" y="402"/>
                    </a:lnTo>
                    <a:lnTo>
                      <a:pt x="371" y="399"/>
                    </a:lnTo>
                    <a:lnTo>
                      <a:pt x="375" y="398"/>
                    </a:lnTo>
                    <a:lnTo>
                      <a:pt x="379" y="391"/>
                    </a:lnTo>
                    <a:lnTo>
                      <a:pt x="385" y="385"/>
                    </a:lnTo>
                    <a:lnTo>
                      <a:pt x="392" y="376"/>
                    </a:lnTo>
                    <a:lnTo>
                      <a:pt x="399" y="365"/>
                    </a:lnTo>
                    <a:lnTo>
                      <a:pt x="407" y="351"/>
                    </a:lnTo>
                    <a:lnTo>
                      <a:pt x="416" y="338"/>
                    </a:lnTo>
                    <a:lnTo>
                      <a:pt x="424" y="323"/>
                    </a:lnTo>
                    <a:lnTo>
                      <a:pt x="432" y="307"/>
                    </a:lnTo>
                    <a:lnTo>
                      <a:pt x="439" y="289"/>
                    </a:lnTo>
                    <a:lnTo>
                      <a:pt x="444" y="271"/>
                    </a:lnTo>
                    <a:lnTo>
                      <a:pt x="449" y="253"/>
                    </a:lnTo>
                    <a:lnTo>
                      <a:pt x="452" y="236"/>
                    </a:lnTo>
                    <a:lnTo>
                      <a:pt x="452" y="219"/>
                    </a:lnTo>
                    <a:lnTo>
                      <a:pt x="449" y="202"/>
                    </a:lnTo>
                    <a:lnTo>
                      <a:pt x="444" y="187"/>
                    </a:lnTo>
                    <a:lnTo>
                      <a:pt x="437" y="173"/>
                    </a:lnTo>
                    <a:lnTo>
                      <a:pt x="427" y="81"/>
                    </a:lnTo>
                    <a:lnTo>
                      <a:pt x="272" y="0"/>
                    </a:lnTo>
                    <a:lnTo>
                      <a:pt x="43" y="22"/>
                    </a:lnTo>
                    <a:lnTo>
                      <a:pt x="0" y="131"/>
                    </a:lnTo>
                    <a:lnTo>
                      <a:pt x="16" y="157"/>
                    </a:lnTo>
                    <a:lnTo>
                      <a:pt x="16" y="157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54120" y="3348000"/>
                <a:ext cx="6840" cy="13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4" y="0"/>
                    </a:lnTo>
                    <a:lnTo>
                      <a:pt x="8" y="3"/>
                    </a:lnTo>
                    <a:lnTo>
                      <a:pt x="10" y="7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0" y="19"/>
                    </a:lnTo>
                    <a:lnTo>
                      <a:pt x="8" y="22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2880" y="336168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4" y="0"/>
                    </a:moveTo>
                    <a:lnTo>
                      <a:pt x="8" y="0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7" y="11"/>
                    </a:lnTo>
                    <a:lnTo>
                      <a:pt x="17" y="18"/>
                    </a:lnTo>
                    <a:lnTo>
                      <a:pt x="15" y="22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6" y="20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16320" y="3375000"/>
                <a:ext cx="9360" cy="136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3" y="0"/>
                    </a:moveTo>
                    <a:lnTo>
                      <a:pt x="9" y="0"/>
                    </a:lnTo>
                    <a:lnTo>
                      <a:pt x="14" y="4"/>
                    </a:lnTo>
                    <a:lnTo>
                      <a:pt x="17" y="11"/>
                    </a:lnTo>
                    <a:lnTo>
                      <a:pt x="18" y="16"/>
                    </a:lnTo>
                    <a:lnTo>
                      <a:pt x="17" y="21"/>
                    </a:lnTo>
                    <a:lnTo>
                      <a:pt x="14" y="24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04440" y="33890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" y="0"/>
                    </a:move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9"/>
                    </a:lnTo>
                    <a:lnTo>
                      <a:pt x="9" y="22"/>
                    </a:lnTo>
                    <a:lnTo>
                      <a:pt x="5" y="17"/>
                    </a:lnTo>
                    <a:lnTo>
                      <a:pt x="2" y="10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95440" y="340884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1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4" y="9"/>
                    </a:lnTo>
                    <a:lnTo>
                      <a:pt x="22" y="15"/>
                    </a:lnTo>
                    <a:lnTo>
                      <a:pt x="18" y="15"/>
                    </a:lnTo>
                    <a:lnTo>
                      <a:pt x="11" y="15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90400" y="34246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4" y="2"/>
                    </a:moveTo>
                    <a:lnTo>
                      <a:pt x="8" y="0"/>
                    </a:lnTo>
                    <a:lnTo>
                      <a:pt x="13" y="3"/>
                    </a:lnTo>
                    <a:lnTo>
                      <a:pt x="16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2" y="19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99760" y="3355200"/>
                <a:ext cx="70920" cy="91800"/>
              </a:xfrm>
              <a:custGeom>
                <a:avLst/>
                <a:gdLst/>
                <a:ahLst/>
                <a:rect l="l" t="t" r="r" b="b"/>
                <a:pathLst>
                  <a:path w="122" h="163">
                    <a:moveTo>
                      <a:pt x="0" y="163"/>
                    </a:moveTo>
                    <a:lnTo>
                      <a:pt x="0" y="161"/>
                    </a:lnTo>
                    <a:lnTo>
                      <a:pt x="0" y="157"/>
                    </a:lnTo>
                    <a:lnTo>
                      <a:pt x="0" y="150"/>
                    </a:lnTo>
                    <a:lnTo>
                      <a:pt x="2" y="142"/>
                    </a:lnTo>
                    <a:lnTo>
                      <a:pt x="3" y="133"/>
                    </a:lnTo>
                    <a:lnTo>
                      <a:pt x="6" y="121"/>
                    </a:lnTo>
                    <a:lnTo>
                      <a:pt x="8" y="110"/>
                    </a:lnTo>
                    <a:lnTo>
                      <a:pt x="15" y="97"/>
                    </a:lnTo>
                    <a:lnTo>
                      <a:pt x="20" y="82"/>
                    </a:lnTo>
                    <a:lnTo>
                      <a:pt x="28" y="69"/>
                    </a:lnTo>
                    <a:lnTo>
                      <a:pt x="37" y="55"/>
                    </a:lnTo>
                    <a:lnTo>
                      <a:pt x="50" y="42"/>
                    </a:lnTo>
                    <a:lnTo>
                      <a:pt x="64" y="29"/>
                    </a:lnTo>
                    <a:lnTo>
                      <a:pt x="80" y="19"/>
                    </a:lnTo>
                    <a:lnTo>
                      <a:pt x="100" y="9"/>
                    </a:lnTo>
                    <a:lnTo>
                      <a:pt x="122" y="0"/>
                    </a:lnTo>
                    <a:lnTo>
                      <a:pt x="122" y="1"/>
                    </a:lnTo>
                    <a:lnTo>
                      <a:pt x="122" y="3"/>
                    </a:lnTo>
                    <a:lnTo>
                      <a:pt x="122" y="9"/>
                    </a:lnTo>
                    <a:lnTo>
                      <a:pt x="122" y="16"/>
                    </a:lnTo>
                    <a:lnTo>
                      <a:pt x="120" y="24"/>
                    </a:lnTo>
                    <a:lnTo>
                      <a:pt x="120" y="34"/>
                    </a:lnTo>
                    <a:lnTo>
                      <a:pt x="116" y="45"/>
                    </a:lnTo>
                    <a:lnTo>
                      <a:pt x="114" y="58"/>
                    </a:lnTo>
                    <a:lnTo>
                      <a:pt x="109" y="69"/>
                    </a:lnTo>
                    <a:lnTo>
                      <a:pt x="103" y="82"/>
                    </a:lnTo>
                    <a:lnTo>
                      <a:pt x="94" y="95"/>
                    </a:lnTo>
                    <a:lnTo>
                      <a:pt x="84" y="110"/>
                    </a:lnTo>
                    <a:lnTo>
                      <a:pt x="71" y="122"/>
                    </a:lnTo>
                    <a:lnTo>
                      <a:pt x="56" y="135"/>
                    </a:lnTo>
                    <a:lnTo>
                      <a:pt x="38" y="147"/>
                    </a:lnTo>
                    <a:lnTo>
                      <a:pt x="19" y="16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11280" y="3370680"/>
                <a:ext cx="42480" cy="58680"/>
              </a:xfrm>
              <a:custGeom>
                <a:avLst/>
                <a:gdLst/>
                <a:ahLst/>
                <a:rect l="l" t="t" r="r" b="b"/>
                <a:pathLst>
                  <a:path w="72" h="101">
                    <a:moveTo>
                      <a:pt x="0" y="101"/>
                    </a:moveTo>
                    <a:lnTo>
                      <a:pt x="0" y="100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3" y="91"/>
                    </a:lnTo>
                    <a:lnTo>
                      <a:pt x="4" y="85"/>
                    </a:lnTo>
                    <a:lnTo>
                      <a:pt x="7" y="79"/>
                    </a:lnTo>
                    <a:lnTo>
                      <a:pt x="8" y="72"/>
                    </a:lnTo>
                    <a:lnTo>
                      <a:pt x="13" y="66"/>
                    </a:lnTo>
                    <a:lnTo>
                      <a:pt x="17" y="57"/>
                    </a:lnTo>
                    <a:lnTo>
                      <a:pt x="22" y="49"/>
                    </a:lnTo>
                    <a:lnTo>
                      <a:pt x="28" y="41"/>
                    </a:lnTo>
                    <a:lnTo>
                      <a:pt x="35" y="32"/>
                    </a:lnTo>
                    <a:lnTo>
                      <a:pt x="42" y="23"/>
                    </a:lnTo>
                    <a:lnTo>
                      <a:pt x="51" y="14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2" y="1"/>
                    </a:lnTo>
                    <a:lnTo>
                      <a:pt x="72" y="5"/>
                    </a:lnTo>
                    <a:lnTo>
                      <a:pt x="72" y="9"/>
                    </a:lnTo>
                    <a:lnTo>
                      <a:pt x="71" y="14"/>
                    </a:lnTo>
                    <a:lnTo>
                      <a:pt x="71" y="21"/>
                    </a:lnTo>
                    <a:lnTo>
                      <a:pt x="69" y="28"/>
                    </a:lnTo>
                    <a:lnTo>
                      <a:pt x="68" y="36"/>
                    </a:lnTo>
                    <a:lnTo>
                      <a:pt x="64" y="43"/>
                    </a:lnTo>
                    <a:lnTo>
                      <a:pt x="62" y="52"/>
                    </a:lnTo>
                    <a:lnTo>
                      <a:pt x="56" y="60"/>
                    </a:lnTo>
                    <a:lnTo>
                      <a:pt x="51" y="69"/>
                    </a:lnTo>
                    <a:lnTo>
                      <a:pt x="45" y="76"/>
                    </a:lnTo>
                    <a:lnTo>
                      <a:pt x="37" y="84"/>
                    </a:lnTo>
                    <a:lnTo>
                      <a:pt x="26" y="92"/>
                    </a:lnTo>
                    <a:lnTo>
                      <a:pt x="16" y="100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798960" y="3192480"/>
                <a:ext cx="307800" cy="202680"/>
              </a:xfrm>
              <a:custGeom>
                <a:avLst/>
                <a:gdLst/>
                <a:ahLst/>
                <a:rect l="l" t="t" r="r" b="b"/>
                <a:pathLst>
                  <a:path w="524" h="362">
                    <a:moveTo>
                      <a:pt x="73" y="341"/>
                    </a:moveTo>
                    <a:lnTo>
                      <a:pt x="70" y="341"/>
                    </a:lnTo>
                    <a:lnTo>
                      <a:pt x="66" y="344"/>
                    </a:lnTo>
                    <a:lnTo>
                      <a:pt x="58" y="347"/>
                    </a:lnTo>
                    <a:lnTo>
                      <a:pt x="52" y="349"/>
                    </a:lnTo>
                    <a:lnTo>
                      <a:pt x="44" y="349"/>
                    </a:lnTo>
                    <a:lnTo>
                      <a:pt x="38" y="345"/>
                    </a:lnTo>
                    <a:lnTo>
                      <a:pt x="35" y="342"/>
                    </a:lnTo>
                    <a:lnTo>
                      <a:pt x="32" y="337"/>
                    </a:lnTo>
                    <a:lnTo>
                      <a:pt x="31" y="332"/>
                    </a:lnTo>
                    <a:lnTo>
                      <a:pt x="32" y="325"/>
                    </a:lnTo>
                    <a:lnTo>
                      <a:pt x="32" y="319"/>
                    </a:lnTo>
                    <a:lnTo>
                      <a:pt x="32" y="313"/>
                    </a:lnTo>
                    <a:lnTo>
                      <a:pt x="31" y="307"/>
                    </a:lnTo>
                    <a:lnTo>
                      <a:pt x="30" y="303"/>
                    </a:lnTo>
                    <a:lnTo>
                      <a:pt x="27" y="297"/>
                    </a:lnTo>
                    <a:lnTo>
                      <a:pt x="23" y="293"/>
                    </a:lnTo>
                    <a:lnTo>
                      <a:pt x="17" y="291"/>
                    </a:lnTo>
                    <a:lnTo>
                      <a:pt x="11" y="288"/>
                    </a:lnTo>
                    <a:lnTo>
                      <a:pt x="8" y="284"/>
                    </a:lnTo>
                    <a:lnTo>
                      <a:pt x="4" y="278"/>
                    </a:lnTo>
                    <a:lnTo>
                      <a:pt x="2" y="270"/>
                    </a:lnTo>
                    <a:lnTo>
                      <a:pt x="4" y="262"/>
                    </a:lnTo>
                    <a:lnTo>
                      <a:pt x="5" y="257"/>
                    </a:lnTo>
                    <a:lnTo>
                      <a:pt x="8" y="253"/>
                    </a:lnTo>
                    <a:lnTo>
                      <a:pt x="10" y="248"/>
                    </a:lnTo>
                    <a:lnTo>
                      <a:pt x="13" y="244"/>
                    </a:lnTo>
                    <a:lnTo>
                      <a:pt x="15" y="240"/>
                    </a:lnTo>
                    <a:lnTo>
                      <a:pt x="18" y="235"/>
                    </a:lnTo>
                    <a:lnTo>
                      <a:pt x="19" y="231"/>
                    </a:lnTo>
                    <a:lnTo>
                      <a:pt x="22" y="227"/>
                    </a:lnTo>
                    <a:lnTo>
                      <a:pt x="23" y="219"/>
                    </a:lnTo>
                    <a:lnTo>
                      <a:pt x="23" y="213"/>
                    </a:lnTo>
                    <a:lnTo>
                      <a:pt x="19" y="209"/>
                    </a:lnTo>
                    <a:lnTo>
                      <a:pt x="18" y="205"/>
                    </a:lnTo>
                    <a:lnTo>
                      <a:pt x="15" y="201"/>
                    </a:lnTo>
                    <a:lnTo>
                      <a:pt x="13" y="197"/>
                    </a:lnTo>
                    <a:lnTo>
                      <a:pt x="10" y="192"/>
                    </a:lnTo>
                    <a:lnTo>
                      <a:pt x="8" y="188"/>
                    </a:lnTo>
                    <a:lnTo>
                      <a:pt x="6" y="183"/>
                    </a:lnTo>
                    <a:lnTo>
                      <a:pt x="4" y="179"/>
                    </a:lnTo>
                    <a:lnTo>
                      <a:pt x="2" y="175"/>
                    </a:lnTo>
                    <a:lnTo>
                      <a:pt x="0" y="170"/>
                    </a:lnTo>
                    <a:lnTo>
                      <a:pt x="0" y="16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6" y="152"/>
                    </a:lnTo>
                    <a:lnTo>
                      <a:pt x="11" y="147"/>
                    </a:lnTo>
                    <a:lnTo>
                      <a:pt x="19" y="140"/>
                    </a:lnTo>
                    <a:lnTo>
                      <a:pt x="25" y="133"/>
                    </a:lnTo>
                    <a:lnTo>
                      <a:pt x="32" y="126"/>
                    </a:lnTo>
                    <a:lnTo>
                      <a:pt x="35" y="121"/>
                    </a:lnTo>
                    <a:lnTo>
                      <a:pt x="36" y="117"/>
                    </a:lnTo>
                    <a:lnTo>
                      <a:pt x="39" y="113"/>
                    </a:lnTo>
                    <a:lnTo>
                      <a:pt x="40" y="109"/>
                    </a:lnTo>
                    <a:lnTo>
                      <a:pt x="43" y="101"/>
                    </a:lnTo>
                    <a:lnTo>
                      <a:pt x="43" y="95"/>
                    </a:lnTo>
                    <a:lnTo>
                      <a:pt x="43" y="89"/>
                    </a:lnTo>
                    <a:lnTo>
                      <a:pt x="48" y="85"/>
                    </a:lnTo>
                    <a:lnTo>
                      <a:pt x="51" y="82"/>
                    </a:lnTo>
                    <a:lnTo>
                      <a:pt x="55" y="81"/>
                    </a:lnTo>
                    <a:lnTo>
                      <a:pt x="60" y="79"/>
                    </a:lnTo>
                    <a:lnTo>
                      <a:pt x="64" y="78"/>
                    </a:lnTo>
                    <a:lnTo>
                      <a:pt x="69" y="77"/>
                    </a:lnTo>
                    <a:lnTo>
                      <a:pt x="73" y="76"/>
                    </a:lnTo>
                    <a:lnTo>
                      <a:pt x="78" y="73"/>
                    </a:lnTo>
                    <a:lnTo>
                      <a:pt x="83" y="73"/>
                    </a:lnTo>
                    <a:lnTo>
                      <a:pt x="87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9" y="65"/>
                    </a:lnTo>
                    <a:lnTo>
                      <a:pt x="100" y="61"/>
                    </a:lnTo>
                    <a:lnTo>
                      <a:pt x="102" y="57"/>
                    </a:lnTo>
                    <a:lnTo>
                      <a:pt x="103" y="54"/>
                    </a:lnTo>
                    <a:lnTo>
                      <a:pt x="105" y="50"/>
                    </a:lnTo>
                    <a:lnTo>
                      <a:pt x="107" y="45"/>
                    </a:lnTo>
                    <a:lnTo>
                      <a:pt x="109" y="41"/>
                    </a:lnTo>
                    <a:lnTo>
                      <a:pt x="112" y="35"/>
                    </a:lnTo>
                    <a:lnTo>
                      <a:pt x="113" y="32"/>
                    </a:lnTo>
                    <a:lnTo>
                      <a:pt x="117" y="24"/>
                    </a:lnTo>
                    <a:lnTo>
                      <a:pt x="124" y="19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5" y="17"/>
                    </a:lnTo>
                    <a:lnTo>
                      <a:pt x="141" y="20"/>
                    </a:lnTo>
                    <a:lnTo>
                      <a:pt x="145" y="20"/>
                    </a:lnTo>
                    <a:lnTo>
                      <a:pt x="148" y="21"/>
                    </a:lnTo>
                    <a:lnTo>
                      <a:pt x="152" y="23"/>
                    </a:lnTo>
                    <a:lnTo>
                      <a:pt x="158" y="23"/>
                    </a:lnTo>
                    <a:lnTo>
                      <a:pt x="162" y="23"/>
                    </a:lnTo>
                    <a:lnTo>
                      <a:pt x="165" y="23"/>
                    </a:lnTo>
                    <a:lnTo>
                      <a:pt x="169" y="23"/>
                    </a:lnTo>
                    <a:lnTo>
                      <a:pt x="175" y="21"/>
                    </a:lnTo>
                    <a:lnTo>
                      <a:pt x="181" y="19"/>
                    </a:lnTo>
                    <a:lnTo>
                      <a:pt x="189" y="15"/>
                    </a:lnTo>
                    <a:lnTo>
                      <a:pt x="197" y="10"/>
                    </a:lnTo>
                    <a:lnTo>
                      <a:pt x="203" y="4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5" y="2"/>
                    </a:lnTo>
                    <a:lnTo>
                      <a:pt x="229" y="3"/>
                    </a:lnTo>
                    <a:lnTo>
                      <a:pt x="233" y="6"/>
                    </a:lnTo>
                    <a:lnTo>
                      <a:pt x="241" y="10"/>
                    </a:lnTo>
                    <a:lnTo>
                      <a:pt x="249" y="15"/>
                    </a:lnTo>
                    <a:lnTo>
                      <a:pt x="255" y="19"/>
                    </a:lnTo>
                    <a:lnTo>
                      <a:pt x="261" y="23"/>
                    </a:lnTo>
                    <a:lnTo>
                      <a:pt x="265" y="21"/>
                    </a:lnTo>
                    <a:lnTo>
                      <a:pt x="271" y="17"/>
                    </a:lnTo>
                    <a:lnTo>
                      <a:pt x="274" y="15"/>
                    </a:lnTo>
                    <a:lnTo>
                      <a:pt x="278" y="12"/>
                    </a:lnTo>
                    <a:lnTo>
                      <a:pt x="283" y="10"/>
                    </a:lnTo>
                    <a:lnTo>
                      <a:pt x="287" y="8"/>
                    </a:lnTo>
                    <a:lnTo>
                      <a:pt x="291" y="4"/>
                    </a:lnTo>
                    <a:lnTo>
                      <a:pt x="296" y="2"/>
                    </a:lnTo>
                    <a:lnTo>
                      <a:pt x="300" y="0"/>
                    </a:lnTo>
                    <a:lnTo>
                      <a:pt x="305" y="0"/>
                    </a:lnTo>
                    <a:lnTo>
                      <a:pt x="312" y="0"/>
                    </a:lnTo>
                    <a:lnTo>
                      <a:pt x="318" y="6"/>
                    </a:lnTo>
                    <a:lnTo>
                      <a:pt x="322" y="13"/>
                    </a:lnTo>
                    <a:lnTo>
                      <a:pt x="327" y="20"/>
                    </a:lnTo>
                    <a:lnTo>
                      <a:pt x="331" y="25"/>
                    </a:lnTo>
                    <a:lnTo>
                      <a:pt x="335" y="30"/>
                    </a:lnTo>
                    <a:lnTo>
                      <a:pt x="338" y="33"/>
                    </a:lnTo>
                    <a:lnTo>
                      <a:pt x="342" y="33"/>
                    </a:lnTo>
                    <a:lnTo>
                      <a:pt x="347" y="33"/>
                    </a:lnTo>
                    <a:lnTo>
                      <a:pt x="352" y="30"/>
                    </a:lnTo>
                    <a:lnTo>
                      <a:pt x="357" y="26"/>
                    </a:lnTo>
                    <a:lnTo>
                      <a:pt x="365" y="25"/>
                    </a:lnTo>
                    <a:lnTo>
                      <a:pt x="368" y="24"/>
                    </a:lnTo>
                    <a:lnTo>
                      <a:pt x="373" y="24"/>
                    </a:lnTo>
                    <a:lnTo>
                      <a:pt x="377" y="24"/>
                    </a:lnTo>
                    <a:lnTo>
                      <a:pt x="382" y="25"/>
                    </a:lnTo>
                    <a:lnTo>
                      <a:pt x="389" y="26"/>
                    </a:lnTo>
                    <a:lnTo>
                      <a:pt x="395" y="32"/>
                    </a:lnTo>
                    <a:lnTo>
                      <a:pt x="400" y="37"/>
                    </a:lnTo>
                    <a:lnTo>
                      <a:pt x="403" y="45"/>
                    </a:lnTo>
                    <a:lnTo>
                      <a:pt x="404" y="50"/>
                    </a:lnTo>
                    <a:lnTo>
                      <a:pt x="407" y="54"/>
                    </a:lnTo>
                    <a:lnTo>
                      <a:pt x="411" y="55"/>
                    </a:lnTo>
                    <a:lnTo>
                      <a:pt x="415" y="56"/>
                    </a:lnTo>
                    <a:lnTo>
                      <a:pt x="419" y="56"/>
                    </a:lnTo>
                    <a:lnTo>
                      <a:pt x="424" y="57"/>
                    </a:lnTo>
                    <a:lnTo>
                      <a:pt x="428" y="60"/>
                    </a:lnTo>
                    <a:lnTo>
                      <a:pt x="434" y="65"/>
                    </a:lnTo>
                    <a:lnTo>
                      <a:pt x="437" y="73"/>
                    </a:lnTo>
                    <a:lnTo>
                      <a:pt x="441" y="79"/>
                    </a:lnTo>
                    <a:lnTo>
                      <a:pt x="443" y="86"/>
                    </a:lnTo>
                    <a:lnTo>
                      <a:pt x="446" y="94"/>
                    </a:lnTo>
                    <a:lnTo>
                      <a:pt x="449" y="100"/>
                    </a:lnTo>
                    <a:lnTo>
                      <a:pt x="452" y="104"/>
                    </a:lnTo>
                    <a:lnTo>
                      <a:pt x="458" y="108"/>
                    </a:lnTo>
                    <a:lnTo>
                      <a:pt x="464" y="111"/>
                    </a:lnTo>
                    <a:lnTo>
                      <a:pt x="471" y="111"/>
                    </a:lnTo>
                    <a:lnTo>
                      <a:pt x="479" y="112"/>
                    </a:lnTo>
                    <a:lnTo>
                      <a:pt x="484" y="112"/>
                    </a:lnTo>
                    <a:lnTo>
                      <a:pt x="489" y="114"/>
                    </a:lnTo>
                    <a:lnTo>
                      <a:pt x="493" y="116"/>
                    </a:lnTo>
                    <a:lnTo>
                      <a:pt x="496" y="121"/>
                    </a:lnTo>
                    <a:lnTo>
                      <a:pt x="496" y="122"/>
                    </a:lnTo>
                    <a:lnTo>
                      <a:pt x="496" y="126"/>
                    </a:lnTo>
                    <a:lnTo>
                      <a:pt x="496" y="130"/>
                    </a:lnTo>
                    <a:lnTo>
                      <a:pt x="496" y="134"/>
                    </a:lnTo>
                    <a:lnTo>
                      <a:pt x="493" y="142"/>
                    </a:lnTo>
                    <a:lnTo>
                      <a:pt x="493" y="148"/>
                    </a:lnTo>
                    <a:lnTo>
                      <a:pt x="496" y="153"/>
                    </a:lnTo>
                    <a:lnTo>
                      <a:pt x="499" y="157"/>
                    </a:lnTo>
                    <a:lnTo>
                      <a:pt x="501" y="161"/>
                    </a:lnTo>
                    <a:lnTo>
                      <a:pt x="506" y="165"/>
                    </a:lnTo>
                    <a:lnTo>
                      <a:pt x="509" y="168"/>
                    </a:lnTo>
                    <a:lnTo>
                      <a:pt x="512" y="173"/>
                    </a:lnTo>
                    <a:lnTo>
                      <a:pt x="515" y="177"/>
                    </a:lnTo>
                    <a:lnTo>
                      <a:pt x="516" y="180"/>
                    </a:lnTo>
                    <a:lnTo>
                      <a:pt x="516" y="184"/>
                    </a:lnTo>
                    <a:lnTo>
                      <a:pt x="516" y="190"/>
                    </a:lnTo>
                    <a:lnTo>
                      <a:pt x="515" y="193"/>
                    </a:lnTo>
                    <a:lnTo>
                      <a:pt x="514" y="199"/>
                    </a:lnTo>
                    <a:lnTo>
                      <a:pt x="511" y="204"/>
                    </a:lnTo>
                    <a:lnTo>
                      <a:pt x="510" y="209"/>
                    </a:lnTo>
                    <a:lnTo>
                      <a:pt x="507" y="213"/>
                    </a:lnTo>
                    <a:lnTo>
                      <a:pt x="509" y="217"/>
                    </a:lnTo>
                    <a:lnTo>
                      <a:pt x="511" y="221"/>
                    </a:lnTo>
                    <a:lnTo>
                      <a:pt x="515" y="226"/>
                    </a:lnTo>
                    <a:lnTo>
                      <a:pt x="518" y="230"/>
                    </a:lnTo>
                    <a:lnTo>
                      <a:pt x="523" y="235"/>
                    </a:lnTo>
                    <a:lnTo>
                      <a:pt x="524" y="240"/>
                    </a:lnTo>
                    <a:lnTo>
                      <a:pt x="524" y="248"/>
                    </a:lnTo>
                    <a:lnTo>
                      <a:pt x="520" y="253"/>
                    </a:lnTo>
                    <a:lnTo>
                      <a:pt x="516" y="259"/>
                    </a:lnTo>
                    <a:lnTo>
                      <a:pt x="512" y="263"/>
                    </a:lnTo>
                    <a:lnTo>
                      <a:pt x="511" y="267"/>
                    </a:lnTo>
                    <a:lnTo>
                      <a:pt x="507" y="268"/>
                    </a:lnTo>
                    <a:lnTo>
                      <a:pt x="506" y="272"/>
                    </a:lnTo>
                    <a:lnTo>
                      <a:pt x="507" y="275"/>
                    </a:lnTo>
                    <a:lnTo>
                      <a:pt x="510" y="280"/>
                    </a:lnTo>
                    <a:lnTo>
                      <a:pt x="514" y="285"/>
                    </a:lnTo>
                    <a:lnTo>
                      <a:pt x="518" y="291"/>
                    </a:lnTo>
                    <a:lnTo>
                      <a:pt x="520" y="296"/>
                    </a:lnTo>
                    <a:lnTo>
                      <a:pt x="523" y="302"/>
                    </a:lnTo>
                    <a:lnTo>
                      <a:pt x="524" y="307"/>
                    </a:lnTo>
                    <a:lnTo>
                      <a:pt x="524" y="313"/>
                    </a:lnTo>
                    <a:lnTo>
                      <a:pt x="524" y="318"/>
                    </a:lnTo>
                    <a:lnTo>
                      <a:pt x="522" y="323"/>
                    </a:lnTo>
                    <a:lnTo>
                      <a:pt x="518" y="327"/>
                    </a:lnTo>
                    <a:lnTo>
                      <a:pt x="518" y="332"/>
                    </a:lnTo>
                    <a:lnTo>
                      <a:pt x="518" y="337"/>
                    </a:lnTo>
                    <a:lnTo>
                      <a:pt x="519" y="342"/>
                    </a:lnTo>
                    <a:lnTo>
                      <a:pt x="520" y="347"/>
                    </a:lnTo>
                    <a:lnTo>
                      <a:pt x="520" y="353"/>
                    </a:lnTo>
                    <a:lnTo>
                      <a:pt x="520" y="357"/>
                    </a:lnTo>
                    <a:lnTo>
                      <a:pt x="518" y="360"/>
                    </a:lnTo>
                    <a:lnTo>
                      <a:pt x="515" y="360"/>
                    </a:lnTo>
                    <a:lnTo>
                      <a:pt x="512" y="362"/>
                    </a:lnTo>
                    <a:lnTo>
                      <a:pt x="509" y="362"/>
                    </a:lnTo>
                    <a:lnTo>
                      <a:pt x="505" y="362"/>
                    </a:lnTo>
                    <a:lnTo>
                      <a:pt x="499" y="360"/>
                    </a:lnTo>
                    <a:lnTo>
                      <a:pt x="496" y="359"/>
                    </a:lnTo>
                    <a:lnTo>
                      <a:pt x="489" y="358"/>
                    </a:lnTo>
                    <a:lnTo>
                      <a:pt x="485" y="357"/>
                    </a:lnTo>
                    <a:lnTo>
                      <a:pt x="480" y="354"/>
                    </a:lnTo>
                    <a:lnTo>
                      <a:pt x="475" y="351"/>
                    </a:lnTo>
                    <a:lnTo>
                      <a:pt x="471" y="349"/>
                    </a:lnTo>
                    <a:lnTo>
                      <a:pt x="467" y="346"/>
                    </a:lnTo>
                    <a:lnTo>
                      <a:pt x="462" y="340"/>
                    </a:lnTo>
                    <a:lnTo>
                      <a:pt x="462" y="333"/>
                    </a:lnTo>
                    <a:lnTo>
                      <a:pt x="462" y="328"/>
                    </a:lnTo>
                    <a:lnTo>
                      <a:pt x="463" y="323"/>
                    </a:lnTo>
                    <a:lnTo>
                      <a:pt x="464" y="319"/>
                    </a:lnTo>
                    <a:lnTo>
                      <a:pt x="466" y="314"/>
                    </a:lnTo>
                    <a:lnTo>
                      <a:pt x="467" y="309"/>
                    </a:lnTo>
                    <a:lnTo>
                      <a:pt x="467" y="305"/>
                    </a:lnTo>
                    <a:lnTo>
                      <a:pt x="468" y="300"/>
                    </a:lnTo>
                    <a:lnTo>
                      <a:pt x="469" y="296"/>
                    </a:lnTo>
                    <a:lnTo>
                      <a:pt x="469" y="291"/>
                    </a:lnTo>
                    <a:lnTo>
                      <a:pt x="469" y="285"/>
                    </a:lnTo>
                    <a:lnTo>
                      <a:pt x="468" y="281"/>
                    </a:lnTo>
                    <a:lnTo>
                      <a:pt x="468" y="278"/>
                    </a:lnTo>
                    <a:lnTo>
                      <a:pt x="466" y="275"/>
                    </a:lnTo>
                    <a:lnTo>
                      <a:pt x="463" y="271"/>
                    </a:lnTo>
                    <a:lnTo>
                      <a:pt x="460" y="268"/>
                    </a:lnTo>
                    <a:lnTo>
                      <a:pt x="456" y="267"/>
                    </a:lnTo>
                    <a:lnTo>
                      <a:pt x="451" y="265"/>
                    </a:lnTo>
                    <a:lnTo>
                      <a:pt x="445" y="263"/>
                    </a:lnTo>
                    <a:lnTo>
                      <a:pt x="439" y="261"/>
                    </a:lnTo>
                    <a:lnTo>
                      <a:pt x="434" y="258"/>
                    </a:lnTo>
                    <a:lnTo>
                      <a:pt x="429" y="256"/>
                    </a:lnTo>
                    <a:lnTo>
                      <a:pt x="424" y="253"/>
                    </a:lnTo>
                    <a:lnTo>
                      <a:pt x="419" y="252"/>
                    </a:lnTo>
                    <a:lnTo>
                      <a:pt x="415" y="249"/>
                    </a:lnTo>
                    <a:lnTo>
                      <a:pt x="409" y="248"/>
                    </a:lnTo>
                    <a:lnTo>
                      <a:pt x="405" y="246"/>
                    </a:lnTo>
                    <a:lnTo>
                      <a:pt x="400" y="245"/>
                    </a:lnTo>
                    <a:lnTo>
                      <a:pt x="399" y="245"/>
                    </a:lnTo>
                    <a:lnTo>
                      <a:pt x="394" y="248"/>
                    </a:lnTo>
                    <a:lnTo>
                      <a:pt x="392" y="254"/>
                    </a:lnTo>
                    <a:lnTo>
                      <a:pt x="389" y="261"/>
                    </a:lnTo>
                    <a:lnTo>
                      <a:pt x="383" y="265"/>
                    </a:lnTo>
                    <a:lnTo>
                      <a:pt x="379" y="266"/>
                    </a:lnTo>
                    <a:lnTo>
                      <a:pt x="375" y="267"/>
                    </a:lnTo>
                    <a:lnTo>
                      <a:pt x="372" y="268"/>
                    </a:lnTo>
                    <a:lnTo>
                      <a:pt x="368" y="268"/>
                    </a:lnTo>
                    <a:lnTo>
                      <a:pt x="362" y="267"/>
                    </a:lnTo>
                    <a:lnTo>
                      <a:pt x="359" y="267"/>
                    </a:lnTo>
                    <a:lnTo>
                      <a:pt x="353" y="265"/>
                    </a:lnTo>
                    <a:lnTo>
                      <a:pt x="351" y="263"/>
                    </a:lnTo>
                    <a:lnTo>
                      <a:pt x="344" y="258"/>
                    </a:lnTo>
                    <a:lnTo>
                      <a:pt x="343" y="252"/>
                    </a:lnTo>
                    <a:lnTo>
                      <a:pt x="342" y="246"/>
                    </a:lnTo>
                    <a:lnTo>
                      <a:pt x="342" y="244"/>
                    </a:lnTo>
                    <a:lnTo>
                      <a:pt x="340" y="240"/>
                    </a:lnTo>
                    <a:lnTo>
                      <a:pt x="339" y="240"/>
                    </a:lnTo>
                    <a:lnTo>
                      <a:pt x="338" y="237"/>
                    </a:lnTo>
                    <a:lnTo>
                      <a:pt x="335" y="237"/>
                    </a:lnTo>
                    <a:lnTo>
                      <a:pt x="330" y="237"/>
                    </a:lnTo>
                    <a:lnTo>
                      <a:pt x="325" y="239"/>
                    </a:lnTo>
                    <a:lnTo>
                      <a:pt x="321" y="239"/>
                    </a:lnTo>
                    <a:lnTo>
                      <a:pt x="318" y="240"/>
                    </a:lnTo>
                    <a:lnTo>
                      <a:pt x="313" y="240"/>
                    </a:lnTo>
                    <a:lnTo>
                      <a:pt x="309" y="241"/>
                    </a:lnTo>
                    <a:lnTo>
                      <a:pt x="304" y="240"/>
                    </a:lnTo>
                    <a:lnTo>
                      <a:pt x="299" y="237"/>
                    </a:lnTo>
                    <a:lnTo>
                      <a:pt x="296" y="236"/>
                    </a:lnTo>
                    <a:lnTo>
                      <a:pt x="293" y="234"/>
                    </a:lnTo>
                    <a:lnTo>
                      <a:pt x="289" y="226"/>
                    </a:lnTo>
                    <a:lnTo>
                      <a:pt x="287" y="218"/>
                    </a:lnTo>
                    <a:lnTo>
                      <a:pt x="283" y="212"/>
                    </a:lnTo>
                    <a:lnTo>
                      <a:pt x="282" y="208"/>
                    </a:lnTo>
                    <a:lnTo>
                      <a:pt x="279" y="206"/>
                    </a:lnTo>
                    <a:lnTo>
                      <a:pt x="276" y="208"/>
                    </a:lnTo>
                    <a:lnTo>
                      <a:pt x="272" y="209"/>
                    </a:lnTo>
                    <a:lnTo>
                      <a:pt x="270" y="213"/>
                    </a:lnTo>
                    <a:lnTo>
                      <a:pt x="265" y="217"/>
                    </a:lnTo>
                    <a:lnTo>
                      <a:pt x="261" y="219"/>
                    </a:lnTo>
                    <a:lnTo>
                      <a:pt x="257" y="223"/>
                    </a:lnTo>
                    <a:lnTo>
                      <a:pt x="254" y="226"/>
                    </a:lnTo>
                    <a:lnTo>
                      <a:pt x="250" y="231"/>
                    </a:lnTo>
                    <a:lnTo>
                      <a:pt x="245" y="236"/>
                    </a:lnTo>
                    <a:lnTo>
                      <a:pt x="240" y="237"/>
                    </a:lnTo>
                    <a:lnTo>
                      <a:pt x="235" y="237"/>
                    </a:lnTo>
                    <a:lnTo>
                      <a:pt x="229" y="235"/>
                    </a:lnTo>
                    <a:lnTo>
                      <a:pt x="222" y="230"/>
                    </a:lnTo>
                    <a:lnTo>
                      <a:pt x="218" y="226"/>
                    </a:lnTo>
                    <a:lnTo>
                      <a:pt x="212" y="223"/>
                    </a:lnTo>
                    <a:lnTo>
                      <a:pt x="208" y="221"/>
                    </a:lnTo>
                    <a:lnTo>
                      <a:pt x="206" y="219"/>
                    </a:lnTo>
                    <a:lnTo>
                      <a:pt x="198" y="215"/>
                    </a:lnTo>
                    <a:lnTo>
                      <a:pt x="194" y="214"/>
                    </a:lnTo>
                    <a:lnTo>
                      <a:pt x="189" y="214"/>
                    </a:lnTo>
                    <a:lnTo>
                      <a:pt x="186" y="218"/>
                    </a:lnTo>
                    <a:lnTo>
                      <a:pt x="185" y="221"/>
                    </a:lnTo>
                    <a:lnTo>
                      <a:pt x="184" y="223"/>
                    </a:lnTo>
                    <a:lnTo>
                      <a:pt x="184" y="228"/>
                    </a:lnTo>
                    <a:lnTo>
                      <a:pt x="184" y="234"/>
                    </a:lnTo>
                    <a:lnTo>
                      <a:pt x="181" y="237"/>
                    </a:lnTo>
                    <a:lnTo>
                      <a:pt x="180" y="241"/>
                    </a:lnTo>
                    <a:lnTo>
                      <a:pt x="178" y="245"/>
                    </a:lnTo>
                    <a:lnTo>
                      <a:pt x="177" y="248"/>
                    </a:lnTo>
                    <a:lnTo>
                      <a:pt x="172" y="252"/>
                    </a:lnTo>
                    <a:lnTo>
                      <a:pt x="165" y="252"/>
                    </a:lnTo>
                    <a:lnTo>
                      <a:pt x="159" y="250"/>
                    </a:lnTo>
                    <a:lnTo>
                      <a:pt x="152" y="249"/>
                    </a:lnTo>
                    <a:lnTo>
                      <a:pt x="145" y="245"/>
                    </a:lnTo>
                    <a:lnTo>
                      <a:pt x="138" y="244"/>
                    </a:lnTo>
                    <a:lnTo>
                      <a:pt x="132" y="240"/>
                    </a:lnTo>
                    <a:lnTo>
                      <a:pt x="128" y="241"/>
                    </a:lnTo>
                    <a:lnTo>
                      <a:pt x="124" y="245"/>
                    </a:lnTo>
                    <a:lnTo>
                      <a:pt x="121" y="252"/>
                    </a:lnTo>
                    <a:lnTo>
                      <a:pt x="118" y="257"/>
                    </a:lnTo>
                    <a:lnTo>
                      <a:pt x="117" y="265"/>
                    </a:lnTo>
                    <a:lnTo>
                      <a:pt x="115" y="272"/>
                    </a:lnTo>
                    <a:lnTo>
                      <a:pt x="113" y="281"/>
                    </a:lnTo>
                    <a:lnTo>
                      <a:pt x="111" y="285"/>
                    </a:lnTo>
                    <a:lnTo>
                      <a:pt x="107" y="289"/>
                    </a:lnTo>
                    <a:lnTo>
                      <a:pt x="103" y="289"/>
                    </a:lnTo>
                    <a:lnTo>
                      <a:pt x="99" y="289"/>
                    </a:lnTo>
                    <a:lnTo>
                      <a:pt x="95" y="289"/>
                    </a:lnTo>
                    <a:lnTo>
                      <a:pt x="91" y="291"/>
                    </a:lnTo>
                    <a:lnTo>
                      <a:pt x="88" y="292"/>
                    </a:lnTo>
                    <a:lnTo>
                      <a:pt x="87" y="293"/>
                    </a:lnTo>
                    <a:lnTo>
                      <a:pt x="85" y="297"/>
                    </a:lnTo>
                    <a:lnTo>
                      <a:pt x="85" y="301"/>
                    </a:lnTo>
                    <a:lnTo>
                      <a:pt x="79" y="309"/>
                    </a:lnTo>
                    <a:lnTo>
                      <a:pt x="77" y="316"/>
                    </a:lnTo>
                    <a:lnTo>
                      <a:pt x="75" y="323"/>
                    </a:lnTo>
                    <a:lnTo>
                      <a:pt x="74" y="329"/>
                    </a:lnTo>
                    <a:lnTo>
                      <a:pt x="73" y="333"/>
                    </a:lnTo>
                    <a:lnTo>
                      <a:pt x="73" y="337"/>
                    </a:lnTo>
                    <a:lnTo>
                      <a:pt x="73" y="340"/>
                    </a:lnTo>
                    <a:lnTo>
                      <a:pt x="73" y="341"/>
                    </a:lnTo>
                    <a:lnTo>
                      <a:pt x="73" y="341"/>
                    </a:lnTo>
                    <a:close/>
                  </a:path>
                </a:pathLst>
              </a:custGeom>
              <a:solidFill>
                <a:srgbClr val="8f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14160" y="3210480"/>
                <a:ext cx="42120" cy="3600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17" y="0"/>
                    </a:moveTo>
                    <a:lnTo>
                      <a:pt x="21" y="0"/>
                    </a:lnTo>
                    <a:lnTo>
                      <a:pt x="26" y="2"/>
                    </a:lnTo>
                    <a:lnTo>
                      <a:pt x="30" y="6"/>
                    </a:lnTo>
                    <a:lnTo>
                      <a:pt x="34" y="10"/>
                    </a:lnTo>
                    <a:lnTo>
                      <a:pt x="38" y="13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5" y="13"/>
                    </a:lnTo>
                    <a:lnTo>
                      <a:pt x="60" y="16"/>
                    </a:lnTo>
                    <a:lnTo>
                      <a:pt x="65" y="20"/>
                    </a:lnTo>
                    <a:lnTo>
                      <a:pt x="69" y="25"/>
                    </a:lnTo>
                    <a:lnTo>
                      <a:pt x="72" y="32"/>
                    </a:lnTo>
                    <a:lnTo>
                      <a:pt x="72" y="37"/>
                    </a:lnTo>
                    <a:lnTo>
                      <a:pt x="72" y="42"/>
                    </a:lnTo>
                    <a:lnTo>
                      <a:pt x="69" y="47"/>
                    </a:lnTo>
                    <a:lnTo>
                      <a:pt x="68" y="53"/>
                    </a:lnTo>
                    <a:lnTo>
                      <a:pt x="64" y="57"/>
                    </a:lnTo>
                    <a:lnTo>
                      <a:pt x="60" y="60"/>
                    </a:lnTo>
                    <a:lnTo>
                      <a:pt x="55" y="63"/>
                    </a:lnTo>
                    <a:lnTo>
                      <a:pt x="49" y="66"/>
                    </a:lnTo>
                    <a:lnTo>
                      <a:pt x="44" y="66"/>
                    </a:lnTo>
                    <a:lnTo>
                      <a:pt x="38" y="66"/>
                    </a:lnTo>
                    <a:lnTo>
                      <a:pt x="32" y="63"/>
                    </a:lnTo>
                    <a:lnTo>
                      <a:pt x="27" y="60"/>
                    </a:lnTo>
                    <a:lnTo>
                      <a:pt x="22" y="58"/>
                    </a:lnTo>
                    <a:lnTo>
                      <a:pt x="17" y="55"/>
                    </a:lnTo>
                    <a:lnTo>
                      <a:pt x="13" y="53"/>
                    </a:lnTo>
                    <a:lnTo>
                      <a:pt x="10" y="49"/>
                    </a:lnTo>
                    <a:lnTo>
                      <a:pt x="6" y="45"/>
                    </a:lnTo>
                    <a:lnTo>
                      <a:pt x="4" y="40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11" y="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57640" y="3208320"/>
                <a:ext cx="51480" cy="47520"/>
              </a:xfrm>
              <a:custGeom>
                <a:avLst/>
                <a:gdLst/>
                <a:ahLst/>
                <a:rect l="l" t="t" r="r" b="b"/>
                <a:pathLst>
                  <a:path w="85" h="83">
                    <a:moveTo>
                      <a:pt x="60" y="0"/>
                    </a:moveTo>
                    <a:lnTo>
                      <a:pt x="67" y="4"/>
                    </a:lnTo>
                    <a:lnTo>
                      <a:pt x="73" y="9"/>
                    </a:lnTo>
                    <a:lnTo>
                      <a:pt x="77" y="15"/>
                    </a:lnTo>
                    <a:lnTo>
                      <a:pt x="81" y="22"/>
                    </a:lnTo>
                    <a:lnTo>
                      <a:pt x="84" y="27"/>
                    </a:lnTo>
                    <a:lnTo>
                      <a:pt x="85" y="35"/>
                    </a:lnTo>
                    <a:lnTo>
                      <a:pt x="85" y="42"/>
                    </a:lnTo>
                    <a:lnTo>
                      <a:pt x="85" y="49"/>
                    </a:lnTo>
                    <a:lnTo>
                      <a:pt x="82" y="56"/>
                    </a:lnTo>
                    <a:lnTo>
                      <a:pt x="80" y="62"/>
                    </a:lnTo>
                    <a:lnTo>
                      <a:pt x="76" y="68"/>
                    </a:lnTo>
                    <a:lnTo>
                      <a:pt x="72" y="74"/>
                    </a:lnTo>
                    <a:lnTo>
                      <a:pt x="65" y="78"/>
                    </a:lnTo>
                    <a:lnTo>
                      <a:pt x="59" y="81"/>
                    </a:lnTo>
                    <a:lnTo>
                      <a:pt x="51" y="82"/>
                    </a:lnTo>
                    <a:lnTo>
                      <a:pt x="45" y="83"/>
                    </a:lnTo>
                    <a:lnTo>
                      <a:pt x="39" y="82"/>
                    </a:lnTo>
                    <a:lnTo>
                      <a:pt x="35" y="79"/>
                    </a:lnTo>
                    <a:lnTo>
                      <a:pt x="29" y="75"/>
                    </a:lnTo>
                    <a:lnTo>
                      <a:pt x="25" y="74"/>
                    </a:lnTo>
                    <a:lnTo>
                      <a:pt x="20" y="69"/>
                    </a:lnTo>
                    <a:lnTo>
                      <a:pt x="16" y="65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4" y="51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" y="27"/>
                    </a:lnTo>
                    <a:lnTo>
                      <a:pt x="7" y="22"/>
                    </a:lnTo>
                    <a:lnTo>
                      <a:pt x="12" y="20"/>
                    </a:lnTo>
                    <a:lnTo>
                      <a:pt x="17" y="15"/>
                    </a:lnTo>
                    <a:lnTo>
                      <a:pt x="24" y="12"/>
                    </a:lnTo>
                    <a:lnTo>
                      <a:pt x="32" y="12"/>
                    </a:lnTo>
                    <a:lnTo>
                      <a:pt x="38" y="13"/>
                    </a:lnTo>
                    <a:lnTo>
                      <a:pt x="45" y="16"/>
                    </a:lnTo>
                    <a:lnTo>
                      <a:pt x="50" y="21"/>
                    </a:lnTo>
                    <a:lnTo>
                      <a:pt x="54" y="27"/>
                    </a:lnTo>
                    <a:lnTo>
                      <a:pt x="58" y="35"/>
                    </a:lnTo>
                    <a:lnTo>
                      <a:pt x="56" y="39"/>
                    </a:lnTo>
                    <a:lnTo>
                      <a:pt x="56" y="43"/>
                    </a:lnTo>
                    <a:lnTo>
                      <a:pt x="55" y="48"/>
                    </a:lnTo>
                    <a:lnTo>
                      <a:pt x="55" y="53"/>
                    </a:lnTo>
                    <a:lnTo>
                      <a:pt x="51" y="53"/>
                    </a:lnTo>
                    <a:lnTo>
                      <a:pt x="46" y="53"/>
                    </a:lnTo>
                    <a:lnTo>
                      <a:pt x="42" y="53"/>
                    </a:lnTo>
                    <a:lnTo>
                      <a:pt x="38" y="55"/>
                    </a:lnTo>
                    <a:lnTo>
                      <a:pt x="37" y="48"/>
                    </a:lnTo>
                    <a:lnTo>
                      <a:pt x="37" y="43"/>
                    </a:lnTo>
                    <a:lnTo>
                      <a:pt x="37" y="37"/>
                    </a:lnTo>
                    <a:lnTo>
                      <a:pt x="39" y="34"/>
                    </a:lnTo>
                    <a:lnTo>
                      <a:pt x="35" y="33"/>
                    </a:lnTo>
                    <a:lnTo>
                      <a:pt x="29" y="34"/>
                    </a:lnTo>
                    <a:lnTo>
                      <a:pt x="21" y="37"/>
                    </a:lnTo>
                    <a:lnTo>
                      <a:pt x="17" y="40"/>
                    </a:lnTo>
                    <a:lnTo>
                      <a:pt x="21" y="48"/>
                    </a:lnTo>
                    <a:lnTo>
                      <a:pt x="28" y="55"/>
                    </a:lnTo>
                    <a:lnTo>
                      <a:pt x="33" y="60"/>
                    </a:lnTo>
                    <a:lnTo>
                      <a:pt x="41" y="65"/>
                    </a:lnTo>
                    <a:lnTo>
                      <a:pt x="47" y="66"/>
                    </a:lnTo>
                    <a:lnTo>
                      <a:pt x="55" y="65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67" y="57"/>
                    </a:lnTo>
                    <a:lnTo>
                      <a:pt x="71" y="53"/>
                    </a:lnTo>
                    <a:lnTo>
                      <a:pt x="71" y="47"/>
                    </a:lnTo>
                    <a:lnTo>
                      <a:pt x="71" y="39"/>
                    </a:lnTo>
                    <a:lnTo>
                      <a:pt x="69" y="34"/>
                    </a:lnTo>
                    <a:lnTo>
                      <a:pt x="68" y="27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9" y="12"/>
                    </a:lnTo>
                    <a:lnTo>
                      <a:pt x="55" y="8"/>
                    </a:lnTo>
                    <a:lnTo>
                      <a:pt x="58" y="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005960" y="3208320"/>
                <a:ext cx="34920" cy="44640"/>
              </a:xfrm>
              <a:custGeom>
                <a:avLst/>
                <a:gdLst/>
                <a:ahLst/>
                <a:rect l="l" t="t" r="r" b="b"/>
                <a:pathLst>
                  <a:path w="59" h="79">
                    <a:moveTo>
                      <a:pt x="16" y="0"/>
                    </a:moveTo>
                    <a:lnTo>
                      <a:pt x="23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3" y="11"/>
                    </a:lnTo>
                    <a:lnTo>
                      <a:pt x="47" y="16"/>
                    </a:lnTo>
                    <a:lnTo>
                      <a:pt x="52" y="22"/>
                    </a:lnTo>
                    <a:lnTo>
                      <a:pt x="55" y="30"/>
                    </a:lnTo>
                    <a:lnTo>
                      <a:pt x="59" y="38"/>
                    </a:lnTo>
                    <a:lnTo>
                      <a:pt x="59" y="44"/>
                    </a:lnTo>
                    <a:lnTo>
                      <a:pt x="59" y="52"/>
                    </a:lnTo>
                    <a:lnTo>
                      <a:pt x="56" y="59"/>
                    </a:lnTo>
                    <a:lnTo>
                      <a:pt x="55" y="65"/>
                    </a:lnTo>
                    <a:lnTo>
                      <a:pt x="50" y="70"/>
                    </a:lnTo>
                    <a:lnTo>
                      <a:pt x="44" y="75"/>
                    </a:lnTo>
                    <a:lnTo>
                      <a:pt x="38" y="78"/>
                    </a:lnTo>
                    <a:lnTo>
                      <a:pt x="30" y="79"/>
                    </a:lnTo>
                    <a:lnTo>
                      <a:pt x="23" y="77"/>
                    </a:lnTo>
                    <a:lnTo>
                      <a:pt x="17" y="73"/>
                    </a:lnTo>
                    <a:lnTo>
                      <a:pt x="10" y="68"/>
                    </a:lnTo>
                    <a:lnTo>
                      <a:pt x="7" y="62"/>
                    </a:lnTo>
                    <a:lnTo>
                      <a:pt x="3" y="56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4" y="35"/>
                    </a:lnTo>
                    <a:lnTo>
                      <a:pt x="7" y="33"/>
                    </a:lnTo>
                    <a:lnTo>
                      <a:pt x="12" y="30"/>
                    </a:lnTo>
                    <a:lnTo>
                      <a:pt x="16" y="27"/>
                    </a:lnTo>
                    <a:lnTo>
                      <a:pt x="20" y="26"/>
                    </a:lnTo>
                    <a:lnTo>
                      <a:pt x="26" y="30"/>
                    </a:lnTo>
                    <a:lnTo>
                      <a:pt x="35" y="35"/>
                    </a:lnTo>
                    <a:lnTo>
                      <a:pt x="31" y="38"/>
                    </a:lnTo>
                    <a:lnTo>
                      <a:pt x="27" y="40"/>
                    </a:lnTo>
                    <a:lnTo>
                      <a:pt x="22" y="42"/>
                    </a:lnTo>
                    <a:lnTo>
                      <a:pt x="20" y="43"/>
                    </a:lnTo>
                    <a:lnTo>
                      <a:pt x="17" y="47"/>
                    </a:lnTo>
                    <a:lnTo>
                      <a:pt x="18" y="51"/>
                    </a:lnTo>
                    <a:lnTo>
                      <a:pt x="21" y="55"/>
                    </a:lnTo>
                    <a:lnTo>
                      <a:pt x="26" y="59"/>
                    </a:lnTo>
                    <a:lnTo>
                      <a:pt x="30" y="60"/>
                    </a:lnTo>
                    <a:lnTo>
                      <a:pt x="35" y="60"/>
                    </a:lnTo>
                    <a:lnTo>
                      <a:pt x="39" y="57"/>
                    </a:lnTo>
                    <a:lnTo>
                      <a:pt x="43" y="52"/>
                    </a:lnTo>
                    <a:lnTo>
                      <a:pt x="43" y="46"/>
                    </a:lnTo>
                    <a:lnTo>
                      <a:pt x="44" y="40"/>
                    </a:lnTo>
                    <a:lnTo>
                      <a:pt x="43" y="37"/>
                    </a:lnTo>
                    <a:lnTo>
                      <a:pt x="42" y="34"/>
                    </a:lnTo>
                    <a:lnTo>
                      <a:pt x="37" y="27"/>
                    </a:lnTo>
                    <a:lnTo>
                      <a:pt x="30" y="22"/>
                    </a:lnTo>
                    <a:lnTo>
                      <a:pt x="22" y="18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56280" y="3215160"/>
                <a:ext cx="42480" cy="4752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26" y="3"/>
                    </a:moveTo>
                    <a:lnTo>
                      <a:pt x="33" y="0"/>
                    </a:lnTo>
                    <a:lnTo>
                      <a:pt x="41" y="1"/>
                    </a:lnTo>
                    <a:lnTo>
                      <a:pt x="48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3" y="21"/>
                    </a:lnTo>
                    <a:lnTo>
                      <a:pt x="66" y="27"/>
                    </a:lnTo>
                    <a:lnTo>
                      <a:pt x="70" y="36"/>
                    </a:lnTo>
                    <a:lnTo>
                      <a:pt x="70" y="43"/>
                    </a:lnTo>
                    <a:lnTo>
                      <a:pt x="70" y="50"/>
                    </a:lnTo>
                    <a:lnTo>
                      <a:pt x="69" y="58"/>
                    </a:lnTo>
                    <a:lnTo>
                      <a:pt x="66" y="66"/>
                    </a:lnTo>
                    <a:lnTo>
                      <a:pt x="62" y="71"/>
                    </a:lnTo>
                    <a:lnTo>
                      <a:pt x="57" y="76"/>
                    </a:lnTo>
                    <a:lnTo>
                      <a:pt x="50" y="80"/>
                    </a:lnTo>
                    <a:lnTo>
                      <a:pt x="44" y="83"/>
                    </a:lnTo>
                    <a:lnTo>
                      <a:pt x="39" y="80"/>
                    </a:lnTo>
                    <a:lnTo>
                      <a:pt x="35" y="79"/>
                    </a:lnTo>
                    <a:lnTo>
                      <a:pt x="30" y="76"/>
                    </a:lnTo>
                    <a:lnTo>
                      <a:pt x="26" y="75"/>
                    </a:lnTo>
                    <a:lnTo>
                      <a:pt x="20" y="72"/>
                    </a:lnTo>
                    <a:lnTo>
                      <a:pt x="16" y="70"/>
                    </a:lnTo>
                    <a:lnTo>
                      <a:pt x="13" y="67"/>
                    </a:lnTo>
                    <a:lnTo>
                      <a:pt x="11" y="66"/>
                    </a:lnTo>
                    <a:lnTo>
                      <a:pt x="11" y="62"/>
                    </a:lnTo>
                    <a:lnTo>
                      <a:pt x="13" y="59"/>
                    </a:lnTo>
                    <a:lnTo>
                      <a:pt x="15" y="54"/>
                    </a:lnTo>
                    <a:lnTo>
                      <a:pt x="18" y="50"/>
                    </a:lnTo>
                    <a:lnTo>
                      <a:pt x="20" y="45"/>
                    </a:lnTo>
                    <a:lnTo>
                      <a:pt x="23" y="41"/>
                    </a:lnTo>
                    <a:lnTo>
                      <a:pt x="26" y="39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6" y="36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1" y="43"/>
                    </a:lnTo>
                    <a:lnTo>
                      <a:pt x="37" y="49"/>
                    </a:lnTo>
                    <a:lnTo>
                      <a:pt x="32" y="54"/>
                    </a:lnTo>
                    <a:lnTo>
                      <a:pt x="28" y="58"/>
                    </a:lnTo>
                    <a:lnTo>
                      <a:pt x="32" y="62"/>
                    </a:lnTo>
                    <a:lnTo>
                      <a:pt x="39" y="67"/>
                    </a:lnTo>
                    <a:lnTo>
                      <a:pt x="45" y="62"/>
                    </a:lnTo>
                    <a:lnTo>
                      <a:pt x="53" y="58"/>
                    </a:lnTo>
                    <a:lnTo>
                      <a:pt x="53" y="54"/>
                    </a:lnTo>
                    <a:lnTo>
                      <a:pt x="52" y="49"/>
                    </a:lnTo>
                    <a:lnTo>
                      <a:pt x="50" y="44"/>
                    </a:lnTo>
                    <a:lnTo>
                      <a:pt x="50" y="39"/>
                    </a:lnTo>
                    <a:lnTo>
                      <a:pt x="49" y="32"/>
                    </a:lnTo>
                    <a:lnTo>
                      <a:pt x="48" y="27"/>
                    </a:lnTo>
                    <a:lnTo>
                      <a:pt x="46" y="23"/>
                    </a:lnTo>
                    <a:lnTo>
                      <a:pt x="45" y="22"/>
                    </a:lnTo>
                    <a:lnTo>
                      <a:pt x="37" y="18"/>
                    </a:lnTo>
                    <a:lnTo>
                      <a:pt x="31" y="19"/>
                    </a:lnTo>
                    <a:lnTo>
                      <a:pt x="26" y="22"/>
                    </a:lnTo>
                    <a:lnTo>
                      <a:pt x="20" y="26"/>
                    </a:lnTo>
                    <a:lnTo>
                      <a:pt x="16" y="31"/>
                    </a:lnTo>
                    <a:lnTo>
                      <a:pt x="13" y="37"/>
                    </a:lnTo>
                    <a:lnTo>
                      <a:pt x="10" y="43"/>
                    </a:lnTo>
                    <a:lnTo>
                      <a:pt x="9" y="49"/>
                    </a:lnTo>
                    <a:lnTo>
                      <a:pt x="3" y="43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3"/>
                    </a:lnTo>
                    <a:lnTo>
                      <a:pt x="9" y="19"/>
                    </a:lnTo>
                    <a:lnTo>
                      <a:pt x="11" y="14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6" y="3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02280" y="3237480"/>
                <a:ext cx="46800" cy="4752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36" y="0"/>
                    </a:moveTo>
                    <a:lnTo>
                      <a:pt x="40" y="7"/>
                    </a:lnTo>
                    <a:lnTo>
                      <a:pt x="39" y="13"/>
                    </a:lnTo>
                    <a:lnTo>
                      <a:pt x="32" y="19"/>
                    </a:lnTo>
                    <a:lnTo>
                      <a:pt x="26" y="26"/>
                    </a:lnTo>
                    <a:lnTo>
                      <a:pt x="18" y="34"/>
                    </a:lnTo>
                    <a:lnTo>
                      <a:pt x="14" y="40"/>
                    </a:lnTo>
                    <a:lnTo>
                      <a:pt x="13" y="44"/>
                    </a:lnTo>
                    <a:lnTo>
                      <a:pt x="14" y="49"/>
                    </a:lnTo>
                    <a:lnTo>
                      <a:pt x="17" y="54"/>
                    </a:lnTo>
                    <a:lnTo>
                      <a:pt x="22" y="60"/>
                    </a:lnTo>
                    <a:lnTo>
                      <a:pt x="23" y="60"/>
                    </a:lnTo>
                    <a:lnTo>
                      <a:pt x="29" y="60"/>
                    </a:lnTo>
                    <a:lnTo>
                      <a:pt x="32" y="60"/>
                    </a:lnTo>
                    <a:lnTo>
                      <a:pt x="38" y="61"/>
                    </a:lnTo>
                    <a:lnTo>
                      <a:pt x="43" y="61"/>
                    </a:lnTo>
                    <a:lnTo>
                      <a:pt x="48" y="62"/>
                    </a:lnTo>
                    <a:lnTo>
                      <a:pt x="52" y="62"/>
                    </a:lnTo>
                    <a:lnTo>
                      <a:pt x="56" y="62"/>
                    </a:lnTo>
                    <a:lnTo>
                      <a:pt x="59" y="54"/>
                    </a:lnTo>
                    <a:lnTo>
                      <a:pt x="63" y="47"/>
                    </a:lnTo>
                    <a:lnTo>
                      <a:pt x="57" y="44"/>
                    </a:lnTo>
                    <a:lnTo>
                      <a:pt x="52" y="41"/>
                    </a:lnTo>
                    <a:lnTo>
                      <a:pt x="46" y="39"/>
                    </a:lnTo>
                    <a:lnTo>
                      <a:pt x="40" y="39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38" y="52"/>
                    </a:lnTo>
                    <a:lnTo>
                      <a:pt x="34" y="54"/>
                    </a:lnTo>
                    <a:lnTo>
                      <a:pt x="30" y="48"/>
                    </a:lnTo>
                    <a:lnTo>
                      <a:pt x="25" y="41"/>
                    </a:lnTo>
                    <a:lnTo>
                      <a:pt x="30" y="34"/>
                    </a:lnTo>
                    <a:lnTo>
                      <a:pt x="34" y="26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1" y="19"/>
                    </a:lnTo>
                    <a:lnTo>
                      <a:pt x="57" y="22"/>
                    </a:lnTo>
                    <a:lnTo>
                      <a:pt x="61" y="23"/>
                    </a:lnTo>
                    <a:lnTo>
                      <a:pt x="66" y="27"/>
                    </a:lnTo>
                    <a:lnTo>
                      <a:pt x="70" y="31"/>
                    </a:lnTo>
                    <a:lnTo>
                      <a:pt x="74" y="36"/>
                    </a:lnTo>
                    <a:lnTo>
                      <a:pt x="76" y="40"/>
                    </a:lnTo>
                    <a:lnTo>
                      <a:pt x="78" y="47"/>
                    </a:lnTo>
                    <a:lnTo>
                      <a:pt x="78" y="52"/>
                    </a:lnTo>
                    <a:lnTo>
                      <a:pt x="78" y="58"/>
                    </a:lnTo>
                    <a:lnTo>
                      <a:pt x="76" y="63"/>
                    </a:lnTo>
                    <a:lnTo>
                      <a:pt x="73" y="69"/>
                    </a:lnTo>
                    <a:lnTo>
                      <a:pt x="69" y="74"/>
                    </a:lnTo>
                    <a:lnTo>
                      <a:pt x="64" y="79"/>
                    </a:lnTo>
                    <a:lnTo>
                      <a:pt x="55" y="82"/>
                    </a:lnTo>
                    <a:lnTo>
                      <a:pt x="46" y="84"/>
                    </a:lnTo>
                    <a:lnTo>
                      <a:pt x="38" y="83"/>
                    </a:lnTo>
                    <a:lnTo>
                      <a:pt x="30" y="82"/>
                    </a:lnTo>
                    <a:lnTo>
                      <a:pt x="22" y="78"/>
                    </a:lnTo>
                    <a:lnTo>
                      <a:pt x="17" y="74"/>
                    </a:lnTo>
                    <a:lnTo>
                      <a:pt x="12" y="67"/>
                    </a:lnTo>
                    <a:lnTo>
                      <a:pt x="8" y="61"/>
                    </a:lnTo>
                    <a:lnTo>
                      <a:pt x="4" y="52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1" y="30"/>
                    </a:lnTo>
                    <a:lnTo>
                      <a:pt x="4" y="22"/>
                    </a:lnTo>
                    <a:lnTo>
                      <a:pt x="9" y="14"/>
                    </a:lnTo>
                    <a:lnTo>
                      <a:pt x="16" y="8"/>
                    </a:lnTo>
                    <a:lnTo>
                      <a:pt x="25" y="4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817320" y="3240000"/>
                <a:ext cx="51480" cy="5796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0"/>
                    </a:moveTo>
                    <a:lnTo>
                      <a:pt x="50" y="0"/>
                    </a:lnTo>
                    <a:lnTo>
                      <a:pt x="58" y="3"/>
                    </a:lnTo>
                    <a:lnTo>
                      <a:pt x="64" y="5"/>
                    </a:lnTo>
                    <a:lnTo>
                      <a:pt x="72" y="10"/>
                    </a:lnTo>
                    <a:lnTo>
                      <a:pt x="76" y="15"/>
                    </a:lnTo>
                    <a:lnTo>
                      <a:pt x="81" y="23"/>
                    </a:lnTo>
                    <a:lnTo>
                      <a:pt x="84" y="31"/>
                    </a:lnTo>
                    <a:lnTo>
                      <a:pt x="86" y="39"/>
                    </a:lnTo>
                    <a:lnTo>
                      <a:pt x="86" y="47"/>
                    </a:lnTo>
                    <a:lnTo>
                      <a:pt x="86" y="54"/>
                    </a:lnTo>
                    <a:lnTo>
                      <a:pt x="85" y="62"/>
                    </a:lnTo>
                    <a:lnTo>
                      <a:pt x="83" y="71"/>
                    </a:lnTo>
                    <a:lnTo>
                      <a:pt x="79" y="78"/>
                    </a:lnTo>
                    <a:lnTo>
                      <a:pt x="73" y="84"/>
                    </a:lnTo>
                    <a:lnTo>
                      <a:pt x="67" y="89"/>
                    </a:lnTo>
                    <a:lnTo>
                      <a:pt x="59" y="94"/>
                    </a:lnTo>
                    <a:lnTo>
                      <a:pt x="51" y="98"/>
                    </a:lnTo>
                    <a:lnTo>
                      <a:pt x="45" y="101"/>
                    </a:lnTo>
                    <a:lnTo>
                      <a:pt x="37" y="102"/>
                    </a:lnTo>
                    <a:lnTo>
                      <a:pt x="30" y="102"/>
                    </a:lnTo>
                    <a:lnTo>
                      <a:pt x="24" y="100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4" y="82"/>
                    </a:lnTo>
                    <a:lnTo>
                      <a:pt x="2" y="75"/>
                    </a:lnTo>
                    <a:lnTo>
                      <a:pt x="0" y="70"/>
                    </a:lnTo>
                    <a:lnTo>
                      <a:pt x="2" y="63"/>
                    </a:lnTo>
                    <a:lnTo>
                      <a:pt x="3" y="57"/>
                    </a:lnTo>
                    <a:lnTo>
                      <a:pt x="8" y="52"/>
                    </a:lnTo>
                    <a:lnTo>
                      <a:pt x="15" y="47"/>
                    </a:lnTo>
                    <a:lnTo>
                      <a:pt x="23" y="43"/>
                    </a:lnTo>
                    <a:lnTo>
                      <a:pt x="26" y="40"/>
                    </a:lnTo>
                    <a:lnTo>
                      <a:pt x="32" y="40"/>
                    </a:lnTo>
                    <a:lnTo>
                      <a:pt x="36" y="40"/>
                    </a:lnTo>
                    <a:lnTo>
                      <a:pt x="41" y="40"/>
                    </a:lnTo>
                    <a:lnTo>
                      <a:pt x="46" y="45"/>
                    </a:lnTo>
                    <a:lnTo>
                      <a:pt x="53" y="53"/>
                    </a:lnTo>
                    <a:lnTo>
                      <a:pt x="50" y="56"/>
                    </a:lnTo>
                    <a:lnTo>
                      <a:pt x="50" y="59"/>
                    </a:lnTo>
                    <a:lnTo>
                      <a:pt x="49" y="63"/>
                    </a:lnTo>
                    <a:lnTo>
                      <a:pt x="49" y="67"/>
                    </a:lnTo>
                    <a:lnTo>
                      <a:pt x="45" y="69"/>
                    </a:lnTo>
                    <a:lnTo>
                      <a:pt x="41" y="71"/>
                    </a:lnTo>
                    <a:lnTo>
                      <a:pt x="37" y="72"/>
                    </a:lnTo>
                    <a:lnTo>
                      <a:pt x="34" y="75"/>
                    </a:lnTo>
                    <a:lnTo>
                      <a:pt x="32" y="71"/>
                    </a:lnTo>
                    <a:lnTo>
                      <a:pt x="32" y="66"/>
                    </a:lnTo>
                    <a:lnTo>
                      <a:pt x="32" y="59"/>
                    </a:lnTo>
                    <a:lnTo>
                      <a:pt x="34" y="57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4" y="63"/>
                    </a:lnTo>
                    <a:lnTo>
                      <a:pt x="20" y="71"/>
                    </a:lnTo>
                    <a:lnTo>
                      <a:pt x="19" y="78"/>
                    </a:lnTo>
                    <a:lnTo>
                      <a:pt x="25" y="82"/>
                    </a:lnTo>
                    <a:lnTo>
                      <a:pt x="34" y="84"/>
                    </a:lnTo>
                    <a:lnTo>
                      <a:pt x="40" y="84"/>
                    </a:lnTo>
                    <a:lnTo>
                      <a:pt x="47" y="83"/>
                    </a:lnTo>
                    <a:lnTo>
                      <a:pt x="53" y="80"/>
                    </a:lnTo>
                    <a:lnTo>
                      <a:pt x="59" y="76"/>
                    </a:lnTo>
                    <a:lnTo>
                      <a:pt x="63" y="71"/>
                    </a:lnTo>
                    <a:lnTo>
                      <a:pt x="67" y="66"/>
                    </a:lnTo>
                    <a:lnTo>
                      <a:pt x="68" y="59"/>
                    </a:lnTo>
                    <a:lnTo>
                      <a:pt x="71" y="54"/>
                    </a:lnTo>
                    <a:lnTo>
                      <a:pt x="71" y="47"/>
                    </a:lnTo>
                    <a:lnTo>
                      <a:pt x="71" y="40"/>
                    </a:lnTo>
                    <a:lnTo>
                      <a:pt x="68" y="35"/>
                    </a:lnTo>
                    <a:lnTo>
                      <a:pt x="67" y="30"/>
                    </a:lnTo>
                    <a:lnTo>
                      <a:pt x="63" y="25"/>
                    </a:lnTo>
                    <a:lnTo>
                      <a:pt x="58" y="22"/>
                    </a:lnTo>
                    <a:lnTo>
                      <a:pt x="51" y="19"/>
                    </a:lnTo>
                    <a:lnTo>
                      <a:pt x="45" y="19"/>
                    </a:lnTo>
                    <a:lnTo>
                      <a:pt x="37" y="23"/>
                    </a:lnTo>
                    <a:lnTo>
                      <a:pt x="32" y="27"/>
                    </a:lnTo>
                    <a:lnTo>
                      <a:pt x="28" y="22"/>
                    </a:lnTo>
                    <a:lnTo>
                      <a:pt x="25" y="17"/>
                    </a:lnTo>
                    <a:lnTo>
                      <a:pt x="29" y="12"/>
                    </a:lnTo>
                    <a:lnTo>
                      <a:pt x="34" y="8"/>
                    </a:lnTo>
                    <a:lnTo>
                      <a:pt x="40" y="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052760" y="3253320"/>
                <a:ext cx="32760" cy="47520"/>
              </a:xfrm>
              <a:custGeom>
                <a:avLst/>
                <a:gdLst/>
                <a:ahLst/>
                <a:rect l="l" t="t" r="r" b="b"/>
                <a:pathLst>
                  <a:path w="53" h="87">
                    <a:moveTo>
                      <a:pt x="10" y="1"/>
                    </a:moveTo>
                    <a:lnTo>
                      <a:pt x="17" y="0"/>
                    </a:lnTo>
                    <a:lnTo>
                      <a:pt x="25" y="1"/>
                    </a:lnTo>
                    <a:lnTo>
                      <a:pt x="31" y="4"/>
                    </a:lnTo>
                    <a:lnTo>
                      <a:pt x="38" y="9"/>
                    </a:lnTo>
                    <a:lnTo>
                      <a:pt x="42" y="14"/>
                    </a:lnTo>
                    <a:lnTo>
                      <a:pt x="47" y="22"/>
                    </a:lnTo>
                    <a:lnTo>
                      <a:pt x="49" y="30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3" y="54"/>
                    </a:lnTo>
                    <a:lnTo>
                      <a:pt x="52" y="61"/>
                    </a:lnTo>
                    <a:lnTo>
                      <a:pt x="51" y="69"/>
                    </a:lnTo>
                    <a:lnTo>
                      <a:pt x="47" y="75"/>
                    </a:lnTo>
                    <a:lnTo>
                      <a:pt x="42" y="80"/>
                    </a:lnTo>
                    <a:lnTo>
                      <a:pt x="35" y="84"/>
                    </a:lnTo>
                    <a:lnTo>
                      <a:pt x="29" y="87"/>
                    </a:lnTo>
                    <a:lnTo>
                      <a:pt x="23" y="85"/>
                    </a:lnTo>
                    <a:lnTo>
                      <a:pt x="19" y="85"/>
                    </a:lnTo>
                    <a:lnTo>
                      <a:pt x="17" y="84"/>
                    </a:lnTo>
                    <a:lnTo>
                      <a:pt x="13" y="82"/>
                    </a:lnTo>
                    <a:lnTo>
                      <a:pt x="8" y="76"/>
                    </a:lnTo>
                    <a:lnTo>
                      <a:pt x="4" y="71"/>
                    </a:lnTo>
                    <a:lnTo>
                      <a:pt x="1" y="63"/>
                    </a:lnTo>
                    <a:lnTo>
                      <a:pt x="0" y="57"/>
                    </a:lnTo>
                    <a:lnTo>
                      <a:pt x="0" y="49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7" y="27"/>
                    </a:lnTo>
                    <a:lnTo>
                      <a:pt x="21" y="32"/>
                    </a:lnTo>
                    <a:lnTo>
                      <a:pt x="29" y="36"/>
                    </a:lnTo>
                    <a:lnTo>
                      <a:pt x="26" y="41"/>
                    </a:lnTo>
                    <a:lnTo>
                      <a:pt x="22" y="49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21" y="63"/>
                    </a:lnTo>
                    <a:lnTo>
                      <a:pt x="26" y="66"/>
                    </a:lnTo>
                    <a:lnTo>
                      <a:pt x="30" y="66"/>
                    </a:lnTo>
                    <a:lnTo>
                      <a:pt x="33" y="65"/>
                    </a:lnTo>
                    <a:lnTo>
                      <a:pt x="34" y="60"/>
                    </a:lnTo>
                    <a:lnTo>
                      <a:pt x="36" y="56"/>
                    </a:lnTo>
                    <a:lnTo>
                      <a:pt x="36" y="50"/>
                    </a:lnTo>
                    <a:lnTo>
                      <a:pt x="38" y="45"/>
                    </a:lnTo>
                    <a:lnTo>
                      <a:pt x="35" y="39"/>
                    </a:lnTo>
                    <a:lnTo>
                      <a:pt x="34" y="32"/>
                    </a:lnTo>
                    <a:lnTo>
                      <a:pt x="31" y="27"/>
                    </a:lnTo>
                    <a:lnTo>
                      <a:pt x="29" y="22"/>
                    </a:lnTo>
                    <a:lnTo>
                      <a:pt x="25" y="18"/>
                    </a:lnTo>
                    <a:lnTo>
                      <a:pt x="21" y="17"/>
                    </a:lnTo>
                    <a:lnTo>
                      <a:pt x="16" y="15"/>
                    </a:lnTo>
                    <a:lnTo>
                      <a:pt x="10" y="18"/>
                    </a:lnTo>
                    <a:lnTo>
                      <a:pt x="8" y="14"/>
                    </a:lnTo>
                    <a:lnTo>
                      <a:pt x="8" y="9"/>
                    </a:lnTo>
                    <a:lnTo>
                      <a:pt x="8" y="5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10640" y="3258000"/>
                <a:ext cx="37080" cy="4032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32" y="0"/>
                    </a:moveTo>
                    <a:lnTo>
                      <a:pt x="36" y="2"/>
                    </a:lnTo>
                    <a:lnTo>
                      <a:pt x="37" y="6"/>
                    </a:lnTo>
                    <a:lnTo>
                      <a:pt x="37" y="9"/>
                    </a:lnTo>
                    <a:lnTo>
                      <a:pt x="37" y="13"/>
                    </a:lnTo>
                    <a:lnTo>
                      <a:pt x="32" y="18"/>
                    </a:lnTo>
                    <a:lnTo>
                      <a:pt x="26" y="26"/>
                    </a:lnTo>
                    <a:lnTo>
                      <a:pt x="18" y="32"/>
                    </a:lnTo>
                    <a:lnTo>
                      <a:pt x="15" y="40"/>
                    </a:lnTo>
                    <a:lnTo>
                      <a:pt x="14" y="42"/>
                    </a:lnTo>
                    <a:lnTo>
                      <a:pt x="15" y="48"/>
                    </a:lnTo>
                    <a:lnTo>
                      <a:pt x="19" y="52"/>
                    </a:lnTo>
                    <a:lnTo>
                      <a:pt x="24" y="57"/>
                    </a:lnTo>
                    <a:lnTo>
                      <a:pt x="31" y="53"/>
                    </a:lnTo>
                    <a:lnTo>
                      <a:pt x="37" y="49"/>
                    </a:lnTo>
                    <a:lnTo>
                      <a:pt x="44" y="45"/>
                    </a:lnTo>
                    <a:lnTo>
                      <a:pt x="49" y="41"/>
                    </a:lnTo>
                    <a:lnTo>
                      <a:pt x="44" y="42"/>
                    </a:lnTo>
                    <a:lnTo>
                      <a:pt x="37" y="45"/>
                    </a:lnTo>
                    <a:lnTo>
                      <a:pt x="31" y="48"/>
                    </a:lnTo>
                    <a:lnTo>
                      <a:pt x="27" y="50"/>
                    </a:lnTo>
                    <a:lnTo>
                      <a:pt x="27" y="45"/>
                    </a:lnTo>
                    <a:lnTo>
                      <a:pt x="28" y="39"/>
                    </a:lnTo>
                    <a:lnTo>
                      <a:pt x="32" y="31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49" y="26"/>
                    </a:lnTo>
                    <a:lnTo>
                      <a:pt x="54" y="27"/>
                    </a:lnTo>
                    <a:lnTo>
                      <a:pt x="60" y="33"/>
                    </a:lnTo>
                    <a:lnTo>
                      <a:pt x="62" y="40"/>
                    </a:lnTo>
                    <a:lnTo>
                      <a:pt x="62" y="45"/>
                    </a:lnTo>
                    <a:lnTo>
                      <a:pt x="62" y="52"/>
                    </a:lnTo>
                    <a:lnTo>
                      <a:pt x="58" y="57"/>
                    </a:lnTo>
                    <a:lnTo>
                      <a:pt x="54" y="62"/>
                    </a:lnTo>
                    <a:lnTo>
                      <a:pt x="49" y="66"/>
                    </a:lnTo>
                    <a:lnTo>
                      <a:pt x="44" y="70"/>
                    </a:lnTo>
                    <a:lnTo>
                      <a:pt x="37" y="71"/>
                    </a:lnTo>
                    <a:lnTo>
                      <a:pt x="31" y="74"/>
                    </a:lnTo>
                    <a:lnTo>
                      <a:pt x="23" y="72"/>
                    </a:lnTo>
                    <a:lnTo>
                      <a:pt x="18" y="72"/>
                    </a:lnTo>
                    <a:lnTo>
                      <a:pt x="11" y="70"/>
                    </a:lnTo>
                    <a:lnTo>
                      <a:pt x="7" y="66"/>
                    </a:lnTo>
                    <a:lnTo>
                      <a:pt x="3" y="59"/>
                    </a:lnTo>
                    <a:lnTo>
                      <a:pt x="2" y="53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6" y="20"/>
                    </a:lnTo>
                    <a:lnTo>
                      <a:pt x="11" y="13"/>
                    </a:lnTo>
                    <a:lnTo>
                      <a:pt x="16" y="7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864480" y="3269160"/>
                <a:ext cx="42480" cy="446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35" y="0"/>
                    </a:moveTo>
                    <a:lnTo>
                      <a:pt x="39" y="3"/>
                    </a:lnTo>
                    <a:lnTo>
                      <a:pt x="40" y="7"/>
                    </a:lnTo>
                    <a:lnTo>
                      <a:pt x="40" y="9"/>
                    </a:lnTo>
                    <a:lnTo>
                      <a:pt x="40" y="13"/>
                    </a:lnTo>
                    <a:lnTo>
                      <a:pt x="36" y="18"/>
                    </a:lnTo>
                    <a:lnTo>
                      <a:pt x="30" y="26"/>
                    </a:lnTo>
                    <a:lnTo>
                      <a:pt x="22" y="33"/>
                    </a:lnTo>
                    <a:lnTo>
                      <a:pt x="17" y="40"/>
                    </a:lnTo>
                    <a:lnTo>
                      <a:pt x="14" y="44"/>
                    </a:lnTo>
                    <a:lnTo>
                      <a:pt x="14" y="49"/>
                    </a:lnTo>
                    <a:lnTo>
                      <a:pt x="16" y="53"/>
                    </a:lnTo>
                    <a:lnTo>
                      <a:pt x="18" y="60"/>
                    </a:lnTo>
                    <a:lnTo>
                      <a:pt x="21" y="61"/>
                    </a:lnTo>
                    <a:lnTo>
                      <a:pt x="25" y="62"/>
                    </a:lnTo>
                    <a:lnTo>
                      <a:pt x="29" y="65"/>
                    </a:lnTo>
                    <a:lnTo>
                      <a:pt x="34" y="69"/>
                    </a:lnTo>
                    <a:lnTo>
                      <a:pt x="36" y="65"/>
                    </a:lnTo>
                    <a:lnTo>
                      <a:pt x="40" y="62"/>
                    </a:lnTo>
                    <a:lnTo>
                      <a:pt x="44" y="58"/>
                    </a:lnTo>
                    <a:lnTo>
                      <a:pt x="50" y="56"/>
                    </a:lnTo>
                    <a:lnTo>
                      <a:pt x="52" y="51"/>
                    </a:lnTo>
                    <a:lnTo>
                      <a:pt x="53" y="47"/>
                    </a:lnTo>
                    <a:lnTo>
                      <a:pt x="52" y="43"/>
                    </a:lnTo>
                    <a:lnTo>
                      <a:pt x="48" y="39"/>
                    </a:lnTo>
                    <a:lnTo>
                      <a:pt x="44" y="42"/>
                    </a:lnTo>
                    <a:lnTo>
                      <a:pt x="39" y="47"/>
                    </a:lnTo>
                    <a:lnTo>
                      <a:pt x="33" y="53"/>
                    </a:lnTo>
                    <a:lnTo>
                      <a:pt x="29" y="56"/>
                    </a:lnTo>
                    <a:lnTo>
                      <a:pt x="27" y="52"/>
                    </a:lnTo>
                    <a:lnTo>
                      <a:pt x="26" y="48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31" y="34"/>
                    </a:lnTo>
                    <a:lnTo>
                      <a:pt x="38" y="29"/>
                    </a:lnTo>
                    <a:lnTo>
                      <a:pt x="42" y="26"/>
                    </a:lnTo>
                    <a:lnTo>
                      <a:pt x="48" y="26"/>
                    </a:lnTo>
                    <a:lnTo>
                      <a:pt x="52" y="26"/>
                    </a:lnTo>
                    <a:lnTo>
                      <a:pt x="59" y="26"/>
                    </a:lnTo>
                    <a:lnTo>
                      <a:pt x="65" y="34"/>
                    </a:lnTo>
                    <a:lnTo>
                      <a:pt x="69" y="40"/>
                    </a:lnTo>
                    <a:lnTo>
                      <a:pt x="69" y="47"/>
                    </a:lnTo>
                    <a:lnTo>
                      <a:pt x="69" y="55"/>
                    </a:lnTo>
                    <a:lnTo>
                      <a:pt x="65" y="61"/>
                    </a:lnTo>
                    <a:lnTo>
                      <a:pt x="60" y="67"/>
                    </a:lnTo>
                    <a:lnTo>
                      <a:pt x="53" y="73"/>
                    </a:lnTo>
                    <a:lnTo>
                      <a:pt x="48" y="78"/>
                    </a:lnTo>
                    <a:lnTo>
                      <a:pt x="39" y="80"/>
                    </a:lnTo>
                    <a:lnTo>
                      <a:pt x="31" y="83"/>
                    </a:lnTo>
                    <a:lnTo>
                      <a:pt x="23" y="83"/>
                    </a:lnTo>
                    <a:lnTo>
                      <a:pt x="17" y="82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1" y="66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1" y="40"/>
                    </a:lnTo>
                    <a:lnTo>
                      <a:pt x="4" y="33"/>
                    </a:lnTo>
                    <a:lnTo>
                      <a:pt x="9" y="25"/>
                    </a:lnTo>
                    <a:lnTo>
                      <a:pt x="14" y="18"/>
                    </a:lnTo>
                    <a:lnTo>
                      <a:pt x="21" y="10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956280" y="3271320"/>
                <a:ext cx="46800" cy="36000"/>
              </a:xfrm>
              <a:custGeom>
                <a:avLst/>
                <a:gdLst/>
                <a:ahLst/>
                <a:rect l="l" t="t" r="r" b="b"/>
                <a:pathLst>
                  <a:path w="78" h="65">
                    <a:moveTo>
                      <a:pt x="20" y="0"/>
                    </a:moveTo>
                    <a:lnTo>
                      <a:pt x="26" y="3"/>
                    </a:lnTo>
                    <a:lnTo>
                      <a:pt x="26" y="9"/>
                    </a:lnTo>
                    <a:lnTo>
                      <a:pt x="23" y="14"/>
                    </a:lnTo>
                    <a:lnTo>
                      <a:pt x="20" y="21"/>
                    </a:lnTo>
                    <a:lnTo>
                      <a:pt x="16" y="27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8" y="39"/>
                    </a:lnTo>
                    <a:lnTo>
                      <a:pt x="22" y="41"/>
                    </a:lnTo>
                    <a:lnTo>
                      <a:pt x="28" y="45"/>
                    </a:lnTo>
                    <a:lnTo>
                      <a:pt x="30" y="48"/>
                    </a:lnTo>
                    <a:lnTo>
                      <a:pt x="33" y="51"/>
                    </a:lnTo>
                    <a:lnTo>
                      <a:pt x="37" y="51"/>
                    </a:lnTo>
                    <a:lnTo>
                      <a:pt x="43" y="51"/>
                    </a:lnTo>
                    <a:lnTo>
                      <a:pt x="49" y="45"/>
                    </a:lnTo>
                    <a:lnTo>
                      <a:pt x="56" y="39"/>
                    </a:lnTo>
                    <a:lnTo>
                      <a:pt x="58" y="30"/>
                    </a:lnTo>
                    <a:lnTo>
                      <a:pt x="58" y="23"/>
                    </a:lnTo>
                    <a:lnTo>
                      <a:pt x="57" y="21"/>
                    </a:lnTo>
                    <a:lnTo>
                      <a:pt x="54" y="18"/>
                    </a:lnTo>
                    <a:lnTo>
                      <a:pt x="50" y="18"/>
                    </a:lnTo>
                    <a:lnTo>
                      <a:pt x="46" y="18"/>
                    </a:lnTo>
                    <a:lnTo>
                      <a:pt x="45" y="22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9" y="38"/>
                    </a:lnTo>
                    <a:lnTo>
                      <a:pt x="36" y="31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31" y="19"/>
                    </a:lnTo>
                    <a:lnTo>
                      <a:pt x="33" y="14"/>
                    </a:lnTo>
                    <a:lnTo>
                      <a:pt x="36" y="10"/>
                    </a:lnTo>
                    <a:lnTo>
                      <a:pt x="37" y="6"/>
                    </a:lnTo>
                    <a:lnTo>
                      <a:pt x="41" y="4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6" y="5"/>
                    </a:lnTo>
                    <a:lnTo>
                      <a:pt x="73" y="9"/>
                    </a:lnTo>
                    <a:lnTo>
                      <a:pt x="75" y="14"/>
                    </a:lnTo>
                    <a:lnTo>
                      <a:pt x="78" y="22"/>
                    </a:lnTo>
                    <a:lnTo>
                      <a:pt x="76" y="29"/>
                    </a:lnTo>
                    <a:lnTo>
                      <a:pt x="76" y="34"/>
                    </a:lnTo>
                    <a:lnTo>
                      <a:pt x="74" y="40"/>
                    </a:lnTo>
                    <a:lnTo>
                      <a:pt x="70" y="47"/>
                    </a:lnTo>
                    <a:lnTo>
                      <a:pt x="65" y="52"/>
                    </a:lnTo>
                    <a:lnTo>
                      <a:pt x="61" y="57"/>
                    </a:lnTo>
                    <a:lnTo>
                      <a:pt x="54" y="61"/>
                    </a:lnTo>
                    <a:lnTo>
                      <a:pt x="49" y="63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28" y="62"/>
                    </a:lnTo>
                    <a:lnTo>
                      <a:pt x="22" y="57"/>
                    </a:lnTo>
                    <a:lnTo>
                      <a:pt x="16" y="54"/>
                    </a:lnTo>
                    <a:lnTo>
                      <a:pt x="13" y="52"/>
                    </a:lnTo>
                    <a:lnTo>
                      <a:pt x="7" y="49"/>
                    </a:lnTo>
                    <a:lnTo>
                      <a:pt x="5" y="45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916320" y="3287160"/>
                <a:ext cx="28080" cy="248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36" y="0"/>
                    </a:moveTo>
                    <a:lnTo>
                      <a:pt x="40" y="0"/>
                    </a:lnTo>
                    <a:lnTo>
                      <a:pt x="43" y="4"/>
                    </a:lnTo>
                    <a:lnTo>
                      <a:pt x="46" y="9"/>
                    </a:lnTo>
                    <a:lnTo>
                      <a:pt x="50" y="15"/>
                    </a:lnTo>
                    <a:lnTo>
                      <a:pt x="50" y="21"/>
                    </a:lnTo>
                    <a:lnTo>
                      <a:pt x="50" y="27"/>
                    </a:lnTo>
                    <a:lnTo>
                      <a:pt x="50" y="32"/>
                    </a:lnTo>
                    <a:lnTo>
                      <a:pt x="47" y="37"/>
                    </a:lnTo>
                    <a:lnTo>
                      <a:pt x="40" y="43"/>
                    </a:lnTo>
                    <a:lnTo>
                      <a:pt x="33" y="45"/>
                    </a:lnTo>
                    <a:lnTo>
                      <a:pt x="28" y="44"/>
                    </a:lnTo>
                    <a:lnTo>
                      <a:pt x="24" y="44"/>
                    </a:lnTo>
                    <a:lnTo>
                      <a:pt x="19" y="43"/>
                    </a:lnTo>
                    <a:lnTo>
                      <a:pt x="16" y="43"/>
                    </a:lnTo>
                    <a:lnTo>
                      <a:pt x="8" y="37"/>
                    </a:lnTo>
                    <a:lnTo>
                      <a:pt x="3" y="31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5" y="4"/>
                    </a:lnTo>
                    <a:lnTo>
                      <a:pt x="17" y="8"/>
                    </a:lnTo>
                    <a:lnTo>
                      <a:pt x="19" y="13"/>
                    </a:lnTo>
                    <a:lnTo>
                      <a:pt x="21" y="19"/>
                    </a:lnTo>
                    <a:lnTo>
                      <a:pt x="21" y="26"/>
                    </a:lnTo>
                    <a:lnTo>
                      <a:pt x="25" y="27"/>
                    </a:lnTo>
                    <a:lnTo>
                      <a:pt x="30" y="30"/>
                    </a:lnTo>
                    <a:lnTo>
                      <a:pt x="33" y="21"/>
                    </a:lnTo>
                    <a:lnTo>
                      <a:pt x="33" y="13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029360" y="3296520"/>
                <a:ext cx="39960" cy="31680"/>
              </a:xfrm>
              <a:custGeom>
                <a:avLst/>
                <a:gdLst/>
                <a:ahLst/>
                <a:rect l="l" t="t" r="r" b="b"/>
                <a:pathLst>
                  <a:path w="69" h="54">
                    <a:moveTo>
                      <a:pt x="24" y="0"/>
                    </a:moveTo>
                    <a:lnTo>
                      <a:pt x="28" y="0"/>
                    </a:lnTo>
                    <a:lnTo>
                      <a:pt x="31" y="3"/>
                    </a:lnTo>
                    <a:lnTo>
                      <a:pt x="33" y="6"/>
                    </a:lnTo>
                    <a:lnTo>
                      <a:pt x="34" y="12"/>
                    </a:lnTo>
                    <a:lnTo>
                      <a:pt x="31" y="15"/>
                    </a:lnTo>
                    <a:lnTo>
                      <a:pt x="29" y="19"/>
                    </a:lnTo>
                    <a:lnTo>
                      <a:pt x="25" y="21"/>
                    </a:lnTo>
                    <a:lnTo>
                      <a:pt x="18" y="21"/>
                    </a:lnTo>
                    <a:lnTo>
                      <a:pt x="14" y="27"/>
                    </a:lnTo>
                    <a:lnTo>
                      <a:pt x="16" y="32"/>
                    </a:lnTo>
                    <a:lnTo>
                      <a:pt x="20" y="36"/>
                    </a:lnTo>
                    <a:lnTo>
                      <a:pt x="28" y="39"/>
                    </a:lnTo>
                    <a:lnTo>
                      <a:pt x="35" y="39"/>
                    </a:lnTo>
                    <a:lnTo>
                      <a:pt x="43" y="39"/>
                    </a:lnTo>
                    <a:lnTo>
                      <a:pt x="48" y="36"/>
                    </a:lnTo>
                    <a:lnTo>
                      <a:pt x="50" y="31"/>
                    </a:lnTo>
                    <a:lnTo>
                      <a:pt x="46" y="31"/>
                    </a:lnTo>
                    <a:lnTo>
                      <a:pt x="41" y="32"/>
                    </a:lnTo>
                    <a:lnTo>
                      <a:pt x="34" y="32"/>
                    </a:lnTo>
                    <a:lnTo>
                      <a:pt x="30" y="34"/>
                    </a:lnTo>
                    <a:lnTo>
                      <a:pt x="29" y="27"/>
                    </a:lnTo>
                    <a:lnTo>
                      <a:pt x="29" y="23"/>
                    </a:lnTo>
                    <a:lnTo>
                      <a:pt x="31" y="19"/>
                    </a:lnTo>
                    <a:lnTo>
                      <a:pt x="34" y="18"/>
                    </a:lnTo>
                    <a:lnTo>
                      <a:pt x="37" y="15"/>
                    </a:lnTo>
                    <a:lnTo>
                      <a:pt x="42" y="14"/>
                    </a:lnTo>
                    <a:lnTo>
                      <a:pt x="47" y="14"/>
                    </a:lnTo>
                    <a:lnTo>
                      <a:pt x="52" y="17"/>
                    </a:lnTo>
                    <a:lnTo>
                      <a:pt x="56" y="17"/>
                    </a:lnTo>
                    <a:lnTo>
                      <a:pt x="60" y="19"/>
                    </a:lnTo>
                    <a:lnTo>
                      <a:pt x="64" y="22"/>
                    </a:lnTo>
                    <a:lnTo>
                      <a:pt x="68" y="26"/>
                    </a:lnTo>
                    <a:lnTo>
                      <a:pt x="69" y="28"/>
                    </a:lnTo>
                    <a:lnTo>
                      <a:pt x="69" y="34"/>
                    </a:lnTo>
                    <a:lnTo>
                      <a:pt x="68" y="37"/>
                    </a:lnTo>
                    <a:lnTo>
                      <a:pt x="65" y="43"/>
                    </a:lnTo>
                    <a:lnTo>
                      <a:pt x="61" y="48"/>
                    </a:lnTo>
                    <a:lnTo>
                      <a:pt x="56" y="50"/>
                    </a:lnTo>
                    <a:lnTo>
                      <a:pt x="51" y="53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5" y="54"/>
                    </a:lnTo>
                    <a:lnTo>
                      <a:pt x="29" y="53"/>
                    </a:lnTo>
                    <a:lnTo>
                      <a:pt x="24" y="54"/>
                    </a:lnTo>
                    <a:lnTo>
                      <a:pt x="17" y="53"/>
                    </a:lnTo>
                    <a:lnTo>
                      <a:pt x="12" y="50"/>
                    </a:lnTo>
                    <a:lnTo>
                      <a:pt x="8" y="48"/>
                    </a:lnTo>
                    <a:lnTo>
                      <a:pt x="5" y="45"/>
                    </a:lnTo>
                    <a:lnTo>
                      <a:pt x="3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17" y="1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812640" y="3300840"/>
                <a:ext cx="46800" cy="4464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34" y="0"/>
                    </a:moveTo>
                    <a:lnTo>
                      <a:pt x="38" y="1"/>
                    </a:lnTo>
                    <a:lnTo>
                      <a:pt x="41" y="4"/>
                    </a:lnTo>
                    <a:lnTo>
                      <a:pt x="41" y="9"/>
                    </a:lnTo>
                    <a:lnTo>
                      <a:pt x="41" y="14"/>
                    </a:lnTo>
                    <a:lnTo>
                      <a:pt x="38" y="18"/>
                    </a:lnTo>
                    <a:lnTo>
                      <a:pt x="34" y="23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6"/>
                    </a:lnTo>
                    <a:lnTo>
                      <a:pt x="24" y="31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1" y="45"/>
                    </a:lnTo>
                    <a:lnTo>
                      <a:pt x="21" y="51"/>
                    </a:lnTo>
                    <a:lnTo>
                      <a:pt x="21" y="56"/>
                    </a:lnTo>
                    <a:lnTo>
                      <a:pt x="21" y="60"/>
                    </a:lnTo>
                    <a:lnTo>
                      <a:pt x="26" y="61"/>
                    </a:lnTo>
                    <a:lnTo>
                      <a:pt x="32" y="64"/>
                    </a:lnTo>
                    <a:lnTo>
                      <a:pt x="35" y="65"/>
                    </a:lnTo>
                    <a:lnTo>
                      <a:pt x="41" y="67"/>
                    </a:lnTo>
                    <a:lnTo>
                      <a:pt x="45" y="65"/>
                    </a:lnTo>
                    <a:lnTo>
                      <a:pt x="50" y="64"/>
                    </a:lnTo>
                    <a:lnTo>
                      <a:pt x="54" y="64"/>
                    </a:lnTo>
                    <a:lnTo>
                      <a:pt x="59" y="62"/>
                    </a:lnTo>
                    <a:lnTo>
                      <a:pt x="60" y="54"/>
                    </a:lnTo>
                    <a:lnTo>
                      <a:pt x="62" y="48"/>
                    </a:lnTo>
                    <a:lnTo>
                      <a:pt x="56" y="45"/>
                    </a:lnTo>
                    <a:lnTo>
                      <a:pt x="51" y="43"/>
                    </a:lnTo>
                    <a:lnTo>
                      <a:pt x="46" y="40"/>
                    </a:lnTo>
                    <a:lnTo>
                      <a:pt x="43" y="42"/>
                    </a:lnTo>
                    <a:lnTo>
                      <a:pt x="43" y="44"/>
                    </a:lnTo>
                    <a:lnTo>
                      <a:pt x="41" y="49"/>
                    </a:lnTo>
                    <a:lnTo>
                      <a:pt x="38" y="53"/>
                    </a:lnTo>
                    <a:lnTo>
                      <a:pt x="34" y="57"/>
                    </a:lnTo>
                    <a:lnTo>
                      <a:pt x="32" y="53"/>
                    </a:lnTo>
                    <a:lnTo>
                      <a:pt x="29" y="49"/>
                    </a:lnTo>
                    <a:lnTo>
                      <a:pt x="28" y="44"/>
                    </a:lnTo>
                    <a:lnTo>
                      <a:pt x="25" y="42"/>
                    </a:lnTo>
                    <a:lnTo>
                      <a:pt x="29" y="32"/>
                    </a:lnTo>
                    <a:lnTo>
                      <a:pt x="34" y="25"/>
                    </a:lnTo>
                    <a:lnTo>
                      <a:pt x="39" y="22"/>
                    </a:lnTo>
                    <a:lnTo>
                      <a:pt x="45" y="21"/>
                    </a:lnTo>
                    <a:lnTo>
                      <a:pt x="50" y="21"/>
                    </a:lnTo>
                    <a:lnTo>
                      <a:pt x="56" y="23"/>
                    </a:lnTo>
                    <a:lnTo>
                      <a:pt x="60" y="25"/>
                    </a:lnTo>
                    <a:lnTo>
                      <a:pt x="64" y="29"/>
                    </a:lnTo>
                    <a:lnTo>
                      <a:pt x="68" y="32"/>
                    </a:lnTo>
                    <a:lnTo>
                      <a:pt x="73" y="38"/>
                    </a:lnTo>
                    <a:lnTo>
                      <a:pt x="75" y="42"/>
                    </a:lnTo>
                    <a:lnTo>
                      <a:pt x="77" y="48"/>
                    </a:lnTo>
                    <a:lnTo>
                      <a:pt x="77" y="53"/>
                    </a:lnTo>
                    <a:lnTo>
                      <a:pt x="79" y="60"/>
                    </a:lnTo>
                    <a:lnTo>
                      <a:pt x="77" y="64"/>
                    </a:lnTo>
                    <a:lnTo>
                      <a:pt x="75" y="69"/>
                    </a:lnTo>
                    <a:lnTo>
                      <a:pt x="69" y="74"/>
                    </a:lnTo>
                    <a:lnTo>
                      <a:pt x="65" y="79"/>
                    </a:lnTo>
                    <a:lnTo>
                      <a:pt x="58" y="80"/>
                    </a:lnTo>
                    <a:lnTo>
                      <a:pt x="52" y="82"/>
                    </a:lnTo>
                    <a:lnTo>
                      <a:pt x="46" y="82"/>
                    </a:lnTo>
                    <a:lnTo>
                      <a:pt x="39" y="83"/>
                    </a:lnTo>
                    <a:lnTo>
                      <a:pt x="33" y="80"/>
                    </a:lnTo>
                    <a:lnTo>
                      <a:pt x="28" y="79"/>
                    </a:lnTo>
                    <a:lnTo>
                      <a:pt x="21" y="76"/>
                    </a:lnTo>
                    <a:lnTo>
                      <a:pt x="16" y="75"/>
                    </a:lnTo>
                    <a:lnTo>
                      <a:pt x="11" y="70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2" y="36"/>
                    </a:lnTo>
                    <a:lnTo>
                      <a:pt x="5" y="31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024320" y="3582720"/>
                <a:ext cx="46800" cy="54000"/>
              </a:xfrm>
              <a:custGeom>
                <a:avLst/>
                <a:gdLst/>
                <a:ahLst/>
                <a:rect l="l" t="t" r="r" b="b"/>
                <a:pathLst>
                  <a:path w="81" h="97">
                    <a:moveTo>
                      <a:pt x="29" y="5"/>
                    </a:moveTo>
                    <a:lnTo>
                      <a:pt x="28" y="5"/>
                    </a:lnTo>
                    <a:lnTo>
                      <a:pt x="25" y="7"/>
                    </a:lnTo>
                    <a:lnTo>
                      <a:pt x="24" y="11"/>
                    </a:lnTo>
                    <a:lnTo>
                      <a:pt x="21" y="16"/>
                    </a:lnTo>
                    <a:lnTo>
                      <a:pt x="17" y="21"/>
                    </a:lnTo>
                    <a:lnTo>
                      <a:pt x="13" y="27"/>
                    </a:lnTo>
                    <a:lnTo>
                      <a:pt x="9" y="34"/>
                    </a:lnTo>
                    <a:lnTo>
                      <a:pt x="7" y="42"/>
                    </a:lnTo>
                    <a:lnTo>
                      <a:pt x="4" y="49"/>
                    </a:lnTo>
                    <a:lnTo>
                      <a:pt x="2" y="56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3" y="82"/>
                    </a:lnTo>
                    <a:lnTo>
                      <a:pt x="7" y="86"/>
                    </a:lnTo>
                    <a:lnTo>
                      <a:pt x="13" y="91"/>
                    </a:lnTo>
                    <a:lnTo>
                      <a:pt x="20" y="92"/>
                    </a:lnTo>
                    <a:lnTo>
                      <a:pt x="25" y="95"/>
                    </a:lnTo>
                    <a:lnTo>
                      <a:pt x="32" y="96"/>
                    </a:lnTo>
                    <a:lnTo>
                      <a:pt x="38" y="97"/>
                    </a:lnTo>
                    <a:lnTo>
                      <a:pt x="43" y="96"/>
                    </a:lnTo>
                    <a:lnTo>
                      <a:pt x="49" y="96"/>
                    </a:lnTo>
                    <a:lnTo>
                      <a:pt x="53" y="96"/>
                    </a:lnTo>
                    <a:lnTo>
                      <a:pt x="58" y="95"/>
                    </a:lnTo>
                    <a:lnTo>
                      <a:pt x="62" y="92"/>
                    </a:lnTo>
                    <a:lnTo>
                      <a:pt x="67" y="89"/>
                    </a:lnTo>
                    <a:lnTo>
                      <a:pt x="69" y="87"/>
                    </a:lnTo>
                    <a:lnTo>
                      <a:pt x="73" y="84"/>
                    </a:lnTo>
                    <a:lnTo>
                      <a:pt x="77" y="78"/>
                    </a:lnTo>
                    <a:lnTo>
                      <a:pt x="81" y="70"/>
                    </a:lnTo>
                    <a:lnTo>
                      <a:pt x="81" y="65"/>
                    </a:lnTo>
                    <a:lnTo>
                      <a:pt x="81" y="60"/>
                    </a:lnTo>
                    <a:lnTo>
                      <a:pt x="81" y="55"/>
                    </a:lnTo>
                    <a:lnTo>
                      <a:pt x="81" y="49"/>
                    </a:lnTo>
                    <a:lnTo>
                      <a:pt x="80" y="43"/>
                    </a:lnTo>
                    <a:lnTo>
                      <a:pt x="80" y="36"/>
                    </a:lnTo>
                    <a:lnTo>
                      <a:pt x="80" y="30"/>
                    </a:lnTo>
                    <a:lnTo>
                      <a:pt x="80" y="26"/>
                    </a:lnTo>
                    <a:lnTo>
                      <a:pt x="77" y="21"/>
                    </a:lnTo>
                    <a:lnTo>
                      <a:pt x="76" y="14"/>
                    </a:lnTo>
                    <a:lnTo>
                      <a:pt x="75" y="11"/>
                    </a:lnTo>
                    <a:lnTo>
                      <a:pt x="73" y="7"/>
                    </a:lnTo>
                    <a:lnTo>
                      <a:pt x="69" y="1"/>
                    </a:lnTo>
                    <a:lnTo>
                      <a:pt x="67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6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805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003080" y="3619080"/>
                <a:ext cx="77760" cy="227520"/>
              </a:xfrm>
              <a:custGeom>
                <a:avLst/>
                <a:gdLst/>
                <a:ahLst/>
                <a:rect l="l" t="t" r="r" b="b"/>
                <a:pathLst>
                  <a:path w="134" h="407">
                    <a:moveTo>
                      <a:pt x="55" y="11"/>
                    </a:moveTo>
                    <a:lnTo>
                      <a:pt x="55" y="12"/>
                    </a:lnTo>
                    <a:lnTo>
                      <a:pt x="54" y="16"/>
                    </a:lnTo>
                    <a:lnTo>
                      <a:pt x="53" y="22"/>
                    </a:lnTo>
                    <a:lnTo>
                      <a:pt x="51" y="31"/>
                    </a:lnTo>
                    <a:lnTo>
                      <a:pt x="49" y="42"/>
                    </a:lnTo>
                    <a:lnTo>
                      <a:pt x="46" y="55"/>
                    </a:lnTo>
                    <a:lnTo>
                      <a:pt x="44" y="68"/>
                    </a:lnTo>
                    <a:lnTo>
                      <a:pt x="41" y="82"/>
                    </a:lnTo>
                    <a:lnTo>
                      <a:pt x="37" y="96"/>
                    </a:lnTo>
                    <a:lnTo>
                      <a:pt x="34" y="110"/>
                    </a:lnTo>
                    <a:lnTo>
                      <a:pt x="32" y="123"/>
                    </a:lnTo>
                    <a:lnTo>
                      <a:pt x="29" y="139"/>
                    </a:lnTo>
                    <a:lnTo>
                      <a:pt x="27" y="150"/>
                    </a:lnTo>
                    <a:lnTo>
                      <a:pt x="24" y="162"/>
                    </a:lnTo>
                    <a:lnTo>
                      <a:pt x="21" y="172"/>
                    </a:lnTo>
                    <a:lnTo>
                      <a:pt x="21" y="180"/>
                    </a:lnTo>
                    <a:lnTo>
                      <a:pt x="19" y="187"/>
                    </a:lnTo>
                    <a:lnTo>
                      <a:pt x="17" y="194"/>
                    </a:lnTo>
                    <a:lnTo>
                      <a:pt x="16" y="202"/>
                    </a:lnTo>
                    <a:lnTo>
                      <a:pt x="14" y="211"/>
                    </a:lnTo>
                    <a:lnTo>
                      <a:pt x="11" y="222"/>
                    </a:lnTo>
                    <a:lnTo>
                      <a:pt x="10" y="231"/>
                    </a:lnTo>
                    <a:lnTo>
                      <a:pt x="8" y="240"/>
                    </a:lnTo>
                    <a:lnTo>
                      <a:pt x="7" y="250"/>
                    </a:lnTo>
                    <a:lnTo>
                      <a:pt x="6" y="259"/>
                    </a:lnTo>
                    <a:lnTo>
                      <a:pt x="6" y="270"/>
                    </a:lnTo>
                    <a:lnTo>
                      <a:pt x="4" y="277"/>
                    </a:lnTo>
                    <a:lnTo>
                      <a:pt x="4" y="286"/>
                    </a:lnTo>
                    <a:lnTo>
                      <a:pt x="3" y="294"/>
                    </a:lnTo>
                    <a:lnTo>
                      <a:pt x="3" y="302"/>
                    </a:lnTo>
                    <a:lnTo>
                      <a:pt x="4" y="310"/>
                    </a:lnTo>
                    <a:lnTo>
                      <a:pt x="6" y="315"/>
                    </a:lnTo>
                    <a:lnTo>
                      <a:pt x="6" y="320"/>
                    </a:lnTo>
                    <a:lnTo>
                      <a:pt x="6" y="327"/>
                    </a:lnTo>
                    <a:lnTo>
                      <a:pt x="6" y="333"/>
                    </a:lnTo>
                    <a:lnTo>
                      <a:pt x="6" y="341"/>
                    </a:lnTo>
                    <a:lnTo>
                      <a:pt x="6" y="347"/>
                    </a:lnTo>
                    <a:lnTo>
                      <a:pt x="4" y="356"/>
                    </a:lnTo>
                    <a:lnTo>
                      <a:pt x="4" y="363"/>
                    </a:lnTo>
                    <a:lnTo>
                      <a:pt x="4" y="372"/>
                    </a:lnTo>
                    <a:lnTo>
                      <a:pt x="2" y="378"/>
                    </a:lnTo>
                    <a:lnTo>
                      <a:pt x="2" y="385"/>
                    </a:lnTo>
                    <a:lnTo>
                      <a:pt x="0" y="391"/>
                    </a:lnTo>
                    <a:lnTo>
                      <a:pt x="0" y="396"/>
                    </a:lnTo>
                    <a:lnTo>
                      <a:pt x="0" y="400"/>
                    </a:lnTo>
                    <a:lnTo>
                      <a:pt x="0" y="404"/>
                    </a:lnTo>
                    <a:lnTo>
                      <a:pt x="0" y="406"/>
                    </a:lnTo>
                    <a:lnTo>
                      <a:pt x="0" y="407"/>
                    </a:lnTo>
                    <a:lnTo>
                      <a:pt x="134" y="355"/>
                    </a:lnTo>
                    <a:lnTo>
                      <a:pt x="132" y="352"/>
                    </a:lnTo>
                    <a:lnTo>
                      <a:pt x="131" y="349"/>
                    </a:lnTo>
                    <a:lnTo>
                      <a:pt x="131" y="342"/>
                    </a:lnTo>
                    <a:lnTo>
                      <a:pt x="130" y="333"/>
                    </a:lnTo>
                    <a:lnTo>
                      <a:pt x="128" y="321"/>
                    </a:lnTo>
                    <a:lnTo>
                      <a:pt x="127" y="310"/>
                    </a:lnTo>
                    <a:lnTo>
                      <a:pt x="126" y="295"/>
                    </a:lnTo>
                    <a:lnTo>
                      <a:pt x="126" y="281"/>
                    </a:lnTo>
                    <a:lnTo>
                      <a:pt x="123" y="266"/>
                    </a:lnTo>
                    <a:lnTo>
                      <a:pt x="122" y="250"/>
                    </a:lnTo>
                    <a:lnTo>
                      <a:pt x="119" y="233"/>
                    </a:lnTo>
                    <a:lnTo>
                      <a:pt x="118" y="218"/>
                    </a:lnTo>
                    <a:lnTo>
                      <a:pt x="115" y="202"/>
                    </a:lnTo>
                    <a:lnTo>
                      <a:pt x="114" y="188"/>
                    </a:lnTo>
                    <a:lnTo>
                      <a:pt x="111" y="174"/>
                    </a:lnTo>
                    <a:lnTo>
                      <a:pt x="111" y="163"/>
                    </a:lnTo>
                    <a:lnTo>
                      <a:pt x="109" y="150"/>
                    </a:lnTo>
                    <a:lnTo>
                      <a:pt x="106" y="139"/>
                    </a:lnTo>
                    <a:lnTo>
                      <a:pt x="105" y="126"/>
                    </a:lnTo>
                    <a:lnTo>
                      <a:pt x="104" y="112"/>
                    </a:lnTo>
                    <a:lnTo>
                      <a:pt x="101" y="99"/>
                    </a:lnTo>
                    <a:lnTo>
                      <a:pt x="100" y="84"/>
                    </a:lnTo>
                    <a:lnTo>
                      <a:pt x="98" y="70"/>
                    </a:lnTo>
                    <a:lnTo>
                      <a:pt x="98" y="59"/>
                    </a:lnTo>
                    <a:lnTo>
                      <a:pt x="96" y="47"/>
                    </a:lnTo>
                    <a:lnTo>
                      <a:pt x="94" y="35"/>
                    </a:lnTo>
                    <a:lnTo>
                      <a:pt x="93" y="26"/>
                    </a:lnTo>
                    <a:lnTo>
                      <a:pt x="93" y="17"/>
                    </a:lnTo>
                    <a:lnTo>
                      <a:pt x="93" y="9"/>
                    </a:lnTo>
                    <a:lnTo>
                      <a:pt x="93" y="4"/>
                    </a:lnTo>
                    <a:lnTo>
                      <a:pt x="93" y="2"/>
                    </a:lnTo>
                    <a:lnTo>
                      <a:pt x="93" y="0"/>
                    </a:lnTo>
                    <a:lnTo>
                      <a:pt x="55" y="11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805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716160" y="3801600"/>
                <a:ext cx="254160" cy="146160"/>
              </a:xfrm>
              <a:custGeom>
                <a:avLst/>
                <a:gdLst/>
                <a:ahLst/>
                <a:rect l="l" t="t" r="r" b="b"/>
                <a:pathLst>
                  <a:path w="432" h="260">
                    <a:moveTo>
                      <a:pt x="0" y="249"/>
                    </a:moveTo>
                    <a:lnTo>
                      <a:pt x="2" y="247"/>
                    </a:lnTo>
                    <a:lnTo>
                      <a:pt x="8" y="240"/>
                    </a:lnTo>
                    <a:lnTo>
                      <a:pt x="18" y="230"/>
                    </a:lnTo>
                    <a:lnTo>
                      <a:pt x="31" y="218"/>
                    </a:lnTo>
                    <a:lnTo>
                      <a:pt x="44" y="203"/>
                    </a:lnTo>
                    <a:lnTo>
                      <a:pt x="62" y="186"/>
                    </a:lnTo>
                    <a:lnTo>
                      <a:pt x="81" y="168"/>
                    </a:lnTo>
                    <a:lnTo>
                      <a:pt x="100" y="150"/>
                    </a:lnTo>
                    <a:lnTo>
                      <a:pt x="120" y="128"/>
                    </a:lnTo>
                    <a:lnTo>
                      <a:pt x="141" y="107"/>
                    </a:lnTo>
                    <a:lnTo>
                      <a:pt x="159" y="88"/>
                    </a:lnTo>
                    <a:lnTo>
                      <a:pt x="179" y="68"/>
                    </a:lnTo>
                    <a:lnTo>
                      <a:pt x="196" y="49"/>
                    </a:lnTo>
                    <a:lnTo>
                      <a:pt x="210" y="32"/>
                    </a:lnTo>
                    <a:lnTo>
                      <a:pt x="224" y="18"/>
                    </a:lnTo>
                    <a:lnTo>
                      <a:pt x="233" y="6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9" y="9"/>
                    </a:lnTo>
                    <a:lnTo>
                      <a:pt x="282" y="16"/>
                    </a:lnTo>
                    <a:lnTo>
                      <a:pt x="295" y="27"/>
                    </a:lnTo>
                    <a:lnTo>
                      <a:pt x="310" y="37"/>
                    </a:lnTo>
                    <a:lnTo>
                      <a:pt x="326" y="50"/>
                    </a:lnTo>
                    <a:lnTo>
                      <a:pt x="340" y="62"/>
                    </a:lnTo>
                    <a:lnTo>
                      <a:pt x="356" y="73"/>
                    </a:lnTo>
                    <a:lnTo>
                      <a:pt x="370" y="84"/>
                    </a:lnTo>
                    <a:lnTo>
                      <a:pt x="386" y="94"/>
                    </a:lnTo>
                    <a:lnTo>
                      <a:pt x="399" y="102"/>
                    </a:lnTo>
                    <a:lnTo>
                      <a:pt x="411" y="108"/>
                    </a:lnTo>
                    <a:lnTo>
                      <a:pt x="423" y="111"/>
                    </a:lnTo>
                    <a:lnTo>
                      <a:pt x="432" y="112"/>
                    </a:lnTo>
                    <a:lnTo>
                      <a:pt x="430" y="113"/>
                    </a:lnTo>
                    <a:lnTo>
                      <a:pt x="428" y="116"/>
                    </a:lnTo>
                    <a:lnTo>
                      <a:pt x="423" y="123"/>
                    </a:lnTo>
                    <a:lnTo>
                      <a:pt x="415" y="132"/>
                    </a:lnTo>
                    <a:lnTo>
                      <a:pt x="403" y="141"/>
                    </a:lnTo>
                    <a:lnTo>
                      <a:pt x="390" y="152"/>
                    </a:lnTo>
                    <a:lnTo>
                      <a:pt x="373" y="164"/>
                    </a:lnTo>
                    <a:lnTo>
                      <a:pt x="353" y="178"/>
                    </a:lnTo>
                    <a:lnTo>
                      <a:pt x="329" y="190"/>
                    </a:lnTo>
                    <a:lnTo>
                      <a:pt x="301" y="203"/>
                    </a:lnTo>
                    <a:lnTo>
                      <a:pt x="269" y="214"/>
                    </a:lnTo>
                    <a:lnTo>
                      <a:pt x="231" y="227"/>
                    </a:lnTo>
                    <a:lnTo>
                      <a:pt x="188" y="238"/>
                    </a:lnTo>
                    <a:lnTo>
                      <a:pt x="141" y="247"/>
                    </a:lnTo>
                    <a:lnTo>
                      <a:pt x="87" y="253"/>
                    </a:lnTo>
                    <a:lnTo>
                      <a:pt x="29" y="260"/>
                    </a:lnTo>
                    <a:lnTo>
                      <a:pt x="22" y="258"/>
                    </a:lnTo>
                    <a:lnTo>
                      <a:pt x="16" y="258"/>
                    </a:lnTo>
                    <a:lnTo>
                      <a:pt x="12" y="258"/>
                    </a:lnTo>
                    <a:lnTo>
                      <a:pt x="9" y="258"/>
                    </a:lnTo>
                    <a:lnTo>
                      <a:pt x="4" y="257"/>
                    </a:lnTo>
                    <a:lnTo>
                      <a:pt x="1" y="255"/>
                    </a:lnTo>
                    <a:lnTo>
                      <a:pt x="0" y="251"/>
                    </a:lnTo>
                    <a:lnTo>
                      <a:pt x="0" y="249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37560" y="3837240"/>
                <a:ext cx="159840" cy="94320"/>
              </a:xfrm>
              <a:custGeom>
                <a:avLst/>
                <a:gdLst/>
                <a:ahLst/>
                <a:rect l="l" t="t" r="r" b="b"/>
                <a:pathLst>
                  <a:path w="272" h="166">
                    <a:moveTo>
                      <a:pt x="168" y="3"/>
                    </a:moveTo>
                    <a:lnTo>
                      <a:pt x="165" y="3"/>
                    </a:lnTo>
                    <a:lnTo>
                      <a:pt x="161" y="2"/>
                    </a:lnTo>
                    <a:lnTo>
                      <a:pt x="155" y="0"/>
                    </a:lnTo>
                    <a:lnTo>
                      <a:pt x="147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26" y="3"/>
                    </a:lnTo>
                    <a:lnTo>
                      <a:pt x="121" y="3"/>
                    </a:lnTo>
                    <a:lnTo>
                      <a:pt x="116" y="5"/>
                    </a:lnTo>
                    <a:lnTo>
                      <a:pt x="112" y="8"/>
                    </a:lnTo>
                    <a:lnTo>
                      <a:pt x="108" y="12"/>
                    </a:lnTo>
                    <a:lnTo>
                      <a:pt x="101" y="15"/>
                    </a:lnTo>
                    <a:lnTo>
                      <a:pt x="95" y="18"/>
                    </a:lnTo>
                    <a:lnTo>
                      <a:pt x="87" y="24"/>
                    </a:lnTo>
                    <a:lnTo>
                      <a:pt x="80" y="27"/>
                    </a:lnTo>
                    <a:lnTo>
                      <a:pt x="71" y="33"/>
                    </a:lnTo>
                    <a:lnTo>
                      <a:pt x="62" y="38"/>
                    </a:lnTo>
                    <a:lnTo>
                      <a:pt x="54" y="43"/>
                    </a:lnTo>
                    <a:lnTo>
                      <a:pt x="45" y="49"/>
                    </a:lnTo>
                    <a:lnTo>
                      <a:pt x="36" y="55"/>
                    </a:lnTo>
                    <a:lnTo>
                      <a:pt x="28" y="61"/>
                    </a:lnTo>
                    <a:lnTo>
                      <a:pt x="20" y="66"/>
                    </a:lnTo>
                    <a:lnTo>
                      <a:pt x="14" y="71"/>
                    </a:lnTo>
                    <a:lnTo>
                      <a:pt x="7" y="78"/>
                    </a:lnTo>
                    <a:lnTo>
                      <a:pt x="4" y="83"/>
                    </a:lnTo>
                    <a:lnTo>
                      <a:pt x="0" y="87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5" y="101"/>
                    </a:lnTo>
                    <a:lnTo>
                      <a:pt x="11" y="101"/>
                    </a:lnTo>
                    <a:lnTo>
                      <a:pt x="18" y="100"/>
                    </a:lnTo>
                    <a:lnTo>
                      <a:pt x="24" y="97"/>
                    </a:lnTo>
                    <a:lnTo>
                      <a:pt x="31" y="93"/>
                    </a:lnTo>
                    <a:lnTo>
                      <a:pt x="35" y="91"/>
                    </a:lnTo>
                    <a:lnTo>
                      <a:pt x="37" y="91"/>
                    </a:lnTo>
                    <a:lnTo>
                      <a:pt x="35" y="91"/>
                    </a:lnTo>
                    <a:lnTo>
                      <a:pt x="34" y="95"/>
                    </a:lnTo>
                    <a:lnTo>
                      <a:pt x="30" y="99"/>
                    </a:lnTo>
                    <a:lnTo>
                      <a:pt x="26" y="106"/>
                    </a:lnTo>
                    <a:lnTo>
                      <a:pt x="22" y="112"/>
                    </a:lnTo>
                    <a:lnTo>
                      <a:pt x="19" y="118"/>
                    </a:lnTo>
                    <a:lnTo>
                      <a:pt x="19" y="123"/>
                    </a:lnTo>
                    <a:lnTo>
                      <a:pt x="22" y="127"/>
                    </a:lnTo>
                    <a:lnTo>
                      <a:pt x="24" y="128"/>
                    </a:lnTo>
                    <a:lnTo>
                      <a:pt x="30" y="127"/>
                    </a:lnTo>
                    <a:lnTo>
                      <a:pt x="35" y="125"/>
                    </a:lnTo>
                    <a:lnTo>
                      <a:pt x="43" y="122"/>
                    </a:lnTo>
                    <a:lnTo>
                      <a:pt x="48" y="118"/>
                    </a:lnTo>
                    <a:lnTo>
                      <a:pt x="52" y="116"/>
                    </a:lnTo>
                    <a:lnTo>
                      <a:pt x="56" y="113"/>
                    </a:lnTo>
                    <a:lnTo>
                      <a:pt x="58" y="113"/>
                    </a:lnTo>
                    <a:lnTo>
                      <a:pt x="56" y="114"/>
                    </a:lnTo>
                    <a:lnTo>
                      <a:pt x="54" y="118"/>
                    </a:lnTo>
                    <a:lnTo>
                      <a:pt x="50" y="122"/>
                    </a:lnTo>
                    <a:lnTo>
                      <a:pt x="48" y="130"/>
                    </a:lnTo>
                    <a:lnTo>
                      <a:pt x="47" y="135"/>
                    </a:lnTo>
                    <a:lnTo>
                      <a:pt x="44" y="141"/>
                    </a:lnTo>
                    <a:lnTo>
                      <a:pt x="45" y="145"/>
                    </a:lnTo>
                    <a:lnTo>
                      <a:pt x="48" y="147"/>
                    </a:lnTo>
                    <a:lnTo>
                      <a:pt x="52" y="147"/>
                    </a:lnTo>
                    <a:lnTo>
                      <a:pt x="58" y="145"/>
                    </a:lnTo>
                    <a:lnTo>
                      <a:pt x="62" y="141"/>
                    </a:lnTo>
                    <a:lnTo>
                      <a:pt x="67" y="139"/>
                    </a:lnTo>
                    <a:lnTo>
                      <a:pt x="71" y="135"/>
                    </a:lnTo>
                    <a:lnTo>
                      <a:pt x="75" y="134"/>
                    </a:lnTo>
                    <a:lnTo>
                      <a:pt x="78" y="131"/>
                    </a:lnTo>
                    <a:lnTo>
                      <a:pt x="79" y="131"/>
                    </a:lnTo>
                    <a:lnTo>
                      <a:pt x="79" y="134"/>
                    </a:lnTo>
                    <a:lnTo>
                      <a:pt x="82" y="139"/>
                    </a:lnTo>
                    <a:lnTo>
                      <a:pt x="82" y="143"/>
                    </a:lnTo>
                    <a:lnTo>
                      <a:pt x="83" y="147"/>
                    </a:lnTo>
                    <a:lnTo>
                      <a:pt x="84" y="150"/>
                    </a:lnTo>
                    <a:lnTo>
                      <a:pt x="86" y="154"/>
                    </a:lnTo>
                    <a:lnTo>
                      <a:pt x="87" y="156"/>
                    </a:lnTo>
                    <a:lnTo>
                      <a:pt x="92" y="152"/>
                    </a:lnTo>
                    <a:lnTo>
                      <a:pt x="95" y="148"/>
                    </a:lnTo>
                    <a:lnTo>
                      <a:pt x="99" y="145"/>
                    </a:lnTo>
                    <a:lnTo>
                      <a:pt x="101" y="141"/>
                    </a:lnTo>
                    <a:lnTo>
                      <a:pt x="105" y="138"/>
                    </a:lnTo>
                    <a:lnTo>
                      <a:pt x="108" y="132"/>
                    </a:lnTo>
                    <a:lnTo>
                      <a:pt x="112" y="127"/>
                    </a:lnTo>
                    <a:lnTo>
                      <a:pt x="114" y="123"/>
                    </a:lnTo>
                    <a:lnTo>
                      <a:pt x="118" y="119"/>
                    </a:lnTo>
                    <a:lnTo>
                      <a:pt x="122" y="114"/>
                    </a:lnTo>
                    <a:lnTo>
                      <a:pt x="125" y="113"/>
                    </a:lnTo>
                    <a:lnTo>
                      <a:pt x="125" y="114"/>
                    </a:lnTo>
                    <a:lnTo>
                      <a:pt x="127" y="121"/>
                    </a:lnTo>
                    <a:lnTo>
                      <a:pt x="127" y="125"/>
                    </a:lnTo>
                    <a:lnTo>
                      <a:pt x="129" y="130"/>
                    </a:lnTo>
                    <a:lnTo>
                      <a:pt x="131" y="134"/>
                    </a:lnTo>
                    <a:lnTo>
                      <a:pt x="134" y="139"/>
                    </a:lnTo>
                    <a:lnTo>
                      <a:pt x="135" y="144"/>
                    </a:lnTo>
                    <a:lnTo>
                      <a:pt x="138" y="148"/>
                    </a:lnTo>
                    <a:lnTo>
                      <a:pt x="140" y="153"/>
                    </a:lnTo>
                    <a:lnTo>
                      <a:pt x="144" y="157"/>
                    </a:lnTo>
                    <a:lnTo>
                      <a:pt x="151" y="162"/>
                    </a:lnTo>
                    <a:lnTo>
                      <a:pt x="159" y="166"/>
                    </a:lnTo>
                    <a:lnTo>
                      <a:pt x="161" y="165"/>
                    </a:lnTo>
                    <a:lnTo>
                      <a:pt x="165" y="163"/>
                    </a:lnTo>
                    <a:lnTo>
                      <a:pt x="170" y="163"/>
                    </a:lnTo>
                    <a:lnTo>
                      <a:pt x="174" y="162"/>
                    </a:lnTo>
                    <a:lnTo>
                      <a:pt x="180" y="161"/>
                    </a:lnTo>
                    <a:lnTo>
                      <a:pt x="184" y="160"/>
                    </a:lnTo>
                    <a:lnTo>
                      <a:pt x="189" y="158"/>
                    </a:lnTo>
                    <a:lnTo>
                      <a:pt x="193" y="158"/>
                    </a:lnTo>
                    <a:lnTo>
                      <a:pt x="197" y="156"/>
                    </a:lnTo>
                    <a:lnTo>
                      <a:pt x="201" y="154"/>
                    </a:lnTo>
                    <a:lnTo>
                      <a:pt x="204" y="153"/>
                    </a:lnTo>
                    <a:lnTo>
                      <a:pt x="210" y="153"/>
                    </a:lnTo>
                    <a:lnTo>
                      <a:pt x="216" y="150"/>
                    </a:lnTo>
                    <a:lnTo>
                      <a:pt x="223" y="150"/>
                    </a:lnTo>
                    <a:lnTo>
                      <a:pt x="228" y="148"/>
                    </a:lnTo>
                    <a:lnTo>
                      <a:pt x="236" y="147"/>
                    </a:lnTo>
                    <a:lnTo>
                      <a:pt x="244" y="143"/>
                    </a:lnTo>
                    <a:lnTo>
                      <a:pt x="253" y="140"/>
                    </a:lnTo>
                    <a:lnTo>
                      <a:pt x="259" y="135"/>
                    </a:lnTo>
                    <a:lnTo>
                      <a:pt x="266" y="130"/>
                    </a:lnTo>
                    <a:lnTo>
                      <a:pt x="270" y="125"/>
                    </a:lnTo>
                    <a:lnTo>
                      <a:pt x="272" y="119"/>
                    </a:lnTo>
                    <a:lnTo>
                      <a:pt x="271" y="116"/>
                    </a:lnTo>
                    <a:lnTo>
                      <a:pt x="270" y="112"/>
                    </a:lnTo>
                    <a:lnTo>
                      <a:pt x="268" y="106"/>
                    </a:lnTo>
                    <a:lnTo>
                      <a:pt x="266" y="100"/>
                    </a:lnTo>
                    <a:lnTo>
                      <a:pt x="262" y="93"/>
                    </a:lnTo>
                    <a:lnTo>
                      <a:pt x="259" y="87"/>
                    </a:lnTo>
                    <a:lnTo>
                      <a:pt x="255" y="79"/>
                    </a:lnTo>
                    <a:lnTo>
                      <a:pt x="251" y="71"/>
                    </a:lnTo>
                    <a:lnTo>
                      <a:pt x="246" y="64"/>
                    </a:lnTo>
                    <a:lnTo>
                      <a:pt x="241" y="56"/>
                    </a:lnTo>
                    <a:lnTo>
                      <a:pt x="236" y="48"/>
                    </a:lnTo>
                    <a:lnTo>
                      <a:pt x="229" y="42"/>
                    </a:lnTo>
                    <a:lnTo>
                      <a:pt x="224" y="34"/>
                    </a:lnTo>
                    <a:lnTo>
                      <a:pt x="217" y="27"/>
                    </a:lnTo>
                    <a:lnTo>
                      <a:pt x="210" y="21"/>
                    </a:lnTo>
                    <a:lnTo>
                      <a:pt x="204" y="16"/>
                    </a:lnTo>
                    <a:lnTo>
                      <a:pt x="199" y="15"/>
                    </a:lnTo>
                    <a:lnTo>
                      <a:pt x="195" y="12"/>
                    </a:lnTo>
                    <a:lnTo>
                      <a:pt x="189" y="9"/>
                    </a:lnTo>
                    <a:lnTo>
                      <a:pt x="184" y="7"/>
                    </a:lnTo>
                    <a:lnTo>
                      <a:pt x="176" y="4"/>
                    </a:lnTo>
                    <a:lnTo>
                      <a:pt x="172" y="4"/>
                    </a:lnTo>
                    <a:lnTo>
                      <a:pt x="168" y="3"/>
                    </a:lnTo>
                    <a:lnTo>
                      <a:pt x="168" y="3"/>
                    </a:lnTo>
                    <a:lnTo>
                      <a:pt x="168" y="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572520" y="3787920"/>
                <a:ext cx="166680" cy="96840"/>
              </a:xfrm>
              <a:custGeom>
                <a:avLst/>
                <a:gdLst/>
                <a:ahLst/>
                <a:rect l="l" t="t" r="r" b="b"/>
                <a:pathLst>
                  <a:path w="282" h="172">
                    <a:moveTo>
                      <a:pt x="218" y="1"/>
                    </a:moveTo>
                    <a:lnTo>
                      <a:pt x="219" y="1"/>
                    </a:lnTo>
                    <a:lnTo>
                      <a:pt x="225" y="2"/>
                    </a:lnTo>
                    <a:lnTo>
                      <a:pt x="227" y="2"/>
                    </a:lnTo>
                    <a:lnTo>
                      <a:pt x="231" y="5"/>
                    </a:lnTo>
                    <a:lnTo>
                      <a:pt x="236" y="6"/>
                    </a:lnTo>
                    <a:lnTo>
                      <a:pt x="240" y="9"/>
                    </a:lnTo>
                    <a:lnTo>
                      <a:pt x="244" y="11"/>
                    </a:lnTo>
                    <a:lnTo>
                      <a:pt x="248" y="16"/>
                    </a:lnTo>
                    <a:lnTo>
                      <a:pt x="251" y="22"/>
                    </a:lnTo>
                    <a:lnTo>
                      <a:pt x="255" y="28"/>
                    </a:lnTo>
                    <a:lnTo>
                      <a:pt x="257" y="35"/>
                    </a:lnTo>
                    <a:lnTo>
                      <a:pt x="259" y="45"/>
                    </a:lnTo>
                    <a:lnTo>
                      <a:pt x="260" y="54"/>
                    </a:lnTo>
                    <a:lnTo>
                      <a:pt x="261" y="67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61" y="77"/>
                    </a:lnTo>
                    <a:lnTo>
                      <a:pt x="261" y="81"/>
                    </a:lnTo>
                    <a:lnTo>
                      <a:pt x="262" y="85"/>
                    </a:lnTo>
                    <a:lnTo>
                      <a:pt x="264" y="92"/>
                    </a:lnTo>
                    <a:lnTo>
                      <a:pt x="265" y="97"/>
                    </a:lnTo>
                    <a:lnTo>
                      <a:pt x="268" y="102"/>
                    </a:lnTo>
                    <a:lnTo>
                      <a:pt x="269" y="108"/>
                    </a:lnTo>
                    <a:lnTo>
                      <a:pt x="270" y="114"/>
                    </a:lnTo>
                    <a:lnTo>
                      <a:pt x="273" y="120"/>
                    </a:lnTo>
                    <a:lnTo>
                      <a:pt x="274" y="125"/>
                    </a:lnTo>
                    <a:lnTo>
                      <a:pt x="277" y="129"/>
                    </a:lnTo>
                    <a:lnTo>
                      <a:pt x="278" y="134"/>
                    </a:lnTo>
                    <a:lnTo>
                      <a:pt x="279" y="137"/>
                    </a:lnTo>
                    <a:lnTo>
                      <a:pt x="282" y="141"/>
                    </a:lnTo>
                    <a:lnTo>
                      <a:pt x="282" y="143"/>
                    </a:lnTo>
                    <a:lnTo>
                      <a:pt x="279" y="146"/>
                    </a:lnTo>
                    <a:lnTo>
                      <a:pt x="275" y="149"/>
                    </a:lnTo>
                    <a:lnTo>
                      <a:pt x="269" y="151"/>
                    </a:lnTo>
                    <a:lnTo>
                      <a:pt x="264" y="149"/>
                    </a:lnTo>
                    <a:lnTo>
                      <a:pt x="259" y="147"/>
                    </a:lnTo>
                    <a:lnTo>
                      <a:pt x="253" y="145"/>
                    </a:lnTo>
                    <a:lnTo>
                      <a:pt x="248" y="142"/>
                    </a:lnTo>
                    <a:lnTo>
                      <a:pt x="242" y="137"/>
                    </a:lnTo>
                    <a:lnTo>
                      <a:pt x="236" y="130"/>
                    </a:lnTo>
                    <a:lnTo>
                      <a:pt x="230" y="123"/>
                    </a:lnTo>
                    <a:lnTo>
                      <a:pt x="223" y="114"/>
                    </a:lnTo>
                    <a:lnTo>
                      <a:pt x="222" y="114"/>
                    </a:lnTo>
                    <a:lnTo>
                      <a:pt x="221" y="114"/>
                    </a:lnTo>
                    <a:lnTo>
                      <a:pt x="217" y="112"/>
                    </a:lnTo>
                    <a:lnTo>
                      <a:pt x="213" y="112"/>
                    </a:lnTo>
                    <a:lnTo>
                      <a:pt x="206" y="112"/>
                    </a:lnTo>
                    <a:lnTo>
                      <a:pt x="201" y="111"/>
                    </a:lnTo>
                    <a:lnTo>
                      <a:pt x="195" y="110"/>
                    </a:lnTo>
                    <a:lnTo>
                      <a:pt x="188" y="110"/>
                    </a:lnTo>
                    <a:lnTo>
                      <a:pt x="182" y="108"/>
                    </a:lnTo>
                    <a:lnTo>
                      <a:pt x="174" y="108"/>
                    </a:lnTo>
                    <a:lnTo>
                      <a:pt x="167" y="107"/>
                    </a:lnTo>
                    <a:lnTo>
                      <a:pt x="162" y="106"/>
                    </a:lnTo>
                    <a:lnTo>
                      <a:pt x="157" y="105"/>
                    </a:lnTo>
                    <a:lnTo>
                      <a:pt x="153" y="105"/>
                    </a:lnTo>
                    <a:lnTo>
                      <a:pt x="149" y="102"/>
                    </a:lnTo>
                    <a:lnTo>
                      <a:pt x="148" y="102"/>
                    </a:lnTo>
                    <a:lnTo>
                      <a:pt x="148" y="102"/>
                    </a:lnTo>
                    <a:lnTo>
                      <a:pt x="145" y="105"/>
                    </a:lnTo>
                    <a:lnTo>
                      <a:pt x="142" y="107"/>
                    </a:lnTo>
                    <a:lnTo>
                      <a:pt x="140" y="112"/>
                    </a:lnTo>
                    <a:lnTo>
                      <a:pt x="136" y="116"/>
                    </a:lnTo>
                    <a:lnTo>
                      <a:pt x="132" y="121"/>
                    </a:lnTo>
                    <a:lnTo>
                      <a:pt x="128" y="128"/>
                    </a:lnTo>
                    <a:lnTo>
                      <a:pt x="124" y="136"/>
                    </a:lnTo>
                    <a:lnTo>
                      <a:pt x="118" y="141"/>
                    </a:lnTo>
                    <a:lnTo>
                      <a:pt x="114" y="147"/>
                    </a:lnTo>
                    <a:lnTo>
                      <a:pt x="108" y="152"/>
                    </a:lnTo>
                    <a:lnTo>
                      <a:pt x="105" y="159"/>
                    </a:lnTo>
                    <a:lnTo>
                      <a:pt x="99" y="163"/>
                    </a:lnTo>
                    <a:lnTo>
                      <a:pt x="97" y="167"/>
                    </a:lnTo>
                    <a:lnTo>
                      <a:pt x="94" y="169"/>
                    </a:lnTo>
                    <a:lnTo>
                      <a:pt x="93" y="172"/>
                    </a:lnTo>
                    <a:lnTo>
                      <a:pt x="89" y="171"/>
                    </a:lnTo>
                    <a:lnTo>
                      <a:pt x="88" y="168"/>
                    </a:lnTo>
                    <a:lnTo>
                      <a:pt x="88" y="161"/>
                    </a:lnTo>
                    <a:lnTo>
                      <a:pt x="89" y="155"/>
                    </a:lnTo>
                    <a:lnTo>
                      <a:pt x="89" y="149"/>
                    </a:lnTo>
                    <a:lnTo>
                      <a:pt x="90" y="142"/>
                    </a:lnTo>
                    <a:lnTo>
                      <a:pt x="92" y="138"/>
                    </a:lnTo>
                    <a:lnTo>
                      <a:pt x="92" y="137"/>
                    </a:lnTo>
                    <a:lnTo>
                      <a:pt x="90" y="137"/>
                    </a:lnTo>
                    <a:lnTo>
                      <a:pt x="88" y="141"/>
                    </a:lnTo>
                    <a:lnTo>
                      <a:pt x="84" y="146"/>
                    </a:lnTo>
                    <a:lnTo>
                      <a:pt x="80" y="152"/>
                    </a:lnTo>
                    <a:lnTo>
                      <a:pt x="75" y="158"/>
                    </a:lnTo>
                    <a:lnTo>
                      <a:pt x="69" y="161"/>
                    </a:lnTo>
                    <a:lnTo>
                      <a:pt x="64" y="165"/>
                    </a:lnTo>
                    <a:lnTo>
                      <a:pt x="63" y="168"/>
                    </a:lnTo>
                    <a:lnTo>
                      <a:pt x="60" y="167"/>
                    </a:lnTo>
                    <a:lnTo>
                      <a:pt x="60" y="164"/>
                    </a:lnTo>
                    <a:lnTo>
                      <a:pt x="60" y="158"/>
                    </a:lnTo>
                    <a:lnTo>
                      <a:pt x="63" y="152"/>
                    </a:lnTo>
                    <a:lnTo>
                      <a:pt x="64" y="145"/>
                    </a:lnTo>
                    <a:lnTo>
                      <a:pt x="65" y="139"/>
                    </a:lnTo>
                    <a:lnTo>
                      <a:pt x="67" y="136"/>
                    </a:lnTo>
                    <a:lnTo>
                      <a:pt x="68" y="134"/>
                    </a:lnTo>
                    <a:lnTo>
                      <a:pt x="34" y="165"/>
                    </a:lnTo>
                    <a:lnTo>
                      <a:pt x="41" y="129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3" y="149"/>
                    </a:lnTo>
                    <a:lnTo>
                      <a:pt x="5" y="142"/>
                    </a:lnTo>
                    <a:lnTo>
                      <a:pt x="11" y="137"/>
                    </a:lnTo>
                    <a:lnTo>
                      <a:pt x="15" y="129"/>
                    </a:lnTo>
                    <a:lnTo>
                      <a:pt x="21" y="120"/>
                    </a:lnTo>
                    <a:lnTo>
                      <a:pt x="28" y="111"/>
                    </a:lnTo>
                    <a:lnTo>
                      <a:pt x="34" y="102"/>
                    </a:lnTo>
                    <a:lnTo>
                      <a:pt x="41" y="92"/>
                    </a:lnTo>
                    <a:lnTo>
                      <a:pt x="47" y="83"/>
                    </a:lnTo>
                    <a:lnTo>
                      <a:pt x="54" y="73"/>
                    </a:lnTo>
                    <a:lnTo>
                      <a:pt x="60" y="64"/>
                    </a:lnTo>
                    <a:lnTo>
                      <a:pt x="65" y="57"/>
                    </a:lnTo>
                    <a:lnTo>
                      <a:pt x="71" y="50"/>
                    </a:lnTo>
                    <a:lnTo>
                      <a:pt x="76" y="46"/>
                    </a:lnTo>
                    <a:lnTo>
                      <a:pt x="80" y="44"/>
                    </a:lnTo>
                    <a:lnTo>
                      <a:pt x="84" y="40"/>
                    </a:lnTo>
                    <a:lnTo>
                      <a:pt x="90" y="35"/>
                    </a:lnTo>
                    <a:lnTo>
                      <a:pt x="97" y="29"/>
                    </a:lnTo>
                    <a:lnTo>
                      <a:pt x="105" y="26"/>
                    </a:lnTo>
                    <a:lnTo>
                      <a:pt x="111" y="20"/>
                    </a:lnTo>
                    <a:lnTo>
                      <a:pt x="118" y="14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6" y="5"/>
                    </a:lnTo>
                    <a:lnTo>
                      <a:pt x="140" y="4"/>
                    </a:lnTo>
                    <a:lnTo>
                      <a:pt x="145" y="2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2" y="1"/>
                    </a:lnTo>
                    <a:lnTo>
                      <a:pt x="188" y="0"/>
                    </a:lnTo>
                    <a:lnTo>
                      <a:pt x="195" y="0"/>
                    </a:lnTo>
                    <a:lnTo>
                      <a:pt x="201" y="0"/>
                    </a:lnTo>
                    <a:lnTo>
                      <a:pt x="206" y="1"/>
                    </a:lnTo>
                    <a:lnTo>
                      <a:pt x="210" y="1"/>
                    </a:lnTo>
                    <a:lnTo>
                      <a:pt x="214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8" y="1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71320" y="356688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55" y="0"/>
                    </a:moveTo>
                    <a:lnTo>
                      <a:pt x="59" y="3"/>
                    </a:lnTo>
                    <a:lnTo>
                      <a:pt x="63" y="5"/>
                    </a:lnTo>
                    <a:lnTo>
                      <a:pt x="64" y="8"/>
                    </a:lnTo>
                    <a:lnTo>
                      <a:pt x="65" y="12"/>
                    </a:lnTo>
                    <a:lnTo>
                      <a:pt x="64" y="18"/>
                    </a:lnTo>
                    <a:lnTo>
                      <a:pt x="59" y="27"/>
                    </a:lnTo>
                    <a:lnTo>
                      <a:pt x="52" y="35"/>
                    </a:lnTo>
                    <a:lnTo>
                      <a:pt x="44" y="43"/>
                    </a:lnTo>
                    <a:lnTo>
                      <a:pt x="37" y="49"/>
                    </a:lnTo>
                    <a:lnTo>
                      <a:pt x="31" y="56"/>
                    </a:lnTo>
                    <a:lnTo>
                      <a:pt x="29" y="56"/>
                    </a:lnTo>
                    <a:lnTo>
                      <a:pt x="25" y="57"/>
                    </a:lnTo>
                    <a:lnTo>
                      <a:pt x="20" y="60"/>
                    </a:lnTo>
                    <a:lnTo>
                      <a:pt x="16" y="62"/>
                    </a:lnTo>
                    <a:lnTo>
                      <a:pt x="10" y="63"/>
                    </a:lnTo>
                    <a:lnTo>
                      <a:pt x="7" y="65"/>
                    </a:lnTo>
                    <a:lnTo>
                      <a:pt x="3" y="6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6"/>
                    </a:lnTo>
                    <a:lnTo>
                      <a:pt x="9" y="49"/>
                    </a:lnTo>
                    <a:lnTo>
                      <a:pt x="17" y="44"/>
                    </a:lnTo>
                    <a:lnTo>
                      <a:pt x="23" y="36"/>
                    </a:lnTo>
                    <a:lnTo>
                      <a:pt x="30" y="30"/>
                    </a:lnTo>
                    <a:lnTo>
                      <a:pt x="35" y="22"/>
                    </a:lnTo>
                    <a:lnTo>
                      <a:pt x="42" y="15"/>
                    </a:lnTo>
                    <a:lnTo>
                      <a:pt x="48" y="8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2520" y="3571560"/>
                <a:ext cx="201960" cy="268200"/>
              </a:xfrm>
              <a:custGeom>
                <a:avLst/>
                <a:gdLst/>
                <a:ahLst/>
                <a:rect l="l" t="t" r="r" b="b"/>
                <a:pathLst>
                  <a:path w="342" h="478">
                    <a:moveTo>
                      <a:pt x="287" y="0"/>
                    </a:moveTo>
                    <a:lnTo>
                      <a:pt x="291" y="3"/>
                    </a:lnTo>
                    <a:lnTo>
                      <a:pt x="295" y="8"/>
                    </a:lnTo>
                    <a:lnTo>
                      <a:pt x="298" y="12"/>
                    </a:lnTo>
                    <a:lnTo>
                      <a:pt x="300" y="17"/>
                    </a:lnTo>
                    <a:lnTo>
                      <a:pt x="302" y="22"/>
                    </a:lnTo>
                    <a:lnTo>
                      <a:pt x="302" y="27"/>
                    </a:lnTo>
                    <a:lnTo>
                      <a:pt x="302" y="34"/>
                    </a:lnTo>
                    <a:lnTo>
                      <a:pt x="303" y="40"/>
                    </a:lnTo>
                    <a:lnTo>
                      <a:pt x="302" y="47"/>
                    </a:lnTo>
                    <a:lnTo>
                      <a:pt x="302" y="53"/>
                    </a:lnTo>
                    <a:lnTo>
                      <a:pt x="302" y="60"/>
                    </a:lnTo>
                    <a:lnTo>
                      <a:pt x="302" y="66"/>
                    </a:lnTo>
                    <a:lnTo>
                      <a:pt x="302" y="73"/>
                    </a:lnTo>
                    <a:lnTo>
                      <a:pt x="302" y="79"/>
                    </a:lnTo>
                    <a:lnTo>
                      <a:pt x="303" y="84"/>
                    </a:lnTo>
                    <a:lnTo>
                      <a:pt x="306" y="91"/>
                    </a:lnTo>
                    <a:lnTo>
                      <a:pt x="306" y="101"/>
                    </a:lnTo>
                    <a:lnTo>
                      <a:pt x="307" y="111"/>
                    </a:lnTo>
                    <a:lnTo>
                      <a:pt x="307" y="123"/>
                    </a:lnTo>
                    <a:lnTo>
                      <a:pt x="310" y="135"/>
                    </a:lnTo>
                    <a:lnTo>
                      <a:pt x="310" y="145"/>
                    </a:lnTo>
                    <a:lnTo>
                      <a:pt x="311" y="157"/>
                    </a:lnTo>
                    <a:lnTo>
                      <a:pt x="311" y="168"/>
                    </a:lnTo>
                    <a:lnTo>
                      <a:pt x="312" y="180"/>
                    </a:lnTo>
                    <a:lnTo>
                      <a:pt x="312" y="190"/>
                    </a:lnTo>
                    <a:lnTo>
                      <a:pt x="315" y="202"/>
                    </a:lnTo>
                    <a:lnTo>
                      <a:pt x="315" y="214"/>
                    </a:lnTo>
                    <a:lnTo>
                      <a:pt x="316" y="225"/>
                    </a:lnTo>
                    <a:lnTo>
                      <a:pt x="316" y="237"/>
                    </a:lnTo>
                    <a:lnTo>
                      <a:pt x="316" y="249"/>
                    </a:lnTo>
                    <a:lnTo>
                      <a:pt x="316" y="260"/>
                    </a:lnTo>
                    <a:lnTo>
                      <a:pt x="316" y="272"/>
                    </a:lnTo>
                    <a:lnTo>
                      <a:pt x="312" y="275"/>
                    </a:lnTo>
                    <a:lnTo>
                      <a:pt x="307" y="278"/>
                    </a:lnTo>
                    <a:lnTo>
                      <a:pt x="302" y="280"/>
                    </a:lnTo>
                    <a:lnTo>
                      <a:pt x="298" y="282"/>
                    </a:lnTo>
                    <a:lnTo>
                      <a:pt x="291" y="284"/>
                    </a:lnTo>
                    <a:lnTo>
                      <a:pt x="286" y="286"/>
                    </a:lnTo>
                    <a:lnTo>
                      <a:pt x="281" y="288"/>
                    </a:lnTo>
                    <a:lnTo>
                      <a:pt x="276" y="291"/>
                    </a:lnTo>
                    <a:lnTo>
                      <a:pt x="280" y="291"/>
                    </a:lnTo>
                    <a:lnTo>
                      <a:pt x="285" y="293"/>
                    </a:lnTo>
                    <a:lnTo>
                      <a:pt x="289" y="293"/>
                    </a:lnTo>
                    <a:lnTo>
                      <a:pt x="294" y="294"/>
                    </a:lnTo>
                    <a:lnTo>
                      <a:pt x="298" y="294"/>
                    </a:lnTo>
                    <a:lnTo>
                      <a:pt x="302" y="295"/>
                    </a:lnTo>
                    <a:lnTo>
                      <a:pt x="307" y="295"/>
                    </a:lnTo>
                    <a:lnTo>
                      <a:pt x="311" y="298"/>
                    </a:lnTo>
                    <a:lnTo>
                      <a:pt x="319" y="299"/>
                    </a:lnTo>
                    <a:lnTo>
                      <a:pt x="328" y="304"/>
                    </a:lnTo>
                    <a:lnTo>
                      <a:pt x="330" y="307"/>
                    </a:lnTo>
                    <a:lnTo>
                      <a:pt x="334" y="310"/>
                    </a:lnTo>
                    <a:lnTo>
                      <a:pt x="338" y="313"/>
                    </a:lnTo>
                    <a:lnTo>
                      <a:pt x="342" y="319"/>
                    </a:lnTo>
                    <a:lnTo>
                      <a:pt x="334" y="324"/>
                    </a:lnTo>
                    <a:lnTo>
                      <a:pt x="327" y="330"/>
                    </a:lnTo>
                    <a:lnTo>
                      <a:pt x="319" y="334"/>
                    </a:lnTo>
                    <a:lnTo>
                      <a:pt x="311" y="339"/>
                    </a:lnTo>
                    <a:lnTo>
                      <a:pt x="303" y="342"/>
                    </a:lnTo>
                    <a:lnTo>
                      <a:pt x="294" y="346"/>
                    </a:lnTo>
                    <a:lnTo>
                      <a:pt x="286" y="350"/>
                    </a:lnTo>
                    <a:lnTo>
                      <a:pt x="278" y="352"/>
                    </a:lnTo>
                    <a:lnTo>
                      <a:pt x="268" y="355"/>
                    </a:lnTo>
                    <a:lnTo>
                      <a:pt x="260" y="357"/>
                    </a:lnTo>
                    <a:lnTo>
                      <a:pt x="251" y="360"/>
                    </a:lnTo>
                    <a:lnTo>
                      <a:pt x="243" y="364"/>
                    </a:lnTo>
                    <a:lnTo>
                      <a:pt x="235" y="367"/>
                    </a:lnTo>
                    <a:lnTo>
                      <a:pt x="227" y="372"/>
                    </a:lnTo>
                    <a:lnTo>
                      <a:pt x="218" y="376"/>
                    </a:lnTo>
                    <a:lnTo>
                      <a:pt x="212" y="382"/>
                    </a:lnTo>
                    <a:lnTo>
                      <a:pt x="201" y="387"/>
                    </a:lnTo>
                    <a:lnTo>
                      <a:pt x="192" y="394"/>
                    </a:lnTo>
                    <a:lnTo>
                      <a:pt x="183" y="399"/>
                    </a:lnTo>
                    <a:lnTo>
                      <a:pt x="177" y="405"/>
                    </a:lnTo>
                    <a:lnTo>
                      <a:pt x="169" y="412"/>
                    </a:lnTo>
                    <a:lnTo>
                      <a:pt x="161" y="418"/>
                    </a:lnTo>
                    <a:lnTo>
                      <a:pt x="153" y="425"/>
                    </a:lnTo>
                    <a:lnTo>
                      <a:pt x="147" y="430"/>
                    </a:lnTo>
                    <a:lnTo>
                      <a:pt x="137" y="435"/>
                    </a:lnTo>
                    <a:lnTo>
                      <a:pt x="128" y="442"/>
                    </a:lnTo>
                    <a:lnTo>
                      <a:pt x="118" y="447"/>
                    </a:lnTo>
                    <a:lnTo>
                      <a:pt x="107" y="452"/>
                    </a:lnTo>
                    <a:lnTo>
                      <a:pt x="94" y="456"/>
                    </a:lnTo>
                    <a:lnTo>
                      <a:pt x="81" y="461"/>
                    </a:lnTo>
                    <a:lnTo>
                      <a:pt x="64" y="464"/>
                    </a:lnTo>
                    <a:lnTo>
                      <a:pt x="47" y="468"/>
                    </a:lnTo>
                    <a:lnTo>
                      <a:pt x="42" y="469"/>
                    </a:lnTo>
                    <a:lnTo>
                      <a:pt x="36" y="471"/>
                    </a:lnTo>
                    <a:lnTo>
                      <a:pt x="28" y="475"/>
                    </a:lnTo>
                    <a:lnTo>
                      <a:pt x="24" y="478"/>
                    </a:lnTo>
                    <a:lnTo>
                      <a:pt x="17" y="477"/>
                    </a:lnTo>
                    <a:lnTo>
                      <a:pt x="12" y="477"/>
                    </a:lnTo>
                    <a:lnTo>
                      <a:pt x="4" y="475"/>
                    </a:lnTo>
                    <a:lnTo>
                      <a:pt x="0" y="475"/>
                    </a:lnTo>
                    <a:lnTo>
                      <a:pt x="8" y="468"/>
                    </a:lnTo>
                    <a:lnTo>
                      <a:pt x="16" y="461"/>
                    </a:lnTo>
                    <a:lnTo>
                      <a:pt x="24" y="455"/>
                    </a:lnTo>
                    <a:lnTo>
                      <a:pt x="33" y="451"/>
                    </a:lnTo>
                    <a:lnTo>
                      <a:pt x="43" y="447"/>
                    </a:lnTo>
                    <a:lnTo>
                      <a:pt x="53" y="443"/>
                    </a:lnTo>
                    <a:lnTo>
                      <a:pt x="62" y="439"/>
                    </a:lnTo>
                    <a:lnTo>
                      <a:pt x="71" y="436"/>
                    </a:lnTo>
                    <a:lnTo>
                      <a:pt x="80" y="434"/>
                    </a:lnTo>
                    <a:lnTo>
                      <a:pt x="89" y="430"/>
                    </a:lnTo>
                    <a:lnTo>
                      <a:pt x="100" y="426"/>
                    </a:lnTo>
                    <a:lnTo>
                      <a:pt x="109" y="423"/>
                    </a:lnTo>
                    <a:lnTo>
                      <a:pt x="117" y="418"/>
                    </a:lnTo>
                    <a:lnTo>
                      <a:pt x="126" y="414"/>
                    </a:lnTo>
                    <a:lnTo>
                      <a:pt x="135" y="409"/>
                    </a:lnTo>
                    <a:lnTo>
                      <a:pt x="144" y="403"/>
                    </a:lnTo>
                    <a:lnTo>
                      <a:pt x="153" y="395"/>
                    </a:lnTo>
                    <a:lnTo>
                      <a:pt x="162" y="389"/>
                    </a:lnTo>
                    <a:lnTo>
                      <a:pt x="173" y="382"/>
                    </a:lnTo>
                    <a:lnTo>
                      <a:pt x="183" y="376"/>
                    </a:lnTo>
                    <a:lnTo>
                      <a:pt x="193" y="369"/>
                    </a:lnTo>
                    <a:lnTo>
                      <a:pt x="204" y="364"/>
                    </a:lnTo>
                    <a:lnTo>
                      <a:pt x="214" y="359"/>
                    </a:lnTo>
                    <a:lnTo>
                      <a:pt x="226" y="354"/>
                    </a:lnTo>
                    <a:lnTo>
                      <a:pt x="235" y="348"/>
                    </a:lnTo>
                    <a:lnTo>
                      <a:pt x="247" y="343"/>
                    </a:lnTo>
                    <a:lnTo>
                      <a:pt x="257" y="339"/>
                    </a:lnTo>
                    <a:lnTo>
                      <a:pt x="268" y="335"/>
                    </a:lnTo>
                    <a:lnTo>
                      <a:pt x="280" y="330"/>
                    </a:lnTo>
                    <a:lnTo>
                      <a:pt x="290" y="326"/>
                    </a:lnTo>
                    <a:lnTo>
                      <a:pt x="302" y="323"/>
                    </a:lnTo>
                    <a:lnTo>
                      <a:pt x="314" y="319"/>
                    </a:lnTo>
                    <a:lnTo>
                      <a:pt x="306" y="313"/>
                    </a:lnTo>
                    <a:lnTo>
                      <a:pt x="298" y="310"/>
                    </a:lnTo>
                    <a:lnTo>
                      <a:pt x="293" y="307"/>
                    </a:lnTo>
                    <a:lnTo>
                      <a:pt x="289" y="307"/>
                    </a:lnTo>
                    <a:lnTo>
                      <a:pt x="284" y="307"/>
                    </a:lnTo>
                    <a:lnTo>
                      <a:pt x="280" y="307"/>
                    </a:lnTo>
                    <a:lnTo>
                      <a:pt x="276" y="307"/>
                    </a:lnTo>
                    <a:lnTo>
                      <a:pt x="270" y="307"/>
                    </a:lnTo>
                    <a:lnTo>
                      <a:pt x="267" y="307"/>
                    </a:lnTo>
                    <a:lnTo>
                      <a:pt x="261" y="307"/>
                    </a:lnTo>
                    <a:lnTo>
                      <a:pt x="257" y="307"/>
                    </a:lnTo>
                    <a:lnTo>
                      <a:pt x="252" y="307"/>
                    </a:lnTo>
                    <a:lnTo>
                      <a:pt x="247" y="307"/>
                    </a:lnTo>
                    <a:lnTo>
                      <a:pt x="243" y="307"/>
                    </a:lnTo>
                    <a:lnTo>
                      <a:pt x="238" y="306"/>
                    </a:lnTo>
                    <a:lnTo>
                      <a:pt x="235" y="303"/>
                    </a:lnTo>
                    <a:lnTo>
                      <a:pt x="233" y="301"/>
                    </a:lnTo>
                    <a:lnTo>
                      <a:pt x="233" y="299"/>
                    </a:lnTo>
                    <a:lnTo>
                      <a:pt x="234" y="294"/>
                    </a:lnTo>
                    <a:lnTo>
                      <a:pt x="239" y="290"/>
                    </a:lnTo>
                    <a:lnTo>
                      <a:pt x="246" y="286"/>
                    </a:lnTo>
                    <a:lnTo>
                      <a:pt x="252" y="282"/>
                    </a:lnTo>
                    <a:lnTo>
                      <a:pt x="257" y="280"/>
                    </a:lnTo>
                    <a:lnTo>
                      <a:pt x="261" y="280"/>
                    </a:lnTo>
                    <a:lnTo>
                      <a:pt x="267" y="276"/>
                    </a:lnTo>
                    <a:lnTo>
                      <a:pt x="273" y="273"/>
                    </a:lnTo>
                    <a:lnTo>
                      <a:pt x="280" y="271"/>
                    </a:lnTo>
                    <a:lnTo>
                      <a:pt x="287" y="268"/>
                    </a:lnTo>
                    <a:lnTo>
                      <a:pt x="294" y="264"/>
                    </a:lnTo>
                    <a:lnTo>
                      <a:pt x="298" y="259"/>
                    </a:lnTo>
                    <a:lnTo>
                      <a:pt x="298" y="255"/>
                    </a:lnTo>
                    <a:lnTo>
                      <a:pt x="299" y="253"/>
                    </a:lnTo>
                    <a:lnTo>
                      <a:pt x="298" y="247"/>
                    </a:lnTo>
                    <a:lnTo>
                      <a:pt x="298" y="244"/>
                    </a:lnTo>
                    <a:lnTo>
                      <a:pt x="295" y="228"/>
                    </a:lnTo>
                    <a:lnTo>
                      <a:pt x="294" y="214"/>
                    </a:lnTo>
                    <a:lnTo>
                      <a:pt x="293" y="200"/>
                    </a:lnTo>
                    <a:lnTo>
                      <a:pt x="291" y="185"/>
                    </a:lnTo>
                    <a:lnTo>
                      <a:pt x="290" y="171"/>
                    </a:lnTo>
                    <a:lnTo>
                      <a:pt x="289" y="157"/>
                    </a:lnTo>
                    <a:lnTo>
                      <a:pt x="287" y="143"/>
                    </a:lnTo>
                    <a:lnTo>
                      <a:pt x="286" y="128"/>
                    </a:lnTo>
                    <a:lnTo>
                      <a:pt x="284" y="114"/>
                    </a:lnTo>
                    <a:lnTo>
                      <a:pt x="284" y="100"/>
                    </a:lnTo>
                    <a:lnTo>
                      <a:pt x="282" y="86"/>
                    </a:lnTo>
                    <a:lnTo>
                      <a:pt x="282" y="71"/>
                    </a:lnTo>
                    <a:lnTo>
                      <a:pt x="280" y="57"/>
                    </a:lnTo>
                    <a:lnTo>
                      <a:pt x="280" y="43"/>
                    </a:lnTo>
                    <a:lnTo>
                      <a:pt x="280" y="27"/>
                    </a:lnTo>
                    <a:lnTo>
                      <a:pt x="280" y="13"/>
                    </a:lnTo>
                    <a:lnTo>
                      <a:pt x="284" y="7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144560" y="3859920"/>
                <a:ext cx="16200" cy="42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6" y="0"/>
                    </a:moveTo>
                    <a:lnTo>
                      <a:pt x="11" y="1"/>
                    </a:lnTo>
                    <a:lnTo>
                      <a:pt x="15" y="4"/>
                    </a:lnTo>
                    <a:lnTo>
                      <a:pt x="19" y="8"/>
                    </a:lnTo>
                    <a:lnTo>
                      <a:pt x="23" y="11"/>
                    </a:lnTo>
                    <a:lnTo>
                      <a:pt x="26" y="15"/>
                    </a:lnTo>
                    <a:lnTo>
                      <a:pt x="27" y="21"/>
                    </a:lnTo>
                    <a:lnTo>
                      <a:pt x="28" y="26"/>
                    </a:lnTo>
                    <a:lnTo>
                      <a:pt x="30" y="32"/>
                    </a:lnTo>
                    <a:lnTo>
                      <a:pt x="28" y="37"/>
                    </a:lnTo>
                    <a:lnTo>
                      <a:pt x="28" y="44"/>
                    </a:lnTo>
                    <a:lnTo>
                      <a:pt x="27" y="49"/>
                    </a:lnTo>
                    <a:lnTo>
                      <a:pt x="27" y="55"/>
                    </a:lnTo>
                    <a:lnTo>
                      <a:pt x="24" y="59"/>
                    </a:lnTo>
                    <a:lnTo>
                      <a:pt x="23" y="65"/>
                    </a:lnTo>
                    <a:lnTo>
                      <a:pt x="20" y="70"/>
                    </a:lnTo>
                    <a:lnTo>
                      <a:pt x="19" y="74"/>
                    </a:lnTo>
                    <a:lnTo>
                      <a:pt x="14" y="74"/>
                    </a:lnTo>
                    <a:lnTo>
                      <a:pt x="10" y="75"/>
                    </a:lnTo>
                    <a:lnTo>
                      <a:pt x="5" y="75"/>
                    </a:lnTo>
                    <a:lnTo>
                      <a:pt x="2" y="78"/>
                    </a:lnTo>
                    <a:lnTo>
                      <a:pt x="2" y="72"/>
                    </a:lnTo>
                    <a:lnTo>
                      <a:pt x="2" y="67"/>
                    </a:lnTo>
                    <a:lnTo>
                      <a:pt x="2" y="62"/>
                    </a:lnTo>
                    <a:lnTo>
                      <a:pt x="2" y="58"/>
                    </a:lnTo>
                    <a:lnTo>
                      <a:pt x="2" y="53"/>
                    </a:lnTo>
                    <a:lnTo>
                      <a:pt x="3" y="49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5" y="22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a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003080" y="3569400"/>
                <a:ext cx="362160" cy="389520"/>
              </a:xfrm>
              <a:custGeom>
                <a:avLst/>
                <a:gdLst/>
                <a:ahLst/>
                <a:rect l="l" t="t" r="r" b="b"/>
                <a:pathLst>
                  <a:path w="616" h="690">
                    <a:moveTo>
                      <a:pt x="69" y="11"/>
                    </a:moveTo>
                    <a:lnTo>
                      <a:pt x="74" y="13"/>
                    </a:lnTo>
                    <a:lnTo>
                      <a:pt x="78" y="14"/>
                    </a:lnTo>
                    <a:lnTo>
                      <a:pt x="80" y="17"/>
                    </a:lnTo>
                    <a:lnTo>
                      <a:pt x="82" y="21"/>
                    </a:lnTo>
                    <a:lnTo>
                      <a:pt x="82" y="27"/>
                    </a:lnTo>
                    <a:lnTo>
                      <a:pt x="80" y="35"/>
                    </a:lnTo>
                    <a:lnTo>
                      <a:pt x="74" y="41"/>
                    </a:lnTo>
                    <a:lnTo>
                      <a:pt x="68" y="46"/>
                    </a:lnTo>
                    <a:lnTo>
                      <a:pt x="63" y="48"/>
                    </a:lnTo>
                    <a:lnTo>
                      <a:pt x="59" y="49"/>
                    </a:lnTo>
                    <a:lnTo>
                      <a:pt x="55" y="49"/>
                    </a:lnTo>
                    <a:lnTo>
                      <a:pt x="51" y="49"/>
                    </a:lnTo>
                    <a:lnTo>
                      <a:pt x="50" y="53"/>
                    </a:lnTo>
                    <a:lnTo>
                      <a:pt x="51" y="57"/>
                    </a:lnTo>
                    <a:lnTo>
                      <a:pt x="52" y="61"/>
                    </a:lnTo>
                    <a:lnTo>
                      <a:pt x="57" y="63"/>
                    </a:lnTo>
                    <a:lnTo>
                      <a:pt x="60" y="65"/>
                    </a:lnTo>
                    <a:lnTo>
                      <a:pt x="64" y="67"/>
                    </a:lnTo>
                    <a:lnTo>
                      <a:pt x="69" y="68"/>
                    </a:lnTo>
                    <a:lnTo>
                      <a:pt x="74" y="70"/>
                    </a:lnTo>
                    <a:lnTo>
                      <a:pt x="78" y="68"/>
                    </a:lnTo>
                    <a:lnTo>
                      <a:pt x="84" y="68"/>
                    </a:lnTo>
                    <a:lnTo>
                      <a:pt x="88" y="67"/>
                    </a:lnTo>
                    <a:lnTo>
                      <a:pt x="91" y="65"/>
                    </a:lnTo>
                    <a:lnTo>
                      <a:pt x="94" y="62"/>
                    </a:lnTo>
                    <a:lnTo>
                      <a:pt x="97" y="58"/>
                    </a:lnTo>
                    <a:lnTo>
                      <a:pt x="98" y="53"/>
                    </a:lnTo>
                    <a:lnTo>
                      <a:pt x="99" y="49"/>
                    </a:lnTo>
                    <a:lnTo>
                      <a:pt x="103" y="49"/>
                    </a:lnTo>
                    <a:lnTo>
                      <a:pt x="107" y="48"/>
                    </a:lnTo>
                    <a:lnTo>
                      <a:pt x="111" y="48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6" y="53"/>
                    </a:lnTo>
                    <a:lnTo>
                      <a:pt x="115" y="57"/>
                    </a:lnTo>
                    <a:lnTo>
                      <a:pt x="115" y="62"/>
                    </a:lnTo>
                    <a:lnTo>
                      <a:pt x="115" y="67"/>
                    </a:lnTo>
                    <a:lnTo>
                      <a:pt x="114" y="71"/>
                    </a:lnTo>
                    <a:lnTo>
                      <a:pt x="114" y="75"/>
                    </a:lnTo>
                    <a:lnTo>
                      <a:pt x="114" y="78"/>
                    </a:lnTo>
                    <a:lnTo>
                      <a:pt x="119" y="81"/>
                    </a:lnTo>
                    <a:lnTo>
                      <a:pt x="123" y="87"/>
                    </a:lnTo>
                    <a:lnTo>
                      <a:pt x="124" y="85"/>
                    </a:lnTo>
                    <a:lnTo>
                      <a:pt x="128" y="84"/>
                    </a:lnTo>
                    <a:lnTo>
                      <a:pt x="132" y="80"/>
                    </a:lnTo>
                    <a:lnTo>
                      <a:pt x="137" y="78"/>
                    </a:lnTo>
                    <a:lnTo>
                      <a:pt x="144" y="72"/>
                    </a:lnTo>
                    <a:lnTo>
                      <a:pt x="149" y="67"/>
                    </a:lnTo>
                    <a:lnTo>
                      <a:pt x="157" y="67"/>
                    </a:lnTo>
                    <a:lnTo>
                      <a:pt x="164" y="70"/>
                    </a:lnTo>
                    <a:lnTo>
                      <a:pt x="161" y="76"/>
                    </a:lnTo>
                    <a:lnTo>
                      <a:pt x="158" y="83"/>
                    </a:lnTo>
                    <a:lnTo>
                      <a:pt x="154" y="89"/>
                    </a:lnTo>
                    <a:lnTo>
                      <a:pt x="153" y="98"/>
                    </a:lnTo>
                    <a:lnTo>
                      <a:pt x="151" y="105"/>
                    </a:lnTo>
                    <a:lnTo>
                      <a:pt x="153" y="111"/>
                    </a:lnTo>
                    <a:lnTo>
                      <a:pt x="155" y="114"/>
                    </a:lnTo>
                    <a:lnTo>
                      <a:pt x="158" y="116"/>
                    </a:lnTo>
                    <a:lnTo>
                      <a:pt x="162" y="119"/>
                    </a:lnTo>
                    <a:lnTo>
                      <a:pt x="168" y="120"/>
                    </a:lnTo>
                    <a:lnTo>
                      <a:pt x="175" y="124"/>
                    </a:lnTo>
                    <a:lnTo>
                      <a:pt x="180" y="124"/>
                    </a:lnTo>
                    <a:lnTo>
                      <a:pt x="185" y="120"/>
                    </a:lnTo>
                    <a:lnTo>
                      <a:pt x="189" y="116"/>
                    </a:lnTo>
                    <a:lnTo>
                      <a:pt x="192" y="110"/>
                    </a:lnTo>
                    <a:lnTo>
                      <a:pt x="196" y="105"/>
                    </a:lnTo>
                    <a:lnTo>
                      <a:pt x="200" y="101"/>
                    </a:lnTo>
                    <a:lnTo>
                      <a:pt x="208" y="100"/>
                    </a:lnTo>
                    <a:lnTo>
                      <a:pt x="211" y="105"/>
                    </a:lnTo>
                    <a:lnTo>
                      <a:pt x="219" y="112"/>
                    </a:lnTo>
                    <a:lnTo>
                      <a:pt x="218" y="118"/>
                    </a:lnTo>
                    <a:lnTo>
                      <a:pt x="214" y="123"/>
                    </a:lnTo>
                    <a:lnTo>
                      <a:pt x="209" y="128"/>
                    </a:lnTo>
                    <a:lnTo>
                      <a:pt x="205" y="133"/>
                    </a:lnTo>
                    <a:lnTo>
                      <a:pt x="200" y="137"/>
                    </a:lnTo>
                    <a:lnTo>
                      <a:pt x="197" y="144"/>
                    </a:lnTo>
                    <a:lnTo>
                      <a:pt x="198" y="147"/>
                    </a:lnTo>
                    <a:lnTo>
                      <a:pt x="205" y="155"/>
                    </a:lnTo>
                    <a:lnTo>
                      <a:pt x="211" y="160"/>
                    </a:lnTo>
                    <a:lnTo>
                      <a:pt x="219" y="166"/>
                    </a:lnTo>
                    <a:lnTo>
                      <a:pt x="226" y="168"/>
                    </a:lnTo>
                    <a:lnTo>
                      <a:pt x="234" y="169"/>
                    </a:lnTo>
                    <a:lnTo>
                      <a:pt x="240" y="169"/>
                    </a:lnTo>
                    <a:lnTo>
                      <a:pt x="249" y="168"/>
                    </a:lnTo>
                    <a:lnTo>
                      <a:pt x="256" y="164"/>
                    </a:lnTo>
                    <a:lnTo>
                      <a:pt x="265" y="159"/>
                    </a:lnTo>
                    <a:lnTo>
                      <a:pt x="270" y="166"/>
                    </a:lnTo>
                    <a:lnTo>
                      <a:pt x="277" y="173"/>
                    </a:lnTo>
                    <a:lnTo>
                      <a:pt x="273" y="177"/>
                    </a:lnTo>
                    <a:lnTo>
                      <a:pt x="268" y="184"/>
                    </a:lnTo>
                    <a:lnTo>
                      <a:pt x="261" y="191"/>
                    </a:lnTo>
                    <a:lnTo>
                      <a:pt x="258" y="198"/>
                    </a:lnTo>
                    <a:lnTo>
                      <a:pt x="264" y="204"/>
                    </a:lnTo>
                    <a:lnTo>
                      <a:pt x="270" y="211"/>
                    </a:lnTo>
                    <a:lnTo>
                      <a:pt x="277" y="215"/>
                    </a:lnTo>
                    <a:lnTo>
                      <a:pt x="283" y="216"/>
                    </a:lnTo>
                    <a:lnTo>
                      <a:pt x="288" y="212"/>
                    </a:lnTo>
                    <a:lnTo>
                      <a:pt x="295" y="208"/>
                    </a:lnTo>
                    <a:lnTo>
                      <a:pt x="299" y="203"/>
                    </a:lnTo>
                    <a:lnTo>
                      <a:pt x="305" y="198"/>
                    </a:lnTo>
                    <a:lnTo>
                      <a:pt x="311" y="195"/>
                    </a:lnTo>
                    <a:lnTo>
                      <a:pt x="317" y="195"/>
                    </a:lnTo>
                    <a:lnTo>
                      <a:pt x="318" y="197"/>
                    </a:lnTo>
                    <a:lnTo>
                      <a:pt x="321" y="201"/>
                    </a:lnTo>
                    <a:lnTo>
                      <a:pt x="324" y="204"/>
                    </a:lnTo>
                    <a:lnTo>
                      <a:pt x="326" y="211"/>
                    </a:lnTo>
                    <a:lnTo>
                      <a:pt x="322" y="215"/>
                    </a:lnTo>
                    <a:lnTo>
                      <a:pt x="318" y="223"/>
                    </a:lnTo>
                    <a:lnTo>
                      <a:pt x="317" y="226"/>
                    </a:lnTo>
                    <a:lnTo>
                      <a:pt x="316" y="230"/>
                    </a:lnTo>
                    <a:lnTo>
                      <a:pt x="315" y="234"/>
                    </a:lnTo>
                    <a:lnTo>
                      <a:pt x="315" y="237"/>
                    </a:lnTo>
                    <a:lnTo>
                      <a:pt x="321" y="243"/>
                    </a:lnTo>
                    <a:lnTo>
                      <a:pt x="329" y="248"/>
                    </a:lnTo>
                    <a:lnTo>
                      <a:pt x="330" y="247"/>
                    </a:lnTo>
                    <a:lnTo>
                      <a:pt x="334" y="245"/>
                    </a:lnTo>
                    <a:lnTo>
                      <a:pt x="338" y="243"/>
                    </a:lnTo>
                    <a:lnTo>
                      <a:pt x="342" y="241"/>
                    </a:lnTo>
                    <a:lnTo>
                      <a:pt x="346" y="237"/>
                    </a:lnTo>
                    <a:lnTo>
                      <a:pt x="351" y="235"/>
                    </a:lnTo>
                    <a:lnTo>
                      <a:pt x="354" y="233"/>
                    </a:lnTo>
                    <a:lnTo>
                      <a:pt x="358" y="232"/>
                    </a:lnTo>
                    <a:lnTo>
                      <a:pt x="363" y="235"/>
                    </a:lnTo>
                    <a:lnTo>
                      <a:pt x="371" y="241"/>
                    </a:lnTo>
                    <a:lnTo>
                      <a:pt x="373" y="247"/>
                    </a:lnTo>
                    <a:lnTo>
                      <a:pt x="371" y="254"/>
                    </a:lnTo>
                    <a:lnTo>
                      <a:pt x="367" y="259"/>
                    </a:lnTo>
                    <a:lnTo>
                      <a:pt x="361" y="263"/>
                    </a:lnTo>
                    <a:lnTo>
                      <a:pt x="356" y="265"/>
                    </a:lnTo>
                    <a:lnTo>
                      <a:pt x="354" y="270"/>
                    </a:lnTo>
                    <a:lnTo>
                      <a:pt x="352" y="273"/>
                    </a:lnTo>
                    <a:lnTo>
                      <a:pt x="354" y="276"/>
                    </a:lnTo>
                    <a:lnTo>
                      <a:pt x="358" y="278"/>
                    </a:lnTo>
                    <a:lnTo>
                      <a:pt x="363" y="282"/>
                    </a:lnTo>
                    <a:lnTo>
                      <a:pt x="367" y="286"/>
                    </a:lnTo>
                    <a:lnTo>
                      <a:pt x="371" y="289"/>
                    </a:lnTo>
                    <a:lnTo>
                      <a:pt x="376" y="289"/>
                    </a:lnTo>
                    <a:lnTo>
                      <a:pt x="382" y="289"/>
                    </a:lnTo>
                    <a:lnTo>
                      <a:pt x="388" y="286"/>
                    </a:lnTo>
                    <a:lnTo>
                      <a:pt x="393" y="283"/>
                    </a:lnTo>
                    <a:lnTo>
                      <a:pt x="398" y="278"/>
                    </a:lnTo>
                    <a:lnTo>
                      <a:pt x="402" y="274"/>
                    </a:lnTo>
                    <a:lnTo>
                      <a:pt x="410" y="277"/>
                    </a:lnTo>
                    <a:lnTo>
                      <a:pt x="416" y="282"/>
                    </a:lnTo>
                    <a:lnTo>
                      <a:pt x="418" y="287"/>
                    </a:lnTo>
                    <a:lnTo>
                      <a:pt x="415" y="294"/>
                    </a:lnTo>
                    <a:lnTo>
                      <a:pt x="411" y="299"/>
                    </a:lnTo>
                    <a:lnTo>
                      <a:pt x="407" y="305"/>
                    </a:lnTo>
                    <a:lnTo>
                      <a:pt x="403" y="311"/>
                    </a:lnTo>
                    <a:lnTo>
                      <a:pt x="403" y="316"/>
                    </a:lnTo>
                    <a:lnTo>
                      <a:pt x="403" y="318"/>
                    </a:lnTo>
                    <a:lnTo>
                      <a:pt x="406" y="321"/>
                    </a:lnTo>
                    <a:lnTo>
                      <a:pt x="407" y="324"/>
                    </a:lnTo>
                    <a:lnTo>
                      <a:pt x="414" y="326"/>
                    </a:lnTo>
                    <a:lnTo>
                      <a:pt x="415" y="330"/>
                    </a:lnTo>
                    <a:lnTo>
                      <a:pt x="418" y="334"/>
                    </a:lnTo>
                    <a:lnTo>
                      <a:pt x="420" y="335"/>
                    </a:lnTo>
                    <a:lnTo>
                      <a:pt x="423" y="335"/>
                    </a:lnTo>
                    <a:lnTo>
                      <a:pt x="427" y="334"/>
                    </a:lnTo>
                    <a:lnTo>
                      <a:pt x="432" y="331"/>
                    </a:lnTo>
                    <a:lnTo>
                      <a:pt x="436" y="326"/>
                    </a:lnTo>
                    <a:lnTo>
                      <a:pt x="442" y="324"/>
                    </a:lnTo>
                    <a:lnTo>
                      <a:pt x="448" y="322"/>
                    </a:lnTo>
                    <a:lnTo>
                      <a:pt x="454" y="325"/>
                    </a:lnTo>
                    <a:lnTo>
                      <a:pt x="457" y="334"/>
                    </a:lnTo>
                    <a:lnTo>
                      <a:pt x="455" y="340"/>
                    </a:lnTo>
                    <a:lnTo>
                      <a:pt x="450" y="347"/>
                    </a:lnTo>
                    <a:lnTo>
                      <a:pt x="446" y="355"/>
                    </a:lnTo>
                    <a:lnTo>
                      <a:pt x="442" y="360"/>
                    </a:lnTo>
                    <a:lnTo>
                      <a:pt x="440" y="366"/>
                    </a:lnTo>
                    <a:lnTo>
                      <a:pt x="441" y="370"/>
                    </a:lnTo>
                    <a:lnTo>
                      <a:pt x="444" y="373"/>
                    </a:lnTo>
                    <a:lnTo>
                      <a:pt x="448" y="377"/>
                    </a:lnTo>
                    <a:lnTo>
                      <a:pt x="454" y="382"/>
                    </a:lnTo>
                    <a:lnTo>
                      <a:pt x="459" y="384"/>
                    </a:lnTo>
                    <a:lnTo>
                      <a:pt x="466" y="387"/>
                    </a:lnTo>
                    <a:lnTo>
                      <a:pt x="472" y="387"/>
                    </a:lnTo>
                    <a:lnTo>
                      <a:pt x="479" y="386"/>
                    </a:lnTo>
                    <a:lnTo>
                      <a:pt x="485" y="383"/>
                    </a:lnTo>
                    <a:lnTo>
                      <a:pt x="492" y="379"/>
                    </a:lnTo>
                    <a:lnTo>
                      <a:pt x="498" y="377"/>
                    </a:lnTo>
                    <a:lnTo>
                      <a:pt x="505" y="375"/>
                    </a:lnTo>
                    <a:lnTo>
                      <a:pt x="512" y="380"/>
                    </a:lnTo>
                    <a:lnTo>
                      <a:pt x="517" y="387"/>
                    </a:lnTo>
                    <a:lnTo>
                      <a:pt x="517" y="391"/>
                    </a:lnTo>
                    <a:lnTo>
                      <a:pt x="515" y="393"/>
                    </a:lnTo>
                    <a:lnTo>
                      <a:pt x="513" y="396"/>
                    </a:lnTo>
                    <a:lnTo>
                      <a:pt x="512" y="399"/>
                    </a:lnTo>
                    <a:lnTo>
                      <a:pt x="506" y="401"/>
                    </a:lnTo>
                    <a:lnTo>
                      <a:pt x="500" y="404"/>
                    </a:lnTo>
                    <a:lnTo>
                      <a:pt x="493" y="406"/>
                    </a:lnTo>
                    <a:lnTo>
                      <a:pt x="491" y="412"/>
                    </a:lnTo>
                    <a:lnTo>
                      <a:pt x="491" y="414"/>
                    </a:lnTo>
                    <a:lnTo>
                      <a:pt x="492" y="417"/>
                    </a:lnTo>
                    <a:lnTo>
                      <a:pt x="495" y="421"/>
                    </a:lnTo>
                    <a:lnTo>
                      <a:pt x="498" y="427"/>
                    </a:lnTo>
                    <a:lnTo>
                      <a:pt x="502" y="431"/>
                    </a:lnTo>
                    <a:lnTo>
                      <a:pt x="506" y="434"/>
                    </a:lnTo>
                    <a:lnTo>
                      <a:pt x="509" y="436"/>
                    </a:lnTo>
                    <a:lnTo>
                      <a:pt x="513" y="439"/>
                    </a:lnTo>
                    <a:lnTo>
                      <a:pt x="521" y="440"/>
                    </a:lnTo>
                    <a:lnTo>
                      <a:pt x="530" y="440"/>
                    </a:lnTo>
                    <a:lnTo>
                      <a:pt x="534" y="439"/>
                    </a:lnTo>
                    <a:lnTo>
                      <a:pt x="539" y="439"/>
                    </a:lnTo>
                    <a:lnTo>
                      <a:pt x="543" y="436"/>
                    </a:lnTo>
                    <a:lnTo>
                      <a:pt x="547" y="436"/>
                    </a:lnTo>
                    <a:lnTo>
                      <a:pt x="552" y="436"/>
                    </a:lnTo>
                    <a:lnTo>
                      <a:pt x="556" y="436"/>
                    </a:lnTo>
                    <a:lnTo>
                      <a:pt x="561" y="436"/>
                    </a:lnTo>
                    <a:lnTo>
                      <a:pt x="565" y="437"/>
                    </a:lnTo>
                    <a:lnTo>
                      <a:pt x="568" y="441"/>
                    </a:lnTo>
                    <a:lnTo>
                      <a:pt x="569" y="445"/>
                    </a:lnTo>
                    <a:lnTo>
                      <a:pt x="569" y="448"/>
                    </a:lnTo>
                    <a:lnTo>
                      <a:pt x="569" y="452"/>
                    </a:lnTo>
                    <a:lnTo>
                      <a:pt x="564" y="454"/>
                    </a:lnTo>
                    <a:lnTo>
                      <a:pt x="557" y="458"/>
                    </a:lnTo>
                    <a:lnTo>
                      <a:pt x="551" y="459"/>
                    </a:lnTo>
                    <a:lnTo>
                      <a:pt x="547" y="463"/>
                    </a:lnTo>
                    <a:lnTo>
                      <a:pt x="544" y="466"/>
                    </a:lnTo>
                    <a:lnTo>
                      <a:pt x="544" y="470"/>
                    </a:lnTo>
                    <a:lnTo>
                      <a:pt x="544" y="474"/>
                    </a:lnTo>
                    <a:lnTo>
                      <a:pt x="548" y="480"/>
                    </a:lnTo>
                    <a:lnTo>
                      <a:pt x="548" y="487"/>
                    </a:lnTo>
                    <a:lnTo>
                      <a:pt x="551" y="494"/>
                    </a:lnTo>
                    <a:lnTo>
                      <a:pt x="553" y="500"/>
                    </a:lnTo>
                    <a:lnTo>
                      <a:pt x="560" y="503"/>
                    </a:lnTo>
                    <a:lnTo>
                      <a:pt x="565" y="506"/>
                    </a:lnTo>
                    <a:lnTo>
                      <a:pt x="573" y="507"/>
                    </a:lnTo>
                    <a:lnTo>
                      <a:pt x="581" y="507"/>
                    </a:lnTo>
                    <a:lnTo>
                      <a:pt x="588" y="506"/>
                    </a:lnTo>
                    <a:lnTo>
                      <a:pt x="588" y="514"/>
                    </a:lnTo>
                    <a:lnTo>
                      <a:pt x="588" y="520"/>
                    </a:lnTo>
                    <a:lnTo>
                      <a:pt x="581" y="519"/>
                    </a:lnTo>
                    <a:lnTo>
                      <a:pt x="574" y="520"/>
                    </a:lnTo>
                    <a:lnTo>
                      <a:pt x="569" y="523"/>
                    </a:lnTo>
                    <a:lnTo>
                      <a:pt x="565" y="527"/>
                    </a:lnTo>
                    <a:lnTo>
                      <a:pt x="561" y="531"/>
                    </a:lnTo>
                    <a:lnTo>
                      <a:pt x="558" y="535"/>
                    </a:lnTo>
                    <a:lnTo>
                      <a:pt x="556" y="540"/>
                    </a:lnTo>
                    <a:lnTo>
                      <a:pt x="556" y="547"/>
                    </a:lnTo>
                    <a:lnTo>
                      <a:pt x="556" y="553"/>
                    </a:lnTo>
                    <a:lnTo>
                      <a:pt x="556" y="558"/>
                    </a:lnTo>
                    <a:lnTo>
                      <a:pt x="557" y="563"/>
                    </a:lnTo>
                    <a:lnTo>
                      <a:pt x="561" y="569"/>
                    </a:lnTo>
                    <a:lnTo>
                      <a:pt x="564" y="573"/>
                    </a:lnTo>
                    <a:lnTo>
                      <a:pt x="568" y="577"/>
                    </a:lnTo>
                    <a:lnTo>
                      <a:pt x="573" y="579"/>
                    </a:lnTo>
                    <a:lnTo>
                      <a:pt x="581" y="581"/>
                    </a:lnTo>
                    <a:lnTo>
                      <a:pt x="582" y="580"/>
                    </a:lnTo>
                    <a:lnTo>
                      <a:pt x="587" y="579"/>
                    </a:lnTo>
                    <a:lnTo>
                      <a:pt x="591" y="576"/>
                    </a:lnTo>
                    <a:lnTo>
                      <a:pt x="598" y="576"/>
                    </a:lnTo>
                    <a:lnTo>
                      <a:pt x="602" y="575"/>
                    </a:lnTo>
                    <a:lnTo>
                      <a:pt x="608" y="575"/>
                    </a:lnTo>
                    <a:lnTo>
                      <a:pt x="612" y="575"/>
                    </a:lnTo>
                    <a:lnTo>
                      <a:pt x="616" y="575"/>
                    </a:lnTo>
                    <a:lnTo>
                      <a:pt x="613" y="581"/>
                    </a:lnTo>
                    <a:lnTo>
                      <a:pt x="612" y="589"/>
                    </a:lnTo>
                    <a:lnTo>
                      <a:pt x="605" y="589"/>
                    </a:lnTo>
                    <a:lnTo>
                      <a:pt x="599" y="592"/>
                    </a:lnTo>
                    <a:lnTo>
                      <a:pt x="592" y="595"/>
                    </a:lnTo>
                    <a:lnTo>
                      <a:pt x="588" y="602"/>
                    </a:lnTo>
                    <a:lnTo>
                      <a:pt x="583" y="606"/>
                    </a:lnTo>
                    <a:lnTo>
                      <a:pt x="582" y="614"/>
                    </a:lnTo>
                    <a:lnTo>
                      <a:pt x="579" y="619"/>
                    </a:lnTo>
                    <a:lnTo>
                      <a:pt x="581" y="626"/>
                    </a:lnTo>
                    <a:lnTo>
                      <a:pt x="582" y="625"/>
                    </a:lnTo>
                    <a:lnTo>
                      <a:pt x="586" y="625"/>
                    </a:lnTo>
                    <a:lnTo>
                      <a:pt x="590" y="625"/>
                    </a:lnTo>
                    <a:lnTo>
                      <a:pt x="594" y="625"/>
                    </a:lnTo>
                    <a:lnTo>
                      <a:pt x="599" y="625"/>
                    </a:lnTo>
                    <a:lnTo>
                      <a:pt x="604" y="625"/>
                    </a:lnTo>
                    <a:lnTo>
                      <a:pt x="608" y="625"/>
                    </a:lnTo>
                    <a:lnTo>
                      <a:pt x="612" y="625"/>
                    </a:lnTo>
                    <a:lnTo>
                      <a:pt x="612" y="632"/>
                    </a:lnTo>
                    <a:lnTo>
                      <a:pt x="615" y="639"/>
                    </a:lnTo>
                    <a:lnTo>
                      <a:pt x="612" y="639"/>
                    </a:lnTo>
                    <a:lnTo>
                      <a:pt x="608" y="642"/>
                    </a:lnTo>
                    <a:lnTo>
                      <a:pt x="604" y="645"/>
                    </a:lnTo>
                    <a:lnTo>
                      <a:pt x="600" y="648"/>
                    </a:lnTo>
                    <a:lnTo>
                      <a:pt x="592" y="655"/>
                    </a:lnTo>
                    <a:lnTo>
                      <a:pt x="588" y="660"/>
                    </a:lnTo>
                    <a:lnTo>
                      <a:pt x="588" y="664"/>
                    </a:lnTo>
                    <a:lnTo>
                      <a:pt x="592" y="669"/>
                    </a:lnTo>
                    <a:lnTo>
                      <a:pt x="596" y="672"/>
                    </a:lnTo>
                    <a:lnTo>
                      <a:pt x="602" y="674"/>
                    </a:lnTo>
                    <a:lnTo>
                      <a:pt x="605" y="677"/>
                    </a:lnTo>
                    <a:lnTo>
                      <a:pt x="608" y="681"/>
                    </a:lnTo>
                    <a:lnTo>
                      <a:pt x="608" y="685"/>
                    </a:lnTo>
                    <a:lnTo>
                      <a:pt x="607" y="690"/>
                    </a:lnTo>
                    <a:lnTo>
                      <a:pt x="602" y="690"/>
                    </a:lnTo>
                    <a:lnTo>
                      <a:pt x="598" y="690"/>
                    </a:lnTo>
                    <a:lnTo>
                      <a:pt x="592" y="687"/>
                    </a:lnTo>
                    <a:lnTo>
                      <a:pt x="588" y="686"/>
                    </a:lnTo>
                    <a:lnTo>
                      <a:pt x="585" y="683"/>
                    </a:lnTo>
                    <a:lnTo>
                      <a:pt x="583" y="682"/>
                    </a:lnTo>
                    <a:lnTo>
                      <a:pt x="577" y="677"/>
                    </a:lnTo>
                    <a:lnTo>
                      <a:pt x="574" y="670"/>
                    </a:lnTo>
                    <a:lnTo>
                      <a:pt x="572" y="664"/>
                    </a:lnTo>
                    <a:lnTo>
                      <a:pt x="572" y="658"/>
                    </a:lnTo>
                    <a:lnTo>
                      <a:pt x="572" y="650"/>
                    </a:lnTo>
                    <a:lnTo>
                      <a:pt x="573" y="642"/>
                    </a:lnTo>
                    <a:lnTo>
                      <a:pt x="566" y="636"/>
                    </a:lnTo>
                    <a:lnTo>
                      <a:pt x="564" y="630"/>
                    </a:lnTo>
                    <a:lnTo>
                      <a:pt x="561" y="625"/>
                    </a:lnTo>
                    <a:lnTo>
                      <a:pt x="562" y="620"/>
                    </a:lnTo>
                    <a:lnTo>
                      <a:pt x="564" y="614"/>
                    </a:lnTo>
                    <a:lnTo>
                      <a:pt x="566" y="607"/>
                    </a:lnTo>
                    <a:lnTo>
                      <a:pt x="569" y="602"/>
                    </a:lnTo>
                    <a:lnTo>
                      <a:pt x="573" y="595"/>
                    </a:lnTo>
                    <a:lnTo>
                      <a:pt x="568" y="594"/>
                    </a:lnTo>
                    <a:lnTo>
                      <a:pt x="562" y="592"/>
                    </a:lnTo>
                    <a:lnTo>
                      <a:pt x="557" y="588"/>
                    </a:lnTo>
                    <a:lnTo>
                      <a:pt x="553" y="585"/>
                    </a:lnTo>
                    <a:lnTo>
                      <a:pt x="549" y="580"/>
                    </a:lnTo>
                    <a:lnTo>
                      <a:pt x="547" y="575"/>
                    </a:lnTo>
                    <a:lnTo>
                      <a:pt x="544" y="571"/>
                    </a:lnTo>
                    <a:lnTo>
                      <a:pt x="543" y="566"/>
                    </a:lnTo>
                    <a:lnTo>
                      <a:pt x="540" y="559"/>
                    </a:lnTo>
                    <a:lnTo>
                      <a:pt x="540" y="554"/>
                    </a:lnTo>
                    <a:lnTo>
                      <a:pt x="540" y="547"/>
                    </a:lnTo>
                    <a:lnTo>
                      <a:pt x="540" y="544"/>
                    </a:lnTo>
                    <a:lnTo>
                      <a:pt x="540" y="537"/>
                    </a:lnTo>
                    <a:lnTo>
                      <a:pt x="543" y="532"/>
                    </a:lnTo>
                    <a:lnTo>
                      <a:pt x="544" y="528"/>
                    </a:lnTo>
                    <a:lnTo>
                      <a:pt x="548" y="524"/>
                    </a:lnTo>
                    <a:lnTo>
                      <a:pt x="544" y="515"/>
                    </a:lnTo>
                    <a:lnTo>
                      <a:pt x="540" y="507"/>
                    </a:lnTo>
                    <a:lnTo>
                      <a:pt x="538" y="500"/>
                    </a:lnTo>
                    <a:lnTo>
                      <a:pt x="535" y="492"/>
                    </a:lnTo>
                    <a:lnTo>
                      <a:pt x="534" y="488"/>
                    </a:lnTo>
                    <a:lnTo>
                      <a:pt x="532" y="484"/>
                    </a:lnTo>
                    <a:lnTo>
                      <a:pt x="532" y="479"/>
                    </a:lnTo>
                    <a:lnTo>
                      <a:pt x="532" y="475"/>
                    </a:lnTo>
                    <a:lnTo>
                      <a:pt x="531" y="471"/>
                    </a:lnTo>
                    <a:lnTo>
                      <a:pt x="531" y="467"/>
                    </a:lnTo>
                    <a:lnTo>
                      <a:pt x="532" y="462"/>
                    </a:lnTo>
                    <a:lnTo>
                      <a:pt x="534" y="458"/>
                    </a:lnTo>
                    <a:lnTo>
                      <a:pt x="527" y="457"/>
                    </a:lnTo>
                    <a:lnTo>
                      <a:pt x="523" y="456"/>
                    </a:lnTo>
                    <a:lnTo>
                      <a:pt x="517" y="454"/>
                    </a:lnTo>
                    <a:lnTo>
                      <a:pt x="512" y="453"/>
                    </a:lnTo>
                    <a:lnTo>
                      <a:pt x="506" y="450"/>
                    </a:lnTo>
                    <a:lnTo>
                      <a:pt x="502" y="448"/>
                    </a:lnTo>
                    <a:lnTo>
                      <a:pt x="497" y="445"/>
                    </a:lnTo>
                    <a:lnTo>
                      <a:pt x="493" y="443"/>
                    </a:lnTo>
                    <a:lnTo>
                      <a:pt x="488" y="439"/>
                    </a:lnTo>
                    <a:lnTo>
                      <a:pt x="484" y="435"/>
                    </a:lnTo>
                    <a:lnTo>
                      <a:pt x="482" y="431"/>
                    </a:lnTo>
                    <a:lnTo>
                      <a:pt x="479" y="426"/>
                    </a:lnTo>
                    <a:lnTo>
                      <a:pt x="476" y="421"/>
                    </a:lnTo>
                    <a:lnTo>
                      <a:pt x="475" y="415"/>
                    </a:lnTo>
                    <a:lnTo>
                      <a:pt x="475" y="410"/>
                    </a:lnTo>
                    <a:lnTo>
                      <a:pt x="475" y="405"/>
                    </a:lnTo>
                    <a:lnTo>
                      <a:pt x="465" y="402"/>
                    </a:lnTo>
                    <a:lnTo>
                      <a:pt x="455" y="399"/>
                    </a:lnTo>
                    <a:lnTo>
                      <a:pt x="448" y="392"/>
                    </a:lnTo>
                    <a:lnTo>
                      <a:pt x="442" y="387"/>
                    </a:lnTo>
                    <a:lnTo>
                      <a:pt x="435" y="380"/>
                    </a:lnTo>
                    <a:lnTo>
                      <a:pt x="429" y="373"/>
                    </a:lnTo>
                    <a:lnTo>
                      <a:pt x="423" y="366"/>
                    </a:lnTo>
                    <a:lnTo>
                      <a:pt x="418" y="358"/>
                    </a:lnTo>
                    <a:lnTo>
                      <a:pt x="411" y="349"/>
                    </a:lnTo>
                    <a:lnTo>
                      <a:pt x="406" y="340"/>
                    </a:lnTo>
                    <a:lnTo>
                      <a:pt x="401" y="334"/>
                    </a:lnTo>
                    <a:lnTo>
                      <a:pt x="395" y="326"/>
                    </a:lnTo>
                    <a:lnTo>
                      <a:pt x="388" y="318"/>
                    </a:lnTo>
                    <a:lnTo>
                      <a:pt x="382" y="312"/>
                    </a:lnTo>
                    <a:lnTo>
                      <a:pt x="375" y="307"/>
                    </a:lnTo>
                    <a:lnTo>
                      <a:pt x="367" y="303"/>
                    </a:lnTo>
                    <a:lnTo>
                      <a:pt x="361" y="299"/>
                    </a:lnTo>
                    <a:lnTo>
                      <a:pt x="356" y="296"/>
                    </a:lnTo>
                    <a:lnTo>
                      <a:pt x="352" y="292"/>
                    </a:lnTo>
                    <a:lnTo>
                      <a:pt x="350" y="290"/>
                    </a:lnTo>
                    <a:lnTo>
                      <a:pt x="342" y="282"/>
                    </a:lnTo>
                    <a:lnTo>
                      <a:pt x="337" y="276"/>
                    </a:lnTo>
                    <a:lnTo>
                      <a:pt x="329" y="268"/>
                    </a:lnTo>
                    <a:lnTo>
                      <a:pt x="322" y="260"/>
                    </a:lnTo>
                    <a:lnTo>
                      <a:pt x="318" y="257"/>
                    </a:lnTo>
                    <a:lnTo>
                      <a:pt x="315" y="255"/>
                    </a:lnTo>
                    <a:lnTo>
                      <a:pt x="311" y="252"/>
                    </a:lnTo>
                    <a:lnTo>
                      <a:pt x="307" y="251"/>
                    </a:lnTo>
                    <a:lnTo>
                      <a:pt x="303" y="245"/>
                    </a:lnTo>
                    <a:lnTo>
                      <a:pt x="300" y="241"/>
                    </a:lnTo>
                    <a:lnTo>
                      <a:pt x="296" y="237"/>
                    </a:lnTo>
                    <a:lnTo>
                      <a:pt x="292" y="234"/>
                    </a:lnTo>
                    <a:lnTo>
                      <a:pt x="288" y="232"/>
                    </a:lnTo>
                    <a:lnTo>
                      <a:pt x="283" y="229"/>
                    </a:lnTo>
                    <a:lnTo>
                      <a:pt x="278" y="228"/>
                    </a:lnTo>
                    <a:lnTo>
                      <a:pt x="273" y="226"/>
                    </a:lnTo>
                    <a:lnTo>
                      <a:pt x="268" y="224"/>
                    </a:lnTo>
                    <a:lnTo>
                      <a:pt x="264" y="223"/>
                    </a:lnTo>
                    <a:lnTo>
                      <a:pt x="258" y="220"/>
                    </a:lnTo>
                    <a:lnTo>
                      <a:pt x="254" y="219"/>
                    </a:lnTo>
                    <a:lnTo>
                      <a:pt x="249" y="216"/>
                    </a:lnTo>
                    <a:lnTo>
                      <a:pt x="247" y="212"/>
                    </a:lnTo>
                    <a:lnTo>
                      <a:pt x="244" y="207"/>
                    </a:lnTo>
                    <a:lnTo>
                      <a:pt x="243" y="203"/>
                    </a:lnTo>
                    <a:lnTo>
                      <a:pt x="240" y="197"/>
                    </a:lnTo>
                    <a:lnTo>
                      <a:pt x="236" y="193"/>
                    </a:lnTo>
                    <a:lnTo>
                      <a:pt x="232" y="189"/>
                    </a:lnTo>
                    <a:lnTo>
                      <a:pt x="230" y="188"/>
                    </a:lnTo>
                    <a:lnTo>
                      <a:pt x="224" y="184"/>
                    </a:lnTo>
                    <a:lnTo>
                      <a:pt x="221" y="181"/>
                    </a:lnTo>
                    <a:lnTo>
                      <a:pt x="217" y="180"/>
                    </a:lnTo>
                    <a:lnTo>
                      <a:pt x="213" y="179"/>
                    </a:lnTo>
                    <a:lnTo>
                      <a:pt x="208" y="175"/>
                    </a:lnTo>
                    <a:lnTo>
                      <a:pt x="204" y="172"/>
                    </a:lnTo>
                    <a:lnTo>
                      <a:pt x="198" y="169"/>
                    </a:lnTo>
                    <a:lnTo>
                      <a:pt x="196" y="168"/>
                    </a:lnTo>
                    <a:lnTo>
                      <a:pt x="191" y="164"/>
                    </a:lnTo>
                    <a:lnTo>
                      <a:pt x="188" y="160"/>
                    </a:lnTo>
                    <a:lnTo>
                      <a:pt x="185" y="155"/>
                    </a:lnTo>
                    <a:lnTo>
                      <a:pt x="184" y="151"/>
                    </a:lnTo>
                    <a:lnTo>
                      <a:pt x="176" y="144"/>
                    </a:lnTo>
                    <a:lnTo>
                      <a:pt x="170" y="137"/>
                    </a:lnTo>
                    <a:lnTo>
                      <a:pt x="163" y="133"/>
                    </a:lnTo>
                    <a:lnTo>
                      <a:pt x="155" y="129"/>
                    </a:lnTo>
                    <a:lnTo>
                      <a:pt x="149" y="125"/>
                    </a:lnTo>
                    <a:lnTo>
                      <a:pt x="142" y="120"/>
                    </a:lnTo>
                    <a:lnTo>
                      <a:pt x="140" y="118"/>
                    </a:lnTo>
                    <a:lnTo>
                      <a:pt x="137" y="115"/>
                    </a:lnTo>
                    <a:lnTo>
                      <a:pt x="134" y="111"/>
                    </a:lnTo>
                    <a:lnTo>
                      <a:pt x="134" y="107"/>
                    </a:lnTo>
                    <a:lnTo>
                      <a:pt x="128" y="106"/>
                    </a:lnTo>
                    <a:lnTo>
                      <a:pt x="124" y="105"/>
                    </a:lnTo>
                    <a:lnTo>
                      <a:pt x="120" y="103"/>
                    </a:lnTo>
                    <a:lnTo>
                      <a:pt x="116" y="102"/>
                    </a:lnTo>
                    <a:lnTo>
                      <a:pt x="108" y="97"/>
                    </a:lnTo>
                    <a:lnTo>
                      <a:pt x="102" y="92"/>
                    </a:lnTo>
                    <a:lnTo>
                      <a:pt x="97" y="88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3"/>
                    </a:lnTo>
                    <a:lnTo>
                      <a:pt x="80" y="80"/>
                    </a:lnTo>
                    <a:lnTo>
                      <a:pt x="76" y="80"/>
                    </a:lnTo>
                    <a:lnTo>
                      <a:pt x="71" y="81"/>
                    </a:lnTo>
                    <a:lnTo>
                      <a:pt x="67" y="84"/>
                    </a:lnTo>
                    <a:lnTo>
                      <a:pt x="60" y="83"/>
                    </a:lnTo>
                    <a:lnTo>
                      <a:pt x="55" y="81"/>
                    </a:lnTo>
                    <a:lnTo>
                      <a:pt x="51" y="79"/>
                    </a:lnTo>
                    <a:lnTo>
                      <a:pt x="47" y="78"/>
                    </a:lnTo>
                    <a:lnTo>
                      <a:pt x="42" y="71"/>
                    </a:lnTo>
                    <a:lnTo>
                      <a:pt x="38" y="62"/>
                    </a:lnTo>
                    <a:lnTo>
                      <a:pt x="34" y="58"/>
                    </a:lnTo>
                    <a:lnTo>
                      <a:pt x="31" y="53"/>
                    </a:lnTo>
                    <a:lnTo>
                      <a:pt x="30" y="49"/>
                    </a:lnTo>
                    <a:lnTo>
                      <a:pt x="27" y="46"/>
                    </a:lnTo>
                    <a:lnTo>
                      <a:pt x="24" y="43"/>
                    </a:lnTo>
                    <a:lnTo>
                      <a:pt x="21" y="40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9" y="34"/>
                    </a:lnTo>
                    <a:lnTo>
                      <a:pt x="7" y="26"/>
                    </a:lnTo>
                    <a:lnTo>
                      <a:pt x="4" y="21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3" y="9"/>
                    </a:lnTo>
                    <a:lnTo>
                      <a:pt x="8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18" y="9"/>
                    </a:lnTo>
                    <a:lnTo>
                      <a:pt x="22" y="17"/>
                    </a:lnTo>
                    <a:lnTo>
                      <a:pt x="25" y="22"/>
                    </a:lnTo>
                    <a:lnTo>
                      <a:pt x="29" y="26"/>
                    </a:lnTo>
                    <a:lnTo>
                      <a:pt x="35" y="30"/>
                    </a:lnTo>
                    <a:lnTo>
                      <a:pt x="43" y="30"/>
                    </a:lnTo>
                    <a:lnTo>
                      <a:pt x="48" y="24"/>
                    </a:lnTo>
                    <a:lnTo>
                      <a:pt x="56" y="19"/>
                    </a:lnTo>
                    <a:lnTo>
                      <a:pt x="63" y="14"/>
                    </a:lnTo>
                    <a:lnTo>
                      <a:pt x="69" y="11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39680" y="3878280"/>
                <a:ext cx="241920" cy="126000"/>
              </a:xfrm>
              <a:custGeom>
                <a:avLst/>
                <a:gdLst/>
                <a:ahLst/>
                <a:rect l="l" t="t" r="r" b="b"/>
                <a:pathLst>
                  <a:path w="414" h="224">
                    <a:moveTo>
                      <a:pt x="5" y="140"/>
                    </a:moveTo>
                    <a:lnTo>
                      <a:pt x="7" y="139"/>
                    </a:lnTo>
                    <a:lnTo>
                      <a:pt x="16" y="135"/>
                    </a:lnTo>
                    <a:lnTo>
                      <a:pt x="32" y="127"/>
                    </a:lnTo>
                    <a:lnTo>
                      <a:pt x="54" y="118"/>
                    </a:lnTo>
                    <a:lnTo>
                      <a:pt x="77" y="106"/>
                    </a:lnTo>
                    <a:lnTo>
                      <a:pt x="106" y="93"/>
                    </a:lnTo>
                    <a:lnTo>
                      <a:pt x="137" y="79"/>
                    </a:lnTo>
                    <a:lnTo>
                      <a:pt x="170" y="66"/>
                    </a:lnTo>
                    <a:lnTo>
                      <a:pt x="201" y="52"/>
                    </a:lnTo>
                    <a:lnTo>
                      <a:pt x="234" y="39"/>
                    </a:lnTo>
                    <a:lnTo>
                      <a:pt x="265" y="26"/>
                    </a:lnTo>
                    <a:lnTo>
                      <a:pt x="294" y="16"/>
                    </a:lnTo>
                    <a:lnTo>
                      <a:pt x="319" y="8"/>
                    </a:lnTo>
                    <a:lnTo>
                      <a:pt x="341" y="1"/>
                    </a:lnTo>
                    <a:lnTo>
                      <a:pt x="355" y="0"/>
                    </a:lnTo>
                    <a:lnTo>
                      <a:pt x="366" y="1"/>
                    </a:lnTo>
                    <a:lnTo>
                      <a:pt x="371" y="7"/>
                    </a:lnTo>
                    <a:lnTo>
                      <a:pt x="377" y="16"/>
                    </a:lnTo>
                    <a:lnTo>
                      <a:pt x="382" y="27"/>
                    </a:lnTo>
                    <a:lnTo>
                      <a:pt x="389" y="42"/>
                    </a:lnTo>
                    <a:lnTo>
                      <a:pt x="393" y="57"/>
                    </a:lnTo>
                    <a:lnTo>
                      <a:pt x="397" y="75"/>
                    </a:lnTo>
                    <a:lnTo>
                      <a:pt x="401" y="93"/>
                    </a:lnTo>
                    <a:lnTo>
                      <a:pt x="405" y="114"/>
                    </a:lnTo>
                    <a:lnTo>
                      <a:pt x="407" y="132"/>
                    </a:lnTo>
                    <a:lnTo>
                      <a:pt x="410" y="152"/>
                    </a:lnTo>
                    <a:lnTo>
                      <a:pt x="411" y="169"/>
                    </a:lnTo>
                    <a:lnTo>
                      <a:pt x="414" y="184"/>
                    </a:lnTo>
                    <a:lnTo>
                      <a:pt x="414" y="197"/>
                    </a:lnTo>
                    <a:lnTo>
                      <a:pt x="414" y="209"/>
                    </a:lnTo>
                    <a:lnTo>
                      <a:pt x="414" y="216"/>
                    </a:lnTo>
                    <a:lnTo>
                      <a:pt x="414" y="220"/>
                    </a:lnTo>
                    <a:lnTo>
                      <a:pt x="406" y="222"/>
                    </a:lnTo>
                    <a:lnTo>
                      <a:pt x="393" y="223"/>
                    </a:lnTo>
                    <a:lnTo>
                      <a:pt x="373" y="224"/>
                    </a:lnTo>
                    <a:lnTo>
                      <a:pt x="349" y="224"/>
                    </a:lnTo>
                    <a:lnTo>
                      <a:pt x="317" y="224"/>
                    </a:lnTo>
                    <a:lnTo>
                      <a:pt x="285" y="224"/>
                    </a:lnTo>
                    <a:lnTo>
                      <a:pt x="249" y="223"/>
                    </a:lnTo>
                    <a:lnTo>
                      <a:pt x="213" y="223"/>
                    </a:lnTo>
                    <a:lnTo>
                      <a:pt x="176" y="220"/>
                    </a:lnTo>
                    <a:lnTo>
                      <a:pt x="140" y="218"/>
                    </a:lnTo>
                    <a:lnTo>
                      <a:pt x="106" y="215"/>
                    </a:lnTo>
                    <a:lnTo>
                      <a:pt x="76" y="213"/>
                    </a:lnTo>
                    <a:lnTo>
                      <a:pt x="50" y="209"/>
                    </a:lnTo>
                    <a:lnTo>
                      <a:pt x="29" y="205"/>
                    </a:lnTo>
                    <a:lnTo>
                      <a:pt x="15" y="200"/>
                    </a:lnTo>
                    <a:lnTo>
                      <a:pt x="9" y="196"/>
                    </a:lnTo>
                    <a:lnTo>
                      <a:pt x="5" y="191"/>
                    </a:lnTo>
                    <a:lnTo>
                      <a:pt x="3" y="185"/>
                    </a:lnTo>
                    <a:lnTo>
                      <a:pt x="2" y="180"/>
                    </a:lnTo>
                    <a:lnTo>
                      <a:pt x="2" y="176"/>
                    </a:lnTo>
                    <a:lnTo>
                      <a:pt x="0" y="171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2" y="158"/>
                    </a:lnTo>
                    <a:lnTo>
                      <a:pt x="2" y="150"/>
                    </a:lnTo>
                    <a:lnTo>
                      <a:pt x="3" y="145"/>
                    </a:lnTo>
                    <a:lnTo>
                      <a:pt x="4" y="141"/>
                    </a:lnTo>
                    <a:lnTo>
                      <a:pt x="5" y="140"/>
                    </a:lnTo>
                    <a:lnTo>
                      <a:pt x="5" y="140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53880" y="3875760"/>
                <a:ext cx="155160" cy="126000"/>
              </a:xfrm>
              <a:custGeom>
                <a:avLst/>
                <a:gdLst/>
                <a:ahLst/>
                <a:rect l="l" t="t" r="r" b="b"/>
                <a:pathLst>
                  <a:path w="262" h="221">
                    <a:moveTo>
                      <a:pt x="0" y="2"/>
                    </a:moveTo>
                    <a:lnTo>
                      <a:pt x="2" y="2"/>
                    </a:lnTo>
                    <a:lnTo>
                      <a:pt x="10" y="1"/>
                    </a:lnTo>
                    <a:lnTo>
                      <a:pt x="20" y="1"/>
                    </a:lnTo>
                    <a:lnTo>
                      <a:pt x="37" y="1"/>
                    </a:lnTo>
                    <a:lnTo>
                      <a:pt x="56" y="0"/>
                    </a:lnTo>
                    <a:lnTo>
                      <a:pt x="75" y="0"/>
                    </a:lnTo>
                    <a:lnTo>
                      <a:pt x="97" y="0"/>
                    </a:lnTo>
                    <a:lnTo>
                      <a:pt x="121" y="1"/>
                    </a:lnTo>
                    <a:lnTo>
                      <a:pt x="143" y="1"/>
                    </a:lnTo>
                    <a:lnTo>
                      <a:pt x="165" y="2"/>
                    </a:lnTo>
                    <a:lnTo>
                      <a:pt x="186" y="5"/>
                    </a:lnTo>
                    <a:lnTo>
                      <a:pt x="206" y="9"/>
                    </a:lnTo>
                    <a:lnTo>
                      <a:pt x="221" y="13"/>
                    </a:lnTo>
                    <a:lnTo>
                      <a:pt x="234" y="19"/>
                    </a:lnTo>
                    <a:lnTo>
                      <a:pt x="243" y="26"/>
                    </a:lnTo>
                    <a:lnTo>
                      <a:pt x="249" y="35"/>
                    </a:lnTo>
                    <a:lnTo>
                      <a:pt x="249" y="43"/>
                    </a:lnTo>
                    <a:lnTo>
                      <a:pt x="250" y="53"/>
                    </a:lnTo>
                    <a:lnTo>
                      <a:pt x="250" y="62"/>
                    </a:lnTo>
                    <a:lnTo>
                      <a:pt x="251" y="72"/>
                    </a:lnTo>
                    <a:lnTo>
                      <a:pt x="253" y="83"/>
                    </a:lnTo>
                    <a:lnTo>
                      <a:pt x="254" y="93"/>
                    </a:lnTo>
                    <a:lnTo>
                      <a:pt x="255" y="102"/>
                    </a:lnTo>
                    <a:lnTo>
                      <a:pt x="257" y="113"/>
                    </a:lnTo>
                    <a:lnTo>
                      <a:pt x="257" y="122"/>
                    </a:lnTo>
                    <a:lnTo>
                      <a:pt x="258" y="129"/>
                    </a:lnTo>
                    <a:lnTo>
                      <a:pt x="258" y="137"/>
                    </a:lnTo>
                    <a:lnTo>
                      <a:pt x="259" y="144"/>
                    </a:lnTo>
                    <a:lnTo>
                      <a:pt x="259" y="149"/>
                    </a:lnTo>
                    <a:lnTo>
                      <a:pt x="260" y="153"/>
                    </a:lnTo>
                    <a:lnTo>
                      <a:pt x="260" y="155"/>
                    </a:lnTo>
                    <a:lnTo>
                      <a:pt x="262" y="157"/>
                    </a:lnTo>
                    <a:lnTo>
                      <a:pt x="73" y="214"/>
                    </a:lnTo>
                    <a:lnTo>
                      <a:pt x="48" y="22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191360" y="392076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148" h="179">
                    <a:moveTo>
                      <a:pt x="0" y="0"/>
                    </a:moveTo>
                    <a:lnTo>
                      <a:pt x="1" y="169"/>
                    </a:lnTo>
                    <a:lnTo>
                      <a:pt x="1" y="169"/>
                    </a:lnTo>
                    <a:lnTo>
                      <a:pt x="5" y="170"/>
                    </a:lnTo>
                    <a:lnTo>
                      <a:pt x="11" y="170"/>
                    </a:lnTo>
                    <a:lnTo>
                      <a:pt x="18" y="172"/>
                    </a:lnTo>
                    <a:lnTo>
                      <a:pt x="26" y="174"/>
                    </a:lnTo>
                    <a:lnTo>
                      <a:pt x="37" y="176"/>
                    </a:lnTo>
                    <a:lnTo>
                      <a:pt x="48" y="178"/>
                    </a:lnTo>
                    <a:lnTo>
                      <a:pt x="59" y="179"/>
                    </a:lnTo>
                    <a:lnTo>
                      <a:pt x="71" y="179"/>
                    </a:lnTo>
                    <a:lnTo>
                      <a:pt x="82" y="179"/>
                    </a:lnTo>
                    <a:lnTo>
                      <a:pt x="94" y="178"/>
                    </a:lnTo>
                    <a:lnTo>
                      <a:pt x="107" y="178"/>
                    </a:lnTo>
                    <a:lnTo>
                      <a:pt x="118" y="174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2" y="162"/>
                    </a:lnTo>
                    <a:lnTo>
                      <a:pt x="148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59760" y="3939120"/>
                <a:ext cx="39960" cy="4212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9" y="8"/>
                    </a:moveTo>
                    <a:lnTo>
                      <a:pt x="11" y="6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1"/>
                    </a:lnTo>
                    <a:lnTo>
                      <a:pt x="46" y="0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63" y="5"/>
                    </a:lnTo>
                    <a:lnTo>
                      <a:pt x="67" y="12"/>
                    </a:lnTo>
                    <a:lnTo>
                      <a:pt x="67" y="14"/>
                    </a:lnTo>
                    <a:lnTo>
                      <a:pt x="67" y="19"/>
                    </a:lnTo>
                    <a:lnTo>
                      <a:pt x="67" y="23"/>
                    </a:lnTo>
                    <a:lnTo>
                      <a:pt x="68" y="28"/>
                    </a:lnTo>
                    <a:lnTo>
                      <a:pt x="68" y="32"/>
                    </a:lnTo>
                    <a:lnTo>
                      <a:pt x="68" y="37"/>
                    </a:lnTo>
                    <a:lnTo>
                      <a:pt x="68" y="43"/>
                    </a:lnTo>
                    <a:lnTo>
                      <a:pt x="69" y="48"/>
                    </a:lnTo>
                    <a:lnTo>
                      <a:pt x="68" y="52"/>
                    </a:lnTo>
                    <a:lnTo>
                      <a:pt x="68" y="56"/>
                    </a:lnTo>
                    <a:lnTo>
                      <a:pt x="67" y="60"/>
                    </a:lnTo>
                    <a:lnTo>
                      <a:pt x="65" y="63"/>
                    </a:lnTo>
                    <a:lnTo>
                      <a:pt x="63" y="69"/>
                    </a:lnTo>
                    <a:lnTo>
                      <a:pt x="59" y="71"/>
                    </a:lnTo>
                    <a:lnTo>
                      <a:pt x="55" y="71"/>
                    </a:lnTo>
                    <a:lnTo>
                      <a:pt x="51" y="72"/>
                    </a:lnTo>
                    <a:lnTo>
                      <a:pt x="47" y="72"/>
                    </a:lnTo>
                    <a:lnTo>
                      <a:pt x="43" y="74"/>
                    </a:lnTo>
                    <a:lnTo>
                      <a:pt x="38" y="74"/>
                    </a:lnTo>
                    <a:lnTo>
                      <a:pt x="34" y="74"/>
                    </a:lnTo>
                    <a:lnTo>
                      <a:pt x="29" y="75"/>
                    </a:lnTo>
                    <a:lnTo>
                      <a:pt x="25" y="75"/>
                    </a:lnTo>
                    <a:lnTo>
                      <a:pt x="20" y="75"/>
                    </a:lnTo>
                    <a:lnTo>
                      <a:pt x="15" y="76"/>
                    </a:lnTo>
                    <a:lnTo>
                      <a:pt x="11" y="76"/>
                    </a:lnTo>
                    <a:lnTo>
                      <a:pt x="8" y="76"/>
                    </a:lnTo>
                    <a:lnTo>
                      <a:pt x="3" y="76"/>
                    </a:lnTo>
                    <a:lnTo>
                      <a:pt x="2" y="78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21" y="58"/>
                    </a:lnTo>
                    <a:lnTo>
                      <a:pt x="26" y="60"/>
                    </a:lnTo>
                    <a:lnTo>
                      <a:pt x="30" y="60"/>
                    </a:lnTo>
                    <a:lnTo>
                      <a:pt x="38" y="60"/>
                    </a:lnTo>
                    <a:lnTo>
                      <a:pt x="46" y="58"/>
                    </a:lnTo>
                    <a:lnTo>
                      <a:pt x="51" y="56"/>
                    </a:lnTo>
                    <a:lnTo>
                      <a:pt x="54" y="50"/>
                    </a:lnTo>
                    <a:lnTo>
                      <a:pt x="52" y="43"/>
                    </a:lnTo>
                    <a:lnTo>
                      <a:pt x="52" y="35"/>
                    </a:lnTo>
                    <a:lnTo>
                      <a:pt x="51" y="28"/>
                    </a:lnTo>
                    <a:lnTo>
                      <a:pt x="51" y="23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39" y="15"/>
                    </a:lnTo>
                    <a:lnTo>
                      <a:pt x="32" y="15"/>
                    </a:lnTo>
                    <a:lnTo>
                      <a:pt x="24" y="17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8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716160" y="377460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5" y="31"/>
                    </a:moveTo>
                    <a:lnTo>
                      <a:pt x="20" y="29"/>
                    </a:lnTo>
                    <a:lnTo>
                      <a:pt x="27" y="27"/>
                    </a:lnTo>
                    <a:lnTo>
                      <a:pt x="30" y="22"/>
                    </a:lnTo>
                    <a:lnTo>
                      <a:pt x="31" y="16"/>
                    </a:lnTo>
                    <a:lnTo>
                      <a:pt x="30" y="9"/>
                    </a:lnTo>
                    <a:lnTo>
                      <a:pt x="27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9" y="29"/>
                    </a:lnTo>
                    <a:lnTo>
                      <a:pt x="15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ad5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132680" y="38419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4" y="48"/>
                    </a:moveTo>
                    <a:lnTo>
                      <a:pt x="28" y="48"/>
                    </a:lnTo>
                    <a:lnTo>
                      <a:pt x="32" y="47"/>
                    </a:lnTo>
                    <a:lnTo>
                      <a:pt x="36" y="43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7" y="34"/>
                    </a:lnTo>
                    <a:lnTo>
                      <a:pt x="48" y="29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6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9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7" y="41"/>
                    </a:lnTo>
                    <a:lnTo>
                      <a:pt x="9" y="43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4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ad5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963120" y="35287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22"/>
                    </a:moveTo>
                    <a:lnTo>
                      <a:pt x="15" y="21"/>
                    </a:lnTo>
                    <a:lnTo>
                      <a:pt x="19" y="18"/>
                    </a:lnTo>
                    <a:lnTo>
                      <a:pt x="21" y="14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1" y="22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979680" y="35218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0" y="21"/>
                    </a:moveTo>
                    <a:lnTo>
                      <a:pt x="18" y="18"/>
                    </a:lnTo>
                    <a:lnTo>
                      <a:pt x="21" y="12"/>
                    </a:lnTo>
                    <a:lnTo>
                      <a:pt x="18" y="4"/>
                    </a:lnTo>
                    <a:lnTo>
                      <a:pt x="10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10" y="21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975000" y="35463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7" y="18"/>
                    </a:moveTo>
                    <a:lnTo>
                      <a:pt x="15" y="14"/>
                    </a:lnTo>
                    <a:lnTo>
                      <a:pt x="18" y="9"/>
                    </a:lnTo>
                    <a:lnTo>
                      <a:pt x="15" y="1"/>
                    </a:lnTo>
                    <a:lnTo>
                      <a:pt x="7" y="0"/>
                    </a:lnTo>
                    <a:lnTo>
                      <a:pt x="2" y="1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89400" y="35377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1" y="17"/>
                    </a:moveTo>
                    <a:lnTo>
                      <a:pt x="16" y="14"/>
                    </a:lnTo>
                    <a:lnTo>
                      <a:pt x="20" y="9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3" y="1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984360" y="3562200"/>
                <a:ext cx="11520" cy="90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9" y="18"/>
                    </a:moveTo>
                    <a:lnTo>
                      <a:pt x="16" y="15"/>
                    </a:lnTo>
                    <a:lnTo>
                      <a:pt x="20" y="7"/>
                    </a:lnTo>
                    <a:lnTo>
                      <a:pt x="16" y="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5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003080" y="3551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4" y="14"/>
                    </a:lnTo>
                    <a:lnTo>
                      <a:pt x="17" y="8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925680" y="339768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3" y="27"/>
                    </a:moveTo>
                    <a:lnTo>
                      <a:pt x="19" y="26"/>
                    </a:lnTo>
                    <a:lnTo>
                      <a:pt x="23" y="23"/>
                    </a:lnTo>
                    <a:lnTo>
                      <a:pt x="26" y="18"/>
                    </a:lnTo>
                    <a:lnTo>
                      <a:pt x="28" y="14"/>
                    </a:lnTo>
                    <a:lnTo>
                      <a:pt x="26" y="8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4" y="23"/>
                    </a:lnTo>
                    <a:lnTo>
                      <a:pt x="8" y="26"/>
                    </a:lnTo>
                    <a:lnTo>
                      <a:pt x="13" y="27"/>
                    </a:lnTo>
                    <a:lnTo>
                      <a:pt x="1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25680" y="32151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6" y="0"/>
                    </a:moveTo>
                    <a:lnTo>
                      <a:pt x="5" y="6"/>
                    </a:lnTo>
                    <a:lnTo>
                      <a:pt x="5" y="9"/>
                    </a:lnTo>
                    <a:lnTo>
                      <a:pt x="5" y="15"/>
                    </a:lnTo>
                    <a:lnTo>
                      <a:pt x="6" y="18"/>
                    </a:lnTo>
                    <a:lnTo>
                      <a:pt x="8" y="21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7" y="13"/>
                    </a:lnTo>
                    <a:lnTo>
                      <a:pt x="30" y="17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1" y="29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3" y="34"/>
                    </a:lnTo>
                    <a:lnTo>
                      <a:pt x="6" y="30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9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91360" y="3907440"/>
                <a:ext cx="84600" cy="20160"/>
              </a:xfrm>
              <a:custGeom>
                <a:avLst/>
                <a:gdLst/>
                <a:ahLst/>
                <a:rect l="l" t="t" r="r" b="b"/>
                <a:pathLst>
                  <a:path w="148" h="38">
                    <a:moveTo>
                      <a:pt x="4" y="26"/>
                    </a:moveTo>
                    <a:lnTo>
                      <a:pt x="4" y="26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25" y="30"/>
                    </a:lnTo>
                    <a:lnTo>
                      <a:pt x="37" y="31"/>
                    </a:lnTo>
                    <a:lnTo>
                      <a:pt x="48" y="33"/>
                    </a:lnTo>
                    <a:lnTo>
                      <a:pt x="61" y="34"/>
                    </a:lnTo>
                    <a:lnTo>
                      <a:pt x="74" y="37"/>
                    </a:lnTo>
                    <a:lnTo>
                      <a:pt x="88" y="37"/>
                    </a:lnTo>
                    <a:lnTo>
                      <a:pt x="101" y="38"/>
                    </a:lnTo>
                    <a:lnTo>
                      <a:pt x="112" y="37"/>
                    </a:lnTo>
                    <a:lnTo>
                      <a:pt x="124" y="37"/>
                    </a:lnTo>
                    <a:lnTo>
                      <a:pt x="133" y="35"/>
                    </a:lnTo>
                    <a:lnTo>
                      <a:pt x="141" y="34"/>
                    </a:lnTo>
                    <a:lnTo>
                      <a:pt x="145" y="31"/>
                    </a:lnTo>
                    <a:lnTo>
                      <a:pt x="148" y="27"/>
                    </a:lnTo>
                    <a:lnTo>
                      <a:pt x="146" y="22"/>
                    </a:lnTo>
                    <a:lnTo>
                      <a:pt x="142" y="18"/>
                    </a:lnTo>
                    <a:lnTo>
                      <a:pt x="134" y="13"/>
                    </a:lnTo>
                    <a:lnTo>
                      <a:pt x="128" y="11"/>
                    </a:lnTo>
                    <a:lnTo>
                      <a:pt x="118" y="8"/>
                    </a:lnTo>
                    <a:lnTo>
                      <a:pt x="108" y="5"/>
                    </a:lnTo>
                    <a:lnTo>
                      <a:pt x="97" y="4"/>
                    </a:lnTo>
                    <a:lnTo>
                      <a:pt x="85" y="3"/>
                    </a:lnTo>
                    <a:lnTo>
                      <a:pt x="73" y="2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38" y="2"/>
                    </a:lnTo>
                    <a:lnTo>
                      <a:pt x="29" y="2"/>
                    </a:lnTo>
                    <a:lnTo>
                      <a:pt x="21" y="3"/>
                    </a:lnTo>
                    <a:lnTo>
                      <a:pt x="16" y="3"/>
                    </a:lnTo>
                    <a:lnTo>
                      <a:pt x="12" y="5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4"/>
                    </a:lnTo>
                    <a:lnTo>
                      <a:pt x="4" y="26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f5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967800" y="3479040"/>
                <a:ext cx="37800" cy="3600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47" y="0"/>
                    </a:moveTo>
                    <a:lnTo>
                      <a:pt x="49" y="5"/>
                    </a:lnTo>
                    <a:lnTo>
                      <a:pt x="53" y="12"/>
                    </a:lnTo>
                    <a:lnTo>
                      <a:pt x="55" y="15"/>
                    </a:lnTo>
                    <a:lnTo>
                      <a:pt x="57" y="18"/>
                    </a:lnTo>
                    <a:lnTo>
                      <a:pt x="58" y="24"/>
                    </a:lnTo>
                    <a:lnTo>
                      <a:pt x="61" y="29"/>
                    </a:lnTo>
                    <a:lnTo>
                      <a:pt x="62" y="31"/>
                    </a:lnTo>
                    <a:lnTo>
                      <a:pt x="64" y="37"/>
                    </a:lnTo>
                    <a:lnTo>
                      <a:pt x="64" y="42"/>
                    </a:lnTo>
                    <a:lnTo>
                      <a:pt x="65" y="46"/>
                    </a:lnTo>
                    <a:lnTo>
                      <a:pt x="64" y="49"/>
                    </a:lnTo>
                    <a:lnTo>
                      <a:pt x="64" y="55"/>
                    </a:lnTo>
                    <a:lnTo>
                      <a:pt x="62" y="59"/>
                    </a:lnTo>
                    <a:lnTo>
                      <a:pt x="60" y="64"/>
                    </a:lnTo>
                    <a:lnTo>
                      <a:pt x="55" y="65"/>
                    </a:lnTo>
                    <a:lnTo>
                      <a:pt x="51" y="65"/>
                    </a:lnTo>
                    <a:lnTo>
                      <a:pt x="48" y="64"/>
                    </a:lnTo>
                    <a:lnTo>
                      <a:pt x="45" y="62"/>
                    </a:lnTo>
                    <a:lnTo>
                      <a:pt x="40" y="57"/>
                    </a:lnTo>
                    <a:lnTo>
                      <a:pt x="39" y="52"/>
                    </a:lnTo>
                    <a:lnTo>
                      <a:pt x="35" y="46"/>
                    </a:lnTo>
                    <a:lnTo>
                      <a:pt x="31" y="42"/>
                    </a:lnTo>
                    <a:lnTo>
                      <a:pt x="28" y="40"/>
                    </a:lnTo>
                    <a:lnTo>
                      <a:pt x="26" y="42"/>
                    </a:lnTo>
                    <a:lnTo>
                      <a:pt x="22" y="42"/>
                    </a:lnTo>
                    <a:lnTo>
                      <a:pt x="18" y="46"/>
                    </a:lnTo>
                    <a:lnTo>
                      <a:pt x="14" y="47"/>
                    </a:lnTo>
                    <a:lnTo>
                      <a:pt x="10" y="49"/>
                    </a:lnTo>
                    <a:lnTo>
                      <a:pt x="5" y="49"/>
                    </a:lnTo>
                    <a:lnTo>
                      <a:pt x="0" y="46"/>
                    </a:lnTo>
                    <a:lnTo>
                      <a:pt x="2" y="39"/>
                    </a:lnTo>
                    <a:lnTo>
                      <a:pt x="4" y="33"/>
                    </a:lnTo>
                    <a:lnTo>
                      <a:pt x="10" y="29"/>
                    </a:lnTo>
                    <a:lnTo>
                      <a:pt x="15" y="26"/>
                    </a:lnTo>
                    <a:lnTo>
                      <a:pt x="22" y="24"/>
                    </a:lnTo>
                    <a:lnTo>
                      <a:pt x="27" y="20"/>
                    </a:lnTo>
                    <a:lnTo>
                      <a:pt x="32" y="16"/>
                    </a:lnTo>
                    <a:lnTo>
                      <a:pt x="36" y="12"/>
                    </a:lnTo>
                    <a:lnTo>
                      <a:pt x="42" y="7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323120" y="3503880"/>
                <a:ext cx="28080" cy="2448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23" y="47"/>
                    </a:moveTo>
                    <a:lnTo>
                      <a:pt x="27" y="47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5"/>
                    </a:lnTo>
                    <a:lnTo>
                      <a:pt x="45" y="31"/>
                    </a:lnTo>
                    <a:lnTo>
                      <a:pt x="47" y="27"/>
                    </a:lnTo>
                    <a:lnTo>
                      <a:pt x="48" y="23"/>
                    </a:lnTo>
                    <a:lnTo>
                      <a:pt x="47" y="18"/>
                    </a:lnTo>
                    <a:lnTo>
                      <a:pt x="45" y="14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6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1"/>
                    </a:lnTo>
                    <a:lnTo>
                      <a:pt x="4" y="35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4" y="44"/>
                    </a:lnTo>
                    <a:lnTo>
                      <a:pt x="18" y="47"/>
                    </a:lnTo>
                    <a:lnTo>
                      <a:pt x="23" y="47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8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323120" y="34722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8" y="1"/>
                    </a:moveTo>
                    <a:lnTo>
                      <a:pt x="10" y="0"/>
                    </a:lnTo>
                    <a:lnTo>
                      <a:pt x="13" y="3"/>
                    </a:lnTo>
                    <a:lnTo>
                      <a:pt x="14" y="5"/>
                    </a:lnTo>
                    <a:lnTo>
                      <a:pt x="17" y="10"/>
                    </a:lnTo>
                    <a:lnTo>
                      <a:pt x="17" y="14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7" y="30"/>
                    </a:lnTo>
                    <a:lnTo>
                      <a:pt x="13" y="35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1" y="25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58400" y="347904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22" y="0"/>
                    </a:moveTo>
                    <a:lnTo>
                      <a:pt x="27" y="3"/>
                    </a:lnTo>
                    <a:lnTo>
                      <a:pt x="30" y="7"/>
                    </a:lnTo>
                    <a:lnTo>
                      <a:pt x="27" y="13"/>
                    </a:lnTo>
                    <a:lnTo>
                      <a:pt x="25" y="18"/>
                    </a:lnTo>
                    <a:lnTo>
                      <a:pt x="18" y="23"/>
                    </a:lnTo>
                    <a:lnTo>
                      <a:pt x="13" y="25"/>
                    </a:lnTo>
                    <a:lnTo>
                      <a:pt x="6" y="27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3"/>
                    </a:lnTo>
                    <a:lnTo>
                      <a:pt x="6" y="10"/>
                    </a:lnTo>
                    <a:lnTo>
                      <a:pt x="10" y="7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65240" y="351720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" y="0"/>
                    </a:moveTo>
                    <a:lnTo>
                      <a:pt x="9" y="1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4" y="5"/>
                    </a:lnTo>
                    <a:lnTo>
                      <a:pt x="41" y="8"/>
                    </a:lnTo>
                    <a:lnTo>
                      <a:pt x="46" y="10"/>
                    </a:lnTo>
                    <a:lnTo>
                      <a:pt x="47" y="15"/>
                    </a:lnTo>
                    <a:lnTo>
                      <a:pt x="43" y="23"/>
                    </a:lnTo>
                    <a:lnTo>
                      <a:pt x="39" y="21"/>
                    </a:lnTo>
                    <a:lnTo>
                      <a:pt x="33" y="21"/>
                    </a:lnTo>
                    <a:lnTo>
                      <a:pt x="26" y="21"/>
                    </a:lnTo>
                    <a:lnTo>
                      <a:pt x="20" y="19"/>
                    </a:lnTo>
                    <a:lnTo>
                      <a:pt x="15" y="18"/>
                    </a:lnTo>
                    <a:lnTo>
                      <a:pt x="9" y="17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337520" y="3548880"/>
                <a:ext cx="11520" cy="2448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1" y="0"/>
                    </a:moveTo>
                    <a:lnTo>
                      <a:pt x="13" y="4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9" y="18"/>
                    </a:lnTo>
                    <a:lnTo>
                      <a:pt x="19" y="22"/>
                    </a:lnTo>
                    <a:lnTo>
                      <a:pt x="20" y="27"/>
                    </a:lnTo>
                    <a:lnTo>
                      <a:pt x="19" y="35"/>
                    </a:lnTo>
                    <a:lnTo>
                      <a:pt x="16" y="41"/>
                    </a:lnTo>
                    <a:lnTo>
                      <a:pt x="12" y="47"/>
                    </a:lnTo>
                    <a:lnTo>
                      <a:pt x="6" y="48"/>
                    </a:lnTo>
                    <a:lnTo>
                      <a:pt x="3" y="41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2" y="23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787080" y="382392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133" h="168">
                    <a:moveTo>
                      <a:pt x="126" y="0"/>
                    </a:moveTo>
                    <a:lnTo>
                      <a:pt x="131" y="6"/>
                    </a:lnTo>
                    <a:lnTo>
                      <a:pt x="133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27" y="26"/>
                    </a:lnTo>
                    <a:lnTo>
                      <a:pt x="125" y="31"/>
                    </a:lnTo>
                    <a:lnTo>
                      <a:pt x="118" y="39"/>
                    </a:lnTo>
                    <a:lnTo>
                      <a:pt x="112" y="47"/>
                    </a:lnTo>
                    <a:lnTo>
                      <a:pt x="105" y="54"/>
                    </a:lnTo>
                    <a:lnTo>
                      <a:pt x="101" y="62"/>
                    </a:lnTo>
                    <a:lnTo>
                      <a:pt x="95" y="69"/>
                    </a:lnTo>
                    <a:lnTo>
                      <a:pt x="90" y="75"/>
                    </a:lnTo>
                    <a:lnTo>
                      <a:pt x="84" y="82"/>
                    </a:lnTo>
                    <a:lnTo>
                      <a:pt x="79" y="89"/>
                    </a:lnTo>
                    <a:lnTo>
                      <a:pt x="74" y="96"/>
                    </a:lnTo>
                    <a:lnTo>
                      <a:pt x="70" y="104"/>
                    </a:lnTo>
                    <a:lnTo>
                      <a:pt x="65" y="111"/>
                    </a:lnTo>
                    <a:lnTo>
                      <a:pt x="61" y="119"/>
                    </a:lnTo>
                    <a:lnTo>
                      <a:pt x="56" y="126"/>
                    </a:lnTo>
                    <a:lnTo>
                      <a:pt x="50" y="132"/>
                    </a:lnTo>
                    <a:lnTo>
                      <a:pt x="45" y="139"/>
                    </a:lnTo>
                    <a:lnTo>
                      <a:pt x="41" y="146"/>
                    </a:lnTo>
                    <a:lnTo>
                      <a:pt x="35" y="151"/>
                    </a:lnTo>
                    <a:lnTo>
                      <a:pt x="30" y="158"/>
                    </a:lnTo>
                    <a:lnTo>
                      <a:pt x="22" y="162"/>
                    </a:lnTo>
                    <a:lnTo>
                      <a:pt x="15" y="168"/>
                    </a:lnTo>
                    <a:lnTo>
                      <a:pt x="11" y="166"/>
                    </a:lnTo>
                    <a:lnTo>
                      <a:pt x="6" y="166"/>
                    </a:lnTo>
                    <a:lnTo>
                      <a:pt x="2" y="164"/>
                    </a:lnTo>
                    <a:lnTo>
                      <a:pt x="0" y="164"/>
                    </a:lnTo>
                    <a:lnTo>
                      <a:pt x="3" y="159"/>
                    </a:lnTo>
                    <a:lnTo>
                      <a:pt x="9" y="154"/>
                    </a:lnTo>
                    <a:lnTo>
                      <a:pt x="13" y="150"/>
                    </a:lnTo>
                    <a:lnTo>
                      <a:pt x="18" y="145"/>
                    </a:lnTo>
                    <a:lnTo>
                      <a:pt x="22" y="141"/>
                    </a:lnTo>
                    <a:lnTo>
                      <a:pt x="27" y="136"/>
                    </a:lnTo>
                    <a:lnTo>
                      <a:pt x="32" y="132"/>
                    </a:lnTo>
                    <a:lnTo>
                      <a:pt x="36" y="127"/>
                    </a:lnTo>
                    <a:lnTo>
                      <a:pt x="40" y="122"/>
                    </a:lnTo>
                    <a:lnTo>
                      <a:pt x="44" y="116"/>
                    </a:lnTo>
                    <a:lnTo>
                      <a:pt x="47" y="111"/>
                    </a:lnTo>
                    <a:lnTo>
                      <a:pt x="50" y="106"/>
                    </a:lnTo>
                    <a:lnTo>
                      <a:pt x="54" y="101"/>
                    </a:lnTo>
                    <a:lnTo>
                      <a:pt x="58" y="96"/>
                    </a:lnTo>
                    <a:lnTo>
                      <a:pt x="61" y="91"/>
                    </a:lnTo>
                    <a:lnTo>
                      <a:pt x="65" y="85"/>
                    </a:lnTo>
                    <a:lnTo>
                      <a:pt x="67" y="79"/>
                    </a:lnTo>
                    <a:lnTo>
                      <a:pt x="71" y="74"/>
                    </a:lnTo>
                    <a:lnTo>
                      <a:pt x="75" y="69"/>
                    </a:lnTo>
                    <a:lnTo>
                      <a:pt x="79" y="63"/>
                    </a:lnTo>
                    <a:lnTo>
                      <a:pt x="84" y="58"/>
                    </a:lnTo>
                    <a:lnTo>
                      <a:pt x="88" y="53"/>
                    </a:lnTo>
                    <a:lnTo>
                      <a:pt x="91" y="47"/>
                    </a:lnTo>
                    <a:lnTo>
                      <a:pt x="96" y="43"/>
                    </a:lnTo>
                    <a:lnTo>
                      <a:pt x="99" y="38"/>
                    </a:lnTo>
                    <a:lnTo>
                      <a:pt x="103" y="31"/>
                    </a:lnTo>
                    <a:lnTo>
                      <a:pt x="107" y="26"/>
                    </a:lnTo>
                    <a:lnTo>
                      <a:pt x="110" y="21"/>
                    </a:lnTo>
                    <a:lnTo>
                      <a:pt x="114" y="16"/>
                    </a:lnTo>
                    <a:lnTo>
                      <a:pt x="118" y="10"/>
                    </a:lnTo>
                    <a:lnTo>
                      <a:pt x="122" y="5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824520" y="3844080"/>
                <a:ext cx="56520" cy="72360"/>
              </a:xfrm>
              <a:custGeom>
                <a:avLst/>
                <a:gdLst/>
                <a:ahLst/>
                <a:rect l="l" t="t" r="r" b="b"/>
                <a:pathLst>
                  <a:path w="97" h="129">
                    <a:moveTo>
                      <a:pt x="89" y="0"/>
                    </a:moveTo>
                    <a:lnTo>
                      <a:pt x="94" y="7"/>
                    </a:lnTo>
                    <a:lnTo>
                      <a:pt x="97" y="15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3" y="29"/>
                    </a:lnTo>
                    <a:lnTo>
                      <a:pt x="91" y="33"/>
                    </a:lnTo>
                    <a:lnTo>
                      <a:pt x="85" y="40"/>
                    </a:lnTo>
                    <a:lnTo>
                      <a:pt x="80" y="50"/>
                    </a:lnTo>
                    <a:lnTo>
                      <a:pt x="72" y="55"/>
                    </a:lnTo>
                    <a:lnTo>
                      <a:pt x="64" y="61"/>
                    </a:lnTo>
                    <a:lnTo>
                      <a:pt x="58" y="69"/>
                    </a:lnTo>
                    <a:lnTo>
                      <a:pt x="51" y="77"/>
                    </a:lnTo>
                    <a:lnTo>
                      <a:pt x="48" y="81"/>
                    </a:lnTo>
                    <a:lnTo>
                      <a:pt x="44" y="84"/>
                    </a:lnTo>
                    <a:lnTo>
                      <a:pt x="43" y="90"/>
                    </a:lnTo>
                    <a:lnTo>
                      <a:pt x="41" y="94"/>
                    </a:lnTo>
                    <a:lnTo>
                      <a:pt x="35" y="101"/>
                    </a:lnTo>
                    <a:lnTo>
                      <a:pt x="29" y="110"/>
                    </a:lnTo>
                    <a:lnTo>
                      <a:pt x="26" y="114"/>
                    </a:lnTo>
                    <a:lnTo>
                      <a:pt x="24" y="118"/>
                    </a:lnTo>
                    <a:lnTo>
                      <a:pt x="20" y="122"/>
                    </a:lnTo>
                    <a:lnTo>
                      <a:pt x="17" y="127"/>
                    </a:lnTo>
                    <a:lnTo>
                      <a:pt x="12" y="127"/>
                    </a:lnTo>
                    <a:lnTo>
                      <a:pt x="8" y="127"/>
                    </a:lnTo>
                    <a:lnTo>
                      <a:pt x="4" y="127"/>
                    </a:lnTo>
                    <a:lnTo>
                      <a:pt x="0" y="129"/>
                    </a:lnTo>
                    <a:lnTo>
                      <a:pt x="4" y="121"/>
                    </a:lnTo>
                    <a:lnTo>
                      <a:pt x="8" y="114"/>
                    </a:lnTo>
                    <a:lnTo>
                      <a:pt x="11" y="109"/>
                    </a:lnTo>
                    <a:lnTo>
                      <a:pt x="14" y="103"/>
                    </a:lnTo>
                    <a:lnTo>
                      <a:pt x="18" y="96"/>
                    </a:lnTo>
                    <a:lnTo>
                      <a:pt x="22" y="90"/>
                    </a:lnTo>
                    <a:lnTo>
                      <a:pt x="26" y="83"/>
                    </a:lnTo>
                    <a:lnTo>
                      <a:pt x="31" y="78"/>
                    </a:lnTo>
                    <a:lnTo>
                      <a:pt x="35" y="72"/>
                    </a:lnTo>
                    <a:lnTo>
                      <a:pt x="39" y="66"/>
                    </a:lnTo>
                    <a:lnTo>
                      <a:pt x="44" y="60"/>
                    </a:lnTo>
                    <a:lnTo>
                      <a:pt x="50" y="55"/>
                    </a:lnTo>
                    <a:lnTo>
                      <a:pt x="55" y="50"/>
                    </a:lnTo>
                    <a:lnTo>
                      <a:pt x="60" y="43"/>
                    </a:lnTo>
                    <a:lnTo>
                      <a:pt x="67" y="39"/>
                    </a:lnTo>
                    <a:lnTo>
                      <a:pt x="73" y="34"/>
                    </a:lnTo>
                    <a:lnTo>
                      <a:pt x="76" y="30"/>
                    </a:lnTo>
                    <a:lnTo>
                      <a:pt x="78" y="26"/>
                    </a:lnTo>
                    <a:lnTo>
                      <a:pt x="80" y="21"/>
                    </a:lnTo>
                    <a:lnTo>
                      <a:pt x="81" y="17"/>
                    </a:lnTo>
                    <a:lnTo>
                      <a:pt x="81" y="13"/>
                    </a:lnTo>
                    <a:lnTo>
                      <a:pt x="82" y="8"/>
                    </a:lnTo>
                    <a:lnTo>
                      <a:pt x="84" y="3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878880" y="385128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30" y="0"/>
                    </a:moveTo>
                    <a:lnTo>
                      <a:pt x="36" y="5"/>
                    </a:lnTo>
                    <a:lnTo>
                      <a:pt x="37" y="12"/>
                    </a:lnTo>
                    <a:lnTo>
                      <a:pt x="34" y="18"/>
                    </a:lnTo>
                    <a:lnTo>
                      <a:pt x="30" y="26"/>
                    </a:lnTo>
                    <a:lnTo>
                      <a:pt x="25" y="34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1" y="54"/>
                    </a:lnTo>
                    <a:lnTo>
                      <a:pt x="7" y="54"/>
                    </a:lnTo>
                    <a:lnTo>
                      <a:pt x="3" y="54"/>
                    </a:lnTo>
                    <a:lnTo>
                      <a:pt x="0" y="46"/>
                    </a:lnTo>
                    <a:lnTo>
                      <a:pt x="2" y="39"/>
                    </a:lnTo>
                    <a:lnTo>
                      <a:pt x="6" y="32"/>
                    </a:lnTo>
                    <a:lnTo>
                      <a:pt x="11" y="26"/>
                    </a:lnTo>
                    <a:lnTo>
                      <a:pt x="16" y="19"/>
                    </a:lnTo>
                    <a:lnTo>
                      <a:pt x="21" y="13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890400" y="385992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57" h="84">
                    <a:moveTo>
                      <a:pt x="52" y="0"/>
                    </a:moveTo>
                    <a:lnTo>
                      <a:pt x="54" y="4"/>
                    </a:lnTo>
                    <a:lnTo>
                      <a:pt x="56" y="8"/>
                    </a:lnTo>
                    <a:lnTo>
                      <a:pt x="56" y="13"/>
                    </a:lnTo>
                    <a:lnTo>
                      <a:pt x="57" y="17"/>
                    </a:lnTo>
                    <a:lnTo>
                      <a:pt x="56" y="22"/>
                    </a:lnTo>
                    <a:lnTo>
                      <a:pt x="56" y="27"/>
                    </a:lnTo>
                    <a:lnTo>
                      <a:pt x="53" y="32"/>
                    </a:lnTo>
                    <a:lnTo>
                      <a:pt x="52" y="38"/>
                    </a:lnTo>
                    <a:lnTo>
                      <a:pt x="48" y="43"/>
                    </a:lnTo>
                    <a:lnTo>
                      <a:pt x="44" y="47"/>
                    </a:lnTo>
                    <a:lnTo>
                      <a:pt x="41" y="52"/>
                    </a:lnTo>
                    <a:lnTo>
                      <a:pt x="39" y="57"/>
                    </a:lnTo>
                    <a:lnTo>
                      <a:pt x="34" y="61"/>
                    </a:lnTo>
                    <a:lnTo>
                      <a:pt x="30" y="66"/>
                    </a:lnTo>
                    <a:lnTo>
                      <a:pt x="26" y="70"/>
                    </a:lnTo>
                    <a:lnTo>
                      <a:pt x="23" y="74"/>
                    </a:lnTo>
                    <a:lnTo>
                      <a:pt x="17" y="79"/>
                    </a:lnTo>
                    <a:lnTo>
                      <a:pt x="11" y="84"/>
                    </a:lnTo>
                    <a:lnTo>
                      <a:pt x="5" y="80"/>
                    </a:lnTo>
                    <a:lnTo>
                      <a:pt x="0" y="79"/>
                    </a:lnTo>
                    <a:lnTo>
                      <a:pt x="4" y="74"/>
                    </a:lnTo>
                    <a:lnTo>
                      <a:pt x="8" y="70"/>
                    </a:lnTo>
                    <a:lnTo>
                      <a:pt x="11" y="65"/>
                    </a:lnTo>
                    <a:lnTo>
                      <a:pt x="15" y="60"/>
                    </a:lnTo>
                    <a:lnTo>
                      <a:pt x="19" y="54"/>
                    </a:lnTo>
                    <a:lnTo>
                      <a:pt x="22" y="51"/>
                    </a:lnTo>
                    <a:lnTo>
                      <a:pt x="26" y="45"/>
                    </a:lnTo>
                    <a:lnTo>
                      <a:pt x="30" y="40"/>
                    </a:lnTo>
                    <a:lnTo>
                      <a:pt x="31" y="35"/>
                    </a:lnTo>
                    <a:lnTo>
                      <a:pt x="35" y="30"/>
                    </a:lnTo>
                    <a:lnTo>
                      <a:pt x="36" y="25"/>
                    </a:lnTo>
                    <a:lnTo>
                      <a:pt x="40" y="20"/>
                    </a:lnTo>
                    <a:lnTo>
                      <a:pt x="43" y="14"/>
                    </a:lnTo>
                    <a:lnTo>
                      <a:pt x="45" y="10"/>
                    </a:lnTo>
                    <a:lnTo>
                      <a:pt x="48" y="4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847920" y="3900960"/>
                <a:ext cx="28080" cy="2880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2" y="0"/>
                    </a:moveTo>
                    <a:lnTo>
                      <a:pt x="47" y="6"/>
                    </a:lnTo>
                    <a:lnTo>
                      <a:pt x="49" y="12"/>
                    </a:lnTo>
                    <a:lnTo>
                      <a:pt x="46" y="20"/>
                    </a:lnTo>
                    <a:lnTo>
                      <a:pt x="41" y="28"/>
                    </a:lnTo>
                    <a:lnTo>
                      <a:pt x="34" y="33"/>
                    </a:lnTo>
                    <a:lnTo>
                      <a:pt x="28" y="40"/>
                    </a:lnTo>
                    <a:lnTo>
                      <a:pt x="21" y="47"/>
                    </a:lnTo>
                    <a:lnTo>
                      <a:pt x="16" y="52"/>
                    </a:lnTo>
                    <a:lnTo>
                      <a:pt x="12" y="52"/>
                    </a:lnTo>
                    <a:lnTo>
                      <a:pt x="8" y="52"/>
                    </a:lnTo>
                    <a:lnTo>
                      <a:pt x="3" y="52"/>
                    </a:lnTo>
                    <a:lnTo>
                      <a:pt x="0" y="53"/>
                    </a:lnTo>
                    <a:lnTo>
                      <a:pt x="2" y="44"/>
                    </a:lnTo>
                    <a:lnTo>
                      <a:pt x="7" y="38"/>
                    </a:lnTo>
                    <a:lnTo>
                      <a:pt x="12" y="31"/>
                    </a:lnTo>
                    <a:lnTo>
                      <a:pt x="19" y="25"/>
                    </a:lnTo>
                    <a:lnTo>
                      <a:pt x="25" y="18"/>
                    </a:lnTo>
                    <a:lnTo>
                      <a:pt x="30" y="12"/>
                    </a:lnTo>
                    <a:lnTo>
                      <a:pt x="37" y="6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80600" y="3961800"/>
                <a:ext cx="25920" cy="19800"/>
              </a:xfrm>
              <a:custGeom>
                <a:avLst/>
                <a:gdLst/>
                <a:ahLst/>
                <a:rect l="l" t="t" r="r" b="b"/>
                <a:pathLst>
                  <a:path w="44" h="36">
                    <a:moveTo>
                      <a:pt x="31" y="0"/>
                    </a:moveTo>
                    <a:lnTo>
                      <a:pt x="35" y="0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3" y="7"/>
                    </a:lnTo>
                    <a:lnTo>
                      <a:pt x="44" y="12"/>
                    </a:lnTo>
                    <a:lnTo>
                      <a:pt x="43" y="20"/>
                    </a:lnTo>
                    <a:lnTo>
                      <a:pt x="38" y="25"/>
                    </a:lnTo>
                    <a:lnTo>
                      <a:pt x="34" y="30"/>
                    </a:lnTo>
                    <a:lnTo>
                      <a:pt x="26" y="35"/>
                    </a:lnTo>
                    <a:lnTo>
                      <a:pt x="20" y="36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7" y="34"/>
                    </a:lnTo>
                    <a:lnTo>
                      <a:pt x="3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7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70440" y="399528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30" y="0"/>
                    </a:moveTo>
                    <a:lnTo>
                      <a:pt x="33" y="2"/>
                    </a:lnTo>
                    <a:lnTo>
                      <a:pt x="39" y="6"/>
                    </a:lnTo>
                    <a:lnTo>
                      <a:pt x="45" y="9"/>
                    </a:lnTo>
                    <a:lnTo>
                      <a:pt x="50" y="13"/>
                    </a:lnTo>
                    <a:lnTo>
                      <a:pt x="48" y="17"/>
                    </a:lnTo>
                    <a:lnTo>
                      <a:pt x="48" y="21"/>
                    </a:lnTo>
                    <a:lnTo>
                      <a:pt x="48" y="25"/>
                    </a:lnTo>
                    <a:lnTo>
                      <a:pt x="48" y="29"/>
                    </a:lnTo>
                    <a:lnTo>
                      <a:pt x="43" y="33"/>
                    </a:lnTo>
                    <a:lnTo>
                      <a:pt x="35" y="37"/>
                    </a:lnTo>
                    <a:lnTo>
                      <a:pt x="30" y="38"/>
                    </a:lnTo>
                    <a:lnTo>
                      <a:pt x="25" y="39"/>
                    </a:lnTo>
                    <a:lnTo>
                      <a:pt x="21" y="39"/>
                    </a:lnTo>
                    <a:lnTo>
                      <a:pt x="16" y="39"/>
                    </a:lnTo>
                    <a:lnTo>
                      <a:pt x="12" y="37"/>
                    </a:lnTo>
                    <a:lnTo>
                      <a:pt x="7" y="35"/>
                    </a:lnTo>
                    <a:lnTo>
                      <a:pt x="3" y="33"/>
                    </a:lnTo>
                    <a:lnTo>
                      <a:pt x="0" y="29"/>
                    </a:lnTo>
                    <a:lnTo>
                      <a:pt x="2" y="24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9" y="8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56240" y="398628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20" y="0"/>
                    </a:moveTo>
                    <a:lnTo>
                      <a:pt x="25" y="0"/>
                    </a:lnTo>
                    <a:lnTo>
                      <a:pt x="29" y="2"/>
                    </a:lnTo>
                    <a:lnTo>
                      <a:pt x="33" y="3"/>
                    </a:lnTo>
                    <a:lnTo>
                      <a:pt x="35" y="7"/>
                    </a:lnTo>
                    <a:lnTo>
                      <a:pt x="37" y="13"/>
                    </a:lnTo>
                    <a:lnTo>
                      <a:pt x="35" y="21"/>
                    </a:lnTo>
                    <a:lnTo>
                      <a:pt x="32" y="25"/>
                    </a:lnTo>
                    <a:lnTo>
                      <a:pt x="26" y="29"/>
                    </a:lnTo>
                    <a:lnTo>
                      <a:pt x="22" y="29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9" y="24"/>
                    </a:lnTo>
                    <a:lnTo>
                      <a:pt x="3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994080" y="35154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1" y="19"/>
                    </a:moveTo>
                    <a:lnTo>
                      <a:pt x="18" y="17"/>
                    </a:lnTo>
                    <a:lnTo>
                      <a:pt x="21" y="9"/>
                    </a:lnTo>
                    <a:lnTo>
                      <a:pt x="18" y="1"/>
                    </a:lnTo>
                    <a:lnTo>
                      <a:pt x="11" y="0"/>
                    </a:lnTo>
                    <a:lnTo>
                      <a:pt x="3" y="1"/>
                    </a:lnTo>
                    <a:lnTo>
                      <a:pt x="0" y="9"/>
                    </a:lnTo>
                    <a:lnTo>
                      <a:pt x="3" y="17"/>
                    </a:lnTo>
                    <a:lnTo>
                      <a:pt x="11" y="19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03080" y="3531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0" y="18"/>
                    </a:moveTo>
                    <a:lnTo>
                      <a:pt x="15" y="15"/>
                    </a:lnTo>
                    <a:lnTo>
                      <a:pt x="19" y="9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017480" y="35463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5" y="15"/>
                    </a:lnTo>
                    <a:lnTo>
                      <a:pt x="17" y="8"/>
                    </a:lnTo>
                    <a:lnTo>
                      <a:pt x="15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80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3" name=""/>
            <p:cNvSpPr/>
            <p:nvPr/>
          </p:nvSpPr>
          <p:spPr>
            <a:xfrm>
              <a:off x="6644880" y="408636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A 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511520" y="3095640"/>
              <a:ext cx="1819800" cy="1093320"/>
              <a:chOff x="4511520" y="3095640"/>
              <a:chExt cx="1819800" cy="10933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349600" y="3360960"/>
                <a:ext cx="9817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STA 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11520" y="3794760"/>
                <a:ext cx="1449360" cy="394200"/>
              </a:xfrm>
              <a:custGeom>
                <a:avLst/>
                <a:gdLst/>
                <a:ahLst/>
                <a:rect l="l" t="t" r="r" b="b"/>
                <a:pathLst>
                  <a:path w="2738" h="855">
                    <a:moveTo>
                      <a:pt x="0" y="47"/>
                    </a:moveTo>
                    <a:lnTo>
                      <a:pt x="187" y="855"/>
                    </a:lnTo>
                    <a:lnTo>
                      <a:pt x="2738" y="855"/>
                    </a:lnTo>
                    <a:lnTo>
                      <a:pt x="1847" y="31"/>
                    </a:lnTo>
                    <a:lnTo>
                      <a:pt x="1770" y="0"/>
                    </a:lnTo>
                    <a:lnTo>
                      <a:pt x="1596" y="9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46680" y="3820320"/>
                <a:ext cx="647640" cy="363240"/>
              </a:xfrm>
              <a:custGeom>
                <a:avLst/>
                <a:gdLst/>
                <a:ahLst/>
                <a:rect l="l" t="t" r="r" b="b"/>
                <a:pathLst>
                  <a:path w="1223" h="789">
                    <a:moveTo>
                      <a:pt x="516" y="34"/>
                    </a:moveTo>
                    <a:lnTo>
                      <a:pt x="606" y="213"/>
                    </a:lnTo>
                    <a:lnTo>
                      <a:pt x="804" y="385"/>
                    </a:lnTo>
                    <a:lnTo>
                      <a:pt x="58" y="677"/>
                    </a:lnTo>
                    <a:lnTo>
                      <a:pt x="0" y="715"/>
                    </a:lnTo>
                    <a:lnTo>
                      <a:pt x="0" y="737"/>
                    </a:lnTo>
                    <a:lnTo>
                      <a:pt x="121" y="750"/>
                    </a:lnTo>
                    <a:lnTo>
                      <a:pt x="126" y="776"/>
                    </a:lnTo>
                    <a:lnTo>
                      <a:pt x="741" y="789"/>
                    </a:lnTo>
                    <a:lnTo>
                      <a:pt x="790" y="776"/>
                    </a:lnTo>
                    <a:lnTo>
                      <a:pt x="1102" y="758"/>
                    </a:lnTo>
                    <a:lnTo>
                      <a:pt x="1151" y="672"/>
                    </a:lnTo>
                    <a:lnTo>
                      <a:pt x="1223" y="581"/>
                    </a:lnTo>
                    <a:lnTo>
                      <a:pt x="1169" y="529"/>
                    </a:lnTo>
                    <a:lnTo>
                      <a:pt x="867" y="373"/>
                    </a:lnTo>
                    <a:lnTo>
                      <a:pt x="732" y="277"/>
                    </a:lnTo>
                    <a:lnTo>
                      <a:pt x="651" y="195"/>
                    </a:lnTo>
                    <a:lnTo>
                      <a:pt x="588" y="117"/>
                    </a:lnTo>
                    <a:lnTo>
                      <a:pt x="539" y="0"/>
                    </a:lnTo>
                    <a:lnTo>
                      <a:pt x="516" y="34"/>
                    </a:lnTo>
                    <a:lnTo>
                      <a:pt x="516" y="34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646520" y="3798000"/>
                <a:ext cx="768240" cy="73800"/>
              </a:xfrm>
              <a:custGeom>
                <a:avLst/>
                <a:gdLst/>
                <a:ahLst/>
                <a:rect l="l" t="t" r="r" b="b"/>
                <a:pathLst>
                  <a:path w="1452" h="160">
                    <a:moveTo>
                      <a:pt x="0" y="44"/>
                    </a:moveTo>
                    <a:lnTo>
                      <a:pt x="255" y="125"/>
                    </a:lnTo>
                    <a:lnTo>
                      <a:pt x="388" y="160"/>
                    </a:lnTo>
                    <a:lnTo>
                      <a:pt x="466" y="160"/>
                    </a:lnTo>
                    <a:lnTo>
                      <a:pt x="563" y="74"/>
                    </a:lnTo>
                    <a:lnTo>
                      <a:pt x="746" y="74"/>
                    </a:lnTo>
                    <a:lnTo>
                      <a:pt x="1284" y="147"/>
                    </a:lnTo>
                    <a:lnTo>
                      <a:pt x="1366" y="121"/>
                    </a:lnTo>
                    <a:lnTo>
                      <a:pt x="1424" y="26"/>
                    </a:lnTo>
                    <a:lnTo>
                      <a:pt x="1452" y="0"/>
                    </a:lnTo>
                    <a:lnTo>
                      <a:pt x="1386" y="0"/>
                    </a:lnTo>
                    <a:lnTo>
                      <a:pt x="1120" y="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618080" y="3510720"/>
                <a:ext cx="187200" cy="285480"/>
              </a:xfrm>
              <a:custGeom>
                <a:avLst/>
                <a:gdLst/>
                <a:ahLst/>
                <a:rect l="l" t="t" r="r" b="b"/>
                <a:pathLst>
                  <a:path w="355" h="616">
                    <a:moveTo>
                      <a:pt x="133" y="0"/>
                    </a:moveTo>
                    <a:lnTo>
                      <a:pt x="75" y="58"/>
                    </a:lnTo>
                    <a:lnTo>
                      <a:pt x="29" y="144"/>
                    </a:lnTo>
                    <a:lnTo>
                      <a:pt x="0" y="246"/>
                    </a:lnTo>
                    <a:lnTo>
                      <a:pt x="0" y="384"/>
                    </a:lnTo>
                    <a:lnTo>
                      <a:pt x="180" y="600"/>
                    </a:lnTo>
                    <a:lnTo>
                      <a:pt x="355" y="616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9040" y="3986280"/>
                <a:ext cx="635040" cy="189720"/>
              </a:xfrm>
              <a:custGeom>
                <a:avLst/>
                <a:gdLst/>
                <a:ahLst/>
                <a:rect l="l" t="t" r="r" b="b"/>
                <a:pathLst>
                  <a:path w="1199" h="415">
                    <a:moveTo>
                      <a:pt x="14" y="0"/>
                    </a:moveTo>
                    <a:lnTo>
                      <a:pt x="1170" y="32"/>
                    </a:lnTo>
                    <a:lnTo>
                      <a:pt x="1191" y="41"/>
                    </a:lnTo>
                    <a:lnTo>
                      <a:pt x="1199" y="183"/>
                    </a:lnTo>
                    <a:lnTo>
                      <a:pt x="1126" y="240"/>
                    </a:lnTo>
                    <a:lnTo>
                      <a:pt x="1115" y="345"/>
                    </a:lnTo>
                    <a:lnTo>
                      <a:pt x="1098" y="358"/>
                    </a:lnTo>
                    <a:lnTo>
                      <a:pt x="792" y="346"/>
                    </a:lnTo>
                    <a:lnTo>
                      <a:pt x="772" y="415"/>
                    </a:lnTo>
                    <a:lnTo>
                      <a:pt x="153" y="395"/>
                    </a:lnTo>
                    <a:lnTo>
                      <a:pt x="153" y="319"/>
                    </a:lnTo>
                    <a:lnTo>
                      <a:pt x="83" y="315"/>
                    </a:lnTo>
                    <a:lnTo>
                      <a:pt x="77" y="182"/>
                    </a:lnTo>
                    <a:lnTo>
                      <a:pt x="0" y="13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192640" y="3833280"/>
                <a:ext cx="233280" cy="165960"/>
              </a:xfrm>
              <a:custGeom>
                <a:avLst/>
                <a:gdLst/>
                <a:ahLst/>
                <a:rect l="l" t="t" r="r" b="b"/>
                <a:pathLst>
                  <a:path w="443" h="359">
                    <a:moveTo>
                      <a:pt x="14" y="0"/>
                    </a:moveTo>
                    <a:lnTo>
                      <a:pt x="44" y="12"/>
                    </a:lnTo>
                    <a:lnTo>
                      <a:pt x="70" y="68"/>
                    </a:lnTo>
                    <a:lnTo>
                      <a:pt x="100" y="94"/>
                    </a:lnTo>
                    <a:lnTo>
                      <a:pt x="181" y="197"/>
                    </a:lnTo>
                    <a:lnTo>
                      <a:pt x="306" y="292"/>
                    </a:lnTo>
                    <a:lnTo>
                      <a:pt x="443" y="359"/>
                    </a:lnTo>
                    <a:lnTo>
                      <a:pt x="317" y="358"/>
                    </a:lnTo>
                    <a:lnTo>
                      <a:pt x="232" y="304"/>
                    </a:lnTo>
                    <a:lnTo>
                      <a:pt x="149" y="226"/>
                    </a:lnTo>
                    <a:lnTo>
                      <a:pt x="86" y="153"/>
                    </a:lnTo>
                    <a:lnTo>
                      <a:pt x="49" y="107"/>
                    </a:lnTo>
                    <a:lnTo>
                      <a:pt x="11" y="45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692600" y="3394440"/>
                <a:ext cx="657360" cy="423720"/>
              </a:xfrm>
              <a:custGeom>
                <a:avLst/>
                <a:gdLst/>
                <a:ahLst/>
                <a:rect l="l" t="t" r="r" b="b"/>
                <a:pathLst>
                  <a:path w="1244" h="920">
                    <a:moveTo>
                      <a:pt x="390" y="0"/>
                    </a:moveTo>
                    <a:lnTo>
                      <a:pt x="259" y="67"/>
                    </a:lnTo>
                    <a:lnTo>
                      <a:pt x="160" y="110"/>
                    </a:lnTo>
                    <a:lnTo>
                      <a:pt x="20" y="156"/>
                    </a:lnTo>
                    <a:lnTo>
                      <a:pt x="0" y="221"/>
                    </a:lnTo>
                    <a:lnTo>
                      <a:pt x="0" y="355"/>
                    </a:lnTo>
                    <a:lnTo>
                      <a:pt x="41" y="479"/>
                    </a:lnTo>
                    <a:lnTo>
                      <a:pt x="29" y="655"/>
                    </a:lnTo>
                    <a:lnTo>
                      <a:pt x="17" y="722"/>
                    </a:lnTo>
                    <a:lnTo>
                      <a:pt x="50" y="763"/>
                    </a:lnTo>
                    <a:lnTo>
                      <a:pt x="308" y="920"/>
                    </a:lnTo>
                    <a:lnTo>
                      <a:pt x="626" y="908"/>
                    </a:lnTo>
                    <a:lnTo>
                      <a:pt x="712" y="896"/>
                    </a:lnTo>
                    <a:lnTo>
                      <a:pt x="820" y="880"/>
                    </a:lnTo>
                    <a:lnTo>
                      <a:pt x="868" y="815"/>
                    </a:lnTo>
                    <a:lnTo>
                      <a:pt x="919" y="687"/>
                    </a:lnTo>
                    <a:lnTo>
                      <a:pt x="955" y="624"/>
                    </a:lnTo>
                    <a:lnTo>
                      <a:pt x="1001" y="698"/>
                    </a:lnTo>
                    <a:lnTo>
                      <a:pt x="1244" y="651"/>
                    </a:lnTo>
                    <a:lnTo>
                      <a:pt x="1191" y="527"/>
                    </a:lnTo>
                    <a:lnTo>
                      <a:pt x="1167" y="446"/>
                    </a:lnTo>
                    <a:lnTo>
                      <a:pt x="1152" y="310"/>
                    </a:lnTo>
                    <a:lnTo>
                      <a:pt x="1104" y="221"/>
                    </a:lnTo>
                    <a:lnTo>
                      <a:pt x="1092" y="154"/>
                    </a:lnTo>
                    <a:lnTo>
                      <a:pt x="1008" y="110"/>
                    </a:lnTo>
                    <a:lnTo>
                      <a:pt x="917" y="80"/>
                    </a:lnTo>
                    <a:lnTo>
                      <a:pt x="390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056200" y="3313440"/>
                <a:ext cx="136440" cy="159840"/>
              </a:xfrm>
              <a:custGeom>
                <a:avLst/>
                <a:gdLst/>
                <a:ahLst/>
                <a:rect l="l" t="t" r="r" b="b"/>
                <a:pathLst>
                  <a:path w="256" h="349">
                    <a:moveTo>
                      <a:pt x="170" y="0"/>
                    </a:moveTo>
                    <a:lnTo>
                      <a:pt x="144" y="82"/>
                    </a:lnTo>
                    <a:lnTo>
                      <a:pt x="173" y="121"/>
                    </a:lnTo>
                    <a:lnTo>
                      <a:pt x="175" y="138"/>
                    </a:lnTo>
                    <a:lnTo>
                      <a:pt x="143" y="196"/>
                    </a:lnTo>
                    <a:lnTo>
                      <a:pt x="35" y="279"/>
                    </a:lnTo>
                    <a:lnTo>
                      <a:pt x="0" y="296"/>
                    </a:lnTo>
                    <a:lnTo>
                      <a:pt x="39" y="349"/>
                    </a:lnTo>
                    <a:lnTo>
                      <a:pt x="114" y="302"/>
                    </a:lnTo>
                    <a:lnTo>
                      <a:pt x="222" y="176"/>
                    </a:lnTo>
                    <a:lnTo>
                      <a:pt x="256" y="75"/>
                    </a:lnTo>
                    <a:lnTo>
                      <a:pt x="244" y="29"/>
                    </a:lnTo>
                    <a:lnTo>
                      <a:pt x="170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69000" y="3101400"/>
                <a:ext cx="336240" cy="235800"/>
              </a:xfrm>
              <a:custGeom>
                <a:avLst/>
                <a:gdLst/>
                <a:ahLst/>
                <a:rect l="l" t="t" r="r" b="b"/>
                <a:pathLst>
                  <a:path w="636" h="515">
                    <a:moveTo>
                      <a:pt x="51" y="482"/>
                    </a:moveTo>
                    <a:lnTo>
                      <a:pt x="12" y="437"/>
                    </a:lnTo>
                    <a:lnTo>
                      <a:pt x="0" y="217"/>
                    </a:lnTo>
                    <a:lnTo>
                      <a:pt x="103" y="42"/>
                    </a:lnTo>
                    <a:lnTo>
                      <a:pt x="266" y="0"/>
                    </a:lnTo>
                    <a:lnTo>
                      <a:pt x="490" y="41"/>
                    </a:lnTo>
                    <a:lnTo>
                      <a:pt x="636" y="220"/>
                    </a:lnTo>
                    <a:lnTo>
                      <a:pt x="512" y="515"/>
                    </a:lnTo>
                    <a:lnTo>
                      <a:pt x="51" y="482"/>
                    </a:lnTo>
                    <a:lnTo>
                      <a:pt x="51" y="482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97440" y="3123000"/>
                <a:ext cx="189000" cy="88560"/>
              </a:xfrm>
              <a:custGeom>
                <a:avLst/>
                <a:gdLst/>
                <a:ahLst/>
                <a:rect l="l" t="t" r="r" b="b"/>
                <a:pathLst>
                  <a:path w="359" h="190">
                    <a:moveTo>
                      <a:pt x="305" y="43"/>
                    </a:moveTo>
                    <a:lnTo>
                      <a:pt x="240" y="0"/>
                    </a:lnTo>
                    <a:lnTo>
                      <a:pt x="118" y="40"/>
                    </a:lnTo>
                    <a:lnTo>
                      <a:pt x="141" y="87"/>
                    </a:lnTo>
                    <a:lnTo>
                      <a:pt x="43" y="113"/>
                    </a:lnTo>
                    <a:lnTo>
                      <a:pt x="149" y="158"/>
                    </a:lnTo>
                    <a:lnTo>
                      <a:pt x="0" y="175"/>
                    </a:lnTo>
                    <a:lnTo>
                      <a:pt x="150" y="190"/>
                    </a:lnTo>
                    <a:lnTo>
                      <a:pt x="240" y="163"/>
                    </a:lnTo>
                    <a:lnTo>
                      <a:pt x="246" y="187"/>
                    </a:lnTo>
                    <a:lnTo>
                      <a:pt x="305" y="169"/>
                    </a:lnTo>
                    <a:lnTo>
                      <a:pt x="327" y="95"/>
                    </a:lnTo>
                    <a:lnTo>
                      <a:pt x="359" y="62"/>
                    </a:lnTo>
                    <a:lnTo>
                      <a:pt x="346" y="43"/>
                    </a:lnTo>
                    <a:lnTo>
                      <a:pt x="305" y="43"/>
                    </a:lnTo>
                    <a:lnTo>
                      <a:pt x="305" y="4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06800" y="310284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572" h="485">
                    <a:moveTo>
                      <a:pt x="302" y="35"/>
                    </a:moveTo>
                    <a:lnTo>
                      <a:pt x="320" y="62"/>
                    </a:lnTo>
                    <a:lnTo>
                      <a:pt x="391" y="66"/>
                    </a:lnTo>
                    <a:lnTo>
                      <a:pt x="340" y="73"/>
                    </a:lnTo>
                    <a:lnTo>
                      <a:pt x="379" y="95"/>
                    </a:lnTo>
                    <a:lnTo>
                      <a:pt x="336" y="109"/>
                    </a:lnTo>
                    <a:lnTo>
                      <a:pt x="458" y="169"/>
                    </a:lnTo>
                    <a:lnTo>
                      <a:pt x="477" y="222"/>
                    </a:lnTo>
                    <a:lnTo>
                      <a:pt x="428" y="217"/>
                    </a:lnTo>
                    <a:lnTo>
                      <a:pt x="434" y="250"/>
                    </a:lnTo>
                    <a:lnTo>
                      <a:pt x="357" y="253"/>
                    </a:lnTo>
                    <a:lnTo>
                      <a:pt x="307" y="235"/>
                    </a:lnTo>
                    <a:lnTo>
                      <a:pt x="285" y="266"/>
                    </a:lnTo>
                    <a:lnTo>
                      <a:pt x="221" y="255"/>
                    </a:lnTo>
                    <a:lnTo>
                      <a:pt x="157" y="271"/>
                    </a:lnTo>
                    <a:lnTo>
                      <a:pt x="123" y="263"/>
                    </a:lnTo>
                    <a:lnTo>
                      <a:pt x="125" y="241"/>
                    </a:lnTo>
                    <a:lnTo>
                      <a:pt x="75" y="247"/>
                    </a:lnTo>
                    <a:lnTo>
                      <a:pt x="3" y="243"/>
                    </a:lnTo>
                    <a:lnTo>
                      <a:pt x="34" y="275"/>
                    </a:lnTo>
                    <a:lnTo>
                      <a:pt x="16" y="314"/>
                    </a:lnTo>
                    <a:lnTo>
                      <a:pt x="11" y="380"/>
                    </a:lnTo>
                    <a:lnTo>
                      <a:pt x="0" y="405"/>
                    </a:lnTo>
                    <a:lnTo>
                      <a:pt x="75" y="361"/>
                    </a:lnTo>
                    <a:lnTo>
                      <a:pt x="386" y="423"/>
                    </a:lnTo>
                    <a:lnTo>
                      <a:pt x="457" y="485"/>
                    </a:lnTo>
                    <a:lnTo>
                      <a:pt x="495" y="429"/>
                    </a:lnTo>
                    <a:lnTo>
                      <a:pt x="559" y="299"/>
                    </a:lnTo>
                    <a:lnTo>
                      <a:pt x="572" y="207"/>
                    </a:lnTo>
                    <a:lnTo>
                      <a:pt x="532" y="124"/>
                    </a:lnTo>
                    <a:lnTo>
                      <a:pt x="397" y="12"/>
                    </a:lnTo>
                    <a:lnTo>
                      <a:pt x="322" y="0"/>
                    </a:lnTo>
                    <a:lnTo>
                      <a:pt x="269" y="8"/>
                    </a:lnTo>
                    <a:lnTo>
                      <a:pt x="302" y="35"/>
                    </a:lnTo>
                    <a:lnTo>
                      <a:pt x="302" y="35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921200" y="3230280"/>
                <a:ext cx="231840" cy="66240"/>
              </a:xfrm>
              <a:custGeom>
                <a:avLst/>
                <a:gdLst/>
                <a:ahLst/>
                <a:rect l="l" t="t" r="r" b="b"/>
                <a:pathLst>
                  <a:path w="438" h="147">
                    <a:moveTo>
                      <a:pt x="46" y="0"/>
                    </a:moveTo>
                    <a:lnTo>
                      <a:pt x="16" y="33"/>
                    </a:lnTo>
                    <a:lnTo>
                      <a:pt x="0" y="94"/>
                    </a:lnTo>
                    <a:lnTo>
                      <a:pt x="40" y="27"/>
                    </a:lnTo>
                    <a:lnTo>
                      <a:pt x="72" y="21"/>
                    </a:lnTo>
                    <a:lnTo>
                      <a:pt x="65" y="78"/>
                    </a:lnTo>
                    <a:lnTo>
                      <a:pt x="116" y="69"/>
                    </a:lnTo>
                    <a:lnTo>
                      <a:pt x="115" y="98"/>
                    </a:lnTo>
                    <a:lnTo>
                      <a:pt x="307" y="127"/>
                    </a:lnTo>
                    <a:lnTo>
                      <a:pt x="425" y="147"/>
                    </a:lnTo>
                    <a:lnTo>
                      <a:pt x="438" y="76"/>
                    </a:lnTo>
                    <a:lnTo>
                      <a:pt x="408" y="32"/>
                    </a:lnTo>
                    <a:lnTo>
                      <a:pt x="379" y="18"/>
                    </a:lnTo>
                    <a:lnTo>
                      <a:pt x="338" y="20"/>
                    </a:lnTo>
                    <a:lnTo>
                      <a:pt x="300" y="7"/>
                    </a:lnTo>
                    <a:lnTo>
                      <a:pt x="244" y="37"/>
                    </a:lnTo>
                    <a:lnTo>
                      <a:pt x="193" y="8"/>
                    </a:lnTo>
                    <a:lnTo>
                      <a:pt x="150" y="18"/>
                    </a:lnTo>
                    <a:lnTo>
                      <a:pt x="94" y="1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095800" y="3110400"/>
                <a:ext cx="122400" cy="198720"/>
              </a:xfrm>
              <a:custGeom>
                <a:avLst/>
                <a:gdLst/>
                <a:ahLst/>
                <a:rect l="l" t="t" r="r" b="b"/>
                <a:pathLst>
                  <a:path w="232" h="434">
                    <a:moveTo>
                      <a:pt x="30" y="0"/>
                    </a:moveTo>
                    <a:lnTo>
                      <a:pt x="0" y="15"/>
                    </a:lnTo>
                    <a:lnTo>
                      <a:pt x="90" y="70"/>
                    </a:lnTo>
                    <a:lnTo>
                      <a:pt x="172" y="128"/>
                    </a:lnTo>
                    <a:lnTo>
                      <a:pt x="199" y="212"/>
                    </a:lnTo>
                    <a:lnTo>
                      <a:pt x="153" y="223"/>
                    </a:lnTo>
                    <a:lnTo>
                      <a:pt x="194" y="266"/>
                    </a:lnTo>
                    <a:lnTo>
                      <a:pt x="142" y="267"/>
                    </a:lnTo>
                    <a:lnTo>
                      <a:pt x="140" y="353"/>
                    </a:lnTo>
                    <a:lnTo>
                      <a:pt x="117" y="404"/>
                    </a:lnTo>
                    <a:lnTo>
                      <a:pt x="127" y="434"/>
                    </a:lnTo>
                    <a:lnTo>
                      <a:pt x="176" y="398"/>
                    </a:lnTo>
                    <a:lnTo>
                      <a:pt x="205" y="317"/>
                    </a:lnTo>
                    <a:lnTo>
                      <a:pt x="232" y="266"/>
                    </a:lnTo>
                    <a:lnTo>
                      <a:pt x="231" y="174"/>
                    </a:lnTo>
                    <a:lnTo>
                      <a:pt x="182" y="94"/>
                    </a:lnTo>
                    <a:lnTo>
                      <a:pt x="127" y="54"/>
                    </a:lnTo>
                    <a:lnTo>
                      <a:pt x="54" y="3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34000" y="3267000"/>
                <a:ext cx="404640" cy="593640"/>
              </a:xfrm>
              <a:custGeom>
                <a:avLst/>
                <a:gdLst/>
                <a:ahLst/>
                <a:rect l="l" t="t" r="r" b="b"/>
                <a:pathLst>
                  <a:path w="764" h="1286">
                    <a:moveTo>
                      <a:pt x="262" y="0"/>
                    </a:moveTo>
                    <a:lnTo>
                      <a:pt x="296" y="52"/>
                    </a:lnTo>
                    <a:lnTo>
                      <a:pt x="289" y="81"/>
                    </a:lnTo>
                    <a:lnTo>
                      <a:pt x="306" y="105"/>
                    </a:lnTo>
                    <a:lnTo>
                      <a:pt x="340" y="34"/>
                    </a:lnTo>
                    <a:lnTo>
                      <a:pt x="394" y="4"/>
                    </a:lnTo>
                    <a:lnTo>
                      <a:pt x="511" y="2"/>
                    </a:lnTo>
                    <a:lnTo>
                      <a:pt x="764" y="58"/>
                    </a:lnTo>
                    <a:lnTo>
                      <a:pt x="653" y="319"/>
                    </a:lnTo>
                    <a:lnTo>
                      <a:pt x="591" y="395"/>
                    </a:lnTo>
                    <a:lnTo>
                      <a:pt x="508" y="397"/>
                    </a:lnTo>
                    <a:lnTo>
                      <a:pt x="406" y="534"/>
                    </a:lnTo>
                    <a:lnTo>
                      <a:pt x="226" y="1001"/>
                    </a:lnTo>
                    <a:lnTo>
                      <a:pt x="255" y="1286"/>
                    </a:lnTo>
                    <a:lnTo>
                      <a:pt x="207" y="1286"/>
                    </a:lnTo>
                    <a:lnTo>
                      <a:pt x="156" y="1258"/>
                    </a:lnTo>
                    <a:lnTo>
                      <a:pt x="62" y="1161"/>
                    </a:lnTo>
                    <a:lnTo>
                      <a:pt x="30" y="1129"/>
                    </a:lnTo>
                    <a:lnTo>
                      <a:pt x="16" y="1061"/>
                    </a:lnTo>
                    <a:lnTo>
                      <a:pt x="0" y="1017"/>
                    </a:lnTo>
                    <a:lnTo>
                      <a:pt x="43" y="992"/>
                    </a:lnTo>
                    <a:lnTo>
                      <a:pt x="132" y="977"/>
                    </a:lnTo>
                    <a:lnTo>
                      <a:pt x="223" y="847"/>
                    </a:lnTo>
                    <a:lnTo>
                      <a:pt x="271" y="690"/>
                    </a:lnTo>
                    <a:lnTo>
                      <a:pt x="290" y="601"/>
                    </a:lnTo>
                    <a:lnTo>
                      <a:pt x="314" y="525"/>
                    </a:lnTo>
                    <a:lnTo>
                      <a:pt x="306" y="445"/>
                    </a:lnTo>
                    <a:lnTo>
                      <a:pt x="307" y="386"/>
                    </a:lnTo>
                    <a:lnTo>
                      <a:pt x="307" y="301"/>
                    </a:lnTo>
                    <a:lnTo>
                      <a:pt x="323" y="246"/>
                    </a:lnTo>
                    <a:lnTo>
                      <a:pt x="343" y="234"/>
                    </a:lnTo>
                    <a:lnTo>
                      <a:pt x="315" y="183"/>
                    </a:lnTo>
                    <a:lnTo>
                      <a:pt x="296" y="169"/>
                    </a:lnTo>
                    <a:lnTo>
                      <a:pt x="257" y="105"/>
                    </a:lnTo>
                    <a:lnTo>
                      <a:pt x="255" y="14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86280" y="3269160"/>
                <a:ext cx="258840" cy="182160"/>
              </a:xfrm>
              <a:custGeom>
                <a:avLst/>
                <a:gdLst/>
                <a:ahLst/>
                <a:rect l="l" t="t" r="r" b="b"/>
                <a:pathLst>
                  <a:path w="488" h="396">
                    <a:moveTo>
                      <a:pt x="109" y="6"/>
                    </a:moveTo>
                    <a:lnTo>
                      <a:pt x="60" y="35"/>
                    </a:lnTo>
                    <a:lnTo>
                      <a:pt x="32" y="125"/>
                    </a:lnTo>
                    <a:lnTo>
                      <a:pt x="11" y="120"/>
                    </a:lnTo>
                    <a:lnTo>
                      <a:pt x="0" y="139"/>
                    </a:lnTo>
                    <a:lnTo>
                      <a:pt x="21" y="169"/>
                    </a:lnTo>
                    <a:lnTo>
                      <a:pt x="38" y="169"/>
                    </a:lnTo>
                    <a:lnTo>
                      <a:pt x="74" y="276"/>
                    </a:lnTo>
                    <a:lnTo>
                      <a:pt x="151" y="368"/>
                    </a:lnTo>
                    <a:lnTo>
                      <a:pt x="215" y="396"/>
                    </a:lnTo>
                    <a:lnTo>
                      <a:pt x="278" y="394"/>
                    </a:lnTo>
                    <a:lnTo>
                      <a:pt x="306" y="343"/>
                    </a:lnTo>
                    <a:lnTo>
                      <a:pt x="366" y="302"/>
                    </a:lnTo>
                    <a:lnTo>
                      <a:pt x="477" y="162"/>
                    </a:lnTo>
                    <a:lnTo>
                      <a:pt x="488" y="107"/>
                    </a:lnTo>
                    <a:lnTo>
                      <a:pt x="479" y="6"/>
                    </a:lnTo>
                    <a:lnTo>
                      <a:pt x="457" y="26"/>
                    </a:lnTo>
                    <a:lnTo>
                      <a:pt x="421" y="37"/>
                    </a:lnTo>
                    <a:lnTo>
                      <a:pt x="242" y="25"/>
                    </a:lnTo>
                    <a:lnTo>
                      <a:pt x="162" y="0"/>
                    </a:lnTo>
                    <a:lnTo>
                      <a:pt x="109" y="6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54520" y="3370320"/>
                <a:ext cx="528480" cy="492480"/>
              </a:xfrm>
              <a:custGeom>
                <a:avLst/>
                <a:gdLst/>
                <a:ahLst/>
                <a:rect l="l" t="t" r="r" b="b"/>
                <a:pathLst>
                  <a:path w="997" h="1066">
                    <a:moveTo>
                      <a:pt x="279" y="29"/>
                    </a:moveTo>
                    <a:lnTo>
                      <a:pt x="286" y="129"/>
                    </a:lnTo>
                    <a:lnTo>
                      <a:pt x="281" y="190"/>
                    </a:lnTo>
                    <a:lnTo>
                      <a:pt x="297" y="247"/>
                    </a:lnTo>
                    <a:lnTo>
                      <a:pt x="297" y="292"/>
                    </a:lnTo>
                    <a:lnTo>
                      <a:pt x="274" y="356"/>
                    </a:lnTo>
                    <a:lnTo>
                      <a:pt x="250" y="453"/>
                    </a:lnTo>
                    <a:lnTo>
                      <a:pt x="216" y="605"/>
                    </a:lnTo>
                    <a:lnTo>
                      <a:pt x="181" y="694"/>
                    </a:lnTo>
                    <a:lnTo>
                      <a:pt x="107" y="760"/>
                    </a:lnTo>
                    <a:lnTo>
                      <a:pt x="71" y="795"/>
                    </a:lnTo>
                    <a:lnTo>
                      <a:pt x="83" y="760"/>
                    </a:lnTo>
                    <a:lnTo>
                      <a:pt x="33" y="762"/>
                    </a:lnTo>
                    <a:lnTo>
                      <a:pt x="0" y="803"/>
                    </a:lnTo>
                    <a:lnTo>
                      <a:pt x="28" y="909"/>
                    </a:lnTo>
                    <a:lnTo>
                      <a:pt x="104" y="969"/>
                    </a:lnTo>
                    <a:lnTo>
                      <a:pt x="145" y="1034"/>
                    </a:lnTo>
                    <a:lnTo>
                      <a:pt x="190" y="1061"/>
                    </a:lnTo>
                    <a:lnTo>
                      <a:pt x="229" y="1066"/>
                    </a:lnTo>
                    <a:lnTo>
                      <a:pt x="272" y="1042"/>
                    </a:lnTo>
                    <a:lnTo>
                      <a:pt x="302" y="948"/>
                    </a:lnTo>
                    <a:lnTo>
                      <a:pt x="357" y="809"/>
                    </a:lnTo>
                    <a:lnTo>
                      <a:pt x="377" y="705"/>
                    </a:lnTo>
                    <a:lnTo>
                      <a:pt x="381" y="543"/>
                    </a:lnTo>
                    <a:lnTo>
                      <a:pt x="606" y="541"/>
                    </a:lnTo>
                    <a:lnTo>
                      <a:pt x="651" y="410"/>
                    </a:lnTo>
                    <a:lnTo>
                      <a:pt x="658" y="202"/>
                    </a:lnTo>
                    <a:lnTo>
                      <a:pt x="688" y="274"/>
                    </a:lnTo>
                    <a:lnTo>
                      <a:pt x="697" y="305"/>
                    </a:lnTo>
                    <a:lnTo>
                      <a:pt x="724" y="358"/>
                    </a:lnTo>
                    <a:lnTo>
                      <a:pt x="786" y="417"/>
                    </a:lnTo>
                    <a:lnTo>
                      <a:pt x="818" y="492"/>
                    </a:lnTo>
                    <a:lnTo>
                      <a:pt x="840" y="554"/>
                    </a:lnTo>
                    <a:lnTo>
                      <a:pt x="868" y="700"/>
                    </a:lnTo>
                    <a:lnTo>
                      <a:pt x="894" y="838"/>
                    </a:lnTo>
                    <a:lnTo>
                      <a:pt x="911" y="889"/>
                    </a:lnTo>
                    <a:lnTo>
                      <a:pt x="937" y="937"/>
                    </a:lnTo>
                    <a:lnTo>
                      <a:pt x="997" y="997"/>
                    </a:lnTo>
                    <a:lnTo>
                      <a:pt x="829" y="184"/>
                    </a:lnTo>
                    <a:lnTo>
                      <a:pt x="701" y="137"/>
                    </a:lnTo>
                    <a:lnTo>
                      <a:pt x="631" y="176"/>
                    </a:lnTo>
                    <a:lnTo>
                      <a:pt x="624" y="221"/>
                    </a:lnTo>
                    <a:lnTo>
                      <a:pt x="522" y="221"/>
                    </a:lnTo>
                    <a:lnTo>
                      <a:pt x="322" y="47"/>
                    </a:lnTo>
                    <a:lnTo>
                      <a:pt x="297" y="0"/>
                    </a:lnTo>
                    <a:lnTo>
                      <a:pt x="281" y="19"/>
                    </a:lnTo>
                    <a:lnTo>
                      <a:pt x="279" y="29"/>
                    </a:lnTo>
                    <a:lnTo>
                      <a:pt x="279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65680" y="3729960"/>
                <a:ext cx="17280" cy="27360"/>
              </a:xfrm>
              <a:custGeom>
                <a:avLst/>
                <a:gdLst/>
                <a:ahLst/>
                <a:rect l="l" t="t" r="r" b="b"/>
                <a:pathLst>
                  <a:path w="31" h="62">
                    <a:moveTo>
                      <a:pt x="29" y="0"/>
                    </a:moveTo>
                    <a:lnTo>
                      <a:pt x="0" y="13"/>
                    </a:lnTo>
                    <a:lnTo>
                      <a:pt x="12" y="62"/>
                    </a:lnTo>
                    <a:lnTo>
                      <a:pt x="31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110200" y="3460680"/>
                <a:ext cx="290520" cy="389160"/>
              </a:xfrm>
              <a:custGeom>
                <a:avLst/>
                <a:gdLst/>
                <a:ahLst/>
                <a:rect l="l" t="t" r="r" b="b"/>
                <a:pathLst>
                  <a:path w="549" h="845">
                    <a:moveTo>
                      <a:pt x="0" y="0"/>
                    </a:moveTo>
                    <a:lnTo>
                      <a:pt x="29" y="0"/>
                    </a:lnTo>
                    <a:lnTo>
                      <a:pt x="43" y="17"/>
                    </a:lnTo>
                    <a:lnTo>
                      <a:pt x="43" y="52"/>
                    </a:lnTo>
                    <a:lnTo>
                      <a:pt x="84" y="24"/>
                    </a:lnTo>
                    <a:lnTo>
                      <a:pt x="75" y="67"/>
                    </a:lnTo>
                    <a:lnTo>
                      <a:pt x="100" y="54"/>
                    </a:lnTo>
                    <a:lnTo>
                      <a:pt x="116" y="44"/>
                    </a:lnTo>
                    <a:lnTo>
                      <a:pt x="175" y="217"/>
                    </a:lnTo>
                    <a:lnTo>
                      <a:pt x="420" y="499"/>
                    </a:lnTo>
                    <a:lnTo>
                      <a:pt x="541" y="626"/>
                    </a:lnTo>
                    <a:lnTo>
                      <a:pt x="549" y="688"/>
                    </a:lnTo>
                    <a:lnTo>
                      <a:pt x="500" y="771"/>
                    </a:lnTo>
                    <a:lnTo>
                      <a:pt x="456" y="810"/>
                    </a:lnTo>
                    <a:lnTo>
                      <a:pt x="429" y="845"/>
                    </a:lnTo>
                    <a:lnTo>
                      <a:pt x="377" y="845"/>
                    </a:lnTo>
                    <a:lnTo>
                      <a:pt x="332" y="821"/>
                    </a:lnTo>
                    <a:lnTo>
                      <a:pt x="293" y="765"/>
                    </a:lnTo>
                    <a:lnTo>
                      <a:pt x="255" y="710"/>
                    </a:lnTo>
                    <a:lnTo>
                      <a:pt x="232" y="606"/>
                    </a:lnTo>
                    <a:lnTo>
                      <a:pt x="196" y="420"/>
                    </a:lnTo>
                    <a:lnTo>
                      <a:pt x="141" y="238"/>
                    </a:lnTo>
                    <a:lnTo>
                      <a:pt x="109" y="187"/>
                    </a:lnTo>
                    <a:lnTo>
                      <a:pt x="59" y="148"/>
                    </a:lnTo>
                    <a:lnTo>
                      <a:pt x="34" y="101"/>
                    </a:lnTo>
                    <a:lnTo>
                      <a:pt x="25" y="6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32520" y="3490200"/>
                <a:ext cx="25200" cy="42120"/>
              </a:xfrm>
              <a:custGeom>
                <a:avLst/>
                <a:gdLst/>
                <a:ahLst/>
                <a:rect l="l" t="t" r="r" b="b"/>
                <a:pathLst>
                  <a:path w="48" h="93">
                    <a:moveTo>
                      <a:pt x="0" y="11"/>
                    </a:moveTo>
                    <a:lnTo>
                      <a:pt x="4" y="56"/>
                    </a:lnTo>
                    <a:lnTo>
                      <a:pt x="36" y="93"/>
                    </a:lnTo>
                    <a:lnTo>
                      <a:pt x="48" y="54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113440" y="346068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0" y="9"/>
                    </a:moveTo>
                    <a:lnTo>
                      <a:pt x="20" y="44"/>
                    </a:lnTo>
                    <a:lnTo>
                      <a:pt x="31" y="22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8800" y="3425760"/>
                <a:ext cx="292320" cy="436680"/>
              </a:xfrm>
              <a:custGeom>
                <a:avLst/>
                <a:gdLst/>
                <a:ahLst/>
                <a:rect l="l" t="t" r="r" b="b"/>
                <a:pathLst>
                  <a:path w="553" h="948">
                    <a:moveTo>
                      <a:pt x="228" y="23"/>
                    </a:moveTo>
                    <a:lnTo>
                      <a:pt x="228" y="56"/>
                    </a:lnTo>
                    <a:lnTo>
                      <a:pt x="258" y="94"/>
                    </a:lnTo>
                    <a:lnTo>
                      <a:pt x="258" y="125"/>
                    </a:lnTo>
                    <a:lnTo>
                      <a:pt x="210" y="207"/>
                    </a:lnTo>
                    <a:lnTo>
                      <a:pt x="207" y="244"/>
                    </a:lnTo>
                    <a:lnTo>
                      <a:pt x="198" y="299"/>
                    </a:lnTo>
                    <a:lnTo>
                      <a:pt x="169" y="438"/>
                    </a:lnTo>
                    <a:lnTo>
                      <a:pt x="117" y="587"/>
                    </a:lnTo>
                    <a:lnTo>
                      <a:pt x="38" y="658"/>
                    </a:lnTo>
                    <a:lnTo>
                      <a:pt x="0" y="724"/>
                    </a:lnTo>
                    <a:lnTo>
                      <a:pt x="14" y="804"/>
                    </a:lnTo>
                    <a:lnTo>
                      <a:pt x="62" y="864"/>
                    </a:lnTo>
                    <a:lnTo>
                      <a:pt x="78" y="905"/>
                    </a:lnTo>
                    <a:lnTo>
                      <a:pt x="117" y="939"/>
                    </a:lnTo>
                    <a:lnTo>
                      <a:pt x="155" y="948"/>
                    </a:lnTo>
                    <a:lnTo>
                      <a:pt x="191" y="920"/>
                    </a:lnTo>
                    <a:lnTo>
                      <a:pt x="217" y="826"/>
                    </a:lnTo>
                    <a:lnTo>
                      <a:pt x="264" y="718"/>
                    </a:lnTo>
                    <a:lnTo>
                      <a:pt x="289" y="617"/>
                    </a:lnTo>
                    <a:lnTo>
                      <a:pt x="301" y="448"/>
                    </a:lnTo>
                    <a:lnTo>
                      <a:pt x="341" y="507"/>
                    </a:lnTo>
                    <a:lnTo>
                      <a:pt x="412" y="565"/>
                    </a:lnTo>
                    <a:lnTo>
                      <a:pt x="505" y="468"/>
                    </a:lnTo>
                    <a:lnTo>
                      <a:pt x="539" y="403"/>
                    </a:lnTo>
                    <a:lnTo>
                      <a:pt x="553" y="232"/>
                    </a:lnTo>
                    <a:lnTo>
                      <a:pt x="544" y="133"/>
                    </a:lnTo>
                    <a:lnTo>
                      <a:pt x="498" y="139"/>
                    </a:lnTo>
                    <a:lnTo>
                      <a:pt x="462" y="119"/>
                    </a:lnTo>
                    <a:lnTo>
                      <a:pt x="467" y="54"/>
                    </a:lnTo>
                    <a:lnTo>
                      <a:pt x="387" y="54"/>
                    </a:lnTo>
                    <a:lnTo>
                      <a:pt x="319" y="23"/>
                    </a:lnTo>
                    <a:lnTo>
                      <a:pt x="248" y="0"/>
                    </a:lnTo>
                    <a:lnTo>
                      <a:pt x="228" y="23"/>
                    </a:lnTo>
                    <a:lnTo>
                      <a:pt x="228" y="2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911840" y="3377880"/>
                <a:ext cx="20520" cy="53280"/>
              </a:xfrm>
              <a:custGeom>
                <a:avLst/>
                <a:gdLst/>
                <a:ahLst/>
                <a:rect l="l" t="t" r="r" b="b"/>
                <a:pathLst>
                  <a:path w="39" h="119">
                    <a:moveTo>
                      <a:pt x="0" y="0"/>
                    </a:moveTo>
                    <a:lnTo>
                      <a:pt x="0" y="39"/>
                    </a:lnTo>
                    <a:lnTo>
                      <a:pt x="16" y="93"/>
                    </a:lnTo>
                    <a:lnTo>
                      <a:pt x="34" y="119"/>
                    </a:lnTo>
                    <a:lnTo>
                      <a:pt x="39" y="9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65640" y="3451320"/>
                <a:ext cx="222480" cy="399960"/>
              </a:xfrm>
              <a:custGeom>
                <a:avLst/>
                <a:gdLst/>
                <a:ahLst/>
                <a:rect l="l" t="t" r="r" b="b"/>
                <a:pathLst>
                  <a:path w="420" h="870">
                    <a:moveTo>
                      <a:pt x="0" y="43"/>
                    </a:moveTo>
                    <a:lnTo>
                      <a:pt x="9" y="155"/>
                    </a:lnTo>
                    <a:lnTo>
                      <a:pt x="20" y="195"/>
                    </a:lnTo>
                    <a:lnTo>
                      <a:pt x="48" y="261"/>
                    </a:lnTo>
                    <a:lnTo>
                      <a:pt x="113" y="466"/>
                    </a:lnTo>
                    <a:lnTo>
                      <a:pt x="155" y="657"/>
                    </a:lnTo>
                    <a:lnTo>
                      <a:pt x="193" y="750"/>
                    </a:lnTo>
                    <a:lnTo>
                      <a:pt x="260" y="851"/>
                    </a:lnTo>
                    <a:lnTo>
                      <a:pt x="313" y="870"/>
                    </a:lnTo>
                    <a:lnTo>
                      <a:pt x="365" y="819"/>
                    </a:lnTo>
                    <a:lnTo>
                      <a:pt x="399" y="786"/>
                    </a:lnTo>
                    <a:lnTo>
                      <a:pt x="408" y="741"/>
                    </a:lnTo>
                    <a:lnTo>
                      <a:pt x="420" y="696"/>
                    </a:lnTo>
                    <a:lnTo>
                      <a:pt x="411" y="662"/>
                    </a:lnTo>
                    <a:lnTo>
                      <a:pt x="338" y="571"/>
                    </a:lnTo>
                    <a:lnTo>
                      <a:pt x="265" y="468"/>
                    </a:lnTo>
                    <a:lnTo>
                      <a:pt x="186" y="320"/>
                    </a:lnTo>
                    <a:lnTo>
                      <a:pt x="160" y="247"/>
                    </a:lnTo>
                    <a:lnTo>
                      <a:pt x="124" y="208"/>
                    </a:lnTo>
                    <a:lnTo>
                      <a:pt x="91" y="96"/>
                    </a:lnTo>
                    <a:lnTo>
                      <a:pt x="84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27600" y="3399840"/>
                <a:ext cx="156960" cy="457200"/>
              </a:xfrm>
              <a:custGeom>
                <a:avLst/>
                <a:gdLst/>
                <a:ahLst/>
                <a:rect l="l" t="t" r="r" b="b"/>
                <a:pathLst>
                  <a:path w="298" h="992">
                    <a:moveTo>
                      <a:pt x="188" y="0"/>
                    </a:moveTo>
                    <a:lnTo>
                      <a:pt x="195" y="53"/>
                    </a:lnTo>
                    <a:lnTo>
                      <a:pt x="238" y="124"/>
                    </a:lnTo>
                    <a:lnTo>
                      <a:pt x="243" y="152"/>
                    </a:lnTo>
                    <a:lnTo>
                      <a:pt x="229" y="232"/>
                    </a:lnTo>
                    <a:lnTo>
                      <a:pt x="186" y="298"/>
                    </a:lnTo>
                    <a:lnTo>
                      <a:pt x="166" y="339"/>
                    </a:lnTo>
                    <a:lnTo>
                      <a:pt x="147" y="473"/>
                    </a:lnTo>
                    <a:lnTo>
                      <a:pt x="93" y="657"/>
                    </a:lnTo>
                    <a:lnTo>
                      <a:pt x="23" y="761"/>
                    </a:lnTo>
                    <a:lnTo>
                      <a:pt x="0" y="790"/>
                    </a:lnTo>
                    <a:lnTo>
                      <a:pt x="43" y="879"/>
                    </a:lnTo>
                    <a:lnTo>
                      <a:pt x="38" y="935"/>
                    </a:lnTo>
                    <a:lnTo>
                      <a:pt x="71" y="982"/>
                    </a:lnTo>
                    <a:lnTo>
                      <a:pt x="114" y="992"/>
                    </a:lnTo>
                    <a:lnTo>
                      <a:pt x="141" y="980"/>
                    </a:lnTo>
                    <a:lnTo>
                      <a:pt x="164" y="881"/>
                    </a:lnTo>
                    <a:lnTo>
                      <a:pt x="216" y="752"/>
                    </a:lnTo>
                    <a:lnTo>
                      <a:pt x="238" y="655"/>
                    </a:lnTo>
                    <a:lnTo>
                      <a:pt x="245" y="537"/>
                    </a:lnTo>
                    <a:lnTo>
                      <a:pt x="248" y="498"/>
                    </a:lnTo>
                    <a:lnTo>
                      <a:pt x="248" y="447"/>
                    </a:lnTo>
                    <a:lnTo>
                      <a:pt x="255" y="343"/>
                    </a:lnTo>
                    <a:lnTo>
                      <a:pt x="271" y="298"/>
                    </a:lnTo>
                    <a:lnTo>
                      <a:pt x="293" y="245"/>
                    </a:lnTo>
                    <a:lnTo>
                      <a:pt x="298" y="173"/>
                    </a:lnTo>
                    <a:lnTo>
                      <a:pt x="293" y="124"/>
                    </a:lnTo>
                    <a:lnTo>
                      <a:pt x="274" y="90"/>
                    </a:lnTo>
                    <a:lnTo>
                      <a:pt x="236" y="47"/>
                    </a:lnTo>
                    <a:lnTo>
                      <a:pt x="207" y="4"/>
                    </a:lnTo>
                    <a:lnTo>
                      <a:pt x="188" y="0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052960" y="327996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37" y="40"/>
                    </a:moveTo>
                    <a:lnTo>
                      <a:pt x="79" y="42"/>
                    </a:lnTo>
                    <a:lnTo>
                      <a:pt x="113" y="35"/>
                    </a:lnTo>
                    <a:lnTo>
                      <a:pt x="132" y="35"/>
                    </a:lnTo>
                    <a:lnTo>
                      <a:pt x="145" y="46"/>
                    </a:lnTo>
                    <a:lnTo>
                      <a:pt x="122" y="83"/>
                    </a:lnTo>
                    <a:lnTo>
                      <a:pt x="90" y="75"/>
                    </a:lnTo>
                    <a:lnTo>
                      <a:pt x="50" y="66"/>
                    </a:lnTo>
                    <a:lnTo>
                      <a:pt x="29" y="77"/>
                    </a:lnTo>
                    <a:lnTo>
                      <a:pt x="47" y="77"/>
                    </a:lnTo>
                    <a:lnTo>
                      <a:pt x="49" y="91"/>
                    </a:lnTo>
                    <a:lnTo>
                      <a:pt x="66" y="104"/>
                    </a:lnTo>
                    <a:lnTo>
                      <a:pt x="87" y="97"/>
                    </a:lnTo>
                    <a:lnTo>
                      <a:pt x="110" y="92"/>
                    </a:lnTo>
                    <a:lnTo>
                      <a:pt x="115" y="97"/>
                    </a:lnTo>
                    <a:lnTo>
                      <a:pt x="87" y="119"/>
                    </a:lnTo>
                    <a:lnTo>
                      <a:pt x="7" y="109"/>
                    </a:lnTo>
                    <a:lnTo>
                      <a:pt x="0" y="29"/>
                    </a:lnTo>
                    <a:lnTo>
                      <a:pt x="67" y="2"/>
                    </a:lnTo>
                    <a:lnTo>
                      <a:pt x="96" y="0"/>
                    </a:lnTo>
                    <a:lnTo>
                      <a:pt x="136" y="8"/>
                    </a:lnTo>
                    <a:lnTo>
                      <a:pt x="122" y="28"/>
                    </a:lnTo>
                    <a:lnTo>
                      <a:pt x="95" y="28"/>
                    </a:lnTo>
                    <a:lnTo>
                      <a:pt x="37" y="4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24440" y="3267000"/>
                <a:ext cx="220680" cy="184320"/>
              </a:xfrm>
              <a:custGeom>
                <a:avLst/>
                <a:gdLst/>
                <a:ahLst/>
                <a:rect l="l" t="t" r="r" b="b"/>
                <a:pathLst>
                  <a:path w="415" h="402">
                    <a:moveTo>
                      <a:pt x="127" y="0"/>
                    </a:moveTo>
                    <a:lnTo>
                      <a:pt x="47" y="12"/>
                    </a:lnTo>
                    <a:lnTo>
                      <a:pt x="42" y="31"/>
                    </a:lnTo>
                    <a:lnTo>
                      <a:pt x="113" y="43"/>
                    </a:lnTo>
                    <a:lnTo>
                      <a:pt x="149" y="56"/>
                    </a:lnTo>
                    <a:lnTo>
                      <a:pt x="149" y="70"/>
                    </a:lnTo>
                    <a:lnTo>
                      <a:pt x="92" y="59"/>
                    </a:lnTo>
                    <a:lnTo>
                      <a:pt x="50" y="61"/>
                    </a:lnTo>
                    <a:lnTo>
                      <a:pt x="23" y="77"/>
                    </a:lnTo>
                    <a:lnTo>
                      <a:pt x="39" y="90"/>
                    </a:lnTo>
                    <a:lnTo>
                      <a:pt x="71" y="83"/>
                    </a:lnTo>
                    <a:lnTo>
                      <a:pt x="95" y="92"/>
                    </a:lnTo>
                    <a:lnTo>
                      <a:pt x="144" y="92"/>
                    </a:lnTo>
                    <a:lnTo>
                      <a:pt x="166" y="105"/>
                    </a:lnTo>
                    <a:lnTo>
                      <a:pt x="181" y="102"/>
                    </a:lnTo>
                    <a:lnTo>
                      <a:pt x="187" y="151"/>
                    </a:lnTo>
                    <a:lnTo>
                      <a:pt x="177" y="198"/>
                    </a:lnTo>
                    <a:lnTo>
                      <a:pt x="178" y="227"/>
                    </a:lnTo>
                    <a:lnTo>
                      <a:pt x="191" y="238"/>
                    </a:lnTo>
                    <a:lnTo>
                      <a:pt x="173" y="226"/>
                    </a:lnTo>
                    <a:lnTo>
                      <a:pt x="172" y="204"/>
                    </a:lnTo>
                    <a:lnTo>
                      <a:pt x="164" y="210"/>
                    </a:lnTo>
                    <a:lnTo>
                      <a:pt x="164" y="224"/>
                    </a:lnTo>
                    <a:lnTo>
                      <a:pt x="145" y="218"/>
                    </a:lnTo>
                    <a:lnTo>
                      <a:pt x="138" y="197"/>
                    </a:lnTo>
                    <a:lnTo>
                      <a:pt x="158" y="170"/>
                    </a:lnTo>
                    <a:lnTo>
                      <a:pt x="149" y="149"/>
                    </a:lnTo>
                    <a:lnTo>
                      <a:pt x="170" y="127"/>
                    </a:lnTo>
                    <a:lnTo>
                      <a:pt x="164" y="113"/>
                    </a:lnTo>
                    <a:lnTo>
                      <a:pt x="144" y="122"/>
                    </a:lnTo>
                    <a:lnTo>
                      <a:pt x="137" y="107"/>
                    </a:lnTo>
                    <a:lnTo>
                      <a:pt x="129" y="108"/>
                    </a:lnTo>
                    <a:lnTo>
                      <a:pt x="127" y="123"/>
                    </a:lnTo>
                    <a:lnTo>
                      <a:pt x="108" y="127"/>
                    </a:lnTo>
                    <a:lnTo>
                      <a:pt x="78" y="127"/>
                    </a:lnTo>
                    <a:lnTo>
                      <a:pt x="46" y="113"/>
                    </a:lnTo>
                    <a:lnTo>
                      <a:pt x="33" y="97"/>
                    </a:lnTo>
                    <a:lnTo>
                      <a:pt x="14" y="91"/>
                    </a:lnTo>
                    <a:lnTo>
                      <a:pt x="2" y="106"/>
                    </a:lnTo>
                    <a:lnTo>
                      <a:pt x="0" y="170"/>
                    </a:lnTo>
                    <a:lnTo>
                      <a:pt x="11" y="217"/>
                    </a:lnTo>
                    <a:lnTo>
                      <a:pt x="16" y="265"/>
                    </a:lnTo>
                    <a:lnTo>
                      <a:pt x="33" y="307"/>
                    </a:lnTo>
                    <a:lnTo>
                      <a:pt x="85" y="377"/>
                    </a:lnTo>
                    <a:lnTo>
                      <a:pt x="142" y="402"/>
                    </a:lnTo>
                    <a:lnTo>
                      <a:pt x="192" y="402"/>
                    </a:lnTo>
                    <a:lnTo>
                      <a:pt x="208" y="380"/>
                    </a:lnTo>
                    <a:lnTo>
                      <a:pt x="217" y="347"/>
                    </a:lnTo>
                    <a:lnTo>
                      <a:pt x="199" y="322"/>
                    </a:lnTo>
                    <a:lnTo>
                      <a:pt x="143" y="319"/>
                    </a:lnTo>
                    <a:lnTo>
                      <a:pt x="109" y="299"/>
                    </a:lnTo>
                    <a:lnTo>
                      <a:pt x="97" y="268"/>
                    </a:lnTo>
                    <a:lnTo>
                      <a:pt x="192" y="269"/>
                    </a:lnTo>
                    <a:lnTo>
                      <a:pt x="266" y="281"/>
                    </a:lnTo>
                    <a:lnTo>
                      <a:pt x="291" y="283"/>
                    </a:lnTo>
                    <a:lnTo>
                      <a:pt x="284" y="291"/>
                    </a:lnTo>
                    <a:lnTo>
                      <a:pt x="266" y="301"/>
                    </a:lnTo>
                    <a:lnTo>
                      <a:pt x="264" y="313"/>
                    </a:lnTo>
                    <a:lnTo>
                      <a:pt x="259" y="325"/>
                    </a:lnTo>
                    <a:lnTo>
                      <a:pt x="300" y="307"/>
                    </a:lnTo>
                    <a:lnTo>
                      <a:pt x="348" y="277"/>
                    </a:lnTo>
                    <a:lnTo>
                      <a:pt x="376" y="246"/>
                    </a:lnTo>
                    <a:lnTo>
                      <a:pt x="399" y="201"/>
                    </a:lnTo>
                    <a:lnTo>
                      <a:pt x="415" y="116"/>
                    </a:lnTo>
                    <a:lnTo>
                      <a:pt x="402" y="70"/>
                    </a:lnTo>
                    <a:lnTo>
                      <a:pt x="360" y="179"/>
                    </a:lnTo>
                    <a:lnTo>
                      <a:pt x="244" y="139"/>
                    </a:lnTo>
                    <a:lnTo>
                      <a:pt x="196" y="33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56120" y="3457080"/>
                <a:ext cx="108000" cy="215640"/>
              </a:xfrm>
              <a:custGeom>
                <a:avLst/>
                <a:gdLst/>
                <a:ahLst/>
                <a:rect l="l" t="t" r="r" b="b"/>
                <a:pathLst>
                  <a:path w="203" h="467">
                    <a:moveTo>
                      <a:pt x="143" y="0"/>
                    </a:moveTo>
                    <a:lnTo>
                      <a:pt x="128" y="30"/>
                    </a:lnTo>
                    <a:lnTo>
                      <a:pt x="152" y="54"/>
                    </a:lnTo>
                    <a:lnTo>
                      <a:pt x="150" y="70"/>
                    </a:lnTo>
                    <a:lnTo>
                      <a:pt x="102" y="79"/>
                    </a:lnTo>
                    <a:lnTo>
                      <a:pt x="114" y="107"/>
                    </a:lnTo>
                    <a:lnTo>
                      <a:pt x="119" y="154"/>
                    </a:lnTo>
                    <a:lnTo>
                      <a:pt x="148" y="214"/>
                    </a:lnTo>
                    <a:lnTo>
                      <a:pt x="176" y="320"/>
                    </a:lnTo>
                    <a:lnTo>
                      <a:pt x="171" y="365"/>
                    </a:lnTo>
                    <a:lnTo>
                      <a:pt x="203" y="406"/>
                    </a:lnTo>
                    <a:lnTo>
                      <a:pt x="142" y="467"/>
                    </a:lnTo>
                    <a:lnTo>
                      <a:pt x="102" y="408"/>
                    </a:lnTo>
                    <a:lnTo>
                      <a:pt x="76" y="371"/>
                    </a:lnTo>
                    <a:lnTo>
                      <a:pt x="128" y="334"/>
                    </a:lnTo>
                    <a:lnTo>
                      <a:pt x="90" y="313"/>
                    </a:lnTo>
                    <a:lnTo>
                      <a:pt x="50" y="322"/>
                    </a:lnTo>
                    <a:lnTo>
                      <a:pt x="50" y="394"/>
                    </a:lnTo>
                    <a:lnTo>
                      <a:pt x="0" y="356"/>
                    </a:lnTo>
                    <a:lnTo>
                      <a:pt x="2" y="328"/>
                    </a:lnTo>
                    <a:lnTo>
                      <a:pt x="9" y="309"/>
                    </a:lnTo>
                    <a:lnTo>
                      <a:pt x="9" y="294"/>
                    </a:lnTo>
                    <a:lnTo>
                      <a:pt x="23" y="212"/>
                    </a:lnTo>
                    <a:lnTo>
                      <a:pt x="55" y="120"/>
                    </a:lnTo>
                    <a:lnTo>
                      <a:pt x="69" y="15"/>
                    </a:lnTo>
                    <a:lnTo>
                      <a:pt x="95" y="2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48280" y="3494160"/>
                <a:ext cx="31680" cy="86400"/>
              </a:xfrm>
              <a:custGeom>
                <a:avLst/>
                <a:gdLst/>
                <a:ahLst/>
                <a:rect l="l" t="t" r="r" b="b"/>
                <a:pathLst>
                  <a:path w="62" h="187">
                    <a:moveTo>
                      <a:pt x="23" y="3"/>
                    </a:moveTo>
                    <a:lnTo>
                      <a:pt x="17" y="30"/>
                    </a:lnTo>
                    <a:lnTo>
                      <a:pt x="0" y="47"/>
                    </a:lnTo>
                    <a:lnTo>
                      <a:pt x="23" y="56"/>
                    </a:lnTo>
                    <a:lnTo>
                      <a:pt x="23" y="86"/>
                    </a:lnTo>
                    <a:lnTo>
                      <a:pt x="39" y="120"/>
                    </a:lnTo>
                    <a:lnTo>
                      <a:pt x="59" y="187"/>
                    </a:lnTo>
                    <a:lnTo>
                      <a:pt x="62" y="127"/>
                    </a:lnTo>
                    <a:lnTo>
                      <a:pt x="34" y="28"/>
                    </a:lnTo>
                    <a:lnTo>
                      <a:pt x="39" y="0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83120" y="3388680"/>
                <a:ext cx="82440" cy="18720"/>
              </a:xfrm>
              <a:custGeom>
                <a:avLst/>
                <a:gdLst/>
                <a:ahLst/>
                <a:rect l="l" t="t" r="r" b="b"/>
                <a:pathLst>
                  <a:path w="155" h="36">
                    <a:moveTo>
                      <a:pt x="0" y="2"/>
                    </a:moveTo>
                    <a:lnTo>
                      <a:pt x="12" y="0"/>
                    </a:lnTo>
                    <a:lnTo>
                      <a:pt x="124" y="5"/>
                    </a:lnTo>
                    <a:lnTo>
                      <a:pt x="155" y="11"/>
                    </a:lnTo>
                    <a:lnTo>
                      <a:pt x="139" y="22"/>
                    </a:lnTo>
                    <a:lnTo>
                      <a:pt x="103" y="36"/>
                    </a:lnTo>
                    <a:lnTo>
                      <a:pt x="48" y="36"/>
                    </a:lnTo>
                    <a:lnTo>
                      <a:pt x="15" y="19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78440" y="3261600"/>
                <a:ext cx="160200" cy="130680"/>
              </a:xfrm>
              <a:custGeom>
                <a:avLst/>
                <a:gdLst/>
                <a:ahLst/>
                <a:rect l="l" t="t" r="r" b="b"/>
                <a:pathLst>
                  <a:path w="305" h="282">
                    <a:moveTo>
                      <a:pt x="74" y="18"/>
                    </a:moveTo>
                    <a:lnTo>
                      <a:pt x="45" y="0"/>
                    </a:lnTo>
                    <a:lnTo>
                      <a:pt x="14" y="23"/>
                    </a:lnTo>
                    <a:lnTo>
                      <a:pt x="0" y="31"/>
                    </a:lnTo>
                    <a:lnTo>
                      <a:pt x="15" y="51"/>
                    </a:lnTo>
                    <a:lnTo>
                      <a:pt x="68" y="64"/>
                    </a:lnTo>
                    <a:lnTo>
                      <a:pt x="81" y="80"/>
                    </a:lnTo>
                    <a:lnTo>
                      <a:pt x="80" y="90"/>
                    </a:lnTo>
                    <a:lnTo>
                      <a:pt x="96" y="126"/>
                    </a:lnTo>
                    <a:lnTo>
                      <a:pt x="96" y="193"/>
                    </a:lnTo>
                    <a:lnTo>
                      <a:pt x="82" y="212"/>
                    </a:lnTo>
                    <a:lnTo>
                      <a:pt x="89" y="230"/>
                    </a:lnTo>
                    <a:lnTo>
                      <a:pt x="110" y="239"/>
                    </a:lnTo>
                    <a:lnTo>
                      <a:pt x="110" y="248"/>
                    </a:lnTo>
                    <a:lnTo>
                      <a:pt x="98" y="258"/>
                    </a:lnTo>
                    <a:lnTo>
                      <a:pt x="66" y="258"/>
                    </a:lnTo>
                    <a:lnTo>
                      <a:pt x="51" y="268"/>
                    </a:lnTo>
                    <a:lnTo>
                      <a:pt x="89" y="278"/>
                    </a:lnTo>
                    <a:lnTo>
                      <a:pt x="145" y="282"/>
                    </a:lnTo>
                    <a:lnTo>
                      <a:pt x="187" y="281"/>
                    </a:lnTo>
                    <a:lnTo>
                      <a:pt x="260" y="259"/>
                    </a:lnTo>
                    <a:lnTo>
                      <a:pt x="293" y="207"/>
                    </a:lnTo>
                    <a:lnTo>
                      <a:pt x="305" y="118"/>
                    </a:lnTo>
                    <a:lnTo>
                      <a:pt x="303" y="75"/>
                    </a:lnTo>
                    <a:lnTo>
                      <a:pt x="302" y="40"/>
                    </a:lnTo>
                    <a:lnTo>
                      <a:pt x="288" y="39"/>
                    </a:lnTo>
                    <a:lnTo>
                      <a:pt x="244" y="51"/>
                    </a:lnTo>
                    <a:lnTo>
                      <a:pt x="281" y="81"/>
                    </a:lnTo>
                    <a:lnTo>
                      <a:pt x="279" y="92"/>
                    </a:lnTo>
                    <a:lnTo>
                      <a:pt x="253" y="81"/>
                    </a:lnTo>
                    <a:lnTo>
                      <a:pt x="194" y="90"/>
                    </a:lnTo>
                    <a:lnTo>
                      <a:pt x="202" y="101"/>
                    </a:lnTo>
                    <a:lnTo>
                      <a:pt x="245" y="106"/>
                    </a:lnTo>
                    <a:lnTo>
                      <a:pt x="258" y="124"/>
                    </a:lnTo>
                    <a:lnTo>
                      <a:pt x="242" y="143"/>
                    </a:lnTo>
                    <a:lnTo>
                      <a:pt x="213" y="151"/>
                    </a:lnTo>
                    <a:lnTo>
                      <a:pt x="177" y="146"/>
                    </a:lnTo>
                    <a:lnTo>
                      <a:pt x="159" y="131"/>
                    </a:lnTo>
                    <a:lnTo>
                      <a:pt x="160" y="70"/>
                    </a:lnTo>
                    <a:lnTo>
                      <a:pt x="224" y="52"/>
                    </a:lnTo>
                    <a:lnTo>
                      <a:pt x="243" y="41"/>
                    </a:lnTo>
                    <a:lnTo>
                      <a:pt x="212" y="39"/>
                    </a:lnTo>
                    <a:lnTo>
                      <a:pt x="165" y="36"/>
                    </a:lnTo>
                    <a:lnTo>
                      <a:pt x="109" y="39"/>
                    </a:lnTo>
                    <a:lnTo>
                      <a:pt x="89" y="25"/>
                    </a:lnTo>
                    <a:lnTo>
                      <a:pt x="74" y="18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944960" y="332964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99" y="0"/>
                    </a:moveTo>
                    <a:lnTo>
                      <a:pt x="26" y="33"/>
                    </a:lnTo>
                    <a:lnTo>
                      <a:pt x="10" y="63"/>
                    </a:lnTo>
                    <a:lnTo>
                      <a:pt x="10" y="92"/>
                    </a:lnTo>
                    <a:lnTo>
                      <a:pt x="0" y="130"/>
                    </a:lnTo>
                    <a:lnTo>
                      <a:pt x="34" y="189"/>
                    </a:lnTo>
                    <a:lnTo>
                      <a:pt x="70" y="198"/>
                    </a:lnTo>
                    <a:lnTo>
                      <a:pt x="59" y="142"/>
                    </a:lnTo>
                    <a:lnTo>
                      <a:pt x="49" y="114"/>
                    </a:lnTo>
                    <a:lnTo>
                      <a:pt x="73" y="109"/>
                    </a:lnTo>
                    <a:lnTo>
                      <a:pt x="104" y="91"/>
                    </a:lnTo>
                    <a:lnTo>
                      <a:pt x="99" y="57"/>
                    </a:lnTo>
                    <a:lnTo>
                      <a:pt x="117" y="22"/>
                    </a:lnTo>
                    <a:lnTo>
                      <a:pt x="105" y="17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962600" y="3296520"/>
                <a:ext cx="23760" cy="900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0"/>
                    </a:moveTo>
                    <a:lnTo>
                      <a:pt x="7" y="11"/>
                    </a:lnTo>
                    <a:lnTo>
                      <a:pt x="31" y="11"/>
                    </a:lnTo>
                    <a:lnTo>
                      <a:pt x="44" y="20"/>
                    </a:lnTo>
                    <a:lnTo>
                      <a:pt x="44" y="6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992480" y="3414600"/>
                <a:ext cx="24120" cy="313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22" y="0"/>
                    </a:moveTo>
                    <a:lnTo>
                      <a:pt x="0" y="16"/>
                    </a:lnTo>
                    <a:lnTo>
                      <a:pt x="0" y="45"/>
                    </a:lnTo>
                    <a:lnTo>
                      <a:pt x="31" y="65"/>
                    </a:lnTo>
                    <a:lnTo>
                      <a:pt x="45" y="47"/>
                    </a:lnTo>
                    <a:lnTo>
                      <a:pt x="22" y="25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76720" y="339984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4" y="0"/>
                    </a:moveTo>
                    <a:lnTo>
                      <a:pt x="0" y="19"/>
                    </a:lnTo>
                    <a:lnTo>
                      <a:pt x="38" y="3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065560" y="330408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1" y="0"/>
                    </a:moveTo>
                    <a:lnTo>
                      <a:pt x="0" y="15"/>
                    </a:lnTo>
                    <a:lnTo>
                      <a:pt x="18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72120" y="3420000"/>
                <a:ext cx="198360" cy="425880"/>
              </a:xfrm>
              <a:custGeom>
                <a:avLst/>
                <a:gdLst/>
                <a:ahLst/>
                <a:rect l="l" t="t" r="r" b="b"/>
                <a:pathLst>
                  <a:path w="377" h="923">
                    <a:moveTo>
                      <a:pt x="0" y="121"/>
                    </a:moveTo>
                    <a:lnTo>
                      <a:pt x="12" y="164"/>
                    </a:lnTo>
                    <a:lnTo>
                      <a:pt x="27" y="242"/>
                    </a:lnTo>
                    <a:lnTo>
                      <a:pt x="53" y="321"/>
                    </a:lnTo>
                    <a:lnTo>
                      <a:pt x="103" y="479"/>
                    </a:lnTo>
                    <a:lnTo>
                      <a:pt x="168" y="718"/>
                    </a:lnTo>
                    <a:lnTo>
                      <a:pt x="248" y="851"/>
                    </a:lnTo>
                    <a:lnTo>
                      <a:pt x="277" y="923"/>
                    </a:lnTo>
                    <a:lnTo>
                      <a:pt x="298" y="919"/>
                    </a:lnTo>
                    <a:lnTo>
                      <a:pt x="311" y="834"/>
                    </a:lnTo>
                    <a:lnTo>
                      <a:pt x="339" y="872"/>
                    </a:lnTo>
                    <a:lnTo>
                      <a:pt x="375" y="834"/>
                    </a:lnTo>
                    <a:lnTo>
                      <a:pt x="377" y="731"/>
                    </a:lnTo>
                    <a:lnTo>
                      <a:pt x="306" y="618"/>
                    </a:lnTo>
                    <a:lnTo>
                      <a:pt x="220" y="465"/>
                    </a:lnTo>
                    <a:lnTo>
                      <a:pt x="162" y="362"/>
                    </a:lnTo>
                    <a:lnTo>
                      <a:pt x="146" y="309"/>
                    </a:lnTo>
                    <a:lnTo>
                      <a:pt x="111" y="268"/>
                    </a:lnTo>
                    <a:lnTo>
                      <a:pt x="82" y="165"/>
                    </a:lnTo>
                    <a:lnTo>
                      <a:pt x="75" y="57"/>
                    </a:lnTo>
                    <a:lnTo>
                      <a:pt x="36" y="0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935600" y="3414600"/>
                <a:ext cx="28440" cy="40320"/>
              </a:xfrm>
              <a:custGeom>
                <a:avLst/>
                <a:gdLst/>
                <a:ahLst/>
                <a:rect l="l" t="t" r="r" b="b"/>
                <a:pathLst>
                  <a:path w="54" h="86">
                    <a:moveTo>
                      <a:pt x="0" y="0"/>
                    </a:moveTo>
                    <a:lnTo>
                      <a:pt x="22" y="55"/>
                    </a:lnTo>
                    <a:lnTo>
                      <a:pt x="53" y="86"/>
                    </a:lnTo>
                    <a:lnTo>
                      <a:pt x="54" y="65"/>
                    </a:lnTo>
                    <a:lnTo>
                      <a:pt x="19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924440" y="3451320"/>
                <a:ext cx="54000" cy="134640"/>
              </a:xfrm>
              <a:custGeom>
                <a:avLst/>
                <a:gdLst/>
                <a:ahLst/>
                <a:rect l="l" t="t" r="r" b="b"/>
                <a:pathLst>
                  <a:path w="101" h="292">
                    <a:moveTo>
                      <a:pt x="88" y="0"/>
                    </a:moveTo>
                    <a:lnTo>
                      <a:pt x="101" y="31"/>
                    </a:lnTo>
                    <a:lnTo>
                      <a:pt x="101" y="128"/>
                    </a:lnTo>
                    <a:lnTo>
                      <a:pt x="65" y="200"/>
                    </a:lnTo>
                    <a:lnTo>
                      <a:pt x="45" y="292"/>
                    </a:lnTo>
                    <a:lnTo>
                      <a:pt x="14" y="286"/>
                    </a:lnTo>
                    <a:lnTo>
                      <a:pt x="0" y="284"/>
                    </a:lnTo>
                    <a:lnTo>
                      <a:pt x="9" y="205"/>
                    </a:lnTo>
                    <a:lnTo>
                      <a:pt x="45" y="162"/>
                    </a:lnTo>
                    <a:lnTo>
                      <a:pt x="72" y="125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876920" y="3598920"/>
                <a:ext cx="74520" cy="252360"/>
              </a:xfrm>
              <a:custGeom>
                <a:avLst/>
                <a:gdLst/>
                <a:ahLst/>
                <a:rect l="l" t="t" r="r" b="b"/>
                <a:pathLst>
                  <a:path w="141" h="549">
                    <a:moveTo>
                      <a:pt x="84" y="0"/>
                    </a:moveTo>
                    <a:lnTo>
                      <a:pt x="23" y="255"/>
                    </a:lnTo>
                    <a:lnTo>
                      <a:pt x="0" y="379"/>
                    </a:lnTo>
                    <a:lnTo>
                      <a:pt x="17" y="456"/>
                    </a:lnTo>
                    <a:lnTo>
                      <a:pt x="3" y="526"/>
                    </a:lnTo>
                    <a:lnTo>
                      <a:pt x="20" y="549"/>
                    </a:lnTo>
                    <a:lnTo>
                      <a:pt x="43" y="546"/>
                    </a:lnTo>
                    <a:lnTo>
                      <a:pt x="50" y="451"/>
                    </a:lnTo>
                    <a:lnTo>
                      <a:pt x="103" y="329"/>
                    </a:lnTo>
                    <a:lnTo>
                      <a:pt x="132" y="178"/>
                    </a:lnTo>
                    <a:lnTo>
                      <a:pt x="141" y="11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083200" y="3346560"/>
                <a:ext cx="239760" cy="396360"/>
              </a:xfrm>
              <a:custGeom>
                <a:avLst/>
                <a:gdLst/>
                <a:ahLst/>
                <a:rect l="l" t="t" r="r" b="b"/>
                <a:pathLst>
                  <a:path w="455" h="860">
                    <a:moveTo>
                      <a:pt x="0" y="164"/>
                    </a:moveTo>
                    <a:lnTo>
                      <a:pt x="4" y="182"/>
                    </a:lnTo>
                    <a:lnTo>
                      <a:pt x="19" y="199"/>
                    </a:lnTo>
                    <a:lnTo>
                      <a:pt x="67" y="221"/>
                    </a:lnTo>
                    <a:lnTo>
                      <a:pt x="125" y="247"/>
                    </a:lnTo>
                    <a:lnTo>
                      <a:pt x="171" y="275"/>
                    </a:lnTo>
                    <a:lnTo>
                      <a:pt x="197" y="302"/>
                    </a:lnTo>
                    <a:lnTo>
                      <a:pt x="201" y="392"/>
                    </a:lnTo>
                    <a:lnTo>
                      <a:pt x="232" y="430"/>
                    </a:lnTo>
                    <a:lnTo>
                      <a:pt x="232" y="462"/>
                    </a:lnTo>
                    <a:lnTo>
                      <a:pt x="313" y="694"/>
                    </a:lnTo>
                    <a:lnTo>
                      <a:pt x="363" y="784"/>
                    </a:lnTo>
                    <a:lnTo>
                      <a:pt x="432" y="860"/>
                    </a:lnTo>
                    <a:lnTo>
                      <a:pt x="455" y="853"/>
                    </a:lnTo>
                    <a:lnTo>
                      <a:pt x="420" y="717"/>
                    </a:lnTo>
                    <a:lnTo>
                      <a:pt x="316" y="532"/>
                    </a:lnTo>
                    <a:lnTo>
                      <a:pt x="273" y="430"/>
                    </a:lnTo>
                    <a:lnTo>
                      <a:pt x="251" y="322"/>
                    </a:lnTo>
                    <a:lnTo>
                      <a:pt x="240" y="216"/>
                    </a:lnTo>
                    <a:lnTo>
                      <a:pt x="229" y="201"/>
                    </a:lnTo>
                    <a:lnTo>
                      <a:pt x="217" y="166"/>
                    </a:lnTo>
                    <a:lnTo>
                      <a:pt x="211" y="126"/>
                    </a:lnTo>
                    <a:lnTo>
                      <a:pt x="217" y="85"/>
                    </a:lnTo>
                    <a:lnTo>
                      <a:pt x="223" y="42"/>
                    </a:lnTo>
                    <a:lnTo>
                      <a:pt x="217" y="13"/>
                    </a:lnTo>
                    <a:lnTo>
                      <a:pt x="207" y="0"/>
                    </a:lnTo>
                    <a:lnTo>
                      <a:pt x="186" y="58"/>
                    </a:lnTo>
                    <a:lnTo>
                      <a:pt x="161" y="94"/>
                    </a:lnTo>
                    <a:lnTo>
                      <a:pt x="128" y="86"/>
                    </a:lnTo>
                    <a:lnTo>
                      <a:pt x="74" y="88"/>
                    </a:lnTo>
                    <a:lnTo>
                      <a:pt x="53" y="100"/>
                    </a:lnTo>
                    <a:lnTo>
                      <a:pt x="22" y="119"/>
                    </a:lnTo>
                    <a:lnTo>
                      <a:pt x="24" y="148"/>
                    </a:lnTo>
                    <a:lnTo>
                      <a:pt x="0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65840" y="334656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44" y="0"/>
                    </a:moveTo>
                    <a:lnTo>
                      <a:pt x="8" y="14"/>
                    </a:lnTo>
                    <a:lnTo>
                      <a:pt x="0" y="28"/>
                    </a:lnTo>
                    <a:lnTo>
                      <a:pt x="43" y="19"/>
                    </a:lnTo>
                    <a:lnTo>
                      <a:pt x="53" y="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27400" y="3304080"/>
                <a:ext cx="108000" cy="77040"/>
              </a:xfrm>
              <a:custGeom>
                <a:avLst/>
                <a:gdLst/>
                <a:ahLst/>
                <a:rect l="l" t="t" r="r" b="b"/>
                <a:pathLst>
                  <a:path w="205" h="170">
                    <a:moveTo>
                      <a:pt x="0" y="11"/>
                    </a:moveTo>
                    <a:lnTo>
                      <a:pt x="14" y="46"/>
                    </a:lnTo>
                    <a:lnTo>
                      <a:pt x="14" y="106"/>
                    </a:lnTo>
                    <a:lnTo>
                      <a:pt x="1" y="120"/>
                    </a:lnTo>
                    <a:lnTo>
                      <a:pt x="1" y="134"/>
                    </a:lnTo>
                    <a:lnTo>
                      <a:pt x="17" y="144"/>
                    </a:lnTo>
                    <a:lnTo>
                      <a:pt x="36" y="133"/>
                    </a:lnTo>
                    <a:lnTo>
                      <a:pt x="50" y="133"/>
                    </a:lnTo>
                    <a:lnTo>
                      <a:pt x="51" y="128"/>
                    </a:lnTo>
                    <a:lnTo>
                      <a:pt x="43" y="121"/>
                    </a:lnTo>
                    <a:lnTo>
                      <a:pt x="44" y="110"/>
                    </a:lnTo>
                    <a:lnTo>
                      <a:pt x="56" y="103"/>
                    </a:lnTo>
                    <a:lnTo>
                      <a:pt x="93" y="126"/>
                    </a:lnTo>
                    <a:lnTo>
                      <a:pt x="128" y="170"/>
                    </a:lnTo>
                    <a:lnTo>
                      <a:pt x="143" y="169"/>
                    </a:lnTo>
                    <a:lnTo>
                      <a:pt x="179" y="139"/>
                    </a:lnTo>
                    <a:lnTo>
                      <a:pt x="205" y="50"/>
                    </a:lnTo>
                    <a:lnTo>
                      <a:pt x="200" y="11"/>
                    </a:lnTo>
                    <a:lnTo>
                      <a:pt x="189" y="11"/>
                    </a:lnTo>
                    <a:lnTo>
                      <a:pt x="172" y="41"/>
                    </a:lnTo>
                    <a:lnTo>
                      <a:pt x="136" y="81"/>
                    </a:lnTo>
                    <a:lnTo>
                      <a:pt x="101" y="81"/>
                    </a:lnTo>
                    <a:lnTo>
                      <a:pt x="58" y="58"/>
                    </a:lnTo>
                    <a:lnTo>
                      <a:pt x="42" y="40"/>
                    </a:lnTo>
                    <a:lnTo>
                      <a:pt x="41" y="10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992480" y="3272760"/>
                <a:ext cx="105120" cy="23760"/>
              </a:xfrm>
              <a:custGeom>
                <a:avLst/>
                <a:gdLst/>
                <a:ahLst/>
                <a:rect l="l" t="t" r="r" b="b"/>
                <a:pathLst>
                  <a:path w="200" h="53">
                    <a:moveTo>
                      <a:pt x="8" y="24"/>
                    </a:moveTo>
                    <a:lnTo>
                      <a:pt x="47" y="30"/>
                    </a:lnTo>
                    <a:lnTo>
                      <a:pt x="111" y="53"/>
                    </a:lnTo>
                    <a:lnTo>
                      <a:pt x="176" y="32"/>
                    </a:lnTo>
                    <a:lnTo>
                      <a:pt x="200" y="28"/>
                    </a:lnTo>
                    <a:lnTo>
                      <a:pt x="183" y="19"/>
                    </a:lnTo>
                    <a:lnTo>
                      <a:pt x="131" y="15"/>
                    </a:lnTo>
                    <a:lnTo>
                      <a:pt x="103" y="2"/>
                    </a:lnTo>
                    <a:lnTo>
                      <a:pt x="90" y="14"/>
                    </a:lnTo>
                    <a:lnTo>
                      <a:pt x="64" y="4"/>
                    </a:lnTo>
                    <a:lnTo>
                      <a:pt x="54" y="14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11640" y="328572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0" y="4"/>
                    </a:moveTo>
                    <a:lnTo>
                      <a:pt x="35" y="28"/>
                    </a:lnTo>
                    <a:lnTo>
                      <a:pt x="42" y="1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037120" y="33667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39" y="0"/>
                    </a:moveTo>
                    <a:lnTo>
                      <a:pt x="38" y="10"/>
                    </a:lnTo>
                    <a:lnTo>
                      <a:pt x="0" y="27"/>
                    </a:lnTo>
                    <a:lnTo>
                      <a:pt x="10" y="36"/>
                    </a:lnTo>
                    <a:lnTo>
                      <a:pt x="2" y="46"/>
                    </a:lnTo>
                    <a:lnTo>
                      <a:pt x="40" y="53"/>
                    </a:lnTo>
                    <a:lnTo>
                      <a:pt x="40" y="34"/>
                    </a:lnTo>
                    <a:lnTo>
                      <a:pt x="63" y="33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035680" y="335196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15" y="0"/>
                    </a:moveTo>
                    <a:lnTo>
                      <a:pt x="15" y="12"/>
                    </a:lnTo>
                    <a:lnTo>
                      <a:pt x="0" y="26"/>
                    </a:lnTo>
                    <a:lnTo>
                      <a:pt x="2" y="33"/>
                    </a:lnTo>
                    <a:lnTo>
                      <a:pt x="23" y="26"/>
                    </a:lnTo>
                    <a:lnTo>
                      <a:pt x="23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87880" y="3348000"/>
                <a:ext cx="19080" cy="720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17" y="5"/>
                    </a:moveTo>
                    <a:lnTo>
                      <a:pt x="38" y="0"/>
                    </a:lnTo>
                    <a:lnTo>
                      <a:pt x="38" y="16"/>
                    </a:lnTo>
                    <a:lnTo>
                      <a:pt x="17" y="16"/>
                    </a:lnTo>
                    <a:lnTo>
                      <a:pt x="0" y="2"/>
                    </a:lnTo>
                    <a:lnTo>
                      <a:pt x="17" y="5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87880" y="3422160"/>
                <a:ext cx="55440" cy="25920"/>
              </a:xfrm>
              <a:custGeom>
                <a:avLst/>
                <a:gdLst/>
                <a:ahLst/>
                <a:rect l="l" t="t" r="r" b="b"/>
                <a:pathLst>
                  <a:path w="105" h="55">
                    <a:moveTo>
                      <a:pt x="0" y="8"/>
                    </a:moveTo>
                    <a:lnTo>
                      <a:pt x="17" y="23"/>
                    </a:lnTo>
                    <a:lnTo>
                      <a:pt x="69" y="50"/>
                    </a:lnTo>
                    <a:lnTo>
                      <a:pt x="105" y="55"/>
                    </a:lnTo>
                    <a:lnTo>
                      <a:pt x="93" y="33"/>
                    </a:lnTo>
                    <a:lnTo>
                      <a:pt x="67" y="19"/>
                    </a:lnTo>
                    <a:lnTo>
                      <a:pt x="27" y="8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24240" y="3390840"/>
                <a:ext cx="81000" cy="90000"/>
              </a:xfrm>
              <a:custGeom>
                <a:avLst/>
                <a:gdLst/>
                <a:ahLst/>
                <a:rect l="l" t="t" r="r" b="b"/>
                <a:pathLst>
                  <a:path w="151" h="193">
                    <a:moveTo>
                      <a:pt x="53" y="116"/>
                    </a:moveTo>
                    <a:lnTo>
                      <a:pt x="59" y="139"/>
                    </a:lnTo>
                    <a:lnTo>
                      <a:pt x="105" y="177"/>
                    </a:lnTo>
                    <a:lnTo>
                      <a:pt x="112" y="193"/>
                    </a:lnTo>
                    <a:lnTo>
                      <a:pt x="134" y="188"/>
                    </a:lnTo>
                    <a:lnTo>
                      <a:pt x="145" y="168"/>
                    </a:lnTo>
                    <a:lnTo>
                      <a:pt x="151" y="132"/>
                    </a:lnTo>
                    <a:lnTo>
                      <a:pt x="115" y="69"/>
                    </a:lnTo>
                    <a:lnTo>
                      <a:pt x="89" y="12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85" y="33"/>
                    </a:lnTo>
                    <a:lnTo>
                      <a:pt x="106" y="57"/>
                    </a:lnTo>
                    <a:lnTo>
                      <a:pt x="114" y="85"/>
                    </a:lnTo>
                    <a:lnTo>
                      <a:pt x="93" y="77"/>
                    </a:lnTo>
                    <a:lnTo>
                      <a:pt x="88" y="93"/>
                    </a:lnTo>
                    <a:lnTo>
                      <a:pt x="96" y="115"/>
                    </a:lnTo>
                    <a:lnTo>
                      <a:pt x="115" y="140"/>
                    </a:lnTo>
                    <a:lnTo>
                      <a:pt x="135" y="154"/>
                    </a:lnTo>
                    <a:lnTo>
                      <a:pt x="117" y="154"/>
                    </a:lnTo>
                    <a:lnTo>
                      <a:pt x="55" y="106"/>
                    </a:lnTo>
                    <a:lnTo>
                      <a:pt x="53" y="116"/>
                    </a:lnTo>
                    <a:lnTo>
                      <a:pt x="53" y="11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108400" y="340380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9" y="53"/>
                    </a:moveTo>
                    <a:lnTo>
                      <a:pt x="68" y="24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1" y="1"/>
                    </a:lnTo>
                    <a:lnTo>
                      <a:pt x="90" y="19"/>
                    </a:lnTo>
                    <a:lnTo>
                      <a:pt x="118" y="38"/>
                    </a:lnTo>
                    <a:lnTo>
                      <a:pt x="109" y="53"/>
                    </a:lnTo>
                    <a:lnTo>
                      <a:pt x="109" y="53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181480" y="3360960"/>
                <a:ext cx="14400" cy="5184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20" y="0"/>
                    </a:moveTo>
                    <a:lnTo>
                      <a:pt x="16" y="27"/>
                    </a:lnTo>
                    <a:lnTo>
                      <a:pt x="0" y="69"/>
                    </a:lnTo>
                    <a:lnTo>
                      <a:pt x="1" y="89"/>
                    </a:lnTo>
                    <a:lnTo>
                      <a:pt x="14" y="110"/>
                    </a:lnTo>
                    <a:lnTo>
                      <a:pt x="15" y="61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929120" y="354744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32" h="77">
                    <a:moveTo>
                      <a:pt x="0" y="68"/>
                    </a:moveTo>
                    <a:lnTo>
                      <a:pt x="11" y="17"/>
                    </a:lnTo>
                    <a:lnTo>
                      <a:pt x="32" y="0"/>
                    </a:lnTo>
                    <a:lnTo>
                      <a:pt x="30" y="77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921200" y="3606480"/>
                <a:ext cx="20520" cy="73440"/>
              </a:xfrm>
              <a:custGeom>
                <a:avLst/>
                <a:gdLst/>
                <a:ahLst/>
                <a:rect l="l" t="t" r="r" b="b"/>
                <a:pathLst>
                  <a:path w="40" h="160">
                    <a:moveTo>
                      <a:pt x="12" y="0"/>
                    </a:moveTo>
                    <a:lnTo>
                      <a:pt x="7" y="97"/>
                    </a:lnTo>
                    <a:lnTo>
                      <a:pt x="0" y="160"/>
                    </a:lnTo>
                    <a:lnTo>
                      <a:pt x="19" y="118"/>
                    </a:lnTo>
                    <a:lnTo>
                      <a:pt x="4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992480" y="3392280"/>
                <a:ext cx="59040" cy="900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0"/>
                    </a:moveTo>
                    <a:lnTo>
                      <a:pt x="3" y="8"/>
                    </a:lnTo>
                    <a:lnTo>
                      <a:pt x="32" y="19"/>
                    </a:lnTo>
                    <a:lnTo>
                      <a:pt x="55" y="22"/>
                    </a:lnTo>
                    <a:lnTo>
                      <a:pt x="74" y="23"/>
                    </a:lnTo>
                    <a:lnTo>
                      <a:pt x="103" y="16"/>
                    </a:lnTo>
                    <a:lnTo>
                      <a:pt x="110" y="7"/>
                    </a:lnTo>
                    <a:lnTo>
                      <a:pt x="94" y="7"/>
                    </a:lnTo>
                    <a:lnTo>
                      <a:pt x="5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937040" y="3285720"/>
                <a:ext cx="63720" cy="9000"/>
              </a:xfrm>
              <a:custGeom>
                <a:avLst/>
                <a:gdLst/>
                <a:ahLst/>
                <a:rect l="l" t="t" r="r" b="b"/>
                <a:pathLst>
                  <a:path w="121" h="23">
                    <a:moveTo>
                      <a:pt x="7" y="23"/>
                    </a:moveTo>
                    <a:lnTo>
                      <a:pt x="39" y="18"/>
                    </a:lnTo>
                    <a:lnTo>
                      <a:pt x="72" y="17"/>
                    </a:lnTo>
                    <a:lnTo>
                      <a:pt x="110" y="23"/>
                    </a:lnTo>
                    <a:lnTo>
                      <a:pt x="121" y="16"/>
                    </a:lnTo>
                    <a:lnTo>
                      <a:pt x="96" y="10"/>
                    </a:lnTo>
                    <a:lnTo>
                      <a:pt x="75" y="1"/>
                    </a:lnTo>
                    <a:lnTo>
                      <a:pt x="31" y="0"/>
                    </a:lnTo>
                    <a:lnTo>
                      <a:pt x="6" y="12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946760" y="3305880"/>
                <a:ext cx="61920" cy="18360"/>
              </a:xfrm>
              <a:custGeom>
                <a:avLst/>
                <a:gdLst/>
                <a:ahLst/>
                <a:rect l="l" t="t" r="r" b="b"/>
                <a:pathLst>
                  <a:path w="115" h="39">
                    <a:moveTo>
                      <a:pt x="30" y="0"/>
                    </a:moveTo>
                    <a:lnTo>
                      <a:pt x="36" y="0"/>
                    </a:lnTo>
                    <a:lnTo>
                      <a:pt x="39" y="6"/>
                    </a:lnTo>
                    <a:lnTo>
                      <a:pt x="105" y="10"/>
                    </a:lnTo>
                    <a:lnTo>
                      <a:pt x="115" y="21"/>
                    </a:lnTo>
                    <a:lnTo>
                      <a:pt x="104" y="29"/>
                    </a:lnTo>
                    <a:lnTo>
                      <a:pt x="89" y="19"/>
                    </a:lnTo>
                    <a:lnTo>
                      <a:pt x="80" y="25"/>
                    </a:lnTo>
                    <a:lnTo>
                      <a:pt x="74" y="32"/>
                    </a:lnTo>
                    <a:lnTo>
                      <a:pt x="55" y="39"/>
                    </a:lnTo>
                    <a:lnTo>
                      <a:pt x="15" y="30"/>
                    </a:lnTo>
                    <a:lnTo>
                      <a:pt x="0" y="18"/>
                    </a:lnTo>
                    <a:lnTo>
                      <a:pt x="0" y="5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076720" y="3311280"/>
                <a:ext cx="33480" cy="1476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4" y="9"/>
                    </a:moveTo>
                    <a:lnTo>
                      <a:pt x="7" y="21"/>
                    </a:lnTo>
                    <a:lnTo>
                      <a:pt x="27" y="28"/>
                    </a:lnTo>
                    <a:lnTo>
                      <a:pt x="63" y="22"/>
                    </a:lnTo>
                    <a:lnTo>
                      <a:pt x="50" y="9"/>
                    </a:lnTo>
                    <a:lnTo>
                      <a:pt x="11" y="0"/>
                    </a:lnTo>
                    <a:lnTo>
                      <a:pt x="0" y="1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73480" y="328752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0" y="21"/>
                    </a:moveTo>
                    <a:lnTo>
                      <a:pt x="39" y="24"/>
                    </a:lnTo>
                    <a:lnTo>
                      <a:pt x="69" y="21"/>
                    </a:lnTo>
                    <a:lnTo>
                      <a:pt x="93" y="27"/>
                    </a:lnTo>
                    <a:lnTo>
                      <a:pt x="103" y="26"/>
                    </a:lnTo>
                    <a:lnTo>
                      <a:pt x="67" y="0"/>
                    </a:lnTo>
                    <a:lnTo>
                      <a:pt x="26" y="1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008680" y="3405240"/>
                <a:ext cx="41040" cy="720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0"/>
                    </a:moveTo>
                    <a:lnTo>
                      <a:pt x="79" y="1"/>
                    </a:lnTo>
                    <a:lnTo>
                      <a:pt x="66" y="14"/>
                    </a:lnTo>
                    <a:lnTo>
                      <a:pt x="51" y="14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018040" y="3241440"/>
                <a:ext cx="96840" cy="27360"/>
              </a:xfrm>
              <a:custGeom>
                <a:avLst/>
                <a:gdLst/>
                <a:ahLst/>
                <a:rect l="l" t="t" r="r" b="b"/>
                <a:pathLst>
                  <a:path w="183" h="61">
                    <a:moveTo>
                      <a:pt x="0" y="11"/>
                    </a:moveTo>
                    <a:lnTo>
                      <a:pt x="34" y="34"/>
                    </a:lnTo>
                    <a:lnTo>
                      <a:pt x="79" y="27"/>
                    </a:lnTo>
                    <a:lnTo>
                      <a:pt x="123" y="25"/>
                    </a:lnTo>
                    <a:lnTo>
                      <a:pt x="157" y="0"/>
                    </a:lnTo>
                    <a:lnTo>
                      <a:pt x="182" y="19"/>
                    </a:lnTo>
                    <a:lnTo>
                      <a:pt x="183" y="49"/>
                    </a:lnTo>
                    <a:lnTo>
                      <a:pt x="149" y="31"/>
                    </a:lnTo>
                    <a:lnTo>
                      <a:pt x="142" y="61"/>
                    </a:lnTo>
                    <a:lnTo>
                      <a:pt x="64" y="58"/>
                    </a:lnTo>
                    <a:lnTo>
                      <a:pt x="44" y="45"/>
                    </a:lnTo>
                    <a:lnTo>
                      <a:pt x="19" y="59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842000" y="4014000"/>
                <a:ext cx="612720" cy="27720"/>
              </a:xfrm>
              <a:custGeom>
                <a:avLst/>
                <a:gdLst/>
                <a:ahLst/>
                <a:rect l="l" t="t" r="r" b="b"/>
                <a:pathLst>
                  <a:path w="1159" h="57">
                    <a:moveTo>
                      <a:pt x="0" y="10"/>
                    </a:moveTo>
                    <a:lnTo>
                      <a:pt x="1159" y="57"/>
                    </a:lnTo>
                    <a:lnTo>
                      <a:pt x="1156" y="4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843440" y="3984480"/>
                <a:ext cx="614520" cy="36720"/>
              </a:xfrm>
              <a:custGeom>
                <a:avLst/>
                <a:gdLst/>
                <a:ahLst/>
                <a:rect l="l" t="t" r="r" b="b"/>
                <a:pathLst>
                  <a:path w="1163" h="80">
                    <a:moveTo>
                      <a:pt x="0" y="13"/>
                    </a:moveTo>
                    <a:lnTo>
                      <a:pt x="877" y="40"/>
                    </a:lnTo>
                    <a:lnTo>
                      <a:pt x="890" y="73"/>
                    </a:lnTo>
                    <a:lnTo>
                      <a:pt x="1110" y="80"/>
                    </a:lnTo>
                    <a:lnTo>
                      <a:pt x="1124" y="67"/>
                    </a:lnTo>
                    <a:lnTo>
                      <a:pt x="1125" y="47"/>
                    </a:lnTo>
                    <a:lnTo>
                      <a:pt x="1163" y="48"/>
                    </a:lnTo>
                    <a:lnTo>
                      <a:pt x="1151" y="39"/>
                    </a:lnTo>
                    <a:lnTo>
                      <a:pt x="17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925880" y="3971520"/>
                <a:ext cx="184320" cy="16560"/>
              </a:xfrm>
              <a:custGeom>
                <a:avLst/>
                <a:gdLst/>
                <a:ahLst/>
                <a:rect l="l" t="t" r="r" b="b"/>
                <a:pathLst>
                  <a:path w="347" h="35">
                    <a:moveTo>
                      <a:pt x="0" y="25"/>
                    </a:moveTo>
                    <a:lnTo>
                      <a:pt x="11" y="0"/>
                    </a:lnTo>
                    <a:lnTo>
                      <a:pt x="330" y="5"/>
                    </a:lnTo>
                    <a:lnTo>
                      <a:pt x="347" y="3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154480" y="3979080"/>
                <a:ext cx="108000" cy="14400"/>
              </a:xfrm>
              <a:custGeom>
                <a:avLst/>
                <a:gdLst/>
                <a:ahLst/>
                <a:rect l="l" t="t" r="r" b="b"/>
                <a:pathLst>
                  <a:path w="204" h="35">
                    <a:moveTo>
                      <a:pt x="0" y="25"/>
                    </a:moveTo>
                    <a:lnTo>
                      <a:pt x="10" y="0"/>
                    </a:lnTo>
                    <a:lnTo>
                      <a:pt x="190" y="7"/>
                    </a:lnTo>
                    <a:lnTo>
                      <a:pt x="204" y="3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875120" y="3580560"/>
                <a:ext cx="85680" cy="23760"/>
              </a:xfrm>
              <a:custGeom>
                <a:avLst/>
                <a:gdLst/>
                <a:ahLst/>
                <a:rect l="l" t="t" r="r" b="b"/>
                <a:pathLst>
                  <a:path w="160" h="52">
                    <a:moveTo>
                      <a:pt x="8" y="1"/>
                    </a:moveTo>
                    <a:lnTo>
                      <a:pt x="55" y="0"/>
                    </a:lnTo>
                    <a:lnTo>
                      <a:pt x="74" y="5"/>
                    </a:lnTo>
                    <a:lnTo>
                      <a:pt x="130" y="12"/>
                    </a:lnTo>
                    <a:lnTo>
                      <a:pt x="160" y="24"/>
                    </a:lnTo>
                    <a:lnTo>
                      <a:pt x="159" y="52"/>
                    </a:lnTo>
                    <a:lnTo>
                      <a:pt x="113" y="46"/>
                    </a:lnTo>
                    <a:lnTo>
                      <a:pt x="73" y="43"/>
                    </a:lnTo>
                    <a:lnTo>
                      <a:pt x="59" y="48"/>
                    </a:lnTo>
                    <a:lnTo>
                      <a:pt x="7" y="47"/>
                    </a:lnTo>
                    <a:lnTo>
                      <a:pt x="0" y="40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a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878360" y="3580560"/>
                <a:ext cx="31680" cy="16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7" y="38"/>
                    </a:moveTo>
                    <a:lnTo>
                      <a:pt x="61" y="37"/>
                    </a:lnTo>
                    <a:lnTo>
                      <a:pt x="62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0" y="34"/>
                    </a:lnTo>
                    <a:lnTo>
                      <a:pt x="7" y="38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881600" y="358056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51" h="33">
                    <a:moveTo>
                      <a:pt x="5" y="0"/>
                    </a:moveTo>
                    <a:lnTo>
                      <a:pt x="0" y="4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27" y="33"/>
                    </a:lnTo>
                    <a:lnTo>
                      <a:pt x="48" y="16"/>
                    </a:lnTo>
                    <a:lnTo>
                      <a:pt x="44" y="32"/>
                    </a:lnTo>
                    <a:lnTo>
                      <a:pt x="49" y="32"/>
                    </a:lnTo>
                    <a:lnTo>
                      <a:pt x="51" y="7"/>
                    </a:lnTo>
                    <a:lnTo>
                      <a:pt x="41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917960" y="358452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2" y="0"/>
                    </a:moveTo>
                    <a:lnTo>
                      <a:pt x="0" y="33"/>
                    </a:lnTo>
                    <a:lnTo>
                      <a:pt x="34" y="37"/>
                    </a:lnTo>
                    <a:lnTo>
                      <a:pt x="37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887720" y="3598920"/>
                <a:ext cx="12960" cy="180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1" y="0"/>
                    </a:moveTo>
                    <a:lnTo>
                      <a:pt x="23" y="0"/>
                    </a:lnTo>
                    <a:lnTo>
                      <a:pt x="25" y="3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946760" y="358812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25" h="37">
                    <a:moveTo>
                      <a:pt x="2" y="0"/>
                    </a:moveTo>
                    <a:lnTo>
                      <a:pt x="0" y="32"/>
                    </a:lnTo>
                    <a:lnTo>
                      <a:pt x="25" y="37"/>
                    </a:lnTo>
                    <a:lnTo>
                      <a:pt x="25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922640" y="358452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3" y="0"/>
                    </a:moveTo>
                    <a:lnTo>
                      <a:pt x="0" y="34"/>
                    </a:lnTo>
                    <a:lnTo>
                      <a:pt x="17" y="35"/>
                    </a:lnTo>
                    <a:lnTo>
                      <a:pt x="19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875120" y="3355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3"/>
                    </a:moveTo>
                    <a:lnTo>
                      <a:pt x="10" y="45"/>
                    </a:lnTo>
                    <a:lnTo>
                      <a:pt x="0" y="43"/>
                    </a:lnTo>
                    <a:lnTo>
                      <a:pt x="9" y="0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65640" y="342000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4" y="0"/>
                    </a:moveTo>
                    <a:lnTo>
                      <a:pt x="0" y="21"/>
                    </a:lnTo>
                    <a:lnTo>
                      <a:pt x="11" y="21"/>
                    </a:lnTo>
                    <a:lnTo>
                      <a:pt x="18" y="9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175360" y="3416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0"/>
                    </a:moveTo>
                    <a:lnTo>
                      <a:pt x="13" y="4"/>
                    </a:lnTo>
                    <a:lnTo>
                      <a:pt x="13" y="11"/>
                    </a:lnTo>
                    <a:lnTo>
                      <a:pt x="5" y="15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611600" y="3504960"/>
                <a:ext cx="150840" cy="300600"/>
              </a:xfrm>
              <a:custGeom>
                <a:avLst/>
                <a:gdLst/>
                <a:ahLst/>
                <a:rect l="l" t="t" r="r" b="b"/>
                <a:pathLst>
                  <a:path w="284" h="650">
                    <a:moveTo>
                      <a:pt x="143" y="0"/>
                    </a:moveTo>
                    <a:lnTo>
                      <a:pt x="56" y="84"/>
                    </a:lnTo>
                    <a:lnTo>
                      <a:pt x="3" y="231"/>
                    </a:lnTo>
                    <a:lnTo>
                      <a:pt x="0" y="425"/>
                    </a:lnTo>
                    <a:lnTo>
                      <a:pt x="61" y="559"/>
                    </a:lnTo>
                    <a:lnTo>
                      <a:pt x="136" y="619"/>
                    </a:lnTo>
                    <a:lnTo>
                      <a:pt x="228" y="643"/>
                    </a:lnTo>
                    <a:lnTo>
                      <a:pt x="284" y="650"/>
                    </a:lnTo>
                    <a:lnTo>
                      <a:pt x="268" y="626"/>
                    </a:lnTo>
                    <a:lnTo>
                      <a:pt x="213" y="557"/>
                    </a:lnTo>
                    <a:lnTo>
                      <a:pt x="146" y="485"/>
                    </a:lnTo>
                    <a:lnTo>
                      <a:pt x="138" y="412"/>
                    </a:lnTo>
                    <a:lnTo>
                      <a:pt x="69" y="325"/>
                    </a:lnTo>
                    <a:lnTo>
                      <a:pt x="29" y="291"/>
                    </a:lnTo>
                    <a:lnTo>
                      <a:pt x="29" y="215"/>
                    </a:lnTo>
                    <a:lnTo>
                      <a:pt x="56" y="136"/>
                    </a:lnTo>
                    <a:lnTo>
                      <a:pt x="99" y="69"/>
                    </a:lnTo>
                    <a:lnTo>
                      <a:pt x="149" y="36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940280" y="3285720"/>
                <a:ext cx="65160" cy="10800"/>
              </a:xfrm>
              <a:custGeom>
                <a:avLst/>
                <a:gdLst/>
                <a:ahLst/>
                <a:rect l="l" t="t" r="r" b="b"/>
                <a:pathLst>
                  <a:path w="123" h="23">
                    <a:moveTo>
                      <a:pt x="0" y="20"/>
                    </a:moveTo>
                    <a:lnTo>
                      <a:pt x="23" y="14"/>
                    </a:lnTo>
                    <a:lnTo>
                      <a:pt x="60" y="14"/>
                    </a:lnTo>
                    <a:lnTo>
                      <a:pt x="100" y="21"/>
                    </a:lnTo>
                    <a:lnTo>
                      <a:pt x="123" y="23"/>
                    </a:lnTo>
                    <a:lnTo>
                      <a:pt x="115" y="11"/>
                    </a:lnTo>
                    <a:lnTo>
                      <a:pt x="95" y="14"/>
                    </a:lnTo>
                    <a:lnTo>
                      <a:pt x="72" y="2"/>
                    </a:lnTo>
                    <a:lnTo>
                      <a:pt x="24" y="0"/>
                    </a:lnTo>
                    <a:lnTo>
                      <a:pt x="1" y="9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068800" y="3288960"/>
                <a:ext cx="60480" cy="11160"/>
              </a:xfrm>
              <a:custGeom>
                <a:avLst/>
                <a:gdLst/>
                <a:ahLst/>
                <a:rect l="l" t="t" r="r" b="b"/>
                <a:pathLst>
                  <a:path w="114" h="25">
                    <a:moveTo>
                      <a:pt x="0" y="19"/>
                    </a:moveTo>
                    <a:lnTo>
                      <a:pt x="15" y="18"/>
                    </a:lnTo>
                    <a:lnTo>
                      <a:pt x="30" y="19"/>
                    </a:lnTo>
                    <a:lnTo>
                      <a:pt x="75" y="15"/>
                    </a:lnTo>
                    <a:lnTo>
                      <a:pt x="101" y="21"/>
                    </a:lnTo>
                    <a:lnTo>
                      <a:pt x="114" y="25"/>
                    </a:lnTo>
                    <a:lnTo>
                      <a:pt x="103" y="12"/>
                    </a:lnTo>
                    <a:lnTo>
                      <a:pt x="75" y="0"/>
                    </a:lnTo>
                    <a:lnTo>
                      <a:pt x="50" y="6"/>
                    </a:lnTo>
                    <a:lnTo>
                      <a:pt x="15" y="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995720" y="331128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73" h="146">
                    <a:moveTo>
                      <a:pt x="47" y="0"/>
                    </a:moveTo>
                    <a:lnTo>
                      <a:pt x="59" y="23"/>
                    </a:lnTo>
                    <a:lnTo>
                      <a:pt x="59" y="62"/>
                    </a:lnTo>
                    <a:lnTo>
                      <a:pt x="44" y="107"/>
                    </a:lnTo>
                    <a:lnTo>
                      <a:pt x="37" y="95"/>
                    </a:lnTo>
                    <a:lnTo>
                      <a:pt x="25" y="107"/>
                    </a:lnTo>
                    <a:lnTo>
                      <a:pt x="25" y="121"/>
                    </a:lnTo>
                    <a:lnTo>
                      <a:pt x="43" y="122"/>
                    </a:lnTo>
                    <a:lnTo>
                      <a:pt x="55" y="135"/>
                    </a:lnTo>
                    <a:lnTo>
                      <a:pt x="73" y="135"/>
                    </a:lnTo>
                    <a:lnTo>
                      <a:pt x="58" y="146"/>
                    </a:lnTo>
                    <a:lnTo>
                      <a:pt x="50" y="146"/>
                    </a:lnTo>
                    <a:lnTo>
                      <a:pt x="26" y="126"/>
                    </a:lnTo>
                    <a:lnTo>
                      <a:pt x="1" y="121"/>
                    </a:lnTo>
                    <a:lnTo>
                      <a:pt x="0" y="101"/>
                    </a:lnTo>
                    <a:lnTo>
                      <a:pt x="31" y="74"/>
                    </a:lnTo>
                    <a:lnTo>
                      <a:pt x="37" y="49"/>
                    </a:lnTo>
                    <a:lnTo>
                      <a:pt x="17" y="52"/>
                    </a:lnTo>
                    <a:lnTo>
                      <a:pt x="39" y="30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40360" y="336852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9"/>
                    </a:moveTo>
                    <a:lnTo>
                      <a:pt x="9" y="0"/>
                    </a:lnTo>
                    <a:lnTo>
                      <a:pt x="24" y="0"/>
                    </a:lnTo>
                    <a:lnTo>
                      <a:pt x="20" y="7"/>
                    </a:lnTo>
                    <a:lnTo>
                      <a:pt x="10" y="7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52960" y="33555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5" y="0"/>
                    </a:moveTo>
                    <a:lnTo>
                      <a:pt x="33" y="14"/>
                    </a:lnTo>
                    <a:lnTo>
                      <a:pt x="33" y="28"/>
                    </a:lnTo>
                    <a:lnTo>
                      <a:pt x="40" y="54"/>
                    </a:lnTo>
                    <a:lnTo>
                      <a:pt x="26" y="40"/>
                    </a:lnTo>
                    <a:lnTo>
                      <a:pt x="5" y="14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949640" y="3305880"/>
                <a:ext cx="44640" cy="1440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81" y="12"/>
                    </a:moveTo>
                    <a:lnTo>
                      <a:pt x="25" y="12"/>
                    </a:lnTo>
                    <a:lnTo>
                      <a:pt x="25" y="0"/>
                    </a:lnTo>
                    <a:lnTo>
                      <a:pt x="1" y="10"/>
                    </a:lnTo>
                    <a:lnTo>
                      <a:pt x="0" y="22"/>
                    </a:lnTo>
                    <a:lnTo>
                      <a:pt x="39" y="34"/>
                    </a:lnTo>
                    <a:lnTo>
                      <a:pt x="70" y="29"/>
                    </a:lnTo>
                    <a:lnTo>
                      <a:pt x="74" y="21"/>
                    </a:lnTo>
                    <a:lnTo>
                      <a:pt x="84" y="19"/>
                    </a:lnTo>
                    <a:lnTo>
                      <a:pt x="81" y="12"/>
                    </a:lnTo>
                    <a:lnTo>
                      <a:pt x="8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997520" y="33094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0" y="0"/>
                    </a:moveTo>
                    <a:lnTo>
                      <a:pt x="14" y="22"/>
                    </a:lnTo>
                    <a:lnTo>
                      <a:pt x="17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065560" y="3311280"/>
                <a:ext cx="49320" cy="12960"/>
              </a:xfrm>
              <a:custGeom>
                <a:avLst/>
                <a:gdLst/>
                <a:ahLst/>
                <a:rect l="l" t="t" r="r" b="b"/>
                <a:pathLst>
                  <a:path w="92" h="25">
                    <a:moveTo>
                      <a:pt x="0" y="8"/>
                    </a:moveTo>
                    <a:lnTo>
                      <a:pt x="21" y="0"/>
                    </a:lnTo>
                    <a:lnTo>
                      <a:pt x="70" y="9"/>
                    </a:lnTo>
                    <a:lnTo>
                      <a:pt x="92" y="9"/>
                    </a:lnTo>
                    <a:lnTo>
                      <a:pt x="92" y="22"/>
                    </a:lnTo>
                    <a:lnTo>
                      <a:pt x="70" y="22"/>
                    </a:lnTo>
                    <a:lnTo>
                      <a:pt x="61" y="18"/>
                    </a:lnTo>
                    <a:lnTo>
                      <a:pt x="49" y="25"/>
                    </a:lnTo>
                    <a:lnTo>
                      <a:pt x="26" y="18"/>
                    </a:lnTo>
                    <a:lnTo>
                      <a:pt x="25" y="9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65560" y="33148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983120" y="3388680"/>
                <a:ext cx="82440" cy="7200"/>
              </a:xfrm>
              <a:custGeom>
                <a:avLst/>
                <a:gdLst/>
                <a:ahLst/>
                <a:rect l="l" t="t" r="r" b="b"/>
                <a:pathLst>
                  <a:path w="156" h="16">
                    <a:moveTo>
                      <a:pt x="0" y="4"/>
                    </a:moveTo>
                    <a:lnTo>
                      <a:pt x="49" y="0"/>
                    </a:lnTo>
                    <a:lnTo>
                      <a:pt x="82" y="4"/>
                    </a:lnTo>
                    <a:lnTo>
                      <a:pt x="110" y="6"/>
                    </a:lnTo>
                    <a:lnTo>
                      <a:pt x="156" y="16"/>
                    </a:lnTo>
                    <a:lnTo>
                      <a:pt x="120" y="13"/>
                    </a:lnTo>
                    <a:lnTo>
                      <a:pt x="88" y="16"/>
                    </a:lnTo>
                    <a:lnTo>
                      <a:pt x="43" y="1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983120" y="339084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157" h="48">
                    <a:moveTo>
                      <a:pt x="0" y="0"/>
                    </a:moveTo>
                    <a:lnTo>
                      <a:pt x="30" y="20"/>
                    </a:lnTo>
                    <a:lnTo>
                      <a:pt x="54" y="31"/>
                    </a:lnTo>
                    <a:lnTo>
                      <a:pt x="98" y="32"/>
                    </a:lnTo>
                    <a:lnTo>
                      <a:pt x="116" y="26"/>
                    </a:lnTo>
                    <a:lnTo>
                      <a:pt x="140" y="12"/>
                    </a:lnTo>
                    <a:lnTo>
                      <a:pt x="157" y="13"/>
                    </a:lnTo>
                    <a:lnTo>
                      <a:pt x="151" y="26"/>
                    </a:lnTo>
                    <a:lnTo>
                      <a:pt x="117" y="48"/>
                    </a:lnTo>
                    <a:lnTo>
                      <a:pt x="95" y="48"/>
                    </a:lnTo>
                    <a:lnTo>
                      <a:pt x="120" y="37"/>
                    </a:lnTo>
                    <a:lnTo>
                      <a:pt x="54" y="37"/>
                    </a:lnTo>
                    <a:lnTo>
                      <a:pt x="60" y="47"/>
                    </a:lnTo>
                    <a:lnTo>
                      <a:pt x="39" y="45"/>
                    </a:lnTo>
                    <a:lnTo>
                      <a:pt x="9" y="23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849920" y="3193200"/>
                <a:ext cx="69840" cy="132840"/>
              </a:xfrm>
              <a:custGeom>
                <a:avLst/>
                <a:gdLst/>
                <a:ahLst/>
                <a:rect l="l" t="t" r="r" b="b"/>
                <a:pathLst>
                  <a:path w="131" h="287">
                    <a:moveTo>
                      <a:pt x="42" y="0"/>
                    </a:moveTo>
                    <a:lnTo>
                      <a:pt x="64" y="39"/>
                    </a:lnTo>
                    <a:lnTo>
                      <a:pt x="115" y="76"/>
                    </a:lnTo>
                    <a:lnTo>
                      <a:pt x="50" y="78"/>
                    </a:lnTo>
                    <a:lnTo>
                      <a:pt x="80" y="103"/>
                    </a:lnTo>
                    <a:lnTo>
                      <a:pt x="126" y="103"/>
                    </a:lnTo>
                    <a:lnTo>
                      <a:pt x="103" y="122"/>
                    </a:lnTo>
                    <a:lnTo>
                      <a:pt x="131" y="132"/>
                    </a:lnTo>
                    <a:lnTo>
                      <a:pt x="122" y="178"/>
                    </a:lnTo>
                    <a:lnTo>
                      <a:pt x="76" y="234"/>
                    </a:lnTo>
                    <a:lnTo>
                      <a:pt x="86" y="257"/>
                    </a:lnTo>
                    <a:lnTo>
                      <a:pt x="94" y="228"/>
                    </a:lnTo>
                    <a:lnTo>
                      <a:pt x="122" y="191"/>
                    </a:lnTo>
                    <a:lnTo>
                      <a:pt x="101" y="251"/>
                    </a:lnTo>
                    <a:lnTo>
                      <a:pt x="93" y="287"/>
                    </a:lnTo>
                    <a:lnTo>
                      <a:pt x="70" y="251"/>
                    </a:lnTo>
                    <a:lnTo>
                      <a:pt x="58" y="203"/>
                    </a:lnTo>
                    <a:lnTo>
                      <a:pt x="22" y="135"/>
                    </a:lnTo>
                    <a:lnTo>
                      <a:pt x="31" y="109"/>
                    </a:lnTo>
                    <a:lnTo>
                      <a:pt x="0" y="85"/>
                    </a:lnTo>
                    <a:lnTo>
                      <a:pt x="7" y="51"/>
                    </a:lnTo>
                    <a:lnTo>
                      <a:pt x="21" y="32"/>
                    </a:lnTo>
                    <a:lnTo>
                      <a:pt x="22" y="5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900680" y="3207960"/>
                <a:ext cx="73080" cy="31320"/>
              </a:xfrm>
              <a:custGeom>
                <a:avLst/>
                <a:gdLst/>
                <a:ahLst/>
                <a:rect l="l" t="t" r="r" b="b"/>
                <a:pathLst>
                  <a:path w="139" h="68">
                    <a:moveTo>
                      <a:pt x="0" y="0"/>
                    </a:moveTo>
                    <a:lnTo>
                      <a:pt x="39" y="28"/>
                    </a:lnTo>
                    <a:lnTo>
                      <a:pt x="80" y="34"/>
                    </a:lnTo>
                    <a:lnTo>
                      <a:pt x="139" y="21"/>
                    </a:lnTo>
                    <a:lnTo>
                      <a:pt x="83" y="54"/>
                    </a:lnTo>
                    <a:lnTo>
                      <a:pt x="39" y="68"/>
                    </a:lnTo>
                    <a:lnTo>
                      <a:pt x="53" y="42"/>
                    </a:lnTo>
                    <a:lnTo>
                      <a:pt x="28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932360" y="3211560"/>
                <a:ext cx="100080" cy="70200"/>
              </a:xfrm>
              <a:custGeom>
                <a:avLst/>
                <a:gdLst/>
                <a:ahLst/>
                <a:rect l="l" t="t" r="r" b="b"/>
                <a:pathLst>
                  <a:path w="190" h="151">
                    <a:moveTo>
                      <a:pt x="41" y="59"/>
                    </a:moveTo>
                    <a:lnTo>
                      <a:pt x="0" y="95"/>
                    </a:lnTo>
                    <a:lnTo>
                      <a:pt x="27" y="103"/>
                    </a:lnTo>
                    <a:lnTo>
                      <a:pt x="2" y="135"/>
                    </a:lnTo>
                    <a:lnTo>
                      <a:pt x="27" y="135"/>
                    </a:lnTo>
                    <a:lnTo>
                      <a:pt x="54" y="128"/>
                    </a:lnTo>
                    <a:lnTo>
                      <a:pt x="86" y="128"/>
                    </a:lnTo>
                    <a:lnTo>
                      <a:pt x="112" y="112"/>
                    </a:lnTo>
                    <a:lnTo>
                      <a:pt x="147" y="78"/>
                    </a:lnTo>
                    <a:lnTo>
                      <a:pt x="151" y="112"/>
                    </a:lnTo>
                    <a:lnTo>
                      <a:pt x="169" y="151"/>
                    </a:lnTo>
                    <a:lnTo>
                      <a:pt x="159" y="106"/>
                    </a:lnTo>
                    <a:lnTo>
                      <a:pt x="161" y="71"/>
                    </a:lnTo>
                    <a:lnTo>
                      <a:pt x="190" y="0"/>
                    </a:lnTo>
                    <a:lnTo>
                      <a:pt x="162" y="31"/>
                    </a:lnTo>
                    <a:lnTo>
                      <a:pt x="124" y="87"/>
                    </a:lnTo>
                    <a:lnTo>
                      <a:pt x="105" y="111"/>
                    </a:lnTo>
                    <a:lnTo>
                      <a:pt x="110" y="84"/>
                    </a:lnTo>
                    <a:lnTo>
                      <a:pt x="119" y="49"/>
                    </a:lnTo>
                    <a:lnTo>
                      <a:pt x="95" y="84"/>
                    </a:lnTo>
                    <a:lnTo>
                      <a:pt x="72" y="109"/>
                    </a:lnTo>
                    <a:lnTo>
                      <a:pt x="45" y="118"/>
                    </a:lnTo>
                    <a:lnTo>
                      <a:pt x="62" y="89"/>
                    </a:lnTo>
                    <a:lnTo>
                      <a:pt x="45" y="89"/>
                    </a:lnTo>
                    <a:lnTo>
                      <a:pt x="61" y="61"/>
                    </a:lnTo>
                    <a:lnTo>
                      <a:pt x="41" y="59"/>
                    </a:lnTo>
                    <a:lnTo>
                      <a:pt x="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971960" y="3135960"/>
                <a:ext cx="177840" cy="115920"/>
              </a:xfrm>
              <a:custGeom>
                <a:avLst/>
                <a:gdLst/>
                <a:ahLst/>
                <a:rect l="l" t="t" r="r" b="b"/>
                <a:pathLst>
                  <a:path w="336" h="254">
                    <a:moveTo>
                      <a:pt x="0" y="213"/>
                    </a:moveTo>
                    <a:lnTo>
                      <a:pt x="28" y="190"/>
                    </a:lnTo>
                    <a:lnTo>
                      <a:pt x="21" y="221"/>
                    </a:lnTo>
                    <a:lnTo>
                      <a:pt x="51" y="180"/>
                    </a:lnTo>
                    <a:lnTo>
                      <a:pt x="72" y="164"/>
                    </a:lnTo>
                    <a:lnTo>
                      <a:pt x="55" y="196"/>
                    </a:lnTo>
                    <a:lnTo>
                      <a:pt x="97" y="156"/>
                    </a:lnTo>
                    <a:lnTo>
                      <a:pt x="149" y="127"/>
                    </a:lnTo>
                    <a:lnTo>
                      <a:pt x="174" y="93"/>
                    </a:lnTo>
                    <a:lnTo>
                      <a:pt x="174" y="59"/>
                    </a:lnTo>
                    <a:lnTo>
                      <a:pt x="201" y="49"/>
                    </a:lnTo>
                    <a:lnTo>
                      <a:pt x="191" y="75"/>
                    </a:lnTo>
                    <a:lnTo>
                      <a:pt x="236" y="56"/>
                    </a:lnTo>
                    <a:lnTo>
                      <a:pt x="270" y="59"/>
                    </a:lnTo>
                    <a:lnTo>
                      <a:pt x="228" y="78"/>
                    </a:lnTo>
                    <a:lnTo>
                      <a:pt x="204" y="112"/>
                    </a:lnTo>
                    <a:lnTo>
                      <a:pt x="153" y="143"/>
                    </a:lnTo>
                    <a:lnTo>
                      <a:pt x="112" y="181"/>
                    </a:lnTo>
                    <a:lnTo>
                      <a:pt x="146" y="174"/>
                    </a:lnTo>
                    <a:lnTo>
                      <a:pt x="122" y="213"/>
                    </a:lnTo>
                    <a:lnTo>
                      <a:pt x="149" y="198"/>
                    </a:lnTo>
                    <a:lnTo>
                      <a:pt x="167" y="254"/>
                    </a:lnTo>
                    <a:lnTo>
                      <a:pt x="167" y="177"/>
                    </a:lnTo>
                    <a:lnTo>
                      <a:pt x="191" y="145"/>
                    </a:lnTo>
                    <a:lnTo>
                      <a:pt x="179" y="178"/>
                    </a:lnTo>
                    <a:lnTo>
                      <a:pt x="179" y="192"/>
                    </a:lnTo>
                    <a:lnTo>
                      <a:pt x="191" y="221"/>
                    </a:lnTo>
                    <a:lnTo>
                      <a:pt x="186" y="192"/>
                    </a:lnTo>
                    <a:lnTo>
                      <a:pt x="194" y="175"/>
                    </a:lnTo>
                    <a:lnTo>
                      <a:pt x="226" y="152"/>
                    </a:lnTo>
                    <a:lnTo>
                      <a:pt x="263" y="112"/>
                    </a:lnTo>
                    <a:lnTo>
                      <a:pt x="235" y="126"/>
                    </a:lnTo>
                    <a:lnTo>
                      <a:pt x="243" y="105"/>
                    </a:lnTo>
                    <a:lnTo>
                      <a:pt x="221" y="111"/>
                    </a:lnTo>
                    <a:lnTo>
                      <a:pt x="233" y="92"/>
                    </a:lnTo>
                    <a:lnTo>
                      <a:pt x="274" y="78"/>
                    </a:lnTo>
                    <a:lnTo>
                      <a:pt x="305" y="99"/>
                    </a:lnTo>
                    <a:lnTo>
                      <a:pt x="333" y="61"/>
                    </a:lnTo>
                    <a:lnTo>
                      <a:pt x="336" y="11"/>
                    </a:lnTo>
                    <a:lnTo>
                      <a:pt x="318" y="39"/>
                    </a:lnTo>
                    <a:lnTo>
                      <a:pt x="291" y="9"/>
                    </a:lnTo>
                    <a:lnTo>
                      <a:pt x="250" y="0"/>
                    </a:lnTo>
                    <a:lnTo>
                      <a:pt x="289" y="37"/>
                    </a:lnTo>
                    <a:lnTo>
                      <a:pt x="239" y="22"/>
                    </a:lnTo>
                    <a:lnTo>
                      <a:pt x="180" y="30"/>
                    </a:lnTo>
                    <a:lnTo>
                      <a:pt x="153" y="58"/>
                    </a:lnTo>
                    <a:lnTo>
                      <a:pt x="104" y="37"/>
                    </a:lnTo>
                    <a:lnTo>
                      <a:pt x="139" y="72"/>
                    </a:lnTo>
                    <a:lnTo>
                      <a:pt x="77" y="53"/>
                    </a:lnTo>
                    <a:lnTo>
                      <a:pt x="35" y="62"/>
                    </a:lnTo>
                    <a:lnTo>
                      <a:pt x="65" y="83"/>
                    </a:lnTo>
                    <a:lnTo>
                      <a:pt x="14" y="102"/>
                    </a:lnTo>
                    <a:lnTo>
                      <a:pt x="83" y="101"/>
                    </a:lnTo>
                    <a:lnTo>
                      <a:pt x="55" y="117"/>
                    </a:lnTo>
                    <a:lnTo>
                      <a:pt x="97" y="117"/>
                    </a:lnTo>
                    <a:lnTo>
                      <a:pt x="62" y="136"/>
                    </a:lnTo>
                    <a:lnTo>
                      <a:pt x="20" y="171"/>
                    </a:lnTo>
                    <a:lnTo>
                      <a:pt x="0" y="21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095800" y="3161880"/>
                <a:ext cx="106560" cy="121680"/>
              </a:xfrm>
              <a:custGeom>
                <a:avLst/>
                <a:gdLst/>
                <a:ahLst/>
                <a:rect l="l" t="t" r="r" b="b"/>
                <a:pathLst>
                  <a:path w="201" h="263">
                    <a:moveTo>
                      <a:pt x="57" y="46"/>
                    </a:moveTo>
                    <a:lnTo>
                      <a:pt x="33" y="70"/>
                    </a:lnTo>
                    <a:lnTo>
                      <a:pt x="4" y="97"/>
                    </a:lnTo>
                    <a:lnTo>
                      <a:pt x="0" y="136"/>
                    </a:lnTo>
                    <a:lnTo>
                      <a:pt x="8" y="189"/>
                    </a:lnTo>
                    <a:lnTo>
                      <a:pt x="22" y="127"/>
                    </a:lnTo>
                    <a:lnTo>
                      <a:pt x="40" y="165"/>
                    </a:lnTo>
                    <a:lnTo>
                      <a:pt x="79" y="190"/>
                    </a:lnTo>
                    <a:lnTo>
                      <a:pt x="105" y="227"/>
                    </a:lnTo>
                    <a:lnTo>
                      <a:pt x="112" y="263"/>
                    </a:lnTo>
                    <a:lnTo>
                      <a:pt x="135" y="224"/>
                    </a:lnTo>
                    <a:lnTo>
                      <a:pt x="132" y="193"/>
                    </a:lnTo>
                    <a:lnTo>
                      <a:pt x="79" y="160"/>
                    </a:lnTo>
                    <a:lnTo>
                      <a:pt x="61" y="145"/>
                    </a:lnTo>
                    <a:lnTo>
                      <a:pt x="60" y="96"/>
                    </a:lnTo>
                    <a:lnTo>
                      <a:pt x="92" y="121"/>
                    </a:lnTo>
                    <a:lnTo>
                      <a:pt x="87" y="80"/>
                    </a:lnTo>
                    <a:lnTo>
                      <a:pt x="101" y="49"/>
                    </a:lnTo>
                    <a:lnTo>
                      <a:pt x="105" y="92"/>
                    </a:lnTo>
                    <a:lnTo>
                      <a:pt x="139" y="121"/>
                    </a:lnTo>
                    <a:lnTo>
                      <a:pt x="119" y="74"/>
                    </a:lnTo>
                    <a:lnTo>
                      <a:pt x="167" y="97"/>
                    </a:lnTo>
                    <a:lnTo>
                      <a:pt x="201" y="97"/>
                    </a:lnTo>
                    <a:lnTo>
                      <a:pt x="182" y="56"/>
                    </a:lnTo>
                    <a:lnTo>
                      <a:pt x="140" y="3"/>
                    </a:lnTo>
                    <a:lnTo>
                      <a:pt x="149" y="55"/>
                    </a:lnTo>
                    <a:lnTo>
                      <a:pt x="125" y="36"/>
                    </a:lnTo>
                    <a:lnTo>
                      <a:pt x="121" y="6"/>
                    </a:lnTo>
                    <a:lnTo>
                      <a:pt x="92" y="0"/>
                    </a:lnTo>
                    <a:lnTo>
                      <a:pt x="57" y="46"/>
                    </a:lnTo>
                    <a:lnTo>
                      <a:pt x="5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032440" y="3259800"/>
                <a:ext cx="9360" cy="1980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0"/>
                    </a:moveTo>
                    <a:lnTo>
                      <a:pt x="0" y="24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041800" y="32468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28"/>
                    </a:moveTo>
                    <a:lnTo>
                      <a:pt x="8" y="53"/>
                    </a:lnTo>
                    <a:lnTo>
                      <a:pt x="32" y="73"/>
                    </a:lnTo>
                    <a:lnTo>
                      <a:pt x="52" y="76"/>
                    </a:lnTo>
                    <a:lnTo>
                      <a:pt x="35" y="49"/>
                    </a:lnTo>
                    <a:lnTo>
                      <a:pt x="11" y="40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83200" y="326160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0" y="16"/>
                    </a:moveTo>
                    <a:lnTo>
                      <a:pt x="0" y="28"/>
                    </a:lnTo>
                    <a:lnTo>
                      <a:pt x="10" y="43"/>
                    </a:lnTo>
                    <a:lnTo>
                      <a:pt x="35" y="43"/>
                    </a:lnTo>
                    <a:lnTo>
                      <a:pt x="73" y="53"/>
                    </a:lnTo>
                    <a:lnTo>
                      <a:pt x="63" y="30"/>
                    </a:lnTo>
                    <a:lnTo>
                      <a:pt x="37" y="0"/>
                    </a:lnTo>
                    <a:lnTo>
                      <a:pt x="37" y="31"/>
                    </a:lnTo>
                    <a:lnTo>
                      <a:pt x="27" y="31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127480" y="3257640"/>
                <a:ext cx="23760" cy="105120"/>
              </a:xfrm>
              <a:custGeom>
                <a:avLst/>
                <a:gdLst/>
                <a:ahLst/>
                <a:rect l="l" t="t" r="r" b="b"/>
                <a:pathLst>
                  <a:path w="44" h="227">
                    <a:moveTo>
                      <a:pt x="0" y="0"/>
                    </a:moveTo>
                    <a:lnTo>
                      <a:pt x="3" y="16"/>
                    </a:lnTo>
                    <a:lnTo>
                      <a:pt x="3" y="49"/>
                    </a:lnTo>
                    <a:lnTo>
                      <a:pt x="24" y="36"/>
                    </a:lnTo>
                    <a:lnTo>
                      <a:pt x="19" y="85"/>
                    </a:lnTo>
                    <a:lnTo>
                      <a:pt x="27" y="140"/>
                    </a:lnTo>
                    <a:lnTo>
                      <a:pt x="11" y="227"/>
                    </a:lnTo>
                    <a:lnTo>
                      <a:pt x="38" y="157"/>
                    </a:lnTo>
                    <a:lnTo>
                      <a:pt x="44" y="94"/>
                    </a:lnTo>
                    <a:lnTo>
                      <a:pt x="32" y="49"/>
                    </a:lnTo>
                    <a:lnTo>
                      <a:pt x="32" y="29"/>
                    </a:lnTo>
                    <a:lnTo>
                      <a:pt x="1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175360" y="3207960"/>
                <a:ext cx="28440" cy="20160"/>
              </a:xfrm>
              <a:custGeom>
                <a:avLst/>
                <a:gdLst/>
                <a:ahLst/>
                <a:rect l="l" t="t" r="r" b="b"/>
                <a:pathLst>
                  <a:path w="55" h="44">
                    <a:moveTo>
                      <a:pt x="11" y="6"/>
                    </a:moveTo>
                    <a:lnTo>
                      <a:pt x="55" y="16"/>
                    </a:lnTo>
                    <a:lnTo>
                      <a:pt x="27" y="20"/>
                    </a:lnTo>
                    <a:lnTo>
                      <a:pt x="32" y="44"/>
                    </a:lnTo>
                    <a:lnTo>
                      <a:pt x="10" y="28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168880" y="3228480"/>
                <a:ext cx="31680" cy="55080"/>
              </a:xfrm>
              <a:custGeom>
                <a:avLst/>
                <a:gdLst/>
                <a:ahLst/>
                <a:rect l="l" t="t" r="r" b="b"/>
                <a:pathLst>
                  <a:path w="60" h="119">
                    <a:moveTo>
                      <a:pt x="1" y="0"/>
                    </a:moveTo>
                    <a:lnTo>
                      <a:pt x="15" y="32"/>
                    </a:lnTo>
                    <a:lnTo>
                      <a:pt x="15" y="70"/>
                    </a:lnTo>
                    <a:lnTo>
                      <a:pt x="0" y="119"/>
                    </a:lnTo>
                    <a:lnTo>
                      <a:pt x="25" y="72"/>
                    </a:lnTo>
                    <a:lnTo>
                      <a:pt x="28" y="32"/>
                    </a:lnTo>
                    <a:lnTo>
                      <a:pt x="60" y="28"/>
                    </a:lnTo>
                    <a:lnTo>
                      <a:pt x="29" y="7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862520" y="3095640"/>
                <a:ext cx="287280" cy="119880"/>
              </a:xfrm>
              <a:custGeom>
                <a:avLst/>
                <a:gdLst/>
                <a:ahLst/>
                <a:rect l="l" t="t" r="r" b="b"/>
                <a:pathLst>
                  <a:path w="543" h="262">
                    <a:moveTo>
                      <a:pt x="20" y="230"/>
                    </a:moveTo>
                    <a:lnTo>
                      <a:pt x="62" y="230"/>
                    </a:lnTo>
                    <a:lnTo>
                      <a:pt x="144" y="255"/>
                    </a:lnTo>
                    <a:lnTo>
                      <a:pt x="97" y="214"/>
                    </a:lnTo>
                    <a:lnTo>
                      <a:pt x="137" y="218"/>
                    </a:lnTo>
                    <a:lnTo>
                      <a:pt x="159" y="230"/>
                    </a:lnTo>
                    <a:lnTo>
                      <a:pt x="194" y="233"/>
                    </a:lnTo>
                    <a:lnTo>
                      <a:pt x="190" y="256"/>
                    </a:lnTo>
                    <a:lnTo>
                      <a:pt x="239" y="211"/>
                    </a:lnTo>
                    <a:lnTo>
                      <a:pt x="190" y="211"/>
                    </a:lnTo>
                    <a:lnTo>
                      <a:pt x="237" y="186"/>
                    </a:lnTo>
                    <a:lnTo>
                      <a:pt x="193" y="162"/>
                    </a:lnTo>
                    <a:lnTo>
                      <a:pt x="149" y="127"/>
                    </a:lnTo>
                    <a:lnTo>
                      <a:pt x="211" y="146"/>
                    </a:lnTo>
                    <a:lnTo>
                      <a:pt x="192" y="121"/>
                    </a:lnTo>
                    <a:lnTo>
                      <a:pt x="184" y="88"/>
                    </a:lnTo>
                    <a:lnTo>
                      <a:pt x="145" y="56"/>
                    </a:lnTo>
                    <a:lnTo>
                      <a:pt x="204" y="71"/>
                    </a:lnTo>
                    <a:lnTo>
                      <a:pt x="202" y="48"/>
                    </a:lnTo>
                    <a:lnTo>
                      <a:pt x="246" y="55"/>
                    </a:lnTo>
                    <a:lnTo>
                      <a:pt x="290" y="39"/>
                    </a:lnTo>
                    <a:lnTo>
                      <a:pt x="328" y="50"/>
                    </a:lnTo>
                    <a:lnTo>
                      <a:pt x="286" y="61"/>
                    </a:lnTo>
                    <a:lnTo>
                      <a:pt x="213" y="93"/>
                    </a:lnTo>
                    <a:lnTo>
                      <a:pt x="213" y="119"/>
                    </a:lnTo>
                    <a:lnTo>
                      <a:pt x="266" y="121"/>
                    </a:lnTo>
                    <a:lnTo>
                      <a:pt x="230" y="143"/>
                    </a:lnTo>
                    <a:lnTo>
                      <a:pt x="269" y="177"/>
                    </a:lnTo>
                    <a:lnTo>
                      <a:pt x="315" y="166"/>
                    </a:lnTo>
                    <a:lnTo>
                      <a:pt x="286" y="112"/>
                    </a:lnTo>
                    <a:lnTo>
                      <a:pt x="329" y="112"/>
                    </a:lnTo>
                    <a:lnTo>
                      <a:pt x="321" y="87"/>
                    </a:lnTo>
                    <a:lnTo>
                      <a:pt x="342" y="88"/>
                    </a:lnTo>
                    <a:lnTo>
                      <a:pt x="347" y="66"/>
                    </a:lnTo>
                    <a:lnTo>
                      <a:pt x="383" y="94"/>
                    </a:lnTo>
                    <a:lnTo>
                      <a:pt x="377" y="61"/>
                    </a:lnTo>
                    <a:lnTo>
                      <a:pt x="414" y="69"/>
                    </a:lnTo>
                    <a:lnTo>
                      <a:pt x="447" y="61"/>
                    </a:lnTo>
                    <a:lnTo>
                      <a:pt x="411" y="47"/>
                    </a:lnTo>
                    <a:lnTo>
                      <a:pt x="381" y="23"/>
                    </a:lnTo>
                    <a:lnTo>
                      <a:pt x="461" y="32"/>
                    </a:lnTo>
                    <a:lnTo>
                      <a:pt x="543" y="68"/>
                    </a:lnTo>
                    <a:lnTo>
                      <a:pt x="495" y="28"/>
                    </a:lnTo>
                    <a:lnTo>
                      <a:pt x="393" y="1"/>
                    </a:lnTo>
                    <a:lnTo>
                      <a:pt x="353" y="13"/>
                    </a:lnTo>
                    <a:lnTo>
                      <a:pt x="258" y="0"/>
                    </a:lnTo>
                    <a:lnTo>
                      <a:pt x="132" y="44"/>
                    </a:lnTo>
                    <a:lnTo>
                      <a:pt x="97" y="55"/>
                    </a:lnTo>
                    <a:lnTo>
                      <a:pt x="90" y="90"/>
                    </a:lnTo>
                    <a:lnTo>
                      <a:pt x="33" y="119"/>
                    </a:lnTo>
                    <a:lnTo>
                      <a:pt x="6" y="160"/>
                    </a:lnTo>
                    <a:lnTo>
                      <a:pt x="0" y="221"/>
                    </a:lnTo>
                    <a:lnTo>
                      <a:pt x="6" y="262"/>
                    </a:lnTo>
                    <a:lnTo>
                      <a:pt x="20" y="230"/>
                    </a:lnTo>
                    <a:lnTo>
                      <a:pt x="2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157720" y="313056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0" y="0"/>
                    </a:moveTo>
                    <a:lnTo>
                      <a:pt x="0" y="57"/>
                    </a:lnTo>
                    <a:lnTo>
                      <a:pt x="21" y="47"/>
                    </a:lnTo>
                    <a:lnTo>
                      <a:pt x="24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76800" y="3141720"/>
                <a:ext cx="44280" cy="146880"/>
              </a:xfrm>
              <a:custGeom>
                <a:avLst/>
                <a:gdLst/>
                <a:ahLst/>
                <a:rect l="l" t="t" r="r" b="b"/>
                <a:pathLst>
                  <a:path w="82" h="323">
                    <a:moveTo>
                      <a:pt x="0" y="0"/>
                    </a:moveTo>
                    <a:lnTo>
                      <a:pt x="42" y="38"/>
                    </a:lnTo>
                    <a:lnTo>
                      <a:pt x="80" y="100"/>
                    </a:lnTo>
                    <a:lnTo>
                      <a:pt x="82" y="196"/>
                    </a:lnTo>
                    <a:lnTo>
                      <a:pt x="58" y="246"/>
                    </a:lnTo>
                    <a:lnTo>
                      <a:pt x="52" y="281"/>
                    </a:lnTo>
                    <a:lnTo>
                      <a:pt x="23" y="323"/>
                    </a:lnTo>
                    <a:lnTo>
                      <a:pt x="24" y="292"/>
                    </a:lnTo>
                    <a:lnTo>
                      <a:pt x="21" y="259"/>
                    </a:lnTo>
                    <a:lnTo>
                      <a:pt x="28" y="234"/>
                    </a:lnTo>
                    <a:lnTo>
                      <a:pt x="40" y="262"/>
                    </a:lnTo>
                    <a:lnTo>
                      <a:pt x="49" y="240"/>
                    </a:lnTo>
                    <a:lnTo>
                      <a:pt x="70" y="195"/>
                    </a:lnTo>
                    <a:lnTo>
                      <a:pt x="73" y="115"/>
                    </a:lnTo>
                    <a:lnTo>
                      <a:pt x="3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865760" y="3259800"/>
                <a:ext cx="31680" cy="99360"/>
              </a:xfrm>
              <a:custGeom>
                <a:avLst/>
                <a:gdLst/>
                <a:ahLst/>
                <a:rect l="l" t="t" r="r" b="b"/>
                <a:pathLst>
                  <a:path w="61" h="218">
                    <a:moveTo>
                      <a:pt x="10" y="22"/>
                    </a:moveTo>
                    <a:lnTo>
                      <a:pt x="10" y="117"/>
                    </a:lnTo>
                    <a:lnTo>
                      <a:pt x="41" y="180"/>
                    </a:lnTo>
                    <a:lnTo>
                      <a:pt x="61" y="183"/>
                    </a:lnTo>
                    <a:lnTo>
                      <a:pt x="37" y="218"/>
                    </a:lnTo>
                    <a:lnTo>
                      <a:pt x="26" y="218"/>
                    </a:lnTo>
                    <a:lnTo>
                      <a:pt x="30" y="201"/>
                    </a:lnTo>
                    <a:lnTo>
                      <a:pt x="35" y="189"/>
                    </a:lnTo>
                    <a:lnTo>
                      <a:pt x="2" y="127"/>
                    </a:lnTo>
                    <a:lnTo>
                      <a:pt x="0" y="96"/>
                    </a:lnTo>
                    <a:lnTo>
                      <a:pt x="0" y="21"/>
                    </a:lnTo>
                    <a:lnTo>
                      <a:pt x="14" y="0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878360" y="3295080"/>
                <a:ext cx="14400" cy="3276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14" y="0"/>
                    </a:moveTo>
                    <a:lnTo>
                      <a:pt x="0" y="18"/>
                    </a:lnTo>
                    <a:lnTo>
                      <a:pt x="0" y="38"/>
                    </a:lnTo>
                    <a:lnTo>
                      <a:pt x="18" y="72"/>
                    </a:lnTo>
                    <a:lnTo>
                      <a:pt x="18" y="47"/>
                    </a:lnTo>
                    <a:lnTo>
                      <a:pt x="27" y="4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892760" y="334800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0" y="0"/>
                    </a:moveTo>
                    <a:lnTo>
                      <a:pt x="24" y="6"/>
                    </a:lnTo>
                    <a:lnTo>
                      <a:pt x="28" y="45"/>
                    </a:lnTo>
                    <a:lnTo>
                      <a:pt x="18" y="45"/>
                    </a:lnTo>
                    <a:lnTo>
                      <a:pt x="18" y="28"/>
                    </a:lnTo>
                    <a:lnTo>
                      <a:pt x="11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875120" y="337032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16" y="0"/>
                    </a:moveTo>
                    <a:lnTo>
                      <a:pt x="16" y="12"/>
                    </a:lnTo>
                    <a:lnTo>
                      <a:pt x="20" y="27"/>
                    </a:lnTo>
                    <a:lnTo>
                      <a:pt x="40" y="27"/>
                    </a:lnTo>
                    <a:lnTo>
                      <a:pt x="48" y="14"/>
                    </a:lnTo>
                    <a:lnTo>
                      <a:pt x="59" y="14"/>
                    </a:lnTo>
                    <a:lnTo>
                      <a:pt x="54" y="31"/>
                    </a:lnTo>
                    <a:lnTo>
                      <a:pt x="38" y="43"/>
                    </a:lnTo>
                    <a:lnTo>
                      <a:pt x="17" y="40"/>
                    </a:lnTo>
                    <a:lnTo>
                      <a:pt x="6" y="26"/>
                    </a:lnTo>
                    <a:lnTo>
                      <a:pt x="0" y="9"/>
                    </a:lnTo>
                    <a:lnTo>
                      <a:pt x="10" y="1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14920" y="3333600"/>
                <a:ext cx="334800" cy="531000"/>
              </a:xfrm>
              <a:custGeom>
                <a:avLst/>
                <a:gdLst/>
                <a:ahLst/>
                <a:rect l="l" t="t" r="r" b="b"/>
                <a:pathLst>
                  <a:path w="635" h="1152">
                    <a:moveTo>
                      <a:pt x="369" y="0"/>
                    </a:moveTo>
                    <a:lnTo>
                      <a:pt x="400" y="118"/>
                    </a:lnTo>
                    <a:lnTo>
                      <a:pt x="484" y="226"/>
                    </a:lnTo>
                    <a:lnTo>
                      <a:pt x="490" y="206"/>
                    </a:lnTo>
                    <a:lnTo>
                      <a:pt x="530" y="245"/>
                    </a:lnTo>
                    <a:lnTo>
                      <a:pt x="551" y="249"/>
                    </a:lnTo>
                    <a:lnTo>
                      <a:pt x="635" y="249"/>
                    </a:lnTo>
                    <a:lnTo>
                      <a:pt x="619" y="262"/>
                    </a:lnTo>
                    <a:lnTo>
                      <a:pt x="549" y="262"/>
                    </a:lnTo>
                    <a:lnTo>
                      <a:pt x="506" y="246"/>
                    </a:lnTo>
                    <a:lnTo>
                      <a:pt x="513" y="273"/>
                    </a:lnTo>
                    <a:lnTo>
                      <a:pt x="513" y="399"/>
                    </a:lnTo>
                    <a:lnTo>
                      <a:pt x="472" y="474"/>
                    </a:lnTo>
                    <a:lnTo>
                      <a:pt x="463" y="553"/>
                    </a:lnTo>
                    <a:lnTo>
                      <a:pt x="468" y="557"/>
                    </a:lnTo>
                    <a:lnTo>
                      <a:pt x="466" y="591"/>
                    </a:lnTo>
                    <a:lnTo>
                      <a:pt x="463" y="595"/>
                    </a:lnTo>
                    <a:lnTo>
                      <a:pt x="463" y="695"/>
                    </a:lnTo>
                    <a:lnTo>
                      <a:pt x="451" y="869"/>
                    </a:lnTo>
                    <a:lnTo>
                      <a:pt x="388" y="1026"/>
                    </a:lnTo>
                    <a:lnTo>
                      <a:pt x="358" y="1127"/>
                    </a:lnTo>
                    <a:lnTo>
                      <a:pt x="313" y="1152"/>
                    </a:lnTo>
                    <a:lnTo>
                      <a:pt x="246" y="1152"/>
                    </a:lnTo>
                    <a:lnTo>
                      <a:pt x="156" y="1127"/>
                    </a:lnTo>
                    <a:lnTo>
                      <a:pt x="0" y="1040"/>
                    </a:lnTo>
                    <a:lnTo>
                      <a:pt x="103" y="1038"/>
                    </a:lnTo>
                    <a:lnTo>
                      <a:pt x="67" y="1009"/>
                    </a:lnTo>
                    <a:lnTo>
                      <a:pt x="45" y="936"/>
                    </a:lnTo>
                    <a:lnTo>
                      <a:pt x="11" y="890"/>
                    </a:lnTo>
                    <a:lnTo>
                      <a:pt x="39" y="859"/>
                    </a:lnTo>
                    <a:lnTo>
                      <a:pt x="78" y="853"/>
                    </a:lnTo>
                    <a:lnTo>
                      <a:pt x="50" y="875"/>
                    </a:lnTo>
                    <a:lnTo>
                      <a:pt x="66" y="922"/>
                    </a:lnTo>
                    <a:lnTo>
                      <a:pt x="81" y="978"/>
                    </a:lnTo>
                    <a:lnTo>
                      <a:pt x="108" y="1010"/>
                    </a:lnTo>
                    <a:lnTo>
                      <a:pt x="185" y="1056"/>
                    </a:lnTo>
                    <a:lnTo>
                      <a:pt x="149" y="1056"/>
                    </a:lnTo>
                    <a:lnTo>
                      <a:pt x="174" y="1080"/>
                    </a:lnTo>
                    <a:lnTo>
                      <a:pt x="223" y="1125"/>
                    </a:lnTo>
                    <a:lnTo>
                      <a:pt x="271" y="1140"/>
                    </a:lnTo>
                    <a:lnTo>
                      <a:pt x="309" y="1140"/>
                    </a:lnTo>
                    <a:lnTo>
                      <a:pt x="343" y="1125"/>
                    </a:lnTo>
                    <a:lnTo>
                      <a:pt x="364" y="1039"/>
                    </a:lnTo>
                    <a:lnTo>
                      <a:pt x="416" y="921"/>
                    </a:lnTo>
                    <a:lnTo>
                      <a:pt x="441" y="819"/>
                    </a:lnTo>
                    <a:lnTo>
                      <a:pt x="451" y="729"/>
                    </a:lnTo>
                    <a:lnTo>
                      <a:pt x="452" y="590"/>
                    </a:lnTo>
                    <a:lnTo>
                      <a:pt x="463" y="585"/>
                    </a:lnTo>
                    <a:lnTo>
                      <a:pt x="463" y="560"/>
                    </a:lnTo>
                    <a:lnTo>
                      <a:pt x="428" y="549"/>
                    </a:lnTo>
                    <a:lnTo>
                      <a:pt x="383" y="543"/>
                    </a:lnTo>
                    <a:lnTo>
                      <a:pt x="383" y="554"/>
                    </a:lnTo>
                    <a:lnTo>
                      <a:pt x="371" y="554"/>
                    </a:lnTo>
                    <a:lnTo>
                      <a:pt x="369" y="542"/>
                    </a:lnTo>
                    <a:lnTo>
                      <a:pt x="357" y="536"/>
                    </a:lnTo>
                    <a:lnTo>
                      <a:pt x="315" y="536"/>
                    </a:lnTo>
                    <a:lnTo>
                      <a:pt x="326" y="532"/>
                    </a:lnTo>
                    <a:lnTo>
                      <a:pt x="367" y="532"/>
                    </a:lnTo>
                    <a:lnTo>
                      <a:pt x="381" y="538"/>
                    </a:lnTo>
                    <a:lnTo>
                      <a:pt x="409" y="540"/>
                    </a:lnTo>
                    <a:lnTo>
                      <a:pt x="438" y="546"/>
                    </a:lnTo>
                    <a:lnTo>
                      <a:pt x="452" y="551"/>
                    </a:lnTo>
                    <a:lnTo>
                      <a:pt x="462" y="486"/>
                    </a:lnTo>
                    <a:lnTo>
                      <a:pt x="469" y="462"/>
                    </a:lnTo>
                    <a:lnTo>
                      <a:pt x="495" y="414"/>
                    </a:lnTo>
                    <a:lnTo>
                      <a:pt x="504" y="376"/>
                    </a:lnTo>
                    <a:lnTo>
                      <a:pt x="504" y="293"/>
                    </a:lnTo>
                    <a:lnTo>
                      <a:pt x="497" y="264"/>
                    </a:lnTo>
                    <a:lnTo>
                      <a:pt x="483" y="239"/>
                    </a:lnTo>
                    <a:lnTo>
                      <a:pt x="441" y="194"/>
                    </a:lnTo>
                    <a:lnTo>
                      <a:pt x="423" y="153"/>
                    </a:lnTo>
                    <a:lnTo>
                      <a:pt x="406" y="146"/>
                    </a:lnTo>
                    <a:lnTo>
                      <a:pt x="409" y="193"/>
                    </a:lnTo>
                    <a:lnTo>
                      <a:pt x="438" y="248"/>
                    </a:lnTo>
                    <a:lnTo>
                      <a:pt x="438" y="280"/>
                    </a:lnTo>
                    <a:lnTo>
                      <a:pt x="413" y="239"/>
                    </a:lnTo>
                    <a:lnTo>
                      <a:pt x="402" y="191"/>
                    </a:lnTo>
                    <a:lnTo>
                      <a:pt x="378" y="100"/>
                    </a:lnTo>
                    <a:lnTo>
                      <a:pt x="364" y="93"/>
                    </a:lnTo>
                    <a:lnTo>
                      <a:pt x="360" y="38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765680" y="3381480"/>
                <a:ext cx="147600" cy="403920"/>
              </a:xfrm>
              <a:custGeom>
                <a:avLst/>
                <a:gdLst/>
                <a:ahLst/>
                <a:rect l="l" t="t" r="r" b="b"/>
                <a:pathLst>
                  <a:path w="278" h="875">
                    <a:moveTo>
                      <a:pt x="262" y="0"/>
                    </a:moveTo>
                    <a:lnTo>
                      <a:pt x="260" y="44"/>
                    </a:lnTo>
                    <a:lnTo>
                      <a:pt x="278" y="121"/>
                    </a:lnTo>
                    <a:lnTo>
                      <a:pt x="278" y="177"/>
                    </a:lnTo>
                    <a:lnTo>
                      <a:pt x="267" y="109"/>
                    </a:lnTo>
                    <a:lnTo>
                      <a:pt x="252" y="52"/>
                    </a:lnTo>
                    <a:lnTo>
                      <a:pt x="250" y="133"/>
                    </a:lnTo>
                    <a:lnTo>
                      <a:pt x="256" y="230"/>
                    </a:lnTo>
                    <a:lnTo>
                      <a:pt x="278" y="202"/>
                    </a:lnTo>
                    <a:lnTo>
                      <a:pt x="269" y="257"/>
                    </a:lnTo>
                    <a:lnTo>
                      <a:pt x="228" y="376"/>
                    </a:lnTo>
                    <a:lnTo>
                      <a:pt x="215" y="435"/>
                    </a:lnTo>
                    <a:lnTo>
                      <a:pt x="215" y="446"/>
                    </a:lnTo>
                    <a:lnTo>
                      <a:pt x="215" y="472"/>
                    </a:lnTo>
                    <a:lnTo>
                      <a:pt x="231" y="472"/>
                    </a:lnTo>
                    <a:lnTo>
                      <a:pt x="232" y="479"/>
                    </a:lnTo>
                    <a:lnTo>
                      <a:pt x="208" y="479"/>
                    </a:lnTo>
                    <a:lnTo>
                      <a:pt x="198" y="492"/>
                    </a:lnTo>
                    <a:lnTo>
                      <a:pt x="171" y="597"/>
                    </a:lnTo>
                    <a:lnTo>
                      <a:pt x="104" y="707"/>
                    </a:lnTo>
                    <a:lnTo>
                      <a:pt x="62" y="769"/>
                    </a:lnTo>
                    <a:lnTo>
                      <a:pt x="40" y="841"/>
                    </a:lnTo>
                    <a:lnTo>
                      <a:pt x="40" y="875"/>
                    </a:lnTo>
                    <a:lnTo>
                      <a:pt x="25" y="850"/>
                    </a:lnTo>
                    <a:lnTo>
                      <a:pt x="25" y="799"/>
                    </a:lnTo>
                    <a:lnTo>
                      <a:pt x="54" y="747"/>
                    </a:lnTo>
                    <a:lnTo>
                      <a:pt x="0" y="744"/>
                    </a:lnTo>
                    <a:lnTo>
                      <a:pt x="73" y="721"/>
                    </a:lnTo>
                    <a:lnTo>
                      <a:pt x="152" y="601"/>
                    </a:lnTo>
                    <a:lnTo>
                      <a:pt x="197" y="470"/>
                    </a:lnTo>
                    <a:lnTo>
                      <a:pt x="223" y="363"/>
                    </a:lnTo>
                    <a:lnTo>
                      <a:pt x="246" y="289"/>
                    </a:lnTo>
                    <a:lnTo>
                      <a:pt x="242" y="251"/>
                    </a:lnTo>
                    <a:lnTo>
                      <a:pt x="238" y="206"/>
                    </a:lnTo>
                    <a:lnTo>
                      <a:pt x="242" y="150"/>
                    </a:lnTo>
                    <a:lnTo>
                      <a:pt x="239" y="66"/>
                    </a:lnTo>
                    <a:lnTo>
                      <a:pt x="253" y="10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875120" y="359352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158" h="26">
                    <a:moveTo>
                      <a:pt x="45" y="16"/>
                    </a:moveTo>
                    <a:lnTo>
                      <a:pt x="45" y="9"/>
                    </a:lnTo>
                    <a:lnTo>
                      <a:pt x="64" y="9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5" y="10"/>
                    </a:lnTo>
                    <a:lnTo>
                      <a:pt x="108" y="13"/>
                    </a:lnTo>
                    <a:lnTo>
                      <a:pt x="158" y="20"/>
                    </a:lnTo>
                    <a:lnTo>
                      <a:pt x="152" y="26"/>
                    </a:lnTo>
                    <a:lnTo>
                      <a:pt x="108" y="20"/>
                    </a:lnTo>
                    <a:lnTo>
                      <a:pt x="75" y="16"/>
                    </a:lnTo>
                    <a:lnTo>
                      <a:pt x="64" y="20"/>
                    </a:lnTo>
                    <a:lnTo>
                      <a:pt x="5" y="20"/>
                    </a:lnTo>
                    <a:lnTo>
                      <a:pt x="0" y="16"/>
                    </a:lnTo>
                    <a:lnTo>
                      <a:pt x="45" y="16"/>
                    </a:lnTo>
                    <a:lnTo>
                      <a:pt x="4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938840" y="3585960"/>
                <a:ext cx="6120" cy="1656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4" y="0"/>
                    </a:moveTo>
                    <a:lnTo>
                      <a:pt x="0" y="32"/>
                    </a:lnTo>
                    <a:lnTo>
                      <a:pt x="8" y="33"/>
                    </a:lnTo>
                    <a:lnTo>
                      <a:pt x="12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948200" y="3588120"/>
                <a:ext cx="7920" cy="1620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2" y="0"/>
                    </a:moveTo>
                    <a:lnTo>
                      <a:pt x="0" y="30"/>
                    </a:lnTo>
                    <a:lnTo>
                      <a:pt x="14" y="34"/>
                    </a:lnTo>
                    <a:lnTo>
                      <a:pt x="15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079960" y="3418200"/>
                <a:ext cx="98280" cy="71640"/>
              </a:xfrm>
              <a:custGeom>
                <a:avLst/>
                <a:gdLst/>
                <a:ahLst/>
                <a:rect l="l" t="t" r="r" b="b"/>
                <a:pathLst>
                  <a:path w="187" h="154">
                    <a:moveTo>
                      <a:pt x="0" y="10"/>
                    </a:moveTo>
                    <a:lnTo>
                      <a:pt x="0" y="28"/>
                    </a:lnTo>
                    <a:lnTo>
                      <a:pt x="28" y="53"/>
                    </a:lnTo>
                    <a:lnTo>
                      <a:pt x="100" y="79"/>
                    </a:lnTo>
                    <a:lnTo>
                      <a:pt x="155" y="116"/>
                    </a:lnTo>
                    <a:lnTo>
                      <a:pt x="172" y="154"/>
                    </a:lnTo>
                    <a:lnTo>
                      <a:pt x="187" y="143"/>
                    </a:lnTo>
                    <a:lnTo>
                      <a:pt x="172" y="137"/>
                    </a:lnTo>
                    <a:lnTo>
                      <a:pt x="178" y="118"/>
                    </a:lnTo>
                    <a:lnTo>
                      <a:pt x="117" y="76"/>
                    </a:lnTo>
                    <a:lnTo>
                      <a:pt x="66" y="59"/>
                    </a:lnTo>
                    <a:lnTo>
                      <a:pt x="26" y="38"/>
                    </a:lnTo>
                    <a:lnTo>
                      <a:pt x="9" y="20"/>
                    </a:lnTo>
                    <a:lnTo>
                      <a:pt x="9" y="8"/>
                    </a:lnTo>
                    <a:lnTo>
                      <a:pt x="19" y="1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032440" y="3409200"/>
                <a:ext cx="156960" cy="79200"/>
              </a:xfrm>
              <a:custGeom>
                <a:avLst/>
                <a:gdLst/>
                <a:ahLst/>
                <a:rect l="l" t="t" r="r" b="b"/>
                <a:pathLst>
                  <a:path w="296" h="172">
                    <a:moveTo>
                      <a:pt x="119" y="72"/>
                    </a:moveTo>
                    <a:lnTo>
                      <a:pt x="97" y="98"/>
                    </a:lnTo>
                    <a:lnTo>
                      <a:pt x="98" y="129"/>
                    </a:lnTo>
                    <a:lnTo>
                      <a:pt x="86" y="103"/>
                    </a:lnTo>
                    <a:lnTo>
                      <a:pt x="64" y="89"/>
                    </a:lnTo>
                    <a:lnTo>
                      <a:pt x="82" y="89"/>
                    </a:lnTo>
                    <a:lnTo>
                      <a:pt x="97" y="80"/>
                    </a:lnTo>
                    <a:lnTo>
                      <a:pt x="111" y="63"/>
                    </a:lnTo>
                    <a:lnTo>
                      <a:pt x="93" y="41"/>
                    </a:lnTo>
                    <a:lnTo>
                      <a:pt x="97" y="28"/>
                    </a:lnTo>
                    <a:lnTo>
                      <a:pt x="109" y="25"/>
                    </a:lnTo>
                    <a:lnTo>
                      <a:pt x="134" y="32"/>
                    </a:lnTo>
                    <a:lnTo>
                      <a:pt x="174" y="40"/>
                    </a:lnTo>
                    <a:lnTo>
                      <a:pt x="193" y="52"/>
                    </a:lnTo>
                    <a:lnTo>
                      <a:pt x="231" y="60"/>
                    </a:lnTo>
                    <a:lnTo>
                      <a:pt x="275" y="96"/>
                    </a:lnTo>
                    <a:lnTo>
                      <a:pt x="296" y="113"/>
                    </a:lnTo>
                    <a:lnTo>
                      <a:pt x="288" y="91"/>
                    </a:lnTo>
                    <a:lnTo>
                      <a:pt x="271" y="86"/>
                    </a:lnTo>
                    <a:lnTo>
                      <a:pt x="235" y="56"/>
                    </a:lnTo>
                    <a:lnTo>
                      <a:pt x="217" y="45"/>
                    </a:lnTo>
                    <a:lnTo>
                      <a:pt x="199" y="29"/>
                    </a:lnTo>
                    <a:lnTo>
                      <a:pt x="131" y="9"/>
                    </a:lnTo>
                    <a:lnTo>
                      <a:pt x="90" y="0"/>
                    </a:lnTo>
                    <a:lnTo>
                      <a:pt x="77" y="8"/>
                    </a:lnTo>
                    <a:lnTo>
                      <a:pt x="32" y="53"/>
                    </a:lnTo>
                    <a:lnTo>
                      <a:pt x="25" y="70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40" y="172"/>
                    </a:lnTo>
                    <a:lnTo>
                      <a:pt x="57" y="172"/>
                    </a:lnTo>
                    <a:lnTo>
                      <a:pt x="81" y="166"/>
                    </a:lnTo>
                    <a:lnTo>
                      <a:pt x="126" y="135"/>
                    </a:lnTo>
                    <a:lnTo>
                      <a:pt x="173" y="100"/>
                    </a:lnTo>
                    <a:lnTo>
                      <a:pt x="189" y="118"/>
                    </a:lnTo>
                    <a:lnTo>
                      <a:pt x="197" y="139"/>
                    </a:lnTo>
                    <a:lnTo>
                      <a:pt x="191" y="160"/>
                    </a:lnTo>
                    <a:lnTo>
                      <a:pt x="212" y="131"/>
                    </a:lnTo>
                    <a:lnTo>
                      <a:pt x="221" y="119"/>
                    </a:lnTo>
                    <a:lnTo>
                      <a:pt x="196" y="97"/>
                    </a:lnTo>
                    <a:lnTo>
                      <a:pt x="153" y="84"/>
                    </a:lnTo>
                    <a:lnTo>
                      <a:pt x="119" y="72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156280" y="3427560"/>
                <a:ext cx="15840" cy="900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0" y="15"/>
                    </a:moveTo>
                    <a:lnTo>
                      <a:pt x="11" y="9"/>
                    </a:lnTo>
                    <a:lnTo>
                      <a:pt x="21" y="0"/>
                    </a:lnTo>
                    <a:lnTo>
                      <a:pt x="29" y="4"/>
                    </a:lnTo>
                    <a:lnTo>
                      <a:pt x="19" y="16"/>
                    </a:lnTo>
                    <a:lnTo>
                      <a:pt x="7" y="21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173560" y="34167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0" y="0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5" y="20"/>
                    </a:lnTo>
                    <a:lnTo>
                      <a:pt x="17" y="15"/>
                    </a:lnTo>
                    <a:lnTo>
                      <a:pt x="9" y="13"/>
                    </a:lnTo>
                    <a:lnTo>
                      <a:pt x="6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092560" y="3353760"/>
                <a:ext cx="312840" cy="503280"/>
              </a:xfrm>
              <a:custGeom>
                <a:avLst/>
                <a:gdLst/>
                <a:ahLst/>
                <a:rect l="l" t="t" r="r" b="b"/>
                <a:pathLst>
                  <a:path w="592" h="1092">
                    <a:moveTo>
                      <a:pt x="71" y="29"/>
                    </a:moveTo>
                    <a:lnTo>
                      <a:pt x="53" y="60"/>
                    </a:lnTo>
                    <a:lnTo>
                      <a:pt x="27" y="86"/>
                    </a:lnTo>
                    <a:lnTo>
                      <a:pt x="1" y="101"/>
                    </a:lnTo>
                    <a:lnTo>
                      <a:pt x="0" y="116"/>
                    </a:lnTo>
                    <a:lnTo>
                      <a:pt x="7" y="133"/>
                    </a:lnTo>
                    <a:lnTo>
                      <a:pt x="21" y="135"/>
                    </a:lnTo>
                    <a:lnTo>
                      <a:pt x="11" y="114"/>
                    </a:lnTo>
                    <a:lnTo>
                      <a:pt x="11" y="104"/>
                    </a:lnTo>
                    <a:lnTo>
                      <a:pt x="65" y="104"/>
                    </a:lnTo>
                    <a:lnTo>
                      <a:pt x="124" y="126"/>
                    </a:lnTo>
                    <a:lnTo>
                      <a:pt x="155" y="146"/>
                    </a:lnTo>
                    <a:lnTo>
                      <a:pt x="158" y="140"/>
                    </a:lnTo>
                    <a:lnTo>
                      <a:pt x="134" y="116"/>
                    </a:lnTo>
                    <a:lnTo>
                      <a:pt x="83" y="103"/>
                    </a:lnTo>
                    <a:lnTo>
                      <a:pt x="44" y="91"/>
                    </a:lnTo>
                    <a:lnTo>
                      <a:pt x="44" y="85"/>
                    </a:lnTo>
                    <a:lnTo>
                      <a:pt x="63" y="76"/>
                    </a:lnTo>
                    <a:lnTo>
                      <a:pt x="137" y="83"/>
                    </a:lnTo>
                    <a:lnTo>
                      <a:pt x="156" y="95"/>
                    </a:lnTo>
                    <a:lnTo>
                      <a:pt x="176" y="138"/>
                    </a:lnTo>
                    <a:lnTo>
                      <a:pt x="201" y="183"/>
                    </a:lnTo>
                    <a:lnTo>
                      <a:pt x="219" y="207"/>
                    </a:lnTo>
                    <a:lnTo>
                      <a:pt x="220" y="227"/>
                    </a:lnTo>
                    <a:lnTo>
                      <a:pt x="227" y="315"/>
                    </a:lnTo>
                    <a:lnTo>
                      <a:pt x="256" y="418"/>
                    </a:lnTo>
                    <a:lnTo>
                      <a:pt x="290" y="459"/>
                    </a:lnTo>
                    <a:lnTo>
                      <a:pt x="302" y="497"/>
                    </a:lnTo>
                    <a:lnTo>
                      <a:pt x="321" y="539"/>
                    </a:lnTo>
                    <a:lnTo>
                      <a:pt x="416" y="701"/>
                    </a:lnTo>
                    <a:lnTo>
                      <a:pt x="491" y="789"/>
                    </a:lnTo>
                    <a:lnTo>
                      <a:pt x="570" y="874"/>
                    </a:lnTo>
                    <a:lnTo>
                      <a:pt x="576" y="917"/>
                    </a:lnTo>
                    <a:lnTo>
                      <a:pt x="538" y="992"/>
                    </a:lnTo>
                    <a:lnTo>
                      <a:pt x="494" y="1035"/>
                    </a:lnTo>
                    <a:lnTo>
                      <a:pt x="477" y="1014"/>
                    </a:lnTo>
                    <a:lnTo>
                      <a:pt x="467" y="1067"/>
                    </a:lnTo>
                    <a:lnTo>
                      <a:pt x="412" y="1074"/>
                    </a:lnTo>
                    <a:lnTo>
                      <a:pt x="374" y="1054"/>
                    </a:lnTo>
                    <a:lnTo>
                      <a:pt x="340" y="1002"/>
                    </a:lnTo>
                    <a:lnTo>
                      <a:pt x="288" y="947"/>
                    </a:lnTo>
                    <a:lnTo>
                      <a:pt x="269" y="898"/>
                    </a:lnTo>
                    <a:lnTo>
                      <a:pt x="246" y="794"/>
                    </a:lnTo>
                    <a:lnTo>
                      <a:pt x="222" y="657"/>
                    </a:lnTo>
                    <a:lnTo>
                      <a:pt x="188" y="537"/>
                    </a:lnTo>
                    <a:lnTo>
                      <a:pt x="151" y="451"/>
                    </a:lnTo>
                    <a:lnTo>
                      <a:pt x="127" y="425"/>
                    </a:lnTo>
                    <a:lnTo>
                      <a:pt x="85" y="385"/>
                    </a:lnTo>
                    <a:lnTo>
                      <a:pt x="58" y="341"/>
                    </a:lnTo>
                    <a:lnTo>
                      <a:pt x="58" y="300"/>
                    </a:lnTo>
                    <a:lnTo>
                      <a:pt x="72" y="281"/>
                    </a:lnTo>
                    <a:lnTo>
                      <a:pt x="49" y="294"/>
                    </a:lnTo>
                    <a:lnTo>
                      <a:pt x="50" y="278"/>
                    </a:lnTo>
                    <a:lnTo>
                      <a:pt x="62" y="255"/>
                    </a:lnTo>
                    <a:lnTo>
                      <a:pt x="39" y="273"/>
                    </a:lnTo>
                    <a:lnTo>
                      <a:pt x="30" y="255"/>
                    </a:lnTo>
                    <a:lnTo>
                      <a:pt x="14" y="241"/>
                    </a:lnTo>
                    <a:lnTo>
                      <a:pt x="10" y="252"/>
                    </a:lnTo>
                    <a:lnTo>
                      <a:pt x="27" y="268"/>
                    </a:lnTo>
                    <a:lnTo>
                      <a:pt x="40" y="294"/>
                    </a:lnTo>
                    <a:lnTo>
                      <a:pt x="54" y="349"/>
                    </a:lnTo>
                    <a:lnTo>
                      <a:pt x="78" y="398"/>
                    </a:lnTo>
                    <a:lnTo>
                      <a:pt x="137" y="454"/>
                    </a:lnTo>
                    <a:lnTo>
                      <a:pt x="168" y="510"/>
                    </a:lnTo>
                    <a:lnTo>
                      <a:pt x="205" y="622"/>
                    </a:lnTo>
                    <a:lnTo>
                      <a:pt x="235" y="798"/>
                    </a:lnTo>
                    <a:lnTo>
                      <a:pt x="259" y="912"/>
                    </a:lnTo>
                    <a:lnTo>
                      <a:pt x="289" y="967"/>
                    </a:lnTo>
                    <a:lnTo>
                      <a:pt x="356" y="1060"/>
                    </a:lnTo>
                    <a:lnTo>
                      <a:pt x="420" y="1092"/>
                    </a:lnTo>
                    <a:lnTo>
                      <a:pt x="474" y="1091"/>
                    </a:lnTo>
                    <a:lnTo>
                      <a:pt x="505" y="1047"/>
                    </a:lnTo>
                    <a:lnTo>
                      <a:pt x="552" y="1002"/>
                    </a:lnTo>
                    <a:lnTo>
                      <a:pt x="589" y="944"/>
                    </a:lnTo>
                    <a:lnTo>
                      <a:pt x="592" y="863"/>
                    </a:lnTo>
                    <a:lnTo>
                      <a:pt x="549" y="810"/>
                    </a:lnTo>
                    <a:lnTo>
                      <a:pt x="470" y="732"/>
                    </a:lnTo>
                    <a:lnTo>
                      <a:pt x="397" y="632"/>
                    </a:lnTo>
                    <a:lnTo>
                      <a:pt x="328" y="522"/>
                    </a:lnTo>
                    <a:lnTo>
                      <a:pt x="307" y="458"/>
                    </a:lnTo>
                    <a:lnTo>
                      <a:pt x="272" y="417"/>
                    </a:lnTo>
                    <a:lnTo>
                      <a:pt x="260" y="390"/>
                    </a:lnTo>
                    <a:lnTo>
                      <a:pt x="238" y="299"/>
                    </a:lnTo>
                    <a:lnTo>
                      <a:pt x="233" y="212"/>
                    </a:lnTo>
                    <a:lnTo>
                      <a:pt x="205" y="166"/>
                    </a:lnTo>
                    <a:lnTo>
                      <a:pt x="177" y="118"/>
                    </a:lnTo>
                    <a:lnTo>
                      <a:pt x="158" y="83"/>
                    </a:lnTo>
                    <a:lnTo>
                      <a:pt x="129" y="71"/>
                    </a:lnTo>
                    <a:lnTo>
                      <a:pt x="71" y="71"/>
                    </a:lnTo>
                    <a:lnTo>
                      <a:pt x="85" y="0"/>
                    </a:lnTo>
                    <a:lnTo>
                      <a:pt x="71" y="29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133960" y="3291120"/>
                <a:ext cx="63360" cy="104760"/>
              </a:xfrm>
              <a:custGeom>
                <a:avLst/>
                <a:gdLst/>
                <a:ahLst/>
                <a:rect l="l" t="t" r="r" b="b"/>
                <a:pathLst>
                  <a:path w="121" h="227">
                    <a:moveTo>
                      <a:pt x="63" y="4"/>
                    </a:moveTo>
                    <a:lnTo>
                      <a:pt x="29" y="77"/>
                    </a:lnTo>
                    <a:lnTo>
                      <a:pt x="69" y="92"/>
                    </a:lnTo>
                    <a:lnTo>
                      <a:pt x="39" y="88"/>
                    </a:lnTo>
                    <a:lnTo>
                      <a:pt x="4" y="141"/>
                    </a:lnTo>
                    <a:lnTo>
                      <a:pt x="0" y="158"/>
                    </a:lnTo>
                    <a:lnTo>
                      <a:pt x="26" y="179"/>
                    </a:lnTo>
                    <a:lnTo>
                      <a:pt x="11" y="209"/>
                    </a:lnTo>
                    <a:lnTo>
                      <a:pt x="43" y="210"/>
                    </a:lnTo>
                    <a:lnTo>
                      <a:pt x="70" y="182"/>
                    </a:lnTo>
                    <a:lnTo>
                      <a:pt x="102" y="129"/>
                    </a:lnTo>
                    <a:lnTo>
                      <a:pt x="84" y="176"/>
                    </a:lnTo>
                    <a:lnTo>
                      <a:pt x="60" y="214"/>
                    </a:lnTo>
                    <a:lnTo>
                      <a:pt x="82" y="227"/>
                    </a:lnTo>
                    <a:lnTo>
                      <a:pt x="104" y="174"/>
                    </a:lnTo>
                    <a:lnTo>
                      <a:pt x="121" y="103"/>
                    </a:lnTo>
                    <a:lnTo>
                      <a:pt x="121" y="25"/>
                    </a:lnTo>
                    <a:lnTo>
                      <a:pt x="106" y="10"/>
                    </a:lnTo>
                    <a:lnTo>
                      <a:pt x="75" y="0"/>
                    </a:lnTo>
                    <a:lnTo>
                      <a:pt x="63" y="4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192640" y="3344760"/>
                <a:ext cx="12600" cy="93960"/>
              </a:xfrm>
              <a:custGeom>
                <a:avLst/>
                <a:gdLst/>
                <a:ahLst/>
                <a:rect l="l" t="t" r="r" b="b"/>
                <a:pathLst>
                  <a:path w="24" h="207">
                    <a:moveTo>
                      <a:pt x="7" y="177"/>
                    </a:moveTo>
                    <a:lnTo>
                      <a:pt x="0" y="135"/>
                    </a:lnTo>
                    <a:lnTo>
                      <a:pt x="1" y="99"/>
                    </a:lnTo>
                    <a:lnTo>
                      <a:pt x="12" y="52"/>
                    </a:lnTo>
                    <a:lnTo>
                      <a:pt x="7" y="26"/>
                    </a:lnTo>
                    <a:lnTo>
                      <a:pt x="1" y="14"/>
                    </a:lnTo>
                    <a:lnTo>
                      <a:pt x="7" y="0"/>
                    </a:lnTo>
                    <a:lnTo>
                      <a:pt x="17" y="26"/>
                    </a:lnTo>
                    <a:lnTo>
                      <a:pt x="18" y="59"/>
                    </a:lnTo>
                    <a:lnTo>
                      <a:pt x="12" y="108"/>
                    </a:lnTo>
                    <a:lnTo>
                      <a:pt x="11" y="145"/>
                    </a:lnTo>
                    <a:lnTo>
                      <a:pt x="24" y="207"/>
                    </a:lnTo>
                    <a:lnTo>
                      <a:pt x="7" y="177"/>
                    </a:lnTo>
                    <a:lnTo>
                      <a:pt x="7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92640" y="347004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16" y="0"/>
                    </a:moveTo>
                    <a:lnTo>
                      <a:pt x="15" y="11"/>
                    </a:lnTo>
                    <a:lnTo>
                      <a:pt x="0" y="24"/>
                    </a:lnTo>
                    <a:lnTo>
                      <a:pt x="17" y="69"/>
                    </a:lnTo>
                    <a:lnTo>
                      <a:pt x="22" y="26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62400" y="3497760"/>
                <a:ext cx="38160" cy="77040"/>
              </a:xfrm>
              <a:custGeom>
                <a:avLst/>
                <a:gdLst/>
                <a:ahLst/>
                <a:rect l="l" t="t" r="r" b="b"/>
                <a:pathLst>
                  <a:path w="70" h="167">
                    <a:moveTo>
                      <a:pt x="8" y="14"/>
                    </a:moveTo>
                    <a:lnTo>
                      <a:pt x="0" y="67"/>
                    </a:lnTo>
                    <a:lnTo>
                      <a:pt x="7" y="98"/>
                    </a:lnTo>
                    <a:lnTo>
                      <a:pt x="50" y="140"/>
                    </a:lnTo>
                    <a:lnTo>
                      <a:pt x="70" y="167"/>
                    </a:lnTo>
                    <a:lnTo>
                      <a:pt x="55" y="129"/>
                    </a:lnTo>
                    <a:lnTo>
                      <a:pt x="38" y="108"/>
                    </a:lnTo>
                    <a:lnTo>
                      <a:pt x="23" y="83"/>
                    </a:lnTo>
                    <a:lnTo>
                      <a:pt x="20" y="60"/>
                    </a:lnTo>
                    <a:lnTo>
                      <a:pt x="14" y="0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140440" y="3470040"/>
                <a:ext cx="19080" cy="3060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35" y="0"/>
                    </a:moveTo>
                    <a:lnTo>
                      <a:pt x="21" y="25"/>
                    </a:lnTo>
                    <a:lnTo>
                      <a:pt x="0" y="41"/>
                    </a:lnTo>
                    <a:lnTo>
                      <a:pt x="16" y="33"/>
                    </a:lnTo>
                    <a:lnTo>
                      <a:pt x="10" y="69"/>
                    </a:lnTo>
                    <a:lnTo>
                      <a:pt x="28" y="3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684680" y="3392280"/>
                <a:ext cx="216000" cy="346680"/>
              </a:xfrm>
              <a:custGeom>
                <a:avLst/>
                <a:gdLst/>
                <a:ahLst/>
                <a:rect l="l" t="t" r="r" b="b"/>
                <a:pathLst>
                  <a:path w="406" h="753">
                    <a:moveTo>
                      <a:pt x="406" y="0"/>
                    </a:moveTo>
                    <a:lnTo>
                      <a:pt x="315" y="19"/>
                    </a:lnTo>
                    <a:lnTo>
                      <a:pt x="261" y="67"/>
                    </a:lnTo>
                    <a:lnTo>
                      <a:pt x="198" y="95"/>
                    </a:lnTo>
                    <a:lnTo>
                      <a:pt x="154" y="101"/>
                    </a:lnTo>
                    <a:lnTo>
                      <a:pt x="71" y="143"/>
                    </a:lnTo>
                    <a:lnTo>
                      <a:pt x="14" y="166"/>
                    </a:lnTo>
                    <a:lnTo>
                      <a:pt x="0" y="222"/>
                    </a:lnTo>
                    <a:lnTo>
                      <a:pt x="2" y="367"/>
                    </a:lnTo>
                    <a:lnTo>
                      <a:pt x="34" y="471"/>
                    </a:lnTo>
                    <a:lnTo>
                      <a:pt x="36" y="573"/>
                    </a:lnTo>
                    <a:lnTo>
                      <a:pt x="23" y="720"/>
                    </a:lnTo>
                    <a:lnTo>
                      <a:pt x="50" y="753"/>
                    </a:lnTo>
                    <a:lnTo>
                      <a:pt x="41" y="712"/>
                    </a:lnTo>
                    <a:lnTo>
                      <a:pt x="101" y="689"/>
                    </a:lnTo>
                    <a:lnTo>
                      <a:pt x="50" y="674"/>
                    </a:lnTo>
                    <a:lnTo>
                      <a:pt x="118" y="635"/>
                    </a:lnTo>
                    <a:lnTo>
                      <a:pt x="104" y="600"/>
                    </a:lnTo>
                    <a:lnTo>
                      <a:pt x="165" y="498"/>
                    </a:lnTo>
                    <a:lnTo>
                      <a:pt x="196" y="438"/>
                    </a:lnTo>
                    <a:lnTo>
                      <a:pt x="139" y="508"/>
                    </a:lnTo>
                    <a:lnTo>
                      <a:pt x="62" y="598"/>
                    </a:lnTo>
                    <a:lnTo>
                      <a:pt x="92" y="498"/>
                    </a:lnTo>
                    <a:lnTo>
                      <a:pt x="62" y="444"/>
                    </a:lnTo>
                    <a:lnTo>
                      <a:pt x="27" y="359"/>
                    </a:lnTo>
                    <a:lnTo>
                      <a:pt x="23" y="228"/>
                    </a:lnTo>
                    <a:lnTo>
                      <a:pt x="55" y="164"/>
                    </a:lnTo>
                    <a:lnTo>
                      <a:pt x="150" y="137"/>
                    </a:lnTo>
                    <a:lnTo>
                      <a:pt x="270" y="85"/>
                    </a:lnTo>
                    <a:lnTo>
                      <a:pt x="350" y="42"/>
                    </a:lnTo>
                    <a:lnTo>
                      <a:pt x="402" y="17"/>
                    </a:lnTo>
                    <a:lnTo>
                      <a:pt x="406" y="0"/>
                    </a:ln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21120" y="3558240"/>
                <a:ext cx="38160" cy="106920"/>
              </a:xfrm>
              <a:custGeom>
                <a:avLst/>
                <a:gdLst/>
                <a:ahLst/>
                <a:rect l="l" t="t" r="r" b="b"/>
                <a:pathLst>
                  <a:path w="73" h="235">
                    <a:moveTo>
                      <a:pt x="73" y="163"/>
                    </a:moveTo>
                    <a:lnTo>
                      <a:pt x="26" y="68"/>
                    </a:lnTo>
                    <a:lnTo>
                      <a:pt x="0" y="0"/>
                    </a:lnTo>
                    <a:lnTo>
                      <a:pt x="21" y="108"/>
                    </a:lnTo>
                    <a:lnTo>
                      <a:pt x="42" y="203"/>
                    </a:lnTo>
                    <a:lnTo>
                      <a:pt x="45" y="235"/>
                    </a:lnTo>
                    <a:lnTo>
                      <a:pt x="69" y="195"/>
                    </a:lnTo>
                    <a:lnTo>
                      <a:pt x="73" y="163"/>
                    </a:lnTo>
                    <a:lnTo>
                      <a:pt x="73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778280" y="3621240"/>
                <a:ext cx="49320" cy="99360"/>
              </a:xfrm>
              <a:custGeom>
                <a:avLst/>
                <a:gdLst/>
                <a:ahLst/>
                <a:rect l="l" t="t" r="r" b="b"/>
                <a:pathLst>
                  <a:path w="91" h="214">
                    <a:moveTo>
                      <a:pt x="91" y="0"/>
                    </a:moveTo>
                    <a:lnTo>
                      <a:pt x="53" y="109"/>
                    </a:lnTo>
                    <a:lnTo>
                      <a:pt x="0" y="214"/>
                    </a:lnTo>
                    <a:lnTo>
                      <a:pt x="35" y="213"/>
                    </a:lnTo>
                    <a:lnTo>
                      <a:pt x="65" y="11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200560" y="3820320"/>
                <a:ext cx="115920" cy="34920"/>
              </a:xfrm>
              <a:custGeom>
                <a:avLst/>
                <a:gdLst/>
                <a:ahLst/>
                <a:rect l="l" t="t" r="r" b="b"/>
                <a:pathLst>
                  <a:path w="220" h="73">
                    <a:moveTo>
                      <a:pt x="220" y="73"/>
                    </a:moveTo>
                    <a:lnTo>
                      <a:pt x="138" y="46"/>
                    </a:lnTo>
                    <a:lnTo>
                      <a:pt x="0" y="10"/>
                    </a:lnTo>
                    <a:lnTo>
                      <a:pt x="51" y="0"/>
                    </a:lnTo>
                    <a:lnTo>
                      <a:pt x="127" y="0"/>
                    </a:lnTo>
                    <a:lnTo>
                      <a:pt x="171" y="44"/>
                    </a:lnTo>
                    <a:lnTo>
                      <a:pt x="220" y="73"/>
                    </a:lnTo>
                    <a:lnTo>
                      <a:pt x="2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957560" y="3464280"/>
                <a:ext cx="150840" cy="228600"/>
              </a:xfrm>
              <a:custGeom>
                <a:avLst/>
                <a:gdLst/>
                <a:ahLst/>
                <a:rect l="l" t="t" r="r" b="b"/>
                <a:pathLst>
                  <a:path w="287" h="495">
                    <a:moveTo>
                      <a:pt x="5" y="360"/>
                    </a:moveTo>
                    <a:lnTo>
                      <a:pt x="49" y="421"/>
                    </a:lnTo>
                    <a:lnTo>
                      <a:pt x="109" y="474"/>
                    </a:lnTo>
                    <a:lnTo>
                      <a:pt x="203" y="381"/>
                    </a:lnTo>
                    <a:lnTo>
                      <a:pt x="240" y="288"/>
                    </a:lnTo>
                    <a:lnTo>
                      <a:pt x="261" y="165"/>
                    </a:lnTo>
                    <a:lnTo>
                      <a:pt x="261" y="10"/>
                    </a:lnTo>
                    <a:lnTo>
                      <a:pt x="277" y="0"/>
                    </a:lnTo>
                    <a:lnTo>
                      <a:pt x="287" y="30"/>
                    </a:lnTo>
                    <a:lnTo>
                      <a:pt x="277" y="116"/>
                    </a:lnTo>
                    <a:lnTo>
                      <a:pt x="270" y="228"/>
                    </a:lnTo>
                    <a:lnTo>
                      <a:pt x="240" y="352"/>
                    </a:lnTo>
                    <a:lnTo>
                      <a:pt x="201" y="413"/>
                    </a:lnTo>
                    <a:lnTo>
                      <a:pt x="113" y="495"/>
                    </a:lnTo>
                    <a:lnTo>
                      <a:pt x="31" y="423"/>
                    </a:lnTo>
                    <a:lnTo>
                      <a:pt x="0" y="381"/>
                    </a:lnTo>
                    <a:lnTo>
                      <a:pt x="5" y="360"/>
                    </a:lnTo>
                    <a:lnTo>
                      <a:pt x="5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708440" y="3466440"/>
                <a:ext cx="88920" cy="6264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0" y="22"/>
                    </a:moveTo>
                    <a:lnTo>
                      <a:pt x="89" y="62"/>
                    </a:lnTo>
                    <a:lnTo>
                      <a:pt x="169" y="138"/>
                    </a:lnTo>
                    <a:lnTo>
                      <a:pt x="105" y="58"/>
                    </a:lnTo>
                    <a:lnTo>
                      <a:pt x="47" y="17"/>
                    </a:lnTo>
                    <a:lnTo>
                      <a:pt x="9" y="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910040" y="3667320"/>
                <a:ext cx="317520" cy="151200"/>
              </a:xfrm>
              <a:custGeom>
                <a:avLst/>
                <a:gdLst/>
                <a:ahLst/>
                <a:rect l="l" t="t" r="r" b="b"/>
                <a:pathLst>
                  <a:path w="601" h="331">
                    <a:moveTo>
                      <a:pt x="530" y="0"/>
                    </a:moveTo>
                    <a:lnTo>
                      <a:pt x="500" y="93"/>
                    </a:lnTo>
                    <a:lnTo>
                      <a:pt x="465" y="161"/>
                    </a:lnTo>
                    <a:lnTo>
                      <a:pt x="430" y="256"/>
                    </a:lnTo>
                    <a:lnTo>
                      <a:pt x="390" y="286"/>
                    </a:lnTo>
                    <a:lnTo>
                      <a:pt x="167" y="315"/>
                    </a:lnTo>
                    <a:lnTo>
                      <a:pt x="3" y="305"/>
                    </a:lnTo>
                    <a:lnTo>
                      <a:pt x="0" y="326"/>
                    </a:lnTo>
                    <a:lnTo>
                      <a:pt x="200" y="331"/>
                    </a:lnTo>
                    <a:lnTo>
                      <a:pt x="414" y="296"/>
                    </a:lnTo>
                    <a:lnTo>
                      <a:pt x="475" y="242"/>
                    </a:lnTo>
                    <a:lnTo>
                      <a:pt x="507" y="123"/>
                    </a:lnTo>
                    <a:lnTo>
                      <a:pt x="542" y="51"/>
                    </a:lnTo>
                    <a:lnTo>
                      <a:pt x="564" y="120"/>
                    </a:lnTo>
                    <a:lnTo>
                      <a:pt x="564" y="207"/>
                    </a:lnTo>
                    <a:lnTo>
                      <a:pt x="601" y="218"/>
                    </a:lnTo>
                    <a:lnTo>
                      <a:pt x="583" y="89"/>
                    </a:lnTo>
                    <a:lnTo>
                      <a:pt x="564" y="30"/>
                    </a:lnTo>
                    <a:lnTo>
                      <a:pt x="530" y="0"/>
                    </a:lnTo>
                    <a:lnTo>
                      <a:pt x="5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203800" y="3436560"/>
                <a:ext cx="157320" cy="272880"/>
              </a:xfrm>
              <a:custGeom>
                <a:avLst/>
                <a:gdLst/>
                <a:ahLst/>
                <a:rect l="l" t="t" r="r" b="b"/>
                <a:pathLst>
                  <a:path w="298" h="592">
                    <a:moveTo>
                      <a:pt x="0" y="0"/>
                    </a:moveTo>
                    <a:lnTo>
                      <a:pt x="79" y="23"/>
                    </a:lnTo>
                    <a:lnTo>
                      <a:pt x="143" y="63"/>
                    </a:lnTo>
                    <a:lnTo>
                      <a:pt x="155" y="121"/>
                    </a:lnTo>
                    <a:lnTo>
                      <a:pt x="208" y="252"/>
                    </a:lnTo>
                    <a:lnTo>
                      <a:pt x="210" y="357"/>
                    </a:lnTo>
                    <a:lnTo>
                      <a:pt x="251" y="476"/>
                    </a:lnTo>
                    <a:lnTo>
                      <a:pt x="298" y="556"/>
                    </a:lnTo>
                    <a:lnTo>
                      <a:pt x="293" y="592"/>
                    </a:lnTo>
                    <a:lnTo>
                      <a:pt x="258" y="563"/>
                    </a:lnTo>
                    <a:lnTo>
                      <a:pt x="215" y="459"/>
                    </a:lnTo>
                    <a:lnTo>
                      <a:pt x="194" y="366"/>
                    </a:lnTo>
                    <a:lnTo>
                      <a:pt x="182" y="461"/>
                    </a:lnTo>
                    <a:lnTo>
                      <a:pt x="157" y="413"/>
                    </a:lnTo>
                    <a:lnTo>
                      <a:pt x="180" y="270"/>
                    </a:lnTo>
                    <a:lnTo>
                      <a:pt x="129" y="146"/>
                    </a:lnTo>
                    <a:lnTo>
                      <a:pt x="100" y="214"/>
                    </a:lnTo>
                    <a:lnTo>
                      <a:pt x="117" y="71"/>
                    </a:lnTo>
                    <a:lnTo>
                      <a:pt x="58" y="36"/>
                    </a:lnTo>
                    <a:lnTo>
                      <a:pt x="1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016600" y="3475440"/>
                <a:ext cx="174600" cy="357480"/>
              </a:xfrm>
              <a:custGeom>
                <a:avLst/>
                <a:gdLst/>
                <a:ahLst/>
                <a:rect l="l" t="t" r="r" b="b"/>
                <a:pathLst>
                  <a:path w="328" h="774">
                    <a:moveTo>
                      <a:pt x="47" y="0"/>
                    </a:moveTo>
                    <a:lnTo>
                      <a:pt x="48" y="27"/>
                    </a:lnTo>
                    <a:lnTo>
                      <a:pt x="35" y="39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29" y="69"/>
                    </a:lnTo>
                    <a:lnTo>
                      <a:pt x="12" y="81"/>
                    </a:lnTo>
                    <a:lnTo>
                      <a:pt x="7" y="105"/>
                    </a:lnTo>
                    <a:lnTo>
                      <a:pt x="31" y="112"/>
                    </a:lnTo>
                    <a:lnTo>
                      <a:pt x="20" y="127"/>
                    </a:lnTo>
                    <a:lnTo>
                      <a:pt x="21" y="142"/>
                    </a:lnTo>
                    <a:lnTo>
                      <a:pt x="43" y="144"/>
                    </a:lnTo>
                    <a:lnTo>
                      <a:pt x="32" y="160"/>
                    </a:lnTo>
                    <a:lnTo>
                      <a:pt x="39" y="175"/>
                    </a:lnTo>
                    <a:lnTo>
                      <a:pt x="54" y="177"/>
                    </a:lnTo>
                    <a:lnTo>
                      <a:pt x="46" y="195"/>
                    </a:lnTo>
                    <a:lnTo>
                      <a:pt x="49" y="210"/>
                    </a:lnTo>
                    <a:lnTo>
                      <a:pt x="65" y="215"/>
                    </a:lnTo>
                    <a:lnTo>
                      <a:pt x="56" y="229"/>
                    </a:lnTo>
                    <a:lnTo>
                      <a:pt x="61" y="244"/>
                    </a:lnTo>
                    <a:lnTo>
                      <a:pt x="78" y="250"/>
                    </a:lnTo>
                    <a:lnTo>
                      <a:pt x="64" y="267"/>
                    </a:lnTo>
                    <a:lnTo>
                      <a:pt x="68" y="285"/>
                    </a:lnTo>
                    <a:lnTo>
                      <a:pt x="90" y="297"/>
                    </a:lnTo>
                    <a:lnTo>
                      <a:pt x="65" y="303"/>
                    </a:lnTo>
                    <a:lnTo>
                      <a:pt x="64" y="329"/>
                    </a:lnTo>
                    <a:lnTo>
                      <a:pt x="93" y="339"/>
                    </a:lnTo>
                    <a:lnTo>
                      <a:pt x="99" y="368"/>
                    </a:lnTo>
                    <a:lnTo>
                      <a:pt x="122" y="380"/>
                    </a:lnTo>
                    <a:lnTo>
                      <a:pt x="132" y="406"/>
                    </a:lnTo>
                    <a:lnTo>
                      <a:pt x="146" y="422"/>
                    </a:lnTo>
                    <a:lnTo>
                      <a:pt x="158" y="455"/>
                    </a:lnTo>
                    <a:lnTo>
                      <a:pt x="169" y="471"/>
                    </a:lnTo>
                    <a:lnTo>
                      <a:pt x="188" y="520"/>
                    </a:lnTo>
                    <a:lnTo>
                      <a:pt x="192" y="545"/>
                    </a:lnTo>
                    <a:lnTo>
                      <a:pt x="205" y="562"/>
                    </a:lnTo>
                    <a:lnTo>
                      <a:pt x="205" y="582"/>
                    </a:lnTo>
                    <a:lnTo>
                      <a:pt x="214" y="601"/>
                    </a:lnTo>
                    <a:lnTo>
                      <a:pt x="210" y="624"/>
                    </a:lnTo>
                    <a:lnTo>
                      <a:pt x="228" y="660"/>
                    </a:lnTo>
                    <a:lnTo>
                      <a:pt x="254" y="687"/>
                    </a:lnTo>
                    <a:lnTo>
                      <a:pt x="260" y="710"/>
                    </a:lnTo>
                    <a:lnTo>
                      <a:pt x="269" y="731"/>
                    </a:lnTo>
                    <a:lnTo>
                      <a:pt x="281" y="744"/>
                    </a:lnTo>
                    <a:lnTo>
                      <a:pt x="295" y="749"/>
                    </a:lnTo>
                    <a:lnTo>
                      <a:pt x="290" y="766"/>
                    </a:lnTo>
                    <a:lnTo>
                      <a:pt x="295" y="771"/>
                    </a:lnTo>
                    <a:lnTo>
                      <a:pt x="310" y="774"/>
                    </a:lnTo>
                    <a:lnTo>
                      <a:pt x="310" y="760"/>
                    </a:lnTo>
                    <a:lnTo>
                      <a:pt x="328" y="741"/>
                    </a:lnTo>
                    <a:lnTo>
                      <a:pt x="318" y="736"/>
                    </a:lnTo>
                    <a:lnTo>
                      <a:pt x="302" y="743"/>
                    </a:lnTo>
                    <a:lnTo>
                      <a:pt x="291" y="733"/>
                    </a:lnTo>
                    <a:lnTo>
                      <a:pt x="304" y="721"/>
                    </a:lnTo>
                    <a:lnTo>
                      <a:pt x="313" y="709"/>
                    </a:lnTo>
                    <a:lnTo>
                      <a:pt x="300" y="700"/>
                    </a:lnTo>
                    <a:lnTo>
                      <a:pt x="295" y="682"/>
                    </a:lnTo>
                    <a:lnTo>
                      <a:pt x="277" y="656"/>
                    </a:lnTo>
                    <a:lnTo>
                      <a:pt x="256" y="631"/>
                    </a:lnTo>
                    <a:lnTo>
                      <a:pt x="226" y="613"/>
                    </a:lnTo>
                    <a:lnTo>
                      <a:pt x="225" y="596"/>
                    </a:lnTo>
                    <a:lnTo>
                      <a:pt x="243" y="584"/>
                    </a:lnTo>
                    <a:lnTo>
                      <a:pt x="243" y="574"/>
                    </a:lnTo>
                    <a:lnTo>
                      <a:pt x="219" y="556"/>
                    </a:lnTo>
                    <a:lnTo>
                      <a:pt x="242" y="546"/>
                    </a:lnTo>
                    <a:lnTo>
                      <a:pt x="242" y="531"/>
                    </a:lnTo>
                    <a:lnTo>
                      <a:pt x="228" y="501"/>
                    </a:lnTo>
                    <a:lnTo>
                      <a:pt x="210" y="449"/>
                    </a:lnTo>
                    <a:lnTo>
                      <a:pt x="191" y="414"/>
                    </a:lnTo>
                    <a:lnTo>
                      <a:pt x="182" y="395"/>
                    </a:lnTo>
                    <a:lnTo>
                      <a:pt x="165" y="363"/>
                    </a:lnTo>
                    <a:lnTo>
                      <a:pt x="143" y="336"/>
                    </a:lnTo>
                    <a:lnTo>
                      <a:pt x="92" y="321"/>
                    </a:lnTo>
                    <a:lnTo>
                      <a:pt x="88" y="309"/>
                    </a:lnTo>
                    <a:lnTo>
                      <a:pt x="121" y="294"/>
                    </a:lnTo>
                    <a:lnTo>
                      <a:pt x="118" y="272"/>
                    </a:lnTo>
                    <a:lnTo>
                      <a:pt x="90" y="263"/>
                    </a:lnTo>
                    <a:lnTo>
                      <a:pt x="113" y="251"/>
                    </a:lnTo>
                    <a:lnTo>
                      <a:pt x="110" y="237"/>
                    </a:lnTo>
                    <a:lnTo>
                      <a:pt x="75" y="238"/>
                    </a:lnTo>
                    <a:lnTo>
                      <a:pt x="74" y="228"/>
                    </a:lnTo>
                    <a:lnTo>
                      <a:pt x="101" y="216"/>
                    </a:lnTo>
                    <a:lnTo>
                      <a:pt x="101" y="204"/>
                    </a:lnTo>
                    <a:lnTo>
                      <a:pt x="85" y="200"/>
                    </a:lnTo>
                    <a:lnTo>
                      <a:pt x="64" y="199"/>
                    </a:lnTo>
                    <a:lnTo>
                      <a:pt x="68" y="192"/>
                    </a:lnTo>
                    <a:lnTo>
                      <a:pt x="92" y="181"/>
                    </a:lnTo>
                    <a:lnTo>
                      <a:pt x="92" y="167"/>
                    </a:lnTo>
                    <a:lnTo>
                      <a:pt x="77" y="161"/>
                    </a:lnTo>
                    <a:lnTo>
                      <a:pt x="56" y="164"/>
                    </a:lnTo>
                    <a:lnTo>
                      <a:pt x="55" y="159"/>
                    </a:lnTo>
                    <a:lnTo>
                      <a:pt x="83" y="150"/>
                    </a:lnTo>
                    <a:lnTo>
                      <a:pt x="83" y="134"/>
                    </a:lnTo>
                    <a:lnTo>
                      <a:pt x="44" y="133"/>
                    </a:lnTo>
                    <a:lnTo>
                      <a:pt x="44" y="125"/>
                    </a:lnTo>
                    <a:lnTo>
                      <a:pt x="74" y="116"/>
                    </a:lnTo>
                    <a:lnTo>
                      <a:pt x="74" y="97"/>
                    </a:lnTo>
                    <a:lnTo>
                      <a:pt x="34" y="94"/>
                    </a:lnTo>
                    <a:lnTo>
                      <a:pt x="34" y="84"/>
                    </a:lnTo>
                    <a:lnTo>
                      <a:pt x="62" y="72"/>
                    </a:lnTo>
                    <a:lnTo>
                      <a:pt x="61" y="61"/>
                    </a:lnTo>
                    <a:lnTo>
                      <a:pt x="40" y="52"/>
                    </a:lnTo>
                    <a:lnTo>
                      <a:pt x="58" y="43"/>
                    </a:lnTo>
                    <a:lnTo>
                      <a:pt x="62" y="30"/>
                    </a:lnTo>
                    <a:lnTo>
                      <a:pt x="62" y="15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80040" y="3827880"/>
                <a:ext cx="181080" cy="169560"/>
              </a:xfrm>
              <a:custGeom>
                <a:avLst/>
                <a:gdLst/>
                <a:ahLst/>
                <a:rect l="l" t="t" r="r" b="b"/>
                <a:pathLst>
                  <a:path w="342" h="366">
                    <a:moveTo>
                      <a:pt x="33" y="0"/>
                    </a:moveTo>
                    <a:lnTo>
                      <a:pt x="0" y="6"/>
                    </a:lnTo>
                    <a:lnTo>
                      <a:pt x="0" y="31"/>
                    </a:lnTo>
                    <a:lnTo>
                      <a:pt x="21" y="44"/>
                    </a:lnTo>
                    <a:lnTo>
                      <a:pt x="23" y="60"/>
                    </a:lnTo>
                    <a:lnTo>
                      <a:pt x="35" y="68"/>
                    </a:lnTo>
                    <a:lnTo>
                      <a:pt x="42" y="80"/>
                    </a:lnTo>
                    <a:lnTo>
                      <a:pt x="53" y="87"/>
                    </a:lnTo>
                    <a:lnTo>
                      <a:pt x="55" y="108"/>
                    </a:lnTo>
                    <a:lnTo>
                      <a:pt x="71" y="121"/>
                    </a:lnTo>
                    <a:lnTo>
                      <a:pt x="77" y="137"/>
                    </a:lnTo>
                    <a:lnTo>
                      <a:pt x="92" y="144"/>
                    </a:lnTo>
                    <a:lnTo>
                      <a:pt x="103" y="166"/>
                    </a:lnTo>
                    <a:lnTo>
                      <a:pt x="118" y="179"/>
                    </a:lnTo>
                    <a:lnTo>
                      <a:pt x="121" y="191"/>
                    </a:lnTo>
                    <a:lnTo>
                      <a:pt x="142" y="202"/>
                    </a:lnTo>
                    <a:lnTo>
                      <a:pt x="151" y="221"/>
                    </a:lnTo>
                    <a:lnTo>
                      <a:pt x="160" y="226"/>
                    </a:lnTo>
                    <a:lnTo>
                      <a:pt x="169" y="241"/>
                    </a:lnTo>
                    <a:lnTo>
                      <a:pt x="177" y="245"/>
                    </a:lnTo>
                    <a:lnTo>
                      <a:pt x="191" y="263"/>
                    </a:lnTo>
                    <a:lnTo>
                      <a:pt x="228" y="294"/>
                    </a:lnTo>
                    <a:lnTo>
                      <a:pt x="260" y="320"/>
                    </a:lnTo>
                    <a:lnTo>
                      <a:pt x="297" y="342"/>
                    </a:lnTo>
                    <a:lnTo>
                      <a:pt x="337" y="366"/>
                    </a:lnTo>
                    <a:lnTo>
                      <a:pt x="342" y="336"/>
                    </a:lnTo>
                    <a:lnTo>
                      <a:pt x="320" y="344"/>
                    </a:lnTo>
                    <a:lnTo>
                      <a:pt x="318" y="326"/>
                    </a:lnTo>
                    <a:lnTo>
                      <a:pt x="292" y="331"/>
                    </a:lnTo>
                    <a:lnTo>
                      <a:pt x="297" y="308"/>
                    </a:lnTo>
                    <a:lnTo>
                      <a:pt x="276" y="314"/>
                    </a:lnTo>
                    <a:lnTo>
                      <a:pt x="279" y="295"/>
                    </a:lnTo>
                    <a:lnTo>
                      <a:pt x="253" y="302"/>
                    </a:lnTo>
                    <a:lnTo>
                      <a:pt x="253" y="279"/>
                    </a:lnTo>
                    <a:lnTo>
                      <a:pt x="231" y="280"/>
                    </a:lnTo>
                    <a:lnTo>
                      <a:pt x="230" y="269"/>
                    </a:lnTo>
                    <a:lnTo>
                      <a:pt x="213" y="265"/>
                    </a:lnTo>
                    <a:lnTo>
                      <a:pt x="213" y="249"/>
                    </a:lnTo>
                    <a:lnTo>
                      <a:pt x="190" y="248"/>
                    </a:lnTo>
                    <a:lnTo>
                      <a:pt x="190" y="232"/>
                    </a:lnTo>
                    <a:lnTo>
                      <a:pt x="171" y="224"/>
                    </a:lnTo>
                    <a:lnTo>
                      <a:pt x="176" y="208"/>
                    </a:lnTo>
                    <a:lnTo>
                      <a:pt x="155" y="207"/>
                    </a:lnTo>
                    <a:lnTo>
                      <a:pt x="154" y="190"/>
                    </a:lnTo>
                    <a:lnTo>
                      <a:pt x="139" y="181"/>
                    </a:lnTo>
                    <a:lnTo>
                      <a:pt x="141" y="166"/>
                    </a:lnTo>
                    <a:lnTo>
                      <a:pt x="116" y="161"/>
                    </a:lnTo>
                    <a:lnTo>
                      <a:pt x="114" y="149"/>
                    </a:lnTo>
                    <a:lnTo>
                      <a:pt x="98" y="139"/>
                    </a:lnTo>
                    <a:lnTo>
                      <a:pt x="98" y="122"/>
                    </a:lnTo>
                    <a:lnTo>
                      <a:pt x="78" y="117"/>
                    </a:lnTo>
                    <a:lnTo>
                      <a:pt x="77" y="102"/>
                    </a:lnTo>
                    <a:lnTo>
                      <a:pt x="62" y="92"/>
                    </a:lnTo>
                    <a:lnTo>
                      <a:pt x="67" y="76"/>
                    </a:lnTo>
                    <a:lnTo>
                      <a:pt x="47" y="65"/>
                    </a:lnTo>
                    <a:lnTo>
                      <a:pt x="49" y="43"/>
                    </a:lnTo>
                    <a:lnTo>
                      <a:pt x="36" y="34"/>
                    </a:lnTo>
                    <a:lnTo>
                      <a:pt x="46" y="20"/>
                    </a:lnTo>
                    <a:lnTo>
                      <a:pt x="57" y="20"/>
                    </a:lnTo>
                    <a:lnTo>
                      <a:pt x="55" y="5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211720" y="3838680"/>
                <a:ext cx="227160" cy="160560"/>
              </a:xfrm>
              <a:custGeom>
                <a:avLst/>
                <a:gdLst/>
                <a:ahLst/>
                <a:rect l="l" t="t" r="r" b="b"/>
                <a:pathLst>
                  <a:path w="429" h="348">
                    <a:moveTo>
                      <a:pt x="3" y="0"/>
                    </a:moveTo>
                    <a:lnTo>
                      <a:pt x="0" y="26"/>
                    </a:lnTo>
                    <a:lnTo>
                      <a:pt x="13" y="31"/>
                    </a:lnTo>
                    <a:lnTo>
                      <a:pt x="9" y="47"/>
                    </a:lnTo>
                    <a:lnTo>
                      <a:pt x="24" y="51"/>
                    </a:lnTo>
                    <a:lnTo>
                      <a:pt x="21" y="76"/>
                    </a:lnTo>
                    <a:lnTo>
                      <a:pt x="39" y="76"/>
                    </a:lnTo>
                    <a:lnTo>
                      <a:pt x="44" y="90"/>
                    </a:lnTo>
                    <a:lnTo>
                      <a:pt x="24" y="99"/>
                    </a:lnTo>
                    <a:lnTo>
                      <a:pt x="28" y="112"/>
                    </a:lnTo>
                    <a:lnTo>
                      <a:pt x="52" y="99"/>
                    </a:lnTo>
                    <a:lnTo>
                      <a:pt x="59" y="88"/>
                    </a:lnTo>
                    <a:lnTo>
                      <a:pt x="64" y="102"/>
                    </a:lnTo>
                    <a:lnTo>
                      <a:pt x="49" y="124"/>
                    </a:lnTo>
                    <a:lnTo>
                      <a:pt x="52" y="133"/>
                    </a:lnTo>
                    <a:lnTo>
                      <a:pt x="71" y="114"/>
                    </a:lnTo>
                    <a:lnTo>
                      <a:pt x="80" y="123"/>
                    </a:lnTo>
                    <a:lnTo>
                      <a:pt x="78" y="145"/>
                    </a:lnTo>
                    <a:lnTo>
                      <a:pt x="94" y="153"/>
                    </a:lnTo>
                    <a:lnTo>
                      <a:pt x="94" y="175"/>
                    </a:lnTo>
                    <a:lnTo>
                      <a:pt x="116" y="168"/>
                    </a:lnTo>
                    <a:lnTo>
                      <a:pt x="116" y="183"/>
                    </a:lnTo>
                    <a:lnTo>
                      <a:pt x="133" y="183"/>
                    </a:lnTo>
                    <a:lnTo>
                      <a:pt x="123" y="211"/>
                    </a:lnTo>
                    <a:lnTo>
                      <a:pt x="128" y="222"/>
                    </a:lnTo>
                    <a:lnTo>
                      <a:pt x="144" y="204"/>
                    </a:lnTo>
                    <a:lnTo>
                      <a:pt x="154" y="204"/>
                    </a:lnTo>
                    <a:lnTo>
                      <a:pt x="147" y="229"/>
                    </a:lnTo>
                    <a:lnTo>
                      <a:pt x="154" y="245"/>
                    </a:lnTo>
                    <a:lnTo>
                      <a:pt x="164" y="213"/>
                    </a:lnTo>
                    <a:lnTo>
                      <a:pt x="174" y="224"/>
                    </a:lnTo>
                    <a:lnTo>
                      <a:pt x="176" y="243"/>
                    </a:lnTo>
                    <a:lnTo>
                      <a:pt x="192" y="240"/>
                    </a:lnTo>
                    <a:lnTo>
                      <a:pt x="209" y="254"/>
                    </a:lnTo>
                    <a:lnTo>
                      <a:pt x="228" y="259"/>
                    </a:lnTo>
                    <a:lnTo>
                      <a:pt x="237" y="278"/>
                    </a:lnTo>
                    <a:lnTo>
                      <a:pt x="268" y="284"/>
                    </a:lnTo>
                    <a:lnTo>
                      <a:pt x="279" y="302"/>
                    </a:lnTo>
                    <a:lnTo>
                      <a:pt x="307" y="306"/>
                    </a:lnTo>
                    <a:lnTo>
                      <a:pt x="304" y="334"/>
                    </a:lnTo>
                    <a:lnTo>
                      <a:pt x="323" y="316"/>
                    </a:lnTo>
                    <a:lnTo>
                      <a:pt x="335" y="319"/>
                    </a:lnTo>
                    <a:lnTo>
                      <a:pt x="333" y="342"/>
                    </a:lnTo>
                    <a:lnTo>
                      <a:pt x="358" y="333"/>
                    </a:lnTo>
                    <a:lnTo>
                      <a:pt x="390" y="347"/>
                    </a:lnTo>
                    <a:lnTo>
                      <a:pt x="429" y="348"/>
                    </a:lnTo>
                    <a:lnTo>
                      <a:pt x="405" y="335"/>
                    </a:lnTo>
                    <a:lnTo>
                      <a:pt x="335" y="304"/>
                    </a:lnTo>
                    <a:lnTo>
                      <a:pt x="319" y="300"/>
                    </a:lnTo>
                    <a:lnTo>
                      <a:pt x="306" y="286"/>
                    </a:lnTo>
                    <a:lnTo>
                      <a:pt x="280" y="275"/>
                    </a:lnTo>
                    <a:lnTo>
                      <a:pt x="259" y="259"/>
                    </a:lnTo>
                    <a:lnTo>
                      <a:pt x="235" y="245"/>
                    </a:lnTo>
                    <a:lnTo>
                      <a:pt x="207" y="219"/>
                    </a:lnTo>
                    <a:lnTo>
                      <a:pt x="181" y="204"/>
                    </a:lnTo>
                    <a:lnTo>
                      <a:pt x="160" y="176"/>
                    </a:lnTo>
                    <a:lnTo>
                      <a:pt x="136" y="157"/>
                    </a:lnTo>
                    <a:lnTo>
                      <a:pt x="106" y="117"/>
                    </a:lnTo>
                    <a:lnTo>
                      <a:pt x="84" y="96"/>
                    </a:lnTo>
                    <a:lnTo>
                      <a:pt x="65" y="63"/>
                    </a:lnTo>
                    <a:lnTo>
                      <a:pt x="50" y="54"/>
                    </a:lnTo>
                    <a:lnTo>
                      <a:pt x="43" y="31"/>
                    </a:lnTo>
                    <a:lnTo>
                      <a:pt x="27" y="25"/>
                    </a:lnTo>
                    <a:lnTo>
                      <a:pt x="22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825800" y="3982320"/>
                <a:ext cx="676440" cy="197280"/>
              </a:xfrm>
              <a:custGeom>
                <a:avLst/>
                <a:gdLst/>
                <a:ahLst/>
                <a:rect l="l" t="t" r="r" b="b"/>
                <a:pathLst>
                  <a:path w="1276" h="425">
                    <a:moveTo>
                      <a:pt x="18" y="0"/>
                    </a:moveTo>
                    <a:lnTo>
                      <a:pt x="1" y="11"/>
                    </a:lnTo>
                    <a:lnTo>
                      <a:pt x="0" y="142"/>
                    </a:lnTo>
                    <a:lnTo>
                      <a:pt x="8" y="155"/>
                    </a:lnTo>
                    <a:lnTo>
                      <a:pt x="68" y="192"/>
                    </a:lnTo>
                    <a:lnTo>
                      <a:pt x="75" y="208"/>
                    </a:lnTo>
                    <a:lnTo>
                      <a:pt x="75" y="309"/>
                    </a:lnTo>
                    <a:lnTo>
                      <a:pt x="89" y="331"/>
                    </a:lnTo>
                    <a:lnTo>
                      <a:pt x="152" y="333"/>
                    </a:lnTo>
                    <a:lnTo>
                      <a:pt x="152" y="405"/>
                    </a:lnTo>
                    <a:lnTo>
                      <a:pt x="779" y="425"/>
                    </a:lnTo>
                    <a:lnTo>
                      <a:pt x="821" y="354"/>
                    </a:lnTo>
                    <a:lnTo>
                      <a:pt x="784" y="354"/>
                    </a:lnTo>
                    <a:lnTo>
                      <a:pt x="772" y="411"/>
                    </a:lnTo>
                    <a:lnTo>
                      <a:pt x="162" y="397"/>
                    </a:lnTo>
                    <a:lnTo>
                      <a:pt x="168" y="275"/>
                    </a:lnTo>
                    <a:lnTo>
                      <a:pt x="155" y="283"/>
                    </a:lnTo>
                    <a:lnTo>
                      <a:pt x="152" y="320"/>
                    </a:lnTo>
                    <a:lnTo>
                      <a:pt x="105" y="317"/>
                    </a:lnTo>
                    <a:lnTo>
                      <a:pt x="95" y="304"/>
                    </a:lnTo>
                    <a:lnTo>
                      <a:pt x="95" y="209"/>
                    </a:lnTo>
                    <a:lnTo>
                      <a:pt x="1140" y="249"/>
                    </a:lnTo>
                    <a:lnTo>
                      <a:pt x="1182" y="218"/>
                    </a:lnTo>
                    <a:lnTo>
                      <a:pt x="1208" y="218"/>
                    </a:lnTo>
                    <a:lnTo>
                      <a:pt x="1228" y="190"/>
                    </a:lnTo>
                    <a:lnTo>
                      <a:pt x="1258" y="187"/>
                    </a:lnTo>
                    <a:lnTo>
                      <a:pt x="1276" y="160"/>
                    </a:lnTo>
                    <a:lnTo>
                      <a:pt x="1257" y="140"/>
                    </a:lnTo>
                    <a:lnTo>
                      <a:pt x="1264" y="109"/>
                    </a:lnTo>
                    <a:lnTo>
                      <a:pt x="1239" y="90"/>
                    </a:lnTo>
                    <a:lnTo>
                      <a:pt x="1235" y="69"/>
                    </a:lnTo>
                    <a:lnTo>
                      <a:pt x="1194" y="45"/>
                    </a:lnTo>
                    <a:lnTo>
                      <a:pt x="1197" y="185"/>
                    </a:lnTo>
                    <a:lnTo>
                      <a:pt x="1168" y="195"/>
                    </a:lnTo>
                    <a:lnTo>
                      <a:pt x="31" y="143"/>
                    </a:lnTo>
                    <a:lnTo>
                      <a:pt x="18" y="128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842000" y="3980880"/>
                <a:ext cx="614160" cy="21960"/>
              </a:xfrm>
              <a:custGeom>
                <a:avLst/>
                <a:gdLst/>
                <a:ahLst/>
                <a:rect l="l" t="t" r="r" b="b"/>
                <a:pathLst>
                  <a:path w="1161" h="48">
                    <a:moveTo>
                      <a:pt x="0" y="11"/>
                    </a:moveTo>
                    <a:lnTo>
                      <a:pt x="1161" y="48"/>
                    </a:lnTo>
                    <a:lnTo>
                      <a:pt x="1130" y="35"/>
                    </a:lnTo>
                    <a:lnTo>
                      <a:pt x="3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832280" y="4008240"/>
                <a:ext cx="628560" cy="25920"/>
              </a:xfrm>
              <a:custGeom>
                <a:avLst/>
                <a:gdLst/>
                <a:ahLst/>
                <a:rect l="l" t="t" r="r" b="b"/>
                <a:pathLst>
                  <a:path w="1190" h="58">
                    <a:moveTo>
                      <a:pt x="0" y="12"/>
                    </a:moveTo>
                    <a:lnTo>
                      <a:pt x="1190" y="58"/>
                    </a:lnTo>
                    <a:lnTo>
                      <a:pt x="1190" y="43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11840" y="4093200"/>
                <a:ext cx="522000" cy="81000"/>
              </a:xfrm>
              <a:custGeom>
                <a:avLst/>
                <a:gdLst/>
                <a:ahLst/>
                <a:rect l="l" t="t" r="r" b="b"/>
                <a:pathLst>
                  <a:path w="985" h="176">
                    <a:moveTo>
                      <a:pt x="0" y="49"/>
                    </a:moveTo>
                    <a:lnTo>
                      <a:pt x="617" y="74"/>
                    </a:lnTo>
                    <a:lnTo>
                      <a:pt x="608" y="176"/>
                    </a:lnTo>
                    <a:lnTo>
                      <a:pt x="640" y="122"/>
                    </a:lnTo>
                    <a:lnTo>
                      <a:pt x="951" y="131"/>
                    </a:lnTo>
                    <a:lnTo>
                      <a:pt x="965" y="124"/>
                    </a:lnTo>
                    <a:lnTo>
                      <a:pt x="985" y="0"/>
                    </a:lnTo>
                    <a:lnTo>
                      <a:pt x="962" y="4"/>
                    </a:lnTo>
                    <a:lnTo>
                      <a:pt x="955" y="107"/>
                    </a:lnTo>
                    <a:lnTo>
                      <a:pt x="945" y="115"/>
                    </a:lnTo>
                    <a:lnTo>
                      <a:pt x="642" y="103"/>
                    </a:lnTo>
                    <a:lnTo>
                      <a:pt x="640" y="64"/>
                    </a:lnTo>
                    <a:lnTo>
                      <a:pt x="625" y="58"/>
                    </a:lnTo>
                    <a:lnTo>
                      <a:pt x="7" y="37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05320" y="3997440"/>
                <a:ext cx="135000" cy="25200"/>
              </a:xfrm>
              <a:custGeom>
                <a:avLst/>
                <a:gdLst/>
                <a:ahLst/>
                <a:rect l="l" t="t" r="r" b="b"/>
                <a:pathLst>
                  <a:path w="255" h="56">
                    <a:moveTo>
                      <a:pt x="0" y="0"/>
                    </a:moveTo>
                    <a:lnTo>
                      <a:pt x="0" y="34"/>
                    </a:lnTo>
                    <a:lnTo>
                      <a:pt x="13" y="46"/>
                    </a:lnTo>
                    <a:lnTo>
                      <a:pt x="246" y="56"/>
                    </a:lnTo>
                    <a:lnTo>
                      <a:pt x="255" y="46"/>
                    </a:lnTo>
                    <a:lnTo>
                      <a:pt x="255" y="5"/>
                    </a:lnTo>
                    <a:lnTo>
                      <a:pt x="242" y="7"/>
                    </a:lnTo>
                    <a:lnTo>
                      <a:pt x="242" y="45"/>
                    </a:lnTo>
                    <a:lnTo>
                      <a:pt x="229" y="46"/>
                    </a:lnTo>
                    <a:lnTo>
                      <a:pt x="16" y="39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21200" y="3970080"/>
                <a:ext cx="190440" cy="19800"/>
              </a:xfrm>
              <a:custGeom>
                <a:avLst/>
                <a:gdLst/>
                <a:ahLst/>
                <a:rect l="l" t="t" r="r" b="b"/>
                <a:pathLst>
                  <a:path w="359" h="44">
                    <a:moveTo>
                      <a:pt x="15" y="32"/>
                    </a:moveTo>
                    <a:lnTo>
                      <a:pt x="20" y="10"/>
                    </a:lnTo>
                    <a:lnTo>
                      <a:pt x="334" y="17"/>
                    </a:lnTo>
                    <a:lnTo>
                      <a:pt x="336" y="41"/>
                    </a:lnTo>
                    <a:lnTo>
                      <a:pt x="359" y="44"/>
                    </a:lnTo>
                    <a:lnTo>
                      <a:pt x="349" y="10"/>
                    </a:lnTo>
                    <a:lnTo>
                      <a:pt x="15" y="0"/>
                    </a:lnTo>
                    <a:lnTo>
                      <a:pt x="0" y="32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149800" y="3975480"/>
                <a:ext cx="115920" cy="18360"/>
              </a:xfrm>
              <a:custGeom>
                <a:avLst/>
                <a:gdLst/>
                <a:ahLst/>
                <a:rect l="l" t="t" r="r" b="b"/>
                <a:pathLst>
                  <a:path w="217" h="41">
                    <a:moveTo>
                      <a:pt x="15" y="31"/>
                    </a:moveTo>
                    <a:lnTo>
                      <a:pt x="22" y="11"/>
                    </a:lnTo>
                    <a:lnTo>
                      <a:pt x="194" y="16"/>
                    </a:lnTo>
                    <a:lnTo>
                      <a:pt x="201" y="38"/>
                    </a:lnTo>
                    <a:lnTo>
                      <a:pt x="217" y="41"/>
                    </a:lnTo>
                    <a:lnTo>
                      <a:pt x="204" y="7"/>
                    </a:lnTo>
                    <a:lnTo>
                      <a:pt x="16" y="0"/>
                    </a:lnTo>
                    <a:lnTo>
                      <a:pt x="0" y="31"/>
                    </a:lnTo>
                    <a:lnTo>
                      <a:pt x="15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511520" y="3813120"/>
                <a:ext cx="236520" cy="12960"/>
              </a:xfrm>
              <a:custGeom>
                <a:avLst/>
                <a:gdLst/>
                <a:ahLst/>
                <a:rect l="l" t="t" r="r" b="b"/>
                <a:pathLst>
                  <a:path w="447" h="26">
                    <a:moveTo>
                      <a:pt x="0" y="12"/>
                    </a:moveTo>
                    <a:lnTo>
                      <a:pt x="421" y="0"/>
                    </a:lnTo>
                    <a:lnTo>
                      <a:pt x="447" y="15"/>
                    </a:lnTo>
                    <a:lnTo>
                      <a:pt x="51" y="26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11840" y="3798000"/>
                <a:ext cx="344160" cy="24120"/>
              </a:xfrm>
              <a:custGeom>
                <a:avLst/>
                <a:gdLst/>
                <a:ahLst/>
                <a:rect l="l" t="t" r="r" b="b"/>
                <a:pathLst>
                  <a:path w="651" h="54">
                    <a:moveTo>
                      <a:pt x="4" y="25"/>
                    </a:moveTo>
                    <a:lnTo>
                      <a:pt x="196" y="25"/>
                    </a:lnTo>
                    <a:lnTo>
                      <a:pt x="412" y="8"/>
                    </a:lnTo>
                    <a:lnTo>
                      <a:pt x="634" y="0"/>
                    </a:lnTo>
                    <a:lnTo>
                      <a:pt x="651" y="16"/>
                    </a:lnTo>
                    <a:lnTo>
                      <a:pt x="299" y="31"/>
                    </a:lnTo>
                    <a:lnTo>
                      <a:pt x="190" y="54"/>
                    </a:lnTo>
                    <a:lnTo>
                      <a:pt x="0" y="51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86320" y="3792600"/>
                <a:ext cx="581040" cy="392400"/>
              </a:xfrm>
              <a:custGeom>
                <a:avLst/>
                <a:gdLst/>
                <a:ahLst/>
                <a:rect l="l" t="t" r="r" b="b"/>
                <a:pathLst>
                  <a:path w="1099" h="856">
                    <a:moveTo>
                      <a:pt x="11" y="6"/>
                    </a:moveTo>
                    <a:lnTo>
                      <a:pt x="82" y="0"/>
                    </a:lnTo>
                    <a:lnTo>
                      <a:pt x="142" y="10"/>
                    </a:lnTo>
                    <a:lnTo>
                      <a:pt x="194" y="29"/>
                    </a:lnTo>
                    <a:lnTo>
                      <a:pt x="233" y="56"/>
                    </a:lnTo>
                    <a:lnTo>
                      <a:pt x="1099" y="856"/>
                    </a:lnTo>
                    <a:lnTo>
                      <a:pt x="1008" y="818"/>
                    </a:lnTo>
                    <a:lnTo>
                      <a:pt x="191" y="50"/>
                    </a:lnTo>
                    <a:lnTo>
                      <a:pt x="136" y="24"/>
                    </a:lnTo>
                    <a:lnTo>
                      <a:pt x="75" y="18"/>
                    </a:lnTo>
                    <a:lnTo>
                      <a:pt x="0" y="21"/>
                    </a:lnTo>
                    <a:lnTo>
                      <a:pt x="11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 rot="19666800">
              <a:off x="4493160" y="3054960"/>
              <a:ext cx="2590560" cy="198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28" y="5"/>
                  </a:moveTo>
                  <a:arcTo wR="10800" hR="10800" stAng="-5295518" swAng="4785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28" y="5"/>
                  </a:moveTo>
                  <a:arcTo wR="10800" hR="10800" stAng="-5295518" swAng="4785009"/>
                </a:path>
              </a:pathLst>
            </a:custGeom>
            <a:noFill/>
            <a:ln w="2844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4892760" y="4212720"/>
              <a:ext cx="685440" cy="305280"/>
              <a:chOff x="4892760" y="4212720"/>
              <a:chExt cx="685440" cy="30528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5470560" y="4238280"/>
                <a:ext cx="107640" cy="237240"/>
                <a:chOff x="5470560" y="4238280"/>
                <a:chExt cx="107640" cy="23724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5470560" y="4238280"/>
                  <a:ext cx="101880" cy="763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476320" y="4357080"/>
                  <a:ext cx="10188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476320" y="4399200"/>
                  <a:ext cx="101880" cy="763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4892760" y="4212720"/>
                <a:ext cx="543600" cy="305280"/>
                <a:chOff x="4892760" y="4212720"/>
                <a:chExt cx="543600" cy="305280"/>
              </a:xfrm>
            </p:grpSpPr>
            <p:sp>
              <p:nvSpPr>
                <p:cNvPr id="1353" name=""/>
                <p:cNvSpPr/>
                <p:nvPr/>
              </p:nvSpPr>
              <p:spPr>
                <a:xfrm rot="16200000">
                  <a:off x="5028840" y="4127040"/>
                  <a:ext cx="304920" cy="475920"/>
                </a:xfrm>
                <a:prstGeom prst="triangle">
                  <a:avLst>
                    <a:gd name="adj" fmla="val 48148"/>
                  </a:avLst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402520" y="4213080"/>
                  <a:ext cx="33840" cy="30492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892760" y="4328640"/>
                  <a:ext cx="178560" cy="81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6" name=""/>
            <p:cNvSpPr/>
            <p:nvPr/>
          </p:nvSpPr>
          <p:spPr>
            <a:xfrm>
              <a:off x="4498920" y="3844800"/>
              <a:ext cx="546120" cy="470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3520" y="55767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1981080" cy="195588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7191360" y="4095720"/>
            <a:ext cx="961920" cy="72252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/>
          <p:cNvPicPr/>
          <p:nvPr/>
        </p:nvPicPr>
        <p:blipFill>
          <a:blip r:embed="rId3"/>
          <a:stretch/>
        </p:blipFill>
        <p:spPr>
          <a:xfrm>
            <a:off x="7191360" y="2762280"/>
            <a:ext cx="961920" cy="72216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250920" y="1263600"/>
            <a:ext cx="802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a call is placed in holding state system can provide music instead of t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13040" y="10476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On Hold(MOH)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93840" y="2743200"/>
            <a:ext cx="1768680" cy="1828800"/>
          </a:xfrm>
          <a:prstGeom prst="cloudCallout">
            <a:avLst>
              <a:gd name="adj1" fmla="val -26662"/>
              <a:gd name="adj2" fmla="val 12675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95880" y="4724280"/>
            <a:ext cx="3823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user (A) push the HOLD butt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r hear the internal mus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1203480" cy="129528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913680" y="2835360"/>
            <a:ext cx="744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279440" y="3809880"/>
            <a:ext cx="114300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22440" y="380988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022640" y="3733560"/>
            <a:ext cx="62568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629400" y="3295440"/>
            <a:ext cx="533520" cy="285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114800" y="2133720"/>
            <a:ext cx="48769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197840" y="2514600"/>
            <a:ext cx="11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tation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184880" y="386712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tation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164360" y="3429000"/>
            <a:ext cx="11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USER (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238880" y="4724280"/>
            <a:ext cx="10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USER 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48560" y="1917720"/>
            <a:ext cx="1858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Internal M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920" y="853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397080" y="765000"/>
            <a:ext cx="1933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External M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33520" y="5122800"/>
            <a:ext cx="83055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USER A presses the HOLD butt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r hear the External music which is connected to external MOH port or SLT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☞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: MOHU is needed(one MOHU supports 2 MOH cha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54320"/>
            <a:ext cx="1676520" cy="1828800"/>
          </a:xfrm>
          <a:prstGeom prst="cloudCallout">
            <a:avLst>
              <a:gd name="adj1" fmla="val -25379"/>
              <a:gd name="adj2" fmla="val 12675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838080" y="2724120"/>
            <a:ext cx="1131840" cy="121932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1005480" y="2406600"/>
            <a:ext cx="744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371600" y="3321000"/>
            <a:ext cx="11430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14600" y="3397320"/>
            <a:ext cx="1612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14800" y="3397320"/>
            <a:ext cx="609480" cy="18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6400800" y="3168720"/>
            <a:ext cx="6094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400800" y="392436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91120" y="1492200"/>
            <a:ext cx="457200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22924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6477120" y="2057040"/>
            <a:ext cx="45720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6858000" y="1644480"/>
            <a:ext cx="762120" cy="671400"/>
            <a:chOff x="6858000" y="1644480"/>
            <a:chExt cx="762120" cy="671400"/>
          </a:xfrm>
        </p:grpSpPr>
        <p:sp>
          <p:nvSpPr>
            <p:cNvPr id="1393" name=""/>
            <p:cNvSpPr/>
            <p:nvPr/>
          </p:nvSpPr>
          <p:spPr>
            <a:xfrm flipV="1">
              <a:off x="7010280" y="2149200"/>
              <a:ext cx="0" cy="1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175520" y="1644480"/>
              <a:ext cx="396720" cy="185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0" y="0"/>
                  </a:moveTo>
                  <a:lnTo>
                    <a:pt x="79" y="40"/>
                  </a:lnTo>
                  <a:lnTo>
                    <a:pt x="81" y="38"/>
                  </a:lnTo>
                  <a:lnTo>
                    <a:pt x="167" y="82"/>
                  </a:lnTo>
                  <a:lnTo>
                    <a:pt x="157" y="82"/>
                  </a:lnTo>
                  <a:lnTo>
                    <a:pt x="79" y="42"/>
                  </a:lnTo>
                  <a:lnTo>
                    <a:pt x="78" y="4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53160" y="1825560"/>
              <a:ext cx="46080" cy="428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69280" y="1809720"/>
              <a:ext cx="68040" cy="46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388280" y="1824120"/>
              <a:ext cx="396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324560" y="1824120"/>
              <a:ext cx="414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262640" y="1824120"/>
              <a:ext cx="432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03960" y="1824120"/>
              <a:ext cx="414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39160" y="1824120"/>
              <a:ext cx="4572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078680" y="1824120"/>
              <a:ext cx="414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89760" y="1824120"/>
              <a:ext cx="4608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62760" y="1824120"/>
              <a:ext cx="4140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81760" y="1824120"/>
              <a:ext cx="4284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10560" y="1824120"/>
              <a:ext cx="42840" cy="4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858000" y="1846440"/>
              <a:ext cx="719280" cy="299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58000" y="1928880"/>
              <a:ext cx="719280" cy="21744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0" y="1765440"/>
              <a:ext cx="719280" cy="252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58000" y="1765440"/>
              <a:ext cx="23760" cy="522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58200" y="1765440"/>
              <a:ext cx="23760" cy="52200"/>
            </a:xfrm>
            <a:prstGeom prst="rect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69160" y="1851120"/>
              <a:ext cx="61920" cy="442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877080" y="1862280"/>
              <a:ext cx="1116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83560" y="1862280"/>
              <a:ext cx="936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888240" y="1862280"/>
              <a:ext cx="792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896160" y="186228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00840" y="1862280"/>
              <a:ext cx="46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907320" y="186228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6928920" y="1862280"/>
              <a:ext cx="97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926040" y="1862280"/>
              <a:ext cx="46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921360" y="1862280"/>
              <a:ext cx="50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919920" y="186228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911640" y="1862280"/>
              <a:ext cx="3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92920" y="1860480"/>
              <a:ext cx="4680" cy="4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878520" y="1860480"/>
              <a:ext cx="42840" cy="2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58080" y="1851120"/>
              <a:ext cx="58680" cy="442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64200" y="1862280"/>
              <a:ext cx="97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69240" y="1862280"/>
              <a:ext cx="79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77160" y="1862280"/>
              <a:ext cx="468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81840" y="1862280"/>
              <a:ext cx="3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85080" y="1862280"/>
              <a:ext cx="3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989760" y="186228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7013160" y="1862280"/>
              <a:ext cx="97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7011720" y="1862280"/>
              <a:ext cx="61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7007040" y="1862280"/>
              <a:ext cx="612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7003800" y="1862280"/>
              <a:ext cx="3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997320" y="1862280"/>
              <a:ext cx="46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977160" y="1860480"/>
              <a:ext cx="7920" cy="44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967440" y="1860480"/>
              <a:ext cx="41400" cy="2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18280" y="1938240"/>
              <a:ext cx="201600" cy="150840"/>
            </a:xfrm>
            <a:prstGeom prst="rect">
              <a:avLst/>
            </a:prstGeom>
            <a:solidFill>
              <a:srgbClr val="60606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13600" y="1940040"/>
              <a:ext cx="21096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209000" y="2073240"/>
              <a:ext cx="44280" cy="414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6"/>
                  </a:moveTo>
                  <a:lnTo>
                    <a:pt x="9" y="6"/>
                  </a:lnTo>
                  <a:lnTo>
                    <a:pt x="9" y="0"/>
                  </a:lnTo>
                  <a:lnTo>
                    <a:pt x="18" y="9"/>
                  </a:lnTo>
                  <a:lnTo>
                    <a:pt x="9" y="18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39160" y="1996920"/>
              <a:ext cx="158400" cy="49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39160" y="1996920"/>
              <a:ext cx="15696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76960" y="2019240"/>
              <a:ext cx="46080" cy="4284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57960" y="2019240"/>
              <a:ext cx="42840" cy="42840"/>
            </a:xfrm>
            <a:prstGeom prst="ellips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22960" y="2124000"/>
              <a:ext cx="193680" cy="25560"/>
            </a:xfrm>
            <a:prstGeom prst="rect">
              <a:avLst/>
            </a:prstGeom>
            <a:solidFill>
              <a:srgbClr val="60606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129440" y="2124000"/>
              <a:ext cx="42840" cy="42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129440" y="2135160"/>
              <a:ext cx="4284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172280" y="2124000"/>
              <a:ext cx="42840" cy="42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72280" y="2135160"/>
              <a:ext cx="4284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215120" y="2124000"/>
              <a:ext cx="44640" cy="42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15120" y="2135160"/>
              <a:ext cx="4464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59760" y="2124000"/>
              <a:ext cx="42840" cy="42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259760" y="2135160"/>
              <a:ext cx="4284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02600" y="2124000"/>
              <a:ext cx="42840" cy="42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02600" y="2135160"/>
              <a:ext cx="42840" cy="42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50120" y="2114640"/>
              <a:ext cx="42840" cy="42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350120" y="2128680"/>
              <a:ext cx="42840" cy="44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72400" y="1944720"/>
              <a:ext cx="201600" cy="19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02280" y="1971720"/>
              <a:ext cx="140040" cy="135000"/>
            </a:xfrm>
            <a:prstGeom prst="ellipse">
              <a:avLst/>
            </a:prstGeom>
            <a:solidFill>
              <a:srgbClr val="606060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64520" y="1944720"/>
              <a:ext cx="198360" cy="19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97640" y="1971720"/>
              <a:ext cx="136800" cy="135000"/>
            </a:xfrm>
            <a:prstGeom prst="ellipse">
              <a:avLst/>
            </a:prstGeom>
            <a:solidFill>
              <a:srgbClr val="606060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867360" y="1936800"/>
              <a:ext cx="20880" cy="23760"/>
            </a:xfrm>
            <a:prstGeom prst="ellipse">
              <a:avLst/>
            </a:prstGeom>
            <a:solidFill>
              <a:srgbClr val="60606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572240" y="1936800"/>
              <a:ext cx="24120" cy="23760"/>
            </a:xfrm>
            <a:prstGeom prst="ellipse">
              <a:avLst/>
            </a:prstGeom>
            <a:solidFill>
              <a:srgbClr val="60606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873840" y="2146320"/>
              <a:ext cx="237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074000" y="1863720"/>
              <a:ext cx="469800" cy="25560"/>
            </a:xfrm>
            <a:prstGeom prst="rect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7544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0892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13736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16760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0576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237440" y="1862280"/>
              <a:ext cx="4140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26912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30080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34280" y="1862280"/>
              <a:ext cx="4140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364520" y="1862280"/>
              <a:ext cx="4428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39764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32560" y="1862280"/>
              <a:ext cx="4140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464600" y="1862280"/>
              <a:ext cx="410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49952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534440" y="1862280"/>
              <a:ext cx="42840" cy="4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066080" y="1879560"/>
              <a:ext cx="50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353360" y="1851120"/>
              <a:ext cx="41040" cy="44280"/>
            </a:xfrm>
            <a:prstGeom prst="rect">
              <a:avLst/>
            </a:prstGeom>
            <a:solidFill>
              <a:srgbClr val="ff6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580160" y="1874880"/>
              <a:ext cx="3996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577280" y="1874880"/>
              <a:ext cx="41040" cy="42840"/>
            </a:xfrm>
            <a:prstGeom prst="ellipse">
              <a:avLst/>
            </a:prstGeom>
            <a:solidFill>
              <a:srgbClr val="ffa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572240" y="1868400"/>
              <a:ext cx="42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8" name=""/>
          <p:cNvSpPr/>
          <p:nvPr/>
        </p:nvSpPr>
        <p:spPr>
          <a:xfrm>
            <a:off x="113040" y="10476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On Hold(MOH)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6940440" y="3867120"/>
            <a:ext cx="962280" cy="72252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3"/>
          <a:stretch/>
        </p:blipFill>
        <p:spPr>
          <a:xfrm>
            <a:off x="6940440" y="2533680"/>
            <a:ext cx="962280" cy="72216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6946920" y="2286000"/>
            <a:ext cx="11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tation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934320" y="363852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tation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004160" y="3200400"/>
            <a:ext cx="9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USER (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88320" y="4495680"/>
            <a:ext cx="10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USER 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4"/>
          <a:stretch/>
        </p:blipFill>
        <p:spPr>
          <a:xfrm>
            <a:off x="4572000" y="2305080"/>
            <a:ext cx="19810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533520" y="1255680"/>
            <a:ext cx="77724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operated automatically when programmed.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select the Music source channel as follows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 0 : 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 1 : Internal Music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annel 2 : External Music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annel 3 :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annel 4 ~ 8 : SLT MOH Channel (1 –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annel 9 : Hold 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09480" y="4651200"/>
            <a:ext cx="78264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the Music Source Channel             : PGM142-BTN6 / PGM171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gn the SLT port with MOH channel   : PGM171-BTN4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33520" y="836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13040" y="10476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On Hold(MOH)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3520" y="41497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/>
          <p:nvPr/>
        </p:nvSpPr>
        <p:spPr>
          <a:xfrm>
            <a:off x="419040" y="1181160"/>
            <a:ext cx="87249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ser can extend the “Unsupervised Conference Timer” during a CO-to-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by dialing a code (##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 time is in multiples of the Supervised Conference Timer as determined by us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6680" y="1047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ue CO-to-CO Call Timer Ext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3000" y="5578560"/>
            <a:ext cx="638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GM 160 – BTN 18 : Unsupervised Conference Timer Extend(Enable/Dis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GM 109 – BTN 6   : Unsupervised Conference Timer Code(#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GM 182 – BTN 6   : Unsupervised Conference 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38480" y="2523960"/>
            <a:ext cx="72334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Enter the command of DISA CO-to-CO Call Timer Extension Code – by CO Caller or Called Us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When the analog CO-to-CO lines are 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Either the caller or called user dials the unsupervised conference timer extension code ‘##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the extension time multiple data 1 digit (1 ~ 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ipLDK re-assigns the unsupervised conference timer to multiple of entered dig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Before 15 seconds of the unsupervised conference timer expire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warning tone is provided to indicate the disconnec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unsupervised conference timer is set to 10 minutes and the entered digit is 3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then the timer is extended to 3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0920" y="6922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24000" y="23414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0920" y="51577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250920" y="1438200"/>
            <a:ext cx="8458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KTU caller can temporarily change the answer mode of the called DKTU from “Tone” to “Hands Free”, by dialing a code (#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called DKTU is changed to hands free mode, the connection tone is provid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oice path is open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ller DKTU must have this feature enabled in  Admin Programm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90000" y="10008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ced Hands-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960" y="5589720"/>
            <a:ext cx="523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GM 111 – BTN 19 : Forced Hands Free Mode(Enable/Dis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27960" y="3871800"/>
            <a:ext cx="678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To activate forced hands fre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1. Call to DKT which is a tone m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2. When user hears a ring back tone, dial Forced hands free Code ( ‘#’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3. Called party DKT stops ringing and speaker/microphone are activat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50920" y="8301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50920" y="34225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50920" y="52228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609480" y="130824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of DKTU with LCD can dial by registered name of ICM and Station &amp; System Speed d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85800" y="2631960"/>
            <a:ext cx="371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 [Speed] + [Spee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990720" y="3048120"/>
            <a:ext cx="3101760" cy="1019160"/>
            <a:chOff x="990720" y="3048120"/>
            <a:chExt cx="3101760" cy="1019160"/>
          </a:xfrm>
        </p:grpSpPr>
        <p:sp>
          <p:nvSpPr>
            <p:cNvPr id="1518" name=""/>
            <p:cNvSpPr/>
            <p:nvPr/>
          </p:nvSpPr>
          <p:spPr>
            <a:xfrm>
              <a:off x="990720" y="3048120"/>
              <a:ext cx="3101760" cy="10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12120" y="3387600"/>
              <a:ext cx="2658600" cy="5659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206160" y="3161160"/>
              <a:ext cx="627480" cy="132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G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85920" y="3048120"/>
              <a:ext cx="369000" cy="16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85920" y="3432960"/>
              <a:ext cx="2510640" cy="47556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 BY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CM:1    U_SPD:2    S_SPD: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4991040" y="3048120"/>
            <a:ext cx="3102120" cy="1019160"/>
            <a:chOff x="4991040" y="3048120"/>
            <a:chExt cx="3102120" cy="1019160"/>
          </a:xfrm>
        </p:grpSpPr>
        <p:sp>
          <p:nvSpPr>
            <p:cNvPr id="1524" name=""/>
            <p:cNvSpPr/>
            <p:nvPr/>
          </p:nvSpPr>
          <p:spPr>
            <a:xfrm>
              <a:off x="4991040" y="3048120"/>
              <a:ext cx="3102120" cy="10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2440" y="3387600"/>
              <a:ext cx="2658960" cy="5659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06840" y="3161160"/>
              <a:ext cx="627480" cy="132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G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286240" y="3048120"/>
              <a:ext cx="369000" cy="16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286240" y="3432960"/>
              <a:ext cx="2511000" cy="47556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 KIM ( 131 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: KH LEE ( 166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4686480" y="2631960"/>
            <a:ext cx="3390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l the desired directory number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rot="5400000">
            <a:off x="4152960" y="3400560"/>
            <a:ext cx="838080" cy="304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1371600" y="4876920"/>
            <a:ext cx="3102120" cy="1019160"/>
            <a:chOff x="1371600" y="4876920"/>
            <a:chExt cx="3102120" cy="1019160"/>
          </a:xfrm>
        </p:grpSpPr>
        <p:sp>
          <p:nvSpPr>
            <p:cNvPr id="1532" name=""/>
            <p:cNvSpPr/>
            <p:nvPr/>
          </p:nvSpPr>
          <p:spPr>
            <a:xfrm>
              <a:off x="1371600" y="4876920"/>
              <a:ext cx="3102120" cy="10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93000" y="5216400"/>
              <a:ext cx="2658960" cy="5659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87400" y="4989600"/>
              <a:ext cx="627480" cy="133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G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666800" y="4876920"/>
              <a:ext cx="369000" cy="169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666800" y="5261760"/>
              <a:ext cx="2511000" cy="47556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P KAL ( 167 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: YH LEE ( 118 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685800" y="4232160"/>
            <a:ext cx="4168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 Volume        o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 alphanumeric data with 2 digits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219400" y="428616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rot="10800000">
            <a:off x="2742840" y="4285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5400000">
            <a:off x="647280" y="5248080"/>
            <a:ext cx="8380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5400000">
            <a:off x="4343040" y="5248080"/>
            <a:ext cx="838080" cy="30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5029200" y="4876920"/>
            <a:ext cx="3102120" cy="1019160"/>
            <a:chOff x="5029200" y="4876920"/>
            <a:chExt cx="3102120" cy="1019160"/>
          </a:xfrm>
        </p:grpSpPr>
        <p:grpSp>
          <p:nvGrpSpPr>
            <p:cNvPr id="1543" name=""/>
            <p:cNvGrpSpPr/>
            <p:nvPr/>
          </p:nvGrpSpPr>
          <p:grpSpPr>
            <a:xfrm>
              <a:off x="5029200" y="4876920"/>
              <a:ext cx="3102120" cy="1019160"/>
              <a:chOff x="5029200" y="4876920"/>
              <a:chExt cx="3102120" cy="1019160"/>
            </a:xfrm>
          </p:grpSpPr>
          <p:sp>
            <p:nvSpPr>
              <p:cNvPr id="1544" name=""/>
              <p:cNvSpPr/>
              <p:nvPr/>
            </p:nvSpPr>
            <p:spPr>
              <a:xfrm>
                <a:off x="5029200" y="4876920"/>
                <a:ext cx="3102120" cy="1019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250600" y="5216400"/>
                <a:ext cx="2658960" cy="566280"/>
              </a:xfrm>
              <a:prstGeom prst="flowChartAlternateProcess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45000" y="4990320"/>
                <a:ext cx="627480" cy="1332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GI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324400" y="4876920"/>
                <a:ext cx="369360" cy="169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5324400" y="5261760"/>
              <a:ext cx="2511000" cy="47556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 KIM ( 131 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: KH LEE ( 166)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" name=""/>
          <p:cNvSpPr/>
          <p:nvPr/>
        </p:nvSpPr>
        <p:spPr>
          <a:xfrm>
            <a:off x="4686480" y="4232160"/>
            <a:ext cx="3543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l 1 or 2 which is desired na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Press [HOLD/SAVE]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27080" y="10476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286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1531800"/>
            <a:ext cx="81532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essing a flexible button that CO line is program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ividu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 Line, CO Line Group, Loop(1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O Gro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dialing CO access code. There are three kinds of CO access c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dividual CO line access code : 88XX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07-BTN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 Line Group access code : 8XX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07-BTN11)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oop(1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O Group) access code : 9 or 0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07-BTN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ko-KR" sz="1600" spc="-1" strike="noStrike">
                <a:solidFill>
                  <a:srgbClr val="00cc99"/>
                </a:solidFill>
                <a:latin typeface="Arial"/>
              </a:rPr>
              <a:t>※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Each access code can be changed in the system numbering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to assign LOOP button in the flexible button at each st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RANS/PGM]  +  [Flexible BTN]  +  [TRANS/PGM]  + 84  + 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cc99"/>
                </a:solidFill>
                <a:latin typeface="Arial"/>
              </a:rPr>
              <a:t>   ※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To assign LOOP butt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       ‘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CO PGM’(PGM112-F6) feature of the station should be enab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120" y="82440"/>
            <a:ext cx="36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access CO line? (2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052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178200" y="9540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Handling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8000" y="76500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733040" y="692280"/>
            <a:ext cx="78465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Voice Over situation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tation 100 &amp; Station 101 is 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Station 102 make a call to Station 101 and hear busy tone, then Station 102 try to Camp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tation 101 can move from existing call to new call but existing call is not relea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Forced Hands Fre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tation 101 make a call to Station 102 but Station 102 is No-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Station 101 want to make a forced hands free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Change MOH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Change default Internal MOH Romance to Walts &amp; 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64680" y="4983120"/>
            <a:ext cx="5289120" cy="8229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13 + 101 101 (select station range) + Flx 6 + En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11 + 101 101 (select station range) + Flx 19 +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71 + Flx 8 + 05 (Wa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2649600" y="1908000"/>
            <a:ext cx="4875120" cy="1308600"/>
            <a:chOff x="2649600" y="1908000"/>
            <a:chExt cx="4875120" cy="1308600"/>
          </a:xfrm>
        </p:grpSpPr>
        <p:sp>
          <p:nvSpPr>
            <p:cNvPr id="1558" name=""/>
            <p:cNvSpPr/>
            <p:nvPr/>
          </p:nvSpPr>
          <p:spPr>
            <a:xfrm>
              <a:off x="2720880" y="2565360"/>
              <a:ext cx="11127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ion 1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9" name="" descr=""/>
            <p:cNvPicPr/>
            <p:nvPr/>
          </p:nvPicPr>
          <p:blipFill>
            <a:blip r:embed="rId1"/>
            <a:stretch/>
          </p:blipFill>
          <p:spPr>
            <a:xfrm>
              <a:off x="2649600" y="190800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2"/>
            <a:stretch/>
          </p:blipFill>
          <p:spPr>
            <a:xfrm>
              <a:off x="4594320" y="1919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"/>
            <p:cNvSpPr/>
            <p:nvPr/>
          </p:nvSpPr>
          <p:spPr>
            <a:xfrm>
              <a:off x="4548240" y="2576520"/>
              <a:ext cx="1015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ion 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2" name="" descr=""/>
            <p:cNvPicPr/>
            <p:nvPr/>
          </p:nvPicPr>
          <p:blipFill>
            <a:blip r:embed="rId3"/>
            <a:stretch/>
          </p:blipFill>
          <p:spPr>
            <a:xfrm>
              <a:off x="6610320" y="190800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3" name=""/>
            <p:cNvSpPr/>
            <p:nvPr/>
          </p:nvSpPr>
          <p:spPr>
            <a:xfrm>
              <a:off x="6492960" y="2565360"/>
              <a:ext cx="1015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ion 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730680" y="2351160"/>
              <a:ext cx="79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38440" y="207648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3300"/>
                  </a:solidFill>
                  <a:latin typeface="굴림"/>
                </a:rPr>
                <a:t>1. Existing C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653080" y="2340000"/>
              <a:ext cx="79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24280" y="2077920"/>
              <a:ext cx="93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3300"/>
                  </a:solidFill>
                  <a:latin typeface="굴림"/>
                </a:rPr>
                <a:t>2. New C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4257720" y="2495520"/>
              <a:ext cx="1797120" cy="598320"/>
              <a:chOff x="4257720" y="2495520"/>
              <a:chExt cx="1797120" cy="5983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257720" y="2495520"/>
                <a:ext cx="1488960" cy="598320"/>
              </a:xfrm>
              <a:custGeom>
                <a:avLst/>
                <a:gdLst/>
                <a:ahLst/>
                <a:rect l="l" t="t" r="r" b="b"/>
                <a:pathLst>
                  <a:path w="938" h="377">
                    <a:moveTo>
                      <a:pt x="166" y="0"/>
                    </a:moveTo>
                    <a:cubicBezTo>
                      <a:pt x="83" y="83"/>
                      <a:pt x="0" y="166"/>
                      <a:pt x="76" y="226"/>
                    </a:cubicBezTo>
                    <a:cubicBezTo>
                      <a:pt x="152" y="286"/>
                      <a:pt x="476" y="377"/>
                      <a:pt x="620" y="362"/>
                    </a:cubicBezTo>
                    <a:cubicBezTo>
                      <a:pt x="764" y="347"/>
                      <a:pt x="863" y="151"/>
                      <a:pt x="938" y="136"/>
                    </a:cubicBezTo>
                  </a:path>
                </a:pathLst>
              </a:custGeom>
              <a:noFill/>
              <a:ln w="93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5746680" y="2663280"/>
                <a:ext cx="308160" cy="478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5241960" y="2970360"/>
              <a:ext cx="22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3300"/>
                  </a:solidFill>
                  <a:latin typeface="굴림"/>
                </a:rPr>
                <a:t>3. Can move from E-call to N-cal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552240" y="1384200"/>
            <a:ext cx="76284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he authorization code(Password) is used for giving limitation to some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- CO Group Account / DISA Accoun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- COS Down / COS Re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- Walking 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- Loop LCR 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6760" y="10332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ation Code (Password)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3240" y="4540320"/>
            <a:ext cx="467316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 Code Table   : PGM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 Account Code            : PGM141-BT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Group Account Code    : PGM141-BTN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Loop LCR Account Code    : PGM111-BTN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33520" y="41194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>
            <a:off x="533520" y="1324080"/>
            <a:ext cx="793260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register the authorization code in a s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TRANS/PGM] + 3 1 + authorization code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change the authorization code in a st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[TRANS/PGM] + 3 2 + current authorization code + ‘#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+ new authorization code + [HOLD/SAVE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COS Down : TRANS/PGM +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1. Authorization Code should be assigned in adv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2. [MUTE] button is flas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COS Restore : TRANS/PGM + 22 + Authoriz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access a CO line when authorization codes are requir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 Attempt a CO line access, and DND warning tone is he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Enter the authorization code and ‘#’ (end mark of authorization cod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f valid, the CO line is connected and if not valid, you will hear error ton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86760" y="1047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ation Code (Password)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33520" y="836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2600" y="1192320"/>
            <a:ext cx="775620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he authorization code(Password) is used for giving limitation to some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o limit access to specified CO lines by stations and DISA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굴림체"/>
              </a:rPr>
              <a:t>(DISA Account/CO Group Ac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o put station’s class of service to COS 7 for preventing unauthoriz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oll dialing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굴림체"/>
              </a:rPr>
              <a:t>(COS Down/COS Resto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o override toll restriction and make a toll call from toll restricted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굴림체"/>
              </a:rPr>
              <a:t>(Walking 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If Loop LCR ACNT is set about a station, the authorization code is requir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tal number of authorization codes in system i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An authorization code can be used for SMDR, a DISA account cod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authorization code is assigned from 3 digits to 11 digits flexibl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, 5 digits fixed codes system can be used. (PGM 161 – F2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authorization code can not be dupl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6760" y="1047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ation Code (Password)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/>
          <p:nvPr/>
        </p:nvSpPr>
        <p:spPr>
          <a:xfrm>
            <a:off x="82440" y="10476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COS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9144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3520" y="13622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Each station and CO line can be assigned to have a different class to allow or deny call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6" name=""/>
          <p:cNvGraphicFramePr/>
          <p:nvPr/>
        </p:nvGraphicFramePr>
        <p:xfrm>
          <a:off x="674640" y="2058840"/>
          <a:ext cx="7777080" cy="30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058840"/>
                    <a:ext cx="777708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8" name=""/>
          <p:cNvSpPr/>
          <p:nvPr/>
        </p:nvSpPr>
        <p:spPr>
          <a:xfrm>
            <a:off x="6359400" y="5756400"/>
            <a:ext cx="250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te) 1 : Canned Restriction 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: Canned Restric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88920" y="10476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COS 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28480" y="4464000"/>
            <a:ext cx="495504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COS                                  : PGM1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 COS                                : PGM141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to-CO COS                             : PGM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l Exception Table                    : PGM2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ned Toll Table(Allow/Deny)  : PGM2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cy Code Table               : PGM2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33520" y="4022640"/>
            <a:ext cx="160020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3520" y="143208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 COS 6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Canned Toll Table : Long distance call is not allow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          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(The dialed digits : 8 digits maxim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 COS 5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Canned Toll Table : Long distance call is not allow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           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(The dialed digits :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  <a:ea typeface="굴림체"/>
              </a:rPr>
              <a:t>more than 8 digi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STA COS 7 : 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바탕"/>
              </a:rPr>
              <a:t>ntercom Only, but Paging and Emergency Call are availab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attributes of CO-to-CO COS are the same as the STA COS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520" y="914400"/>
            <a:ext cx="160020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12160" y="1636560"/>
            <a:ext cx="195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anned Restric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112160" y="2306520"/>
            <a:ext cx="195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anned Restric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543600" y="1365120"/>
            <a:ext cx="7642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It allows to temporarily override toll restriction and makes a CO call fr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toll restricted phon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98280" y="9360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ing COS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05080" y="5099040"/>
            <a:ext cx="8023320" cy="6051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ee for the call with Walking COS will be charged to the station which is accorded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d password, not actual using st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2019240" y="1974960"/>
            <a:ext cx="5105160" cy="2786040"/>
            <a:chOff x="2019240" y="1974960"/>
            <a:chExt cx="5105160" cy="2786040"/>
          </a:xfrm>
        </p:grpSpPr>
        <p:grpSp>
          <p:nvGrpSpPr>
            <p:cNvPr id="1600" name=""/>
            <p:cNvGrpSpPr/>
            <p:nvPr/>
          </p:nvGrpSpPr>
          <p:grpSpPr>
            <a:xfrm>
              <a:off x="2569680" y="1974960"/>
              <a:ext cx="3900240" cy="2786040"/>
              <a:chOff x="2569680" y="1974960"/>
              <a:chExt cx="3900240" cy="2786040"/>
            </a:xfrm>
          </p:grpSpPr>
          <p:sp>
            <p:nvSpPr>
              <p:cNvPr id="1601" name=""/>
              <p:cNvSpPr/>
              <p:nvPr/>
            </p:nvSpPr>
            <p:spPr>
              <a:xfrm>
                <a:off x="2761200" y="1974960"/>
                <a:ext cx="3708720" cy="2786040"/>
              </a:xfrm>
              <a:custGeom>
                <a:avLst/>
                <a:gdLst/>
                <a:ahLst/>
                <a:rect l="l" t="t" r="r" b="b"/>
                <a:pathLst>
                  <a:path w="2178" h="1957">
                    <a:moveTo>
                      <a:pt x="1221" y="24"/>
                    </a:moveTo>
                    <a:lnTo>
                      <a:pt x="1149" y="9"/>
                    </a:lnTo>
                    <a:lnTo>
                      <a:pt x="1086" y="1"/>
                    </a:lnTo>
                    <a:lnTo>
                      <a:pt x="1033" y="0"/>
                    </a:lnTo>
                    <a:lnTo>
                      <a:pt x="989" y="3"/>
                    </a:lnTo>
                    <a:lnTo>
                      <a:pt x="951" y="13"/>
                    </a:lnTo>
                    <a:lnTo>
                      <a:pt x="920" y="25"/>
                    </a:lnTo>
                    <a:lnTo>
                      <a:pt x="892" y="40"/>
                    </a:lnTo>
                    <a:lnTo>
                      <a:pt x="870" y="59"/>
                    </a:lnTo>
                    <a:lnTo>
                      <a:pt x="849" y="77"/>
                    </a:lnTo>
                    <a:lnTo>
                      <a:pt x="832" y="97"/>
                    </a:lnTo>
                    <a:lnTo>
                      <a:pt x="814" y="116"/>
                    </a:lnTo>
                    <a:lnTo>
                      <a:pt x="795" y="135"/>
                    </a:lnTo>
                    <a:lnTo>
                      <a:pt x="776" y="150"/>
                    </a:lnTo>
                    <a:lnTo>
                      <a:pt x="754" y="163"/>
                    </a:lnTo>
                    <a:lnTo>
                      <a:pt x="727" y="173"/>
                    </a:lnTo>
                    <a:lnTo>
                      <a:pt x="696" y="177"/>
                    </a:lnTo>
                    <a:lnTo>
                      <a:pt x="586" y="188"/>
                    </a:lnTo>
                    <a:lnTo>
                      <a:pt x="490" y="203"/>
                    </a:lnTo>
                    <a:lnTo>
                      <a:pt x="411" y="222"/>
                    </a:lnTo>
                    <a:lnTo>
                      <a:pt x="344" y="245"/>
                    </a:lnTo>
                    <a:lnTo>
                      <a:pt x="291" y="272"/>
                    </a:lnTo>
                    <a:lnTo>
                      <a:pt x="248" y="299"/>
                    </a:lnTo>
                    <a:lnTo>
                      <a:pt x="216" y="329"/>
                    </a:lnTo>
                    <a:lnTo>
                      <a:pt x="192" y="359"/>
                    </a:lnTo>
                    <a:lnTo>
                      <a:pt x="176" y="390"/>
                    </a:lnTo>
                    <a:lnTo>
                      <a:pt x="167" y="420"/>
                    </a:lnTo>
                    <a:lnTo>
                      <a:pt x="162" y="448"/>
                    </a:lnTo>
                    <a:lnTo>
                      <a:pt x="161" y="475"/>
                    </a:lnTo>
                    <a:lnTo>
                      <a:pt x="162" y="499"/>
                    </a:lnTo>
                    <a:lnTo>
                      <a:pt x="165" y="518"/>
                    </a:lnTo>
                    <a:lnTo>
                      <a:pt x="168" y="534"/>
                    </a:lnTo>
                    <a:lnTo>
                      <a:pt x="170" y="545"/>
                    </a:lnTo>
                    <a:lnTo>
                      <a:pt x="175" y="613"/>
                    </a:lnTo>
                    <a:lnTo>
                      <a:pt x="171" y="673"/>
                    </a:lnTo>
                    <a:lnTo>
                      <a:pt x="160" y="727"/>
                    </a:lnTo>
                    <a:lnTo>
                      <a:pt x="145" y="776"/>
                    </a:lnTo>
                    <a:lnTo>
                      <a:pt x="124" y="822"/>
                    </a:lnTo>
                    <a:lnTo>
                      <a:pt x="100" y="867"/>
                    </a:lnTo>
                    <a:lnTo>
                      <a:pt x="73" y="911"/>
                    </a:lnTo>
                    <a:lnTo>
                      <a:pt x="46" y="957"/>
                    </a:lnTo>
                    <a:lnTo>
                      <a:pt x="34" y="980"/>
                    </a:lnTo>
                    <a:lnTo>
                      <a:pt x="23" y="1008"/>
                    </a:lnTo>
                    <a:lnTo>
                      <a:pt x="13" y="1039"/>
                    </a:lnTo>
                    <a:lnTo>
                      <a:pt x="5" y="1074"/>
                    </a:lnTo>
                    <a:lnTo>
                      <a:pt x="1" y="1112"/>
                    </a:lnTo>
                    <a:lnTo>
                      <a:pt x="0" y="1151"/>
                    </a:lnTo>
                    <a:lnTo>
                      <a:pt x="1" y="1192"/>
                    </a:lnTo>
                    <a:lnTo>
                      <a:pt x="8" y="1236"/>
                    </a:lnTo>
                    <a:lnTo>
                      <a:pt x="18" y="1280"/>
                    </a:lnTo>
                    <a:lnTo>
                      <a:pt x="34" y="1324"/>
                    </a:lnTo>
                    <a:lnTo>
                      <a:pt x="56" y="1369"/>
                    </a:lnTo>
                    <a:lnTo>
                      <a:pt x="85" y="1412"/>
                    </a:lnTo>
                    <a:lnTo>
                      <a:pt x="119" y="1455"/>
                    </a:lnTo>
                    <a:lnTo>
                      <a:pt x="163" y="1496"/>
                    </a:lnTo>
                    <a:lnTo>
                      <a:pt x="214" y="1537"/>
                    </a:lnTo>
                    <a:lnTo>
                      <a:pt x="273" y="1574"/>
                    </a:lnTo>
                    <a:lnTo>
                      <a:pt x="290" y="1583"/>
                    </a:lnTo>
                    <a:lnTo>
                      <a:pt x="308" y="1591"/>
                    </a:lnTo>
                    <a:lnTo>
                      <a:pt x="327" y="1598"/>
                    </a:lnTo>
                    <a:lnTo>
                      <a:pt x="346" y="1604"/>
                    </a:lnTo>
                    <a:lnTo>
                      <a:pt x="365" y="1609"/>
                    </a:lnTo>
                    <a:lnTo>
                      <a:pt x="384" y="1615"/>
                    </a:lnTo>
                    <a:lnTo>
                      <a:pt x="403" y="1621"/>
                    </a:lnTo>
                    <a:lnTo>
                      <a:pt x="422" y="1627"/>
                    </a:lnTo>
                    <a:lnTo>
                      <a:pt x="441" y="1634"/>
                    </a:lnTo>
                    <a:lnTo>
                      <a:pt x="458" y="1640"/>
                    </a:lnTo>
                    <a:lnTo>
                      <a:pt x="476" y="1649"/>
                    </a:lnTo>
                    <a:lnTo>
                      <a:pt x="492" y="1658"/>
                    </a:lnTo>
                    <a:lnTo>
                      <a:pt x="509" y="1668"/>
                    </a:lnTo>
                    <a:lnTo>
                      <a:pt x="522" y="1680"/>
                    </a:lnTo>
                    <a:lnTo>
                      <a:pt x="536" y="1693"/>
                    </a:lnTo>
                    <a:lnTo>
                      <a:pt x="549" y="1710"/>
                    </a:lnTo>
                    <a:lnTo>
                      <a:pt x="559" y="1725"/>
                    </a:lnTo>
                    <a:lnTo>
                      <a:pt x="570" y="1740"/>
                    </a:lnTo>
                    <a:lnTo>
                      <a:pt x="580" y="1756"/>
                    </a:lnTo>
                    <a:lnTo>
                      <a:pt x="590" y="1771"/>
                    </a:lnTo>
                    <a:lnTo>
                      <a:pt x="601" y="1787"/>
                    </a:lnTo>
                    <a:lnTo>
                      <a:pt x="611" y="1802"/>
                    </a:lnTo>
                    <a:lnTo>
                      <a:pt x="621" y="1817"/>
                    </a:lnTo>
                    <a:lnTo>
                      <a:pt x="633" y="1832"/>
                    </a:lnTo>
                    <a:lnTo>
                      <a:pt x="644" y="1847"/>
                    </a:lnTo>
                    <a:lnTo>
                      <a:pt x="656" y="1860"/>
                    </a:lnTo>
                    <a:lnTo>
                      <a:pt x="669" y="1874"/>
                    </a:lnTo>
                    <a:lnTo>
                      <a:pt x="681" y="1887"/>
                    </a:lnTo>
                    <a:lnTo>
                      <a:pt x="695" y="1900"/>
                    </a:lnTo>
                    <a:lnTo>
                      <a:pt x="709" y="1910"/>
                    </a:lnTo>
                    <a:lnTo>
                      <a:pt x="725" y="1920"/>
                    </a:lnTo>
                    <a:lnTo>
                      <a:pt x="741" y="1930"/>
                    </a:lnTo>
                    <a:lnTo>
                      <a:pt x="755" y="1935"/>
                    </a:lnTo>
                    <a:lnTo>
                      <a:pt x="769" y="1940"/>
                    </a:lnTo>
                    <a:lnTo>
                      <a:pt x="784" y="1943"/>
                    </a:lnTo>
                    <a:lnTo>
                      <a:pt x="799" y="1948"/>
                    </a:lnTo>
                    <a:lnTo>
                      <a:pt x="812" y="1950"/>
                    </a:lnTo>
                    <a:lnTo>
                      <a:pt x="827" y="1954"/>
                    </a:lnTo>
                    <a:lnTo>
                      <a:pt x="842" y="1956"/>
                    </a:lnTo>
                    <a:lnTo>
                      <a:pt x="857" y="1957"/>
                    </a:lnTo>
                    <a:lnTo>
                      <a:pt x="872" y="1957"/>
                    </a:lnTo>
                    <a:lnTo>
                      <a:pt x="887" y="1957"/>
                    </a:lnTo>
                    <a:lnTo>
                      <a:pt x="901" y="1957"/>
                    </a:lnTo>
                    <a:lnTo>
                      <a:pt x="916" y="1955"/>
                    </a:lnTo>
                    <a:lnTo>
                      <a:pt x="931" y="1954"/>
                    </a:lnTo>
                    <a:lnTo>
                      <a:pt x="945" y="1950"/>
                    </a:lnTo>
                    <a:lnTo>
                      <a:pt x="959" y="1946"/>
                    </a:lnTo>
                    <a:lnTo>
                      <a:pt x="972" y="1941"/>
                    </a:lnTo>
                    <a:lnTo>
                      <a:pt x="986" y="1935"/>
                    </a:lnTo>
                    <a:lnTo>
                      <a:pt x="999" y="1928"/>
                    </a:lnTo>
                    <a:lnTo>
                      <a:pt x="1013" y="1922"/>
                    </a:lnTo>
                    <a:lnTo>
                      <a:pt x="1025" y="1915"/>
                    </a:lnTo>
                    <a:lnTo>
                      <a:pt x="1037" y="1907"/>
                    </a:lnTo>
                    <a:lnTo>
                      <a:pt x="1050" y="1899"/>
                    </a:lnTo>
                    <a:lnTo>
                      <a:pt x="1062" y="1890"/>
                    </a:lnTo>
                    <a:lnTo>
                      <a:pt x="1074" y="1882"/>
                    </a:lnTo>
                    <a:lnTo>
                      <a:pt x="1086" y="1874"/>
                    </a:lnTo>
                    <a:lnTo>
                      <a:pt x="1098" y="1866"/>
                    </a:lnTo>
                    <a:lnTo>
                      <a:pt x="1111" y="1859"/>
                    </a:lnTo>
                    <a:lnTo>
                      <a:pt x="1123" y="1851"/>
                    </a:lnTo>
                    <a:lnTo>
                      <a:pt x="1136" y="1844"/>
                    </a:lnTo>
                    <a:lnTo>
                      <a:pt x="1149" y="1839"/>
                    </a:lnTo>
                    <a:lnTo>
                      <a:pt x="1162" y="1833"/>
                    </a:lnTo>
                    <a:lnTo>
                      <a:pt x="1176" y="1828"/>
                    </a:lnTo>
                    <a:lnTo>
                      <a:pt x="1211" y="1820"/>
                    </a:lnTo>
                    <a:lnTo>
                      <a:pt x="1245" y="1818"/>
                    </a:lnTo>
                    <a:lnTo>
                      <a:pt x="1280" y="1820"/>
                    </a:lnTo>
                    <a:lnTo>
                      <a:pt x="1314" y="1825"/>
                    </a:lnTo>
                    <a:lnTo>
                      <a:pt x="1350" y="1832"/>
                    </a:lnTo>
                    <a:lnTo>
                      <a:pt x="1385" y="1840"/>
                    </a:lnTo>
                    <a:lnTo>
                      <a:pt x="1420" y="1848"/>
                    </a:lnTo>
                    <a:lnTo>
                      <a:pt x="1456" y="1855"/>
                    </a:lnTo>
                    <a:lnTo>
                      <a:pt x="1492" y="1859"/>
                    </a:lnTo>
                    <a:lnTo>
                      <a:pt x="1526" y="1860"/>
                    </a:lnTo>
                    <a:lnTo>
                      <a:pt x="1562" y="1857"/>
                    </a:lnTo>
                    <a:lnTo>
                      <a:pt x="1596" y="1849"/>
                    </a:lnTo>
                    <a:lnTo>
                      <a:pt x="1632" y="1833"/>
                    </a:lnTo>
                    <a:lnTo>
                      <a:pt x="1667" y="1810"/>
                    </a:lnTo>
                    <a:lnTo>
                      <a:pt x="1701" y="1779"/>
                    </a:lnTo>
                    <a:lnTo>
                      <a:pt x="1735" y="1737"/>
                    </a:lnTo>
                    <a:lnTo>
                      <a:pt x="1753" y="1708"/>
                    </a:lnTo>
                    <a:lnTo>
                      <a:pt x="1769" y="1677"/>
                    </a:lnTo>
                    <a:lnTo>
                      <a:pt x="1784" y="1645"/>
                    </a:lnTo>
                    <a:lnTo>
                      <a:pt x="1798" y="1613"/>
                    </a:lnTo>
                    <a:lnTo>
                      <a:pt x="1812" y="1582"/>
                    </a:lnTo>
                    <a:lnTo>
                      <a:pt x="1828" y="1551"/>
                    </a:lnTo>
                    <a:lnTo>
                      <a:pt x="1847" y="1521"/>
                    </a:lnTo>
                    <a:lnTo>
                      <a:pt x="1870" y="1494"/>
                    </a:lnTo>
                    <a:lnTo>
                      <a:pt x="1887" y="1480"/>
                    </a:lnTo>
                    <a:lnTo>
                      <a:pt x="1903" y="1468"/>
                    </a:lnTo>
                    <a:lnTo>
                      <a:pt x="1919" y="1456"/>
                    </a:lnTo>
                    <a:lnTo>
                      <a:pt x="1936" y="1443"/>
                    </a:lnTo>
                    <a:lnTo>
                      <a:pt x="1953" y="1433"/>
                    </a:lnTo>
                    <a:lnTo>
                      <a:pt x="1971" y="1422"/>
                    </a:lnTo>
                    <a:lnTo>
                      <a:pt x="1988" y="1410"/>
                    </a:lnTo>
                    <a:lnTo>
                      <a:pt x="2004" y="1398"/>
                    </a:lnTo>
                    <a:lnTo>
                      <a:pt x="2021" y="1387"/>
                    </a:lnTo>
                    <a:lnTo>
                      <a:pt x="2039" y="1375"/>
                    </a:lnTo>
                    <a:lnTo>
                      <a:pt x="2055" y="1363"/>
                    </a:lnTo>
                    <a:lnTo>
                      <a:pt x="2071" y="1350"/>
                    </a:lnTo>
                    <a:lnTo>
                      <a:pt x="2087" y="1337"/>
                    </a:lnTo>
                    <a:lnTo>
                      <a:pt x="2102" y="1322"/>
                    </a:lnTo>
                    <a:lnTo>
                      <a:pt x="2117" y="1307"/>
                    </a:lnTo>
                    <a:lnTo>
                      <a:pt x="2131" y="1291"/>
                    </a:lnTo>
                    <a:lnTo>
                      <a:pt x="2146" y="1265"/>
                    </a:lnTo>
                    <a:lnTo>
                      <a:pt x="2158" y="1238"/>
                    </a:lnTo>
                    <a:lnTo>
                      <a:pt x="2168" y="1211"/>
                    </a:lnTo>
                    <a:lnTo>
                      <a:pt x="2173" y="1182"/>
                    </a:lnTo>
                    <a:lnTo>
                      <a:pt x="2177" y="1153"/>
                    </a:lnTo>
                    <a:lnTo>
                      <a:pt x="2178" y="1124"/>
                    </a:lnTo>
                    <a:lnTo>
                      <a:pt x="2174" y="1094"/>
                    </a:lnTo>
                    <a:lnTo>
                      <a:pt x="2170" y="1064"/>
                    </a:lnTo>
                    <a:lnTo>
                      <a:pt x="2164" y="1038"/>
                    </a:lnTo>
                    <a:lnTo>
                      <a:pt x="2156" y="1013"/>
                    </a:lnTo>
                    <a:lnTo>
                      <a:pt x="2147" y="988"/>
                    </a:lnTo>
                    <a:lnTo>
                      <a:pt x="2134" y="964"/>
                    </a:lnTo>
                    <a:lnTo>
                      <a:pt x="2121" y="942"/>
                    </a:lnTo>
                    <a:lnTo>
                      <a:pt x="2106" y="920"/>
                    </a:lnTo>
                    <a:lnTo>
                      <a:pt x="2090" y="898"/>
                    </a:lnTo>
                    <a:lnTo>
                      <a:pt x="2074" y="878"/>
                    </a:lnTo>
                    <a:lnTo>
                      <a:pt x="2055" y="855"/>
                    </a:lnTo>
                    <a:lnTo>
                      <a:pt x="2035" y="833"/>
                    </a:lnTo>
                    <a:lnTo>
                      <a:pt x="2017" y="811"/>
                    </a:lnTo>
                    <a:lnTo>
                      <a:pt x="1999" y="788"/>
                    </a:lnTo>
                    <a:lnTo>
                      <a:pt x="1983" y="765"/>
                    </a:lnTo>
                    <a:lnTo>
                      <a:pt x="1971" y="741"/>
                    </a:lnTo>
                    <a:lnTo>
                      <a:pt x="1960" y="714"/>
                    </a:lnTo>
                    <a:lnTo>
                      <a:pt x="1955" y="685"/>
                    </a:lnTo>
                    <a:lnTo>
                      <a:pt x="1952" y="648"/>
                    </a:lnTo>
                    <a:lnTo>
                      <a:pt x="1955" y="612"/>
                    </a:lnTo>
                    <a:lnTo>
                      <a:pt x="1958" y="576"/>
                    </a:lnTo>
                    <a:lnTo>
                      <a:pt x="1964" y="540"/>
                    </a:lnTo>
                    <a:lnTo>
                      <a:pt x="1969" y="503"/>
                    </a:lnTo>
                    <a:lnTo>
                      <a:pt x="1976" y="468"/>
                    </a:lnTo>
                    <a:lnTo>
                      <a:pt x="1981" y="430"/>
                    </a:lnTo>
                    <a:lnTo>
                      <a:pt x="1983" y="392"/>
                    </a:lnTo>
                    <a:lnTo>
                      <a:pt x="1981" y="333"/>
                    </a:lnTo>
                    <a:lnTo>
                      <a:pt x="1972" y="280"/>
                    </a:lnTo>
                    <a:lnTo>
                      <a:pt x="1957" y="233"/>
                    </a:lnTo>
                    <a:lnTo>
                      <a:pt x="1935" y="191"/>
                    </a:lnTo>
                    <a:lnTo>
                      <a:pt x="1910" y="154"/>
                    </a:lnTo>
                    <a:lnTo>
                      <a:pt x="1880" y="124"/>
                    </a:lnTo>
                    <a:lnTo>
                      <a:pt x="1846" y="98"/>
                    </a:lnTo>
                    <a:lnTo>
                      <a:pt x="1812" y="76"/>
                    </a:lnTo>
                    <a:lnTo>
                      <a:pt x="1776" y="59"/>
                    </a:lnTo>
                    <a:lnTo>
                      <a:pt x="1740" y="45"/>
                    </a:lnTo>
                    <a:lnTo>
                      <a:pt x="1705" y="34"/>
                    </a:lnTo>
                    <a:lnTo>
                      <a:pt x="1671" y="29"/>
                    </a:lnTo>
                    <a:lnTo>
                      <a:pt x="1640" y="25"/>
                    </a:lnTo>
                    <a:lnTo>
                      <a:pt x="1614" y="24"/>
                    </a:lnTo>
                    <a:lnTo>
                      <a:pt x="1590" y="26"/>
                    </a:lnTo>
                    <a:lnTo>
                      <a:pt x="1572" y="30"/>
                    </a:lnTo>
                    <a:lnTo>
                      <a:pt x="1534" y="41"/>
                    </a:lnTo>
                    <a:lnTo>
                      <a:pt x="1499" y="49"/>
                    </a:lnTo>
                    <a:lnTo>
                      <a:pt x="1465" y="55"/>
                    </a:lnTo>
                    <a:lnTo>
                      <a:pt x="1434" y="59"/>
                    </a:lnTo>
                    <a:lnTo>
                      <a:pt x="1404" y="60"/>
                    </a:lnTo>
                    <a:lnTo>
                      <a:pt x="1378" y="60"/>
                    </a:lnTo>
                    <a:lnTo>
                      <a:pt x="1354" y="59"/>
                    </a:lnTo>
                    <a:lnTo>
                      <a:pt x="1331" y="55"/>
                    </a:lnTo>
                    <a:lnTo>
                      <a:pt x="1310" y="52"/>
                    </a:lnTo>
                    <a:lnTo>
                      <a:pt x="1291" y="47"/>
                    </a:lnTo>
                    <a:lnTo>
                      <a:pt x="1275" y="42"/>
                    </a:lnTo>
                    <a:lnTo>
                      <a:pt x="1260" y="38"/>
                    </a:lnTo>
                    <a:lnTo>
                      <a:pt x="1248" y="33"/>
                    </a:lnTo>
                    <a:lnTo>
                      <a:pt x="1237" y="30"/>
                    </a:lnTo>
                    <a:lnTo>
                      <a:pt x="1228" y="26"/>
                    </a:lnTo>
                    <a:lnTo>
                      <a:pt x="1221" y="2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605120" y="2620800"/>
                <a:ext cx="177840" cy="519840"/>
              </a:xfrm>
              <a:custGeom>
                <a:avLst/>
                <a:gdLst/>
                <a:ahLst/>
                <a:rect l="l" t="t" r="r" b="b"/>
                <a:pathLst>
                  <a:path w="116" h="308">
                    <a:moveTo>
                      <a:pt x="0" y="0"/>
                    </a:moveTo>
                    <a:lnTo>
                      <a:pt x="35" y="308"/>
                    </a:lnTo>
                    <a:lnTo>
                      <a:pt x="116" y="10"/>
                    </a:lnTo>
                    <a:lnTo>
                      <a:pt x="1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98080" y="3195000"/>
                <a:ext cx="1873440" cy="938520"/>
              </a:xfrm>
              <a:custGeom>
                <a:avLst/>
                <a:gdLst/>
                <a:ahLst/>
                <a:rect l="l" t="t" r="r" b="b"/>
                <a:pathLst>
                  <a:path w="1220" h="555">
                    <a:moveTo>
                      <a:pt x="274" y="94"/>
                    </a:moveTo>
                    <a:lnTo>
                      <a:pt x="270" y="118"/>
                    </a:lnTo>
                    <a:lnTo>
                      <a:pt x="261" y="174"/>
                    </a:lnTo>
                    <a:lnTo>
                      <a:pt x="257" y="240"/>
                    </a:lnTo>
                    <a:lnTo>
                      <a:pt x="266" y="291"/>
                    </a:lnTo>
                    <a:lnTo>
                      <a:pt x="271" y="310"/>
                    </a:lnTo>
                    <a:lnTo>
                      <a:pt x="268" y="330"/>
                    </a:lnTo>
                    <a:lnTo>
                      <a:pt x="259" y="347"/>
                    </a:lnTo>
                    <a:lnTo>
                      <a:pt x="245" y="366"/>
                    </a:lnTo>
                    <a:lnTo>
                      <a:pt x="226" y="383"/>
                    </a:lnTo>
                    <a:lnTo>
                      <a:pt x="204" y="400"/>
                    </a:lnTo>
                    <a:lnTo>
                      <a:pt x="179" y="415"/>
                    </a:lnTo>
                    <a:lnTo>
                      <a:pt x="153" y="429"/>
                    </a:lnTo>
                    <a:lnTo>
                      <a:pt x="125" y="443"/>
                    </a:lnTo>
                    <a:lnTo>
                      <a:pt x="99" y="455"/>
                    </a:lnTo>
                    <a:lnTo>
                      <a:pt x="74" y="465"/>
                    </a:lnTo>
                    <a:lnTo>
                      <a:pt x="52" y="474"/>
                    </a:lnTo>
                    <a:lnTo>
                      <a:pt x="32" y="482"/>
                    </a:lnTo>
                    <a:lnTo>
                      <a:pt x="17" y="487"/>
                    </a:lnTo>
                    <a:lnTo>
                      <a:pt x="7" y="491"/>
                    </a:lnTo>
                    <a:lnTo>
                      <a:pt x="4" y="492"/>
                    </a:lnTo>
                    <a:lnTo>
                      <a:pt x="0" y="553"/>
                    </a:lnTo>
                    <a:lnTo>
                      <a:pt x="3" y="553"/>
                    </a:lnTo>
                    <a:lnTo>
                      <a:pt x="15" y="554"/>
                    </a:lnTo>
                    <a:lnTo>
                      <a:pt x="31" y="554"/>
                    </a:lnTo>
                    <a:lnTo>
                      <a:pt x="54" y="555"/>
                    </a:lnTo>
                    <a:lnTo>
                      <a:pt x="83" y="555"/>
                    </a:lnTo>
                    <a:lnTo>
                      <a:pt x="115" y="555"/>
                    </a:lnTo>
                    <a:lnTo>
                      <a:pt x="150" y="554"/>
                    </a:lnTo>
                    <a:lnTo>
                      <a:pt x="188" y="551"/>
                    </a:lnTo>
                    <a:lnTo>
                      <a:pt x="227" y="547"/>
                    </a:lnTo>
                    <a:lnTo>
                      <a:pt x="268" y="542"/>
                    </a:lnTo>
                    <a:lnTo>
                      <a:pt x="308" y="535"/>
                    </a:lnTo>
                    <a:lnTo>
                      <a:pt x="349" y="527"/>
                    </a:lnTo>
                    <a:lnTo>
                      <a:pt x="388" y="515"/>
                    </a:lnTo>
                    <a:lnTo>
                      <a:pt x="426" y="500"/>
                    </a:lnTo>
                    <a:lnTo>
                      <a:pt x="461" y="484"/>
                    </a:lnTo>
                    <a:lnTo>
                      <a:pt x="491" y="464"/>
                    </a:lnTo>
                    <a:lnTo>
                      <a:pt x="520" y="438"/>
                    </a:lnTo>
                    <a:lnTo>
                      <a:pt x="543" y="409"/>
                    </a:lnTo>
                    <a:lnTo>
                      <a:pt x="560" y="380"/>
                    </a:lnTo>
                    <a:lnTo>
                      <a:pt x="573" y="351"/>
                    </a:lnTo>
                    <a:lnTo>
                      <a:pt x="582" y="326"/>
                    </a:lnTo>
                    <a:lnTo>
                      <a:pt x="589" y="305"/>
                    </a:lnTo>
                    <a:lnTo>
                      <a:pt x="591" y="292"/>
                    </a:lnTo>
                    <a:lnTo>
                      <a:pt x="592" y="287"/>
                    </a:lnTo>
                    <a:lnTo>
                      <a:pt x="595" y="285"/>
                    </a:lnTo>
                    <a:lnTo>
                      <a:pt x="605" y="279"/>
                    </a:lnTo>
                    <a:lnTo>
                      <a:pt x="621" y="270"/>
                    </a:lnTo>
                    <a:lnTo>
                      <a:pt x="641" y="259"/>
                    </a:lnTo>
                    <a:lnTo>
                      <a:pt x="668" y="248"/>
                    </a:lnTo>
                    <a:lnTo>
                      <a:pt x="698" y="239"/>
                    </a:lnTo>
                    <a:lnTo>
                      <a:pt x="733" y="230"/>
                    </a:lnTo>
                    <a:lnTo>
                      <a:pt x="772" y="223"/>
                    </a:lnTo>
                    <a:lnTo>
                      <a:pt x="814" y="220"/>
                    </a:lnTo>
                    <a:lnTo>
                      <a:pt x="859" y="222"/>
                    </a:lnTo>
                    <a:lnTo>
                      <a:pt x="906" y="230"/>
                    </a:lnTo>
                    <a:lnTo>
                      <a:pt x="957" y="244"/>
                    </a:lnTo>
                    <a:lnTo>
                      <a:pt x="1008" y="266"/>
                    </a:lnTo>
                    <a:lnTo>
                      <a:pt x="1061" y="298"/>
                    </a:lnTo>
                    <a:lnTo>
                      <a:pt x="1114" y="338"/>
                    </a:lnTo>
                    <a:lnTo>
                      <a:pt x="1168" y="390"/>
                    </a:lnTo>
                    <a:lnTo>
                      <a:pt x="1220" y="363"/>
                    </a:lnTo>
                    <a:lnTo>
                      <a:pt x="1219" y="359"/>
                    </a:lnTo>
                    <a:lnTo>
                      <a:pt x="1216" y="347"/>
                    </a:lnTo>
                    <a:lnTo>
                      <a:pt x="1211" y="330"/>
                    </a:lnTo>
                    <a:lnTo>
                      <a:pt x="1202" y="305"/>
                    </a:lnTo>
                    <a:lnTo>
                      <a:pt x="1190" y="278"/>
                    </a:lnTo>
                    <a:lnTo>
                      <a:pt x="1175" y="246"/>
                    </a:lnTo>
                    <a:lnTo>
                      <a:pt x="1154" y="213"/>
                    </a:lnTo>
                    <a:lnTo>
                      <a:pt x="1129" y="181"/>
                    </a:lnTo>
                    <a:lnTo>
                      <a:pt x="1098" y="148"/>
                    </a:lnTo>
                    <a:lnTo>
                      <a:pt x="1061" y="116"/>
                    </a:lnTo>
                    <a:lnTo>
                      <a:pt x="1018" y="86"/>
                    </a:lnTo>
                    <a:lnTo>
                      <a:pt x="968" y="62"/>
                    </a:lnTo>
                    <a:lnTo>
                      <a:pt x="910" y="41"/>
                    </a:lnTo>
                    <a:lnTo>
                      <a:pt x="844" y="27"/>
                    </a:lnTo>
                    <a:lnTo>
                      <a:pt x="771" y="21"/>
                    </a:lnTo>
                    <a:lnTo>
                      <a:pt x="687" y="23"/>
                    </a:lnTo>
                    <a:lnTo>
                      <a:pt x="529" y="0"/>
                    </a:lnTo>
                    <a:lnTo>
                      <a:pt x="27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457800" y="2895840"/>
                <a:ext cx="72720" cy="104400"/>
              </a:xfrm>
              <a:custGeom>
                <a:avLst/>
                <a:gdLst/>
                <a:ahLst/>
                <a:rect l="l" t="t" r="r" b="b"/>
                <a:pathLst>
                  <a:path w="48" h="62">
                    <a:moveTo>
                      <a:pt x="29" y="0"/>
                    </a:moveTo>
                    <a:lnTo>
                      <a:pt x="0" y="30"/>
                    </a:lnTo>
                    <a:lnTo>
                      <a:pt x="1" y="36"/>
                    </a:lnTo>
                    <a:lnTo>
                      <a:pt x="3" y="45"/>
                    </a:lnTo>
                    <a:lnTo>
                      <a:pt x="6" y="56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7" y="61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31" y="46"/>
                    </a:lnTo>
                    <a:lnTo>
                      <a:pt x="40" y="59"/>
                    </a:lnTo>
                    <a:lnTo>
                      <a:pt x="42" y="55"/>
                    </a:lnTo>
                    <a:lnTo>
                      <a:pt x="46" y="46"/>
                    </a:lnTo>
                    <a:lnTo>
                      <a:pt x="48" y="36"/>
                    </a:lnTo>
                    <a:lnTo>
                      <a:pt x="47" y="2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643280" y="2618280"/>
                <a:ext cx="53640" cy="446400"/>
              </a:xfrm>
              <a:custGeom>
                <a:avLst/>
                <a:gdLst/>
                <a:ahLst/>
                <a:rect l="l" t="t" r="r" b="b"/>
                <a:pathLst>
                  <a:path w="35" h="264">
                    <a:moveTo>
                      <a:pt x="17" y="0"/>
                    </a:moveTo>
                    <a:lnTo>
                      <a:pt x="8" y="22"/>
                    </a:lnTo>
                    <a:lnTo>
                      <a:pt x="15" y="32"/>
                    </a:lnTo>
                    <a:lnTo>
                      <a:pt x="0" y="190"/>
                    </a:lnTo>
                    <a:lnTo>
                      <a:pt x="7" y="264"/>
                    </a:lnTo>
                    <a:lnTo>
                      <a:pt x="35" y="177"/>
                    </a:lnTo>
                    <a:lnTo>
                      <a:pt x="24" y="31"/>
                    </a:lnTo>
                    <a:lnTo>
                      <a:pt x="26" y="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591800" y="2338200"/>
                <a:ext cx="207000" cy="253800"/>
              </a:xfrm>
              <a:custGeom>
                <a:avLst/>
                <a:gdLst/>
                <a:ahLst/>
                <a:rect l="l" t="t" r="r" b="b"/>
                <a:pathLst>
                  <a:path w="135" h="150">
                    <a:moveTo>
                      <a:pt x="125" y="10"/>
                    </a:moveTo>
                    <a:lnTo>
                      <a:pt x="121" y="8"/>
                    </a:lnTo>
                    <a:lnTo>
                      <a:pt x="110" y="5"/>
                    </a:lnTo>
                    <a:lnTo>
                      <a:pt x="96" y="2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40" y="6"/>
                    </a:lnTo>
                    <a:lnTo>
                      <a:pt x="23" y="18"/>
                    </a:lnTo>
                    <a:lnTo>
                      <a:pt x="10" y="38"/>
                    </a:lnTo>
                    <a:lnTo>
                      <a:pt x="13" y="43"/>
                    </a:lnTo>
                    <a:lnTo>
                      <a:pt x="12" y="45"/>
                    </a:lnTo>
                    <a:lnTo>
                      <a:pt x="9" y="48"/>
                    </a:lnTo>
                    <a:lnTo>
                      <a:pt x="4" y="54"/>
                    </a:lnTo>
                    <a:lnTo>
                      <a:pt x="1" y="62"/>
                    </a:lnTo>
                    <a:lnTo>
                      <a:pt x="0" y="72"/>
                    </a:lnTo>
                    <a:lnTo>
                      <a:pt x="3" y="84"/>
                    </a:lnTo>
                    <a:lnTo>
                      <a:pt x="12" y="97"/>
                    </a:lnTo>
                    <a:lnTo>
                      <a:pt x="26" y="112"/>
                    </a:lnTo>
                    <a:lnTo>
                      <a:pt x="25" y="150"/>
                    </a:lnTo>
                    <a:lnTo>
                      <a:pt x="84" y="145"/>
                    </a:lnTo>
                    <a:lnTo>
                      <a:pt x="90" y="121"/>
                    </a:lnTo>
                    <a:lnTo>
                      <a:pt x="128" y="116"/>
                    </a:lnTo>
                    <a:lnTo>
                      <a:pt x="123" y="86"/>
                    </a:lnTo>
                    <a:lnTo>
                      <a:pt x="120" y="74"/>
                    </a:lnTo>
                    <a:lnTo>
                      <a:pt x="135" y="68"/>
                    </a:lnTo>
                    <a:lnTo>
                      <a:pt x="108" y="26"/>
                    </a:lnTo>
                    <a:lnTo>
                      <a:pt x="12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682520" y="2407680"/>
                <a:ext cx="84600" cy="414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39" y="0"/>
                    </a:moveTo>
                    <a:lnTo>
                      <a:pt x="35" y="1"/>
                    </a:lnTo>
                    <a:lnTo>
                      <a:pt x="33" y="5"/>
                    </a:lnTo>
                    <a:lnTo>
                      <a:pt x="31" y="9"/>
                    </a:lnTo>
                    <a:lnTo>
                      <a:pt x="30" y="13"/>
                    </a:lnTo>
                    <a:lnTo>
                      <a:pt x="0" y="18"/>
                    </a:lnTo>
                    <a:lnTo>
                      <a:pt x="1" y="24"/>
                    </a:lnTo>
                    <a:lnTo>
                      <a:pt x="32" y="21"/>
                    </a:lnTo>
                    <a:lnTo>
                      <a:pt x="34" y="23"/>
                    </a:lnTo>
                    <a:lnTo>
                      <a:pt x="37" y="24"/>
                    </a:lnTo>
                    <a:lnTo>
                      <a:pt x="41" y="25"/>
                    </a:lnTo>
                    <a:lnTo>
                      <a:pt x="44" y="25"/>
                    </a:lnTo>
                    <a:lnTo>
                      <a:pt x="49" y="24"/>
                    </a:lnTo>
                    <a:lnTo>
                      <a:pt x="53" y="21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53" y="6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08920" y="2542680"/>
                <a:ext cx="2131200" cy="1173240"/>
              </a:xfrm>
              <a:custGeom>
                <a:avLst/>
                <a:gdLst/>
                <a:ahLst/>
                <a:rect l="l" t="t" r="r" b="b"/>
                <a:pathLst>
                  <a:path w="1387" h="694">
                    <a:moveTo>
                      <a:pt x="1387" y="83"/>
                    </a:moveTo>
                    <a:lnTo>
                      <a:pt x="1366" y="55"/>
                    </a:lnTo>
                    <a:lnTo>
                      <a:pt x="1364" y="57"/>
                    </a:lnTo>
                    <a:lnTo>
                      <a:pt x="1355" y="63"/>
                    </a:lnTo>
                    <a:lnTo>
                      <a:pt x="1343" y="71"/>
                    </a:lnTo>
                    <a:lnTo>
                      <a:pt x="1327" y="81"/>
                    </a:lnTo>
                    <a:lnTo>
                      <a:pt x="1306" y="93"/>
                    </a:lnTo>
                    <a:lnTo>
                      <a:pt x="1282" y="105"/>
                    </a:lnTo>
                    <a:lnTo>
                      <a:pt x="1256" y="117"/>
                    </a:lnTo>
                    <a:lnTo>
                      <a:pt x="1227" y="127"/>
                    </a:lnTo>
                    <a:lnTo>
                      <a:pt x="1197" y="136"/>
                    </a:lnTo>
                    <a:lnTo>
                      <a:pt x="1164" y="140"/>
                    </a:lnTo>
                    <a:lnTo>
                      <a:pt x="1131" y="143"/>
                    </a:lnTo>
                    <a:lnTo>
                      <a:pt x="1097" y="139"/>
                    </a:lnTo>
                    <a:lnTo>
                      <a:pt x="1064" y="132"/>
                    </a:lnTo>
                    <a:lnTo>
                      <a:pt x="1031" y="116"/>
                    </a:lnTo>
                    <a:lnTo>
                      <a:pt x="998" y="96"/>
                    </a:lnTo>
                    <a:lnTo>
                      <a:pt x="968" y="66"/>
                    </a:lnTo>
                    <a:lnTo>
                      <a:pt x="960" y="64"/>
                    </a:lnTo>
                    <a:lnTo>
                      <a:pt x="943" y="60"/>
                    </a:lnTo>
                    <a:lnTo>
                      <a:pt x="918" y="57"/>
                    </a:lnTo>
                    <a:lnTo>
                      <a:pt x="892" y="54"/>
                    </a:lnTo>
                    <a:lnTo>
                      <a:pt x="867" y="51"/>
                    </a:lnTo>
                    <a:lnTo>
                      <a:pt x="844" y="48"/>
                    </a:lnTo>
                    <a:lnTo>
                      <a:pt x="828" y="47"/>
                    </a:lnTo>
                    <a:lnTo>
                      <a:pt x="822" y="46"/>
                    </a:lnTo>
                    <a:lnTo>
                      <a:pt x="748" y="307"/>
                    </a:lnTo>
                    <a:lnTo>
                      <a:pt x="713" y="46"/>
                    </a:lnTo>
                    <a:lnTo>
                      <a:pt x="660" y="51"/>
                    </a:lnTo>
                    <a:lnTo>
                      <a:pt x="572" y="39"/>
                    </a:lnTo>
                    <a:lnTo>
                      <a:pt x="567" y="36"/>
                    </a:lnTo>
                    <a:lnTo>
                      <a:pt x="550" y="32"/>
                    </a:lnTo>
                    <a:lnTo>
                      <a:pt x="526" y="27"/>
                    </a:lnTo>
                    <a:lnTo>
                      <a:pt x="493" y="19"/>
                    </a:lnTo>
                    <a:lnTo>
                      <a:pt x="455" y="12"/>
                    </a:lnTo>
                    <a:lnTo>
                      <a:pt x="411" y="6"/>
                    </a:lnTo>
                    <a:lnTo>
                      <a:pt x="364" y="2"/>
                    </a:lnTo>
                    <a:lnTo>
                      <a:pt x="315" y="0"/>
                    </a:lnTo>
                    <a:lnTo>
                      <a:pt x="265" y="4"/>
                    </a:lnTo>
                    <a:lnTo>
                      <a:pt x="215" y="10"/>
                    </a:lnTo>
                    <a:lnTo>
                      <a:pt x="167" y="22"/>
                    </a:lnTo>
                    <a:lnTo>
                      <a:pt x="122" y="42"/>
                    </a:lnTo>
                    <a:lnTo>
                      <a:pt x="82" y="68"/>
                    </a:lnTo>
                    <a:lnTo>
                      <a:pt x="47" y="103"/>
                    </a:lnTo>
                    <a:lnTo>
                      <a:pt x="19" y="147"/>
                    </a:lnTo>
                    <a:lnTo>
                      <a:pt x="0" y="202"/>
                    </a:lnTo>
                    <a:lnTo>
                      <a:pt x="19" y="231"/>
                    </a:lnTo>
                    <a:lnTo>
                      <a:pt x="20" y="228"/>
                    </a:lnTo>
                    <a:lnTo>
                      <a:pt x="26" y="220"/>
                    </a:lnTo>
                    <a:lnTo>
                      <a:pt x="33" y="209"/>
                    </a:lnTo>
                    <a:lnTo>
                      <a:pt x="46" y="195"/>
                    </a:lnTo>
                    <a:lnTo>
                      <a:pt x="60" y="180"/>
                    </a:lnTo>
                    <a:lnTo>
                      <a:pt x="78" y="166"/>
                    </a:lnTo>
                    <a:lnTo>
                      <a:pt x="100" y="152"/>
                    </a:lnTo>
                    <a:lnTo>
                      <a:pt x="125" y="143"/>
                    </a:lnTo>
                    <a:lnTo>
                      <a:pt x="154" y="136"/>
                    </a:lnTo>
                    <a:lnTo>
                      <a:pt x="187" y="135"/>
                    </a:lnTo>
                    <a:lnTo>
                      <a:pt x="223" y="142"/>
                    </a:lnTo>
                    <a:lnTo>
                      <a:pt x="262" y="155"/>
                    </a:lnTo>
                    <a:lnTo>
                      <a:pt x="306" y="179"/>
                    </a:lnTo>
                    <a:lnTo>
                      <a:pt x="354" y="212"/>
                    </a:lnTo>
                    <a:lnTo>
                      <a:pt x="405" y="258"/>
                    </a:lnTo>
                    <a:lnTo>
                      <a:pt x="461" y="317"/>
                    </a:lnTo>
                    <a:lnTo>
                      <a:pt x="515" y="510"/>
                    </a:lnTo>
                    <a:lnTo>
                      <a:pt x="429" y="694"/>
                    </a:lnTo>
                    <a:lnTo>
                      <a:pt x="674" y="579"/>
                    </a:lnTo>
                    <a:lnTo>
                      <a:pt x="740" y="445"/>
                    </a:lnTo>
                    <a:lnTo>
                      <a:pt x="741" y="446"/>
                    </a:lnTo>
                    <a:lnTo>
                      <a:pt x="745" y="450"/>
                    </a:lnTo>
                    <a:lnTo>
                      <a:pt x="753" y="456"/>
                    </a:lnTo>
                    <a:lnTo>
                      <a:pt x="762" y="464"/>
                    </a:lnTo>
                    <a:lnTo>
                      <a:pt x="774" y="472"/>
                    </a:lnTo>
                    <a:lnTo>
                      <a:pt x="787" y="481"/>
                    </a:lnTo>
                    <a:lnTo>
                      <a:pt x="801" y="490"/>
                    </a:lnTo>
                    <a:lnTo>
                      <a:pt x="817" y="500"/>
                    </a:lnTo>
                    <a:lnTo>
                      <a:pt x="833" y="507"/>
                    </a:lnTo>
                    <a:lnTo>
                      <a:pt x="851" y="515"/>
                    </a:lnTo>
                    <a:lnTo>
                      <a:pt x="868" y="521"/>
                    </a:lnTo>
                    <a:lnTo>
                      <a:pt x="886" y="524"/>
                    </a:lnTo>
                    <a:lnTo>
                      <a:pt x="902" y="525"/>
                    </a:lnTo>
                    <a:lnTo>
                      <a:pt x="920" y="523"/>
                    </a:lnTo>
                    <a:lnTo>
                      <a:pt x="935" y="517"/>
                    </a:lnTo>
                    <a:lnTo>
                      <a:pt x="949" y="508"/>
                    </a:lnTo>
                    <a:lnTo>
                      <a:pt x="962" y="492"/>
                    </a:lnTo>
                    <a:lnTo>
                      <a:pt x="969" y="471"/>
                    </a:lnTo>
                    <a:lnTo>
                      <a:pt x="971" y="447"/>
                    </a:lnTo>
                    <a:lnTo>
                      <a:pt x="969" y="420"/>
                    </a:lnTo>
                    <a:lnTo>
                      <a:pt x="967" y="392"/>
                    </a:lnTo>
                    <a:lnTo>
                      <a:pt x="964" y="365"/>
                    </a:lnTo>
                    <a:lnTo>
                      <a:pt x="966" y="338"/>
                    </a:lnTo>
                    <a:lnTo>
                      <a:pt x="971" y="312"/>
                    </a:lnTo>
                    <a:lnTo>
                      <a:pt x="987" y="308"/>
                    </a:lnTo>
                    <a:lnTo>
                      <a:pt x="1005" y="304"/>
                    </a:lnTo>
                    <a:lnTo>
                      <a:pt x="1026" y="300"/>
                    </a:lnTo>
                    <a:lnTo>
                      <a:pt x="1049" y="296"/>
                    </a:lnTo>
                    <a:lnTo>
                      <a:pt x="1073" y="292"/>
                    </a:lnTo>
                    <a:lnTo>
                      <a:pt x="1098" y="285"/>
                    </a:lnTo>
                    <a:lnTo>
                      <a:pt x="1125" y="278"/>
                    </a:lnTo>
                    <a:lnTo>
                      <a:pt x="1153" y="269"/>
                    </a:lnTo>
                    <a:lnTo>
                      <a:pt x="1181" y="258"/>
                    </a:lnTo>
                    <a:lnTo>
                      <a:pt x="1211" y="243"/>
                    </a:lnTo>
                    <a:lnTo>
                      <a:pt x="1240" y="227"/>
                    </a:lnTo>
                    <a:lnTo>
                      <a:pt x="1270" y="206"/>
                    </a:lnTo>
                    <a:lnTo>
                      <a:pt x="1301" y="182"/>
                    </a:lnTo>
                    <a:lnTo>
                      <a:pt x="1330" y="155"/>
                    </a:lnTo>
                    <a:lnTo>
                      <a:pt x="1359" y="122"/>
                    </a:lnTo>
                    <a:lnTo>
                      <a:pt x="138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650480" y="31687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6" y="21"/>
                    </a:moveTo>
                    <a:lnTo>
                      <a:pt x="20" y="19"/>
                    </a:lnTo>
                    <a:lnTo>
                      <a:pt x="23" y="16"/>
                    </a:lnTo>
                    <a:lnTo>
                      <a:pt x="24" y="11"/>
                    </a:lnTo>
                    <a:lnTo>
                      <a:pt x="24" y="7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7" y="21"/>
                    </a:lnTo>
                    <a:lnTo>
                      <a:pt x="11" y="22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641480" y="3314880"/>
                <a:ext cx="36360" cy="378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5" y="21"/>
                    </a:moveTo>
                    <a:lnTo>
                      <a:pt x="19" y="19"/>
                    </a:lnTo>
                    <a:lnTo>
                      <a:pt x="23" y="15"/>
                    </a:lnTo>
                    <a:lnTo>
                      <a:pt x="24" y="11"/>
                    </a:lnTo>
                    <a:lnTo>
                      <a:pt x="24" y="7"/>
                    </a:lnTo>
                    <a:lnTo>
                      <a:pt x="22" y="3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1"/>
                    </a:lnTo>
                    <a:lnTo>
                      <a:pt x="11" y="22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427280" y="2681640"/>
                <a:ext cx="198360" cy="349200"/>
              </a:xfrm>
              <a:custGeom>
                <a:avLst/>
                <a:gdLst/>
                <a:ahLst/>
                <a:rect l="l" t="t" r="r" b="b"/>
                <a:pathLst>
                  <a:path w="129" h="207">
                    <a:moveTo>
                      <a:pt x="17" y="104"/>
                    </a:moveTo>
                    <a:lnTo>
                      <a:pt x="56" y="68"/>
                    </a:lnTo>
                    <a:lnTo>
                      <a:pt x="21" y="46"/>
                    </a:lnTo>
                    <a:lnTo>
                      <a:pt x="69" y="11"/>
                    </a:lnTo>
                    <a:lnTo>
                      <a:pt x="70" y="9"/>
                    </a:lnTo>
                    <a:lnTo>
                      <a:pt x="71" y="7"/>
                    </a:lnTo>
                    <a:lnTo>
                      <a:pt x="71" y="5"/>
                    </a:lnTo>
                    <a:lnTo>
                      <a:pt x="70" y="3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1" y="1"/>
                    </a:lnTo>
                    <a:lnTo>
                      <a:pt x="1" y="47"/>
                    </a:lnTo>
                    <a:lnTo>
                      <a:pt x="37" y="69"/>
                    </a:lnTo>
                    <a:lnTo>
                      <a:pt x="0" y="106"/>
                    </a:lnTo>
                    <a:lnTo>
                      <a:pt x="119" y="206"/>
                    </a:lnTo>
                    <a:lnTo>
                      <a:pt x="121" y="207"/>
                    </a:lnTo>
                    <a:lnTo>
                      <a:pt x="123" y="207"/>
                    </a:lnTo>
                    <a:lnTo>
                      <a:pt x="125" y="207"/>
                    </a:lnTo>
                    <a:lnTo>
                      <a:pt x="128" y="206"/>
                    </a:lnTo>
                    <a:lnTo>
                      <a:pt x="129" y="204"/>
                    </a:lnTo>
                    <a:lnTo>
                      <a:pt x="129" y="202"/>
                    </a:lnTo>
                    <a:lnTo>
                      <a:pt x="129" y="200"/>
                    </a:lnTo>
                    <a:lnTo>
                      <a:pt x="127" y="198"/>
                    </a:lnTo>
                    <a:lnTo>
                      <a:pt x="17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683960" y="2676240"/>
                <a:ext cx="236160" cy="422280"/>
              </a:xfrm>
              <a:custGeom>
                <a:avLst/>
                <a:gdLst/>
                <a:ahLst/>
                <a:rect l="l" t="t" r="r" b="b"/>
                <a:pathLst>
                  <a:path w="153" h="250">
                    <a:moveTo>
                      <a:pt x="153" y="54"/>
                    </a:moveTo>
                    <a:lnTo>
                      <a:pt x="99" y="1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0" y="2"/>
                    </a:lnTo>
                    <a:lnTo>
                      <a:pt x="89" y="4"/>
                    </a:lnTo>
                    <a:lnTo>
                      <a:pt x="89" y="6"/>
                    </a:lnTo>
                    <a:lnTo>
                      <a:pt x="89" y="8"/>
                    </a:lnTo>
                    <a:lnTo>
                      <a:pt x="90" y="10"/>
                    </a:lnTo>
                    <a:lnTo>
                      <a:pt x="133" y="50"/>
                    </a:lnTo>
                    <a:lnTo>
                      <a:pt x="96" y="68"/>
                    </a:lnTo>
                    <a:lnTo>
                      <a:pt x="132" y="110"/>
                    </a:lnTo>
                    <a:lnTo>
                      <a:pt x="1" y="240"/>
                    </a:lnTo>
                    <a:lnTo>
                      <a:pt x="0" y="242"/>
                    </a:lnTo>
                    <a:lnTo>
                      <a:pt x="0" y="243"/>
                    </a:lnTo>
                    <a:lnTo>
                      <a:pt x="0" y="245"/>
                    </a:lnTo>
                    <a:lnTo>
                      <a:pt x="1" y="248"/>
                    </a:lnTo>
                    <a:lnTo>
                      <a:pt x="3" y="250"/>
                    </a:lnTo>
                    <a:lnTo>
                      <a:pt x="6" y="250"/>
                    </a:lnTo>
                    <a:lnTo>
                      <a:pt x="8" y="250"/>
                    </a:lnTo>
                    <a:lnTo>
                      <a:pt x="10" y="249"/>
                    </a:lnTo>
                    <a:lnTo>
                      <a:pt x="10" y="249"/>
                    </a:lnTo>
                    <a:lnTo>
                      <a:pt x="148" y="111"/>
                    </a:lnTo>
                    <a:lnTo>
                      <a:pt x="115" y="72"/>
                    </a:lnTo>
                    <a:lnTo>
                      <a:pt x="15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721840" y="3824640"/>
                <a:ext cx="214200" cy="117000"/>
              </a:xfrm>
              <a:custGeom>
                <a:avLst/>
                <a:gdLst/>
                <a:ahLst/>
                <a:rect l="l" t="t" r="r" b="b"/>
                <a:pathLst>
                  <a:path w="140" h="70">
                    <a:moveTo>
                      <a:pt x="118" y="16"/>
                    </a:moveTo>
                    <a:lnTo>
                      <a:pt x="140" y="0"/>
                    </a:lnTo>
                    <a:lnTo>
                      <a:pt x="41" y="9"/>
                    </a:lnTo>
                    <a:lnTo>
                      <a:pt x="0" y="27"/>
                    </a:lnTo>
                    <a:lnTo>
                      <a:pt x="42" y="70"/>
                    </a:lnTo>
                    <a:lnTo>
                      <a:pt x="59" y="58"/>
                    </a:lnTo>
                    <a:lnTo>
                      <a:pt x="65" y="67"/>
                    </a:lnTo>
                    <a:lnTo>
                      <a:pt x="67" y="68"/>
                    </a:lnTo>
                    <a:lnTo>
                      <a:pt x="68" y="68"/>
                    </a:lnTo>
                    <a:lnTo>
                      <a:pt x="69" y="68"/>
                    </a:lnTo>
                    <a:lnTo>
                      <a:pt x="70" y="68"/>
                    </a:lnTo>
                    <a:lnTo>
                      <a:pt x="71" y="67"/>
                    </a:lnTo>
                    <a:lnTo>
                      <a:pt x="71" y="66"/>
                    </a:lnTo>
                    <a:lnTo>
                      <a:pt x="71" y="65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4" y="55"/>
                    </a:lnTo>
                    <a:lnTo>
                      <a:pt x="79" y="45"/>
                    </a:lnTo>
                    <a:lnTo>
                      <a:pt x="85" y="55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90" y="56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2"/>
                    </a:lnTo>
                    <a:lnTo>
                      <a:pt x="83" y="41"/>
                    </a:lnTo>
                    <a:lnTo>
                      <a:pt x="96" y="31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7" y="45"/>
                    </a:lnTo>
                    <a:lnTo>
                      <a:pt x="108" y="45"/>
                    </a:lnTo>
                    <a:lnTo>
                      <a:pt x="109" y="44"/>
                    </a:lnTo>
                    <a:lnTo>
                      <a:pt x="110" y="43"/>
                    </a:lnTo>
                    <a:lnTo>
                      <a:pt x="110" y="42"/>
                    </a:lnTo>
                    <a:lnTo>
                      <a:pt x="110" y="41"/>
                    </a:lnTo>
                    <a:lnTo>
                      <a:pt x="109" y="40"/>
                    </a:lnTo>
                    <a:lnTo>
                      <a:pt x="102" y="28"/>
                    </a:lnTo>
                    <a:lnTo>
                      <a:pt x="114" y="19"/>
                    </a:lnTo>
                    <a:lnTo>
                      <a:pt x="121" y="32"/>
                    </a:lnTo>
                    <a:lnTo>
                      <a:pt x="122" y="33"/>
                    </a:lnTo>
                    <a:lnTo>
                      <a:pt x="124" y="33"/>
                    </a:lnTo>
                    <a:lnTo>
                      <a:pt x="125" y="33"/>
                    </a:lnTo>
                    <a:lnTo>
                      <a:pt x="126" y="32"/>
                    </a:lnTo>
                    <a:lnTo>
                      <a:pt x="127" y="32"/>
                    </a:lnTo>
                    <a:lnTo>
                      <a:pt x="128" y="31"/>
                    </a:lnTo>
                    <a:lnTo>
                      <a:pt x="128" y="30"/>
                    </a:lnTo>
                    <a:lnTo>
                      <a:pt x="127" y="29"/>
                    </a:lnTo>
                    <a:lnTo>
                      <a:pt x="1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802120" y="3859920"/>
                <a:ext cx="11880" cy="388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6" y="0"/>
                    </a:moveTo>
                    <a:lnTo>
                      <a:pt x="0" y="0"/>
                    </a:lnTo>
                    <a:lnTo>
                      <a:pt x="3" y="23"/>
                    </a:lnTo>
                    <a:lnTo>
                      <a:pt x="7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24080" y="3852360"/>
                <a:ext cx="8280" cy="338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5" y="0"/>
                    </a:moveTo>
                    <a:lnTo>
                      <a:pt x="0" y="0"/>
                    </a:lnTo>
                    <a:lnTo>
                      <a:pt x="1" y="20"/>
                    </a:lnTo>
                    <a:lnTo>
                      <a:pt x="6" y="1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752280" y="4035240"/>
                <a:ext cx="128160" cy="21312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18" y="100"/>
                    </a:moveTo>
                    <a:lnTo>
                      <a:pt x="17" y="126"/>
                    </a:lnTo>
                    <a:lnTo>
                      <a:pt x="72" y="44"/>
                    </a:lnTo>
                    <a:lnTo>
                      <a:pt x="84" y="0"/>
                    </a:lnTo>
                    <a:lnTo>
                      <a:pt x="22" y="7"/>
                    </a:lnTo>
                    <a:lnTo>
                      <a:pt x="21" y="27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21" y="34"/>
                    </a:lnTo>
                    <a:lnTo>
                      <a:pt x="20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6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20" y="57"/>
                    </a:lnTo>
                    <a:lnTo>
                      <a:pt x="20" y="73"/>
                    </a:lnTo>
                    <a:lnTo>
                      <a:pt x="5" y="72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3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19" y="80"/>
                    </a:lnTo>
                    <a:lnTo>
                      <a:pt x="19" y="94"/>
                    </a:lnTo>
                    <a:lnTo>
                      <a:pt x="4" y="93"/>
                    </a:lnTo>
                    <a:lnTo>
                      <a:pt x="3" y="93"/>
                    </a:lnTo>
                    <a:lnTo>
                      <a:pt x="1" y="94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3" y="99"/>
                    </a:lnTo>
                    <a:lnTo>
                      <a:pt x="4" y="99"/>
                    </a:lnTo>
                    <a:lnTo>
                      <a:pt x="18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801600" y="4114800"/>
                <a:ext cx="27720" cy="2916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4" y="17"/>
                    </a:moveTo>
                    <a:lnTo>
                      <a:pt x="18" y="12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11120" y="2397600"/>
                <a:ext cx="158760" cy="26280"/>
              </a:xfrm>
              <a:custGeom>
                <a:avLst/>
                <a:gdLst/>
                <a:ahLst/>
                <a:rect l="l" t="t" r="r" b="b"/>
                <a:pathLst>
                  <a:path w="103" h="16">
                    <a:moveTo>
                      <a:pt x="8" y="16"/>
                    </a:moveTo>
                    <a:lnTo>
                      <a:pt x="95" y="14"/>
                    </a:lnTo>
                    <a:lnTo>
                      <a:pt x="95" y="14"/>
                    </a:lnTo>
                    <a:lnTo>
                      <a:pt x="99" y="13"/>
                    </a:lnTo>
                    <a:lnTo>
                      <a:pt x="101" y="12"/>
                    </a:lnTo>
                    <a:lnTo>
                      <a:pt x="102" y="10"/>
                    </a:lnTo>
                    <a:lnTo>
                      <a:pt x="103" y="6"/>
                    </a:lnTo>
                    <a:lnTo>
                      <a:pt x="102" y="4"/>
                    </a:lnTo>
                    <a:lnTo>
                      <a:pt x="101" y="2"/>
                    </a:lnTo>
                    <a:lnTo>
                      <a:pt x="99" y="1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01040" y="2496240"/>
                <a:ext cx="106200" cy="52920"/>
              </a:xfrm>
              <a:custGeom>
                <a:avLst/>
                <a:gdLst/>
                <a:ahLst/>
                <a:rect l="l" t="t" r="r" b="b"/>
                <a:pathLst>
                  <a:path w="69" h="32">
                    <a:moveTo>
                      <a:pt x="5" y="13"/>
                    </a:moveTo>
                    <a:lnTo>
                      <a:pt x="60" y="32"/>
                    </a:lnTo>
                    <a:lnTo>
                      <a:pt x="60" y="32"/>
                    </a:lnTo>
                    <a:lnTo>
                      <a:pt x="63" y="32"/>
                    </a:lnTo>
                    <a:lnTo>
                      <a:pt x="65" y="32"/>
                    </a:lnTo>
                    <a:lnTo>
                      <a:pt x="67" y="29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67" y="21"/>
                    </a:lnTo>
                    <a:lnTo>
                      <a:pt x="65" y="18"/>
                    </a:lnTo>
                    <a:lnTo>
                      <a:pt x="65" y="1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3" y="12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0" name=""/>
              <p:cNvGrpSpPr/>
              <p:nvPr/>
            </p:nvGrpSpPr>
            <p:grpSpPr>
              <a:xfrm>
                <a:off x="2569680" y="3670200"/>
                <a:ext cx="2234880" cy="606240"/>
                <a:chOff x="2569680" y="3670200"/>
                <a:chExt cx="2234880" cy="60624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2569680" y="3792960"/>
                  <a:ext cx="699480" cy="364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27" y="15"/>
                      </a:moveTo>
                      <a:arcTo wR="10800" hR="10800" stAng="-5582370" swAng="55823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27" y="15"/>
                      </a:moveTo>
                      <a:arcTo wR="10800" hR="10800" stAng="-5582370" swAng="5582370"/>
                    </a:path>
                  </a:pathLst>
                </a:custGeom>
                <a:noFill/>
                <a:ln cap="rnd" w="57240">
                  <a:solidFill>
                    <a:srgbClr val="ff99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3265920" y="3670200"/>
                  <a:ext cx="1538280" cy="606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452" y="20"/>
                      </a:moveTo>
                      <a:arcTo wR="10800" hR="10800" stAng="-5192286" swAng="51922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452" y="20"/>
                      </a:moveTo>
                      <a:arcTo wR="10800" hR="10800" stAng="-5192286" swAng="5192286"/>
                    </a:path>
                  </a:pathLst>
                </a:custGeom>
                <a:noFill/>
                <a:ln cap="rnd" w="57240">
                  <a:solidFill>
                    <a:srgbClr val="ff99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20160" y="2338200"/>
                <a:ext cx="55944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>
                <a:off x="5628600" y="2532600"/>
                <a:ext cx="113400" cy="137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20" y="81"/>
                    </a:moveTo>
                    <a:lnTo>
                      <a:pt x="0" y="56"/>
                    </a:lnTo>
                    <a:lnTo>
                      <a:pt x="31" y="5"/>
                    </a:lnTo>
                    <a:lnTo>
                      <a:pt x="30" y="26"/>
                    </a:lnTo>
                    <a:lnTo>
                      <a:pt x="56" y="0"/>
                    </a:lnTo>
                    <a:lnTo>
                      <a:pt x="50" y="23"/>
                    </a:lnTo>
                    <a:lnTo>
                      <a:pt x="74" y="16"/>
                    </a:lnTo>
                    <a:lnTo>
                      <a:pt x="54" y="34"/>
                    </a:lnTo>
                    <a:lnTo>
                      <a:pt x="70" y="36"/>
                    </a:lnTo>
                    <a:lnTo>
                      <a:pt x="53" y="43"/>
                    </a:lnTo>
                    <a:lnTo>
                      <a:pt x="52" y="46"/>
                    </a:lnTo>
                    <a:lnTo>
                      <a:pt x="49" y="51"/>
                    </a:lnTo>
                    <a:lnTo>
                      <a:pt x="42" y="57"/>
                    </a:lnTo>
                    <a:lnTo>
                      <a:pt x="35" y="5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4983120" y="3746520"/>
              <a:ext cx="2141280" cy="977400"/>
              <a:chOff x="4983120" y="3746520"/>
              <a:chExt cx="2141280" cy="977400"/>
            </a:xfrm>
          </p:grpSpPr>
          <p:grpSp>
            <p:nvGrpSpPr>
              <p:cNvPr id="1626" name=""/>
              <p:cNvGrpSpPr/>
              <p:nvPr/>
            </p:nvGrpSpPr>
            <p:grpSpPr>
              <a:xfrm>
                <a:off x="4983120" y="3746520"/>
                <a:ext cx="2141280" cy="977400"/>
                <a:chOff x="4983120" y="3746520"/>
                <a:chExt cx="2141280" cy="97740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4983120" y="3746520"/>
                  <a:ext cx="1996920" cy="573480"/>
                </a:xfrm>
                <a:custGeom>
                  <a:avLst/>
                  <a:gdLst/>
                  <a:ahLst/>
                  <a:rect l="l" t="t" r="r" b="b"/>
                  <a:pathLst>
                    <a:path w="788" h="399">
                      <a:moveTo>
                        <a:pt x="788" y="153"/>
                      </a:moveTo>
                      <a:lnTo>
                        <a:pt x="759" y="0"/>
                      </a:lnTo>
                      <a:lnTo>
                        <a:pt x="0" y="252"/>
                      </a:lnTo>
                      <a:lnTo>
                        <a:pt x="50" y="399"/>
                      </a:lnTo>
                      <a:lnTo>
                        <a:pt x="788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201640" y="4061520"/>
                  <a:ext cx="158760" cy="214200"/>
                </a:xfrm>
                <a:custGeom>
                  <a:avLst/>
                  <a:gdLst/>
                  <a:ahLst/>
                  <a:rect l="l" t="t" r="r" b="b"/>
                  <a:pathLst>
                    <a:path w="63" h="149">
                      <a:moveTo>
                        <a:pt x="5" y="19"/>
                      </a:moveTo>
                      <a:lnTo>
                        <a:pt x="0" y="149"/>
                      </a:lnTo>
                      <a:lnTo>
                        <a:pt x="58" y="129"/>
                      </a:lnTo>
                      <a:lnTo>
                        <a:pt x="63" y="0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553000" y="3994920"/>
                  <a:ext cx="157320" cy="215280"/>
                </a:xfrm>
                <a:custGeom>
                  <a:avLst/>
                  <a:gdLst/>
                  <a:ahLst/>
                  <a:rect l="l" t="t" r="r" b="b"/>
                  <a:pathLst>
                    <a:path w="62" h="149">
                      <a:moveTo>
                        <a:pt x="4" y="19"/>
                      </a:moveTo>
                      <a:lnTo>
                        <a:pt x="0" y="149"/>
                      </a:lnTo>
                      <a:lnTo>
                        <a:pt x="58" y="129"/>
                      </a:lnTo>
                      <a:lnTo>
                        <a:pt x="62" y="0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902920" y="3929040"/>
                  <a:ext cx="161640" cy="213120"/>
                </a:xfrm>
                <a:custGeom>
                  <a:avLst/>
                  <a:gdLst/>
                  <a:ahLst/>
                  <a:rect l="l" t="t" r="r" b="b"/>
                  <a:pathLst>
                    <a:path w="64" h="148">
                      <a:moveTo>
                        <a:pt x="5" y="19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4" y="0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6252840" y="3862440"/>
                  <a:ext cx="161640" cy="212760"/>
                </a:xfrm>
                <a:custGeom>
                  <a:avLst/>
                  <a:gdLst/>
                  <a:ahLst/>
                  <a:rect l="l" t="t" r="r" b="b"/>
                  <a:pathLst>
                    <a:path w="64" h="148">
                      <a:moveTo>
                        <a:pt x="5" y="18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4" y="0"/>
                      </a:lnTo>
                      <a:lnTo>
                        <a:pt x="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6605640" y="3795480"/>
                  <a:ext cx="158760" cy="212760"/>
                </a:xfrm>
                <a:custGeom>
                  <a:avLst/>
                  <a:gdLst/>
                  <a:ahLst/>
                  <a:rect l="l" t="t" r="r" b="b"/>
                  <a:pathLst>
                    <a:path w="63" h="148">
                      <a:moveTo>
                        <a:pt x="4" y="19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3" y="0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6836040" y="3768840"/>
                  <a:ext cx="288360" cy="723960"/>
                </a:xfrm>
                <a:custGeom>
                  <a:avLst/>
                  <a:gdLst/>
                  <a:ahLst/>
                  <a:rect l="l" t="t" r="r" b="b"/>
                  <a:pathLst>
                    <a:path w="114" h="503">
                      <a:moveTo>
                        <a:pt x="0" y="14"/>
                      </a:moveTo>
                      <a:lnTo>
                        <a:pt x="90" y="493"/>
                      </a:lnTo>
                      <a:lnTo>
                        <a:pt x="90" y="493"/>
                      </a:lnTo>
                      <a:lnTo>
                        <a:pt x="92" y="497"/>
                      </a:lnTo>
                      <a:lnTo>
                        <a:pt x="95" y="501"/>
                      </a:lnTo>
                      <a:lnTo>
                        <a:pt x="100" y="503"/>
                      </a:lnTo>
                      <a:lnTo>
                        <a:pt x="104" y="503"/>
                      </a:lnTo>
                      <a:lnTo>
                        <a:pt x="108" y="501"/>
                      </a:lnTo>
                      <a:lnTo>
                        <a:pt x="112" y="497"/>
                      </a:lnTo>
                      <a:lnTo>
                        <a:pt x="114" y="493"/>
                      </a:lnTo>
                      <a:lnTo>
                        <a:pt x="114" y="489"/>
                      </a:lnTo>
                      <a:lnTo>
                        <a:pt x="114" y="489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006520" y="4110840"/>
                  <a:ext cx="397440" cy="613080"/>
                </a:xfrm>
                <a:custGeom>
                  <a:avLst/>
                  <a:gdLst/>
                  <a:ahLst/>
                  <a:rect l="l" t="t" r="r" b="b"/>
                  <a:pathLst>
                    <a:path w="157" h="426">
                      <a:moveTo>
                        <a:pt x="1" y="16"/>
                      </a:moveTo>
                      <a:lnTo>
                        <a:pt x="133" y="418"/>
                      </a:lnTo>
                      <a:lnTo>
                        <a:pt x="133" y="418"/>
                      </a:lnTo>
                      <a:lnTo>
                        <a:pt x="135" y="421"/>
                      </a:lnTo>
                      <a:lnTo>
                        <a:pt x="139" y="425"/>
                      </a:lnTo>
                      <a:lnTo>
                        <a:pt x="144" y="426"/>
                      </a:lnTo>
                      <a:lnTo>
                        <a:pt x="148" y="426"/>
                      </a:lnTo>
                      <a:lnTo>
                        <a:pt x="152" y="424"/>
                      </a:lnTo>
                      <a:lnTo>
                        <a:pt x="156" y="419"/>
                      </a:lnTo>
                      <a:lnTo>
                        <a:pt x="157" y="415"/>
                      </a:lnTo>
                      <a:lnTo>
                        <a:pt x="156" y="410"/>
                      </a:lnTo>
                      <a:lnTo>
                        <a:pt x="156" y="410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2" y="4"/>
                      </a:lnTo>
                      <a:lnTo>
                        <a:pt x="19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5" name=""/>
              <p:cNvSpPr/>
              <p:nvPr/>
            </p:nvSpPr>
            <p:spPr>
              <a:xfrm>
                <a:off x="5685480" y="429120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 COS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2019240" y="3525480"/>
              <a:ext cx="1667160" cy="699120"/>
              <a:chOff x="2019240" y="3525480"/>
              <a:chExt cx="1667160" cy="699120"/>
            </a:xfrm>
          </p:grpSpPr>
          <p:sp>
            <p:nvSpPr>
              <p:cNvPr id="1637" name=""/>
              <p:cNvSpPr/>
              <p:nvPr/>
            </p:nvSpPr>
            <p:spPr>
              <a:xfrm>
                <a:off x="2435760" y="3887280"/>
                <a:ext cx="1250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 COS 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2019240" y="3525480"/>
                <a:ext cx="1651320" cy="614160"/>
                <a:chOff x="2019240" y="3525480"/>
                <a:chExt cx="1651320" cy="6141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2019240" y="3525480"/>
                  <a:ext cx="1539720" cy="360360"/>
                </a:xfrm>
                <a:custGeom>
                  <a:avLst/>
                  <a:gdLst/>
                  <a:ahLst/>
                  <a:rect l="l" t="t" r="r" b="b"/>
                  <a:pathLst>
                    <a:path w="788" h="399">
                      <a:moveTo>
                        <a:pt x="788" y="153"/>
                      </a:moveTo>
                      <a:lnTo>
                        <a:pt x="759" y="0"/>
                      </a:lnTo>
                      <a:lnTo>
                        <a:pt x="0" y="252"/>
                      </a:lnTo>
                      <a:lnTo>
                        <a:pt x="50" y="399"/>
                      </a:lnTo>
                      <a:lnTo>
                        <a:pt x="788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2187720" y="3723480"/>
                  <a:ext cx="122400" cy="134640"/>
                </a:xfrm>
                <a:custGeom>
                  <a:avLst/>
                  <a:gdLst/>
                  <a:ahLst/>
                  <a:rect l="l" t="t" r="r" b="b"/>
                  <a:pathLst>
                    <a:path w="63" h="149">
                      <a:moveTo>
                        <a:pt x="5" y="19"/>
                      </a:moveTo>
                      <a:lnTo>
                        <a:pt x="0" y="149"/>
                      </a:lnTo>
                      <a:lnTo>
                        <a:pt x="58" y="129"/>
                      </a:lnTo>
                      <a:lnTo>
                        <a:pt x="63" y="0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2458440" y="3681360"/>
                  <a:ext cx="121320" cy="135360"/>
                </a:xfrm>
                <a:custGeom>
                  <a:avLst/>
                  <a:gdLst/>
                  <a:ahLst/>
                  <a:rect l="l" t="t" r="r" b="b"/>
                  <a:pathLst>
                    <a:path w="62" h="149">
                      <a:moveTo>
                        <a:pt x="4" y="19"/>
                      </a:moveTo>
                      <a:lnTo>
                        <a:pt x="0" y="149"/>
                      </a:lnTo>
                      <a:lnTo>
                        <a:pt x="58" y="129"/>
                      </a:lnTo>
                      <a:lnTo>
                        <a:pt x="62" y="0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728440" y="3640320"/>
                  <a:ext cx="124560" cy="133920"/>
                </a:xfrm>
                <a:custGeom>
                  <a:avLst/>
                  <a:gdLst/>
                  <a:ahLst/>
                  <a:rect l="l" t="t" r="r" b="b"/>
                  <a:pathLst>
                    <a:path w="64" h="148">
                      <a:moveTo>
                        <a:pt x="5" y="19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4" y="0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2998080" y="3598200"/>
                  <a:ext cx="124560" cy="133560"/>
                </a:xfrm>
                <a:custGeom>
                  <a:avLst/>
                  <a:gdLst/>
                  <a:ahLst/>
                  <a:rect l="l" t="t" r="r" b="b"/>
                  <a:pathLst>
                    <a:path w="64" h="148">
                      <a:moveTo>
                        <a:pt x="5" y="18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4" y="0"/>
                      </a:lnTo>
                      <a:lnTo>
                        <a:pt x="5" y="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3270240" y="3556080"/>
                  <a:ext cx="122400" cy="133560"/>
                </a:xfrm>
                <a:custGeom>
                  <a:avLst/>
                  <a:gdLst/>
                  <a:ahLst/>
                  <a:rect l="l" t="t" r="r" b="b"/>
                  <a:pathLst>
                    <a:path w="63" h="148">
                      <a:moveTo>
                        <a:pt x="4" y="19"/>
                      </a:moveTo>
                      <a:lnTo>
                        <a:pt x="0" y="148"/>
                      </a:lnTo>
                      <a:lnTo>
                        <a:pt x="58" y="129"/>
                      </a:lnTo>
                      <a:lnTo>
                        <a:pt x="63" y="0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448080" y="3539520"/>
                  <a:ext cx="222480" cy="455040"/>
                </a:xfrm>
                <a:custGeom>
                  <a:avLst/>
                  <a:gdLst/>
                  <a:ahLst/>
                  <a:rect l="l" t="t" r="r" b="b"/>
                  <a:pathLst>
                    <a:path w="114" h="503">
                      <a:moveTo>
                        <a:pt x="0" y="14"/>
                      </a:moveTo>
                      <a:lnTo>
                        <a:pt x="90" y="493"/>
                      </a:lnTo>
                      <a:lnTo>
                        <a:pt x="90" y="493"/>
                      </a:lnTo>
                      <a:lnTo>
                        <a:pt x="92" y="497"/>
                      </a:lnTo>
                      <a:lnTo>
                        <a:pt x="95" y="501"/>
                      </a:lnTo>
                      <a:lnTo>
                        <a:pt x="100" y="503"/>
                      </a:lnTo>
                      <a:lnTo>
                        <a:pt x="104" y="503"/>
                      </a:lnTo>
                      <a:lnTo>
                        <a:pt x="108" y="501"/>
                      </a:lnTo>
                      <a:lnTo>
                        <a:pt x="112" y="497"/>
                      </a:lnTo>
                      <a:lnTo>
                        <a:pt x="114" y="493"/>
                      </a:lnTo>
                      <a:lnTo>
                        <a:pt x="114" y="489"/>
                      </a:lnTo>
                      <a:lnTo>
                        <a:pt x="114" y="489"/>
                      </a:ln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22" y="5"/>
                      </a:lnTo>
                      <a:lnTo>
                        <a:pt x="19" y="2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2037240" y="3754440"/>
                  <a:ext cx="306360" cy="385200"/>
                </a:xfrm>
                <a:custGeom>
                  <a:avLst/>
                  <a:gdLst/>
                  <a:ahLst/>
                  <a:rect l="l" t="t" r="r" b="b"/>
                  <a:pathLst>
                    <a:path w="157" h="426">
                      <a:moveTo>
                        <a:pt x="1" y="16"/>
                      </a:moveTo>
                      <a:lnTo>
                        <a:pt x="133" y="418"/>
                      </a:lnTo>
                      <a:lnTo>
                        <a:pt x="133" y="418"/>
                      </a:lnTo>
                      <a:lnTo>
                        <a:pt x="135" y="421"/>
                      </a:lnTo>
                      <a:lnTo>
                        <a:pt x="139" y="425"/>
                      </a:lnTo>
                      <a:lnTo>
                        <a:pt x="144" y="426"/>
                      </a:lnTo>
                      <a:lnTo>
                        <a:pt x="148" y="426"/>
                      </a:lnTo>
                      <a:lnTo>
                        <a:pt x="152" y="424"/>
                      </a:lnTo>
                      <a:lnTo>
                        <a:pt x="156" y="419"/>
                      </a:lnTo>
                      <a:lnTo>
                        <a:pt x="157" y="415"/>
                      </a:lnTo>
                      <a:lnTo>
                        <a:pt x="156" y="410"/>
                      </a:lnTo>
                      <a:lnTo>
                        <a:pt x="156" y="410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2" y="4"/>
                      </a:lnTo>
                      <a:lnTo>
                        <a:pt x="19" y="1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7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546480" y="4264200"/>
            <a:ext cx="673524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vailable for keyset and S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LT: “563”(program code) + “23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rogram walking COS button at Flex. BT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TRANS/PGM] + [Flex. BTN] + [TRANS/PGM] + “23”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 Code : PGM2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90360" y="9828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ing COS 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2880" y="1339920"/>
            <a:ext cx="844884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 Press the [TRANS/PGM]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al 2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Confirmation tone will be heard and enter the authorization c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 If the authorization cod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ed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com dial tone will be he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t this time, the used extension COS is changed to the station’s COS temporarily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. You can place a CO line call only one tim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33520" y="37828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176760" y="9540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uthorization Code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68360" y="90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170080" y="836640"/>
            <a:ext cx="635148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Co Group account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Make authorization Code of Station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When CO line 3 is CO Group 3, Make account of CO group 3 is en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test outgoing call with station 1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35240" y="4869000"/>
            <a:ext cx="7918200" cy="9687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227 + 002 (select Port of Station 101) + Flx1 + 111111# (press Autho Code of station 10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1 + 03 03 (select co range) + Flx1 + 03 (select co group of co lin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141 + 03 03 (select co range) + Flx9 +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317600" y="1989000"/>
            <a:ext cx="6954840" cy="2376720"/>
            <a:chOff x="1317600" y="1989000"/>
            <a:chExt cx="6954840" cy="2376720"/>
          </a:xfrm>
        </p:grpSpPr>
        <p:sp>
          <p:nvSpPr>
            <p:cNvPr id="1658" name=""/>
            <p:cNvSpPr/>
            <p:nvPr/>
          </p:nvSpPr>
          <p:spPr>
            <a:xfrm>
              <a:off x="1317600" y="2924280"/>
              <a:ext cx="2089080" cy="14414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820960" y="2637000"/>
              <a:ext cx="410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884240" y="4021200"/>
              <a:ext cx="11131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ion 10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"/>
            <a:stretch/>
          </p:blipFill>
          <p:spPr>
            <a:xfrm>
              <a:off x="1957320" y="33735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2"/>
            <a:stretch/>
          </p:blipFill>
          <p:spPr>
            <a:xfrm>
              <a:off x="1692360" y="2060640"/>
              <a:ext cx="1346040" cy="13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3"/>
            <a:stretch/>
          </p:blipFill>
          <p:spPr>
            <a:xfrm>
              <a:off x="6926400" y="1989000"/>
              <a:ext cx="13460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4838760" y="2133720"/>
              <a:ext cx="1550880" cy="933480"/>
            </a:xfrm>
            <a:prstGeom prst="cloudCallout">
              <a:avLst>
                <a:gd name="adj1" fmla="val -12902"/>
                <a:gd name="adj2" fmla="val 44888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2700360" y="3284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00240" y="2362320"/>
              <a:ext cx="187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3300"/>
                  </a:solidFill>
                  <a:latin typeface="굴림"/>
                </a:rPr>
                <a:t>CO Group 3 : CO lin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533520" y="12574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 station user(Supervisor) can make a call with intercom stations and CO Lines. Supervisor invite station user or CO Line user one by one with [CONF] button. Connected users can speak and hear with each other at the same tim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10880" y="104760"/>
            <a:ext cx="21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698760" y="2421000"/>
            <a:ext cx="7378200" cy="3208680"/>
            <a:chOff x="698760" y="2421000"/>
            <a:chExt cx="7378200" cy="3208680"/>
          </a:xfrm>
        </p:grpSpPr>
        <p:grpSp>
          <p:nvGrpSpPr>
            <p:cNvPr id="1670" name=""/>
            <p:cNvGrpSpPr/>
            <p:nvPr/>
          </p:nvGrpSpPr>
          <p:grpSpPr>
            <a:xfrm>
              <a:off x="1325160" y="2588760"/>
              <a:ext cx="4157640" cy="2513160"/>
              <a:chOff x="1325160" y="2588760"/>
              <a:chExt cx="4157640" cy="2513160"/>
            </a:xfrm>
          </p:grpSpPr>
          <p:sp>
            <p:nvSpPr>
              <p:cNvPr id="1671" name=""/>
              <p:cNvSpPr/>
              <p:nvPr/>
            </p:nvSpPr>
            <p:spPr>
              <a:xfrm rot="16444800">
                <a:off x="3510720" y="1956240"/>
                <a:ext cx="1206720" cy="265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08" y="3900"/>
                    </a:moveTo>
                    <a:arcTo wR="10800" hR="10800" stAng="-2382720" swAng="66161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08" y="3900"/>
                    </a:moveTo>
                    <a:arcTo wR="10800" hR="10800" stAng="-2382720" swAng="6616111"/>
                  </a:path>
                </a:pathLst>
              </a:custGeom>
              <a:noFill/>
              <a:ln cap="rnd" w="57240">
                <a:solidFill>
                  <a:srgbClr val="ff9933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 rot="5155200">
                <a:off x="3183120" y="2931480"/>
                <a:ext cx="994680" cy="312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17" y="7950"/>
                    </a:moveTo>
                    <a:arcTo wR="10800" hR="10800" stAng="-918033" swAng="5151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17" y="7950"/>
                    </a:moveTo>
                    <a:arcTo wR="10800" hR="10800" stAng="-918033" swAng="5151423"/>
                  </a:path>
                </a:pathLst>
              </a:custGeom>
              <a:noFill/>
              <a:ln cap="rnd" w="57240">
                <a:solidFill>
                  <a:srgbClr val="ff9933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0000800">
                <a:off x="1444320" y="3220920"/>
                <a:ext cx="1597320" cy="12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08" y="3900"/>
                    </a:moveTo>
                    <a:arcTo wR="10800" hR="10800" stAng="-2382720" swAng="73279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08" y="3900"/>
                    </a:moveTo>
                    <a:arcTo wR="10800" hR="10800" stAng="-2382720" swAng="7327912"/>
                  </a:path>
                </a:pathLst>
              </a:custGeom>
              <a:noFill/>
              <a:ln cap="rnd" w="57240">
                <a:solidFill>
                  <a:srgbClr val="ff9933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4664520" y="3008880"/>
              <a:ext cx="3412440" cy="2101680"/>
              <a:chOff x="4664520" y="3008880"/>
              <a:chExt cx="3412440" cy="2101680"/>
            </a:xfrm>
          </p:grpSpPr>
          <p:sp>
            <p:nvSpPr>
              <p:cNvPr id="1675" name=""/>
              <p:cNvSpPr/>
              <p:nvPr/>
            </p:nvSpPr>
            <p:spPr>
              <a:xfrm>
                <a:off x="4664520" y="3008880"/>
                <a:ext cx="3412440" cy="1764360"/>
              </a:xfrm>
              <a:custGeom>
                <a:avLst/>
                <a:gdLst/>
                <a:ahLst/>
                <a:rect l="l" t="t" r="r" b="b"/>
                <a:pathLst>
                  <a:path w="2178" h="1957">
                    <a:moveTo>
                      <a:pt x="1221" y="24"/>
                    </a:moveTo>
                    <a:lnTo>
                      <a:pt x="1149" y="9"/>
                    </a:lnTo>
                    <a:lnTo>
                      <a:pt x="1086" y="1"/>
                    </a:lnTo>
                    <a:lnTo>
                      <a:pt x="1033" y="0"/>
                    </a:lnTo>
                    <a:lnTo>
                      <a:pt x="989" y="3"/>
                    </a:lnTo>
                    <a:lnTo>
                      <a:pt x="951" y="13"/>
                    </a:lnTo>
                    <a:lnTo>
                      <a:pt x="920" y="25"/>
                    </a:lnTo>
                    <a:lnTo>
                      <a:pt x="892" y="40"/>
                    </a:lnTo>
                    <a:lnTo>
                      <a:pt x="870" y="59"/>
                    </a:lnTo>
                    <a:lnTo>
                      <a:pt x="849" y="77"/>
                    </a:lnTo>
                    <a:lnTo>
                      <a:pt x="832" y="97"/>
                    </a:lnTo>
                    <a:lnTo>
                      <a:pt x="814" y="116"/>
                    </a:lnTo>
                    <a:lnTo>
                      <a:pt x="795" y="135"/>
                    </a:lnTo>
                    <a:lnTo>
                      <a:pt x="776" y="150"/>
                    </a:lnTo>
                    <a:lnTo>
                      <a:pt x="754" y="163"/>
                    </a:lnTo>
                    <a:lnTo>
                      <a:pt x="727" y="173"/>
                    </a:lnTo>
                    <a:lnTo>
                      <a:pt x="696" y="177"/>
                    </a:lnTo>
                    <a:lnTo>
                      <a:pt x="586" y="188"/>
                    </a:lnTo>
                    <a:lnTo>
                      <a:pt x="490" y="203"/>
                    </a:lnTo>
                    <a:lnTo>
                      <a:pt x="411" y="222"/>
                    </a:lnTo>
                    <a:lnTo>
                      <a:pt x="344" y="245"/>
                    </a:lnTo>
                    <a:lnTo>
                      <a:pt x="291" y="272"/>
                    </a:lnTo>
                    <a:lnTo>
                      <a:pt x="248" y="299"/>
                    </a:lnTo>
                    <a:lnTo>
                      <a:pt x="216" y="329"/>
                    </a:lnTo>
                    <a:lnTo>
                      <a:pt x="192" y="359"/>
                    </a:lnTo>
                    <a:lnTo>
                      <a:pt x="176" y="390"/>
                    </a:lnTo>
                    <a:lnTo>
                      <a:pt x="167" y="420"/>
                    </a:lnTo>
                    <a:lnTo>
                      <a:pt x="162" y="448"/>
                    </a:lnTo>
                    <a:lnTo>
                      <a:pt x="161" y="475"/>
                    </a:lnTo>
                    <a:lnTo>
                      <a:pt x="162" y="499"/>
                    </a:lnTo>
                    <a:lnTo>
                      <a:pt x="165" y="518"/>
                    </a:lnTo>
                    <a:lnTo>
                      <a:pt x="168" y="534"/>
                    </a:lnTo>
                    <a:lnTo>
                      <a:pt x="170" y="545"/>
                    </a:lnTo>
                    <a:lnTo>
                      <a:pt x="175" y="613"/>
                    </a:lnTo>
                    <a:lnTo>
                      <a:pt x="171" y="673"/>
                    </a:lnTo>
                    <a:lnTo>
                      <a:pt x="160" y="727"/>
                    </a:lnTo>
                    <a:lnTo>
                      <a:pt x="145" y="776"/>
                    </a:lnTo>
                    <a:lnTo>
                      <a:pt x="124" y="822"/>
                    </a:lnTo>
                    <a:lnTo>
                      <a:pt x="100" y="867"/>
                    </a:lnTo>
                    <a:lnTo>
                      <a:pt x="73" y="911"/>
                    </a:lnTo>
                    <a:lnTo>
                      <a:pt x="46" y="957"/>
                    </a:lnTo>
                    <a:lnTo>
                      <a:pt x="34" y="980"/>
                    </a:lnTo>
                    <a:lnTo>
                      <a:pt x="23" y="1008"/>
                    </a:lnTo>
                    <a:lnTo>
                      <a:pt x="13" y="1039"/>
                    </a:lnTo>
                    <a:lnTo>
                      <a:pt x="5" y="1074"/>
                    </a:lnTo>
                    <a:lnTo>
                      <a:pt x="1" y="1112"/>
                    </a:lnTo>
                    <a:lnTo>
                      <a:pt x="0" y="1151"/>
                    </a:lnTo>
                    <a:lnTo>
                      <a:pt x="1" y="1192"/>
                    </a:lnTo>
                    <a:lnTo>
                      <a:pt x="8" y="1236"/>
                    </a:lnTo>
                    <a:lnTo>
                      <a:pt x="18" y="1280"/>
                    </a:lnTo>
                    <a:lnTo>
                      <a:pt x="34" y="1324"/>
                    </a:lnTo>
                    <a:lnTo>
                      <a:pt x="56" y="1369"/>
                    </a:lnTo>
                    <a:lnTo>
                      <a:pt x="85" y="1412"/>
                    </a:lnTo>
                    <a:lnTo>
                      <a:pt x="119" y="1455"/>
                    </a:lnTo>
                    <a:lnTo>
                      <a:pt x="163" y="1496"/>
                    </a:lnTo>
                    <a:lnTo>
                      <a:pt x="214" y="1537"/>
                    </a:lnTo>
                    <a:lnTo>
                      <a:pt x="273" y="1574"/>
                    </a:lnTo>
                    <a:lnTo>
                      <a:pt x="290" y="1583"/>
                    </a:lnTo>
                    <a:lnTo>
                      <a:pt x="308" y="1591"/>
                    </a:lnTo>
                    <a:lnTo>
                      <a:pt x="327" y="1598"/>
                    </a:lnTo>
                    <a:lnTo>
                      <a:pt x="346" y="1604"/>
                    </a:lnTo>
                    <a:lnTo>
                      <a:pt x="365" y="1609"/>
                    </a:lnTo>
                    <a:lnTo>
                      <a:pt x="384" y="1615"/>
                    </a:lnTo>
                    <a:lnTo>
                      <a:pt x="403" y="1621"/>
                    </a:lnTo>
                    <a:lnTo>
                      <a:pt x="422" y="1627"/>
                    </a:lnTo>
                    <a:lnTo>
                      <a:pt x="441" y="1634"/>
                    </a:lnTo>
                    <a:lnTo>
                      <a:pt x="458" y="1640"/>
                    </a:lnTo>
                    <a:lnTo>
                      <a:pt x="476" y="1649"/>
                    </a:lnTo>
                    <a:lnTo>
                      <a:pt x="492" y="1658"/>
                    </a:lnTo>
                    <a:lnTo>
                      <a:pt x="509" y="1668"/>
                    </a:lnTo>
                    <a:lnTo>
                      <a:pt x="522" y="1680"/>
                    </a:lnTo>
                    <a:lnTo>
                      <a:pt x="536" y="1693"/>
                    </a:lnTo>
                    <a:lnTo>
                      <a:pt x="549" y="1710"/>
                    </a:lnTo>
                    <a:lnTo>
                      <a:pt x="559" y="1725"/>
                    </a:lnTo>
                    <a:lnTo>
                      <a:pt x="570" y="1740"/>
                    </a:lnTo>
                    <a:lnTo>
                      <a:pt x="580" y="1756"/>
                    </a:lnTo>
                    <a:lnTo>
                      <a:pt x="590" y="1771"/>
                    </a:lnTo>
                    <a:lnTo>
                      <a:pt x="601" y="1787"/>
                    </a:lnTo>
                    <a:lnTo>
                      <a:pt x="611" y="1802"/>
                    </a:lnTo>
                    <a:lnTo>
                      <a:pt x="621" y="1817"/>
                    </a:lnTo>
                    <a:lnTo>
                      <a:pt x="633" y="1832"/>
                    </a:lnTo>
                    <a:lnTo>
                      <a:pt x="644" y="1847"/>
                    </a:lnTo>
                    <a:lnTo>
                      <a:pt x="656" y="1860"/>
                    </a:lnTo>
                    <a:lnTo>
                      <a:pt x="669" y="1874"/>
                    </a:lnTo>
                    <a:lnTo>
                      <a:pt x="681" y="1887"/>
                    </a:lnTo>
                    <a:lnTo>
                      <a:pt x="695" y="1900"/>
                    </a:lnTo>
                    <a:lnTo>
                      <a:pt x="709" y="1910"/>
                    </a:lnTo>
                    <a:lnTo>
                      <a:pt x="725" y="1920"/>
                    </a:lnTo>
                    <a:lnTo>
                      <a:pt x="741" y="1930"/>
                    </a:lnTo>
                    <a:lnTo>
                      <a:pt x="755" y="1935"/>
                    </a:lnTo>
                    <a:lnTo>
                      <a:pt x="769" y="1940"/>
                    </a:lnTo>
                    <a:lnTo>
                      <a:pt x="784" y="1943"/>
                    </a:lnTo>
                    <a:lnTo>
                      <a:pt x="799" y="1948"/>
                    </a:lnTo>
                    <a:lnTo>
                      <a:pt x="812" y="1950"/>
                    </a:lnTo>
                    <a:lnTo>
                      <a:pt x="827" y="1954"/>
                    </a:lnTo>
                    <a:lnTo>
                      <a:pt x="842" y="1956"/>
                    </a:lnTo>
                    <a:lnTo>
                      <a:pt x="857" y="1957"/>
                    </a:lnTo>
                    <a:lnTo>
                      <a:pt x="872" y="1957"/>
                    </a:lnTo>
                    <a:lnTo>
                      <a:pt x="887" y="1957"/>
                    </a:lnTo>
                    <a:lnTo>
                      <a:pt x="901" y="1957"/>
                    </a:lnTo>
                    <a:lnTo>
                      <a:pt x="916" y="1955"/>
                    </a:lnTo>
                    <a:lnTo>
                      <a:pt x="931" y="1954"/>
                    </a:lnTo>
                    <a:lnTo>
                      <a:pt x="945" y="1950"/>
                    </a:lnTo>
                    <a:lnTo>
                      <a:pt x="959" y="1946"/>
                    </a:lnTo>
                    <a:lnTo>
                      <a:pt x="972" y="1941"/>
                    </a:lnTo>
                    <a:lnTo>
                      <a:pt x="986" y="1935"/>
                    </a:lnTo>
                    <a:lnTo>
                      <a:pt x="999" y="1928"/>
                    </a:lnTo>
                    <a:lnTo>
                      <a:pt x="1013" y="1922"/>
                    </a:lnTo>
                    <a:lnTo>
                      <a:pt x="1025" y="1915"/>
                    </a:lnTo>
                    <a:lnTo>
                      <a:pt x="1037" y="1907"/>
                    </a:lnTo>
                    <a:lnTo>
                      <a:pt x="1050" y="1899"/>
                    </a:lnTo>
                    <a:lnTo>
                      <a:pt x="1062" y="1890"/>
                    </a:lnTo>
                    <a:lnTo>
                      <a:pt x="1074" y="1882"/>
                    </a:lnTo>
                    <a:lnTo>
                      <a:pt x="1086" y="1874"/>
                    </a:lnTo>
                    <a:lnTo>
                      <a:pt x="1098" y="1866"/>
                    </a:lnTo>
                    <a:lnTo>
                      <a:pt x="1111" y="1859"/>
                    </a:lnTo>
                    <a:lnTo>
                      <a:pt x="1123" y="1851"/>
                    </a:lnTo>
                    <a:lnTo>
                      <a:pt x="1136" y="1844"/>
                    </a:lnTo>
                    <a:lnTo>
                      <a:pt x="1149" y="1839"/>
                    </a:lnTo>
                    <a:lnTo>
                      <a:pt x="1162" y="1833"/>
                    </a:lnTo>
                    <a:lnTo>
                      <a:pt x="1176" y="1828"/>
                    </a:lnTo>
                    <a:lnTo>
                      <a:pt x="1211" y="1820"/>
                    </a:lnTo>
                    <a:lnTo>
                      <a:pt x="1245" y="1818"/>
                    </a:lnTo>
                    <a:lnTo>
                      <a:pt x="1280" y="1820"/>
                    </a:lnTo>
                    <a:lnTo>
                      <a:pt x="1314" y="1825"/>
                    </a:lnTo>
                    <a:lnTo>
                      <a:pt x="1350" y="1832"/>
                    </a:lnTo>
                    <a:lnTo>
                      <a:pt x="1385" y="1840"/>
                    </a:lnTo>
                    <a:lnTo>
                      <a:pt x="1420" y="1848"/>
                    </a:lnTo>
                    <a:lnTo>
                      <a:pt x="1456" y="1855"/>
                    </a:lnTo>
                    <a:lnTo>
                      <a:pt x="1492" y="1859"/>
                    </a:lnTo>
                    <a:lnTo>
                      <a:pt x="1526" y="1860"/>
                    </a:lnTo>
                    <a:lnTo>
                      <a:pt x="1562" y="1857"/>
                    </a:lnTo>
                    <a:lnTo>
                      <a:pt x="1596" y="1849"/>
                    </a:lnTo>
                    <a:lnTo>
                      <a:pt x="1632" y="1833"/>
                    </a:lnTo>
                    <a:lnTo>
                      <a:pt x="1667" y="1810"/>
                    </a:lnTo>
                    <a:lnTo>
                      <a:pt x="1701" y="1779"/>
                    </a:lnTo>
                    <a:lnTo>
                      <a:pt x="1735" y="1737"/>
                    </a:lnTo>
                    <a:lnTo>
                      <a:pt x="1753" y="1708"/>
                    </a:lnTo>
                    <a:lnTo>
                      <a:pt x="1769" y="1677"/>
                    </a:lnTo>
                    <a:lnTo>
                      <a:pt x="1784" y="1645"/>
                    </a:lnTo>
                    <a:lnTo>
                      <a:pt x="1798" y="1613"/>
                    </a:lnTo>
                    <a:lnTo>
                      <a:pt x="1812" y="1582"/>
                    </a:lnTo>
                    <a:lnTo>
                      <a:pt x="1828" y="1551"/>
                    </a:lnTo>
                    <a:lnTo>
                      <a:pt x="1847" y="1521"/>
                    </a:lnTo>
                    <a:lnTo>
                      <a:pt x="1870" y="1494"/>
                    </a:lnTo>
                    <a:lnTo>
                      <a:pt x="1887" y="1480"/>
                    </a:lnTo>
                    <a:lnTo>
                      <a:pt x="1903" y="1468"/>
                    </a:lnTo>
                    <a:lnTo>
                      <a:pt x="1919" y="1456"/>
                    </a:lnTo>
                    <a:lnTo>
                      <a:pt x="1936" y="1443"/>
                    </a:lnTo>
                    <a:lnTo>
                      <a:pt x="1953" y="1433"/>
                    </a:lnTo>
                    <a:lnTo>
                      <a:pt x="1971" y="1422"/>
                    </a:lnTo>
                    <a:lnTo>
                      <a:pt x="1988" y="1410"/>
                    </a:lnTo>
                    <a:lnTo>
                      <a:pt x="2004" y="1398"/>
                    </a:lnTo>
                    <a:lnTo>
                      <a:pt x="2021" y="1387"/>
                    </a:lnTo>
                    <a:lnTo>
                      <a:pt x="2039" y="1375"/>
                    </a:lnTo>
                    <a:lnTo>
                      <a:pt x="2055" y="1363"/>
                    </a:lnTo>
                    <a:lnTo>
                      <a:pt x="2071" y="1350"/>
                    </a:lnTo>
                    <a:lnTo>
                      <a:pt x="2087" y="1337"/>
                    </a:lnTo>
                    <a:lnTo>
                      <a:pt x="2102" y="1322"/>
                    </a:lnTo>
                    <a:lnTo>
                      <a:pt x="2117" y="1307"/>
                    </a:lnTo>
                    <a:lnTo>
                      <a:pt x="2131" y="1291"/>
                    </a:lnTo>
                    <a:lnTo>
                      <a:pt x="2146" y="1265"/>
                    </a:lnTo>
                    <a:lnTo>
                      <a:pt x="2158" y="1238"/>
                    </a:lnTo>
                    <a:lnTo>
                      <a:pt x="2168" y="1211"/>
                    </a:lnTo>
                    <a:lnTo>
                      <a:pt x="2173" y="1182"/>
                    </a:lnTo>
                    <a:lnTo>
                      <a:pt x="2177" y="1153"/>
                    </a:lnTo>
                    <a:lnTo>
                      <a:pt x="2178" y="1124"/>
                    </a:lnTo>
                    <a:lnTo>
                      <a:pt x="2174" y="1094"/>
                    </a:lnTo>
                    <a:lnTo>
                      <a:pt x="2170" y="1064"/>
                    </a:lnTo>
                    <a:lnTo>
                      <a:pt x="2164" y="1038"/>
                    </a:lnTo>
                    <a:lnTo>
                      <a:pt x="2156" y="1013"/>
                    </a:lnTo>
                    <a:lnTo>
                      <a:pt x="2147" y="988"/>
                    </a:lnTo>
                    <a:lnTo>
                      <a:pt x="2134" y="964"/>
                    </a:lnTo>
                    <a:lnTo>
                      <a:pt x="2121" y="942"/>
                    </a:lnTo>
                    <a:lnTo>
                      <a:pt x="2106" y="920"/>
                    </a:lnTo>
                    <a:lnTo>
                      <a:pt x="2090" y="898"/>
                    </a:lnTo>
                    <a:lnTo>
                      <a:pt x="2074" y="878"/>
                    </a:lnTo>
                    <a:lnTo>
                      <a:pt x="2055" y="855"/>
                    </a:lnTo>
                    <a:lnTo>
                      <a:pt x="2035" y="833"/>
                    </a:lnTo>
                    <a:lnTo>
                      <a:pt x="2017" y="811"/>
                    </a:lnTo>
                    <a:lnTo>
                      <a:pt x="1999" y="788"/>
                    </a:lnTo>
                    <a:lnTo>
                      <a:pt x="1983" y="765"/>
                    </a:lnTo>
                    <a:lnTo>
                      <a:pt x="1971" y="741"/>
                    </a:lnTo>
                    <a:lnTo>
                      <a:pt x="1960" y="714"/>
                    </a:lnTo>
                    <a:lnTo>
                      <a:pt x="1955" y="685"/>
                    </a:lnTo>
                    <a:lnTo>
                      <a:pt x="1952" y="648"/>
                    </a:lnTo>
                    <a:lnTo>
                      <a:pt x="1955" y="612"/>
                    </a:lnTo>
                    <a:lnTo>
                      <a:pt x="1958" y="576"/>
                    </a:lnTo>
                    <a:lnTo>
                      <a:pt x="1964" y="540"/>
                    </a:lnTo>
                    <a:lnTo>
                      <a:pt x="1969" y="503"/>
                    </a:lnTo>
                    <a:lnTo>
                      <a:pt x="1976" y="468"/>
                    </a:lnTo>
                    <a:lnTo>
                      <a:pt x="1981" y="430"/>
                    </a:lnTo>
                    <a:lnTo>
                      <a:pt x="1983" y="392"/>
                    </a:lnTo>
                    <a:lnTo>
                      <a:pt x="1981" y="333"/>
                    </a:lnTo>
                    <a:lnTo>
                      <a:pt x="1972" y="280"/>
                    </a:lnTo>
                    <a:lnTo>
                      <a:pt x="1957" y="233"/>
                    </a:lnTo>
                    <a:lnTo>
                      <a:pt x="1935" y="191"/>
                    </a:lnTo>
                    <a:lnTo>
                      <a:pt x="1910" y="154"/>
                    </a:lnTo>
                    <a:lnTo>
                      <a:pt x="1880" y="124"/>
                    </a:lnTo>
                    <a:lnTo>
                      <a:pt x="1846" y="98"/>
                    </a:lnTo>
                    <a:lnTo>
                      <a:pt x="1812" y="76"/>
                    </a:lnTo>
                    <a:lnTo>
                      <a:pt x="1776" y="59"/>
                    </a:lnTo>
                    <a:lnTo>
                      <a:pt x="1740" y="45"/>
                    </a:lnTo>
                    <a:lnTo>
                      <a:pt x="1705" y="34"/>
                    </a:lnTo>
                    <a:lnTo>
                      <a:pt x="1671" y="29"/>
                    </a:lnTo>
                    <a:lnTo>
                      <a:pt x="1640" y="25"/>
                    </a:lnTo>
                    <a:lnTo>
                      <a:pt x="1614" y="24"/>
                    </a:lnTo>
                    <a:lnTo>
                      <a:pt x="1590" y="26"/>
                    </a:lnTo>
                    <a:lnTo>
                      <a:pt x="1572" y="30"/>
                    </a:lnTo>
                    <a:lnTo>
                      <a:pt x="1534" y="41"/>
                    </a:lnTo>
                    <a:lnTo>
                      <a:pt x="1499" y="49"/>
                    </a:lnTo>
                    <a:lnTo>
                      <a:pt x="1465" y="55"/>
                    </a:lnTo>
                    <a:lnTo>
                      <a:pt x="1434" y="59"/>
                    </a:lnTo>
                    <a:lnTo>
                      <a:pt x="1404" y="60"/>
                    </a:lnTo>
                    <a:lnTo>
                      <a:pt x="1378" y="60"/>
                    </a:lnTo>
                    <a:lnTo>
                      <a:pt x="1354" y="59"/>
                    </a:lnTo>
                    <a:lnTo>
                      <a:pt x="1331" y="55"/>
                    </a:lnTo>
                    <a:lnTo>
                      <a:pt x="1310" y="52"/>
                    </a:lnTo>
                    <a:lnTo>
                      <a:pt x="1291" y="47"/>
                    </a:lnTo>
                    <a:lnTo>
                      <a:pt x="1275" y="42"/>
                    </a:lnTo>
                    <a:lnTo>
                      <a:pt x="1260" y="38"/>
                    </a:lnTo>
                    <a:lnTo>
                      <a:pt x="1248" y="33"/>
                    </a:lnTo>
                    <a:lnTo>
                      <a:pt x="1237" y="30"/>
                    </a:lnTo>
                    <a:lnTo>
                      <a:pt x="1228" y="26"/>
                    </a:lnTo>
                    <a:lnTo>
                      <a:pt x="1221" y="24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178600" y="3738240"/>
                <a:ext cx="77040" cy="5724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0" y="0"/>
                    </a:moveTo>
                    <a:lnTo>
                      <a:pt x="0" y="32"/>
                    </a:lnTo>
                    <a:lnTo>
                      <a:pt x="1" y="38"/>
                    </a:lnTo>
                    <a:lnTo>
                      <a:pt x="4" y="50"/>
                    </a:lnTo>
                    <a:lnTo>
                      <a:pt x="7" y="61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9" y="66"/>
                    </a:lnTo>
                    <a:lnTo>
                      <a:pt x="23" y="66"/>
                    </a:lnTo>
                    <a:lnTo>
                      <a:pt x="25" y="66"/>
                    </a:lnTo>
                    <a:lnTo>
                      <a:pt x="33" y="51"/>
                    </a:lnTo>
                    <a:lnTo>
                      <a:pt x="43" y="62"/>
                    </a:lnTo>
                    <a:lnTo>
                      <a:pt x="45" y="59"/>
                    </a:lnTo>
                    <a:lnTo>
                      <a:pt x="48" y="50"/>
                    </a:lnTo>
                    <a:lnTo>
                      <a:pt x="51" y="38"/>
                    </a:lnTo>
                    <a:lnTo>
                      <a:pt x="50" y="2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877280" y="3744720"/>
                <a:ext cx="438480" cy="238320"/>
              </a:xfrm>
              <a:custGeom>
                <a:avLst/>
                <a:gdLst/>
                <a:ahLst/>
                <a:rect l="l" t="t" r="r" b="b"/>
                <a:pathLst>
                  <a:path w="281" h="264">
                    <a:moveTo>
                      <a:pt x="223" y="93"/>
                    </a:moveTo>
                    <a:lnTo>
                      <a:pt x="244" y="67"/>
                    </a:lnTo>
                    <a:lnTo>
                      <a:pt x="224" y="53"/>
                    </a:lnTo>
                    <a:lnTo>
                      <a:pt x="218" y="65"/>
                    </a:lnTo>
                    <a:lnTo>
                      <a:pt x="224" y="69"/>
                    </a:lnTo>
                    <a:lnTo>
                      <a:pt x="212" y="84"/>
                    </a:lnTo>
                    <a:lnTo>
                      <a:pt x="152" y="42"/>
                    </a:lnTo>
                    <a:lnTo>
                      <a:pt x="167" y="27"/>
                    </a:lnTo>
                    <a:lnTo>
                      <a:pt x="176" y="34"/>
                    </a:lnTo>
                    <a:lnTo>
                      <a:pt x="184" y="23"/>
                    </a:lnTo>
                    <a:lnTo>
                      <a:pt x="166" y="10"/>
                    </a:lnTo>
                    <a:lnTo>
                      <a:pt x="142" y="34"/>
                    </a:lnTo>
                    <a:lnTo>
                      <a:pt x="94" y="0"/>
                    </a:lnTo>
                    <a:lnTo>
                      <a:pt x="0" y="118"/>
                    </a:lnTo>
                    <a:lnTo>
                      <a:pt x="189" y="264"/>
                    </a:lnTo>
                    <a:lnTo>
                      <a:pt x="281" y="134"/>
                    </a:lnTo>
                    <a:lnTo>
                      <a:pt x="223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68160" y="3119040"/>
                <a:ext cx="7210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>
                <a:off x="7246440" y="3346200"/>
                <a:ext cx="102600" cy="78120"/>
              </a:xfrm>
              <a:custGeom>
                <a:avLst/>
                <a:gdLst/>
                <a:ahLst/>
                <a:rect l="l" t="t" r="r" b="b"/>
                <a:pathLst>
                  <a:path w="66" h="85">
                    <a:moveTo>
                      <a:pt x="51" y="44"/>
                    </a:moveTo>
                    <a:lnTo>
                      <a:pt x="66" y="31"/>
                    </a:lnTo>
                    <a:lnTo>
                      <a:pt x="49" y="33"/>
                    </a:lnTo>
                    <a:lnTo>
                      <a:pt x="62" y="10"/>
                    </a:lnTo>
                    <a:lnTo>
                      <a:pt x="41" y="25"/>
                    </a:lnTo>
                    <a:lnTo>
                      <a:pt x="40" y="0"/>
                    </a:lnTo>
                    <a:lnTo>
                      <a:pt x="23" y="35"/>
                    </a:lnTo>
                    <a:lnTo>
                      <a:pt x="11" y="15"/>
                    </a:lnTo>
                    <a:lnTo>
                      <a:pt x="12" y="47"/>
                    </a:lnTo>
                    <a:lnTo>
                      <a:pt x="0" y="74"/>
                    </a:lnTo>
                    <a:lnTo>
                      <a:pt x="26" y="85"/>
                    </a:lnTo>
                    <a:lnTo>
                      <a:pt x="33" y="66"/>
                    </a:lnTo>
                    <a:lnTo>
                      <a:pt x="39" y="63"/>
                    </a:lnTo>
                    <a:lnTo>
                      <a:pt x="43" y="60"/>
                    </a:lnTo>
                    <a:lnTo>
                      <a:pt x="48" y="56"/>
                    </a:lnTo>
                    <a:lnTo>
                      <a:pt x="50" y="52"/>
                    </a:lnTo>
                    <a:lnTo>
                      <a:pt x="65" y="47"/>
                    </a:lnTo>
                    <a:lnTo>
                      <a:pt x="5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225400" y="3419640"/>
                <a:ext cx="2127960" cy="958320"/>
              </a:xfrm>
              <a:custGeom>
                <a:avLst/>
                <a:gdLst/>
                <a:ahLst/>
                <a:rect l="l" t="t" r="r" b="b"/>
                <a:pathLst>
                  <a:path w="1358" h="1062">
                    <a:moveTo>
                      <a:pt x="1031" y="418"/>
                    </a:moveTo>
                    <a:lnTo>
                      <a:pt x="1040" y="374"/>
                    </a:lnTo>
                    <a:lnTo>
                      <a:pt x="1042" y="329"/>
                    </a:lnTo>
                    <a:lnTo>
                      <a:pt x="1039" y="287"/>
                    </a:lnTo>
                    <a:lnTo>
                      <a:pt x="1031" y="246"/>
                    </a:lnTo>
                    <a:lnTo>
                      <a:pt x="1048" y="247"/>
                    </a:lnTo>
                    <a:lnTo>
                      <a:pt x="1064" y="249"/>
                    </a:lnTo>
                    <a:lnTo>
                      <a:pt x="1081" y="250"/>
                    </a:lnTo>
                    <a:lnTo>
                      <a:pt x="1097" y="250"/>
                    </a:lnTo>
                    <a:lnTo>
                      <a:pt x="1113" y="249"/>
                    </a:lnTo>
                    <a:lnTo>
                      <a:pt x="1130" y="245"/>
                    </a:lnTo>
                    <a:lnTo>
                      <a:pt x="1146" y="239"/>
                    </a:lnTo>
                    <a:lnTo>
                      <a:pt x="1162" y="231"/>
                    </a:lnTo>
                    <a:lnTo>
                      <a:pt x="1179" y="220"/>
                    </a:lnTo>
                    <a:lnTo>
                      <a:pt x="1196" y="206"/>
                    </a:lnTo>
                    <a:lnTo>
                      <a:pt x="1214" y="188"/>
                    </a:lnTo>
                    <a:lnTo>
                      <a:pt x="1233" y="166"/>
                    </a:lnTo>
                    <a:lnTo>
                      <a:pt x="1252" y="138"/>
                    </a:lnTo>
                    <a:lnTo>
                      <a:pt x="1272" y="107"/>
                    </a:lnTo>
                    <a:lnTo>
                      <a:pt x="1294" y="70"/>
                    </a:lnTo>
                    <a:lnTo>
                      <a:pt x="1317" y="27"/>
                    </a:lnTo>
                    <a:lnTo>
                      <a:pt x="1277" y="0"/>
                    </a:lnTo>
                    <a:lnTo>
                      <a:pt x="1276" y="2"/>
                    </a:lnTo>
                    <a:lnTo>
                      <a:pt x="1272" y="9"/>
                    </a:lnTo>
                    <a:lnTo>
                      <a:pt x="1267" y="19"/>
                    </a:lnTo>
                    <a:lnTo>
                      <a:pt x="1259" y="31"/>
                    </a:lnTo>
                    <a:lnTo>
                      <a:pt x="1247" y="46"/>
                    </a:lnTo>
                    <a:lnTo>
                      <a:pt x="1233" y="60"/>
                    </a:lnTo>
                    <a:lnTo>
                      <a:pt x="1216" y="73"/>
                    </a:lnTo>
                    <a:lnTo>
                      <a:pt x="1196" y="86"/>
                    </a:lnTo>
                    <a:lnTo>
                      <a:pt x="1172" y="98"/>
                    </a:lnTo>
                    <a:lnTo>
                      <a:pt x="1146" y="105"/>
                    </a:lnTo>
                    <a:lnTo>
                      <a:pt x="1115" y="108"/>
                    </a:lnTo>
                    <a:lnTo>
                      <a:pt x="1079" y="107"/>
                    </a:lnTo>
                    <a:lnTo>
                      <a:pt x="1040" y="99"/>
                    </a:lnTo>
                    <a:lnTo>
                      <a:pt x="997" y="85"/>
                    </a:lnTo>
                    <a:lnTo>
                      <a:pt x="949" y="63"/>
                    </a:lnTo>
                    <a:lnTo>
                      <a:pt x="897" y="32"/>
                    </a:lnTo>
                    <a:lnTo>
                      <a:pt x="888" y="27"/>
                    </a:lnTo>
                    <a:lnTo>
                      <a:pt x="875" y="23"/>
                    </a:lnTo>
                    <a:lnTo>
                      <a:pt x="860" y="19"/>
                    </a:lnTo>
                    <a:lnTo>
                      <a:pt x="844" y="17"/>
                    </a:lnTo>
                    <a:lnTo>
                      <a:pt x="826" y="16"/>
                    </a:lnTo>
                    <a:lnTo>
                      <a:pt x="805" y="15"/>
                    </a:lnTo>
                    <a:lnTo>
                      <a:pt x="784" y="14"/>
                    </a:lnTo>
                    <a:lnTo>
                      <a:pt x="762" y="14"/>
                    </a:lnTo>
                    <a:lnTo>
                      <a:pt x="739" y="14"/>
                    </a:lnTo>
                    <a:lnTo>
                      <a:pt x="716" y="15"/>
                    </a:lnTo>
                    <a:lnTo>
                      <a:pt x="693" y="15"/>
                    </a:lnTo>
                    <a:lnTo>
                      <a:pt x="671" y="16"/>
                    </a:lnTo>
                    <a:lnTo>
                      <a:pt x="649" y="17"/>
                    </a:lnTo>
                    <a:lnTo>
                      <a:pt x="629" y="19"/>
                    </a:lnTo>
                    <a:lnTo>
                      <a:pt x="609" y="20"/>
                    </a:lnTo>
                    <a:lnTo>
                      <a:pt x="591" y="22"/>
                    </a:lnTo>
                    <a:lnTo>
                      <a:pt x="557" y="20"/>
                    </a:lnTo>
                    <a:lnTo>
                      <a:pt x="521" y="19"/>
                    </a:lnTo>
                    <a:lnTo>
                      <a:pt x="479" y="19"/>
                    </a:lnTo>
                    <a:lnTo>
                      <a:pt x="434" y="22"/>
                    </a:lnTo>
                    <a:lnTo>
                      <a:pt x="388" y="25"/>
                    </a:lnTo>
                    <a:lnTo>
                      <a:pt x="341" y="31"/>
                    </a:lnTo>
                    <a:lnTo>
                      <a:pt x="294" y="40"/>
                    </a:lnTo>
                    <a:lnTo>
                      <a:pt x="247" y="52"/>
                    </a:lnTo>
                    <a:lnTo>
                      <a:pt x="200" y="68"/>
                    </a:lnTo>
                    <a:lnTo>
                      <a:pt x="158" y="88"/>
                    </a:lnTo>
                    <a:lnTo>
                      <a:pt x="119" y="114"/>
                    </a:lnTo>
                    <a:lnTo>
                      <a:pt x="83" y="145"/>
                    </a:lnTo>
                    <a:lnTo>
                      <a:pt x="52" y="181"/>
                    </a:lnTo>
                    <a:lnTo>
                      <a:pt x="28" y="224"/>
                    </a:lnTo>
                    <a:lnTo>
                      <a:pt x="11" y="274"/>
                    </a:lnTo>
                    <a:lnTo>
                      <a:pt x="0" y="330"/>
                    </a:lnTo>
                    <a:lnTo>
                      <a:pt x="28" y="356"/>
                    </a:lnTo>
                    <a:lnTo>
                      <a:pt x="29" y="352"/>
                    </a:lnTo>
                    <a:lnTo>
                      <a:pt x="32" y="344"/>
                    </a:lnTo>
                    <a:lnTo>
                      <a:pt x="37" y="330"/>
                    </a:lnTo>
                    <a:lnTo>
                      <a:pt x="46" y="314"/>
                    </a:lnTo>
                    <a:lnTo>
                      <a:pt x="57" y="297"/>
                    </a:lnTo>
                    <a:lnTo>
                      <a:pt x="72" y="277"/>
                    </a:lnTo>
                    <a:lnTo>
                      <a:pt x="90" y="259"/>
                    </a:lnTo>
                    <a:lnTo>
                      <a:pt x="112" y="243"/>
                    </a:lnTo>
                    <a:lnTo>
                      <a:pt x="138" y="229"/>
                    </a:lnTo>
                    <a:lnTo>
                      <a:pt x="168" y="220"/>
                    </a:lnTo>
                    <a:lnTo>
                      <a:pt x="204" y="215"/>
                    </a:lnTo>
                    <a:lnTo>
                      <a:pt x="244" y="218"/>
                    </a:lnTo>
                    <a:lnTo>
                      <a:pt x="289" y="227"/>
                    </a:lnTo>
                    <a:lnTo>
                      <a:pt x="341" y="246"/>
                    </a:lnTo>
                    <a:lnTo>
                      <a:pt x="397" y="275"/>
                    </a:lnTo>
                    <a:lnTo>
                      <a:pt x="461" y="315"/>
                    </a:lnTo>
                    <a:lnTo>
                      <a:pt x="472" y="329"/>
                    </a:lnTo>
                    <a:lnTo>
                      <a:pt x="486" y="349"/>
                    </a:lnTo>
                    <a:lnTo>
                      <a:pt x="501" y="373"/>
                    </a:lnTo>
                    <a:lnTo>
                      <a:pt x="515" y="401"/>
                    </a:lnTo>
                    <a:lnTo>
                      <a:pt x="524" y="431"/>
                    </a:lnTo>
                    <a:lnTo>
                      <a:pt x="529" y="461"/>
                    </a:lnTo>
                    <a:lnTo>
                      <a:pt x="526" y="492"/>
                    </a:lnTo>
                    <a:lnTo>
                      <a:pt x="514" y="521"/>
                    </a:lnTo>
                    <a:lnTo>
                      <a:pt x="493" y="553"/>
                    </a:lnTo>
                    <a:lnTo>
                      <a:pt x="474" y="580"/>
                    </a:lnTo>
                    <a:lnTo>
                      <a:pt x="457" y="606"/>
                    </a:lnTo>
                    <a:lnTo>
                      <a:pt x="442" y="626"/>
                    </a:lnTo>
                    <a:lnTo>
                      <a:pt x="431" y="643"/>
                    </a:lnTo>
                    <a:lnTo>
                      <a:pt x="422" y="655"/>
                    </a:lnTo>
                    <a:lnTo>
                      <a:pt x="416" y="663"/>
                    </a:lnTo>
                    <a:lnTo>
                      <a:pt x="413" y="666"/>
                    </a:lnTo>
                    <a:lnTo>
                      <a:pt x="510" y="638"/>
                    </a:lnTo>
                    <a:lnTo>
                      <a:pt x="508" y="658"/>
                    </a:lnTo>
                    <a:lnTo>
                      <a:pt x="508" y="676"/>
                    </a:lnTo>
                    <a:lnTo>
                      <a:pt x="510" y="692"/>
                    </a:lnTo>
                    <a:lnTo>
                      <a:pt x="514" y="706"/>
                    </a:lnTo>
                    <a:lnTo>
                      <a:pt x="526" y="741"/>
                    </a:lnTo>
                    <a:lnTo>
                      <a:pt x="530" y="767"/>
                    </a:lnTo>
                    <a:lnTo>
                      <a:pt x="524" y="788"/>
                    </a:lnTo>
                    <a:lnTo>
                      <a:pt x="512" y="803"/>
                    </a:lnTo>
                    <a:lnTo>
                      <a:pt x="495" y="813"/>
                    </a:lnTo>
                    <a:lnTo>
                      <a:pt x="473" y="818"/>
                    </a:lnTo>
                    <a:lnTo>
                      <a:pt x="448" y="820"/>
                    </a:lnTo>
                    <a:lnTo>
                      <a:pt x="420" y="818"/>
                    </a:lnTo>
                    <a:lnTo>
                      <a:pt x="392" y="814"/>
                    </a:lnTo>
                    <a:lnTo>
                      <a:pt x="363" y="809"/>
                    </a:lnTo>
                    <a:lnTo>
                      <a:pt x="335" y="803"/>
                    </a:lnTo>
                    <a:lnTo>
                      <a:pt x="310" y="796"/>
                    </a:lnTo>
                    <a:lnTo>
                      <a:pt x="289" y="789"/>
                    </a:lnTo>
                    <a:lnTo>
                      <a:pt x="272" y="784"/>
                    </a:lnTo>
                    <a:lnTo>
                      <a:pt x="260" y="780"/>
                    </a:lnTo>
                    <a:lnTo>
                      <a:pt x="257" y="779"/>
                    </a:lnTo>
                    <a:lnTo>
                      <a:pt x="230" y="822"/>
                    </a:lnTo>
                    <a:lnTo>
                      <a:pt x="234" y="826"/>
                    </a:lnTo>
                    <a:lnTo>
                      <a:pt x="245" y="836"/>
                    </a:lnTo>
                    <a:lnTo>
                      <a:pt x="264" y="851"/>
                    </a:lnTo>
                    <a:lnTo>
                      <a:pt x="288" y="870"/>
                    </a:lnTo>
                    <a:lnTo>
                      <a:pt x="318" y="891"/>
                    </a:lnTo>
                    <a:lnTo>
                      <a:pt x="351" y="913"/>
                    </a:lnTo>
                    <a:lnTo>
                      <a:pt x="389" y="935"/>
                    </a:lnTo>
                    <a:lnTo>
                      <a:pt x="430" y="956"/>
                    </a:lnTo>
                    <a:lnTo>
                      <a:pt x="473" y="973"/>
                    </a:lnTo>
                    <a:lnTo>
                      <a:pt x="517" y="986"/>
                    </a:lnTo>
                    <a:lnTo>
                      <a:pt x="563" y="993"/>
                    </a:lnTo>
                    <a:lnTo>
                      <a:pt x="609" y="993"/>
                    </a:lnTo>
                    <a:lnTo>
                      <a:pt x="654" y="985"/>
                    </a:lnTo>
                    <a:lnTo>
                      <a:pt x="698" y="968"/>
                    </a:lnTo>
                    <a:lnTo>
                      <a:pt x="739" y="939"/>
                    </a:lnTo>
                    <a:lnTo>
                      <a:pt x="778" y="897"/>
                    </a:lnTo>
                    <a:lnTo>
                      <a:pt x="803" y="863"/>
                    </a:lnTo>
                    <a:lnTo>
                      <a:pt x="821" y="827"/>
                    </a:lnTo>
                    <a:lnTo>
                      <a:pt x="835" y="792"/>
                    </a:lnTo>
                    <a:lnTo>
                      <a:pt x="845" y="760"/>
                    </a:lnTo>
                    <a:lnTo>
                      <a:pt x="853" y="731"/>
                    </a:lnTo>
                    <a:lnTo>
                      <a:pt x="857" y="709"/>
                    </a:lnTo>
                    <a:lnTo>
                      <a:pt x="859" y="696"/>
                    </a:lnTo>
                    <a:lnTo>
                      <a:pt x="860" y="690"/>
                    </a:lnTo>
                    <a:lnTo>
                      <a:pt x="865" y="689"/>
                    </a:lnTo>
                    <a:lnTo>
                      <a:pt x="877" y="685"/>
                    </a:lnTo>
                    <a:lnTo>
                      <a:pt x="897" y="681"/>
                    </a:lnTo>
                    <a:lnTo>
                      <a:pt x="923" y="677"/>
                    </a:lnTo>
                    <a:lnTo>
                      <a:pt x="952" y="674"/>
                    </a:lnTo>
                    <a:lnTo>
                      <a:pt x="986" y="673"/>
                    </a:lnTo>
                    <a:lnTo>
                      <a:pt x="1020" y="676"/>
                    </a:lnTo>
                    <a:lnTo>
                      <a:pt x="1056" y="683"/>
                    </a:lnTo>
                    <a:lnTo>
                      <a:pt x="1090" y="696"/>
                    </a:lnTo>
                    <a:lnTo>
                      <a:pt x="1123" y="714"/>
                    </a:lnTo>
                    <a:lnTo>
                      <a:pt x="1151" y="741"/>
                    </a:lnTo>
                    <a:lnTo>
                      <a:pt x="1176" y="776"/>
                    </a:lnTo>
                    <a:lnTo>
                      <a:pt x="1194" y="821"/>
                    </a:lnTo>
                    <a:lnTo>
                      <a:pt x="1204" y="878"/>
                    </a:lnTo>
                    <a:lnTo>
                      <a:pt x="1207" y="946"/>
                    </a:lnTo>
                    <a:lnTo>
                      <a:pt x="1199" y="1026"/>
                    </a:lnTo>
                    <a:lnTo>
                      <a:pt x="1232" y="1062"/>
                    </a:lnTo>
                    <a:lnTo>
                      <a:pt x="1237" y="1056"/>
                    </a:lnTo>
                    <a:lnTo>
                      <a:pt x="1247" y="1038"/>
                    </a:lnTo>
                    <a:lnTo>
                      <a:pt x="1264" y="1010"/>
                    </a:lnTo>
                    <a:lnTo>
                      <a:pt x="1284" y="974"/>
                    </a:lnTo>
                    <a:lnTo>
                      <a:pt x="1305" y="931"/>
                    </a:lnTo>
                    <a:lnTo>
                      <a:pt x="1324" y="882"/>
                    </a:lnTo>
                    <a:lnTo>
                      <a:pt x="1340" y="829"/>
                    </a:lnTo>
                    <a:lnTo>
                      <a:pt x="1353" y="774"/>
                    </a:lnTo>
                    <a:lnTo>
                      <a:pt x="1358" y="718"/>
                    </a:lnTo>
                    <a:lnTo>
                      <a:pt x="1353" y="662"/>
                    </a:lnTo>
                    <a:lnTo>
                      <a:pt x="1338" y="608"/>
                    </a:lnTo>
                    <a:lnTo>
                      <a:pt x="1310" y="557"/>
                    </a:lnTo>
                    <a:lnTo>
                      <a:pt x="1268" y="511"/>
                    </a:lnTo>
                    <a:lnTo>
                      <a:pt x="1209" y="472"/>
                    </a:lnTo>
                    <a:lnTo>
                      <a:pt x="1130" y="440"/>
                    </a:lnTo>
                    <a:lnTo>
                      <a:pt x="1031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577920" y="3647880"/>
                <a:ext cx="42120" cy="21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6" y="22"/>
                    </a:moveTo>
                    <a:lnTo>
                      <a:pt x="20" y="20"/>
                    </a:lnTo>
                    <a:lnTo>
                      <a:pt x="24" y="16"/>
                    </a:lnTo>
                    <a:lnTo>
                      <a:pt x="25" y="12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632280" y="3742200"/>
                <a:ext cx="38880" cy="21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6" y="22"/>
                    </a:moveTo>
                    <a:lnTo>
                      <a:pt x="21" y="19"/>
                    </a:lnTo>
                    <a:lnTo>
                      <a:pt x="24" y="16"/>
                    </a:lnTo>
                    <a:lnTo>
                      <a:pt x="25" y="11"/>
                    </a:lnTo>
                    <a:lnTo>
                      <a:pt x="25" y="7"/>
                    </a:lnTo>
                    <a:lnTo>
                      <a:pt x="23" y="3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2"/>
                    </a:lnTo>
                    <a:lnTo>
                      <a:pt x="12" y="23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47400" y="3229200"/>
                <a:ext cx="117720" cy="47880"/>
              </a:xfrm>
              <a:custGeom>
                <a:avLst/>
                <a:gdLst/>
                <a:ahLst/>
                <a:rect l="l" t="t" r="r" b="b"/>
                <a:pathLst>
                  <a:path w="74" h="53">
                    <a:moveTo>
                      <a:pt x="12" y="52"/>
                    </a:moveTo>
                    <a:lnTo>
                      <a:pt x="71" y="14"/>
                    </a:lnTo>
                    <a:lnTo>
                      <a:pt x="71" y="14"/>
                    </a:lnTo>
                    <a:lnTo>
                      <a:pt x="73" y="11"/>
                    </a:lnTo>
                    <a:lnTo>
                      <a:pt x="74" y="9"/>
                    </a:lnTo>
                    <a:lnTo>
                      <a:pt x="74" y="6"/>
                    </a:lnTo>
                    <a:lnTo>
                      <a:pt x="73" y="3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0" y="53"/>
                    </a:lnTo>
                    <a:lnTo>
                      <a:pt x="12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685200" y="3314880"/>
                <a:ext cx="170640" cy="15120"/>
              </a:xfrm>
              <a:custGeom>
                <a:avLst/>
                <a:gdLst/>
                <a:ahLst/>
                <a:rect l="l" t="t" r="r" b="b"/>
                <a:pathLst>
                  <a:path w="109" h="18">
                    <a:moveTo>
                      <a:pt x="8" y="18"/>
                    </a:moveTo>
                    <a:lnTo>
                      <a:pt x="101" y="14"/>
                    </a:lnTo>
                    <a:lnTo>
                      <a:pt x="101" y="14"/>
                    </a:lnTo>
                    <a:lnTo>
                      <a:pt x="104" y="13"/>
                    </a:lnTo>
                    <a:lnTo>
                      <a:pt x="107" y="12"/>
                    </a:lnTo>
                    <a:lnTo>
                      <a:pt x="108" y="10"/>
                    </a:lnTo>
                    <a:lnTo>
                      <a:pt x="109" y="7"/>
                    </a:lnTo>
                    <a:lnTo>
                      <a:pt x="108" y="4"/>
                    </a:lnTo>
                    <a:lnTo>
                      <a:pt x="105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672960" y="3371760"/>
                <a:ext cx="116280" cy="30960"/>
              </a:xfrm>
              <a:custGeom>
                <a:avLst/>
                <a:gdLst/>
                <a:ahLst/>
                <a:rect l="l" t="t" r="r" b="b"/>
                <a:pathLst>
                  <a:path w="72" h="34">
                    <a:moveTo>
                      <a:pt x="4" y="13"/>
                    </a:move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9" y="33"/>
                    </a:lnTo>
                    <a:lnTo>
                      <a:pt x="71" y="32"/>
                    </a:lnTo>
                    <a:lnTo>
                      <a:pt x="72" y="30"/>
                    </a:lnTo>
                    <a:lnTo>
                      <a:pt x="72" y="26"/>
                    </a:lnTo>
                    <a:lnTo>
                      <a:pt x="72" y="24"/>
                    </a:lnTo>
                    <a:lnTo>
                      <a:pt x="70" y="21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187320" y="3418920"/>
                <a:ext cx="388440" cy="177120"/>
              </a:xfrm>
              <a:custGeom>
                <a:avLst/>
                <a:gdLst/>
                <a:ahLst/>
                <a:rect l="l" t="t" r="r" b="b"/>
                <a:pathLst>
                  <a:path w="246" h="196">
                    <a:moveTo>
                      <a:pt x="20" y="3"/>
                    </a:moveTo>
                    <a:lnTo>
                      <a:pt x="0" y="22"/>
                    </a:lnTo>
                    <a:lnTo>
                      <a:pt x="2" y="22"/>
                    </a:lnTo>
                    <a:lnTo>
                      <a:pt x="7" y="25"/>
                    </a:lnTo>
                    <a:lnTo>
                      <a:pt x="16" y="27"/>
                    </a:lnTo>
                    <a:lnTo>
                      <a:pt x="28" y="32"/>
                    </a:lnTo>
                    <a:lnTo>
                      <a:pt x="41" y="36"/>
                    </a:lnTo>
                    <a:lnTo>
                      <a:pt x="58" y="43"/>
                    </a:lnTo>
                    <a:lnTo>
                      <a:pt x="75" y="51"/>
                    </a:lnTo>
                    <a:lnTo>
                      <a:pt x="94" y="60"/>
                    </a:lnTo>
                    <a:lnTo>
                      <a:pt x="114" y="72"/>
                    </a:lnTo>
                    <a:lnTo>
                      <a:pt x="135" y="85"/>
                    </a:lnTo>
                    <a:lnTo>
                      <a:pt x="155" y="98"/>
                    </a:lnTo>
                    <a:lnTo>
                      <a:pt x="175" y="115"/>
                    </a:lnTo>
                    <a:lnTo>
                      <a:pt x="195" y="132"/>
                    </a:lnTo>
                    <a:lnTo>
                      <a:pt x="214" y="151"/>
                    </a:lnTo>
                    <a:lnTo>
                      <a:pt x="231" y="173"/>
                    </a:lnTo>
                    <a:lnTo>
                      <a:pt x="246" y="196"/>
                    </a:lnTo>
                    <a:lnTo>
                      <a:pt x="246" y="191"/>
                    </a:lnTo>
                    <a:lnTo>
                      <a:pt x="246" y="177"/>
                    </a:lnTo>
                    <a:lnTo>
                      <a:pt x="244" y="155"/>
                    </a:lnTo>
                    <a:lnTo>
                      <a:pt x="239" y="128"/>
                    </a:lnTo>
                    <a:lnTo>
                      <a:pt x="231" y="98"/>
                    </a:lnTo>
                    <a:lnTo>
                      <a:pt x="219" y="70"/>
                    </a:lnTo>
                    <a:lnTo>
                      <a:pt x="200" y="42"/>
                    </a:lnTo>
                    <a:lnTo>
                      <a:pt x="175" y="19"/>
                    </a:lnTo>
                    <a:lnTo>
                      <a:pt x="143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137640" y="3239640"/>
                <a:ext cx="275040" cy="169200"/>
              </a:xfrm>
              <a:custGeom>
                <a:avLst/>
                <a:gdLst/>
                <a:ahLst/>
                <a:rect l="l" t="t" r="r" b="b"/>
                <a:pathLst>
                  <a:path w="175" h="188">
                    <a:moveTo>
                      <a:pt x="175" y="121"/>
                    </a:moveTo>
                    <a:lnTo>
                      <a:pt x="155" y="96"/>
                    </a:lnTo>
                    <a:lnTo>
                      <a:pt x="146" y="103"/>
                    </a:lnTo>
                    <a:lnTo>
                      <a:pt x="138" y="106"/>
                    </a:lnTo>
                    <a:lnTo>
                      <a:pt x="131" y="106"/>
                    </a:lnTo>
                    <a:lnTo>
                      <a:pt x="124" y="104"/>
                    </a:lnTo>
                    <a:lnTo>
                      <a:pt x="119" y="101"/>
                    </a:lnTo>
                    <a:lnTo>
                      <a:pt x="116" y="97"/>
                    </a:lnTo>
                    <a:lnTo>
                      <a:pt x="115" y="95"/>
                    </a:lnTo>
                    <a:lnTo>
                      <a:pt x="114" y="94"/>
                    </a:lnTo>
                    <a:lnTo>
                      <a:pt x="126" y="94"/>
                    </a:lnTo>
                    <a:lnTo>
                      <a:pt x="136" y="90"/>
                    </a:lnTo>
                    <a:lnTo>
                      <a:pt x="140" y="86"/>
                    </a:lnTo>
                    <a:lnTo>
                      <a:pt x="142" y="81"/>
                    </a:lnTo>
                    <a:lnTo>
                      <a:pt x="136" y="72"/>
                    </a:lnTo>
                    <a:lnTo>
                      <a:pt x="147" y="58"/>
                    </a:lnTo>
                    <a:lnTo>
                      <a:pt x="99" y="26"/>
                    </a:lnTo>
                    <a:lnTo>
                      <a:pt x="107" y="0"/>
                    </a:lnTo>
                    <a:lnTo>
                      <a:pt x="102" y="0"/>
                    </a:lnTo>
                    <a:lnTo>
                      <a:pt x="90" y="3"/>
                    </a:lnTo>
                    <a:lnTo>
                      <a:pt x="72" y="6"/>
                    </a:lnTo>
                    <a:lnTo>
                      <a:pt x="53" y="13"/>
                    </a:lnTo>
                    <a:lnTo>
                      <a:pt x="33" y="24"/>
                    </a:lnTo>
                    <a:lnTo>
                      <a:pt x="16" y="39"/>
                    </a:lnTo>
                    <a:lnTo>
                      <a:pt x="3" y="60"/>
                    </a:lnTo>
                    <a:lnTo>
                      <a:pt x="0" y="88"/>
                    </a:lnTo>
                    <a:lnTo>
                      <a:pt x="7" y="94"/>
                    </a:lnTo>
                    <a:lnTo>
                      <a:pt x="5" y="96"/>
                    </a:lnTo>
                    <a:lnTo>
                      <a:pt x="4" y="102"/>
                    </a:lnTo>
                    <a:lnTo>
                      <a:pt x="3" y="110"/>
                    </a:lnTo>
                    <a:lnTo>
                      <a:pt x="4" y="120"/>
                    </a:lnTo>
                    <a:lnTo>
                      <a:pt x="8" y="130"/>
                    </a:lnTo>
                    <a:lnTo>
                      <a:pt x="17" y="142"/>
                    </a:lnTo>
                    <a:lnTo>
                      <a:pt x="33" y="152"/>
                    </a:lnTo>
                    <a:lnTo>
                      <a:pt x="56" y="160"/>
                    </a:lnTo>
                    <a:lnTo>
                      <a:pt x="72" y="188"/>
                    </a:lnTo>
                    <a:lnTo>
                      <a:pt x="137" y="185"/>
                    </a:lnTo>
                    <a:lnTo>
                      <a:pt x="131" y="145"/>
                    </a:lnTo>
                    <a:lnTo>
                      <a:pt x="17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875920" y="3371760"/>
                <a:ext cx="500400" cy="88560"/>
              </a:xfrm>
              <a:custGeom>
                <a:avLst/>
                <a:gdLst/>
                <a:ahLst/>
                <a:rect l="l" t="t" r="r" b="b"/>
                <a:pathLst>
                  <a:path w="318" h="97">
                    <a:moveTo>
                      <a:pt x="298" y="62"/>
                    </a:moveTo>
                    <a:lnTo>
                      <a:pt x="296" y="76"/>
                    </a:lnTo>
                    <a:lnTo>
                      <a:pt x="293" y="75"/>
                    </a:lnTo>
                    <a:lnTo>
                      <a:pt x="288" y="72"/>
                    </a:lnTo>
                    <a:lnTo>
                      <a:pt x="278" y="69"/>
                    </a:lnTo>
                    <a:lnTo>
                      <a:pt x="266" y="64"/>
                    </a:lnTo>
                    <a:lnTo>
                      <a:pt x="252" y="59"/>
                    </a:lnTo>
                    <a:lnTo>
                      <a:pt x="235" y="53"/>
                    </a:lnTo>
                    <a:lnTo>
                      <a:pt x="216" y="46"/>
                    </a:lnTo>
                    <a:lnTo>
                      <a:pt x="195" y="39"/>
                    </a:lnTo>
                    <a:lnTo>
                      <a:pt x="175" y="32"/>
                    </a:lnTo>
                    <a:lnTo>
                      <a:pt x="153" y="25"/>
                    </a:lnTo>
                    <a:lnTo>
                      <a:pt x="132" y="18"/>
                    </a:lnTo>
                    <a:lnTo>
                      <a:pt x="110" y="12"/>
                    </a:lnTo>
                    <a:lnTo>
                      <a:pt x="91" y="8"/>
                    </a:lnTo>
                    <a:lnTo>
                      <a:pt x="71" y="3"/>
                    </a:lnTo>
                    <a:lnTo>
                      <a:pt x="54" y="1"/>
                    </a:lnTo>
                    <a:lnTo>
                      <a:pt x="38" y="0"/>
                    </a:lnTo>
                    <a:lnTo>
                      <a:pt x="0" y="24"/>
                    </a:lnTo>
                    <a:lnTo>
                      <a:pt x="54" y="46"/>
                    </a:lnTo>
                    <a:lnTo>
                      <a:pt x="56" y="46"/>
                    </a:lnTo>
                    <a:lnTo>
                      <a:pt x="63" y="46"/>
                    </a:lnTo>
                    <a:lnTo>
                      <a:pt x="75" y="47"/>
                    </a:lnTo>
                    <a:lnTo>
                      <a:pt x="88" y="48"/>
                    </a:lnTo>
                    <a:lnTo>
                      <a:pt x="106" y="49"/>
                    </a:lnTo>
                    <a:lnTo>
                      <a:pt x="125" y="52"/>
                    </a:lnTo>
                    <a:lnTo>
                      <a:pt x="146" y="54"/>
                    </a:lnTo>
                    <a:lnTo>
                      <a:pt x="169" y="56"/>
                    </a:lnTo>
                    <a:lnTo>
                      <a:pt x="191" y="60"/>
                    </a:lnTo>
                    <a:lnTo>
                      <a:pt x="214" y="63"/>
                    </a:lnTo>
                    <a:lnTo>
                      <a:pt x="236" y="67"/>
                    </a:lnTo>
                    <a:lnTo>
                      <a:pt x="257" y="71"/>
                    </a:lnTo>
                    <a:lnTo>
                      <a:pt x="276" y="77"/>
                    </a:lnTo>
                    <a:lnTo>
                      <a:pt x="293" y="83"/>
                    </a:lnTo>
                    <a:lnTo>
                      <a:pt x="307" y="90"/>
                    </a:lnTo>
                    <a:lnTo>
                      <a:pt x="318" y="97"/>
                    </a:lnTo>
                    <a:lnTo>
                      <a:pt x="314" y="72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156000" y="3454560"/>
                <a:ext cx="388440" cy="167760"/>
              </a:xfrm>
              <a:custGeom>
                <a:avLst/>
                <a:gdLst/>
                <a:ahLst/>
                <a:rect l="l" t="t" r="r" b="b"/>
                <a:pathLst>
                  <a:path w="248" h="186">
                    <a:moveTo>
                      <a:pt x="244" y="175"/>
                    </a:moveTo>
                    <a:lnTo>
                      <a:pt x="62" y="91"/>
                    </a:lnTo>
                    <a:lnTo>
                      <a:pt x="68" y="44"/>
                    </a:lnTo>
                    <a:lnTo>
                      <a:pt x="14" y="6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0" y="76"/>
                    </a:lnTo>
                    <a:lnTo>
                      <a:pt x="54" y="60"/>
                    </a:lnTo>
                    <a:lnTo>
                      <a:pt x="50" y="99"/>
                    </a:lnTo>
                    <a:lnTo>
                      <a:pt x="239" y="186"/>
                    </a:lnTo>
                    <a:lnTo>
                      <a:pt x="239" y="186"/>
                    </a:lnTo>
                    <a:lnTo>
                      <a:pt x="241" y="186"/>
                    </a:lnTo>
                    <a:lnTo>
                      <a:pt x="243" y="186"/>
                    </a:lnTo>
                    <a:lnTo>
                      <a:pt x="245" y="185"/>
                    </a:lnTo>
                    <a:lnTo>
                      <a:pt x="247" y="183"/>
                    </a:lnTo>
                    <a:lnTo>
                      <a:pt x="248" y="181"/>
                    </a:lnTo>
                    <a:lnTo>
                      <a:pt x="248" y="178"/>
                    </a:lnTo>
                    <a:lnTo>
                      <a:pt x="245" y="177"/>
                    </a:lnTo>
                    <a:lnTo>
                      <a:pt x="244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565680" y="3449880"/>
                <a:ext cx="97920" cy="162000"/>
              </a:xfrm>
              <a:custGeom>
                <a:avLst/>
                <a:gdLst/>
                <a:ahLst/>
                <a:rect l="l" t="t" r="r" b="b"/>
                <a:pathLst>
                  <a:path w="61" h="180">
                    <a:moveTo>
                      <a:pt x="61" y="71"/>
                    </a:moveTo>
                    <a:lnTo>
                      <a:pt x="34" y="54"/>
                    </a:lnTo>
                    <a:lnTo>
                      <a:pt x="53" y="36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4" y="37"/>
                    </a:lnTo>
                    <a:lnTo>
                      <a:pt x="15" y="56"/>
                    </a:lnTo>
                    <a:lnTo>
                      <a:pt x="47" y="76"/>
                    </a:lnTo>
                    <a:lnTo>
                      <a:pt x="26" y="172"/>
                    </a:lnTo>
                    <a:lnTo>
                      <a:pt x="26" y="174"/>
                    </a:lnTo>
                    <a:lnTo>
                      <a:pt x="27" y="176"/>
                    </a:lnTo>
                    <a:lnTo>
                      <a:pt x="28" y="179"/>
                    </a:lnTo>
                    <a:lnTo>
                      <a:pt x="31" y="180"/>
                    </a:lnTo>
                    <a:lnTo>
                      <a:pt x="33" y="180"/>
                    </a:lnTo>
                    <a:lnTo>
                      <a:pt x="35" y="179"/>
                    </a:lnTo>
                    <a:lnTo>
                      <a:pt x="37" y="176"/>
                    </a:lnTo>
                    <a:lnTo>
                      <a:pt x="38" y="175"/>
                    </a:lnTo>
                    <a:lnTo>
                      <a:pt x="38" y="175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61480" y="3280320"/>
                <a:ext cx="42480" cy="2160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6" y="22"/>
                    </a:moveTo>
                    <a:lnTo>
                      <a:pt x="20" y="20"/>
                    </a:lnTo>
                    <a:lnTo>
                      <a:pt x="24" y="16"/>
                    </a:lnTo>
                    <a:lnTo>
                      <a:pt x="25" y="12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01280" y="4773240"/>
                <a:ext cx="112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 Line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18411600">
                <a:off x="5467320" y="4125600"/>
                <a:ext cx="135720" cy="7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3935000">
                <a:off x="7100640" y="4397040"/>
                <a:ext cx="135720" cy="7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2994480" y="4385520"/>
              <a:ext cx="2169720" cy="750240"/>
              <a:chOff x="2994480" y="4385520"/>
              <a:chExt cx="2169720" cy="750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2994480" y="4456800"/>
                <a:ext cx="2105280" cy="316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20797800">
                <a:off x="3079080" y="462240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Arial"/>
                  </a:rPr>
                  <a:t>[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F] + CALL CO LIN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8" name=""/>
            <p:cNvSpPr/>
            <p:nvPr/>
          </p:nvSpPr>
          <p:spPr>
            <a:xfrm>
              <a:off x="2616120" y="414468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cc00"/>
                  </a:solidFill>
                  <a:latin typeface="Arial"/>
                </a:rPr>
                <a:t>[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CONF] + [CONF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9" name=""/>
            <p:cNvGrpSpPr/>
            <p:nvPr/>
          </p:nvGrpSpPr>
          <p:grpSpPr>
            <a:xfrm>
              <a:off x="698760" y="2421000"/>
              <a:ext cx="3038040" cy="3208680"/>
              <a:chOff x="698760" y="2421000"/>
              <a:chExt cx="3038040" cy="3208680"/>
            </a:xfrm>
          </p:grpSpPr>
          <p:grpSp>
            <p:nvGrpSpPr>
              <p:cNvPr id="1700" name=""/>
              <p:cNvGrpSpPr/>
              <p:nvPr/>
            </p:nvGrpSpPr>
            <p:grpSpPr>
              <a:xfrm>
                <a:off x="1469520" y="3958920"/>
                <a:ext cx="2267280" cy="1670760"/>
                <a:chOff x="1469520" y="3958920"/>
                <a:chExt cx="2267280" cy="1670760"/>
              </a:xfrm>
            </p:grpSpPr>
            <p:pic>
              <p:nvPicPr>
                <p:cNvPr id="17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69520" y="3958920"/>
                  <a:ext cx="2267280" cy="136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2" name=""/>
                <p:cNvSpPr/>
                <p:nvPr/>
              </p:nvSpPr>
              <p:spPr>
                <a:xfrm>
                  <a:off x="2053080" y="5292360"/>
                  <a:ext cx="923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TA (A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698760" y="2421000"/>
                <a:ext cx="2629800" cy="1103400"/>
                <a:chOff x="698760" y="2421000"/>
                <a:chExt cx="2629800" cy="1103400"/>
              </a:xfrm>
            </p:grpSpPr>
            <p:pic>
              <p:nvPicPr>
                <p:cNvPr id="17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87320" y="2421000"/>
                  <a:ext cx="1641240" cy="11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5" name=""/>
                <p:cNvSpPr/>
                <p:nvPr/>
              </p:nvSpPr>
              <p:spPr>
                <a:xfrm>
                  <a:off x="698760" y="2692440"/>
                  <a:ext cx="1125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O Line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6" name=""/>
            <p:cNvGrpSpPr/>
            <p:nvPr/>
          </p:nvGrpSpPr>
          <p:grpSpPr>
            <a:xfrm>
              <a:off x="2190600" y="3404880"/>
              <a:ext cx="2364480" cy="542880"/>
              <a:chOff x="2190600" y="3404880"/>
              <a:chExt cx="2364480" cy="542880"/>
            </a:xfrm>
          </p:grpSpPr>
          <p:sp>
            <p:nvSpPr>
              <p:cNvPr id="1707" name=""/>
              <p:cNvSpPr/>
              <p:nvPr/>
            </p:nvSpPr>
            <p:spPr>
              <a:xfrm flipV="1">
                <a:off x="2195640" y="3404880"/>
                <a:ext cx="0" cy="54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190600" y="3592440"/>
                <a:ext cx="236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URING CONVER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9" name=""/>
          <p:cNvSpPr/>
          <p:nvPr/>
        </p:nvSpPr>
        <p:spPr>
          <a:xfrm>
            <a:off x="533520" y="836640"/>
            <a:ext cx="16635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817200" y="5691240"/>
            <a:ext cx="76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 SLT : Hook Flash + Hook Flash within 2 seconds to establish a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44680" y="1760400"/>
            <a:ext cx="403956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O line can be a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imilar type or accessibi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Program to assign CO line gro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41-BTN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The number of CO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ipLDK-60 : 24E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ility of each station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controlled by admin progra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Program for acces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CO Group Access Station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o-KR" sz="16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PGM1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120" y="98280"/>
            <a:ext cx="36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access CO line? (3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495680" y="1062000"/>
            <a:ext cx="4349520" cy="5146560"/>
            <a:chOff x="4495680" y="1062000"/>
            <a:chExt cx="4349520" cy="5146560"/>
          </a:xfrm>
        </p:grpSpPr>
        <p:sp>
          <p:nvSpPr>
            <p:cNvPr id="83" name=""/>
            <p:cNvSpPr/>
            <p:nvPr/>
          </p:nvSpPr>
          <p:spPr>
            <a:xfrm>
              <a:off x="7068960" y="2057400"/>
              <a:ext cx="1776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- For international c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223040" y="1062000"/>
              <a:ext cx="1473120" cy="1033200"/>
              <a:chOff x="7223040" y="1062000"/>
              <a:chExt cx="1473120" cy="1033200"/>
            </a:xfrm>
          </p:grpSpPr>
          <p:sp>
            <p:nvSpPr>
              <p:cNvPr id="85" name=""/>
              <p:cNvSpPr/>
              <p:nvPr/>
            </p:nvSpPr>
            <p:spPr>
              <a:xfrm>
                <a:off x="7223040" y="1062000"/>
                <a:ext cx="1473120" cy="103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378200" y="1268280"/>
                <a:ext cx="54432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11840" y="1474560"/>
                <a:ext cx="54072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922880" y="1666800"/>
                <a:ext cx="53928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" name=""/>
            <p:cNvCxnSpPr>
              <a:endCxn id="85" idx="3"/>
            </p:cNvCxnSpPr>
            <p:nvPr/>
          </p:nvCxnSpPr>
          <p:spPr>
            <a:xfrm flipV="1">
              <a:off x="5714640" y="1944000"/>
              <a:ext cx="1724760" cy="154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0" name=""/>
            <p:cNvSpPr/>
            <p:nvPr/>
          </p:nvSpPr>
          <p:spPr>
            <a:xfrm rot="19048800">
              <a:off x="6058080" y="239796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t al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31320" y="3813120"/>
              <a:ext cx="1445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- For national c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3" idx="2"/>
            </p:cNvCxnSpPr>
            <p:nvPr/>
          </p:nvCxnSpPr>
          <p:spPr>
            <a:xfrm flipV="1">
              <a:off x="5714640" y="3322080"/>
              <a:ext cx="1467720" cy="16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4" name=""/>
            <p:cNvGrpSpPr/>
            <p:nvPr/>
          </p:nvGrpSpPr>
          <p:grpSpPr>
            <a:xfrm>
              <a:off x="7182000" y="2827440"/>
              <a:ext cx="1546200" cy="988920"/>
              <a:chOff x="7182000" y="2827440"/>
              <a:chExt cx="1546200" cy="988920"/>
            </a:xfrm>
          </p:grpSpPr>
          <p:sp>
            <p:nvSpPr>
              <p:cNvPr id="93" name=""/>
              <p:cNvSpPr/>
              <p:nvPr/>
            </p:nvSpPr>
            <p:spPr>
              <a:xfrm>
                <a:off x="7182000" y="2827440"/>
                <a:ext cx="1546200" cy="98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6440" y="3025800"/>
                <a:ext cx="57024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71240" y="3222720"/>
                <a:ext cx="56808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96680" y="3406680"/>
                <a:ext cx="56988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427160" y="5657760"/>
              <a:ext cx="1058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- E1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endCxn id="100" idx="2"/>
            </p:cNvCxnSpPr>
            <p:nvPr/>
          </p:nvCxnSpPr>
          <p:spPr>
            <a:xfrm>
              <a:off x="5714640" y="3484080"/>
              <a:ext cx="1438920" cy="1653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01" name=""/>
            <p:cNvGrpSpPr/>
            <p:nvPr/>
          </p:nvGrpSpPr>
          <p:grpSpPr>
            <a:xfrm>
              <a:off x="7153200" y="4591080"/>
              <a:ext cx="1619280" cy="1090440"/>
              <a:chOff x="7153200" y="4591080"/>
              <a:chExt cx="1619280" cy="1090440"/>
            </a:xfrm>
          </p:grpSpPr>
          <p:sp>
            <p:nvSpPr>
              <p:cNvPr id="100" name=""/>
              <p:cNvSpPr/>
              <p:nvPr/>
            </p:nvSpPr>
            <p:spPr>
              <a:xfrm>
                <a:off x="7153200" y="4591080"/>
                <a:ext cx="1619280" cy="1090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58120" y="4894200"/>
                <a:ext cx="596880" cy="244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28040" y="4967280"/>
                <a:ext cx="598320" cy="244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86880" y="5040360"/>
                <a:ext cx="595080" cy="244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88200" y="4809960"/>
                <a:ext cx="59868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69320" y="5184720"/>
                <a:ext cx="682560" cy="24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  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12200" y="4895640"/>
                <a:ext cx="71424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ko-KR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639680" y="2714760"/>
              <a:ext cx="11469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ion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4495680" y="3048120"/>
              <a:ext cx="11430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344520" y="836640"/>
            <a:ext cx="16635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-230040" y="1206360"/>
            <a:ext cx="885672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o establish an Add-on Confer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 the [CONF] button and make a call to internal par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When answered, press the [CONF] butt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When all parties have been called, press the [CONF] button ag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o make a Multi-line Confer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Press the [CONF] button and place a call to an external par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When answered, press the [CONF] butt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When all parties have been called, press the [CONF] button ag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o make Unsupervised Confer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ring a conference, press the [CONF] button in supervisor and go to ON HOO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The conference is not disconnected and the [CONF] button LED of supervisor is flash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 re-enter the conference, go to OFF HOOK and press [CONF] button in supervis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 release the conference forcibly, press [CONF] button without OFF HOOK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10880" y="93600"/>
            <a:ext cx="21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/>
          <p:nvPr/>
        </p:nvSpPr>
        <p:spPr>
          <a:xfrm>
            <a:off x="324000" y="1125360"/>
            <a:ext cx="16635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6800" y="1495440"/>
            <a:ext cx="824904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. 15 users can enter a conference including supervis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unsupervised conference, it is restricted by Unsupervised Conference 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no internal station in the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pervisor may exit the conference though the conference is still conn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79440" y="4037040"/>
            <a:ext cx="5156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upervised Conference Timer : PGM182-BTM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95280" y="3573360"/>
            <a:ext cx="16635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10880" y="104760"/>
            <a:ext cx="21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554040" y="1676520"/>
            <a:ext cx="7753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tion, which is allowed to access page facilities, can connect and 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announcements to any or all the systems external/internal page z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30320" y="93600"/>
            <a:ext cx="16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447920" y="2286000"/>
            <a:ext cx="6247800" cy="3657240"/>
            <a:chOff x="1447920" y="2286000"/>
            <a:chExt cx="6247800" cy="3657240"/>
          </a:xfrm>
        </p:grpSpPr>
        <p:grpSp>
          <p:nvGrpSpPr>
            <p:cNvPr id="1722" name=""/>
            <p:cNvGrpSpPr/>
            <p:nvPr/>
          </p:nvGrpSpPr>
          <p:grpSpPr>
            <a:xfrm>
              <a:off x="1447920" y="3467160"/>
              <a:ext cx="1904400" cy="1295280"/>
              <a:chOff x="1447920" y="3467160"/>
              <a:chExt cx="1904400" cy="1295280"/>
            </a:xfrm>
          </p:grpSpPr>
          <p:sp>
            <p:nvSpPr>
              <p:cNvPr id="1723" name=""/>
              <p:cNvSpPr/>
              <p:nvPr/>
            </p:nvSpPr>
            <p:spPr>
              <a:xfrm flipH="1">
                <a:off x="1447920" y="3467160"/>
                <a:ext cx="1904400" cy="1295280"/>
              </a:xfrm>
              <a:custGeom>
                <a:avLst/>
                <a:gdLst/>
                <a:ahLst/>
                <a:rect l="l" t="t" r="r" b="b"/>
                <a:pathLst>
                  <a:path w="2384" h="1263">
                    <a:moveTo>
                      <a:pt x="1875" y="5"/>
                    </a:moveTo>
                    <a:lnTo>
                      <a:pt x="1896" y="10"/>
                    </a:lnTo>
                    <a:lnTo>
                      <a:pt x="1919" y="17"/>
                    </a:lnTo>
                    <a:lnTo>
                      <a:pt x="1943" y="26"/>
                    </a:lnTo>
                    <a:lnTo>
                      <a:pt x="1967" y="41"/>
                    </a:lnTo>
                    <a:lnTo>
                      <a:pt x="1989" y="59"/>
                    </a:lnTo>
                    <a:lnTo>
                      <a:pt x="2008" y="84"/>
                    </a:lnTo>
                    <a:lnTo>
                      <a:pt x="2020" y="114"/>
                    </a:lnTo>
                    <a:lnTo>
                      <a:pt x="2026" y="150"/>
                    </a:lnTo>
                    <a:lnTo>
                      <a:pt x="2027" y="188"/>
                    </a:lnTo>
                    <a:lnTo>
                      <a:pt x="2027" y="222"/>
                    </a:lnTo>
                    <a:lnTo>
                      <a:pt x="2025" y="253"/>
                    </a:lnTo>
                    <a:lnTo>
                      <a:pt x="2021" y="279"/>
                    </a:lnTo>
                    <a:lnTo>
                      <a:pt x="2014" y="304"/>
                    </a:lnTo>
                    <a:lnTo>
                      <a:pt x="2006" y="324"/>
                    </a:lnTo>
                    <a:lnTo>
                      <a:pt x="1995" y="344"/>
                    </a:lnTo>
                    <a:lnTo>
                      <a:pt x="1980" y="361"/>
                    </a:lnTo>
                    <a:lnTo>
                      <a:pt x="1988" y="411"/>
                    </a:lnTo>
                    <a:lnTo>
                      <a:pt x="1910" y="435"/>
                    </a:lnTo>
                    <a:lnTo>
                      <a:pt x="1948" y="467"/>
                    </a:lnTo>
                    <a:lnTo>
                      <a:pt x="2124" y="546"/>
                    </a:lnTo>
                    <a:lnTo>
                      <a:pt x="2127" y="548"/>
                    </a:lnTo>
                    <a:lnTo>
                      <a:pt x="2138" y="556"/>
                    </a:lnTo>
                    <a:lnTo>
                      <a:pt x="2151" y="566"/>
                    </a:lnTo>
                    <a:lnTo>
                      <a:pt x="2168" y="580"/>
                    </a:lnTo>
                    <a:lnTo>
                      <a:pt x="2184" y="596"/>
                    </a:lnTo>
                    <a:lnTo>
                      <a:pt x="2198" y="612"/>
                    </a:lnTo>
                    <a:lnTo>
                      <a:pt x="2206" y="628"/>
                    </a:lnTo>
                    <a:lnTo>
                      <a:pt x="2208" y="643"/>
                    </a:lnTo>
                    <a:lnTo>
                      <a:pt x="2207" y="657"/>
                    </a:lnTo>
                    <a:lnTo>
                      <a:pt x="2207" y="672"/>
                    </a:lnTo>
                    <a:lnTo>
                      <a:pt x="2207" y="686"/>
                    </a:lnTo>
                    <a:lnTo>
                      <a:pt x="2206" y="700"/>
                    </a:lnTo>
                    <a:lnTo>
                      <a:pt x="2202" y="714"/>
                    </a:lnTo>
                    <a:lnTo>
                      <a:pt x="2195" y="726"/>
                    </a:lnTo>
                    <a:lnTo>
                      <a:pt x="2183" y="738"/>
                    </a:lnTo>
                    <a:lnTo>
                      <a:pt x="2164" y="748"/>
                    </a:lnTo>
                    <a:lnTo>
                      <a:pt x="2163" y="749"/>
                    </a:lnTo>
                    <a:lnTo>
                      <a:pt x="2160" y="753"/>
                    </a:lnTo>
                    <a:lnTo>
                      <a:pt x="2154" y="757"/>
                    </a:lnTo>
                    <a:lnTo>
                      <a:pt x="2149" y="765"/>
                    </a:lnTo>
                    <a:lnTo>
                      <a:pt x="2145" y="775"/>
                    </a:lnTo>
                    <a:lnTo>
                      <a:pt x="2141" y="787"/>
                    </a:lnTo>
                    <a:lnTo>
                      <a:pt x="2141" y="801"/>
                    </a:lnTo>
                    <a:lnTo>
                      <a:pt x="2145" y="817"/>
                    </a:lnTo>
                    <a:lnTo>
                      <a:pt x="2150" y="836"/>
                    </a:lnTo>
                    <a:lnTo>
                      <a:pt x="2155" y="855"/>
                    </a:lnTo>
                    <a:lnTo>
                      <a:pt x="2158" y="877"/>
                    </a:lnTo>
                    <a:lnTo>
                      <a:pt x="2160" y="898"/>
                    </a:lnTo>
                    <a:lnTo>
                      <a:pt x="2157" y="919"/>
                    </a:lnTo>
                    <a:lnTo>
                      <a:pt x="2153" y="938"/>
                    </a:lnTo>
                    <a:lnTo>
                      <a:pt x="2142" y="956"/>
                    </a:lnTo>
                    <a:lnTo>
                      <a:pt x="2127" y="970"/>
                    </a:lnTo>
                    <a:lnTo>
                      <a:pt x="2110" y="983"/>
                    </a:lnTo>
                    <a:lnTo>
                      <a:pt x="2097" y="996"/>
                    </a:lnTo>
                    <a:lnTo>
                      <a:pt x="2087" y="1007"/>
                    </a:lnTo>
                    <a:lnTo>
                      <a:pt x="2079" y="1018"/>
                    </a:lnTo>
                    <a:lnTo>
                      <a:pt x="2074" y="1027"/>
                    </a:lnTo>
                    <a:lnTo>
                      <a:pt x="2071" y="1034"/>
                    </a:lnTo>
                    <a:lnTo>
                      <a:pt x="2069" y="1038"/>
                    </a:lnTo>
                    <a:lnTo>
                      <a:pt x="2069" y="1040"/>
                    </a:lnTo>
                    <a:lnTo>
                      <a:pt x="2384" y="1263"/>
                    </a:lnTo>
                    <a:lnTo>
                      <a:pt x="0" y="1263"/>
                    </a:lnTo>
                    <a:lnTo>
                      <a:pt x="199" y="1011"/>
                    </a:lnTo>
                    <a:lnTo>
                      <a:pt x="711" y="1011"/>
                    </a:lnTo>
                    <a:lnTo>
                      <a:pt x="711" y="1008"/>
                    </a:lnTo>
                    <a:lnTo>
                      <a:pt x="711" y="1002"/>
                    </a:lnTo>
                    <a:lnTo>
                      <a:pt x="715" y="992"/>
                    </a:lnTo>
                    <a:lnTo>
                      <a:pt x="723" y="982"/>
                    </a:lnTo>
                    <a:lnTo>
                      <a:pt x="729" y="975"/>
                    </a:lnTo>
                    <a:lnTo>
                      <a:pt x="736" y="968"/>
                    </a:lnTo>
                    <a:lnTo>
                      <a:pt x="744" y="960"/>
                    </a:lnTo>
                    <a:lnTo>
                      <a:pt x="751" y="952"/>
                    </a:lnTo>
                    <a:lnTo>
                      <a:pt x="756" y="944"/>
                    </a:lnTo>
                    <a:lnTo>
                      <a:pt x="762" y="938"/>
                    </a:lnTo>
                    <a:lnTo>
                      <a:pt x="766" y="934"/>
                    </a:lnTo>
                    <a:lnTo>
                      <a:pt x="767" y="932"/>
                    </a:lnTo>
                    <a:lnTo>
                      <a:pt x="768" y="932"/>
                    </a:lnTo>
                    <a:lnTo>
                      <a:pt x="769" y="930"/>
                    </a:lnTo>
                    <a:lnTo>
                      <a:pt x="774" y="929"/>
                    </a:lnTo>
                    <a:lnTo>
                      <a:pt x="779" y="927"/>
                    </a:lnTo>
                    <a:lnTo>
                      <a:pt x="786" y="926"/>
                    </a:lnTo>
                    <a:lnTo>
                      <a:pt x="797" y="924"/>
                    </a:lnTo>
                    <a:lnTo>
                      <a:pt x="809" y="923"/>
                    </a:lnTo>
                    <a:lnTo>
                      <a:pt x="824" y="924"/>
                    </a:lnTo>
                    <a:lnTo>
                      <a:pt x="843" y="924"/>
                    </a:lnTo>
                    <a:lnTo>
                      <a:pt x="862" y="924"/>
                    </a:lnTo>
                    <a:lnTo>
                      <a:pt x="883" y="922"/>
                    </a:lnTo>
                    <a:lnTo>
                      <a:pt x="902" y="921"/>
                    </a:lnTo>
                    <a:lnTo>
                      <a:pt x="921" y="919"/>
                    </a:lnTo>
                    <a:lnTo>
                      <a:pt x="935" y="917"/>
                    </a:lnTo>
                    <a:lnTo>
                      <a:pt x="945" y="915"/>
                    </a:lnTo>
                    <a:lnTo>
                      <a:pt x="949" y="915"/>
                    </a:lnTo>
                    <a:lnTo>
                      <a:pt x="950" y="914"/>
                    </a:lnTo>
                    <a:lnTo>
                      <a:pt x="954" y="911"/>
                    </a:lnTo>
                    <a:lnTo>
                      <a:pt x="961" y="906"/>
                    </a:lnTo>
                    <a:lnTo>
                      <a:pt x="969" y="900"/>
                    </a:lnTo>
                    <a:lnTo>
                      <a:pt x="977" y="894"/>
                    </a:lnTo>
                    <a:lnTo>
                      <a:pt x="985" y="890"/>
                    </a:lnTo>
                    <a:lnTo>
                      <a:pt x="992" y="886"/>
                    </a:lnTo>
                    <a:lnTo>
                      <a:pt x="998" y="884"/>
                    </a:lnTo>
                    <a:lnTo>
                      <a:pt x="1018" y="863"/>
                    </a:lnTo>
                    <a:lnTo>
                      <a:pt x="1020" y="861"/>
                    </a:lnTo>
                    <a:lnTo>
                      <a:pt x="1026" y="855"/>
                    </a:lnTo>
                    <a:lnTo>
                      <a:pt x="1035" y="846"/>
                    </a:lnTo>
                    <a:lnTo>
                      <a:pt x="1048" y="833"/>
                    </a:lnTo>
                    <a:lnTo>
                      <a:pt x="1062" y="820"/>
                    </a:lnTo>
                    <a:lnTo>
                      <a:pt x="1080" y="805"/>
                    </a:lnTo>
                    <a:lnTo>
                      <a:pt x="1099" y="787"/>
                    </a:lnTo>
                    <a:lnTo>
                      <a:pt x="1120" y="770"/>
                    </a:lnTo>
                    <a:lnTo>
                      <a:pt x="1202" y="942"/>
                    </a:lnTo>
                    <a:lnTo>
                      <a:pt x="1176" y="956"/>
                    </a:lnTo>
                    <a:lnTo>
                      <a:pt x="1151" y="968"/>
                    </a:lnTo>
                    <a:lnTo>
                      <a:pt x="1129" y="980"/>
                    </a:lnTo>
                    <a:lnTo>
                      <a:pt x="1109" y="990"/>
                    </a:lnTo>
                    <a:lnTo>
                      <a:pt x="1091" y="998"/>
                    </a:lnTo>
                    <a:lnTo>
                      <a:pt x="1079" y="1005"/>
                    </a:lnTo>
                    <a:lnTo>
                      <a:pt x="1071" y="1010"/>
                    </a:lnTo>
                    <a:lnTo>
                      <a:pt x="1067" y="1011"/>
                    </a:lnTo>
                    <a:lnTo>
                      <a:pt x="1278" y="1011"/>
                    </a:lnTo>
                    <a:lnTo>
                      <a:pt x="1281" y="1007"/>
                    </a:lnTo>
                    <a:lnTo>
                      <a:pt x="1289" y="999"/>
                    </a:lnTo>
                    <a:lnTo>
                      <a:pt x="1301" y="988"/>
                    </a:lnTo>
                    <a:lnTo>
                      <a:pt x="1313" y="974"/>
                    </a:lnTo>
                    <a:lnTo>
                      <a:pt x="1326" y="959"/>
                    </a:lnTo>
                    <a:lnTo>
                      <a:pt x="1338" y="946"/>
                    </a:lnTo>
                    <a:lnTo>
                      <a:pt x="1346" y="936"/>
                    </a:lnTo>
                    <a:lnTo>
                      <a:pt x="1349" y="930"/>
                    </a:lnTo>
                    <a:lnTo>
                      <a:pt x="1351" y="922"/>
                    </a:lnTo>
                    <a:lnTo>
                      <a:pt x="1359" y="907"/>
                    </a:lnTo>
                    <a:lnTo>
                      <a:pt x="1370" y="888"/>
                    </a:lnTo>
                    <a:lnTo>
                      <a:pt x="1383" y="866"/>
                    </a:lnTo>
                    <a:lnTo>
                      <a:pt x="1395" y="844"/>
                    </a:lnTo>
                    <a:lnTo>
                      <a:pt x="1406" y="825"/>
                    </a:lnTo>
                    <a:lnTo>
                      <a:pt x="1414" y="813"/>
                    </a:lnTo>
                    <a:lnTo>
                      <a:pt x="1416" y="808"/>
                    </a:lnTo>
                    <a:lnTo>
                      <a:pt x="1393" y="829"/>
                    </a:lnTo>
                    <a:lnTo>
                      <a:pt x="1355" y="852"/>
                    </a:lnTo>
                    <a:lnTo>
                      <a:pt x="1347" y="859"/>
                    </a:lnTo>
                    <a:lnTo>
                      <a:pt x="1334" y="868"/>
                    </a:lnTo>
                    <a:lnTo>
                      <a:pt x="1317" y="878"/>
                    </a:lnTo>
                    <a:lnTo>
                      <a:pt x="1297" y="890"/>
                    </a:lnTo>
                    <a:lnTo>
                      <a:pt x="1275" y="903"/>
                    </a:lnTo>
                    <a:lnTo>
                      <a:pt x="1252" y="915"/>
                    </a:lnTo>
                    <a:lnTo>
                      <a:pt x="1227" y="929"/>
                    </a:lnTo>
                    <a:lnTo>
                      <a:pt x="1202" y="942"/>
                    </a:lnTo>
                    <a:lnTo>
                      <a:pt x="1120" y="770"/>
                    </a:lnTo>
                    <a:lnTo>
                      <a:pt x="1137" y="756"/>
                    </a:lnTo>
                    <a:lnTo>
                      <a:pt x="1156" y="742"/>
                    </a:lnTo>
                    <a:lnTo>
                      <a:pt x="1174" y="730"/>
                    </a:lnTo>
                    <a:lnTo>
                      <a:pt x="1191" y="718"/>
                    </a:lnTo>
                    <a:lnTo>
                      <a:pt x="1210" y="708"/>
                    </a:lnTo>
                    <a:lnTo>
                      <a:pt x="1227" y="699"/>
                    </a:lnTo>
                    <a:lnTo>
                      <a:pt x="1243" y="692"/>
                    </a:lnTo>
                    <a:lnTo>
                      <a:pt x="1258" y="687"/>
                    </a:lnTo>
                    <a:lnTo>
                      <a:pt x="1260" y="684"/>
                    </a:lnTo>
                    <a:lnTo>
                      <a:pt x="1265" y="677"/>
                    </a:lnTo>
                    <a:lnTo>
                      <a:pt x="1273" y="669"/>
                    </a:lnTo>
                    <a:lnTo>
                      <a:pt x="1282" y="664"/>
                    </a:lnTo>
                    <a:lnTo>
                      <a:pt x="1303" y="658"/>
                    </a:lnTo>
                    <a:lnTo>
                      <a:pt x="1304" y="647"/>
                    </a:lnTo>
                    <a:lnTo>
                      <a:pt x="1310" y="620"/>
                    </a:lnTo>
                    <a:lnTo>
                      <a:pt x="1319" y="590"/>
                    </a:lnTo>
                    <a:lnTo>
                      <a:pt x="1334" y="571"/>
                    </a:lnTo>
                    <a:lnTo>
                      <a:pt x="1343" y="566"/>
                    </a:lnTo>
                    <a:lnTo>
                      <a:pt x="1350" y="564"/>
                    </a:lnTo>
                    <a:lnTo>
                      <a:pt x="1358" y="563"/>
                    </a:lnTo>
                    <a:lnTo>
                      <a:pt x="1364" y="562"/>
                    </a:lnTo>
                    <a:lnTo>
                      <a:pt x="1369" y="562"/>
                    </a:lnTo>
                    <a:lnTo>
                      <a:pt x="1372" y="562"/>
                    </a:lnTo>
                    <a:lnTo>
                      <a:pt x="1374" y="563"/>
                    </a:lnTo>
                    <a:lnTo>
                      <a:pt x="1376" y="563"/>
                    </a:lnTo>
                    <a:lnTo>
                      <a:pt x="1377" y="559"/>
                    </a:lnTo>
                    <a:lnTo>
                      <a:pt x="1380" y="550"/>
                    </a:lnTo>
                    <a:lnTo>
                      <a:pt x="1384" y="537"/>
                    </a:lnTo>
                    <a:lnTo>
                      <a:pt x="1389" y="521"/>
                    </a:lnTo>
                    <a:lnTo>
                      <a:pt x="1395" y="505"/>
                    </a:lnTo>
                    <a:lnTo>
                      <a:pt x="1402" y="489"/>
                    </a:lnTo>
                    <a:lnTo>
                      <a:pt x="1408" y="476"/>
                    </a:lnTo>
                    <a:lnTo>
                      <a:pt x="1412" y="467"/>
                    </a:lnTo>
                    <a:lnTo>
                      <a:pt x="1419" y="453"/>
                    </a:lnTo>
                    <a:lnTo>
                      <a:pt x="1424" y="437"/>
                    </a:lnTo>
                    <a:lnTo>
                      <a:pt x="1429" y="422"/>
                    </a:lnTo>
                    <a:lnTo>
                      <a:pt x="1435" y="411"/>
                    </a:lnTo>
                    <a:lnTo>
                      <a:pt x="1445" y="405"/>
                    </a:lnTo>
                    <a:lnTo>
                      <a:pt x="1463" y="399"/>
                    </a:lnTo>
                    <a:lnTo>
                      <a:pt x="1487" y="393"/>
                    </a:lnTo>
                    <a:lnTo>
                      <a:pt x="1515" y="389"/>
                    </a:lnTo>
                    <a:lnTo>
                      <a:pt x="1544" y="384"/>
                    </a:lnTo>
                    <a:lnTo>
                      <a:pt x="1570" y="382"/>
                    </a:lnTo>
                    <a:lnTo>
                      <a:pt x="1593" y="380"/>
                    </a:lnTo>
                    <a:lnTo>
                      <a:pt x="1609" y="379"/>
                    </a:lnTo>
                    <a:lnTo>
                      <a:pt x="1608" y="374"/>
                    </a:lnTo>
                    <a:lnTo>
                      <a:pt x="1606" y="365"/>
                    </a:lnTo>
                    <a:lnTo>
                      <a:pt x="1606" y="353"/>
                    </a:lnTo>
                    <a:lnTo>
                      <a:pt x="1613" y="346"/>
                    </a:lnTo>
                    <a:lnTo>
                      <a:pt x="1622" y="343"/>
                    </a:lnTo>
                    <a:lnTo>
                      <a:pt x="1628" y="341"/>
                    </a:lnTo>
                    <a:lnTo>
                      <a:pt x="1631" y="338"/>
                    </a:lnTo>
                    <a:lnTo>
                      <a:pt x="1632" y="338"/>
                    </a:lnTo>
                    <a:lnTo>
                      <a:pt x="1631" y="332"/>
                    </a:lnTo>
                    <a:lnTo>
                      <a:pt x="1631" y="319"/>
                    </a:lnTo>
                    <a:lnTo>
                      <a:pt x="1631" y="301"/>
                    </a:lnTo>
                    <a:lnTo>
                      <a:pt x="1636" y="283"/>
                    </a:lnTo>
                    <a:lnTo>
                      <a:pt x="1636" y="279"/>
                    </a:lnTo>
                    <a:lnTo>
                      <a:pt x="1633" y="270"/>
                    </a:lnTo>
                    <a:lnTo>
                      <a:pt x="1633" y="255"/>
                    </a:lnTo>
                    <a:lnTo>
                      <a:pt x="1633" y="238"/>
                    </a:lnTo>
                    <a:lnTo>
                      <a:pt x="1635" y="220"/>
                    </a:lnTo>
                    <a:lnTo>
                      <a:pt x="1639" y="200"/>
                    </a:lnTo>
                    <a:lnTo>
                      <a:pt x="1647" y="183"/>
                    </a:lnTo>
                    <a:lnTo>
                      <a:pt x="1659" y="168"/>
                    </a:lnTo>
                    <a:lnTo>
                      <a:pt x="1660" y="163"/>
                    </a:lnTo>
                    <a:lnTo>
                      <a:pt x="1663" y="152"/>
                    </a:lnTo>
                    <a:lnTo>
                      <a:pt x="1667" y="138"/>
                    </a:lnTo>
                    <a:lnTo>
                      <a:pt x="1671" y="125"/>
                    </a:lnTo>
                    <a:lnTo>
                      <a:pt x="1676" y="118"/>
                    </a:lnTo>
                    <a:lnTo>
                      <a:pt x="1684" y="109"/>
                    </a:lnTo>
                    <a:lnTo>
                      <a:pt x="1694" y="97"/>
                    </a:lnTo>
                    <a:lnTo>
                      <a:pt x="1705" y="85"/>
                    </a:lnTo>
                    <a:lnTo>
                      <a:pt x="1716" y="74"/>
                    </a:lnTo>
                    <a:lnTo>
                      <a:pt x="1726" y="65"/>
                    </a:lnTo>
                    <a:lnTo>
                      <a:pt x="1732" y="58"/>
                    </a:lnTo>
                    <a:lnTo>
                      <a:pt x="1735" y="56"/>
                    </a:lnTo>
                    <a:lnTo>
                      <a:pt x="1735" y="51"/>
                    </a:lnTo>
                    <a:lnTo>
                      <a:pt x="1736" y="42"/>
                    </a:lnTo>
                    <a:lnTo>
                      <a:pt x="1738" y="33"/>
                    </a:lnTo>
                    <a:lnTo>
                      <a:pt x="1745" y="27"/>
                    </a:lnTo>
                    <a:lnTo>
                      <a:pt x="1750" y="26"/>
                    </a:lnTo>
                    <a:lnTo>
                      <a:pt x="1755" y="23"/>
                    </a:lnTo>
                    <a:lnTo>
                      <a:pt x="1761" y="19"/>
                    </a:lnTo>
                    <a:lnTo>
                      <a:pt x="1767" y="16"/>
                    </a:lnTo>
                    <a:lnTo>
                      <a:pt x="1773" y="12"/>
                    </a:lnTo>
                    <a:lnTo>
                      <a:pt x="1777" y="8"/>
                    </a:lnTo>
                    <a:lnTo>
                      <a:pt x="1783" y="4"/>
                    </a:lnTo>
                    <a:lnTo>
                      <a:pt x="1787" y="2"/>
                    </a:lnTo>
                    <a:lnTo>
                      <a:pt x="1792" y="0"/>
                    </a:lnTo>
                    <a:lnTo>
                      <a:pt x="1803" y="0"/>
                    </a:lnTo>
                    <a:lnTo>
                      <a:pt x="1815" y="0"/>
                    </a:lnTo>
                    <a:lnTo>
                      <a:pt x="1829" y="0"/>
                    </a:lnTo>
                    <a:lnTo>
                      <a:pt x="1844" y="2"/>
                    </a:lnTo>
                    <a:lnTo>
                      <a:pt x="1857" y="3"/>
                    </a:lnTo>
                    <a:lnTo>
                      <a:pt x="1868" y="4"/>
                    </a:lnTo>
                    <a:lnTo>
                      <a:pt x="18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1867680" y="3996000"/>
                <a:ext cx="86040" cy="128880"/>
              </a:xfrm>
              <a:custGeom>
                <a:avLst/>
                <a:gdLst/>
                <a:ahLst/>
                <a:rect l="l" t="t" r="r" b="b"/>
                <a:pathLst>
                  <a:path w="108" h="127">
                    <a:moveTo>
                      <a:pt x="73" y="44"/>
                    </a:moveTo>
                    <a:lnTo>
                      <a:pt x="85" y="40"/>
                    </a:lnTo>
                    <a:lnTo>
                      <a:pt x="93" y="37"/>
                    </a:lnTo>
                    <a:lnTo>
                      <a:pt x="100" y="35"/>
                    </a:lnTo>
                    <a:lnTo>
                      <a:pt x="103" y="33"/>
                    </a:lnTo>
                    <a:lnTo>
                      <a:pt x="106" y="33"/>
                    </a:lnTo>
                    <a:lnTo>
                      <a:pt x="108" y="32"/>
                    </a:lnTo>
                    <a:lnTo>
                      <a:pt x="108" y="32"/>
                    </a:lnTo>
                    <a:lnTo>
                      <a:pt x="108" y="32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77" y="3"/>
                    </a:lnTo>
                    <a:lnTo>
                      <a:pt x="68" y="6"/>
                    </a:lnTo>
                    <a:lnTo>
                      <a:pt x="56" y="11"/>
                    </a:lnTo>
                    <a:lnTo>
                      <a:pt x="43" y="18"/>
                    </a:lnTo>
                    <a:lnTo>
                      <a:pt x="31" y="28"/>
                    </a:lnTo>
                    <a:lnTo>
                      <a:pt x="20" y="41"/>
                    </a:lnTo>
                    <a:lnTo>
                      <a:pt x="12" y="57"/>
                    </a:lnTo>
                    <a:lnTo>
                      <a:pt x="0" y="110"/>
                    </a:lnTo>
                    <a:lnTo>
                      <a:pt x="17" y="127"/>
                    </a:lnTo>
                    <a:lnTo>
                      <a:pt x="18" y="124"/>
                    </a:lnTo>
                    <a:lnTo>
                      <a:pt x="20" y="116"/>
                    </a:lnTo>
                    <a:lnTo>
                      <a:pt x="26" y="104"/>
                    </a:lnTo>
                    <a:lnTo>
                      <a:pt x="32" y="90"/>
                    </a:lnTo>
                    <a:lnTo>
                      <a:pt x="40" y="76"/>
                    </a:lnTo>
                    <a:lnTo>
                      <a:pt x="50" y="63"/>
                    </a:lnTo>
                    <a:lnTo>
                      <a:pt x="61" y="51"/>
                    </a:lnTo>
                    <a:lnTo>
                      <a:pt x="7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1957320" y="4053600"/>
                <a:ext cx="65520" cy="253800"/>
              </a:xfrm>
              <a:custGeom>
                <a:avLst/>
                <a:gdLst/>
                <a:ahLst/>
                <a:rect l="l" t="t" r="r" b="b"/>
                <a:pathLst>
                  <a:path w="82" h="247">
                    <a:moveTo>
                      <a:pt x="0" y="247"/>
                    </a:moveTo>
                    <a:lnTo>
                      <a:pt x="3" y="239"/>
                    </a:lnTo>
                    <a:lnTo>
                      <a:pt x="8" y="219"/>
                    </a:lnTo>
                    <a:lnTo>
                      <a:pt x="18" y="189"/>
                    </a:lnTo>
                    <a:lnTo>
                      <a:pt x="28" y="154"/>
                    </a:lnTo>
                    <a:lnTo>
                      <a:pt x="41" y="116"/>
                    </a:lnTo>
                    <a:lnTo>
                      <a:pt x="54" y="82"/>
                    </a:lnTo>
                    <a:lnTo>
                      <a:pt x="68" y="52"/>
                    </a:lnTo>
                    <a:lnTo>
                      <a:pt x="82" y="31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8" y="41"/>
                    </a:lnTo>
                    <a:lnTo>
                      <a:pt x="35" y="77"/>
                    </a:lnTo>
                    <a:lnTo>
                      <a:pt x="26" y="109"/>
                    </a:lnTo>
                    <a:lnTo>
                      <a:pt x="14" y="145"/>
                    </a:lnTo>
                    <a:lnTo>
                      <a:pt x="6" y="191"/>
                    </a:lnTo>
                    <a:lnTo>
                      <a:pt x="2" y="230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1815120" y="3991680"/>
                <a:ext cx="547920" cy="725400"/>
              </a:xfrm>
              <a:custGeom>
                <a:avLst/>
                <a:gdLst/>
                <a:ahLst/>
                <a:rect l="l" t="t" r="r" b="b"/>
                <a:pathLst>
                  <a:path w="685" h="707">
                    <a:moveTo>
                      <a:pt x="400" y="511"/>
                    </a:moveTo>
                    <a:lnTo>
                      <a:pt x="422" y="495"/>
                    </a:lnTo>
                    <a:lnTo>
                      <a:pt x="635" y="506"/>
                    </a:lnTo>
                    <a:lnTo>
                      <a:pt x="685" y="707"/>
                    </a:lnTo>
                    <a:lnTo>
                      <a:pt x="268" y="702"/>
                    </a:lnTo>
                    <a:lnTo>
                      <a:pt x="289" y="667"/>
                    </a:lnTo>
                    <a:lnTo>
                      <a:pt x="163" y="681"/>
                    </a:lnTo>
                    <a:lnTo>
                      <a:pt x="0" y="525"/>
                    </a:lnTo>
                    <a:lnTo>
                      <a:pt x="185" y="484"/>
                    </a:lnTo>
                    <a:lnTo>
                      <a:pt x="198" y="472"/>
                    </a:lnTo>
                    <a:lnTo>
                      <a:pt x="210" y="459"/>
                    </a:lnTo>
                    <a:lnTo>
                      <a:pt x="221" y="447"/>
                    </a:lnTo>
                    <a:lnTo>
                      <a:pt x="231" y="433"/>
                    </a:lnTo>
                    <a:lnTo>
                      <a:pt x="239" y="421"/>
                    </a:lnTo>
                    <a:lnTo>
                      <a:pt x="245" y="412"/>
                    </a:lnTo>
                    <a:lnTo>
                      <a:pt x="249" y="405"/>
                    </a:lnTo>
                    <a:lnTo>
                      <a:pt x="251" y="403"/>
                    </a:lnTo>
                    <a:lnTo>
                      <a:pt x="261" y="375"/>
                    </a:lnTo>
                    <a:lnTo>
                      <a:pt x="274" y="345"/>
                    </a:lnTo>
                    <a:lnTo>
                      <a:pt x="286" y="317"/>
                    </a:lnTo>
                    <a:lnTo>
                      <a:pt x="300" y="287"/>
                    </a:lnTo>
                    <a:lnTo>
                      <a:pt x="314" y="258"/>
                    </a:lnTo>
                    <a:lnTo>
                      <a:pt x="327" y="230"/>
                    </a:lnTo>
                    <a:lnTo>
                      <a:pt x="339" y="203"/>
                    </a:lnTo>
                    <a:lnTo>
                      <a:pt x="350" y="177"/>
                    </a:lnTo>
                    <a:lnTo>
                      <a:pt x="359" y="151"/>
                    </a:lnTo>
                    <a:lnTo>
                      <a:pt x="368" y="123"/>
                    </a:lnTo>
                    <a:lnTo>
                      <a:pt x="376" y="94"/>
                    </a:lnTo>
                    <a:lnTo>
                      <a:pt x="384" y="66"/>
                    </a:lnTo>
                    <a:lnTo>
                      <a:pt x="390" y="41"/>
                    </a:lnTo>
                    <a:lnTo>
                      <a:pt x="394" y="22"/>
                    </a:lnTo>
                    <a:lnTo>
                      <a:pt x="397" y="8"/>
                    </a:lnTo>
                    <a:lnTo>
                      <a:pt x="398" y="3"/>
                    </a:lnTo>
                    <a:lnTo>
                      <a:pt x="415" y="0"/>
                    </a:lnTo>
                    <a:lnTo>
                      <a:pt x="428" y="25"/>
                    </a:lnTo>
                    <a:lnTo>
                      <a:pt x="427" y="29"/>
                    </a:lnTo>
                    <a:lnTo>
                      <a:pt x="424" y="40"/>
                    </a:lnTo>
                    <a:lnTo>
                      <a:pt x="420" y="58"/>
                    </a:lnTo>
                    <a:lnTo>
                      <a:pt x="413" y="78"/>
                    </a:lnTo>
                    <a:lnTo>
                      <a:pt x="406" y="102"/>
                    </a:lnTo>
                    <a:lnTo>
                      <a:pt x="397" y="128"/>
                    </a:lnTo>
                    <a:lnTo>
                      <a:pt x="386" y="153"/>
                    </a:lnTo>
                    <a:lnTo>
                      <a:pt x="376" y="177"/>
                    </a:lnTo>
                    <a:lnTo>
                      <a:pt x="365" y="203"/>
                    </a:lnTo>
                    <a:lnTo>
                      <a:pt x="354" y="231"/>
                    </a:lnTo>
                    <a:lnTo>
                      <a:pt x="345" y="263"/>
                    </a:lnTo>
                    <a:lnTo>
                      <a:pt x="337" y="294"/>
                    </a:lnTo>
                    <a:lnTo>
                      <a:pt x="330" y="322"/>
                    </a:lnTo>
                    <a:lnTo>
                      <a:pt x="324" y="349"/>
                    </a:lnTo>
                    <a:lnTo>
                      <a:pt x="321" y="371"/>
                    </a:lnTo>
                    <a:lnTo>
                      <a:pt x="320" y="386"/>
                    </a:lnTo>
                    <a:lnTo>
                      <a:pt x="301" y="435"/>
                    </a:lnTo>
                    <a:lnTo>
                      <a:pt x="307" y="478"/>
                    </a:lnTo>
                    <a:lnTo>
                      <a:pt x="400" y="5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2059920" y="3963600"/>
                <a:ext cx="1073520" cy="723240"/>
              </a:xfrm>
              <a:custGeom>
                <a:avLst/>
                <a:gdLst/>
                <a:ahLst/>
                <a:rect l="l" t="t" r="r" b="b"/>
                <a:pathLst>
                  <a:path w="1344" h="705">
                    <a:moveTo>
                      <a:pt x="797" y="501"/>
                    </a:moveTo>
                    <a:lnTo>
                      <a:pt x="797" y="512"/>
                    </a:lnTo>
                    <a:lnTo>
                      <a:pt x="795" y="521"/>
                    </a:lnTo>
                    <a:lnTo>
                      <a:pt x="793" y="525"/>
                    </a:lnTo>
                    <a:lnTo>
                      <a:pt x="793" y="528"/>
                    </a:lnTo>
                    <a:lnTo>
                      <a:pt x="822" y="517"/>
                    </a:lnTo>
                    <a:lnTo>
                      <a:pt x="823" y="514"/>
                    </a:lnTo>
                    <a:lnTo>
                      <a:pt x="825" y="506"/>
                    </a:lnTo>
                    <a:lnTo>
                      <a:pt x="829" y="493"/>
                    </a:lnTo>
                    <a:lnTo>
                      <a:pt x="831" y="479"/>
                    </a:lnTo>
                    <a:lnTo>
                      <a:pt x="833" y="473"/>
                    </a:lnTo>
                    <a:lnTo>
                      <a:pt x="839" y="468"/>
                    </a:lnTo>
                    <a:lnTo>
                      <a:pt x="845" y="466"/>
                    </a:lnTo>
                    <a:lnTo>
                      <a:pt x="853" y="464"/>
                    </a:lnTo>
                    <a:lnTo>
                      <a:pt x="859" y="464"/>
                    </a:lnTo>
                    <a:lnTo>
                      <a:pt x="864" y="464"/>
                    </a:lnTo>
                    <a:lnTo>
                      <a:pt x="867" y="463"/>
                    </a:lnTo>
                    <a:lnTo>
                      <a:pt x="867" y="462"/>
                    </a:lnTo>
                    <a:lnTo>
                      <a:pt x="869" y="454"/>
                    </a:lnTo>
                    <a:lnTo>
                      <a:pt x="874" y="449"/>
                    </a:lnTo>
                    <a:lnTo>
                      <a:pt x="879" y="446"/>
                    </a:lnTo>
                    <a:lnTo>
                      <a:pt x="886" y="446"/>
                    </a:lnTo>
                    <a:lnTo>
                      <a:pt x="893" y="446"/>
                    </a:lnTo>
                    <a:lnTo>
                      <a:pt x="899" y="446"/>
                    </a:lnTo>
                    <a:lnTo>
                      <a:pt x="901" y="446"/>
                    </a:lnTo>
                    <a:lnTo>
                      <a:pt x="901" y="445"/>
                    </a:lnTo>
                    <a:lnTo>
                      <a:pt x="901" y="434"/>
                    </a:lnTo>
                    <a:lnTo>
                      <a:pt x="906" y="429"/>
                    </a:lnTo>
                    <a:lnTo>
                      <a:pt x="913" y="426"/>
                    </a:lnTo>
                    <a:lnTo>
                      <a:pt x="922" y="425"/>
                    </a:lnTo>
                    <a:lnTo>
                      <a:pt x="931" y="426"/>
                    </a:lnTo>
                    <a:lnTo>
                      <a:pt x="939" y="426"/>
                    </a:lnTo>
                    <a:lnTo>
                      <a:pt x="944" y="423"/>
                    </a:lnTo>
                    <a:lnTo>
                      <a:pt x="945" y="417"/>
                    </a:lnTo>
                    <a:lnTo>
                      <a:pt x="945" y="410"/>
                    </a:lnTo>
                    <a:lnTo>
                      <a:pt x="950" y="406"/>
                    </a:lnTo>
                    <a:lnTo>
                      <a:pt x="957" y="402"/>
                    </a:lnTo>
                    <a:lnTo>
                      <a:pt x="965" y="400"/>
                    </a:lnTo>
                    <a:lnTo>
                      <a:pt x="973" y="399"/>
                    </a:lnTo>
                    <a:lnTo>
                      <a:pt x="978" y="396"/>
                    </a:lnTo>
                    <a:lnTo>
                      <a:pt x="983" y="393"/>
                    </a:lnTo>
                    <a:lnTo>
                      <a:pt x="983" y="390"/>
                    </a:lnTo>
                    <a:lnTo>
                      <a:pt x="982" y="384"/>
                    </a:lnTo>
                    <a:lnTo>
                      <a:pt x="986" y="380"/>
                    </a:lnTo>
                    <a:lnTo>
                      <a:pt x="993" y="378"/>
                    </a:lnTo>
                    <a:lnTo>
                      <a:pt x="1003" y="377"/>
                    </a:lnTo>
                    <a:lnTo>
                      <a:pt x="1011" y="377"/>
                    </a:lnTo>
                    <a:lnTo>
                      <a:pt x="1018" y="376"/>
                    </a:lnTo>
                    <a:lnTo>
                      <a:pt x="1021" y="372"/>
                    </a:lnTo>
                    <a:lnTo>
                      <a:pt x="1018" y="368"/>
                    </a:lnTo>
                    <a:lnTo>
                      <a:pt x="1020" y="358"/>
                    </a:lnTo>
                    <a:lnTo>
                      <a:pt x="1027" y="354"/>
                    </a:lnTo>
                    <a:lnTo>
                      <a:pt x="1037" y="350"/>
                    </a:lnTo>
                    <a:lnTo>
                      <a:pt x="1049" y="348"/>
                    </a:lnTo>
                    <a:lnTo>
                      <a:pt x="1059" y="346"/>
                    </a:lnTo>
                    <a:lnTo>
                      <a:pt x="1065" y="342"/>
                    </a:lnTo>
                    <a:lnTo>
                      <a:pt x="1067" y="338"/>
                    </a:lnTo>
                    <a:lnTo>
                      <a:pt x="1061" y="330"/>
                    </a:lnTo>
                    <a:lnTo>
                      <a:pt x="1061" y="324"/>
                    </a:lnTo>
                    <a:lnTo>
                      <a:pt x="1067" y="320"/>
                    </a:lnTo>
                    <a:lnTo>
                      <a:pt x="1076" y="318"/>
                    </a:lnTo>
                    <a:lnTo>
                      <a:pt x="1087" y="317"/>
                    </a:lnTo>
                    <a:lnTo>
                      <a:pt x="1096" y="316"/>
                    </a:lnTo>
                    <a:lnTo>
                      <a:pt x="1103" y="314"/>
                    </a:lnTo>
                    <a:lnTo>
                      <a:pt x="1105" y="309"/>
                    </a:lnTo>
                    <a:lnTo>
                      <a:pt x="1102" y="301"/>
                    </a:lnTo>
                    <a:lnTo>
                      <a:pt x="1103" y="294"/>
                    </a:lnTo>
                    <a:lnTo>
                      <a:pt x="1107" y="289"/>
                    </a:lnTo>
                    <a:lnTo>
                      <a:pt x="1115" y="285"/>
                    </a:lnTo>
                    <a:lnTo>
                      <a:pt x="1126" y="281"/>
                    </a:lnTo>
                    <a:lnTo>
                      <a:pt x="1135" y="279"/>
                    </a:lnTo>
                    <a:lnTo>
                      <a:pt x="1143" y="276"/>
                    </a:lnTo>
                    <a:lnTo>
                      <a:pt x="1147" y="272"/>
                    </a:lnTo>
                    <a:lnTo>
                      <a:pt x="1145" y="268"/>
                    </a:lnTo>
                    <a:lnTo>
                      <a:pt x="1149" y="259"/>
                    </a:lnTo>
                    <a:lnTo>
                      <a:pt x="1153" y="255"/>
                    </a:lnTo>
                    <a:lnTo>
                      <a:pt x="1160" y="253"/>
                    </a:lnTo>
                    <a:lnTo>
                      <a:pt x="1167" y="253"/>
                    </a:lnTo>
                    <a:lnTo>
                      <a:pt x="1173" y="253"/>
                    </a:lnTo>
                    <a:lnTo>
                      <a:pt x="1176" y="250"/>
                    </a:lnTo>
                    <a:lnTo>
                      <a:pt x="1176" y="246"/>
                    </a:lnTo>
                    <a:lnTo>
                      <a:pt x="1173" y="238"/>
                    </a:lnTo>
                    <a:lnTo>
                      <a:pt x="1174" y="231"/>
                    </a:lnTo>
                    <a:lnTo>
                      <a:pt x="1180" y="227"/>
                    </a:lnTo>
                    <a:lnTo>
                      <a:pt x="1187" y="224"/>
                    </a:lnTo>
                    <a:lnTo>
                      <a:pt x="1194" y="223"/>
                    </a:lnTo>
                    <a:lnTo>
                      <a:pt x="1201" y="220"/>
                    </a:lnTo>
                    <a:lnTo>
                      <a:pt x="1205" y="218"/>
                    </a:lnTo>
                    <a:lnTo>
                      <a:pt x="1205" y="212"/>
                    </a:lnTo>
                    <a:lnTo>
                      <a:pt x="1202" y="205"/>
                    </a:lnTo>
                    <a:lnTo>
                      <a:pt x="1204" y="197"/>
                    </a:lnTo>
                    <a:lnTo>
                      <a:pt x="1211" y="193"/>
                    </a:lnTo>
                    <a:lnTo>
                      <a:pt x="1219" y="189"/>
                    </a:lnTo>
                    <a:lnTo>
                      <a:pt x="1227" y="188"/>
                    </a:lnTo>
                    <a:lnTo>
                      <a:pt x="1234" y="187"/>
                    </a:lnTo>
                    <a:lnTo>
                      <a:pt x="1239" y="186"/>
                    </a:lnTo>
                    <a:lnTo>
                      <a:pt x="1239" y="181"/>
                    </a:lnTo>
                    <a:lnTo>
                      <a:pt x="1233" y="174"/>
                    </a:lnTo>
                    <a:lnTo>
                      <a:pt x="1236" y="168"/>
                    </a:lnTo>
                    <a:lnTo>
                      <a:pt x="1242" y="164"/>
                    </a:lnTo>
                    <a:lnTo>
                      <a:pt x="1250" y="160"/>
                    </a:lnTo>
                    <a:lnTo>
                      <a:pt x="1258" y="158"/>
                    </a:lnTo>
                    <a:lnTo>
                      <a:pt x="1264" y="156"/>
                    </a:lnTo>
                    <a:lnTo>
                      <a:pt x="1267" y="152"/>
                    </a:lnTo>
                    <a:lnTo>
                      <a:pt x="1266" y="148"/>
                    </a:lnTo>
                    <a:lnTo>
                      <a:pt x="1258" y="142"/>
                    </a:lnTo>
                    <a:lnTo>
                      <a:pt x="1257" y="135"/>
                    </a:lnTo>
                    <a:lnTo>
                      <a:pt x="1262" y="132"/>
                    </a:lnTo>
                    <a:lnTo>
                      <a:pt x="1270" y="129"/>
                    </a:lnTo>
                    <a:lnTo>
                      <a:pt x="1279" y="127"/>
                    </a:lnTo>
                    <a:lnTo>
                      <a:pt x="1287" y="126"/>
                    </a:lnTo>
                    <a:lnTo>
                      <a:pt x="1293" y="122"/>
                    </a:lnTo>
                    <a:lnTo>
                      <a:pt x="1294" y="118"/>
                    </a:lnTo>
                    <a:lnTo>
                      <a:pt x="1288" y="110"/>
                    </a:lnTo>
                    <a:lnTo>
                      <a:pt x="1285" y="102"/>
                    </a:lnTo>
                    <a:lnTo>
                      <a:pt x="1287" y="96"/>
                    </a:lnTo>
                    <a:lnTo>
                      <a:pt x="1293" y="92"/>
                    </a:lnTo>
                    <a:lnTo>
                      <a:pt x="1300" y="90"/>
                    </a:lnTo>
                    <a:lnTo>
                      <a:pt x="1307" y="88"/>
                    </a:lnTo>
                    <a:lnTo>
                      <a:pt x="1311" y="84"/>
                    </a:lnTo>
                    <a:lnTo>
                      <a:pt x="1312" y="81"/>
                    </a:lnTo>
                    <a:lnTo>
                      <a:pt x="1305" y="74"/>
                    </a:lnTo>
                    <a:lnTo>
                      <a:pt x="1305" y="66"/>
                    </a:lnTo>
                    <a:lnTo>
                      <a:pt x="1309" y="60"/>
                    </a:lnTo>
                    <a:lnTo>
                      <a:pt x="1316" y="57"/>
                    </a:lnTo>
                    <a:lnTo>
                      <a:pt x="1323" y="56"/>
                    </a:lnTo>
                    <a:lnTo>
                      <a:pt x="1330" y="53"/>
                    </a:lnTo>
                    <a:lnTo>
                      <a:pt x="1334" y="51"/>
                    </a:lnTo>
                    <a:lnTo>
                      <a:pt x="1335" y="46"/>
                    </a:lnTo>
                    <a:lnTo>
                      <a:pt x="1332" y="39"/>
                    </a:lnTo>
                    <a:lnTo>
                      <a:pt x="1327" y="33"/>
                    </a:lnTo>
                    <a:lnTo>
                      <a:pt x="1327" y="27"/>
                    </a:lnTo>
                    <a:lnTo>
                      <a:pt x="1331" y="22"/>
                    </a:lnTo>
                    <a:lnTo>
                      <a:pt x="1342" y="15"/>
                    </a:lnTo>
                    <a:lnTo>
                      <a:pt x="1343" y="12"/>
                    </a:lnTo>
                    <a:lnTo>
                      <a:pt x="1344" y="11"/>
                    </a:lnTo>
                    <a:lnTo>
                      <a:pt x="1344" y="10"/>
                    </a:lnTo>
                    <a:lnTo>
                      <a:pt x="1344" y="10"/>
                    </a:lnTo>
                    <a:lnTo>
                      <a:pt x="1343" y="8"/>
                    </a:lnTo>
                    <a:lnTo>
                      <a:pt x="1341" y="6"/>
                    </a:lnTo>
                    <a:lnTo>
                      <a:pt x="1336" y="4"/>
                    </a:lnTo>
                    <a:lnTo>
                      <a:pt x="1332" y="1"/>
                    </a:lnTo>
                    <a:lnTo>
                      <a:pt x="1328" y="0"/>
                    </a:lnTo>
                    <a:lnTo>
                      <a:pt x="1319" y="1"/>
                    </a:lnTo>
                    <a:lnTo>
                      <a:pt x="1311" y="5"/>
                    </a:lnTo>
                    <a:lnTo>
                      <a:pt x="1304" y="13"/>
                    </a:lnTo>
                    <a:lnTo>
                      <a:pt x="1303" y="23"/>
                    </a:lnTo>
                    <a:lnTo>
                      <a:pt x="1294" y="28"/>
                    </a:lnTo>
                    <a:lnTo>
                      <a:pt x="1288" y="37"/>
                    </a:lnTo>
                    <a:lnTo>
                      <a:pt x="1285" y="49"/>
                    </a:lnTo>
                    <a:lnTo>
                      <a:pt x="1286" y="59"/>
                    </a:lnTo>
                    <a:lnTo>
                      <a:pt x="1273" y="64"/>
                    </a:lnTo>
                    <a:lnTo>
                      <a:pt x="1263" y="75"/>
                    </a:lnTo>
                    <a:lnTo>
                      <a:pt x="1258" y="88"/>
                    </a:lnTo>
                    <a:lnTo>
                      <a:pt x="1259" y="97"/>
                    </a:lnTo>
                    <a:lnTo>
                      <a:pt x="1249" y="101"/>
                    </a:lnTo>
                    <a:lnTo>
                      <a:pt x="1241" y="110"/>
                    </a:lnTo>
                    <a:lnTo>
                      <a:pt x="1236" y="120"/>
                    </a:lnTo>
                    <a:lnTo>
                      <a:pt x="1237" y="129"/>
                    </a:lnTo>
                    <a:lnTo>
                      <a:pt x="1227" y="134"/>
                    </a:lnTo>
                    <a:lnTo>
                      <a:pt x="1217" y="143"/>
                    </a:lnTo>
                    <a:lnTo>
                      <a:pt x="1210" y="153"/>
                    </a:lnTo>
                    <a:lnTo>
                      <a:pt x="1210" y="163"/>
                    </a:lnTo>
                    <a:lnTo>
                      <a:pt x="1204" y="164"/>
                    </a:lnTo>
                    <a:lnTo>
                      <a:pt x="1198" y="167"/>
                    </a:lnTo>
                    <a:lnTo>
                      <a:pt x="1193" y="171"/>
                    </a:lnTo>
                    <a:lnTo>
                      <a:pt x="1188" y="175"/>
                    </a:lnTo>
                    <a:lnTo>
                      <a:pt x="1183" y="180"/>
                    </a:lnTo>
                    <a:lnTo>
                      <a:pt x="1180" y="185"/>
                    </a:lnTo>
                    <a:lnTo>
                      <a:pt x="1179" y="190"/>
                    </a:lnTo>
                    <a:lnTo>
                      <a:pt x="1180" y="195"/>
                    </a:lnTo>
                    <a:lnTo>
                      <a:pt x="1168" y="197"/>
                    </a:lnTo>
                    <a:lnTo>
                      <a:pt x="1159" y="204"/>
                    </a:lnTo>
                    <a:lnTo>
                      <a:pt x="1153" y="215"/>
                    </a:lnTo>
                    <a:lnTo>
                      <a:pt x="1153" y="225"/>
                    </a:lnTo>
                    <a:lnTo>
                      <a:pt x="1147" y="225"/>
                    </a:lnTo>
                    <a:lnTo>
                      <a:pt x="1141" y="226"/>
                    </a:lnTo>
                    <a:lnTo>
                      <a:pt x="1134" y="229"/>
                    </a:lnTo>
                    <a:lnTo>
                      <a:pt x="1128" y="234"/>
                    </a:lnTo>
                    <a:lnTo>
                      <a:pt x="1123" y="240"/>
                    </a:lnTo>
                    <a:lnTo>
                      <a:pt x="1120" y="246"/>
                    </a:lnTo>
                    <a:lnTo>
                      <a:pt x="1120" y="253"/>
                    </a:lnTo>
                    <a:lnTo>
                      <a:pt x="1121" y="259"/>
                    </a:lnTo>
                    <a:lnTo>
                      <a:pt x="1115" y="262"/>
                    </a:lnTo>
                    <a:lnTo>
                      <a:pt x="1107" y="265"/>
                    </a:lnTo>
                    <a:lnTo>
                      <a:pt x="1100" y="269"/>
                    </a:lnTo>
                    <a:lnTo>
                      <a:pt x="1092" y="273"/>
                    </a:lnTo>
                    <a:lnTo>
                      <a:pt x="1087" y="279"/>
                    </a:lnTo>
                    <a:lnTo>
                      <a:pt x="1082" y="284"/>
                    </a:lnTo>
                    <a:lnTo>
                      <a:pt x="1080" y="288"/>
                    </a:lnTo>
                    <a:lnTo>
                      <a:pt x="1080" y="292"/>
                    </a:lnTo>
                    <a:lnTo>
                      <a:pt x="1069" y="292"/>
                    </a:lnTo>
                    <a:lnTo>
                      <a:pt x="1060" y="294"/>
                    </a:lnTo>
                    <a:lnTo>
                      <a:pt x="1053" y="297"/>
                    </a:lnTo>
                    <a:lnTo>
                      <a:pt x="1048" y="301"/>
                    </a:lnTo>
                    <a:lnTo>
                      <a:pt x="1043" y="307"/>
                    </a:lnTo>
                    <a:lnTo>
                      <a:pt x="1041" y="312"/>
                    </a:lnTo>
                    <a:lnTo>
                      <a:pt x="1041" y="317"/>
                    </a:lnTo>
                    <a:lnTo>
                      <a:pt x="1042" y="322"/>
                    </a:lnTo>
                    <a:lnTo>
                      <a:pt x="1033" y="324"/>
                    </a:lnTo>
                    <a:lnTo>
                      <a:pt x="1024" y="326"/>
                    </a:lnTo>
                    <a:lnTo>
                      <a:pt x="1016" y="329"/>
                    </a:lnTo>
                    <a:lnTo>
                      <a:pt x="1010" y="331"/>
                    </a:lnTo>
                    <a:lnTo>
                      <a:pt x="1005" y="334"/>
                    </a:lnTo>
                    <a:lnTo>
                      <a:pt x="1003" y="338"/>
                    </a:lnTo>
                    <a:lnTo>
                      <a:pt x="1004" y="344"/>
                    </a:lnTo>
                    <a:lnTo>
                      <a:pt x="1007" y="349"/>
                    </a:lnTo>
                    <a:lnTo>
                      <a:pt x="998" y="350"/>
                    </a:lnTo>
                    <a:lnTo>
                      <a:pt x="989" y="353"/>
                    </a:lnTo>
                    <a:lnTo>
                      <a:pt x="981" y="356"/>
                    </a:lnTo>
                    <a:lnTo>
                      <a:pt x="973" y="360"/>
                    </a:lnTo>
                    <a:lnTo>
                      <a:pt x="967" y="365"/>
                    </a:lnTo>
                    <a:lnTo>
                      <a:pt x="962" y="370"/>
                    </a:lnTo>
                    <a:lnTo>
                      <a:pt x="961" y="376"/>
                    </a:lnTo>
                    <a:lnTo>
                      <a:pt x="962" y="382"/>
                    </a:lnTo>
                    <a:lnTo>
                      <a:pt x="958" y="384"/>
                    </a:lnTo>
                    <a:lnTo>
                      <a:pt x="952" y="385"/>
                    </a:lnTo>
                    <a:lnTo>
                      <a:pt x="945" y="386"/>
                    </a:lnTo>
                    <a:lnTo>
                      <a:pt x="940" y="388"/>
                    </a:lnTo>
                    <a:lnTo>
                      <a:pt x="935" y="391"/>
                    </a:lnTo>
                    <a:lnTo>
                      <a:pt x="931" y="393"/>
                    </a:lnTo>
                    <a:lnTo>
                      <a:pt x="930" y="396"/>
                    </a:lnTo>
                    <a:lnTo>
                      <a:pt x="931" y="401"/>
                    </a:lnTo>
                    <a:lnTo>
                      <a:pt x="921" y="401"/>
                    </a:lnTo>
                    <a:lnTo>
                      <a:pt x="911" y="401"/>
                    </a:lnTo>
                    <a:lnTo>
                      <a:pt x="902" y="403"/>
                    </a:lnTo>
                    <a:lnTo>
                      <a:pt x="894" y="406"/>
                    </a:lnTo>
                    <a:lnTo>
                      <a:pt x="889" y="409"/>
                    </a:lnTo>
                    <a:lnTo>
                      <a:pt x="885" y="413"/>
                    </a:lnTo>
                    <a:lnTo>
                      <a:pt x="884" y="416"/>
                    </a:lnTo>
                    <a:lnTo>
                      <a:pt x="886" y="421"/>
                    </a:lnTo>
                    <a:lnTo>
                      <a:pt x="879" y="422"/>
                    </a:lnTo>
                    <a:lnTo>
                      <a:pt x="873" y="424"/>
                    </a:lnTo>
                    <a:lnTo>
                      <a:pt x="867" y="426"/>
                    </a:lnTo>
                    <a:lnTo>
                      <a:pt x="861" y="429"/>
                    </a:lnTo>
                    <a:lnTo>
                      <a:pt x="858" y="431"/>
                    </a:lnTo>
                    <a:lnTo>
                      <a:pt x="856" y="434"/>
                    </a:lnTo>
                    <a:lnTo>
                      <a:pt x="856" y="439"/>
                    </a:lnTo>
                    <a:lnTo>
                      <a:pt x="859" y="445"/>
                    </a:lnTo>
                    <a:lnTo>
                      <a:pt x="856" y="445"/>
                    </a:lnTo>
                    <a:lnTo>
                      <a:pt x="853" y="445"/>
                    </a:lnTo>
                    <a:lnTo>
                      <a:pt x="846" y="446"/>
                    </a:lnTo>
                    <a:lnTo>
                      <a:pt x="839" y="448"/>
                    </a:lnTo>
                    <a:lnTo>
                      <a:pt x="833" y="451"/>
                    </a:lnTo>
                    <a:lnTo>
                      <a:pt x="828" y="454"/>
                    </a:lnTo>
                    <a:lnTo>
                      <a:pt x="826" y="459"/>
                    </a:lnTo>
                    <a:lnTo>
                      <a:pt x="828" y="466"/>
                    </a:lnTo>
                    <a:lnTo>
                      <a:pt x="828" y="456"/>
                    </a:lnTo>
                    <a:lnTo>
                      <a:pt x="828" y="447"/>
                    </a:lnTo>
                    <a:lnTo>
                      <a:pt x="825" y="438"/>
                    </a:lnTo>
                    <a:lnTo>
                      <a:pt x="822" y="426"/>
                    </a:lnTo>
                    <a:lnTo>
                      <a:pt x="813" y="413"/>
                    </a:lnTo>
                    <a:lnTo>
                      <a:pt x="800" y="402"/>
                    </a:lnTo>
                    <a:lnTo>
                      <a:pt x="785" y="395"/>
                    </a:lnTo>
                    <a:lnTo>
                      <a:pt x="770" y="391"/>
                    </a:lnTo>
                    <a:lnTo>
                      <a:pt x="755" y="388"/>
                    </a:lnTo>
                    <a:lnTo>
                      <a:pt x="742" y="387"/>
                    </a:lnTo>
                    <a:lnTo>
                      <a:pt x="734" y="387"/>
                    </a:lnTo>
                    <a:lnTo>
                      <a:pt x="731" y="387"/>
                    </a:lnTo>
                    <a:lnTo>
                      <a:pt x="683" y="418"/>
                    </a:lnTo>
                    <a:lnTo>
                      <a:pt x="686" y="418"/>
                    </a:lnTo>
                    <a:lnTo>
                      <a:pt x="694" y="418"/>
                    </a:lnTo>
                    <a:lnTo>
                      <a:pt x="706" y="420"/>
                    </a:lnTo>
                    <a:lnTo>
                      <a:pt x="721" y="421"/>
                    </a:lnTo>
                    <a:lnTo>
                      <a:pt x="737" y="424"/>
                    </a:lnTo>
                    <a:lnTo>
                      <a:pt x="753" y="428"/>
                    </a:lnTo>
                    <a:lnTo>
                      <a:pt x="767" y="433"/>
                    </a:lnTo>
                    <a:lnTo>
                      <a:pt x="778" y="440"/>
                    </a:lnTo>
                    <a:lnTo>
                      <a:pt x="786" y="447"/>
                    </a:lnTo>
                    <a:lnTo>
                      <a:pt x="791" y="452"/>
                    </a:lnTo>
                    <a:lnTo>
                      <a:pt x="793" y="460"/>
                    </a:lnTo>
                    <a:lnTo>
                      <a:pt x="794" y="471"/>
                    </a:lnTo>
                    <a:lnTo>
                      <a:pt x="784" y="473"/>
                    </a:lnTo>
                    <a:lnTo>
                      <a:pt x="776" y="474"/>
                    </a:lnTo>
                    <a:lnTo>
                      <a:pt x="770" y="476"/>
                    </a:lnTo>
                    <a:lnTo>
                      <a:pt x="765" y="479"/>
                    </a:lnTo>
                    <a:lnTo>
                      <a:pt x="762" y="484"/>
                    </a:lnTo>
                    <a:lnTo>
                      <a:pt x="761" y="489"/>
                    </a:lnTo>
                    <a:lnTo>
                      <a:pt x="761" y="494"/>
                    </a:lnTo>
                    <a:lnTo>
                      <a:pt x="761" y="499"/>
                    </a:lnTo>
                    <a:lnTo>
                      <a:pt x="753" y="499"/>
                    </a:lnTo>
                    <a:lnTo>
                      <a:pt x="745" y="500"/>
                    </a:lnTo>
                    <a:lnTo>
                      <a:pt x="737" y="501"/>
                    </a:lnTo>
                    <a:lnTo>
                      <a:pt x="729" y="505"/>
                    </a:lnTo>
                    <a:lnTo>
                      <a:pt x="722" y="508"/>
                    </a:lnTo>
                    <a:lnTo>
                      <a:pt x="717" y="513"/>
                    </a:lnTo>
                    <a:lnTo>
                      <a:pt x="715" y="516"/>
                    </a:lnTo>
                    <a:lnTo>
                      <a:pt x="715" y="521"/>
                    </a:lnTo>
                    <a:lnTo>
                      <a:pt x="708" y="520"/>
                    </a:lnTo>
                    <a:lnTo>
                      <a:pt x="701" y="521"/>
                    </a:lnTo>
                    <a:lnTo>
                      <a:pt x="693" y="523"/>
                    </a:lnTo>
                    <a:lnTo>
                      <a:pt x="686" y="527"/>
                    </a:lnTo>
                    <a:lnTo>
                      <a:pt x="679" y="531"/>
                    </a:lnTo>
                    <a:lnTo>
                      <a:pt x="675" y="536"/>
                    </a:lnTo>
                    <a:lnTo>
                      <a:pt x="672" y="540"/>
                    </a:lnTo>
                    <a:lnTo>
                      <a:pt x="673" y="545"/>
                    </a:lnTo>
                    <a:lnTo>
                      <a:pt x="666" y="545"/>
                    </a:lnTo>
                    <a:lnTo>
                      <a:pt x="660" y="545"/>
                    </a:lnTo>
                    <a:lnTo>
                      <a:pt x="654" y="546"/>
                    </a:lnTo>
                    <a:lnTo>
                      <a:pt x="648" y="547"/>
                    </a:lnTo>
                    <a:lnTo>
                      <a:pt x="643" y="550"/>
                    </a:lnTo>
                    <a:lnTo>
                      <a:pt x="640" y="552"/>
                    </a:lnTo>
                    <a:lnTo>
                      <a:pt x="638" y="555"/>
                    </a:lnTo>
                    <a:lnTo>
                      <a:pt x="637" y="559"/>
                    </a:lnTo>
                    <a:lnTo>
                      <a:pt x="632" y="559"/>
                    </a:lnTo>
                    <a:lnTo>
                      <a:pt x="626" y="559"/>
                    </a:lnTo>
                    <a:lnTo>
                      <a:pt x="619" y="560"/>
                    </a:lnTo>
                    <a:lnTo>
                      <a:pt x="614" y="561"/>
                    </a:lnTo>
                    <a:lnTo>
                      <a:pt x="609" y="563"/>
                    </a:lnTo>
                    <a:lnTo>
                      <a:pt x="604" y="566"/>
                    </a:lnTo>
                    <a:lnTo>
                      <a:pt x="603" y="569"/>
                    </a:lnTo>
                    <a:lnTo>
                      <a:pt x="603" y="573"/>
                    </a:lnTo>
                    <a:lnTo>
                      <a:pt x="593" y="572"/>
                    </a:lnTo>
                    <a:lnTo>
                      <a:pt x="582" y="572"/>
                    </a:lnTo>
                    <a:lnTo>
                      <a:pt x="576" y="575"/>
                    </a:lnTo>
                    <a:lnTo>
                      <a:pt x="573" y="581"/>
                    </a:lnTo>
                    <a:lnTo>
                      <a:pt x="569" y="582"/>
                    </a:lnTo>
                    <a:lnTo>
                      <a:pt x="558" y="584"/>
                    </a:lnTo>
                    <a:lnTo>
                      <a:pt x="548" y="590"/>
                    </a:lnTo>
                    <a:lnTo>
                      <a:pt x="544" y="597"/>
                    </a:lnTo>
                    <a:lnTo>
                      <a:pt x="359" y="543"/>
                    </a:lnTo>
                    <a:lnTo>
                      <a:pt x="14" y="519"/>
                    </a:lnTo>
                    <a:lnTo>
                      <a:pt x="9" y="525"/>
                    </a:lnTo>
                    <a:lnTo>
                      <a:pt x="2" y="544"/>
                    </a:lnTo>
                    <a:lnTo>
                      <a:pt x="0" y="569"/>
                    </a:lnTo>
                    <a:lnTo>
                      <a:pt x="10" y="598"/>
                    </a:lnTo>
                    <a:lnTo>
                      <a:pt x="199" y="705"/>
                    </a:lnTo>
                    <a:lnTo>
                      <a:pt x="564" y="667"/>
                    </a:lnTo>
                    <a:lnTo>
                      <a:pt x="558" y="614"/>
                    </a:lnTo>
                    <a:lnTo>
                      <a:pt x="558" y="606"/>
                    </a:lnTo>
                    <a:lnTo>
                      <a:pt x="559" y="603"/>
                    </a:lnTo>
                    <a:lnTo>
                      <a:pt x="564" y="600"/>
                    </a:lnTo>
                    <a:lnTo>
                      <a:pt x="571" y="601"/>
                    </a:lnTo>
                    <a:lnTo>
                      <a:pt x="579" y="603"/>
                    </a:lnTo>
                    <a:lnTo>
                      <a:pt x="585" y="601"/>
                    </a:lnTo>
                    <a:lnTo>
                      <a:pt x="587" y="599"/>
                    </a:lnTo>
                    <a:lnTo>
                      <a:pt x="587" y="595"/>
                    </a:lnTo>
                    <a:lnTo>
                      <a:pt x="586" y="591"/>
                    </a:lnTo>
                    <a:lnTo>
                      <a:pt x="588" y="590"/>
                    </a:lnTo>
                    <a:lnTo>
                      <a:pt x="595" y="590"/>
                    </a:lnTo>
                    <a:lnTo>
                      <a:pt x="603" y="591"/>
                    </a:lnTo>
                    <a:lnTo>
                      <a:pt x="612" y="592"/>
                    </a:lnTo>
                    <a:lnTo>
                      <a:pt x="620" y="591"/>
                    </a:lnTo>
                    <a:lnTo>
                      <a:pt x="624" y="588"/>
                    </a:lnTo>
                    <a:lnTo>
                      <a:pt x="623" y="582"/>
                    </a:lnTo>
                    <a:lnTo>
                      <a:pt x="620" y="577"/>
                    </a:lnTo>
                    <a:lnTo>
                      <a:pt x="622" y="575"/>
                    </a:lnTo>
                    <a:lnTo>
                      <a:pt x="628" y="575"/>
                    </a:lnTo>
                    <a:lnTo>
                      <a:pt x="638" y="576"/>
                    </a:lnTo>
                    <a:lnTo>
                      <a:pt x="648" y="576"/>
                    </a:lnTo>
                    <a:lnTo>
                      <a:pt x="657" y="574"/>
                    </a:lnTo>
                    <a:lnTo>
                      <a:pt x="662" y="568"/>
                    </a:lnTo>
                    <a:lnTo>
                      <a:pt x="662" y="561"/>
                    </a:lnTo>
                    <a:lnTo>
                      <a:pt x="661" y="557"/>
                    </a:lnTo>
                    <a:lnTo>
                      <a:pt x="663" y="555"/>
                    </a:lnTo>
                    <a:lnTo>
                      <a:pt x="668" y="557"/>
                    </a:lnTo>
                    <a:lnTo>
                      <a:pt x="676" y="560"/>
                    </a:lnTo>
                    <a:lnTo>
                      <a:pt x="685" y="561"/>
                    </a:lnTo>
                    <a:lnTo>
                      <a:pt x="693" y="557"/>
                    </a:lnTo>
                    <a:lnTo>
                      <a:pt x="700" y="550"/>
                    </a:lnTo>
                    <a:lnTo>
                      <a:pt x="703" y="542"/>
                    </a:lnTo>
                    <a:lnTo>
                      <a:pt x="706" y="537"/>
                    </a:lnTo>
                    <a:lnTo>
                      <a:pt x="708" y="537"/>
                    </a:lnTo>
                    <a:lnTo>
                      <a:pt x="713" y="539"/>
                    </a:lnTo>
                    <a:lnTo>
                      <a:pt x="722" y="543"/>
                    </a:lnTo>
                    <a:lnTo>
                      <a:pt x="732" y="543"/>
                    </a:lnTo>
                    <a:lnTo>
                      <a:pt x="739" y="538"/>
                    </a:lnTo>
                    <a:lnTo>
                      <a:pt x="744" y="530"/>
                    </a:lnTo>
                    <a:lnTo>
                      <a:pt x="747" y="522"/>
                    </a:lnTo>
                    <a:lnTo>
                      <a:pt x="749" y="516"/>
                    </a:lnTo>
                    <a:lnTo>
                      <a:pt x="754" y="516"/>
                    </a:lnTo>
                    <a:lnTo>
                      <a:pt x="760" y="519"/>
                    </a:lnTo>
                    <a:lnTo>
                      <a:pt x="768" y="522"/>
                    </a:lnTo>
                    <a:lnTo>
                      <a:pt x="778" y="521"/>
                    </a:lnTo>
                    <a:lnTo>
                      <a:pt x="787" y="515"/>
                    </a:lnTo>
                    <a:lnTo>
                      <a:pt x="794" y="507"/>
                    </a:lnTo>
                    <a:lnTo>
                      <a:pt x="797" y="5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1756080" y="3776400"/>
                <a:ext cx="162360" cy="147600"/>
              </a:xfrm>
              <a:custGeom>
                <a:avLst/>
                <a:gdLst/>
                <a:ahLst/>
                <a:rect l="l" t="t" r="r" b="b"/>
                <a:pathLst>
                  <a:path w="204" h="145">
                    <a:moveTo>
                      <a:pt x="178" y="4"/>
                    </a:moveTo>
                    <a:lnTo>
                      <a:pt x="175" y="4"/>
                    </a:lnTo>
                    <a:lnTo>
                      <a:pt x="169" y="2"/>
                    </a:lnTo>
                    <a:lnTo>
                      <a:pt x="158" y="1"/>
                    </a:lnTo>
                    <a:lnTo>
                      <a:pt x="147" y="0"/>
                    </a:lnTo>
                    <a:lnTo>
                      <a:pt x="133" y="1"/>
                    </a:lnTo>
                    <a:lnTo>
                      <a:pt x="119" y="5"/>
                    </a:lnTo>
                    <a:lnTo>
                      <a:pt x="106" y="12"/>
                    </a:lnTo>
                    <a:lnTo>
                      <a:pt x="95" y="21"/>
                    </a:lnTo>
                    <a:lnTo>
                      <a:pt x="95" y="51"/>
                    </a:lnTo>
                    <a:lnTo>
                      <a:pt x="0" y="77"/>
                    </a:lnTo>
                    <a:lnTo>
                      <a:pt x="18" y="145"/>
                    </a:lnTo>
                    <a:lnTo>
                      <a:pt x="195" y="123"/>
                    </a:lnTo>
                    <a:lnTo>
                      <a:pt x="196" y="123"/>
                    </a:lnTo>
                    <a:lnTo>
                      <a:pt x="198" y="121"/>
                    </a:lnTo>
                    <a:lnTo>
                      <a:pt x="202" y="118"/>
                    </a:lnTo>
                    <a:lnTo>
                      <a:pt x="204" y="108"/>
                    </a:lnTo>
                    <a:lnTo>
                      <a:pt x="204" y="95"/>
                    </a:lnTo>
                    <a:lnTo>
                      <a:pt x="201" y="73"/>
                    </a:lnTo>
                    <a:lnTo>
                      <a:pt x="192" y="43"/>
                    </a:lnTo>
                    <a:lnTo>
                      <a:pt x="17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2030400" y="3854520"/>
                <a:ext cx="62280" cy="116640"/>
              </a:xfrm>
              <a:custGeom>
                <a:avLst/>
                <a:gdLst/>
                <a:ahLst/>
                <a:rect l="l" t="t" r="r" b="b"/>
                <a:pathLst>
                  <a:path w="78" h="114">
                    <a:moveTo>
                      <a:pt x="78" y="103"/>
                    </a:moveTo>
                    <a:lnTo>
                      <a:pt x="69" y="51"/>
                    </a:lnTo>
                    <a:lnTo>
                      <a:pt x="52" y="73"/>
                    </a:lnTo>
                    <a:lnTo>
                      <a:pt x="49" y="76"/>
                    </a:lnTo>
                    <a:lnTo>
                      <a:pt x="42" y="79"/>
                    </a:lnTo>
                    <a:lnTo>
                      <a:pt x="33" y="71"/>
                    </a:lnTo>
                    <a:lnTo>
                      <a:pt x="26" y="43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2"/>
                    </a:lnTo>
                    <a:lnTo>
                      <a:pt x="8" y="6"/>
                    </a:lnTo>
                    <a:lnTo>
                      <a:pt x="1" y="15"/>
                    </a:lnTo>
                    <a:lnTo>
                      <a:pt x="0" y="31"/>
                    </a:lnTo>
                    <a:lnTo>
                      <a:pt x="5" y="56"/>
                    </a:lnTo>
                    <a:lnTo>
                      <a:pt x="17" y="90"/>
                    </a:lnTo>
                    <a:lnTo>
                      <a:pt x="18" y="92"/>
                    </a:lnTo>
                    <a:lnTo>
                      <a:pt x="21" y="97"/>
                    </a:lnTo>
                    <a:lnTo>
                      <a:pt x="24" y="103"/>
                    </a:lnTo>
                    <a:lnTo>
                      <a:pt x="30" y="109"/>
                    </a:lnTo>
                    <a:lnTo>
                      <a:pt x="38" y="113"/>
                    </a:lnTo>
                    <a:lnTo>
                      <a:pt x="48" y="114"/>
                    </a:lnTo>
                    <a:lnTo>
                      <a:pt x="62" y="112"/>
                    </a:lnTo>
                    <a:lnTo>
                      <a:pt x="78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2013120" y="4565880"/>
                <a:ext cx="172440" cy="59400"/>
              </a:xfrm>
              <a:custGeom>
                <a:avLst/>
                <a:gdLst/>
                <a:ahLst/>
                <a:rect l="l" t="t" r="r" b="b"/>
                <a:pathLst>
                  <a:path w="215" h="58">
                    <a:moveTo>
                      <a:pt x="212" y="58"/>
                    </a:moveTo>
                    <a:lnTo>
                      <a:pt x="215" y="46"/>
                    </a:lnTo>
                    <a:lnTo>
                      <a:pt x="3" y="0"/>
                    </a:lnTo>
                    <a:lnTo>
                      <a:pt x="0" y="12"/>
                    </a:lnTo>
                    <a:lnTo>
                      <a:pt x="21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2705040" y="4506480"/>
                <a:ext cx="412200" cy="172440"/>
              </a:xfrm>
              <a:custGeom>
                <a:avLst/>
                <a:gdLst/>
                <a:ahLst/>
                <a:rect l="l" t="t" r="r" b="b"/>
                <a:pathLst>
                  <a:path w="514" h="168">
                    <a:moveTo>
                      <a:pt x="0" y="0"/>
                    </a:moveTo>
                    <a:lnTo>
                      <a:pt x="184" y="104"/>
                    </a:lnTo>
                    <a:lnTo>
                      <a:pt x="178" y="168"/>
                    </a:lnTo>
                    <a:lnTo>
                      <a:pt x="188" y="162"/>
                    </a:lnTo>
                    <a:lnTo>
                      <a:pt x="192" y="106"/>
                    </a:lnTo>
                    <a:lnTo>
                      <a:pt x="514" y="90"/>
                    </a:lnTo>
                    <a:lnTo>
                      <a:pt x="506" y="71"/>
                    </a:lnTo>
                    <a:lnTo>
                      <a:pt x="330" y="24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2721240" y="4580280"/>
                <a:ext cx="64080" cy="1188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81" y="11"/>
                    </a:moveTo>
                    <a:lnTo>
                      <a:pt x="45" y="2"/>
                    </a:lnTo>
                    <a:lnTo>
                      <a:pt x="0" y="0"/>
                    </a:lnTo>
                    <a:lnTo>
                      <a:pt x="31" y="10"/>
                    </a:lnTo>
                    <a:lnTo>
                      <a:pt x="8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2777040" y="4580280"/>
                <a:ext cx="65520" cy="14400"/>
              </a:xfrm>
              <a:custGeom>
                <a:avLst/>
                <a:gdLst/>
                <a:ahLst/>
                <a:rect l="l" t="t" r="r" b="b"/>
                <a:pathLst>
                  <a:path w="81" h="12">
                    <a:moveTo>
                      <a:pt x="81" y="12"/>
                    </a:moveTo>
                    <a:lnTo>
                      <a:pt x="45" y="2"/>
                    </a:lnTo>
                    <a:lnTo>
                      <a:pt x="0" y="0"/>
                    </a:lnTo>
                    <a:lnTo>
                      <a:pt x="33" y="11"/>
                    </a:lnTo>
                    <a:lnTo>
                      <a:pt x="8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833200" y="4582080"/>
                <a:ext cx="65520" cy="14400"/>
              </a:xfrm>
              <a:custGeom>
                <a:avLst/>
                <a:gdLst/>
                <a:ahLst/>
                <a:rect l="l" t="t" r="r" b="b"/>
                <a:pathLst>
                  <a:path w="82" h="14">
                    <a:moveTo>
                      <a:pt x="82" y="14"/>
                    </a:moveTo>
                    <a:lnTo>
                      <a:pt x="43" y="2"/>
                    </a:lnTo>
                    <a:lnTo>
                      <a:pt x="0" y="0"/>
                    </a:lnTo>
                    <a:lnTo>
                      <a:pt x="34" y="12"/>
                    </a:lnTo>
                    <a:lnTo>
                      <a:pt x="8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779920" y="4555800"/>
                <a:ext cx="68760" cy="16200"/>
              </a:xfrm>
              <a:custGeom>
                <a:avLst/>
                <a:gdLst/>
                <a:ahLst/>
                <a:rect l="l" t="t" r="r" b="b"/>
                <a:pathLst>
                  <a:path w="86" h="17">
                    <a:moveTo>
                      <a:pt x="86" y="17"/>
                    </a:moveTo>
                    <a:lnTo>
                      <a:pt x="47" y="4"/>
                    </a:lnTo>
                    <a:lnTo>
                      <a:pt x="0" y="0"/>
                    </a:lnTo>
                    <a:lnTo>
                      <a:pt x="34" y="13"/>
                    </a:lnTo>
                    <a:lnTo>
                      <a:pt x="8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2839320" y="4555800"/>
                <a:ext cx="70560" cy="1620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88" y="16"/>
                    </a:moveTo>
                    <a:lnTo>
                      <a:pt x="47" y="4"/>
                    </a:lnTo>
                    <a:lnTo>
                      <a:pt x="0" y="0"/>
                    </a:lnTo>
                    <a:lnTo>
                      <a:pt x="37" y="13"/>
                    </a:lnTo>
                    <a:lnTo>
                      <a:pt x="8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2898360" y="4553640"/>
                <a:ext cx="70200" cy="18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89" y="17"/>
                    </a:moveTo>
                    <a:lnTo>
                      <a:pt x="46" y="4"/>
                    </a:lnTo>
                    <a:lnTo>
                      <a:pt x="0" y="0"/>
                    </a:lnTo>
                    <a:lnTo>
                      <a:pt x="38" y="15"/>
                    </a:lnTo>
                    <a:lnTo>
                      <a:pt x="8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2831040" y="4527000"/>
                <a:ext cx="75240" cy="20160"/>
              </a:xfrm>
              <a:custGeom>
                <a:avLst/>
                <a:gdLst/>
                <a:ahLst/>
                <a:rect l="l" t="t" r="r" b="b"/>
                <a:pathLst>
                  <a:path w="94" h="19">
                    <a:moveTo>
                      <a:pt x="94" y="19"/>
                    </a:moveTo>
                    <a:lnTo>
                      <a:pt x="50" y="4"/>
                    </a:lnTo>
                    <a:lnTo>
                      <a:pt x="0" y="0"/>
                    </a:lnTo>
                    <a:lnTo>
                      <a:pt x="38" y="14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2893320" y="4522680"/>
                <a:ext cx="75240" cy="2088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93" y="21"/>
                    </a:moveTo>
                    <a:lnTo>
                      <a:pt x="48" y="6"/>
                    </a:lnTo>
                    <a:lnTo>
                      <a:pt x="0" y="0"/>
                    </a:lnTo>
                    <a:lnTo>
                      <a:pt x="39" y="16"/>
                    </a:lnTo>
                    <a:lnTo>
                      <a:pt x="93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2954520" y="4519080"/>
                <a:ext cx="76680" cy="21960"/>
              </a:xfrm>
              <a:custGeom>
                <a:avLst/>
                <a:gdLst/>
                <a:ahLst/>
                <a:rect l="l" t="t" r="r" b="b"/>
                <a:pathLst>
                  <a:path w="94" h="22">
                    <a:moveTo>
                      <a:pt x="94" y="22"/>
                    </a:moveTo>
                    <a:lnTo>
                      <a:pt x="48" y="4"/>
                    </a:lnTo>
                    <a:lnTo>
                      <a:pt x="0" y="0"/>
                    </a:lnTo>
                    <a:lnTo>
                      <a:pt x="41" y="17"/>
                    </a:lnTo>
                    <a:lnTo>
                      <a:pt x="94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2904840" y="4512600"/>
                <a:ext cx="186840" cy="90000"/>
              </a:xfrm>
              <a:custGeom>
                <a:avLst/>
                <a:gdLst/>
                <a:ahLst/>
                <a:rect l="l" t="t" r="r" b="b"/>
                <a:pathLst>
                  <a:path w="233" h="88">
                    <a:moveTo>
                      <a:pt x="233" y="86"/>
                    </a:moveTo>
                    <a:lnTo>
                      <a:pt x="160" y="88"/>
                    </a:lnTo>
                    <a:lnTo>
                      <a:pt x="0" y="0"/>
                    </a:lnTo>
                    <a:lnTo>
                      <a:pt x="55" y="8"/>
                    </a:lnTo>
                    <a:lnTo>
                      <a:pt x="233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2710080" y="4502160"/>
                <a:ext cx="99000" cy="8388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99" y="4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97" y="4"/>
                    </a:lnTo>
                    <a:lnTo>
                      <a:pt x="95" y="2"/>
                    </a:lnTo>
                    <a:lnTo>
                      <a:pt x="84" y="0"/>
                    </a:lnTo>
                    <a:lnTo>
                      <a:pt x="72" y="4"/>
                    </a:lnTo>
                    <a:lnTo>
                      <a:pt x="58" y="10"/>
                    </a:lnTo>
                    <a:lnTo>
                      <a:pt x="43" y="19"/>
                    </a:lnTo>
                    <a:lnTo>
                      <a:pt x="29" y="29"/>
                    </a:lnTo>
                    <a:lnTo>
                      <a:pt x="16" y="40"/>
                    </a:lnTo>
                    <a:lnTo>
                      <a:pt x="7" y="50"/>
                    </a:lnTo>
                    <a:lnTo>
                      <a:pt x="2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3" y="82"/>
                    </a:lnTo>
                    <a:lnTo>
                      <a:pt x="23" y="79"/>
                    </a:lnTo>
                    <a:lnTo>
                      <a:pt x="37" y="70"/>
                    </a:lnTo>
                    <a:lnTo>
                      <a:pt x="46" y="64"/>
                    </a:lnTo>
                    <a:lnTo>
                      <a:pt x="58" y="56"/>
                    </a:lnTo>
                    <a:lnTo>
                      <a:pt x="73" y="48"/>
                    </a:lnTo>
                    <a:lnTo>
                      <a:pt x="88" y="38"/>
                    </a:lnTo>
                    <a:lnTo>
                      <a:pt x="103" y="30"/>
                    </a:lnTo>
                    <a:lnTo>
                      <a:pt x="114" y="24"/>
                    </a:lnTo>
                    <a:lnTo>
                      <a:pt x="122" y="19"/>
                    </a:lnTo>
                    <a:lnTo>
                      <a:pt x="126" y="18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324480" y="2286000"/>
              <a:ext cx="1371240" cy="3657240"/>
              <a:chOff x="6324480" y="2286000"/>
              <a:chExt cx="1371240" cy="3657240"/>
            </a:xfrm>
          </p:grpSpPr>
          <p:grpSp>
            <p:nvGrpSpPr>
              <p:cNvPr id="1744" name=""/>
              <p:cNvGrpSpPr/>
              <p:nvPr/>
            </p:nvGrpSpPr>
            <p:grpSpPr>
              <a:xfrm>
                <a:off x="6324480" y="4754160"/>
                <a:ext cx="1371240" cy="1189080"/>
                <a:chOff x="6324480" y="4754160"/>
                <a:chExt cx="1371240" cy="118908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6324480" y="4754160"/>
                  <a:ext cx="1371240" cy="117972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382880" y="5817600"/>
                  <a:ext cx="72720" cy="12564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6357960" y="5441760"/>
                  <a:ext cx="803880" cy="47700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925320" y="5562720"/>
                  <a:ext cx="225000" cy="34200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465240" y="5494680"/>
                  <a:ext cx="417240" cy="25452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6705360" y="5522400"/>
                  <a:ext cx="327960" cy="23004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6705360" y="5499720"/>
                  <a:ext cx="327960" cy="22644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7022880" y="5504760"/>
                  <a:ext cx="146880" cy="8964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6950880" y="5334480"/>
                  <a:ext cx="693000" cy="59400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7007760" y="5213520"/>
                  <a:ext cx="627480" cy="64836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007760" y="5247720"/>
                  <a:ext cx="428760" cy="61668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224120" y="5190840"/>
                  <a:ext cx="124560" cy="13248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7113960" y="4914360"/>
                  <a:ext cx="353520" cy="44064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7120440" y="5022720"/>
                  <a:ext cx="211680" cy="26172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6978600" y="5360040"/>
                  <a:ext cx="397080" cy="36900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7216200" y="531576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244280" y="533556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273800" y="5333400"/>
                  <a:ext cx="22680" cy="2448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308360" y="532872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7336800" y="5306040"/>
                  <a:ext cx="19440" cy="2232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7353360" y="5270400"/>
                  <a:ext cx="19440" cy="2160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6890760" y="5487840"/>
                  <a:ext cx="150480" cy="7848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6877440" y="5582520"/>
                  <a:ext cx="140040" cy="705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6586560" y="5208480"/>
                  <a:ext cx="248760" cy="47232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6624720" y="5252760"/>
                  <a:ext cx="171000" cy="35604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6397920" y="5280480"/>
                  <a:ext cx="272160" cy="42696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6836760" y="5750640"/>
                  <a:ext cx="136440" cy="9036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6410160" y="5633640"/>
                  <a:ext cx="465120" cy="2084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6865200" y="5759640"/>
                  <a:ext cx="43200" cy="7560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6865920" y="550584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879240" y="5521320"/>
                  <a:ext cx="11520" cy="2052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831360" y="553248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849000" y="5537160"/>
                  <a:ext cx="18360" cy="3204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6870240" y="5549040"/>
                  <a:ext cx="15840" cy="2916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923520" y="555480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895080" y="5560920"/>
                  <a:ext cx="12240" cy="1548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811920" y="5565600"/>
                  <a:ext cx="19440" cy="2916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959880" y="556560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827760" y="5578560"/>
                  <a:ext cx="17640" cy="324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858000" y="5580360"/>
                  <a:ext cx="1476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869520" y="5605200"/>
                  <a:ext cx="8640" cy="2052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782760" y="5609160"/>
                  <a:ext cx="1404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798600" y="5612760"/>
                  <a:ext cx="20160" cy="3744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6818760" y="5622840"/>
                  <a:ext cx="15840" cy="313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6837480" y="5629680"/>
                  <a:ext cx="18360" cy="3024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6863400" y="5635440"/>
                  <a:ext cx="11160" cy="3024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758640" y="5648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6881040" y="5650200"/>
                  <a:ext cx="12960" cy="2448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904800" y="565020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6777360" y="5656320"/>
                  <a:ext cx="14760" cy="313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6790320" y="5661360"/>
                  <a:ext cx="17640" cy="3204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6816240" y="5668920"/>
                  <a:ext cx="14040" cy="3024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6841800" y="5675040"/>
                  <a:ext cx="12960" cy="313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6865920" y="5682960"/>
                  <a:ext cx="12240" cy="342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492680" y="5527440"/>
                  <a:ext cx="52920" cy="4608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7482960" y="5590440"/>
                  <a:ext cx="47520" cy="4104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7455600" y="5643360"/>
                  <a:ext cx="45000" cy="4716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365960" y="5349240"/>
                  <a:ext cx="8640" cy="4392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205400" y="5391360"/>
                  <a:ext cx="34560" cy="3312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385400" y="5405400"/>
                  <a:ext cx="31680" cy="2628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305480" y="5415120"/>
                  <a:ext cx="12960" cy="5400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226640" y="5443560"/>
                  <a:ext cx="20160" cy="342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185240" y="5478120"/>
                  <a:ext cx="20160" cy="4788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7370280" y="549576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272000" y="5529240"/>
                  <a:ext cx="45720" cy="2520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7162920" y="5562720"/>
                  <a:ext cx="20160" cy="3636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263720" y="561492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331400" y="5608080"/>
                  <a:ext cx="30960" cy="1584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128360" y="5661360"/>
                  <a:ext cx="21240" cy="3996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210800" y="5666040"/>
                  <a:ext cx="11160" cy="4500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038720" y="5783040"/>
                  <a:ext cx="19440" cy="4608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279920" y="5726160"/>
                  <a:ext cx="15840" cy="4788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079400" y="573120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05400" y="5778360"/>
                  <a:ext cx="32760" cy="4788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120440" y="5809680"/>
                  <a:ext cx="24480" cy="352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198200" y="5065920"/>
                  <a:ext cx="8640" cy="2520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214400" y="5061960"/>
                  <a:ext cx="7920" cy="342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182360" y="5068800"/>
                  <a:ext cx="9720" cy="3312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230960" y="5063760"/>
                  <a:ext cx="10440" cy="342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7162920" y="5077800"/>
                  <a:ext cx="13320" cy="302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148880" y="509256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140600" y="5082840"/>
                  <a:ext cx="113400" cy="5076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157520" y="5093280"/>
                  <a:ext cx="71640" cy="313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180560" y="510336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6675120" y="5280480"/>
                  <a:ext cx="42480" cy="15624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705360" y="5327640"/>
                  <a:ext cx="29880" cy="14436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6739200" y="5396400"/>
                  <a:ext cx="20160" cy="8640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6536160" y="5339520"/>
                  <a:ext cx="31680" cy="410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544080" y="5367960"/>
                  <a:ext cx="34560" cy="4320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6548400" y="540324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6559200" y="54417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6568920" y="5482080"/>
                  <a:ext cx="27360" cy="352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574320" y="5519520"/>
                  <a:ext cx="30960" cy="4212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6582240" y="5566680"/>
                  <a:ext cx="34560" cy="4500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593760" y="561600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603480" y="565308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206120" y="4944600"/>
                  <a:ext cx="4608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64800" y="495180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147800" y="4964400"/>
                  <a:ext cx="50400" cy="5112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272000" y="501768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319880" y="4977360"/>
                  <a:ext cx="51120" cy="6264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337520" y="5047200"/>
                  <a:ext cx="56520" cy="5292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360560" y="5107320"/>
                  <a:ext cx="47520" cy="5688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329600" y="517032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402320" y="5193000"/>
                  <a:ext cx="46800" cy="648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376400" y="5279400"/>
                  <a:ext cx="43200" cy="5976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514640" y="547128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536240" y="541512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427880" y="5711400"/>
                  <a:ext cx="52920" cy="4500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144200" y="5208480"/>
                  <a:ext cx="39600" cy="352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6324480" y="2286000"/>
                <a:ext cx="1371240" cy="1189080"/>
                <a:chOff x="6324480" y="2286000"/>
                <a:chExt cx="1371240" cy="118908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6324480" y="2286000"/>
                  <a:ext cx="1371240" cy="117972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382880" y="3349440"/>
                  <a:ext cx="72720" cy="12564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357960" y="2973600"/>
                  <a:ext cx="803880" cy="47700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925320" y="3094560"/>
                  <a:ext cx="225000" cy="34200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6465240" y="3026520"/>
                  <a:ext cx="417240" cy="25452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6705360" y="3054240"/>
                  <a:ext cx="327960" cy="23004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6705360" y="3031560"/>
                  <a:ext cx="327960" cy="22644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7022880" y="3036600"/>
                  <a:ext cx="146880" cy="8964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6950880" y="2866320"/>
                  <a:ext cx="693000" cy="59400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7007760" y="2745360"/>
                  <a:ext cx="627480" cy="64836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7007760" y="2779560"/>
                  <a:ext cx="428760" cy="61668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7224120" y="2722680"/>
                  <a:ext cx="124560" cy="13248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7113960" y="2446200"/>
                  <a:ext cx="353520" cy="44064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7120440" y="2554560"/>
                  <a:ext cx="211680" cy="26172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6978600" y="2891880"/>
                  <a:ext cx="397080" cy="36900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7216200" y="28476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7244280" y="286740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7273800" y="2865240"/>
                  <a:ext cx="22680" cy="2448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7308360" y="286056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336800" y="2837880"/>
                  <a:ext cx="19440" cy="2232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7353360" y="2802240"/>
                  <a:ext cx="19440" cy="2160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6890760" y="3019680"/>
                  <a:ext cx="150480" cy="7848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6877440" y="3114360"/>
                  <a:ext cx="140040" cy="705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6586560" y="2740320"/>
                  <a:ext cx="248760" cy="47232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6624720" y="2784600"/>
                  <a:ext cx="171000" cy="35604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6397920" y="2812320"/>
                  <a:ext cx="272160" cy="42696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836760" y="3282480"/>
                  <a:ext cx="136440" cy="9036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6410160" y="3165480"/>
                  <a:ext cx="465120" cy="2084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6865200" y="3291480"/>
                  <a:ext cx="43200" cy="7560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865920" y="303768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879240" y="3053160"/>
                  <a:ext cx="11520" cy="2052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831360" y="30643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849000" y="3069000"/>
                  <a:ext cx="18360" cy="3204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870240" y="3080880"/>
                  <a:ext cx="15840" cy="2916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923520" y="308664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895080" y="3092760"/>
                  <a:ext cx="12240" cy="1548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811920" y="3097440"/>
                  <a:ext cx="19440" cy="2916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959880" y="309744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827760" y="3110400"/>
                  <a:ext cx="17640" cy="324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858000" y="3112200"/>
                  <a:ext cx="1476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869520" y="3137040"/>
                  <a:ext cx="8640" cy="2052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782760" y="3141000"/>
                  <a:ext cx="1404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798600" y="3144600"/>
                  <a:ext cx="20160" cy="3744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818760" y="3154680"/>
                  <a:ext cx="15840" cy="313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837480" y="3161520"/>
                  <a:ext cx="18360" cy="3024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6863400" y="3167280"/>
                  <a:ext cx="11160" cy="3024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758640" y="318024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6881040" y="3182040"/>
                  <a:ext cx="12960" cy="2448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6904800" y="318204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777360" y="3188160"/>
                  <a:ext cx="14760" cy="313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790320" y="3193200"/>
                  <a:ext cx="17640" cy="3204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816240" y="3200760"/>
                  <a:ext cx="14040" cy="3024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841800" y="3206880"/>
                  <a:ext cx="12960" cy="313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865920" y="3214800"/>
                  <a:ext cx="12240" cy="342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7492680" y="3059280"/>
                  <a:ext cx="52920" cy="4608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7482960" y="3122280"/>
                  <a:ext cx="47520" cy="4104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7455600" y="3175200"/>
                  <a:ext cx="45000" cy="4716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7365960" y="2881080"/>
                  <a:ext cx="8640" cy="4392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7205400" y="2923200"/>
                  <a:ext cx="34560" cy="3312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385400" y="2937240"/>
                  <a:ext cx="31680" cy="2628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7305480" y="2946960"/>
                  <a:ext cx="12960" cy="5400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226640" y="2975400"/>
                  <a:ext cx="20160" cy="342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185240" y="3009960"/>
                  <a:ext cx="20160" cy="4788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370280" y="302760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7272000" y="3061080"/>
                  <a:ext cx="45720" cy="2520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162920" y="3094560"/>
                  <a:ext cx="20160" cy="3636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263720" y="314676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7331400" y="3139920"/>
                  <a:ext cx="30960" cy="1584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7128360" y="3193200"/>
                  <a:ext cx="21240" cy="3996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7210800" y="3197880"/>
                  <a:ext cx="11160" cy="4500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7038720" y="3314880"/>
                  <a:ext cx="19440" cy="4608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279920" y="3258000"/>
                  <a:ext cx="15840" cy="4788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7079400" y="326304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7205400" y="3310200"/>
                  <a:ext cx="32760" cy="4788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7120440" y="3341520"/>
                  <a:ext cx="24480" cy="352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198200" y="2597760"/>
                  <a:ext cx="8640" cy="2520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214400" y="2593800"/>
                  <a:ext cx="7920" cy="342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182360" y="2600640"/>
                  <a:ext cx="9720" cy="3312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230960" y="2595600"/>
                  <a:ext cx="10440" cy="342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162920" y="2609640"/>
                  <a:ext cx="13320" cy="302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148880" y="262440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140600" y="2614680"/>
                  <a:ext cx="113400" cy="5076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157520" y="2625120"/>
                  <a:ext cx="71640" cy="313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180560" y="263520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6675120" y="2812320"/>
                  <a:ext cx="42480" cy="15624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705360" y="2859480"/>
                  <a:ext cx="29880" cy="14436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739200" y="2928240"/>
                  <a:ext cx="20160" cy="8640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536160" y="2871360"/>
                  <a:ext cx="31680" cy="410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544080" y="2899800"/>
                  <a:ext cx="34560" cy="4320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548400" y="293508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559200" y="297360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568920" y="3013920"/>
                  <a:ext cx="27360" cy="352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574320" y="3051360"/>
                  <a:ext cx="30960" cy="4212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582240" y="3098520"/>
                  <a:ext cx="34560" cy="4500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593760" y="314784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603480" y="318492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206120" y="2476440"/>
                  <a:ext cx="4608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264800" y="248364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147800" y="2496240"/>
                  <a:ext cx="50400" cy="5112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272000" y="254952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319880" y="2509200"/>
                  <a:ext cx="51120" cy="6264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337520" y="2579040"/>
                  <a:ext cx="56520" cy="5292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360560" y="2639160"/>
                  <a:ext cx="47520" cy="5688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7329600" y="270216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7402320" y="2724840"/>
                  <a:ext cx="46800" cy="648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7376400" y="2811240"/>
                  <a:ext cx="43200" cy="5976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7514640" y="300312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7536240" y="294696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427880" y="3243240"/>
                  <a:ext cx="52920" cy="4500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144200" y="2740320"/>
                  <a:ext cx="39600" cy="352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6324480" y="3525480"/>
                <a:ext cx="1371240" cy="1189080"/>
                <a:chOff x="6324480" y="3525480"/>
                <a:chExt cx="1371240" cy="118908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6324480" y="3525480"/>
                  <a:ext cx="1371240" cy="117972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382880" y="4588920"/>
                  <a:ext cx="72720" cy="12564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357960" y="4213080"/>
                  <a:ext cx="803880" cy="47700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925320" y="4334040"/>
                  <a:ext cx="225000" cy="34200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465240" y="4266000"/>
                  <a:ext cx="417240" cy="25452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705360" y="4293720"/>
                  <a:ext cx="327960" cy="23004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705360" y="4271040"/>
                  <a:ext cx="327960" cy="22644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7022880" y="4276080"/>
                  <a:ext cx="146880" cy="8964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950880" y="4105800"/>
                  <a:ext cx="693000" cy="59400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7007760" y="3984840"/>
                  <a:ext cx="627480" cy="64836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7007760" y="4019040"/>
                  <a:ext cx="428760" cy="61668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7224120" y="3962160"/>
                  <a:ext cx="124560" cy="13248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7113960" y="3685680"/>
                  <a:ext cx="353520" cy="44064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7120440" y="3794040"/>
                  <a:ext cx="211680" cy="26172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978600" y="4131360"/>
                  <a:ext cx="397080" cy="36900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7216200" y="40870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244280" y="4106880"/>
                  <a:ext cx="18360" cy="2052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273800" y="4104720"/>
                  <a:ext cx="22680" cy="2448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308360" y="410004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336800" y="4077360"/>
                  <a:ext cx="19440" cy="2232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7353360" y="4041720"/>
                  <a:ext cx="19440" cy="2160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6890760" y="4259160"/>
                  <a:ext cx="150480" cy="7848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6877440" y="4353840"/>
                  <a:ext cx="140040" cy="705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6586560" y="3979800"/>
                  <a:ext cx="248760" cy="47232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6624720" y="4024080"/>
                  <a:ext cx="171000" cy="35604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97920" y="4051800"/>
                  <a:ext cx="272160" cy="42696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6836760" y="4521960"/>
                  <a:ext cx="136440" cy="9036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410160" y="4404960"/>
                  <a:ext cx="465120" cy="2084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6865200" y="4530960"/>
                  <a:ext cx="43200" cy="7560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6865920" y="427716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6879240" y="4292640"/>
                  <a:ext cx="11520" cy="2052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6831360" y="430380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6849000" y="4308480"/>
                  <a:ext cx="18360" cy="3204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6870240" y="4320360"/>
                  <a:ext cx="15840" cy="2916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6923520" y="432612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6895080" y="4332240"/>
                  <a:ext cx="12240" cy="1548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811920" y="4336920"/>
                  <a:ext cx="19440" cy="2916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6959880" y="4336920"/>
                  <a:ext cx="11160" cy="2052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6827760" y="4349880"/>
                  <a:ext cx="17640" cy="324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6858000" y="4351680"/>
                  <a:ext cx="1476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6869520" y="4376520"/>
                  <a:ext cx="8640" cy="2052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6782760" y="4380480"/>
                  <a:ext cx="14040" cy="3312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798600" y="4384080"/>
                  <a:ext cx="20160" cy="3744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818760" y="4394160"/>
                  <a:ext cx="15840" cy="313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837480" y="4401000"/>
                  <a:ext cx="18360" cy="3024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863400" y="4406760"/>
                  <a:ext cx="11160" cy="3024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758640" y="441972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881040" y="4421520"/>
                  <a:ext cx="12960" cy="2448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904800" y="442152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777360" y="4427640"/>
                  <a:ext cx="14760" cy="313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790320" y="4432680"/>
                  <a:ext cx="17640" cy="3204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816240" y="4440240"/>
                  <a:ext cx="14040" cy="3024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41800" y="4446360"/>
                  <a:ext cx="12960" cy="313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865920" y="4454280"/>
                  <a:ext cx="12240" cy="342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492680" y="4298760"/>
                  <a:ext cx="52920" cy="4608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482960" y="4361760"/>
                  <a:ext cx="47520" cy="4104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455600" y="4414680"/>
                  <a:ext cx="45000" cy="4716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365960" y="4120560"/>
                  <a:ext cx="8640" cy="4392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205400" y="4162680"/>
                  <a:ext cx="34560" cy="3312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385400" y="4176720"/>
                  <a:ext cx="31680" cy="2628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305480" y="4186440"/>
                  <a:ext cx="12960" cy="5400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7226640" y="4214880"/>
                  <a:ext cx="20160" cy="342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7185240" y="4249440"/>
                  <a:ext cx="20160" cy="4788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7370280" y="426708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272000" y="4300560"/>
                  <a:ext cx="45720" cy="2520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62920" y="4334040"/>
                  <a:ext cx="20160" cy="3636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63720" y="438624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331400" y="4379400"/>
                  <a:ext cx="30960" cy="1584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128360" y="4432680"/>
                  <a:ext cx="21240" cy="3996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210800" y="4437360"/>
                  <a:ext cx="11160" cy="4500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038720" y="4554360"/>
                  <a:ext cx="19440" cy="4608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7279920" y="4497480"/>
                  <a:ext cx="15840" cy="4788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7079400" y="45025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205400" y="4549680"/>
                  <a:ext cx="32760" cy="4788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7120440" y="4581000"/>
                  <a:ext cx="24480" cy="352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98200" y="3837240"/>
                  <a:ext cx="8640" cy="2520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7214400" y="3833280"/>
                  <a:ext cx="7920" cy="342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7182360" y="3840120"/>
                  <a:ext cx="9720" cy="3312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7230960" y="3835080"/>
                  <a:ext cx="10440" cy="342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7162920" y="3849120"/>
                  <a:ext cx="13320" cy="302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7148880" y="3863880"/>
                  <a:ext cx="14760" cy="2736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7140600" y="3854160"/>
                  <a:ext cx="113400" cy="5076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7157520" y="3864600"/>
                  <a:ext cx="71640" cy="313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7180560" y="387468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675120" y="4051800"/>
                  <a:ext cx="42480" cy="15624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705360" y="4098960"/>
                  <a:ext cx="29880" cy="14436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739200" y="4167720"/>
                  <a:ext cx="20160" cy="8640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536160" y="4110840"/>
                  <a:ext cx="31680" cy="410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544080" y="4139280"/>
                  <a:ext cx="34560" cy="4320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548400" y="417456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559200" y="421308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568920" y="4253400"/>
                  <a:ext cx="27360" cy="352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574320" y="4290840"/>
                  <a:ext cx="30960" cy="4212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582240" y="4338000"/>
                  <a:ext cx="34560" cy="4500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593760" y="43873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6603480" y="4424400"/>
                  <a:ext cx="29880" cy="381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7206120" y="3715920"/>
                  <a:ext cx="4608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264800" y="372312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147800" y="3735720"/>
                  <a:ext cx="50400" cy="5112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7272000" y="3789000"/>
                  <a:ext cx="45720" cy="5976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319880" y="3748680"/>
                  <a:ext cx="51120" cy="6264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337520" y="3818520"/>
                  <a:ext cx="56520" cy="5292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360560" y="3878640"/>
                  <a:ext cx="47520" cy="5688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329600" y="394164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402320" y="3964320"/>
                  <a:ext cx="46800" cy="648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376400" y="4050720"/>
                  <a:ext cx="43200" cy="5976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7514640" y="424260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536240" y="4186440"/>
                  <a:ext cx="54000" cy="4608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7427880" y="4482720"/>
                  <a:ext cx="52920" cy="4500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7144200" y="3979800"/>
                  <a:ext cx="39600" cy="352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7" name=""/>
            <p:cNvGrpSpPr/>
            <p:nvPr/>
          </p:nvGrpSpPr>
          <p:grpSpPr>
            <a:xfrm>
              <a:off x="4076640" y="3543480"/>
              <a:ext cx="1522440" cy="1141920"/>
              <a:chOff x="4076640" y="3543480"/>
              <a:chExt cx="1522440" cy="1141920"/>
            </a:xfrm>
          </p:grpSpPr>
          <p:grpSp>
            <p:nvGrpSpPr>
              <p:cNvPr id="2078" name=""/>
              <p:cNvGrpSpPr/>
              <p:nvPr/>
            </p:nvGrpSpPr>
            <p:grpSpPr>
              <a:xfrm>
                <a:off x="5361480" y="3638880"/>
                <a:ext cx="237600" cy="886680"/>
                <a:chOff x="5361480" y="3638880"/>
                <a:chExt cx="237600" cy="886680"/>
              </a:xfrm>
            </p:grpSpPr>
            <p:sp>
              <p:nvSpPr>
                <p:cNvPr id="2079" name=""/>
                <p:cNvSpPr/>
                <p:nvPr/>
              </p:nvSpPr>
              <p:spPr>
                <a:xfrm flipH="1">
                  <a:off x="5361480" y="3638880"/>
                  <a:ext cx="225360" cy="2851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373720" y="4082400"/>
                  <a:ext cx="225360" cy="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5373720" y="4240440"/>
                  <a:ext cx="225360" cy="285120"/>
                </a:xfrm>
                <a:prstGeom prst="line">
                  <a:avLst/>
                </a:prstGeom>
                <a:ln w="3816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4076640" y="3543480"/>
                <a:ext cx="1207800" cy="1141920"/>
                <a:chOff x="4076640" y="3543480"/>
                <a:chExt cx="1207800" cy="1141920"/>
              </a:xfrm>
            </p:grpSpPr>
            <p:sp>
              <p:nvSpPr>
                <p:cNvPr id="2083" name=""/>
                <p:cNvSpPr/>
                <p:nvPr/>
              </p:nvSpPr>
              <p:spPr>
                <a:xfrm rot="16200000">
                  <a:off x="4147200" y="3585960"/>
                  <a:ext cx="1141920" cy="1056600"/>
                </a:xfrm>
                <a:prstGeom prst="triangle">
                  <a:avLst>
                    <a:gd name="adj" fmla="val 48148"/>
                  </a:avLst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5208840" y="3543480"/>
                  <a:ext cx="75600" cy="114192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076640" y="3976560"/>
                  <a:ext cx="396360" cy="3042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6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523440" y="1327320"/>
            <a:ext cx="6843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zone can be assigned to control internal page in the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ging codes are as follow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01920" y="4724280"/>
            <a:ext cx="536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Access                                   : PGM111-BTN 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Page Zone Access            : PGM1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erence Page Zone Access     : PGM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Warning Tone                        : PGM161-BTN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imeout Timer                       : PGM181-BTN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73000" y="2003400"/>
            <a:ext cx="5527800" cy="847800"/>
          </a:xfrm>
          <a:prstGeom prst="rect">
            <a:avLst/>
          </a:prstGeom>
          <a:solidFill>
            <a:srgbClr val="e6f3f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871560" y="2416320"/>
            <a:ext cx="552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47880" y="200340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793960" y="200340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679920" y="200340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624560" y="200340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545080" y="2003400"/>
            <a:ext cx="0" cy="84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54720" y="245268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01-5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912960" y="2052720"/>
            <a:ext cx="866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. Z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763360" y="2052720"/>
            <a:ext cx="92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. Z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650760" y="20527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al 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27160" y="2052720"/>
            <a:ext cx="7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l C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561640" y="2101680"/>
            <a:ext cx="89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et-m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920240" y="2452680"/>
            <a:ext cx="78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06-5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996640" y="244944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939480" y="244944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869720" y="2471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780880" y="2471760"/>
            <a:ext cx="455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Arial"/>
              </a:rPr>
              <a:t>54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808640" y="2052720"/>
            <a:ext cx="104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f. Z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22000" y="2878200"/>
            <a:ext cx="64018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Zone Paging (545: BKSU 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-me for Paging (In SLT:544, In DKTU:HOLD/SAVE But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33520" y="42051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30320" y="103320"/>
            <a:ext cx="16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/>
          <p:nvPr/>
        </p:nvSpPr>
        <p:spPr>
          <a:xfrm>
            <a:off x="543960" y="1379520"/>
            <a:ext cx="5257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-recorded message with VMIB can be pag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96160" y="2581200"/>
            <a:ext cx="66290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[TRANS/PGM] + “65” to record page message at a s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ing access privilege of VMI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 [TRANS/PGM] + “67” to delete the recorded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 paging code then the recorded message will be play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91480" y="4991040"/>
            <a:ext cx="4304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IB Access Privilege : PGM113-BTN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42920" y="9360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with VMIB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3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33520" y="2200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33520" y="45608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/>
          <p:nvPr/>
        </p:nvSpPr>
        <p:spPr>
          <a:xfrm>
            <a:off x="533520" y="139068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paging conference group, a station can join the page during another station is being pag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3040" y="104760"/>
            <a:ext cx="39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Conference Group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4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1371600" y="1832040"/>
            <a:ext cx="6400800" cy="4204800"/>
            <a:chOff x="1371600" y="1832040"/>
            <a:chExt cx="6400800" cy="4204800"/>
          </a:xfrm>
        </p:grpSpPr>
        <p:grpSp>
          <p:nvGrpSpPr>
            <p:cNvPr id="2122" name=""/>
            <p:cNvGrpSpPr/>
            <p:nvPr/>
          </p:nvGrpSpPr>
          <p:grpSpPr>
            <a:xfrm>
              <a:off x="2247840" y="1832040"/>
              <a:ext cx="4647960" cy="2526840"/>
              <a:chOff x="2247840" y="1832040"/>
              <a:chExt cx="4647960" cy="2526840"/>
            </a:xfrm>
          </p:grpSpPr>
          <p:sp>
            <p:nvSpPr>
              <p:cNvPr id="2123" name=""/>
              <p:cNvSpPr/>
              <p:nvPr/>
            </p:nvSpPr>
            <p:spPr>
              <a:xfrm>
                <a:off x="2247840" y="2184480"/>
                <a:ext cx="4647960" cy="939960"/>
              </a:xfrm>
              <a:prstGeom prst="roundRect">
                <a:avLst>
                  <a:gd name="adj" fmla="val 50000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9800" y="2301840"/>
                <a:ext cx="1892520" cy="77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25" name=""/>
              <p:cNvGrpSpPr/>
              <p:nvPr/>
            </p:nvGrpSpPr>
            <p:grpSpPr>
              <a:xfrm>
                <a:off x="2628720" y="2304360"/>
                <a:ext cx="1892160" cy="773640"/>
                <a:chOff x="2628720" y="2304360"/>
                <a:chExt cx="1892160" cy="773640"/>
              </a:xfrm>
            </p:grpSpPr>
            <p:sp>
              <p:nvSpPr>
                <p:cNvPr id="2126" name=""/>
                <p:cNvSpPr/>
                <p:nvPr/>
              </p:nvSpPr>
              <p:spPr>
                <a:xfrm flipH="1">
                  <a:off x="2628720" y="2304360"/>
                  <a:ext cx="1892160" cy="773640"/>
                </a:xfrm>
                <a:custGeom>
                  <a:avLst/>
                  <a:gdLst/>
                  <a:ahLst/>
                  <a:rect l="l" t="t" r="r" b="b"/>
                  <a:pathLst>
                    <a:path w="2384" h="1263">
                      <a:moveTo>
                        <a:pt x="1875" y="5"/>
                      </a:moveTo>
                      <a:lnTo>
                        <a:pt x="1896" y="10"/>
                      </a:lnTo>
                      <a:lnTo>
                        <a:pt x="1919" y="17"/>
                      </a:lnTo>
                      <a:lnTo>
                        <a:pt x="1943" y="26"/>
                      </a:lnTo>
                      <a:lnTo>
                        <a:pt x="1967" y="41"/>
                      </a:lnTo>
                      <a:lnTo>
                        <a:pt x="1989" y="59"/>
                      </a:lnTo>
                      <a:lnTo>
                        <a:pt x="2008" y="84"/>
                      </a:lnTo>
                      <a:lnTo>
                        <a:pt x="2020" y="114"/>
                      </a:lnTo>
                      <a:lnTo>
                        <a:pt x="2026" y="150"/>
                      </a:lnTo>
                      <a:lnTo>
                        <a:pt x="2027" y="188"/>
                      </a:lnTo>
                      <a:lnTo>
                        <a:pt x="2027" y="222"/>
                      </a:lnTo>
                      <a:lnTo>
                        <a:pt x="2025" y="253"/>
                      </a:lnTo>
                      <a:lnTo>
                        <a:pt x="2021" y="279"/>
                      </a:lnTo>
                      <a:lnTo>
                        <a:pt x="2014" y="304"/>
                      </a:lnTo>
                      <a:lnTo>
                        <a:pt x="2006" y="324"/>
                      </a:lnTo>
                      <a:lnTo>
                        <a:pt x="1995" y="344"/>
                      </a:lnTo>
                      <a:lnTo>
                        <a:pt x="1980" y="361"/>
                      </a:lnTo>
                      <a:lnTo>
                        <a:pt x="1988" y="411"/>
                      </a:lnTo>
                      <a:lnTo>
                        <a:pt x="1910" y="435"/>
                      </a:lnTo>
                      <a:lnTo>
                        <a:pt x="1948" y="467"/>
                      </a:lnTo>
                      <a:lnTo>
                        <a:pt x="2124" y="546"/>
                      </a:lnTo>
                      <a:lnTo>
                        <a:pt x="2127" y="548"/>
                      </a:lnTo>
                      <a:lnTo>
                        <a:pt x="2138" y="556"/>
                      </a:lnTo>
                      <a:lnTo>
                        <a:pt x="2151" y="566"/>
                      </a:lnTo>
                      <a:lnTo>
                        <a:pt x="2168" y="580"/>
                      </a:lnTo>
                      <a:lnTo>
                        <a:pt x="2184" y="596"/>
                      </a:lnTo>
                      <a:lnTo>
                        <a:pt x="2198" y="612"/>
                      </a:lnTo>
                      <a:lnTo>
                        <a:pt x="2206" y="628"/>
                      </a:lnTo>
                      <a:lnTo>
                        <a:pt x="2208" y="643"/>
                      </a:lnTo>
                      <a:lnTo>
                        <a:pt x="2207" y="657"/>
                      </a:lnTo>
                      <a:lnTo>
                        <a:pt x="2207" y="672"/>
                      </a:lnTo>
                      <a:lnTo>
                        <a:pt x="2207" y="686"/>
                      </a:lnTo>
                      <a:lnTo>
                        <a:pt x="2206" y="700"/>
                      </a:lnTo>
                      <a:lnTo>
                        <a:pt x="2202" y="714"/>
                      </a:lnTo>
                      <a:lnTo>
                        <a:pt x="2195" y="726"/>
                      </a:lnTo>
                      <a:lnTo>
                        <a:pt x="2183" y="738"/>
                      </a:lnTo>
                      <a:lnTo>
                        <a:pt x="2164" y="748"/>
                      </a:lnTo>
                      <a:lnTo>
                        <a:pt x="2163" y="749"/>
                      </a:lnTo>
                      <a:lnTo>
                        <a:pt x="2160" y="753"/>
                      </a:lnTo>
                      <a:lnTo>
                        <a:pt x="2154" y="757"/>
                      </a:lnTo>
                      <a:lnTo>
                        <a:pt x="2149" y="765"/>
                      </a:lnTo>
                      <a:lnTo>
                        <a:pt x="2145" y="775"/>
                      </a:lnTo>
                      <a:lnTo>
                        <a:pt x="2141" y="787"/>
                      </a:lnTo>
                      <a:lnTo>
                        <a:pt x="2141" y="801"/>
                      </a:lnTo>
                      <a:lnTo>
                        <a:pt x="2145" y="817"/>
                      </a:lnTo>
                      <a:lnTo>
                        <a:pt x="2150" y="836"/>
                      </a:lnTo>
                      <a:lnTo>
                        <a:pt x="2155" y="855"/>
                      </a:lnTo>
                      <a:lnTo>
                        <a:pt x="2158" y="877"/>
                      </a:lnTo>
                      <a:lnTo>
                        <a:pt x="2160" y="898"/>
                      </a:lnTo>
                      <a:lnTo>
                        <a:pt x="2157" y="919"/>
                      </a:lnTo>
                      <a:lnTo>
                        <a:pt x="2153" y="938"/>
                      </a:lnTo>
                      <a:lnTo>
                        <a:pt x="2142" y="956"/>
                      </a:lnTo>
                      <a:lnTo>
                        <a:pt x="2127" y="970"/>
                      </a:lnTo>
                      <a:lnTo>
                        <a:pt x="2110" y="983"/>
                      </a:lnTo>
                      <a:lnTo>
                        <a:pt x="2097" y="996"/>
                      </a:lnTo>
                      <a:lnTo>
                        <a:pt x="2087" y="1007"/>
                      </a:lnTo>
                      <a:lnTo>
                        <a:pt x="2079" y="1018"/>
                      </a:lnTo>
                      <a:lnTo>
                        <a:pt x="2074" y="1027"/>
                      </a:lnTo>
                      <a:lnTo>
                        <a:pt x="2071" y="1034"/>
                      </a:lnTo>
                      <a:lnTo>
                        <a:pt x="2069" y="1038"/>
                      </a:lnTo>
                      <a:lnTo>
                        <a:pt x="2069" y="1040"/>
                      </a:lnTo>
                      <a:lnTo>
                        <a:pt x="2384" y="1263"/>
                      </a:lnTo>
                      <a:lnTo>
                        <a:pt x="0" y="1263"/>
                      </a:lnTo>
                      <a:lnTo>
                        <a:pt x="199" y="1011"/>
                      </a:lnTo>
                      <a:lnTo>
                        <a:pt x="711" y="1011"/>
                      </a:lnTo>
                      <a:lnTo>
                        <a:pt x="711" y="1008"/>
                      </a:lnTo>
                      <a:lnTo>
                        <a:pt x="711" y="1002"/>
                      </a:lnTo>
                      <a:lnTo>
                        <a:pt x="715" y="992"/>
                      </a:lnTo>
                      <a:lnTo>
                        <a:pt x="723" y="982"/>
                      </a:lnTo>
                      <a:lnTo>
                        <a:pt x="729" y="975"/>
                      </a:lnTo>
                      <a:lnTo>
                        <a:pt x="736" y="968"/>
                      </a:lnTo>
                      <a:lnTo>
                        <a:pt x="744" y="960"/>
                      </a:lnTo>
                      <a:lnTo>
                        <a:pt x="751" y="952"/>
                      </a:lnTo>
                      <a:lnTo>
                        <a:pt x="756" y="944"/>
                      </a:lnTo>
                      <a:lnTo>
                        <a:pt x="762" y="938"/>
                      </a:lnTo>
                      <a:lnTo>
                        <a:pt x="766" y="934"/>
                      </a:lnTo>
                      <a:lnTo>
                        <a:pt x="767" y="932"/>
                      </a:lnTo>
                      <a:lnTo>
                        <a:pt x="768" y="932"/>
                      </a:lnTo>
                      <a:lnTo>
                        <a:pt x="769" y="930"/>
                      </a:lnTo>
                      <a:lnTo>
                        <a:pt x="774" y="929"/>
                      </a:lnTo>
                      <a:lnTo>
                        <a:pt x="779" y="927"/>
                      </a:lnTo>
                      <a:lnTo>
                        <a:pt x="786" y="926"/>
                      </a:lnTo>
                      <a:lnTo>
                        <a:pt x="797" y="924"/>
                      </a:lnTo>
                      <a:lnTo>
                        <a:pt x="809" y="923"/>
                      </a:lnTo>
                      <a:lnTo>
                        <a:pt x="824" y="924"/>
                      </a:lnTo>
                      <a:lnTo>
                        <a:pt x="843" y="924"/>
                      </a:lnTo>
                      <a:lnTo>
                        <a:pt x="862" y="924"/>
                      </a:lnTo>
                      <a:lnTo>
                        <a:pt x="883" y="922"/>
                      </a:lnTo>
                      <a:lnTo>
                        <a:pt x="902" y="921"/>
                      </a:lnTo>
                      <a:lnTo>
                        <a:pt x="921" y="919"/>
                      </a:lnTo>
                      <a:lnTo>
                        <a:pt x="935" y="917"/>
                      </a:lnTo>
                      <a:lnTo>
                        <a:pt x="945" y="915"/>
                      </a:lnTo>
                      <a:lnTo>
                        <a:pt x="949" y="915"/>
                      </a:lnTo>
                      <a:lnTo>
                        <a:pt x="950" y="914"/>
                      </a:lnTo>
                      <a:lnTo>
                        <a:pt x="954" y="911"/>
                      </a:lnTo>
                      <a:lnTo>
                        <a:pt x="961" y="906"/>
                      </a:lnTo>
                      <a:lnTo>
                        <a:pt x="969" y="900"/>
                      </a:lnTo>
                      <a:lnTo>
                        <a:pt x="977" y="894"/>
                      </a:lnTo>
                      <a:lnTo>
                        <a:pt x="985" y="890"/>
                      </a:lnTo>
                      <a:lnTo>
                        <a:pt x="992" y="886"/>
                      </a:lnTo>
                      <a:lnTo>
                        <a:pt x="998" y="884"/>
                      </a:lnTo>
                      <a:lnTo>
                        <a:pt x="1018" y="863"/>
                      </a:lnTo>
                      <a:lnTo>
                        <a:pt x="1020" y="861"/>
                      </a:lnTo>
                      <a:lnTo>
                        <a:pt x="1026" y="855"/>
                      </a:lnTo>
                      <a:lnTo>
                        <a:pt x="1035" y="846"/>
                      </a:lnTo>
                      <a:lnTo>
                        <a:pt x="1048" y="833"/>
                      </a:lnTo>
                      <a:lnTo>
                        <a:pt x="1062" y="820"/>
                      </a:lnTo>
                      <a:lnTo>
                        <a:pt x="1080" y="805"/>
                      </a:lnTo>
                      <a:lnTo>
                        <a:pt x="1099" y="787"/>
                      </a:lnTo>
                      <a:lnTo>
                        <a:pt x="1120" y="770"/>
                      </a:lnTo>
                      <a:lnTo>
                        <a:pt x="1202" y="942"/>
                      </a:lnTo>
                      <a:lnTo>
                        <a:pt x="1176" y="956"/>
                      </a:lnTo>
                      <a:lnTo>
                        <a:pt x="1151" y="968"/>
                      </a:lnTo>
                      <a:lnTo>
                        <a:pt x="1129" y="980"/>
                      </a:lnTo>
                      <a:lnTo>
                        <a:pt x="1109" y="990"/>
                      </a:lnTo>
                      <a:lnTo>
                        <a:pt x="1091" y="998"/>
                      </a:lnTo>
                      <a:lnTo>
                        <a:pt x="1079" y="1005"/>
                      </a:lnTo>
                      <a:lnTo>
                        <a:pt x="1071" y="1010"/>
                      </a:lnTo>
                      <a:lnTo>
                        <a:pt x="1067" y="1011"/>
                      </a:lnTo>
                      <a:lnTo>
                        <a:pt x="1278" y="1011"/>
                      </a:lnTo>
                      <a:lnTo>
                        <a:pt x="1281" y="1007"/>
                      </a:lnTo>
                      <a:lnTo>
                        <a:pt x="1289" y="999"/>
                      </a:lnTo>
                      <a:lnTo>
                        <a:pt x="1301" y="988"/>
                      </a:lnTo>
                      <a:lnTo>
                        <a:pt x="1313" y="974"/>
                      </a:lnTo>
                      <a:lnTo>
                        <a:pt x="1326" y="959"/>
                      </a:lnTo>
                      <a:lnTo>
                        <a:pt x="1338" y="946"/>
                      </a:lnTo>
                      <a:lnTo>
                        <a:pt x="1346" y="936"/>
                      </a:lnTo>
                      <a:lnTo>
                        <a:pt x="1349" y="930"/>
                      </a:lnTo>
                      <a:lnTo>
                        <a:pt x="1351" y="922"/>
                      </a:lnTo>
                      <a:lnTo>
                        <a:pt x="1359" y="907"/>
                      </a:lnTo>
                      <a:lnTo>
                        <a:pt x="1370" y="888"/>
                      </a:lnTo>
                      <a:lnTo>
                        <a:pt x="1383" y="866"/>
                      </a:lnTo>
                      <a:lnTo>
                        <a:pt x="1395" y="844"/>
                      </a:lnTo>
                      <a:lnTo>
                        <a:pt x="1406" y="825"/>
                      </a:lnTo>
                      <a:lnTo>
                        <a:pt x="1414" y="813"/>
                      </a:lnTo>
                      <a:lnTo>
                        <a:pt x="1416" y="808"/>
                      </a:lnTo>
                      <a:lnTo>
                        <a:pt x="1393" y="829"/>
                      </a:lnTo>
                      <a:lnTo>
                        <a:pt x="1355" y="852"/>
                      </a:lnTo>
                      <a:lnTo>
                        <a:pt x="1347" y="859"/>
                      </a:lnTo>
                      <a:lnTo>
                        <a:pt x="1334" y="868"/>
                      </a:lnTo>
                      <a:lnTo>
                        <a:pt x="1317" y="878"/>
                      </a:lnTo>
                      <a:lnTo>
                        <a:pt x="1297" y="890"/>
                      </a:lnTo>
                      <a:lnTo>
                        <a:pt x="1275" y="903"/>
                      </a:lnTo>
                      <a:lnTo>
                        <a:pt x="1252" y="915"/>
                      </a:lnTo>
                      <a:lnTo>
                        <a:pt x="1227" y="929"/>
                      </a:lnTo>
                      <a:lnTo>
                        <a:pt x="1202" y="942"/>
                      </a:lnTo>
                      <a:lnTo>
                        <a:pt x="1120" y="770"/>
                      </a:lnTo>
                      <a:lnTo>
                        <a:pt x="1137" y="756"/>
                      </a:lnTo>
                      <a:lnTo>
                        <a:pt x="1156" y="742"/>
                      </a:lnTo>
                      <a:lnTo>
                        <a:pt x="1174" y="730"/>
                      </a:lnTo>
                      <a:lnTo>
                        <a:pt x="1191" y="718"/>
                      </a:lnTo>
                      <a:lnTo>
                        <a:pt x="1210" y="708"/>
                      </a:lnTo>
                      <a:lnTo>
                        <a:pt x="1227" y="699"/>
                      </a:lnTo>
                      <a:lnTo>
                        <a:pt x="1243" y="692"/>
                      </a:lnTo>
                      <a:lnTo>
                        <a:pt x="1258" y="687"/>
                      </a:lnTo>
                      <a:lnTo>
                        <a:pt x="1260" y="684"/>
                      </a:lnTo>
                      <a:lnTo>
                        <a:pt x="1265" y="677"/>
                      </a:lnTo>
                      <a:lnTo>
                        <a:pt x="1273" y="669"/>
                      </a:lnTo>
                      <a:lnTo>
                        <a:pt x="1282" y="664"/>
                      </a:lnTo>
                      <a:lnTo>
                        <a:pt x="1303" y="658"/>
                      </a:lnTo>
                      <a:lnTo>
                        <a:pt x="1304" y="647"/>
                      </a:lnTo>
                      <a:lnTo>
                        <a:pt x="1310" y="620"/>
                      </a:lnTo>
                      <a:lnTo>
                        <a:pt x="1319" y="590"/>
                      </a:lnTo>
                      <a:lnTo>
                        <a:pt x="1334" y="571"/>
                      </a:lnTo>
                      <a:lnTo>
                        <a:pt x="1343" y="566"/>
                      </a:lnTo>
                      <a:lnTo>
                        <a:pt x="1350" y="564"/>
                      </a:lnTo>
                      <a:lnTo>
                        <a:pt x="1358" y="563"/>
                      </a:lnTo>
                      <a:lnTo>
                        <a:pt x="1364" y="562"/>
                      </a:lnTo>
                      <a:lnTo>
                        <a:pt x="1369" y="562"/>
                      </a:lnTo>
                      <a:lnTo>
                        <a:pt x="1372" y="562"/>
                      </a:lnTo>
                      <a:lnTo>
                        <a:pt x="1374" y="563"/>
                      </a:lnTo>
                      <a:lnTo>
                        <a:pt x="1376" y="563"/>
                      </a:lnTo>
                      <a:lnTo>
                        <a:pt x="1377" y="559"/>
                      </a:lnTo>
                      <a:lnTo>
                        <a:pt x="1380" y="550"/>
                      </a:lnTo>
                      <a:lnTo>
                        <a:pt x="1384" y="537"/>
                      </a:lnTo>
                      <a:lnTo>
                        <a:pt x="1389" y="521"/>
                      </a:lnTo>
                      <a:lnTo>
                        <a:pt x="1395" y="505"/>
                      </a:lnTo>
                      <a:lnTo>
                        <a:pt x="1402" y="489"/>
                      </a:lnTo>
                      <a:lnTo>
                        <a:pt x="1408" y="476"/>
                      </a:lnTo>
                      <a:lnTo>
                        <a:pt x="1412" y="467"/>
                      </a:lnTo>
                      <a:lnTo>
                        <a:pt x="1419" y="453"/>
                      </a:lnTo>
                      <a:lnTo>
                        <a:pt x="1424" y="437"/>
                      </a:lnTo>
                      <a:lnTo>
                        <a:pt x="1429" y="422"/>
                      </a:lnTo>
                      <a:lnTo>
                        <a:pt x="1435" y="411"/>
                      </a:lnTo>
                      <a:lnTo>
                        <a:pt x="1445" y="405"/>
                      </a:lnTo>
                      <a:lnTo>
                        <a:pt x="1463" y="399"/>
                      </a:lnTo>
                      <a:lnTo>
                        <a:pt x="1487" y="393"/>
                      </a:lnTo>
                      <a:lnTo>
                        <a:pt x="1515" y="389"/>
                      </a:lnTo>
                      <a:lnTo>
                        <a:pt x="1544" y="384"/>
                      </a:lnTo>
                      <a:lnTo>
                        <a:pt x="1570" y="382"/>
                      </a:lnTo>
                      <a:lnTo>
                        <a:pt x="1593" y="380"/>
                      </a:lnTo>
                      <a:lnTo>
                        <a:pt x="1609" y="379"/>
                      </a:lnTo>
                      <a:lnTo>
                        <a:pt x="1608" y="374"/>
                      </a:lnTo>
                      <a:lnTo>
                        <a:pt x="1606" y="365"/>
                      </a:lnTo>
                      <a:lnTo>
                        <a:pt x="1606" y="353"/>
                      </a:lnTo>
                      <a:lnTo>
                        <a:pt x="1613" y="346"/>
                      </a:lnTo>
                      <a:lnTo>
                        <a:pt x="1622" y="343"/>
                      </a:lnTo>
                      <a:lnTo>
                        <a:pt x="1628" y="341"/>
                      </a:lnTo>
                      <a:lnTo>
                        <a:pt x="1631" y="338"/>
                      </a:lnTo>
                      <a:lnTo>
                        <a:pt x="1632" y="338"/>
                      </a:lnTo>
                      <a:lnTo>
                        <a:pt x="1631" y="332"/>
                      </a:lnTo>
                      <a:lnTo>
                        <a:pt x="1631" y="319"/>
                      </a:lnTo>
                      <a:lnTo>
                        <a:pt x="1631" y="301"/>
                      </a:lnTo>
                      <a:lnTo>
                        <a:pt x="1636" y="283"/>
                      </a:lnTo>
                      <a:lnTo>
                        <a:pt x="1636" y="279"/>
                      </a:lnTo>
                      <a:lnTo>
                        <a:pt x="1633" y="270"/>
                      </a:lnTo>
                      <a:lnTo>
                        <a:pt x="1633" y="255"/>
                      </a:lnTo>
                      <a:lnTo>
                        <a:pt x="1633" y="238"/>
                      </a:lnTo>
                      <a:lnTo>
                        <a:pt x="1635" y="220"/>
                      </a:lnTo>
                      <a:lnTo>
                        <a:pt x="1639" y="200"/>
                      </a:lnTo>
                      <a:lnTo>
                        <a:pt x="1647" y="183"/>
                      </a:lnTo>
                      <a:lnTo>
                        <a:pt x="1659" y="168"/>
                      </a:lnTo>
                      <a:lnTo>
                        <a:pt x="1660" y="163"/>
                      </a:lnTo>
                      <a:lnTo>
                        <a:pt x="1663" y="152"/>
                      </a:lnTo>
                      <a:lnTo>
                        <a:pt x="1667" y="138"/>
                      </a:lnTo>
                      <a:lnTo>
                        <a:pt x="1671" y="125"/>
                      </a:lnTo>
                      <a:lnTo>
                        <a:pt x="1676" y="118"/>
                      </a:lnTo>
                      <a:lnTo>
                        <a:pt x="1684" y="109"/>
                      </a:lnTo>
                      <a:lnTo>
                        <a:pt x="1694" y="97"/>
                      </a:lnTo>
                      <a:lnTo>
                        <a:pt x="1705" y="85"/>
                      </a:lnTo>
                      <a:lnTo>
                        <a:pt x="1716" y="74"/>
                      </a:lnTo>
                      <a:lnTo>
                        <a:pt x="1726" y="65"/>
                      </a:lnTo>
                      <a:lnTo>
                        <a:pt x="1732" y="58"/>
                      </a:lnTo>
                      <a:lnTo>
                        <a:pt x="1735" y="56"/>
                      </a:lnTo>
                      <a:lnTo>
                        <a:pt x="1735" y="51"/>
                      </a:lnTo>
                      <a:lnTo>
                        <a:pt x="1736" y="42"/>
                      </a:lnTo>
                      <a:lnTo>
                        <a:pt x="1738" y="33"/>
                      </a:lnTo>
                      <a:lnTo>
                        <a:pt x="1745" y="27"/>
                      </a:lnTo>
                      <a:lnTo>
                        <a:pt x="1750" y="26"/>
                      </a:lnTo>
                      <a:lnTo>
                        <a:pt x="1755" y="23"/>
                      </a:lnTo>
                      <a:lnTo>
                        <a:pt x="1761" y="19"/>
                      </a:lnTo>
                      <a:lnTo>
                        <a:pt x="1767" y="16"/>
                      </a:lnTo>
                      <a:lnTo>
                        <a:pt x="1773" y="12"/>
                      </a:lnTo>
                      <a:lnTo>
                        <a:pt x="1777" y="8"/>
                      </a:lnTo>
                      <a:lnTo>
                        <a:pt x="1783" y="4"/>
                      </a:lnTo>
                      <a:lnTo>
                        <a:pt x="1787" y="2"/>
                      </a:lnTo>
                      <a:lnTo>
                        <a:pt x="1792" y="0"/>
                      </a:lnTo>
                      <a:lnTo>
                        <a:pt x="1803" y="0"/>
                      </a:lnTo>
                      <a:lnTo>
                        <a:pt x="1815" y="0"/>
                      </a:lnTo>
                      <a:lnTo>
                        <a:pt x="1829" y="0"/>
                      </a:lnTo>
                      <a:lnTo>
                        <a:pt x="1844" y="2"/>
                      </a:lnTo>
                      <a:lnTo>
                        <a:pt x="1857" y="3"/>
                      </a:lnTo>
                      <a:lnTo>
                        <a:pt x="1868" y="4"/>
                      </a:lnTo>
                      <a:lnTo>
                        <a:pt x="18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3045960" y="2620080"/>
                  <a:ext cx="85680" cy="77040"/>
                </a:xfrm>
                <a:custGeom>
                  <a:avLst/>
                  <a:gdLst/>
                  <a:ahLst/>
                  <a:rect l="l" t="t" r="r" b="b"/>
                  <a:pathLst>
                    <a:path w="108" h="127">
                      <a:moveTo>
                        <a:pt x="73" y="44"/>
                      </a:moveTo>
                      <a:lnTo>
                        <a:pt x="85" y="40"/>
                      </a:lnTo>
                      <a:lnTo>
                        <a:pt x="93" y="37"/>
                      </a:lnTo>
                      <a:lnTo>
                        <a:pt x="100" y="35"/>
                      </a:lnTo>
                      <a:lnTo>
                        <a:pt x="103" y="33"/>
                      </a:lnTo>
                      <a:lnTo>
                        <a:pt x="106" y="33"/>
                      </a:lnTo>
                      <a:lnTo>
                        <a:pt x="108" y="32"/>
                      </a:lnTo>
                      <a:lnTo>
                        <a:pt x="108" y="32"/>
                      </a:lnTo>
                      <a:lnTo>
                        <a:pt x="108" y="32"/>
                      </a:lnTo>
                      <a:lnTo>
                        <a:pt x="86" y="0"/>
                      </a:lnTo>
                      <a:lnTo>
                        <a:pt x="84" y="0"/>
                      </a:lnTo>
                      <a:lnTo>
                        <a:pt x="77" y="3"/>
                      </a:lnTo>
                      <a:lnTo>
                        <a:pt x="68" y="6"/>
                      </a:lnTo>
                      <a:lnTo>
                        <a:pt x="56" y="11"/>
                      </a:lnTo>
                      <a:lnTo>
                        <a:pt x="43" y="18"/>
                      </a:lnTo>
                      <a:lnTo>
                        <a:pt x="31" y="28"/>
                      </a:lnTo>
                      <a:lnTo>
                        <a:pt x="20" y="41"/>
                      </a:lnTo>
                      <a:lnTo>
                        <a:pt x="12" y="57"/>
                      </a:lnTo>
                      <a:lnTo>
                        <a:pt x="0" y="110"/>
                      </a:lnTo>
                      <a:lnTo>
                        <a:pt x="17" y="127"/>
                      </a:lnTo>
                      <a:lnTo>
                        <a:pt x="18" y="124"/>
                      </a:lnTo>
                      <a:lnTo>
                        <a:pt x="20" y="116"/>
                      </a:lnTo>
                      <a:lnTo>
                        <a:pt x="26" y="104"/>
                      </a:lnTo>
                      <a:lnTo>
                        <a:pt x="32" y="90"/>
                      </a:lnTo>
                      <a:lnTo>
                        <a:pt x="40" y="76"/>
                      </a:lnTo>
                      <a:lnTo>
                        <a:pt x="50" y="63"/>
                      </a:lnTo>
                      <a:lnTo>
                        <a:pt x="61" y="51"/>
                      </a:lnTo>
                      <a:lnTo>
                        <a:pt x="73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>
                  <a:off x="3134520" y="2654640"/>
                  <a:ext cx="65160" cy="151560"/>
                </a:xfrm>
                <a:custGeom>
                  <a:avLst/>
                  <a:gdLst/>
                  <a:ahLst/>
                  <a:rect l="l" t="t" r="r" b="b"/>
                  <a:pathLst>
                    <a:path w="82" h="247">
                      <a:moveTo>
                        <a:pt x="0" y="247"/>
                      </a:moveTo>
                      <a:lnTo>
                        <a:pt x="3" y="239"/>
                      </a:lnTo>
                      <a:lnTo>
                        <a:pt x="8" y="219"/>
                      </a:lnTo>
                      <a:lnTo>
                        <a:pt x="18" y="189"/>
                      </a:lnTo>
                      <a:lnTo>
                        <a:pt x="28" y="154"/>
                      </a:lnTo>
                      <a:lnTo>
                        <a:pt x="41" y="116"/>
                      </a:lnTo>
                      <a:lnTo>
                        <a:pt x="54" y="82"/>
                      </a:lnTo>
                      <a:lnTo>
                        <a:pt x="68" y="52"/>
                      </a:lnTo>
                      <a:lnTo>
                        <a:pt x="82" y="31"/>
                      </a:lnTo>
                      <a:lnTo>
                        <a:pt x="38" y="0"/>
                      </a:lnTo>
                      <a:lnTo>
                        <a:pt x="38" y="11"/>
                      </a:lnTo>
                      <a:lnTo>
                        <a:pt x="38" y="41"/>
                      </a:lnTo>
                      <a:lnTo>
                        <a:pt x="35" y="77"/>
                      </a:lnTo>
                      <a:lnTo>
                        <a:pt x="26" y="109"/>
                      </a:lnTo>
                      <a:lnTo>
                        <a:pt x="14" y="145"/>
                      </a:lnTo>
                      <a:lnTo>
                        <a:pt x="6" y="191"/>
                      </a:lnTo>
                      <a:lnTo>
                        <a:pt x="2" y="230"/>
                      </a:lnTo>
                      <a:lnTo>
                        <a:pt x="0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2993760" y="2617560"/>
                  <a:ext cx="544320" cy="433080"/>
                </a:xfrm>
                <a:custGeom>
                  <a:avLst/>
                  <a:gdLst/>
                  <a:ahLst/>
                  <a:rect l="l" t="t" r="r" b="b"/>
                  <a:pathLst>
                    <a:path w="685" h="707">
                      <a:moveTo>
                        <a:pt x="400" y="511"/>
                      </a:moveTo>
                      <a:lnTo>
                        <a:pt x="422" y="495"/>
                      </a:lnTo>
                      <a:lnTo>
                        <a:pt x="635" y="506"/>
                      </a:lnTo>
                      <a:lnTo>
                        <a:pt x="685" y="707"/>
                      </a:lnTo>
                      <a:lnTo>
                        <a:pt x="268" y="702"/>
                      </a:lnTo>
                      <a:lnTo>
                        <a:pt x="289" y="667"/>
                      </a:lnTo>
                      <a:lnTo>
                        <a:pt x="163" y="681"/>
                      </a:lnTo>
                      <a:lnTo>
                        <a:pt x="0" y="525"/>
                      </a:lnTo>
                      <a:lnTo>
                        <a:pt x="185" y="484"/>
                      </a:lnTo>
                      <a:lnTo>
                        <a:pt x="198" y="472"/>
                      </a:lnTo>
                      <a:lnTo>
                        <a:pt x="210" y="459"/>
                      </a:lnTo>
                      <a:lnTo>
                        <a:pt x="221" y="447"/>
                      </a:lnTo>
                      <a:lnTo>
                        <a:pt x="231" y="433"/>
                      </a:lnTo>
                      <a:lnTo>
                        <a:pt x="239" y="421"/>
                      </a:lnTo>
                      <a:lnTo>
                        <a:pt x="245" y="412"/>
                      </a:lnTo>
                      <a:lnTo>
                        <a:pt x="249" y="405"/>
                      </a:lnTo>
                      <a:lnTo>
                        <a:pt x="251" y="403"/>
                      </a:lnTo>
                      <a:lnTo>
                        <a:pt x="261" y="375"/>
                      </a:lnTo>
                      <a:lnTo>
                        <a:pt x="274" y="345"/>
                      </a:lnTo>
                      <a:lnTo>
                        <a:pt x="286" y="317"/>
                      </a:lnTo>
                      <a:lnTo>
                        <a:pt x="300" y="287"/>
                      </a:lnTo>
                      <a:lnTo>
                        <a:pt x="314" y="258"/>
                      </a:lnTo>
                      <a:lnTo>
                        <a:pt x="327" y="230"/>
                      </a:lnTo>
                      <a:lnTo>
                        <a:pt x="339" y="203"/>
                      </a:lnTo>
                      <a:lnTo>
                        <a:pt x="350" y="177"/>
                      </a:lnTo>
                      <a:lnTo>
                        <a:pt x="359" y="151"/>
                      </a:lnTo>
                      <a:lnTo>
                        <a:pt x="368" y="123"/>
                      </a:lnTo>
                      <a:lnTo>
                        <a:pt x="376" y="94"/>
                      </a:lnTo>
                      <a:lnTo>
                        <a:pt x="384" y="66"/>
                      </a:lnTo>
                      <a:lnTo>
                        <a:pt x="390" y="41"/>
                      </a:lnTo>
                      <a:lnTo>
                        <a:pt x="394" y="22"/>
                      </a:lnTo>
                      <a:lnTo>
                        <a:pt x="397" y="8"/>
                      </a:lnTo>
                      <a:lnTo>
                        <a:pt x="398" y="3"/>
                      </a:lnTo>
                      <a:lnTo>
                        <a:pt x="415" y="0"/>
                      </a:lnTo>
                      <a:lnTo>
                        <a:pt x="428" y="25"/>
                      </a:lnTo>
                      <a:lnTo>
                        <a:pt x="427" y="29"/>
                      </a:lnTo>
                      <a:lnTo>
                        <a:pt x="424" y="40"/>
                      </a:lnTo>
                      <a:lnTo>
                        <a:pt x="420" y="58"/>
                      </a:lnTo>
                      <a:lnTo>
                        <a:pt x="413" y="78"/>
                      </a:lnTo>
                      <a:lnTo>
                        <a:pt x="406" y="102"/>
                      </a:lnTo>
                      <a:lnTo>
                        <a:pt x="397" y="128"/>
                      </a:lnTo>
                      <a:lnTo>
                        <a:pt x="386" y="153"/>
                      </a:lnTo>
                      <a:lnTo>
                        <a:pt x="376" y="177"/>
                      </a:lnTo>
                      <a:lnTo>
                        <a:pt x="365" y="203"/>
                      </a:lnTo>
                      <a:lnTo>
                        <a:pt x="354" y="231"/>
                      </a:lnTo>
                      <a:lnTo>
                        <a:pt x="345" y="263"/>
                      </a:lnTo>
                      <a:lnTo>
                        <a:pt x="337" y="294"/>
                      </a:lnTo>
                      <a:lnTo>
                        <a:pt x="330" y="322"/>
                      </a:lnTo>
                      <a:lnTo>
                        <a:pt x="324" y="349"/>
                      </a:lnTo>
                      <a:lnTo>
                        <a:pt x="321" y="371"/>
                      </a:lnTo>
                      <a:lnTo>
                        <a:pt x="320" y="386"/>
                      </a:lnTo>
                      <a:lnTo>
                        <a:pt x="301" y="435"/>
                      </a:lnTo>
                      <a:lnTo>
                        <a:pt x="307" y="478"/>
                      </a:lnTo>
                      <a:lnTo>
                        <a:pt x="400" y="5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>
                  <a:off x="3236400" y="2600640"/>
                  <a:ext cx="1066680" cy="431640"/>
                </a:xfrm>
                <a:custGeom>
                  <a:avLst/>
                  <a:gdLst/>
                  <a:ahLst/>
                  <a:rect l="l" t="t" r="r" b="b"/>
                  <a:pathLst>
                    <a:path w="1344" h="705">
                      <a:moveTo>
                        <a:pt x="797" y="501"/>
                      </a:moveTo>
                      <a:lnTo>
                        <a:pt x="797" y="512"/>
                      </a:lnTo>
                      <a:lnTo>
                        <a:pt x="795" y="521"/>
                      </a:lnTo>
                      <a:lnTo>
                        <a:pt x="793" y="525"/>
                      </a:lnTo>
                      <a:lnTo>
                        <a:pt x="793" y="528"/>
                      </a:lnTo>
                      <a:lnTo>
                        <a:pt x="822" y="517"/>
                      </a:lnTo>
                      <a:lnTo>
                        <a:pt x="823" y="514"/>
                      </a:lnTo>
                      <a:lnTo>
                        <a:pt x="825" y="506"/>
                      </a:lnTo>
                      <a:lnTo>
                        <a:pt x="829" y="493"/>
                      </a:lnTo>
                      <a:lnTo>
                        <a:pt x="831" y="479"/>
                      </a:lnTo>
                      <a:lnTo>
                        <a:pt x="833" y="473"/>
                      </a:lnTo>
                      <a:lnTo>
                        <a:pt x="839" y="468"/>
                      </a:lnTo>
                      <a:lnTo>
                        <a:pt x="845" y="466"/>
                      </a:lnTo>
                      <a:lnTo>
                        <a:pt x="853" y="464"/>
                      </a:lnTo>
                      <a:lnTo>
                        <a:pt x="859" y="464"/>
                      </a:lnTo>
                      <a:lnTo>
                        <a:pt x="864" y="464"/>
                      </a:lnTo>
                      <a:lnTo>
                        <a:pt x="867" y="463"/>
                      </a:lnTo>
                      <a:lnTo>
                        <a:pt x="867" y="462"/>
                      </a:lnTo>
                      <a:lnTo>
                        <a:pt x="869" y="454"/>
                      </a:lnTo>
                      <a:lnTo>
                        <a:pt x="874" y="449"/>
                      </a:lnTo>
                      <a:lnTo>
                        <a:pt x="879" y="446"/>
                      </a:lnTo>
                      <a:lnTo>
                        <a:pt x="886" y="446"/>
                      </a:lnTo>
                      <a:lnTo>
                        <a:pt x="893" y="446"/>
                      </a:lnTo>
                      <a:lnTo>
                        <a:pt x="899" y="446"/>
                      </a:lnTo>
                      <a:lnTo>
                        <a:pt x="901" y="446"/>
                      </a:lnTo>
                      <a:lnTo>
                        <a:pt x="901" y="445"/>
                      </a:lnTo>
                      <a:lnTo>
                        <a:pt x="901" y="434"/>
                      </a:lnTo>
                      <a:lnTo>
                        <a:pt x="906" y="429"/>
                      </a:lnTo>
                      <a:lnTo>
                        <a:pt x="913" y="426"/>
                      </a:lnTo>
                      <a:lnTo>
                        <a:pt x="922" y="425"/>
                      </a:lnTo>
                      <a:lnTo>
                        <a:pt x="931" y="426"/>
                      </a:lnTo>
                      <a:lnTo>
                        <a:pt x="939" y="426"/>
                      </a:lnTo>
                      <a:lnTo>
                        <a:pt x="944" y="423"/>
                      </a:lnTo>
                      <a:lnTo>
                        <a:pt x="945" y="417"/>
                      </a:lnTo>
                      <a:lnTo>
                        <a:pt x="945" y="410"/>
                      </a:lnTo>
                      <a:lnTo>
                        <a:pt x="950" y="406"/>
                      </a:lnTo>
                      <a:lnTo>
                        <a:pt x="957" y="402"/>
                      </a:lnTo>
                      <a:lnTo>
                        <a:pt x="965" y="400"/>
                      </a:lnTo>
                      <a:lnTo>
                        <a:pt x="973" y="399"/>
                      </a:lnTo>
                      <a:lnTo>
                        <a:pt x="978" y="396"/>
                      </a:lnTo>
                      <a:lnTo>
                        <a:pt x="983" y="393"/>
                      </a:lnTo>
                      <a:lnTo>
                        <a:pt x="983" y="390"/>
                      </a:lnTo>
                      <a:lnTo>
                        <a:pt x="982" y="384"/>
                      </a:lnTo>
                      <a:lnTo>
                        <a:pt x="986" y="380"/>
                      </a:lnTo>
                      <a:lnTo>
                        <a:pt x="993" y="378"/>
                      </a:lnTo>
                      <a:lnTo>
                        <a:pt x="1003" y="377"/>
                      </a:lnTo>
                      <a:lnTo>
                        <a:pt x="1011" y="377"/>
                      </a:lnTo>
                      <a:lnTo>
                        <a:pt x="1018" y="376"/>
                      </a:lnTo>
                      <a:lnTo>
                        <a:pt x="1021" y="372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7" y="354"/>
                      </a:lnTo>
                      <a:lnTo>
                        <a:pt x="1037" y="350"/>
                      </a:lnTo>
                      <a:lnTo>
                        <a:pt x="1049" y="348"/>
                      </a:lnTo>
                      <a:lnTo>
                        <a:pt x="1059" y="346"/>
                      </a:lnTo>
                      <a:lnTo>
                        <a:pt x="1065" y="342"/>
                      </a:lnTo>
                      <a:lnTo>
                        <a:pt x="1067" y="338"/>
                      </a:lnTo>
                      <a:lnTo>
                        <a:pt x="1061" y="330"/>
                      </a:lnTo>
                      <a:lnTo>
                        <a:pt x="1061" y="324"/>
                      </a:lnTo>
                      <a:lnTo>
                        <a:pt x="1067" y="320"/>
                      </a:lnTo>
                      <a:lnTo>
                        <a:pt x="1076" y="318"/>
                      </a:lnTo>
                      <a:lnTo>
                        <a:pt x="1087" y="317"/>
                      </a:lnTo>
                      <a:lnTo>
                        <a:pt x="1096" y="316"/>
                      </a:lnTo>
                      <a:lnTo>
                        <a:pt x="1103" y="314"/>
                      </a:lnTo>
                      <a:lnTo>
                        <a:pt x="1105" y="309"/>
                      </a:lnTo>
                      <a:lnTo>
                        <a:pt x="1102" y="301"/>
                      </a:lnTo>
                      <a:lnTo>
                        <a:pt x="1103" y="294"/>
                      </a:lnTo>
                      <a:lnTo>
                        <a:pt x="1107" y="289"/>
                      </a:lnTo>
                      <a:lnTo>
                        <a:pt x="1115" y="285"/>
                      </a:lnTo>
                      <a:lnTo>
                        <a:pt x="1126" y="281"/>
                      </a:lnTo>
                      <a:lnTo>
                        <a:pt x="1135" y="279"/>
                      </a:lnTo>
                      <a:lnTo>
                        <a:pt x="1143" y="276"/>
                      </a:lnTo>
                      <a:lnTo>
                        <a:pt x="1147" y="272"/>
                      </a:lnTo>
                      <a:lnTo>
                        <a:pt x="1145" y="268"/>
                      </a:lnTo>
                      <a:lnTo>
                        <a:pt x="1149" y="259"/>
                      </a:lnTo>
                      <a:lnTo>
                        <a:pt x="1153" y="255"/>
                      </a:lnTo>
                      <a:lnTo>
                        <a:pt x="1160" y="253"/>
                      </a:lnTo>
                      <a:lnTo>
                        <a:pt x="1167" y="253"/>
                      </a:lnTo>
                      <a:lnTo>
                        <a:pt x="1173" y="253"/>
                      </a:lnTo>
                      <a:lnTo>
                        <a:pt x="1176" y="250"/>
                      </a:lnTo>
                      <a:lnTo>
                        <a:pt x="1176" y="246"/>
                      </a:lnTo>
                      <a:lnTo>
                        <a:pt x="1173" y="238"/>
                      </a:lnTo>
                      <a:lnTo>
                        <a:pt x="1174" y="231"/>
                      </a:lnTo>
                      <a:lnTo>
                        <a:pt x="1180" y="227"/>
                      </a:lnTo>
                      <a:lnTo>
                        <a:pt x="1187" y="224"/>
                      </a:lnTo>
                      <a:lnTo>
                        <a:pt x="1194" y="223"/>
                      </a:lnTo>
                      <a:lnTo>
                        <a:pt x="1201" y="220"/>
                      </a:lnTo>
                      <a:lnTo>
                        <a:pt x="1205" y="218"/>
                      </a:lnTo>
                      <a:lnTo>
                        <a:pt x="1205" y="212"/>
                      </a:lnTo>
                      <a:lnTo>
                        <a:pt x="1202" y="205"/>
                      </a:lnTo>
                      <a:lnTo>
                        <a:pt x="1204" y="197"/>
                      </a:lnTo>
                      <a:lnTo>
                        <a:pt x="1211" y="193"/>
                      </a:lnTo>
                      <a:lnTo>
                        <a:pt x="1219" y="189"/>
                      </a:lnTo>
                      <a:lnTo>
                        <a:pt x="1227" y="188"/>
                      </a:lnTo>
                      <a:lnTo>
                        <a:pt x="1234" y="187"/>
                      </a:lnTo>
                      <a:lnTo>
                        <a:pt x="1239" y="186"/>
                      </a:lnTo>
                      <a:lnTo>
                        <a:pt x="1239" y="181"/>
                      </a:lnTo>
                      <a:lnTo>
                        <a:pt x="1233" y="174"/>
                      </a:lnTo>
                      <a:lnTo>
                        <a:pt x="1236" y="168"/>
                      </a:lnTo>
                      <a:lnTo>
                        <a:pt x="1242" y="164"/>
                      </a:lnTo>
                      <a:lnTo>
                        <a:pt x="1250" y="160"/>
                      </a:lnTo>
                      <a:lnTo>
                        <a:pt x="1258" y="158"/>
                      </a:lnTo>
                      <a:lnTo>
                        <a:pt x="1264" y="156"/>
                      </a:lnTo>
                      <a:lnTo>
                        <a:pt x="1267" y="152"/>
                      </a:lnTo>
                      <a:lnTo>
                        <a:pt x="1266" y="148"/>
                      </a:lnTo>
                      <a:lnTo>
                        <a:pt x="1258" y="142"/>
                      </a:lnTo>
                      <a:lnTo>
                        <a:pt x="1257" y="135"/>
                      </a:lnTo>
                      <a:lnTo>
                        <a:pt x="1262" y="132"/>
                      </a:lnTo>
                      <a:lnTo>
                        <a:pt x="1270" y="129"/>
                      </a:lnTo>
                      <a:lnTo>
                        <a:pt x="1279" y="127"/>
                      </a:lnTo>
                      <a:lnTo>
                        <a:pt x="1287" y="126"/>
                      </a:lnTo>
                      <a:lnTo>
                        <a:pt x="1293" y="122"/>
                      </a:lnTo>
                      <a:lnTo>
                        <a:pt x="1294" y="118"/>
                      </a:lnTo>
                      <a:lnTo>
                        <a:pt x="1288" y="110"/>
                      </a:lnTo>
                      <a:lnTo>
                        <a:pt x="1285" y="102"/>
                      </a:lnTo>
                      <a:lnTo>
                        <a:pt x="1287" y="96"/>
                      </a:lnTo>
                      <a:lnTo>
                        <a:pt x="1293" y="92"/>
                      </a:lnTo>
                      <a:lnTo>
                        <a:pt x="1300" y="90"/>
                      </a:lnTo>
                      <a:lnTo>
                        <a:pt x="1307" y="88"/>
                      </a:lnTo>
                      <a:lnTo>
                        <a:pt x="1311" y="84"/>
                      </a:lnTo>
                      <a:lnTo>
                        <a:pt x="1312" y="81"/>
                      </a:lnTo>
                      <a:lnTo>
                        <a:pt x="1305" y="74"/>
                      </a:lnTo>
                      <a:lnTo>
                        <a:pt x="1305" y="66"/>
                      </a:lnTo>
                      <a:lnTo>
                        <a:pt x="1309" y="60"/>
                      </a:lnTo>
                      <a:lnTo>
                        <a:pt x="1316" y="57"/>
                      </a:lnTo>
                      <a:lnTo>
                        <a:pt x="1323" y="56"/>
                      </a:lnTo>
                      <a:lnTo>
                        <a:pt x="1330" y="53"/>
                      </a:lnTo>
                      <a:lnTo>
                        <a:pt x="1334" y="51"/>
                      </a:lnTo>
                      <a:lnTo>
                        <a:pt x="1335" y="46"/>
                      </a:lnTo>
                      <a:lnTo>
                        <a:pt x="1332" y="39"/>
                      </a:lnTo>
                      <a:lnTo>
                        <a:pt x="1327" y="33"/>
                      </a:lnTo>
                      <a:lnTo>
                        <a:pt x="1327" y="27"/>
                      </a:lnTo>
                      <a:lnTo>
                        <a:pt x="1331" y="22"/>
                      </a:lnTo>
                      <a:lnTo>
                        <a:pt x="1342" y="15"/>
                      </a:lnTo>
                      <a:lnTo>
                        <a:pt x="1343" y="12"/>
                      </a:lnTo>
                      <a:lnTo>
                        <a:pt x="1344" y="11"/>
                      </a:lnTo>
                      <a:lnTo>
                        <a:pt x="1344" y="10"/>
                      </a:lnTo>
                      <a:lnTo>
                        <a:pt x="1344" y="10"/>
                      </a:lnTo>
                      <a:lnTo>
                        <a:pt x="1343" y="8"/>
                      </a:lnTo>
                      <a:lnTo>
                        <a:pt x="1341" y="6"/>
                      </a:lnTo>
                      <a:lnTo>
                        <a:pt x="1336" y="4"/>
                      </a:lnTo>
                      <a:lnTo>
                        <a:pt x="1332" y="1"/>
                      </a:lnTo>
                      <a:lnTo>
                        <a:pt x="1328" y="0"/>
                      </a:lnTo>
                      <a:lnTo>
                        <a:pt x="1319" y="1"/>
                      </a:lnTo>
                      <a:lnTo>
                        <a:pt x="1311" y="5"/>
                      </a:lnTo>
                      <a:lnTo>
                        <a:pt x="1304" y="13"/>
                      </a:lnTo>
                      <a:lnTo>
                        <a:pt x="1303" y="23"/>
                      </a:lnTo>
                      <a:lnTo>
                        <a:pt x="1294" y="28"/>
                      </a:lnTo>
                      <a:lnTo>
                        <a:pt x="1288" y="37"/>
                      </a:lnTo>
                      <a:lnTo>
                        <a:pt x="1285" y="49"/>
                      </a:lnTo>
                      <a:lnTo>
                        <a:pt x="1286" y="59"/>
                      </a:lnTo>
                      <a:lnTo>
                        <a:pt x="1273" y="64"/>
                      </a:lnTo>
                      <a:lnTo>
                        <a:pt x="1263" y="75"/>
                      </a:lnTo>
                      <a:lnTo>
                        <a:pt x="1258" y="88"/>
                      </a:lnTo>
                      <a:lnTo>
                        <a:pt x="1259" y="97"/>
                      </a:lnTo>
                      <a:lnTo>
                        <a:pt x="1249" y="101"/>
                      </a:lnTo>
                      <a:lnTo>
                        <a:pt x="1241" y="110"/>
                      </a:lnTo>
                      <a:lnTo>
                        <a:pt x="1236" y="120"/>
                      </a:lnTo>
                      <a:lnTo>
                        <a:pt x="1237" y="129"/>
                      </a:lnTo>
                      <a:lnTo>
                        <a:pt x="1227" y="134"/>
                      </a:lnTo>
                      <a:lnTo>
                        <a:pt x="1217" y="143"/>
                      </a:lnTo>
                      <a:lnTo>
                        <a:pt x="1210" y="153"/>
                      </a:lnTo>
                      <a:lnTo>
                        <a:pt x="1210" y="163"/>
                      </a:lnTo>
                      <a:lnTo>
                        <a:pt x="1204" y="164"/>
                      </a:lnTo>
                      <a:lnTo>
                        <a:pt x="1198" y="167"/>
                      </a:lnTo>
                      <a:lnTo>
                        <a:pt x="1193" y="171"/>
                      </a:lnTo>
                      <a:lnTo>
                        <a:pt x="1188" y="175"/>
                      </a:lnTo>
                      <a:lnTo>
                        <a:pt x="1183" y="180"/>
                      </a:lnTo>
                      <a:lnTo>
                        <a:pt x="1180" y="185"/>
                      </a:lnTo>
                      <a:lnTo>
                        <a:pt x="1179" y="190"/>
                      </a:lnTo>
                      <a:lnTo>
                        <a:pt x="1180" y="195"/>
                      </a:lnTo>
                      <a:lnTo>
                        <a:pt x="1168" y="197"/>
                      </a:lnTo>
                      <a:lnTo>
                        <a:pt x="1159" y="204"/>
                      </a:lnTo>
                      <a:lnTo>
                        <a:pt x="1153" y="215"/>
                      </a:lnTo>
                      <a:lnTo>
                        <a:pt x="1153" y="225"/>
                      </a:lnTo>
                      <a:lnTo>
                        <a:pt x="1147" y="225"/>
                      </a:lnTo>
                      <a:lnTo>
                        <a:pt x="1141" y="226"/>
                      </a:lnTo>
                      <a:lnTo>
                        <a:pt x="1134" y="229"/>
                      </a:lnTo>
                      <a:lnTo>
                        <a:pt x="1128" y="234"/>
                      </a:lnTo>
                      <a:lnTo>
                        <a:pt x="1123" y="240"/>
                      </a:lnTo>
                      <a:lnTo>
                        <a:pt x="1120" y="246"/>
                      </a:lnTo>
                      <a:lnTo>
                        <a:pt x="1120" y="253"/>
                      </a:lnTo>
                      <a:lnTo>
                        <a:pt x="1121" y="259"/>
                      </a:lnTo>
                      <a:lnTo>
                        <a:pt x="1115" y="262"/>
                      </a:lnTo>
                      <a:lnTo>
                        <a:pt x="1107" y="265"/>
                      </a:lnTo>
                      <a:lnTo>
                        <a:pt x="1100" y="269"/>
                      </a:lnTo>
                      <a:lnTo>
                        <a:pt x="1092" y="273"/>
                      </a:lnTo>
                      <a:lnTo>
                        <a:pt x="1087" y="279"/>
                      </a:lnTo>
                      <a:lnTo>
                        <a:pt x="1082" y="284"/>
                      </a:lnTo>
                      <a:lnTo>
                        <a:pt x="1080" y="288"/>
                      </a:lnTo>
                      <a:lnTo>
                        <a:pt x="1080" y="292"/>
                      </a:lnTo>
                      <a:lnTo>
                        <a:pt x="1069" y="292"/>
                      </a:lnTo>
                      <a:lnTo>
                        <a:pt x="1060" y="294"/>
                      </a:lnTo>
                      <a:lnTo>
                        <a:pt x="1053" y="297"/>
                      </a:lnTo>
                      <a:lnTo>
                        <a:pt x="1048" y="301"/>
                      </a:lnTo>
                      <a:lnTo>
                        <a:pt x="1043" y="307"/>
                      </a:lnTo>
                      <a:lnTo>
                        <a:pt x="1041" y="312"/>
                      </a:lnTo>
                      <a:lnTo>
                        <a:pt x="1041" y="317"/>
                      </a:lnTo>
                      <a:lnTo>
                        <a:pt x="1042" y="322"/>
                      </a:lnTo>
                      <a:lnTo>
                        <a:pt x="1033" y="324"/>
                      </a:lnTo>
                      <a:lnTo>
                        <a:pt x="1024" y="326"/>
                      </a:lnTo>
                      <a:lnTo>
                        <a:pt x="1016" y="329"/>
                      </a:lnTo>
                      <a:lnTo>
                        <a:pt x="1010" y="331"/>
                      </a:lnTo>
                      <a:lnTo>
                        <a:pt x="1005" y="334"/>
                      </a:lnTo>
                      <a:lnTo>
                        <a:pt x="1003" y="338"/>
                      </a:lnTo>
                      <a:lnTo>
                        <a:pt x="1004" y="344"/>
                      </a:lnTo>
                      <a:lnTo>
                        <a:pt x="1007" y="349"/>
                      </a:lnTo>
                      <a:lnTo>
                        <a:pt x="998" y="350"/>
                      </a:lnTo>
                      <a:lnTo>
                        <a:pt x="989" y="353"/>
                      </a:lnTo>
                      <a:lnTo>
                        <a:pt x="981" y="356"/>
                      </a:lnTo>
                      <a:lnTo>
                        <a:pt x="973" y="360"/>
                      </a:lnTo>
                      <a:lnTo>
                        <a:pt x="967" y="365"/>
                      </a:lnTo>
                      <a:lnTo>
                        <a:pt x="962" y="370"/>
                      </a:lnTo>
                      <a:lnTo>
                        <a:pt x="961" y="376"/>
                      </a:lnTo>
                      <a:lnTo>
                        <a:pt x="962" y="382"/>
                      </a:lnTo>
                      <a:lnTo>
                        <a:pt x="958" y="384"/>
                      </a:lnTo>
                      <a:lnTo>
                        <a:pt x="952" y="385"/>
                      </a:lnTo>
                      <a:lnTo>
                        <a:pt x="945" y="386"/>
                      </a:lnTo>
                      <a:lnTo>
                        <a:pt x="940" y="388"/>
                      </a:lnTo>
                      <a:lnTo>
                        <a:pt x="935" y="391"/>
                      </a:lnTo>
                      <a:lnTo>
                        <a:pt x="931" y="393"/>
                      </a:lnTo>
                      <a:lnTo>
                        <a:pt x="930" y="396"/>
                      </a:lnTo>
                      <a:lnTo>
                        <a:pt x="931" y="401"/>
                      </a:lnTo>
                      <a:lnTo>
                        <a:pt x="921" y="401"/>
                      </a:lnTo>
                      <a:lnTo>
                        <a:pt x="911" y="401"/>
                      </a:lnTo>
                      <a:lnTo>
                        <a:pt x="902" y="403"/>
                      </a:lnTo>
                      <a:lnTo>
                        <a:pt x="894" y="406"/>
                      </a:lnTo>
                      <a:lnTo>
                        <a:pt x="889" y="409"/>
                      </a:lnTo>
                      <a:lnTo>
                        <a:pt x="885" y="413"/>
                      </a:lnTo>
                      <a:lnTo>
                        <a:pt x="884" y="416"/>
                      </a:lnTo>
                      <a:lnTo>
                        <a:pt x="886" y="421"/>
                      </a:lnTo>
                      <a:lnTo>
                        <a:pt x="879" y="422"/>
                      </a:lnTo>
                      <a:lnTo>
                        <a:pt x="873" y="424"/>
                      </a:lnTo>
                      <a:lnTo>
                        <a:pt x="867" y="426"/>
                      </a:lnTo>
                      <a:lnTo>
                        <a:pt x="861" y="429"/>
                      </a:lnTo>
                      <a:lnTo>
                        <a:pt x="858" y="431"/>
                      </a:lnTo>
                      <a:lnTo>
                        <a:pt x="856" y="434"/>
                      </a:lnTo>
                      <a:lnTo>
                        <a:pt x="856" y="439"/>
                      </a:lnTo>
                      <a:lnTo>
                        <a:pt x="859" y="445"/>
                      </a:lnTo>
                      <a:lnTo>
                        <a:pt x="856" y="445"/>
                      </a:lnTo>
                      <a:lnTo>
                        <a:pt x="853" y="445"/>
                      </a:lnTo>
                      <a:lnTo>
                        <a:pt x="846" y="446"/>
                      </a:lnTo>
                      <a:lnTo>
                        <a:pt x="839" y="448"/>
                      </a:lnTo>
                      <a:lnTo>
                        <a:pt x="833" y="451"/>
                      </a:lnTo>
                      <a:lnTo>
                        <a:pt x="828" y="454"/>
                      </a:lnTo>
                      <a:lnTo>
                        <a:pt x="826" y="459"/>
                      </a:lnTo>
                      <a:lnTo>
                        <a:pt x="828" y="466"/>
                      </a:lnTo>
                      <a:lnTo>
                        <a:pt x="828" y="456"/>
                      </a:lnTo>
                      <a:lnTo>
                        <a:pt x="828" y="447"/>
                      </a:lnTo>
                      <a:lnTo>
                        <a:pt x="825" y="438"/>
                      </a:lnTo>
                      <a:lnTo>
                        <a:pt x="822" y="426"/>
                      </a:lnTo>
                      <a:lnTo>
                        <a:pt x="813" y="413"/>
                      </a:lnTo>
                      <a:lnTo>
                        <a:pt x="800" y="402"/>
                      </a:lnTo>
                      <a:lnTo>
                        <a:pt x="785" y="395"/>
                      </a:lnTo>
                      <a:lnTo>
                        <a:pt x="770" y="391"/>
                      </a:lnTo>
                      <a:lnTo>
                        <a:pt x="755" y="388"/>
                      </a:lnTo>
                      <a:lnTo>
                        <a:pt x="742" y="387"/>
                      </a:lnTo>
                      <a:lnTo>
                        <a:pt x="734" y="387"/>
                      </a:lnTo>
                      <a:lnTo>
                        <a:pt x="731" y="387"/>
                      </a:lnTo>
                      <a:lnTo>
                        <a:pt x="683" y="418"/>
                      </a:lnTo>
                      <a:lnTo>
                        <a:pt x="686" y="418"/>
                      </a:lnTo>
                      <a:lnTo>
                        <a:pt x="694" y="418"/>
                      </a:lnTo>
                      <a:lnTo>
                        <a:pt x="706" y="420"/>
                      </a:lnTo>
                      <a:lnTo>
                        <a:pt x="721" y="421"/>
                      </a:lnTo>
                      <a:lnTo>
                        <a:pt x="737" y="424"/>
                      </a:lnTo>
                      <a:lnTo>
                        <a:pt x="753" y="428"/>
                      </a:lnTo>
                      <a:lnTo>
                        <a:pt x="767" y="433"/>
                      </a:lnTo>
                      <a:lnTo>
                        <a:pt x="778" y="440"/>
                      </a:lnTo>
                      <a:lnTo>
                        <a:pt x="786" y="447"/>
                      </a:lnTo>
                      <a:lnTo>
                        <a:pt x="791" y="452"/>
                      </a:lnTo>
                      <a:lnTo>
                        <a:pt x="793" y="460"/>
                      </a:lnTo>
                      <a:lnTo>
                        <a:pt x="794" y="471"/>
                      </a:lnTo>
                      <a:lnTo>
                        <a:pt x="784" y="473"/>
                      </a:lnTo>
                      <a:lnTo>
                        <a:pt x="776" y="474"/>
                      </a:lnTo>
                      <a:lnTo>
                        <a:pt x="770" y="476"/>
                      </a:lnTo>
                      <a:lnTo>
                        <a:pt x="765" y="479"/>
                      </a:lnTo>
                      <a:lnTo>
                        <a:pt x="762" y="484"/>
                      </a:lnTo>
                      <a:lnTo>
                        <a:pt x="761" y="489"/>
                      </a:lnTo>
                      <a:lnTo>
                        <a:pt x="761" y="494"/>
                      </a:lnTo>
                      <a:lnTo>
                        <a:pt x="761" y="499"/>
                      </a:lnTo>
                      <a:lnTo>
                        <a:pt x="753" y="499"/>
                      </a:lnTo>
                      <a:lnTo>
                        <a:pt x="745" y="500"/>
                      </a:lnTo>
                      <a:lnTo>
                        <a:pt x="737" y="501"/>
                      </a:lnTo>
                      <a:lnTo>
                        <a:pt x="729" y="505"/>
                      </a:lnTo>
                      <a:lnTo>
                        <a:pt x="722" y="508"/>
                      </a:lnTo>
                      <a:lnTo>
                        <a:pt x="717" y="513"/>
                      </a:lnTo>
                      <a:lnTo>
                        <a:pt x="715" y="516"/>
                      </a:lnTo>
                      <a:lnTo>
                        <a:pt x="715" y="521"/>
                      </a:lnTo>
                      <a:lnTo>
                        <a:pt x="708" y="520"/>
                      </a:lnTo>
                      <a:lnTo>
                        <a:pt x="701" y="521"/>
                      </a:lnTo>
                      <a:lnTo>
                        <a:pt x="693" y="523"/>
                      </a:lnTo>
                      <a:lnTo>
                        <a:pt x="686" y="527"/>
                      </a:lnTo>
                      <a:lnTo>
                        <a:pt x="679" y="531"/>
                      </a:lnTo>
                      <a:lnTo>
                        <a:pt x="675" y="536"/>
                      </a:lnTo>
                      <a:lnTo>
                        <a:pt x="672" y="540"/>
                      </a:lnTo>
                      <a:lnTo>
                        <a:pt x="673" y="545"/>
                      </a:lnTo>
                      <a:lnTo>
                        <a:pt x="666" y="545"/>
                      </a:lnTo>
                      <a:lnTo>
                        <a:pt x="660" y="545"/>
                      </a:lnTo>
                      <a:lnTo>
                        <a:pt x="654" y="546"/>
                      </a:lnTo>
                      <a:lnTo>
                        <a:pt x="648" y="547"/>
                      </a:lnTo>
                      <a:lnTo>
                        <a:pt x="643" y="550"/>
                      </a:lnTo>
                      <a:lnTo>
                        <a:pt x="640" y="552"/>
                      </a:lnTo>
                      <a:lnTo>
                        <a:pt x="638" y="555"/>
                      </a:lnTo>
                      <a:lnTo>
                        <a:pt x="637" y="559"/>
                      </a:lnTo>
                      <a:lnTo>
                        <a:pt x="632" y="559"/>
                      </a:lnTo>
                      <a:lnTo>
                        <a:pt x="626" y="559"/>
                      </a:lnTo>
                      <a:lnTo>
                        <a:pt x="619" y="560"/>
                      </a:lnTo>
                      <a:lnTo>
                        <a:pt x="614" y="561"/>
                      </a:lnTo>
                      <a:lnTo>
                        <a:pt x="609" y="563"/>
                      </a:lnTo>
                      <a:lnTo>
                        <a:pt x="604" y="566"/>
                      </a:lnTo>
                      <a:lnTo>
                        <a:pt x="603" y="569"/>
                      </a:lnTo>
                      <a:lnTo>
                        <a:pt x="603" y="573"/>
                      </a:lnTo>
                      <a:lnTo>
                        <a:pt x="593" y="572"/>
                      </a:lnTo>
                      <a:lnTo>
                        <a:pt x="582" y="572"/>
                      </a:lnTo>
                      <a:lnTo>
                        <a:pt x="576" y="575"/>
                      </a:lnTo>
                      <a:lnTo>
                        <a:pt x="573" y="581"/>
                      </a:lnTo>
                      <a:lnTo>
                        <a:pt x="569" y="582"/>
                      </a:lnTo>
                      <a:lnTo>
                        <a:pt x="558" y="584"/>
                      </a:lnTo>
                      <a:lnTo>
                        <a:pt x="548" y="590"/>
                      </a:lnTo>
                      <a:lnTo>
                        <a:pt x="544" y="597"/>
                      </a:lnTo>
                      <a:lnTo>
                        <a:pt x="359" y="543"/>
                      </a:lnTo>
                      <a:lnTo>
                        <a:pt x="14" y="519"/>
                      </a:lnTo>
                      <a:lnTo>
                        <a:pt x="9" y="525"/>
                      </a:lnTo>
                      <a:lnTo>
                        <a:pt x="2" y="544"/>
                      </a:lnTo>
                      <a:lnTo>
                        <a:pt x="0" y="569"/>
                      </a:lnTo>
                      <a:lnTo>
                        <a:pt x="10" y="598"/>
                      </a:lnTo>
                      <a:lnTo>
                        <a:pt x="199" y="705"/>
                      </a:lnTo>
                      <a:lnTo>
                        <a:pt x="564" y="667"/>
                      </a:lnTo>
                      <a:lnTo>
                        <a:pt x="558" y="614"/>
                      </a:lnTo>
                      <a:lnTo>
                        <a:pt x="558" y="606"/>
                      </a:lnTo>
                      <a:lnTo>
                        <a:pt x="559" y="603"/>
                      </a:lnTo>
                      <a:lnTo>
                        <a:pt x="564" y="600"/>
                      </a:lnTo>
                      <a:lnTo>
                        <a:pt x="571" y="601"/>
                      </a:lnTo>
                      <a:lnTo>
                        <a:pt x="579" y="603"/>
                      </a:lnTo>
                      <a:lnTo>
                        <a:pt x="585" y="601"/>
                      </a:lnTo>
                      <a:lnTo>
                        <a:pt x="587" y="599"/>
                      </a:lnTo>
                      <a:lnTo>
                        <a:pt x="587" y="595"/>
                      </a:lnTo>
                      <a:lnTo>
                        <a:pt x="586" y="591"/>
                      </a:lnTo>
                      <a:lnTo>
                        <a:pt x="588" y="590"/>
                      </a:lnTo>
                      <a:lnTo>
                        <a:pt x="595" y="590"/>
                      </a:lnTo>
                      <a:lnTo>
                        <a:pt x="603" y="591"/>
                      </a:lnTo>
                      <a:lnTo>
                        <a:pt x="612" y="592"/>
                      </a:lnTo>
                      <a:lnTo>
                        <a:pt x="620" y="591"/>
                      </a:lnTo>
                      <a:lnTo>
                        <a:pt x="624" y="588"/>
                      </a:lnTo>
                      <a:lnTo>
                        <a:pt x="623" y="582"/>
                      </a:lnTo>
                      <a:lnTo>
                        <a:pt x="620" y="577"/>
                      </a:lnTo>
                      <a:lnTo>
                        <a:pt x="622" y="575"/>
                      </a:lnTo>
                      <a:lnTo>
                        <a:pt x="628" y="575"/>
                      </a:lnTo>
                      <a:lnTo>
                        <a:pt x="638" y="576"/>
                      </a:lnTo>
                      <a:lnTo>
                        <a:pt x="648" y="576"/>
                      </a:lnTo>
                      <a:lnTo>
                        <a:pt x="657" y="574"/>
                      </a:lnTo>
                      <a:lnTo>
                        <a:pt x="662" y="568"/>
                      </a:lnTo>
                      <a:lnTo>
                        <a:pt x="662" y="561"/>
                      </a:lnTo>
                      <a:lnTo>
                        <a:pt x="661" y="557"/>
                      </a:lnTo>
                      <a:lnTo>
                        <a:pt x="663" y="555"/>
                      </a:lnTo>
                      <a:lnTo>
                        <a:pt x="668" y="557"/>
                      </a:lnTo>
                      <a:lnTo>
                        <a:pt x="676" y="560"/>
                      </a:lnTo>
                      <a:lnTo>
                        <a:pt x="685" y="561"/>
                      </a:lnTo>
                      <a:lnTo>
                        <a:pt x="693" y="557"/>
                      </a:lnTo>
                      <a:lnTo>
                        <a:pt x="700" y="550"/>
                      </a:lnTo>
                      <a:lnTo>
                        <a:pt x="703" y="542"/>
                      </a:lnTo>
                      <a:lnTo>
                        <a:pt x="706" y="537"/>
                      </a:lnTo>
                      <a:lnTo>
                        <a:pt x="708" y="537"/>
                      </a:lnTo>
                      <a:lnTo>
                        <a:pt x="713" y="539"/>
                      </a:lnTo>
                      <a:lnTo>
                        <a:pt x="722" y="543"/>
                      </a:lnTo>
                      <a:lnTo>
                        <a:pt x="732" y="543"/>
                      </a:lnTo>
                      <a:lnTo>
                        <a:pt x="739" y="538"/>
                      </a:lnTo>
                      <a:lnTo>
                        <a:pt x="744" y="530"/>
                      </a:lnTo>
                      <a:lnTo>
                        <a:pt x="747" y="522"/>
                      </a:lnTo>
                      <a:lnTo>
                        <a:pt x="749" y="516"/>
                      </a:lnTo>
                      <a:lnTo>
                        <a:pt x="754" y="516"/>
                      </a:lnTo>
                      <a:lnTo>
                        <a:pt x="760" y="519"/>
                      </a:lnTo>
                      <a:lnTo>
                        <a:pt x="768" y="522"/>
                      </a:lnTo>
                      <a:lnTo>
                        <a:pt x="778" y="521"/>
                      </a:lnTo>
                      <a:lnTo>
                        <a:pt x="787" y="515"/>
                      </a:lnTo>
                      <a:lnTo>
                        <a:pt x="794" y="507"/>
                      </a:lnTo>
                      <a:lnTo>
                        <a:pt x="797" y="5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>
                  <a:off x="2934720" y="2489040"/>
                  <a:ext cx="161640" cy="88200"/>
                </a:xfrm>
                <a:custGeom>
                  <a:avLst/>
                  <a:gdLst/>
                  <a:ahLst/>
                  <a:rect l="l" t="t" r="r" b="b"/>
                  <a:pathLst>
                    <a:path w="204" h="145">
                      <a:moveTo>
                        <a:pt x="178" y="4"/>
                      </a:moveTo>
                      <a:lnTo>
                        <a:pt x="175" y="4"/>
                      </a:lnTo>
                      <a:lnTo>
                        <a:pt x="169" y="2"/>
                      </a:lnTo>
                      <a:lnTo>
                        <a:pt x="158" y="1"/>
                      </a:lnTo>
                      <a:lnTo>
                        <a:pt x="147" y="0"/>
                      </a:lnTo>
                      <a:lnTo>
                        <a:pt x="133" y="1"/>
                      </a:lnTo>
                      <a:lnTo>
                        <a:pt x="119" y="5"/>
                      </a:lnTo>
                      <a:lnTo>
                        <a:pt x="106" y="12"/>
                      </a:lnTo>
                      <a:lnTo>
                        <a:pt x="95" y="21"/>
                      </a:lnTo>
                      <a:lnTo>
                        <a:pt x="95" y="51"/>
                      </a:lnTo>
                      <a:lnTo>
                        <a:pt x="0" y="77"/>
                      </a:lnTo>
                      <a:lnTo>
                        <a:pt x="18" y="145"/>
                      </a:lnTo>
                      <a:lnTo>
                        <a:pt x="195" y="123"/>
                      </a:lnTo>
                      <a:lnTo>
                        <a:pt x="196" y="123"/>
                      </a:lnTo>
                      <a:lnTo>
                        <a:pt x="198" y="121"/>
                      </a:lnTo>
                      <a:lnTo>
                        <a:pt x="202" y="118"/>
                      </a:lnTo>
                      <a:lnTo>
                        <a:pt x="204" y="108"/>
                      </a:lnTo>
                      <a:lnTo>
                        <a:pt x="204" y="95"/>
                      </a:lnTo>
                      <a:lnTo>
                        <a:pt x="201" y="73"/>
                      </a:lnTo>
                      <a:lnTo>
                        <a:pt x="192" y="43"/>
                      </a:lnTo>
                      <a:lnTo>
                        <a:pt x="17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>
                  <a:off x="3207960" y="25358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78" h="114">
                      <a:moveTo>
                        <a:pt x="78" y="103"/>
                      </a:moveTo>
                      <a:lnTo>
                        <a:pt x="69" y="51"/>
                      </a:lnTo>
                      <a:lnTo>
                        <a:pt x="52" y="73"/>
                      </a:lnTo>
                      <a:lnTo>
                        <a:pt x="49" y="76"/>
                      </a:lnTo>
                      <a:lnTo>
                        <a:pt x="42" y="79"/>
                      </a:lnTo>
                      <a:lnTo>
                        <a:pt x="33" y="71"/>
                      </a:lnTo>
                      <a:lnTo>
                        <a:pt x="26" y="43"/>
                      </a:lnTo>
                      <a:lnTo>
                        <a:pt x="33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6" y="2"/>
                      </a:lnTo>
                      <a:lnTo>
                        <a:pt x="8" y="6"/>
                      </a:lnTo>
                      <a:lnTo>
                        <a:pt x="1" y="15"/>
                      </a:lnTo>
                      <a:lnTo>
                        <a:pt x="0" y="31"/>
                      </a:lnTo>
                      <a:lnTo>
                        <a:pt x="5" y="56"/>
                      </a:lnTo>
                      <a:lnTo>
                        <a:pt x="17" y="90"/>
                      </a:lnTo>
                      <a:lnTo>
                        <a:pt x="18" y="92"/>
                      </a:lnTo>
                      <a:lnTo>
                        <a:pt x="21" y="97"/>
                      </a:lnTo>
                      <a:lnTo>
                        <a:pt x="24" y="103"/>
                      </a:lnTo>
                      <a:lnTo>
                        <a:pt x="30" y="109"/>
                      </a:lnTo>
                      <a:lnTo>
                        <a:pt x="38" y="113"/>
                      </a:lnTo>
                      <a:lnTo>
                        <a:pt x="48" y="114"/>
                      </a:lnTo>
                      <a:lnTo>
                        <a:pt x="62" y="112"/>
                      </a:lnTo>
                      <a:lnTo>
                        <a:pt x="78" y="10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>
                  <a:off x="3190680" y="2960640"/>
                  <a:ext cx="171360" cy="35280"/>
                </a:xfrm>
                <a:custGeom>
                  <a:avLst/>
                  <a:gdLst/>
                  <a:ahLst/>
                  <a:rect l="l" t="t" r="r" b="b"/>
                  <a:pathLst>
                    <a:path w="215" h="58">
                      <a:moveTo>
                        <a:pt x="212" y="58"/>
                      </a:moveTo>
                      <a:lnTo>
                        <a:pt x="215" y="46"/>
                      </a:ln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21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3877920" y="2925000"/>
                  <a:ext cx="409680" cy="102960"/>
                </a:xfrm>
                <a:custGeom>
                  <a:avLst/>
                  <a:gdLst/>
                  <a:ahLst/>
                  <a:rect l="l" t="t" r="r" b="b"/>
                  <a:pathLst>
                    <a:path w="514" h="168">
                      <a:moveTo>
                        <a:pt x="0" y="0"/>
                      </a:moveTo>
                      <a:lnTo>
                        <a:pt x="184" y="104"/>
                      </a:lnTo>
                      <a:lnTo>
                        <a:pt x="178" y="168"/>
                      </a:lnTo>
                      <a:lnTo>
                        <a:pt x="188" y="162"/>
                      </a:lnTo>
                      <a:lnTo>
                        <a:pt x="192" y="106"/>
                      </a:lnTo>
                      <a:lnTo>
                        <a:pt x="514" y="90"/>
                      </a:lnTo>
                      <a:lnTo>
                        <a:pt x="506" y="71"/>
                      </a:lnTo>
                      <a:lnTo>
                        <a:pt x="330" y="24"/>
                      </a:lnTo>
                      <a:lnTo>
                        <a:pt x="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>
                  <a:off x="3893400" y="2968920"/>
                  <a:ext cx="63720" cy="720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81" y="11"/>
                      </a:moveTo>
                      <a:lnTo>
                        <a:pt x="45" y="2"/>
                      </a:lnTo>
                      <a:lnTo>
                        <a:pt x="0" y="0"/>
                      </a:lnTo>
                      <a:lnTo>
                        <a:pt x="31" y="10"/>
                      </a:lnTo>
                      <a:lnTo>
                        <a:pt x="81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>
                  <a:off x="3948840" y="2968920"/>
                  <a:ext cx="65160" cy="8280"/>
                </a:xfrm>
                <a:custGeom>
                  <a:avLst/>
                  <a:gdLst/>
                  <a:ahLst/>
                  <a:rect l="l" t="t" r="r" b="b"/>
                  <a:pathLst>
                    <a:path w="81" h="12">
                      <a:moveTo>
                        <a:pt x="81" y="12"/>
                      </a:moveTo>
                      <a:lnTo>
                        <a:pt x="45" y="2"/>
                      </a:lnTo>
                      <a:lnTo>
                        <a:pt x="0" y="0"/>
                      </a:lnTo>
                      <a:lnTo>
                        <a:pt x="33" y="11"/>
                      </a:lnTo>
                      <a:lnTo>
                        <a:pt x="81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4004640" y="2970360"/>
                  <a:ext cx="65160" cy="8280"/>
                </a:xfrm>
                <a:custGeom>
                  <a:avLst/>
                  <a:gdLst/>
                  <a:ahLst/>
                  <a:rect l="l" t="t" r="r" b="b"/>
                  <a:pathLst>
                    <a:path w="82" h="14">
                      <a:moveTo>
                        <a:pt x="82" y="14"/>
                      </a:moveTo>
                      <a:lnTo>
                        <a:pt x="43" y="2"/>
                      </a:lnTo>
                      <a:lnTo>
                        <a:pt x="0" y="0"/>
                      </a:lnTo>
                      <a:lnTo>
                        <a:pt x="34" y="12"/>
                      </a:lnTo>
                      <a:lnTo>
                        <a:pt x="82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3952440" y="2954520"/>
                  <a:ext cx="68400" cy="9360"/>
                </a:xfrm>
                <a:custGeom>
                  <a:avLst/>
                  <a:gdLst/>
                  <a:ahLst/>
                  <a:rect l="l" t="t" r="r" b="b"/>
                  <a:pathLst>
                    <a:path w="86" h="17">
                      <a:moveTo>
                        <a:pt x="86" y="17"/>
                      </a:moveTo>
                      <a:lnTo>
                        <a:pt x="47" y="4"/>
                      </a:lnTo>
                      <a:lnTo>
                        <a:pt x="0" y="0"/>
                      </a:lnTo>
                      <a:lnTo>
                        <a:pt x="34" y="13"/>
                      </a:lnTo>
                      <a:lnTo>
                        <a:pt x="86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4010760" y="2954520"/>
                  <a:ext cx="70200" cy="9360"/>
                </a:xfrm>
                <a:custGeom>
                  <a:avLst/>
                  <a:gdLst/>
                  <a:ahLst/>
                  <a:rect l="l" t="t" r="r" b="b"/>
                  <a:pathLst>
                    <a:path w="88" h="16">
                      <a:moveTo>
                        <a:pt x="88" y="16"/>
                      </a:moveTo>
                      <a:lnTo>
                        <a:pt x="47" y="4"/>
                      </a:lnTo>
                      <a:lnTo>
                        <a:pt x="0" y="0"/>
                      </a:lnTo>
                      <a:lnTo>
                        <a:pt x="37" y="13"/>
                      </a:lnTo>
                      <a:lnTo>
                        <a:pt x="88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>
                  <a:off x="4070160" y="295308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89" h="17">
                      <a:moveTo>
                        <a:pt x="89" y="17"/>
                      </a:moveTo>
                      <a:lnTo>
                        <a:pt x="46" y="4"/>
                      </a:lnTo>
                      <a:lnTo>
                        <a:pt x="0" y="0"/>
                      </a:lnTo>
                      <a:lnTo>
                        <a:pt x="38" y="15"/>
                      </a:lnTo>
                      <a:lnTo>
                        <a:pt x="89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>
                  <a:off x="4003200" y="2937240"/>
                  <a:ext cx="74880" cy="11880"/>
                </a:xfrm>
                <a:custGeom>
                  <a:avLst/>
                  <a:gdLst/>
                  <a:ahLst/>
                  <a:rect l="l" t="t" r="r" b="b"/>
                  <a:pathLst>
                    <a:path w="94" h="19">
                      <a:moveTo>
                        <a:pt x="94" y="19"/>
                      </a:moveTo>
                      <a:lnTo>
                        <a:pt x="50" y="4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94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>
                  <a:off x="4065120" y="2934720"/>
                  <a:ext cx="74880" cy="12240"/>
                </a:xfrm>
                <a:custGeom>
                  <a:avLst/>
                  <a:gdLst/>
                  <a:ahLst/>
                  <a:rect l="l" t="t" r="r" b="b"/>
                  <a:pathLst>
                    <a:path w="93" h="21">
                      <a:moveTo>
                        <a:pt x="93" y="21"/>
                      </a:moveTo>
                      <a:lnTo>
                        <a:pt x="48" y="6"/>
                      </a:lnTo>
                      <a:lnTo>
                        <a:pt x="0" y="0"/>
                      </a:lnTo>
                      <a:lnTo>
                        <a:pt x="39" y="16"/>
                      </a:lnTo>
                      <a:lnTo>
                        <a:pt x="93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4125600" y="2932560"/>
                  <a:ext cx="76320" cy="13320"/>
                </a:xfrm>
                <a:custGeom>
                  <a:avLst/>
                  <a:gdLst/>
                  <a:ahLst/>
                  <a:rect l="l" t="t" r="r" b="b"/>
                  <a:pathLst>
                    <a:path w="94" h="22">
                      <a:moveTo>
                        <a:pt x="94" y="22"/>
                      </a:moveTo>
                      <a:lnTo>
                        <a:pt x="48" y="4"/>
                      </a:lnTo>
                      <a:lnTo>
                        <a:pt x="0" y="0"/>
                      </a:lnTo>
                      <a:lnTo>
                        <a:pt x="41" y="17"/>
                      </a:lnTo>
                      <a:lnTo>
                        <a:pt x="94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>
                  <a:off x="4076280" y="2928600"/>
                  <a:ext cx="185760" cy="53640"/>
                </a:xfrm>
                <a:custGeom>
                  <a:avLst/>
                  <a:gdLst/>
                  <a:ahLst/>
                  <a:rect l="l" t="t" r="r" b="b"/>
                  <a:pathLst>
                    <a:path w="233" h="88">
                      <a:moveTo>
                        <a:pt x="233" y="86"/>
                      </a:moveTo>
                      <a:lnTo>
                        <a:pt x="160" y="88"/>
                      </a:lnTo>
                      <a:lnTo>
                        <a:pt x="0" y="0"/>
                      </a:lnTo>
                      <a:lnTo>
                        <a:pt x="55" y="8"/>
                      </a:lnTo>
                      <a:lnTo>
                        <a:pt x="233" y="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>
                  <a:off x="3882600" y="2922480"/>
                  <a:ext cx="98640" cy="5004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99" y="4"/>
                      </a:moveTo>
                      <a:lnTo>
                        <a:pt x="99" y="4"/>
                      </a:lnTo>
                      <a:lnTo>
                        <a:pt x="99" y="4"/>
                      </a:lnTo>
                      <a:lnTo>
                        <a:pt x="97" y="4"/>
                      </a:lnTo>
                      <a:lnTo>
                        <a:pt x="95" y="2"/>
                      </a:lnTo>
                      <a:lnTo>
                        <a:pt x="84" y="0"/>
                      </a:lnTo>
                      <a:lnTo>
                        <a:pt x="72" y="4"/>
                      </a:lnTo>
                      <a:lnTo>
                        <a:pt x="58" y="10"/>
                      </a:lnTo>
                      <a:lnTo>
                        <a:pt x="43" y="19"/>
                      </a:lnTo>
                      <a:lnTo>
                        <a:pt x="29" y="29"/>
                      </a:lnTo>
                      <a:lnTo>
                        <a:pt x="16" y="40"/>
                      </a:lnTo>
                      <a:lnTo>
                        <a:pt x="7" y="50"/>
                      </a:lnTo>
                      <a:lnTo>
                        <a:pt x="2" y="58"/>
                      </a:lnTo>
                      <a:lnTo>
                        <a:pt x="1" y="63"/>
                      </a:lnTo>
                      <a:lnTo>
                        <a:pt x="0" y="68"/>
                      </a:lnTo>
                      <a:lnTo>
                        <a:pt x="0" y="74"/>
                      </a:lnTo>
                      <a:lnTo>
                        <a:pt x="2" y="79"/>
                      </a:lnTo>
                      <a:lnTo>
                        <a:pt x="6" y="82"/>
                      </a:lnTo>
                      <a:lnTo>
                        <a:pt x="13" y="82"/>
                      </a:lnTo>
                      <a:lnTo>
                        <a:pt x="23" y="79"/>
                      </a:lnTo>
                      <a:lnTo>
                        <a:pt x="37" y="70"/>
                      </a:lnTo>
                      <a:lnTo>
                        <a:pt x="46" y="64"/>
                      </a:lnTo>
                      <a:lnTo>
                        <a:pt x="58" y="56"/>
                      </a:lnTo>
                      <a:lnTo>
                        <a:pt x="73" y="48"/>
                      </a:lnTo>
                      <a:lnTo>
                        <a:pt x="88" y="38"/>
                      </a:lnTo>
                      <a:lnTo>
                        <a:pt x="103" y="30"/>
                      </a:lnTo>
                      <a:lnTo>
                        <a:pt x="114" y="24"/>
                      </a:lnTo>
                      <a:lnTo>
                        <a:pt x="122" y="19"/>
                      </a:lnTo>
                      <a:lnTo>
                        <a:pt x="126" y="18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6" name=""/>
              <p:cNvSpPr/>
              <p:nvPr/>
            </p:nvSpPr>
            <p:spPr>
              <a:xfrm rot="17917800">
                <a:off x="3738960" y="2049480"/>
                <a:ext cx="1737000" cy="20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16" y="36"/>
                    </a:moveTo>
                    <a:arcTo wR="10800" hR="10800" stAng="-5681843" swAng="80445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16" y="36"/>
                    </a:moveTo>
                    <a:arcTo wR="10800" hR="10800" stAng="-5681843" swAng="8044554"/>
                  </a:path>
                </a:pathLst>
              </a:custGeom>
              <a:noFill/>
              <a:ln cap="rnd" w="57240">
                <a:solidFill>
                  <a:srgbClr val="ff9966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1371600" y="4909320"/>
              <a:ext cx="6400800" cy="1127520"/>
              <a:chOff x="1371600" y="4909320"/>
              <a:chExt cx="6400800" cy="1127520"/>
            </a:xfrm>
          </p:grpSpPr>
          <p:grpSp>
            <p:nvGrpSpPr>
              <p:cNvPr id="2148" name=""/>
              <p:cNvGrpSpPr/>
              <p:nvPr/>
            </p:nvGrpSpPr>
            <p:grpSpPr>
              <a:xfrm>
                <a:off x="1371600" y="4909320"/>
                <a:ext cx="1905120" cy="1127520"/>
                <a:chOff x="1371600" y="4909320"/>
                <a:chExt cx="1905120" cy="112752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1371600" y="4909320"/>
                  <a:ext cx="1905120" cy="111816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2841840" y="5917680"/>
                  <a:ext cx="100800" cy="11916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418040" y="5560920"/>
                  <a:ext cx="1117080" cy="45216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2206440" y="5675760"/>
                  <a:ext cx="312480" cy="32436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567080" y="5611320"/>
                  <a:ext cx="579960" cy="24156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900800" y="5637600"/>
                  <a:ext cx="455760" cy="21816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1900800" y="5616000"/>
                  <a:ext cx="455760" cy="21456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341800" y="5620680"/>
                  <a:ext cx="204120" cy="8496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242080" y="5459400"/>
                  <a:ext cx="963000" cy="56304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2320920" y="5344560"/>
                  <a:ext cx="871560" cy="61452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320920" y="5377320"/>
                  <a:ext cx="595800" cy="58464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2621520" y="532332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468520" y="5061240"/>
                  <a:ext cx="491040" cy="41760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2477520" y="5163840"/>
                  <a:ext cx="294120" cy="24804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280240" y="5483520"/>
                  <a:ext cx="551520" cy="34956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610360" y="5441760"/>
                  <a:ext cx="30600" cy="2304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2649600" y="546048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2690280" y="5458320"/>
                  <a:ext cx="31680" cy="2304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2738520" y="5454000"/>
                  <a:ext cx="21960" cy="1656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2777760" y="543240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2801160" y="5398920"/>
                  <a:ext cx="27000" cy="2016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158560" y="5604840"/>
                  <a:ext cx="209160" cy="7452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139840" y="5694480"/>
                  <a:ext cx="194400" cy="669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735920" y="5339880"/>
                  <a:ext cx="345960" cy="44748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1788840" y="5382000"/>
                  <a:ext cx="237600" cy="33732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1473480" y="5408280"/>
                  <a:ext cx="378000" cy="40464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083320" y="5853960"/>
                  <a:ext cx="189360" cy="8568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1491120" y="5743080"/>
                  <a:ext cx="646200" cy="1976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122560" y="5862600"/>
                  <a:ext cx="60120" cy="7164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123640" y="562176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142360" y="563652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075760" y="56469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100240" y="5651640"/>
                  <a:ext cx="25920" cy="3060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129760" y="5662800"/>
                  <a:ext cx="22320" cy="2772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203920" y="5668200"/>
                  <a:ext cx="19440" cy="1944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164680" y="5673960"/>
                  <a:ext cx="16920" cy="14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2048760" y="567864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254320" y="567864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071080" y="569088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112480" y="5692680"/>
                  <a:ext cx="2088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128680" y="5716080"/>
                  <a:ext cx="12240" cy="1944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008080" y="5719680"/>
                  <a:ext cx="1944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030400" y="572328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058480" y="5733000"/>
                  <a:ext cx="22320" cy="295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084400" y="5739120"/>
                  <a:ext cx="25920" cy="2880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120040" y="5744880"/>
                  <a:ext cx="15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974960" y="5757120"/>
                  <a:ext cx="24480" cy="363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144880" y="5758920"/>
                  <a:ext cx="18360" cy="2304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178000" y="5758920"/>
                  <a:ext cx="19800" cy="2124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000520" y="576468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018880" y="576936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054880" y="5776560"/>
                  <a:ext cx="19800" cy="2880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2090520" y="5781960"/>
                  <a:ext cx="18360" cy="295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2123640" y="5789880"/>
                  <a:ext cx="17280" cy="324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2994480" y="5642280"/>
                  <a:ext cx="73440" cy="4356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2980800" y="5702040"/>
                  <a:ext cx="66240" cy="3888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2943000" y="5752440"/>
                  <a:ext cx="62280" cy="4464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2818440" y="5473440"/>
                  <a:ext cx="12240" cy="4176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2595600" y="551340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845440" y="5526720"/>
                  <a:ext cx="44280" cy="2484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734560" y="5536080"/>
                  <a:ext cx="18360" cy="5112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2625120" y="5563080"/>
                  <a:ext cx="28080" cy="324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2567160" y="559548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824560" y="5612400"/>
                  <a:ext cx="52920" cy="284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687760" y="5644080"/>
                  <a:ext cx="63720" cy="2376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536200" y="5675760"/>
                  <a:ext cx="28440" cy="3420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2676600" y="5725080"/>
                  <a:ext cx="45360" cy="334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2770200" y="5718600"/>
                  <a:ext cx="43200" cy="1476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2488320" y="5769360"/>
                  <a:ext cx="29520" cy="3780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603160" y="5774040"/>
                  <a:ext cx="15840" cy="4248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2364120" y="5884560"/>
                  <a:ext cx="27000" cy="4392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2698920" y="5830920"/>
                  <a:ext cx="22320" cy="4536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2420640" y="5835600"/>
                  <a:ext cx="33120" cy="331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2595600" y="5880240"/>
                  <a:ext cx="45360" cy="4536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2477520" y="5909760"/>
                  <a:ext cx="34200" cy="334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585520" y="5204880"/>
                  <a:ext cx="12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2607840" y="5200920"/>
                  <a:ext cx="11160" cy="324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2563200" y="5207760"/>
                  <a:ext cx="13680" cy="3168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2631240" y="52030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536200" y="5216040"/>
                  <a:ext cx="18360" cy="284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2516760" y="523008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505600" y="5220720"/>
                  <a:ext cx="157680" cy="4824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2529000" y="5230800"/>
                  <a:ext cx="99360" cy="295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2561040" y="5240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1859040" y="5408280"/>
                  <a:ext cx="59040" cy="14796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900800" y="5452920"/>
                  <a:ext cx="41760" cy="13680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1947960" y="5518080"/>
                  <a:ext cx="28080" cy="8172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1665720" y="5464080"/>
                  <a:ext cx="43920" cy="3888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676520" y="5491080"/>
                  <a:ext cx="47880" cy="40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1682640" y="552456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1697760" y="5560920"/>
                  <a:ext cx="39240" cy="342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1711440" y="5599440"/>
                  <a:ext cx="38160" cy="334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1718640" y="5635080"/>
                  <a:ext cx="43200" cy="3996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1729800" y="5679360"/>
                  <a:ext cx="47880" cy="4284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1745640" y="5726160"/>
                  <a:ext cx="40680" cy="352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1759320" y="576144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2596680" y="5090040"/>
                  <a:ext cx="64080" cy="6336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678040" y="509652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2515320" y="5108760"/>
                  <a:ext cx="70200" cy="4860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2687760" y="515916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2754360" y="5121000"/>
                  <a:ext cx="71280" cy="5940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2778840" y="5187240"/>
                  <a:ext cx="78480" cy="5004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811240" y="5244120"/>
                  <a:ext cx="66240" cy="5400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2767680" y="5303520"/>
                  <a:ext cx="72720" cy="640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2868840" y="5325120"/>
                  <a:ext cx="65160" cy="612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833200" y="5407200"/>
                  <a:ext cx="60120" cy="5688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025440" y="5589000"/>
                  <a:ext cx="74880" cy="4392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054960" y="5536080"/>
                  <a:ext cx="74880" cy="4356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904480" y="5816520"/>
                  <a:ext cx="73440" cy="4284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510640" y="5339880"/>
                  <a:ext cx="55080" cy="334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3581280" y="4909320"/>
                <a:ext cx="1905120" cy="1127520"/>
                <a:chOff x="3581280" y="4909320"/>
                <a:chExt cx="1905120" cy="112752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3581280" y="4909320"/>
                  <a:ext cx="1905120" cy="111816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051520" y="5917680"/>
                  <a:ext cx="100800" cy="11916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627720" y="5560920"/>
                  <a:ext cx="1117080" cy="45216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4416120" y="5675760"/>
                  <a:ext cx="312480" cy="32436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3776760" y="5611320"/>
                  <a:ext cx="579960" cy="24156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4110480" y="5637600"/>
                  <a:ext cx="455760" cy="21816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4110480" y="5616000"/>
                  <a:ext cx="455760" cy="21456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4551480" y="5620680"/>
                  <a:ext cx="204120" cy="8496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4451760" y="5459400"/>
                  <a:ext cx="963000" cy="56304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4530600" y="5344560"/>
                  <a:ext cx="871560" cy="61452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530600" y="5377320"/>
                  <a:ext cx="595800" cy="58464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4831200" y="532332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678200" y="5061240"/>
                  <a:ext cx="491040" cy="41760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687200" y="5163840"/>
                  <a:ext cx="294120" cy="24804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4489920" y="5483520"/>
                  <a:ext cx="551520" cy="34956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4820040" y="5441760"/>
                  <a:ext cx="30600" cy="2304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4859280" y="546048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4899960" y="5458320"/>
                  <a:ext cx="31680" cy="2304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4948200" y="5454000"/>
                  <a:ext cx="21960" cy="1656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4987440" y="543240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010840" y="5398920"/>
                  <a:ext cx="27000" cy="2016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4368240" y="5604840"/>
                  <a:ext cx="209160" cy="7452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349520" y="5694480"/>
                  <a:ext cx="194400" cy="669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945600" y="5339880"/>
                  <a:ext cx="345960" cy="44748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998520" y="5382000"/>
                  <a:ext cx="237600" cy="33732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683160" y="5408280"/>
                  <a:ext cx="378000" cy="40464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4293000" y="5853960"/>
                  <a:ext cx="189360" cy="8568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700800" y="5743080"/>
                  <a:ext cx="646200" cy="1976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4332240" y="5862600"/>
                  <a:ext cx="60120" cy="7164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4333320" y="562176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4352040" y="563652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4285440" y="56469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4309920" y="5651640"/>
                  <a:ext cx="25920" cy="3060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339440" y="5662800"/>
                  <a:ext cx="22320" cy="2772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413600" y="5668200"/>
                  <a:ext cx="19440" cy="1944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4374360" y="5673960"/>
                  <a:ext cx="16920" cy="14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4258440" y="567864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464000" y="567864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280760" y="569088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322160" y="5692680"/>
                  <a:ext cx="2088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38360" y="5716080"/>
                  <a:ext cx="12240" cy="1944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217760" y="5719680"/>
                  <a:ext cx="1944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4240080" y="572328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268160" y="5733000"/>
                  <a:ext cx="22320" cy="295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294080" y="5739120"/>
                  <a:ext cx="25920" cy="2880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329720" y="5744880"/>
                  <a:ext cx="15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184640" y="5757120"/>
                  <a:ext cx="24480" cy="363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354560" y="5758920"/>
                  <a:ext cx="18360" cy="2304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387680" y="5758920"/>
                  <a:ext cx="19800" cy="2124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210200" y="576468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228560" y="576936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264560" y="5776560"/>
                  <a:ext cx="19800" cy="2880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300200" y="5781960"/>
                  <a:ext cx="18360" cy="295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333320" y="5789880"/>
                  <a:ext cx="17280" cy="324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204160" y="5642280"/>
                  <a:ext cx="73440" cy="4356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190480" y="5702040"/>
                  <a:ext cx="66240" cy="3888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152680" y="5752440"/>
                  <a:ext cx="62280" cy="4464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028120" y="5473440"/>
                  <a:ext cx="12240" cy="4176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805280" y="551340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055120" y="5526720"/>
                  <a:ext cx="44280" cy="2484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944240" y="5536080"/>
                  <a:ext cx="18360" cy="5112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34800" y="5563080"/>
                  <a:ext cx="28080" cy="324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776840" y="559548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034240" y="5612400"/>
                  <a:ext cx="52920" cy="284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7440" y="5644080"/>
                  <a:ext cx="63720" cy="2376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745880" y="5675760"/>
                  <a:ext cx="28440" cy="3420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86280" y="5725080"/>
                  <a:ext cx="45360" cy="334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979880" y="5718600"/>
                  <a:ext cx="43200" cy="1476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698000" y="5769360"/>
                  <a:ext cx="29520" cy="3780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812840" y="5774040"/>
                  <a:ext cx="15840" cy="4248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573800" y="5884560"/>
                  <a:ext cx="27000" cy="4392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908600" y="5830920"/>
                  <a:ext cx="22320" cy="4536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630320" y="5835600"/>
                  <a:ext cx="33120" cy="331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805280" y="5880240"/>
                  <a:ext cx="45360" cy="4536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687200" y="5909760"/>
                  <a:ext cx="34200" cy="334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795200" y="5204880"/>
                  <a:ext cx="12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817520" y="5200920"/>
                  <a:ext cx="11160" cy="324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772880" y="5207760"/>
                  <a:ext cx="13680" cy="3168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840920" y="52030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745880" y="5216040"/>
                  <a:ext cx="18360" cy="284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726440" y="523008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715280" y="5220720"/>
                  <a:ext cx="157680" cy="4824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738680" y="5230800"/>
                  <a:ext cx="99360" cy="295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770720" y="5240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068720" y="5408280"/>
                  <a:ext cx="59040" cy="14796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110480" y="5452920"/>
                  <a:ext cx="41760" cy="13680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157640" y="5518080"/>
                  <a:ext cx="28080" cy="8172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875400" y="5464080"/>
                  <a:ext cx="43920" cy="3888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886200" y="5491080"/>
                  <a:ext cx="47880" cy="40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892320" y="552456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907440" y="5560920"/>
                  <a:ext cx="39240" cy="342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3921120" y="5599440"/>
                  <a:ext cx="38160" cy="334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3928320" y="5635080"/>
                  <a:ext cx="43200" cy="3996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3939480" y="5679360"/>
                  <a:ext cx="47880" cy="4284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955320" y="5726160"/>
                  <a:ext cx="40680" cy="352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3969000" y="576144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4806360" y="5090040"/>
                  <a:ext cx="64080" cy="6336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4887720" y="509652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4725000" y="5108760"/>
                  <a:ext cx="70200" cy="4860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4897440" y="515916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4964040" y="5121000"/>
                  <a:ext cx="71280" cy="5940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988520" y="5187240"/>
                  <a:ext cx="78480" cy="5004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020920" y="5244120"/>
                  <a:ext cx="66240" cy="5400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4977360" y="5303520"/>
                  <a:ext cx="72720" cy="640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078520" y="5325120"/>
                  <a:ext cx="65160" cy="612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042880" y="5407200"/>
                  <a:ext cx="60120" cy="5688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235120" y="5589000"/>
                  <a:ext cx="74880" cy="4392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264640" y="5536080"/>
                  <a:ext cx="74880" cy="4356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114160" y="5816520"/>
                  <a:ext cx="73440" cy="4284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4720320" y="5339880"/>
                  <a:ext cx="55080" cy="334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5867280" y="4909320"/>
                <a:ext cx="1905120" cy="1127520"/>
                <a:chOff x="5867280" y="4909320"/>
                <a:chExt cx="1905120" cy="112752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5867280" y="4909320"/>
                  <a:ext cx="1905120" cy="1118160"/>
                </a:xfrm>
                <a:custGeom>
                  <a:avLst/>
                  <a:gdLst/>
                  <a:ahLst/>
                  <a:rect l="l" t="t" r="r" b="b"/>
                  <a:pathLst>
                    <a:path w="3094" h="2399">
                      <a:moveTo>
                        <a:pt x="1671" y="2"/>
                      </a:moveTo>
                      <a:lnTo>
                        <a:pt x="1655" y="2"/>
                      </a:lnTo>
                      <a:lnTo>
                        <a:pt x="1612" y="2"/>
                      </a:lnTo>
                      <a:lnTo>
                        <a:pt x="1541" y="0"/>
                      </a:lnTo>
                      <a:lnTo>
                        <a:pt x="1454" y="2"/>
                      </a:lnTo>
                      <a:lnTo>
                        <a:pt x="1351" y="2"/>
                      </a:lnTo>
                      <a:lnTo>
                        <a:pt x="1235" y="4"/>
                      </a:lnTo>
                      <a:lnTo>
                        <a:pt x="1114" y="8"/>
                      </a:lnTo>
                      <a:lnTo>
                        <a:pt x="990" y="13"/>
                      </a:lnTo>
                      <a:lnTo>
                        <a:pt x="867" y="19"/>
                      </a:lnTo>
                      <a:lnTo>
                        <a:pt x="751" y="29"/>
                      </a:lnTo>
                      <a:lnTo>
                        <a:pt x="644" y="40"/>
                      </a:lnTo>
                      <a:lnTo>
                        <a:pt x="551" y="55"/>
                      </a:lnTo>
                      <a:lnTo>
                        <a:pt x="477" y="72"/>
                      </a:lnTo>
                      <a:lnTo>
                        <a:pt x="428" y="93"/>
                      </a:lnTo>
                      <a:lnTo>
                        <a:pt x="405" y="120"/>
                      </a:lnTo>
                      <a:lnTo>
                        <a:pt x="414" y="150"/>
                      </a:lnTo>
                      <a:lnTo>
                        <a:pt x="437" y="181"/>
                      </a:lnTo>
                      <a:lnTo>
                        <a:pt x="458" y="215"/>
                      </a:lnTo>
                      <a:lnTo>
                        <a:pt x="475" y="249"/>
                      </a:lnTo>
                      <a:lnTo>
                        <a:pt x="488" y="283"/>
                      </a:lnTo>
                      <a:lnTo>
                        <a:pt x="496" y="317"/>
                      </a:lnTo>
                      <a:lnTo>
                        <a:pt x="500" y="354"/>
                      </a:lnTo>
                      <a:lnTo>
                        <a:pt x="498" y="388"/>
                      </a:lnTo>
                      <a:lnTo>
                        <a:pt x="492" y="422"/>
                      </a:lnTo>
                      <a:lnTo>
                        <a:pt x="479" y="452"/>
                      </a:lnTo>
                      <a:lnTo>
                        <a:pt x="460" y="483"/>
                      </a:lnTo>
                      <a:lnTo>
                        <a:pt x="433" y="511"/>
                      </a:lnTo>
                      <a:lnTo>
                        <a:pt x="399" y="540"/>
                      </a:lnTo>
                      <a:lnTo>
                        <a:pt x="359" y="563"/>
                      </a:lnTo>
                      <a:lnTo>
                        <a:pt x="310" y="586"/>
                      </a:lnTo>
                      <a:lnTo>
                        <a:pt x="253" y="603"/>
                      </a:lnTo>
                      <a:lnTo>
                        <a:pt x="190" y="618"/>
                      </a:lnTo>
                      <a:lnTo>
                        <a:pt x="125" y="639"/>
                      </a:lnTo>
                      <a:lnTo>
                        <a:pt x="78" y="673"/>
                      </a:lnTo>
                      <a:lnTo>
                        <a:pt x="42" y="722"/>
                      </a:lnTo>
                      <a:lnTo>
                        <a:pt x="19" y="781"/>
                      </a:lnTo>
                      <a:lnTo>
                        <a:pt x="4" y="848"/>
                      </a:lnTo>
                      <a:lnTo>
                        <a:pt x="0" y="922"/>
                      </a:lnTo>
                      <a:lnTo>
                        <a:pt x="2" y="1000"/>
                      </a:lnTo>
                      <a:lnTo>
                        <a:pt x="13" y="1082"/>
                      </a:lnTo>
                      <a:lnTo>
                        <a:pt x="29" y="1161"/>
                      </a:lnTo>
                      <a:lnTo>
                        <a:pt x="48" y="1243"/>
                      </a:lnTo>
                      <a:lnTo>
                        <a:pt x="70" y="1319"/>
                      </a:lnTo>
                      <a:lnTo>
                        <a:pt x="97" y="1390"/>
                      </a:lnTo>
                      <a:lnTo>
                        <a:pt x="122" y="1450"/>
                      </a:lnTo>
                      <a:lnTo>
                        <a:pt x="146" y="1506"/>
                      </a:lnTo>
                      <a:lnTo>
                        <a:pt x="171" y="1545"/>
                      </a:lnTo>
                      <a:lnTo>
                        <a:pt x="194" y="1572"/>
                      </a:lnTo>
                      <a:lnTo>
                        <a:pt x="207" y="1595"/>
                      </a:lnTo>
                      <a:lnTo>
                        <a:pt x="213" y="1627"/>
                      </a:lnTo>
                      <a:lnTo>
                        <a:pt x="213" y="1665"/>
                      </a:lnTo>
                      <a:lnTo>
                        <a:pt x="209" y="1713"/>
                      </a:lnTo>
                      <a:lnTo>
                        <a:pt x="198" y="1762"/>
                      </a:lnTo>
                      <a:lnTo>
                        <a:pt x="184" y="1815"/>
                      </a:lnTo>
                      <a:lnTo>
                        <a:pt x="169" y="1871"/>
                      </a:lnTo>
                      <a:lnTo>
                        <a:pt x="154" y="1926"/>
                      </a:lnTo>
                      <a:lnTo>
                        <a:pt x="139" y="1979"/>
                      </a:lnTo>
                      <a:lnTo>
                        <a:pt x="125" y="2030"/>
                      </a:lnTo>
                      <a:lnTo>
                        <a:pt x="116" y="2080"/>
                      </a:lnTo>
                      <a:lnTo>
                        <a:pt x="114" y="2123"/>
                      </a:lnTo>
                      <a:lnTo>
                        <a:pt x="114" y="2158"/>
                      </a:lnTo>
                      <a:lnTo>
                        <a:pt x="124" y="2188"/>
                      </a:lnTo>
                      <a:lnTo>
                        <a:pt x="141" y="2207"/>
                      </a:lnTo>
                      <a:lnTo>
                        <a:pt x="169" y="2216"/>
                      </a:lnTo>
                      <a:lnTo>
                        <a:pt x="203" y="2216"/>
                      </a:lnTo>
                      <a:lnTo>
                        <a:pt x="245" y="2216"/>
                      </a:lnTo>
                      <a:lnTo>
                        <a:pt x="293" y="2215"/>
                      </a:lnTo>
                      <a:lnTo>
                        <a:pt x="344" y="2213"/>
                      </a:lnTo>
                      <a:lnTo>
                        <a:pt x="395" y="2211"/>
                      </a:lnTo>
                      <a:lnTo>
                        <a:pt x="450" y="2207"/>
                      </a:lnTo>
                      <a:lnTo>
                        <a:pt x="506" y="2203"/>
                      </a:lnTo>
                      <a:lnTo>
                        <a:pt x="563" y="2201"/>
                      </a:lnTo>
                      <a:lnTo>
                        <a:pt x="614" y="2197"/>
                      </a:lnTo>
                      <a:lnTo>
                        <a:pt x="663" y="2197"/>
                      </a:lnTo>
                      <a:lnTo>
                        <a:pt x="707" y="2197"/>
                      </a:lnTo>
                      <a:lnTo>
                        <a:pt x="747" y="2201"/>
                      </a:lnTo>
                      <a:lnTo>
                        <a:pt x="781" y="2203"/>
                      </a:lnTo>
                      <a:lnTo>
                        <a:pt x="808" y="2211"/>
                      </a:lnTo>
                      <a:lnTo>
                        <a:pt x="823" y="2222"/>
                      </a:lnTo>
                      <a:lnTo>
                        <a:pt x="831" y="2234"/>
                      </a:lnTo>
                      <a:lnTo>
                        <a:pt x="834" y="2247"/>
                      </a:lnTo>
                      <a:lnTo>
                        <a:pt x="846" y="2258"/>
                      </a:lnTo>
                      <a:lnTo>
                        <a:pt x="861" y="2268"/>
                      </a:lnTo>
                      <a:lnTo>
                        <a:pt x="884" y="2279"/>
                      </a:lnTo>
                      <a:lnTo>
                        <a:pt x="910" y="2283"/>
                      </a:lnTo>
                      <a:lnTo>
                        <a:pt x="939" y="2291"/>
                      </a:lnTo>
                      <a:lnTo>
                        <a:pt x="971" y="2294"/>
                      </a:lnTo>
                      <a:lnTo>
                        <a:pt x="1005" y="2298"/>
                      </a:lnTo>
                      <a:lnTo>
                        <a:pt x="1040" y="2298"/>
                      </a:lnTo>
                      <a:lnTo>
                        <a:pt x="1076" y="2298"/>
                      </a:lnTo>
                      <a:lnTo>
                        <a:pt x="1110" y="2298"/>
                      </a:lnTo>
                      <a:lnTo>
                        <a:pt x="1144" y="2298"/>
                      </a:lnTo>
                      <a:lnTo>
                        <a:pt x="1175" y="2294"/>
                      </a:lnTo>
                      <a:lnTo>
                        <a:pt x="1205" y="2291"/>
                      </a:lnTo>
                      <a:lnTo>
                        <a:pt x="1230" y="2287"/>
                      </a:lnTo>
                      <a:lnTo>
                        <a:pt x="1252" y="2281"/>
                      </a:lnTo>
                      <a:lnTo>
                        <a:pt x="1273" y="2275"/>
                      </a:lnTo>
                      <a:lnTo>
                        <a:pt x="1302" y="2274"/>
                      </a:lnTo>
                      <a:lnTo>
                        <a:pt x="1338" y="2272"/>
                      </a:lnTo>
                      <a:lnTo>
                        <a:pt x="1380" y="2274"/>
                      </a:lnTo>
                      <a:lnTo>
                        <a:pt x="1423" y="2274"/>
                      </a:lnTo>
                      <a:lnTo>
                        <a:pt x="1473" y="2279"/>
                      </a:lnTo>
                      <a:lnTo>
                        <a:pt x="1524" y="2283"/>
                      </a:lnTo>
                      <a:lnTo>
                        <a:pt x="1577" y="2289"/>
                      </a:lnTo>
                      <a:lnTo>
                        <a:pt x="1629" y="2294"/>
                      </a:lnTo>
                      <a:lnTo>
                        <a:pt x="1682" y="2302"/>
                      </a:lnTo>
                      <a:lnTo>
                        <a:pt x="1733" y="2310"/>
                      </a:lnTo>
                      <a:lnTo>
                        <a:pt x="1785" y="2319"/>
                      </a:lnTo>
                      <a:lnTo>
                        <a:pt x="1830" y="2327"/>
                      </a:lnTo>
                      <a:lnTo>
                        <a:pt x="1874" y="2334"/>
                      </a:lnTo>
                      <a:lnTo>
                        <a:pt x="1910" y="2344"/>
                      </a:lnTo>
                      <a:lnTo>
                        <a:pt x="1944" y="2353"/>
                      </a:lnTo>
                      <a:lnTo>
                        <a:pt x="1980" y="2363"/>
                      </a:lnTo>
                      <a:lnTo>
                        <a:pt x="2035" y="2370"/>
                      </a:lnTo>
                      <a:lnTo>
                        <a:pt x="2104" y="2380"/>
                      </a:lnTo>
                      <a:lnTo>
                        <a:pt x="2186" y="2389"/>
                      </a:lnTo>
                      <a:lnTo>
                        <a:pt x="2273" y="2395"/>
                      </a:lnTo>
                      <a:lnTo>
                        <a:pt x="2370" y="2399"/>
                      </a:lnTo>
                      <a:lnTo>
                        <a:pt x="2467" y="2397"/>
                      </a:lnTo>
                      <a:lnTo>
                        <a:pt x="2568" y="2395"/>
                      </a:lnTo>
                      <a:lnTo>
                        <a:pt x="2666" y="2384"/>
                      </a:lnTo>
                      <a:lnTo>
                        <a:pt x="2760" y="2369"/>
                      </a:lnTo>
                      <a:lnTo>
                        <a:pt x="2845" y="2346"/>
                      </a:lnTo>
                      <a:lnTo>
                        <a:pt x="2923" y="2315"/>
                      </a:lnTo>
                      <a:lnTo>
                        <a:pt x="2988" y="2275"/>
                      </a:lnTo>
                      <a:lnTo>
                        <a:pt x="3039" y="2228"/>
                      </a:lnTo>
                      <a:lnTo>
                        <a:pt x="3071" y="2169"/>
                      </a:lnTo>
                      <a:lnTo>
                        <a:pt x="3086" y="2102"/>
                      </a:lnTo>
                      <a:lnTo>
                        <a:pt x="3086" y="2023"/>
                      </a:lnTo>
                      <a:lnTo>
                        <a:pt x="3086" y="1939"/>
                      </a:lnTo>
                      <a:lnTo>
                        <a:pt x="3088" y="1852"/>
                      </a:lnTo>
                      <a:lnTo>
                        <a:pt x="3088" y="1764"/>
                      </a:lnTo>
                      <a:lnTo>
                        <a:pt x="3088" y="1671"/>
                      </a:lnTo>
                      <a:lnTo>
                        <a:pt x="3090" y="1580"/>
                      </a:lnTo>
                      <a:lnTo>
                        <a:pt x="3090" y="1487"/>
                      </a:lnTo>
                      <a:lnTo>
                        <a:pt x="3092" y="1399"/>
                      </a:lnTo>
                      <a:lnTo>
                        <a:pt x="3092" y="1312"/>
                      </a:lnTo>
                      <a:lnTo>
                        <a:pt x="3092" y="1228"/>
                      </a:lnTo>
                      <a:lnTo>
                        <a:pt x="3092" y="1148"/>
                      </a:lnTo>
                      <a:lnTo>
                        <a:pt x="3092" y="1078"/>
                      </a:lnTo>
                      <a:lnTo>
                        <a:pt x="3092" y="1011"/>
                      </a:lnTo>
                      <a:lnTo>
                        <a:pt x="3092" y="954"/>
                      </a:lnTo>
                      <a:lnTo>
                        <a:pt x="3092" y="909"/>
                      </a:lnTo>
                      <a:lnTo>
                        <a:pt x="3094" y="873"/>
                      </a:lnTo>
                      <a:lnTo>
                        <a:pt x="3092" y="852"/>
                      </a:lnTo>
                      <a:lnTo>
                        <a:pt x="3092" y="829"/>
                      </a:lnTo>
                      <a:lnTo>
                        <a:pt x="3090" y="802"/>
                      </a:lnTo>
                      <a:lnTo>
                        <a:pt x="3086" y="776"/>
                      </a:lnTo>
                      <a:lnTo>
                        <a:pt x="3081" y="747"/>
                      </a:lnTo>
                      <a:lnTo>
                        <a:pt x="3069" y="719"/>
                      </a:lnTo>
                      <a:lnTo>
                        <a:pt x="3058" y="688"/>
                      </a:lnTo>
                      <a:lnTo>
                        <a:pt x="3041" y="660"/>
                      </a:lnTo>
                      <a:lnTo>
                        <a:pt x="3018" y="631"/>
                      </a:lnTo>
                      <a:lnTo>
                        <a:pt x="2991" y="605"/>
                      </a:lnTo>
                      <a:lnTo>
                        <a:pt x="2957" y="580"/>
                      </a:lnTo>
                      <a:lnTo>
                        <a:pt x="2915" y="557"/>
                      </a:lnTo>
                      <a:lnTo>
                        <a:pt x="2868" y="536"/>
                      </a:lnTo>
                      <a:lnTo>
                        <a:pt x="2813" y="521"/>
                      </a:lnTo>
                      <a:lnTo>
                        <a:pt x="2748" y="508"/>
                      </a:lnTo>
                      <a:lnTo>
                        <a:pt x="2676" y="502"/>
                      </a:lnTo>
                      <a:lnTo>
                        <a:pt x="2657" y="494"/>
                      </a:lnTo>
                      <a:lnTo>
                        <a:pt x="2647" y="481"/>
                      </a:lnTo>
                      <a:lnTo>
                        <a:pt x="2647" y="458"/>
                      </a:lnTo>
                      <a:lnTo>
                        <a:pt x="2655" y="432"/>
                      </a:lnTo>
                      <a:lnTo>
                        <a:pt x="2666" y="399"/>
                      </a:lnTo>
                      <a:lnTo>
                        <a:pt x="2683" y="365"/>
                      </a:lnTo>
                      <a:lnTo>
                        <a:pt x="2702" y="325"/>
                      </a:lnTo>
                      <a:lnTo>
                        <a:pt x="2725" y="287"/>
                      </a:lnTo>
                      <a:lnTo>
                        <a:pt x="2742" y="247"/>
                      </a:lnTo>
                      <a:lnTo>
                        <a:pt x="2761" y="207"/>
                      </a:lnTo>
                      <a:lnTo>
                        <a:pt x="2777" y="171"/>
                      </a:lnTo>
                      <a:lnTo>
                        <a:pt x="2786" y="139"/>
                      </a:lnTo>
                      <a:lnTo>
                        <a:pt x="2788" y="108"/>
                      </a:lnTo>
                      <a:lnTo>
                        <a:pt x="2784" y="86"/>
                      </a:lnTo>
                      <a:lnTo>
                        <a:pt x="2769" y="70"/>
                      </a:lnTo>
                      <a:lnTo>
                        <a:pt x="2742" y="63"/>
                      </a:lnTo>
                      <a:lnTo>
                        <a:pt x="2661" y="49"/>
                      </a:lnTo>
                      <a:lnTo>
                        <a:pt x="2575" y="42"/>
                      </a:lnTo>
                      <a:lnTo>
                        <a:pt x="2486" y="32"/>
                      </a:lnTo>
                      <a:lnTo>
                        <a:pt x="2397" y="27"/>
                      </a:lnTo>
                      <a:lnTo>
                        <a:pt x="2307" y="19"/>
                      </a:lnTo>
                      <a:lnTo>
                        <a:pt x="2218" y="15"/>
                      </a:lnTo>
                      <a:lnTo>
                        <a:pt x="2130" y="11"/>
                      </a:lnTo>
                      <a:lnTo>
                        <a:pt x="2049" y="10"/>
                      </a:lnTo>
                      <a:lnTo>
                        <a:pt x="1969" y="6"/>
                      </a:lnTo>
                      <a:lnTo>
                        <a:pt x="1897" y="4"/>
                      </a:lnTo>
                      <a:lnTo>
                        <a:pt x="1832" y="2"/>
                      </a:lnTo>
                      <a:lnTo>
                        <a:pt x="1779" y="2"/>
                      </a:lnTo>
                      <a:lnTo>
                        <a:pt x="1733" y="2"/>
                      </a:lnTo>
                      <a:lnTo>
                        <a:pt x="1699" y="2"/>
                      </a:lnTo>
                      <a:lnTo>
                        <a:pt x="1678" y="2"/>
                      </a:lnTo>
                      <a:lnTo>
                        <a:pt x="1671" y="2"/>
                      </a:lnTo>
                      <a:lnTo>
                        <a:pt x="1671" y="2"/>
                      </a:lnTo>
                      <a:close/>
                    </a:path>
                  </a:pathLst>
                </a:custGeom>
                <a:solidFill>
                  <a:srgbClr val="ff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337520" y="5917680"/>
                  <a:ext cx="100800" cy="119160"/>
                </a:xfrm>
                <a:custGeom>
                  <a:avLst/>
                  <a:gdLst/>
                  <a:ahLst/>
                  <a:rect l="l" t="t" r="r" b="b"/>
                  <a:pathLst>
                    <a:path w="163" h="257">
                      <a:moveTo>
                        <a:pt x="139" y="0"/>
                      </a:moveTo>
                      <a:lnTo>
                        <a:pt x="142" y="8"/>
                      </a:lnTo>
                      <a:lnTo>
                        <a:pt x="144" y="19"/>
                      </a:lnTo>
                      <a:lnTo>
                        <a:pt x="148" y="29"/>
                      </a:lnTo>
                      <a:lnTo>
                        <a:pt x="154" y="40"/>
                      </a:lnTo>
                      <a:lnTo>
                        <a:pt x="156" y="50"/>
                      </a:lnTo>
                      <a:lnTo>
                        <a:pt x="158" y="63"/>
                      </a:lnTo>
                      <a:lnTo>
                        <a:pt x="161" y="76"/>
                      </a:lnTo>
                      <a:lnTo>
                        <a:pt x="163" y="90"/>
                      </a:lnTo>
                      <a:lnTo>
                        <a:pt x="163" y="101"/>
                      </a:lnTo>
                      <a:lnTo>
                        <a:pt x="163" y="114"/>
                      </a:lnTo>
                      <a:lnTo>
                        <a:pt x="163" y="128"/>
                      </a:lnTo>
                      <a:lnTo>
                        <a:pt x="163" y="141"/>
                      </a:lnTo>
                      <a:lnTo>
                        <a:pt x="163" y="152"/>
                      </a:lnTo>
                      <a:lnTo>
                        <a:pt x="161" y="164"/>
                      </a:lnTo>
                      <a:lnTo>
                        <a:pt x="160" y="177"/>
                      </a:lnTo>
                      <a:lnTo>
                        <a:pt x="158" y="190"/>
                      </a:lnTo>
                      <a:lnTo>
                        <a:pt x="154" y="198"/>
                      </a:lnTo>
                      <a:lnTo>
                        <a:pt x="150" y="208"/>
                      </a:lnTo>
                      <a:lnTo>
                        <a:pt x="146" y="215"/>
                      </a:lnTo>
                      <a:lnTo>
                        <a:pt x="142" y="223"/>
                      </a:lnTo>
                      <a:lnTo>
                        <a:pt x="137" y="228"/>
                      </a:lnTo>
                      <a:lnTo>
                        <a:pt x="133" y="236"/>
                      </a:lnTo>
                      <a:lnTo>
                        <a:pt x="125" y="242"/>
                      </a:lnTo>
                      <a:lnTo>
                        <a:pt x="120" y="247"/>
                      </a:lnTo>
                      <a:lnTo>
                        <a:pt x="110" y="249"/>
                      </a:lnTo>
                      <a:lnTo>
                        <a:pt x="103" y="253"/>
                      </a:lnTo>
                      <a:lnTo>
                        <a:pt x="93" y="255"/>
                      </a:lnTo>
                      <a:lnTo>
                        <a:pt x="85" y="257"/>
                      </a:lnTo>
                      <a:lnTo>
                        <a:pt x="74" y="255"/>
                      </a:lnTo>
                      <a:lnTo>
                        <a:pt x="65" y="255"/>
                      </a:lnTo>
                      <a:lnTo>
                        <a:pt x="53" y="251"/>
                      </a:lnTo>
                      <a:lnTo>
                        <a:pt x="42" y="249"/>
                      </a:lnTo>
                      <a:lnTo>
                        <a:pt x="25" y="232"/>
                      </a:lnTo>
                      <a:lnTo>
                        <a:pt x="13" y="213"/>
                      </a:lnTo>
                      <a:lnTo>
                        <a:pt x="4" y="194"/>
                      </a:lnTo>
                      <a:lnTo>
                        <a:pt x="2" y="175"/>
                      </a:lnTo>
                      <a:lnTo>
                        <a:pt x="0" y="156"/>
                      </a:lnTo>
                      <a:lnTo>
                        <a:pt x="2" y="135"/>
                      </a:lnTo>
                      <a:lnTo>
                        <a:pt x="8" y="116"/>
                      </a:lnTo>
                      <a:lnTo>
                        <a:pt x="17" y="99"/>
                      </a:lnTo>
                      <a:lnTo>
                        <a:pt x="25" y="80"/>
                      </a:lnTo>
                      <a:lnTo>
                        <a:pt x="38" y="63"/>
                      </a:lnTo>
                      <a:lnTo>
                        <a:pt x="51" y="48"/>
                      </a:lnTo>
                      <a:lnTo>
                        <a:pt x="68" y="35"/>
                      </a:lnTo>
                      <a:lnTo>
                        <a:pt x="84" y="21"/>
                      </a:lnTo>
                      <a:lnTo>
                        <a:pt x="101" y="14"/>
                      </a:lnTo>
                      <a:lnTo>
                        <a:pt x="120" y="6"/>
                      </a:lnTo>
                      <a:lnTo>
                        <a:pt x="139" y="0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4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913720" y="5560920"/>
                  <a:ext cx="1117080" cy="452160"/>
                </a:xfrm>
                <a:custGeom>
                  <a:avLst/>
                  <a:gdLst/>
                  <a:ahLst/>
                  <a:rect l="l" t="t" r="r" b="b"/>
                  <a:pathLst>
                    <a:path w="1815" h="972">
                      <a:moveTo>
                        <a:pt x="1815" y="263"/>
                      </a:moveTo>
                      <a:lnTo>
                        <a:pt x="1401" y="920"/>
                      </a:lnTo>
                      <a:lnTo>
                        <a:pt x="1395" y="920"/>
                      </a:lnTo>
                      <a:lnTo>
                        <a:pt x="1380" y="926"/>
                      </a:lnTo>
                      <a:lnTo>
                        <a:pt x="1357" y="930"/>
                      </a:lnTo>
                      <a:lnTo>
                        <a:pt x="1327" y="937"/>
                      </a:lnTo>
                      <a:lnTo>
                        <a:pt x="1290" y="945"/>
                      </a:lnTo>
                      <a:lnTo>
                        <a:pt x="1249" y="953"/>
                      </a:lnTo>
                      <a:lnTo>
                        <a:pt x="1203" y="958"/>
                      </a:lnTo>
                      <a:lnTo>
                        <a:pt x="1156" y="966"/>
                      </a:lnTo>
                      <a:lnTo>
                        <a:pt x="1106" y="970"/>
                      </a:lnTo>
                      <a:lnTo>
                        <a:pt x="1057" y="972"/>
                      </a:lnTo>
                      <a:lnTo>
                        <a:pt x="1005" y="970"/>
                      </a:lnTo>
                      <a:lnTo>
                        <a:pt x="958" y="964"/>
                      </a:lnTo>
                      <a:lnTo>
                        <a:pt x="910" y="954"/>
                      </a:lnTo>
                      <a:lnTo>
                        <a:pt x="870" y="941"/>
                      </a:lnTo>
                      <a:lnTo>
                        <a:pt x="834" y="922"/>
                      </a:lnTo>
                      <a:lnTo>
                        <a:pt x="804" y="897"/>
                      </a:lnTo>
                      <a:lnTo>
                        <a:pt x="770" y="871"/>
                      </a:lnTo>
                      <a:lnTo>
                        <a:pt x="728" y="856"/>
                      </a:lnTo>
                      <a:lnTo>
                        <a:pt x="675" y="844"/>
                      </a:lnTo>
                      <a:lnTo>
                        <a:pt x="618" y="840"/>
                      </a:lnTo>
                      <a:lnTo>
                        <a:pt x="553" y="840"/>
                      </a:lnTo>
                      <a:lnTo>
                        <a:pt x="487" y="842"/>
                      </a:lnTo>
                      <a:lnTo>
                        <a:pt x="416" y="846"/>
                      </a:lnTo>
                      <a:lnTo>
                        <a:pt x="348" y="850"/>
                      </a:lnTo>
                      <a:lnTo>
                        <a:pt x="279" y="854"/>
                      </a:lnTo>
                      <a:lnTo>
                        <a:pt x="215" y="854"/>
                      </a:lnTo>
                      <a:lnTo>
                        <a:pt x="156" y="850"/>
                      </a:lnTo>
                      <a:lnTo>
                        <a:pt x="105" y="842"/>
                      </a:lnTo>
                      <a:lnTo>
                        <a:pt x="61" y="827"/>
                      </a:lnTo>
                      <a:lnTo>
                        <a:pt x="27" y="806"/>
                      </a:lnTo>
                      <a:lnTo>
                        <a:pt x="6" y="776"/>
                      </a:lnTo>
                      <a:lnTo>
                        <a:pt x="0" y="736"/>
                      </a:lnTo>
                      <a:lnTo>
                        <a:pt x="2" y="690"/>
                      </a:lnTo>
                      <a:lnTo>
                        <a:pt x="6" y="645"/>
                      </a:lnTo>
                      <a:lnTo>
                        <a:pt x="13" y="601"/>
                      </a:lnTo>
                      <a:lnTo>
                        <a:pt x="25" y="561"/>
                      </a:lnTo>
                      <a:lnTo>
                        <a:pt x="38" y="519"/>
                      </a:lnTo>
                      <a:lnTo>
                        <a:pt x="51" y="483"/>
                      </a:lnTo>
                      <a:lnTo>
                        <a:pt x="67" y="447"/>
                      </a:lnTo>
                      <a:lnTo>
                        <a:pt x="82" y="415"/>
                      </a:lnTo>
                      <a:lnTo>
                        <a:pt x="97" y="384"/>
                      </a:lnTo>
                      <a:lnTo>
                        <a:pt x="112" y="356"/>
                      </a:lnTo>
                      <a:lnTo>
                        <a:pt x="125" y="333"/>
                      </a:lnTo>
                      <a:lnTo>
                        <a:pt x="139" y="314"/>
                      </a:lnTo>
                      <a:lnTo>
                        <a:pt x="148" y="297"/>
                      </a:lnTo>
                      <a:lnTo>
                        <a:pt x="158" y="287"/>
                      </a:lnTo>
                      <a:lnTo>
                        <a:pt x="163" y="280"/>
                      </a:lnTo>
                      <a:lnTo>
                        <a:pt x="165" y="278"/>
                      </a:lnTo>
                      <a:lnTo>
                        <a:pt x="682" y="0"/>
                      </a:lnTo>
                      <a:lnTo>
                        <a:pt x="1815" y="263"/>
                      </a:lnTo>
                      <a:lnTo>
                        <a:pt x="1815" y="263"/>
                      </a:lnTo>
                      <a:close/>
                    </a:path>
                  </a:pathLst>
                </a:custGeom>
                <a:solidFill>
                  <a:srgbClr val="cfa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702120" y="5675760"/>
                  <a:ext cx="312480" cy="324360"/>
                </a:xfrm>
                <a:custGeom>
                  <a:avLst/>
                  <a:gdLst/>
                  <a:ahLst/>
                  <a:rect l="l" t="t" r="r" b="b"/>
                  <a:pathLst>
                    <a:path w="507" h="696">
                      <a:moveTo>
                        <a:pt x="428" y="0"/>
                      </a:moveTo>
                      <a:lnTo>
                        <a:pt x="0" y="696"/>
                      </a:lnTo>
                      <a:lnTo>
                        <a:pt x="89" y="690"/>
                      </a:lnTo>
                      <a:lnTo>
                        <a:pt x="507" y="31"/>
                      </a:lnTo>
                      <a:lnTo>
                        <a:pt x="428" y="0"/>
                      </a:lnTo>
                      <a:lnTo>
                        <a:pt x="428" y="0"/>
                      </a:lnTo>
                      <a:close/>
                    </a:path>
                  </a:pathLst>
                </a:cu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062760" y="5611320"/>
                  <a:ext cx="579960" cy="241560"/>
                </a:xfrm>
                <a:custGeom>
                  <a:avLst/>
                  <a:gdLst/>
                  <a:ahLst/>
                  <a:rect l="l" t="t" r="r" b="b"/>
                  <a:pathLst>
                    <a:path w="943" h="518">
                      <a:moveTo>
                        <a:pt x="837" y="0"/>
                      </a:moveTo>
                      <a:lnTo>
                        <a:pt x="943" y="30"/>
                      </a:lnTo>
                      <a:lnTo>
                        <a:pt x="603" y="494"/>
                      </a:lnTo>
                      <a:lnTo>
                        <a:pt x="597" y="494"/>
                      </a:lnTo>
                      <a:lnTo>
                        <a:pt x="582" y="496"/>
                      </a:lnTo>
                      <a:lnTo>
                        <a:pt x="557" y="498"/>
                      </a:lnTo>
                      <a:lnTo>
                        <a:pt x="525" y="501"/>
                      </a:lnTo>
                      <a:lnTo>
                        <a:pt x="485" y="503"/>
                      </a:lnTo>
                      <a:lnTo>
                        <a:pt x="443" y="507"/>
                      </a:lnTo>
                      <a:lnTo>
                        <a:pt x="398" y="511"/>
                      </a:lnTo>
                      <a:lnTo>
                        <a:pt x="350" y="513"/>
                      </a:lnTo>
                      <a:lnTo>
                        <a:pt x="301" y="517"/>
                      </a:lnTo>
                      <a:lnTo>
                        <a:pt x="253" y="518"/>
                      </a:lnTo>
                      <a:lnTo>
                        <a:pt x="208" y="518"/>
                      </a:lnTo>
                      <a:lnTo>
                        <a:pt x="166" y="518"/>
                      </a:lnTo>
                      <a:lnTo>
                        <a:pt x="130" y="518"/>
                      </a:lnTo>
                      <a:lnTo>
                        <a:pt x="97" y="517"/>
                      </a:lnTo>
                      <a:lnTo>
                        <a:pt x="75" y="511"/>
                      </a:lnTo>
                      <a:lnTo>
                        <a:pt x="63" y="507"/>
                      </a:lnTo>
                      <a:lnTo>
                        <a:pt x="54" y="498"/>
                      </a:lnTo>
                      <a:lnTo>
                        <a:pt x="46" y="488"/>
                      </a:lnTo>
                      <a:lnTo>
                        <a:pt x="38" y="479"/>
                      </a:lnTo>
                      <a:lnTo>
                        <a:pt x="33" y="469"/>
                      </a:lnTo>
                      <a:lnTo>
                        <a:pt x="25" y="458"/>
                      </a:lnTo>
                      <a:lnTo>
                        <a:pt x="21" y="448"/>
                      </a:lnTo>
                      <a:lnTo>
                        <a:pt x="17" y="437"/>
                      </a:lnTo>
                      <a:lnTo>
                        <a:pt x="14" y="427"/>
                      </a:lnTo>
                      <a:lnTo>
                        <a:pt x="10" y="416"/>
                      </a:lnTo>
                      <a:lnTo>
                        <a:pt x="6" y="408"/>
                      </a:lnTo>
                      <a:lnTo>
                        <a:pt x="4" y="399"/>
                      </a:lnTo>
                      <a:lnTo>
                        <a:pt x="2" y="391"/>
                      </a:lnTo>
                      <a:lnTo>
                        <a:pt x="0" y="385"/>
                      </a:lnTo>
                      <a:lnTo>
                        <a:pt x="0" y="382"/>
                      </a:lnTo>
                      <a:lnTo>
                        <a:pt x="0" y="378"/>
                      </a:lnTo>
                      <a:lnTo>
                        <a:pt x="837" y="0"/>
                      </a:lnTo>
                      <a:lnTo>
                        <a:pt x="83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396480" y="5637600"/>
                  <a:ext cx="455760" cy="218160"/>
                </a:xfrm>
                <a:custGeom>
                  <a:avLst/>
                  <a:gdLst/>
                  <a:ahLst/>
                  <a:rect l="l" t="t" r="r" b="b"/>
                  <a:pathLst>
                    <a:path w="739" h="467">
                      <a:moveTo>
                        <a:pt x="0" y="347"/>
                      </a:moveTo>
                      <a:lnTo>
                        <a:pt x="47" y="429"/>
                      </a:lnTo>
                      <a:lnTo>
                        <a:pt x="428" y="467"/>
                      </a:lnTo>
                      <a:lnTo>
                        <a:pt x="737" y="57"/>
                      </a:lnTo>
                      <a:lnTo>
                        <a:pt x="739" y="0"/>
                      </a:lnTo>
                      <a:lnTo>
                        <a:pt x="0" y="347"/>
                      </a:lnTo>
                      <a:lnTo>
                        <a:pt x="0" y="347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396480" y="5616000"/>
                  <a:ext cx="455760" cy="214560"/>
                </a:xfrm>
                <a:custGeom>
                  <a:avLst/>
                  <a:gdLst/>
                  <a:ahLst/>
                  <a:rect l="l" t="t" r="r" b="b"/>
                  <a:pathLst>
                    <a:path w="739" h="460">
                      <a:moveTo>
                        <a:pt x="559" y="8"/>
                      </a:moveTo>
                      <a:lnTo>
                        <a:pt x="365" y="0"/>
                      </a:lnTo>
                      <a:lnTo>
                        <a:pt x="0" y="393"/>
                      </a:lnTo>
                      <a:lnTo>
                        <a:pt x="403" y="460"/>
                      </a:lnTo>
                      <a:lnTo>
                        <a:pt x="739" y="46"/>
                      </a:lnTo>
                      <a:lnTo>
                        <a:pt x="559" y="8"/>
                      </a:lnTo>
                      <a:lnTo>
                        <a:pt x="559" y="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837480" y="5620680"/>
                  <a:ext cx="204120" cy="84960"/>
                </a:xfrm>
                <a:custGeom>
                  <a:avLst/>
                  <a:gdLst/>
                  <a:ahLst/>
                  <a:rect l="l" t="t" r="r" b="b"/>
                  <a:pathLst>
                    <a:path w="332" h="181">
                      <a:moveTo>
                        <a:pt x="332" y="0"/>
                      </a:moveTo>
                      <a:lnTo>
                        <a:pt x="328" y="0"/>
                      </a:lnTo>
                      <a:lnTo>
                        <a:pt x="319" y="0"/>
                      </a:lnTo>
                      <a:lnTo>
                        <a:pt x="304" y="0"/>
                      </a:lnTo>
                      <a:lnTo>
                        <a:pt x="286" y="2"/>
                      </a:lnTo>
                      <a:lnTo>
                        <a:pt x="264" y="4"/>
                      </a:lnTo>
                      <a:lnTo>
                        <a:pt x="239" y="8"/>
                      </a:lnTo>
                      <a:lnTo>
                        <a:pt x="212" y="10"/>
                      </a:lnTo>
                      <a:lnTo>
                        <a:pt x="186" y="14"/>
                      </a:lnTo>
                      <a:lnTo>
                        <a:pt x="157" y="14"/>
                      </a:lnTo>
                      <a:lnTo>
                        <a:pt x="129" y="16"/>
                      </a:lnTo>
                      <a:lnTo>
                        <a:pt x="102" y="16"/>
                      </a:lnTo>
                      <a:lnTo>
                        <a:pt x="77" y="18"/>
                      </a:lnTo>
                      <a:lnTo>
                        <a:pt x="55" y="18"/>
                      </a:lnTo>
                      <a:lnTo>
                        <a:pt x="36" y="18"/>
                      </a:lnTo>
                      <a:lnTo>
                        <a:pt x="20" y="18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15" y="29"/>
                      </a:lnTo>
                      <a:lnTo>
                        <a:pt x="15" y="35"/>
                      </a:lnTo>
                      <a:lnTo>
                        <a:pt x="15" y="42"/>
                      </a:lnTo>
                      <a:lnTo>
                        <a:pt x="17" y="50"/>
                      </a:lnTo>
                      <a:lnTo>
                        <a:pt x="17" y="57"/>
                      </a:lnTo>
                      <a:lnTo>
                        <a:pt x="17" y="65"/>
                      </a:lnTo>
                      <a:lnTo>
                        <a:pt x="17" y="75"/>
                      </a:lnTo>
                      <a:lnTo>
                        <a:pt x="15" y="82"/>
                      </a:lnTo>
                      <a:lnTo>
                        <a:pt x="15" y="90"/>
                      </a:lnTo>
                      <a:lnTo>
                        <a:pt x="11" y="97"/>
                      </a:lnTo>
                      <a:lnTo>
                        <a:pt x="7" y="105"/>
                      </a:lnTo>
                      <a:lnTo>
                        <a:pt x="3" y="111"/>
                      </a:lnTo>
                      <a:lnTo>
                        <a:pt x="0" y="118"/>
                      </a:lnTo>
                      <a:lnTo>
                        <a:pt x="0" y="118"/>
                      </a:lnTo>
                      <a:lnTo>
                        <a:pt x="7" y="120"/>
                      </a:lnTo>
                      <a:lnTo>
                        <a:pt x="17" y="122"/>
                      </a:lnTo>
                      <a:lnTo>
                        <a:pt x="30" y="126"/>
                      </a:lnTo>
                      <a:lnTo>
                        <a:pt x="45" y="132"/>
                      </a:lnTo>
                      <a:lnTo>
                        <a:pt x="64" y="137"/>
                      </a:lnTo>
                      <a:lnTo>
                        <a:pt x="83" y="141"/>
                      </a:lnTo>
                      <a:lnTo>
                        <a:pt x="108" y="149"/>
                      </a:lnTo>
                      <a:lnTo>
                        <a:pt x="129" y="154"/>
                      </a:lnTo>
                      <a:lnTo>
                        <a:pt x="153" y="160"/>
                      </a:lnTo>
                      <a:lnTo>
                        <a:pt x="176" y="164"/>
                      </a:lnTo>
                      <a:lnTo>
                        <a:pt x="199" y="170"/>
                      </a:lnTo>
                      <a:lnTo>
                        <a:pt x="220" y="173"/>
                      </a:lnTo>
                      <a:lnTo>
                        <a:pt x="241" y="177"/>
                      </a:lnTo>
                      <a:lnTo>
                        <a:pt x="260" y="179"/>
                      </a:lnTo>
                      <a:lnTo>
                        <a:pt x="277" y="181"/>
                      </a:lnTo>
                      <a:lnTo>
                        <a:pt x="332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737760" y="5459400"/>
                  <a:ext cx="963000" cy="563040"/>
                </a:xfrm>
                <a:custGeom>
                  <a:avLst/>
                  <a:gdLst/>
                  <a:ahLst/>
                  <a:rect l="l" t="t" r="r" b="b"/>
                  <a:pathLst>
                    <a:path w="1564" h="1208">
                      <a:moveTo>
                        <a:pt x="859" y="40"/>
                      </a:moveTo>
                      <a:lnTo>
                        <a:pt x="867" y="39"/>
                      </a:lnTo>
                      <a:lnTo>
                        <a:pt x="887" y="37"/>
                      </a:lnTo>
                      <a:lnTo>
                        <a:pt x="922" y="31"/>
                      </a:lnTo>
                      <a:lnTo>
                        <a:pt x="967" y="25"/>
                      </a:lnTo>
                      <a:lnTo>
                        <a:pt x="1019" y="19"/>
                      </a:lnTo>
                      <a:lnTo>
                        <a:pt x="1079" y="16"/>
                      </a:lnTo>
                      <a:lnTo>
                        <a:pt x="1140" y="10"/>
                      </a:lnTo>
                      <a:lnTo>
                        <a:pt x="1207" y="6"/>
                      </a:lnTo>
                      <a:lnTo>
                        <a:pt x="1271" y="2"/>
                      </a:lnTo>
                      <a:lnTo>
                        <a:pt x="1334" y="0"/>
                      </a:lnTo>
                      <a:lnTo>
                        <a:pt x="1393" y="2"/>
                      </a:lnTo>
                      <a:lnTo>
                        <a:pt x="1448" y="6"/>
                      </a:lnTo>
                      <a:lnTo>
                        <a:pt x="1494" y="12"/>
                      </a:lnTo>
                      <a:lnTo>
                        <a:pt x="1530" y="23"/>
                      </a:lnTo>
                      <a:lnTo>
                        <a:pt x="1553" y="39"/>
                      </a:lnTo>
                      <a:lnTo>
                        <a:pt x="1564" y="58"/>
                      </a:lnTo>
                      <a:lnTo>
                        <a:pt x="1564" y="80"/>
                      </a:lnTo>
                      <a:lnTo>
                        <a:pt x="1558" y="109"/>
                      </a:lnTo>
                      <a:lnTo>
                        <a:pt x="1549" y="139"/>
                      </a:lnTo>
                      <a:lnTo>
                        <a:pt x="1537" y="175"/>
                      </a:lnTo>
                      <a:lnTo>
                        <a:pt x="1522" y="210"/>
                      </a:lnTo>
                      <a:lnTo>
                        <a:pt x="1507" y="250"/>
                      </a:lnTo>
                      <a:lnTo>
                        <a:pt x="1488" y="289"/>
                      </a:lnTo>
                      <a:lnTo>
                        <a:pt x="1471" y="329"/>
                      </a:lnTo>
                      <a:lnTo>
                        <a:pt x="1450" y="367"/>
                      </a:lnTo>
                      <a:lnTo>
                        <a:pt x="1429" y="407"/>
                      </a:lnTo>
                      <a:lnTo>
                        <a:pt x="1412" y="443"/>
                      </a:lnTo>
                      <a:lnTo>
                        <a:pt x="1393" y="480"/>
                      </a:lnTo>
                      <a:lnTo>
                        <a:pt x="1378" y="512"/>
                      </a:lnTo>
                      <a:lnTo>
                        <a:pt x="1365" y="542"/>
                      </a:lnTo>
                      <a:lnTo>
                        <a:pt x="1355" y="567"/>
                      </a:lnTo>
                      <a:lnTo>
                        <a:pt x="1347" y="590"/>
                      </a:lnTo>
                      <a:lnTo>
                        <a:pt x="1340" y="611"/>
                      </a:lnTo>
                      <a:lnTo>
                        <a:pt x="1330" y="641"/>
                      </a:lnTo>
                      <a:lnTo>
                        <a:pt x="1317" y="675"/>
                      </a:lnTo>
                      <a:lnTo>
                        <a:pt x="1300" y="713"/>
                      </a:lnTo>
                      <a:lnTo>
                        <a:pt x="1279" y="757"/>
                      </a:lnTo>
                      <a:lnTo>
                        <a:pt x="1256" y="803"/>
                      </a:lnTo>
                      <a:lnTo>
                        <a:pt x="1231" y="850"/>
                      </a:lnTo>
                      <a:lnTo>
                        <a:pt x="1205" y="898"/>
                      </a:lnTo>
                      <a:lnTo>
                        <a:pt x="1174" y="943"/>
                      </a:lnTo>
                      <a:lnTo>
                        <a:pt x="1144" y="991"/>
                      </a:lnTo>
                      <a:lnTo>
                        <a:pt x="1112" y="1033"/>
                      </a:lnTo>
                      <a:lnTo>
                        <a:pt x="1078" y="1075"/>
                      </a:lnTo>
                      <a:lnTo>
                        <a:pt x="1041" y="1109"/>
                      </a:lnTo>
                      <a:lnTo>
                        <a:pt x="1007" y="1141"/>
                      </a:lnTo>
                      <a:lnTo>
                        <a:pt x="971" y="1166"/>
                      </a:lnTo>
                      <a:lnTo>
                        <a:pt x="935" y="1183"/>
                      </a:lnTo>
                      <a:lnTo>
                        <a:pt x="889" y="1192"/>
                      </a:lnTo>
                      <a:lnTo>
                        <a:pt x="836" y="1200"/>
                      </a:lnTo>
                      <a:lnTo>
                        <a:pt x="772" y="1204"/>
                      </a:lnTo>
                      <a:lnTo>
                        <a:pt x="703" y="1208"/>
                      </a:lnTo>
                      <a:lnTo>
                        <a:pt x="627" y="1206"/>
                      </a:lnTo>
                      <a:lnTo>
                        <a:pt x="549" y="1204"/>
                      </a:lnTo>
                      <a:lnTo>
                        <a:pt x="469" y="1200"/>
                      </a:lnTo>
                      <a:lnTo>
                        <a:pt x="391" y="1196"/>
                      </a:lnTo>
                      <a:lnTo>
                        <a:pt x="314" y="1189"/>
                      </a:lnTo>
                      <a:lnTo>
                        <a:pt x="241" y="1185"/>
                      </a:lnTo>
                      <a:lnTo>
                        <a:pt x="175" y="1177"/>
                      </a:lnTo>
                      <a:lnTo>
                        <a:pt x="118" y="1171"/>
                      </a:lnTo>
                      <a:lnTo>
                        <a:pt x="68" y="1166"/>
                      </a:lnTo>
                      <a:lnTo>
                        <a:pt x="32" y="1162"/>
                      </a:lnTo>
                      <a:lnTo>
                        <a:pt x="8" y="1158"/>
                      </a:lnTo>
                      <a:lnTo>
                        <a:pt x="0" y="1158"/>
                      </a:lnTo>
                      <a:lnTo>
                        <a:pt x="859" y="40"/>
                      </a:lnTo>
                      <a:lnTo>
                        <a:pt x="859" y="40"/>
                      </a:lnTo>
                      <a:close/>
                    </a:path>
                  </a:pathLst>
                </a:custGeom>
                <a:solidFill>
                  <a:srgbClr val="75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816600" y="5344560"/>
                  <a:ext cx="871560" cy="614520"/>
                </a:xfrm>
                <a:custGeom>
                  <a:avLst/>
                  <a:gdLst/>
                  <a:ahLst/>
                  <a:rect l="l" t="t" r="r" b="b"/>
                  <a:pathLst>
                    <a:path w="1416" h="1320">
                      <a:moveTo>
                        <a:pt x="751" y="44"/>
                      </a:moveTo>
                      <a:lnTo>
                        <a:pt x="751" y="40"/>
                      </a:lnTo>
                      <a:lnTo>
                        <a:pt x="757" y="33"/>
                      </a:lnTo>
                      <a:lnTo>
                        <a:pt x="760" y="27"/>
                      </a:lnTo>
                      <a:lnTo>
                        <a:pt x="766" y="21"/>
                      </a:lnTo>
                      <a:lnTo>
                        <a:pt x="772" y="16"/>
                      </a:lnTo>
                      <a:lnTo>
                        <a:pt x="779" y="12"/>
                      </a:lnTo>
                      <a:lnTo>
                        <a:pt x="785" y="6"/>
                      </a:lnTo>
                      <a:lnTo>
                        <a:pt x="795" y="4"/>
                      </a:lnTo>
                      <a:lnTo>
                        <a:pt x="804" y="0"/>
                      </a:lnTo>
                      <a:lnTo>
                        <a:pt x="818" y="0"/>
                      </a:lnTo>
                      <a:lnTo>
                        <a:pt x="831" y="0"/>
                      </a:lnTo>
                      <a:lnTo>
                        <a:pt x="844" y="4"/>
                      </a:lnTo>
                      <a:lnTo>
                        <a:pt x="859" y="8"/>
                      </a:lnTo>
                      <a:lnTo>
                        <a:pt x="876" y="17"/>
                      </a:lnTo>
                      <a:lnTo>
                        <a:pt x="897" y="27"/>
                      </a:lnTo>
                      <a:lnTo>
                        <a:pt x="926" y="40"/>
                      </a:lnTo>
                      <a:lnTo>
                        <a:pt x="962" y="57"/>
                      </a:lnTo>
                      <a:lnTo>
                        <a:pt x="1002" y="78"/>
                      </a:lnTo>
                      <a:lnTo>
                        <a:pt x="1042" y="99"/>
                      </a:lnTo>
                      <a:lnTo>
                        <a:pt x="1089" y="120"/>
                      </a:lnTo>
                      <a:lnTo>
                        <a:pt x="1135" y="143"/>
                      </a:lnTo>
                      <a:lnTo>
                        <a:pt x="1180" y="168"/>
                      </a:lnTo>
                      <a:lnTo>
                        <a:pt x="1226" y="189"/>
                      </a:lnTo>
                      <a:lnTo>
                        <a:pt x="1270" y="209"/>
                      </a:lnTo>
                      <a:lnTo>
                        <a:pt x="1308" y="230"/>
                      </a:lnTo>
                      <a:lnTo>
                        <a:pt x="1344" y="247"/>
                      </a:lnTo>
                      <a:lnTo>
                        <a:pt x="1374" y="263"/>
                      </a:lnTo>
                      <a:lnTo>
                        <a:pt x="1397" y="274"/>
                      </a:lnTo>
                      <a:lnTo>
                        <a:pt x="1410" y="280"/>
                      </a:lnTo>
                      <a:lnTo>
                        <a:pt x="1416" y="284"/>
                      </a:lnTo>
                      <a:lnTo>
                        <a:pt x="1414" y="284"/>
                      </a:lnTo>
                      <a:lnTo>
                        <a:pt x="1403" y="282"/>
                      </a:lnTo>
                      <a:lnTo>
                        <a:pt x="1390" y="280"/>
                      </a:lnTo>
                      <a:lnTo>
                        <a:pt x="1372" y="280"/>
                      </a:lnTo>
                      <a:lnTo>
                        <a:pt x="1350" y="278"/>
                      </a:lnTo>
                      <a:lnTo>
                        <a:pt x="1325" y="278"/>
                      </a:lnTo>
                      <a:lnTo>
                        <a:pt x="1300" y="278"/>
                      </a:lnTo>
                      <a:lnTo>
                        <a:pt x="1274" y="280"/>
                      </a:lnTo>
                      <a:lnTo>
                        <a:pt x="1245" y="284"/>
                      </a:lnTo>
                      <a:lnTo>
                        <a:pt x="1217" y="287"/>
                      </a:lnTo>
                      <a:lnTo>
                        <a:pt x="1190" y="295"/>
                      </a:lnTo>
                      <a:lnTo>
                        <a:pt x="1165" y="306"/>
                      </a:lnTo>
                      <a:lnTo>
                        <a:pt x="1144" y="320"/>
                      </a:lnTo>
                      <a:lnTo>
                        <a:pt x="1125" y="337"/>
                      </a:lnTo>
                      <a:lnTo>
                        <a:pt x="1112" y="356"/>
                      </a:lnTo>
                      <a:lnTo>
                        <a:pt x="1103" y="381"/>
                      </a:lnTo>
                      <a:lnTo>
                        <a:pt x="1093" y="407"/>
                      </a:lnTo>
                      <a:lnTo>
                        <a:pt x="1084" y="441"/>
                      </a:lnTo>
                      <a:lnTo>
                        <a:pt x="1070" y="477"/>
                      </a:lnTo>
                      <a:lnTo>
                        <a:pt x="1055" y="521"/>
                      </a:lnTo>
                      <a:lnTo>
                        <a:pt x="1038" y="567"/>
                      </a:lnTo>
                      <a:lnTo>
                        <a:pt x="1019" y="616"/>
                      </a:lnTo>
                      <a:lnTo>
                        <a:pt x="996" y="669"/>
                      </a:lnTo>
                      <a:lnTo>
                        <a:pt x="973" y="727"/>
                      </a:lnTo>
                      <a:lnTo>
                        <a:pt x="947" y="785"/>
                      </a:lnTo>
                      <a:lnTo>
                        <a:pt x="918" y="846"/>
                      </a:lnTo>
                      <a:lnTo>
                        <a:pt x="888" y="909"/>
                      </a:lnTo>
                      <a:lnTo>
                        <a:pt x="856" y="974"/>
                      </a:lnTo>
                      <a:lnTo>
                        <a:pt x="819" y="1040"/>
                      </a:lnTo>
                      <a:lnTo>
                        <a:pt x="783" y="1107"/>
                      </a:lnTo>
                      <a:lnTo>
                        <a:pt x="743" y="1171"/>
                      </a:lnTo>
                      <a:lnTo>
                        <a:pt x="703" y="1240"/>
                      </a:lnTo>
                      <a:lnTo>
                        <a:pt x="675" y="1270"/>
                      </a:lnTo>
                      <a:lnTo>
                        <a:pt x="637" y="1293"/>
                      </a:lnTo>
                      <a:lnTo>
                        <a:pt x="591" y="1308"/>
                      </a:lnTo>
                      <a:lnTo>
                        <a:pt x="542" y="1318"/>
                      </a:lnTo>
                      <a:lnTo>
                        <a:pt x="485" y="1320"/>
                      </a:lnTo>
                      <a:lnTo>
                        <a:pt x="426" y="1320"/>
                      </a:lnTo>
                      <a:lnTo>
                        <a:pt x="365" y="1314"/>
                      </a:lnTo>
                      <a:lnTo>
                        <a:pt x="306" y="1306"/>
                      </a:lnTo>
                      <a:lnTo>
                        <a:pt x="245" y="1293"/>
                      </a:lnTo>
                      <a:lnTo>
                        <a:pt x="188" y="1283"/>
                      </a:lnTo>
                      <a:lnTo>
                        <a:pt x="137" y="1270"/>
                      </a:lnTo>
                      <a:lnTo>
                        <a:pt x="93" y="1259"/>
                      </a:lnTo>
                      <a:lnTo>
                        <a:pt x="54" y="1247"/>
                      </a:lnTo>
                      <a:lnTo>
                        <a:pt x="25" y="1240"/>
                      </a:lnTo>
                      <a:lnTo>
                        <a:pt x="6" y="1232"/>
                      </a:lnTo>
                      <a:lnTo>
                        <a:pt x="0" y="1232"/>
                      </a:lnTo>
                      <a:lnTo>
                        <a:pt x="751" y="44"/>
                      </a:lnTo>
                      <a:lnTo>
                        <a:pt x="751" y="44"/>
                      </a:lnTo>
                      <a:close/>
                    </a:path>
                  </a:pathLst>
                </a:custGeom>
                <a:solidFill>
                  <a:srgbClr val="9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816600" y="5377320"/>
                  <a:ext cx="595800" cy="584640"/>
                </a:xfrm>
                <a:custGeom>
                  <a:avLst/>
                  <a:gdLst/>
                  <a:ahLst/>
                  <a:rect l="l" t="t" r="r" b="b"/>
                  <a:pathLst>
                    <a:path w="970" h="1254">
                      <a:moveTo>
                        <a:pt x="542" y="163"/>
                      </a:moveTo>
                      <a:lnTo>
                        <a:pt x="540" y="163"/>
                      </a:lnTo>
                      <a:lnTo>
                        <a:pt x="534" y="165"/>
                      </a:lnTo>
                      <a:lnTo>
                        <a:pt x="529" y="165"/>
                      </a:lnTo>
                      <a:lnTo>
                        <a:pt x="525" y="169"/>
                      </a:lnTo>
                      <a:lnTo>
                        <a:pt x="519" y="173"/>
                      </a:lnTo>
                      <a:lnTo>
                        <a:pt x="515" y="180"/>
                      </a:lnTo>
                      <a:lnTo>
                        <a:pt x="508" y="186"/>
                      </a:lnTo>
                      <a:lnTo>
                        <a:pt x="500" y="194"/>
                      </a:lnTo>
                      <a:lnTo>
                        <a:pt x="491" y="203"/>
                      </a:lnTo>
                      <a:lnTo>
                        <a:pt x="483" y="218"/>
                      </a:lnTo>
                      <a:lnTo>
                        <a:pt x="472" y="232"/>
                      </a:lnTo>
                      <a:lnTo>
                        <a:pt x="462" y="251"/>
                      </a:lnTo>
                      <a:lnTo>
                        <a:pt x="451" y="270"/>
                      </a:lnTo>
                      <a:lnTo>
                        <a:pt x="439" y="294"/>
                      </a:lnTo>
                      <a:lnTo>
                        <a:pt x="432" y="304"/>
                      </a:lnTo>
                      <a:lnTo>
                        <a:pt x="424" y="317"/>
                      </a:lnTo>
                      <a:lnTo>
                        <a:pt x="417" y="329"/>
                      </a:lnTo>
                      <a:lnTo>
                        <a:pt x="407" y="340"/>
                      </a:lnTo>
                      <a:lnTo>
                        <a:pt x="399" y="349"/>
                      </a:lnTo>
                      <a:lnTo>
                        <a:pt x="390" y="359"/>
                      </a:lnTo>
                      <a:lnTo>
                        <a:pt x="382" y="370"/>
                      </a:lnTo>
                      <a:lnTo>
                        <a:pt x="375" y="380"/>
                      </a:lnTo>
                      <a:lnTo>
                        <a:pt x="365" y="387"/>
                      </a:lnTo>
                      <a:lnTo>
                        <a:pt x="358" y="395"/>
                      </a:lnTo>
                      <a:lnTo>
                        <a:pt x="352" y="403"/>
                      </a:lnTo>
                      <a:lnTo>
                        <a:pt x="346" y="410"/>
                      </a:lnTo>
                      <a:lnTo>
                        <a:pt x="339" y="416"/>
                      </a:lnTo>
                      <a:lnTo>
                        <a:pt x="337" y="422"/>
                      </a:lnTo>
                      <a:lnTo>
                        <a:pt x="333" y="426"/>
                      </a:lnTo>
                      <a:lnTo>
                        <a:pt x="333" y="431"/>
                      </a:lnTo>
                      <a:lnTo>
                        <a:pt x="331" y="445"/>
                      </a:lnTo>
                      <a:lnTo>
                        <a:pt x="331" y="458"/>
                      </a:lnTo>
                      <a:lnTo>
                        <a:pt x="329" y="473"/>
                      </a:lnTo>
                      <a:lnTo>
                        <a:pt x="329" y="488"/>
                      </a:lnTo>
                      <a:lnTo>
                        <a:pt x="327" y="505"/>
                      </a:lnTo>
                      <a:lnTo>
                        <a:pt x="327" y="522"/>
                      </a:lnTo>
                      <a:lnTo>
                        <a:pt x="327" y="540"/>
                      </a:lnTo>
                      <a:lnTo>
                        <a:pt x="327" y="557"/>
                      </a:lnTo>
                      <a:lnTo>
                        <a:pt x="325" y="572"/>
                      </a:lnTo>
                      <a:lnTo>
                        <a:pt x="325" y="587"/>
                      </a:lnTo>
                      <a:lnTo>
                        <a:pt x="325" y="602"/>
                      </a:lnTo>
                      <a:lnTo>
                        <a:pt x="325" y="616"/>
                      </a:lnTo>
                      <a:lnTo>
                        <a:pt x="323" y="627"/>
                      </a:lnTo>
                      <a:lnTo>
                        <a:pt x="323" y="637"/>
                      </a:lnTo>
                      <a:lnTo>
                        <a:pt x="321" y="644"/>
                      </a:lnTo>
                      <a:lnTo>
                        <a:pt x="321" y="648"/>
                      </a:lnTo>
                      <a:lnTo>
                        <a:pt x="318" y="652"/>
                      </a:lnTo>
                      <a:lnTo>
                        <a:pt x="312" y="661"/>
                      </a:lnTo>
                      <a:lnTo>
                        <a:pt x="306" y="671"/>
                      </a:lnTo>
                      <a:lnTo>
                        <a:pt x="297" y="684"/>
                      </a:lnTo>
                      <a:lnTo>
                        <a:pt x="287" y="699"/>
                      </a:lnTo>
                      <a:lnTo>
                        <a:pt x="276" y="716"/>
                      </a:lnTo>
                      <a:lnTo>
                        <a:pt x="264" y="732"/>
                      </a:lnTo>
                      <a:lnTo>
                        <a:pt x="253" y="751"/>
                      </a:lnTo>
                      <a:lnTo>
                        <a:pt x="242" y="768"/>
                      </a:lnTo>
                      <a:lnTo>
                        <a:pt x="230" y="783"/>
                      </a:lnTo>
                      <a:lnTo>
                        <a:pt x="219" y="798"/>
                      </a:lnTo>
                      <a:lnTo>
                        <a:pt x="211" y="813"/>
                      </a:lnTo>
                      <a:lnTo>
                        <a:pt x="202" y="825"/>
                      </a:lnTo>
                      <a:lnTo>
                        <a:pt x="196" y="832"/>
                      </a:lnTo>
                      <a:lnTo>
                        <a:pt x="192" y="838"/>
                      </a:lnTo>
                      <a:lnTo>
                        <a:pt x="192" y="842"/>
                      </a:lnTo>
                      <a:lnTo>
                        <a:pt x="0" y="1161"/>
                      </a:lnTo>
                      <a:lnTo>
                        <a:pt x="4" y="1161"/>
                      </a:lnTo>
                      <a:lnTo>
                        <a:pt x="16" y="1167"/>
                      </a:lnTo>
                      <a:lnTo>
                        <a:pt x="35" y="1176"/>
                      </a:lnTo>
                      <a:lnTo>
                        <a:pt x="59" y="1186"/>
                      </a:lnTo>
                      <a:lnTo>
                        <a:pt x="88" y="1197"/>
                      </a:lnTo>
                      <a:lnTo>
                        <a:pt x="124" y="1211"/>
                      </a:lnTo>
                      <a:lnTo>
                        <a:pt x="162" y="1222"/>
                      </a:lnTo>
                      <a:lnTo>
                        <a:pt x="206" y="1235"/>
                      </a:lnTo>
                      <a:lnTo>
                        <a:pt x="251" y="1243"/>
                      </a:lnTo>
                      <a:lnTo>
                        <a:pt x="299" y="1251"/>
                      </a:lnTo>
                      <a:lnTo>
                        <a:pt x="348" y="1254"/>
                      </a:lnTo>
                      <a:lnTo>
                        <a:pt x="397" y="1254"/>
                      </a:lnTo>
                      <a:lnTo>
                        <a:pt x="449" y="1249"/>
                      </a:lnTo>
                      <a:lnTo>
                        <a:pt x="500" y="1239"/>
                      </a:lnTo>
                      <a:lnTo>
                        <a:pt x="550" y="1220"/>
                      </a:lnTo>
                      <a:lnTo>
                        <a:pt x="599" y="1197"/>
                      </a:lnTo>
                      <a:lnTo>
                        <a:pt x="608" y="1188"/>
                      </a:lnTo>
                      <a:lnTo>
                        <a:pt x="622" y="1174"/>
                      </a:lnTo>
                      <a:lnTo>
                        <a:pt x="633" y="1159"/>
                      </a:lnTo>
                      <a:lnTo>
                        <a:pt x="645" y="1142"/>
                      </a:lnTo>
                      <a:lnTo>
                        <a:pt x="656" y="1119"/>
                      </a:lnTo>
                      <a:lnTo>
                        <a:pt x="667" y="1098"/>
                      </a:lnTo>
                      <a:lnTo>
                        <a:pt x="677" y="1074"/>
                      </a:lnTo>
                      <a:lnTo>
                        <a:pt x="688" y="1049"/>
                      </a:lnTo>
                      <a:lnTo>
                        <a:pt x="700" y="1024"/>
                      </a:lnTo>
                      <a:lnTo>
                        <a:pt x="709" y="998"/>
                      </a:lnTo>
                      <a:lnTo>
                        <a:pt x="721" y="971"/>
                      </a:lnTo>
                      <a:lnTo>
                        <a:pt x="732" y="948"/>
                      </a:lnTo>
                      <a:lnTo>
                        <a:pt x="741" y="922"/>
                      </a:lnTo>
                      <a:lnTo>
                        <a:pt x="753" y="899"/>
                      </a:lnTo>
                      <a:lnTo>
                        <a:pt x="764" y="878"/>
                      </a:lnTo>
                      <a:lnTo>
                        <a:pt x="774" y="859"/>
                      </a:lnTo>
                      <a:lnTo>
                        <a:pt x="785" y="838"/>
                      </a:lnTo>
                      <a:lnTo>
                        <a:pt x="799" y="815"/>
                      </a:lnTo>
                      <a:lnTo>
                        <a:pt x="814" y="790"/>
                      </a:lnTo>
                      <a:lnTo>
                        <a:pt x="831" y="762"/>
                      </a:lnTo>
                      <a:lnTo>
                        <a:pt x="846" y="733"/>
                      </a:lnTo>
                      <a:lnTo>
                        <a:pt x="865" y="703"/>
                      </a:lnTo>
                      <a:lnTo>
                        <a:pt x="882" y="671"/>
                      </a:lnTo>
                      <a:lnTo>
                        <a:pt x="899" y="640"/>
                      </a:lnTo>
                      <a:lnTo>
                        <a:pt x="913" y="608"/>
                      </a:lnTo>
                      <a:lnTo>
                        <a:pt x="928" y="576"/>
                      </a:lnTo>
                      <a:lnTo>
                        <a:pt x="941" y="543"/>
                      </a:lnTo>
                      <a:lnTo>
                        <a:pt x="952" y="515"/>
                      </a:lnTo>
                      <a:lnTo>
                        <a:pt x="960" y="484"/>
                      </a:lnTo>
                      <a:lnTo>
                        <a:pt x="968" y="458"/>
                      </a:lnTo>
                      <a:lnTo>
                        <a:pt x="970" y="433"/>
                      </a:lnTo>
                      <a:lnTo>
                        <a:pt x="970" y="414"/>
                      </a:lnTo>
                      <a:lnTo>
                        <a:pt x="962" y="389"/>
                      </a:lnTo>
                      <a:lnTo>
                        <a:pt x="954" y="365"/>
                      </a:lnTo>
                      <a:lnTo>
                        <a:pt x="941" y="334"/>
                      </a:lnTo>
                      <a:lnTo>
                        <a:pt x="926" y="302"/>
                      </a:lnTo>
                      <a:lnTo>
                        <a:pt x="909" y="268"/>
                      </a:lnTo>
                      <a:lnTo>
                        <a:pt x="890" y="234"/>
                      </a:lnTo>
                      <a:lnTo>
                        <a:pt x="869" y="199"/>
                      </a:lnTo>
                      <a:lnTo>
                        <a:pt x="850" y="165"/>
                      </a:lnTo>
                      <a:lnTo>
                        <a:pt x="829" y="131"/>
                      </a:lnTo>
                      <a:lnTo>
                        <a:pt x="810" y="100"/>
                      </a:lnTo>
                      <a:lnTo>
                        <a:pt x="791" y="72"/>
                      </a:lnTo>
                      <a:lnTo>
                        <a:pt x="776" y="49"/>
                      </a:lnTo>
                      <a:lnTo>
                        <a:pt x="760" y="28"/>
                      </a:lnTo>
                      <a:lnTo>
                        <a:pt x="751" y="13"/>
                      </a:lnTo>
                      <a:lnTo>
                        <a:pt x="745" y="2"/>
                      </a:lnTo>
                      <a:lnTo>
                        <a:pt x="743" y="0"/>
                      </a:lnTo>
                      <a:lnTo>
                        <a:pt x="542" y="163"/>
                      </a:lnTo>
                      <a:lnTo>
                        <a:pt x="542" y="163"/>
                      </a:lnTo>
                      <a:close/>
                    </a:path>
                  </a:pathLst>
                </a:custGeom>
                <a:solidFill>
                  <a:srgbClr val="f58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7117200" y="5323320"/>
                  <a:ext cx="173160" cy="125640"/>
                </a:xfrm>
                <a:custGeom>
                  <a:avLst/>
                  <a:gdLst/>
                  <a:ahLst/>
                  <a:rect l="l" t="t" r="r" b="b"/>
                  <a:pathLst>
                    <a:path w="283" h="270">
                      <a:moveTo>
                        <a:pt x="243" y="0"/>
                      </a:moveTo>
                      <a:lnTo>
                        <a:pt x="243" y="2"/>
                      </a:lnTo>
                      <a:lnTo>
                        <a:pt x="243" y="5"/>
                      </a:lnTo>
                      <a:lnTo>
                        <a:pt x="245" y="11"/>
                      </a:lnTo>
                      <a:lnTo>
                        <a:pt x="249" y="21"/>
                      </a:lnTo>
                      <a:lnTo>
                        <a:pt x="251" y="30"/>
                      </a:lnTo>
                      <a:lnTo>
                        <a:pt x="254" y="43"/>
                      </a:lnTo>
                      <a:lnTo>
                        <a:pt x="256" y="57"/>
                      </a:lnTo>
                      <a:lnTo>
                        <a:pt x="262" y="72"/>
                      </a:lnTo>
                      <a:lnTo>
                        <a:pt x="264" y="85"/>
                      </a:lnTo>
                      <a:lnTo>
                        <a:pt x="268" y="100"/>
                      </a:lnTo>
                      <a:lnTo>
                        <a:pt x="270" y="116"/>
                      </a:lnTo>
                      <a:lnTo>
                        <a:pt x="273" y="129"/>
                      </a:lnTo>
                      <a:lnTo>
                        <a:pt x="275" y="140"/>
                      </a:lnTo>
                      <a:lnTo>
                        <a:pt x="279" y="154"/>
                      </a:lnTo>
                      <a:lnTo>
                        <a:pt x="279" y="161"/>
                      </a:lnTo>
                      <a:lnTo>
                        <a:pt x="283" y="171"/>
                      </a:lnTo>
                      <a:lnTo>
                        <a:pt x="279" y="178"/>
                      </a:lnTo>
                      <a:lnTo>
                        <a:pt x="273" y="186"/>
                      </a:lnTo>
                      <a:lnTo>
                        <a:pt x="264" y="194"/>
                      </a:lnTo>
                      <a:lnTo>
                        <a:pt x="254" y="203"/>
                      </a:lnTo>
                      <a:lnTo>
                        <a:pt x="239" y="213"/>
                      </a:lnTo>
                      <a:lnTo>
                        <a:pt x="224" y="222"/>
                      </a:lnTo>
                      <a:lnTo>
                        <a:pt x="205" y="232"/>
                      </a:lnTo>
                      <a:lnTo>
                        <a:pt x="190" y="243"/>
                      </a:lnTo>
                      <a:lnTo>
                        <a:pt x="171" y="249"/>
                      </a:lnTo>
                      <a:lnTo>
                        <a:pt x="152" y="256"/>
                      </a:lnTo>
                      <a:lnTo>
                        <a:pt x="135" y="262"/>
                      </a:lnTo>
                      <a:lnTo>
                        <a:pt x="119" y="268"/>
                      </a:lnTo>
                      <a:lnTo>
                        <a:pt x="104" y="270"/>
                      </a:lnTo>
                      <a:lnTo>
                        <a:pt x="93" y="270"/>
                      </a:lnTo>
                      <a:lnTo>
                        <a:pt x="83" y="270"/>
                      </a:lnTo>
                      <a:lnTo>
                        <a:pt x="80" y="266"/>
                      </a:lnTo>
                      <a:lnTo>
                        <a:pt x="74" y="258"/>
                      </a:lnTo>
                      <a:lnTo>
                        <a:pt x="68" y="251"/>
                      </a:lnTo>
                      <a:lnTo>
                        <a:pt x="62" y="243"/>
                      </a:lnTo>
                      <a:lnTo>
                        <a:pt x="57" y="234"/>
                      </a:lnTo>
                      <a:lnTo>
                        <a:pt x="51" y="222"/>
                      </a:lnTo>
                      <a:lnTo>
                        <a:pt x="43" y="211"/>
                      </a:lnTo>
                      <a:lnTo>
                        <a:pt x="38" y="199"/>
                      </a:lnTo>
                      <a:lnTo>
                        <a:pt x="30" y="190"/>
                      </a:lnTo>
                      <a:lnTo>
                        <a:pt x="24" y="178"/>
                      </a:lnTo>
                      <a:lnTo>
                        <a:pt x="17" y="167"/>
                      </a:lnTo>
                      <a:lnTo>
                        <a:pt x="11" y="158"/>
                      </a:lnTo>
                      <a:lnTo>
                        <a:pt x="7" y="150"/>
                      </a:lnTo>
                      <a:lnTo>
                        <a:pt x="4" y="142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243" y="0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964200" y="5061240"/>
                  <a:ext cx="491040" cy="417600"/>
                </a:xfrm>
                <a:custGeom>
                  <a:avLst/>
                  <a:gdLst/>
                  <a:ahLst/>
                  <a:rect l="l" t="t" r="r" b="b"/>
                  <a:pathLst>
                    <a:path w="798" h="895">
                      <a:moveTo>
                        <a:pt x="24" y="247"/>
                      </a:moveTo>
                      <a:lnTo>
                        <a:pt x="22" y="245"/>
                      </a:lnTo>
                      <a:lnTo>
                        <a:pt x="17" y="238"/>
                      </a:lnTo>
                      <a:lnTo>
                        <a:pt x="13" y="232"/>
                      </a:lnTo>
                      <a:lnTo>
                        <a:pt x="9" y="226"/>
                      </a:lnTo>
                      <a:lnTo>
                        <a:pt x="5" y="219"/>
                      </a:lnTo>
                      <a:lnTo>
                        <a:pt x="3" y="213"/>
                      </a:lnTo>
                      <a:lnTo>
                        <a:pt x="2" y="203"/>
                      </a:lnTo>
                      <a:lnTo>
                        <a:pt x="0" y="196"/>
                      </a:lnTo>
                      <a:lnTo>
                        <a:pt x="0" y="188"/>
                      </a:lnTo>
                      <a:lnTo>
                        <a:pt x="2" y="181"/>
                      </a:lnTo>
                      <a:lnTo>
                        <a:pt x="2" y="171"/>
                      </a:lnTo>
                      <a:lnTo>
                        <a:pt x="5" y="163"/>
                      </a:lnTo>
                      <a:lnTo>
                        <a:pt x="11" y="154"/>
                      </a:lnTo>
                      <a:lnTo>
                        <a:pt x="22" y="148"/>
                      </a:lnTo>
                      <a:lnTo>
                        <a:pt x="26" y="141"/>
                      </a:lnTo>
                      <a:lnTo>
                        <a:pt x="32" y="135"/>
                      </a:lnTo>
                      <a:lnTo>
                        <a:pt x="36" y="129"/>
                      </a:lnTo>
                      <a:lnTo>
                        <a:pt x="40" y="124"/>
                      </a:lnTo>
                      <a:lnTo>
                        <a:pt x="41" y="114"/>
                      </a:lnTo>
                      <a:lnTo>
                        <a:pt x="43" y="105"/>
                      </a:lnTo>
                      <a:lnTo>
                        <a:pt x="43" y="95"/>
                      </a:lnTo>
                      <a:lnTo>
                        <a:pt x="45" y="86"/>
                      </a:lnTo>
                      <a:lnTo>
                        <a:pt x="47" y="76"/>
                      </a:lnTo>
                      <a:lnTo>
                        <a:pt x="55" y="68"/>
                      </a:lnTo>
                      <a:lnTo>
                        <a:pt x="64" y="59"/>
                      </a:lnTo>
                      <a:lnTo>
                        <a:pt x="76" y="49"/>
                      </a:lnTo>
                      <a:lnTo>
                        <a:pt x="79" y="44"/>
                      </a:lnTo>
                      <a:lnTo>
                        <a:pt x="85" y="40"/>
                      </a:lnTo>
                      <a:lnTo>
                        <a:pt x="93" y="36"/>
                      </a:lnTo>
                      <a:lnTo>
                        <a:pt x="98" y="34"/>
                      </a:lnTo>
                      <a:lnTo>
                        <a:pt x="106" y="30"/>
                      </a:lnTo>
                      <a:lnTo>
                        <a:pt x="112" y="28"/>
                      </a:lnTo>
                      <a:lnTo>
                        <a:pt x="119" y="27"/>
                      </a:lnTo>
                      <a:lnTo>
                        <a:pt x="127" y="27"/>
                      </a:lnTo>
                      <a:lnTo>
                        <a:pt x="133" y="27"/>
                      </a:lnTo>
                      <a:lnTo>
                        <a:pt x="140" y="28"/>
                      </a:lnTo>
                      <a:lnTo>
                        <a:pt x="148" y="30"/>
                      </a:lnTo>
                      <a:lnTo>
                        <a:pt x="157" y="34"/>
                      </a:lnTo>
                      <a:lnTo>
                        <a:pt x="163" y="38"/>
                      </a:lnTo>
                      <a:lnTo>
                        <a:pt x="171" y="40"/>
                      </a:lnTo>
                      <a:lnTo>
                        <a:pt x="176" y="40"/>
                      </a:lnTo>
                      <a:lnTo>
                        <a:pt x="184" y="40"/>
                      </a:lnTo>
                      <a:lnTo>
                        <a:pt x="195" y="34"/>
                      </a:lnTo>
                      <a:lnTo>
                        <a:pt x="207" y="28"/>
                      </a:lnTo>
                      <a:lnTo>
                        <a:pt x="218" y="19"/>
                      </a:lnTo>
                      <a:lnTo>
                        <a:pt x="228" y="13"/>
                      </a:lnTo>
                      <a:lnTo>
                        <a:pt x="237" y="8"/>
                      </a:lnTo>
                      <a:lnTo>
                        <a:pt x="247" y="6"/>
                      </a:lnTo>
                      <a:lnTo>
                        <a:pt x="256" y="4"/>
                      </a:lnTo>
                      <a:lnTo>
                        <a:pt x="264" y="4"/>
                      </a:lnTo>
                      <a:lnTo>
                        <a:pt x="270" y="2"/>
                      </a:lnTo>
                      <a:lnTo>
                        <a:pt x="277" y="2"/>
                      </a:lnTo>
                      <a:lnTo>
                        <a:pt x="283" y="0"/>
                      </a:lnTo>
                      <a:lnTo>
                        <a:pt x="290" y="2"/>
                      </a:lnTo>
                      <a:lnTo>
                        <a:pt x="294" y="2"/>
                      </a:lnTo>
                      <a:lnTo>
                        <a:pt x="300" y="4"/>
                      </a:lnTo>
                      <a:lnTo>
                        <a:pt x="306" y="8"/>
                      </a:lnTo>
                      <a:lnTo>
                        <a:pt x="311" y="9"/>
                      </a:lnTo>
                      <a:lnTo>
                        <a:pt x="321" y="15"/>
                      </a:lnTo>
                      <a:lnTo>
                        <a:pt x="332" y="17"/>
                      </a:lnTo>
                      <a:lnTo>
                        <a:pt x="342" y="15"/>
                      </a:lnTo>
                      <a:lnTo>
                        <a:pt x="349" y="15"/>
                      </a:lnTo>
                      <a:lnTo>
                        <a:pt x="357" y="11"/>
                      </a:lnTo>
                      <a:lnTo>
                        <a:pt x="366" y="9"/>
                      </a:lnTo>
                      <a:lnTo>
                        <a:pt x="372" y="8"/>
                      </a:lnTo>
                      <a:lnTo>
                        <a:pt x="378" y="8"/>
                      </a:lnTo>
                      <a:lnTo>
                        <a:pt x="385" y="8"/>
                      </a:lnTo>
                      <a:lnTo>
                        <a:pt x="393" y="9"/>
                      </a:lnTo>
                      <a:lnTo>
                        <a:pt x="399" y="9"/>
                      </a:lnTo>
                      <a:lnTo>
                        <a:pt x="406" y="11"/>
                      </a:lnTo>
                      <a:lnTo>
                        <a:pt x="414" y="11"/>
                      </a:lnTo>
                      <a:lnTo>
                        <a:pt x="423" y="15"/>
                      </a:lnTo>
                      <a:lnTo>
                        <a:pt x="431" y="15"/>
                      </a:lnTo>
                      <a:lnTo>
                        <a:pt x="439" y="17"/>
                      </a:lnTo>
                      <a:lnTo>
                        <a:pt x="448" y="21"/>
                      </a:lnTo>
                      <a:lnTo>
                        <a:pt x="458" y="25"/>
                      </a:lnTo>
                      <a:lnTo>
                        <a:pt x="463" y="27"/>
                      </a:lnTo>
                      <a:lnTo>
                        <a:pt x="471" y="30"/>
                      </a:lnTo>
                      <a:lnTo>
                        <a:pt x="477" y="32"/>
                      </a:lnTo>
                      <a:lnTo>
                        <a:pt x="482" y="38"/>
                      </a:lnTo>
                      <a:lnTo>
                        <a:pt x="490" y="46"/>
                      </a:lnTo>
                      <a:lnTo>
                        <a:pt x="494" y="55"/>
                      </a:lnTo>
                      <a:lnTo>
                        <a:pt x="494" y="65"/>
                      </a:lnTo>
                      <a:lnTo>
                        <a:pt x="498" y="68"/>
                      </a:lnTo>
                      <a:lnTo>
                        <a:pt x="503" y="70"/>
                      </a:lnTo>
                      <a:lnTo>
                        <a:pt x="513" y="70"/>
                      </a:lnTo>
                      <a:lnTo>
                        <a:pt x="522" y="70"/>
                      </a:lnTo>
                      <a:lnTo>
                        <a:pt x="532" y="70"/>
                      </a:lnTo>
                      <a:lnTo>
                        <a:pt x="543" y="70"/>
                      </a:lnTo>
                      <a:lnTo>
                        <a:pt x="555" y="76"/>
                      </a:lnTo>
                      <a:lnTo>
                        <a:pt x="566" y="80"/>
                      </a:lnTo>
                      <a:lnTo>
                        <a:pt x="576" y="86"/>
                      </a:lnTo>
                      <a:lnTo>
                        <a:pt x="585" y="91"/>
                      </a:lnTo>
                      <a:lnTo>
                        <a:pt x="593" y="103"/>
                      </a:lnTo>
                      <a:lnTo>
                        <a:pt x="596" y="110"/>
                      </a:lnTo>
                      <a:lnTo>
                        <a:pt x="602" y="120"/>
                      </a:lnTo>
                      <a:lnTo>
                        <a:pt x="602" y="131"/>
                      </a:lnTo>
                      <a:lnTo>
                        <a:pt x="602" y="141"/>
                      </a:lnTo>
                      <a:lnTo>
                        <a:pt x="600" y="148"/>
                      </a:lnTo>
                      <a:lnTo>
                        <a:pt x="598" y="158"/>
                      </a:lnTo>
                      <a:lnTo>
                        <a:pt x="598" y="165"/>
                      </a:lnTo>
                      <a:lnTo>
                        <a:pt x="600" y="173"/>
                      </a:lnTo>
                      <a:lnTo>
                        <a:pt x="602" y="179"/>
                      </a:lnTo>
                      <a:lnTo>
                        <a:pt x="604" y="182"/>
                      </a:lnTo>
                      <a:lnTo>
                        <a:pt x="610" y="186"/>
                      </a:lnTo>
                      <a:lnTo>
                        <a:pt x="619" y="190"/>
                      </a:lnTo>
                      <a:lnTo>
                        <a:pt x="627" y="190"/>
                      </a:lnTo>
                      <a:lnTo>
                        <a:pt x="636" y="196"/>
                      </a:lnTo>
                      <a:lnTo>
                        <a:pt x="644" y="203"/>
                      </a:lnTo>
                      <a:lnTo>
                        <a:pt x="652" y="213"/>
                      </a:lnTo>
                      <a:lnTo>
                        <a:pt x="657" y="224"/>
                      </a:lnTo>
                      <a:lnTo>
                        <a:pt x="661" y="236"/>
                      </a:lnTo>
                      <a:lnTo>
                        <a:pt x="663" y="241"/>
                      </a:lnTo>
                      <a:lnTo>
                        <a:pt x="663" y="249"/>
                      </a:lnTo>
                      <a:lnTo>
                        <a:pt x="663" y="255"/>
                      </a:lnTo>
                      <a:lnTo>
                        <a:pt x="665" y="262"/>
                      </a:lnTo>
                      <a:lnTo>
                        <a:pt x="663" y="274"/>
                      </a:lnTo>
                      <a:lnTo>
                        <a:pt x="663" y="285"/>
                      </a:lnTo>
                      <a:lnTo>
                        <a:pt x="663" y="297"/>
                      </a:lnTo>
                      <a:lnTo>
                        <a:pt x="667" y="306"/>
                      </a:lnTo>
                      <a:lnTo>
                        <a:pt x="669" y="316"/>
                      </a:lnTo>
                      <a:lnTo>
                        <a:pt x="674" y="325"/>
                      </a:lnTo>
                      <a:lnTo>
                        <a:pt x="678" y="331"/>
                      </a:lnTo>
                      <a:lnTo>
                        <a:pt x="686" y="333"/>
                      </a:lnTo>
                      <a:lnTo>
                        <a:pt x="691" y="336"/>
                      </a:lnTo>
                      <a:lnTo>
                        <a:pt x="697" y="346"/>
                      </a:lnTo>
                      <a:lnTo>
                        <a:pt x="697" y="350"/>
                      </a:lnTo>
                      <a:lnTo>
                        <a:pt x="699" y="355"/>
                      </a:lnTo>
                      <a:lnTo>
                        <a:pt x="701" y="363"/>
                      </a:lnTo>
                      <a:lnTo>
                        <a:pt x="703" y="369"/>
                      </a:lnTo>
                      <a:lnTo>
                        <a:pt x="701" y="376"/>
                      </a:lnTo>
                      <a:lnTo>
                        <a:pt x="701" y="382"/>
                      </a:lnTo>
                      <a:lnTo>
                        <a:pt x="701" y="390"/>
                      </a:lnTo>
                      <a:lnTo>
                        <a:pt x="701" y="395"/>
                      </a:lnTo>
                      <a:lnTo>
                        <a:pt x="699" y="407"/>
                      </a:lnTo>
                      <a:lnTo>
                        <a:pt x="697" y="416"/>
                      </a:lnTo>
                      <a:lnTo>
                        <a:pt x="691" y="422"/>
                      </a:lnTo>
                      <a:lnTo>
                        <a:pt x="690" y="430"/>
                      </a:lnTo>
                      <a:lnTo>
                        <a:pt x="690" y="439"/>
                      </a:lnTo>
                      <a:lnTo>
                        <a:pt x="691" y="449"/>
                      </a:lnTo>
                      <a:lnTo>
                        <a:pt x="693" y="456"/>
                      </a:lnTo>
                      <a:lnTo>
                        <a:pt x="697" y="464"/>
                      </a:lnTo>
                      <a:lnTo>
                        <a:pt x="703" y="471"/>
                      </a:lnTo>
                      <a:lnTo>
                        <a:pt x="710" y="477"/>
                      </a:lnTo>
                      <a:lnTo>
                        <a:pt x="716" y="483"/>
                      </a:lnTo>
                      <a:lnTo>
                        <a:pt x="724" y="489"/>
                      </a:lnTo>
                      <a:lnTo>
                        <a:pt x="731" y="496"/>
                      </a:lnTo>
                      <a:lnTo>
                        <a:pt x="737" y="504"/>
                      </a:lnTo>
                      <a:lnTo>
                        <a:pt x="741" y="511"/>
                      </a:lnTo>
                      <a:lnTo>
                        <a:pt x="743" y="521"/>
                      </a:lnTo>
                      <a:lnTo>
                        <a:pt x="741" y="528"/>
                      </a:lnTo>
                      <a:lnTo>
                        <a:pt x="739" y="538"/>
                      </a:lnTo>
                      <a:lnTo>
                        <a:pt x="733" y="542"/>
                      </a:lnTo>
                      <a:lnTo>
                        <a:pt x="731" y="549"/>
                      </a:lnTo>
                      <a:lnTo>
                        <a:pt x="731" y="555"/>
                      </a:lnTo>
                      <a:lnTo>
                        <a:pt x="735" y="561"/>
                      </a:lnTo>
                      <a:lnTo>
                        <a:pt x="739" y="565"/>
                      </a:lnTo>
                      <a:lnTo>
                        <a:pt x="743" y="570"/>
                      </a:lnTo>
                      <a:lnTo>
                        <a:pt x="750" y="578"/>
                      </a:lnTo>
                      <a:lnTo>
                        <a:pt x="758" y="584"/>
                      </a:lnTo>
                      <a:lnTo>
                        <a:pt x="764" y="589"/>
                      </a:lnTo>
                      <a:lnTo>
                        <a:pt x="773" y="599"/>
                      </a:lnTo>
                      <a:lnTo>
                        <a:pt x="781" y="608"/>
                      </a:lnTo>
                      <a:lnTo>
                        <a:pt x="788" y="620"/>
                      </a:lnTo>
                      <a:lnTo>
                        <a:pt x="794" y="629"/>
                      </a:lnTo>
                      <a:lnTo>
                        <a:pt x="798" y="641"/>
                      </a:lnTo>
                      <a:lnTo>
                        <a:pt x="798" y="650"/>
                      </a:lnTo>
                      <a:lnTo>
                        <a:pt x="796" y="661"/>
                      </a:lnTo>
                      <a:lnTo>
                        <a:pt x="786" y="671"/>
                      </a:lnTo>
                      <a:lnTo>
                        <a:pt x="779" y="681"/>
                      </a:lnTo>
                      <a:lnTo>
                        <a:pt x="773" y="692"/>
                      </a:lnTo>
                      <a:lnTo>
                        <a:pt x="767" y="701"/>
                      </a:lnTo>
                      <a:lnTo>
                        <a:pt x="764" y="713"/>
                      </a:lnTo>
                      <a:lnTo>
                        <a:pt x="762" y="722"/>
                      </a:lnTo>
                      <a:lnTo>
                        <a:pt x="764" y="732"/>
                      </a:lnTo>
                      <a:lnTo>
                        <a:pt x="771" y="739"/>
                      </a:lnTo>
                      <a:lnTo>
                        <a:pt x="777" y="747"/>
                      </a:lnTo>
                      <a:lnTo>
                        <a:pt x="777" y="757"/>
                      </a:lnTo>
                      <a:lnTo>
                        <a:pt x="773" y="766"/>
                      </a:lnTo>
                      <a:lnTo>
                        <a:pt x="767" y="777"/>
                      </a:lnTo>
                      <a:lnTo>
                        <a:pt x="756" y="787"/>
                      </a:lnTo>
                      <a:lnTo>
                        <a:pt x="747" y="798"/>
                      </a:lnTo>
                      <a:lnTo>
                        <a:pt x="735" y="804"/>
                      </a:lnTo>
                      <a:lnTo>
                        <a:pt x="726" y="810"/>
                      </a:lnTo>
                      <a:lnTo>
                        <a:pt x="718" y="812"/>
                      </a:lnTo>
                      <a:lnTo>
                        <a:pt x="714" y="815"/>
                      </a:lnTo>
                      <a:lnTo>
                        <a:pt x="710" y="821"/>
                      </a:lnTo>
                      <a:lnTo>
                        <a:pt x="707" y="827"/>
                      </a:lnTo>
                      <a:lnTo>
                        <a:pt x="703" y="834"/>
                      </a:lnTo>
                      <a:lnTo>
                        <a:pt x="699" y="842"/>
                      </a:lnTo>
                      <a:lnTo>
                        <a:pt x="695" y="850"/>
                      </a:lnTo>
                      <a:lnTo>
                        <a:pt x="691" y="859"/>
                      </a:lnTo>
                      <a:lnTo>
                        <a:pt x="688" y="867"/>
                      </a:lnTo>
                      <a:lnTo>
                        <a:pt x="684" y="874"/>
                      </a:lnTo>
                      <a:lnTo>
                        <a:pt x="678" y="880"/>
                      </a:lnTo>
                      <a:lnTo>
                        <a:pt x="676" y="886"/>
                      </a:lnTo>
                      <a:lnTo>
                        <a:pt x="671" y="890"/>
                      </a:lnTo>
                      <a:lnTo>
                        <a:pt x="665" y="893"/>
                      </a:lnTo>
                      <a:lnTo>
                        <a:pt x="659" y="895"/>
                      </a:lnTo>
                      <a:lnTo>
                        <a:pt x="653" y="895"/>
                      </a:lnTo>
                      <a:lnTo>
                        <a:pt x="644" y="893"/>
                      </a:lnTo>
                      <a:lnTo>
                        <a:pt x="636" y="892"/>
                      </a:lnTo>
                      <a:lnTo>
                        <a:pt x="627" y="888"/>
                      </a:lnTo>
                      <a:lnTo>
                        <a:pt x="619" y="886"/>
                      </a:lnTo>
                      <a:lnTo>
                        <a:pt x="612" y="882"/>
                      </a:lnTo>
                      <a:lnTo>
                        <a:pt x="604" y="878"/>
                      </a:lnTo>
                      <a:lnTo>
                        <a:pt x="596" y="876"/>
                      </a:lnTo>
                      <a:lnTo>
                        <a:pt x="591" y="872"/>
                      </a:lnTo>
                      <a:lnTo>
                        <a:pt x="583" y="869"/>
                      </a:lnTo>
                      <a:lnTo>
                        <a:pt x="579" y="865"/>
                      </a:lnTo>
                      <a:lnTo>
                        <a:pt x="574" y="861"/>
                      </a:lnTo>
                      <a:lnTo>
                        <a:pt x="570" y="857"/>
                      </a:lnTo>
                      <a:lnTo>
                        <a:pt x="566" y="848"/>
                      </a:lnTo>
                      <a:lnTo>
                        <a:pt x="570" y="840"/>
                      </a:lnTo>
                      <a:lnTo>
                        <a:pt x="572" y="833"/>
                      </a:lnTo>
                      <a:lnTo>
                        <a:pt x="572" y="827"/>
                      </a:lnTo>
                      <a:lnTo>
                        <a:pt x="570" y="821"/>
                      </a:lnTo>
                      <a:lnTo>
                        <a:pt x="568" y="815"/>
                      </a:lnTo>
                      <a:lnTo>
                        <a:pt x="562" y="808"/>
                      </a:lnTo>
                      <a:lnTo>
                        <a:pt x="560" y="802"/>
                      </a:lnTo>
                      <a:lnTo>
                        <a:pt x="555" y="795"/>
                      </a:lnTo>
                      <a:lnTo>
                        <a:pt x="551" y="791"/>
                      </a:lnTo>
                      <a:lnTo>
                        <a:pt x="543" y="783"/>
                      </a:lnTo>
                      <a:lnTo>
                        <a:pt x="537" y="777"/>
                      </a:lnTo>
                      <a:lnTo>
                        <a:pt x="532" y="772"/>
                      </a:lnTo>
                      <a:lnTo>
                        <a:pt x="526" y="766"/>
                      </a:lnTo>
                      <a:lnTo>
                        <a:pt x="517" y="755"/>
                      </a:lnTo>
                      <a:lnTo>
                        <a:pt x="511" y="747"/>
                      </a:lnTo>
                      <a:lnTo>
                        <a:pt x="507" y="739"/>
                      </a:lnTo>
                      <a:lnTo>
                        <a:pt x="503" y="732"/>
                      </a:lnTo>
                      <a:lnTo>
                        <a:pt x="503" y="726"/>
                      </a:lnTo>
                      <a:lnTo>
                        <a:pt x="503" y="719"/>
                      </a:lnTo>
                      <a:lnTo>
                        <a:pt x="503" y="711"/>
                      </a:lnTo>
                      <a:lnTo>
                        <a:pt x="503" y="701"/>
                      </a:lnTo>
                      <a:lnTo>
                        <a:pt x="503" y="696"/>
                      </a:lnTo>
                      <a:lnTo>
                        <a:pt x="503" y="690"/>
                      </a:lnTo>
                      <a:lnTo>
                        <a:pt x="501" y="684"/>
                      </a:lnTo>
                      <a:lnTo>
                        <a:pt x="501" y="677"/>
                      </a:lnTo>
                      <a:lnTo>
                        <a:pt x="496" y="669"/>
                      </a:lnTo>
                      <a:lnTo>
                        <a:pt x="492" y="661"/>
                      </a:lnTo>
                      <a:lnTo>
                        <a:pt x="486" y="652"/>
                      </a:lnTo>
                      <a:lnTo>
                        <a:pt x="480" y="646"/>
                      </a:lnTo>
                      <a:lnTo>
                        <a:pt x="473" y="637"/>
                      </a:lnTo>
                      <a:lnTo>
                        <a:pt x="467" y="629"/>
                      </a:lnTo>
                      <a:lnTo>
                        <a:pt x="460" y="622"/>
                      </a:lnTo>
                      <a:lnTo>
                        <a:pt x="452" y="614"/>
                      </a:lnTo>
                      <a:lnTo>
                        <a:pt x="444" y="606"/>
                      </a:lnTo>
                      <a:lnTo>
                        <a:pt x="439" y="599"/>
                      </a:lnTo>
                      <a:lnTo>
                        <a:pt x="433" y="593"/>
                      </a:lnTo>
                      <a:lnTo>
                        <a:pt x="429" y="585"/>
                      </a:lnTo>
                      <a:lnTo>
                        <a:pt x="425" y="574"/>
                      </a:lnTo>
                      <a:lnTo>
                        <a:pt x="431" y="565"/>
                      </a:lnTo>
                      <a:lnTo>
                        <a:pt x="429" y="555"/>
                      </a:lnTo>
                      <a:lnTo>
                        <a:pt x="418" y="542"/>
                      </a:lnTo>
                      <a:lnTo>
                        <a:pt x="399" y="525"/>
                      </a:lnTo>
                      <a:lnTo>
                        <a:pt x="374" y="504"/>
                      </a:lnTo>
                      <a:lnTo>
                        <a:pt x="342" y="477"/>
                      </a:lnTo>
                      <a:lnTo>
                        <a:pt x="308" y="450"/>
                      </a:lnTo>
                      <a:lnTo>
                        <a:pt x="271" y="424"/>
                      </a:lnTo>
                      <a:lnTo>
                        <a:pt x="233" y="395"/>
                      </a:lnTo>
                      <a:lnTo>
                        <a:pt x="194" y="367"/>
                      </a:lnTo>
                      <a:lnTo>
                        <a:pt x="157" y="340"/>
                      </a:lnTo>
                      <a:lnTo>
                        <a:pt x="123" y="314"/>
                      </a:lnTo>
                      <a:lnTo>
                        <a:pt x="91" y="293"/>
                      </a:lnTo>
                      <a:lnTo>
                        <a:pt x="62" y="274"/>
                      </a:lnTo>
                      <a:lnTo>
                        <a:pt x="41" y="260"/>
                      </a:lnTo>
                      <a:lnTo>
                        <a:pt x="30" y="249"/>
                      </a:lnTo>
                      <a:lnTo>
                        <a:pt x="24" y="247"/>
                      </a:lnTo>
                      <a:lnTo>
                        <a:pt x="24" y="247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973200" y="5163840"/>
                  <a:ext cx="294120" cy="248040"/>
                </a:xfrm>
                <a:custGeom>
                  <a:avLst/>
                  <a:gdLst/>
                  <a:ahLst/>
                  <a:rect l="l" t="t" r="r" b="b"/>
                  <a:pathLst>
                    <a:path w="479" h="532">
                      <a:moveTo>
                        <a:pt x="11" y="22"/>
                      </a:moveTo>
                      <a:lnTo>
                        <a:pt x="11" y="24"/>
                      </a:lnTo>
                      <a:lnTo>
                        <a:pt x="9" y="34"/>
                      </a:lnTo>
                      <a:lnTo>
                        <a:pt x="8" y="47"/>
                      </a:lnTo>
                      <a:lnTo>
                        <a:pt x="6" y="64"/>
                      </a:lnTo>
                      <a:lnTo>
                        <a:pt x="4" y="85"/>
                      </a:lnTo>
                      <a:lnTo>
                        <a:pt x="4" y="110"/>
                      </a:lnTo>
                      <a:lnTo>
                        <a:pt x="0" y="136"/>
                      </a:lnTo>
                      <a:lnTo>
                        <a:pt x="0" y="165"/>
                      </a:lnTo>
                      <a:lnTo>
                        <a:pt x="0" y="192"/>
                      </a:lnTo>
                      <a:lnTo>
                        <a:pt x="0" y="220"/>
                      </a:lnTo>
                      <a:lnTo>
                        <a:pt x="0" y="249"/>
                      </a:lnTo>
                      <a:lnTo>
                        <a:pt x="4" y="273"/>
                      </a:lnTo>
                      <a:lnTo>
                        <a:pt x="6" y="298"/>
                      </a:lnTo>
                      <a:lnTo>
                        <a:pt x="11" y="319"/>
                      </a:lnTo>
                      <a:lnTo>
                        <a:pt x="19" y="334"/>
                      </a:lnTo>
                      <a:lnTo>
                        <a:pt x="27" y="349"/>
                      </a:lnTo>
                      <a:lnTo>
                        <a:pt x="28" y="349"/>
                      </a:lnTo>
                      <a:lnTo>
                        <a:pt x="34" y="349"/>
                      </a:lnTo>
                      <a:lnTo>
                        <a:pt x="44" y="349"/>
                      </a:lnTo>
                      <a:lnTo>
                        <a:pt x="53" y="349"/>
                      </a:lnTo>
                      <a:lnTo>
                        <a:pt x="63" y="349"/>
                      </a:lnTo>
                      <a:lnTo>
                        <a:pt x="70" y="351"/>
                      </a:lnTo>
                      <a:lnTo>
                        <a:pt x="78" y="355"/>
                      </a:lnTo>
                      <a:lnTo>
                        <a:pt x="82" y="359"/>
                      </a:lnTo>
                      <a:lnTo>
                        <a:pt x="76" y="368"/>
                      </a:lnTo>
                      <a:lnTo>
                        <a:pt x="66" y="378"/>
                      </a:lnTo>
                      <a:lnTo>
                        <a:pt x="59" y="387"/>
                      </a:lnTo>
                      <a:lnTo>
                        <a:pt x="63" y="393"/>
                      </a:lnTo>
                      <a:lnTo>
                        <a:pt x="70" y="397"/>
                      </a:lnTo>
                      <a:lnTo>
                        <a:pt x="78" y="401"/>
                      </a:lnTo>
                      <a:lnTo>
                        <a:pt x="85" y="403"/>
                      </a:lnTo>
                      <a:lnTo>
                        <a:pt x="93" y="408"/>
                      </a:lnTo>
                      <a:lnTo>
                        <a:pt x="91" y="414"/>
                      </a:lnTo>
                      <a:lnTo>
                        <a:pt x="85" y="422"/>
                      </a:lnTo>
                      <a:lnTo>
                        <a:pt x="82" y="423"/>
                      </a:lnTo>
                      <a:lnTo>
                        <a:pt x="78" y="429"/>
                      </a:lnTo>
                      <a:lnTo>
                        <a:pt x="76" y="435"/>
                      </a:lnTo>
                      <a:lnTo>
                        <a:pt x="78" y="442"/>
                      </a:lnTo>
                      <a:lnTo>
                        <a:pt x="82" y="450"/>
                      </a:lnTo>
                      <a:lnTo>
                        <a:pt x="91" y="450"/>
                      </a:lnTo>
                      <a:lnTo>
                        <a:pt x="97" y="450"/>
                      </a:lnTo>
                      <a:lnTo>
                        <a:pt x="101" y="452"/>
                      </a:lnTo>
                      <a:lnTo>
                        <a:pt x="106" y="454"/>
                      </a:lnTo>
                      <a:lnTo>
                        <a:pt x="112" y="462"/>
                      </a:lnTo>
                      <a:lnTo>
                        <a:pt x="114" y="467"/>
                      </a:lnTo>
                      <a:lnTo>
                        <a:pt x="116" y="479"/>
                      </a:lnTo>
                      <a:lnTo>
                        <a:pt x="118" y="488"/>
                      </a:lnTo>
                      <a:lnTo>
                        <a:pt x="122" y="500"/>
                      </a:lnTo>
                      <a:lnTo>
                        <a:pt x="125" y="507"/>
                      </a:lnTo>
                      <a:lnTo>
                        <a:pt x="131" y="517"/>
                      </a:lnTo>
                      <a:lnTo>
                        <a:pt x="135" y="520"/>
                      </a:lnTo>
                      <a:lnTo>
                        <a:pt x="141" y="524"/>
                      </a:lnTo>
                      <a:lnTo>
                        <a:pt x="146" y="528"/>
                      </a:lnTo>
                      <a:lnTo>
                        <a:pt x="152" y="532"/>
                      </a:lnTo>
                      <a:lnTo>
                        <a:pt x="162" y="532"/>
                      </a:lnTo>
                      <a:lnTo>
                        <a:pt x="175" y="532"/>
                      </a:lnTo>
                      <a:lnTo>
                        <a:pt x="192" y="528"/>
                      </a:lnTo>
                      <a:lnTo>
                        <a:pt x="213" y="522"/>
                      </a:lnTo>
                      <a:lnTo>
                        <a:pt x="236" y="515"/>
                      </a:lnTo>
                      <a:lnTo>
                        <a:pt x="258" y="505"/>
                      </a:lnTo>
                      <a:lnTo>
                        <a:pt x="285" y="494"/>
                      </a:lnTo>
                      <a:lnTo>
                        <a:pt x="310" y="481"/>
                      </a:lnTo>
                      <a:lnTo>
                        <a:pt x="333" y="465"/>
                      </a:lnTo>
                      <a:lnTo>
                        <a:pt x="357" y="450"/>
                      </a:lnTo>
                      <a:lnTo>
                        <a:pt x="376" y="431"/>
                      </a:lnTo>
                      <a:lnTo>
                        <a:pt x="397" y="412"/>
                      </a:lnTo>
                      <a:lnTo>
                        <a:pt x="410" y="391"/>
                      </a:lnTo>
                      <a:lnTo>
                        <a:pt x="424" y="370"/>
                      </a:lnTo>
                      <a:lnTo>
                        <a:pt x="429" y="346"/>
                      </a:lnTo>
                      <a:lnTo>
                        <a:pt x="431" y="325"/>
                      </a:lnTo>
                      <a:lnTo>
                        <a:pt x="429" y="317"/>
                      </a:lnTo>
                      <a:lnTo>
                        <a:pt x="429" y="313"/>
                      </a:lnTo>
                      <a:lnTo>
                        <a:pt x="429" y="309"/>
                      </a:lnTo>
                      <a:lnTo>
                        <a:pt x="431" y="309"/>
                      </a:lnTo>
                      <a:lnTo>
                        <a:pt x="435" y="308"/>
                      </a:lnTo>
                      <a:lnTo>
                        <a:pt x="441" y="309"/>
                      </a:lnTo>
                      <a:lnTo>
                        <a:pt x="447" y="309"/>
                      </a:lnTo>
                      <a:lnTo>
                        <a:pt x="454" y="308"/>
                      </a:lnTo>
                      <a:lnTo>
                        <a:pt x="456" y="304"/>
                      </a:lnTo>
                      <a:lnTo>
                        <a:pt x="460" y="300"/>
                      </a:lnTo>
                      <a:lnTo>
                        <a:pt x="462" y="294"/>
                      </a:lnTo>
                      <a:lnTo>
                        <a:pt x="466" y="287"/>
                      </a:lnTo>
                      <a:lnTo>
                        <a:pt x="467" y="277"/>
                      </a:lnTo>
                      <a:lnTo>
                        <a:pt x="469" y="268"/>
                      </a:lnTo>
                      <a:lnTo>
                        <a:pt x="469" y="258"/>
                      </a:lnTo>
                      <a:lnTo>
                        <a:pt x="473" y="249"/>
                      </a:lnTo>
                      <a:lnTo>
                        <a:pt x="475" y="239"/>
                      </a:lnTo>
                      <a:lnTo>
                        <a:pt x="475" y="231"/>
                      </a:lnTo>
                      <a:lnTo>
                        <a:pt x="477" y="224"/>
                      </a:lnTo>
                      <a:lnTo>
                        <a:pt x="479" y="216"/>
                      </a:lnTo>
                      <a:lnTo>
                        <a:pt x="477" y="209"/>
                      </a:lnTo>
                      <a:lnTo>
                        <a:pt x="477" y="205"/>
                      </a:lnTo>
                      <a:lnTo>
                        <a:pt x="475" y="199"/>
                      </a:lnTo>
                      <a:lnTo>
                        <a:pt x="475" y="195"/>
                      </a:lnTo>
                      <a:lnTo>
                        <a:pt x="469" y="192"/>
                      </a:lnTo>
                      <a:lnTo>
                        <a:pt x="467" y="192"/>
                      </a:lnTo>
                      <a:lnTo>
                        <a:pt x="462" y="192"/>
                      </a:lnTo>
                      <a:lnTo>
                        <a:pt x="458" y="193"/>
                      </a:lnTo>
                      <a:lnTo>
                        <a:pt x="448" y="193"/>
                      </a:lnTo>
                      <a:lnTo>
                        <a:pt x="445" y="195"/>
                      </a:lnTo>
                      <a:lnTo>
                        <a:pt x="439" y="197"/>
                      </a:lnTo>
                      <a:lnTo>
                        <a:pt x="435" y="199"/>
                      </a:lnTo>
                      <a:lnTo>
                        <a:pt x="429" y="199"/>
                      </a:lnTo>
                      <a:lnTo>
                        <a:pt x="428" y="199"/>
                      </a:lnTo>
                      <a:lnTo>
                        <a:pt x="426" y="197"/>
                      </a:lnTo>
                      <a:lnTo>
                        <a:pt x="426" y="192"/>
                      </a:lnTo>
                      <a:lnTo>
                        <a:pt x="428" y="186"/>
                      </a:lnTo>
                      <a:lnTo>
                        <a:pt x="429" y="176"/>
                      </a:lnTo>
                      <a:lnTo>
                        <a:pt x="429" y="165"/>
                      </a:lnTo>
                      <a:lnTo>
                        <a:pt x="426" y="157"/>
                      </a:lnTo>
                      <a:lnTo>
                        <a:pt x="418" y="152"/>
                      </a:lnTo>
                      <a:lnTo>
                        <a:pt x="410" y="148"/>
                      </a:lnTo>
                      <a:lnTo>
                        <a:pt x="401" y="144"/>
                      </a:lnTo>
                      <a:lnTo>
                        <a:pt x="391" y="140"/>
                      </a:lnTo>
                      <a:lnTo>
                        <a:pt x="382" y="136"/>
                      </a:lnTo>
                      <a:lnTo>
                        <a:pt x="372" y="131"/>
                      </a:lnTo>
                      <a:lnTo>
                        <a:pt x="365" y="125"/>
                      </a:lnTo>
                      <a:lnTo>
                        <a:pt x="363" y="119"/>
                      </a:lnTo>
                      <a:lnTo>
                        <a:pt x="365" y="112"/>
                      </a:lnTo>
                      <a:lnTo>
                        <a:pt x="367" y="106"/>
                      </a:lnTo>
                      <a:lnTo>
                        <a:pt x="367" y="98"/>
                      </a:lnTo>
                      <a:lnTo>
                        <a:pt x="365" y="95"/>
                      </a:lnTo>
                      <a:lnTo>
                        <a:pt x="361" y="93"/>
                      </a:lnTo>
                      <a:lnTo>
                        <a:pt x="357" y="93"/>
                      </a:lnTo>
                      <a:lnTo>
                        <a:pt x="350" y="93"/>
                      </a:lnTo>
                      <a:lnTo>
                        <a:pt x="344" y="93"/>
                      </a:lnTo>
                      <a:lnTo>
                        <a:pt x="334" y="93"/>
                      </a:lnTo>
                      <a:lnTo>
                        <a:pt x="327" y="91"/>
                      </a:lnTo>
                      <a:lnTo>
                        <a:pt x="321" y="87"/>
                      </a:lnTo>
                      <a:lnTo>
                        <a:pt x="319" y="85"/>
                      </a:lnTo>
                      <a:lnTo>
                        <a:pt x="315" y="76"/>
                      </a:lnTo>
                      <a:lnTo>
                        <a:pt x="315" y="66"/>
                      </a:lnTo>
                      <a:lnTo>
                        <a:pt x="315" y="55"/>
                      </a:lnTo>
                      <a:lnTo>
                        <a:pt x="314" y="47"/>
                      </a:lnTo>
                      <a:lnTo>
                        <a:pt x="308" y="43"/>
                      </a:lnTo>
                      <a:lnTo>
                        <a:pt x="306" y="43"/>
                      </a:lnTo>
                      <a:lnTo>
                        <a:pt x="300" y="43"/>
                      </a:lnTo>
                      <a:lnTo>
                        <a:pt x="293" y="45"/>
                      </a:lnTo>
                      <a:lnTo>
                        <a:pt x="285" y="47"/>
                      </a:lnTo>
                      <a:lnTo>
                        <a:pt x="277" y="47"/>
                      </a:lnTo>
                      <a:lnTo>
                        <a:pt x="272" y="47"/>
                      </a:lnTo>
                      <a:lnTo>
                        <a:pt x="270" y="47"/>
                      </a:lnTo>
                      <a:lnTo>
                        <a:pt x="264" y="45"/>
                      </a:lnTo>
                      <a:lnTo>
                        <a:pt x="260" y="41"/>
                      </a:lnTo>
                      <a:lnTo>
                        <a:pt x="258" y="36"/>
                      </a:lnTo>
                      <a:lnTo>
                        <a:pt x="257" y="28"/>
                      </a:lnTo>
                      <a:lnTo>
                        <a:pt x="251" y="20"/>
                      </a:lnTo>
                      <a:lnTo>
                        <a:pt x="241" y="13"/>
                      </a:lnTo>
                      <a:lnTo>
                        <a:pt x="236" y="7"/>
                      </a:lnTo>
                      <a:lnTo>
                        <a:pt x="230" y="5"/>
                      </a:lnTo>
                      <a:lnTo>
                        <a:pt x="226" y="5"/>
                      </a:lnTo>
                      <a:lnTo>
                        <a:pt x="222" y="5"/>
                      </a:lnTo>
                      <a:lnTo>
                        <a:pt x="217" y="7"/>
                      </a:lnTo>
                      <a:lnTo>
                        <a:pt x="213" y="13"/>
                      </a:lnTo>
                      <a:lnTo>
                        <a:pt x="205" y="19"/>
                      </a:lnTo>
                      <a:lnTo>
                        <a:pt x="200" y="22"/>
                      </a:lnTo>
                      <a:lnTo>
                        <a:pt x="194" y="24"/>
                      </a:lnTo>
                      <a:lnTo>
                        <a:pt x="188" y="26"/>
                      </a:lnTo>
                      <a:lnTo>
                        <a:pt x="182" y="26"/>
                      </a:lnTo>
                      <a:lnTo>
                        <a:pt x="177" y="28"/>
                      </a:lnTo>
                      <a:lnTo>
                        <a:pt x="167" y="26"/>
                      </a:lnTo>
                      <a:lnTo>
                        <a:pt x="162" y="22"/>
                      </a:lnTo>
                      <a:lnTo>
                        <a:pt x="154" y="20"/>
                      </a:lnTo>
                      <a:lnTo>
                        <a:pt x="150" y="19"/>
                      </a:lnTo>
                      <a:lnTo>
                        <a:pt x="141" y="9"/>
                      </a:lnTo>
                      <a:lnTo>
                        <a:pt x="133" y="5"/>
                      </a:lnTo>
                      <a:lnTo>
                        <a:pt x="127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8" y="3"/>
                      </a:lnTo>
                      <a:lnTo>
                        <a:pt x="114" y="7"/>
                      </a:lnTo>
                      <a:lnTo>
                        <a:pt x="114" y="13"/>
                      </a:lnTo>
                      <a:lnTo>
                        <a:pt x="110" y="19"/>
                      </a:lnTo>
                      <a:lnTo>
                        <a:pt x="106" y="22"/>
                      </a:lnTo>
                      <a:lnTo>
                        <a:pt x="104" y="26"/>
                      </a:lnTo>
                      <a:lnTo>
                        <a:pt x="101" y="28"/>
                      </a:lnTo>
                      <a:lnTo>
                        <a:pt x="93" y="28"/>
                      </a:lnTo>
                      <a:lnTo>
                        <a:pt x="85" y="26"/>
                      </a:lnTo>
                      <a:lnTo>
                        <a:pt x="76" y="20"/>
                      </a:lnTo>
                      <a:lnTo>
                        <a:pt x="70" y="17"/>
                      </a:lnTo>
                      <a:lnTo>
                        <a:pt x="63" y="13"/>
                      </a:lnTo>
                      <a:lnTo>
                        <a:pt x="57" y="9"/>
                      </a:lnTo>
                      <a:lnTo>
                        <a:pt x="51" y="7"/>
                      </a:lnTo>
                      <a:lnTo>
                        <a:pt x="46" y="9"/>
                      </a:lnTo>
                      <a:lnTo>
                        <a:pt x="36" y="9"/>
                      </a:lnTo>
                      <a:lnTo>
                        <a:pt x="28" y="13"/>
                      </a:lnTo>
                      <a:lnTo>
                        <a:pt x="21" y="15"/>
                      </a:lnTo>
                      <a:lnTo>
                        <a:pt x="17" y="19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775920" y="5483520"/>
                  <a:ext cx="551520" cy="349560"/>
                </a:xfrm>
                <a:custGeom>
                  <a:avLst/>
                  <a:gdLst/>
                  <a:ahLst/>
                  <a:rect l="l" t="t" r="r" b="b"/>
                  <a:pathLst>
                    <a:path w="895" h="751">
                      <a:moveTo>
                        <a:pt x="815" y="0"/>
                      </a:moveTo>
                      <a:lnTo>
                        <a:pt x="813" y="0"/>
                      </a:lnTo>
                      <a:lnTo>
                        <a:pt x="809" y="2"/>
                      </a:lnTo>
                      <a:lnTo>
                        <a:pt x="802" y="4"/>
                      </a:lnTo>
                      <a:lnTo>
                        <a:pt x="796" y="9"/>
                      </a:lnTo>
                      <a:lnTo>
                        <a:pt x="786" y="15"/>
                      </a:lnTo>
                      <a:lnTo>
                        <a:pt x="777" y="23"/>
                      </a:lnTo>
                      <a:lnTo>
                        <a:pt x="766" y="30"/>
                      </a:lnTo>
                      <a:lnTo>
                        <a:pt x="756" y="40"/>
                      </a:lnTo>
                      <a:lnTo>
                        <a:pt x="743" y="47"/>
                      </a:lnTo>
                      <a:lnTo>
                        <a:pt x="729" y="61"/>
                      </a:lnTo>
                      <a:lnTo>
                        <a:pt x="718" y="72"/>
                      </a:lnTo>
                      <a:lnTo>
                        <a:pt x="707" y="87"/>
                      </a:lnTo>
                      <a:lnTo>
                        <a:pt x="695" y="101"/>
                      </a:lnTo>
                      <a:lnTo>
                        <a:pt x="686" y="118"/>
                      </a:lnTo>
                      <a:lnTo>
                        <a:pt x="676" y="135"/>
                      </a:lnTo>
                      <a:lnTo>
                        <a:pt x="669" y="154"/>
                      </a:lnTo>
                      <a:lnTo>
                        <a:pt x="659" y="175"/>
                      </a:lnTo>
                      <a:lnTo>
                        <a:pt x="650" y="198"/>
                      </a:lnTo>
                      <a:lnTo>
                        <a:pt x="638" y="224"/>
                      </a:lnTo>
                      <a:lnTo>
                        <a:pt x="627" y="255"/>
                      </a:lnTo>
                      <a:lnTo>
                        <a:pt x="614" y="285"/>
                      </a:lnTo>
                      <a:lnTo>
                        <a:pt x="600" y="317"/>
                      </a:lnTo>
                      <a:lnTo>
                        <a:pt x="587" y="350"/>
                      </a:lnTo>
                      <a:lnTo>
                        <a:pt x="574" y="382"/>
                      </a:lnTo>
                      <a:lnTo>
                        <a:pt x="560" y="410"/>
                      </a:lnTo>
                      <a:lnTo>
                        <a:pt x="549" y="441"/>
                      </a:lnTo>
                      <a:lnTo>
                        <a:pt x="536" y="466"/>
                      </a:lnTo>
                      <a:lnTo>
                        <a:pt x="528" y="490"/>
                      </a:lnTo>
                      <a:lnTo>
                        <a:pt x="519" y="507"/>
                      </a:lnTo>
                      <a:lnTo>
                        <a:pt x="513" y="523"/>
                      </a:lnTo>
                      <a:lnTo>
                        <a:pt x="507" y="532"/>
                      </a:lnTo>
                      <a:lnTo>
                        <a:pt x="507" y="536"/>
                      </a:lnTo>
                      <a:lnTo>
                        <a:pt x="503" y="536"/>
                      </a:lnTo>
                      <a:lnTo>
                        <a:pt x="492" y="536"/>
                      </a:lnTo>
                      <a:lnTo>
                        <a:pt x="473" y="536"/>
                      </a:lnTo>
                      <a:lnTo>
                        <a:pt x="450" y="536"/>
                      </a:lnTo>
                      <a:lnTo>
                        <a:pt x="420" y="534"/>
                      </a:lnTo>
                      <a:lnTo>
                        <a:pt x="387" y="534"/>
                      </a:lnTo>
                      <a:lnTo>
                        <a:pt x="353" y="532"/>
                      </a:lnTo>
                      <a:lnTo>
                        <a:pt x="317" y="532"/>
                      </a:lnTo>
                      <a:lnTo>
                        <a:pt x="277" y="530"/>
                      </a:lnTo>
                      <a:lnTo>
                        <a:pt x="239" y="528"/>
                      </a:lnTo>
                      <a:lnTo>
                        <a:pt x="201" y="524"/>
                      </a:lnTo>
                      <a:lnTo>
                        <a:pt x="165" y="521"/>
                      </a:lnTo>
                      <a:lnTo>
                        <a:pt x="131" y="517"/>
                      </a:lnTo>
                      <a:lnTo>
                        <a:pt x="104" y="511"/>
                      </a:lnTo>
                      <a:lnTo>
                        <a:pt x="78" y="505"/>
                      </a:lnTo>
                      <a:lnTo>
                        <a:pt x="59" y="498"/>
                      </a:lnTo>
                      <a:lnTo>
                        <a:pt x="55" y="502"/>
                      </a:lnTo>
                      <a:lnTo>
                        <a:pt x="47" y="509"/>
                      </a:lnTo>
                      <a:lnTo>
                        <a:pt x="41" y="513"/>
                      </a:lnTo>
                      <a:lnTo>
                        <a:pt x="36" y="519"/>
                      </a:lnTo>
                      <a:lnTo>
                        <a:pt x="30" y="526"/>
                      </a:lnTo>
                      <a:lnTo>
                        <a:pt x="24" y="534"/>
                      </a:lnTo>
                      <a:lnTo>
                        <a:pt x="19" y="540"/>
                      </a:lnTo>
                      <a:lnTo>
                        <a:pt x="13" y="549"/>
                      </a:lnTo>
                      <a:lnTo>
                        <a:pt x="7" y="555"/>
                      </a:lnTo>
                      <a:lnTo>
                        <a:pt x="5" y="564"/>
                      </a:lnTo>
                      <a:lnTo>
                        <a:pt x="2" y="572"/>
                      </a:lnTo>
                      <a:lnTo>
                        <a:pt x="0" y="580"/>
                      </a:lnTo>
                      <a:lnTo>
                        <a:pt x="0" y="587"/>
                      </a:lnTo>
                      <a:lnTo>
                        <a:pt x="3" y="595"/>
                      </a:lnTo>
                      <a:lnTo>
                        <a:pt x="9" y="602"/>
                      </a:lnTo>
                      <a:lnTo>
                        <a:pt x="26" y="612"/>
                      </a:lnTo>
                      <a:lnTo>
                        <a:pt x="51" y="625"/>
                      </a:lnTo>
                      <a:lnTo>
                        <a:pt x="83" y="640"/>
                      </a:lnTo>
                      <a:lnTo>
                        <a:pt x="121" y="656"/>
                      </a:lnTo>
                      <a:lnTo>
                        <a:pt x="163" y="671"/>
                      </a:lnTo>
                      <a:lnTo>
                        <a:pt x="209" y="688"/>
                      </a:lnTo>
                      <a:lnTo>
                        <a:pt x="258" y="703"/>
                      </a:lnTo>
                      <a:lnTo>
                        <a:pt x="306" y="716"/>
                      </a:lnTo>
                      <a:lnTo>
                        <a:pt x="355" y="730"/>
                      </a:lnTo>
                      <a:lnTo>
                        <a:pt x="404" y="739"/>
                      </a:lnTo>
                      <a:lnTo>
                        <a:pt x="452" y="747"/>
                      </a:lnTo>
                      <a:lnTo>
                        <a:pt x="494" y="751"/>
                      </a:lnTo>
                      <a:lnTo>
                        <a:pt x="534" y="751"/>
                      </a:lnTo>
                      <a:lnTo>
                        <a:pt x="566" y="749"/>
                      </a:lnTo>
                      <a:lnTo>
                        <a:pt x="593" y="741"/>
                      </a:lnTo>
                      <a:lnTo>
                        <a:pt x="617" y="724"/>
                      </a:lnTo>
                      <a:lnTo>
                        <a:pt x="642" y="699"/>
                      </a:lnTo>
                      <a:lnTo>
                        <a:pt x="669" y="667"/>
                      </a:lnTo>
                      <a:lnTo>
                        <a:pt x="695" y="629"/>
                      </a:lnTo>
                      <a:lnTo>
                        <a:pt x="722" y="585"/>
                      </a:lnTo>
                      <a:lnTo>
                        <a:pt x="750" y="540"/>
                      </a:lnTo>
                      <a:lnTo>
                        <a:pt x="775" y="490"/>
                      </a:lnTo>
                      <a:lnTo>
                        <a:pt x="802" y="441"/>
                      </a:lnTo>
                      <a:lnTo>
                        <a:pt x="823" y="388"/>
                      </a:lnTo>
                      <a:lnTo>
                        <a:pt x="843" y="338"/>
                      </a:lnTo>
                      <a:lnTo>
                        <a:pt x="861" y="289"/>
                      </a:lnTo>
                      <a:lnTo>
                        <a:pt x="876" y="241"/>
                      </a:lnTo>
                      <a:lnTo>
                        <a:pt x="885" y="199"/>
                      </a:lnTo>
                      <a:lnTo>
                        <a:pt x="893" y="161"/>
                      </a:lnTo>
                      <a:lnTo>
                        <a:pt x="895" y="131"/>
                      </a:lnTo>
                      <a:lnTo>
                        <a:pt x="893" y="108"/>
                      </a:lnTo>
                      <a:lnTo>
                        <a:pt x="885" y="87"/>
                      </a:lnTo>
                      <a:lnTo>
                        <a:pt x="878" y="72"/>
                      </a:lnTo>
                      <a:lnTo>
                        <a:pt x="872" y="57"/>
                      </a:lnTo>
                      <a:lnTo>
                        <a:pt x="864" y="45"/>
                      </a:lnTo>
                      <a:lnTo>
                        <a:pt x="859" y="34"/>
                      </a:lnTo>
                      <a:lnTo>
                        <a:pt x="851" y="25"/>
                      </a:lnTo>
                      <a:lnTo>
                        <a:pt x="845" y="17"/>
                      </a:lnTo>
                      <a:lnTo>
                        <a:pt x="840" y="13"/>
                      </a:lnTo>
                      <a:lnTo>
                        <a:pt x="828" y="6"/>
                      </a:lnTo>
                      <a:lnTo>
                        <a:pt x="821" y="2"/>
                      </a:lnTo>
                      <a:lnTo>
                        <a:pt x="815" y="0"/>
                      </a:lnTo>
                      <a:lnTo>
                        <a:pt x="815" y="0"/>
                      </a:lnTo>
                      <a:lnTo>
                        <a:pt x="815" y="0"/>
                      </a:lnTo>
                      <a:close/>
                    </a:path>
                  </a:pathLst>
                </a:custGeom>
                <a:solidFill>
                  <a:srgbClr val="b36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7106040" y="5441760"/>
                  <a:ext cx="30600" cy="23040"/>
                </a:xfrm>
                <a:custGeom>
                  <a:avLst/>
                  <a:gdLst/>
                  <a:ahLst/>
                  <a:rect l="l" t="t" r="r" b="b"/>
                  <a:pathLst>
                    <a:path w="49" h="50">
                      <a:moveTo>
                        <a:pt x="24" y="50"/>
                      </a:moveTo>
                      <a:lnTo>
                        <a:pt x="34" y="48"/>
                      </a:lnTo>
                      <a:lnTo>
                        <a:pt x="41" y="42"/>
                      </a:lnTo>
                      <a:lnTo>
                        <a:pt x="47" y="33"/>
                      </a:lnTo>
                      <a:lnTo>
                        <a:pt x="49" y="25"/>
                      </a:lnTo>
                      <a:lnTo>
                        <a:pt x="47" y="14"/>
                      </a:lnTo>
                      <a:lnTo>
                        <a:pt x="41" y="6"/>
                      </a:lnTo>
                      <a:lnTo>
                        <a:pt x="34" y="0"/>
                      </a:lnTo>
                      <a:lnTo>
                        <a:pt x="24" y="0"/>
                      </a:lnTo>
                      <a:lnTo>
                        <a:pt x="13" y="0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5"/>
                      </a:lnTo>
                      <a:lnTo>
                        <a:pt x="2" y="33"/>
                      </a:lnTo>
                      <a:lnTo>
                        <a:pt x="7" y="42"/>
                      </a:lnTo>
                      <a:lnTo>
                        <a:pt x="13" y="48"/>
                      </a:lnTo>
                      <a:lnTo>
                        <a:pt x="24" y="50"/>
                      </a:lnTo>
                      <a:lnTo>
                        <a:pt x="24" y="50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7145280" y="546048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42" h="42">
                      <a:moveTo>
                        <a:pt x="21" y="42"/>
                      </a:moveTo>
                      <a:lnTo>
                        <a:pt x="29" y="38"/>
                      </a:lnTo>
                      <a:lnTo>
                        <a:pt x="35" y="35"/>
                      </a:lnTo>
                      <a:lnTo>
                        <a:pt x="38" y="29"/>
                      </a:lnTo>
                      <a:lnTo>
                        <a:pt x="42" y="21"/>
                      </a:lnTo>
                      <a:lnTo>
                        <a:pt x="38" y="12"/>
                      </a:lnTo>
                      <a:lnTo>
                        <a:pt x="35" y="6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6" y="6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0" y="29"/>
                      </a:lnTo>
                      <a:lnTo>
                        <a:pt x="6" y="35"/>
                      </a:lnTo>
                      <a:lnTo>
                        <a:pt x="12" y="38"/>
                      </a:lnTo>
                      <a:lnTo>
                        <a:pt x="21" y="42"/>
                      </a:lnTo>
                      <a:lnTo>
                        <a:pt x="21" y="42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7185960" y="5458320"/>
                  <a:ext cx="31680" cy="23040"/>
                </a:xfrm>
                <a:custGeom>
                  <a:avLst/>
                  <a:gdLst/>
                  <a:ahLst/>
                  <a:rect l="l" t="t" r="r" b="b"/>
                  <a:pathLst>
                    <a:path w="51" h="49">
                      <a:moveTo>
                        <a:pt x="26" y="49"/>
                      </a:moveTo>
                      <a:lnTo>
                        <a:pt x="36" y="47"/>
                      </a:lnTo>
                      <a:lnTo>
                        <a:pt x="44" y="41"/>
                      </a:lnTo>
                      <a:lnTo>
                        <a:pt x="49" y="32"/>
                      </a:lnTo>
                      <a:lnTo>
                        <a:pt x="51" y="24"/>
                      </a:lnTo>
                      <a:lnTo>
                        <a:pt x="49" y="13"/>
                      </a:lnTo>
                      <a:lnTo>
                        <a:pt x="44" y="5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2" y="13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7" y="41"/>
                      </a:lnTo>
                      <a:lnTo>
                        <a:pt x="15" y="47"/>
                      </a:lnTo>
                      <a:lnTo>
                        <a:pt x="26" y="49"/>
                      </a:lnTo>
                      <a:lnTo>
                        <a:pt x="26" y="49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7234200" y="5454000"/>
                  <a:ext cx="21960" cy="1656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7" y="36"/>
                      </a:moveTo>
                      <a:lnTo>
                        <a:pt x="23" y="32"/>
                      </a:lnTo>
                      <a:lnTo>
                        <a:pt x="30" y="29"/>
                      </a:lnTo>
                      <a:lnTo>
                        <a:pt x="34" y="23"/>
                      </a:lnTo>
                      <a:lnTo>
                        <a:pt x="36" y="17"/>
                      </a:lnTo>
                      <a:lnTo>
                        <a:pt x="34" y="10"/>
                      </a:lnTo>
                      <a:lnTo>
                        <a:pt x="30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7" y="36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7273440" y="543240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44" h="45">
                      <a:moveTo>
                        <a:pt x="23" y="45"/>
                      </a:moveTo>
                      <a:lnTo>
                        <a:pt x="31" y="41"/>
                      </a:lnTo>
                      <a:lnTo>
                        <a:pt x="38" y="38"/>
                      </a:lnTo>
                      <a:lnTo>
                        <a:pt x="42" y="30"/>
                      </a:lnTo>
                      <a:lnTo>
                        <a:pt x="44" y="22"/>
                      </a:lnTo>
                      <a:lnTo>
                        <a:pt x="42" y="13"/>
                      </a:lnTo>
                      <a:lnTo>
                        <a:pt x="38" y="5"/>
                      </a:lnTo>
                      <a:lnTo>
                        <a:pt x="31" y="0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6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12" y="41"/>
                      </a:lnTo>
                      <a:lnTo>
                        <a:pt x="23" y="45"/>
                      </a:lnTo>
                      <a:lnTo>
                        <a:pt x="23" y="45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296840" y="5398920"/>
                  <a:ext cx="27000" cy="2016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23" y="46"/>
                      </a:moveTo>
                      <a:lnTo>
                        <a:pt x="33" y="44"/>
                      </a:lnTo>
                      <a:lnTo>
                        <a:pt x="38" y="40"/>
                      </a:lnTo>
                      <a:lnTo>
                        <a:pt x="42" y="33"/>
                      </a:lnTo>
                      <a:lnTo>
                        <a:pt x="44" y="25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3" y="2"/>
                      </a:lnTo>
                      <a:lnTo>
                        <a:pt x="23" y="0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0" y="14"/>
                      </a:lnTo>
                      <a:lnTo>
                        <a:pt x="0" y="25"/>
                      </a:lnTo>
                      <a:lnTo>
                        <a:pt x="0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6"/>
                      </a:lnTo>
                      <a:lnTo>
                        <a:pt x="23" y="46"/>
                      </a:lnTo>
                      <a:close/>
                    </a:path>
                  </a:pathLst>
                </a:custGeom>
                <a:solidFill>
                  <a:srgbClr val="ff0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654240" y="5604840"/>
                  <a:ext cx="209160" cy="74520"/>
                </a:xfrm>
                <a:custGeom>
                  <a:avLst/>
                  <a:gdLst/>
                  <a:ahLst/>
                  <a:rect l="l" t="t" r="r" b="b"/>
                  <a:pathLst>
                    <a:path w="340" h="160">
                      <a:moveTo>
                        <a:pt x="319" y="53"/>
                      </a:moveTo>
                      <a:lnTo>
                        <a:pt x="316" y="52"/>
                      </a:lnTo>
                      <a:lnTo>
                        <a:pt x="312" y="52"/>
                      </a:lnTo>
                      <a:lnTo>
                        <a:pt x="304" y="50"/>
                      </a:lnTo>
                      <a:lnTo>
                        <a:pt x="293" y="48"/>
                      </a:lnTo>
                      <a:lnTo>
                        <a:pt x="280" y="44"/>
                      </a:lnTo>
                      <a:lnTo>
                        <a:pt x="268" y="40"/>
                      </a:lnTo>
                      <a:lnTo>
                        <a:pt x="251" y="36"/>
                      </a:lnTo>
                      <a:lnTo>
                        <a:pt x="238" y="34"/>
                      </a:lnTo>
                      <a:lnTo>
                        <a:pt x="221" y="29"/>
                      </a:lnTo>
                      <a:lnTo>
                        <a:pt x="205" y="25"/>
                      </a:lnTo>
                      <a:lnTo>
                        <a:pt x="190" y="19"/>
                      </a:lnTo>
                      <a:lnTo>
                        <a:pt x="177" y="15"/>
                      </a:lnTo>
                      <a:lnTo>
                        <a:pt x="164" y="10"/>
                      </a:lnTo>
                      <a:lnTo>
                        <a:pt x="152" y="6"/>
                      </a:lnTo>
                      <a:lnTo>
                        <a:pt x="143" y="2"/>
                      </a:lnTo>
                      <a:lnTo>
                        <a:pt x="139" y="0"/>
                      </a:lnTo>
                      <a:lnTo>
                        <a:pt x="137" y="0"/>
                      </a:lnTo>
                      <a:lnTo>
                        <a:pt x="133" y="0"/>
                      </a:lnTo>
                      <a:lnTo>
                        <a:pt x="127" y="2"/>
                      </a:lnTo>
                      <a:lnTo>
                        <a:pt x="120" y="8"/>
                      </a:lnTo>
                      <a:lnTo>
                        <a:pt x="110" y="10"/>
                      </a:lnTo>
                      <a:lnTo>
                        <a:pt x="101" y="15"/>
                      </a:lnTo>
                      <a:lnTo>
                        <a:pt x="89" y="19"/>
                      </a:lnTo>
                      <a:lnTo>
                        <a:pt x="80" y="25"/>
                      </a:lnTo>
                      <a:lnTo>
                        <a:pt x="67" y="29"/>
                      </a:lnTo>
                      <a:lnTo>
                        <a:pt x="55" y="34"/>
                      </a:lnTo>
                      <a:lnTo>
                        <a:pt x="44" y="40"/>
                      </a:lnTo>
                      <a:lnTo>
                        <a:pt x="34" y="46"/>
                      </a:lnTo>
                      <a:lnTo>
                        <a:pt x="23" y="50"/>
                      </a:lnTo>
                      <a:lnTo>
                        <a:pt x="15" y="55"/>
                      </a:lnTo>
                      <a:lnTo>
                        <a:pt x="10" y="59"/>
                      </a:lnTo>
                      <a:lnTo>
                        <a:pt x="6" y="63"/>
                      </a:lnTo>
                      <a:lnTo>
                        <a:pt x="0" y="67"/>
                      </a:lnTo>
                      <a:lnTo>
                        <a:pt x="2" y="71"/>
                      </a:lnTo>
                      <a:lnTo>
                        <a:pt x="8" y="72"/>
                      </a:lnTo>
                      <a:lnTo>
                        <a:pt x="15" y="72"/>
                      </a:lnTo>
                      <a:lnTo>
                        <a:pt x="23" y="72"/>
                      </a:lnTo>
                      <a:lnTo>
                        <a:pt x="31" y="72"/>
                      </a:lnTo>
                      <a:lnTo>
                        <a:pt x="34" y="72"/>
                      </a:lnTo>
                      <a:lnTo>
                        <a:pt x="38" y="72"/>
                      </a:lnTo>
                      <a:lnTo>
                        <a:pt x="10" y="91"/>
                      </a:lnTo>
                      <a:lnTo>
                        <a:pt x="51" y="91"/>
                      </a:lnTo>
                      <a:lnTo>
                        <a:pt x="19" y="114"/>
                      </a:lnTo>
                      <a:lnTo>
                        <a:pt x="61" y="116"/>
                      </a:lnTo>
                      <a:lnTo>
                        <a:pt x="63" y="116"/>
                      </a:lnTo>
                      <a:lnTo>
                        <a:pt x="70" y="118"/>
                      </a:lnTo>
                      <a:lnTo>
                        <a:pt x="76" y="118"/>
                      </a:lnTo>
                      <a:lnTo>
                        <a:pt x="82" y="118"/>
                      </a:lnTo>
                      <a:lnTo>
                        <a:pt x="89" y="118"/>
                      </a:lnTo>
                      <a:lnTo>
                        <a:pt x="97" y="120"/>
                      </a:lnTo>
                      <a:lnTo>
                        <a:pt x="105" y="118"/>
                      </a:lnTo>
                      <a:lnTo>
                        <a:pt x="112" y="118"/>
                      </a:lnTo>
                      <a:lnTo>
                        <a:pt x="120" y="116"/>
                      </a:lnTo>
                      <a:lnTo>
                        <a:pt x="127" y="116"/>
                      </a:lnTo>
                      <a:lnTo>
                        <a:pt x="133" y="114"/>
                      </a:lnTo>
                      <a:lnTo>
                        <a:pt x="141" y="112"/>
                      </a:lnTo>
                      <a:lnTo>
                        <a:pt x="146" y="109"/>
                      </a:lnTo>
                      <a:lnTo>
                        <a:pt x="152" y="107"/>
                      </a:lnTo>
                      <a:lnTo>
                        <a:pt x="162" y="101"/>
                      </a:lnTo>
                      <a:lnTo>
                        <a:pt x="169" y="101"/>
                      </a:lnTo>
                      <a:lnTo>
                        <a:pt x="175" y="101"/>
                      </a:lnTo>
                      <a:lnTo>
                        <a:pt x="179" y="107"/>
                      </a:lnTo>
                      <a:lnTo>
                        <a:pt x="183" y="112"/>
                      </a:lnTo>
                      <a:lnTo>
                        <a:pt x="184" y="116"/>
                      </a:lnTo>
                      <a:lnTo>
                        <a:pt x="186" y="122"/>
                      </a:lnTo>
                      <a:lnTo>
                        <a:pt x="186" y="124"/>
                      </a:lnTo>
                      <a:lnTo>
                        <a:pt x="184" y="124"/>
                      </a:lnTo>
                      <a:lnTo>
                        <a:pt x="177" y="126"/>
                      </a:lnTo>
                      <a:lnTo>
                        <a:pt x="165" y="129"/>
                      </a:lnTo>
                      <a:lnTo>
                        <a:pt x="154" y="135"/>
                      </a:lnTo>
                      <a:lnTo>
                        <a:pt x="148" y="135"/>
                      </a:lnTo>
                      <a:lnTo>
                        <a:pt x="143" y="137"/>
                      </a:lnTo>
                      <a:lnTo>
                        <a:pt x="137" y="139"/>
                      </a:lnTo>
                      <a:lnTo>
                        <a:pt x="133" y="143"/>
                      </a:lnTo>
                      <a:lnTo>
                        <a:pt x="129" y="149"/>
                      </a:lnTo>
                      <a:lnTo>
                        <a:pt x="131" y="152"/>
                      </a:lnTo>
                      <a:lnTo>
                        <a:pt x="133" y="152"/>
                      </a:lnTo>
                      <a:lnTo>
                        <a:pt x="139" y="154"/>
                      </a:lnTo>
                      <a:lnTo>
                        <a:pt x="143" y="156"/>
                      </a:lnTo>
                      <a:lnTo>
                        <a:pt x="148" y="158"/>
                      </a:lnTo>
                      <a:lnTo>
                        <a:pt x="154" y="158"/>
                      </a:lnTo>
                      <a:lnTo>
                        <a:pt x="162" y="160"/>
                      </a:lnTo>
                      <a:lnTo>
                        <a:pt x="169" y="160"/>
                      </a:lnTo>
                      <a:lnTo>
                        <a:pt x="179" y="160"/>
                      </a:lnTo>
                      <a:lnTo>
                        <a:pt x="184" y="160"/>
                      </a:lnTo>
                      <a:lnTo>
                        <a:pt x="194" y="160"/>
                      </a:lnTo>
                      <a:lnTo>
                        <a:pt x="202" y="158"/>
                      </a:lnTo>
                      <a:lnTo>
                        <a:pt x="211" y="158"/>
                      </a:lnTo>
                      <a:lnTo>
                        <a:pt x="219" y="156"/>
                      </a:lnTo>
                      <a:lnTo>
                        <a:pt x="226" y="152"/>
                      </a:lnTo>
                      <a:lnTo>
                        <a:pt x="234" y="150"/>
                      </a:lnTo>
                      <a:lnTo>
                        <a:pt x="241" y="149"/>
                      </a:lnTo>
                      <a:lnTo>
                        <a:pt x="287" y="152"/>
                      </a:lnTo>
                      <a:lnTo>
                        <a:pt x="340" y="114"/>
                      </a:lnTo>
                      <a:lnTo>
                        <a:pt x="319" y="53"/>
                      </a:lnTo>
                      <a:lnTo>
                        <a:pt x="319" y="53"/>
                      </a:lnTo>
                      <a:close/>
                    </a:path>
                  </a:pathLst>
                </a:custGeom>
                <a:solidFill>
                  <a:srgbClr val="cc8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635520" y="5694480"/>
                  <a:ext cx="194400" cy="66960"/>
                </a:xfrm>
                <a:custGeom>
                  <a:avLst/>
                  <a:gdLst/>
                  <a:ahLst/>
                  <a:rect l="l" t="t" r="r" b="b"/>
                  <a:pathLst>
                    <a:path w="315" h="145">
                      <a:moveTo>
                        <a:pt x="315" y="61"/>
                      </a:moveTo>
                      <a:lnTo>
                        <a:pt x="313" y="59"/>
                      </a:lnTo>
                      <a:lnTo>
                        <a:pt x="309" y="57"/>
                      </a:lnTo>
                      <a:lnTo>
                        <a:pt x="304" y="52"/>
                      </a:lnTo>
                      <a:lnTo>
                        <a:pt x="296" y="48"/>
                      </a:lnTo>
                      <a:lnTo>
                        <a:pt x="285" y="40"/>
                      </a:lnTo>
                      <a:lnTo>
                        <a:pt x="271" y="34"/>
                      </a:lnTo>
                      <a:lnTo>
                        <a:pt x="256" y="29"/>
                      </a:lnTo>
                      <a:lnTo>
                        <a:pt x="241" y="21"/>
                      </a:lnTo>
                      <a:lnTo>
                        <a:pt x="222" y="15"/>
                      </a:lnTo>
                      <a:lnTo>
                        <a:pt x="201" y="10"/>
                      </a:lnTo>
                      <a:lnTo>
                        <a:pt x="178" y="4"/>
                      </a:lnTo>
                      <a:lnTo>
                        <a:pt x="155" y="2"/>
                      </a:lnTo>
                      <a:lnTo>
                        <a:pt x="129" y="0"/>
                      </a:lnTo>
                      <a:lnTo>
                        <a:pt x="102" y="0"/>
                      </a:lnTo>
                      <a:lnTo>
                        <a:pt x="74" y="2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24" y="14"/>
                      </a:lnTo>
                      <a:lnTo>
                        <a:pt x="17" y="15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3" y="23"/>
                      </a:lnTo>
                      <a:lnTo>
                        <a:pt x="17" y="23"/>
                      </a:lnTo>
                      <a:lnTo>
                        <a:pt x="22" y="25"/>
                      </a:lnTo>
                      <a:lnTo>
                        <a:pt x="30" y="27"/>
                      </a:lnTo>
                      <a:lnTo>
                        <a:pt x="36" y="31"/>
                      </a:lnTo>
                      <a:lnTo>
                        <a:pt x="45" y="36"/>
                      </a:lnTo>
                      <a:lnTo>
                        <a:pt x="51" y="38"/>
                      </a:lnTo>
                      <a:lnTo>
                        <a:pt x="47" y="38"/>
                      </a:lnTo>
                      <a:lnTo>
                        <a:pt x="41" y="38"/>
                      </a:lnTo>
                      <a:lnTo>
                        <a:pt x="32" y="40"/>
                      </a:lnTo>
                      <a:lnTo>
                        <a:pt x="22" y="44"/>
                      </a:lnTo>
                      <a:lnTo>
                        <a:pt x="13" y="46"/>
                      </a:lnTo>
                      <a:lnTo>
                        <a:pt x="5" y="48"/>
                      </a:lnTo>
                      <a:lnTo>
                        <a:pt x="0" y="52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11" y="59"/>
                      </a:lnTo>
                      <a:lnTo>
                        <a:pt x="17" y="61"/>
                      </a:lnTo>
                      <a:lnTo>
                        <a:pt x="24" y="63"/>
                      </a:lnTo>
                      <a:lnTo>
                        <a:pt x="30" y="63"/>
                      </a:lnTo>
                      <a:lnTo>
                        <a:pt x="38" y="65"/>
                      </a:lnTo>
                      <a:lnTo>
                        <a:pt x="41" y="65"/>
                      </a:lnTo>
                      <a:lnTo>
                        <a:pt x="43" y="65"/>
                      </a:lnTo>
                      <a:lnTo>
                        <a:pt x="41" y="65"/>
                      </a:lnTo>
                      <a:lnTo>
                        <a:pt x="36" y="69"/>
                      </a:lnTo>
                      <a:lnTo>
                        <a:pt x="28" y="72"/>
                      </a:lnTo>
                      <a:lnTo>
                        <a:pt x="21" y="76"/>
                      </a:lnTo>
                      <a:lnTo>
                        <a:pt x="11" y="80"/>
                      </a:lnTo>
                      <a:lnTo>
                        <a:pt x="7" y="86"/>
                      </a:lnTo>
                      <a:lnTo>
                        <a:pt x="3" y="88"/>
                      </a:lnTo>
                      <a:lnTo>
                        <a:pt x="7" y="91"/>
                      </a:lnTo>
                      <a:lnTo>
                        <a:pt x="13" y="91"/>
                      </a:lnTo>
                      <a:lnTo>
                        <a:pt x="19" y="93"/>
                      </a:lnTo>
                      <a:lnTo>
                        <a:pt x="26" y="93"/>
                      </a:lnTo>
                      <a:lnTo>
                        <a:pt x="36" y="93"/>
                      </a:lnTo>
                      <a:lnTo>
                        <a:pt x="40" y="93"/>
                      </a:lnTo>
                      <a:lnTo>
                        <a:pt x="47" y="93"/>
                      </a:lnTo>
                      <a:lnTo>
                        <a:pt x="51" y="93"/>
                      </a:lnTo>
                      <a:lnTo>
                        <a:pt x="53" y="93"/>
                      </a:lnTo>
                      <a:lnTo>
                        <a:pt x="51" y="93"/>
                      </a:lnTo>
                      <a:lnTo>
                        <a:pt x="45" y="95"/>
                      </a:lnTo>
                      <a:lnTo>
                        <a:pt x="38" y="101"/>
                      </a:lnTo>
                      <a:lnTo>
                        <a:pt x="30" y="107"/>
                      </a:lnTo>
                      <a:lnTo>
                        <a:pt x="22" y="112"/>
                      </a:lnTo>
                      <a:lnTo>
                        <a:pt x="19" y="118"/>
                      </a:lnTo>
                      <a:lnTo>
                        <a:pt x="17" y="122"/>
                      </a:lnTo>
                      <a:lnTo>
                        <a:pt x="22" y="126"/>
                      </a:lnTo>
                      <a:lnTo>
                        <a:pt x="24" y="124"/>
                      </a:lnTo>
                      <a:lnTo>
                        <a:pt x="30" y="124"/>
                      </a:lnTo>
                      <a:lnTo>
                        <a:pt x="38" y="124"/>
                      </a:lnTo>
                      <a:lnTo>
                        <a:pt x="47" y="124"/>
                      </a:lnTo>
                      <a:lnTo>
                        <a:pt x="55" y="122"/>
                      </a:lnTo>
                      <a:lnTo>
                        <a:pt x="66" y="122"/>
                      </a:lnTo>
                      <a:lnTo>
                        <a:pt x="76" y="120"/>
                      </a:lnTo>
                      <a:lnTo>
                        <a:pt x="89" y="120"/>
                      </a:lnTo>
                      <a:lnTo>
                        <a:pt x="98" y="118"/>
                      </a:lnTo>
                      <a:lnTo>
                        <a:pt x="110" y="116"/>
                      </a:lnTo>
                      <a:lnTo>
                        <a:pt x="119" y="114"/>
                      </a:lnTo>
                      <a:lnTo>
                        <a:pt x="131" y="114"/>
                      </a:lnTo>
                      <a:lnTo>
                        <a:pt x="138" y="110"/>
                      </a:lnTo>
                      <a:lnTo>
                        <a:pt x="146" y="110"/>
                      </a:lnTo>
                      <a:lnTo>
                        <a:pt x="152" y="109"/>
                      </a:lnTo>
                      <a:lnTo>
                        <a:pt x="155" y="109"/>
                      </a:lnTo>
                      <a:lnTo>
                        <a:pt x="157" y="109"/>
                      </a:lnTo>
                      <a:lnTo>
                        <a:pt x="163" y="114"/>
                      </a:lnTo>
                      <a:lnTo>
                        <a:pt x="167" y="118"/>
                      </a:lnTo>
                      <a:lnTo>
                        <a:pt x="173" y="122"/>
                      </a:lnTo>
                      <a:lnTo>
                        <a:pt x="180" y="126"/>
                      </a:lnTo>
                      <a:lnTo>
                        <a:pt x="186" y="131"/>
                      </a:lnTo>
                      <a:lnTo>
                        <a:pt x="192" y="133"/>
                      </a:lnTo>
                      <a:lnTo>
                        <a:pt x="199" y="137"/>
                      </a:lnTo>
                      <a:lnTo>
                        <a:pt x="207" y="139"/>
                      </a:lnTo>
                      <a:lnTo>
                        <a:pt x="214" y="143"/>
                      </a:lnTo>
                      <a:lnTo>
                        <a:pt x="222" y="145"/>
                      </a:lnTo>
                      <a:lnTo>
                        <a:pt x="231" y="145"/>
                      </a:lnTo>
                      <a:lnTo>
                        <a:pt x="239" y="145"/>
                      </a:lnTo>
                      <a:lnTo>
                        <a:pt x="249" y="143"/>
                      </a:lnTo>
                      <a:lnTo>
                        <a:pt x="313" y="95"/>
                      </a:lnTo>
                      <a:lnTo>
                        <a:pt x="315" y="61"/>
                      </a:lnTo>
                      <a:lnTo>
                        <a:pt x="315" y="61"/>
                      </a:lnTo>
                      <a:close/>
                    </a:path>
                  </a:pathLst>
                </a:custGeom>
                <a:solidFill>
                  <a:srgbClr val="d9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6231600" y="5339880"/>
                  <a:ext cx="345960" cy="447480"/>
                </a:xfrm>
                <a:custGeom>
                  <a:avLst/>
                  <a:gdLst/>
                  <a:ahLst/>
                  <a:rect l="l" t="t" r="r" b="b"/>
                  <a:pathLst>
                    <a:path w="563" h="960">
                      <a:moveTo>
                        <a:pt x="0" y="146"/>
                      </a:moveTo>
                      <a:lnTo>
                        <a:pt x="0" y="154"/>
                      </a:lnTo>
                      <a:lnTo>
                        <a:pt x="4" y="180"/>
                      </a:lnTo>
                      <a:lnTo>
                        <a:pt x="10" y="218"/>
                      </a:lnTo>
                      <a:lnTo>
                        <a:pt x="19" y="270"/>
                      </a:lnTo>
                      <a:lnTo>
                        <a:pt x="29" y="329"/>
                      </a:lnTo>
                      <a:lnTo>
                        <a:pt x="40" y="397"/>
                      </a:lnTo>
                      <a:lnTo>
                        <a:pt x="53" y="467"/>
                      </a:lnTo>
                      <a:lnTo>
                        <a:pt x="68" y="544"/>
                      </a:lnTo>
                      <a:lnTo>
                        <a:pt x="82" y="618"/>
                      </a:lnTo>
                      <a:lnTo>
                        <a:pt x="97" y="690"/>
                      </a:lnTo>
                      <a:lnTo>
                        <a:pt x="112" y="758"/>
                      </a:lnTo>
                      <a:lnTo>
                        <a:pt x="129" y="821"/>
                      </a:lnTo>
                      <a:lnTo>
                        <a:pt x="144" y="874"/>
                      </a:lnTo>
                      <a:lnTo>
                        <a:pt x="160" y="916"/>
                      </a:lnTo>
                      <a:lnTo>
                        <a:pt x="173" y="947"/>
                      </a:lnTo>
                      <a:lnTo>
                        <a:pt x="188" y="960"/>
                      </a:lnTo>
                      <a:lnTo>
                        <a:pt x="563" y="582"/>
                      </a:lnTo>
                      <a:lnTo>
                        <a:pt x="559" y="576"/>
                      </a:lnTo>
                      <a:lnTo>
                        <a:pt x="553" y="561"/>
                      </a:lnTo>
                      <a:lnTo>
                        <a:pt x="545" y="538"/>
                      </a:lnTo>
                      <a:lnTo>
                        <a:pt x="534" y="507"/>
                      </a:lnTo>
                      <a:lnTo>
                        <a:pt x="521" y="469"/>
                      </a:lnTo>
                      <a:lnTo>
                        <a:pt x="506" y="429"/>
                      </a:lnTo>
                      <a:lnTo>
                        <a:pt x="488" y="384"/>
                      </a:lnTo>
                      <a:lnTo>
                        <a:pt x="471" y="338"/>
                      </a:lnTo>
                      <a:lnTo>
                        <a:pt x="452" y="291"/>
                      </a:lnTo>
                      <a:lnTo>
                        <a:pt x="437" y="243"/>
                      </a:lnTo>
                      <a:lnTo>
                        <a:pt x="420" y="196"/>
                      </a:lnTo>
                      <a:lnTo>
                        <a:pt x="407" y="152"/>
                      </a:lnTo>
                      <a:lnTo>
                        <a:pt x="392" y="110"/>
                      </a:lnTo>
                      <a:lnTo>
                        <a:pt x="382" y="74"/>
                      </a:lnTo>
                      <a:lnTo>
                        <a:pt x="373" y="45"/>
                      </a:lnTo>
                      <a:lnTo>
                        <a:pt x="371" y="25"/>
                      </a:lnTo>
                      <a:lnTo>
                        <a:pt x="363" y="9"/>
                      </a:lnTo>
                      <a:lnTo>
                        <a:pt x="350" y="2"/>
                      </a:lnTo>
                      <a:lnTo>
                        <a:pt x="329" y="0"/>
                      </a:lnTo>
                      <a:lnTo>
                        <a:pt x="306" y="2"/>
                      </a:lnTo>
                      <a:lnTo>
                        <a:pt x="276" y="9"/>
                      </a:lnTo>
                      <a:lnTo>
                        <a:pt x="245" y="21"/>
                      </a:lnTo>
                      <a:lnTo>
                        <a:pt x="211" y="32"/>
                      </a:lnTo>
                      <a:lnTo>
                        <a:pt x="179" y="49"/>
                      </a:lnTo>
                      <a:lnTo>
                        <a:pt x="144" y="64"/>
                      </a:lnTo>
                      <a:lnTo>
                        <a:pt x="110" y="82"/>
                      </a:lnTo>
                      <a:lnTo>
                        <a:pt x="80" y="99"/>
                      </a:lnTo>
                      <a:lnTo>
                        <a:pt x="53" y="114"/>
                      </a:lnTo>
                      <a:lnTo>
                        <a:pt x="30" y="125"/>
                      </a:lnTo>
                      <a:lnTo>
                        <a:pt x="13" y="137"/>
                      </a:lnTo>
                      <a:lnTo>
                        <a:pt x="2" y="144"/>
                      </a:lnTo>
                      <a:lnTo>
                        <a:pt x="0" y="146"/>
                      </a:lnTo>
                      <a:lnTo>
                        <a:pt x="0" y="1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6284520" y="5382000"/>
                  <a:ext cx="237600" cy="337320"/>
                </a:xfrm>
                <a:custGeom>
                  <a:avLst/>
                  <a:gdLst/>
                  <a:ahLst/>
                  <a:rect l="l" t="t" r="r" b="b"/>
                  <a:pathLst>
                    <a:path w="386" h="724">
                      <a:moveTo>
                        <a:pt x="0" y="120"/>
                      </a:moveTo>
                      <a:lnTo>
                        <a:pt x="2" y="118"/>
                      </a:lnTo>
                      <a:lnTo>
                        <a:pt x="8" y="112"/>
                      </a:lnTo>
                      <a:lnTo>
                        <a:pt x="18" y="105"/>
                      </a:lnTo>
                      <a:lnTo>
                        <a:pt x="31" y="97"/>
                      </a:lnTo>
                      <a:lnTo>
                        <a:pt x="46" y="84"/>
                      </a:lnTo>
                      <a:lnTo>
                        <a:pt x="63" y="72"/>
                      </a:lnTo>
                      <a:lnTo>
                        <a:pt x="82" y="59"/>
                      </a:lnTo>
                      <a:lnTo>
                        <a:pt x="103" y="48"/>
                      </a:lnTo>
                      <a:lnTo>
                        <a:pt x="122" y="34"/>
                      </a:lnTo>
                      <a:lnTo>
                        <a:pt x="141" y="23"/>
                      </a:lnTo>
                      <a:lnTo>
                        <a:pt x="160" y="14"/>
                      </a:lnTo>
                      <a:lnTo>
                        <a:pt x="179" y="6"/>
                      </a:lnTo>
                      <a:lnTo>
                        <a:pt x="194" y="0"/>
                      </a:lnTo>
                      <a:lnTo>
                        <a:pt x="208" y="0"/>
                      </a:lnTo>
                      <a:lnTo>
                        <a:pt x="217" y="2"/>
                      </a:lnTo>
                      <a:lnTo>
                        <a:pt x="227" y="10"/>
                      </a:lnTo>
                      <a:lnTo>
                        <a:pt x="232" y="21"/>
                      </a:lnTo>
                      <a:lnTo>
                        <a:pt x="240" y="40"/>
                      </a:lnTo>
                      <a:lnTo>
                        <a:pt x="248" y="63"/>
                      </a:lnTo>
                      <a:lnTo>
                        <a:pt x="261" y="93"/>
                      </a:lnTo>
                      <a:lnTo>
                        <a:pt x="270" y="126"/>
                      </a:lnTo>
                      <a:lnTo>
                        <a:pt x="284" y="162"/>
                      </a:lnTo>
                      <a:lnTo>
                        <a:pt x="297" y="198"/>
                      </a:lnTo>
                      <a:lnTo>
                        <a:pt x="310" y="238"/>
                      </a:lnTo>
                      <a:lnTo>
                        <a:pt x="322" y="276"/>
                      </a:lnTo>
                      <a:lnTo>
                        <a:pt x="335" y="312"/>
                      </a:lnTo>
                      <a:lnTo>
                        <a:pt x="346" y="346"/>
                      </a:lnTo>
                      <a:lnTo>
                        <a:pt x="358" y="378"/>
                      </a:lnTo>
                      <a:lnTo>
                        <a:pt x="367" y="405"/>
                      </a:lnTo>
                      <a:lnTo>
                        <a:pt x="377" y="428"/>
                      </a:lnTo>
                      <a:lnTo>
                        <a:pt x="381" y="445"/>
                      </a:lnTo>
                      <a:lnTo>
                        <a:pt x="386" y="455"/>
                      </a:lnTo>
                      <a:lnTo>
                        <a:pt x="386" y="460"/>
                      </a:lnTo>
                      <a:lnTo>
                        <a:pt x="382" y="474"/>
                      </a:lnTo>
                      <a:lnTo>
                        <a:pt x="373" y="489"/>
                      </a:lnTo>
                      <a:lnTo>
                        <a:pt x="362" y="510"/>
                      </a:lnTo>
                      <a:lnTo>
                        <a:pt x="346" y="531"/>
                      </a:lnTo>
                      <a:lnTo>
                        <a:pt x="329" y="555"/>
                      </a:lnTo>
                      <a:lnTo>
                        <a:pt x="308" y="580"/>
                      </a:lnTo>
                      <a:lnTo>
                        <a:pt x="291" y="607"/>
                      </a:lnTo>
                      <a:lnTo>
                        <a:pt x="268" y="629"/>
                      </a:lnTo>
                      <a:lnTo>
                        <a:pt x="248" y="654"/>
                      </a:lnTo>
                      <a:lnTo>
                        <a:pt x="225" y="675"/>
                      </a:lnTo>
                      <a:lnTo>
                        <a:pt x="206" y="694"/>
                      </a:lnTo>
                      <a:lnTo>
                        <a:pt x="185" y="709"/>
                      </a:lnTo>
                      <a:lnTo>
                        <a:pt x="170" y="721"/>
                      </a:lnTo>
                      <a:lnTo>
                        <a:pt x="154" y="724"/>
                      </a:lnTo>
                      <a:lnTo>
                        <a:pt x="145" y="724"/>
                      </a:lnTo>
                      <a:lnTo>
                        <a:pt x="134" y="715"/>
                      </a:lnTo>
                      <a:lnTo>
                        <a:pt x="124" y="692"/>
                      </a:lnTo>
                      <a:lnTo>
                        <a:pt x="111" y="660"/>
                      </a:lnTo>
                      <a:lnTo>
                        <a:pt x="101" y="622"/>
                      </a:lnTo>
                      <a:lnTo>
                        <a:pt x="88" y="574"/>
                      </a:lnTo>
                      <a:lnTo>
                        <a:pt x="77" y="525"/>
                      </a:lnTo>
                      <a:lnTo>
                        <a:pt x="65" y="470"/>
                      </a:lnTo>
                      <a:lnTo>
                        <a:pt x="54" y="415"/>
                      </a:lnTo>
                      <a:lnTo>
                        <a:pt x="42" y="359"/>
                      </a:lnTo>
                      <a:lnTo>
                        <a:pt x="31" y="306"/>
                      </a:lnTo>
                      <a:lnTo>
                        <a:pt x="21" y="255"/>
                      </a:lnTo>
                      <a:lnTo>
                        <a:pt x="16" y="211"/>
                      </a:lnTo>
                      <a:lnTo>
                        <a:pt x="8" y="173"/>
                      </a:lnTo>
                      <a:lnTo>
                        <a:pt x="4" y="145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bf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69160" y="5408280"/>
                  <a:ext cx="378000" cy="404640"/>
                </a:xfrm>
                <a:custGeom>
                  <a:avLst/>
                  <a:gdLst/>
                  <a:ahLst/>
                  <a:rect l="l" t="t" r="r" b="b"/>
                  <a:pathLst>
                    <a:path w="614" h="869">
                      <a:moveTo>
                        <a:pt x="426" y="0"/>
                      </a:moveTo>
                      <a:lnTo>
                        <a:pt x="420" y="4"/>
                      </a:lnTo>
                      <a:lnTo>
                        <a:pt x="407" y="14"/>
                      </a:lnTo>
                      <a:lnTo>
                        <a:pt x="384" y="29"/>
                      </a:lnTo>
                      <a:lnTo>
                        <a:pt x="358" y="52"/>
                      </a:lnTo>
                      <a:lnTo>
                        <a:pt x="325" y="76"/>
                      </a:lnTo>
                      <a:lnTo>
                        <a:pt x="291" y="105"/>
                      </a:lnTo>
                      <a:lnTo>
                        <a:pt x="251" y="135"/>
                      </a:lnTo>
                      <a:lnTo>
                        <a:pt x="213" y="169"/>
                      </a:lnTo>
                      <a:lnTo>
                        <a:pt x="173" y="202"/>
                      </a:lnTo>
                      <a:lnTo>
                        <a:pt x="133" y="236"/>
                      </a:lnTo>
                      <a:lnTo>
                        <a:pt x="97" y="268"/>
                      </a:lnTo>
                      <a:lnTo>
                        <a:pt x="67" y="301"/>
                      </a:lnTo>
                      <a:lnTo>
                        <a:pt x="38" y="327"/>
                      </a:lnTo>
                      <a:lnTo>
                        <a:pt x="17" y="352"/>
                      </a:lnTo>
                      <a:lnTo>
                        <a:pt x="6" y="373"/>
                      </a:lnTo>
                      <a:lnTo>
                        <a:pt x="0" y="388"/>
                      </a:lnTo>
                      <a:lnTo>
                        <a:pt x="0" y="403"/>
                      </a:lnTo>
                      <a:lnTo>
                        <a:pt x="6" y="426"/>
                      </a:lnTo>
                      <a:lnTo>
                        <a:pt x="12" y="453"/>
                      </a:lnTo>
                      <a:lnTo>
                        <a:pt x="21" y="487"/>
                      </a:lnTo>
                      <a:lnTo>
                        <a:pt x="31" y="521"/>
                      </a:lnTo>
                      <a:lnTo>
                        <a:pt x="42" y="559"/>
                      </a:lnTo>
                      <a:lnTo>
                        <a:pt x="55" y="599"/>
                      </a:lnTo>
                      <a:lnTo>
                        <a:pt x="71" y="641"/>
                      </a:lnTo>
                      <a:lnTo>
                        <a:pt x="84" y="679"/>
                      </a:lnTo>
                      <a:lnTo>
                        <a:pt x="99" y="719"/>
                      </a:lnTo>
                      <a:lnTo>
                        <a:pt x="112" y="755"/>
                      </a:lnTo>
                      <a:lnTo>
                        <a:pt x="128" y="787"/>
                      </a:lnTo>
                      <a:lnTo>
                        <a:pt x="139" y="816"/>
                      </a:lnTo>
                      <a:lnTo>
                        <a:pt x="152" y="839"/>
                      </a:lnTo>
                      <a:lnTo>
                        <a:pt x="164" y="854"/>
                      </a:lnTo>
                      <a:lnTo>
                        <a:pt x="173" y="865"/>
                      </a:lnTo>
                      <a:lnTo>
                        <a:pt x="185" y="867"/>
                      </a:lnTo>
                      <a:lnTo>
                        <a:pt x="204" y="869"/>
                      </a:lnTo>
                      <a:lnTo>
                        <a:pt x="228" y="869"/>
                      </a:lnTo>
                      <a:lnTo>
                        <a:pt x="259" y="867"/>
                      </a:lnTo>
                      <a:lnTo>
                        <a:pt x="293" y="863"/>
                      </a:lnTo>
                      <a:lnTo>
                        <a:pt x="331" y="859"/>
                      </a:lnTo>
                      <a:lnTo>
                        <a:pt x="369" y="854"/>
                      </a:lnTo>
                      <a:lnTo>
                        <a:pt x="409" y="850"/>
                      </a:lnTo>
                      <a:lnTo>
                        <a:pt x="447" y="842"/>
                      </a:lnTo>
                      <a:lnTo>
                        <a:pt x="485" y="837"/>
                      </a:lnTo>
                      <a:lnTo>
                        <a:pt x="519" y="829"/>
                      </a:lnTo>
                      <a:lnTo>
                        <a:pt x="550" y="825"/>
                      </a:lnTo>
                      <a:lnTo>
                        <a:pt x="574" y="820"/>
                      </a:lnTo>
                      <a:lnTo>
                        <a:pt x="595" y="816"/>
                      </a:lnTo>
                      <a:lnTo>
                        <a:pt x="609" y="814"/>
                      </a:lnTo>
                      <a:lnTo>
                        <a:pt x="614" y="814"/>
                      </a:lnTo>
                      <a:lnTo>
                        <a:pt x="426" y="0"/>
                      </a:lnTo>
                      <a:lnTo>
                        <a:pt x="426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6579000" y="5853960"/>
                  <a:ext cx="189360" cy="85680"/>
                </a:xfrm>
                <a:custGeom>
                  <a:avLst/>
                  <a:gdLst/>
                  <a:ahLst/>
                  <a:rect l="l" t="t" r="r" b="b"/>
                  <a:pathLst>
                    <a:path w="307" h="185">
                      <a:moveTo>
                        <a:pt x="1" y="40"/>
                      </a:move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0" y="50"/>
                      </a:lnTo>
                      <a:lnTo>
                        <a:pt x="1" y="59"/>
                      </a:lnTo>
                      <a:lnTo>
                        <a:pt x="1" y="69"/>
                      </a:lnTo>
                      <a:lnTo>
                        <a:pt x="1" y="80"/>
                      </a:lnTo>
                      <a:lnTo>
                        <a:pt x="3" y="92"/>
                      </a:lnTo>
                      <a:lnTo>
                        <a:pt x="7" y="105"/>
                      </a:lnTo>
                      <a:lnTo>
                        <a:pt x="11" y="118"/>
                      </a:lnTo>
                      <a:lnTo>
                        <a:pt x="15" y="132"/>
                      </a:lnTo>
                      <a:lnTo>
                        <a:pt x="20" y="143"/>
                      </a:lnTo>
                      <a:lnTo>
                        <a:pt x="28" y="154"/>
                      </a:lnTo>
                      <a:lnTo>
                        <a:pt x="36" y="164"/>
                      </a:lnTo>
                      <a:lnTo>
                        <a:pt x="45" y="171"/>
                      </a:lnTo>
                      <a:lnTo>
                        <a:pt x="55" y="179"/>
                      </a:lnTo>
                      <a:lnTo>
                        <a:pt x="70" y="185"/>
                      </a:lnTo>
                      <a:lnTo>
                        <a:pt x="83" y="185"/>
                      </a:lnTo>
                      <a:lnTo>
                        <a:pt x="102" y="185"/>
                      </a:lnTo>
                      <a:lnTo>
                        <a:pt x="121" y="181"/>
                      </a:lnTo>
                      <a:lnTo>
                        <a:pt x="144" y="177"/>
                      </a:lnTo>
                      <a:lnTo>
                        <a:pt x="165" y="170"/>
                      </a:lnTo>
                      <a:lnTo>
                        <a:pt x="188" y="162"/>
                      </a:lnTo>
                      <a:lnTo>
                        <a:pt x="210" y="151"/>
                      </a:lnTo>
                      <a:lnTo>
                        <a:pt x="231" y="141"/>
                      </a:lnTo>
                      <a:lnTo>
                        <a:pt x="250" y="128"/>
                      </a:lnTo>
                      <a:lnTo>
                        <a:pt x="269" y="114"/>
                      </a:lnTo>
                      <a:lnTo>
                        <a:pt x="285" y="101"/>
                      </a:lnTo>
                      <a:lnTo>
                        <a:pt x="296" y="88"/>
                      </a:lnTo>
                      <a:lnTo>
                        <a:pt x="304" y="73"/>
                      </a:lnTo>
                      <a:lnTo>
                        <a:pt x="307" y="59"/>
                      </a:lnTo>
                      <a:lnTo>
                        <a:pt x="305" y="44"/>
                      </a:lnTo>
                      <a:lnTo>
                        <a:pt x="300" y="31"/>
                      </a:lnTo>
                      <a:lnTo>
                        <a:pt x="286" y="18"/>
                      </a:lnTo>
                      <a:lnTo>
                        <a:pt x="269" y="10"/>
                      </a:lnTo>
                      <a:lnTo>
                        <a:pt x="250" y="4"/>
                      </a:lnTo>
                      <a:lnTo>
                        <a:pt x="228" y="2"/>
                      </a:lnTo>
                      <a:lnTo>
                        <a:pt x="203" y="0"/>
                      </a:lnTo>
                      <a:lnTo>
                        <a:pt x="180" y="2"/>
                      </a:lnTo>
                      <a:lnTo>
                        <a:pt x="153" y="4"/>
                      </a:lnTo>
                      <a:lnTo>
                        <a:pt x="129" y="8"/>
                      </a:lnTo>
                      <a:lnTo>
                        <a:pt x="102" y="12"/>
                      </a:lnTo>
                      <a:lnTo>
                        <a:pt x="79" y="18"/>
                      </a:lnTo>
                      <a:lnTo>
                        <a:pt x="58" y="23"/>
                      </a:lnTo>
                      <a:lnTo>
                        <a:pt x="39" y="27"/>
                      </a:lnTo>
                      <a:lnTo>
                        <a:pt x="22" y="31"/>
                      </a:lnTo>
                      <a:lnTo>
                        <a:pt x="11" y="35"/>
                      </a:lnTo>
                      <a:lnTo>
                        <a:pt x="3" y="38"/>
                      </a:lnTo>
                      <a:lnTo>
                        <a:pt x="1" y="40"/>
                      </a:lnTo>
                      <a:lnTo>
                        <a:pt x="1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86800" y="5743080"/>
                  <a:ext cx="646200" cy="197640"/>
                </a:xfrm>
                <a:custGeom>
                  <a:avLst/>
                  <a:gdLst/>
                  <a:ahLst/>
                  <a:rect l="l" t="t" r="r" b="b"/>
                  <a:pathLst>
                    <a:path w="1051" h="424">
                      <a:moveTo>
                        <a:pt x="64" y="0"/>
                      </a:moveTo>
                      <a:lnTo>
                        <a:pt x="80" y="19"/>
                      </a:lnTo>
                      <a:lnTo>
                        <a:pt x="89" y="40"/>
                      </a:lnTo>
                      <a:lnTo>
                        <a:pt x="95" y="61"/>
                      </a:lnTo>
                      <a:lnTo>
                        <a:pt x="97" y="83"/>
                      </a:lnTo>
                      <a:lnTo>
                        <a:pt x="95" y="104"/>
                      </a:lnTo>
                      <a:lnTo>
                        <a:pt x="91" y="125"/>
                      </a:lnTo>
                      <a:lnTo>
                        <a:pt x="83" y="148"/>
                      </a:lnTo>
                      <a:lnTo>
                        <a:pt x="78" y="171"/>
                      </a:lnTo>
                      <a:lnTo>
                        <a:pt x="66" y="192"/>
                      </a:lnTo>
                      <a:lnTo>
                        <a:pt x="59" y="215"/>
                      </a:lnTo>
                      <a:lnTo>
                        <a:pt x="49" y="235"/>
                      </a:lnTo>
                      <a:lnTo>
                        <a:pt x="44" y="260"/>
                      </a:lnTo>
                      <a:lnTo>
                        <a:pt x="38" y="283"/>
                      </a:lnTo>
                      <a:lnTo>
                        <a:pt x="36" y="306"/>
                      </a:lnTo>
                      <a:lnTo>
                        <a:pt x="40" y="329"/>
                      </a:lnTo>
                      <a:lnTo>
                        <a:pt x="47" y="351"/>
                      </a:lnTo>
                      <a:lnTo>
                        <a:pt x="66" y="363"/>
                      </a:lnTo>
                      <a:lnTo>
                        <a:pt x="85" y="370"/>
                      </a:lnTo>
                      <a:lnTo>
                        <a:pt x="104" y="376"/>
                      </a:lnTo>
                      <a:lnTo>
                        <a:pt x="125" y="380"/>
                      </a:lnTo>
                      <a:lnTo>
                        <a:pt x="146" y="380"/>
                      </a:lnTo>
                      <a:lnTo>
                        <a:pt x="167" y="378"/>
                      </a:lnTo>
                      <a:lnTo>
                        <a:pt x="188" y="374"/>
                      </a:lnTo>
                      <a:lnTo>
                        <a:pt x="209" y="370"/>
                      </a:lnTo>
                      <a:lnTo>
                        <a:pt x="228" y="365"/>
                      </a:lnTo>
                      <a:lnTo>
                        <a:pt x="251" y="357"/>
                      </a:lnTo>
                      <a:lnTo>
                        <a:pt x="272" y="351"/>
                      </a:lnTo>
                      <a:lnTo>
                        <a:pt x="293" y="346"/>
                      </a:lnTo>
                      <a:lnTo>
                        <a:pt x="313" y="340"/>
                      </a:lnTo>
                      <a:lnTo>
                        <a:pt x="336" y="334"/>
                      </a:lnTo>
                      <a:lnTo>
                        <a:pt x="357" y="332"/>
                      </a:lnTo>
                      <a:lnTo>
                        <a:pt x="380" y="332"/>
                      </a:lnTo>
                      <a:lnTo>
                        <a:pt x="403" y="325"/>
                      </a:lnTo>
                      <a:lnTo>
                        <a:pt x="426" y="319"/>
                      </a:lnTo>
                      <a:lnTo>
                        <a:pt x="445" y="312"/>
                      </a:lnTo>
                      <a:lnTo>
                        <a:pt x="465" y="304"/>
                      </a:lnTo>
                      <a:lnTo>
                        <a:pt x="486" y="296"/>
                      </a:lnTo>
                      <a:lnTo>
                        <a:pt x="505" y="289"/>
                      </a:lnTo>
                      <a:lnTo>
                        <a:pt x="526" y="283"/>
                      </a:lnTo>
                      <a:lnTo>
                        <a:pt x="545" y="277"/>
                      </a:lnTo>
                      <a:lnTo>
                        <a:pt x="566" y="270"/>
                      </a:lnTo>
                      <a:lnTo>
                        <a:pt x="585" y="266"/>
                      </a:lnTo>
                      <a:lnTo>
                        <a:pt x="606" y="262"/>
                      </a:lnTo>
                      <a:lnTo>
                        <a:pt x="629" y="260"/>
                      </a:lnTo>
                      <a:lnTo>
                        <a:pt x="650" y="260"/>
                      </a:lnTo>
                      <a:lnTo>
                        <a:pt x="673" y="262"/>
                      </a:lnTo>
                      <a:lnTo>
                        <a:pt x="695" y="266"/>
                      </a:lnTo>
                      <a:lnTo>
                        <a:pt x="722" y="275"/>
                      </a:lnTo>
                      <a:lnTo>
                        <a:pt x="730" y="277"/>
                      </a:lnTo>
                      <a:lnTo>
                        <a:pt x="735" y="283"/>
                      </a:lnTo>
                      <a:lnTo>
                        <a:pt x="739" y="291"/>
                      </a:lnTo>
                      <a:lnTo>
                        <a:pt x="741" y="298"/>
                      </a:lnTo>
                      <a:lnTo>
                        <a:pt x="741" y="306"/>
                      </a:lnTo>
                      <a:lnTo>
                        <a:pt x="741" y="315"/>
                      </a:lnTo>
                      <a:lnTo>
                        <a:pt x="739" y="327"/>
                      </a:lnTo>
                      <a:lnTo>
                        <a:pt x="739" y="336"/>
                      </a:lnTo>
                      <a:lnTo>
                        <a:pt x="737" y="344"/>
                      </a:lnTo>
                      <a:lnTo>
                        <a:pt x="735" y="355"/>
                      </a:lnTo>
                      <a:lnTo>
                        <a:pt x="735" y="363"/>
                      </a:lnTo>
                      <a:lnTo>
                        <a:pt x="737" y="372"/>
                      </a:lnTo>
                      <a:lnTo>
                        <a:pt x="739" y="378"/>
                      </a:lnTo>
                      <a:lnTo>
                        <a:pt x="743" y="386"/>
                      </a:lnTo>
                      <a:lnTo>
                        <a:pt x="751" y="391"/>
                      </a:lnTo>
                      <a:lnTo>
                        <a:pt x="760" y="397"/>
                      </a:lnTo>
                      <a:lnTo>
                        <a:pt x="777" y="393"/>
                      </a:lnTo>
                      <a:lnTo>
                        <a:pt x="792" y="391"/>
                      </a:lnTo>
                      <a:lnTo>
                        <a:pt x="811" y="386"/>
                      </a:lnTo>
                      <a:lnTo>
                        <a:pt x="828" y="384"/>
                      </a:lnTo>
                      <a:lnTo>
                        <a:pt x="846" y="378"/>
                      </a:lnTo>
                      <a:lnTo>
                        <a:pt x="863" y="372"/>
                      </a:lnTo>
                      <a:lnTo>
                        <a:pt x="880" y="369"/>
                      </a:lnTo>
                      <a:lnTo>
                        <a:pt x="899" y="363"/>
                      </a:lnTo>
                      <a:lnTo>
                        <a:pt x="914" y="357"/>
                      </a:lnTo>
                      <a:lnTo>
                        <a:pt x="933" y="351"/>
                      </a:lnTo>
                      <a:lnTo>
                        <a:pt x="950" y="344"/>
                      </a:lnTo>
                      <a:lnTo>
                        <a:pt x="967" y="340"/>
                      </a:lnTo>
                      <a:lnTo>
                        <a:pt x="982" y="332"/>
                      </a:lnTo>
                      <a:lnTo>
                        <a:pt x="1000" y="329"/>
                      </a:lnTo>
                      <a:lnTo>
                        <a:pt x="1015" y="323"/>
                      </a:lnTo>
                      <a:lnTo>
                        <a:pt x="1032" y="319"/>
                      </a:lnTo>
                      <a:lnTo>
                        <a:pt x="1034" y="323"/>
                      </a:lnTo>
                      <a:lnTo>
                        <a:pt x="1039" y="329"/>
                      </a:lnTo>
                      <a:lnTo>
                        <a:pt x="1045" y="334"/>
                      </a:lnTo>
                      <a:lnTo>
                        <a:pt x="1051" y="342"/>
                      </a:lnTo>
                      <a:lnTo>
                        <a:pt x="1032" y="350"/>
                      </a:lnTo>
                      <a:lnTo>
                        <a:pt x="1015" y="355"/>
                      </a:lnTo>
                      <a:lnTo>
                        <a:pt x="998" y="363"/>
                      </a:lnTo>
                      <a:lnTo>
                        <a:pt x="979" y="370"/>
                      </a:lnTo>
                      <a:lnTo>
                        <a:pt x="962" y="374"/>
                      </a:lnTo>
                      <a:lnTo>
                        <a:pt x="942" y="380"/>
                      </a:lnTo>
                      <a:lnTo>
                        <a:pt x="925" y="386"/>
                      </a:lnTo>
                      <a:lnTo>
                        <a:pt x="908" y="391"/>
                      </a:lnTo>
                      <a:lnTo>
                        <a:pt x="889" y="395"/>
                      </a:lnTo>
                      <a:lnTo>
                        <a:pt x="872" y="399"/>
                      </a:lnTo>
                      <a:lnTo>
                        <a:pt x="853" y="405"/>
                      </a:lnTo>
                      <a:lnTo>
                        <a:pt x="838" y="408"/>
                      </a:lnTo>
                      <a:lnTo>
                        <a:pt x="819" y="412"/>
                      </a:lnTo>
                      <a:lnTo>
                        <a:pt x="802" y="416"/>
                      </a:lnTo>
                      <a:lnTo>
                        <a:pt x="783" y="420"/>
                      </a:lnTo>
                      <a:lnTo>
                        <a:pt x="768" y="424"/>
                      </a:lnTo>
                      <a:lnTo>
                        <a:pt x="751" y="422"/>
                      </a:lnTo>
                      <a:lnTo>
                        <a:pt x="739" y="418"/>
                      </a:lnTo>
                      <a:lnTo>
                        <a:pt x="732" y="408"/>
                      </a:lnTo>
                      <a:lnTo>
                        <a:pt x="726" y="399"/>
                      </a:lnTo>
                      <a:lnTo>
                        <a:pt x="722" y="388"/>
                      </a:lnTo>
                      <a:lnTo>
                        <a:pt x="720" y="376"/>
                      </a:lnTo>
                      <a:lnTo>
                        <a:pt x="720" y="363"/>
                      </a:lnTo>
                      <a:lnTo>
                        <a:pt x="720" y="351"/>
                      </a:lnTo>
                      <a:lnTo>
                        <a:pt x="718" y="338"/>
                      </a:lnTo>
                      <a:lnTo>
                        <a:pt x="718" y="327"/>
                      </a:lnTo>
                      <a:lnTo>
                        <a:pt x="714" y="315"/>
                      </a:lnTo>
                      <a:lnTo>
                        <a:pt x="711" y="308"/>
                      </a:lnTo>
                      <a:lnTo>
                        <a:pt x="705" y="302"/>
                      </a:lnTo>
                      <a:lnTo>
                        <a:pt x="695" y="298"/>
                      </a:lnTo>
                      <a:lnTo>
                        <a:pt x="680" y="298"/>
                      </a:lnTo>
                      <a:lnTo>
                        <a:pt x="665" y="302"/>
                      </a:lnTo>
                      <a:lnTo>
                        <a:pt x="637" y="302"/>
                      </a:lnTo>
                      <a:lnTo>
                        <a:pt x="614" y="304"/>
                      </a:lnTo>
                      <a:lnTo>
                        <a:pt x="589" y="306"/>
                      </a:lnTo>
                      <a:lnTo>
                        <a:pt x="566" y="312"/>
                      </a:lnTo>
                      <a:lnTo>
                        <a:pt x="543" y="315"/>
                      </a:lnTo>
                      <a:lnTo>
                        <a:pt x="522" y="323"/>
                      </a:lnTo>
                      <a:lnTo>
                        <a:pt x="502" y="329"/>
                      </a:lnTo>
                      <a:lnTo>
                        <a:pt x="481" y="336"/>
                      </a:lnTo>
                      <a:lnTo>
                        <a:pt x="460" y="342"/>
                      </a:lnTo>
                      <a:lnTo>
                        <a:pt x="439" y="348"/>
                      </a:lnTo>
                      <a:lnTo>
                        <a:pt x="416" y="351"/>
                      </a:lnTo>
                      <a:lnTo>
                        <a:pt x="397" y="359"/>
                      </a:lnTo>
                      <a:lnTo>
                        <a:pt x="372" y="363"/>
                      </a:lnTo>
                      <a:lnTo>
                        <a:pt x="350" y="367"/>
                      </a:lnTo>
                      <a:lnTo>
                        <a:pt x="325" y="369"/>
                      </a:lnTo>
                      <a:lnTo>
                        <a:pt x="300" y="370"/>
                      </a:lnTo>
                      <a:lnTo>
                        <a:pt x="281" y="372"/>
                      </a:lnTo>
                      <a:lnTo>
                        <a:pt x="262" y="378"/>
                      </a:lnTo>
                      <a:lnTo>
                        <a:pt x="241" y="386"/>
                      </a:lnTo>
                      <a:lnTo>
                        <a:pt x="222" y="391"/>
                      </a:lnTo>
                      <a:lnTo>
                        <a:pt x="201" y="397"/>
                      </a:lnTo>
                      <a:lnTo>
                        <a:pt x="180" y="405"/>
                      </a:lnTo>
                      <a:lnTo>
                        <a:pt x="158" y="408"/>
                      </a:lnTo>
                      <a:lnTo>
                        <a:pt x="139" y="414"/>
                      </a:lnTo>
                      <a:lnTo>
                        <a:pt x="118" y="418"/>
                      </a:lnTo>
                      <a:lnTo>
                        <a:pt x="97" y="418"/>
                      </a:lnTo>
                      <a:lnTo>
                        <a:pt x="78" y="416"/>
                      </a:lnTo>
                      <a:lnTo>
                        <a:pt x="61" y="412"/>
                      </a:lnTo>
                      <a:lnTo>
                        <a:pt x="45" y="405"/>
                      </a:lnTo>
                      <a:lnTo>
                        <a:pt x="30" y="395"/>
                      </a:lnTo>
                      <a:lnTo>
                        <a:pt x="19" y="380"/>
                      </a:lnTo>
                      <a:lnTo>
                        <a:pt x="9" y="363"/>
                      </a:lnTo>
                      <a:lnTo>
                        <a:pt x="4" y="342"/>
                      </a:lnTo>
                      <a:lnTo>
                        <a:pt x="0" y="321"/>
                      </a:lnTo>
                      <a:lnTo>
                        <a:pt x="0" y="300"/>
                      </a:lnTo>
                      <a:lnTo>
                        <a:pt x="0" y="283"/>
                      </a:lnTo>
                      <a:lnTo>
                        <a:pt x="2" y="262"/>
                      </a:lnTo>
                      <a:lnTo>
                        <a:pt x="4" y="243"/>
                      </a:lnTo>
                      <a:lnTo>
                        <a:pt x="7" y="226"/>
                      </a:lnTo>
                      <a:lnTo>
                        <a:pt x="15" y="207"/>
                      </a:lnTo>
                      <a:lnTo>
                        <a:pt x="19" y="188"/>
                      </a:lnTo>
                      <a:lnTo>
                        <a:pt x="25" y="171"/>
                      </a:lnTo>
                      <a:lnTo>
                        <a:pt x="32" y="152"/>
                      </a:lnTo>
                      <a:lnTo>
                        <a:pt x="38" y="135"/>
                      </a:lnTo>
                      <a:lnTo>
                        <a:pt x="44" y="118"/>
                      </a:lnTo>
                      <a:lnTo>
                        <a:pt x="49" y="99"/>
                      </a:lnTo>
                      <a:lnTo>
                        <a:pt x="53" y="82"/>
                      </a:lnTo>
                      <a:lnTo>
                        <a:pt x="59" y="66"/>
                      </a:lnTo>
                      <a:lnTo>
                        <a:pt x="57" y="57"/>
                      </a:lnTo>
                      <a:lnTo>
                        <a:pt x="57" y="49"/>
                      </a:lnTo>
                      <a:lnTo>
                        <a:pt x="57" y="40"/>
                      </a:lnTo>
                      <a:lnTo>
                        <a:pt x="59" y="28"/>
                      </a:lnTo>
                      <a:lnTo>
                        <a:pt x="59" y="19"/>
                      </a:lnTo>
                      <a:lnTo>
                        <a:pt x="61" y="11"/>
                      </a:lnTo>
                      <a:lnTo>
                        <a:pt x="61" y="4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618240" y="5862600"/>
                  <a:ext cx="60120" cy="71640"/>
                </a:xfrm>
                <a:custGeom>
                  <a:avLst/>
                  <a:gdLst/>
                  <a:ahLst/>
                  <a:rect l="l" t="t" r="r" b="b"/>
                  <a:pathLst>
                    <a:path w="99" h="153">
                      <a:moveTo>
                        <a:pt x="12" y="0"/>
                      </a:moveTo>
                      <a:lnTo>
                        <a:pt x="13" y="5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7" y="30"/>
                      </a:lnTo>
                      <a:lnTo>
                        <a:pt x="17" y="38"/>
                      </a:lnTo>
                      <a:lnTo>
                        <a:pt x="17" y="45"/>
                      </a:lnTo>
                      <a:lnTo>
                        <a:pt x="19" y="53"/>
                      </a:lnTo>
                      <a:lnTo>
                        <a:pt x="19" y="58"/>
                      </a:lnTo>
                      <a:lnTo>
                        <a:pt x="19" y="66"/>
                      </a:lnTo>
                      <a:lnTo>
                        <a:pt x="19" y="72"/>
                      </a:lnTo>
                      <a:lnTo>
                        <a:pt x="23" y="79"/>
                      </a:lnTo>
                      <a:lnTo>
                        <a:pt x="25" y="85"/>
                      </a:lnTo>
                      <a:lnTo>
                        <a:pt x="31" y="91"/>
                      </a:lnTo>
                      <a:lnTo>
                        <a:pt x="34" y="95"/>
                      </a:lnTo>
                      <a:lnTo>
                        <a:pt x="42" y="100"/>
                      </a:lnTo>
                      <a:lnTo>
                        <a:pt x="48" y="106"/>
                      </a:lnTo>
                      <a:lnTo>
                        <a:pt x="59" y="110"/>
                      </a:lnTo>
                      <a:lnTo>
                        <a:pt x="69" y="115"/>
                      </a:lnTo>
                      <a:lnTo>
                        <a:pt x="80" y="121"/>
                      </a:lnTo>
                      <a:lnTo>
                        <a:pt x="89" y="127"/>
                      </a:lnTo>
                      <a:lnTo>
                        <a:pt x="95" y="134"/>
                      </a:lnTo>
                      <a:lnTo>
                        <a:pt x="99" y="144"/>
                      </a:lnTo>
                      <a:lnTo>
                        <a:pt x="99" y="153"/>
                      </a:lnTo>
                      <a:lnTo>
                        <a:pt x="88" y="152"/>
                      </a:lnTo>
                      <a:lnTo>
                        <a:pt x="76" y="148"/>
                      </a:lnTo>
                      <a:lnTo>
                        <a:pt x="65" y="142"/>
                      </a:lnTo>
                      <a:lnTo>
                        <a:pt x="53" y="136"/>
                      </a:lnTo>
                      <a:lnTo>
                        <a:pt x="44" y="127"/>
                      </a:lnTo>
                      <a:lnTo>
                        <a:pt x="34" y="117"/>
                      </a:lnTo>
                      <a:lnTo>
                        <a:pt x="25" y="108"/>
                      </a:lnTo>
                      <a:lnTo>
                        <a:pt x="19" y="98"/>
                      </a:lnTo>
                      <a:lnTo>
                        <a:pt x="12" y="87"/>
                      </a:lnTo>
                      <a:lnTo>
                        <a:pt x="8" y="74"/>
                      </a:lnTo>
                      <a:lnTo>
                        <a:pt x="2" y="60"/>
                      </a:lnTo>
                      <a:lnTo>
                        <a:pt x="2" y="49"/>
                      </a:lnTo>
                      <a:lnTo>
                        <a:pt x="0" y="36"/>
                      </a:lnTo>
                      <a:lnTo>
                        <a:pt x="2" y="24"/>
                      </a:lnTo>
                      <a:lnTo>
                        <a:pt x="4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6619320" y="562176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25" y="0"/>
                      </a:moveTo>
                      <a:lnTo>
                        <a:pt x="30" y="4"/>
                      </a:lnTo>
                      <a:lnTo>
                        <a:pt x="34" y="12"/>
                      </a:lnTo>
                      <a:lnTo>
                        <a:pt x="34" y="17"/>
                      </a:lnTo>
                      <a:lnTo>
                        <a:pt x="34" y="23"/>
                      </a:lnTo>
                      <a:lnTo>
                        <a:pt x="27" y="31"/>
                      </a:lnTo>
                      <a:lnTo>
                        <a:pt x="21" y="40"/>
                      </a:lnTo>
                      <a:lnTo>
                        <a:pt x="15" y="48"/>
                      </a:lnTo>
                      <a:lnTo>
                        <a:pt x="10" y="55"/>
                      </a:lnTo>
                      <a:lnTo>
                        <a:pt x="2" y="48"/>
                      </a:lnTo>
                      <a:lnTo>
                        <a:pt x="0" y="40"/>
                      </a:lnTo>
                      <a:lnTo>
                        <a:pt x="0" y="33"/>
                      </a:lnTo>
                      <a:lnTo>
                        <a:pt x="4" y="27"/>
                      </a:lnTo>
                      <a:lnTo>
                        <a:pt x="10" y="17"/>
                      </a:lnTo>
                      <a:lnTo>
                        <a:pt x="15" y="12"/>
                      </a:lnTo>
                      <a:lnTo>
                        <a:pt x="21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638040" y="563652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5" y="15"/>
                      </a:lnTo>
                      <a:lnTo>
                        <a:pt x="23" y="22"/>
                      </a:lnTo>
                      <a:lnTo>
                        <a:pt x="21" y="32"/>
                      </a:lnTo>
                      <a:lnTo>
                        <a:pt x="16" y="38"/>
                      </a:lnTo>
                      <a:lnTo>
                        <a:pt x="14" y="41"/>
                      </a:lnTo>
                      <a:lnTo>
                        <a:pt x="6" y="36"/>
                      </a:lnTo>
                      <a:lnTo>
                        <a:pt x="4" y="32"/>
                      </a:lnTo>
                      <a:lnTo>
                        <a:pt x="0" y="26"/>
                      </a:lnTo>
                      <a:lnTo>
                        <a:pt x="4" y="21"/>
                      </a:lnTo>
                      <a:lnTo>
                        <a:pt x="10" y="9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6571440" y="56469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31" y="0"/>
                      </a:moveTo>
                      <a:lnTo>
                        <a:pt x="36" y="5"/>
                      </a:lnTo>
                      <a:lnTo>
                        <a:pt x="38" y="13"/>
                      </a:lnTo>
                      <a:lnTo>
                        <a:pt x="34" y="22"/>
                      </a:lnTo>
                      <a:lnTo>
                        <a:pt x="31" y="30"/>
                      </a:lnTo>
                      <a:lnTo>
                        <a:pt x="25" y="36"/>
                      </a:lnTo>
                      <a:lnTo>
                        <a:pt x="19" y="41"/>
                      </a:lnTo>
                      <a:lnTo>
                        <a:pt x="13" y="49"/>
                      </a:lnTo>
                      <a:lnTo>
                        <a:pt x="13" y="59"/>
                      </a:lnTo>
                      <a:lnTo>
                        <a:pt x="8" y="59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2" y="30"/>
                      </a:lnTo>
                      <a:lnTo>
                        <a:pt x="6" y="22"/>
                      </a:lnTo>
                      <a:lnTo>
                        <a:pt x="10" y="15"/>
                      </a:lnTo>
                      <a:lnTo>
                        <a:pt x="15" y="9"/>
                      </a:lnTo>
                      <a:lnTo>
                        <a:pt x="23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6595920" y="5651640"/>
                  <a:ext cx="25920" cy="30600"/>
                </a:xfrm>
                <a:custGeom>
                  <a:avLst/>
                  <a:gdLst/>
                  <a:ahLst/>
                  <a:rect l="l" t="t" r="r" b="b"/>
                  <a:pathLst>
                    <a:path w="42" h="67">
                      <a:moveTo>
                        <a:pt x="38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8" y="29"/>
                      </a:lnTo>
                      <a:lnTo>
                        <a:pt x="36" y="34"/>
                      </a:lnTo>
                      <a:lnTo>
                        <a:pt x="32" y="40"/>
                      </a:lnTo>
                      <a:lnTo>
                        <a:pt x="30" y="46"/>
                      </a:lnTo>
                      <a:lnTo>
                        <a:pt x="23" y="51"/>
                      </a:lnTo>
                      <a:lnTo>
                        <a:pt x="15" y="59"/>
                      </a:lnTo>
                      <a:lnTo>
                        <a:pt x="10" y="61"/>
                      </a:lnTo>
                      <a:lnTo>
                        <a:pt x="2" y="67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11" y="30"/>
                      </a:lnTo>
                      <a:lnTo>
                        <a:pt x="17" y="23"/>
                      </a:lnTo>
                      <a:lnTo>
                        <a:pt x="25" y="15"/>
                      </a:lnTo>
                      <a:lnTo>
                        <a:pt x="30" y="8"/>
                      </a:lnTo>
                      <a:lnTo>
                        <a:pt x="3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6625440" y="5662800"/>
                  <a:ext cx="22320" cy="27720"/>
                </a:xfrm>
                <a:custGeom>
                  <a:avLst/>
                  <a:gdLst/>
                  <a:ahLst/>
                  <a:rect l="l" t="t" r="r" b="b"/>
                  <a:pathLst>
                    <a:path w="36" h="61">
                      <a:moveTo>
                        <a:pt x="28" y="0"/>
                      </a:moveTo>
                      <a:lnTo>
                        <a:pt x="34" y="7"/>
                      </a:lnTo>
                      <a:lnTo>
                        <a:pt x="36" y="15"/>
                      </a:lnTo>
                      <a:lnTo>
                        <a:pt x="34" y="25"/>
                      </a:lnTo>
                      <a:lnTo>
                        <a:pt x="32" y="32"/>
                      </a:lnTo>
                      <a:lnTo>
                        <a:pt x="26" y="40"/>
                      </a:lnTo>
                      <a:lnTo>
                        <a:pt x="20" y="47"/>
                      </a:lnTo>
                      <a:lnTo>
                        <a:pt x="15" y="53"/>
                      </a:lnTo>
                      <a:lnTo>
                        <a:pt x="11" y="61"/>
                      </a:lnTo>
                      <a:lnTo>
                        <a:pt x="3" y="53"/>
                      </a:lnTo>
                      <a:lnTo>
                        <a:pt x="0" y="45"/>
                      </a:lnTo>
                      <a:lnTo>
                        <a:pt x="1" y="38"/>
                      </a:lnTo>
                      <a:lnTo>
                        <a:pt x="5" y="30"/>
                      </a:lnTo>
                      <a:lnTo>
                        <a:pt x="11" y="21"/>
                      </a:lnTo>
                      <a:lnTo>
                        <a:pt x="17" y="13"/>
                      </a:lnTo>
                      <a:lnTo>
                        <a:pt x="22" y="5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6699600" y="5668200"/>
                  <a:ext cx="19440" cy="1944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27" y="0"/>
                      </a:moveTo>
                      <a:lnTo>
                        <a:pt x="31" y="2"/>
                      </a:lnTo>
                      <a:lnTo>
                        <a:pt x="33" y="10"/>
                      </a:lnTo>
                      <a:lnTo>
                        <a:pt x="33" y="15"/>
                      </a:lnTo>
                      <a:lnTo>
                        <a:pt x="33" y="21"/>
                      </a:lnTo>
                      <a:lnTo>
                        <a:pt x="25" y="29"/>
                      </a:lnTo>
                      <a:lnTo>
                        <a:pt x="19" y="36"/>
                      </a:lnTo>
                      <a:lnTo>
                        <a:pt x="10" y="42"/>
                      </a:lnTo>
                      <a:lnTo>
                        <a:pt x="2" y="44"/>
                      </a:lnTo>
                      <a:lnTo>
                        <a:pt x="0" y="36"/>
                      </a:lnTo>
                      <a:lnTo>
                        <a:pt x="0" y="31"/>
                      </a:lnTo>
                      <a:lnTo>
                        <a:pt x="2" y="23"/>
                      </a:lnTo>
                      <a:lnTo>
                        <a:pt x="6" y="17"/>
                      </a:lnTo>
                      <a:lnTo>
                        <a:pt x="15" y="8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6660360" y="5673960"/>
                  <a:ext cx="16920" cy="14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19" y="0"/>
                      </a:moveTo>
                      <a:lnTo>
                        <a:pt x="22" y="3"/>
                      </a:lnTo>
                      <a:lnTo>
                        <a:pt x="26" y="9"/>
                      </a:lnTo>
                      <a:lnTo>
                        <a:pt x="22" y="17"/>
                      </a:lnTo>
                      <a:lnTo>
                        <a:pt x="20" y="24"/>
                      </a:lnTo>
                      <a:lnTo>
                        <a:pt x="13" y="30"/>
                      </a:lnTo>
                      <a:lnTo>
                        <a:pt x="5" y="32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9"/>
                      </a:lnTo>
                      <a:lnTo>
                        <a:pt x="11" y="5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6544440" y="5678640"/>
                  <a:ext cx="27000" cy="2772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36" y="0"/>
                      </a:moveTo>
                      <a:lnTo>
                        <a:pt x="44" y="10"/>
                      </a:lnTo>
                      <a:lnTo>
                        <a:pt x="44" y="19"/>
                      </a:lnTo>
                      <a:lnTo>
                        <a:pt x="40" y="30"/>
                      </a:lnTo>
                      <a:lnTo>
                        <a:pt x="31" y="42"/>
                      </a:lnTo>
                      <a:lnTo>
                        <a:pt x="21" y="51"/>
                      </a:lnTo>
                      <a:lnTo>
                        <a:pt x="14" y="61"/>
                      </a:lnTo>
                      <a:lnTo>
                        <a:pt x="4" y="5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8" y="30"/>
                      </a:lnTo>
                      <a:lnTo>
                        <a:pt x="16" y="25"/>
                      </a:lnTo>
                      <a:lnTo>
                        <a:pt x="19" y="17"/>
                      </a:lnTo>
                      <a:lnTo>
                        <a:pt x="27" y="13"/>
                      </a:lnTo>
                      <a:lnTo>
                        <a:pt x="33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6750000" y="5678640"/>
                  <a:ext cx="15840" cy="19440"/>
                </a:xfrm>
                <a:custGeom>
                  <a:avLst/>
                  <a:gdLst/>
                  <a:ahLst/>
                  <a:rect l="l" t="t" r="r" b="b"/>
                  <a:pathLst>
                    <a:path w="25" h="42">
                      <a:moveTo>
                        <a:pt x="17" y="0"/>
                      </a:moveTo>
                      <a:lnTo>
                        <a:pt x="23" y="6"/>
                      </a:lnTo>
                      <a:lnTo>
                        <a:pt x="25" y="13"/>
                      </a:lnTo>
                      <a:lnTo>
                        <a:pt x="23" y="19"/>
                      </a:lnTo>
                      <a:lnTo>
                        <a:pt x="21" y="29"/>
                      </a:lnTo>
                      <a:lnTo>
                        <a:pt x="13" y="3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1"/>
                      </a:lnTo>
                      <a:lnTo>
                        <a:pt x="4" y="15"/>
                      </a:lnTo>
                      <a:lnTo>
                        <a:pt x="9" y="1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6566760" y="569088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4">
                      <a:moveTo>
                        <a:pt x="35" y="0"/>
                      </a:moveTo>
                      <a:lnTo>
                        <a:pt x="39" y="7"/>
                      </a:lnTo>
                      <a:lnTo>
                        <a:pt x="40" y="15"/>
                      </a:lnTo>
                      <a:lnTo>
                        <a:pt x="39" y="22"/>
                      </a:lnTo>
                      <a:lnTo>
                        <a:pt x="33" y="32"/>
                      </a:lnTo>
                      <a:lnTo>
                        <a:pt x="25" y="40"/>
                      </a:lnTo>
                      <a:lnTo>
                        <a:pt x="20" y="47"/>
                      </a:lnTo>
                      <a:lnTo>
                        <a:pt x="14" y="55"/>
                      </a:lnTo>
                      <a:lnTo>
                        <a:pt x="12" y="64"/>
                      </a:lnTo>
                      <a:lnTo>
                        <a:pt x="4" y="55"/>
                      </a:lnTo>
                      <a:lnTo>
                        <a:pt x="0" y="47"/>
                      </a:lnTo>
                      <a:lnTo>
                        <a:pt x="0" y="38"/>
                      </a:lnTo>
                      <a:lnTo>
                        <a:pt x="6" y="30"/>
                      </a:lnTo>
                      <a:lnTo>
                        <a:pt x="12" y="21"/>
                      </a:lnTo>
                      <a:lnTo>
                        <a:pt x="20" y="13"/>
                      </a:lnTo>
                      <a:lnTo>
                        <a:pt x="27" y="5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6608160" y="5692680"/>
                  <a:ext cx="2088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7" y="0"/>
                      </a:moveTo>
                      <a:lnTo>
                        <a:pt x="30" y="6"/>
                      </a:lnTo>
                      <a:lnTo>
                        <a:pt x="32" y="14"/>
                      </a:lnTo>
                      <a:lnTo>
                        <a:pt x="30" y="21"/>
                      </a:lnTo>
                      <a:lnTo>
                        <a:pt x="30" y="29"/>
                      </a:lnTo>
                      <a:lnTo>
                        <a:pt x="25" y="40"/>
                      </a:lnTo>
                      <a:lnTo>
                        <a:pt x="19" y="52"/>
                      </a:lnTo>
                      <a:lnTo>
                        <a:pt x="11" y="61"/>
                      </a:lnTo>
                      <a:lnTo>
                        <a:pt x="4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6" y="33"/>
                      </a:lnTo>
                      <a:lnTo>
                        <a:pt x="9" y="23"/>
                      </a:lnTo>
                      <a:lnTo>
                        <a:pt x="15" y="16"/>
                      </a:lnTo>
                      <a:lnTo>
                        <a:pt x="21" y="6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6624360" y="5716080"/>
                  <a:ext cx="12240" cy="1944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3" y="0"/>
                      </a:moveTo>
                      <a:lnTo>
                        <a:pt x="17" y="4"/>
                      </a:lnTo>
                      <a:lnTo>
                        <a:pt x="21" y="11"/>
                      </a:lnTo>
                      <a:lnTo>
                        <a:pt x="21" y="19"/>
                      </a:lnTo>
                      <a:lnTo>
                        <a:pt x="17" y="28"/>
                      </a:lnTo>
                      <a:lnTo>
                        <a:pt x="13" y="34"/>
                      </a:lnTo>
                      <a:lnTo>
                        <a:pt x="9" y="42"/>
                      </a:lnTo>
                      <a:lnTo>
                        <a:pt x="3" y="36"/>
                      </a:lnTo>
                      <a:lnTo>
                        <a:pt x="2" y="30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6503760" y="5719680"/>
                  <a:ext cx="19440" cy="3168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25" y="0"/>
                      </a:moveTo>
                      <a:lnTo>
                        <a:pt x="30" y="6"/>
                      </a:lnTo>
                      <a:lnTo>
                        <a:pt x="32" y="16"/>
                      </a:lnTo>
                      <a:lnTo>
                        <a:pt x="30" y="23"/>
                      </a:lnTo>
                      <a:lnTo>
                        <a:pt x="30" y="33"/>
                      </a:lnTo>
                      <a:lnTo>
                        <a:pt x="23" y="42"/>
                      </a:lnTo>
                      <a:lnTo>
                        <a:pt x="17" y="52"/>
                      </a:lnTo>
                      <a:lnTo>
                        <a:pt x="11" y="61"/>
                      </a:lnTo>
                      <a:lnTo>
                        <a:pt x="6" y="69"/>
                      </a:lnTo>
                      <a:lnTo>
                        <a:pt x="0" y="59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4" y="33"/>
                      </a:lnTo>
                      <a:lnTo>
                        <a:pt x="7" y="23"/>
                      </a:lnTo>
                      <a:lnTo>
                        <a:pt x="13" y="14"/>
                      </a:lnTo>
                      <a:lnTo>
                        <a:pt x="19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6526080" y="572328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46" h="74">
                      <a:moveTo>
                        <a:pt x="42" y="0"/>
                      </a:moveTo>
                      <a:lnTo>
                        <a:pt x="46" y="6"/>
                      </a:lnTo>
                      <a:lnTo>
                        <a:pt x="46" y="11"/>
                      </a:lnTo>
                      <a:lnTo>
                        <a:pt x="46" y="17"/>
                      </a:lnTo>
                      <a:lnTo>
                        <a:pt x="46" y="25"/>
                      </a:lnTo>
                      <a:lnTo>
                        <a:pt x="42" y="30"/>
                      </a:lnTo>
                      <a:lnTo>
                        <a:pt x="38" y="36"/>
                      </a:lnTo>
                      <a:lnTo>
                        <a:pt x="32" y="42"/>
                      </a:lnTo>
                      <a:lnTo>
                        <a:pt x="27" y="49"/>
                      </a:lnTo>
                      <a:lnTo>
                        <a:pt x="21" y="55"/>
                      </a:lnTo>
                      <a:lnTo>
                        <a:pt x="15" y="61"/>
                      </a:lnTo>
                      <a:lnTo>
                        <a:pt x="13" y="68"/>
                      </a:lnTo>
                      <a:lnTo>
                        <a:pt x="9" y="74"/>
                      </a:lnTo>
                      <a:lnTo>
                        <a:pt x="2" y="65"/>
                      </a:lnTo>
                      <a:lnTo>
                        <a:pt x="0" y="55"/>
                      </a:lnTo>
                      <a:lnTo>
                        <a:pt x="2" y="46"/>
                      </a:lnTo>
                      <a:lnTo>
                        <a:pt x="8" y="34"/>
                      </a:lnTo>
                      <a:lnTo>
                        <a:pt x="15" y="25"/>
                      </a:lnTo>
                      <a:lnTo>
                        <a:pt x="27" y="15"/>
                      </a:lnTo>
                      <a:lnTo>
                        <a:pt x="34" y="6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6554160" y="5733000"/>
                  <a:ext cx="22320" cy="29520"/>
                </a:xfrm>
                <a:custGeom>
                  <a:avLst/>
                  <a:gdLst/>
                  <a:ahLst/>
                  <a:rect l="l" t="t" r="r" b="b"/>
                  <a:pathLst>
                    <a:path w="36" h="65">
                      <a:moveTo>
                        <a:pt x="28" y="0"/>
                      </a:moveTo>
                      <a:lnTo>
                        <a:pt x="34" y="8"/>
                      </a:lnTo>
                      <a:lnTo>
                        <a:pt x="36" y="13"/>
                      </a:lnTo>
                      <a:lnTo>
                        <a:pt x="34" y="21"/>
                      </a:lnTo>
                      <a:lnTo>
                        <a:pt x="30" y="28"/>
                      </a:lnTo>
                      <a:lnTo>
                        <a:pt x="24" y="34"/>
                      </a:lnTo>
                      <a:lnTo>
                        <a:pt x="19" y="44"/>
                      </a:lnTo>
                      <a:lnTo>
                        <a:pt x="15" y="51"/>
                      </a:lnTo>
                      <a:lnTo>
                        <a:pt x="13" y="61"/>
                      </a:lnTo>
                      <a:lnTo>
                        <a:pt x="7" y="63"/>
                      </a:lnTo>
                      <a:lnTo>
                        <a:pt x="3" y="65"/>
                      </a:lnTo>
                      <a:lnTo>
                        <a:pt x="0" y="55"/>
                      </a:lnTo>
                      <a:lnTo>
                        <a:pt x="0" y="46"/>
                      </a:lnTo>
                      <a:lnTo>
                        <a:pt x="0" y="36"/>
                      </a:lnTo>
                      <a:lnTo>
                        <a:pt x="3" y="30"/>
                      </a:lnTo>
                      <a:lnTo>
                        <a:pt x="7" y="21"/>
                      </a:lnTo>
                      <a:lnTo>
                        <a:pt x="15" y="13"/>
                      </a:lnTo>
                      <a:lnTo>
                        <a:pt x="20" y="8"/>
                      </a:lnTo>
                      <a:lnTo>
                        <a:pt x="28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6580080" y="5739120"/>
                  <a:ext cx="25920" cy="28800"/>
                </a:xfrm>
                <a:custGeom>
                  <a:avLst/>
                  <a:gdLst/>
                  <a:ahLst/>
                  <a:rect l="l" t="t" r="r" b="b"/>
                  <a:pathLst>
                    <a:path w="42" h="63">
                      <a:moveTo>
                        <a:pt x="35" y="0"/>
                      </a:moveTo>
                      <a:lnTo>
                        <a:pt x="40" y="8"/>
                      </a:lnTo>
                      <a:lnTo>
                        <a:pt x="42" y="17"/>
                      </a:lnTo>
                      <a:lnTo>
                        <a:pt x="38" y="27"/>
                      </a:lnTo>
                      <a:lnTo>
                        <a:pt x="33" y="38"/>
                      </a:lnTo>
                      <a:lnTo>
                        <a:pt x="27" y="44"/>
                      </a:lnTo>
                      <a:lnTo>
                        <a:pt x="21" y="50"/>
                      </a:lnTo>
                      <a:lnTo>
                        <a:pt x="16" y="55"/>
                      </a:lnTo>
                      <a:lnTo>
                        <a:pt x="14" y="63"/>
                      </a:lnTo>
                      <a:lnTo>
                        <a:pt x="6" y="57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0"/>
                      </a:lnTo>
                      <a:lnTo>
                        <a:pt x="8" y="33"/>
                      </a:lnTo>
                      <a:lnTo>
                        <a:pt x="14" y="23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5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615720" y="5744880"/>
                  <a:ext cx="15840" cy="28800"/>
                </a:xfrm>
                <a:custGeom>
                  <a:avLst/>
                  <a:gdLst/>
                  <a:ahLst/>
                  <a:rect l="l" t="t" r="r" b="b"/>
                  <a:pathLst>
                    <a:path w="27" h="60">
                      <a:moveTo>
                        <a:pt x="21" y="0"/>
                      </a:moveTo>
                      <a:lnTo>
                        <a:pt x="23" y="5"/>
                      </a:lnTo>
                      <a:lnTo>
                        <a:pt x="27" y="13"/>
                      </a:lnTo>
                      <a:lnTo>
                        <a:pt x="27" y="22"/>
                      </a:lnTo>
                      <a:lnTo>
                        <a:pt x="25" y="32"/>
                      </a:lnTo>
                      <a:lnTo>
                        <a:pt x="21" y="40"/>
                      </a:lnTo>
                      <a:lnTo>
                        <a:pt x="17" y="49"/>
                      </a:lnTo>
                      <a:lnTo>
                        <a:pt x="12" y="53"/>
                      </a:lnTo>
                      <a:lnTo>
                        <a:pt x="4" y="60"/>
                      </a:lnTo>
                      <a:lnTo>
                        <a:pt x="0" y="51"/>
                      </a:lnTo>
                      <a:lnTo>
                        <a:pt x="0" y="43"/>
                      </a:lnTo>
                      <a:lnTo>
                        <a:pt x="0" y="34"/>
                      </a:lnTo>
                      <a:lnTo>
                        <a:pt x="4" y="26"/>
                      </a:lnTo>
                      <a:lnTo>
                        <a:pt x="8" y="19"/>
                      </a:lnTo>
                      <a:lnTo>
                        <a:pt x="12" y="13"/>
                      </a:lnTo>
                      <a:lnTo>
                        <a:pt x="16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470640" y="5757120"/>
                  <a:ext cx="24480" cy="36360"/>
                </a:xfrm>
                <a:custGeom>
                  <a:avLst/>
                  <a:gdLst/>
                  <a:ahLst/>
                  <a:rect l="l" t="t" r="r" b="b"/>
                  <a:pathLst>
                    <a:path w="40" h="78">
                      <a:moveTo>
                        <a:pt x="36" y="0"/>
                      </a:moveTo>
                      <a:lnTo>
                        <a:pt x="40" y="10"/>
                      </a:lnTo>
                      <a:lnTo>
                        <a:pt x="40" y="19"/>
                      </a:lnTo>
                      <a:lnTo>
                        <a:pt x="38" y="29"/>
                      </a:lnTo>
                      <a:lnTo>
                        <a:pt x="32" y="40"/>
                      </a:lnTo>
                      <a:lnTo>
                        <a:pt x="24" y="48"/>
                      </a:lnTo>
                      <a:lnTo>
                        <a:pt x="19" y="57"/>
                      </a:lnTo>
                      <a:lnTo>
                        <a:pt x="11" y="69"/>
                      </a:lnTo>
                      <a:lnTo>
                        <a:pt x="9" y="78"/>
                      </a:lnTo>
                      <a:lnTo>
                        <a:pt x="2" y="67"/>
                      </a:lnTo>
                      <a:lnTo>
                        <a:pt x="0" y="57"/>
                      </a:lnTo>
                      <a:lnTo>
                        <a:pt x="2" y="46"/>
                      </a:lnTo>
                      <a:lnTo>
                        <a:pt x="5" y="36"/>
                      </a:lnTo>
                      <a:lnTo>
                        <a:pt x="11" y="25"/>
                      </a:lnTo>
                      <a:lnTo>
                        <a:pt x="19" y="17"/>
                      </a:lnTo>
                      <a:lnTo>
                        <a:pt x="26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640560" y="5758920"/>
                  <a:ext cx="18360" cy="2304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25" y="0"/>
                      </a:moveTo>
                      <a:lnTo>
                        <a:pt x="29" y="8"/>
                      </a:lnTo>
                      <a:lnTo>
                        <a:pt x="31" y="13"/>
                      </a:lnTo>
                      <a:lnTo>
                        <a:pt x="29" y="21"/>
                      </a:lnTo>
                      <a:lnTo>
                        <a:pt x="27" y="29"/>
                      </a:lnTo>
                      <a:lnTo>
                        <a:pt x="21" y="34"/>
                      </a:lnTo>
                      <a:lnTo>
                        <a:pt x="17" y="40"/>
                      </a:lnTo>
                      <a:lnTo>
                        <a:pt x="14" y="46"/>
                      </a:lnTo>
                      <a:lnTo>
                        <a:pt x="12" y="51"/>
                      </a:lnTo>
                      <a:lnTo>
                        <a:pt x="4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4" y="25"/>
                      </a:lnTo>
                      <a:lnTo>
                        <a:pt x="8" y="17"/>
                      </a:lnTo>
                      <a:lnTo>
                        <a:pt x="14" y="12"/>
                      </a:lnTo>
                      <a:lnTo>
                        <a:pt x="19" y="4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6673680" y="5758920"/>
                  <a:ext cx="19800" cy="2124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3" y="13"/>
                      </a:lnTo>
                      <a:lnTo>
                        <a:pt x="33" y="21"/>
                      </a:lnTo>
                      <a:lnTo>
                        <a:pt x="29" y="29"/>
                      </a:lnTo>
                      <a:lnTo>
                        <a:pt x="23" y="34"/>
                      </a:lnTo>
                      <a:lnTo>
                        <a:pt x="16" y="40"/>
                      </a:lnTo>
                      <a:lnTo>
                        <a:pt x="10" y="44"/>
                      </a:lnTo>
                      <a:lnTo>
                        <a:pt x="2" y="46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5"/>
                      </a:lnTo>
                      <a:lnTo>
                        <a:pt x="6" y="19"/>
                      </a:lnTo>
                      <a:lnTo>
                        <a:pt x="8" y="13"/>
                      </a:lnTo>
                      <a:lnTo>
                        <a:pt x="14" y="10"/>
                      </a:lnTo>
                      <a:lnTo>
                        <a:pt x="19" y="6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6496200" y="576468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5" h="63">
                      <a:moveTo>
                        <a:pt x="31" y="0"/>
                      </a:moveTo>
                      <a:lnTo>
                        <a:pt x="35" y="6"/>
                      </a:lnTo>
                      <a:lnTo>
                        <a:pt x="35" y="14"/>
                      </a:lnTo>
                      <a:lnTo>
                        <a:pt x="35" y="23"/>
                      </a:lnTo>
                      <a:lnTo>
                        <a:pt x="33" y="31"/>
                      </a:lnTo>
                      <a:lnTo>
                        <a:pt x="25" y="40"/>
                      </a:lnTo>
                      <a:lnTo>
                        <a:pt x="19" y="50"/>
                      </a:lnTo>
                      <a:lnTo>
                        <a:pt x="12" y="57"/>
                      </a:lnTo>
                      <a:lnTo>
                        <a:pt x="4" y="63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2" y="37"/>
                      </a:lnTo>
                      <a:lnTo>
                        <a:pt x="6" y="31"/>
                      </a:lnTo>
                      <a:lnTo>
                        <a:pt x="10" y="21"/>
                      </a:lnTo>
                      <a:lnTo>
                        <a:pt x="18" y="14"/>
                      </a:lnTo>
                      <a:lnTo>
                        <a:pt x="23" y="6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6514560" y="5769360"/>
                  <a:ext cx="24480" cy="30600"/>
                </a:xfrm>
                <a:custGeom>
                  <a:avLst/>
                  <a:gdLst/>
                  <a:ahLst/>
                  <a:rect l="l" t="t" r="r" b="b"/>
                  <a:pathLst>
                    <a:path w="40" h="66">
                      <a:moveTo>
                        <a:pt x="36" y="0"/>
                      </a:moveTo>
                      <a:lnTo>
                        <a:pt x="40" y="11"/>
                      </a:lnTo>
                      <a:lnTo>
                        <a:pt x="40" y="21"/>
                      </a:lnTo>
                      <a:lnTo>
                        <a:pt x="34" y="30"/>
                      </a:lnTo>
                      <a:lnTo>
                        <a:pt x="30" y="40"/>
                      </a:lnTo>
                      <a:lnTo>
                        <a:pt x="25" y="47"/>
                      </a:lnTo>
                      <a:lnTo>
                        <a:pt x="19" y="53"/>
                      </a:lnTo>
                      <a:lnTo>
                        <a:pt x="15" y="59"/>
                      </a:lnTo>
                      <a:lnTo>
                        <a:pt x="11" y="66"/>
                      </a:lnTo>
                      <a:lnTo>
                        <a:pt x="4" y="59"/>
                      </a:lnTo>
                      <a:lnTo>
                        <a:pt x="0" y="49"/>
                      </a:lnTo>
                      <a:lnTo>
                        <a:pt x="2" y="42"/>
                      </a:lnTo>
                      <a:lnTo>
                        <a:pt x="6" y="32"/>
                      </a:lnTo>
                      <a:lnTo>
                        <a:pt x="11" y="23"/>
                      </a:lnTo>
                      <a:lnTo>
                        <a:pt x="19" y="15"/>
                      </a:lnTo>
                      <a:lnTo>
                        <a:pt x="26" y="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6550560" y="5776560"/>
                  <a:ext cx="19800" cy="28800"/>
                </a:xfrm>
                <a:custGeom>
                  <a:avLst/>
                  <a:gdLst/>
                  <a:ahLst/>
                  <a:rect l="l" t="t" r="r" b="b"/>
                  <a:pathLst>
                    <a:path w="32" h="63">
                      <a:moveTo>
                        <a:pt x="26" y="0"/>
                      </a:moveTo>
                      <a:lnTo>
                        <a:pt x="30" y="8"/>
                      </a:lnTo>
                      <a:lnTo>
                        <a:pt x="32" y="15"/>
                      </a:lnTo>
                      <a:lnTo>
                        <a:pt x="30" y="21"/>
                      </a:lnTo>
                      <a:lnTo>
                        <a:pt x="30" y="31"/>
                      </a:lnTo>
                      <a:lnTo>
                        <a:pt x="25" y="36"/>
                      </a:lnTo>
                      <a:lnTo>
                        <a:pt x="19" y="46"/>
                      </a:lnTo>
                      <a:lnTo>
                        <a:pt x="13" y="55"/>
                      </a:lnTo>
                      <a:lnTo>
                        <a:pt x="11" y="63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0" y="38"/>
                      </a:lnTo>
                      <a:lnTo>
                        <a:pt x="4" y="32"/>
                      </a:lnTo>
                      <a:lnTo>
                        <a:pt x="7" y="23"/>
                      </a:lnTo>
                      <a:lnTo>
                        <a:pt x="13" y="15"/>
                      </a:lnTo>
                      <a:lnTo>
                        <a:pt x="19" y="8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6586200" y="5781960"/>
                  <a:ext cx="18360" cy="29520"/>
                </a:xfrm>
                <a:custGeom>
                  <a:avLst/>
                  <a:gdLst/>
                  <a:ahLst/>
                  <a:rect l="l" t="t" r="r" b="b"/>
                  <a:pathLst>
                    <a:path w="28" h="63">
                      <a:moveTo>
                        <a:pt x="25" y="0"/>
                      </a:moveTo>
                      <a:lnTo>
                        <a:pt x="26" y="8"/>
                      </a:lnTo>
                      <a:lnTo>
                        <a:pt x="28" y="18"/>
                      </a:lnTo>
                      <a:lnTo>
                        <a:pt x="28" y="29"/>
                      </a:lnTo>
                      <a:lnTo>
                        <a:pt x="26" y="38"/>
                      </a:lnTo>
                      <a:lnTo>
                        <a:pt x="23" y="48"/>
                      </a:lnTo>
                      <a:lnTo>
                        <a:pt x="17" y="56"/>
                      </a:lnTo>
                      <a:lnTo>
                        <a:pt x="9" y="61"/>
                      </a:lnTo>
                      <a:lnTo>
                        <a:pt x="2" y="63"/>
                      </a:lnTo>
                      <a:lnTo>
                        <a:pt x="0" y="54"/>
                      </a:lnTo>
                      <a:lnTo>
                        <a:pt x="0" y="44"/>
                      </a:lnTo>
                      <a:lnTo>
                        <a:pt x="2" y="37"/>
                      </a:lnTo>
                      <a:lnTo>
                        <a:pt x="6" y="29"/>
                      </a:lnTo>
                      <a:lnTo>
                        <a:pt x="9" y="21"/>
                      </a:lnTo>
                      <a:lnTo>
                        <a:pt x="13" y="14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6619320" y="5789880"/>
                  <a:ext cx="17280" cy="32400"/>
                </a:xfrm>
                <a:custGeom>
                  <a:avLst/>
                  <a:gdLst/>
                  <a:ahLst/>
                  <a:rect l="l" t="t" r="r" b="b"/>
                  <a:pathLst>
                    <a:path w="29" h="70">
                      <a:moveTo>
                        <a:pt x="23" y="0"/>
                      </a:moveTo>
                      <a:lnTo>
                        <a:pt x="25" y="7"/>
                      </a:lnTo>
                      <a:lnTo>
                        <a:pt x="29" y="17"/>
                      </a:lnTo>
                      <a:lnTo>
                        <a:pt x="29" y="26"/>
                      </a:lnTo>
                      <a:lnTo>
                        <a:pt x="25" y="36"/>
                      </a:lnTo>
                      <a:lnTo>
                        <a:pt x="21" y="47"/>
                      </a:lnTo>
                      <a:lnTo>
                        <a:pt x="15" y="57"/>
                      </a:lnTo>
                      <a:lnTo>
                        <a:pt x="8" y="64"/>
                      </a:lnTo>
                      <a:lnTo>
                        <a:pt x="2" y="7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41"/>
                      </a:lnTo>
                      <a:lnTo>
                        <a:pt x="4" y="32"/>
                      </a:lnTo>
                      <a:lnTo>
                        <a:pt x="8" y="22"/>
                      </a:lnTo>
                      <a:lnTo>
                        <a:pt x="11" y="15"/>
                      </a:lnTo>
                      <a:lnTo>
                        <a:pt x="17" y="5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7490160" y="5642280"/>
                  <a:ext cx="73440" cy="43560"/>
                </a:xfrm>
                <a:custGeom>
                  <a:avLst/>
                  <a:gdLst/>
                  <a:ahLst/>
                  <a:rect l="l" t="t" r="r" b="b"/>
                  <a:pathLst>
                    <a:path w="120" h="93">
                      <a:moveTo>
                        <a:pt x="17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0" y="19"/>
                      </a:lnTo>
                      <a:lnTo>
                        <a:pt x="36" y="27"/>
                      </a:lnTo>
                      <a:lnTo>
                        <a:pt x="42" y="29"/>
                      </a:lnTo>
                      <a:lnTo>
                        <a:pt x="47" y="34"/>
                      </a:lnTo>
                      <a:lnTo>
                        <a:pt x="53" y="36"/>
                      </a:lnTo>
                      <a:lnTo>
                        <a:pt x="61" y="40"/>
                      </a:lnTo>
                      <a:lnTo>
                        <a:pt x="66" y="40"/>
                      </a:lnTo>
                      <a:lnTo>
                        <a:pt x="74" y="42"/>
                      </a:lnTo>
                      <a:lnTo>
                        <a:pt x="80" y="42"/>
                      </a:lnTo>
                      <a:lnTo>
                        <a:pt x="85" y="42"/>
                      </a:lnTo>
                      <a:lnTo>
                        <a:pt x="93" y="40"/>
                      </a:lnTo>
                      <a:lnTo>
                        <a:pt x="101" y="40"/>
                      </a:lnTo>
                      <a:lnTo>
                        <a:pt x="108" y="36"/>
                      </a:lnTo>
                      <a:lnTo>
                        <a:pt x="116" y="36"/>
                      </a:lnTo>
                      <a:lnTo>
                        <a:pt x="118" y="44"/>
                      </a:lnTo>
                      <a:lnTo>
                        <a:pt x="120" y="55"/>
                      </a:lnTo>
                      <a:lnTo>
                        <a:pt x="120" y="63"/>
                      </a:lnTo>
                      <a:lnTo>
                        <a:pt x="120" y="70"/>
                      </a:lnTo>
                      <a:lnTo>
                        <a:pt x="118" y="76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5" y="88"/>
                      </a:lnTo>
                      <a:lnTo>
                        <a:pt x="99" y="89"/>
                      </a:lnTo>
                      <a:lnTo>
                        <a:pt x="91" y="91"/>
                      </a:lnTo>
                      <a:lnTo>
                        <a:pt x="84" y="91"/>
                      </a:lnTo>
                      <a:lnTo>
                        <a:pt x="78" y="93"/>
                      </a:lnTo>
                      <a:lnTo>
                        <a:pt x="68" y="91"/>
                      </a:lnTo>
                      <a:lnTo>
                        <a:pt x="63" y="91"/>
                      </a:lnTo>
                      <a:lnTo>
                        <a:pt x="53" y="89"/>
                      </a:lnTo>
                      <a:lnTo>
                        <a:pt x="47" y="88"/>
                      </a:lnTo>
                      <a:lnTo>
                        <a:pt x="40" y="86"/>
                      </a:lnTo>
                      <a:lnTo>
                        <a:pt x="32" y="82"/>
                      </a:lnTo>
                      <a:lnTo>
                        <a:pt x="27" y="78"/>
                      </a:lnTo>
                      <a:lnTo>
                        <a:pt x="21" y="74"/>
                      </a:lnTo>
                      <a:lnTo>
                        <a:pt x="11" y="65"/>
                      </a:lnTo>
                      <a:lnTo>
                        <a:pt x="4" y="55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2" y="21"/>
                      </a:lnTo>
                      <a:lnTo>
                        <a:pt x="6" y="15"/>
                      </a:lnTo>
                      <a:lnTo>
                        <a:pt x="9" y="8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7476480" y="5702040"/>
                  <a:ext cx="66240" cy="38880"/>
                </a:xfrm>
                <a:custGeom>
                  <a:avLst/>
                  <a:gdLst/>
                  <a:ahLst/>
                  <a:rect l="l" t="t" r="r" b="b"/>
                  <a:pathLst>
                    <a:path w="108" h="86">
                      <a:moveTo>
                        <a:pt x="17" y="0"/>
                      </a:moveTo>
                      <a:lnTo>
                        <a:pt x="19" y="8"/>
                      </a:lnTo>
                      <a:lnTo>
                        <a:pt x="27" y="14"/>
                      </a:lnTo>
                      <a:lnTo>
                        <a:pt x="32" y="18"/>
                      </a:lnTo>
                      <a:lnTo>
                        <a:pt x="42" y="23"/>
                      </a:lnTo>
                      <a:lnTo>
                        <a:pt x="53" y="23"/>
                      </a:lnTo>
                      <a:lnTo>
                        <a:pt x="63" y="25"/>
                      </a:lnTo>
                      <a:lnTo>
                        <a:pt x="72" y="27"/>
                      </a:lnTo>
                      <a:lnTo>
                        <a:pt x="82" y="29"/>
                      </a:lnTo>
                      <a:lnTo>
                        <a:pt x="89" y="29"/>
                      </a:lnTo>
                      <a:lnTo>
                        <a:pt x="97" y="31"/>
                      </a:lnTo>
                      <a:lnTo>
                        <a:pt x="103" y="35"/>
                      </a:lnTo>
                      <a:lnTo>
                        <a:pt x="108" y="38"/>
                      </a:lnTo>
                      <a:lnTo>
                        <a:pt x="108" y="44"/>
                      </a:lnTo>
                      <a:lnTo>
                        <a:pt x="108" y="54"/>
                      </a:lnTo>
                      <a:lnTo>
                        <a:pt x="107" y="63"/>
                      </a:lnTo>
                      <a:lnTo>
                        <a:pt x="101" y="78"/>
                      </a:lnTo>
                      <a:lnTo>
                        <a:pt x="93" y="80"/>
                      </a:lnTo>
                      <a:lnTo>
                        <a:pt x="88" y="82"/>
                      </a:lnTo>
                      <a:lnTo>
                        <a:pt x="80" y="82"/>
                      </a:lnTo>
                      <a:lnTo>
                        <a:pt x="76" y="86"/>
                      </a:lnTo>
                      <a:lnTo>
                        <a:pt x="69" y="86"/>
                      </a:lnTo>
                      <a:lnTo>
                        <a:pt x="63" y="86"/>
                      </a:lnTo>
                      <a:lnTo>
                        <a:pt x="57" y="84"/>
                      </a:lnTo>
                      <a:lnTo>
                        <a:pt x="51" y="82"/>
                      </a:lnTo>
                      <a:lnTo>
                        <a:pt x="44" y="80"/>
                      </a:lnTo>
                      <a:lnTo>
                        <a:pt x="36" y="76"/>
                      </a:lnTo>
                      <a:lnTo>
                        <a:pt x="29" y="73"/>
                      </a:lnTo>
                      <a:lnTo>
                        <a:pt x="25" y="71"/>
                      </a:lnTo>
                      <a:lnTo>
                        <a:pt x="13" y="59"/>
                      </a:lnTo>
                      <a:lnTo>
                        <a:pt x="6" y="50"/>
                      </a:lnTo>
                      <a:lnTo>
                        <a:pt x="2" y="44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2" y="25"/>
                      </a:lnTo>
                      <a:lnTo>
                        <a:pt x="2" y="18"/>
                      </a:lnTo>
                      <a:lnTo>
                        <a:pt x="6" y="12"/>
                      </a:lnTo>
                      <a:lnTo>
                        <a:pt x="10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7438680" y="5752440"/>
                  <a:ext cx="62280" cy="44640"/>
                </a:xfrm>
                <a:custGeom>
                  <a:avLst/>
                  <a:gdLst/>
                  <a:ahLst/>
                  <a:rect l="l" t="t" r="r" b="b"/>
                  <a:pathLst>
                    <a:path w="103" h="97">
                      <a:moveTo>
                        <a:pt x="17" y="0"/>
                      </a:moveTo>
                      <a:lnTo>
                        <a:pt x="27" y="9"/>
                      </a:lnTo>
                      <a:lnTo>
                        <a:pt x="33" y="21"/>
                      </a:lnTo>
                      <a:lnTo>
                        <a:pt x="38" y="30"/>
                      </a:lnTo>
                      <a:lnTo>
                        <a:pt x="44" y="42"/>
                      </a:lnTo>
                      <a:lnTo>
                        <a:pt x="50" y="49"/>
                      </a:lnTo>
                      <a:lnTo>
                        <a:pt x="59" y="53"/>
                      </a:lnTo>
                      <a:lnTo>
                        <a:pt x="65" y="53"/>
                      </a:lnTo>
                      <a:lnTo>
                        <a:pt x="73" y="53"/>
                      </a:lnTo>
                      <a:lnTo>
                        <a:pt x="80" y="51"/>
                      </a:lnTo>
                      <a:lnTo>
                        <a:pt x="92" y="49"/>
                      </a:lnTo>
                      <a:lnTo>
                        <a:pt x="97" y="63"/>
                      </a:lnTo>
                      <a:lnTo>
                        <a:pt x="103" y="74"/>
                      </a:lnTo>
                      <a:lnTo>
                        <a:pt x="101" y="83"/>
                      </a:lnTo>
                      <a:lnTo>
                        <a:pt x="97" y="91"/>
                      </a:lnTo>
                      <a:lnTo>
                        <a:pt x="90" y="95"/>
                      </a:lnTo>
                      <a:lnTo>
                        <a:pt x="80" y="97"/>
                      </a:lnTo>
                      <a:lnTo>
                        <a:pt x="67" y="97"/>
                      </a:lnTo>
                      <a:lnTo>
                        <a:pt x="57" y="97"/>
                      </a:lnTo>
                      <a:lnTo>
                        <a:pt x="44" y="93"/>
                      </a:lnTo>
                      <a:lnTo>
                        <a:pt x="31" y="87"/>
                      </a:lnTo>
                      <a:lnTo>
                        <a:pt x="21" y="80"/>
                      </a:lnTo>
                      <a:lnTo>
                        <a:pt x="12" y="72"/>
                      </a:lnTo>
                      <a:lnTo>
                        <a:pt x="4" y="63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6" y="28"/>
                      </a:lnTo>
                      <a:lnTo>
                        <a:pt x="8" y="21"/>
                      </a:lnTo>
                      <a:lnTo>
                        <a:pt x="12" y="15"/>
                      </a:lnTo>
                      <a:lnTo>
                        <a:pt x="16" y="7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7314120" y="5473440"/>
                  <a:ext cx="12240" cy="41760"/>
                </a:xfrm>
                <a:custGeom>
                  <a:avLst/>
                  <a:gdLst/>
                  <a:ahLst/>
                  <a:rect l="l" t="t" r="r" b="b"/>
                  <a:pathLst>
                    <a:path w="21" h="89">
                      <a:moveTo>
                        <a:pt x="8" y="0"/>
                      </a:moveTo>
                      <a:lnTo>
                        <a:pt x="13" y="8"/>
                      </a:lnTo>
                      <a:lnTo>
                        <a:pt x="15" y="17"/>
                      </a:lnTo>
                      <a:lnTo>
                        <a:pt x="17" y="23"/>
                      </a:lnTo>
                      <a:lnTo>
                        <a:pt x="17" y="28"/>
                      </a:lnTo>
                      <a:lnTo>
                        <a:pt x="19" y="36"/>
                      </a:lnTo>
                      <a:lnTo>
                        <a:pt x="21" y="42"/>
                      </a:lnTo>
                      <a:lnTo>
                        <a:pt x="19" y="47"/>
                      </a:lnTo>
                      <a:lnTo>
                        <a:pt x="19" y="53"/>
                      </a:lnTo>
                      <a:lnTo>
                        <a:pt x="17" y="59"/>
                      </a:lnTo>
                      <a:lnTo>
                        <a:pt x="17" y="66"/>
                      </a:lnTo>
                      <a:lnTo>
                        <a:pt x="15" y="72"/>
                      </a:lnTo>
                      <a:lnTo>
                        <a:pt x="15" y="78"/>
                      </a:lnTo>
                      <a:lnTo>
                        <a:pt x="13" y="84"/>
                      </a:lnTo>
                      <a:lnTo>
                        <a:pt x="13" y="89"/>
                      </a:lnTo>
                      <a:lnTo>
                        <a:pt x="4" y="82"/>
                      </a:lnTo>
                      <a:lnTo>
                        <a:pt x="0" y="74"/>
                      </a:lnTo>
                      <a:lnTo>
                        <a:pt x="0" y="65"/>
                      </a:lnTo>
                      <a:lnTo>
                        <a:pt x="2" y="57"/>
                      </a:lnTo>
                      <a:lnTo>
                        <a:pt x="6" y="49"/>
                      </a:lnTo>
                      <a:lnTo>
                        <a:pt x="8" y="40"/>
                      </a:lnTo>
                      <a:lnTo>
                        <a:pt x="6" y="30"/>
                      </a:lnTo>
                      <a:lnTo>
                        <a:pt x="2" y="25"/>
                      </a:lnTo>
                      <a:lnTo>
                        <a:pt x="2" y="17"/>
                      </a:lnTo>
                      <a:lnTo>
                        <a:pt x="4" y="9"/>
                      </a:lnTo>
                      <a:lnTo>
                        <a:pt x="6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7091280" y="551340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78" h="69">
                      <a:moveTo>
                        <a:pt x="66" y="0"/>
                      </a:moveTo>
                      <a:lnTo>
                        <a:pt x="72" y="0"/>
                      </a:lnTo>
                      <a:lnTo>
                        <a:pt x="76" y="6"/>
                      </a:lnTo>
                      <a:lnTo>
                        <a:pt x="78" y="12"/>
                      </a:lnTo>
                      <a:lnTo>
                        <a:pt x="78" y="19"/>
                      </a:lnTo>
                      <a:lnTo>
                        <a:pt x="74" y="25"/>
                      </a:lnTo>
                      <a:lnTo>
                        <a:pt x="72" y="33"/>
                      </a:lnTo>
                      <a:lnTo>
                        <a:pt x="65" y="35"/>
                      </a:lnTo>
                      <a:lnTo>
                        <a:pt x="57" y="35"/>
                      </a:lnTo>
                      <a:lnTo>
                        <a:pt x="49" y="37"/>
                      </a:lnTo>
                      <a:lnTo>
                        <a:pt x="44" y="40"/>
                      </a:lnTo>
                      <a:lnTo>
                        <a:pt x="36" y="44"/>
                      </a:lnTo>
                      <a:lnTo>
                        <a:pt x="30" y="48"/>
                      </a:lnTo>
                      <a:lnTo>
                        <a:pt x="25" y="52"/>
                      </a:lnTo>
                      <a:lnTo>
                        <a:pt x="19" y="56"/>
                      </a:lnTo>
                      <a:lnTo>
                        <a:pt x="15" y="61"/>
                      </a:lnTo>
                      <a:lnTo>
                        <a:pt x="11" y="69"/>
                      </a:lnTo>
                      <a:lnTo>
                        <a:pt x="6" y="65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0" y="56"/>
                      </a:lnTo>
                      <a:lnTo>
                        <a:pt x="2" y="48"/>
                      </a:lnTo>
                      <a:lnTo>
                        <a:pt x="8" y="40"/>
                      </a:lnTo>
                      <a:lnTo>
                        <a:pt x="15" y="33"/>
                      </a:lnTo>
                      <a:lnTo>
                        <a:pt x="25" y="25"/>
                      </a:lnTo>
                      <a:lnTo>
                        <a:pt x="32" y="19"/>
                      </a:lnTo>
                      <a:lnTo>
                        <a:pt x="42" y="16"/>
                      </a:lnTo>
                      <a:lnTo>
                        <a:pt x="46" y="12"/>
                      </a:lnTo>
                      <a:lnTo>
                        <a:pt x="55" y="8"/>
                      </a:lnTo>
                      <a:lnTo>
                        <a:pt x="61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7341120" y="5526720"/>
                  <a:ext cx="44280" cy="24840"/>
                </a:xfrm>
                <a:custGeom>
                  <a:avLst/>
                  <a:gdLst/>
                  <a:ahLst/>
                  <a:rect l="l" t="t" r="r" b="b"/>
                  <a:pathLst>
                    <a:path w="72" h="53">
                      <a:moveTo>
                        <a:pt x="5" y="0"/>
                      </a:moveTo>
                      <a:lnTo>
                        <a:pt x="13" y="2"/>
                      </a:lnTo>
                      <a:lnTo>
                        <a:pt x="21" y="4"/>
                      </a:lnTo>
                      <a:lnTo>
                        <a:pt x="30" y="8"/>
                      </a:lnTo>
                      <a:lnTo>
                        <a:pt x="40" y="9"/>
                      </a:lnTo>
                      <a:lnTo>
                        <a:pt x="47" y="11"/>
                      </a:lnTo>
                      <a:lnTo>
                        <a:pt x="57" y="17"/>
                      </a:lnTo>
                      <a:lnTo>
                        <a:pt x="64" y="23"/>
                      </a:lnTo>
                      <a:lnTo>
                        <a:pt x="72" y="32"/>
                      </a:lnTo>
                      <a:lnTo>
                        <a:pt x="70" y="42"/>
                      </a:lnTo>
                      <a:lnTo>
                        <a:pt x="68" y="53"/>
                      </a:lnTo>
                      <a:lnTo>
                        <a:pt x="62" y="49"/>
                      </a:lnTo>
                      <a:lnTo>
                        <a:pt x="59" y="46"/>
                      </a:lnTo>
                      <a:lnTo>
                        <a:pt x="51" y="44"/>
                      </a:lnTo>
                      <a:lnTo>
                        <a:pt x="47" y="40"/>
                      </a:lnTo>
                      <a:lnTo>
                        <a:pt x="40" y="38"/>
                      </a:lnTo>
                      <a:lnTo>
                        <a:pt x="34" y="36"/>
                      </a:lnTo>
                      <a:lnTo>
                        <a:pt x="28" y="34"/>
                      </a:lnTo>
                      <a:lnTo>
                        <a:pt x="22" y="32"/>
                      </a:lnTo>
                      <a:lnTo>
                        <a:pt x="15" y="30"/>
                      </a:lnTo>
                      <a:lnTo>
                        <a:pt x="11" y="27"/>
                      </a:lnTo>
                      <a:lnTo>
                        <a:pt x="5" y="23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7230240" y="5536080"/>
                  <a:ext cx="18360" cy="51120"/>
                </a:xfrm>
                <a:custGeom>
                  <a:avLst/>
                  <a:gdLst/>
                  <a:ahLst/>
                  <a:rect l="l" t="t" r="r" b="b"/>
                  <a:pathLst>
                    <a:path w="30" h="110">
                      <a:moveTo>
                        <a:pt x="8" y="0"/>
                      </a:moveTo>
                      <a:lnTo>
                        <a:pt x="10" y="6"/>
                      </a:lnTo>
                      <a:lnTo>
                        <a:pt x="11" y="13"/>
                      </a:lnTo>
                      <a:lnTo>
                        <a:pt x="13" y="19"/>
                      </a:lnTo>
                      <a:lnTo>
                        <a:pt x="15" y="25"/>
                      </a:lnTo>
                      <a:lnTo>
                        <a:pt x="15" y="30"/>
                      </a:lnTo>
                      <a:lnTo>
                        <a:pt x="17" y="38"/>
                      </a:lnTo>
                      <a:lnTo>
                        <a:pt x="19" y="44"/>
                      </a:lnTo>
                      <a:lnTo>
                        <a:pt x="21" y="49"/>
                      </a:lnTo>
                      <a:lnTo>
                        <a:pt x="21" y="57"/>
                      </a:lnTo>
                      <a:lnTo>
                        <a:pt x="23" y="63"/>
                      </a:lnTo>
                      <a:lnTo>
                        <a:pt x="23" y="70"/>
                      </a:lnTo>
                      <a:lnTo>
                        <a:pt x="25" y="76"/>
                      </a:lnTo>
                      <a:lnTo>
                        <a:pt x="27" y="84"/>
                      </a:lnTo>
                      <a:lnTo>
                        <a:pt x="27" y="89"/>
                      </a:lnTo>
                      <a:lnTo>
                        <a:pt x="29" y="97"/>
                      </a:lnTo>
                      <a:lnTo>
                        <a:pt x="30" y="103"/>
                      </a:lnTo>
                      <a:lnTo>
                        <a:pt x="27" y="106"/>
                      </a:lnTo>
                      <a:lnTo>
                        <a:pt x="21" y="110"/>
                      </a:lnTo>
                      <a:lnTo>
                        <a:pt x="17" y="103"/>
                      </a:lnTo>
                      <a:lnTo>
                        <a:pt x="13" y="97"/>
                      </a:lnTo>
                      <a:lnTo>
                        <a:pt x="11" y="89"/>
                      </a:lnTo>
                      <a:lnTo>
                        <a:pt x="8" y="84"/>
                      </a:lnTo>
                      <a:lnTo>
                        <a:pt x="6" y="76"/>
                      </a:lnTo>
                      <a:lnTo>
                        <a:pt x="6" y="70"/>
                      </a:lnTo>
                      <a:lnTo>
                        <a:pt x="4" y="63"/>
                      </a:lnTo>
                      <a:lnTo>
                        <a:pt x="4" y="57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7"/>
                      </a:lnTo>
                      <a:lnTo>
                        <a:pt x="2" y="19"/>
                      </a:lnTo>
                      <a:lnTo>
                        <a:pt x="4" y="13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7120800" y="5563080"/>
                  <a:ext cx="28080" cy="324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6" y="0"/>
                      </a:moveTo>
                      <a:lnTo>
                        <a:pt x="10" y="7"/>
                      </a:lnTo>
                      <a:lnTo>
                        <a:pt x="14" y="15"/>
                      </a:lnTo>
                      <a:lnTo>
                        <a:pt x="19" y="23"/>
                      </a:lnTo>
                      <a:lnTo>
                        <a:pt x="25" y="30"/>
                      </a:lnTo>
                      <a:lnTo>
                        <a:pt x="29" y="36"/>
                      </a:lnTo>
                      <a:lnTo>
                        <a:pt x="35" y="44"/>
                      </a:lnTo>
                      <a:lnTo>
                        <a:pt x="40" y="49"/>
                      </a:lnTo>
                      <a:lnTo>
                        <a:pt x="48" y="57"/>
                      </a:lnTo>
                      <a:lnTo>
                        <a:pt x="42" y="63"/>
                      </a:lnTo>
                      <a:lnTo>
                        <a:pt x="35" y="68"/>
                      </a:lnTo>
                      <a:lnTo>
                        <a:pt x="25" y="63"/>
                      </a:lnTo>
                      <a:lnTo>
                        <a:pt x="18" y="55"/>
                      </a:lnTo>
                      <a:lnTo>
                        <a:pt x="12" y="47"/>
                      </a:lnTo>
                      <a:lnTo>
                        <a:pt x="6" y="38"/>
                      </a:lnTo>
                      <a:lnTo>
                        <a:pt x="2" y="27"/>
                      </a:lnTo>
                      <a:lnTo>
                        <a:pt x="0" y="17"/>
                      </a:lnTo>
                      <a:lnTo>
                        <a:pt x="2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7062840" y="5595480"/>
                  <a:ext cx="28080" cy="45360"/>
                </a:xfrm>
                <a:custGeom>
                  <a:avLst/>
                  <a:gdLst/>
                  <a:ahLst/>
                  <a:rect l="l" t="t" r="r" b="b"/>
                  <a:pathLst>
                    <a:path w="46" h="99">
                      <a:moveTo>
                        <a:pt x="6" y="0"/>
                      </a:moveTo>
                      <a:lnTo>
                        <a:pt x="10" y="12"/>
                      </a:lnTo>
                      <a:lnTo>
                        <a:pt x="16" y="23"/>
                      </a:lnTo>
                      <a:lnTo>
                        <a:pt x="17" y="33"/>
                      </a:lnTo>
                      <a:lnTo>
                        <a:pt x="23" y="44"/>
                      </a:lnTo>
                      <a:lnTo>
                        <a:pt x="27" y="55"/>
                      </a:lnTo>
                      <a:lnTo>
                        <a:pt x="33" y="65"/>
                      </a:lnTo>
                      <a:lnTo>
                        <a:pt x="38" y="76"/>
                      </a:lnTo>
                      <a:lnTo>
                        <a:pt x="46" y="88"/>
                      </a:lnTo>
                      <a:lnTo>
                        <a:pt x="44" y="93"/>
                      </a:lnTo>
                      <a:lnTo>
                        <a:pt x="42" y="99"/>
                      </a:lnTo>
                      <a:lnTo>
                        <a:pt x="36" y="99"/>
                      </a:lnTo>
                      <a:lnTo>
                        <a:pt x="31" y="99"/>
                      </a:lnTo>
                      <a:lnTo>
                        <a:pt x="23" y="88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8" y="63"/>
                      </a:lnTo>
                      <a:lnTo>
                        <a:pt x="6" y="57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4"/>
                      </a:lnTo>
                      <a:lnTo>
                        <a:pt x="4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7320240" y="5612400"/>
                  <a:ext cx="52920" cy="28440"/>
                </a:xfrm>
                <a:custGeom>
                  <a:avLst/>
                  <a:gdLst/>
                  <a:ahLst/>
                  <a:rect l="l" t="t" r="r" b="b"/>
                  <a:pathLst>
                    <a:path w="86" h="63">
                      <a:moveTo>
                        <a:pt x="76" y="0"/>
                      </a:moveTo>
                      <a:lnTo>
                        <a:pt x="82" y="0"/>
                      </a:lnTo>
                      <a:lnTo>
                        <a:pt x="86" y="6"/>
                      </a:lnTo>
                      <a:lnTo>
                        <a:pt x="86" y="12"/>
                      </a:lnTo>
                      <a:lnTo>
                        <a:pt x="86" y="19"/>
                      </a:lnTo>
                      <a:lnTo>
                        <a:pt x="84" y="25"/>
                      </a:lnTo>
                      <a:lnTo>
                        <a:pt x="80" y="31"/>
                      </a:lnTo>
                      <a:lnTo>
                        <a:pt x="73" y="35"/>
                      </a:lnTo>
                      <a:lnTo>
                        <a:pt x="65" y="35"/>
                      </a:lnTo>
                      <a:lnTo>
                        <a:pt x="57" y="38"/>
                      </a:lnTo>
                      <a:lnTo>
                        <a:pt x="52" y="42"/>
                      </a:lnTo>
                      <a:lnTo>
                        <a:pt x="44" y="44"/>
                      </a:lnTo>
                      <a:lnTo>
                        <a:pt x="37" y="50"/>
                      </a:lnTo>
                      <a:lnTo>
                        <a:pt x="31" y="52"/>
                      </a:lnTo>
                      <a:lnTo>
                        <a:pt x="23" y="56"/>
                      </a:lnTo>
                      <a:lnTo>
                        <a:pt x="18" y="59"/>
                      </a:lnTo>
                      <a:lnTo>
                        <a:pt x="10" y="63"/>
                      </a:lnTo>
                      <a:lnTo>
                        <a:pt x="6" y="54"/>
                      </a:lnTo>
                      <a:lnTo>
                        <a:pt x="0" y="44"/>
                      </a:lnTo>
                      <a:lnTo>
                        <a:pt x="10" y="38"/>
                      </a:lnTo>
                      <a:lnTo>
                        <a:pt x="19" y="33"/>
                      </a:lnTo>
                      <a:lnTo>
                        <a:pt x="27" y="27"/>
                      </a:lnTo>
                      <a:lnTo>
                        <a:pt x="37" y="21"/>
                      </a:lnTo>
                      <a:lnTo>
                        <a:pt x="46" y="14"/>
                      </a:lnTo>
                      <a:lnTo>
                        <a:pt x="56" y="8"/>
                      </a:lnTo>
                      <a:lnTo>
                        <a:pt x="65" y="2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7183440" y="5644080"/>
                  <a:ext cx="63720" cy="2376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0" y="51"/>
                      </a:moveTo>
                      <a:lnTo>
                        <a:pt x="8" y="40"/>
                      </a:lnTo>
                      <a:lnTo>
                        <a:pt x="17" y="32"/>
                      </a:lnTo>
                      <a:lnTo>
                        <a:pt x="23" y="28"/>
                      </a:lnTo>
                      <a:lnTo>
                        <a:pt x="30" y="25"/>
                      </a:lnTo>
                      <a:lnTo>
                        <a:pt x="36" y="23"/>
                      </a:lnTo>
                      <a:lnTo>
                        <a:pt x="44" y="19"/>
                      </a:lnTo>
                      <a:lnTo>
                        <a:pt x="48" y="17"/>
                      </a:lnTo>
                      <a:lnTo>
                        <a:pt x="55" y="13"/>
                      </a:lnTo>
                      <a:lnTo>
                        <a:pt x="61" y="11"/>
                      </a:lnTo>
                      <a:lnTo>
                        <a:pt x="68" y="9"/>
                      </a:lnTo>
                      <a:lnTo>
                        <a:pt x="74" y="6"/>
                      </a:lnTo>
                      <a:lnTo>
                        <a:pt x="82" y="4"/>
                      </a:lnTo>
                      <a:lnTo>
                        <a:pt x="87" y="2"/>
                      </a:lnTo>
                      <a:lnTo>
                        <a:pt x="95" y="0"/>
                      </a:lnTo>
                      <a:lnTo>
                        <a:pt x="99" y="2"/>
                      </a:lnTo>
                      <a:lnTo>
                        <a:pt x="105" y="4"/>
                      </a:lnTo>
                      <a:lnTo>
                        <a:pt x="95" y="9"/>
                      </a:lnTo>
                      <a:lnTo>
                        <a:pt x="84" y="17"/>
                      </a:lnTo>
                      <a:lnTo>
                        <a:pt x="72" y="23"/>
                      </a:lnTo>
                      <a:lnTo>
                        <a:pt x="61" y="28"/>
                      </a:lnTo>
                      <a:lnTo>
                        <a:pt x="55" y="30"/>
                      </a:lnTo>
                      <a:lnTo>
                        <a:pt x="49" y="32"/>
                      </a:lnTo>
                      <a:lnTo>
                        <a:pt x="44" y="36"/>
                      </a:lnTo>
                      <a:lnTo>
                        <a:pt x="38" y="38"/>
                      </a:lnTo>
                      <a:lnTo>
                        <a:pt x="27" y="44"/>
                      </a:lnTo>
                      <a:lnTo>
                        <a:pt x="17" y="51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7031880" y="5675760"/>
                  <a:ext cx="28440" cy="34200"/>
                </a:xfrm>
                <a:custGeom>
                  <a:avLst/>
                  <a:gdLst/>
                  <a:ahLst/>
                  <a:rect l="l" t="t" r="r" b="b"/>
                  <a:pathLst>
                    <a:path w="45" h="74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17" y="16"/>
                      </a:lnTo>
                      <a:lnTo>
                        <a:pt x="23" y="23"/>
                      </a:lnTo>
                      <a:lnTo>
                        <a:pt x="32" y="35"/>
                      </a:lnTo>
                      <a:lnTo>
                        <a:pt x="38" y="42"/>
                      </a:lnTo>
                      <a:lnTo>
                        <a:pt x="44" y="54"/>
                      </a:lnTo>
                      <a:lnTo>
                        <a:pt x="44" y="57"/>
                      </a:lnTo>
                      <a:lnTo>
                        <a:pt x="45" y="63"/>
                      </a:lnTo>
                      <a:lnTo>
                        <a:pt x="44" y="69"/>
                      </a:lnTo>
                      <a:lnTo>
                        <a:pt x="44" y="74"/>
                      </a:lnTo>
                      <a:lnTo>
                        <a:pt x="36" y="69"/>
                      </a:lnTo>
                      <a:lnTo>
                        <a:pt x="28" y="63"/>
                      </a:lnTo>
                      <a:lnTo>
                        <a:pt x="19" y="55"/>
                      </a:lnTo>
                      <a:lnTo>
                        <a:pt x="13" y="48"/>
                      </a:lnTo>
                      <a:lnTo>
                        <a:pt x="9" y="42"/>
                      </a:lnTo>
                      <a:lnTo>
                        <a:pt x="6" y="35"/>
                      </a:lnTo>
                      <a:lnTo>
                        <a:pt x="2" y="29"/>
                      </a:lnTo>
                      <a:lnTo>
                        <a:pt x="2" y="23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2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7172280" y="5725080"/>
                  <a:ext cx="45360" cy="33480"/>
                </a:xfrm>
                <a:custGeom>
                  <a:avLst/>
                  <a:gdLst/>
                  <a:ahLst/>
                  <a:rect l="l" t="t" r="r" b="b"/>
                  <a:pathLst>
                    <a:path w="74" h="70">
                      <a:moveTo>
                        <a:pt x="68" y="0"/>
                      </a:moveTo>
                      <a:lnTo>
                        <a:pt x="72" y="7"/>
                      </a:lnTo>
                      <a:lnTo>
                        <a:pt x="74" y="15"/>
                      </a:lnTo>
                      <a:lnTo>
                        <a:pt x="74" y="21"/>
                      </a:lnTo>
                      <a:lnTo>
                        <a:pt x="74" y="28"/>
                      </a:lnTo>
                      <a:lnTo>
                        <a:pt x="72" y="34"/>
                      </a:lnTo>
                      <a:lnTo>
                        <a:pt x="68" y="42"/>
                      </a:lnTo>
                      <a:lnTo>
                        <a:pt x="63" y="47"/>
                      </a:lnTo>
                      <a:lnTo>
                        <a:pt x="59" y="51"/>
                      </a:lnTo>
                      <a:lnTo>
                        <a:pt x="51" y="55"/>
                      </a:lnTo>
                      <a:lnTo>
                        <a:pt x="44" y="59"/>
                      </a:lnTo>
                      <a:lnTo>
                        <a:pt x="36" y="62"/>
                      </a:lnTo>
                      <a:lnTo>
                        <a:pt x="29" y="66"/>
                      </a:lnTo>
                      <a:lnTo>
                        <a:pt x="21" y="66"/>
                      </a:lnTo>
                      <a:lnTo>
                        <a:pt x="13" y="70"/>
                      </a:lnTo>
                      <a:lnTo>
                        <a:pt x="8" y="70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4" y="59"/>
                      </a:lnTo>
                      <a:lnTo>
                        <a:pt x="6" y="55"/>
                      </a:lnTo>
                      <a:lnTo>
                        <a:pt x="6" y="49"/>
                      </a:lnTo>
                      <a:lnTo>
                        <a:pt x="15" y="45"/>
                      </a:lnTo>
                      <a:lnTo>
                        <a:pt x="25" y="42"/>
                      </a:lnTo>
                      <a:lnTo>
                        <a:pt x="34" y="36"/>
                      </a:lnTo>
                      <a:lnTo>
                        <a:pt x="44" y="34"/>
                      </a:lnTo>
                      <a:lnTo>
                        <a:pt x="51" y="26"/>
                      </a:lnTo>
                      <a:lnTo>
                        <a:pt x="59" y="21"/>
                      </a:lnTo>
                      <a:lnTo>
                        <a:pt x="65" y="1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7265880" y="5718600"/>
                  <a:ext cx="43200" cy="14760"/>
                </a:xfrm>
                <a:custGeom>
                  <a:avLst/>
                  <a:gdLst/>
                  <a:ahLst/>
                  <a:rect l="l" t="t" r="r" b="b"/>
                  <a:pathLst>
                    <a:path w="70" h="32">
                      <a:moveTo>
                        <a:pt x="6" y="0"/>
                      </a:move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9" y="1"/>
                      </a:lnTo>
                      <a:lnTo>
                        <a:pt x="25" y="3"/>
                      </a:lnTo>
                      <a:lnTo>
                        <a:pt x="30" y="3"/>
                      </a:lnTo>
                      <a:lnTo>
                        <a:pt x="38" y="5"/>
                      </a:lnTo>
                      <a:lnTo>
                        <a:pt x="46" y="5"/>
                      </a:lnTo>
                      <a:lnTo>
                        <a:pt x="53" y="5"/>
                      </a:lnTo>
                      <a:lnTo>
                        <a:pt x="63" y="7"/>
                      </a:lnTo>
                      <a:lnTo>
                        <a:pt x="70" y="11"/>
                      </a:lnTo>
                      <a:lnTo>
                        <a:pt x="70" y="15"/>
                      </a:lnTo>
                      <a:lnTo>
                        <a:pt x="70" y="19"/>
                      </a:lnTo>
                      <a:lnTo>
                        <a:pt x="67" y="24"/>
                      </a:lnTo>
                      <a:lnTo>
                        <a:pt x="63" y="32"/>
                      </a:lnTo>
                      <a:lnTo>
                        <a:pt x="57" y="32"/>
                      </a:lnTo>
                      <a:lnTo>
                        <a:pt x="53" y="32"/>
                      </a:lnTo>
                      <a:lnTo>
                        <a:pt x="48" y="32"/>
                      </a:lnTo>
                      <a:lnTo>
                        <a:pt x="42" y="32"/>
                      </a:lnTo>
                      <a:lnTo>
                        <a:pt x="30" y="32"/>
                      </a:lnTo>
                      <a:lnTo>
                        <a:pt x="23" y="32"/>
                      </a:lnTo>
                      <a:lnTo>
                        <a:pt x="17" y="32"/>
                      </a:lnTo>
                      <a:lnTo>
                        <a:pt x="10" y="30"/>
                      </a:lnTo>
                      <a:lnTo>
                        <a:pt x="6" y="26"/>
                      </a:lnTo>
                      <a:lnTo>
                        <a:pt x="2" y="22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984000" y="5769360"/>
                  <a:ext cx="29520" cy="37800"/>
                </a:xfrm>
                <a:custGeom>
                  <a:avLst/>
                  <a:gdLst/>
                  <a:ahLst/>
                  <a:rect l="l" t="t" r="r" b="b"/>
                  <a:pathLst>
                    <a:path w="49" h="82">
                      <a:moveTo>
                        <a:pt x="8" y="0"/>
                      </a:moveTo>
                      <a:lnTo>
                        <a:pt x="11" y="8"/>
                      </a:lnTo>
                      <a:lnTo>
                        <a:pt x="15" y="15"/>
                      </a:lnTo>
                      <a:lnTo>
                        <a:pt x="19" y="23"/>
                      </a:lnTo>
                      <a:lnTo>
                        <a:pt x="23" y="32"/>
                      </a:lnTo>
                      <a:lnTo>
                        <a:pt x="27" y="40"/>
                      </a:lnTo>
                      <a:lnTo>
                        <a:pt x="32" y="47"/>
                      </a:lnTo>
                      <a:lnTo>
                        <a:pt x="40" y="55"/>
                      </a:lnTo>
                      <a:lnTo>
                        <a:pt x="49" y="63"/>
                      </a:lnTo>
                      <a:lnTo>
                        <a:pt x="48" y="66"/>
                      </a:lnTo>
                      <a:lnTo>
                        <a:pt x="46" y="70"/>
                      </a:lnTo>
                      <a:lnTo>
                        <a:pt x="44" y="76"/>
                      </a:lnTo>
                      <a:lnTo>
                        <a:pt x="44" y="82"/>
                      </a:lnTo>
                      <a:lnTo>
                        <a:pt x="32" y="76"/>
                      </a:lnTo>
                      <a:lnTo>
                        <a:pt x="23" y="66"/>
                      </a:lnTo>
                      <a:lnTo>
                        <a:pt x="13" y="57"/>
                      </a:lnTo>
                      <a:lnTo>
                        <a:pt x="8" y="47"/>
                      </a:lnTo>
                      <a:lnTo>
                        <a:pt x="4" y="42"/>
                      </a:lnTo>
                      <a:lnTo>
                        <a:pt x="2" y="36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4" y="6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7098840" y="5774040"/>
                  <a:ext cx="15840" cy="4248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0" y="0"/>
                      </a:moveTo>
                      <a:lnTo>
                        <a:pt x="12" y="8"/>
                      </a:lnTo>
                      <a:lnTo>
                        <a:pt x="17" y="19"/>
                      </a:lnTo>
                      <a:lnTo>
                        <a:pt x="19" y="29"/>
                      </a:lnTo>
                      <a:lnTo>
                        <a:pt x="21" y="40"/>
                      </a:lnTo>
                      <a:lnTo>
                        <a:pt x="23" y="50"/>
                      </a:lnTo>
                      <a:lnTo>
                        <a:pt x="25" y="61"/>
                      </a:lnTo>
                      <a:lnTo>
                        <a:pt x="25" y="71"/>
                      </a:lnTo>
                      <a:lnTo>
                        <a:pt x="27" y="82"/>
                      </a:lnTo>
                      <a:lnTo>
                        <a:pt x="19" y="88"/>
                      </a:lnTo>
                      <a:lnTo>
                        <a:pt x="14" y="94"/>
                      </a:lnTo>
                      <a:lnTo>
                        <a:pt x="14" y="86"/>
                      </a:lnTo>
                      <a:lnTo>
                        <a:pt x="12" y="80"/>
                      </a:lnTo>
                      <a:lnTo>
                        <a:pt x="12" y="75"/>
                      </a:lnTo>
                      <a:lnTo>
                        <a:pt x="10" y="69"/>
                      </a:lnTo>
                      <a:lnTo>
                        <a:pt x="6" y="56"/>
                      </a:lnTo>
                      <a:lnTo>
                        <a:pt x="4" y="44"/>
                      </a:lnTo>
                      <a:lnTo>
                        <a:pt x="2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859800" y="5884560"/>
                  <a:ext cx="27000" cy="43920"/>
                </a:xfrm>
                <a:custGeom>
                  <a:avLst/>
                  <a:gdLst/>
                  <a:ahLst/>
                  <a:rect l="l" t="t" r="r" b="b"/>
                  <a:pathLst>
                    <a:path w="43" h="93">
                      <a:moveTo>
                        <a:pt x="5" y="0"/>
                      </a:moveTo>
                      <a:lnTo>
                        <a:pt x="13" y="9"/>
                      </a:lnTo>
                      <a:lnTo>
                        <a:pt x="22" y="21"/>
                      </a:lnTo>
                      <a:lnTo>
                        <a:pt x="30" y="30"/>
                      </a:lnTo>
                      <a:lnTo>
                        <a:pt x="38" y="44"/>
                      </a:lnTo>
                      <a:lnTo>
                        <a:pt x="41" y="53"/>
                      </a:lnTo>
                      <a:lnTo>
                        <a:pt x="43" y="66"/>
                      </a:lnTo>
                      <a:lnTo>
                        <a:pt x="43" y="72"/>
                      </a:lnTo>
                      <a:lnTo>
                        <a:pt x="43" y="80"/>
                      </a:lnTo>
                      <a:lnTo>
                        <a:pt x="43" y="85"/>
                      </a:lnTo>
                      <a:lnTo>
                        <a:pt x="41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2" y="57"/>
                      </a:lnTo>
                      <a:lnTo>
                        <a:pt x="17" y="47"/>
                      </a:lnTo>
                      <a:lnTo>
                        <a:pt x="15" y="38"/>
                      </a:lnTo>
                      <a:lnTo>
                        <a:pt x="7" y="30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7194600" y="5830920"/>
                  <a:ext cx="22320" cy="45360"/>
                </a:xfrm>
                <a:custGeom>
                  <a:avLst/>
                  <a:gdLst/>
                  <a:ahLst/>
                  <a:rect l="l" t="t" r="r" b="b"/>
                  <a:pathLst>
                    <a:path w="36" h="97">
                      <a:moveTo>
                        <a:pt x="6" y="0"/>
                      </a:moveTo>
                      <a:lnTo>
                        <a:pt x="13" y="9"/>
                      </a:lnTo>
                      <a:lnTo>
                        <a:pt x="21" y="19"/>
                      </a:lnTo>
                      <a:lnTo>
                        <a:pt x="23" y="27"/>
                      </a:lnTo>
                      <a:lnTo>
                        <a:pt x="27" y="32"/>
                      </a:lnTo>
                      <a:lnTo>
                        <a:pt x="29" y="40"/>
                      </a:lnTo>
                      <a:lnTo>
                        <a:pt x="32" y="47"/>
                      </a:lnTo>
                      <a:lnTo>
                        <a:pt x="34" y="53"/>
                      </a:lnTo>
                      <a:lnTo>
                        <a:pt x="36" y="61"/>
                      </a:lnTo>
                      <a:lnTo>
                        <a:pt x="36" y="67"/>
                      </a:lnTo>
                      <a:lnTo>
                        <a:pt x="36" y="74"/>
                      </a:lnTo>
                      <a:lnTo>
                        <a:pt x="34" y="78"/>
                      </a:lnTo>
                      <a:lnTo>
                        <a:pt x="32" y="86"/>
                      </a:lnTo>
                      <a:lnTo>
                        <a:pt x="29" y="91"/>
                      </a:lnTo>
                      <a:lnTo>
                        <a:pt x="27" y="97"/>
                      </a:lnTo>
                      <a:lnTo>
                        <a:pt x="23" y="87"/>
                      </a:lnTo>
                      <a:lnTo>
                        <a:pt x="19" y="76"/>
                      </a:lnTo>
                      <a:lnTo>
                        <a:pt x="17" y="67"/>
                      </a:lnTo>
                      <a:lnTo>
                        <a:pt x="15" y="55"/>
                      </a:lnTo>
                      <a:lnTo>
                        <a:pt x="12" y="46"/>
                      </a:lnTo>
                      <a:lnTo>
                        <a:pt x="8" y="36"/>
                      </a:lnTo>
                      <a:lnTo>
                        <a:pt x="2" y="25"/>
                      </a:lnTo>
                      <a:lnTo>
                        <a:pt x="0" y="15"/>
                      </a:lnTo>
                      <a:lnTo>
                        <a:pt x="2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916320" y="5835600"/>
                  <a:ext cx="33120" cy="33120"/>
                </a:xfrm>
                <a:custGeom>
                  <a:avLst/>
                  <a:gdLst/>
                  <a:ahLst/>
                  <a:rect l="l" t="t" r="r" b="b"/>
                  <a:pathLst>
                    <a:path w="53" h="73">
                      <a:moveTo>
                        <a:pt x="4" y="0"/>
                      </a:moveTo>
                      <a:lnTo>
                        <a:pt x="9" y="6"/>
                      </a:lnTo>
                      <a:lnTo>
                        <a:pt x="15" y="12"/>
                      </a:lnTo>
                      <a:lnTo>
                        <a:pt x="19" y="18"/>
                      </a:lnTo>
                      <a:lnTo>
                        <a:pt x="24" y="27"/>
                      </a:lnTo>
                      <a:lnTo>
                        <a:pt x="30" y="33"/>
                      </a:lnTo>
                      <a:lnTo>
                        <a:pt x="38" y="40"/>
                      </a:lnTo>
                      <a:lnTo>
                        <a:pt x="43" y="46"/>
                      </a:lnTo>
                      <a:lnTo>
                        <a:pt x="53" y="54"/>
                      </a:lnTo>
                      <a:lnTo>
                        <a:pt x="51" y="58"/>
                      </a:lnTo>
                      <a:lnTo>
                        <a:pt x="49" y="63"/>
                      </a:lnTo>
                      <a:lnTo>
                        <a:pt x="49" y="67"/>
                      </a:lnTo>
                      <a:lnTo>
                        <a:pt x="49" y="73"/>
                      </a:lnTo>
                      <a:lnTo>
                        <a:pt x="38" y="67"/>
                      </a:lnTo>
                      <a:lnTo>
                        <a:pt x="28" y="59"/>
                      </a:lnTo>
                      <a:lnTo>
                        <a:pt x="17" y="52"/>
                      </a:lnTo>
                      <a:lnTo>
                        <a:pt x="9" y="42"/>
                      </a:lnTo>
                      <a:lnTo>
                        <a:pt x="2" y="31"/>
                      </a:lnTo>
                      <a:lnTo>
                        <a:pt x="0" y="21"/>
                      </a:ln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7091280" y="5880240"/>
                  <a:ext cx="45360" cy="45360"/>
                </a:xfrm>
                <a:custGeom>
                  <a:avLst/>
                  <a:gdLst/>
                  <a:ahLst/>
                  <a:rect l="l" t="t" r="r" b="b"/>
                  <a:pathLst>
                    <a:path w="74" h="98">
                      <a:moveTo>
                        <a:pt x="70" y="0"/>
                      </a:moveTo>
                      <a:lnTo>
                        <a:pt x="72" y="5"/>
                      </a:lnTo>
                      <a:lnTo>
                        <a:pt x="74" y="11"/>
                      </a:lnTo>
                      <a:lnTo>
                        <a:pt x="74" y="15"/>
                      </a:lnTo>
                      <a:lnTo>
                        <a:pt x="72" y="20"/>
                      </a:lnTo>
                      <a:lnTo>
                        <a:pt x="63" y="30"/>
                      </a:lnTo>
                      <a:lnTo>
                        <a:pt x="51" y="39"/>
                      </a:lnTo>
                      <a:lnTo>
                        <a:pt x="46" y="43"/>
                      </a:lnTo>
                      <a:lnTo>
                        <a:pt x="38" y="47"/>
                      </a:lnTo>
                      <a:lnTo>
                        <a:pt x="32" y="51"/>
                      </a:lnTo>
                      <a:lnTo>
                        <a:pt x="28" y="58"/>
                      </a:lnTo>
                      <a:lnTo>
                        <a:pt x="23" y="62"/>
                      </a:lnTo>
                      <a:lnTo>
                        <a:pt x="19" y="70"/>
                      </a:lnTo>
                      <a:lnTo>
                        <a:pt x="17" y="76"/>
                      </a:lnTo>
                      <a:lnTo>
                        <a:pt x="17" y="83"/>
                      </a:lnTo>
                      <a:lnTo>
                        <a:pt x="13" y="91"/>
                      </a:lnTo>
                      <a:lnTo>
                        <a:pt x="8" y="98"/>
                      </a:lnTo>
                      <a:lnTo>
                        <a:pt x="0" y="87"/>
                      </a:lnTo>
                      <a:lnTo>
                        <a:pt x="0" y="76"/>
                      </a:lnTo>
                      <a:lnTo>
                        <a:pt x="2" y="64"/>
                      </a:lnTo>
                      <a:lnTo>
                        <a:pt x="9" y="55"/>
                      </a:lnTo>
                      <a:lnTo>
                        <a:pt x="19" y="43"/>
                      </a:lnTo>
                      <a:lnTo>
                        <a:pt x="28" y="34"/>
                      </a:lnTo>
                      <a:lnTo>
                        <a:pt x="38" y="22"/>
                      </a:lnTo>
                      <a:lnTo>
                        <a:pt x="46" y="15"/>
                      </a:lnTo>
                      <a:lnTo>
                        <a:pt x="51" y="9"/>
                      </a:lnTo>
                      <a:lnTo>
                        <a:pt x="59" y="5"/>
                      </a:lnTo>
                      <a:lnTo>
                        <a:pt x="66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973200" y="5909760"/>
                  <a:ext cx="34200" cy="33480"/>
                </a:xfrm>
                <a:custGeom>
                  <a:avLst/>
                  <a:gdLst/>
                  <a:ahLst/>
                  <a:rect l="l" t="t" r="r" b="b"/>
                  <a:pathLst>
                    <a:path w="57" h="72">
                      <a:moveTo>
                        <a:pt x="11" y="0"/>
                      </a:moveTo>
                      <a:lnTo>
                        <a:pt x="15" y="8"/>
                      </a:lnTo>
                      <a:lnTo>
                        <a:pt x="19" y="15"/>
                      </a:lnTo>
                      <a:lnTo>
                        <a:pt x="25" y="21"/>
                      </a:lnTo>
                      <a:lnTo>
                        <a:pt x="28" y="29"/>
                      </a:lnTo>
                      <a:lnTo>
                        <a:pt x="34" y="36"/>
                      </a:lnTo>
                      <a:lnTo>
                        <a:pt x="42" y="42"/>
                      </a:lnTo>
                      <a:lnTo>
                        <a:pt x="47" y="50"/>
                      </a:lnTo>
                      <a:lnTo>
                        <a:pt x="57" y="55"/>
                      </a:lnTo>
                      <a:lnTo>
                        <a:pt x="55" y="65"/>
                      </a:lnTo>
                      <a:lnTo>
                        <a:pt x="55" y="72"/>
                      </a:lnTo>
                      <a:lnTo>
                        <a:pt x="46" y="67"/>
                      </a:lnTo>
                      <a:lnTo>
                        <a:pt x="34" y="61"/>
                      </a:lnTo>
                      <a:lnTo>
                        <a:pt x="21" y="51"/>
                      </a:lnTo>
                      <a:lnTo>
                        <a:pt x="13" y="44"/>
                      </a:lnTo>
                      <a:lnTo>
                        <a:pt x="4" y="31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081200" y="5204880"/>
                  <a:ext cx="12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53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11" y="8"/>
                      </a:lnTo>
                      <a:lnTo>
                        <a:pt x="11" y="11"/>
                      </a:lnTo>
                      <a:lnTo>
                        <a:pt x="15" y="19"/>
                      </a:lnTo>
                      <a:lnTo>
                        <a:pt x="17" y="29"/>
                      </a:lnTo>
                      <a:lnTo>
                        <a:pt x="19" y="38"/>
                      </a:lnTo>
                      <a:lnTo>
                        <a:pt x="17" y="44"/>
                      </a:lnTo>
                      <a:lnTo>
                        <a:pt x="15" y="53"/>
                      </a:lnTo>
                      <a:lnTo>
                        <a:pt x="9" y="46"/>
                      </a:lnTo>
                      <a:lnTo>
                        <a:pt x="7" y="40"/>
                      </a:lnTo>
                      <a:lnTo>
                        <a:pt x="4" y="34"/>
                      </a:lnTo>
                      <a:lnTo>
                        <a:pt x="2" y="29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7103520" y="5200920"/>
                  <a:ext cx="11160" cy="32400"/>
                </a:xfrm>
                <a:custGeom>
                  <a:avLst/>
                  <a:gdLst/>
                  <a:ahLst/>
                  <a:rect l="l" t="t" r="r" b="b"/>
                  <a:pathLst>
                    <a:path w="17" h="71">
                      <a:moveTo>
                        <a:pt x="9" y="0"/>
                      </a:moveTo>
                      <a:lnTo>
                        <a:pt x="11" y="6"/>
                      </a:lnTo>
                      <a:lnTo>
                        <a:pt x="15" y="14"/>
                      </a:lnTo>
                      <a:lnTo>
                        <a:pt x="17" y="23"/>
                      </a:lnTo>
                      <a:lnTo>
                        <a:pt x="17" y="33"/>
                      </a:lnTo>
                      <a:lnTo>
                        <a:pt x="17" y="42"/>
                      </a:lnTo>
                      <a:lnTo>
                        <a:pt x="15" y="52"/>
                      </a:lnTo>
                      <a:lnTo>
                        <a:pt x="13" y="61"/>
                      </a:lnTo>
                      <a:lnTo>
                        <a:pt x="11" y="71"/>
                      </a:lnTo>
                      <a:lnTo>
                        <a:pt x="6" y="63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4" y="16"/>
                      </a:lnTo>
                      <a:lnTo>
                        <a:pt x="6" y="6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7058880" y="5207760"/>
                  <a:ext cx="13680" cy="31680"/>
                </a:xfrm>
                <a:custGeom>
                  <a:avLst/>
                  <a:gdLst/>
                  <a:ahLst/>
                  <a:rect l="l" t="t" r="r" b="b"/>
                  <a:pathLst>
                    <a:path w="21" h="66">
                      <a:moveTo>
                        <a:pt x="7" y="0"/>
                      </a:moveTo>
                      <a:lnTo>
                        <a:pt x="9" y="3"/>
                      </a:lnTo>
                      <a:lnTo>
                        <a:pt x="11" y="9"/>
                      </a:lnTo>
                      <a:lnTo>
                        <a:pt x="15" y="17"/>
                      </a:lnTo>
                      <a:lnTo>
                        <a:pt x="17" y="24"/>
                      </a:lnTo>
                      <a:lnTo>
                        <a:pt x="19" y="28"/>
                      </a:lnTo>
                      <a:lnTo>
                        <a:pt x="21" y="34"/>
                      </a:lnTo>
                      <a:lnTo>
                        <a:pt x="21" y="40"/>
                      </a:lnTo>
                      <a:lnTo>
                        <a:pt x="21" y="45"/>
                      </a:lnTo>
                      <a:lnTo>
                        <a:pt x="19" y="57"/>
                      </a:lnTo>
                      <a:lnTo>
                        <a:pt x="15" y="66"/>
                      </a:lnTo>
                      <a:lnTo>
                        <a:pt x="9" y="57"/>
                      </a:lnTo>
                      <a:lnTo>
                        <a:pt x="7" y="49"/>
                      </a:lnTo>
                      <a:lnTo>
                        <a:pt x="3" y="41"/>
                      </a:lnTo>
                      <a:lnTo>
                        <a:pt x="1" y="34"/>
                      </a:lnTo>
                      <a:lnTo>
                        <a:pt x="0" y="24"/>
                      </a:lnTo>
                      <a:lnTo>
                        <a:pt x="1" y="15"/>
                      </a:lnTo>
                      <a:lnTo>
                        <a:pt x="1" y="5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7126920" y="5203080"/>
                  <a:ext cx="14760" cy="32400"/>
                </a:xfrm>
                <a:custGeom>
                  <a:avLst/>
                  <a:gdLst/>
                  <a:ahLst/>
                  <a:rect l="l" t="t" r="r" b="b"/>
                  <a:pathLst>
                    <a:path w="23" h="71">
                      <a:moveTo>
                        <a:pt x="15" y="0"/>
                      </a:moveTo>
                      <a:lnTo>
                        <a:pt x="21" y="8"/>
                      </a:lnTo>
                      <a:lnTo>
                        <a:pt x="23" y="19"/>
                      </a:lnTo>
                      <a:lnTo>
                        <a:pt x="21" y="25"/>
                      </a:lnTo>
                      <a:lnTo>
                        <a:pt x="21" y="31"/>
                      </a:lnTo>
                      <a:lnTo>
                        <a:pt x="21" y="36"/>
                      </a:lnTo>
                      <a:lnTo>
                        <a:pt x="21" y="44"/>
                      </a:lnTo>
                      <a:lnTo>
                        <a:pt x="19" y="52"/>
                      </a:lnTo>
                      <a:lnTo>
                        <a:pt x="15" y="59"/>
                      </a:lnTo>
                      <a:lnTo>
                        <a:pt x="13" y="65"/>
                      </a:lnTo>
                      <a:lnTo>
                        <a:pt x="9" y="71"/>
                      </a:lnTo>
                      <a:lnTo>
                        <a:pt x="4" y="61"/>
                      </a:lnTo>
                      <a:lnTo>
                        <a:pt x="2" y="53"/>
                      </a:lnTo>
                      <a:lnTo>
                        <a:pt x="0" y="44"/>
                      </a:lnTo>
                      <a:lnTo>
                        <a:pt x="4" y="34"/>
                      </a:lnTo>
                      <a:lnTo>
                        <a:pt x="6" y="25"/>
                      </a:lnTo>
                      <a:lnTo>
                        <a:pt x="9" y="15"/>
                      </a:lnTo>
                      <a:lnTo>
                        <a:pt x="13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031880" y="5216040"/>
                  <a:ext cx="18360" cy="28440"/>
                </a:xfrm>
                <a:custGeom>
                  <a:avLst/>
                  <a:gdLst/>
                  <a:ahLst/>
                  <a:rect l="l" t="t" r="r" b="b"/>
                  <a:pathLst>
                    <a:path w="28" h="62">
                      <a:moveTo>
                        <a:pt x="4" y="0"/>
                      </a:moveTo>
                      <a:lnTo>
                        <a:pt x="7" y="4"/>
                      </a:lnTo>
                      <a:lnTo>
                        <a:pt x="13" y="9"/>
                      </a:lnTo>
                      <a:lnTo>
                        <a:pt x="17" y="17"/>
                      </a:lnTo>
                      <a:lnTo>
                        <a:pt x="23" y="24"/>
                      </a:lnTo>
                      <a:lnTo>
                        <a:pt x="25" y="34"/>
                      </a:lnTo>
                      <a:lnTo>
                        <a:pt x="26" y="45"/>
                      </a:lnTo>
                      <a:lnTo>
                        <a:pt x="28" y="53"/>
                      </a:lnTo>
                      <a:lnTo>
                        <a:pt x="25" y="62"/>
                      </a:lnTo>
                      <a:lnTo>
                        <a:pt x="17" y="55"/>
                      </a:lnTo>
                      <a:lnTo>
                        <a:pt x="13" y="49"/>
                      </a:lnTo>
                      <a:lnTo>
                        <a:pt x="7" y="40"/>
                      </a:lnTo>
                      <a:lnTo>
                        <a:pt x="4" y="32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012440" y="5230080"/>
                  <a:ext cx="20880" cy="259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5" y="0"/>
                      </a:moveTo>
                      <a:lnTo>
                        <a:pt x="7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6" y="23"/>
                      </a:lnTo>
                      <a:lnTo>
                        <a:pt x="28" y="29"/>
                      </a:lnTo>
                      <a:lnTo>
                        <a:pt x="32" y="36"/>
                      </a:lnTo>
                      <a:lnTo>
                        <a:pt x="34" y="44"/>
                      </a:lnTo>
                      <a:lnTo>
                        <a:pt x="34" y="53"/>
                      </a:lnTo>
                      <a:lnTo>
                        <a:pt x="28" y="53"/>
                      </a:lnTo>
                      <a:lnTo>
                        <a:pt x="26" y="55"/>
                      </a:lnTo>
                      <a:lnTo>
                        <a:pt x="19" y="48"/>
                      </a:lnTo>
                      <a:lnTo>
                        <a:pt x="13" y="42"/>
                      </a:lnTo>
                      <a:lnTo>
                        <a:pt x="7" y="34"/>
                      </a:lnTo>
                      <a:lnTo>
                        <a:pt x="3" y="29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7001280" y="5220720"/>
                  <a:ext cx="157680" cy="48240"/>
                </a:xfrm>
                <a:custGeom>
                  <a:avLst/>
                  <a:gdLst/>
                  <a:ahLst/>
                  <a:rect l="l" t="t" r="r" b="b"/>
                  <a:pathLst>
                    <a:path w="256" h="105">
                      <a:moveTo>
                        <a:pt x="0" y="84"/>
                      </a:moveTo>
                      <a:lnTo>
                        <a:pt x="0" y="80"/>
                      </a:lnTo>
                      <a:lnTo>
                        <a:pt x="3" y="78"/>
                      </a:lnTo>
                      <a:lnTo>
                        <a:pt x="9" y="71"/>
                      </a:lnTo>
                      <a:lnTo>
                        <a:pt x="19" y="65"/>
                      </a:lnTo>
                      <a:lnTo>
                        <a:pt x="30" y="57"/>
                      </a:lnTo>
                      <a:lnTo>
                        <a:pt x="43" y="48"/>
                      </a:lnTo>
                      <a:lnTo>
                        <a:pt x="58" y="40"/>
                      </a:lnTo>
                      <a:lnTo>
                        <a:pt x="76" y="31"/>
                      </a:lnTo>
                      <a:lnTo>
                        <a:pt x="95" y="21"/>
                      </a:lnTo>
                      <a:lnTo>
                        <a:pt x="114" y="15"/>
                      </a:lnTo>
                      <a:lnTo>
                        <a:pt x="135" y="8"/>
                      </a:lnTo>
                      <a:lnTo>
                        <a:pt x="157" y="4"/>
                      </a:lnTo>
                      <a:lnTo>
                        <a:pt x="180" y="0"/>
                      </a:lnTo>
                      <a:lnTo>
                        <a:pt x="205" y="0"/>
                      </a:lnTo>
                      <a:lnTo>
                        <a:pt x="230" y="4"/>
                      </a:lnTo>
                      <a:lnTo>
                        <a:pt x="256" y="10"/>
                      </a:lnTo>
                      <a:lnTo>
                        <a:pt x="254" y="10"/>
                      </a:lnTo>
                      <a:lnTo>
                        <a:pt x="252" y="15"/>
                      </a:lnTo>
                      <a:lnTo>
                        <a:pt x="247" y="19"/>
                      </a:lnTo>
                      <a:lnTo>
                        <a:pt x="241" y="27"/>
                      </a:lnTo>
                      <a:lnTo>
                        <a:pt x="233" y="33"/>
                      </a:lnTo>
                      <a:lnTo>
                        <a:pt x="226" y="42"/>
                      </a:lnTo>
                      <a:lnTo>
                        <a:pt x="214" y="52"/>
                      </a:lnTo>
                      <a:lnTo>
                        <a:pt x="203" y="63"/>
                      </a:lnTo>
                      <a:lnTo>
                        <a:pt x="190" y="71"/>
                      </a:lnTo>
                      <a:lnTo>
                        <a:pt x="174" y="80"/>
                      </a:lnTo>
                      <a:lnTo>
                        <a:pt x="157" y="88"/>
                      </a:lnTo>
                      <a:lnTo>
                        <a:pt x="140" y="95"/>
                      </a:lnTo>
                      <a:lnTo>
                        <a:pt x="119" y="101"/>
                      </a:lnTo>
                      <a:lnTo>
                        <a:pt x="100" y="103"/>
                      </a:lnTo>
                      <a:lnTo>
                        <a:pt x="77" y="105"/>
                      </a:lnTo>
                      <a:lnTo>
                        <a:pt x="55" y="105"/>
                      </a:lnTo>
                      <a:lnTo>
                        <a:pt x="45" y="103"/>
                      </a:lnTo>
                      <a:lnTo>
                        <a:pt x="36" y="101"/>
                      </a:lnTo>
                      <a:lnTo>
                        <a:pt x="24" y="99"/>
                      </a:lnTo>
                      <a:lnTo>
                        <a:pt x="17" y="99"/>
                      </a:lnTo>
                      <a:lnTo>
                        <a:pt x="0" y="84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7a9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024680" y="5230800"/>
                  <a:ext cx="99360" cy="29520"/>
                </a:xfrm>
                <a:custGeom>
                  <a:avLst/>
                  <a:gdLst/>
                  <a:ahLst/>
                  <a:rect l="l" t="t" r="r" b="b"/>
                  <a:pathLst>
                    <a:path w="161" h="65">
                      <a:moveTo>
                        <a:pt x="0" y="55"/>
                      </a:moveTo>
                      <a:lnTo>
                        <a:pt x="0" y="53"/>
                      </a:lnTo>
                      <a:lnTo>
                        <a:pt x="3" y="51"/>
                      </a:lnTo>
                      <a:lnTo>
                        <a:pt x="7" y="48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30" y="34"/>
                      </a:lnTo>
                      <a:lnTo>
                        <a:pt x="41" y="29"/>
                      </a:lnTo>
                      <a:lnTo>
                        <a:pt x="53" y="23"/>
                      </a:lnTo>
                      <a:lnTo>
                        <a:pt x="64" y="17"/>
                      </a:lnTo>
                      <a:lnTo>
                        <a:pt x="78" y="13"/>
                      </a:lnTo>
                      <a:lnTo>
                        <a:pt x="91" y="8"/>
                      </a:lnTo>
                      <a:lnTo>
                        <a:pt x="104" y="6"/>
                      </a:lnTo>
                      <a:lnTo>
                        <a:pt x="117" y="2"/>
                      </a:lnTo>
                      <a:lnTo>
                        <a:pt x="133" y="0"/>
                      </a:lnTo>
                      <a:lnTo>
                        <a:pt x="146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59" y="10"/>
                      </a:lnTo>
                      <a:lnTo>
                        <a:pt x="154" y="13"/>
                      </a:lnTo>
                      <a:lnTo>
                        <a:pt x="152" y="19"/>
                      </a:lnTo>
                      <a:lnTo>
                        <a:pt x="146" y="25"/>
                      </a:lnTo>
                      <a:lnTo>
                        <a:pt x="140" y="32"/>
                      </a:lnTo>
                      <a:lnTo>
                        <a:pt x="133" y="36"/>
                      </a:lnTo>
                      <a:lnTo>
                        <a:pt x="123" y="42"/>
                      </a:lnTo>
                      <a:lnTo>
                        <a:pt x="112" y="48"/>
                      </a:lnTo>
                      <a:lnTo>
                        <a:pt x="100" y="53"/>
                      </a:lnTo>
                      <a:lnTo>
                        <a:pt x="85" y="57"/>
                      </a:lnTo>
                      <a:lnTo>
                        <a:pt x="68" y="61"/>
                      </a:lnTo>
                      <a:lnTo>
                        <a:pt x="49" y="63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3" y="61"/>
                      </a:lnTo>
                      <a:lnTo>
                        <a:pt x="3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7056720" y="5240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21" y="40"/>
                      </a:moveTo>
                      <a:lnTo>
                        <a:pt x="26" y="36"/>
                      </a:lnTo>
                      <a:lnTo>
                        <a:pt x="34" y="32"/>
                      </a:lnTo>
                      <a:lnTo>
                        <a:pt x="36" y="25"/>
                      </a:lnTo>
                      <a:lnTo>
                        <a:pt x="40" y="1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9" y="2"/>
                      </a:lnTo>
                      <a:lnTo>
                        <a:pt x="4" y="8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4" y="27"/>
                      </a:lnTo>
                      <a:lnTo>
                        <a:pt x="7" y="34"/>
                      </a:lnTo>
                      <a:lnTo>
                        <a:pt x="13" y="36"/>
                      </a:lnTo>
                      <a:lnTo>
                        <a:pt x="21" y="40"/>
                      </a:lnTo>
                      <a:lnTo>
                        <a:pt x="21" y="40"/>
                      </a:lnTo>
                      <a:close/>
                    </a:path>
                  </a:pathLst>
                </a:custGeom>
                <a:solidFill>
                  <a:srgbClr val="544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354720" y="5408280"/>
                  <a:ext cx="59040" cy="147960"/>
                </a:xfrm>
                <a:custGeom>
                  <a:avLst/>
                  <a:gdLst/>
                  <a:ahLst/>
                  <a:rect l="l" t="t" r="r" b="b"/>
                  <a:pathLst>
                    <a:path w="95" h="318">
                      <a:moveTo>
                        <a:pt x="87" y="0"/>
                      </a:moveTo>
                      <a:lnTo>
                        <a:pt x="91" y="14"/>
                      </a:lnTo>
                      <a:lnTo>
                        <a:pt x="95" y="31"/>
                      </a:lnTo>
                      <a:lnTo>
                        <a:pt x="95" y="44"/>
                      </a:lnTo>
                      <a:lnTo>
                        <a:pt x="95" y="61"/>
                      </a:lnTo>
                      <a:lnTo>
                        <a:pt x="91" y="76"/>
                      </a:lnTo>
                      <a:lnTo>
                        <a:pt x="89" y="91"/>
                      </a:lnTo>
                      <a:lnTo>
                        <a:pt x="83" y="107"/>
                      </a:lnTo>
                      <a:lnTo>
                        <a:pt x="79" y="122"/>
                      </a:lnTo>
                      <a:lnTo>
                        <a:pt x="74" y="137"/>
                      </a:lnTo>
                      <a:lnTo>
                        <a:pt x="66" y="154"/>
                      </a:lnTo>
                      <a:lnTo>
                        <a:pt x="60" y="168"/>
                      </a:lnTo>
                      <a:lnTo>
                        <a:pt x="55" y="185"/>
                      </a:lnTo>
                      <a:lnTo>
                        <a:pt x="47" y="198"/>
                      </a:lnTo>
                      <a:lnTo>
                        <a:pt x="45" y="215"/>
                      </a:lnTo>
                      <a:lnTo>
                        <a:pt x="39" y="228"/>
                      </a:lnTo>
                      <a:lnTo>
                        <a:pt x="39" y="245"/>
                      </a:lnTo>
                      <a:lnTo>
                        <a:pt x="34" y="251"/>
                      </a:lnTo>
                      <a:lnTo>
                        <a:pt x="32" y="261"/>
                      </a:lnTo>
                      <a:lnTo>
                        <a:pt x="26" y="270"/>
                      </a:lnTo>
                      <a:lnTo>
                        <a:pt x="22" y="282"/>
                      </a:lnTo>
                      <a:lnTo>
                        <a:pt x="17" y="293"/>
                      </a:lnTo>
                      <a:lnTo>
                        <a:pt x="11" y="304"/>
                      </a:lnTo>
                      <a:lnTo>
                        <a:pt x="7" y="312"/>
                      </a:lnTo>
                      <a:lnTo>
                        <a:pt x="5" y="318"/>
                      </a:lnTo>
                      <a:lnTo>
                        <a:pt x="1" y="297"/>
                      </a:lnTo>
                      <a:lnTo>
                        <a:pt x="0" y="278"/>
                      </a:lnTo>
                      <a:lnTo>
                        <a:pt x="0" y="257"/>
                      </a:lnTo>
                      <a:lnTo>
                        <a:pt x="3" y="238"/>
                      </a:lnTo>
                      <a:lnTo>
                        <a:pt x="5" y="219"/>
                      </a:lnTo>
                      <a:lnTo>
                        <a:pt x="11" y="200"/>
                      </a:lnTo>
                      <a:lnTo>
                        <a:pt x="17" y="183"/>
                      </a:lnTo>
                      <a:lnTo>
                        <a:pt x="24" y="164"/>
                      </a:lnTo>
                      <a:lnTo>
                        <a:pt x="32" y="143"/>
                      </a:lnTo>
                      <a:lnTo>
                        <a:pt x="39" y="126"/>
                      </a:lnTo>
                      <a:lnTo>
                        <a:pt x="45" y="107"/>
                      </a:lnTo>
                      <a:lnTo>
                        <a:pt x="53" y="88"/>
                      </a:lnTo>
                      <a:lnTo>
                        <a:pt x="58" y="69"/>
                      </a:lnTo>
                      <a:lnTo>
                        <a:pt x="66" y="48"/>
                      </a:lnTo>
                      <a:lnTo>
                        <a:pt x="70" y="29"/>
                      </a:lnTo>
                      <a:lnTo>
                        <a:pt x="74" y="10"/>
                      </a:lnTo>
                      <a:lnTo>
                        <a:pt x="79" y="4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396480" y="5452920"/>
                  <a:ext cx="41760" cy="136800"/>
                </a:xfrm>
                <a:custGeom>
                  <a:avLst/>
                  <a:gdLst/>
                  <a:ahLst/>
                  <a:rect l="l" t="t" r="r" b="b"/>
                  <a:pathLst>
                    <a:path w="66" h="295">
                      <a:moveTo>
                        <a:pt x="55" y="0"/>
                      </a:moveTo>
                      <a:lnTo>
                        <a:pt x="59" y="17"/>
                      </a:lnTo>
                      <a:lnTo>
                        <a:pt x="65" y="33"/>
                      </a:lnTo>
                      <a:lnTo>
                        <a:pt x="66" y="50"/>
                      </a:lnTo>
                      <a:lnTo>
                        <a:pt x="66" y="67"/>
                      </a:lnTo>
                      <a:lnTo>
                        <a:pt x="66" y="82"/>
                      </a:lnTo>
                      <a:lnTo>
                        <a:pt x="65" y="99"/>
                      </a:lnTo>
                      <a:lnTo>
                        <a:pt x="61" y="114"/>
                      </a:lnTo>
                      <a:lnTo>
                        <a:pt x="59" y="131"/>
                      </a:lnTo>
                      <a:lnTo>
                        <a:pt x="53" y="149"/>
                      </a:lnTo>
                      <a:lnTo>
                        <a:pt x="49" y="164"/>
                      </a:lnTo>
                      <a:lnTo>
                        <a:pt x="44" y="181"/>
                      </a:lnTo>
                      <a:lnTo>
                        <a:pt x="42" y="198"/>
                      </a:lnTo>
                      <a:lnTo>
                        <a:pt x="38" y="215"/>
                      </a:lnTo>
                      <a:lnTo>
                        <a:pt x="36" y="232"/>
                      </a:lnTo>
                      <a:lnTo>
                        <a:pt x="34" y="249"/>
                      </a:lnTo>
                      <a:lnTo>
                        <a:pt x="34" y="268"/>
                      </a:lnTo>
                      <a:lnTo>
                        <a:pt x="27" y="274"/>
                      </a:lnTo>
                      <a:lnTo>
                        <a:pt x="23" y="282"/>
                      </a:lnTo>
                      <a:lnTo>
                        <a:pt x="19" y="287"/>
                      </a:lnTo>
                      <a:lnTo>
                        <a:pt x="15" y="295"/>
                      </a:lnTo>
                      <a:lnTo>
                        <a:pt x="8" y="282"/>
                      </a:lnTo>
                      <a:lnTo>
                        <a:pt x="2" y="266"/>
                      </a:lnTo>
                      <a:lnTo>
                        <a:pt x="0" y="253"/>
                      </a:lnTo>
                      <a:lnTo>
                        <a:pt x="0" y="238"/>
                      </a:lnTo>
                      <a:lnTo>
                        <a:pt x="0" y="223"/>
                      </a:lnTo>
                      <a:lnTo>
                        <a:pt x="2" y="209"/>
                      </a:lnTo>
                      <a:lnTo>
                        <a:pt x="6" y="194"/>
                      </a:lnTo>
                      <a:lnTo>
                        <a:pt x="11" y="179"/>
                      </a:lnTo>
                      <a:lnTo>
                        <a:pt x="13" y="164"/>
                      </a:lnTo>
                      <a:lnTo>
                        <a:pt x="19" y="149"/>
                      </a:lnTo>
                      <a:lnTo>
                        <a:pt x="23" y="133"/>
                      </a:lnTo>
                      <a:lnTo>
                        <a:pt x="28" y="120"/>
                      </a:lnTo>
                      <a:lnTo>
                        <a:pt x="30" y="105"/>
                      </a:lnTo>
                      <a:lnTo>
                        <a:pt x="36" y="90"/>
                      </a:lnTo>
                      <a:lnTo>
                        <a:pt x="38" y="74"/>
                      </a:lnTo>
                      <a:lnTo>
                        <a:pt x="40" y="61"/>
                      </a:lnTo>
                      <a:lnTo>
                        <a:pt x="40" y="54"/>
                      </a:lnTo>
                      <a:lnTo>
                        <a:pt x="42" y="46"/>
                      </a:lnTo>
                      <a:lnTo>
                        <a:pt x="42" y="34"/>
                      </a:lnTo>
                      <a:lnTo>
                        <a:pt x="46" y="25"/>
                      </a:lnTo>
                      <a:lnTo>
                        <a:pt x="47" y="15"/>
                      </a:lnTo>
                      <a:lnTo>
                        <a:pt x="51" y="8"/>
                      </a:lnTo>
                      <a:lnTo>
                        <a:pt x="53" y="2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443640" y="5518080"/>
                  <a:ext cx="28080" cy="81720"/>
                </a:xfrm>
                <a:custGeom>
                  <a:avLst/>
                  <a:gdLst/>
                  <a:ahLst/>
                  <a:rect l="l" t="t" r="r" b="b"/>
                  <a:pathLst>
                    <a:path w="48" h="177">
                      <a:moveTo>
                        <a:pt x="32" y="0"/>
                      </a:moveTo>
                      <a:lnTo>
                        <a:pt x="36" y="9"/>
                      </a:lnTo>
                      <a:lnTo>
                        <a:pt x="42" y="21"/>
                      </a:lnTo>
                      <a:lnTo>
                        <a:pt x="44" y="30"/>
                      </a:lnTo>
                      <a:lnTo>
                        <a:pt x="46" y="42"/>
                      </a:lnTo>
                      <a:lnTo>
                        <a:pt x="46" y="53"/>
                      </a:lnTo>
                      <a:lnTo>
                        <a:pt x="48" y="65"/>
                      </a:lnTo>
                      <a:lnTo>
                        <a:pt x="46" y="76"/>
                      </a:lnTo>
                      <a:lnTo>
                        <a:pt x="46" y="87"/>
                      </a:lnTo>
                      <a:lnTo>
                        <a:pt x="42" y="99"/>
                      </a:lnTo>
                      <a:lnTo>
                        <a:pt x="40" y="110"/>
                      </a:lnTo>
                      <a:lnTo>
                        <a:pt x="36" y="122"/>
                      </a:lnTo>
                      <a:lnTo>
                        <a:pt x="34" y="133"/>
                      </a:lnTo>
                      <a:lnTo>
                        <a:pt x="30" y="144"/>
                      </a:lnTo>
                      <a:lnTo>
                        <a:pt x="27" y="156"/>
                      </a:lnTo>
                      <a:lnTo>
                        <a:pt x="25" y="165"/>
                      </a:lnTo>
                      <a:lnTo>
                        <a:pt x="23" y="177"/>
                      </a:lnTo>
                      <a:lnTo>
                        <a:pt x="13" y="167"/>
                      </a:lnTo>
                      <a:lnTo>
                        <a:pt x="10" y="158"/>
                      </a:lnTo>
                      <a:lnTo>
                        <a:pt x="4" y="146"/>
                      </a:lnTo>
                      <a:lnTo>
                        <a:pt x="2" y="137"/>
                      </a:lnTo>
                      <a:lnTo>
                        <a:pt x="0" y="124"/>
                      </a:lnTo>
                      <a:lnTo>
                        <a:pt x="0" y="114"/>
                      </a:lnTo>
                      <a:lnTo>
                        <a:pt x="0" y="101"/>
                      </a:lnTo>
                      <a:lnTo>
                        <a:pt x="4" y="91"/>
                      </a:lnTo>
                      <a:lnTo>
                        <a:pt x="6" y="78"/>
                      </a:lnTo>
                      <a:lnTo>
                        <a:pt x="10" y="65"/>
                      </a:lnTo>
                      <a:lnTo>
                        <a:pt x="11" y="53"/>
                      </a:lnTo>
                      <a:lnTo>
                        <a:pt x="15" y="42"/>
                      </a:lnTo>
                      <a:lnTo>
                        <a:pt x="19" y="30"/>
                      </a:lnTo>
                      <a:lnTo>
                        <a:pt x="25" y="19"/>
                      </a:lnTo>
                      <a:lnTo>
                        <a:pt x="27" y="9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c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61400" y="5464080"/>
                  <a:ext cx="43920" cy="3888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63" y="0"/>
                      </a:moveTo>
                      <a:lnTo>
                        <a:pt x="66" y="6"/>
                      </a:lnTo>
                      <a:lnTo>
                        <a:pt x="70" y="13"/>
                      </a:lnTo>
                      <a:lnTo>
                        <a:pt x="70" y="17"/>
                      </a:lnTo>
                      <a:lnTo>
                        <a:pt x="70" y="25"/>
                      </a:lnTo>
                      <a:lnTo>
                        <a:pt x="66" y="30"/>
                      </a:lnTo>
                      <a:lnTo>
                        <a:pt x="63" y="36"/>
                      </a:lnTo>
                      <a:lnTo>
                        <a:pt x="59" y="44"/>
                      </a:lnTo>
                      <a:lnTo>
                        <a:pt x="55" y="49"/>
                      </a:lnTo>
                      <a:lnTo>
                        <a:pt x="47" y="53"/>
                      </a:lnTo>
                      <a:lnTo>
                        <a:pt x="40" y="59"/>
                      </a:lnTo>
                      <a:lnTo>
                        <a:pt x="34" y="65"/>
                      </a:lnTo>
                      <a:lnTo>
                        <a:pt x="27" y="70"/>
                      </a:lnTo>
                      <a:lnTo>
                        <a:pt x="19" y="72"/>
                      </a:lnTo>
                      <a:lnTo>
                        <a:pt x="13" y="78"/>
                      </a:lnTo>
                      <a:lnTo>
                        <a:pt x="8" y="80"/>
                      </a:lnTo>
                      <a:lnTo>
                        <a:pt x="4" y="84"/>
                      </a:lnTo>
                      <a:lnTo>
                        <a:pt x="2" y="78"/>
                      </a:lnTo>
                      <a:lnTo>
                        <a:pt x="2" y="72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8" y="51"/>
                      </a:lnTo>
                      <a:lnTo>
                        <a:pt x="15" y="44"/>
                      </a:lnTo>
                      <a:lnTo>
                        <a:pt x="23" y="36"/>
                      </a:lnTo>
                      <a:lnTo>
                        <a:pt x="32" y="30"/>
                      </a:lnTo>
                      <a:lnTo>
                        <a:pt x="38" y="23"/>
                      </a:lnTo>
                      <a:lnTo>
                        <a:pt x="47" y="15"/>
                      </a:lnTo>
                      <a:lnTo>
                        <a:pt x="55" y="8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72200" y="5491080"/>
                  <a:ext cx="47880" cy="40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8" y="13"/>
                      </a:lnTo>
                      <a:lnTo>
                        <a:pt x="78" y="21"/>
                      </a:lnTo>
                      <a:lnTo>
                        <a:pt x="78" y="28"/>
                      </a:lnTo>
                      <a:lnTo>
                        <a:pt x="74" y="34"/>
                      </a:lnTo>
                      <a:lnTo>
                        <a:pt x="70" y="40"/>
                      </a:lnTo>
                      <a:lnTo>
                        <a:pt x="67" y="46"/>
                      </a:lnTo>
                      <a:lnTo>
                        <a:pt x="61" y="51"/>
                      </a:lnTo>
                      <a:lnTo>
                        <a:pt x="55" y="57"/>
                      </a:lnTo>
                      <a:lnTo>
                        <a:pt x="48" y="63"/>
                      </a:lnTo>
                      <a:lnTo>
                        <a:pt x="42" y="66"/>
                      </a:lnTo>
                      <a:lnTo>
                        <a:pt x="34" y="72"/>
                      </a:lnTo>
                      <a:lnTo>
                        <a:pt x="29" y="76"/>
                      </a:lnTo>
                      <a:lnTo>
                        <a:pt x="23" y="80"/>
                      </a:lnTo>
                      <a:lnTo>
                        <a:pt x="17" y="84"/>
                      </a:lnTo>
                      <a:lnTo>
                        <a:pt x="13" y="87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68"/>
                      </a:lnTo>
                      <a:lnTo>
                        <a:pt x="0" y="65"/>
                      </a:lnTo>
                      <a:lnTo>
                        <a:pt x="8" y="55"/>
                      </a:lnTo>
                      <a:lnTo>
                        <a:pt x="17" y="47"/>
                      </a:lnTo>
                      <a:lnTo>
                        <a:pt x="27" y="40"/>
                      </a:lnTo>
                      <a:lnTo>
                        <a:pt x="36" y="34"/>
                      </a:lnTo>
                      <a:lnTo>
                        <a:pt x="46" y="27"/>
                      </a:lnTo>
                      <a:lnTo>
                        <a:pt x="55" y="19"/>
                      </a:lnTo>
                      <a:lnTo>
                        <a:pt x="63" y="9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78320" y="552456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0" y="0"/>
                      </a:moveTo>
                      <a:lnTo>
                        <a:pt x="64" y="6"/>
                      </a:lnTo>
                      <a:lnTo>
                        <a:pt x="68" y="14"/>
                      </a:lnTo>
                      <a:lnTo>
                        <a:pt x="66" y="21"/>
                      </a:lnTo>
                      <a:lnTo>
                        <a:pt x="66" y="29"/>
                      </a:lnTo>
                      <a:lnTo>
                        <a:pt x="60" y="36"/>
                      </a:lnTo>
                      <a:lnTo>
                        <a:pt x="57" y="42"/>
                      </a:lnTo>
                      <a:lnTo>
                        <a:pt x="49" y="50"/>
                      </a:lnTo>
                      <a:lnTo>
                        <a:pt x="43" y="55"/>
                      </a:lnTo>
                      <a:lnTo>
                        <a:pt x="32" y="61"/>
                      </a:lnTo>
                      <a:lnTo>
                        <a:pt x="20" y="67"/>
                      </a:lnTo>
                      <a:lnTo>
                        <a:pt x="11" y="72"/>
                      </a:lnTo>
                      <a:lnTo>
                        <a:pt x="3" y="78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1" y="52"/>
                      </a:lnTo>
                      <a:lnTo>
                        <a:pt x="7" y="40"/>
                      </a:lnTo>
                      <a:lnTo>
                        <a:pt x="17" y="33"/>
                      </a:lnTo>
                      <a:lnTo>
                        <a:pt x="22" y="29"/>
                      </a:lnTo>
                      <a:lnTo>
                        <a:pt x="28" y="23"/>
                      </a:lnTo>
                      <a:lnTo>
                        <a:pt x="34" y="19"/>
                      </a:lnTo>
                      <a:lnTo>
                        <a:pt x="41" y="15"/>
                      </a:lnTo>
                      <a:lnTo>
                        <a:pt x="51" y="8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93440" y="5560920"/>
                  <a:ext cx="39240" cy="342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59" y="0"/>
                      </a:moveTo>
                      <a:lnTo>
                        <a:pt x="63" y="6"/>
                      </a:lnTo>
                      <a:lnTo>
                        <a:pt x="65" y="13"/>
                      </a:lnTo>
                      <a:lnTo>
                        <a:pt x="65" y="21"/>
                      </a:lnTo>
                      <a:lnTo>
                        <a:pt x="63" y="29"/>
                      </a:lnTo>
                      <a:lnTo>
                        <a:pt x="59" y="36"/>
                      </a:lnTo>
                      <a:lnTo>
                        <a:pt x="55" y="44"/>
                      </a:lnTo>
                      <a:lnTo>
                        <a:pt x="48" y="50"/>
                      </a:lnTo>
                      <a:lnTo>
                        <a:pt x="42" y="57"/>
                      </a:lnTo>
                      <a:lnTo>
                        <a:pt x="33" y="63"/>
                      </a:lnTo>
                      <a:lnTo>
                        <a:pt x="21" y="69"/>
                      </a:lnTo>
                      <a:lnTo>
                        <a:pt x="12" y="72"/>
                      </a:lnTo>
                      <a:lnTo>
                        <a:pt x="4" y="74"/>
                      </a:lnTo>
                      <a:lnTo>
                        <a:pt x="0" y="67"/>
                      </a:lnTo>
                      <a:lnTo>
                        <a:pt x="0" y="61"/>
                      </a:lnTo>
                      <a:lnTo>
                        <a:pt x="0" y="53"/>
                      </a:lnTo>
                      <a:lnTo>
                        <a:pt x="4" y="50"/>
                      </a:lnTo>
                      <a:lnTo>
                        <a:pt x="12" y="38"/>
                      </a:lnTo>
                      <a:lnTo>
                        <a:pt x="21" y="33"/>
                      </a:lnTo>
                      <a:lnTo>
                        <a:pt x="31" y="23"/>
                      </a:lnTo>
                      <a:lnTo>
                        <a:pt x="42" y="15"/>
                      </a:lnTo>
                      <a:lnTo>
                        <a:pt x="52" y="8"/>
                      </a:lnTo>
                      <a:lnTo>
                        <a:pt x="59" y="0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207120" y="5599440"/>
                  <a:ext cx="38160" cy="33480"/>
                </a:xfrm>
                <a:custGeom>
                  <a:avLst/>
                  <a:gdLst/>
                  <a:ahLst/>
                  <a:rect l="l" t="t" r="r" b="b"/>
                  <a:pathLst>
                    <a:path w="63" h="70">
                      <a:moveTo>
                        <a:pt x="55" y="0"/>
                      </a:moveTo>
                      <a:lnTo>
                        <a:pt x="61" y="9"/>
                      </a:lnTo>
                      <a:lnTo>
                        <a:pt x="63" y="21"/>
                      </a:lnTo>
                      <a:lnTo>
                        <a:pt x="59" y="30"/>
                      </a:lnTo>
                      <a:lnTo>
                        <a:pt x="53" y="40"/>
                      </a:lnTo>
                      <a:lnTo>
                        <a:pt x="44" y="49"/>
                      </a:lnTo>
                      <a:lnTo>
                        <a:pt x="34" y="57"/>
                      </a:lnTo>
                      <a:lnTo>
                        <a:pt x="23" y="63"/>
                      </a:lnTo>
                      <a:lnTo>
                        <a:pt x="15" y="70"/>
                      </a:lnTo>
                      <a:lnTo>
                        <a:pt x="12" y="66"/>
                      </a:lnTo>
                      <a:lnTo>
                        <a:pt x="8" y="63"/>
                      </a:lnTo>
                      <a:lnTo>
                        <a:pt x="2" y="61"/>
                      </a:lnTo>
                      <a:lnTo>
                        <a:pt x="0" y="59"/>
                      </a:lnTo>
                      <a:lnTo>
                        <a:pt x="2" y="47"/>
                      </a:lnTo>
                      <a:lnTo>
                        <a:pt x="8" y="40"/>
                      </a:lnTo>
                      <a:lnTo>
                        <a:pt x="13" y="32"/>
                      </a:lnTo>
                      <a:lnTo>
                        <a:pt x="21" y="26"/>
                      </a:lnTo>
                      <a:lnTo>
                        <a:pt x="29" y="19"/>
                      </a:lnTo>
                      <a:lnTo>
                        <a:pt x="38" y="13"/>
                      </a:lnTo>
                      <a:lnTo>
                        <a:pt x="46" y="6"/>
                      </a:lnTo>
                      <a:lnTo>
                        <a:pt x="55" y="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214320" y="5635080"/>
                  <a:ext cx="43200" cy="39960"/>
                </a:xfrm>
                <a:custGeom>
                  <a:avLst/>
                  <a:gdLst/>
                  <a:ahLst/>
                  <a:rect l="l" t="t" r="r" b="b"/>
                  <a:pathLst>
                    <a:path w="71" h="85">
                      <a:moveTo>
                        <a:pt x="65" y="0"/>
                      </a:moveTo>
                      <a:lnTo>
                        <a:pt x="69" y="7"/>
                      </a:lnTo>
                      <a:lnTo>
                        <a:pt x="71" y="15"/>
                      </a:lnTo>
                      <a:lnTo>
                        <a:pt x="71" y="25"/>
                      </a:lnTo>
                      <a:lnTo>
                        <a:pt x="69" y="34"/>
                      </a:lnTo>
                      <a:lnTo>
                        <a:pt x="65" y="42"/>
                      </a:lnTo>
                      <a:lnTo>
                        <a:pt x="59" y="49"/>
                      </a:lnTo>
                      <a:lnTo>
                        <a:pt x="52" y="57"/>
                      </a:lnTo>
                      <a:lnTo>
                        <a:pt x="46" y="66"/>
                      </a:lnTo>
                      <a:lnTo>
                        <a:pt x="35" y="72"/>
                      </a:lnTo>
                      <a:lnTo>
                        <a:pt x="23" y="78"/>
                      </a:lnTo>
                      <a:lnTo>
                        <a:pt x="12" y="84"/>
                      </a:lnTo>
                      <a:lnTo>
                        <a:pt x="2" y="85"/>
                      </a:lnTo>
                      <a:lnTo>
                        <a:pt x="0" y="78"/>
                      </a:lnTo>
                      <a:lnTo>
                        <a:pt x="0" y="70"/>
                      </a:lnTo>
                      <a:lnTo>
                        <a:pt x="2" y="64"/>
                      </a:lnTo>
                      <a:lnTo>
                        <a:pt x="6" y="59"/>
                      </a:lnTo>
                      <a:lnTo>
                        <a:pt x="14" y="49"/>
                      </a:lnTo>
                      <a:lnTo>
                        <a:pt x="25" y="38"/>
                      </a:lnTo>
                      <a:lnTo>
                        <a:pt x="35" y="28"/>
                      </a:lnTo>
                      <a:lnTo>
                        <a:pt x="46" y="21"/>
                      </a:lnTo>
                      <a:lnTo>
                        <a:pt x="57" y="11"/>
                      </a:lnTo>
                      <a:lnTo>
                        <a:pt x="65" y="0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225480" y="5679360"/>
                  <a:ext cx="47880" cy="42840"/>
                </a:xfrm>
                <a:custGeom>
                  <a:avLst/>
                  <a:gdLst/>
                  <a:ahLst/>
                  <a:rect l="l" t="t" r="r" b="b"/>
                  <a:pathLst>
                    <a:path w="77" h="91">
                      <a:moveTo>
                        <a:pt x="74" y="0"/>
                      </a:moveTo>
                      <a:lnTo>
                        <a:pt x="76" y="8"/>
                      </a:lnTo>
                      <a:lnTo>
                        <a:pt x="77" y="13"/>
                      </a:lnTo>
                      <a:lnTo>
                        <a:pt x="77" y="21"/>
                      </a:lnTo>
                      <a:lnTo>
                        <a:pt x="77" y="27"/>
                      </a:lnTo>
                      <a:lnTo>
                        <a:pt x="72" y="38"/>
                      </a:lnTo>
                      <a:lnTo>
                        <a:pt x="62" y="49"/>
                      </a:lnTo>
                      <a:lnTo>
                        <a:pt x="55" y="53"/>
                      </a:lnTo>
                      <a:lnTo>
                        <a:pt x="49" y="59"/>
                      </a:lnTo>
                      <a:lnTo>
                        <a:pt x="43" y="63"/>
                      </a:lnTo>
                      <a:lnTo>
                        <a:pt x="38" y="68"/>
                      </a:lnTo>
                      <a:lnTo>
                        <a:pt x="26" y="78"/>
                      </a:lnTo>
                      <a:lnTo>
                        <a:pt x="19" y="91"/>
                      </a:lnTo>
                      <a:lnTo>
                        <a:pt x="9" y="85"/>
                      </a:lnTo>
                      <a:lnTo>
                        <a:pt x="0" y="84"/>
                      </a:lnTo>
                      <a:lnTo>
                        <a:pt x="1" y="76"/>
                      </a:lnTo>
                      <a:lnTo>
                        <a:pt x="3" y="70"/>
                      </a:lnTo>
                      <a:lnTo>
                        <a:pt x="7" y="65"/>
                      </a:lnTo>
                      <a:lnTo>
                        <a:pt x="11" y="59"/>
                      </a:lnTo>
                      <a:lnTo>
                        <a:pt x="20" y="49"/>
                      </a:lnTo>
                      <a:lnTo>
                        <a:pt x="30" y="40"/>
                      </a:lnTo>
                      <a:lnTo>
                        <a:pt x="39" y="28"/>
                      </a:lnTo>
                      <a:lnTo>
                        <a:pt x="51" y="21"/>
                      </a:lnTo>
                      <a:lnTo>
                        <a:pt x="62" y="11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241320" y="5726160"/>
                  <a:ext cx="40680" cy="3528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63" y="0"/>
                      </a:moveTo>
                      <a:lnTo>
                        <a:pt x="65" y="5"/>
                      </a:lnTo>
                      <a:lnTo>
                        <a:pt x="67" y="13"/>
                      </a:lnTo>
                      <a:lnTo>
                        <a:pt x="67" y="19"/>
                      </a:lnTo>
                      <a:lnTo>
                        <a:pt x="65" y="26"/>
                      </a:lnTo>
                      <a:lnTo>
                        <a:pt x="63" y="32"/>
                      </a:lnTo>
                      <a:lnTo>
                        <a:pt x="59" y="38"/>
                      </a:lnTo>
                      <a:lnTo>
                        <a:pt x="55" y="45"/>
                      </a:lnTo>
                      <a:lnTo>
                        <a:pt x="50" y="51"/>
                      </a:lnTo>
                      <a:lnTo>
                        <a:pt x="44" y="55"/>
                      </a:lnTo>
                      <a:lnTo>
                        <a:pt x="36" y="60"/>
                      </a:lnTo>
                      <a:lnTo>
                        <a:pt x="31" y="64"/>
                      </a:lnTo>
                      <a:lnTo>
                        <a:pt x="23" y="68"/>
                      </a:lnTo>
                      <a:lnTo>
                        <a:pt x="17" y="70"/>
                      </a:lnTo>
                      <a:lnTo>
                        <a:pt x="12" y="74"/>
                      </a:lnTo>
                      <a:lnTo>
                        <a:pt x="4" y="76"/>
                      </a:lnTo>
                      <a:lnTo>
                        <a:pt x="0" y="76"/>
                      </a:lnTo>
                      <a:lnTo>
                        <a:pt x="0" y="68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6" y="47"/>
                      </a:lnTo>
                      <a:lnTo>
                        <a:pt x="12" y="41"/>
                      </a:lnTo>
                      <a:lnTo>
                        <a:pt x="19" y="36"/>
                      </a:lnTo>
                      <a:lnTo>
                        <a:pt x="25" y="28"/>
                      </a:lnTo>
                      <a:lnTo>
                        <a:pt x="32" y="24"/>
                      </a:lnTo>
                      <a:lnTo>
                        <a:pt x="38" y="17"/>
                      </a:lnTo>
                      <a:lnTo>
                        <a:pt x="46" y="11"/>
                      </a:lnTo>
                      <a:lnTo>
                        <a:pt x="53" y="3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255000" y="5761440"/>
                  <a:ext cx="41760" cy="36360"/>
                </a:xfrm>
                <a:custGeom>
                  <a:avLst/>
                  <a:gdLst/>
                  <a:ahLst/>
                  <a:rect l="l" t="t" r="r" b="b"/>
                  <a:pathLst>
                    <a:path w="68" h="78">
                      <a:moveTo>
                        <a:pt x="63" y="0"/>
                      </a:moveTo>
                      <a:lnTo>
                        <a:pt x="67" y="7"/>
                      </a:lnTo>
                      <a:lnTo>
                        <a:pt x="68" y="15"/>
                      </a:lnTo>
                      <a:lnTo>
                        <a:pt x="68" y="23"/>
                      </a:lnTo>
                      <a:lnTo>
                        <a:pt x="67" y="30"/>
                      </a:lnTo>
                      <a:lnTo>
                        <a:pt x="61" y="38"/>
                      </a:lnTo>
                      <a:lnTo>
                        <a:pt x="55" y="43"/>
                      </a:lnTo>
                      <a:lnTo>
                        <a:pt x="48" y="51"/>
                      </a:lnTo>
                      <a:lnTo>
                        <a:pt x="42" y="57"/>
                      </a:lnTo>
                      <a:lnTo>
                        <a:pt x="30" y="62"/>
                      </a:lnTo>
                      <a:lnTo>
                        <a:pt x="21" y="68"/>
                      </a:lnTo>
                      <a:lnTo>
                        <a:pt x="10" y="72"/>
                      </a:lnTo>
                      <a:lnTo>
                        <a:pt x="2" y="78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0" y="57"/>
                      </a:lnTo>
                      <a:lnTo>
                        <a:pt x="2" y="51"/>
                      </a:lnTo>
                      <a:lnTo>
                        <a:pt x="10" y="40"/>
                      </a:lnTo>
                      <a:lnTo>
                        <a:pt x="19" y="30"/>
                      </a:lnTo>
                      <a:lnTo>
                        <a:pt x="29" y="21"/>
                      </a:lnTo>
                      <a:lnTo>
                        <a:pt x="42" y="15"/>
                      </a:lnTo>
                      <a:lnTo>
                        <a:pt x="51" y="7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092360" y="5090040"/>
                  <a:ext cx="64080" cy="63360"/>
                </a:xfrm>
                <a:custGeom>
                  <a:avLst/>
                  <a:gdLst/>
                  <a:ahLst/>
                  <a:rect l="l" t="t" r="r" b="b"/>
                  <a:pathLst>
                    <a:path w="104" h="137">
                      <a:moveTo>
                        <a:pt x="36" y="0"/>
                      </a:moveTo>
                      <a:lnTo>
                        <a:pt x="49" y="0"/>
                      </a:lnTo>
                      <a:lnTo>
                        <a:pt x="59" y="4"/>
                      </a:lnTo>
                      <a:lnTo>
                        <a:pt x="70" y="7"/>
                      </a:lnTo>
                      <a:lnTo>
                        <a:pt x="80" y="15"/>
                      </a:lnTo>
                      <a:lnTo>
                        <a:pt x="87" y="23"/>
                      </a:lnTo>
                      <a:lnTo>
                        <a:pt x="93" y="34"/>
                      </a:lnTo>
                      <a:lnTo>
                        <a:pt x="99" y="45"/>
                      </a:lnTo>
                      <a:lnTo>
                        <a:pt x="102" y="59"/>
                      </a:lnTo>
                      <a:lnTo>
                        <a:pt x="104" y="70"/>
                      </a:lnTo>
                      <a:lnTo>
                        <a:pt x="104" y="83"/>
                      </a:lnTo>
                      <a:lnTo>
                        <a:pt x="101" y="93"/>
                      </a:lnTo>
                      <a:lnTo>
                        <a:pt x="99" y="106"/>
                      </a:lnTo>
                      <a:lnTo>
                        <a:pt x="91" y="114"/>
                      </a:lnTo>
                      <a:lnTo>
                        <a:pt x="83" y="123"/>
                      </a:lnTo>
                      <a:lnTo>
                        <a:pt x="74" y="129"/>
                      </a:lnTo>
                      <a:lnTo>
                        <a:pt x="63" y="135"/>
                      </a:lnTo>
                      <a:lnTo>
                        <a:pt x="55" y="137"/>
                      </a:lnTo>
                      <a:lnTo>
                        <a:pt x="47" y="137"/>
                      </a:lnTo>
                      <a:lnTo>
                        <a:pt x="38" y="135"/>
                      </a:lnTo>
                      <a:lnTo>
                        <a:pt x="30" y="133"/>
                      </a:lnTo>
                      <a:lnTo>
                        <a:pt x="25" y="129"/>
                      </a:lnTo>
                      <a:lnTo>
                        <a:pt x="19" y="123"/>
                      </a:lnTo>
                      <a:lnTo>
                        <a:pt x="13" y="118"/>
                      </a:lnTo>
                      <a:lnTo>
                        <a:pt x="9" y="112"/>
                      </a:lnTo>
                      <a:lnTo>
                        <a:pt x="6" y="104"/>
                      </a:lnTo>
                      <a:lnTo>
                        <a:pt x="4" y="97"/>
                      </a:lnTo>
                      <a:lnTo>
                        <a:pt x="0" y="89"/>
                      </a:lnTo>
                      <a:lnTo>
                        <a:pt x="0" y="83"/>
                      </a:lnTo>
                      <a:lnTo>
                        <a:pt x="0" y="76"/>
                      </a:lnTo>
                      <a:lnTo>
                        <a:pt x="4" y="68"/>
                      </a:lnTo>
                      <a:lnTo>
                        <a:pt x="7" y="63"/>
                      </a:lnTo>
                      <a:lnTo>
                        <a:pt x="15" y="57"/>
                      </a:lnTo>
                      <a:lnTo>
                        <a:pt x="21" y="55"/>
                      </a:lnTo>
                      <a:lnTo>
                        <a:pt x="28" y="53"/>
                      </a:lnTo>
                      <a:lnTo>
                        <a:pt x="36" y="51"/>
                      </a:lnTo>
                      <a:lnTo>
                        <a:pt x="44" y="51"/>
                      </a:lnTo>
                      <a:lnTo>
                        <a:pt x="42" y="59"/>
                      </a:lnTo>
                      <a:lnTo>
                        <a:pt x="38" y="70"/>
                      </a:lnTo>
                      <a:lnTo>
                        <a:pt x="32" y="78"/>
                      </a:lnTo>
                      <a:lnTo>
                        <a:pt x="26" y="83"/>
                      </a:lnTo>
                      <a:lnTo>
                        <a:pt x="28" y="89"/>
                      </a:lnTo>
                      <a:lnTo>
                        <a:pt x="32" y="95"/>
                      </a:lnTo>
                      <a:lnTo>
                        <a:pt x="36" y="99"/>
                      </a:lnTo>
                      <a:lnTo>
                        <a:pt x="42" y="101"/>
                      </a:lnTo>
                      <a:lnTo>
                        <a:pt x="49" y="99"/>
                      </a:lnTo>
                      <a:lnTo>
                        <a:pt x="55" y="99"/>
                      </a:lnTo>
                      <a:lnTo>
                        <a:pt x="63" y="95"/>
                      </a:lnTo>
                      <a:lnTo>
                        <a:pt x="68" y="93"/>
                      </a:lnTo>
                      <a:lnTo>
                        <a:pt x="78" y="85"/>
                      </a:lnTo>
                      <a:lnTo>
                        <a:pt x="85" y="74"/>
                      </a:lnTo>
                      <a:lnTo>
                        <a:pt x="85" y="68"/>
                      </a:lnTo>
                      <a:lnTo>
                        <a:pt x="85" y="63"/>
                      </a:lnTo>
                      <a:lnTo>
                        <a:pt x="82" y="57"/>
                      </a:lnTo>
                      <a:lnTo>
                        <a:pt x="78" y="51"/>
                      </a:lnTo>
                      <a:lnTo>
                        <a:pt x="74" y="45"/>
                      </a:lnTo>
                      <a:lnTo>
                        <a:pt x="70" y="42"/>
                      </a:lnTo>
                      <a:lnTo>
                        <a:pt x="64" y="38"/>
                      </a:lnTo>
                      <a:lnTo>
                        <a:pt x="61" y="38"/>
                      </a:lnTo>
                      <a:lnTo>
                        <a:pt x="55" y="36"/>
                      </a:lnTo>
                      <a:lnTo>
                        <a:pt x="49" y="36"/>
                      </a:lnTo>
                      <a:lnTo>
                        <a:pt x="44" y="36"/>
                      </a:lnTo>
                      <a:lnTo>
                        <a:pt x="40" y="36"/>
                      </a:lnTo>
                      <a:lnTo>
                        <a:pt x="28" y="36"/>
                      </a:lnTo>
                      <a:lnTo>
                        <a:pt x="21" y="32"/>
                      </a:lnTo>
                      <a:lnTo>
                        <a:pt x="19" y="28"/>
                      </a:lnTo>
                      <a:lnTo>
                        <a:pt x="19" y="25"/>
                      </a:lnTo>
                      <a:lnTo>
                        <a:pt x="21" y="17"/>
                      </a:lnTo>
                      <a:lnTo>
                        <a:pt x="25" y="9"/>
                      </a:lnTo>
                      <a:lnTo>
                        <a:pt x="28" y="6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173720" y="509652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2" h="124">
                      <a:moveTo>
                        <a:pt x="32" y="0"/>
                      </a:moveTo>
                      <a:lnTo>
                        <a:pt x="36" y="4"/>
                      </a:lnTo>
                      <a:lnTo>
                        <a:pt x="40" y="10"/>
                      </a:lnTo>
                      <a:lnTo>
                        <a:pt x="40" y="15"/>
                      </a:lnTo>
                      <a:lnTo>
                        <a:pt x="40" y="21"/>
                      </a:lnTo>
                      <a:lnTo>
                        <a:pt x="36" y="31"/>
                      </a:lnTo>
                      <a:lnTo>
                        <a:pt x="30" y="42"/>
                      </a:lnTo>
                      <a:lnTo>
                        <a:pt x="25" y="51"/>
                      </a:lnTo>
                      <a:lnTo>
                        <a:pt x="21" y="63"/>
                      </a:lnTo>
                      <a:lnTo>
                        <a:pt x="21" y="67"/>
                      </a:lnTo>
                      <a:lnTo>
                        <a:pt x="23" y="72"/>
                      </a:lnTo>
                      <a:lnTo>
                        <a:pt x="26" y="78"/>
                      </a:lnTo>
                      <a:lnTo>
                        <a:pt x="34" y="82"/>
                      </a:lnTo>
                      <a:lnTo>
                        <a:pt x="42" y="84"/>
                      </a:lnTo>
                      <a:lnTo>
                        <a:pt x="49" y="86"/>
                      </a:lnTo>
                      <a:lnTo>
                        <a:pt x="59" y="86"/>
                      </a:lnTo>
                      <a:lnTo>
                        <a:pt x="66" y="88"/>
                      </a:lnTo>
                      <a:lnTo>
                        <a:pt x="70" y="78"/>
                      </a:lnTo>
                      <a:lnTo>
                        <a:pt x="76" y="69"/>
                      </a:lnTo>
                      <a:lnTo>
                        <a:pt x="72" y="67"/>
                      </a:lnTo>
                      <a:lnTo>
                        <a:pt x="68" y="67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45" y="59"/>
                      </a:lnTo>
                      <a:lnTo>
                        <a:pt x="40" y="57"/>
                      </a:lnTo>
                      <a:lnTo>
                        <a:pt x="44" y="50"/>
                      </a:lnTo>
                      <a:lnTo>
                        <a:pt x="45" y="42"/>
                      </a:lnTo>
                      <a:lnTo>
                        <a:pt x="49" y="36"/>
                      </a:lnTo>
                      <a:lnTo>
                        <a:pt x="55" y="32"/>
                      </a:lnTo>
                      <a:lnTo>
                        <a:pt x="63" y="32"/>
                      </a:lnTo>
                      <a:lnTo>
                        <a:pt x="70" y="32"/>
                      </a:lnTo>
                      <a:lnTo>
                        <a:pt x="78" y="32"/>
                      </a:lnTo>
                      <a:lnTo>
                        <a:pt x="85" y="34"/>
                      </a:lnTo>
                      <a:lnTo>
                        <a:pt x="95" y="44"/>
                      </a:lnTo>
                      <a:lnTo>
                        <a:pt x="101" y="53"/>
                      </a:lnTo>
                      <a:lnTo>
                        <a:pt x="102" y="65"/>
                      </a:lnTo>
                      <a:lnTo>
                        <a:pt x="102" y="74"/>
                      </a:lnTo>
                      <a:lnTo>
                        <a:pt x="99" y="86"/>
                      </a:lnTo>
                      <a:lnTo>
                        <a:pt x="95" y="95"/>
                      </a:lnTo>
                      <a:lnTo>
                        <a:pt x="89" y="103"/>
                      </a:lnTo>
                      <a:lnTo>
                        <a:pt x="82" y="110"/>
                      </a:lnTo>
                      <a:lnTo>
                        <a:pt x="72" y="116"/>
                      </a:lnTo>
                      <a:lnTo>
                        <a:pt x="63" y="122"/>
                      </a:lnTo>
                      <a:lnTo>
                        <a:pt x="51" y="124"/>
                      </a:lnTo>
                      <a:lnTo>
                        <a:pt x="42" y="124"/>
                      </a:lnTo>
                      <a:lnTo>
                        <a:pt x="30" y="120"/>
                      </a:lnTo>
                      <a:lnTo>
                        <a:pt x="21" y="116"/>
                      </a:lnTo>
                      <a:lnTo>
                        <a:pt x="11" y="107"/>
                      </a:lnTo>
                      <a:lnTo>
                        <a:pt x="6" y="95"/>
                      </a:lnTo>
                      <a:lnTo>
                        <a:pt x="2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9"/>
                      </a:lnTo>
                      <a:lnTo>
                        <a:pt x="0" y="63"/>
                      </a:lnTo>
                      <a:lnTo>
                        <a:pt x="0" y="55"/>
                      </a:lnTo>
                      <a:lnTo>
                        <a:pt x="0" y="50"/>
                      </a:lnTo>
                      <a:lnTo>
                        <a:pt x="2" y="44"/>
                      </a:lnTo>
                      <a:lnTo>
                        <a:pt x="2" y="36"/>
                      </a:lnTo>
                      <a:lnTo>
                        <a:pt x="6" y="31"/>
                      </a:lnTo>
                      <a:lnTo>
                        <a:pt x="7" y="23"/>
                      </a:lnTo>
                      <a:lnTo>
                        <a:pt x="11" y="17"/>
                      </a:lnTo>
                      <a:lnTo>
                        <a:pt x="15" y="13"/>
                      </a:lnTo>
                      <a:lnTo>
                        <a:pt x="19" y="8"/>
                      </a:lnTo>
                      <a:lnTo>
                        <a:pt x="25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011000" y="5108760"/>
                  <a:ext cx="70200" cy="48600"/>
                </a:xfrm>
                <a:custGeom>
                  <a:avLst/>
                  <a:gdLst/>
                  <a:ahLst/>
                  <a:rect l="l" t="t" r="r" b="b"/>
                  <a:pathLst>
                    <a:path w="114" h="104">
                      <a:moveTo>
                        <a:pt x="43" y="0"/>
                      </a:moveTo>
                      <a:lnTo>
                        <a:pt x="49" y="4"/>
                      </a:lnTo>
                      <a:lnTo>
                        <a:pt x="53" y="7"/>
                      </a:lnTo>
                      <a:lnTo>
                        <a:pt x="53" y="11"/>
                      </a:lnTo>
                      <a:lnTo>
                        <a:pt x="55" y="17"/>
                      </a:lnTo>
                      <a:lnTo>
                        <a:pt x="49" y="24"/>
                      </a:lnTo>
                      <a:lnTo>
                        <a:pt x="43" y="36"/>
                      </a:lnTo>
                      <a:lnTo>
                        <a:pt x="34" y="43"/>
                      </a:lnTo>
                      <a:lnTo>
                        <a:pt x="28" y="53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2" y="66"/>
                      </a:lnTo>
                      <a:lnTo>
                        <a:pt x="38" y="72"/>
                      </a:lnTo>
                      <a:lnTo>
                        <a:pt x="47" y="68"/>
                      </a:lnTo>
                      <a:lnTo>
                        <a:pt x="57" y="68"/>
                      </a:lnTo>
                      <a:lnTo>
                        <a:pt x="53" y="59"/>
                      </a:lnTo>
                      <a:lnTo>
                        <a:pt x="53" y="51"/>
                      </a:lnTo>
                      <a:lnTo>
                        <a:pt x="55" y="45"/>
                      </a:lnTo>
                      <a:lnTo>
                        <a:pt x="59" y="40"/>
                      </a:lnTo>
                      <a:lnTo>
                        <a:pt x="64" y="36"/>
                      </a:lnTo>
                      <a:lnTo>
                        <a:pt x="70" y="34"/>
                      </a:lnTo>
                      <a:lnTo>
                        <a:pt x="78" y="32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9" y="36"/>
                      </a:lnTo>
                      <a:lnTo>
                        <a:pt x="102" y="38"/>
                      </a:lnTo>
                      <a:lnTo>
                        <a:pt x="108" y="43"/>
                      </a:lnTo>
                      <a:lnTo>
                        <a:pt x="110" y="47"/>
                      </a:lnTo>
                      <a:lnTo>
                        <a:pt x="114" y="55"/>
                      </a:lnTo>
                      <a:lnTo>
                        <a:pt x="114" y="64"/>
                      </a:lnTo>
                      <a:lnTo>
                        <a:pt x="110" y="74"/>
                      </a:lnTo>
                      <a:lnTo>
                        <a:pt x="106" y="83"/>
                      </a:lnTo>
                      <a:lnTo>
                        <a:pt x="99" y="91"/>
                      </a:lnTo>
                      <a:lnTo>
                        <a:pt x="89" y="97"/>
                      </a:lnTo>
                      <a:lnTo>
                        <a:pt x="79" y="100"/>
                      </a:lnTo>
                      <a:lnTo>
                        <a:pt x="68" y="102"/>
                      </a:lnTo>
                      <a:lnTo>
                        <a:pt x="57" y="102"/>
                      </a:lnTo>
                      <a:lnTo>
                        <a:pt x="45" y="102"/>
                      </a:lnTo>
                      <a:lnTo>
                        <a:pt x="36" y="104"/>
                      </a:lnTo>
                      <a:lnTo>
                        <a:pt x="24" y="100"/>
                      </a:lnTo>
                      <a:lnTo>
                        <a:pt x="19" y="99"/>
                      </a:lnTo>
                      <a:lnTo>
                        <a:pt x="9" y="93"/>
                      </a:lnTo>
                      <a:lnTo>
                        <a:pt x="7" y="87"/>
                      </a:lnTo>
                      <a:lnTo>
                        <a:pt x="2" y="80"/>
                      </a:lnTo>
                      <a:lnTo>
                        <a:pt x="2" y="72"/>
                      </a:lnTo>
                      <a:lnTo>
                        <a:pt x="0" y="64"/>
                      </a:lnTo>
                      <a:lnTo>
                        <a:pt x="2" y="55"/>
                      </a:lnTo>
                      <a:lnTo>
                        <a:pt x="2" y="45"/>
                      </a:lnTo>
                      <a:lnTo>
                        <a:pt x="5" y="38"/>
                      </a:lnTo>
                      <a:lnTo>
                        <a:pt x="9" y="26"/>
                      </a:lnTo>
                      <a:lnTo>
                        <a:pt x="15" y="21"/>
                      </a:lnTo>
                      <a:lnTo>
                        <a:pt x="21" y="13"/>
                      </a:lnTo>
                      <a:lnTo>
                        <a:pt x="28" y="7"/>
                      </a:lnTo>
                      <a:lnTo>
                        <a:pt x="34" y="2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183440" y="5159160"/>
                  <a:ext cx="63720" cy="56880"/>
                </a:xfrm>
                <a:custGeom>
                  <a:avLst/>
                  <a:gdLst/>
                  <a:ahLst/>
                  <a:rect l="l" t="t" r="r" b="b"/>
                  <a:pathLst>
                    <a:path w="105" h="122">
                      <a:moveTo>
                        <a:pt x="25" y="4"/>
                      </a:moveTo>
                      <a:lnTo>
                        <a:pt x="38" y="0"/>
                      </a:lnTo>
                      <a:lnTo>
                        <a:pt x="51" y="0"/>
                      </a:lnTo>
                      <a:lnTo>
                        <a:pt x="63" y="2"/>
                      </a:lnTo>
                      <a:lnTo>
                        <a:pt x="74" y="10"/>
                      </a:lnTo>
                      <a:lnTo>
                        <a:pt x="82" y="17"/>
                      </a:lnTo>
                      <a:lnTo>
                        <a:pt x="91" y="27"/>
                      </a:lnTo>
                      <a:lnTo>
                        <a:pt x="97" y="38"/>
                      </a:lnTo>
                      <a:lnTo>
                        <a:pt x="103" y="51"/>
                      </a:lnTo>
                      <a:lnTo>
                        <a:pt x="105" y="61"/>
                      </a:lnTo>
                      <a:lnTo>
                        <a:pt x="105" y="74"/>
                      </a:lnTo>
                      <a:lnTo>
                        <a:pt x="105" y="86"/>
                      </a:lnTo>
                      <a:lnTo>
                        <a:pt x="103" y="97"/>
                      </a:lnTo>
                      <a:lnTo>
                        <a:pt x="95" y="105"/>
                      </a:lnTo>
                      <a:lnTo>
                        <a:pt x="87" y="114"/>
                      </a:lnTo>
                      <a:lnTo>
                        <a:pt x="76" y="118"/>
                      </a:lnTo>
                      <a:lnTo>
                        <a:pt x="63" y="122"/>
                      </a:lnTo>
                      <a:lnTo>
                        <a:pt x="59" y="118"/>
                      </a:lnTo>
                      <a:lnTo>
                        <a:pt x="53" y="116"/>
                      </a:lnTo>
                      <a:lnTo>
                        <a:pt x="46" y="110"/>
                      </a:lnTo>
                      <a:lnTo>
                        <a:pt x="40" y="105"/>
                      </a:lnTo>
                      <a:lnTo>
                        <a:pt x="32" y="101"/>
                      </a:lnTo>
                      <a:lnTo>
                        <a:pt x="27" y="95"/>
                      </a:lnTo>
                      <a:lnTo>
                        <a:pt x="23" y="89"/>
                      </a:lnTo>
                      <a:lnTo>
                        <a:pt x="19" y="88"/>
                      </a:lnTo>
                      <a:lnTo>
                        <a:pt x="21" y="80"/>
                      </a:lnTo>
                      <a:lnTo>
                        <a:pt x="25" y="72"/>
                      </a:lnTo>
                      <a:lnTo>
                        <a:pt x="27" y="65"/>
                      </a:lnTo>
                      <a:lnTo>
                        <a:pt x="29" y="59"/>
                      </a:lnTo>
                      <a:lnTo>
                        <a:pt x="34" y="57"/>
                      </a:lnTo>
                      <a:lnTo>
                        <a:pt x="42" y="57"/>
                      </a:lnTo>
                      <a:lnTo>
                        <a:pt x="48" y="55"/>
                      </a:lnTo>
                      <a:lnTo>
                        <a:pt x="55" y="55"/>
                      </a:lnTo>
                      <a:lnTo>
                        <a:pt x="55" y="63"/>
                      </a:lnTo>
                      <a:lnTo>
                        <a:pt x="55" y="72"/>
                      </a:lnTo>
                      <a:lnTo>
                        <a:pt x="53" y="80"/>
                      </a:lnTo>
                      <a:lnTo>
                        <a:pt x="51" y="84"/>
                      </a:lnTo>
                      <a:lnTo>
                        <a:pt x="57" y="82"/>
                      </a:lnTo>
                      <a:lnTo>
                        <a:pt x="68" y="82"/>
                      </a:lnTo>
                      <a:lnTo>
                        <a:pt x="80" y="82"/>
                      </a:lnTo>
                      <a:lnTo>
                        <a:pt x="87" y="82"/>
                      </a:lnTo>
                      <a:lnTo>
                        <a:pt x="87" y="72"/>
                      </a:lnTo>
                      <a:lnTo>
                        <a:pt x="84" y="67"/>
                      </a:lnTo>
                      <a:lnTo>
                        <a:pt x="82" y="59"/>
                      </a:lnTo>
                      <a:lnTo>
                        <a:pt x="80" y="55"/>
                      </a:lnTo>
                      <a:lnTo>
                        <a:pt x="74" y="50"/>
                      </a:lnTo>
                      <a:lnTo>
                        <a:pt x="70" y="46"/>
                      </a:lnTo>
                      <a:lnTo>
                        <a:pt x="63" y="44"/>
                      </a:lnTo>
                      <a:lnTo>
                        <a:pt x="59" y="42"/>
                      </a:lnTo>
                      <a:lnTo>
                        <a:pt x="51" y="38"/>
                      </a:lnTo>
                      <a:lnTo>
                        <a:pt x="44" y="38"/>
                      </a:lnTo>
                      <a:lnTo>
                        <a:pt x="38" y="38"/>
                      </a:lnTo>
                      <a:lnTo>
                        <a:pt x="30" y="38"/>
                      </a:lnTo>
                      <a:lnTo>
                        <a:pt x="25" y="38"/>
                      </a:lnTo>
                      <a:lnTo>
                        <a:pt x="17" y="40"/>
                      </a:lnTo>
                      <a:lnTo>
                        <a:pt x="11" y="44"/>
                      </a:lnTo>
                      <a:lnTo>
                        <a:pt x="8" y="48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5"/>
                      </a:lnTo>
                      <a:lnTo>
                        <a:pt x="2" y="19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9" y="8"/>
                      </a:lnTo>
                      <a:lnTo>
                        <a:pt x="25" y="4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250040" y="5121000"/>
                  <a:ext cx="71280" cy="59400"/>
                </a:xfrm>
                <a:custGeom>
                  <a:avLst/>
                  <a:gdLst/>
                  <a:ahLst/>
                  <a:rect l="l" t="t" r="r" b="b"/>
                  <a:pathLst>
                    <a:path w="116" h="128">
                      <a:moveTo>
                        <a:pt x="33" y="4"/>
                      </a:moveTo>
                      <a:lnTo>
                        <a:pt x="40" y="0"/>
                      </a:lnTo>
                      <a:lnTo>
                        <a:pt x="50" y="2"/>
                      </a:lnTo>
                      <a:lnTo>
                        <a:pt x="57" y="4"/>
                      </a:lnTo>
                      <a:lnTo>
                        <a:pt x="65" y="10"/>
                      </a:lnTo>
                      <a:lnTo>
                        <a:pt x="69" y="14"/>
                      </a:lnTo>
                      <a:lnTo>
                        <a:pt x="69" y="21"/>
                      </a:lnTo>
                      <a:lnTo>
                        <a:pt x="67" y="29"/>
                      </a:lnTo>
                      <a:lnTo>
                        <a:pt x="57" y="36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38" y="33"/>
                      </a:lnTo>
                      <a:lnTo>
                        <a:pt x="35" y="36"/>
                      </a:lnTo>
                      <a:lnTo>
                        <a:pt x="27" y="42"/>
                      </a:lnTo>
                      <a:lnTo>
                        <a:pt x="25" y="54"/>
                      </a:lnTo>
                      <a:lnTo>
                        <a:pt x="25" y="63"/>
                      </a:lnTo>
                      <a:lnTo>
                        <a:pt x="29" y="74"/>
                      </a:lnTo>
                      <a:lnTo>
                        <a:pt x="33" y="76"/>
                      </a:lnTo>
                      <a:lnTo>
                        <a:pt x="36" y="80"/>
                      </a:lnTo>
                      <a:lnTo>
                        <a:pt x="42" y="82"/>
                      </a:lnTo>
                      <a:lnTo>
                        <a:pt x="48" y="84"/>
                      </a:lnTo>
                      <a:lnTo>
                        <a:pt x="52" y="74"/>
                      </a:lnTo>
                      <a:lnTo>
                        <a:pt x="59" y="63"/>
                      </a:lnTo>
                      <a:lnTo>
                        <a:pt x="67" y="54"/>
                      </a:lnTo>
                      <a:lnTo>
                        <a:pt x="74" y="46"/>
                      </a:lnTo>
                      <a:lnTo>
                        <a:pt x="80" y="46"/>
                      </a:lnTo>
                      <a:lnTo>
                        <a:pt x="88" y="48"/>
                      </a:lnTo>
                      <a:lnTo>
                        <a:pt x="94" y="48"/>
                      </a:lnTo>
                      <a:lnTo>
                        <a:pt x="103" y="52"/>
                      </a:lnTo>
                      <a:lnTo>
                        <a:pt x="109" y="61"/>
                      </a:lnTo>
                      <a:lnTo>
                        <a:pt x="113" y="69"/>
                      </a:lnTo>
                      <a:lnTo>
                        <a:pt x="114" y="78"/>
                      </a:lnTo>
                      <a:lnTo>
                        <a:pt x="116" y="86"/>
                      </a:lnTo>
                      <a:lnTo>
                        <a:pt x="113" y="95"/>
                      </a:lnTo>
                      <a:lnTo>
                        <a:pt x="109" y="103"/>
                      </a:lnTo>
                      <a:lnTo>
                        <a:pt x="103" y="111"/>
                      </a:lnTo>
                      <a:lnTo>
                        <a:pt x="97" y="116"/>
                      </a:lnTo>
                      <a:lnTo>
                        <a:pt x="88" y="120"/>
                      </a:lnTo>
                      <a:lnTo>
                        <a:pt x="80" y="126"/>
                      </a:lnTo>
                      <a:lnTo>
                        <a:pt x="71" y="126"/>
                      </a:lnTo>
                      <a:lnTo>
                        <a:pt x="61" y="128"/>
                      </a:lnTo>
                      <a:lnTo>
                        <a:pt x="52" y="126"/>
                      </a:lnTo>
                      <a:lnTo>
                        <a:pt x="44" y="122"/>
                      </a:lnTo>
                      <a:lnTo>
                        <a:pt x="35" y="118"/>
                      </a:lnTo>
                      <a:lnTo>
                        <a:pt x="29" y="111"/>
                      </a:lnTo>
                      <a:lnTo>
                        <a:pt x="19" y="105"/>
                      </a:lnTo>
                      <a:lnTo>
                        <a:pt x="16" y="97"/>
                      </a:lnTo>
                      <a:lnTo>
                        <a:pt x="10" y="92"/>
                      </a:lnTo>
                      <a:lnTo>
                        <a:pt x="6" y="84"/>
                      </a:lnTo>
                      <a:lnTo>
                        <a:pt x="2" y="76"/>
                      </a:lnTo>
                      <a:lnTo>
                        <a:pt x="2" y="69"/>
                      </a:lnTo>
                      <a:lnTo>
                        <a:pt x="0" y="61"/>
                      </a:lnTo>
                      <a:lnTo>
                        <a:pt x="2" y="54"/>
                      </a:lnTo>
                      <a:lnTo>
                        <a:pt x="2" y="46"/>
                      </a:lnTo>
                      <a:lnTo>
                        <a:pt x="4" y="38"/>
                      </a:lnTo>
                      <a:lnTo>
                        <a:pt x="6" y="31"/>
                      </a:lnTo>
                      <a:lnTo>
                        <a:pt x="10" y="25"/>
                      </a:lnTo>
                      <a:lnTo>
                        <a:pt x="14" y="17"/>
                      </a:lnTo>
                      <a:lnTo>
                        <a:pt x="19" y="12"/>
                      </a:lnTo>
                      <a:lnTo>
                        <a:pt x="25" y="6"/>
                      </a:lnTo>
                      <a:lnTo>
                        <a:pt x="33" y="4"/>
                      </a:lnTo>
                      <a:lnTo>
                        <a:pt x="33" y="4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274520" y="5187240"/>
                  <a:ext cx="78480" cy="50040"/>
                </a:xfrm>
                <a:custGeom>
                  <a:avLst/>
                  <a:gdLst/>
                  <a:ahLst/>
                  <a:rect l="l" t="t" r="r" b="b"/>
                  <a:pathLst>
                    <a:path w="128" h="108">
                      <a:moveTo>
                        <a:pt x="126" y="36"/>
                      </a:moveTo>
                      <a:lnTo>
                        <a:pt x="128" y="49"/>
                      </a:lnTo>
                      <a:lnTo>
                        <a:pt x="128" y="61"/>
                      </a:lnTo>
                      <a:lnTo>
                        <a:pt x="124" y="70"/>
                      </a:lnTo>
                      <a:lnTo>
                        <a:pt x="118" y="82"/>
                      </a:lnTo>
                      <a:lnTo>
                        <a:pt x="109" y="89"/>
                      </a:lnTo>
                      <a:lnTo>
                        <a:pt x="99" y="97"/>
                      </a:lnTo>
                      <a:lnTo>
                        <a:pt x="88" y="103"/>
                      </a:lnTo>
                      <a:lnTo>
                        <a:pt x="78" y="106"/>
                      </a:lnTo>
                      <a:lnTo>
                        <a:pt x="65" y="108"/>
                      </a:lnTo>
                      <a:lnTo>
                        <a:pt x="52" y="108"/>
                      </a:lnTo>
                      <a:lnTo>
                        <a:pt x="40" y="106"/>
                      </a:lnTo>
                      <a:lnTo>
                        <a:pt x="29" y="105"/>
                      </a:lnTo>
                      <a:lnTo>
                        <a:pt x="19" y="99"/>
                      </a:lnTo>
                      <a:lnTo>
                        <a:pt x="12" y="91"/>
                      </a:lnTo>
                      <a:lnTo>
                        <a:pt x="4" y="80"/>
                      </a:lnTo>
                      <a:lnTo>
                        <a:pt x="0" y="70"/>
                      </a:lnTo>
                      <a:lnTo>
                        <a:pt x="0" y="63"/>
                      </a:lnTo>
                      <a:lnTo>
                        <a:pt x="4" y="57"/>
                      </a:lnTo>
                      <a:lnTo>
                        <a:pt x="6" y="49"/>
                      </a:lnTo>
                      <a:lnTo>
                        <a:pt x="8" y="44"/>
                      </a:lnTo>
                      <a:lnTo>
                        <a:pt x="12" y="42"/>
                      </a:lnTo>
                      <a:lnTo>
                        <a:pt x="19" y="38"/>
                      </a:lnTo>
                      <a:lnTo>
                        <a:pt x="27" y="36"/>
                      </a:lnTo>
                      <a:lnTo>
                        <a:pt x="36" y="34"/>
                      </a:lnTo>
                      <a:lnTo>
                        <a:pt x="44" y="32"/>
                      </a:lnTo>
                      <a:lnTo>
                        <a:pt x="54" y="32"/>
                      </a:lnTo>
                      <a:lnTo>
                        <a:pt x="59" y="30"/>
                      </a:lnTo>
                      <a:lnTo>
                        <a:pt x="65" y="34"/>
                      </a:lnTo>
                      <a:lnTo>
                        <a:pt x="69" y="38"/>
                      </a:lnTo>
                      <a:lnTo>
                        <a:pt x="73" y="46"/>
                      </a:lnTo>
                      <a:lnTo>
                        <a:pt x="76" y="51"/>
                      </a:lnTo>
                      <a:lnTo>
                        <a:pt x="80" y="57"/>
                      </a:lnTo>
                      <a:lnTo>
                        <a:pt x="74" y="57"/>
                      </a:lnTo>
                      <a:lnTo>
                        <a:pt x="69" y="57"/>
                      </a:lnTo>
                      <a:lnTo>
                        <a:pt x="63" y="57"/>
                      </a:lnTo>
                      <a:lnTo>
                        <a:pt x="55" y="55"/>
                      </a:lnTo>
                      <a:lnTo>
                        <a:pt x="50" y="53"/>
                      </a:lnTo>
                      <a:lnTo>
                        <a:pt x="42" y="53"/>
                      </a:lnTo>
                      <a:lnTo>
                        <a:pt x="38" y="51"/>
                      </a:lnTo>
                      <a:lnTo>
                        <a:pt x="36" y="51"/>
                      </a:lnTo>
                      <a:lnTo>
                        <a:pt x="40" y="57"/>
                      </a:lnTo>
                      <a:lnTo>
                        <a:pt x="46" y="68"/>
                      </a:lnTo>
                      <a:lnTo>
                        <a:pt x="50" y="74"/>
                      </a:lnTo>
                      <a:lnTo>
                        <a:pt x="52" y="80"/>
                      </a:lnTo>
                      <a:lnTo>
                        <a:pt x="55" y="86"/>
                      </a:lnTo>
                      <a:lnTo>
                        <a:pt x="59" y="89"/>
                      </a:lnTo>
                      <a:lnTo>
                        <a:pt x="65" y="86"/>
                      </a:lnTo>
                      <a:lnTo>
                        <a:pt x="71" y="86"/>
                      </a:lnTo>
                      <a:lnTo>
                        <a:pt x="76" y="82"/>
                      </a:lnTo>
                      <a:lnTo>
                        <a:pt x="84" y="80"/>
                      </a:lnTo>
                      <a:lnTo>
                        <a:pt x="92" y="70"/>
                      </a:lnTo>
                      <a:lnTo>
                        <a:pt x="93" y="59"/>
                      </a:lnTo>
                      <a:lnTo>
                        <a:pt x="92" y="49"/>
                      </a:lnTo>
                      <a:lnTo>
                        <a:pt x="88" y="42"/>
                      </a:lnTo>
                      <a:lnTo>
                        <a:pt x="82" y="32"/>
                      </a:lnTo>
                      <a:lnTo>
                        <a:pt x="76" y="25"/>
                      </a:lnTo>
                      <a:lnTo>
                        <a:pt x="69" y="17"/>
                      </a:lnTo>
                      <a:lnTo>
                        <a:pt x="63" y="11"/>
                      </a:lnTo>
                      <a:lnTo>
                        <a:pt x="71" y="8"/>
                      </a:lnTo>
                      <a:lnTo>
                        <a:pt x="78" y="6"/>
                      </a:lnTo>
                      <a:lnTo>
                        <a:pt x="84" y="2"/>
                      </a:lnTo>
                      <a:lnTo>
                        <a:pt x="92" y="0"/>
                      </a:lnTo>
                      <a:lnTo>
                        <a:pt x="99" y="8"/>
                      </a:lnTo>
                      <a:lnTo>
                        <a:pt x="109" y="17"/>
                      </a:lnTo>
                      <a:lnTo>
                        <a:pt x="118" y="29"/>
                      </a:lnTo>
                      <a:lnTo>
                        <a:pt x="126" y="36"/>
                      </a:lnTo>
                      <a:lnTo>
                        <a:pt x="126" y="36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06920" y="5244120"/>
                  <a:ext cx="66240" cy="54000"/>
                </a:xfrm>
                <a:custGeom>
                  <a:avLst/>
                  <a:gdLst/>
                  <a:ahLst/>
                  <a:rect l="l" t="t" r="r" b="b"/>
                  <a:pathLst>
                    <a:path w="108" h="116">
                      <a:moveTo>
                        <a:pt x="43" y="0"/>
                      </a:moveTo>
                      <a:lnTo>
                        <a:pt x="51" y="9"/>
                      </a:lnTo>
                      <a:lnTo>
                        <a:pt x="53" y="19"/>
                      </a:lnTo>
                      <a:lnTo>
                        <a:pt x="49" y="28"/>
                      </a:lnTo>
                      <a:lnTo>
                        <a:pt x="43" y="39"/>
                      </a:lnTo>
                      <a:lnTo>
                        <a:pt x="34" y="49"/>
                      </a:lnTo>
                      <a:lnTo>
                        <a:pt x="28" y="57"/>
                      </a:lnTo>
                      <a:lnTo>
                        <a:pt x="22" y="68"/>
                      </a:lnTo>
                      <a:lnTo>
                        <a:pt x="22" y="78"/>
                      </a:lnTo>
                      <a:lnTo>
                        <a:pt x="24" y="78"/>
                      </a:lnTo>
                      <a:lnTo>
                        <a:pt x="32" y="79"/>
                      </a:lnTo>
                      <a:lnTo>
                        <a:pt x="38" y="79"/>
                      </a:lnTo>
                      <a:lnTo>
                        <a:pt x="47" y="79"/>
                      </a:lnTo>
                      <a:lnTo>
                        <a:pt x="53" y="79"/>
                      </a:lnTo>
                      <a:lnTo>
                        <a:pt x="60" y="79"/>
                      </a:lnTo>
                      <a:lnTo>
                        <a:pt x="66" y="78"/>
                      </a:lnTo>
                      <a:lnTo>
                        <a:pt x="70" y="78"/>
                      </a:lnTo>
                      <a:lnTo>
                        <a:pt x="62" y="70"/>
                      </a:lnTo>
                      <a:lnTo>
                        <a:pt x="59" y="64"/>
                      </a:lnTo>
                      <a:lnTo>
                        <a:pt x="57" y="60"/>
                      </a:lnTo>
                      <a:lnTo>
                        <a:pt x="59" y="55"/>
                      </a:lnTo>
                      <a:lnTo>
                        <a:pt x="60" y="49"/>
                      </a:lnTo>
                      <a:lnTo>
                        <a:pt x="64" y="45"/>
                      </a:lnTo>
                      <a:lnTo>
                        <a:pt x="72" y="41"/>
                      </a:lnTo>
                      <a:lnTo>
                        <a:pt x="78" y="39"/>
                      </a:lnTo>
                      <a:lnTo>
                        <a:pt x="83" y="36"/>
                      </a:lnTo>
                      <a:lnTo>
                        <a:pt x="91" y="36"/>
                      </a:lnTo>
                      <a:lnTo>
                        <a:pt x="95" y="36"/>
                      </a:lnTo>
                      <a:lnTo>
                        <a:pt x="102" y="39"/>
                      </a:lnTo>
                      <a:lnTo>
                        <a:pt x="104" y="43"/>
                      </a:lnTo>
                      <a:lnTo>
                        <a:pt x="108" y="51"/>
                      </a:lnTo>
                      <a:lnTo>
                        <a:pt x="108" y="58"/>
                      </a:lnTo>
                      <a:lnTo>
                        <a:pt x="106" y="70"/>
                      </a:lnTo>
                      <a:lnTo>
                        <a:pt x="104" y="78"/>
                      </a:lnTo>
                      <a:lnTo>
                        <a:pt x="100" y="83"/>
                      </a:lnTo>
                      <a:lnTo>
                        <a:pt x="98" y="89"/>
                      </a:lnTo>
                      <a:lnTo>
                        <a:pt x="95" y="95"/>
                      </a:lnTo>
                      <a:lnTo>
                        <a:pt x="85" y="102"/>
                      </a:lnTo>
                      <a:lnTo>
                        <a:pt x="76" y="108"/>
                      </a:lnTo>
                      <a:lnTo>
                        <a:pt x="70" y="110"/>
                      </a:lnTo>
                      <a:lnTo>
                        <a:pt x="62" y="112"/>
                      </a:lnTo>
                      <a:lnTo>
                        <a:pt x="57" y="114"/>
                      </a:lnTo>
                      <a:lnTo>
                        <a:pt x="49" y="114"/>
                      </a:lnTo>
                      <a:lnTo>
                        <a:pt x="43" y="114"/>
                      </a:lnTo>
                      <a:lnTo>
                        <a:pt x="36" y="114"/>
                      </a:lnTo>
                      <a:lnTo>
                        <a:pt x="30" y="114"/>
                      </a:lnTo>
                      <a:lnTo>
                        <a:pt x="24" y="116"/>
                      </a:lnTo>
                      <a:lnTo>
                        <a:pt x="17" y="108"/>
                      </a:lnTo>
                      <a:lnTo>
                        <a:pt x="9" y="102"/>
                      </a:lnTo>
                      <a:lnTo>
                        <a:pt x="5" y="95"/>
                      </a:lnTo>
                      <a:lnTo>
                        <a:pt x="3" y="87"/>
                      </a:lnTo>
                      <a:lnTo>
                        <a:pt x="0" y="79"/>
                      </a:lnTo>
                      <a:lnTo>
                        <a:pt x="2" y="72"/>
                      </a:lnTo>
                      <a:lnTo>
                        <a:pt x="2" y="64"/>
                      </a:lnTo>
                      <a:lnTo>
                        <a:pt x="5" y="57"/>
                      </a:lnTo>
                      <a:lnTo>
                        <a:pt x="7" y="47"/>
                      </a:lnTo>
                      <a:lnTo>
                        <a:pt x="11" y="39"/>
                      </a:lnTo>
                      <a:lnTo>
                        <a:pt x="15" y="32"/>
                      </a:lnTo>
                      <a:lnTo>
                        <a:pt x="21" y="24"/>
                      </a:lnTo>
                      <a:lnTo>
                        <a:pt x="24" y="17"/>
                      </a:lnTo>
                      <a:lnTo>
                        <a:pt x="32" y="11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63360" y="5303520"/>
                  <a:ext cx="72720" cy="640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50" y="0"/>
                      </a:moveTo>
                      <a:lnTo>
                        <a:pt x="65" y="0"/>
                      </a:lnTo>
                      <a:lnTo>
                        <a:pt x="78" y="2"/>
                      </a:lnTo>
                      <a:lnTo>
                        <a:pt x="90" y="8"/>
                      </a:lnTo>
                      <a:lnTo>
                        <a:pt x="99" y="19"/>
                      </a:lnTo>
                      <a:lnTo>
                        <a:pt x="107" y="28"/>
                      </a:lnTo>
                      <a:lnTo>
                        <a:pt x="112" y="44"/>
                      </a:lnTo>
                      <a:lnTo>
                        <a:pt x="116" y="57"/>
                      </a:lnTo>
                      <a:lnTo>
                        <a:pt x="118" y="72"/>
                      </a:lnTo>
                      <a:lnTo>
                        <a:pt x="116" y="85"/>
                      </a:lnTo>
                      <a:lnTo>
                        <a:pt x="114" y="101"/>
                      </a:lnTo>
                      <a:lnTo>
                        <a:pt x="109" y="112"/>
                      </a:lnTo>
                      <a:lnTo>
                        <a:pt x="103" y="123"/>
                      </a:lnTo>
                      <a:lnTo>
                        <a:pt x="92" y="131"/>
                      </a:lnTo>
                      <a:lnTo>
                        <a:pt x="78" y="137"/>
                      </a:lnTo>
                      <a:lnTo>
                        <a:pt x="65" y="139"/>
                      </a:lnTo>
                      <a:lnTo>
                        <a:pt x="50" y="137"/>
                      </a:lnTo>
                      <a:lnTo>
                        <a:pt x="42" y="135"/>
                      </a:lnTo>
                      <a:lnTo>
                        <a:pt x="36" y="131"/>
                      </a:lnTo>
                      <a:lnTo>
                        <a:pt x="31" y="129"/>
                      </a:lnTo>
                      <a:lnTo>
                        <a:pt x="27" y="125"/>
                      </a:lnTo>
                      <a:lnTo>
                        <a:pt x="21" y="116"/>
                      </a:lnTo>
                      <a:lnTo>
                        <a:pt x="19" y="106"/>
                      </a:lnTo>
                      <a:lnTo>
                        <a:pt x="17" y="99"/>
                      </a:lnTo>
                      <a:lnTo>
                        <a:pt x="17" y="93"/>
                      </a:lnTo>
                      <a:lnTo>
                        <a:pt x="19" y="87"/>
                      </a:lnTo>
                      <a:lnTo>
                        <a:pt x="21" y="82"/>
                      </a:lnTo>
                      <a:lnTo>
                        <a:pt x="27" y="72"/>
                      </a:lnTo>
                      <a:lnTo>
                        <a:pt x="34" y="65"/>
                      </a:lnTo>
                      <a:lnTo>
                        <a:pt x="40" y="61"/>
                      </a:lnTo>
                      <a:lnTo>
                        <a:pt x="48" y="59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65" y="57"/>
                      </a:lnTo>
                      <a:lnTo>
                        <a:pt x="69" y="61"/>
                      </a:lnTo>
                      <a:lnTo>
                        <a:pt x="71" y="66"/>
                      </a:lnTo>
                      <a:lnTo>
                        <a:pt x="74" y="72"/>
                      </a:lnTo>
                      <a:lnTo>
                        <a:pt x="74" y="78"/>
                      </a:lnTo>
                      <a:lnTo>
                        <a:pt x="76" y="85"/>
                      </a:lnTo>
                      <a:lnTo>
                        <a:pt x="76" y="89"/>
                      </a:lnTo>
                      <a:lnTo>
                        <a:pt x="78" y="93"/>
                      </a:lnTo>
                      <a:lnTo>
                        <a:pt x="74" y="93"/>
                      </a:lnTo>
                      <a:lnTo>
                        <a:pt x="69" y="93"/>
                      </a:lnTo>
                      <a:lnTo>
                        <a:pt x="63" y="93"/>
                      </a:lnTo>
                      <a:lnTo>
                        <a:pt x="57" y="95"/>
                      </a:lnTo>
                      <a:lnTo>
                        <a:pt x="46" y="95"/>
                      </a:lnTo>
                      <a:lnTo>
                        <a:pt x="40" y="99"/>
                      </a:lnTo>
                      <a:lnTo>
                        <a:pt x="42" y="99"/>
                      </a:lnTo>
                      <a:lnTo>
                        <a:pt x="48" y="99"/>
                      </a:lnTo>
                      <a:lnTo>
                        <a:pt x="55" y="99"/>
                      </a:lnTo>
                      <a:lnTo>
                        <a:pt x="63" y="99"/>
                      </a:lnTo>
                      <a:lnTo>
                        <a:pt x="71" y="99"/>
                      </a:lnTo>
                      <a:lnTo>
                        <a:pt x="78" y="97"/>
                      </a:lnTo>
                      <a:lnTo>
                        <a:pt x="84" y="95"/>
                      </a:lnTo>
                      <a:lnTo>
                        <a:pt x="90" y="95"/>
                      </a:lnTo>
                      <a:lnTo>
                        <a:pt x="92" y="87"/>
                      </a:lnTo>
                      <a:lnTo>
                        <a:pt x="93" y="82"/>
                      </a:lnTo>
                      <a:lnTo>
                        <a:pt x="95" y="74"/>
                      </a:lnTo>
                      <a:lnTo>
                        <a:pt x="99" y="70"/>
                      </a:lnTo>
                      <a:lnTo>
                        <a:pt x="95" y="59"/>
                      </a:lnTo>
                      <a:lnTo>
                        <a:pt x="92" y="51"/>
                      </a:lnTo>
                      <a:lnTo>
                        <a:pt x="88" y="46"/>
                      </a:lnTo>
                      <a:lnTo>
                        <a:pt x="84" y="42"/>
                      </a:lnTo>
                      <a:lnTo>
                        <a:pt x="76" y="38"/>
                      </a:lnTo>
                      <a:lnTo>
                        <a:pt x="71" y="38"/>
                      </a:lnTo>
                      <a:lnTo>
                        <a:pt x="63" y="36"/>
                      </a:lnTo>
                      <a:lnTo>
                        <a:pt x="59" y="38"/>
                      </a:lnTo>
                      <a:lnTo>
                        <a:pt x="52" y="38"/>
                      </a:lnTo>
                      <a:lnTo>
                        <a:pt x="42" y="40"/>
                      </a:lnTo>
                      <a:lnTo>
                        <a:pt x="36" y="42"/>
                      </a:lnTo>
                      <a:lnTo>
                        <a:pt x="31" y="46"/>
                      </a:lnTo>
                      <a:lnTo>
                        <a:pt x="23" y="47"/>
                      </a:lnTo>
                      <a:lnTo>
                        <a:pt x="15" y="51"/>
                      </a:lnTo>
                      <a:lnTo>
                        <a:pt x="10" y="55"/>
                      </a:lnTo>
                      <a:lnTo>
                        <a:pt x="4" y="59"/>
                      </a:lnTo>
                      <a:lnTo>
                        <a:pt x="2" y="53"/>
                      </a:lnTo>
                      <a:lnTo>
                        <a:pt x="2" y="47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4" y="25"/>
                      </a:lnTo>
                      <a:lnTo>
                        <a:pt x="10" y="21"/>
                      </a:lnTo>
                      <a:lnTo>
                        <a:pt x="17" y="15"/>
                      </a:lnTo>
                      <a:lnTo>
                        <a:pt x="23" y="13"/>
                      </a:lnTo>
                      <a:lnTo>
                        <a:pt x="31" y="9"/>
                      </a:lnTo>
                      <a:lnTo>
                        <a:pt x="36" y="6"/>
                      </a:lnTo>
                      <a:lnTo>
                        <a:pt x="42" y="2"/>
                      </a:lnTo>
                      <a:lnTo>
                        <a:pt x="50" y="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7364520" y="5325120"/>
                  <a:ext cx="65160" cy="61200"/>
                </a:xfrm>
                <a:custGeom>
                  <a:avLst/>
                  <a:gdLst/>
                  <a:ahLst/>
                  <a:rect l="l" t="t" r="r" b="b"/>
                  <a:pathLst>
                    <a:path w="104" h="133">
                      <a:moveTo>
                        <a:pt x="51" y="0"/>
                      </a:moveTo>
                      <a:lnTo>
                        <a:pt x="55" y="3"/>
                      </a:lnTo>
                      <a:lnTo>
                        <a:pt x="59" y="9"/>
                      </a:lnTo>
                      <a:lnTo>
                        <a:pt x="60" y="13"/>
                      </a:lnTo>
                      <a:lnTo>
                        <a:pt x="60" y="19"/>
                      </a:lnTo>
                      <a:lnTo>
                        <a:pt x="57" y="26"/>
                      </a:lnTo>
                      <a:lnTo>
                        <a:pt x="49" y="36"/>
                      </a:lnTo>
                      <a:lnTo>
                        <a:pt x="40" y="43"/>
                      </a:lnTo>
                      <a:lnTo>
                        <a:pt x="30" y="53"/>
                      </a:lnTo>
                      <a:lnTo>
                        <a:pt x="24" y="60"/>
                      </a:lnTo>
                      <a:lnTo>
                        <a:pt x="24" y="72"/>
                      </a:lnTo>
                      <a:lnTo>
                        <a:pt x="26" y="77"/>
                      </a:lnTo>
                      <a:lnTo>
                        <a:pt x="32" y="83"/>
                      </a:lnTo>
                      <a:lnTo>
                        <a:pt x="34" y="89"/>
                      </a:lnTo>
                      <a:lnTo>
                        <a:pt x="40" y="95"/>
                      </a:lnTo>
                      <a:lnTo>
                        <a:pt x="45" y="95"/>
                      </a:lnTo>
                      <a:lnTo>
                        <a:pt x="53" y="95"/>
                      </a:lnTo>
                      <a:lnTo>
                        <a:pt x="60" y="95"/>
                      </a:lnTo>
                      <a:lnTo>
                        <a:pt x="68" y="96"/>
                      </a:lnTo>
                      <a:lnTo>
                        <a:pt x="74" y="85"/>
                      </a:lnTo>
                      <a:lnTo>
                        <a:pt x="81" y="76"/>
                      </a:lnTo>
                      <a:lnTo>
                        <a:pt x="74" y="76"/>
                      </a:lnTo>
                      <a:lnTo>
                        <a:pt x="64" y="79"/>
                      </a:lnTo>
                      <a:lnTo>
                        <a:pt x="59" y="83"/>
                      </a:lnTo>
                      <a:lnTo>
                        <a:pt x="57" y="89"/>
                      </a:lnTo>
                      <a:lnTo>
                        <a:pt x="53" y="83"/>
                      </a:lnTo>
                      <a:lnTo>
                        <a:pt x="53" y="79"/>
                      </a:lnTo>
                      <a:lnTo>
                        <a:pt x="51" y="72"/>
                      </a:lnTo>
                      <a:lnTo>
                        <a:pt x="51" y="68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49"/>
                      </a:lnTo>
                      <a:lnTo>
                        <a:pt x="53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4" y="39"/>
                      </a:lnTo>
                      <a:lnTo>
                        <a:pt x="83" y="38"/>
                      </a:lnTo>
                      <a:lnTo>
                        <a:pt x="93" y="45"/>
                      </a:lnTo>
                      <a:lnTo>
                        <a:pt x="100" y="55"/>
                      </a:lnTo>
                      <a:lnTo>
                        <a:pt x="104" y="64"/>
                      </a:lnTo>
                      <a:lnTo>
                        <a:pt x="104" y="76"/>
                      </a:lnTo>
                      <a:lnTo>
                        <a:pt x="102" y="85"/>
                      </a:lnTo>
                      <a:lnTo>
                        <a:pt x="98" y="96"/>
                      </a:lnTo>
                      <a:lnTo>
                        <a:pt x="93" y="104"/>
                      </a:lnTo>
                      <a:lnTo>
                        <a:pt x="89" y="114"/>
                      </a:lnTo>
                      <a:lnTo>
                        <a:pt x="78" y="121"/>
                      </a:lnTo>
                      <a:lnTo>
                        <a:pt x="70" y="127"/>
                      </a:lnTo>
                      <a:lnTo>
                        <a:pt x="60" y="131"/>
                      </a:lnTo>
                      <a:lnTo>
                        <a:pt x="49" y="133"/>
                      </a:lnTo>
                      <a:lnTo>
                        <a:pt x="40" y="133"/>
                      </a:lnTo>
                      <a:lnTo>
                        <a:pt x="28" y="129"/>
                      </a:lnTo>
                      <a:lnTo>
                        <a:pt x="19" y="121"/>
                      </a:lnTo>
                      <a:lnTo>
                        <a:pt x="11" y="114"/>
                      </a:lnTo>
                      <a:lnTo>
                        <a:pt x="7" y="104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2" y="81"/>
                      </a:lnTo>
                      <a:lnTo>
                        <a:pt x="0" y="70"/>
                      </a:lnTo>
                      <a:lnTo>
                        <a:pt x="2" y="62"/>
                      </a:lnTo>
                      <a:lnTo>
                        <a:pt x="3" y="55"/>
                      </a:lnTo>
                      <a:lnTo>
                        <a:pt x="5" y="47"/>
                      </a:lnTo>
                      <a:lnTo>
                        <a:pt x="9" y="39"/>
                      </a:lnTo>
                      <a:lnTo>
                        <a:pt x="11" y="32"/>
                      </a:lnTo>
                      <a:lnTo>
                        <a:pt x="17" y="24"/>
                      </a:lnTo>
                      <a:lnTo>
                        <a:pt x="21" y="19"/>
                      </a:lnTo>
                      <a:lnTo>
                        <a:pt x="26" y="13"/>
                      </a:lnTo>
                      <a:lnTo>
                        <a:pt x="34" y="7"/>
                      </a:lnTo>
                      <a:lnTo>
                        <a:pt x="41" y="3"/>
                      </a:lnTo>
                      <a:lnTo>
                        <a:pt x="5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7328880" y="5407200"/>
                  <a:ext cx="60120" cy="56880"/>
                </a:xfrm>
                <a:custGeom>
                  <a:avLst/>
                  <a:gdLst/>
                  <a:ahLst/>
                  <a:rect l="l" t="t" r="r" b="b"/>
                  <a:pathLst>
                    <a:path w="99" h="122">
                      <a:moveTo>
                        <a:pt x="32" y="2"/>
                      </a:moveTo>
                      <a:lnTo>
                        <a:pt x="43" y="0"/>
                      </a:lnTo>
                      <a:lnTo>
                        <a:pt x="57" y="2"/>
                      </a:lnTo>
                      <a:lnTo>
                        <a:pt x="68" y="6"/>
                      </a:lnTo>
                      <a:lnTo>
                        <a:pt x="78" y="14"/>
                      </a:lnTo>
                      <a:lnTo>
                        <a:pt x="85" y="23"/>
                      </a:lnTo>
                      <a:lnTo>
                        <a:pt x="91" y="35"/>
                      </a:lnTo>
                      <a:lnTo>
                        <a:pt x="95" y="46"/>
                      </a:lnTo>
                      <a:lnTo>
                        <a:pt x="99" y="59"/>
                      </a:lnTo>
                      <a:lnTo>
                        <a:pt x="99" y="71"/>
                      </a:lnTo>
                      <a:lnTo>
                        <a:pt x="97" y="82"/>
                      </a:lnTo>
                      <a:lnTo>
                        <a:pt x="93" y="93"/>
                      </a:lnTo>
                      <a:lnTo>
                        <a:pt x="87" y="105"/>
                      </a:lnTo>
                      <a:lnTo>
                        <a:pt x="80" y="112"/>
                      </a:lnTo>
                      <a:lnTo>
                        <a:pt x="72" y="118"/>
                      </a:lnTo>
                      <a:lnTo>
                        <a:pt x="59" y="122"/>
                      </a:lnTo>
                      <a:lnTo>
                        <a:pt x="47" y="122"/>
                      </a:lnTo>
                      <a:lnTo>
                        <a:pt x="42" y="116"/>
                      </a:lnTo>
                      <a:lnTo>
                        <a:pt x="36" y="112"/>
                      </a:lnTo>
                      <a:lnTo>
                        <a:pt x="28" y="109"/>
                      </a:lnTo>
                      <a:lnTo>
                        <a:pt x="23" y="105"/>
                      </a:lnTo>
                      <a:lnTo>
                        <a:pt x="19" y="95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23" y="73"/>
                      </a:lnTo>
                      <a:lnTo>
                        <a:pt x="28" y="65"/>
                      </a:lnTo>
                      <a:lnTo>
                        <a:pt x="34" y="59"/>
                      </a:lnTo>
                      <a:lnTo>
                        <a:pt x="42" y="54"/>
                      </a:lnTo>
                      <a:lnTo>
                        <a:pt x="49" y="52"/>
                      </a:lnTo>
                      <a:lnTo>
                        <a:pt x="49" y="54"/>
                      </a:lnTo>
                      <a:lnTo>
                        <a:pt x="51" y="59"/>
                      </a:lnTo>
                      <a:lnTo>
                        <a:pt x="51" y="65"/>
                      </a:lnTo>
                      <a:lnTo>
                        <a:pt x="51" y="73"/>
                      </a:lnTo>
                      <a:lnTo>
                        <a:pt x="51" y="82"/>
                      </a:lnTo>
                      <a:lnTo>
                        <a:pt x="51" y="90"/>
                      </a:lnTo>
                      <a:lnTo>
                        <a:pt x="59" y="88"/>
                      </a:lnTo>
                      <a:lnTo>
                        <a:pt x="66" y="86"/>
                      </a:lnTo>
                      <a:lnTo>
                        <a:pt x="70" y="82"/>
                      </a:lnTo>
                      <a:lnTo>
                        <a:pt x="76" y="78"/>
                      </a:lnTo>
                      <a:lnTo>
                        <a:pt x="76" y="71"/>
                      </a:lnTo>
                      <a:lnTo>
                        <a:pt x="76" y="65"/>
                      </a:lnTo>
                      <a:lnTo>
                        <a:pt x="74" y="59"/>
                      </a:lnTo>
                      <a:lnTo>
                        <a:pt x="72" y="54"/>
                      </a:lnTo>
                      <a:lnTo>
                        <a:pt x="64" y="42"/>
                      </a:lnTo>
                      <a:lnTo>
                        <a:pt x="53" y="36"/>
                      </a:lnTo>
                      <a:lnTo>
                        <a:pt x="47" y="36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8"/>
                      </a:lnTo>
                      <a:lnTo>
                        <a:pt x="23" y="54"/>
                      </a:lnTo>
                      <a:lnTo>
                        <a:pt x="17" y="59"/>
                      </a:lnTo>
                      <a:lnTo>
                        <a:pt x="9" y="65"/>
                      </a:lnTo>
                      <a:lnTo>
                        <a:pt x="5" y="67"/>
                      </a:lnTo>
                      <a:lnTo>
                        <a:pt x="0" y="57"/>
                      </a:lnTo>
                      <a:lnTo>
                        <a:pt x="0" y="50"/>
                      </a:lnTo>
                      <a:lnTo>
                        <a:pt x="2" y="40"/>
                      </a:lnTo>
                      <a:lnTo>
                        <a:pt x="5" y="33"/>
                      </a:lnTo>
                      <a:lnTo>
                        <a:pt x="11" y="23"/>
                      </a:lnTo>
                      <a:lnTo>
                        <a:pt x="17" y="16"/>
                      </a:lnTo>
                      <a:lnTo>
                        <a:pt x="23" y="10"/>
                      </a:lnTo>
                      <a:lnTo>
                        <a:pt x="32" y="2"/>
                      </a:lnTo>
                      <a:lnTo>
                        <a:pt x="32" y="2"/>
                      </a:lnTo>
                      <a:close/>
                    </a:path>
                  </a:pathLst>
                </a:custGeom>
                <a:solidFill>
                  <a:srgbClr val="a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7521120" y="5589000"/>
                  <a:ext cx="74880" cy="4392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19" y="0"/>
                      </a:moveTo>
                      <a:lnTo>
                        <a:pt x="21" y="8"/>
                      </a:lnTo>
                      <a:lnTo>
                        <a:pt x="27" y="13"/>
                      </a:lnTo>
                      <a:lnTo>
                        <a:pt x="31" y="19"/>
                      </a:lnTo>
                      <a:lnTo>
                        <a:pt x="36" y="25"/>
                      </a:lnTo>
                      <a:lnTo>
                        <a:pt x="42" y="29"/>
                      </a:lnTo>
                      <a:lnTo>
                        <a:pt x="48" y="32"/>
                      </a:lnTo>
                      <a:lnTo>
                        <a:pt x="56" y="36"/>
                      </a:lnTo>
                      <a:lnTo>
                        <a:pt x="61" y="40"/>
                      </a:lnTo>
                      <a:lnTo>
                        <a:pt x="69" y="40"/>
                      </a:lnTo>
                      <a:lnTo>
                        <a:pt x="75" y="42"/>
                      </a:lnTo>
                      <a:lnTo>
                        <a:pt x="82" y="42"/>
                      </a:lnTo>
                      <a:lnTo>
                        <a:pt x="88" y="42"/>
                      </a:lnTo>
                      <a:lnTo>
                        <a:pt x="94" y="40"/>
                      </a:lnTo>
                      <a:lnTo>
                        <a:pt x="101" y="38"/>
                      </a:lnTo>
                      <a:lnTo>
                        <a:pt x="109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2" y="53"/>
                      </a:lnTo>
                      <a:lnTo>
                        <a:pt x="120" y="61"/>
                      </a:lnTo>
                      <a:lnTo>
                        <a:pt x="120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1" y="84"/>
                      </a:lnTo>
                      <a:lnTo>
                        <a:pt x="107" y="87"/>
                      </a:lnTo>
                      <a:lnTo>
                        <a:pt x="99" y="89"/>
                      </a:lnTo>
                      <a:lnTo>
                        <a:pt x="94" y="91"/>
                      </a:lnTo>
                      <a:lnTo>
                        <a:pt x="86" y="91"/>
                      </a:lnTo>
                      <a:lnTo>
                        <a:pt x="78" y="93"/>
                      </a:lnTo>
                      <a:lnTo>
                        <a:pt x="71" y="91"/>
                      </a:lnTo>
                      <a:lnTo>
                        <a:pt x="63" y="91"/>
                      </a:lnTo>
                      <a:lnTo>
                        <a:pt x="56" y="87"/>
                      </a:lnTo>
                      <a:lnTo>
                        <a:pt x="48" y="87"/>
                      </a:lnTo>
                      <a:lnTo>
                        <a:pt x="40" y="84"/>
                      </a:lnTo>
                      <a:lnTo>
                        <a:pt x="35" y="82"/>
                      </a:lnTo>
                      <a:lnTo>
                        <a:pt x="27" y="76"/>
                      </a:lnTo>
                      <a:lnTo>
                        <a:pt x="21" y="72"/>
                      </a:lnTo>
                      <a:lnTo>
                        <a:pt x="12" y="63"/>
                      </a:lnTo>
                      <a:lnTo>
                        <a:pt x="6" y="53"/>
                      </a:lnTo>
                      <a:lnTo>
                        <a:pt x="2" y="48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4" y="21"/>
                      </a:lnTo>
                      <a:lnTo>
                        <a:pt x="6" y="13"/>
                      </a:lnTo>
                      <a:lnTo>
                        <a:pt x="12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7550640" y="5536080"/>
                  <a:ext cx="74880" cy="43560"/>
                </a:xfrm>
                <a:custGeom>
                  <a:avLst/>
                  <a:gdLst/>
                  <a:ahLst/>
                  <a:rect l="l" t="t" r="r" b="b"/>
                  <a:pathLst>
                    <a:path w="121" h="93">
                      <a:moveTo>
                        <a:pt x="19" y="0"/>
                      </a:moveTo>
                      <a:lnTo>
                        <a:pt x="23" y="8"/>
                      </a:lnTo>
                      <a:lnTo>
                        <a:pt x="26" y="13"/>
                      </a:lnTo>
                      <a:lnTo>
                        <a:pt x="32" y="19"/>
                      </a:lnTo>
                      <a:lnTo>
                        <a:pt x="38" y="25"/>
                      </a:lnTo>
                      <a:lnTo>
                        <a:pt x="42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3" y="40"/>
                      </a:lnTo>
                      <a:lnTo>
                        <a:pt x="68" y="40"/>
                      </a:lnTo>
                      <a:lnTo>
                        <a:pt x="76" y="40"/>
                      </a:lnTo>
                      <a:lnTo>
                        <a:pt x="82" y="40"/>
                      </a:lnTo>
                      <a:lnTo>
                        <a:pt x="87" y="42"/>
                      </a:lnTo>
                      <a:lnTo>
                        <a:pt x="95" y="40"/>
                      </a:lnTo>
                      <a:lnTo>
                        <a:pt x="102" y="38"/>
                      </a:lnTo>
                      <a:lnTo>
                        <a:pt x="110" y="36"/>
                      </a:lnTo>
                      <a:lnTo>
                        <a:pt x="118" y="34"/>
                      </a:lnTo>
                      <a:lnTo>
                        <a:pt x="120" y="44"/>
                      </a:lnTo>
                      <a:lnTo>
                        <a:pt x="121" y="53"/>
                      </a:lnTo>
                      <a:lnTo>
                        <a:pt x="121" y="61"/>
                      </a:lnTo>
                      <a:lnTo>
                        <a:pt x="121" y="68"/>
                      </a:lnTo>
                      <a:lnTo>
                        <a:pt x="118" y="74"/>
                      </a:lnTo>
                      <a:lnTo>
                        <a:pt x="114" y="80"/>
                      </a:lnTo>
                      <a:lnTo>
                        <a:pt x="110" y="84"/>
                      </a:lnTo>
                      <a:lnTo>
                        <a:pt x="106" y="87"/>
                      </a:lnTo>
                      <a:lnTo>
                        <a:pt x="99" y="89"/>
                      </a:lnTo>
                      <a:lnTo>
                        <a:pt x="93" y="91"/>
                      </a:lnTo>
                      <a:lnTo>
                        <a:pt x="85" y="91"/>
                      </a:lnTo>
                      <a:lnTo>
                        <a:pt x="78" y="93"/>
                      </a:lnTo>
                      <a:lnTo>
                        <a:pt x="70" y="91"/>
                      </a:lnTo>
                      <a:lnTo>
                        <a:pt x="63" y="91"/>
                      </a:lnTo>
                      <a:lnTo>
                        <a:pt x="55" y="89"/>
                      </a:lnTo>
                      <a:lnTo>
                        <a:pt x="47" y="87"/>
                      </a:lnTo>
                      <a:lnTo>
                        <a:pt x="40" y="84"/>
                      </a:lnTo>
                      <a:lnTo>
                        <a:pt x="34" y="80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3"/>
                      </a:lnTo>
                      <a:lnTo>
                        <a:pt x="6" y="53"/>
                      </a:lnTo>
                      <a:lnTo>
                        <a:pt x="2" y="47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2" y="28"/>
                      </a:lnTo>
                      <a:lnTo>
                        <a:pt x="4" y="21"/>
                      </a:lnTo>
                      <a:lnTo>
                        <a:pt x="7" y="13"/>
                      </a:lnTo>
                      <a:lnTo>
                        <a:pt x="11" y="8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7400160" y="5816520"/>
                  <a:ext cx="73440" cy="42840"/>
                </a:xfrm>
                <a:custGeom>
                  <a:avLst/>
                  <a:gdLst/>
                  <a:ahLst/>
                  <a:rect l="l" t="t" r="r" b="b"/>
                  <a:pathLst>
                    <a:path w="119" h="91">
                      <a:moveTo>
                        <a:pt x="17" y="0"/>
                      </a:moveTo>
                      <a:lnTo>
                        <a:pt x="21" y="5"/>
                      </a:lnTo>
                      <a:lnTo>
                        <a:pt x="24" y="13"/>
                      </a:lnTo>
                      <a:lnTo>
                        <a:pt x="28" y="19"/>
                      </a:lnTo>
                      <a:lnTo>
                        <a:pt x="36" y="24"/>
                      </a:lnTo>
                      <a:lnTo>
                        <a:pt x="40" y="28"/>
                      </a:lnTo>
                      <a:lnTo>
                        <a:pt x="47" y="32"/>
                      </a:lnTo>
                      <a:lnTo>
                        <a:pt x="53" y="34"/>
                      </a:lnTo>
                      <a:lnTo>
                        <a:pt x="60" y="38"/>
                      </a:lnTo>
                      <a:lnTo>
                        <a:pt x="66" y="39"/>
                      </a:lnTo>
                      <a:lnTo>
                        <a:pt x="72" y="39"/>
                      </a:lnTo>
                      <a:lnTo>
                        <a:pt x="79" y="39"/>
                      </a:lnTo>
                      <a:lnTo>
                        <a:pt x="85" y="39"/>
                      </a:lnTo>
                      <a:lnTo>
                        <a:pt x="93" y="38"/>
                      </a:lnTo>
                      <a:lnTo>
                        <a:pt x="100" y="36"/>
                      </a:lnTo>
                      <a:lnTo>
                        <a:pt x="108" y="34"/>
                      </a:lnTo>
                      <a:lnTo>
                        <a:pt x="116" y="34"/>
                      </a:lnTo>
                      <a:lnTo>
                        <a:pt x="117" y="41"/>
                      </a:lnTo>
                      <a:lnTo>
                        <a:pt x="119" y="53"/>
                      </a:lnTo>
                      <a:lnTo>
                        <a:pt x="119" y="60"/>
                      </a:lnTo>
                      <a:lnTo>
                        <a:pt x="119" y="68"/>
                      </a:lnTo>
                      <a:lnTo>
                        <a:pt x="116" y="72"/>
                      </a:lnTo>
                      <a:lnTo>
                        <a:pt x="114" y="77"/>
                      </a:lnTo>
                      <a:lnTo>
                        <a:pt x="108" y="83"/>
                      </a:lnTo>
                      <a:lnTo>
                        <a:pt x="104" y="87"/>
                      </a:lnTo>
                      <a:lnTo>
                        <a:pt x="98" y="89"/>
                      </a:lnTo>
                      <a:lnTo>
                        <a:pt x="91" y="91"/>
                      </a:lnTo>
                      <a:lnTo>
                        <a:pt x="83" y="91"/>
                      </a:lnTo>
                      <a:lnTo>
                        <a:pt x="78" y="91"/>
                      </a:lnTo>
                      <a:lnTo>
                        <a:pt x="68" y="91"/>
                      </a:lnTo>
                      <a:lnTo>
                        <a:pt x="62" y="91"/>
                      </a:lnTo>
                      <a:lnTo>
                        <a:pt x="53" y="89"/>
                      </a:lnTo>
                      <a:lnTo>
                        <a:pt x="47" y="87"/>
                      </a:lnTo>
                      <a:lnTo>
                        <a:pt x="40" y="83"/>
                      </a:lnTo>
                      <a:lnTo>
                        <a:pt x="32" y="81"/>
                      </a:lnTo>
                      <a:lnTo>
                        <a:pt x="26" y="76"/>
                      </a:lnTo>
                      <a:lnTo>
                        <a:pt x="21" y="72"/>
                      </a:lnTo>
                      <a:lnTo>
                        <a:pt x="11" y="62"/>
                      </a:lnTo>
                      <a:lnTo>
                        <a:pt x="3" y="53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5" y="13"/>
                      </a:lnTo>
                      <a:lnTo>
                        <a:pt x="9" y="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a373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006320" y="5339880"/>
                  <a:ext cx="55080" cy="3348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23" y="6"/>
                      </a:moveTo>
                      <a:lnTo>
                        <a:pt x="31" y="7"/>
                      </a:lnTo>
                      <a:lnTo>
                        <a:pt x="38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63" y="4"/>
                      </a:lnTo>
                      <a:lnTo>
                        <a:pt x="72" y="4"/>
                      </a:lnTo>
                      <a:lnTo>
                        <a:pt x="80" y="2"/>
                      </a:lnTo>
                      <a:lnTo>
                        <a:pt x="89" y="0"/>
                      </a:lnTo>
                      <a:lnTo>
                        <a:pt x="91" y="7"/>
                      </a:lnTo>
                      <a:lnTo>
                        <a:pt x="89" y="15"/>
                      </a:lnTo>
                      <a:lnTo>
                        <a:pt x="86" y="25"/>
                      </a:lnTo>
                      <a:lnTo>
                        <a:pt x="82" y="36"/>
                      </a:lnTo>
                      <a:lnTo>
                        <a:pt x="74" y="45"/>
                      </a:lnTo>
                      <a:lnTo>
                        <a:pt x="67" y="55"/>
                      </a:lnTo>
                      <a:lnTo>
                        <a:pt x="59" y="64"/>
                      </a:lnTo>
                      <a:lnTo>
                        <a:pt x="53" y="72"/>
                      </a:lnTo>
                      <a:lnTo>
                        <a:pt x="46" y="72"/>
                      </a:lnTo>
                      <a:lnTo>
                        <a:pt x="38" y="72"/>
                      </a:lnTo>
                      <a:lnTo>
                        <a:pt x="31" y="72"/>
                      </a:lnTo>
                      <a:lnTo>
                        <a:pt x="25" y="72"/>
                      </a:lnTo>
                      <a:lnTo>
                        <a:pt x="23" y="61"/>
                      </a:lnTo>
                      <a:lnTo>
                        <a:pt x="27" y="51"/>
                      </a:lnTo>
                      <a:lnTo>
                        <a:pt x="34" y="42"/>
                      </a:lnTo>
                      <a:lnTo>
                        <a:pt x="44" y="36"/>
                      </a:lnTo>
                      <a:lnTo>
                        <a:pt x="34" y="32"/>
                      </a:lnTo>
                      <a:lnTo>
                        <a:pt x="25" y="32"/>
                      </a:lnTo>
                      <a:lnTo>
                        <a:pt x="17" y="30"/>
                      </a:lnTo>
                      <a:lnTo>
                        <a:pt x="10" y="28"/>
                      </a:lnTo>
                      <a:lnTo>
                        <a:pt x="2" y="23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4" y="2"/>
                      </a:lnTo>
                      <a:lnTo>
                        <a:pt x="10" y="2"/>
                      </a:lnTo>
                      <a:lnTo>
                        <a:pt x="15" y="2"/>
                      </a:lnTo>
                      <a:lnTo>
                        <a:pt x="19" y="4"/>
                      </a:lnTo>
                      <a:lnTo>
                        <a:pt x="23" y="6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f59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1" name=""/>
            <p:cNvGrpSpPr/>
            <p:nvPr/>
          </p:nvGrpSpPr>
          <p:grpSpPr>
            <a:xfrm>
              <a:off x="3238560" y="3183120"/>
              <a:ext cx="2666880" cy="1644840"/>
              <a:chOff x="3238560" y="3183120"/>
              <a:chExt cx="2666880" cy="1644840"/>
            </a:xfrm>
          </p:grpSpPr>
          <p:grpSp>
            <p:nvGrpSpPr>
              <p:cNvPr id="2482" name=""/>
              <p:cNvGrpSpPr/>
              <p:nvPr/>
            </p:nvGrpSpPr>
            <p:grpSpPr>
              <a:xfrm>
                <a:off x="4076640" y="3183120"/>
                <a:ext cx="913320" cy="411120"/>
                <a:chOff x="4076640" y="3183120"/>
                <a:chExt cx="913320" cy="411120"/>
              </a:xfrm>
            </p:grpSpPr>
            <p:grpSp>
              <p:nvGrpSpPr>
                <p:cNvPr id="2483" name=""/>
                <p:cNvGrpSpPr/>
                <p:nvPr/>
              </p:nvGrpSpPr>
              <p:grpSpPr>
                <a:xfrm>
                  <a:off x="4846680" y="3217680"/>
                  <a:ext cx="143280" cy="319320"/>
                  <a:chOff x="4846680" y="3217680"/>
                  <a:chExt cx="143280" cy="31932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 flipH="1">
                    <a:off x="4846680" y="3217680"/>
                    <a:ext cx="135720" cy="10260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854240" y="3377520"/>
                    <a:ext cx="135720" cy="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854240" y="3434400"/>
                    <a:ext cx="135720" cy="102600"/>
                  </a:xfrm>
                  <a:prstGeom prst="line">
                    <a:avLst/>
                  </a:prstGeom>
                  <a:ln w="381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7" name=""/>
                <p:cNvGrpSpPr/>
                <p:nvPr/>
              </p:nvGrpSpPr>
              <p:grpSpPr>
                <a:xfrm>
                  <a:off x="4076640" y="3183120"/>
                  <a:ext cx="725040" cy="411120"/>
                  <a:chOff x="4076640" y="3183120"/>
                  <a:chExt cx="725040" cy="411120"/>
                </a:xfrm>
              </p:grpSpPr>
              <p:sp>
                <p:nvSpPr>
                  <p:cNvPr id="2488" name=""/>
                  <p:cNvSpPr/>
                  <p:nvPr/>
                </p:nvSpPr>
                <p:spPr>
                  <a:xfrm rot="16200000">
                    <a:off x="4256280" y="3071160"/>
                    <a:ext cx="410760" cy="634320"/>
                  </a:xfrm>
                  <a:prstGeom prst="triangle">
                    <a:avLst>
                      <a:gd name="adj" fmla="val 48148"/>
                    </a:avLst>
                  </a:prstGeom>
                  <a:solidFill>
                    <a:srgbClr val="99ff99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4756320" y="3183480"/>
                    <a:ext cx="45360" cy="4107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4076640" y="3339000"/>
                    <a:ext cx="237960" cy="109440"/>
                  </a:xfrm>
                  <a:prstGeom prst="rect">
                    <a:avLst/>
                  </a:prstGeom>
                  <a:solidFill>
                    <a:srgbClr val="99ff99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1" name=""/>
              <p:cNvSpPr/>
              <p:nvPr/>
            </p:nvSpPr>
            <p:spPr>
              <a:xfrm rot="5400000">
                <a:off x="4014000" y="2936160"/>
                <a:ext cx="1116000" cy="2666880"/>
              </a:xfrm>
              <a:custGeom>
                <a:avLst/>
                <a:gdLst>
                  <a:gd name="textAreaLeft" fmla="*/ 174240 w 1116000"/>
                  <a:gd name="textAreaRight" fmla="*/ 804960 w 1116000"/>
                  <a:gd name="textAreaTop" fmla="*/ 351720 h 2666880"/>
                  <a:gd name="textAreaBottom" fmla="*/ 2315160 h 26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2850"/>
                    </a:moveTo>
                    <a:lnTo>
                      <a:pt x="13420" y="2850"/>
                    </a:lnTo>
                    <a:lnTo>
                      <a:pt x="13420" y="0"/>
                    </a:lnTo>
                    <a:lnTo>
                      <a:pt x="21600" y="10800"/>
                    </a:lnTo>
                    <a:lnTo>
                      <a:pt x="13420" y="21600"/>
                    </a:lnTo>
                    <a:lnTo>
                      <a:pt x="13420" y="18750"/>
                    </a:lnTo>
                    <a:lnTo>
                      <a:pt x="3375" y="18750"/>
                    </a:lnTo>
                    <a:close/>
                  </a:path>
                  <a:path w="21600" h="21600">
                    <a:moveTo>
                      <a:pt x="0" y="2850"/>
                    </a:moveTo>
                    <a:lnTo>
                      <a:pt x="675" y="2850"/>
                    </a:lnTo>
                    <a:lnTo>
                      <a:pt x="675" y="18750"/>
                    </a:lnTo>
                    <a:lnTo>
                      <a:pt x="0" y="18750"/>
                    </a:lnTo>
                    <a:close/>
                  </a:path>
                  <a:path w="21600" h="21600">
                    <a:moveTo>
                      <a:pt x="1350" y="2850"/>
                    </a:moveTo>
                    <a:lnTo>
                      <a:pt x="2700" y="2850"/>
                    </a:lnTo>
                    <a:lnTo>
                      <a:pt x="2700" y="18750"/>
                    </a:lnTo>
                    <a:lnTo>
                      <a:pt x="1350" y="1875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The conversation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ill be heard to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other stations in the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group with paging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2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/>
          <p:nvPr/>
        </p:nvSpPr>
        <p:spPr>
          <a:xfrm>
            <a:off x="529200" y="1297080"/>
            <a:ext cx="807660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 originator should have [CONF] button to join the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possible for any paged station user to be the second originator by off-h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ressing the [CONF] button. At that time, the previous second orig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go to idle state, and the new second originator can make a page wit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origina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LT : Hook Flash + SLT Conference Page Join Code (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KTU : Lift the handset(Off Hook) + [CONF]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02640" y="4506840"/>
            <a:ext cx="529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erence Page Zone                   : PGM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Access                                    : PGM111-BTN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Warning Tone                         : PGM161-BTN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T Conference Page Join Code   : PGM109-BTN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3040" y="93600"/>
            <a:ext cx="39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ging Conference Group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(5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33520" y="4076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8" name="" descr=""/>
          <p:cNvPicPr/>
          <p:nvPr/>
        </p:nvPicPr>
        <p:blipFill>
          <a:blip r:embed="rId1"/>
          <a:stretch/>
        </p:blipFill>
        <p:spPr>
          <a:xfrm>
            <a:off x="5181480" y="43243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499" name="" descr=""/>
          <p:cNvPicPr/>
          <p:nvPr/>
        </p:nvPicPr>
        <p:blipFill>
          <a:blip r:embed="rId2"/>
          <a:stretch/>
        </p:blipFill>
        <p:spPr>
          <a:xfrm>
            <a:off x="5181480" y="27432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2500" name=""/>
          <p:cNvSpPr/>
          <p:nvPr/>
        </p:nvSpPr>
        <p:spPr>
          <a:xfrm>
            <a:off x="533520" y="165744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Stations can be assigned as Executive and Secretary pairs. ICM or CO Call to Executive station can be routed automatically to the paired secreta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181160" y="2773440"/>
            <a:ext cx="1633320" cy="1197000"/>
          </a:xfrm>
          <a:prstGeom prst="cloudCallout">
            <a:avLst>
              <a:gd name="adj1" fmla="val -5935"/>
              <a:gd name="adj2" fmla="val -5363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CO / 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38840" y="3591000"/>
            <a:ext cx="0" cy="45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921040" y="2924280"/>
            <a:ext cx="1936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s Exec STA 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892760" y="2590920"/>
            <a:ext cx="2008080" cy="2819160"/>
          </a:xfrm>
          <a:prstGeom prst="ellips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rot="20778600">
            <a:off x="5495760" y="4148280"/>
            <a:ext cx="389160" cy="223560"/>
          </a:xfrm>
          <a:custGeom>
            <a:avLst/>
            <a:gdLst/>
            <a:ahLst/>
            <a:rect l="l" t="t" r="r" b="b"/>
            <a:pathLst>
              <a:path w="816" h="240">
                <a:moveTo>
                  <a:pt x="144" y="144"/>
                </a:moveTo>
                <a:lnTo>
                  <a:pt x="0" y="48"/>
                </a:lnTo>
                <a:lnTo>
                  <a:pt x="240" y="96"/>
                </a:lnTo>
                <a:lnTo>
                  <a:pt x="144" y="0"/>
                </a:lnTo>
                <a:lnTo>
                  <a:pt x="336" y="96"/>
                </a:lnTo>
                <a:lnTo>
                  <a:pt x="336" y="0"/>
                </a:lnTo>
                <a:lnTo>
                  <a:pt x="384" y="96"/>
                </a:lnTo>
                <a:lnTo>
                  <a:pt x="480" y="0"/>
                </a:lnTo>
                <a:lnTo>
                  <a:pt x="432" y="144"/>
                </a:lnTo>
                <a:lnTo>
                  <a:pt x="576" y="48"/>
                </a:lnTo>
                <a:lnTo>
                  <a:pt x="528" y="144"/>
                </a:lnTo>
                <a:lnTo>
                  <a:pt x="816" y="48"/>
                </a:lnTo>
                <a:lnTo>
                  <a:pt x="480" y="240"/>
                </a:lnTo>
              </a:path>
            </a:pathLst>
          </a:custGeom>
          <a:noFill/>
          <a:ln w="2844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814480" y="322740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321600" y="3024360"/>
            <a:ext cx="1641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xecutive 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321600" y="4591080"/>
            <a:ext cx="1641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ecretary 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14840" y="10476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&amp; Secretary Transfer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33520" y="12193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"/>
          <p:cNvSpPr/>
          <p:nvPr/>
        </p:nvSpPr>
        <p:spPr>
          <a:xfrm>
            <a:off x="99000" y="1422360"/>
            <a:ext cx="9119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1. When the Executive 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resses the [DND] button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calls are ro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o a Secret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‘CO Call To SEC’ feature is set to ON, CO incoming call is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warded to the Secretary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 If ‘CO Call To SEC’ feature is set to ON and ‘Call EXEC If SEC DND’ 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set to ON and the secretary is in DND state, the incoming call is not forwar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Secretary but to Execu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28120" y="4376880"/>
            <a:ext cx="66560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ecutive/Secretary Pair   : PGM2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 Call To SEC                  : PGM229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ll EXEC If SEC DND       : PGM229-BT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EXEC grade                        : PGM229-BTN4 (Only for Korea, Ind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33520" y="38862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4840" y="936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&amp; Secretary Transfer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6" name="" descr=""/>
          <p:cNvPicPr/>
          <p:nvPr/>
        </p:nvPicPr>
        <p:blipFill>
          <a:blip r:embed="rId1"/>
          <a:stretch/>
        </p:blipFill>
        <p:spPr>
          <a:xfrm>
            <a:off x="7086600" y="232416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2517" name="" descr=""/>
          <p:cNvPicPr/>
          <p:nvPr/>
        </p:nvPicPr>
        <p:blipFill>
          <a:blip r:embed="rId2"/>
          <a:stretch/>
        </p:blipFill>
        <p:spPr>
          <a:xfrm>
            <a:off x="7086600" y="170496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9" name="" descr=""/>
          <p:cNvPicPr/>
          <p:nvPr/>
        </p:nvPicPr>
        <p:blipFill>
          <a:blip r:embed="rId4"/>
          <a:stretch/>
        </p:blipFill>
        <p:spPr>
          <a:xfrm>
            <a:off x="4800600" y="1695600"/>
            <a:ext cx="762120" cy="571320"/>
          </a:xfrm>
          <a:prstGeom prst="rect">
            <a:avLst/>
          </a:prstGeom>
          <a:ln w="0">
            <a:noFill/>
          </a:ln>
        </p:spPr>
      </p:pic>
      <p:sp>
        <p:nvSpPr>
          <p:cNvPr id="2520" name=""/>
          <p:cNvSpPr/>
          <p:nvPr/>
        </p:nvSpPr>
        <p:spPr>
          <a:xfrm>
            <a:off x="4264200" y="3473280"/>
            <a:ext cx="3794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xecutive can have more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Secret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71600" y="3397320"/>
            <a:ext cx="807696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05160" y="882720"/>
            <a:ext cx="0" cy="5181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289040" y="765000"/>
            <a:ext cx="34711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ing is not allow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xecutive and Secretary pa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510080" y="1644480"/>
            <a:ext cx="1447920" cy="15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800240" y="2133720"/>
            <a:ext cx="11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796080" y="1616040"/>
            <a:ext cx="1447920" cy="15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7086240" y="2146320"/>
            <a:ext cx="118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 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7061400" y="2773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922640" y="142236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Pair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100640" y="139392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Pair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4357800" y="1568520"/>
            <a:ext cx="3962160" cy="1676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 flipV="1">
            <a:off x="4357440" y="1568160"/>
            <a:ext cx="3886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79440" y="3473280"/>
            <a:ext cx="3792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station can be assigned m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n two Executive as Secret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7560" y="3397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rot="20700000">
            <a:off x="541440" y="4698720"/>
            <a:ext cx="35049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rot="600000">
            <a:off x="546120" y="4083120"/>
            <a:ext cx="3481200" cy="10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23880" y="5908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1422360" y="488952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147760" y="507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919160" y="507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529000" y="522288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214800" y="514656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22288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rot="20056800">
            <a:off x="3540240" y="5032080"/>
            <a:ext cx="3808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rot="20700000">
            <a:off x="4341960" y="4066920"/>
            <a:ext cx="3808440" cy="1166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rot="600000">
            <a:off x="4355640" y="4815000"/>
            <a:ext cx="3792600" cy="124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7" name="" descr=""/>
          <p:cNvPicPr/>
          <p:nvPr/>
        </p:nvPicPr>
        <p:blipFill>
          <a:blip r:embed="rId5"/>
          <a:stretch/>
        </p:blipFill>
        <p:spPr>
          <a:xfrm>
            <a:off x="1371600" y="408636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8" name=""/>
          <p:cNvSpPr/>
          <p:nvPr/>
        </p:nvSpPr>
        <p:spPr>
          <a:xfrm rot="2963400">
            <a:off x="4541760" y="4613040"/>
            <a:ext cx="236520" cy="59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rot="543000">
            <a:off x="5732280" y="4731840"/>
            <a:ext cx="1274760" cy="2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919120" y="46101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14840" y="9360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&amp; Secretary Transfer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2" name="" descr=""/>
          <p:cNvPicPr/>
          <p:nvPr/>
        </p:nvPicPr>
        <p:blipFill>
          <a:blip r:embed="rId6"/>
          <a:stretch/>
        </p:blipFill>
        <p:spPr>
          <a:xfrm>
            <a:off x="1371600" y="49528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3" name=""/>
          <p:cNvSpPr/>
          <p:nvPr/>
        </p:nvSpPr>
        <p:spPr>
          <a:xfrm>
            <a:off x="4775400" y="2773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219320" y="464832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112040" y="55627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6" name="" descr=""/>
          <p:cNvPicPr/>
          <p:nvPr/>
        </p:nvPicPr>
        <p:blipFill>
          <a:blip r:embed="rId7"/>
          <a:stretch/>
        </p:blipFill>
        <p:spPr>
          <a:xfrm>
            <a:off x="2590920" y="44956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7" name=""/>
          <p:cNvSpPr/>
          <p:nvPr/>
        </p:nvSpPr>
        <p:spPr>
          <a:xfrm>
            <a:off x="2497680" y="50436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rot="2963400">
            <a:off x="4856400" y="4591800"/>
            <a:ext cx="3873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rot="2963400">
            <a:off x="5237280" y="4667760"/>
            <a:ext cx="3873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rot="2963400">
            <a:off x="5465880" y="4591800"/>
            <a:ext cx="38736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1" name="" descr=""/>
          <p:cNvPicPr/>
          <p:nvPr/>
        </p:nvPicPr>
        <p:blipFill>
          <a:blip r:embed="rId8"/>
          <a:stretch/>
        </p:blipFill>
        <p:spPr>
          <a:xfrm>
            <a:off x="6324480" y="40575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562" name="" descr=""/>
          <p:cNvPicPr/>
          <p:nvPr/>
        </p:nvPicPr>
        <p:blipFill>
          <a:blip r:embed="rId9"/>
          <a:stretch/>
        </p:blipFill>
        <p:spPr>
          <a:xfrm>
            <a:off x="6324480" y="51055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3" name=""/>
          <p:cNvSpPr/>
          <p:nvPr/>
        </p:nvSpPr>
        <p:spPr>
          <a:xfrm>
            <a:off x="5914440" y="56530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4" name="" descr=""/>
          <p:cNvPicPr/>
          <p:nvPr/>
        </p:nvPicPr>
        <p:blipFill>
          <a:blip r:embed="rId10"/>
          <a:stretch/>
        </p:blipFill>
        <p:spPr>
          <a:xfrm>
            <a:off x="4800600" y="4648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5" name=""/>
          <p:cNvSpPr/>
          <p:nvPr/>
        </p:nvSpPr>
        <p:spPr>
          <a:xfrm>
            <a:off x="4766400" y="51958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1544760"/>
            <a:ext cx="463716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 of accessible CO group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selected by round-robin or l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Program for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 Line Cho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60-BTN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 of another accessible 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can be seized if all CO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group are bu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Program for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verride 1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CO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(PGM161-BTN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06840" y="981000"/>
            <a:ext cx="4267080" cy="4819680"/>
            <a:chOff x="4506840" y="981000"/>
            <a:chExt cx="4267080" cy="4819680"/>
          </a:xfrm>
        </p:grpSpPr>
        <p:sp>
          <p:nvSpPr>
            <p:cNvPr id="112" name=""/>
            <p:cNvSpPr/>
            <p:nvPr/>
          </p:nvSpPr>
          <p:spPr>
            <a:xfrm>
              <a:off x="7174080" y="1914480"/>
              <a:ext cx="15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und-rob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75160" y="4824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st cho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116320" y="1305000"/>
              <a:ext cx="2006640" cy="1600200"/>
              <a:chOff x="5116320" y="1305000"/>
              <a:chExt cx="2006640" cy="1600200"/>
            </a:xfrm>
          </p:grpSpPr>
          <p:sp>
            <p:nvSpPr>
              <p:cNvPr id="115" name=""/>
              <p:cNvSpPr/>
              <p:nvPr/>
            </p:nvSpPr>
            <p:spPr>
              <a:xfrm>
                <a:off x="5116320" y="1305000"/>
                <a:ext cx="2006640" cy="1600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5346720" y="1666800"/>
                <a:ext cx="1608120" cy="932040"/>
                <a:chOff x="5346720" y="1666800"/>
                <a:chExt cx="1608120" cy="932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346720" y="1666800"/>
                  <a:ext cx="544320" cy="24624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13400" y="1819440"/>
                  <a:ext cx="541440" cy="24624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79880" y="2352600"/>
                  <a:ext cx="540000" cy="24624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803920" y="1819440"/>
                  <a:ext cx="60948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6261120" y="2048040"/>
                  <a:ext cx="38088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5575320" y="1895400"/>
                  <a:ext cx="30456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>
              <a:off x="5593680" y="98100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116320" y="3857760"/>
              <a:ext cx="2006640" cy="1942920"/>
              <a:chOff x="5116320" y="3857760"/>
              <a:chExt cx="2006640" cy="194292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344920" y="4581720"/>
                <a:ext cx="1608120" cy="932040"/>
                <a:chOff x="5344920" y="4581720"/>
                <a:chExt cx="1608120" cy="932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344920" y="4581720"/>
                  <a:ext cx="544680" cy="2462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411960" y="4734000"/>
                  <a:ext cx="541080" cy="2462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78440" y="5267520"/>
                  <a:ext cx="539640" cy="2462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  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878440" y="4581720"/>
                  <a:ext cx="53352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6258960" y="4962600"/>
                  <a:ext cx="38124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116320" y="3857760"/>
                <a:ext cx="2006640" cy="1942920"/>
                <a:chOff x="5116320" y="3857760"/>
                <a:chExt cx="2006640" cy="1942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116320" y="4200480"/>
                  <a:ext cx="2006640" cy="160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93680" y="3857760"/>
                  <a:ext cx="1058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996633"/>
                      </a:solidFill>
                      <a:latin typeface="Arial"/>
                    </a:rPr>
                    <a:t>Group 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6945120" y="2600280"/>
              <a:ext cx="457200" cy="2057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339480 h 2057400"/>
                <a:gd name="textAreaBottom" fmla="*/ 159480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27" stAng="-5400000" swAng="5400000"/>
                  <a:lnTo>
                    <a:pt x="21600" y="13179"/>
                  </a:lnTo>
                  <a:arcTo wR="21600" hR="7127" stAng="0" swAng="2581351"/>
                  <a:lnTo>
                    <a:pt x="7200" y="21192"/>
                  </a:lnTo>
                  <a:lnTo>
                    <a:pt x="0" y="17280"/>
                  </a:lnTo>
                  <a:lnTo>
                    <a:pt x="7200" y="12552"/>
                  </a:lnTo>
                  <a:lnTo>
                    <a:pt x="7200" y="13846"/>
                  </a:lnTo>
                  <a:arcTo wR="21600" hR="7127" stAng="2581351" swAng="-2053607"/>
                  <a:lnTo>
                    <a:pt x="19556" y="10153"/>
                  </a:lnTo>
                  <a:arcTo wR="21600" hR="7127" stAng="-527744" swAng="-4872256"/>
                  <a:close/>
                </a:path>
                <a:path fill="darkenLess" w="21600" h="21600">
                  <a:moveTo>
                    <a:pt x="0" y="0"/>
                  </a:moveTo>
                  <a:arcTo wR="21600" hR="7127" stAng="-5400000" swAng="5400000"/>
                  <a:lnTo>
                    <a:pt x="21600" y="13179"/>
                  </a:lnTo>
                  <a:arcTo wR="21600" hR="7127" stAng="0" swAng="-527744"/>
                  <a:lnTo>
                    <a:pt x="19556" y="10153"/>
                  </a:lnTo>
                  <a:arcTo wR="21600" hR="7127" stAng="-527744" swAng="-4872256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6840" y="336240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Override 1</a:t>
              </a:r>
              <a:r>
                <a:rPr b="0" lang="en-US" sz="1800" spc="-1" strike="noStrike" baseline="30000">
                  <a:solidFill>
                    <a:srgbClr val="ff3300"/>
                  </a:solidFill>
                  <a:latin typeface="Arial"/>
                </a:rPr>
                <a:t>st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 CO group to next CO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8120" y="98280"/>
            <a:ext cx="36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access CO line? (4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0764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6" name="" descr=""/>
          <p:cNvPicPr/>
          <p:nvPr/>
        </p:nvPicPr>
        <p:blipFill>
          <a:blip r:embed="rId1"/>
          <a:stretch/>
        </p:blipFill>
        <p:spPr>
          <a:xfrm>
            <a:off x="609480" y="29908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2567" name=""/>
          <p:cNvSpPr/>
          <p:nvPr/>
        </p:nvSpPr>
        <p:spPr>
          <a:xfrm>
            <a:off x="533520" y="1295280"/>
            <a:ext cx="769608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ipLDK System SMDR(station message detail recording) provides details information about both incoming calls and outgoing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of SMDR p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pLDK-60 :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27800" y="93600"/>
            <a:ext cx="52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tation message detail recor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990720" y="41274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643800" y="5038560"/>
            <a:ext cx="10522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RS-2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2" name="" descr=""/>
          <p:cNvPicPr/>
          <p:nvPr/>
        </p:nvPicPr>
        <p:blipFill>
          <a:blip r:embed="rId2"/>
          <a:stretch/>
        </p:blipFill>
        <p:spPr>
          <a:xfrm>
            <a:off x="6477120" y="3716280"/>
            <a:ext cx="1287360" cy="1312920"/>
          </a:xfrm>
          <a:prstGeom prst="rect">
            <a:avLst/>
          </a:prstGeom>
          <a:ln w="0">
            <a:noFill/>
          </a:ln>
        </p:spPr>
      </p:pic>
      <p:sp>
        <p:nvSpPr>
          <p:cNvPr id="2573" name=""/>
          <p:cNvSpPr/>
          <p:nvPr/>
        </p:nvSpPr>
        <p:spPr>
          <a:xfrm flipH="1">
            <a:off x="2192040" y="3808440"/>
            <a:ext cx="179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5289480" y="4641840"/>
            <a:ext cx="132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5" name="" descr=""/>
          <p:cNvPicPr/>
          <p:nvPr/>
        </p:nvPicPr>
        <p:blipFill>
          <a:blip r:embed="rId3"/>
          <a:stretch/>
        </p:blipFill>
        <p:spPr>
          <a:xfrm>
            <a:off x="3352680" y="3048120"/>
            <a:ext cx="2293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"/>
          <p:cNvSpPr/>
          <p:nvPr/>
        </p:nvSpPr>
        <p:spPr>
          <a:xfrm>
            <a:off x="99360" y="1047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Overal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533520" y="1327320"/>
            <a:ext cx="7772400" cy="2877120"/>
            <a:chOff x="533520" y="1327320"/>
            <a:chExt cx="7772400" cy="2877120"/>
          </a:xfrm>
        </p:grpSpPr>
        <p:sp>
          <p:nvSpPr>
            <p:cNvPr id="2578" name=""/>
            <p:cNvSpPr/>
            <p:nvPr/>
          </p:nvSpPr>
          <p:spPr>
            <a:xfrm>
              <a:off x="533520" y="1327320"/>
              <a:ext cx="7772400" cy="2863800"/>
            </a:xfrm>
            <a:prstGeom prst="rect">
              <a:avLst/>
            </a:prstGeom>
            <a:solidFill>
              <a:srgbClr val="e6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1960" y="1346400"/>
              <a:ext cx="766764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      STA     CO        TIME                START               DIALED  ACT     CNT             COST             ACCOUNT C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NNN  AAAA  BB   HH:MM:SS  YY/MM/DD  HH:MM  </a:t>
              </a:r>
              <a:r>
                <a:rPr b="1" lang="en-US" sz="1100" spc="-1" strike="noStrike">
                  <a:solidFill>
                    <a:srgbClr val="ff3300"/>
                  </a:solidFill>
                  <a:latin typeface="Arial"/>
                </a:rPr>
                <a:t>T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D…D   GG    KKKKK   CCCCCCCCCC   VVVVVVVVVVV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1960" y="1952640"/>
              <a:ext cx="7667640" cy="22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4 digits Sequential number(Range 0000~9999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T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4 digits Station 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2 digits CO line number(Range 01~3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8 digits Call duration field(HH:MM:S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TAR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14 digits Call start time(YY/MM/DD HH:M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: 1 digit Call type indicator(I=incoming, O=outgoing, T=Transferred cal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DIALE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18 digits Dialed telephone number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 GRP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2 digits Account group number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N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5 digits Metering count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10 digits Call cost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NT CODE : 11 digits authorization code fiel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71680" y="1590840"/>
              <a:ext cx="76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533520" y="4869000"/>
            <a:ext cx="66294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DMR Account Grou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PGM 1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the Metering typ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PGM 142-BTN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DR Attribut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PGM 17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nt Serial Port Selection    : PGM 175 (Offline SMDR, Online SMD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lect the AOC typ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PGM 200-BTN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533520" y="8398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33520" y="44197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533520" y="5533920"/>
            <a:ext cx="5486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R Start Timer : PGM177-BTN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533520" y="1066680"/>
            <a:ext cx="43434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 Line without Metering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533520" y="1650960"/>
            <a:ext cx="7467480" cy="940680"/>
            <a:chOff x="533520" y="1650960"/>
            <a:chExt cx="7467480" cy="940680"/>
          </a:xfrm>
        </p:grpSpPr>
        <p:sp>
          <p:nvSpPr>
            <p:cNvPr id="2588" name=""/>
            <p:cNvSpPr/>
            <p:nvPr/>
          </p:nvSpPr>
          <p:spPr>
            <a:xfrm>
              <a:off x="990720" y="1650960"/>
              <a:ext cx="647676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990720" y="172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1752480" y="172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2666880" y="172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3809880" y="172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7467480" y="1726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33520" y="2260440"/>
              <a:ext cx="99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ize 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371600" y="2260440"/>
              <a:ext cx="99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33720" y="2260440"/>
              <a:ext cx="99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t Dig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666880" y="2031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809880" y="203184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905120" y="203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057400" y="203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209680" y="203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362320" y="2031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743200" y="1981080"/>
              <a:ext cx="1295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DR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52880" y="1981080"/>
              <a:ext cx="175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Call 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010280" y="2260440"/>
              <a:ext cx="99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h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6" name=""/>
          <p:cNvSpPr/>
          <p:nvPr/>
        </p:nvSpPr>
        <p:spPr>
          <a:xfrm>
            <a:off x="533520" y="3092400"/>
            <a:ext cx="472428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og Line with Metering signal (SP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533520" y="3701880"/>
            <a:ext cx="7467480" cy="947160"/>
            <a:chOff x="533520" y="3701880"/>
            <a:chExt cx="7467480" cy="947160"/>
          </a:xfrm>
        </p:grpSpPr>
        <p:sp>
          <p:nvSpPr>
            <p:cNvPr id="2608" name=""/>
            <p:cNvSpPr/>
            <p:nvPr/>
          </p:nvSpPr>
          <p:spPr>
            <a:xfrm>
              <a:off x="990720" y="3701880"/>
              <a:ext cx="647676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990720" y="3777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752480" y="3777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2666880" y="3777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3429000" y="3777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7467480" y="3777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33520" y="4311360"/>
              <a:ext cx="99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ize 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371600" y="4311360"/>
              <a:ext cx="99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33720" y="4311360"/>
              <a:ext cx="990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t Dig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29000" y="408276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905120" y="408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057400" y="4082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209680" y="4082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362320" y="408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048120" y="4317840"/>
              <a:ext cx="18288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tect 1st met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952880" y="4032000"/>
              <a:ext cx="175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Call 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010280" y="4311360"/>
              <a:ext cx="99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ho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5" name=""/>
          <p:cNvSpPr/>
          <p:nvPr/>
        </p:nvSpPr>
        <p:spPr>
          <a:xfrm>
            <a:off x="121680" y="10476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Call Duration Ti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33520" y="51372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"/>
          <p:cNvSpPr/>
          <p:nvPr/>
        </p:nvSpPr>
        <p:spPr>
          <a:xfrm>
            <a:off x="533520" y="5229360"/>
            <a:ext cx="3809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b2b2b2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AOC type : PGM200-BT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33520" y="1233360"/>
            <a:ext cx="41907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ISDN Line without AO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33520" y="1608120"/>
            <a:ext cx="6629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b2b2b2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From receiving the CONNECT message to end of th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33520" y="2494080"/>
            <a:ext cx="380988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ISDN Line with AO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33520" y="2884320"/>
            <a:ext cx="7848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Analyze the charging information in Facility Message according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the ETSI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b2b2b2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upport AOC-S, AOC-D, AOC-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21680" y="9216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Call Duration Ti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33520" y="48387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"/>
          <p:cNvSpPr/>
          <p:nvPr/>
        </p:nvSpPr>
        <p:spPr>
          <a:xfrm>
            <a:off x="546840" y="1336680"/>
            <a:ext cx="66852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can be assigned as member of call account group on SM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umber of Account Group p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pLDK-60 :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33520" y="3324240"/>
            <a:ext cx="80769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programmed, Account Group is displayed in the SMDR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tion belongs to only one call accou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l stations are not assigned as member of any call Account Group by default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33520" y="5229360"/>
            <a:ext cx="4038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R Account Group : PGM1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16280" y="1047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Accoun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33520" y="29178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33520" y="48164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"/>
          <p:cNvSpPr/>
          <p:nvPr/>
        </p:nvSpPr>
        <p:spPr>
          <a:xfrm>
            <a:off x="515160" y="1317600"/>
            <a:ext cx="8546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hile on an outside call, users can enter a series of digits that will be included in the SMD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eries of digits, ‘Account Code’, can be used to allocate cost or time for the cal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33520" y="2660760"/>
            <a:ext cx="83818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ount Code should be entered during a conver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a Keyse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a S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①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s {Account Code} flexible button      ① </a:t>
            </a: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Off Hook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and intercom dial tone hear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al the Account Code(Max. 12digits)      ② Dial feature code  5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③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s {Account Code} flexible button      ③ Dial the Account Code(Max. 12digits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④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ook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33520" y="5054760"/>
            <a:ext cx="7826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 a Keyset, to access the account code feature, {Account Code} flexible button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hould be assign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[TRANS/PGM] + Flexible button + [TRANS/PGM] + 8 0 + [HOLD/SAVE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89640" y="1047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Accoun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33520" y="907920"/>
            <a:ext cx="160020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33520" y="23335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33520" y="47242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"/>
          <p:cNvSpPr/>
          <p:nvPr/>
        </p:nvSpPr>
        <p:spPr>
          <a:xfrm>
            <a:off x="543240" y="1419120"/>
            <a:ext cx="38138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dant print and delete the SMD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33520" y="2611440"/>
            <a:ext cx="708660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 0111 : Print SMDR(Station 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0112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 SMDR(Station 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0113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SMDR(Account Group 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0114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 SMDR(Account Group 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0115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call charge on LCD (Station Ba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PGM] +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0116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rting SMDR 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33520" y="5334120"/>
            <a:ext cx="42670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ing pl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GM106-BTN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R Attribu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GM1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16280" y="936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DR - Print By Att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" y="10666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33520" y="22096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33520" y="49528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6591240" y="3505320"/>
            <a:ext cx="1866960" cy="140004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2657" name=""/>
          <p:cNvSpPr/>
          <p:nvPr/>
        </p:nvSpPr>
        <p:spPr>
          <a:xfrm>
            <a:off x="552240" y="1400040"/>
            <a:ext cx="80794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VERR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n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TD can send a ring signal to a station which is in DND m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RU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ATTD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r S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n make a convers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 a station or CO line is bu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33520" y="2971800"/>
            <a:ext cx="21333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D Overr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4000680" y="349236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 “120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614760" y="382896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 DND 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129320" y="4767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6419880" y="48420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D Station 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433600" y="38322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422440" y="4173480"/>
            <a:ext cx="4114800" cy="0"/>
          </a:xfrm>
          <a:prstGeom prst="line">
            <a:avLst/>
          </a:prstGeom>
          <a:ln w="38160">
            <a:solidFill>
              <a:srgbClr val="ff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422440" y="455436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406680" y="41911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 * or Intrusion B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529440" y="45720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M ring to STA 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863640" y="5257800"/>
            <a:ext cx="74232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to assign Intrusion butt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RANS/PGM]  +  Flexible BTN  +  [TRANS/PGM]  +  86  +  [HOLD/SAVE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82800" y="92160"/>
            <a:ext cx="44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dant Override &amp; Intrusion 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53352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1" name="" descr=""/>
          <p:cNvPicPr/>
          <p:nvPr/>
        </p:nvPicPr>
        <p:blipFill>
          <a:blip r:embed="rId1"/>
          <a:stretch/>
        </p:blipFill>
        <p:spPr>
          <a:xfrm>
            <a:off x="6705720" y="38862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672" name="" descr=""/>
          <p:cNvPicPr/>
          <p:nvPr/>
        </p:nvPicPr>
        <p:blipFill>
          <a:blip r:embed="rId2"/>
          <a:stretch/>
        </p:blipFill>
        <p:spPr>
          <a:xfrm>
            <a:off x="609480" y="240048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2673" name=""/>
          <p:cNvSpPr/>
          <p:nvPr/>
        </p:nvSpPr>
        <p:spPr>
          <a:xfrm>
            <a:off x="533520" y="907920"/>
            <a:ext cx="45720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D/Station Intrusion - CO Line or 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802080" y="5338800"/>
            <a:ext cx="74304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tice :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UTO PRIVACY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PGM161-BTN5) should be disabl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ation 100 should have th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VERRIDE PRIVILEGE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PGM113-BTN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923400" y="35863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rot="20978400">
            <a:off x="2563920" y="1847520"/>
            <a:ext cx="33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How to u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ss BTN for CO 1 which is bus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2400480" y="1971720"/>
            <a:ext cx="4495680" cy="83808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400480" y="3343320"/>
            <a:ext cx="4495680" cy="9907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rot="706800">
            <a:off x="2250000" y="3797640"/>
            <a:ext cx="45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How to use 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) Call STA 120 which is bu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) Pres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trusion BTN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uring hearing busy t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413080" y="3127320"/>
            <a:ext cx="4495680" cy="990720"/>
          </a:xfrm>
          <a:prstGeom prst="line">
            <a:avLst/>
          </a:prstGeom>
          <a:ln w="3816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2476440" y="2124000"/>
            <a:ext cx="4572000" cy="914400"/>
          </a:xfrm>
          <a:prstGeom prst="line">
            <a:avLst/>
          </a:prstGeom>
          <a:ln w="3816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505640" y="2124000"/>
            <a:ext cx="0" cy="1828800"/>
          </a:xfrm>
          <a:prstGeom prst="line">
            <a:avLst/>
          </a:prstGeom>
          <a:ln w="3816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911280" y="49896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667560" y="1057320"/>
            <a:ext cx="1676520" cy="1104840"/>
          </a:xfrm>
          <a:prstGeom prst="cloudCallout">
            <a:avLst>
              <a:gd name="adj1" fmla="val -759"/>
              <a:gd name="adj2" fmla="val 2528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1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r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7658280" y="2124000"/>
            <a:ext cx="0" cy="182880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798840" y="5911920"/>
            <a:ext cx="44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</a:rPr>
              <a:t>●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vide warning tone or Not :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GM161-BTN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82800" y="93600"/>
            <a:ext cx="44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dant Override &amp; Intrusion 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67720" y="3854520"/>
            <a:ext cx="609480" cy="412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00680" y="3714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907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393920"/>
            <a:ext cx="86756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If there is an incoming call through CO Line which is ring assigned,  the pre-assigned destination gets the cal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The destination can be Station, Hunt Group or VMIB announc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760" y="9360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get incoming call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2520" y="5610240"/>
            <a:ext cx="3916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 Ring Assignment : PGM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3840" y="4098960"/>
            <a:ext cx="1077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5880" y="5052960"/>
            <a:ext cx="1859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IB 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7280" y="3270240"/>
            <a:ext cx="954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59400" y="3625920"/>
            <a:ext cx="2551320" cy="104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0360" y="4367160"/>
            <a:ext cx="1038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86480" y="3270240"/>
            <a:ext cx="954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6920" y="3629160"/>
            <a:ext cx="1550880" cy="933480"/>
          </a:xfrm>
          <a:prstGeom prst="cloudCallout">
            <a:avLst>
              <a:gd name="adj1" fmla="val -12902"/>
              <a:gd name="adj2" fmla="val 4488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T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70520" y="4156200"/>
            <a:ext cx="13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2920" y="268920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LDK-60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9720" y="40989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3619440"/>
            <a:ext cx="681120" cy="952200"/>
            <a:chOff x="380880" y="3619440"/>
            <a:chExt cx="681120" cy="952200"/>
          </a:xfrm>
        </p:grpSpPr>
        <p:sp>
          <p:nvSpPr>
            <p:cNvPr id="155" name=""/>
            <p:cNvSpPr/>
            <p:nvPr/>
          </p:nvSpPr>
          <p:spPr>
            <a:xfrm>
              <a:off x="395280" y="3729600"/>
              <a:ext cx="6598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3619440"/>
              <a:ext cx="681120" cy="952200"/>
            </a:xfrm>
            <a:custGeom>
              <a:avLst/>
              <a:gdLst/>
              <a:ahLst/>
              <a:rect l="l" t="t" r="r" b="b"/>
              <a:pathLst>
                <a:path w="1550" h="1681">
                  <a:moveTo>
                    <a:pt x="1314" y="1177"/>
                  </a:moveTo>
                  <a:lnTo>
                    <a:pt x="1330" y="1191"/>
                  </a:lnTo>
                  <a:lnTo>
                    <a:pt x="1336" y="1191"/>
                  </a:lnTo>
                  <a:lnTo>
                    <a:pt x="1343" y="1190"/>
                  </a:lnTo>
                  <a:lnTo>
                    <a:pt x="1352" y="1188"/>
                  </a:lnTo>
                  <a:lnTo>
                    <a:pt x="1361" y="1187"/>
                  </a:lnTo>
                  <a:lnTo>
                    <a:pt x="1371" y="1186"/>
                  </a:lnTo>
                  <a:lnTo>
                    <a:pt x="1379" y="1185"/>
                  </a:lnTo>
                  <a:lnTo>
                    <a:pt x="1387" y="1184"/>
                  </a:lnTo>
                  <a:lnTo>
                    <a:pt x="1395" y="1182"/>
                  </a:lnTo>
                  <a:lnTo>
                    <a:pt x="1401" y="1182"/>
                  </a:lnTo>
                  <a:lnTo>
                    <a:pt x="1405" y="1182"/>
                  </a:lnTo>
                  <a:lnTo>
                    <a:pt x="1411" y="1184"/>
                  </a:lnTo>
                  <a:lnTo>
                    <a:pt x="1416" y="1185"/>
                  </a:lnTo>
                  <a:lnTo>
                    <a:pt x="1422" y="1188"/>
                  </a:lnTo>
                  <a:lnTo>
                    <a:pt x="1428" y="1192"/>
                  </a:lnTo>
                  <a:lnTo>
                    <a:pt x="1434" y="1197"/>
                  </a:lnTo>
                  <a:lnTo>
                    <a:pt x="1440" y="1203"/>
                  </a:lnTo>
                  <a:lnTo>
                    <a:pt x="1452" y="1217"/>
                  </a:lnTo>
                  <a:lnTo>
                    <a:pt x="1462" y="1232"/>
                  </a:lnTo>
                  <a:lnTo>
                    <a:pt x="1472" y="1248"/>
                  </a:lnTo>
                  <a:lnTo>
                    <a:pt x="1481" y="1263"/>
                  </a:lnTo>
                  <a:lnTo>
                    <a:pt x="1490" y="1280"/>
                  </a:lnTo>
                  <a:lnTo>
                    <a:pt x="1498" y="1294"/>
                  </a:lnTo>
                  <a:lnTo>
                    <a:pt x="1506" y="1309"/>
                  </a:lnTo>
                  <a:lnTo>
                    <a:pt x="1515" y="1321"/>
                  </a:lnTo>
                  <a:lnTo>
                    <a:pt x="1503" y="1329"/>
                  </a:lnTo>
                  <a:lnTo>
                    <a:pt x="1492" y="1331"/>
                  </a:lnTo>
                  <a:lnTo>
                    <a:pt x="1483" y="1330"/>
                  </a:lnTo>
                  <a:lnTo>
                    <a:pt x="1473" y="1325"/>
                  </a:lnTo>
                  <a:lnTo>
                    <a:pt x="1465" y="1319"/>
                  </a:lnTo>
                  <a:lnTo>
                    <a:pt x="1458" y="1311"/>
                  </a:lnTo>
                  <a:lnTo>
                    <a:pt x="1452" y="1301"/>
                  </a:lnTo>
                  <a:lnTo>
                    <a:pt x="1448" y="1292"/>
                  </a:lnTo>
                  <a:lnTo>
                    <a:pt x="1441" y="1288"/>
                  </a:lnTo>
                  <a:lnTo>
                    <a:pt x="1433" y="1284"/>
                  </a:lnTo>
                  <a:lnTo>
                    <a:pt x="1427" y="1279"/>
                  </a:lnTo>
                  <a:lnTo>
                    <a:pt x="1422" y="1274"/>
                  </a:lnTo>
                  <a:lnTo>
                    <a:pt x="1428" y="1293"/>
                  </a:lnTo>
                  <a:lnTo>
                    <a:pt x="1433" y="1315"/>
                  </a:lnTo>
                  <a:lnTo>
                    <a:pt x="1435" y="1334"/>
                  </a:lnTo>
                  <a:lnTo>
                    <a:pt x="1435" y="1347"/>
                  </a:lnTo>
                  <a:lnTo>
                    <a:pt x="1433" y="1351"/>
                  </a:lnTo>
                  <a:lnTo>
                    <a:pt x="1429" y="1357"/>
                  </a:lnTo>
                  <a:lnTo>
                    <a:pt x="1423" y="1365"/>
                  </a:lnTo>
                  <a:lnTo>
                    <a:pt x="1416" y="1372"/>
                  </a:lnTo>
                  <a:lnTo>
                    <a:pt x="1409" y="1380"/>
                  </a:lnTo>
                  <a:lnTo>
                    <a:pt x="1401" y="1388"/>
                  </a:lnTo>
                  <a:lnTo>
                    <a:pt x="1393" y="1398"/>
                  </a:lnTo>
                  <a:lnTo>
                    <a:pt x="1385" y="1406"/>
                  </a:lnTo>
                  <a:lnTo>
                    <a:pt x="1373" y="1397"/>
                  </a:lnTo>
                  <a:lnTo>
                    <a:pt x="1368" y="1378"/>
                  </a:lnTo>
                  <a:lnTo>
                    <a:pt x="1370" y="1356"/>
                  </a:lnTo>
                  <a:lnTo>
                    <a:pt x="1378" y="1338"/>
                  </a:lnTo>
                  <a:lnTo>
                    <a:pt x="1377" y="1331"/>
                  </a:lnTo>
                  <a:lnTo>
                    <a:pt x="1374" y="1321"/>
                  </a:lnTo>
                  <a:lnTo>
                    <a:pt x="1372" y="1309"/>
                  </a:lnTo>
                  <a:lnTo>
                    <a:pt x="1372" y="1297"/>
                  </a:lnTo>
                  <a:lnTo>
                    <a:pt x="1366" y="1315"/>
                  </a:lnTo>
                  <a:lnTo>
                    <a:pt x="1360" y="1326"/>
                  </a:lnTo>
                  <a:lnTo>
                    <a:pt x="1354" y="1336"/>
                  </a:lnTo>
                  <a:lnTo>
                    <a:pt x="1348" y="1342"/>
                  </a:lnTo>
                  <a:lnTo>
                    <a:pt x="1342" y="1347"/>
                  </a:lnTo>
                  <a:lnTo>
                    <a:pt x="1338" y="1350"/>
                  </a:lnTo>
                  <a:lnTo>
                    <a:pt x="1333" y="1355"/>
                  </a:lnTo>
                  <a:lnTo>
                    <a:pt x="1328" y="1361"/>
                  </a:lnTo>
                  <a:lnTo>
                    <a:pt x="1330" y="1375"/>
                  </a:lnTo>
                  <a:lnTo>
                    <a:pt x="1330" y="1394"/>
                  </a:lnTo>
                  <a:lnTo>
                    <a:pt x="1327" y="1415"/>
                  </a:lnTo>
                  <a:lnTo>
                    <a:pt x="1324" y="1434"/>
                  </a:lnTo>
                  <a:lnTo>
                    <a:pt x="1323" y="1447"/>
                  </a:lnTo>
                  <a:lnTo>
                    <a:pt x="1326" y="1454"/>
                  </a:lnTo>
                  <a:lnTo>
                    <a:pt x="1332" y="1460"/>
                  </a:lnTo>
                  <a:lnTo>
                    <a:pt x="1340" y="1468"/>
                  </a:lnTo>
                  <a:lnTo>
                    <a:pt x="1347" y="1463"/>
                  </a:lnTo>
                  <a:lnTo>
                    <a:pt x="1355" y="1461"/>
                  </a:lnTo>
                  <a:lnTo>
                    <a:pt x="1365" y="1460"/>
                  </a:lnTo>
                  <a:lnTo>
                    <a:pt x="1374" y="1461"/>
                  </a:lnTo>
                  <a:lnTo>
                    <a:pt x="1383" y="1465"/>
                  </a:lnTo>
                  <a:lnTo>
                    <a:pt x="1390" y="1469"/>
                  </a:lnTo>
                  <a:lnTo>
                    <a:pt x="1396" y="1476"/>
                  </a:lnTo>
                  <a:lnTo>
                    <a:pt x="1401" y="1485"/>
                  </a:lnTo>
                  <a:lnTo>
                    <a:pt x="1404" y="1495"/>
                  </a:lnTo>
                  <a:lnTo>
                    <a:pt x="1410" y="1504"/>
                  </a:lnTo>
                  <a:lnTo>
                    <a:pt x="1416" y="1511"/>
                  </a:lnTo>
                  <a:lnTo>
                    <a:pt x="1423" y="1518"/>
                  </a:lnTo>
                  <a:lnTo>
                    <a:pt x="1433" y="1524"/>
                  </a:lnTo>
                  <a:lnTo>
                    <a:pt x="1443" y="1531"/>
                  </a:lnTo>
                  <a:lnTo>
                    <a:pt x="1455" y="1537"/>
                  </a:lnTo>
                  <a:lnTo>
                    <a:pt x="1471" y="1545"/>
                  </a:lnTo>
                  <a:lnTo>
                    <a:pt x="1480" y="1553"/>
                  </a:lnTo>
                  <a:lnTo>
                    <a:pt x="1493" y="1563"/>
                  </a:lnTo>
                  <a:lnTo>
                    <a:pt x="1508" y="1579"/>
                  </a:lnTo>
                  <a:lnTo>
                    <a:pt x="1522" y="1597"/>
                  </a:lnTo>
                  <a:lnTo>
                    <a:pt x="1535" y="1616"/>
                  </a:lnTo>
                  <a:lnTo>
                    <a:pt x="1546" y="1637"/>
                  </a:lnTo>
                  <a:lnTo>
                    <a:pt x="1550" y="1660"/>
                  </a:lnTo>
                  <a:lnTo>
                    <a:pt x="1550" y="1681"/>
                  </a:lnTo>
                  <a:lnTo>
                    <a:pt x="52" y="1681"/>
                  </a:lnTo>
                  <a:lnTo>
                    <a:pt x="46" y="1673"/>
                  </a:lnTo>
                  <a:lnTo>
                    <a:pt x="39" y="1662"/>
                  </a:lnTo>
                  <a:lnTo>
                    <a:pt x="32" y="1649"/>
                  </a:lnTo>
                  <a:lnTo>
                    <a:pt x="25" y="1634"/>
                  </a:lnTo>
                  <a:lnTo>
                    <a:pt x="18" y="1618"/>
                  </a:lnTo>
                  <a:lnTo>
                    <a:pt x="12" y="1603"/>
                  </a:lnTo>
                  <a:lnTo>
                    <a:pt x="7" y="1589"/>
                  </a:lnTo>
                  <a:lnTo>
                    <a:pt x="4" y="1578"/>
                  </a:lnTo>
                  <a:lnTo>
                    <a:pt x="0" y="1551"/>
                  </a:lnTo>
                  <a:lnTo>
                    <a:pt x="1" y="1517"/>
                  </a:lnTo>
                  <a:lnTo>
                    <a:pt x="6" y="1480"/>
                  </a:lnTo>
                  <a:lnTo>
                    <a:pt x="14" y="1447"/>
                  </a:lnTo>
                  <a:lnTo>
                    <a:pt x="19" y="1415"/>
                  </a:lnTo>
                  <a:lnTo>
                    <a:pt x="18" y="1379"/>
                  </a:lnTo>
                  <a:lnTo>
                    <a:pt x="15" y="1342"/>
                  </a:lnTo>
                  <a:lnTo>
                    <a:pt x="14" y="1307"/>
                  </a:lnTo>
                  <a:lnTo>
                    <a:pt x="17" y="1265"/>
                  </a:lnTo>
                  <a:lnTo>
                    <a:pt x="23" y="1210"/>
                  </a:lnTo>
                  <a:lnTo>
                    <a:pt x="31" y="1155"/>
                  </a:lnTo>
                  <a:lnTo>
                    <a:pt x="40" y="1110"/>
                  </a:lnTo>
                  <a:lnTo>
                    <a:pt x="46" y="1090"/>
                  </a:lnTo>
                  <a:lnTo>
                    <a:pt x="52" y="1067"/>
                  </a:lnTo>
                  <a:lnTo>
                    <a:pt x="59" y="1043"/>
                  </a:lnTo>
                  <a:lnTo>
                    <a:pt x="67" y="1017"/>
                  </a:lnTo>
                  <a:lnTo>
                    <a:pt x="74" y="991"/>
                  </a:lnTo>
                  <a:lnTo>
                    <a:pt x="81" y="966"/>
                  </a:lnTo>
                  <a:lnTo>
                    <a:pt x="87" y="943"/>
                  </a:lnTo>
                  <a:lnTo>
                    <a:pt x="93" y="923"/>
                  </a:lnTo>
                  <a:lnTo>
                    <a:pt x="86" y="906"/>
                  </a:lnTo>
                  <a:lnTo>
                    <a:pt x="77" y="890"/>
                  </a:lnTo>
                  <a:lnTo>
                    <a:pt x="71" y="872"/>
                  </a:lnTo>
                  <a:lnTo>
                    <a:pt x="65" y="853"/>
                  </a:lnTo>
                  <a:lnTo>
                    <a:pt x="62" y="835"/>
                  </a:lnTo>
                  <a:lnTo>
                    <a:pt x="61" y="816"/>
                  </a:lnTo>
                  <a:lnTo>
                    <a:pt x="62" y="797"/>
                  </a:lnTo>
                  <a:lnTo>
                    <a:pt x="67" y="779"/>
                  </a:lnTo>
                  <a:lnTo>
                    <a:pt x="74" y="760"/>
                  </a:lnTo>
                  <a:lnTo>
                    <a:pt x="84" y="739"/>
                  </a:lnTo>
                  <a:lnTo>
                    <a:pt x="95" y="716"/>
                  </a:lnTo>
                  <a:lnTo>
                    <a:pt x="109" y="692"/>
                  </a:lnTo>
                  <a:lnTo>
                    <a:pt x="125" y="667"/>
                  </a:lnTo>
                  <a:lnTo>
                    <a:pt x="140" y="642"/>
                  </a:lnTo>
                  <a:lnTo>
                    <a:pt x="158" y="615"/>
                  </a:lnTo>
                  <a:lnTo>
                    <a:pt x="176" y="589"/>
                  </a:lnTo>
                  <a:lnTo>
                    <a:pt x="193" y="564"/>
                  </a:lnTo>
                  <a:lnTo>
                    <a:pt x="208" y="540"/>
                  </a:lnTo>
                  <a:lnTo>
                    <a:pt x="222" y="520"/>
                  </a:lnTo>
                  <a:lnTo>
                    <a:pt x="234" y="498"/>
                  </a:lnTo>
                  <a:lnTo>
                    <a:pt x="244" y="478"/>
                  </a:lnTo>
                  <a:lnTo>
                    <a:pt x="253" y="455"/>
                  </a:lnTo>
                  <a:lnTo>
                    <a:pt x="262" y="432"/>
                  </a:lnTo>
                  <a:lnTo>
                    <a:pt x="270" y="405"/>
                  </a:lnTo>
                  <a:lnTo>
                    <a:pt x="278" y="376"/>
                  </a:lnTo>
                  <a:lnTo>
                    <a:pt x="288" y="342"/>
                  </a:lnTo>
                  <a:lnTo>
                    <a:pt x="297" y="307"/>
                  </a:lnTo>
                  <a:lnTo>
                    <a:pt x="308" y="271"/>
                  </a:lnTo>
                  <a:lnTo>
                    <a:pt x="319" y="236"/>
                  </a:lnTo>
                  <a:lnTo>
                    <a:pt x="331" y="205"/>
                  </a:lnTo>
                  <a:lnTo>
                    <a:pt x="342" y="177"/>
                  </a:lnTo>
                  <a:lnTo>
                    <a:pt x="354" y="154"/>
                  </a:lnTo>
                  <a:lnTo>
                    <a:pt x="361" y="144"/>
                  </a:lnTo>
                  <a:lnTo>
                    <a:pt x="370" y="133"/>
                  </a:lnTo>
                  <a:lnTo>
                    <a:pt x="379" y="122"/>
                  </a:lnTo>
                  <a:lnTo>
                    <a:pt x="391" y="110"/>
                  </a:lnTo>
                  <a:lnTo>
                    <a:pt x="403" y="99"/>
                  </a:lnTo>
                  <a:lnTo>
                    <a:pt x="417" y="88"/>
                  </a:lnTo>
                  <a:lnTo>
                    <a:pt x="432" y="76"/>
                  </a:lnTo>
                  <a:lnTo>
                    <a:pt x="446" y="65"/>
                  </a:lnTo>
                  <a:lnTo>
                    <a:pt x="461" y="54"/>
                  </a:lnTo>
                  <a:lnTo>
                    <a:pt x="478" y="45"/>
                  </a:lnTo>
                  <a:lnTo>
                    <a:pt x="495" y="35"/>
                  </a:lnTo>
                  <a:lnTo>
                    <a:pt x="511" y="27"/>
                  </a:lnTo>
                  <a:lnTo>
                    <a:pt x="528" y="19"/>
                  </a:lnTo>
                  <a:lnTo>
                    <a:pt x="545" y="13"/>
                  </a:lnTo>
                  <a:lnTo>
                    <a:pt x="561" y="8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09" y="1"/>
                  </a:lnTo>
                  <a:lnTo>
                    <a:pt x="625" y="0"/>
                  </a:lnTo>
                  <a:lnTo>
                    <a:pt x="643" y="0"/>
                  </a:lnTo>
                  <a:lnTo>
                    <a:pt x="660" y="0"/>
                  </a:lnTo>
                  <a:lnTo>
                    <a:pt x="678" y="2"/>
                  </a:lnTo>
                  <a:lnTo>
                    <a:pt x="696" y="4"/>
                  </a:lnTo>
                  <a:lnTo>
                    <a:pt x="713" y="8"/>
                  </a:lnTo>
                  <a:lnTo>
                    <a:pt x="732" y="13"/>
                  </a:lnTo>
                  <a:lnTo>
                    <a:pt x="750" y="19"/>
                  </a:lnTo>
                  <a:lnTo>
                    <a:pt x="769" y="26"/>
                  </a:lnTo>
                  <a:lnTo>
                    <a:pt x="788" y="34"/>
                  </a:lnTo>
                  <a:lnTo>
                    <a:pt x="806" y="44"/>
                  </a:lnTo>
                  <a:lnTo>
                    <a:pt x="825" y="54"/>
                  </a:lnTo>
                  <a:lnTo>
                    <a:pt x="844" y="67"/>
                  </a:lnTo>
                  <a:lnTo>
                    <a:pt x="862" y="82"/>
                  </a:lnTo>
                  <a:lnTo>
                    <a:pt x="879" y="82"/>
                  </a:lnTo>
                  <a:lnTo>
                    <a:pt x="895" y="83"/>
                  </a:lnTo>
                  <a:lnTo>
                    <a:pt x="912" y="88"/>
                  </a:lnTo>
                  <a:lnTo>
                    <a:pt x="929" y="94"/>
                  </a:lnTo>
                  <a:lnTo>
                    <a:pt x="946" y="101"/>
                  </a:lnTo>
                  <a:lnTo>
                    <a:pt x="963" y="110"/>
                  </a:lnTo>
                  <a:lnTo>
                    <a:pt x="980" y="121"/>
                  </a:lnTo>
                  <a:lnTo>
                    <a:pt x="996" y="133"/>
                  </a:lnTo>
                  <a:lnTo>
                    <a:pt x="1012" y="145"/>
                  </a:lnTo>
                  <a:lnTo>
                    <a:pt x="1027" y="159"/>
                  </a:lnTo>
                  <a:lnTo>
                    <a:pt x="1040" y="173"/>
                  </a:lnTo>
                  <a:lnTo>
                    <a:pt x="1053" y="188"/>
                  </a:lnTo>
                  <a:lnTo>
                    <a:pt x="1065" y="203"/>
                  </a:lnTo>
                  <a:lnTo>
                    <a:pt x="1076" y="218"/>
                  </a:lnTo>
                  <a:lnTo>
                    <a:pt x="1085" y="233"/>
                  </a:lnTo>
                  <a:lnTo>
                    <a:pt x="1093" y="248"/>
                  </a:lnTo>
                  <a:lnTo>
                    <a:pt x="1107" y="288"/>
                  </a:lnTo>
                  <a:lnTo>
                    <a:pt x="1116" y="324"/>
                  </a:lnTo>
                  <a:lnTo>
                    <a:pt x="1120" y="360"/>
                  </a:lnTo>
                  <a:lnTo>
                    <a:pt x="1121" y="392"/>
                  </a:lnTo>
                  <a:lnTo>
                    <a:pt x="1118" y="424"/>
                  </a:lnTo>
                  <a:lnTo>
                    <a:pt x="1113" y="454"/>
                  </a:lnTo>
                  <a:lnTo>
                    <a:pt x="1107" y="483"/>
                  </a:lnTo>
                  <a:lnTo>
                    <a:pt x="1101" y="509"/>
                  </a:lnTo>
                  <a:lnTo>
                    <a:pt x="1096" y="535"/>
                  </a:lnTo>
                  <a:lnTo>
                    <a:pt x="1094" y="561"/>
                  </a:lnTo>
                  <a:lnTo>
                    <a:pt x="1094" y="589"/>
                  </a:lnTo>
                  <a:lnTo>
                    <a:pt x="1096" y="614"/>
                  </a:lnTo>
                  <a:lnTo>
                    <a:pt x="1101" y="639"/>
                  </a:lnTo>
                  <a:lnTo>
                    <a:pt x="1108" y="660"/>
                  </a:lnTo>
                  <a:lnTo>
                    <a:pt x="1116" y="679"/>
                  </a:lnTo>
                  <a:lnTo>
                    <a:pt x="1127" y="693"/>
                  </a:lnTo>
                  <a:lnTo>
                    <a:pt x="1140" y="709"/>
                  </a:lnTo>
                  <a:lnTo>
                    <a:pt x="1153" y="728"/>
                  </a:lnTo>
                  <a:lnTo>
                    <a:pt x="1165" y="750"/>
                  </a:lnTo>
                  <a:lnTo>
                    <a:pt x="1177" y="777"/>
                  </a:lnTo>
                  <a:lnTo>
                    <a:pt x="1184" y="806"/>
                  </a:lnTo>
                  <a:lnTo>
                    <a:pt x="1189" y="839"/>
                  </a:lnTo>
                  <a:lnTo>
                    <a:pt x="1188" y="873"/>
                  </a:lnTo>
                  <a:lnTo>
                    <a:pt x="1181" y="910"/>
                  </a:lnTo>
                  <a:lnTo>
                    <a:pt x="1196" y="917"/>
                  </a:lnTo>
                  <a:lnTo>
                    <a:pt x="1210" y="930"/>
                  </a:lnTo>
                  <a:lnTo>
                    <a:pt x="1222" y="947"/>
                  </a:lnTo>
                  <a:lnTo>
                    <a:pt x="1231" y="971"/>
                  </a:lnTo>
                  <a:lnTo>
                    <a:pt x="1236" y="1000"/>
                  </a:lnTo>
                  <a:lnTo>
                    <a:pt x="1236" y="1040"/>
                  </a:lnTo>
                  <a:lnTo>
                    <a:pt x="1232" y="1086"/>
                  </a:lnTo>
                  <a:lnTo>
                    <a:pt x="1220" y="1143"/>
                  </a:lnTo>
                  <a:lnTo>
                    <a:pt x="1226" y="1146"/>
                  </a:lnTo>
                  <a:lnTo>
                    <a:pt x="1232" y="1149"/>
                  </a:lnTo>
                  <a:lnTo>
                    <a:pt x="1239" y="1155"/>
                  </a:lnTo>
                  <a:lnTo>
                    <a:pt x="1247" y="1162"/>
                  </a:lnTo>
                  <a:lnTo>
                    <a:pt x="1254" y="1159"/>
                  </a:lnTo>
                  <a:lnTo>
                    <a:pt x="1263" y="1157"/>
                  </a:lnTo>
                  <a:lnTo>
                    <a:pt x="1271" y="1156"/>
                  </a:lnTo>
                  <a:lnTo>
                    <a:pt x="1279" y="1157"/>
                  </a:lnTo>
                  <a:lnTo>
                    <a:pt x="1288" y="1160"/>
                  </a:lnTo>
                  <a:lnTo>
                    <a:pt x="1297" y="1165"/>
                  </a:lnTo>
                  <a:lnTo>
                    <a:pt x="1305" y="1169"/>
                  </a:lnTo>
                  <a:lnTo>
                    <a:pt x="1314" y="1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" y="3672000"/>
              <a:ext cx="133200" cy="455040"/>
            </a:xfrm>
            <a:custGeom>
              <a:avLst/>
              <a:gdLst/>
              <a:ahLst/>
              <a:rect l="l" t="t" r="r" b="b"/>
              <a:pathLst>
                <a:path w="302" h="806">
                  <a:moveTo>
                    <a:pt x="78" y="139"/>
                  </a:moveTo>
                  <a:lnTo>
                    <a:pt x="83" y="163"/>
                  </a:lnTo>
                  <a:lnTo>
                    <a:pt x="97" y="187"/>
                  </a:lnTo>
                  <a:lnTo>
                    <a:pt x="116" y="212"/>
                  </a:lnTo>
                  <a:lnTo>
                    <a:pt x="138" y="241"/>
                  </a:lnTo>
                  <a:lnTo>
                    <a:pt x="158" y="276"/>
                  </a:lnTo>
                  <a:lnTo>
                    <a:pt x="172" y="323"/>
                  </a:lnTo>
                  <a:lnTo>
                    <a:pt x="179" y="381"/>
                  </a:lnTo>
                  <a:lnTo>
                    <a:pt x="174" y="455"/>
                  </a:lnTo>
                  <a:lnTo>
                    <a:pt x="171" y="473"/>
                  </a:lnTo>
                  <a:lnTo>
                    <a:pt x="166" y="490"/>
                  </a:lnTo>
                  <a:lnTo>
                    <a:pt x="160" y="511"/>
                  </a:lnTo>
                  <a:lnTo>
                    <a:pt x="155" y="533"/>
                  </a:lnTo>
                  <a:lnTo>
                    <a:pt x="153" y="556"/>
                  </a:lnTo>
                  <a:lnTo>
                    <a:pt x="154" y="582"/>
                  </a:lnTo>
                  <a:lnTo>
                    <a:pt x="159" y="609"/>
                  </a:lnTo>
                  <a:lnTo>
                    <a:pt x="168" y="640"/>
                  </a:lnTo>
                  <a:lnTo>
                    <a:pt x="179" y="669"/>
                  </a:lnTo>
                  <a:lnTo>
                    <a:pt x="185" y="695"/>
                  </a:lnTo>
                  <a:lnTo>
                    <a:pt x="188" y="717"/>
                  </a:lnTo>
                  <a:lnTo>
                    <a:pt x="186" y="736"/>
                  </a:lnTo>
                  <a:lnTo>
                    <a:pt x="184" y="753"/>
                  </a:lnTo>
                  <a:lnTo>
                    <a:pt x="180" y="769"/>
                  </a:lnTo>
                  <a:lnTo>
                    <a:pt x="177" y="784"/>
                  </a:lnTo>
                  <a:lnTo>
                    <a:pt x="174" y="799"/>
                  </a:lnTo>
                  <a:lnTo>
                    <a:pt x="186" y="798"/>
                  </a:lnTo>
                  <a:lnTo>
                    <a:pt x="199" y="796"/>
                  </a:lnTo>
                  <a:lnTo>
                    <a:pt x="212" y="796"/>
                  </a:lnTo>
                  <a:lnTo>
                    <a:pt x="227" y="796"/>
                  </a:lnTo>
                  <a:lnTo>
                    <a:pt x="240" y="798"/>
                  </a:lnTo>
                  <a:lnTo>
                    <a:pt x="252" y="798"/>
                  </a:lnTo>
                  <a:lnTo>
                    <a:pt x="262" y="799"/>
                  </a:lnTo>
                  <a:lnTo>
                    <a:pt x="272" y="800"/>
                  </a:lnTo>
                  <a:lnTo>
                    <a:pt x="279" y="780"/>
                  </a:lnTo>
                  <a:lnTo>
                    <a:pt x="283" y="761"/>
                  </a:lnTo>
                  <a:lnTo>
                    <a:pt x="285" y="739"/>
                  </a:lnTo>
                  <a:lnTo>
                    <a:pt x="283" y="713"/>
                  </a:lnTo>
                  <a:lnTo>
                    <a:pt x="287" y="734"/>
                  </a:lnTo>
                  <a:lnTo>
                    <a:pt x="291" y="759"/>
                  </a:lnTo>
                  <a:lnTo>
                    <a:pt x="293" y="784"/>
                  </a:lnTo>
                  <a:lnTo>
                    <a:pt x="295" y="806"/>
                  </a:lnTo>
                  <a:lnTo>
                    <a:pt x="302" y="770"/>
                  </a:lnTo>
                  <a:lnTo>
                    <a:pt x="302" y="738"/>
                  </a:lnTo>
                  <a:lnTo>
                    <a:pt x="297" y="709"/>
                  </a:lnTo>
                  <a:lnTo>
                    <a:pt x="289" y="684"/>
                  </a:lnTo>
                  <a:lnTo>
                    <a:pt x="278" y="664"/>
                  </a:lnTo>
                  <a:lnTo>
                    <a:pt x="266" y="646"/>
                  </a:lnTo>
                  <a:lnTo>
                    <a:pt x="254" y="632"/>
                  </a:lnTo>
                  <a:lnTo>
                    <a:pt x="246" y="621"/>
                  </a:lnTo>
                  <a:lnTo>
                    <a:pt x="255" y="651"/>
                  </a:lnTo>
                  <a:lnTo>
                    <a:pt x="258" y="679"/>
                  </a:lnTo>
                  <a:lnTo>
                    <a:pt x="255" y="701"/>
                  </a:lnTo>
                  <a:lnTo>
                    <a:pt x="248" y="720"/>
                  </a:lnTo>
                  <a:lnTo>
                    <a:pt x="237" y="736"/>
                  </a:lnTo>
                  <a:lnTo>
                    <a:pt x="226" y="748"/>
                  </a:lnTo>
                  <a:lnTo>
                    <a:pt x="211" y="755"/>
                  </a:lnTo>
                  <a:lnTo>
                    <a:pt x="197" y="758"/>
                  </a:lnTo>
                  <a:lnTo>
                    <a:pt x="216" y="748"/>
                  </a:lnTo>
                  <a:lnTo>
                    <a:pt x="229" y="732"/>
                  </a:lnTo>
                  <a:lnTo>
                    <a:pt x="239" y="714"/>
                  </a:lnTo>
                  <a:lnTo>
                    <a:pt x="243" y="694"/>
                  </a:lnTo>
                  <a:lnTo>
                    <a:pt x="245" y="673"/>
                  </a:lnTo>
                  <a:lnTo>
                    <a:pt x="243" y="652"/>
                  </a:lnTo>
                  <a:lnTo>
                    <a:pt x="237" y="633"/>
                  </a:lnTo>
                  <a:lnTo>
                    <a:pt x="230" y="617"/>
                  </a:lnTo>
                  <a:lnTo>
                    <a:pt x="215" y="584"/>
                  </a:lnTo>
                  <a:lnTo>
                    <a:pt x="207" y="549"/>
                  </a:lnTo>
                  <a:lnTo>
                    <a:pt x="204" y="511"/>
                  </a:lnTo>
                  <a:lnTo>
                    <a:pt x="204" y="475"/>
                  </a:lnTo>
                  <a:lnTo>
                    <a:pt x="208" y="444"/>
                  </a:lnTo>
                  <a:lnTo>
                    <a:pt x="212" y="418"/>
                  </a:lnTo>
                  <a:lnTo>
                    <a:pt x="220" y="395"/>
                  </a:lnTo>
                  <a:lnTo>
                    <a:pt x="224" y="379"/>
                  </a:lnTo>
                  <a:lnTo>
                    <a:pt x="221" y="341"/>
                  </a:lnTo>
                  <a:lnTo>
                    <a:pt x="211" y="307"/>
                  </a:lnTo>
                  <a:lnTo>
                    <a:pt x="202" y="281"/>
                  </a:lnTo>
                  <a:lnTo>
                    <a:pt x="195" y="262"/>
                  </a:lnTo>
                  <a:lnTo>
                    <a:pt x="203" y="271"/>
                  </a:lnTo>
                  <a:lnTo>
                    <a:pt x="210" y="283"/>
                  </a:lnTo>
                  <a:lnTo>
                    <a:pt x="216" y="295"/>
                  </a:lnTo>
                  <a:lnTo>
                    <a:pt x="222" y="308"/>
                  </a:lnTo>
                  <a:lnTo>
                    <a:pt x="226" y="321"/>
                  </a:lnTo>
                  <a:lnTo>
                    <a:pt x="228" y="333"/>
                  </a:lnTo>
                  <a:lnTo>
                    <a:pt x="230" y="343"/>
                  </a:lnTo>
                  <a:lnTo>
                    <a:pt x="230" y="351"/>
                  </a:lnTo>
                  <a:lnTo>
                    <a:pt x="235" y="323"/>
                  </a:lnTo>
                  <a:lnTo>
                    <a:pt x="237" y="295"/>
                  </a:lnTo>
                  <a:lnTo>
                    <a:pt x="236" y="269"/>
                  </a:lnTo>
                  <a:lnTo>
                    <a:pt x="234" y="243"/>
                  </a:lnTo>
                  <a:lnTo>
                    <a:pt x="228" y="217"/>
                  </a:lnTo>
                  <a:lnTo>
                    <a:pt x="220" y="191"/>
                  </a:lnTo>
                  <a:lnTo>
                    <a:pt x="208" y="162"/>
                  </a:lnTo>
                  <a:lnTo>
                    <a:pt x="192" y="133"/>
                  </a:lnTo>
                  <a:lnTo>
                    <a:pt x="183" y="119"/>
                  </a:lnTo>
                  <a:lnTo>
                    <a:pt x="173" y="105"/>
                  </a:lnTo>
                  <a:lnTo>
                    <a:pt x="163" y="92"/>
                  </a:lnTo>
                  <a:lnTo>
                    <a:pt x="151" y="80"/>
                  </a:lnTo>
                  <a:lnTo>
                    <a:pt x="140" y="69"/>
                  </a:lnTo>
                  <a:lnTo>
                    <a:pt x="127" y="58"/>
                  </a:lnTo>
                  <a:lnTo>
                    <a:pt x="115" y="49"/>
                  </a:lnTo>
                  <a:lnTo>
                    <a:pt x="102" y="41"/>
                  </a:lnTo>
                  <a:lnTo>
                    <a:pt x="89" y="32"/>
                  </a:lnTo>
                  <a:lnTo>
                    <a:pt x="76" y="25"/>
                  </a:lnTo>
                  <a:lnTo>
                    <a:pt x="63" y="19"/>
                  </a:lnTo>
                  <a:lnTo>
                    <a:pt x="50" y="14"/>
                  </a:lnTo>
                  <a:lnTo>
                    <a:pt x="38" y="10"/>
                  </a:lnTo>
                  <a:lnTo>
                    <a:pt x="25" y="6"/>
                  </a:lnTo>
                  <a:lnTo>
                    <a:pt x="12" y="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8" y="23"/>
                  </a:lnTo>
                  <a:lnTo>
                    <a:pt x="53" y="32"/>
                  </a:lnTo>
                  <a:lnTo>
                    <a:pt x="66" y="41"/>
                  </a:lnTo>
                  <a:lnTo>
                    <a:pt x="78" y="50"/>
                  </a:lnTo>
                  <a:lnTo>
                    <a:pt x="90" y="58"/>
                  </a:lnTo>
                  <a:lnTo>
                    <a:pt x="101" y="68"/>
                  </a:lnTo>
                  <a:lnTo>
                    <a:pt x="113" y="79"/>
                  </a:lnTo>
                  <a:lnTo>
                    <a:pt x="107" y="75"/>
                  </a:lnTo>
                  <a:lnTo>
                    <a:pt x="101" y="72"/>
                  </a:lnTo>
                  <a:lnTo>
                    <a:pt x="94" y="67"/>
                  </a:lnTo>
                  <a:lnTo>
                    <a:pt x="84" y="61"/>
                  </a:lnTo>
                  <a:lnTo>
                    <a:pt x="73" y="55"/>
                  </a:lnTo>
                  <a:lnTo>
                    <a:pt x="60" y="50"/>
                  </a:lnTo>
                  <a:lnTo>
                    <a:pt x="45" y="44"/>
                  </a:lnTo>
                  <a:lnTo>
                    <a:pt x="26" y="38"/>
                  </a:lnTo>
                  <a:lnTo>
                    <a:pt x="39" y="44"/>
                  </a:lnTo>
                  <a:lnTo>
                    <a:pt x="53" y="51"/>
                  </a:lnTo>
                  <a:lnTo>
                    <a:pt x="69" y="61"/>
                  </a:lnTo>
                  <a:lnTo>
                    <a:pt x="85" y="72"/>
                  </a:lnTo>
                  <a:lnTo>
                    <a:pt x="100" y="82"/>
                  </a:lnTo>
                  <a:lnTo>
                    <a:pt x="113" y="93"/>
                  </a:lnTo>
                  <a:lnTo>
                    <a:pt x="125" y="104"/>
                  </a:lnTo>
                  <a:lnTo>
                    <a:pt x="133" y="113"/>
                  </a:lnTo>
                  <a:lnTo>
                    <a:pt x="123" y="107"/>
                  </a:lnTo>
                  <a:lnTo>
                    <a:pt x="114" y="101"/>
                  </a:lnTo>
                  <a:lnTo>
                    <a:pt x="102" y="94"/>
                  </a:lnTo>
                  <a:lnTo>
                    <a:pt x="90" y="88"/>
                  </a:lnTo>
                  <a:lnTo>
                    <a:pt x="79" y="83"/>
                  </a:lnTo>
                  <a:lnTo>
                    <a:pt x="67" y="79"/>
                  </a:lnTo>
                  <a:lnTo>
                    <a:pt x="57" y="76"/>
                  </a:lnTo>
                  <a:lnTo>
                    <a:pt x="47" y="75"/>
                  </a:lnTo>
                  <a:lnTo>
                    <a:pt x="61" y="82"/>
                  </a:lnTo>
                  <a:lnTo>
                    <a:pt x="78" y="93"/>
                  </a:lnTo>
                  <a:lnTo>
                    <a:pt x="96" y="105"/>
                  </a:lnTo>
                  <a:lnTo>
                    <a:pt x="115" y="118"/>
                  </a:lnTo>
                  <a:lnTo>
                    <a:pt x="132" y="132"/>
                  </a:lnTo>
                  <a:lnTo>
                    <a:pt x="147" y="147"/>
                  </a:lnTo>
                  <a:lnTo>
                    <a:pt x="158" y="160"/>
                  </a:lnTo>
                  <a:lnTo>
                    <a:pt x="164" y="172"/>
                  </a:lnTo>
                  <a:lnTo>
                    <a:pt x="157" y="164"/>
                  </a:lnTo>
                  <a:lnTo>
                    <a:pt x="145" y="156"/>
                  </a:lnTo>
                  <a:lnTo>
                    <a:pt x="132" y="147"/>
                  </a:lnTo>
                  <a:lnTo>
                    <a:pt x="117" y="137"/>
                  </a:lnTo>
                  <a:lnTo>
                    <a:pt x="102" y="127"/>
                  </a:lnTo>
                  <a:lnTo>
                    <a:pt x="88" y="119"/>
                  </a:lnTo>
                  <a:lnTo>
                    <a:pt x="73" y="112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83" y="123"/>
                  </a:lnTo>
                  <a:lnTo>
                    <a:pt x="92" y="132"/>
                  </a:lnTo>
                  <a:lnTo>
                    <a:pt x="103" y="142"/>
                  </a:lnTo>
                  <a:lnTo>
                    <a:pt x="113" y="152"/>
                  </a:lnTo>
                  <a:lnTo>
                    <a:pt x="122" y="162"/>
                  </a:lnTo>
                  <a:lnTo>
                    <a:pt x="129" y="170"/>
                  </a:lnTo>
                  <a:lnTo>
                    <a:pt x="134" y="179"/>
                  </a:lnTo>
                  <a:lnTo>
                    <a:pt x="128" y="174"/>
                  </a:lnTo>
                  <a:lnTo>
                    <a:pt x="122" y="168"/>
                  </a:lnTo>
                  <a:lnTo>
                    <a:pt x="116" y="163"/>
                  </a:lnTo>
                  <a:lnTo>
                    <a:pt x="110" y="158"/>
                  </a:lnTo>
                  <a:lnTo>
                    <a:pt x="103" y="154"/>
                  </a:lnTo>
                  <a:lnTo>
                    <a:pt x="96" y="149"/>
                  </a:lnTo>
                  <a:lnTo>
                    <a:pt x="88" y="144"/>
                  </a:lnTo>
                  <a:lnTo>
                    <a:pt x="78" y="13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120" y="3629160"/>
              <a:ext cx="247320" cy="235800"/>
            </a:xfrm>
            <a:custGeom>
              <a:avLst/>
              <a:gdLst/>
              <a:ahLst/>
              <a:rect l="l" t="t" r="r" b="b"/>
              <a:pathLst>
                <a:path w="562" h="419">
                  <a:moveTo>
                    <a:pt x="521" y="75"/>
                  </a:moveTo>
                  <a:lnTo>
                    <a:pt x="513" y="69"/>
                  </a:lnTo>
                  <a:lnTo>
                    <a:pt x="502" y="63"/>
                  </a:lnTo>
                  <a:lnTo>
                    <a:pt x="491" y="56"/>
                  </a:lnTo>
                  <a:lnTo>
                    <a:pt x="478" y="49"/>
                  </a:lnTo>
                  <a:lnTo>
                    <a:pt x="465" y="43"/>
                  </a:lnTo>
                  <a:lnTo>
                    <a:pt x="451" y="36"/>
                  </a:lnTo>
                  <a:lnTo>
                    <a:pt x="436" y="30"/>
                  </a:lnTo>
                  <a:lnTo>
                    <a:pt x="419" y="24"/>
                  </a:lnTo>
                  <a:lnTo>
                    <a:pt x="402" y="18"/>
                  </a:lnTo>
                  <a:lnTo>
                    <a:pt x="384" y="13"/>
                  </a:lnTo>
                  <a:lnTo>
                    <a:pt x="367" y="9"/>
                  </a:lnTo>
                  <a:lnTo>
                    <a:pt x="349" y="5"/>
                  </a:lnTo>
                  <a:lnTo>
                    <a:pt x="330" y="3"/>
                  </a:lnTo>
                  <a:lnTo>
                    <a:pt x="311" y="1"/>
                  </a:lnTo>
                  <a:lnTo>
                    <a:pt x="293" y="0"/>
                  </a:lnTo>
                  <a:lnTo>
                    <a:pt x="274" y="1"/>
                  </a:lnTo>
                  <a:lnTo>
                    <a:pt x="262" y="3"/>
                  </a:lnTo>
                  <a:lnTo>
                    <a:pt x="248" y="5"/>
                  </a:lnTo>
                  <a:lnTo>
                    <a:pt x="235" y="9"/>
                  </a:lnTo>
                  <a:lnTo>
                    <a:pt x="220" y="13"/>
                  </a:lnTo>
                  <a:lnTo>
                    <a:pt x="206" y="18"/>
                  </a:lnTo>
                  <a:lnTo>
                    <a:pt x="191" y="24"/>
                  </a:lnTo>
                  <a:lnTo>
                    <a:pt x="176" y="30"/>
                  </a:lnTo>
                  <a:lnTo>
                    <a:pt x="162" y="38"/>
                  </a:lnTo>
                  <a:lnTo>
                    <a:pt x="148" y="47"/>
                  </a:lnTo>
                  <a:lnTo>
                    <a:pt x="134" y="55"/>
                  </a:lnTo>
                  <a:lnTo>
                    <a:pt x="121" y="66"/>
                  </a:lnTo>
                  <a:lnTo>
                    <a:pt x="107" y="76"/>
                  </a:lnTo>
                  <a:lnTo>
                    <a:pt x="97" y="88"/>
                  </a:lnTo>
                  <a:lnTo>
                    <a:pt x="86" y="101"/>
                  </a:lnTo>
                  <a:lnTo>
                    <a:pt x="77" y="114"/>
                  </a:lnTo>
                  <a:lnTo>
                    <a:pt x="68" y="129"/>
                  </a:lnTo>
                  <a:lnTo>
                    <a:pt x="56" y="157"/>
                  </a:lnTo>
                  <a:lnTo>
                    <a:pt x="49" y="186"/>
                  </a:lnTo>
                  <a:lnTo>
                    <a:pt x="46" y="216"/>
                  </a:lnTo>
                  <a:lnTo>
                    <a:pt x="42" y="247"/>
                  </a:lnTo>
                  <a:lnTo>
                    <a:pt x="37" y="280"/>
                  </a:lnTo>
                  <a:lnTo>
                    <a:pt x="30" y="313"/>
                  </a:lnTo>
                  <a:lnTo>
                    <a:pt x="18" y="350"/>
                  </a:lnTo>
                  <a:lnTo>
                    <a:pt x="0" y="389"/>
                  </a:lnTo>
                  <a:lnTo>
                    <a:pt x="12" y="380"/>
                  </a:lnTo>
                  <a:lnTo>
                    <a:pt x="25" y="364"/>
                  </a:lnTo>
                  <a:lnTo>
                    <a:pt x="39" y="342"/>
                  </a:lnTo>
                  <a:lnTo>
                    <a:pt x="52" y="316"/>
                  </a:lnTo>
                  <a:lnTo>
                    <a:pt x="63" y="287"/>
                  </a:lnTo>
                  <a:lnTo>
                    <a:pt x="73" y="258"/>
                  </a:lnTo>
                  <a:lnTo>
                    <a:pt x="81" y="232"/>
                  </a:lnTo>
                  <a:lnTo>
                    <a:pt x="85" y="210"/>
                  </a:lnTo>
                  <a:lnTo>
                    <a:pt x="86" y="223"/>
                  </a:lnTo>
                  <a:lnTo>
                    <a:pt x="85" y="242"/>
                  </a:lnTo>
                  <a:lnTo>
                    <a:pt x="81" y="264"/>
                  </a:lnTo>
                  <a:lnTo>
                    <a:pt x="77" y="289"/>
                  </a:lnTo>
                  <a:lnTo>
                    <a:pt x="72" y="313"/>
                  </a:lnTo>
                  <a:lnTo>
                    <a:pt x="66" y="336"/>
                  </a:lnTo>
                  <a:lnTo>
                    <a:pt x="60" y="355"/>
                  </a:lnTo>
                  <a:lnTo>
                    <a:pt x="55" y="367"/>
                  </a:lnTo>
                  <a:lnTo>
                    <a:pt x="72" y="348"/>
                  </a:lnTo>
                  <a:lnTo>
                    <a:pt x="85" y="323"/>
                  </a:lnTo>
                  <a:lnTo>
                    <a:pt x="97" y="293"/>
                  </a:lnTo>
                  <a:lnTo>
                    <a:pt x="109" y="262"/>
                  </a:lnTo>
                  <a:lnTo>
                    <a:pt x="119" y="231"/>
                  </a:lnTo>
                  <a:lnTo>
                    <a:pt x="132" y="204"/>
                  </a:lnTo>
                  <a:lnTo>
                    <a:pt x="147" y="180"/>
                  </a:lnTo>
                  <a:lnTo>
                    <a:pt x="166" y="162"/>
                  </a:lnTo>
                  <a:lnTo>
                    <a:pt x="149" y="187"/>
                  </a:lnTo>
                  <a:lnTo>
                    <a:pt x="137" y="214"/>
                  </a:lnTo>
                  <a:lnTo>
                    <a:pt x="129" y="243"/>
                  </a:lnTo>
                  <a:lnTo>
                    <a:pt x="123" y="272"/>
                  </a:lnTo>
                  <a:lnTo>
                    <a:pt x="117" y="299"/>
                  </a:lnTo>
                  <a:lnTo>
                    <a:pt x="111" y="325"/>
                  </a:lnTo>
                  <a:lnTo>
                    <a:pt x="104" y="349"/>
                  </a:lnTo>
                  <a:lnTo>
                    <a:pt x="93" y="369"/>
                  </a:lnTo>
                  <a:lnTo>
                    <a:pt x="102" y="363"/>
                  </a:lnTo>
                  <a:lnTo>
                    <a:pt x="111" y="354"/>
                  </a:lnTo>
                  <a:lnTo>
                    <a:pt x="119" y="342"/>
                  </a:lnTo>
                  <a:lnTo>
                    <a:pt x="127" y="329"/>
                  </a:lnTo>
                  <a:lnTo>
                    <a:pt x="134" y="314"/>
                  </a:lnTo>
                  <a:lnTo>
                    <a:pt x="141" y="300"/>
                  </a:lnTo>
                  <a:lnTo>
                    <a:pt x="146" y="287"/>
                  </a:lnTo>
                  <a:lnTo>
                    <a:pt x="150" y="274"/>
                  </a:lnTo>
                  <a:lnTo>
                    <a:pt x="160" y="250"/>
                  </a:lnTo>
                  <a:lnTo>
                    <a:pt x="173" y="230"/>
                  </a:lnTo>
                  <a:lnTo>
                    <a:pt x="188" y="213"/>
                  </a:lnTo>
                  <a:lnTo>
                    <a:pt x="205" y="199"/>
                  </a:lnTo>
                  <a:lnTo>
                    <a:pt x="222" y="187"/>
                  </a:lnTo>
                  <a:lnTo>
                    <a:pt x="239" y="178"/>
                  </a:lnTo>
                  <a:lnTo>
                    <a:pt x="256" y="170"/>
                  </a:lnTo>
                  <a:lnTo>
                    <a:pt x="273" y="164"/>
                  </a:lnTo>
                  <a:lnTo>
                    <a:pt x="260" y="176"/>
                  </a:lnTo>
                  <a:lnTo>
                    <a:pt x="239" y="195"/>
                  </a:lnTo>
                  <a:lnTo>
                    <a:pt x="214" y="222"/>
                  </a:lnTo>
                  <a:lnTo>
                    <a:pt x="192" y="254"/>
                  </a:lnTo>
                  <a:lnTo>
                    <a:pt x="172" y="292"/>
                  </a:lnTo>
                  <a:lnTo>
                    <a:pt x="160" y="332"/>
                  </a:lnTo>
                  <a:lnTo>
                    <a:pt x="160" y="375"/>
                  </a:lnTo>
                  <a:lnTo>
                    <a:pt x="175" y="419"/>
                  </a:lnTo>
                  <a:lnTo>
                    <a:pt x="169" y="394"/>
                  </a:lnTo>
                  <a:lnTo>
                    <a:pt x="169" y="368"/>
                  </a:lnTo>
                  <a:lnTo>
                    <a:pt x="175" y="343"/>
                  </a:lnTo>
                  <a:lnTo>
                    <a:pt x="186" y="317"/>
                  </a:lnTo>
                  <a:lnTo>
                    <a:pt x="201" y="292"/>
                  </a:lnTo>
                  <a:lnTo>
                    <a:pt x="223" y="267"/>
                  </a:lnTo>
                  <a:lnTo>
                    <a:pt x="249" y="243"/>
                  </a:lnTo>
                  <a:lnTo>
                    <a:pt x="280" y="220"/>
                  </a:lnTo>
                  <a:lnTo>
                    <a:pt x="293" y="213"/>
                  </a:lnTo>
                  <a:lnTo>
                    <a:pt x="306" y="208"/>
                  </a:lnTo>
                  <a:lnTo>
                    <a:pt x="321" y="205"/>
                  </a:lnTo>
                  <a:lnTo>
                    <a:pt x="339" y="204"/>
                  </a:lnTo>
                  <a:lnTo>
                    <a:pt x="358" y="202"/>
                  </a:lnTo>
                  <a:lnTo>
                    <a:pt x="380" y="202"/>
                  </a:lnTo>
                  <a:lnTo>
                    <a:pt x="404" y="204"/>
                  </a:lnTo>
                  <a:lnTo>
                    <a:pt x="430" y="205"/>
                  </a:lnTo>
                  <a:lnTo>
                    <a:pt x="446" y="205"/>
                  </a:lnTo>
                  <a:lnTo>
                    <a:pt x="464" y="202"/>
                  </a:lnTo>
                  <a:lnTo>
                    <a:pt x="483" y="199"/>
                  </a:lnTo>
                  <a:lnTo>
                    <a:pt x="502" y="192"/>
                  </a:lnTo>
                  <a:lnTo>
                    <a:pt x="520" y="183"/>
                  </a:lnTo>
                  <a:lnTo>
                    <a:pt x="537" y="172"/>
                  </a:lnTo>
                  <a:lnTo>
                    <a:pt x="551" y="157"/>
                  </a:lnTo>
                  <a:lnTo>
                    <a:pt x="562" y="139"/>
                  </a:lnTo>
                  <a:lnTo>
                    <a:pt x="555" y="145"/>
                  </a:lnTo>
                  <a:lnTo>
                    <a:pt x="546" y="149"/>
                  </a:lnTo>
                  <a:lnTo>
                    <a:pt x="535" y="153"/>
                  </a:lnTo>
                  <a:lnTo>
                    <a:pt x="524" y="155"/>
                  </a:lnTo>
                  <a:lnTo>
                    <a:pt x="511" y="155"/>
                  </a:lnTo>
                  <a:lnTo>
                    <a:pt x="496" y="155"/>
                  </a:lnTo>
                  <a:lnTo>
                    <a:pt x="482" y="155"/>
                  </a:lnTo>
                  <a:lnTo>
                    <a:pt x="465" y="153"/>
                  </a:lnTo>
                  <a:lnTo>
                    <a:pt x="476" y="151"/>
                  </a:lnTo>
                  <a:lnTo>
                    <a:pt x="487" y="149"/>
                  </a:lnTo>
                  <a:lnTo>
                    <a:pt x="499" y="145"/>
                  </a:lnTo>
                  <a:lnTo>
                    <a:pt x="511" y="142"/>
                  </a:lnTo>
                  <a:lnTo>
                    <a:pt x="521" y="137"/>
                  </a:lnTo>
                  <a:lnTo>
                    <a:pt x="533" y="132"/>
                  </a:lnTo>
                  <a:lnTo>
                    <a:pt x="543" y="126"/>
                  </a:lnTo>
                  <a:lnTo>
                    <a:pt x="552" y="120"/>
                  </a:lnTo>
                  <a:lnTo>
                    <a:pt x="539" y="118"/>
                  </a:lnTo>
                  <a:lnTo>
                    <a:pt x="525" y="116"/>
                  </a:lnTo>
                  <a:lnTo>
                    <a:pt x="509" y="113"/>
                  </a:lnTo>
                  <a:lnTo>
                    <a:pt x="495" y="111"/>
                  </a:lnTo>
                  <a:lnTo>
                    <a:pt x="482" y="108"/>
                  </a:lnTo>
                  <a:lnTo>
                    <a:pt x="469" y="106"/>
                  </a:lnTo>
                  <a:lnTo>
                    <a:pt x="457" y="104"/>
                  </a:lnTo>
                  <a:lnTo>
                    <a:pt x="448" y="103"/>
                  </a:lnTo>
                  <a:lnTo>
                    <a:pt x="458" y="101"/>
                  </a:lnTo>
                  <a:lnTo>
                    <a:pt x="470" y="100"/>
                  </a:lnTo>
                  <a:lnTo>
                    <a:pt x="483" y="100"/>
                  </a:lnTo>
                  <a:lnTo>
                    <a:pt x="496" y="100"/>
                  </a:lnTo>
                  <a:lnTo>
                    <a:pt x="509" y="101"/>
                  </a:lnTo>
                  <a:lnTo>
                    <a:pt x="522" y="103"/>
                  </a:lnTo>
                  <a:lnTo>
                    <a:pt x="533" y="104"/>
                  </a:lnTo>
                  <a:lnTo>
                    <a:pt x="541" y="105"/>
                  </a:lnTo>
                  <a:lnTo>
                    <a:pt x="531" y="94"/>
                  </a:lnTo>
                  <a:lnTo>
                    <a:pt x="520" y="86"/>
                  </a:lnTo>
                  <a:lnTo>
                    <a:pt x="509" y="79"/>
                  </a:lnTo>
                  <a:lnTo>
                    <a:pt x="497" y="74"/>
                  </a:lnTo>
                  <a:lnTo>
                    <a:pt x="484" y="69"/>
                  </a:lnTo>
                  <a:lnTo>
                    <a:pt x="471" y="64"/>
                  </a:lnTo>
                  <a:lnTo>
                    <a:pt x="457" y="61"/>
                  </a:lnTo>
                  <a:lnTo>
                    <a:pt x="443" y="57"/>
                  </a:lnTo>
                  <a:lnTo>
                    <a:pt x="452" y="56"/>
                  </a:lnTo>
                  <a:lnTo>
                    <a:pt x="462" y="57"/>
                  </a:lnTo>
                  <a:lnTo>
                    <a:pt x="471" y="58"/>
                  </a:lnTo>
                  <a:lnTo>
                    <a:pt x="482" y="61"/>
                  </a:lnTo>
                  <a:lnTo>
                    <a:pt x="491" y="63"/>
                  </a:lnTo>
                  <a:lnTo>
                    <a:pt x="502" y="67"/>
                  </a:lnTo>
                  <a:lnTo>
                    <a:pt x="512" y="70"/>
                  </a:lnTo>
                  <a:lnTo>
                    <a:pt x="521" y="7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6120" y="3724200"/>
              <a:ext cx="184320" cy="376920"/>
            </a:xfrm>
            <a:custGeom>
              <a:avLst/>
              <a:gdLst/>
              <a:ahLst/>
              <a:rect l="l" t="t" r="r" b="b"/>
              <a:pathLst>
                <a:path w="421" h="666">
                  <a:moveTo>
                    <a:pt x="317" y="0"/>
                  </a:moveTo>
                  <a:lnTo>
                    <a:pt x="324" y="8"/>
                  </a:lnTo>
                  <a:lnTo>
                    <a:pt x="329" y="19"/>
                  </a:lnTo>
                  <a:lnTo>
                    <a:pt x="332" y="32"/>
                  </a:lnTo>
                  <a:lnTo>
                    <a:pt x="337" y="48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73" y="118"/>
                  </a:lnTo>
                  <a:lnTo>
                    <a:pt x="396" y="150"/>
                  </a:lnTo>
                  <a:lnTo>
                    <a:pt x="409" y="170"/>
                  </a:lnTo>
                  <a:lnTo>
                    <a:pt x="417" y="193"/>
                  </a:lnTo>
                  <a:lnTo>
                    <a:pt x="419" y="214"/>
                  </a:lnTo>
                  <a:lnTo>
                    <a:pt x="420" y="237"/>
                  </a:lnTo>
                  <a:lnTo>
                    <a:pt x="419" y="258"/>
                  </a:lnTo>
                  <a:lnTo>
                    <a:pt x="417" y="277"/>
                  </a:lnTo>
                  <a:lnTo>
                    <a:pt x="417" y="295"/>
                  </a:lnTo>
                  <a:lnTo>
                    <a:pt x="419" y="311"/>
                  </a:lnTo>
                  <a:lnTo>
                    <a:pt x="421" y="326"/>
                  </a:lnTo>
                  <a:lnTo>
                    <a:pt x="421" y="343"/>
                  </a:lnTo>
                  <a:lnTo>
                    <a:pt x="418" y="361"/>
                  </a:lnTo>
                  <a:lnTo>
                    <a:pt x="414" y="377"/>
                  </a:lnTo>
                  <a:lnTo>
                    <a:pt x="408" y="395"/>
                  </a:lnTo>
                  <a:lnTo>
                    <a:pt x="403" y="411"/>
                  </a:lnTo>
                  <a:lnTo>
                    <a:pt x="397" y="424"/>
                  </a:lnTo>
                  <a:lnTo>
                    <a:pt x="393" y="434"/>
                  </a:lnTo>
                  <a:lnTo>
                    <a:pt x="389" y="445"/>
                  </a:lnTo>
                  <a:lnTo>
                    <a:pt x="387" y="461"/>
                  </a:lnTo>
                  <a:lnTo>
                    <a:pt x="384" y="480"/>
                  </a:lnTo>
                  <a:lnTo>
                    <a:pt x="381" y="500"/>
                  </a:lnTo>
                  <a:lnTo>
                    <a:pt x="377" y="521"/>
                  </a:lnTo>
                  <a:lnTo>
                    <a:pt x="373" y="541"/>
                  </a:lnTo>
                  <a:lnTo>
                    <a:pt x="364" y="562"/>
                  </a:lnTo>
                  <a:lnTo>
                    <a:pt x="355" y="578"/>
                  </a:lnTo>
                  <a:lnTo>
                    <a:pt x="344" y="593"/>
                  </a:lnTo>
                  <a:lnTo>
                    <a:pt x="334" y="608"/>
                  </a:lnTo>
                  <a:lnTo>
                    <a:pt x="325" y="622"/>
                  </a:lnTo>
                  <a:lnTo>
                    <a:pt x="314" y="635"/>
                  </a:lnTo>
                  <a:lnTo>
                    <a:pt x="301" y="647"/>
                  </a:lnTo>
                  <a:lnTo>
                    <a:pt x="286" y="656"/>
                  </a:lnTo>
                  <a:lnTo>
                    <a:pt x="264" y="663"/>
                  </a:lnTo>
                  <a:lnTo>
                    <a:pt x="238" y="666"/>
                  </a:lnTo>
                  <a:lnTo>
                    <a:pt x="224" y="659"/>
                  </a:lnTo>
                  <a:lnTo>
                    <a:pt x="211" y="652"/>
                  </a:lnTo>
                  <a:lnTo>
                    <a:pt x="200" y="644"/>
                  </a:lnTo>
                  <a:lnTo>
                    <a:pt x="189" y="637"/>
                  </a:lnTo>
                  <a:lnTo>
                    <a:pt x="179" y="632"/>
                  </a:lnTo>
                  <a:lnTo>
                    <a:pt x="170" y="628"/>
                  </a:lnTo>
                  <a:lnTo>
                    <a:pt x="162" y="627"/>
                  </a:lnTo>
                  <a:lnTo>
                    <a:pt x="155" y="631"/>
                  </a:lnTo>
                  <a:lnTo>
                    <a:pt x="147" y="622"/>
                  </a:lnTo>
                  <a:lnTo>
                    <a:pt x="138" y="612"/>
                  </a:lnTo>
                  <a:lnTo>
                    <a:pt x="130" y="597"/>
                  </a:lnTo>
                  <a:lnTo>
                    <a:pt x="124" y="582"/>
                  </a:lnTo>
                  <a:lnTo>
                    <a:pt x="117" y="566"/>
                  </a:lnTo>
                  <a:lnTo>
                    <a:pt x="112" y="551"/>
                  </a:lnTo>
                  <a:lnTo>
                    <a:pt x="109" y="536"/>
                  </a:lnTo>
                  <a:lnTo>
                    <a:pt x="106" y="524"/>
                  </a:lnTo>
                  <a:lnTo>
                    <a:pt x="104" y="512"/>
                  </a:lnTo>
                  <a:lnTo>
                    <a:pt x="100" y="497"/>
                  </a:lnTo>
                  <a:lnTo>
                    <a:pt x="94" y="482"/>
                  </a:lnTo>
                  <a:lnTo>
                    <a:pt x="87" y="466"/>
                  </a:lnTo>
                  <a:lnTo>
                    <a:pt x="79" y="451"/>
                  </a:lnTo>
                  <a:lnTo>
                    <a:pt x="71" y="437"/>
                  </a:lnTo>
                  <a:lnTo>
                    <a:pt x="60" y="425"/>
                  </a:lnTo>
                  <a:lnTo>
                    <a:pt x="49" y="415"/>
                  </a:lnTo>
                  <a:lnTo>
                    <a:pt x="36" y="403"/>
                  </a:lnTo>
                  <a:lnTo>
                    <a:pt x="24" y="389"/>
                  </a:lnTo>
                  <a:lnTo>
                    <a:pt x="15" y="372"/>
                  </a:lnTo>
                  <a:lnTo>
                    <a:pt x="9" y="356"/>
                  </a:lnTo>
                  <a:lnTo>
                    <a:pt x="4" y="339"/>
                  </a:lnTo>
                  <a:lnTo>
                    <a:pt x="2" y="324"/>
                  </a:lnTo>
                  <a:lnTo>
                    <a:pt x="0" y="311"/>
                  </a:lnTo>
                  <a:lnTo>
                    <a:pt x="3" y="300"/>
                  </a:lnTo>
                  <a:lnTo>
                    <a:pt x="13" y="281"/>
                  </a:lnTo>
                  <a:lnTo>
                    <a:pt x="28" y="267"/>
                  </a:lnTo>
                  <a:lnTo>
                    <a:pt x="43" y="257"/>
                  </a:lnTo>
                  <a:lnTo>
                    <a:pt x="61" y="252"/>
                  </a:lnTo>
                  <a:lnTo>
                    <a:pt x="78" y="251"/>
                  </a:lnTo>
                  <a:lnTo>
                    <a:pt x="96" y="255"/>
                  </a:lnTo>
                  <a:lnTo>
                    <a:pt x="111" y="262"/>
                  </a:lnTo>
                  <a:lnTo>
                    <a:pt x="125" y="274"/>
                  </a:lnTo>
                  <a:lnTo>
                    <a:pt x="137" y="288"/>
                  </a:lnTo>
                  <a:lnTo>
                    <a:pt x="147" y="300"/>
                  </a:lnTo>
                  <a:lnTo>
                    <a:pt x="153" y="311"/>
                  </a:lnTo>
                  <a:lnTo>
                    <a:pt x="157" y="320"/>
                  </a:lnTo>
                  <a:lnTo>
                    <a:pt x="160" y="330"/>
                  </a:lnTo>
                  <a:lnTo>
                    <a:pt x="161" y="339"/>
                  </a:lnTo>
                  <a:lnTo>
                    <a:pt x="161" y="349"/>
                  </a:lnTo>
                  <a:lnTo>
                    <a:pt x="161" y="359"/>
                  </a:lnTo>
                  <a:lnTo>
                    <a:pt x="159" y="386"/>
                  </a:lnTo>
                  <a:lnTo>
                    <a:pt x="153" y="413"/>
                  </a:lnTo>
                  <a:lnTo>
                    <a:pt x="150" y="440"/>
                  </a:lnTo>
                  <a:lnTo>
                    <a:pt x="155" y="463"/>
                  </a:lnTo>
                  <a:lnTo>
                    <a:pt x="161" y="471"/>
                  </a:lnTo>
                  <a:lnTo>
                    <a:pt x="168" y="476"/>
                  </a:lnTo>
                  <a:lnTo>
                    <a:pt x="176" y="477"/>
                  </a:lnTo>
                  <a:lnTo>
                    <a:pt x="188" y="476"/>
                  </a:lnTo>
                  <a:lnTo>
                    <a:pt x="198" y="475"/>
                  </a:lnTo>
                  <a:lnTo>
                    <a:pt x="205" y="477"/>
                  </a:lnTo>
                  <a:lnTo>
                    <a:pt x="211" y="482"/>
                  </a:lnTo>
                  <a:lnTo>
                    <a:pt x="218" y="487"/>
                  </a:lnTo>
                  <a:lnTo>
                    <a:pt x="227" y="491"/>
                  </a:lnTo>
                  <a:lnTo>
                    <a:pt x="237" y="493"/>
                  </a:lnTo>
                  <a:lnTo>
                    <a:pt x="245" y="491"/>
                  </a:lnTo>
                  <a:lnTo>
                    <a:pt x="251" y="486"/>
                  </a:lnTo>
                  <a:lnTo>
                    <a:pt x="257" y="478"/>
                  </a:lnTo>
                  <a:lnTo>
                    <a:pt x="266" y="472"/>
                  </a:lnTo>
                  <a:lnTo>
                    <a:pt x="274" y="469"/>
                  </a:lnTo>
                  <a:lnTo>
                    <a:pt x="283" y="468"/>
                  </a:lnTo>
                  <a:lnTo>
                    <a:pt x="292" y="464"/>
                  </a:lnTo>
                  <a:lnTo>
                    <a:pt x="296" y="456"/>
                  </a:lnTo>
                  <a:lnTo>
                    <a:pt x="298" y="445"/>
                  </a:lnTo>
                  <a:lnTo>
                    <a:pt x="295" y="437"/>
                  </a:lnTo>
                  <a:lnTo>
                    <a:pt x="295" y="444"/>
                  </a:lnTo>
                  <a:lnTo>
                    <a:pt x="294" y="450"/>
                  </a:lnTo>
                  <a:lnTo>
                    <a:pt x="290" y="455"/>
                  </a:lnTo>
                  <a:lnTo>
                    <a:pt x="283" y="457"/>
                  </a:lnTo>
                  <a:lnTo>
                    <a:pt x="273" y="458"/>
                  </a:lnTo>
                  <a:lnTo>
                    <a:pt x="264" y="461"/>
                  </a:lnTo>
                  <a:lnTo>
                    <a:pt x="257" y="464"/>
                  </a:lnTo>
                  <a:lnTo>
                    <a:pt x="251" y="470"/>
                  </a:lnTo>
                  <a:lnTo>
                    <a:pt x="245" y="475"/>
                  </a:lnTo>
                  <a:lnTo>
                    <a:pt x="238" y="477"/>
                  </a:lnTo>
                  <a:lnTo>
                    <a:pt x="230" y="476"/>
                  </a:lnTo>
                  <a:lnTo>
                    <a:pt x="224" y="472"/>
                  </a:lnTo>
                  <a:lnTo>
                    <a:pt x="218" y="469"/>
                  </a:lnTo>
                  <a:lnTo>
                    <a:pt x="211" y="465"/>
                  </a:lnTo>
                  <a:lnTo>
                    <a:pt x="201" y="465"/>
                  </a:lnTo>
                  <a:lnTo>
                    <a:pt x="192" y="466"/>
                  </a:lnTo>
                  <a:lnTo>
                    <a:pt x="183" y="464"/>
                  </a:lnTo>
                  <a:lnTo>
                    <a:pt x="176" y="456"/>
                  </a:lnTo>
                  <a:lnTo>
                    <a:pt x="173" y="443"/>
                  </a:lnTo>
                  <a:lnTo>
                    <a:pt x="178" y="430"/>
                  </a:lnTo>
                  <a:lnTo>
                    <a:pt x="185" y="413"/>
                  </a:lnTo>
                  <a:lnTo>
                    <a:pt x="191" y="392"/>
                  </a:lnTo>
                  <a:lnTo>
                    <a:pt x="193" y="369"/>
                  </a:lnTo>
                  <a:lnTo>
                    <a:pt x="194" y="345"/>
                  </a:lnTo>
                  <a:lnTo>
                    <a:pt x="193" y="333"/>
                  </a:lnTo>
                  <a:lnTo>
                    <a:pt x="192" y="320"/>
                  </a:lnTo>
                  <a:lnTo>
                    <a:pt x="188" y="306"/>
                  </a:lnTo>
                  <a:lnTo>
                    <a:pt x="183" y="292"/>
                  </a:lnTo>
                  <a:lnTo>
                    <a:pt x="178" y="277"/>
                  </a:lnTo>
                  <a:lnTo>
                    <a:pt x="170" y="264"/>
                  </a:lnTo>
                  <a:lnTo>
                    <a:pt x="163" y="253"/>
                  </a:lnTo>
                  <a:lnTo>
                    <a:pt x="155" y="244"/>
                  </a:lnTo>
                  <a:lnTo>
                    <a:pt x="138" y="230"/>
                  </a:lnTo>
                  <a:lnTo>
                    <a:pt x="120" y="214"/>
                  </a:lnTo>
                  <a:lnTo>
                    <a:pt x="106" y="199"/>
                  </a:lnTo>
                  <a:lnTo>
                    <a:pt x="96" y="181"/>
                  </a:lnTo>
                  <a:lnTo>
                    <a:pt x="92" y="158"/>
                  </a:lnTo>
                  <a:lnTo>
                    <a:pt x="98" y="131"/>
                  </a:lnTo>
                  <a:lnTo>
                    <a:pt x="115" y="98"/>
                  </a:lnTo>
                  <a:lnTo>
                    <a:pt x="145" y="57"/>
                  </a:lnTo>
                  <a:lnTo>
                    <a:pt x="159" y="57"/>
                  </a:lnTo>
                  <a:lnTo>
                    <a:pt x="178" y="57"/>
                  </a:lnTo>
                  <a:lnTo>
                    <a:pt x="199" y="56"/>
                  </a:lnTo>
                  <a:lnTo>
                    <a:pt x="223" y="54"/>
                  </a:lnTo>
                  <a:lnTo>
                    <a:pt x="248" y="48"/>
                  </a:lnTo>
                  <a:lnTo>
                    <a:pt x="273" y="37"/>
                  </a:lnTo>
                  <a:lnTo>
                    <a:pt x="296" y="21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6360" y="3882600"/>
              <a:ext cx="49680" cy="21600"/>
            </a:xfrm>
            <a:custGeom>
              <a:avLst/>
              <a:gdLst/>
              <a:ahLst/>
              <a:rect l="l" t="t" r="r" b="b"/>
              <a:pathLst>
                <a:path w="115" h="40">
                  <a:moveTo>
                    <a:pt x="0" y="27"/>
                  </a:moveTo>
                  <a:lnTo>
                    <a:pt x="4" y="23"/>
                  </a:lnTo>
                  <a:lnTo>
                    <a:pt x="9" y="20"/>
                  </a:lnTo>
                  <a:lnTo>
                    <a:pt x="15" y="18"/>
                  </a:lnTo>
                  <a:lnTo>
                    <a:pt x="22" y="15"/>
                  </a:lnTo>
                  <a:lnTo>
                    <a:pt x="28" y="14"/>
                  </a:lnTo>
                  <a:lnTo>
                    <a:pt x="34" y="13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8" y="14"/>
                  </a:lnTo>
                  <a:lnTo>
                    <a:pt x="56" y="15"/>
                  </a:lnTo>
                  <a:lnTo>
                    <a:pt x="64" y="15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94" y="12"/>
                  </a:lnTo>
                  <a:lnTo>
                    <a:pt x="104" y="7"/>
                  </a:lnTo>
                  <a:lnTo>
                    <a:pt x="115" y="0"/>
                  </a:lnTo>
                  <a:lnTo>
                    <a:pt x="108" y="7"/>
                  </a:lnTo>
                  <a:lnTo>
                    <a:pt x="100" y="15"/>
                  </a:lnTo>
                  <a:lnTo>
                    <a:pt x="90" y="21"/>
                  </a:lnTo>
                  <a:lnTo>
                    <a:pt x="82" y="23"/>
                  </a:lnTo>
                  <a:lnTo>
                    <a:pt x="77" y="31"/>
                  </a:lnTo>
                  <a:lnTo>
                    <a:pt x="70" y="37"/>
                  </a:lnTo>
                  <a:lnTo>
                    <a:pt x="63" y="39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41" y="38"/>
                  </a:lnTo>
                  <a:lnTo>
                    <a:pt x="37" y="33"/>
                  </a:lnTo>
                  <a:lnTo>
                    <a:pt x="33" y="27"/>
                  </a:lnTo>
                  <a:lnTo>
                    <a:pt x="26" y="26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6360" y="3867120"/>
              <a:ext cx="43200" cy="1692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30"/>
                  </a:moveTo>
                  <a:lnTo>
                    <a:pt x="2" y="22"/>
                  </a:lnTo>
                  <a:lnTo>
                    <a:pt x="11" y="14"/>
                  </a:lnTo>
                  <a:lnTo>
                    <a:pt x="22" y="6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9" y="3"/>
                  </a:lnTo>
                  <a:lnTo>
                    <a:pt x="84" y="9"/>
                  </a:lnTo>
                  <a:lnTo>
                    <a:pt x="99" y="20"/>
                  </a:lnTo>
                  <a:lnTo>
                    <a:pt x="89" y="14"/>
                  </a:lnTo>
                  <a:lnTo>
                    <a:pt x="77" y="10"/>
                  </a:lnTo>
                  <a:lnTo>
                    <a:pt x="64" y="8"/>
                  </a:lnTo>
                  <a:lnTo>
                    <a:pt x="51" y="8"/>
                  </a:lnTo>
                  <a:lnTo>
                    <a:pt x="37" y="10"/>
                  </a:lnTo>
                  <a:lnTo>
                    <a:pt x="24" y="14"/>
                  </a:lnTo>
                  <a:lnTo>
                    <a:pt x="11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3480" y="3839760"/>
              <a:ext cx="56520" cy="237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8"/>
                  </a:moveTo>
                  <a:lnTo>
                    <a:pt x="0" y="31"/>
                  </a:lnTo>
                  <a:lnTo>
                    <a:pt x="5" y="22"/>
                  </a:lnTo>
                  <a:lnTo>
                    <a:pt x="13" y="15"/>
                  </a:lnTo>
                  <a:lnTo>
                    <a:pt x="24" y="9"/>
                  </a:lnTo>
                  <a:lnTo>
                    <a:pt x="36" y="5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0" y="14"/>
                  </a:lnTo>
                  <a:lnTo>
                    <a:pt x="116" y="19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7" y="34"/>
                  </a:lnTo>
                  <a:lnTo>
                    <a:pt x="102" y="20"/>
                  </a:lnTo>
                  <a:lnTo>
                    <a:pt x="78" y="14"/>
                  </a:lnTo>
                  <a:lnTo>
                    <a:pt x="57" y="17"/>
                  </a:lnTo>
                  <a:lnTo>
                    <a:pt x="39" y="22"/>
                  </a:lnTo>
                  <a:lnTo>
                    <a:pt x="24" y="30"/>
                  </a:lnTo>
                  <a:lnTo>
                    <a:pt x="12" y="37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5480" y="3894120"/>
              <a:ext cx="55440" cy="18720"/>
            </a:xfrm>
            <a:custGeom>
              <a:avLst/>
              <a:gdLst/>
              <a:ahLst/>
              <a:rect l="l" t="t" r="r" b="b"/>
              <a:pathLst>
                <a:path w="127" h="34">
                  <a:moveTo>
                    <a:pt x="127" y="6"/>
                  </a:moveTo>
                  <a:lnTo>
                    <a:pt x="122" y="5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1" y="6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15" y="8"/>
                  </a:lnTo>
                  <a:lnTo>
                    <a:pt x="7" y="6"/>
                  </a:lnTo>
                  <a:lnTo>
                    <a:pt x="0" y="2"/>
                  </a:lnTo>
                  <a:lnTo>
                    <a:pt x="3" y="6"/>
                  </a:lnTo>
                  <a:lnTo>
                    <a:pt x="8" y="8"/>
                  </a:lnTo>
                  <a:lnTo>
                    <a:pt x="13" y="11"/>
                  </a:lnTo>
                  <a:lnTo>
                    <a:pt x="19" y="13"/>
                  </a:lnTo>
                  <a:lnTo>
                    <a:pt x="26" y="15"/>
                  </a:lnTo>
                  <a:lnTo>
                    <a:pt x="32" y="17"/>
                  </a:lnTo>
                  <a:lnTo>
                    <a:pt x="39" y="18"/>
                  </a:lnTo>
                  <a:lnTo>
                    <a:pt x="45" y="18"/>
                  </a:lnTo>
                  <a:lnTo>
                    <a:pt x="48" y="25"/>
                  </a:lnTo>
                  <a:lnTo>
                    <a:pt x="54" y="31"/>
                  </a:lnTo>
                  <a:lnTo>
                    <a:pt x="63" y="33"/>
                  </a:lnTo>
                  <a:lnTo>
                    <a:pt x="72" y="34"/>
                  </a:lnTo>
                  <a:lnTo>
                    <a:pt x="80" y="32"/>
                  </a:lnTo>
                  <a:lnTo>
                    <a:pt x="88" y="27"/>
                  </a:lnTo>
                  <a:lnTo>
                    <a:pt x="92" y="20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1960" y="3875760"/>
              <a:ext cx="44640" cy="1332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101" y="17"/>
                  </a:moveTo>
                  <a:lnTo>
                    <a:pt x="94" y="15"/>
                  </a:lnTo>
                  <a:lnTo>
                    <a:pt x="83" y="13"/>
                  </a:lnTo>
                  <a:lnTo>
                    <a:pt x="73" y="10"/>
                  </a:lnTo>
                  <a:lnTo>
                    <a:pt x="60" y="9"/>
                  </a:lnTo>
                  <a:lnTo>
                    <a:pt x="45" y="9"/>
                  </a:lnTo>
                  <a:lnTo>
                    <a:pt x="30" y="11"/>
                  </a:lnTo>
                  <a:lnTo>
                    <a:pt x="16" y="16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3" y="11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4" y="0"/>
                  </a:lnTo>
                  <a:lnTo>
                    <a:pt x="70" y="1"/>
                  </a:lnTo>
                  <a:lnTo>
                    <a:pt x="86" y="7"/>
                  </a:lnTo>
                  <a:lnTo>
                    <a:pt x="10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520" y="4014720"/>
              <a:ext cx="69840" cy="46080"/>
            </a:xfrm>
            <a:custGeom>
              <a:avLst/>
              <a:gdLst/>
              <a:ahLst/>
              <a:rect l="l" t="t" r="r" b="b"/>
              <a:pathLst>
                <a:path w="159" h="82">
                  <a:moveTo>
                    <a:pt x="159" y="9"/>
                  </a:moveTo>
                  <a:lnTo>
                    <a:pt x="156" y="8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37" y="6"/>
                  </a:lnTo>
                  <a:lnTo>
                    <a:pt x="130" y="7"/>
                  </a:lnTo>
                  <a:lnTo>
                    <a:pt x="122" y="8"/>
                  </a:lnTo>
                  <a:lnTo>
                    <a:pt x="115" y="11"/>
                  </a:lnTo>
                  <a:lnTo>
                    <a:pt x="110" y="14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6" y="19"/>
                  </a:lnTo>
                  <a:lnTo>
                    <a:pt x="80" y="15"/>
                  </a:lnTo>
                  <a:lnTo>
                    <a:pt x="76" y="14"/>
                  </a:lnTo>
                  <a:lnTo>
                    <a:pt x="71" y="13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3" y="23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7" y="30"/>
                  </a:lnTo>
                  <a:lnTo>
                    <a:pt x="57" y="30"/>
                  </a:lnTo>
                  <a:lnTo>
                    <a:pt x="65" y="31"/>
                  </a:lnTo>
                  <a:lnTo>
                    <a:pt x="75" y="32"/>
                  </a:lnTo>
                  <a:lnTo>
                    <a:pt x="82" y="33"/>
                  </a:lnTo>
                  <a:lnTo>
                    <a:pt x="89" y="34"/>
                  </a:lnTo>
                  <a:lnTo>
                    <a:pt x="97" y="34"/>
                  </a:lnTo>
                  <a:lnTo>
                    <a:pt x="105" y="33"/>
                  </a:lnTo>
                  <a:lnTo>
                    <a:pt x="113" y="31"/>
                  </a:lnTo>
                  <a:lnTo>
                    <a:pt x="121" y="28"/>
                  </a:lnTo>
                  <a:lnTo>
                    <a:pt x="130" y="26"/>
                  </a:lnTo>
                  <a:lnTo>
                    <a:pt x="137" y="26"/>
                  </a:lnTo>
                  <a:lnTo>
                    <a:pt x="145" y="26"/>
                  </a:lnTo>
                  <a:lnTo>
                    <a:pt x="138" y="27"/>
                  </a:lnTo>
                  <a:lnTo>
                    <a:pt x="130" y="30"/>
                  </a:lnTo>
                  <a:lnTo>
                    <a:pt x="122" y="33"/>
                  </a:lnTo>
                  <a:lnTo>
                    <a:pt x="114" y="37"/>
                  </a:lnTo>
                  <a:lnTo>
                    <a:pt x="106" y="40"/>
                  </a:lnTo>
                  <a:lnTo>
                    <a:pt x="96" y="43"/>
                  </a:lnTo>
                  <a:lnTo>
                    <a:pt x="87" y="43"/>
                  </a:lnTo>
                  <a:lnTo>
                    <a:pt x="76" y="42"/>
                  </a:lnTo>
                  <a:lnTo>
                    <a:pt x="70" y="40"/>
                  </a:lnTo>
                  <a:lnTo>
                    <a:pt x="63" y="39"/>
                  </a:lnTo>
                  <a:lnTo>
                    <a:pt x="55" y="38"/>
                  </a:lnTo>
                  <a:lnTo>
                    <a:pt x="47" y="38"/>
                  </a:lnTo>
                  <a:lnTo>
                    <a:pt x="40" y="38"/>
                  </a:lnTo>
                  <a:lnTo>
                    <a:pt x="33" y="38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9" y="53"/>
                  </a:lnTo>
                  <a:lnTo>
                    <a:pt x="46" y="59"/>
                  </a:lnTo>
                  <a:lnTo>
                    <a:pt x="56" y="64"/>
                  </a:lnTo>
                  <a:lnTo>
                    <a:pt x="65" y="68"/>
                  </a:lnTo>
                  <a:lnTo>
                    <a:pt x="77" y="70"/>
                  </a:lnTo>
                  <a:lnTo>
                    <a:pt x="89" y="70"/>
                  </a:lnTo>
                  <a:lnTo>
                    <a:pt x="101" y="69"/>
                  </a:lnTo>
                  <a:lnTo>
                    <a:pt x="110" y="68"/>
                  </a:lnTo>
                  <a:lnTo>
                    <a:pt x="118" y="67"/>
                  </a:lnTo>
                  <a:lnTo>
                    <a:pt x="125" y="65"/>
                  </a:lnTo>
                  <a:lnTo>
                    <a:pt x="132" y="63"/>
                  </a:lnTo>
                  <a:lnTo>
                    <a:pt x="138" y="61"/>
                  </a:lnTo>
                  <a:lnTo>
                    <a:pt x="144" y="57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7"/>
                  </a:lnTo>
                  <a:lnTo>
                    <a:pt x="132" y="71"/>
                  </a:lnTo>
                  <a:lnTo>
                    <a:pt x="125" y="75"/>
                  </a:lnTo>
                  <a:lnTo>
                    <a:pt x="118" y="78"/>
                  </a:lnTo>
                  <a:lnTo>
                    <a:pt x="109" y="81"/>
                  </a:lnTo>
                  <a:lnTo>
                    <a:pt x="101" y="82"/>
                  </a:lnTo>
                  <a:lnTo>
                    <a:pt x="91" y="82"/>
                  </a:lnTo>
                  <a:lnTo>
                    <a:pt x="82" y="82"/>
                  </a:lnTo>
                  <a:lnTo>
                    <a:pt x="71" y="81"/>
                  </a:lnTo>
                  <a:lnTo>
                    <a:pt x="62" y="78"/>
                  </a:lnTo>
                  <a:lnTo>
                    <a:pt x="52" y="76"/>
                  </a:lnTo>
                  <a:lnTo>
                    <a:pt x="44" y="73"/>
                  </a:lnTo>
                  <a:lnTo>
                    <a:pt x="36" y="67"/>
                  </a:lnTo>
                  <a:lnTo>
                    <a:pt x="30" y="61"/>
                  </a:lnTo>
                  <a:lnTo>
                    <a:pt x="24" y="52"/>
                  </a:lnTo>
                  <a:lnTo>
                    <a:pt x="19" y="44"/>
                  </a:lnTo>
                  <a:lnTo>
                    <a:pt x="13" y="36"/>
                  </a:lnTo>
                  <a:lnTo>
                    <a:pt x="8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5" y="18"/>
                  </a:lnTo>
                  <a:lnTo>
                    <a:pt x="12" y="15"/>
                  </a:lnTo>
                  <a:lnTo>
                    <a:pt x="21" y="11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5" y="7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1"/>
                  </a:lnTo>
                  <a:lnTo>
                    <a:pt x="145" y="2"/>
                  </a:lnTo>
                  <a:lnTo>
                    <a:pt x="152" y="5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040" y="4116600"/>
              <a:ext cx="131400" cy="201960"/>
            </a:xfrm>
            <a:custGeom>
              <a:avLst/>
              <a:gdLst/>
              <a:ahLst/>
              <a:rect l="l" t="t" r="r" b="b"/>
              <a:pathLst>
                <a:path w="302" h="359">
                  <a:moveTo>
                    <a:pt x="90" y="25"/>
                  </a:moveTo>
                  <a:lnTo>
                    <a:pt x="100" y="25"/>
                  </a:lnTo>
                  <a:lnTo>
                    <a:pt x="113" y="25"/>
                  </a:lnTo>
                  <a:lnTo>
                    <a:pt x="130" y="22"/>
                  </a:lnTo>
                  <a:lnTo>
                    <a:pt x="149" y="21"/>
                  </a:lnTo>
                  <a:lnTo>
                    <a:pt x="170" y="21"/>
                  </a:lnTo>
                  <a:lnTo>
                    <a:pt x="191" y="22"/>
                  </a:lnTo>
                  <a:lnTo>
                    <a:pt x="214" y="26"/>
                  </a:lnTo>
                  <a:lnTo>
                    <a:pt x="235" y="33"/>
                  </a:lnTo>
                  <a:lnTo>
                    <a:pt x="256" y="42"/>
                  </a:lnTo>
                  <a:lnTo>
                    <a:pt x="273" y="54"/>
                  </a:lnTo>
                  <a:lnTo>
                    <a:pt x="287" y="70"/>
                  </a:lnTo>
                  <a:lnTo>
                    <a:pt x="297" y="91"/>
                  </a:lnTo>
                  <a:lnTo>
                    <a:pt x="302" y="120"/>
                  </a:lnTo>
                  <a:lnTo>
                    <a:pt x="302" y="158"/>
                  </a:lnTo>
                  <a:lnTo>
                    <a:pt x="296" y="205"/>
                  </a:lnTo>
                  <a:lnTo>
                    <a:pt x="284" y="267"/>
                  </a:lnTo>
                  <a:lnTo>
                    <a:pt x="278" y="266"/>
                  </a:lnTo>
                  <a:lnTo>
                    <a:pt x="272" y="265"/>
                  </a:lnTo>
                  <a:lnTo>
                    <a:pt x="265" y="265"/>
                  </a:lnTo>
                  <a:lnTo>
                    <a:pt x="257" y="267"/>
                  </a:lnTo>
                  <a:lnTo>
                    <a:pt x="254" y="264"/>
                  </a:lnTo>
                  <a:lnTo>
                    <a:pt x="251" y="258"/>
                  </a:lnTo>
                  <a:lnTo>
                    <a:pt x="246" y="252"/>
                  </a:lnTo>
                  <a:lnTo>
                    <a:pt x="239" y="247"/>
                  </a:lnTo>
                  <a:lnTo>
                    <a:pt x="231" y="242"/>
                  </a:lnTo>
                  <a:lnTo>
                    <a:pt x="219" y="240"/>
                  </a:lnTo>
                  <a:lnTo>
                    <a:pt x="204" y="241"/>
                  </a:lnTo>
                  <a:lnTo>
                    <a:pt x="187" y="245"/>
                  </a:lnTo>
                  <a:lnTo>
                    <a:pt x="180" y="244"/>
                  </a:lnTo>
                  <a:lnTo>
                    <a:pt x="171" y="242"/>
                  </a:lnTo>
                  <a:lnTo>
                    <a:pt x="165" y="241"/>
                  </a:lnTo>
                  <a:lnTo>
                    <a:pt x="158" y="238"/>
                  </a:lnTo>
                  <a:lnTo>
                    <a:pt x="152" y="233"/>
                  </a:lnTo>
                  <a:lnTo>
                    <a:pt x="147" y="228"/>
                  </a:lnTo>
                  <a:lnTo>
                    <a:pt x="144" y="220"/>
                  </a:lnTo>
                  <a:lnTo>
                    <a:pt x="141" y="211"/>
                  </a:lnTo>
                  <a:lnTo>
                    <a:pt x="138" y="201"/>
                  </a:lnTo>
                  <a:lnTo>
                    <a:pt x="131" y="190"/>
                  </a:lnTo>
                  <a:lnTo>
                    <a:pt x="122" y="179"/>
                  </a:lnTo>
                  <a:lnTo>
                    <a:pt x="112" y="170"/>
                  </a:lnTo>
                  <a:lnTo>
                    <a:pt x="99" y="161"/>
                  </a:lnTo>
                  <a:lnTo>
                    <a:pt x="86" y="156"/>
                  </a:lnTo>
                  <a:lnTo>
                    <a:pt x="74" y="152"/>
                  </a:lnTo>
                  <a:lnTo>
                    <a:pt x="61" y="153"/>
                  </a:lnTo>
                  <a:lnTo>
                    <a:pt x="51" y="157"/>
                  </a:lnTo>
                  <a:lnTo>
                    <a:pt x="46" y="161"/>
                  </a:lnTo>
                  <a:lnTo>
                    <a:pt x="44" y="169"/>
                  </a:lnTo>
                  <a:lnTo>
                    <a:pt x="45" y="176"/>
                  </a:lnTo>
                  <a:lnTo>
                    <a:pt x="49" y="184"/>
                  </a:lnTo>
                  <a:lnTo>
                    <a:pt x="53" y="192"/>
                  </a:lnTo>
                  <a:lnTo>
                    <a:pt x="59" y="200"/>
                  </a:lnTo>
                  <a:lnTo>
                    <a:pt x="67" y="205"/>
                  </a:lnTo>
                  <a:lnTo>
                    <a:pt x="77" y="219"/>
                  </a:lnTo>
                  <a:lnTo>
                    <a:pt x="83" y="236"/>
                  </a:lnTo>
                  <a:lnTo>
                    <a:pt x="86" y="253"/>
                  </a:lnTo>
                  <a:lnTo>
                    <a:pt x="86" y="266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87" y="300"/>
                  </a:lnTo>
                  <a:lnTo>
                    <a:pt x="93" y="311"/>
                  </a:lnTo>
                  <a:lnTo>
                    <a:pt x="86" y="321"/>
                  </a:lnTo>
                  <a:lnTo>
                    <a:pt x="74" y="334"/>
                  </a:lnTo>
                  <a:lnTo>
                    <a:pt x="64" y="348"/>
                  </a:lnTo>
                  <a:lnTo>
                    <a:pt x="58" y="359"/>
                  </a:lnTo>
                  <a:lnTo>
                    <a:pt x="49" y="346"/>
                  </a:lnTo>
                  <a:lnTo>
                    <a:pt x="42" y="328"/>
                  </a:lnTo>
                  <a:lnTo>
                    <a:pt x="36" y="308"/>
                  </a:lnTo>
                  <a:lnTo>
                    <a:pt x="32" y="285"/>
                  </a:lnTo>
                  <a:lnTo>
                    <a:pt x="29" y="260"/>
                  </a:lnTo>
                  <a:lnTo>
                    <a:pt x="25" y="236"/>
                  </a:lnTo>
                  <a:lnTo>
                    <a:pt x="24" y="213"/>
                  </a:lnTo>
                  <a:lnTo>
                    <a:pt x="23" y="190"/>
                  </a:lnTo>
                  <a:lnTo>
                    <a:pt x="23" y="167"/>
                  </a:lnTo>
                  <a:lnTo>
                    <a:pt x="25" y="144"/>
                  </a:lnTo>
                  <a:lnTo>
                    <a:pt x="29" y="119"/>
                  </a:lnTo>
                  <a:lnTo>
                    <a:pt x="31" y="94"/>
                  </a:lnTo>
                  <a:lnTo>
                    <a:pt x="31" y="70"/>
                  </a:lnTo>
                  <a:lnTo>
                    <a:pt x="26" y="46"/>
                  </a:lnTo>
                  <a:lnTo>
                    <a:pt x="17" y="23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3"/>
                  </a:lnTo>
                  <a:lnTo>
                    <a:pt x="30" y="7"/>
                  </a:lnTo>
                  <a:lnTo>
                    <a:pt x="39" y="12"/>
                  </a:lnTo>
                  <a:lnTo>
                    <a:pt x="52" y="17"/>
                  </a:lnTo>
                  <a:lnTo>
                    <a:pt x="69" y="21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960" y="4089240"/>
              <a:ext cx="34200" cy="8496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58" y="0"/>
                  </a:moveTo>
                  <a:lnTo>
                    <a:pt x="59" y="17"/>
                  </a:lnTo>
                  <a:lnTo>
                    <a:pt x="67" y="43"/>
                  </a:lnTo>
                  <a:lnTo>
                    <a:pt x="74" y="70"/>
                  </a:lnTo>
                  <a:lnTo>
                    <a:pt x="78" y="87"/>
                  </a:lnTo>
                  <a:lnTo>
                    <a:pt x="78" y="93"/>
                  </a:lnTo>
                  <a:lnTo>
                    <a:pt x="76" y="100"/>
                  </a:lnTo>
                  <a:lnTo>
                    <a:pt x="72" y="108"/>
                  </a:lnTo>
                  <a:lnTo>
                    <a:pt x="67" y="118"/>
                  </a:lnTo>
                  <a:lnTo>
                    <a:pt x="58" y="128"/>
                  </a:lnTo>
                  <a:lnTo>
                    <a:pt x="49" y="136"/>
                  </a:lnTo>
                  <a:lnTo>
                    <a:pt x="38" y="144"/>
                  </a:lnTo>
                  <a:lnTo>
                    <a:pt x="26" y="149"/>
                  </a:lnTo>
                  <a:lnTo>
                    <a:pt x="32" y="141"/>
                  </a:lnTo>
                  <a:lnTo>
                    <a:pt x="38" y="130"/>
                  </a:lnTo>
                  <a:lnTo>
                    <a:pt x="43" y="118"/>
                  </a:lnTo>
                  <a:lnTo>
                    <a:pt x="49" y="105"/>
                  </a:lnTo>
                  <a:lnTo>
                    <a:pt x="51" y="93"/>
                  </a:lnTo>
                  <a:lnTo>
                    <a:pt x="53" y="82"/>
                  </a:lnTo>
                  <a:lnTo>
                    <a:pt x="52" y="74"/>
                  </a:lnTo>
                  <a:lnTo>
                    <a:pt x="49" y="69"/>
                  </a:lnTo>
                  <a:lnTo>
                    <a:pt x="39" y="63"/>
                  </a:lnTo>
                  <a:lnTo>
                    <a:pt x="31" y="59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3" y="47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38"/>
                  </a:lnTo>
                  <a:lnTo>
                    <a:pt x="7" y="37"/>
                  </a:lnTo>
                  <a:lnTo>
                    <a:pt x="14" y="35"/>
                  </a:lnTo>
                  <a:lnTo>
                    <a:pt x="21" y="32"/>
                  </a:lnTo>
                  <a:lnTo>
                    <a:pt x="28" y="30"/>
                  </a:lnTo>
                  <a:lnTo>
                    <a:pt x="34" y="25"/>
                  </a:lnTo>
                  <a:lnTo>
                    <a:pt x="42" y="19"/>
                  </a:lnTo>
                  <a:lnTo>
                    <a:pt x="50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00" y="3884040"/>
              <a:ext cx="217080" cy="298440"/>
            </a:xfrm>
            <a:custGeom>
              <a:avLst/>
              <a:gdLst/>
              <a:ahLst/>
              <a:rect l="l" t="t" r="r" b="b"/>
              <a:pathLst>
                <a:path w="495" h="527">
                  <a:moveTo>
                    <a:pt x="483" y="438"/>
                  </a:moveTo>
                  <a:lnTo>
                    <a:pt x="489" y="442"/>
                  </a:lnTo>
                  <a:lnTo>
                    <a:pt x="494" y="448"/>
                  </a:lnTo>
                  <a:lnTo>
                    <a:pt x="495" y="455"/>
                  </a:lnTo>
                  <a:lnTo>
                    <a:pt x="491" y="466"/>
                  </a:lnTo>
                  <a:lnTo>
                    <a:pt x="489" y="473"/>
                  </a:lnTo>
                  <a:lnTo>
                    <a:pt x="487" y="479"/>
                  </a:lnTo>
                  <a:lnTo>
                    <a:pt x="484" y="487"/>
                  </a:lnTo>
                  <a:lnTo>
                    <a:pt x="481" y="494"/>
                  </a:lnTo>
                  <a:lnTo>
                    <a:pt x="475" y="501"/>
                  </a:lnTo>
                  <a:lnTo>
                    <a:pt x="468" y="510"/>
                  </a:lnTo>
                  <a:lnTo>
                    <a:pt x="456" y="518"/>
                  </a:lnTo>
                  <a:lnTo>
                    <a:pt x="441" y="527"/>
                  </a:lnTo>
                  <a:lnTo>
                    <a:pt x="432" y="521"/>
                  </a:lnTo>
                  <a:lnTo>
                    <a:pt x="424" y="518"/>
                  </a:lnTo>
                  <a:lnTo>
                    <a:pt x="414" y="516"/>
                  </a:lnTo>
                  <a:lnTo>
                    <a:pt x="406" y="514"/>
                  </a:lnTo>
                  <a:lnTo>
                    <a:pt x="399" y="514"/>
                  </a:lnTo>
                  <a:lnTo>
                    <a:pt x="392" y="517"/>
                  </a:lnTo>
                  <a:lnTo>
                    <a:pt x="386" y="519"/>
                  </a:lnTo>
                  <a:lnTo>
                    <a:pt x="380" y="524"/>
                  </a:lnTo>
                  <a:lnTo>
                    <a:pt x="359" y="517"/>
                  </a:lnTo>
                  <a:lnTo>
                    <a:pt x="339" y="507"/>
                  </a:lnTo>
                  <a:lnTo>
                    <a:pt x="319" y="496"/>
                  </a:lnTo>
                  <a:lnTo>
                    <a:pt x="299" y="485"/>
                  </a:lnTo>
                  <a:lnTo>
                    <a:pt x="280" y="470"/>
                  </a:lnTo>
                  <a:lnTo>
                    <a:pt x="261" y="456"/>
                  </a:lnTo>
                  <a:lnTo>
                    <a:pt x="243" y="442"/>
                  </a:lnTo>
                  <a:lnTo>
                    <a:pt x="227" y="427"/>
                  </a:lnTo>
                  <a:lnTo>
                    <a:pt x="219" y="419"/>
                  </a:lnTo>
                  <a:lnTo>
                    <a:pt x="208" y="407"/>
                  </a:lnTo>
                  <a:lnTo>
                    <a:pt x="197" y="394"/>
                  </a:lnTo>
                  <a:lnTo>
                    <a:pt x="184" y="379"/>
                  </a:lnTo>
                  <a:lnTo>
                    <a:pt x="170" y="362"/>
                  </a:lnTo>
                  <a:lnTo>
                    <a:pt x="155" y="344"/>
                  </a:lnTo>
                  <a:lnTo>
                    <a:pt x="141" y="326"/>
                  </a:lnTo>
                  <a:lnTo>
                    <a:pt x="125" y="307"/>
                  </a:lnTo>
                  <a:lnTo>
                    <a:pt x="110" y="287"/>
                  </a:lnTo>
                  <a:lnTo>
                    <a:pt x="96" y="269"/>
                  </a:lnTo>
                  <a:lnTo>
                    <a:pt x="82" y="250"/>
                  </a:lnTo>
                  <a:lnTo>
                    <a:pt x="69" y="232"/>
                  </a:lnTo>
                  <a:lnTo>
                    <a:pt x="59" y="217"/>
                  </a:lnTo>
                  <a:lnTo>
                    <a:pt x="49" y="203"/>
                  </a:lnTo>
                  <a:lnTo>
                    <a:pt x="41" y="189"/>
                  </a:lnTo>
                  <a:lnTo>
                    <a:pt x="36" y="180"/>
                  </a:lnTo>
                  <a:lnTo>
                    <a:pt x="28" y="162"/>
                  </a:lnTo>
                  <a:lnTo>
                    <a:pt x="21" y="145"/>
                  </a:lnTo>
                  <a:lnTo>
                    <a:pt x="13" y="130"/>
                  </a:lnTo>
                  <a:lnTo>
                    <a:pt x="9" y="116"/>
                  </a:lnTo>
                  <a:lnTo>
                    <a:pt x="4" y="103"/>
                  </a:lnTo>
                  <a:lnTo>
                    <a:pt x="2" y="92"/>
                  </a:lnTo>
                  <a:lnTo>
                    <a:pt x="0" y="82"/>
                  </a:lnTo>
                  <a:lnTo>
                    <a:pt x="3" y="75"/>
                  </a:lnTo>
                  <a:lnTo>
                    <a:pt x="8" y="67"/>
                  </a:lnTo>
                  <a:lnTo>
                    <a:pt x="17" y="57"/>
                  </a:lnTo>
                  <a:lnTo>
                    <a:pt x="29" y="45"/>
                  </a:lnTo>
                  <a:lnTo>
                    <a:pt x="42" y="34"/>
                  </a:lnTo>
                  <a:lnTo>
                    <a:pt x="55" y="22"/>
                  </a:lnTo>
                  <a:lnTo>
                    <a:pt x="68" y="12"/>
                  </a:lnTo>
                  <a:lnTo>
                    <a:pt x="79" y="4"/>
                  </a:lnTo>
                  <a:lnTo>
                    <a:pt x="87" y="0"/>
                  </a:lnTo>
                  <a:lnTo>
                    <a:pt x="97" y="3"/>
                  </a:lnTo>
                  <a:lnTo>
                    <a:pt x="110" y="13"/>
                  </a:lnTo>
                  <a:lnTo>
                    <a:pt x="126" y="30"/>
                  </a:lnTo>
                  <a:lnTo>
                    <a:pt x="143" y="53"/>
                  </a:lnTo>
                  <a:lnTo>
                    <a:pt x="159" y="79"/>
                  </a:lnTo>
                  <a:lnTo>
                    <a:pt x="170" y="106"/>
                  </a:lnTo>
                  <a:lnTo>
                    <a:pt x="178" y="135"/>
                  </a:lnTo>
                  <a:lnTo>
                    <a:pt x="178" y="162"/>
                  </a:lnTo>
                  <a:lnTo>
                    <a:pt x="173" y="164"/>
                  </a:lnTo>
                  <a:lnTo>
                    <a:pt x="167" y="169"/>
                  </a:lnTo>
                  <a:lnTo>
                    <a:pt x="161" y="175"/>
                  </a:lnTo>
                  <a:lnTo>
                    <a:pt x="154" y="182"/>
                  </a:lnTo>
                  <a:lnTo>
                    <a:pt x="149" y="191"/>
                  </a:lnTo>
                  <a:lnTo>
                    <a:pt x="145" y="200"/>
                  </a:lnTo>
                  <a:lnTo>
                    <a:pt x="143" y="211"/>
                  </a:lnTo>
                  <a:lnTo>
                    <a:pt x="144" y="222"/>
                  </a:lnTo>
                  <a:lnTo>
                    <a:pt x="151" y="233"/>
                  </a:lnTo>
                  <a:lnTo>
                    <a:pt x="167" y="254"/>
                  </a:lnTo>
                  <a:lnTo>
                    <a:pt x="188" y="279"/>
                  </a:lnTo>
                  <a:lnTo>
                    <a:pt x="213" y="307"/>
                  </a:lnTo>
                  <a:lnTo>
                    <a:pt x="239" y="335"/>
                  </a:lnTo>
                  <a:lnTo>
                    <a:pt x="264" y="361"/>
                  </a:lnTo>
                  <a:lnTo>
                    <a:pt x="287" y="381"/>
                  </a:lnTo>
                  <a:lnTo>
                    <a:pt x="304" y="394"/>
                  </a:lnTo>
                  <a:lnTo>
                    <a:pt x="314" y="399"/>
                  </a:lnTo>
                  <a:lnTo>
                    <a:pt x="321" y="398"/>
                  </a:lnTo>
                  <a:lnTo>
                    <a:pt x="327" y="394"/>
                  </a:lnTo>
                  <a:lnTo>
                    <a:pt x="332" y="386"/>
                  </a:lnTo>
                  <a:lnTo>
                    <a:pt x="338" y="377"/>
                  </a:lnTo>
                  <a:lnTo>
                    <a:pt x="344" y="369"/>
                  </a:lnTo>
                  <a:lnTo>
                    <a:pt x="351" y="363"/>
                  </a:lnTo>
                  <a:lnTo>
                    <a:pt x="361" y="360"/>
                  </a:lnTo>
                  <a:lnTo>
                    <a:pt x="369" y="362"/>
                  </a:lnTo>
                  <a:lnTo>
                    <a:pt x="382" y="369"/>
                  </a:lnTo>
                  <a:lnTo>
                    <a:pt x="399" y="380"/>
                  </a:lnTo>
                  <a:lnTo>
                    <a:pt x="419" y="393"/>
                  </a:lnTo>
                  <a:lnTo>
                    <a:pt x="438" y="407"/>
                  </a:lnTo>
                  <a:lnTo>
                    <a:pt x="456" y="420"/>
                  </a:lnTo>
                  <a:lnTo>
                    <a:pt x="472" y="431"/>
                  </a:lnTo>
                  <a:lnTo>
                    <a:pt x="483" y="43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8640" y="4184640"/>
              <a:ext cx="23760" cy="5112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8" y="7"/>
                  </a:lnTo>
                  <a:lnTo>
                    <a:pt x="44" y="12"/>
                  </a:lnTo>
                  <a:lnTo>
                    <a:pt x="47" y="25"/>
                  </a:lnTo>
                  <a:lnTo>
                    <a:pt x="51" y="42"/>
                  </a:lnTo>
                  <a:lnTo>
                    <a:pt x="54" y="57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6" y="79"/>
                  </a:lnTo>
                  <a:lnTo>
                    <a:pt x="38" y="83"/>
                  </a:lnTo>
                  <a:lnTo>
                    <a:pt x="25" y="89"/>
                  </a:lnTo>
                  <a:lnTo>
                    <a:pt x="15" y="74"/>
                  </a:lnTo>
                  <a:lnTo>
                    <a:pt x="6" y="51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5480" y="4135680"/>
              <a:ext cx="68400" cy="590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155" y="93"/>
                  </a:moveTo>
                  <a:lnTo>
                    <a:pt x="145" y="90"/>
                  </a:lnTo>
                  <a:lnTo>
                    <a:pt x="128" y="84"/>
                  </a:lnTo>
                  <a:lnTo>
                    <a:pt x="107" y="74"/>
                  </a:lnTo>
                  <a:lnTo>
                    <a:pt x="82" y="62"/>
                  </a:lnTo>
                  <a:lnTo>
                    <a:pt x="57" y="49"/>
                  </a:lnTo>
                  <a:lnTo>
                    <a:pt x="34" y="34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6" y="30"/>
                  </a:lnTo>
                  <a:lnTo>
                    <a:pt x="32" y="46"/>
                  </a:lnTo>
                  <a:lnTo>
                    <a:pt x="52" y="61"/>
                  </a:lnTo>
                  <a:lnTo>
                    <a:pt x="75" y="75"/>
                  </a:lnTo>
                  <a:lnTo>
                    <a:pt x="101" y="87"/>
                  </a:lnTo>
                  <a:lnTo>
                    <a:pt x="128" y="97"/>
                  </a:lnTo>
                  <a:lnTo>
                    <a:pt x="155" y="103"/>
                  </a:lnTo>
                  <a:lnTo>
                    <a:pt x="155" y="9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4840" y="4165920"/>
              <a:ext cx="66960" cy="6768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138" y="63"/>
                  </a:moveTo>
                  <a:lnTo>
                    <a:pt x="130" y="62"/>
                  </a:lnTo>
                  <a:lnTo>
                    <a:pt x="116" y="61"/>
                  </a:lnTo>
                  <a:lnTo>
                    <a:pt x="96" y="57"/>
                  </a:lnTo>
                  <a:lnTo>
                    <a:pt x="76" y="51"/>
                  </a:lnTo>
                  <a:lnTo>
                    <a:pt x="55" y="43"/>
                  </a:lnTo>
                  <a:lnTo>
                    <a:pt x="33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3" y="42"/>
                  </a:lnTo>
                  <a:lnTo>
                    <a:pt x="19" y="65"/>
                  </a:lnTo>
                  <a:lnTo>
                    <a:pt x="25" y="83"/>
                  </a:lnTo>
                  <a:lnTo>
                    <a:pt x="33" y="89"/>
                  </a:lnTo>
                  <a:lnTo>
                    <a:pt x="44" y="96"/>
                  </a:lnTo>
                  <a:lnTo>
                    <a:pt x="57" y="102"/>
                  </a:lnTo>
                  <a:lnTo>
                    <a:pt x="72" y="109"/>
                  </a:lnTo>
                  <a:lnTo>
                    <a:pt x="88" y="114"/>
                  </a:lnTo>
                  <a:lnTo>
                    <a:pt x="107" y="118"/>
                  </a:lnTo>
                  <a:lnTo>
                    <a:pt x="129" y="119"/>
                  </a:lnTo>
                  <a:lnTo>
                    <a:pt x="152" y="118"/>
                  </a:lnTo>
                  <a:lnTo>
                    <a:pt x="148" y="107"/>
                  </a:lnTo>
                  <a:lnTo>
                    <a:pt x="142" y="92"/>
                  </a:lnTo>
                  <a:lnTo>
                    <a:pt x="138" y="75"/>
                  </a:lnTo>
                  <a:lnTo>
                    <a:pt x="13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9920" y="4052160"/>
              <a:ext cx="350280" cy="485640"/>
            </a:xfrm>
            <a:custGeom>
              <a:avLst/>
              <a:gdLst/>
              <a:ahLst/>
              <a:rect l="l" t="t" r="r" b="b"/>
              <a:pathLst>
                <a:path w="798" h="859">
                  <a:moveTo>
                    <a:pt x="496" y="773"/>
                  </a:moveTo>
                  <a:lnTo>
                    <a:pt x="481" y="764"/>
                  </a:lnTo>
                  <a:lnTo>
                    <a:pt x="464" y="754"/>
                  </a:lnTo>
                  <a:lnTo>
                    <a:pt x="446" y="746"/>
                  </a:lnTo>
                  <a:lnTo>
                    <a:pt x="427" y="739"/>
                  </a:lnTo>
                  <a:lnTo>
                    <a:pt x="408" y="731"/>
                  </a:lnTo>
                  <a:lnTo>
                    <a:pt x="388" y="726"/>
                  </a:lnTo>
                  <a:lnTo>
                    <a:pt x="367" y="721"/>
                  </a:lnTo>
                  <a:lnTo>
                    <a:pt x="345" y="717"/>
                  </a:lnTo>
                  <a:lnTo>
                    <a:pt x="323" y="715"/>
                  </a:lnTo>
                  <a:lnTo>
                    <a:pt x="300" y="714"/>
                  </a:lnTo>
                  <a:lnTo>
                    <a:pt x="276" y="714"/>
                  </a:lnTo>
                  <a:lnTo>
                    <a:pt x="252" y="715"/>
                  </a:lnTo>
                  <a:lnTo>
                    <a:pt x="227" y="718"/>
                  </a:lnTo>
                  <a:lnTo>
                    <a:pt x="201" y="722"/>
                  </a:lnTo>
                  <a:lnTo>
                    <a:pt x="175" y="728"/>
                  </a:lnTo>
                  <a:lnTo>
                    <a:pt x="149" y="735"/>
                  </a:lnTo>
                  <a:lnTo>
                    <a:pt x="110" y="742"/>
                  </a:lnTo>
                  <a:lnTo>
                    <a:pt x="76" y="739"/>
                  </a:lnTo>
                  <a:lnTo>
                    <a:pt x="48" y="727"/>
                  </a:lnTo>
                  <a:lnTo>
                    <a:pt x="27" y="708"/>
                  </a:lnTo>
                  <a:lnTo>
                    <a:pt x="12" y="683"/>
                  </a:lnTo>
                  <a:lnTo>
                    <a:pt x="3" y="654"/>
                  </a:lnTo>
                  <a:lnTo>
                    <a:pt x="0" y="623"/>
                  </a:lnTo>
                  <a:lnTo>
                    <a:pt x="4" y="592"/>
                  </a:lnTo>
                  <a:lnTo>
                    <a:pt x="11" y="562"/>
                  </a:lnTo>
                  <a:lnTo>
                    <a:pt x="18" y="536"/>
                  </a:lnTo>
                  <a:lnTo>
                    <a:pt x="25" y="511"/>
                  </a:lnTo>
                  <a:lnTo>
                    <a:pt x="32" y="487"/>
                  </a:lnTo>
                  <a:lnTo>
                    <a:pt x="41" y="466"/>
                  </a:lnTo>
                  <a:lnTo>
                    <a:pt x="49" y="445"/>
                  </a:lnTo>
                  <a:lnTo>
                    <a:pt x="57" y="423"/>
                  </a:lnTo>
                  <a:lnTo>
                    <a:pt x="67" y="402"/>
                  </a:lnTo>
                  <a:lnTo>
                    <a:pt x="76" y="380"/>
                  </a:lnTo>
                  <a:lnTo>
                    <a:pt x="86" y="360"/>
                  </a:lnTo>
                  <a:lnTo>
                    <a:pt x="95" y="340"/>
                  </a:lnTo>
                  <a:lnTo>
                    <a:pt x="103" y="321"/>
                  </a:lnTo>
                  <a:lnTo>
                    <a:pt x="110" y="301"/>
                  </a:lnTo>
                  <a:lnTo>
                    <a:pt x="113" y="279"/>
                  </a:lnTo>
                  <a:lnTo>
                    <a:pt x="116" y="259"/>
                  </a:lnTo>
                  <a:lnTo>
                    <a:pt x="116" y="236"/>
                  </a:lnTo>
                  <a:lnTo>
                    <a:pt x="115" y="213"/>
                  </a:lnTo>
                  <a:lnTo>
                    <a:pt x="113" y="186"/>
                  </a:lnTo>
                  <a:lnTo>
                    <a:pt x="116" y="159"/>
                  </a:lnTo>
                  <a:lnTo>
                    <a:pt x="119" y="132"/>
                  </a:lnTo>
                  <a:lnTo>
                    <a:pt x="126" y="105"/>
                  </a:lnTo>
                  <a:lnTo>
                    <a:pt x="136" y="82"/>
                  </a:lnTo>
                  <a:lnTo>
                    <a:pt x="150" y="60"/>
                  </a:lnTo>
                  <a:lnTo>
                    <a:pt x="168" y="44"/>
                  </a:lnTo>
                  <a:lnTo>
                    <a:pt x="187" y="29"/>
                  </a:lnTo>
                  <a:lnTo>
                    <a:pt x="205" y="17"/>
                  </a:lnTo>
                  <a:lnTo>
                    <a:pt x="223" y="8"/>
                  </a:lnTo>
                  <a:lnTo>
                    <a:pt x="241" y="2"/>
                  </a:lnTo>
                  <a:lnTo>
                    <a:pt x="260" y="0"/>
                  </a:lnTo>
                  <a:lnTo>
                    <a:pt x="280" y="1"/>
                  </a:lnTo>
                  <a:lnTo>
                    <a:pt x="302" y="7"/>
                  </a:lnTo>
                  <a:lnTo>
                    <a:pt x="329" y="17"/>
                  </a:lnTo>
                  <a:lnTo>
                    <a:pt x="353" y="32"/>
                  </a:lnTo>
                  <a:lnTo>
                    <a:pt x="374" y="46"/>
                  </a:lnTo>
                  <a:lnTo>
                    <a:pt x="390" y="61"/>
                  </a:lnTo>
                  <a:lnTo>
                    <a:pt x="403" y="77"/>
                  </a:lnTo>
                  <a:lnTo>
                    <a:pt x="414" y="94"/>
                  </a:lnTo>
                  <a:lnTo>
                    <a:pt x="424" y="110"/>
                  </a:lnTo>
                  <a:lnTo>
                    <a:pt x="432" y="126"/>
                  </a:lnTo>
                  <a:lnTo>
                    <a:pt x="440" y="142"/>
                  </a:lnTo>
                  <a:lnTo>
                    <a:pt x="449" y="159"/>
                  </a:lnTo>
                  <a:lnTo>
                    <a:pt x="456" y="176"/>
                  </a:lnTo>
                  <a:lnTo>
                    <a:pt x="463" y="195"/>
                  </a:lnTo>
                  <a:lnTo>
                    <a:pt x="470" y="214"/>
                  </a:lnTo>
                  <a:lnTo>
                    <a:pt x="476" y="234"/>
                  </a:lnTo>
                  <a:lnTo>
                    <a:pt x="483" y="254"/>
                  </a:lnTo>
                  <a:lnTo>
                    <a:pt x="488" y="274"/>
                  </a:lnTo>
                  <a:lnTo>
                    <a:pt x="494" y="296"/>
                  </a:lnTo>
                  <a:lnTo>
                    <a:pt x="502" y="339"/>
                  </a:lnTo>
                  <a:lnTo>
                    <a:pt x="510" y="390"/>
                  </a:lnTo>
                  <a:lnTo>
                    <a:pt x="514" y="448"/>
                  </a:lnTo>
                  <a:lnTo>
                    <a:pt x="513" y="512"/>
                  </a:lnTo>
                  <a:lnTo>
                    <a:pt x="503" y="514"/>
                  </a:lnTo>
                  <a:lnTo>
                    <a:pt x="495" y="514"/>
                  </a:lnTo>
                  <a:lnTo>
                    <a:pt x="488" y="514"/>
                  </a:lnTo>
                  <a:lnTo>
                    <a:pt x="482" y="512"/>
                  </a:lnTo>
                  <a:lnTo>
                    <a:pt x="475" y="512"/>
                  </a:lnTo>
                  <a:lnTo>
                    <a:pt x="469" y="511"/>
                  </a:lnTo>
                  <a:lnTo>
                    <a:pt x="462" y="510"/>
                  </a:lnTo>
                  <a:lnTo>
                    <a:pt x="453" y="510"/>
                  </a:lnTo>
                  <a:lnTo>
                    <a:pt x="430" y="509"/>
                  </a:lnTo>
                  <a:lnTo>
                    <a:pt x="412" y="505"/>
                  </a:lnTo>
                  <a:lnTo>
                    <a:pt x="400" y="502"/>
                  </a:lnTo>
                  <a:lnTo>
                    <a:pt x="393" y="496"/>
                  </a:lnTo>
                  <a:lnTo>
                    <a:pt x="389" y="489"/>
                  </a:lnTo>
                  <a:lnTo>
                    <a:pt x="389" y="479"/>
                  </a:lnTo>
                  <a:lnTo>
                    <a:pt x="390" y="467"/>
                  </a:lnTo>
                  <a:lnTo>
                    <a:pt x="395" y="453"/>
                  </a:lnTo>
                  <a:lnTo>
                    <a:pt x="397" y="435"/>
                  </a:lnTo>
                  <a:lnTo>
                    <a:pt x="397" y="415"/>
                  </a:lnTo>
                  <a:lnTo>
                    <a:pt x="395" y="392"/>
                  </a:lnTo>
                  <a:lnTo>
                    <a:pt x="392" y="367"/>
                  </a:lnTo>
                  <a:lnTo>
                    <a:pt x="386" y="343"/>
                  </a:lnTo>
                  <a:lnTo>
                    <a:pt x="380" y="321"/>
                  </a:lnTo>
                  <a:lnTo>
                    <a:pt x="374" y="298"/>
                  </a:lnTo>
                  <a:lnTo>
                    <a:pt x="368" y="279"/>
                  </a:lnTo>
                  <a:lnTo>
                    <a:pt x="362" y="259"/>
                  </a:lnTo>
                  <a:lnTo>
                    <a:pt x="352" y="234"/>
                  </a:lnTo>
                  <a:lnTo>
                    <a:pt x="343" y="207"/>
                  </a:lnTo>
                  <a:lnTo>
                    <a:pt x="331" y="179"/>
                  </a:lnTo>
                  <a:lnTo>
                    <a:pt x="319" y="155"/>
                  </a:lnTo>
                  <a:lnTo>
                    <a:pt x="307" y="136"/>
                  </a:lnTo>
                  <a:lnTo>
                    <a:pt x="296" y="125"/>
                  </a:lnTo>
                  <a:lnTo>
                    <a:pt x="287" y="123"/>
                  </a:lnTo>
                  <a:lnTo>
                    <a:pt x="280" y="128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7" y="153"/>
                  </a:lnTo>
                  <a:lnTo>
                    <a:pt x="282" y="165"/>
                  </a:lnTo>
                  <a:lnTo>
                    <a:pt x="288" y="177"/>
                  </a:lnTo>
                  <a:lnTo>
                    <a:pt x="294" y="189"/>
                  </a:lnTo>
                  <a:lnTo>
                    <a:pt x="302" y="202"/>
                  </a:lnTo>
                  <a:lnTo>
                    <a:pt x="311" y="215"/>
                  </a:lnTo>
                  <a:lnTo>
                    <a:pt x="320" y="229"/>
                  </a:lnTo>
                  <a:lnTo>
                    <a:pt x="330" y="246"/>
                  </a:lnTo>
                  <a:lnTo>
                    <a:pt x="338" y="265"/>
                  </a:lnTo>
                  <a:lnTo>
                    <a:pt x="345" y="288"/>
                  </a:lnTo>
                  <a:lnTo>
                    <a:pt x="350" y="315"/>
                  </a:lnTo>
                  <a:lnTo>
                    <a:pt x="351" y="346"/>
                  </a:lnTo>
                  <a:lnTo>
                    <a:pt x="349" y="384"/>
                  </a:lnTo>
                  <a:lnTo>
                    <a:pt x="343" y="368"/>
                  </a:lnTo>
                  <a:lnTo>
                    <a:pt x="333" y="351"/>
                  </a:lnTo>
                  <a:lnTo>
                    <a:pt x="321" y="329"/>
                  </a:lnTo>
                  <a:lnTo>
                    <a:pt x="308" y="307"/>
                  </a:lnTo>
                  <a:lnTo>
                    <a:pt x="293" y="284"/>
                  </a:lnTo>
                  <a:lnTo>
                    <a:pt x="279" y="261"/>
                  </a:lnTo>
                  <a:lnTo>
                    <a:pt x="263" y="241"/>
                  </a:lnTo>
                  <a:lnTo>
                    <a:pt x="250" y="222"/>
                  </a:lnTo>
                  <a:lnTo>
                    <a:pt x="236" y="209"/>
                  </a:lnTo>
                  <a:lnTo>
                    <a:pt x="220" y="199"/>
                  </a:lnTo>
                  <a:lnTo>
                    <a:pt x="205" y="196"/>
                  </a:lnTo>
                  <a:lnTo>
                    <a:pt x="191" y="196"/>
                  </a:lnTo>
                  <a:lnTo>
                    <a:pt x="181" y="198"/>
                  </a:lnTo>
                  <a:lnTo>
                    <a:pt x="175" y="203"/>
                  </a:lnTo>
                  <a:lnTo>
                    <a:pt x="176" y="209"/>
                  </a:lnTo>
                  <a:lnTo>
                    <a:pt x="185" y="216"/>
                  </a:lnTo>
                  <a:lnTo>
                    <a:pt x="199" y="226"/>
                  </a:lnTo>
                  <a:lnTo>
                    <a:pt x="216" y="240"/>
                  </a:lnTo>
                  <a:lnTo>
                    <a:pt x="233" y="258"/>
                  </a:lnTo>
                  <a:lnTo>
                    <a:pt x="254" y="280"/>
                  </a:lnTo>
                  <a:lnTo>
                    <a:pt x="273" y="308"/>
                  </a:lnTo>
                  <a:lnTo>
                    <a:pt x="292" y="342"/>
                  </a:lnTo>
                  <a:lnTo>
                    <a:pt x="311" y="384"/>
                  </a:lnTo>
                  <a:lnTo>
                    <a:pt x="329" y="432"/>
                  </a:lnTo>
                  <a:lnTo>
                    <a:pt x="329" y="443"/>
                  </a:lnTo>
                  <a:lnTo>
                    <a:pt x="327" y="453"/>
                  </a:lnTo>
                  <a:lnTo>
                    <a:pt x="324" y="460"/>
                  </a:lnTo>
                  <a:lnTo>
                    <a:pt x="319" y="465"/>
                  </a:lnTo>
                  <a:lnTo>
                    <a:pt x="314" y="453"/>
                  </a:lnTo>
                  <a:lnTo>
                    <a:pt x="306" y="436"/>
                  </a:lnTo>
                  <a:lnTo>
                    <a:pt x="295" y="416"/>
                  </a:lnTo>
                  <a:lnTo>
                    <a:pt x="283" y="393"/>
                  </a:lnTo>
                  <a:lnTo>
                    <a:pt x="269" y="370"/>
                  </a:lnTo>
                  <a:lnTo>
                    <a:pt x="255" y="348"/>
                  </a:lnTo>
                  <a:lnTo>
                    <a:pt x="242" y="329"/>
                  </a:lnTo>
                  <a:lnTo>
                    <a:pt x="229" y="315"/>
                  </a:lnTo>
                  <a:lnTo>
                    <a:pt x="217" y="304"/>
                  </a:lnTo>
                  <a:lnTo>
                    <a:pt x="204" y="296"/>
                  </a:lnTo>
                  <a:lnTo>
                    <a:pt x="192" y="290"/>
                  </a:lnTo>
                  <a:lnTo>
                    <a:pt x="180" y="288"/>
                  </a:lnTo>
                  <a:lnTo>
                    <a:pt x="170" y="288"/>
                  </a:lnTo>
                  <a:lnTo>
                    <a:pt x="162" y="290"/>
                  </a:lnTo>
                  <a:lnTo>
                    <a:pt x="158" y="296"/>
                  </a:lnTo>
                  <a:lnTo>
                    <a:pt x="158" y="304"/>
                  </a:lnTo>
                  <a:lnTo>
                    <a:pt x="162" y="314"/>
                  </a:lnTo>
                  <a:lnTo>
                    <a:pt x="168" y="323"/>
                  </a:lnTo>
                  <a:lnTo>
                    <a:pt x="174" y="333"/>
                  </a:lnTo>
                  <a:lnTo>
                    <a:pt x="182" y="342"/>
                  </a:lnTo>
                  <a:lnTo>
                    <a:pt x="192" y="352"/>
                  </a:lnTo>
                  <a:lnTo>
                    <a:pt x="201" y="360"/>
                  </a:lnTo>
                  <a:lnTo>
                    <a:pt x="211" y="367"/>
                  </a:lnTo>
                  <a:lnTo>
                    <a:pt x="222" y="374"/>
                  </a:lnTo>
                  <a:lnTo>
                    <a:pt x="232" y="383"/>
                  </a:lnTo>
                  <a:lnTo>
                    <a:pt x="244" y="396"/>
                  </a:lnTo>
                  <a:lnTo>
                    <a:pt x="256" y="410"/>
                  </a:lnTo>
                  <a:lnTo>
                    <a:pt x="268" y="427"/>
                  </a:lnTo>
                  <a:lnTo>
                    <a:pt x="280" y="443"/>
                  </a:lnTo>
                  <a:lnTo>
                    <a:pt x="289" y="460"/>
                  </a:lnTo>
                  <a:lnTo>
                    <a:pt x="298" y="474"/>
                  </a:lnTo>
                  <a:lnTo>
                    <a:pt x="304" y="485"/>
                  </a:lnTo>
                  <a:lnTo>
                    <a:pt x="277" y="484"/>
                  </a:lnTo>
                  <a:lnTo>
                    <a:pt x="251" y="489"/>
                  </a:lnTo>
                  <a:lnTo>
                    <a:pt x="225" y="498"/>
                  </a:lnTo>
                  <a:lnTo>
                    <a:pt x="201" y="511"/>
                  </a:lnTo>
                  <a:lnTo>
                    <a:pt x="179" y="528"/>
                  </a:lnTo>
                  <a:lnTo>
                    <a:pt x="160" y="546"/>
                  </a:lnTo>
                  <a:lnTo>
                    <a:pt x="142" y="564"/>
                  </a:lnTo>
                  <a:lnTo>
                    <a:pt x="128" y="582"/>
                  </a:lnTo>
                  <a:lnTo>
                    <a:pt x="120" y="593"/>
                  </a:lnTo>
                  <a:lnTo>
                    <a:pt x="118" y="605"/>
                  </a:lnTo>
                  <a:lnTo>
                    <a:pt x="118" y="615"/>
                  </a:lnTo>
                  <a:lnTo>
                    <a:pt x="122" y="622"/>
                  </a:lnTo>
                  <a:lnTo>
                    <a:pt x="129" y="624"/>
                  </a:lnTo>
                  <a:lnTo>
                    <a:pt x="138" y="622"/>
                  </a:lnTo>
                  <a:lnTo>
                    <a:pt x="151" y="614"/>
                  </a:lnTo>
                  <a:lnTo>
                    <a:pt x="166" y="597"/>
                  </a:lnTo>
                  <a:lnTo>
                    <a:pt x="170" y="589"/>
                  </a:lnTo>
                  <a:lnTo>
                    <a:pt x="178" y="578"/>
                  </a:lnTo>
                  <a:lnTo>
                    <a:pt x="187" y="565"/>
                  </a:lnTo>
                  <a:lnTo>
                    <a:pt x="201" y="552"/>
                  </a:lnTo>
                  <a:lnTo>
                    <a:pt x="224" y="539"/>
                  </a:lnTo>
                  <a:lnTo>
                    <a:pt x="254" y="527"/>
                  </a:lnTo>
                  <a:lnTo>
                    <a:pt x="294" y="518"/>
                  </a:lnTo>
                  <a:lnTo>
                    <a:pt x="348" y="515"/>
                  </a:lnTo>
                  <a:lnTo>
                    <a:pt x="361" y="521"/>
                  </a:lnTo>
                  <a:lnTo>
                    <a:pt x="380" y="526"/>
                  </a:lnTo>
                  <a:lnTo>
                    <a:pt x="402" y="529"/>
                  </a:lnTo>
                  <a:lnTo>
                    <a:pt x="428" y="532"/>
                  </a:lnTo>
                  <a:lnTo>
                    <a:pt x="456" y="534"/>
                  </a:lnTo>
                  <a:lnTo>
                    <a:pt x="483" y="535"/>
                  </a:lnTo>
                  <a:lnTo>
                    <a:pt x="509" y="535"/>
                  </a:lnTo>
                  <a:lnTo>
                    <a:pt x="534" y="534"/>
                  </a:lnTo>
                  <a:lnTo>
                    <a:pt x="548" y="532"/>
                  </a:lnTo>
                  <a:lnTo>
                    <a:pt x="563" y="529"/>
                  </a:lnTo>
                  <a:lnTo>
                    <a:pt x="579" y="526"/>
                  </a:lnTo>
                  <a:lnTo>
                    <a:pt x="595" y="522"/>
                  </a:lnTo>
                  <a:lnTo>
                    <a:pt x="610" y="518"/>
                  </a:lnTo>
                  <a:lnTo>
                    <a:pt x="627" y="514"/>
                  </a:lnTo>
                  <a:lnTo>
                    <a:pt x="641" y="510"/>
                  </a:lnTo>
                  <a:lnTo>
                    <a:pt x="655" y="507"/>
                  </a:lnTo>
                  <a:lnTo>
                    <a:pt x="671" y="509"/>
                  </a:lnTo>
                  <a:lnTo>
                    <a:pt x="684" y="510"/>
                  </a:lnTo>
                  <a:lnTo>
                    <a:pt x="695" y="510"/>
                  </a:lnTo>
                  <a:lnTo>
                    <a:pt x="705" y="509"/>
                  </a:lnTo>
                  <a:lnTo>
                    <a:pt x="714" y="507"/>
                  </a:lnTo>
                  <a:lnTo>
                    <a:pt x="720" y="503"/>
                  </a:lnTo>
                  <a:lnTo>
                    <a:pt x="726" y="499"/>
                  </a:lnTo>
                  <a:lnTo>
                    <a:pt x="730" y="493"/>
                  </a:lnTo>
                  <a:lnTo>
                    <a:pt x="735" y="492"/>
                  </a:lnTo>
                  <a:lnTo>
                    <a:pt x="740" y="491"/>
                  </a:lnTo>
                  <a:lnTo>
                    <a:pt x="745" y="490"/>
                  </a:lnTo>
                  <a:lnTo>
                    <a:pt x="751" y="489"/>
                  </a:lnTo>
                  <a:lnTo>
                    <a:pt x="755" y="489"/>
                  </a:lnTo>
                  <a:lnTo>
                    <a:pt x="760" y="490"/>
                  </a:lnTo>
                  <a:lnTo>
                    <a:pt x="765" y="491"/>
                  </a:lnTo>
                  <a:lnTo>
                    <a:pt x="770" y="493"/>
                  </a:lnTo>
                  <a:lnTo>
                    <a:pt x="741" y="549"/>
                  </a:lnTo>
                  <a:lnTo>
                    <a:pt x="727" y="606"/>
                  </a:lnTo>
                  <a:lnTo>
                    <a:pt x="726" y="661"/>
                  </a:lnTo>
                  <a:lnTo>
                    <a:pt x="733" y="712"/>
                  </a:lnTo>
                  <a:lnTo>
                    <a:pt x="747" y="759"/>
                  </a:lnTo>
                  <a:lnTo>
                    <a:pt x="764" y="799"/>
                  </a:lnTo>
                  <a:lnTo>
                    <a:pt x="783" y="829"/>
                  </a:lnTo>
                  <a:lnTo>
                    <a:pt x="798" y="849"/>
                  </a:lnTo>
                  <a:lnTo>
                    <a:pt x="787" y="854"/>
                  </a:lnTo>
                  <a:lnTo>
                    <a:pt x="776" y="856"/>
                  </a:lnTo>
                  <a:lnTo>
                    <a:pt x="761" y="859"/>
                  </a:lnTo>
                  <a:lnTo>
                    <a:pt x="746" y="859"/>
                  </a:lnTo>
                  <a:lnTo>
                    <a:pt x="728" y="859"/>
                  </a:lnTo>
                  <a:lnTo>
                    <a:pt x="710" y="856"/>
                  </a:lnTo>
                  <a:lnTo>
                    <a:pt x="691" y="854"/>
                  </a:lnTo>
                  <a:lnTo>
                    <a:pt x="671" y="849"/>
                  </a:lnTo>
                  <a:lnTo>
                    <a:pt x="650" y="845"/>
                  </a:lnTo>
                  <a:lnTo>
                    <a:pt x="628" y="837"/>
                  </a:lnTo>
                  <a:lnTo>
                    <a:pt x="606" y="830"/>
                  </a:lnTo>
                  <a:lnTo>
                    <a:pt x="583" y="821"/>
                  </a:lnTo>
                  <a:lnTo>
                    <a:pt x="562" y="811"/>
                  </a:lnTo>
                  <a:lnTo>
                    <a:pt x="539" y="799"/>
                  </a:lnTo>
                  <a:lnTo>
                    <a:pt x="518" y="787"/>
                  </a:lnTo>
                  <a:lnTo>
                    <a:pt x="496" y="77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6720" y="4221720"/>
              <a:ext cx="85680" cy="11880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21" y="210"/>
                  </a:moveTo>
                  <a:lnTo>
                    <a:pt x="40" y="208"/>
                  </a:lnTo>
                  <a:lnTo>
                    <a:pt x="57" y="207"/>
                  </a:lnTo>
                  <a:lnTo>
                    <a:pt x="74" y="204"/>
                  </a:lnTo>
                  <a:lnTo>
                    <a:pt x="91" y="202"/>
                  </a:lnTo>
                  <a:lnTo>
                    <a:pt x="105" y="200"/>
                  </a:lnTo>
                  <a:lnTo>
                    <a:pt x="117" y="198"/>
                  </a:lnTo>
                  <a:lnTo>
                    <a:pt x="128" y="196"/>
                  </a:lnTo>
                  <a:lnTo>
                    <a:pt x="136" y="195"/>
                  </a:lnTo>
                  <a:lnTo>
                    <a:pt x="124" y="179"/>
                  </a:lnTo>
                  <a:lnTo>
                    <a:pt x="124" y="165"/>
                  </a:lnTo>
                  <a:lnTo>
                    <a:pt x="130" y="153"/>
                  </a:lnTo>
                  <a:lnTo>
                    <a:pt x="137" y="146"/>
                  </a:lnTo>
                  <a:lnTo>
                    <a:pt x="141" y="145"/>
                  </a:lnTo>
                  <a:lnTo>
                    <a:pt x="145" y="142"/>
                  </a:lnTo>
                  <a:lnTo>
                    <a:pt x="151" y="142"/>
                  </a:lnTo>
                  <a:lnTo>
                    <a:pt x="158" y="142"/>
                  </a:lnTo>
                  <a:lnTo>
                    <a:pt x="167" y="142"/>
                  </a:lnTo>
                  <a:lnTo>
                    <a:pt x="174" y="145"/>
                  </a:lnTo>
                  <a:lnTo>
                    <a:pt x="182" y="148"/>
                  </a:lnTo>
                  <a:lnTo>
                    <a:pt x="189" y="153"/>
                  </a:lnTo>
                  <a:lnTo>
                    <a:pt x="194" y="134"/>
                  </a:lnTo>
                  <a:lnTo>
                    <a:pt x="195" y="114"/>
                  </a:lnTo>
                  <a:lnTo>
                    <a:pt x="193" y="96"/>
                  </a:lnTo>
                  <a:lnTo>
                    <a:pt x="189" y="78"/>
                  </a:lnTo>
                  <a:lnTo>
                    <a:pt x="182" y="63"/>
                  </a:lnTo>
                  <a:lnTo>
                    <a:pt x="176" y="5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4" y="37"/>
                  </a:lnTo>
                  <a:lnTo>
                    <a:pt x="145" y="37"/>
                  </a:lnTo>
                  <a:lnTo>
                    <a:pt x="137" y="34"/>
                  </a:lnTo>
                  <a:lnTo>
                    <a:pt x="130" y="29"/>
                  </a:lnTo>
                  <a:lnTo>
                    <a:pt x="119" y="31"/>
                  </a:lnTo>
                  <a:lnTo>
                    <a:pt x="105" y="31"/>
                  </a:lnTo>
                  <a:lnTo>
                    <a:pt x="90" y="29"/>
                  </a:lnTo>
                  <a:lnTo>
                    <a:pt x="73" y="28"/>
                  </a:lnTo>
                  <a:lnTo>
                    <a:pt x="55" y="25"/>
                  </a:lnTo>
                  <a:lnTo>
                    <a:pt x="37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10" y="39"/>
                  </a:lnTo>
                  <a:lnTo>
                    <a:pt x="19" y="94"/>
                  </a:lnTo>
                  <a:lnTo>
                    <a:pt x="23" y="154"/>
                  </a:lnTo>
                  <a:lnTo>
                    <a:pt x="21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4680" y="4237200"/>
              <a:ext cx="36720" cy="96480"/>
            </a:xfrm>
            <a:custGeom>
              <a:avLst/>
              <a:gdLst/>
              <a:ahLst/>
              <a:rect l="l" t="t" r="r" b="b"/>
              <a:pathLst>
                <a:path w="84" h="170">
                  <a:moveTo>
                    <a:pt x="44" y="5"/>
                  </a:moveTo>
                  <a:lnTo>
                    <a:pt x="50" y="15"/>
                  </a:lnTo>
                  <a:lnTo>
                    <a:pt x="57" y="28"/>
                  </a:lnTo>
                  <a:lnTo>
                    <a:pt x="62" y="43"/>
                  </a:lnTo>
                  <a:lnTo>
                    <a:pt x="67" y="59"/>
                  </a:lnTo>
                  <a:lnTo>
                    <a:pt x="70" y="76"/>
                  </a:lnTo>
                  <a:lnTo>
                    <a:pt x="72" y="95"/>
                  </a:lnTo>
                  <a:lnTo>
                    <a:pt x="72" y="114"/>
                  </a:lnTo>
                  <a:lnTo>
                    <a:pt x="68" y="133"/>
                  </a:lnTo>
                  <a:lnTo>
                    <a:pt x="65" y="141"/>
                  </a:lnTo>
                  <a:lnTo>
                    <a:pt x="57" y="150"/>
                  </a:lnTo>
                  <a:lnTo>
                    <a:pt x="48" y="156"/>
                  </a:lnTo>
                  <a:lnTo>
                    <a:pt x="34" y="157"/>
                  </a:lnTo>
                  <a:lnTo>
                    <a:pt x="23" y="155"/>
                  </a:lnTo>
                  <a:lnTo>
                    <a:pt x="12" y="149"/>
                  </a:lnTo>
                  <a:lnTo>
                    <a:pt x="4" y="141"/>
                  </a:lnTo>
                  <a:lnTo>
                    <a:pt x="2" y="132"/>
                  </a:lnTo>
                  <a:lnTo>
                    <a:pt x="0" y="145"/>
                  </a:lnTo>
                  <a:lnTo>
                    <a:pt x="5" y="157"/>
                  </a:lnTo>
                  <a:lnTo>
                    <a:pt x="13" y="166"/>
                  </a:lnTo>
                  <a:lnTo>
                    <a:pt x="25" y="170"/>
                  </a:lnTo>
                  <a:lnTo>
                    <a:pt x="32" y="170"/>
                  </a:lnTo>
                  <a:lnTo>
                    <a:pt x="41" y="170"/>
                  </a:lnTo>
                  <a:lnTo>
                    <a:pt x="48" y="168"/>
                  </a:lnTo>
                  <a:lnTo>
                    <a:pt x="56" y="165"/>
                  </a:lnTo>
                  <a:lnTo>
                    <a:pt x="63" y="160"/>
                  </a:lnTo>
                  <a:lnTo>
                    <a:pt x="69" y="155"/>
                  </a:lnTo>
                  <a:lnTo>
                    <a:pt x="74" y="147"/>
                  </a:lnTo>
                  <a:lnTo>
                    <a:pt x="78" y="138"/>
                  </a:lnTo>
                  <a:lnTo>
                    <a:pt x="80" y="130"/>
                  </a:lnTo>
                  <a:lnTo>
                    <a:pt x="82" y="118"/>
                  </a:lnTo>
                  <a:lnTo>
                    <a:pt x="84" y="103"/>
                  </a:lnTo>
                  <a:lnTo>
                    <a:pt x="84" y="87"/>
                  </a:lnTo>
                  <a:lnTo>
                    <a:pt x="82" y="68"/>
                  </a:lnTo>
                  <a:lnTo>
                    <a:pt x="78" y="47"/>
                  </a:lnTo>
                  <a:lnTo>
                    <a:pt x="69" y="24"/>
                  </a:lnTo>
                  <a:lnTo>
                    <a:pt x="56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0080" y="4307040"/>
              <a:ext cx="19440" cy="133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6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1" y="16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5" y="10"/>
                  </a:lnTo>
                  <a:lnTo>
                    <a:pt x="42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3480" y="4159080"/>
              <a:ext cx="31320" cy="65880"/>
            </a:xfrm>
            <a:custGeom>
              <a:avLst/>
              <a:gdLst/>
              <a:ahLst/>
              <a:rect l="l" t="t" r="r" b="b"/>
              <a:pathLst>
                <a:path w="73" h="119">
                  <a:moveTo>
                    <a:pt x="0" y="56"/>
                  </a:moveTo>
                  <a:lnTo>
                    <a:pt x="7" y="53"/>
                  </a:lnTo>
                  <a:lnTo>
                    <a:pt x="15" y="50"/>
                  </a:lnTo>
                  <a:lnTo>
                    <a:pt x="26" y="45"/>
                  </a:lnTo>
                  <a:lnTo>
                    <a:pt x="36" y="39"/>
                  </a:lnTo>
                  <a:lnTo>
                    <a:pt x="47" y="32"/>
                  </a:lnTo>
                  <a:lnTo>
                    <a:pt x="57" y="23"/>
                  </a:lnTo>
                  <a:lnTo>
                    <a:pt x="66" y="13"/>
                  </a:lnTo>
                  <a:lnTo>
                    <a:pt x="73" y="0"/>
                  </a:lnTo>
                  <a:lnTo>
                    <a:pt x="72" y="19"/>
                  </a:lnTo>
                  <a:lnTo>
                    <a:pt x="72" y="44"/>
                  </a:lnTo>
                  <a:lnTo>
                    <a:pt x="71" y="66"/>
                  </a:lnTo>
                  <a:lnTo>
                    <a:pt x="70" y="82"/>
                  </a:lnTo>
                  <a:lnTo>
                    <a:pt x="61" y="88"/>
                  </a:lnTo>
                  <a:lnTo>
                    <a:pt x="53" y="94"/>
                  </a:lnTo>
                  <a:lnTo>
                    <a:pt x="45" y="100"/>
                  </a:lnTo>
                  <a:lnTo>
                    <a:pt x="36" y="106"/>
                  </a:lnTo>
                  <a:lnTo>
                    <a:pt x="28" y="110"/>
                  </a:lnTo>
                  <a:lnTo>
                    <a:pt x="21" y="114"/>
                  </a:lnTo>
                  <a:lnTo>
                    <a:pt x="14" y="117"/>
                  </a:lnTo>
                  <a:lnTo>
                    <a:pt x="9" y="119"/>
                  </a:lnTo>
                  <a:lnTo>
                    <a:pt x="9" y="104"/>
                  </a:lnTo>
                  <a:lnTo>
                    <a:pt x="7" y="85"/>
                  </a:lnTo>
                  <a:lnTo>
                    <a:pt x="3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7440" y="4211640"/>
              <a:ext cx="32760" cy="111960"/>
            </a:xfrm>
            <a:custGeom>
              <a:avLst/>
              <a:gdLst/>
              <a:ahLst/>
              <a:rect l="l" t="t" r="r" b="b"/>
              <a:pathLst>
                <a:path w="77" h="196">
                  <a:moveTo>
                    <a:pt x="61" y="0"/>
                  </a:moveTo>
                  <a:lnTo>
                    <a:pt x="61" y="31"/>
                  </a:lnTo>
                  <a:lnTo>
                    <a:pt x="61" y="80"/>
                  </a:lnTo>
                  <a:lnTo>
                    <a:pt x="65" y="137"/>
                  </a:lnTo>
                  <a:lnTo>
                    <a:pt x="77" y="190"/>
                  </a:lnTo>
                  <a:lnTo>
                    <a:pt x="68" y="196"/>
                  </a:lnTo>
                  <a:lnTo>
                    <a:pt x="64" y="195"/>
                  </a:lnTo>
                  <a:lnTo>
                    <a:pt x="58" y="193"/>
                  </a:lnTo>
                  <a:lnTo>
                    <a:pt x="51" y="191"/>
                  </a:lnTo>
                  <a:lnTo>
                    <a:pt x="43" y="190"/>
                  </a:lnTo>
                  <a:lnTo>
                    <a:pt x="33" y="190"/>
                  </a:lnTo>
                  <a:lnTo>
                    <a:pt x="25" y="191"/>
                  </a:lnTo>
                  <a:lnTo>
                    <a:pt x="17" y="193"/>
                  </a:lnTo>
                  <a:lnTo>
                    <a:pt x="8" y="195"/>
                  </a:lnTo>
                  <a:lnTo>
                    <a:pt x="18" y="171"/>
                  </a:lnTo>
                  <a:lnTo>
                    <a:pt x="20" y="133"/>
                  </a:lnTo>
                  <a:lnTo>
                    <a:pt x="14" y="8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7" y="30"/>
                  </a:lnTo>
                  <a:lnTo>
                    <a:pt x="14" y="27"/>
                  </a:lnTo>
                  <a:lnTo>
                    <a:pt x="21" y="24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5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4320" y="4206960"/>
              <a:ext cx="48600" cy="7452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110" y="91"/>
                  </a:moveTo>
                  <a:lnTo>
                    <a:pt x="104" y="91"/>
                  </a:lnTo>
                  <a:lnTo>
                    <a:pt x="97" y="89"/>
                  </a:lnTo>
                  <a:lnTo>
                    <a:pt x="91" y="87"/>
                  </a:lnTo>
                  <a:lnTo>
                    <a:pt x="85" y="85"/>
                  </a:lnTo>
                  <a:lnTo>
                    <a:pt x="81" y="81"/>
                  </a:lnTo>
                  <a:lnTo>
                    <a:pt x="76" y="76"/>
                  </a:lnTo>
                  <a:lnTo>
                    <a:pt x="74" y="70"/>
                  </a:lnTo>
                  <a:lnTo>
                    <a:pt x="71" y="63"/>
                  </a:lnTo>
                  <a:lnTo>
                    <a:pt x="66" y="49"/>
                  </a:lnTo>
                  <a:lnTo>
                    <a:pt x="60" y="37"/>
                  </a:lnTo>
                  <a:lnTo>
                    <a:pt x="53" y="26"/>
                  </a:lnTo>
                  <a:lnTo>
                    <a:pt x="44" y="17"/>
                  </a:lnTo>
                  <a:lnTo>
                    <a:pt x="35" y="11"/>
                  </a:lnTo>
                  <a:lnTo>
                    <a:pt x="26" y="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" y="23"/>
                  </a:lnTo>
                  <a:lnTo>
                    <a:pt x="18" y="32"/>
                  </a:lnTo>
                  <a:lnTo>
                    <a:pt x="27" y="41"/>
                  </a:lnTo>
                  <a:lnTo>
                    <a:pt x="35" y="52"/>
                  </a:lnTo>
                  <a:lnTo>
                    <a:pt x="40" y="66"/>
                  </a:lnTo>
                  <a:lnTo>
                    <a:pt x="40" y="76"/>
                  </a:lnTo>
                  <a:lnTo>
                    <a:pt x="39" y="88"/>
                  </a:lnTo>
                  <a:lnTo>
                    <a:pt x="39" y="104"/>
                  </a:lnTo>
                  <a:lnTo>
                    <a:pt x="41" y="120"/>
                  </a:lnTo>
                  <a:lnTo>
                    <a:pt x="50" y="133"/>
                  </a:lnTo>
                  <a:lnTo>
                    <a:pt x="54" y="127"/>
                  </a:lnTo>
                  <a:lnTo>
                    <a:pt x="60" y="121"/>
                  </a:lnTo>
                  <a:lnTo>
                    <a:pt x="68" y="114"/>
                  </a:lnTo>
                  <a:lnTo>
                    <a:pt x="76" y="108"/>
                  </a:lnTo>
                  <a:lnTo>
                    <a:pt x="85" y="102"/>
                  </a:lnTo>
                  <a:lnTo>
                    <a:pt x="94" y="98"/>
                  </a:lnTo>
                  <a:lnTo>
                    <a:pt x="102" y="93"/>
                  </a:lnTo>
                  <a:lnTo>
                    <a:pt x="110" y="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1440" y="4255920"/>
              <a:ext cx="84240" cy="75960"/>
            </a:xfrm>
            <a:custGeom>
              <a:avLst/>
              <a:gdLst/>
              <a:ahLst/>
              <a:rect l="l" t="t" r="r" b="b"/>
              <a:pathLst>
                <a:path w="193" h="134">
                  <a:moveTo>
                    <a:pt x="193" y="23"/>
                  </a:moveTo>
                  <a:lnTo>
                    <a:pt x="190" y="18"/>
                  </a:lnTo>
                  <a:lnTo>
                    <a:pt x="186" y="15"/>
                  </a:lnTo>
                  <a:lnTo>
                    <a:pt x="182" y="10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36" y="5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2" y="19"/>
                  </a:lnTo>
                  <a:lnTo>
                    <a:pt x="91" y="25"/>
                  </a:lnTo>
                  <a:lnTo>
                    <a:pt x="83" y="31"/>
                  </a:lnTo>
                  <a:lnTo>
                    <a:pt x="75" y="36"/>
                  </a:lnTo>
                  <a:lnTo>
                    <a:pt x="69" y="42"/>
                  </a:lnTo>
                  <a:lnTo>
                    <a:pt x="63" y="49"/>
                  </a:lnTo>
                  <a:lnTo>
                    <a:pt x="53" y="60"/>
                  </a:lnTo>
                  <a:lnTo>
                    <a:pt x="42" y="72"/>
                  </a:lnTo>
                  <a:lnTo>
                    <a:pt x="32" y="85"/>
                  </a:lnTo>
                  <a:lnTo>
                    <a:pt x="21" y="98"/>
                  </a:lnTo>
                  <a:lnTo>
                    <a:pt x="12" y="110"/>
                  </a:lnTo>
                  <a:lnTo>
                    <a:pt x="4" y="119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6" y="130"/>
                  </a:lnTo>
                  <a:lnTo>
                    <a:pt x="8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5" y="132"/>
                  </a:lnTo>
                  <a:lnTo>
                    <a:pt x="34" y="129"/>
                  </a:lnTo>
                  <a:lnTo>
                    <a:pt x="45" y="124"/>
                  </a:lnTo>
                  <a:lnTo>
                    <a:pt x="42" y="119"/>
                  </a:lnTo>
                  <a:lnTo>
                    <a:pt x="40" y="116"/>
                  </a:lnTo>
                  <a:lnTo>
                    <a:pt x="39" y="110"/>
                  </a:lnTo>
                  <a:lnTo>
                    <a:pt x="41" y="104"/>
                  </a:lnTo>
                  <a:lnTo>
                    <a:pt x="46" y="97"/>
                  </a:lnTo>
                  <a:lnTo>
                    <a:pt x="56" y="90"/>
                  </a:lnTo>
                  <a:lnTo>
                    <a:pt x="71" y="80"/>
                  </a:lnTo>
                  <a:lnTo>
                    <a:pt x="94" y="71"/>
                  </a:lnTo>
                  <a:lnTo>
                    <a:pt x="104" y="66"/>
                  </a:lnTo>
                  <a:lnTo>
                    <a:pt x="114" y="60"/>
                  </a:lnTo>
                  <a:lnTo>
                    <a:pt x="126" y="54"/>
                  </a:lnTo>
                  <a:lnTo>
                    <a:pt x="136" y="47"/>
                  </a:lnTo>
                  <a:lnTo>
                    <a:pt x="149" y="41"/>
                  </a:lnTo>
                  <a:lnTo>
                    <a:pt x="163" y="34"/>
                  </a:lnTo>
                  <a:lnTo>
                    <a:pt x="177" y="28"/>
                  </a:lnTo>
                  <a:lnTo>
                    <a:pt x="193" y="2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2680" y="4273200"/>
              <a:ext cx="90720" cy="5400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8" y="14"/>
                  </a:moveTo>
                  <a:lnTo>
                    <a:pt x="204" y="12"/>
                  </a:lnTo>
                  <a:lnTo>
                    <a:pt x="199" y="8"/>
                  </a:lnTo>
                  <a:lnTo>
                    <a:pt x="193" y="4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4" y="3"/>
                  </a:lnTo>
                  <a:lnTo>
                    <a:pt x="143" y="7"/>
                  </a:lnTo>
                  <a:lnTo>
                    <a:pt x="131" y="12"/>
                  </a:lnTo>
                  <a:lnTo>
                    <a:pt x="118" y="18"/>
                  </a:lnTo>
                  <a:lnTo>
                    <a:pt x="106" y="24"/>
                  </a:lnTo>
                  <a:lnTo>
                    <a:pt x="93" y="29"/>
                  </a:lnTo>
                  <a:lnTo>
                    <a:pt x="82" y="35"/>
                  </a:lnTo>
                  <a:lnTo>
                    <a:pt x="72" y="40"/>
                  </a:lnTo>
                  <a:lnTo>
                    <a:pt x="63" y="45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0" y="58"/>
                  </a:lnTo>
                  <a:lnTo>
                    <a:pt x="18" y="64"/>
                  </a:lnTo>
                  <a:lnTo>
                    <a:pt x="7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95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2" y="95"/>
                  </a:lnTo>
                  <a:lnTo>
                    <a:pt x="42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4" y="94"/>
                  </a:lnTo>
                  <a:lnTo>
                    <a:pt x="83" y="83"/>
                  </a:lnTo>
                  <a:lnTo>
                    <a:pt x="104" y="70"/>
                  </a:lnTo>
                  <a:lnTo>
                    <a:pt x="124" y="57"/>
                  </a:lnTo>
                  <a:lnTo>
                    <a:pt x="143" y="44"/>
                  </a:lnTo>
                  <a:lnTo>
                    <a:pt x="162" y="32"/>
                  </a:lnTo>
                  <a:lnTo>
                    <a:pt x="180" y="22"/>
                  </a:lnTo>
                  <a:lnTo>
                    <a:pt x="195" y="16"/>
                  </a:lnTo>
                  <a:lnTo>
                    <a:pt x="208" y="14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9480" y="4291560"/>
              <a:ext cx="72360" cy="7452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0" y="10"/>
                  </a:moveTo>
                  <a:lnTo>
                    <a:pt x="7" y="8"/>
                  </a:lnTo>
                  <a:lnTo>
                    <a:pt x="17" y="6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90" y="14"/>
                  </a:lnTo>
                  <a:lnTo>
                    <a:pt x="102" y="28"/>
                  </a:lnTo>
                  <a:lnTo>
                    <a:pt x="113" y="43"/>
                  </a:lnTo>
                  <a:lnTo>
                    <a:pt x="124" y="61"/>
                  </a:lnTo>
                  <a:lnTo>
                    <a:pt x="133" y="80"/>
                  </a:lnTo>
                  <a:lnTo>
                    <a:pt x="143" y="98"/>
                  </a:lnTo>
                  <a:lnTo>
                    <a:pt x="153" y="115"/>
                  </a:lnTo>
                  <a:lnTo>
                    <a:pt x="166" y="130"/>
                  </a:lnTo>
                  <a:lnTo>
                    <a:pt x="162" y="131"/>
                  </a:lnTo>
                  <a:lnTo>
                    <a:pt x="156" y="131"/>
                  </a:lnTo>
                  <a:lnTo>
                    <a:pt x="150" y="129"/>
                  </a:lnTo>
                  <a:lnTo>
                    <a:pt x="143" y="127"/>
                  </a:lnTo>
                  <a:lnTo>
                    <a:pt x="135" y="122"/>
                  </a:lnTo>
                  <a:lnTo>
                    <a:pt x="129" y="116"/>
                  </a:lnTo>
                  <a:lnTo>
                    <a:pt x="125" y="108"/>
                  </a:lnTo>
                  <a:lnTo>
                    <a:pt x="121" y="98"/>
                  </a:lnTo>
                  <a:lnTo>
                    <a:pt x="116" y="96"/>
                  </a:lnTo>
                  <a:lnTo>
                    <a:pt x="110" y="92"/>
                  </a:lnTo>
                  <a:lnTo>
                    <a:pt x="105" y="87"/>
                  </a:lnTo>
                  <a:lnTo>
                    <a:pt x="99" y="83"/>
                  </a:lnTo>
                  <a:lnTo>
                    <a:pt x="91" y="78"/>
                  </a:lnTo>
                  <a:lnTo>
                    <a:pt x="86" y="73"/>
                  </a:lnTo>
                  <a:lnTo>
                    <a:pt x="82" y="68"/>
                  </a:lnTo>
                  <a:lnTo>
                    <a:pt x="78" y="66"/>
                  </a:lnTo>
                  <a:lnTo>
                    <a:pt x="71" y="48"/>
                  </a:lnTo>
                  <a:lnTo>
                    <a:pt x="63" y="35"/>
                  </a:lnTo>
                  <a:lnTo>
                    <a:pt x="53" y="25"/>
                  </a:lnTo>
                  <a:lnTo>
                    <a:pt x="44" y="19"/>
                  </a:lnTo>
                  <a:lnTo>
                    <a:pt x="34" y="16"/>
                  </a:lnTo>
                  <a:lnTo>
                    <a:pt x="22" y="14"/>
                  </a:lnTo>
                  <a:lnTo>
                    <a:pt x="1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2360" y="4303440"/>
              <a:ext cx="35280" cy="103320"/>
            </a:xfrm>
            <a:custGeom>
              <a:avLst/>
              <a:gdLst/>
              <a:ahLst/>
              <a:rect l="l" t="t" r="r" b="b"/>
              <a:pathLst>
                <a:path w="79" h="18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50" y="17"/>
                  </a:lnTo>
                  <a:lnTo>
                    <a:pt x="58" y="39"/>
                  </a:lnTo>
                  <a:lnTo>
                    <a:pt x="68" y="75"/>
                  </a:lnTo>
                  <a:lnTo>
                    <a:pt x="76" y="110"/>
                  </a:lnTo>
                  <a:lnTo>
                    <a:pt x="79" y="133"/>
                  </a:lnTo>
                  <a:lnTo>
                    <a:pt x="76" y="139"/>
                  </a:lnTo>
                  <a:lnTo>
                    <a:pt x="73" y="145"/>
                  </a:lnTo>
                  <a:lnTo>
                    <a:pt x="68" y="151"/>
                  </a:lnTo>
                  <a:lnTo>
                    <a:pt x="62" y="158"/>
                  </a:lnTo>
                  <a:lnTo>
                    <a:pt x="56" y="165"/>
                  </a:lnTo>
                  <a:lnTo>
                    <a:pt x="51" y="171"/>
                  </a:lnTo>
                  <a:lnTo>
                    <a:pt x="46" y="177"/>
                  </a:lnTo>
                  <a:lnTo>
                    <a:pt x="43" y="183"/>
                  </a:lnTo>
                  <a:lnTo>
                    <a:pt x="39" y="172"/>
                  </a:lnTo>
                  <a:lnTo>
                    <a:pt x="38" y="156"/>
                  </a:lnTo>
                  <a:lnTo>
                    <a:pt x="40" y="139"/>
                  </a:lnTo>
                  <a:lnTo>
                    <a:pt x="50" y="126"/>
                  </a:lnTo>
                  <a:lnTo>
                    <a:pt x="44" y="116"/>
                  </a:lnTo>
                  <a:lnTo>
                    <a:pt x="39" y="102"/>
                  </a:lnTo>
                  <a:lnTo>
                    <a:pt x="36" y="85"/>
                  </a:lnTo>
                  <a:lnTo>
                    <a:pt x="35" y="65"/>
                  </a:lnTo>
                  <a:lnTo>
                    <a:pt x="35" y="58"/>
                  </a:lnTo>
                  <a:lnTo>
                    <a:pt x="35" y="51"/>
                  </a:lnTo>
                  <a:lnTo>
                    <a:pt x="35" y="42"/>
                  </a:lnTo>
                  <a:lnTo>
                    <a:pt x="32" y="34"/>
                  </a:lnTo>
                  <a:lnTo>
                    <a:pt x="29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2880" y="4279680"/>
              <a:ext cx="171360" cy="144360"/>
            </a:xfrm>
            <a:custGeom>
              <a:avLst/>
              <a:gdLst/>
              <a:ahLst/>
              <a:rect l="l" t="t" r="r" b="b"/>
              <a:pathLst>
                <a:path w="390" h="256">
                  <a:moveTo>
                    <a:pt x="317" y="191"/>
                  </a:moveTo>
                  <a:lnTo>
                    <a:pt x="313" y="195"/>
                  </a:lnTo>
                  <a:lnTo>
                    <a:pt x="307" y="200"/>
                  </a:lnTo>
                  <a:lnTo>
                    <a:pt x="301" y="203"/>
                  </a:lnTo>
                  <a:lnTo>
                    <a:pt x="294" y="208"/>
                  </a:lnTo>
                  <a:lnTo>
                    <a:pt x="285" y="212"/>
                  </a:lnTo>
                  <a:lnTo>
                    <a:pt x="276" y="216"/>
                  </a:lnTo>
                  <a:lnTo>
                    <a:pt x="265" y="221"/>
                  </a:lnTo>
                  <a:lnTo>
                    <a:pt x="253" y="225"/>
                  </a:lnTo>
                  <a:lnTo>
                    <a:pt x="240" y="228"/>
                  </a:lnTo>
                  <a:lnTo>
                    <a:pt x="226" y="232"/>
                  </a:lnTo>
                  <a:lnTo>
                    <a:pt x="209" y="235"/>
                  </a:lnTo>
                  <a:lnTo>
                    <a:pt x="193" y="238"/>
                  </a:lnTo>
                  <a:lnTo>
                    <a:pt x="174" y="240"/>
                  </a:lnTo>
                  <a:lnTo>
                    <a:pt x="152" y="241"/>
                  </a:lnTo>
                  <a:lnTo>
                    <a:pt x="130" y="241"/>
                  </a:lnTo>
                  <a:lnTo>
                    <a:pt x="106" y="241"/>
                  </a:lnTo>
                  <a:lnTo>
                    <a:pt x="93" y="241"/>
                  </a:lnTo>
                  <a:lnTo>
                    <a:pt x="81" y="243"/>
                  </a:lnTo>
                  <a:lnTo>
                    <a:pt x="69" y="244"/>
                  </a:lnTo>
                  <a:lnTo>
                    <a:pt x="59" y="246"/>
                  </a:lnTo>
                  <a:lnTo>
                    <a:pt x="51" y="249"/>
                  </a:lnTo>
                  <a:lnTo>
                    <a:pt x="44" y="251"/>
                  </a:lnTo>
                  <a:lnTo>
                    <a:pt x="37" y="253"/>
                  </a:lnTo>
                  <a:lnTo>
                    <a:pt x="32" y="256"/>
                  </a:lnTo>
                  <a:lnTo>
                    <a:pt x="19" y="234"/>
                  </a:lnTo>
                  <a:lnTo>
                    <a:pt x="10" y="212"/>
                  </a:lnTo>
                  <a:lnTo>
                    <a:pt x="4" y="191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2" y="109"/>
                  </a:lnTo>
                  <a:lnTo>
                    <a:pt x="16" y="112"/>
                  </a:lnTo>
                  <a:lnTo>
                    <a:pt x="30" y="112"/>
                  </a:lnTo>
                  <a:lnTo>
                    <a:pt x="44" y="110"/>
                  </a:lnTo>
                  <a:lnTo>
                    <a:pt x="58" y="107"/>
                  </a:lnTo>
                  <a:lnTo>
                    <a:pt x="73" y="103"/>
                  </a:lnTo>
                  <a:lnTo>
                    <a:pt x="87" y="99"/>
                  </a:lnTo>
                  <a:lnTo>
                    <a:pt x="100" y="94"/>
                  </a:lnTo>
                  <a:lnTo>
                    <a:pt x="114" y="88"/>
                  </a:lnTo>
                  <a:lnTo>
                    <a:pt x="127" y="81"/>
                  </a:lnTo>
                  <a:lnTo>
                    <a:pt x="139" y="74"/>
                  </a:lnTo>
                  <a:lnTo>
                    <a:pt x="151" y="68"/>
                  </a:lnTo>
                  <a:lnTo>
                    <a:pt x="162" y="60"/>
                  </a:lnTo>
                  <a:lnTo>
                    <a:pt x="172" y="55"/>
                  </a:lnTo>
                  <a:lnTo>
                    <a:pt x="181" y="49"/>
                  </a:lnTo>
                  <a:lnTo>
                    <a:pt x="189" y="43"/>
                  </a:lnTo>
                  <a:lnTo>
                    <a:pt x="195" y="38"/>
                  </a:lnTo>
                  <a:lnTo>
                    <a:pt x="206" y="31"/>
                  </a:lnTo>
                  <a:lnTo>
                    <a:pt x="218" y="25"/>
                  </a:lnTo>
                  <a:lnTo>
                    <a:pt x="228" y="19"/>
                  </a:lnTo>
                  <a:lnTo>
                    <a:pt x="239" y="14"/>
                  </a:lnTo>
                  <a:lnTo>
                    <a:pt x="250" y="11"/>
                  </a:lnTo>
                  <a:lnTo>
                    <a:pt x="260" y="7"/>
                  </a:lnTo>
                  <a:lnTo>
                    <a:pt x="270" y="5"/>
                  </a:lnTo>
                  <a:lnTo>
                    <a:pt x="279" y="1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7" y="2"/>
                  </a:lnTo>
                  <a:lnTo>
                    <a:pt x="315" y="7"/>
                  </a:lnTo>
                  <a:lnTo>
                    <a:pt x="322" y="12"/>
                  </a:lnTo>
                  <a:lnTo>
                    <a:pt x="329" y="16"/>
                  </a:lnTo>
                  <a:lnTo>
                    <a:pt x="335" y="22"/>
                  </a:lnTo>
                  <a:lnTo>
                    <a:pt x="341" y="27"/>
                  </a:lnTo>
                  <a:lnTo>
                    <a:pt x="347" y="32"/>
                  </a:lnTo>
                  <a:lnTo>
                    <a:pt x="353" y="38"/>
                  </a:lnTo>
                  <a:lnTo>
                    <a:pt x="359" y="44"/>
                  </a:lnTo>
                  <a:lnTo>
                    <a:pt x="366" y="50"/>
                  </a:lnTo>
                  <a:lnTo>
                    <a:pt x="372" y="55"/>
                  </a:lnTo>
                  <a:lnTo>
                    <a:pt x="378" y="60"/>
                  </a:lnTo>
                  <a:lnTo>
                    <a:pt x="383" y="65"/>
                  </a:lnTo>
                  <a:lnTo>
                    <a:pt x="386" y="69"/>
                  </a:lnTo>
                  <a:lnTo>
                    <a:pt x="390" y="77"/>
                  </a:lnTo>
                  <a:lnTo>
                    <a:pt x="390" y="89"/>
                  </a:lnTo>
                  <a:lnTo>
                    <a:pt x="389" y="102"/>
                  </a:lnTo>
                  <a:lnTo>
                    <a:pt x="386" y="118"/>
                  </a:lnTo>
                  <a:lnTo>
                    <a:pt x="383" y="130"/>
                  </a:lnTo>
                  <a:lnTo>
                    <a:pt x="379" y="141"/>
                  </a:lnTo>
                  <a:lnTo>
                    <a:pt x="375" y="151"/>
                  </a:lnTo>
                  <a:lnTo>
                    <a:pt x="370" y="159"/>
                  </a:lnTo>
                  <a:lnTo>
                    <a:pt x="364" y="166"/>
                  </a:lnTo>
                  <a:lnTo>
                    <a:pt x="359" y="171"/>
                  </a:lnTo>
                  <a:lnTo>
                    <a:pt x="354" y="176"/>
                  </a:lnTo>
                  <a:lnTo>
                    <a:pt x="350" y="178"/>
                  </a:lnTo>
                  <a:lnTo>
                    <a:pt x="342" y="172"/>
                  </a:lnTo>
                  <a:lnTo>
                    <a:pt x="341" y="158"/>
                  </a:lnTo>
                  <a:lnTo>
                    <a:pt x="347" y="140"/>
                  </a:lnTo>
                  <a:lnTo>
                    <a:pt x="363" y="121"/>
                  </a:lnTo>
                  <a:lnTo>
                    <a:pt x="353" y="116"/>
                  </a:lnTo>
                  <a:lnTo>
                    <a:pt x="346" y="110"/>
                  </a:lnTo>
                  <a:lnTo>
                    <a:pt x="340" y="103"/>
                  </a:lnTo>
                  <a:lnTo>
                    <a:pt x="338" y="90"/>
                  </a:lnTo>
                  <a:lnTo>
                    <a:pt x="332" y="94"/>
                  </a:lnTo>
                  <a:lnTo>
                    <a:pt x="323" y="96"/>
                  </a:lnTo>
                  <a:lnTo>
                    <a:pt x="316" y="97"/>
                  </a:lnTo>
                  <a:lnTo>
                    <a:pt x="308" y="97"/>
                  </a:lnTo>
                  <a:lnTo>
                    <a:pt x="300" y="99"/>
                  </a:lnTo>
                  <a:lnTo>
                    <a:pt x="291" y="97"/>
                  </a:lnTo>
                  <a:lnTo>
                    <a:pt x="284" y="96"/>
                  </a:lnTo>
                  <a:lnTo>
                    <a:pt x="278" y="95"/>
                  </a:lnTo>
                  <a:lnTo>
                    <a:pt x="272" y="94"/>
                  </a:lnTo>
                  <a:lnTo>
                    <a:pt x="266" y="94"/>
                  </a:lnTo>
                  <a:lnTo>
                    <a:pt x="259" y="96"/>
                  </a:lnTo>
                  <a:lnTo>
                    <a:pt x="252" y="100"/>
                  </a:lnTo>
                  <a:lnTo>
                    <a:pt x="245" y="106"/>
                  </a:lnTo>
                  <a:lnTo>
                    <a:pt x="238" y="113"/>
                  </a:lnTo>
                  <a:lnTo>
                    <a:pt x="232" y="121"/>
                  </a:lnTo>
                  <a:lnTo>
                    <a:pt x="226" y="131"/>
                  </a:lnTo>
                  <a:lnTo>
                    <a:pt x="221" y="140"/>
                  </a:lnTo>
                  <a:lnTo>
                    <a:pt x="215" y="149"/>
                  </a:lnTo>
                  <a:lnTo>
                    <a:pt x="209" y="156"/>
                  </a:lnTo>
                  <a:lnTo>
                    <a:pt x="203" y="160"/>
                  </a:lnTo>
                  <a:lnTo>
                    <a:pt x="195" y="165"/>
                  </a:lnTo>
                  <a:lnTo>
                    <a:pt x="188" y="168"/>
                  </a:lnTo>
                  <a:lnTo>
                    <a:pt x="178" y="170"/>
                  </a:lnTo>
                  <a:lnTo>
                    <a:pt x="169" y="170"/>
                  </a:lnTo>
                  <a:lnTo>
                    <a:pt x="183" y="174"/>
                  </a:lnTo>
                  <a:lnTo>
                    <a:pt x="196" y="174"/>
                  </a:lnTo>
                  <a:lnTo>
                    <a:pt x="207" y="170"/>
                  </a:lnTo>
                  <a:lnTo>
                    <a:pt x="216" y="164"/>
                  </a:lnTo>
                  <a:lnTo>
                    <a:pt x="225" y="157"/>
                  </a:lnTo>
                  <a:lnTo>
                    <a:pt x="232" y="149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7" y="125"/>
                  </a:lnTo>
                  <a:lnTo>
                    <a:pt x="253" y="116"/>
                  </a:lnTo>
                  <a:lnTo>
                    <a:pt x="259" y="112"/>
                  </a:lnTo>
                  <a:lnTo>
                    <a:pt x="266" y="109"/>
                  </a:lnTo>
                  <a:lnTo>
                    <a:pt x="271" y="109"/>
                  </a:lnTo>
                  <a:lnTo>
                    <a:pt x="275" y="110"/>
                  </a:lnTo>
                  <a:lnTo>
                    <a:pt x="281" y="110"/>
                  </a:lnTo>
                  <a:lnTo>
                    <a:pt x="285" y="112"/>
                  </a:lnTo>
                  <a:lnTo>
                    <a:pt x="291" y="112"/>
                  </a:lnTo>
                  <a:lnTo>
                    <a:pt x="297" y="112"/>
                  </a:lnTo>
                  <a:lnTo>
                    <a:pt x="303" y="109"/>
                  </a:lnTo>
                  <a:lnTo>
                    <a:pt x="309" y="107"/>
                  </a:lnTo>
                  <a:lnTo>
                    <a:pt x="303" y="114"/>
                  </a:lnTo>
                  <a:lnTo>
                    <a:pt x="297" y="124"/>
                  </a:lnTo>
                  <a:lnTo>
                    <a:pt x="295" y="134"/>
                  </a:lnTo>
                  <a:lnTo>
                    <a:pt x="294" y="146"/>
                  </a:lnTo>
                  <a:lnTo>
                    <a:pt x="296" y="156"/>
                  </a:lnTo>
                  <a:lnTo>
                    <a:pt x="302" y="163"/>
                  </a:lnTo>
                  <a:lnTo>
                    <a:pt x="313" y="165"/>
                  </a:lnTo>
                  <a:lnTo>
                    <a:pt x="328" y="162"/>
                  </a:lnTo>
                  <a:lnTo>
                    <a:pt x="329" y="169"/>
                  </a:lnTo>
                  <a:lnTo>
                    <a:pt x="329" y="176"/>
                  </a:lnTo>
                  <a:lnTo>
                    <a:pt x="326" y="184"/>
                  </a:lnTo>
                  <a:lnTo>
                    <a:pt x="317" y="1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7160" y="4340880"/>
              <a:ext cx="12960" cy="252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20" y="5"/>
                  </a:lnTo>
                  <a:lnTo>
                    <a:pt x="22" y="10"/>
                  </a:lnTo>
                  <a:lnTo>
                    <a:pt x="26" y="15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7" y="29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7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3720" y="4325400"/>
              <a:ext cx="26280" cy="1188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1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5"/>
                  </a:lnTo>
                  <a:lnTo>
                    <a:pt x="58" y="13"/>
                  </a:lnTo>
                  <a:lnTo>
                    <a:pt x="56" y="17"/>
                  </a:lnTo>
                  <a:lnTo>
                    <a:pt x="49" y="21"/>
                  </a:lnTo>
                  <a:lnTo>
                    <a:pt x="39" y="22"/>
                  </a:lnTo>
                  <a:lnTo>
                    <a:pt x="27" y="23"/>
                  </a:lnTo>
                  <a:lnTo>
                    <a:pt x="16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200" y="4340880"/>
              <a:ext cx="42120" cy="10188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59" y="1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5" y="5"/>
                  </a:lnTo>
                  <a:lnTo>
                    <a:pt x="26" y="5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74"/>
                  </a:lnTo>
                  <a:lnTo>
                    <a:pt x="6" y="100"/>
                  </a:lnTo>
                  <a:lnTo>
                    <a:pt x="14" y="128"/>
                  </a:lnTo>
                  <a:lnTo>
                    <a:pt x="25" y="154"/>
                  </a:lnTo>
                  <a:lnTo>
                    <a:pt x="40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5"/>
                  </a:lnTo>
                  <a:lnTo>
                    <a:pt x="76" y="174"/>
                  </a:lnTo>
                  <a:lnTo>
                    <a:pt x="84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87" y="160"/>
                  </a:lnTo>
                  <a:lnTo>
                    <a:pt x="76" y="143"/>
                  </a:lnTo>
                  <a:lnTo>
                    <a:pt x="67" y="122"/>
                  </a:lnTo>
                  <a:lnTo>
                    <a:pt x="60" y="98"/>
                  </a:lnTo>
                  <a:lnTo>
                    <a:pt x="56" y="73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4800" y="4386600"/>
              <a:ext cx="100080" cy="14256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198" y="10"/>
                  </a:moveTo>
                  <a:lnTo>
                    <a:pt x="199" y="21"/>
                  </a:lnTo>
                  <a:lnTo>
                    <a:pt x="198" y="40"/>
                  </a:lnTo>
                  <a:lnTo>
                    <a:pt x="197" y="61"/>
                  </a:lnTo>
                  <a:lnTo>
                    <a:pt x="193" y="76"/>
                  </a:lnTo>
                  <a:lnTo>
                    <a:pt x="187" y="87"/>
                  </a:lnTo>
                  <a:lnTo>
                    <a:pt x="180" y="99"/>
                  </a:lnTo>
                  <a:lnTo>
                    <a:pt x="171" y="111"/>
                  </a:lnTo>
                  <a:lnTo>
                    <a:pt x="159" y="121"/>
                  </a:lnTo>
                  <a:lnTo>
                    <a:pt x="164" y="119"/>
                  </a:lnTo>
                  <a:lnTo>
                    <a:pt x="170" y="117"/>
                  </a:lnTo>
                  <a:lnTo>
                    <a:pt x="174" y="114"/>
                  </a:lnTo>
                  <a:lnTo>
                    <a:pt x="179" y="112"/>
                  </a:lnTo>
                  <a:lnTo>
                    <a:pt x="183" y="110"/>
                  </a:lnTo>
                  <a:lnTo>
                    <a:pt x="187" y="106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110"/>
                  </a:lnTo>
                  <a:lnTo>
                    <a:pt x="211" y="119"/>
                  </a:lnTo>
                  <a:lnTo>
                    <a:pt x="221" y="129"/>
                  </a:lnTo>
                  <a:lnTo>
                    <a:pt x="229" y="136"/>
                  </a:lnTo>
                  <a:lnTo>
                    <a:pt x="224" y="162"/>
                  </a:lnTo>
                  <a:lnTo>
                    <a:pt x="216" y="186"/>
                  </a:lnTo>
                  <a:lnTo>
                    <a:pt x="204" y="206"/>
                  </a:lnTo>
                  <a:lnTo>
                    <a:pt x="190" y="224"/>
                  </a:lnTo>
                  <a:lnTo>
                    <a:pt x="174" y="238"/>
                  </a:lnTo>
                  <a:lnTo>
                    <a:pt x="158" y="248"/>
                  </a:lnTo>
                  <a:lnTo>
                    <a:pt x="141" y="252"/>
                  </a:lnTo>
                  <a:lnTo>
                    <a:pt x="124" y="251"/>
                  </a:lnTo>
                  <a:lnTo>
                    <a:pt x="114" y="248"/>
                  </a:lnTo>
                  <a:lnTo>
                    <a:pt x="107" y="242"/>
                  </a:lnTo>
                  <a:lnTo>
                    <a:pt x="101" y="236"/>
                  </a:lnTo>
                  <a:lnTo>
                    <a:pt x="96" y="227"/>
                  </a:lnTo>
                  <a:lnTo>
                    <a:pt x="90" y="218"/>
                  </a:lnTo>
                  <a:lnTo>
                    <a:pt x="85" y="208"/>
                  </a:lnTo>
                  <a:lnTo>
                    <a:pt x="78" y="199"/>
                  </a:lnTo>
                  <a:lnTo>
                    <a:pt x="70" y="188"/>
                  </a:lnTo>
                  <a:lnTo>
                    <a:pt x="58" y="174"/>
                  </a:lnTo>
                  <a:lnTo>
                    <a:pt x="49" y="164"/>
                  </a:lnTo>
                  <a:lnTo>
                    <a:pt x="44" y="156"/>
                  </a:lnTo>
                  <a:lnTo>
                    <a:pt x="38" y="148"/>
                  </a:lnTo>
                  <a:lnTo>
                    <a:pt x="44" y="152"/>
                  </a:lnTo>
                  <a:lnTo>
                    <a:pt x="49" y="155"/>
                  </a:lnTo>
                  <a:lnTo>
                    <a:pt x="55" y="157"/>
                  </a:lnTo>
                  <a:lnTo>
                    <a:pt x="63" y="157"/>
                  </a:lnTo>
                  <a:lnTo>
                    <a:pt x="68" y="156"/>
                  </a:lnTo>
                  <a:lnTo>
                    <a:pt x="76" y="155"/>
                  </a:lnTo>
                  <a:lnTo>
                    <a:pt x="83" y="154"/>
                  </a:lnTo>
                  <a:lnTo>
                    <a:pt x="90" y="151"/>
                  </a:lnTo>
                  <a:lnTo>
                    <a:pt x="80" y="150"/>
                  </a:lnTo>
                  <a:lnTo>
                    <a:pt x="71" y="149"/>
                  </a:lnTo>
                  <a:lnTo>
                    <a:pt x="61" y="145"/>
                  </a:lnTo>
                  <a:lnTo>
                    <a:pt x="53" y="142"/>
                  </a:lnTo>
                  <a:lnTo>
                    <a:pt x="44" y="137"/>
                  </a:lnTo>
                  <a:lnTo>
                    <a:pt x="36" y="131"/>
                  </a:lnTo>
                  <a:lnTo>
                    <a:pt x="29" y="124"/>
                  </a:lnTo>
                  <a:lnTo>
                    <a:pt x="23" y="117"/>
                  </a:lnTo>
                  <a:lnTo>
                    <a:pt x="15" y="102"/>
                  </a:lnTo>
                  <a:lnTo>
                    <a:pt x="8" y="90"/>
                  </a:lnTo>
                  <a:lnTo>
                    <a:pt x="3" y="79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24" y="64"/>
                  </a:lnTo>
                  <a:lnTo>
                    <a:pt x="39" y="63"/>
                  </a:lnTo>
                  <a:lnTo>
                    <a:pt x="54" y="61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09" y="51"/>
                  </a:lnTo>
                  <a:lnTo>
                    <a:pt x="120" y="48"/>
                  </a:lnTo>
                  <a:lnTo>
                    <a:pt x="130" y="44"/>
                  </a:lnTo>
                  <a:lnTo>
                    <a:pt x="142" y="39"/>
                  </a:lnTo>
                  <a:lnTo>
                    <a:pt x="154" y="32"/>
                  </a:lnTo>
                  <a:lnTo>
                    <a:pt x="165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3" y="0"/>
                  </a:lnTo>
                  <a:lnTo>
                    <a:pt x="198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36720" y="4451400"/>
              <a:ext cx="118440" cy="11340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86" y="3"/>
                  </a:moveTo>
                  <a:lnTo>
                    <a:pt x="90" y="0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8"/>
                  </a:lnTo>
                  <a:lnTo>
                    <a:pt x="122" y="25"/>
                  </a:lnTo>
                  <a:lnTo>
                    <a:pt x="127" y="33"/>
                  </a:lnTo>
                  <a:lnTo>
                    <a:pt x="132" y="39"/>
                  </a:lnTo>
                  <a:lnTo>
                    <a:pt x="137" y="44"/>
                  </a:lnTo>
                  <a:lnTo>
                    <a:pt x="143" y="49"/>
                  </a:lnTo>
                  <a:lnTo>
                    <a:pt x="149" y="54"/>
                  </a:lnTo>
                  <a:lnTo>
                    <a:pt x="155" y="59"/>
                  </a:lnTo>
                  <a:lnTo>
                    <a:pt x="162" y="64"/>
                  </a:lnTo>
                  <a:lnTo>
                    <a:pt x="169" y="68"/>
                  </a:lnTo>
                  <a:lnTo>
                    <a:pt x="182" y="78"/>
                  </a:lnTo>
                  <a:lnTo>
                    <a:pt x="197" y="89"/>
                  </a:lnTo>
                  <a:lnTo>
                    <a:pt x="214" y="103"/>
                  </a:lnTo>
                  <a:lnTo>
                    <a:pt x="231" y="118"/>
                  </a:lnTo>
                  <a:lnTo>
                    <a:pt x="245" y="136"/>
                  </a:lnTo>
                  <a:lnTo>
                    <a:pt x="257" y="155"/>
                  </a:lnTo>
                  <a:lnTo>
                    <a:pt x="266" y="177"/>
                  </a:lnTo>
                  <a:lnTo>
                    <a:pt x="270" y="200"/>
                  </a:lnTo>
                  <a:lnTo>
                    <a:pt x="0" y="200"/>
                  </a:lnTo>
                  <a:lnTo>
                    <a:pt x="21" y="188"/>
                  </a:lnTo>
                  <a:lnTo>
                    <a:pt x="45" y="164"/>
                  </a:lnTo>
                  <a:lnTo>
                    <a:pt x="68" y="131"/>
                  </a:lnTo>
                  <a:lnTo>
                    <a:pt x="88" y="94"/>
                  </a:lnTo>
                  <a:lnTo>
                    <a:pt x="101" y="58"/>
                  </a:lnTo>
                  <a:lnTo>
                    <a:pt x="108" y="28"/>
                  </a:lnTo>
                  <a:lnTo>
                    <a:pt x="103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2280" y="4485240"/>
              <a:ext cx="23400" cy="795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38" y="0"/>
                  </a:moveTo>
                  <a:lnTo>
                    <a:pt x="41" y="4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5"/>
                  </a:lnTo>
                  <a:lnTo>
                    <a:pt x="46" y="25"/>
                  </a:lnTo>
                  <a:lnTo>
                    <a:pt x="39" y="38"/>
                  </a:lnTo>
                  <a:lnTo>
                    <a:pt x="32" y="52"/>
                  </a:lnTo>
                  <a:lnTo>
                    <a:pt x="27" y="70"/>
                  </a:lnTo>
                  <a:lnTo>
                    <a:pt x="25" y="88"/>
                  </a:lnTo>
                  <a:lnTo>
                    <a:pt x="26" y="106"/>
                  </a:lnTo>
                  <a:lnTo>
                    <a:pt x="33" y="125"/>
                  </a:lnTo>
                  <a:lnTo>
                    <a:pt x="46" y="142"/>
                  </a:lnTo>
                  <a:lnTo>
                    <a:pt x="5" y="142"/>
                  </a:lnTo>
                  <a:lnTo>
                    <a:pt x="3" y="130"/>
                  </a:lnTo>
                  <a:lnTo>
                    <a:pt x="2" y="116"/>
                  </a:lnTo>
                  <a:lnTo>
                    <a:pt x="0" y="101"/>
                  </a:lnTo>
                  <a:lnTo>
                    <a:pt x="0" y="83"/>
                  </a:lnTo>
                  <a:lnTo>
                    <a:pt x="2" y="64"/>
                  </a:lnTo>
                  <a:lnTo>
                    <a:pt x="8" y="42"/>
                  </a:lnTo>
                  <a:lnTo>
                    <a:pt x="20" y="2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240" y="4424040"/>
              <a:ext cx="108000" cy="1407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95" y="4"/>
                  </a:moveTo>
                  <a:lnTo>
                    <a:pt x="199" y="21"/>
                  </a:lnTo>
                  <a:lnTo>
                    <a:pt x="205" y="34"/>
                  </a:lnTo>
                  <a:lnTo>
                    <a:pt x="212" y="45"/>
                  </a:lnTo>
                  <a:lnTo>
                    <a:pt x="219" y="54"/>
                  </a:lnTo>
                  <a:lnTo>
                    <a:pt x="226" y="62"/>
                  </a:lnTo>
                  <a:lnTo>
                    <a:pt x="234" y="72"/>
                  </a:lnTo>
                  <a:lnTo>
                    <a:pt x="242" y="83"/>
                  </a:lnTo>
                  <a:lnTo>
                    <a:pt x="247" y="96"/>
                  </a:lnTo>
                  <a:lnTo>
                    <a:pt x="242" y="102"/>
                  </a:lnTo>
                  <a:lnTo>
                    <a:pt x="231" y="112"/>
                  </a:lnTo>
                  <a:lnTo>
                    <a:pt x="219" y="128"/>
                  </a:lnTo>
                  <a:lnTo>
                    <a:pt x="206" y="146"/>
                  </a:lnTo>
                  <a:lnTo>
                    <a:pt x="196" y="167"/>
                  </a:lnTo>
                  <a:lnTo>
                    <a:pt x="189" y="192"/>
                  </a:lnTo>
                  <a:lnTo>
                    <a:pt x="187" y="219"/>
                  </a:lnTo>
                  <a:lnTo>
                    <a:pt x="193" y="249"/>
                  </a:lnTo>
                  <a:lnTo>
                    <a:pt x="0" y="249"/>
                  </a:lnTo>
                  <a:lnTo>
                    <a:pt x="12" y="244"/>
                  </a:lnTo>
                  <a:lnTo>
                    <a:pt x="25" y="237"/>
                  </a:lnTo>
                  <a:lnTo>
                    <a:pt x="36" y="229"/>
                  </a:lnTo>
                  <a:lnTo>
                    <a:pt x="47" y="221"/>
                  </a:lnTo>
                  <a:lnTo>
                    <a:pt x="56" y="211"/>
                  </a:lnTo>
                  <a:lnTo>
                    <a:pt x="63" y="203"/>
                  </a:lnTo>
                  <a:lnTo>
                    <a:pt x="69" y="193"/>
                  </a:lnTo>
                  <a:lnTo>
                    <a:pt x="73" y="185"/>
                  </a:lnTo>
                  <a:lnTo>
                    <a:pt x="75" y="171"/>
                  </a:lnTo>
                  <a:lnTo>
                    <a:pt x="73" y="154"/>
                  </a:lnTo>
                  <a:lnTo>
                    <a:pt x="70" y="137"/>
                  </a:lnTo>
                  <a:lnTo>
                    <a:pt x="67" y="118"/>
                  </a:lnTo>
                  <a:lnTo>
                    <a:pt x="63" y="98"/>
                  </a:lnTo>
                  <a:lnTo>
                    <a:pt x="63" y="79"/>
                  </a:lnTo>
                  <a:lnTo>
                    <a:pt x="66" y="59"/>
                  </a:lnTo>
                  <a:lnTo>
                    <a:pt x="74" y="41"/>
                  </a:lnTo>
                  <a:lnTo>
                    <a:pt x="79" y="40"/>
                  </a:lnTo>
                  <a:lnTo>
                    <a:pt x="85" y="39"/>
                  </a:lnTo>
                  <a:lnTo>
                    <a:pt x="91" y="39"/>
                  </a:lnTo>
                  <a:lnTo>
                    <a:pt x="97" y="37"/>
                  </a:lnTo>
                  <a:lnTo>
                    <a:pt x="101" y="36"/>
                  </a:lnTo>
                  <a:lnTo>
                    <a:pt x="106" y="35"/>
                  </a:lnTo>
                  <a:lnTo>
                    <a:pt x="110" y="34"/>
                  </a:lnTo>
                  <a:lnTo>
                    <a:pt x="112" y="31"/>
                  </a:lnTo>
                  <a:lnTo>
                    <a:pt x="114" y="27"/>
                  </a:lnTo>
                  <a:lnTo>
                    <a:pt x="113" y="22"/>
                  </a:lnTo>
                  <a:lnTo>
                    <a:pt x="112" y="17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5" y="0"/>
                  </a:lnTo>
                  <a:lnTo>
                    <a:pt x="180" y="2"/>
                  </a:lnTo>
                  <a:lnTo>
                    <a:pt x="195" y="4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60" y="4351320"/>
              <a:ext cx="24480" cy="92880"/>
            </a:xfrm>
            <a:custGeom>
              <a:avLst/>
              <a:gdLst/>
              <a:ahLst/>
              <a:rect l="l" t="t" r="r" b="b"/>
              <a:pathLst>
                <a:path w="55" h="166">
                  <a:moveTo>
                    <a:pt x="23" y="0"/>
                  </a:moveTo>
                  <a:lnTo>
                    <a:pt x="22" y="7"/>
                  </a:lnTo>
                  <a:lnTo>
                    <a:pt x="20" y="20"/>
                  </a:lnTo>
                  <a:lnTo>
                    <a:pt x="20" y="38"/>
                  </a:lnTo>
                  <a:lnTo>
                    <a:pt x="23" y="59"/>
                  </a:lnTo>
                  <a:lnTo>
                    <a:pt x="26" y="83"/>
                  </a:lnTo>
                  <a:lnTo>
                    <a:pt x="32" y="108"/>
                  </a:lnTo>
                  <a:lnTo>
                    <a:pt x="42" y="134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3" y="163"/>
                  </a:lnTo>
                  <a:lnTo>
                    <a:pt x="37" y="164"/>
                  </a:lnTo>
                  <a:lnTo>
                    <a:pt x="30" y="165"/>
                  </a:lnTo>
                  <a:lnTo>
                    <a:pt x="22" y="166"/>
                  </a:lnTo>
                  <a:lnTo>
                    <a:pt x="16" y="166"/>
                  </a:lnTo>
                  <a:lnTo>
                    <a:pt x="9" y="166"/>
                  </a:lnTo>
                  <a:lnTo>
                    <a:pt x="4" y="166"/>
                  </a:lnTo>
                  <a:lnTo>
                    <a:pt x="0" y="135"/>
                  </a:lnTo>
                  <a:lnTo>
                    <a:pt x="1" y="99"/>
                  </a:lnTo>
                  <a:lnTo>
                    <a:pt x="7" y="5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5481720" y="3269880"/>
            <a:ext cx="849240" cy="55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5400" y="4398840"/>
            <a:ext cx="914400" cy="56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52578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319800" y="25909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310520" y="259092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271680" y="3019320"/>
            <a:ext cx="2210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1052640"/>
            <a:ext cx="8218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O line ring assignment at the admin st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- Assign procedure to each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바탕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[TRANS/PGM] + * # + [TRANS/PGM] + </a:t>
            </a:r>
            <a:r>
              <a:rPr b="1" lang="en-US" sz="1600" spc="-1" strike="noStrike">
                <a:solidFill>
                  <a:srgbClr val="ff9966"/>
                </a:solidFill>
                <a:latin typeface="Arial"/>
                <a:ea typeface="바탕"/>
              </a:rPr>
              <a:t>‘144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+ CO range + Ring type + ‘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+ STA range + Delay count + 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Ring type :  F1-Day, F2-Night, F3-Weekend, F4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Delay count : 0~9 (about 3 sec/count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- Assign procedure to hu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바탕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[TRANS/PGM] + * # + [TRANS/PGM] + </a:t>
            </a:r>
            <a:r>
              <a:rPr b="1" lang="en-US" sz="1600" spc="-1" strike="noStrike">
                <a:solidFill>
                  <a:srgbClr val="ff9966"/>
                </a:solidFill>
                <a:latin typeface="Arial"/>
                <a:ea typeface="바탕"/>
              </a:rPr>
              <a:t>‘144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+ CO range + Ring type + ‘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+ Hunt Group No + 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Ring type :  F1-Day, F2-Night, F3-Weekend, F4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- Assign procedure to VM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바탕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[TRANS/PGM] + * # + [TRANS/PGM] + </a:t>
            </a:r>
            <a:r>
              <a:rPr b="1" lang="en-US" sz="1600" spc="-1" strike="noStrike">
                <a:solidFill>
                  <a:srgbClr val="ff9966"/>
                </a:solidFill>
                <a:latin typeface="Arial"/>
                <a:ea typeface="바탕"/>
              </a:rPr>
              <a:t>‘144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  <a:ea typeface="바탕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+ CO range + Ring type + ‘3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+ VMIB Greeting Message No.(00:Cancel, 0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바탕"/>
              </a:rPr>
              <a:t>~70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ssign) + 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Ring type :  F1-Day, F2-Night, F3-Weekend, F4-On-dem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80" y="9360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get incoming call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66280" y="1479600"/>
            <a:ext cx="73206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DK can assign a separate destination for system mo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4 kinds of mode : day, night, weekend and on-dem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dant can change the system m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1. Press the [DND/FWD]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2. Dial one dig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(1:Day / 2:Night / 3:Weekend / 4:On-demand / 5:Auto Ring M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3.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굴림체"/>
              </a:rPr>
              <a:t>Press the [HOLD/SAVE] button.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cc99"/>
                </a:solidFill>
                <a:latin typeface="Arial"/>
              </a:rPr>
              <a:t>      ※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If ATD is in Auto Ring Mode, Weekly Time Table(PGM233) is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stations can be assigned as ring assignment destin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at case, ipLDK can give a delay to ring to each s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ng can be delayed by 0 to 9 ring cycles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80" y="9360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get incoming call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2:53:01Z</dcterms:created>
  <dc:creator>SHK</dc:creator>
  <dc:description/>
  <dc:language>en-US</dc:language>
  <cp:lastModifiedBy>JEONGWON SUH</cp:lastModifiedBy>
  <cp:lastPrinted>2000-07-08T00:50:30Z</cp:lastPrinted>
  <dcterms:modified xsi:type="dcterms:W3CDTF">2007-03-10T07:32:37Z</dcterms:modified>
  <cp:revision>311</cp:revision>
  <dc:subject/>
  <dc:title>슬라이드 제목 없음</dc:title>
</cp:coreProperties>
</file>